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A1845A-A975-4B24-A9BC-C48E810F5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FF71D6C-5AA4-4723-88DC-645062F5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109E81-8B33-42FB-B66A-A9F318356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549440" y="304920"/>
            <a:ext cx="3614760" cy="27111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51920" y="3123720"/>
            <a:ext cx="6427800" cy="6526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06F05E-318B-444F-9656-0CE3D7A24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549440" y="304920"/>
            <a:ext cx="3614760" cy="27111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51920" y="3123720"/>
            <a:ext cx="6427800" cy="6526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5B6A4AB-A240-44B3-8286-BEF892A67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P 2005-06 structure is an evolution of the WP 2003-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level conceptual structure consisting of 3 layers to abstract from details and build the invisible knowledg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243F68-B803-489E-9190-CA2561ED3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P 2005-06 structure is an evolution of the WP 2003-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level conceptual structure consisting of 3 layers to abstract from details and build the invisible knowledg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D981-86AE-420F-8D86-3BE2332EF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D212-3A71-4AE3-85C4-4E030C46D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CECB-FEA5-4BE4-8EE0-CC7B93A40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8C4C-9BBA-4B5A-9DEB-76F56503A6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42B0-6151-4320-BFF4-FA94038D6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1490-58B1-4EF1-8AA8-88207663B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265A-2BEF-4003-850D-3CD045DD6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76F3-ED80-44D2-BA47-DA4BFAC6B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55760" y="180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52FE-208D-466F-A279-A75C2E93C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2DA4-9C2B-4144-9F47-27ED83877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0770-4B4E-4412-8109-44EA343BD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7EBB-CE44-42CB-96A2-8B5435B1F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Unit Grid Technologi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NCP Info Day Call6 - Brussels, 24 January 2006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7677000" y="6067440"/>
          <a:ext cx="12384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77000" y="606744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 flipV="1">
            <a:off x="1509840" y="188640"/>
            <a:ext cx="6487920" cy="3474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30824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3" marL="1803240" indent="-27936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4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5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6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58632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0DD5-0956-468C-836F-795A931C38E9}" type="slidenum">
              <a:rPr b="1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62080" y="605628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200160" y="434016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997760" y="-287280"/>
            <a:ext cx="784440" cy="81432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34800" y="-258840"/>
            <a:ext cx="117504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217440" y="928800"/>
            <a:ext cx="450720" cy="34257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" name="" descr="European Emblem"/>
          <p:cNvPicPr/>
          <p:nvPr/>
        </p:nvPicPr>
        <p:blipFill>
          <a:blip r:embed="rId4"/>
          <a:stretch/>
        </p:blipFill>
        <p:spPr>
          <a:xfrm>
            <a:off x="343080" y="619128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rdis.lu/ist/grid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03200" y="6778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2.6.5 – International Co-operation </a:t>
            </a:r>
            <a:br>
              <a:rPr sz="3000"/>
            </a:b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3063960"/>
            <a:ext cx="42195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nnalisa Bogliolo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Grid Technologies Unit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European Commission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annalisa.bogliolo@cec.eu.int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http://www.cordis.lu/ist/grids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14800" y="2179800"/>
            <a:ext cx="3876840" cy="3220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3080" y="1401840"/>
            <a:ext cx="788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rid Technologies – Target Country: China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3A18-6D28-4AB0-BB2F-BDFA4B52FE2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82640" y="-62712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International Co-operation on Grid Technologies – Target Country: China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7480" y="1120680"/>
            <a:ext cx="7894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Proposals shall leverage and integrate existing initiatives in the focal areas in Europe and the target country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-538200">
              <a:spcBef>
                <a:spcPts val="4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Instruments: STREPs, SSAs, CAs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-538200">
              <a:spcBef>
                <a:spcPts val="4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Indicative budget: 5 M €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434280" y="2513160"/>
            <a:ext cx="1823760" cy="1603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122480" y="2181240"/>
            <a:ext cx="2035080" cy="2330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02000" y="2184480"/>
            <a:ext cx="4914720" cy="1155600"/>
          </a:xfrm>
          <a:custGeom>
            <a:avLst/>
            <a:gdLst>
              <a:gd name="textAreaLeft" fmla="*/ 1019160 w 4914720"/>
              <a:gd name="textAreaRight" fmla="*/ 3429000 w 4914720"/>
              <a:gd name="textAreaTop" fmla="*/ 154800 h 1155600"/>
              <a:gd name="textAreaBottom" fmla="*/ 10008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8" hR="21600" stAng="10800000" swAng="5400000"/>
                <a:lnTo>
                  <a:pt x="10591" y="0"/>
                </a:lnTo>
                <a:arcTo wR="8958" hR="21600" stAng="-5400000" swAng="2345409"/>
                <a:lnTo>
                  <a:pt x="20621" y="11779"/>
                </a:lnTo>
                <a:lnTo>
                  <a:pt x="18733" y="21600"/>
                </a:lnTo>
                <a:lnTo>
                  <a:pt x="14886" y="11779"/>
                </a:lnTo>
                <a:lnTo>
                  <a:pt x="16937" y="11779"/>
                </a:lnTo>
                <a:arcTo wR="8958" hR="21600" stAng="-3054591" swAng="-2214978"/>
                <a:lnTo>
                  <a:pt x="9775" y="90"/>
                </a:lnTo>
                <a:arcTo wR="8958" hR="21600" stAng="-5530431" swAng="-5269569"/>
                <a:close/>
              </a:path>
              <a:path fill="darkenLess" w="21600" h="21600">
                <a:moveTo>
                  <a:pt x="0" y="21600"/>
                </a:moveTo>
                <a:arcTo wR="8958" hR="21600" stAng="10800000" swAng="5400000"/>
                <a:lnTo>
                  <a:pt x="8958" y="0"/>
                </a:lnTo>
                <a:arcTo wR="8958" hR="21600" stAng="-5400000" swAng="130431"/>
                <a:lnTo>
                  <a:pt x="9775" y="90"/>
                </a:lnTo>
                <a:arcTo wR="8958" hR="21600" stAng="-5530431" swAng="-5269569"/>
                <a:close/>
              </a:path>
            </a:pathLst>
          </a:cu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1980720" y="3441240"/>
            <a:ext cx="4915080" cy="1155960"/>
          </a:xfrm>
          <a:custGeom>
            <a:avLst/>
            <a:gdLst>
              <a:gd name="textAreaLeft" fmla="*/ 1019160 w 4915080"/>
              <a:gd name="textAreaRight" fmla="*/ 3429360 w 4915080"/>
              <a:gd name="textAreaTop" fmla="*/ 154800 h 1155960"/>
              <a:gd name="textAreaBottom" fmla="*/ 1001160 h 115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8" hR="21600" stAng="10800000" swAng="5400000"/>
                <a:lnTo>
                  <a:pt x="10591" y="0"/>
                </a:lnTo>
                <a:arcTo wR="8958" hR="21600" stAng="-5400000" swAng="2345409"/>
                <a:lnTo>
                  <a:pt x="20621" y="11779"/>
                </a:lnTo>
                <a:lnTo>
                  <a:pt x="18733" y="21600"/>
                </a:lnTo>
                <a:lnTo>
                  <a:pt x="14886" y="11779"/>
                </a:lnTo>
                <a:lnTo>
                  <a:pt x="16937" y="11779"/>
                </a:lnTo>
                <a:arcTo wR="8958" hR="21600" stAng="-3054591" swAng="-2214978"/>
                <a:lnTo>
                  <a:pt x="9775" y="90"/>
                </a:lnTo>
                <a:arcTo wR="8958" hR="21600" stAng="-5530431" swAng="-5269569"/>
                <a:close/>
              </a:path>
              <a:path fill="darkenLess" w="21600" h="21600">
                <a:moveTo>
                  <a:pt x="0" y="21600"/>
                </a:moveTo>
                <a:arcTo wR="8958" hR="21600" stAng="10800000" swAng="5400000"/>
                <a:lnTo>
                  <a:pt x="8958" y="0"/>
                </a:lnTo>
                <a:arcTo wR="8958" hR="21600" stAng="-5400000" swAng="130431"/>
                <a:lnTo>
                  <a:pt x="9775" y="90"/>
                </a:lnTo>
                <a:arcTo wR="8958" hR="21600" stAng="-5530431" swAng="-5269569"/>
                <a:close/>
              </a:path>
            </a:pathLst>
          </a:cu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17920" y="2692440"/>
            <a:ext cx="1562040" cy="5335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TRE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86280" y="3263760"/>
            <a:ext cx="1562040" cy="5335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49560" y="3124080"/>
            <a:ext cx="1562400" cy="5335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78440" y="3009960"/>
            <a:ext cx="1562040" cy="5335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81560" y="3556080"/>
            <a:ext cx="1562040" cy="53316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TRE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AAD9-9C40-44D2-8CF7-0C8DEFA925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4960" y="1184400"/>
            <a:ext cx="73962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0000" indent="-377640">
              <a:spcBef>
                <a:spcPts val="1950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Complements the main Grid research activities in previous calls, now from an international co-operation perspectiv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1950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Addresses both research developments and business / industrial applic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1950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Proposals shall link existing initiatives in the EU and Chin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1950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To establish a long-term co-operation framework with the target countr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B578-FDF2-495E-92C9-CE48031958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5520" y="301320"/>
            <a:ext cx="7045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urther Info on Call6 Grid Technolog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5200" y="1425600"/>
            <a:ext cx="85010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Arial"/>
              </a:rPr>
              <a:t>Information Days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27th January in Brussel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22nd February in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Shanghai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ll information distributed at the information days will be made available on the web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IST Work Programme 2005/2006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ttp://www.cordis.lu/ist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85CF-33DE-4DD5-9456-EBDF71407B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97360" y="4737240"/>
            <a:ext cx="4686120" cy="812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7040" y="174240"/>
            <a:ext cx="6855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urther Info on Grid Researc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4200" y="1149120"/>
            <a:ext cx="885672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2538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6600"/>
                </a:solidFill>
                <a:latin typeface="Arial"/>
              </a:rPr>
              <a:t>Brochure: Building Grids for Europe</a:t>
            </a:r>
            <a:endParaRPr b="1" lang="en-US" sz="2700" spc="-1" strike="noStrike">
              <a:solidFill>
                <a:srgbClr val="cc6600"/>
              </a:solidFill>
              <a:latin typeface="Arial"/>
            </a:endParaRPr>
          </a:p>
          <a:p>
            <a:pPr lvl="1" marL="111744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P6 Grid Project Fact Sheets, FP5 Grid Project Achievemen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609480" indent="-253800">
              <a:lnSpc>
                <a:spcPct val="95000"/>
              </a:lnSpc>
              <a:spcBef>
                <a:spcPts val="1687"/>
              </a:spcBef>
              <a:spcAft>
                <a:spcPts val="499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6600"/>
                </a:solidFill>
                <a:latin typeface="Arial"/>
              </a:rPr>
              <a:t>Expert Group Reports</a:t>
            </a:r>
            <a:endParaRPr b="1" lang="en-US" sz="2700" spc="-1" strike="noStrike">
              <a:solidFill>
                <a:srgbClr val="cc6600"/>
              </a:solidFill>
              <a:latin typeface="Arial"/>
            </a:endParaRPr>
          </a:p>
          <a:p>
            <a:pPr lvl="1" marL="1117440" indent="-31572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(s) – European Grid Research 2005 - 2010”, 2003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1117440" indent="-315720">
              <a:lnSpc>
                <a:spcPct val="95000"/>
              </a:lnSpc>
              <a:spcBef>
                <a:spcPts val="300"/>
              </a:spcBef>
              <a:spcAft>
                <a:spcPts val="10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s 2 – Requirements and Options for European Grids Research 2005–2010 and beyond”, August 2004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609480" indent="-253800">
              <a:lnSpc>
                <a:spcPct val="95000"/>
              </a:lnSpc>
              <a:spcBef>
                <a:spcPts val="15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6600"/>
                </a:solidFill>
                <a:latin typeface="Arial"/>
              </a:rPr>
              <a:t>Grid@Asi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ttp://www.gridatasia.net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3600" y="4951440"/>
            <a:ext cx="7081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d more: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ordis.lu/ist/grid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F02C-16DD-4330-AB29-9F8525E61D9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2250000"/>
            <a:ext cx="6934320" cy="197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 (Hebrew)"/>
              </a:rPr>
              <a:t>Benefi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Increased productivity by reducing Total Cost of Ownershi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Any-type, anywhere, anytime services by/for al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Infrastructure for dynamic virtual organiza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Backbone for future service-oriented utilit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440" y="4223520"/>
            <a:ext cx="6934320" cy="160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 (Hebrew)"/>
              </a:rPr>
              <a:t>Exampl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Ad-hoc Grid services for emergency respons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Cost-effective simulation for automotive and fin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More efficient drug design and healthca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394320" y="3276720"/>
            <a:ext cx="2635200" cy="2406600"/>
            <a:chOff x="6394320" y="3276720"/>
            <a:chExt cx="2635200" cy="2406600"/>
          </a:xfrm>
        </p:grpSpPr>
        <p:sp>
          <p:nvSpPr>
            <p:cNvPr id="64" name=""/>
            <p:cNvSpPr/>
            <p:nvPr/>
          </p:nvSpPr>
          <p:spPr>
            <a:xfrm>
              <a:off x="6394320" y="3276720"/>
              <a:ext cx="2635200" cy="2406600"/>
            </a:xfrm>
            <a:prstGeom prst="ellipse">
              <a:avLst/>
            </a:prstGeom>
            <a:solidFill>
              <a:srgbClr val="e67e19"/>
            </a:solidFill>
            <a:ln w="0">
              <a:noFill/>
            </a:ln>
            <a:effectLst>
              <a:outerShdw dist="17819" dir="2700000" blurRad="0" rotWithShape="0">
                <a:srgbClr val="894b0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40360" y="3445200"/>
              <a:ext cx="1073160" cy="1253880"/>
            </a:xfrm>
            <a:custGeom>
              <a:avLst/>
              <a:gdLst/>
              <a:ahLst/>
              <a:rect l="l" t="t" r="r" b="b"/>
              <a:pathLst>
                <a:path w="1489" h="1574">
                  <a:moveTo>
                    <a:pt x="368" y="1574"/>
                  </a:moveTo>
                  <a:lnTo>
                    <a:pt x="544" y="1570"/>
                  </a:lnTo>
                  <a:lnTo>
                    <a:pt x="604" y="1564"/>
                  </a:lnTo>
                  <a:lnTo>
                    <a:pt x="678" y="1553"/>
                  </a:lnTo>
                  <a:lnTo>
                    <a:pt x="734" y="1543"/>
                  </a:lnTo>
                  <a:lnTo>
                    <a:pt x="790" y="1529"/>
                  </a:lnTo>
                  <a:lnTo>
                    <a:pt x="846" y="1513"/>
                  </a:lnTo>
                  <a:lnTo>
                    <a:pt x="896" y="1495"/>
                  </a:lnTo>
                  <a:lnTo>
                    <a:pt x="956" y="1473"/>
                  </a:lnTo>
                  <a:lnTo>
                    <a:pt x="1029" y="1441"/>
                  </a:lnTo>
                  <a:lnTo>
                    <a:pt x="1085" y="1412"/>
                  </a:lnTo>
                  <a:lnTo>
                    <a:pt x="1140" y="1379"/>
                  </a:lnTo>
                  <a:lnTo>
                    <a:pt x="1177" y="1352"/>
                  </a:lnTo>
                  <a:lnTo>
                    <a:pt x="1221" y="1320"/>
                  </a:lnTo>
                  <a:lnTo>
                    <a:pt x="1252" y="1296"/>
                  </a:lnTo>
                  <a:lnTo>
                    <a:pt x="1286" y="1261"/>
                  </a:lnTo>
                  <a:lnTo>
                    <a:pt x="1316" y="1229"/>
                  </a:lnTo>
                  <a:lnTo>
                    <a:pt x="1346" y="1194"/>
                  </a:lnTo>
                  <a:lnTo>
                    <a:pt x="1369" y="1165"/>
                  </a:lnTo>
                  <a:lnTo>
                    <a:pt x="1397" y="1126"/>
                  </a:lnTo>
                  <a:lnTo>
                    <a:pt x="1425" y="1081"/>
                  </a:lnTo>
                  <a:lnTo>
                    <a:pt x="1444" y="1038"/>
                  </a:lnTo>
                  <a:lnTo>
                    <a:pt x="1459" y="1000"/>
                  </a:lnTo>
                  <a:lnTo>
                    <a:pt x="1472" y="957"/>
                  </a:lnTo>
                  <a:lnTo>
                    <a:pt x="1484" y="911"/>
                  </a:lnTo>
                  <a:lnTo>
                    <a:pt x="1489" y="851"/>
                  </a:lnTo>
                  <a:lnTo>
                    <a:pt x="1485" y="801"/>
                  </a:lnTo>
                  <a:lnTo>
                    <a:pt x="1477" y="758"/>
                  </a:lnTo>
                  <a:lnTo>
                    <a:pt x="1469" y="715"/>
                  </a:lnTo>
                  <a:lnTo>
                    <a:pt x="1452" y="668"/>
                  </a:lnTo>
                  <a:lnTo>
                    <a:pt x="1437" y="628"/>
                  </a:lnTo>
                  <a:lnTo>
                    <a:pt x="1417" y="592"/>
                  </a:lnTo>
                  <a:lnTo>
                    <a:pt x="1387" y="545"/>
                  </a:lnTo>
                  <a:lnTo>
                    <a:pt x="1350" y="493"/>
                  </a:lnTo>
                  <a:lnTo>
                    <a:pt x="1311" y="451"/>
                  </a:lnTo>
                  <a:lnTo>
                    <a:pt x="1279" y="416"/>
                  </a:lnTo>
                  <a:lnTo>
                    <a:pt x="1236" y="381"/>
                  </a:lnTo>
                  <a:lnTo>
                    <a:pt x="1196" y="352"/>
                  </a:lnTo>
                  <a:lnTo>
                    <a:pt x="1150" y="321"/>
                  </a:lnTo>
                  <a:lnTo>
                    <a:pt x="1091" y="282"/>
                  </a:lnTo>
                  <a:lnTo>
                    <a:pt x="1035" y="254"/>
                  </a:lnTo>
                  <a:lnTo>
                    <a:pt x="971" y="222"/>
                  </a:lnTo>
                  <a:lnTo>
                    <a:pt x="840" y="176"/>
                  </a:lnTo>
                  <a:lnTo>
                    <a:pt x="731" y="148"/>
                  </a:lnTo>
                  <a:lnTo>
                    <a:pt x="615" y="127"/>
                  </a:lnTo>
                  <a:lnTo>
                    <a:pt x="521" y="117"/>
                  </a:lnTo>
                  <a:lnTo>
                    <a:pt x="402" y="110"/>
                  </a:lnTo>
                  <a:lnTo>
                    <a:pt x="402" y="0"/>
                  </a:lnTo>
                  <a:lnTo>
                    <a:pt x="0" y="250"/>
                  </a:lnTo>
                  <a:lnTo>
                    <a:pt x="407" y="504"/>
                  </a:lnTo>
                  <a:lnTo>
                    <a:pt x="405" y="391"/>
                  </a:lnTo>
                  <a:lnTo>
                    <a:pt x="525" y="398"/>
                  </a:lnTo>
                  <a:lnTo>
                    <a:pt x="615" y="412"/>
                  </a:lnTo>
                  <a:lnTo>
                    <a:pt x="709" y="433"/>
                  </a:lnTo>
                  <a:lnTo>
                    <a:pt x="840" y="479"/>
                  </a:lnTo>
                  <a:lnTo>
                    <a:pt x="901" y="510"/>
                  </a:lnTo>
                  <a:lnTo>
                    <a:pt x="960" y="542"/>
                  </a:lnTo>
                  <a:lnTo>
                    <a:pt x="1009" y="580"/>
                  </a:lnTo>
                  <a:lnTo>
                    <a:pt x="1057" y="616"/>
                  </a:lnTo>
                  <a:lnTo>
                    <a:pt x="1096" y="652"/>
                  </a:lnTo>
                  <a:lnTo>
                    <a:pt x="1129" y="690"/>
                  </a:lnTo>
                  <a:lnTo>
                    <a:pt x="1165" y="736"/>
                  </a:lnTo>
                  <a:lnTo>
                    <a:pt x="1196" y="789"/>
                  </a:lnTo>
                  <a:lnTo>
                    <a:pt x="1219" y="838"/>
                  </a:lnTo>
                  <a:lnTo>
                    <a:pt x="1230" y="884"/>
                  </a:lnTo>
                  <a:lnTo>
                    <a:pt x="1241" y="940"/>
                  </a:lnTo>
                  <a:lnTo>
                    <a:pt x="1242" y="994"/>
                  </a:lnTo>
                  <a:lnTo>
                    <a:pt x="1240" y="1032"/>
                  </a:lnTo>
                  <a:lnTo>
                    <a:pt x="1234" y="1072"/>
                  </a:lnTo>
                  <a:lnTo>
                    <a:pt x="1219" y="1120"/>
                  </a:lnTo>
                  <a:lnTo>
                    <a:pt x="1200" y="1165"/>
                  </a:lnTo>
                  <a:lnTo>
                    <a:pt x="1177" y="1209"/>
                  </a:lnTo>
                  <a:lnTo>
                    <a:pt x="1147" y="1251"/>
                  </a:lnTo>
                  <a:lnTo>
                    <a:pt x="1094" y="1313"/>
                  </a:lnTo>
                  <a:lnTo>
                    <a:pt x="1049" y="1354"/>
                  </a:lnTo>
                  <a:lnTo>
                    <a:pt x="990" y="1398"/>
                  </a:lnTo>
                  <a:lnTo>
                    <a:pt x="930" y="1435"/>
                  </a:lnTo>
                  <a:lnTo>
                    <a:pt x="885" y="1460"/>
                  </a:lnTo>
                  <a:lnTo>
                    <a:pt x="831" y="1485"/>
                  </a:lnTo>
                  <a:lnTo>
                    <a:pt x="780" y="1503"/>
                  </a:lnTo>
                  <a:lnTo>
                    <a:pt x="739" y="1517"/>
                  </a:lnTo>
                  <a:lnTo>
                    <a:pt x="698" y="1530"/>
                  </a:lnTo>
                  <a:lnTo>
                    <a:pt x="645" y="1541"/>
                  </a:lnTo>
                  <a:lnTo>
                    <a:pt x="598" y="1548"/>
                  </a:lnTo>
                  <a:lnTo>
                    <a:pt x="533" y="1559"/>
                  </a:lnTo>
                  <a:lnTo>
                    <a:pt x="368" y="1574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40360" y="4278600"/>
              <a:ext cx="1073160" cy="1255680"/>
            </a:xfrm>
            <a:custGeom>
              <a:avLst/>
              <a:gdLst/>
              <a:ahLst/>
              <a:rect l="l" t="t" r="r" b="b"/>
              <a:pathLst>
                <a:path w="1489" h="1573">
                  <a:moveTo>
                    <a:pt x="368" y="0"/>
                  </a:moveTo>
                  <a:lnTo>
                    <a:pt x="544" y="3"/>
                  </a:lnTo>
                  <a:lnTo>
                    <a:pt x="604" y="9"/>
                  </a:lnTo>
                  <a:lnTo>
                    <a:pt x="678" y="21"/>
                  </a:lnTo>
                  <a:lnTo>
                    <a:pt x="734" y="30"/>
                  </a:lnTo>
                  <a:lnTo>
                    <a:pt x="790" y="44"/>
                  </a:lnTo>
                  <a:lnTo>
                    <a:pt x="846" y="61"/>
                  </a:lnTo>
                  <a:lnTo>
                    <a:pt x="896" y="78"/>
                  </a:lnTo>
                  <a:lnTo>
                    <a:pt x="956" y="101"/>
                  </a:lnTo>
                  <a:lnTo>
                    <a:pt x="1029" y="132"/>
                  </a:lnTo>
                  <a:lnTo>
                    <a:pt x="1085" y="162"/>
                  </a:lnTo>
                  <a:lnTo>
                    <a:pt x="1140" y="195"/>
                  </a:lnTo>
                  <a:lnTo>
                    <a:pt x="1177" y="222"/>
                  </a:lnTo>
                  <a:lnTo>
                    <a:pt x="1221" y="253"/>
                  </a:lnTo>
                  <a:lnTo>
                    <a:pt x="1252" y="278"/>
                  </a:lnTo>
                  <a:lnTo>
                    <a:pt x="1286" y="313"/>
                  </a:lnTo>
                  <a:lnTo>
                    <a:pt x="1316" y="345"/>
                  </a:lnTo>
                  <a:lnTo>
                    <a:pt x="1346" y="380"/>
                  </a:lnTo>
                  <a:lnTo>
                    <a:pt x="1369" y="408"/>
                  </a:lnTo>
                  <a:lnTo>
                    <a:pt x="1397" y="448"/>
                  </a:lnTo>
                  <a:lnTo>
                    <a:pt x="1425" y="493"/>
                  </a:lnTo>
                  <a:lnTo>
                    <a:pt x="1444" y="536"/>
                  </a:lnTo>
                  <a:lnTo>
                    <a:pt x="1459" y="574"/>
                  </a:lnTo>
                  <a:lnTo>
                    <a:pt x="1472" y="617"/>
                  </a:lnTo>
                  <a:lnTo>
                    <a:pt x="1484" y="663"/>
                  </a:lnTo>
                  <a:lnTo>
                    <a:pt x="1489" y="723"/>
                  </a:lnTo>
                  <a:lnTo>
                    <a:pt x="1485" y="773"/>
                  </a:lnTo>
                  <a:lnTo>
                    <a:pt x="1477" y="815"/>
                  </a:lnTo>
                  <a:lnTo>
                    <a:pt x="1469" y="859"/>
                  </a:lnTo>
                  <a:lnTo>
                    <a:pt x="1452" y="906"/>
                  </a:lnTo>
                  <a:lnTo>
                    <a:pt x="1437" y="945"/>
                  </a:lnTo>
                  <a:lnTo>
                    <a:pt x="1417" y="982"/>
                  </a:lnTo>
                  <a:lnTo>
                    <a:pt x="1387" y="1029"/>
                  </a:lnTo>
                  <a:lnTo>
                    <a:pt x="1350" y="1080"/>
                  </a:lnTo>
                  <a:lnTo>
                    <a:pt x="1311" y="1123"/>
                  </a:lnTo>
                  <a:lnTo>
                    <a:pt x="1279" y="1158"/>
                  </a:lnTo>
                  <a:lnTo>
                    <a:pt x="1236" y="1193"/>
                  </a:lnTo>
                  <a:lnTo>
                    <a:pt x="1196" y="1221"/>
                  </a:lnTo>
                  <a:lnTo>
                    <a:pt x="1150" y="1253"/>
                  </a:lnTo>
                  <a:lnTo>
                    <a:pt x="1091" y="1292"/>
                  </a:lnTo>
                  <a:lnTo>
                    <a:pt x="1035" y="1320"/>
                  </a:lnTo>
                  <a:lnTo>
                    <a:pt x="971" y="1351"/>
                  </a:lnTo>
                  <a:lnTo>
                    <a:pt x="840" y="1397"/>
                  </a:lnTo>
                  <a:lnTo>
                    <a:pt x="731" y="1425"/>
                  </a:lnTo>
                  <a:lnTo>
                    <a:pt x="615" y="1446"/>
                  </a:lnTo>
                  <a:lnTo>
                    <a:pt x="521" y="1457"/>
                  </a:lnTo>
                  <a:lnTo>
                    <a:pt x="402" y="1464"/>
                  </a:lnTo>
                  <a:lnTo>
                    <a:pt x="402" y="1573"/>
                  </a:lnTo>
                  <a:lnTo>
                    <a:pt x="0" y="1323"/>
                  </a:lnTo>
                  <a:lnTo>
                    <a:pt x="407" y="1070"/>
                  </a:lnTo>
                  <a:lnTo>
                    <a:pt x="405" y="1182"/>
                  </a:lnTo>
                  <a:lnTo>
                    <a:pt x="525" y="1175"/>
                  </a:lnTo>
                  <a:lnTo>
                    <a:pt x="615" y="1161"/>
                  </a:lnTo>
                  <a:lnTo>
                    <a:pt x="709" y="1140"/>
                  </a:lnTo>
                  <a:lnTo>
                    <a:pt x="840" y="1094"/>
                  </a:lnTo>
                  <a:lnTo>
                    <a:pt x="901" y="1064"/>
                  </a:lnTo>
                  <a:lnTo>
                    <a:pt x="960" y="1031"/>
                  </a:lnTo>
                  <a:lnTo>
                    <a:pt x="1009" y="994"/>
                  </a:lnTo>
                  <a:lnTo>
                    <a:pt x="1057" y="957"/>
                  </a:lnTo>
                  <a:lnTo>
                    <a:pt x="1096" y="922"/>
                  </a:lnTo>
                  <a:lnTo>
                    <a:pt x="1129" y="883"/>
                  </a:lnTo>
                  <a:lnTo>
                    <a:pt x="1165" y="838"/>
                  </a:lnTo>
                  <a:lnTo>
                    <a:pt x="1196" y="785"/>
                  </a:lnTo>
                  <a:lnTo>
                    <a:pt x="1219" y="735"/>
                  </a:lnTo>
                  <a:lnTo>
                    <a:pt x="1230" y="690"/>
                  </a:lnTo>
                  <a:lnTo>
                    <a:pt x="1241" y="633"/>
                  </a:lnTo>
                  <a:lnTo>
                    <a:pt x="1242" y="579"/>
                  </a:lnTo>
                  <a:lnTo>
                    <a:pt x="1240" y="542"/>
                  </a:lnTo>
                  <a:lnTo>
                    <a:pt x="1234" y="502"/>
                  </a:lnTo>
                  <a:lnTo>
                    <a:pt x="1219" y="454"/>
                  </a:lnTo>
                  <a:lnTo>
                    <a:pt x="1200" y="408"/>
                  </a:lnTo>
                  <a:lnTo>
                    <a:pt x="1177" y="365"/>
                  </a:lnTo>
                  <a:lnTo>
                    <a:pt x="1147" y="322"/>
                  </a:lnTo>
                  <a:lnTo>
                    <a:pt x="1094" y="260"/>
                  </a:lnTo>
                  <a:lnTo>
                    <a:pt x="1049" y="219"/>
                  </a:lnTo>
                  <a:lnTo>
                    <a:pt x="990" y="176"/>
                  </a:lnTo>
                  <a:lnTo>
                    <a:pt x="930" y="138"/>
                  </a:lnTo>
                  <a:lnTo>
                    <a:pt x="885" y="114"/>
                  </a:lnTo>
                  <a:lnTo>
                    <a:pt x="831" y="89"/>
                  </a:lnTo>
                  <a:lnTo>
                    <a:pt x="780" y="70"/>
                  </a:lnTo>
                  <a:lnTo>
                    <a:pt x="739" y="56"/>
                  </a:lnTo>
                  <a:lnTo>
                    <a:pt x="698" y="43"/>
                  </a:lnTo>
                  <a:lnTo>
                    <a:pt x="645" y="33"/>
                  </a:lnTo>
                  <a:lnTo>
                    <a:pt x="598" y="26"/>
                  </a:lnTo>
                  <a:lnTo>
                    <a:pt x="533" y="15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2920" y="4294440"/>
              <a:ext cx="1076400" cy="1254240"/>
            </a:xfrm>
            <a:custGeom>
              <a:avLst/>
              <a:gdLst/>
              <a:ahLst/>
              <a:rect l="l" t="t" r="r" b="b"/>
              <a:pathLst>
                <a:path w="1488" h="1573">
                  <a:moveTo>
                    <a:pt x="1121" y="0"/>
                  </a:moveTo>
                  <a:lnTo>
                    <a:pt x="945" y="3"/>
                  </a:lnTo>
                  <a:lnTo>
                    <a:pt x="885" y="9"/>
                  </a:lnTo>
                  <a:lnTo>
                    <a:pt x="811" y="21"/>
                  </a:lnTo>
                  <a:lnTo>
                    <a:pt x="755" y="30"/>
                  </a:lnTo>
                  <a:lnTo>
                    <a:pt x="698" y="44"/>
                  </a:lnTo>
                  <a:lnTo>
                    <a:pt x="642" y="61"/>
                  </a:lnTo>
                  <a:lnTo>
                    <a:pt x="592" y="78"/>
                  </a:lnTo>
                  <a:lnTo>
                    <a:pt x="532" y="100"/>
                  </a:lnTo>
                  <a:lnTo>
                    <a:pt x="460" y="132"/>
                  </a:lnTo>
                  <a:lnTo>
                    <a:pt x="404" y="161"/>
                  </a:lnTo>
                  <a:lnTo>
                    <a:pt x="349" y="194"/>
                  </a:lnTo>
                  <a:lnTo>
                    <a:pt x="311" y="221"/>
                  </a:lnTo>
                  <a:lnTo>
                    <a:pt x="267" y="253"/>
                  </a:lnTo>
                  <a:lnTo>
                    <a:pt x="236" y="278"/>
                  </a:lnTo>
                  <a:lnTo>
                    <a:pt x="202" y="313"/>
                  </a:lnTo>
                  <a:lnTo>
                    <a:pt x="172" y="345"/>
                  </a:lnTo>
                  <a:lnTo>
                    <a:pt x="142" y="380"/>
                  </a:lnTo>
                  <a:lnTo>
                    <a:pt x="120" y="408"/>
                  </a:lnTo>
                  <a:lnTo>
                    <a:pt x="91" y="448"/>
                  </a:lnTo>
                  <a:lnTo>
                    <a:pt x="64" y="492"/>
                  </a:lnTo>
                  <a:lnTo>
                    <a:pt x="45" y="536"/>
                  </a:lnTo>
                  <a:lnTo>
                    <a:pt x="30" y="573"/>
                  </a:lnTo>
                  <a:lnTo>
                    <a:pt x="16" y="617"/>
                  </a:lnTo>
                  <a:lnTo>
                    <a:pt x="5" y="662"/>
                  </a:lnTo>
                  <a:lnTo>
                    <a:pt x="0" y="722"/>
                  </a:lnTo>
                  <a:lnTo>
                    <a:pt x="4" y="773"/>
                  </a:lnTo>
                  <a:lnTo>
                    <a:pt x="11" y="815"/>
                  </a:lnTo>
                  <a:lnTo>
                    <a:pt x="20" y="858"/>
                  </a:lnTo>
                  <a:lnTo>
                    <a:pt x="36" y="905"/>
                  </a:lnTo>
                  <a:lnTo>
                    <a:pt x="51" y="945"/>
                  </a:lnTo>
                  <a:lnTo>
                    <a:pt x="71" y="982"/>
                  </a:lnTo>
                  <a:lnTo>
                    <a:pt x="101" y="1029"/>
                  </a:lnTo>
                  <a:lnTo>
                    <a:pt x="139" y="1080"/>
                  </a:lnTo>
                  <a:lnTo>
                    <a:pt x="177" y="1122"/>
                  </a:lnTo>
                  <a:lnTo>
                    <a:pt x="210" y="1158"/>
                  </a:lnTo>
                  <a:lnTo>
                    <a:pt x="252" y="1193"/>
                  </a:lnTo>
                  <a:lnTo>
                    <a:pt x="292" y="1221"/>
                  </a:lnTo>
                  <a:lnTo>
                    <a:pt x="339" y="1253"/>
                  </a:lnTo>
                  <a:lnTo>
                    <a:pt x="397" y="1291"/>
                  </a:lnTo>
                  <a:lnTo>
                    <a:pt x="454" y="1320"/>
                  </a:lnTo>
                  <a:lnTo>
                    <a:pt x="517" y="1351"/>
                  </a:lnTo>
                  <a:lnTo>
                    <a:pt x="648" y="1397"/>
                  </a:lnTo>
                  <a:lnTo>
                    <a:pt x="757" y="1425"/>
                  </a:lnTo>
                  <a:lnTo>
                    <a:pt x="873" y="1446"/>
                  </a:lnTo>
                  <a:lnTo>
                    <a:pt x="967" y="1457"/>
                  </a:lnTo>
                  <a:lnTo>
                    <a:pt x="1087" y="1464"/>
                  </a:lnTo>
                  <a:lnTo>
                    <a:pt x="1087" y="1573"/>
                  </a:lnTo>
                  <a:lnTo>
                    <a:pt x="1488" y="1323"/>
                  </a:lnTo>
                  <a:lnTo>
                    <a:pt x="1082" y="1070"/>
                  </a:lnTo>
                  <a:lnTo>
                    <a:pt x="1083" y="1182"/>
                  </a:lnTo>
                  <a:lnTo>
                    <a:pt x="963" y="1175"/>
                  </a:lnTo>
                  <a:lnTo>
                    <a:pt x="873" y="1161"/>
                  </a:lnTo>
                  <a:lnTo>
                    <a:pt x="780" y="1140"/>
                  </a:lnTo>
                  <a:lnTo>
                    <a:pt x="648" y="1094"/>
                  </a:lnTo>
                  <a:lnTo>
                    <a:pt x="587" y="1064"/>
                  </a:lnTo>
                  <a:lnTo>
                    <a:pt x="528" y="1031"/>
                  </a:lnTo>
                  <a:lnTo>
                    <a:pt x="480" y="993"/>
                  </a:lnTo>
                  <a:lnTo>
                    <a:pt x="431" y="957"/>
                  </a:lnTo>
                  <a:lnTo>
                    <a:pt x="392" y="922"/>
                  </a:lnTo>
                  <a:lnTo>
                    <a:pt x="360" y="883"/>
                  </a:lnTo>
                  <a:lnTo>
                    <a:pt x="324" y="837"/>
                  </a:lnTo>
                  <a:lnTo>
                    <a:pt x="292" y="785"/>
                  </a:lnTo>
                  <a:lnTo>
                    <a:pt x="270" y="735"/>
                  </a:lnTo>
                  <a:lnTo>
                    <a:pt x="259" y="689"/>
                  </a:lnTo>
                  <a:lnTo>
                    <a:pt x="247" y="633"/>
                  </a:lnTo>
                  <a:lnTo>
                    <a:pt x="246" y="579"/>
                  </a:lnTo>
                  <a:lnTo>
                    <a:pt x="249" y="542"/>
                  </a:lnTo>
                  <a:lnTo>
                    <a:pt x="255" y="502"/>
                  </a:lnTo>
                  <a:lnTo>
                    <a:pt x="270" y="454"/>
                  </a:lnTo>
                  <a:lnTo>
                    <a:pt x="289" y="408"/>
                  </a:lnTo>
                  <a:lnTo>
                    <a:pt x="311" y="364"/>
                  </a:lnTo>
                  <a:lnTo>
                    <a:pt x="341" y="322"/>
                  </a:lnTo>
                  <a:lnTo>
                    <a:pt x="395" y="260"/>
                  </a:lnTo>
                  <a:lnTo>
                    <a:pt x="440" y="219"/>
                  </a:lnTo>
                  <a:lnTo>
                    <a:pt x="498" y="176"/>
                  </a:lnTo>
                  <a:lnTo>
                    <a:pt x="558" y="138"/>
                  </a:lnTo>
                  <a:lnTo>
                    <a:pt x="603" y="113"/>
                  </a:lnTo>
                  <a:lnTo>
                    <a:pt x="657" y="89"/>
                  </a:lnTo>
                  <a:lnTo>
                    <a:pt x="708" y="70"/>
                  </a:lnTo>
                  <a:lnTo>
                    <a:pt x="750" y="56"/>
                  </a:lnTo>
                  <a:lnTo>
                    <a:pt x="791" y="43"/>
                  </a:lnTo>
                  <a:lnTo>
                    <a:pt x="843" y="32"/>
                  </a:lnTo>
                  <a:lnTo>
                    <a:pt x="891" y="25"/>
                  </a:lnTo>
                  <a:lnTo>
                    <a:pt x="956" y="15"/>
                  </a:lnTo>
                  <a:lnTo>
                    <a:pt x="1121" y="0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8240" y="3443400"/>
              <a:ext cx="1076400" cy="1254240"/>
            </a:xfrm>
            <a:custGeom>
              <a:avLst/>
              <a:gdLst/>
              <a:ahLst/>
              <a:rect l="l" t="t" r="r" b="b"/>
              <a:pathLst>
                <a:path w="1488" h="1573">
                  <a:moveTo>
                    <a:pt x="1120" y="1573"/>
                  </a:moveTo>
                  <a:lnTo>
                    <a:pt x="944" y="1570"/>
                  </a:lnTo>
                  <a:lnTo>
                    <a:pt x="884" y="1564"/>
                  </a:lnTo>
                  <a:lnTo>
                    <a:pt x="811" y="1552"/>
                  </a:lnTo>
                  <a:lnTo>
                    <a:pt x="754" y="1543"/>
                  </a:lnTo>
                  <a:lnTo>
                    <a:pt x="698" y="1529"/>
                  </a:lnTo>
                  <a:lnTo>
                    <a:pt x="642" y="1512"/>
                  </a:lnTo>
                  <a:lnTo>
                    <a:pt x="592" y="1495"/>
                  </a:lnTo>
                  <a:lnTo>
                    <a:pt x="532" y="1473"/>
                  </a:lnTo>
                  <a:lnTo>
                    <a:pt x="460" y="1441"/>
                  </a:lnTo>
                  <a:lnTo>
                    <a:pt x="403" y="1412"/>
                  </a:lnTo>
                  <a:lnTo>
                    <a:pt x="348" y="1379"/>
                  </a:lnTo>
                  <a:lnTo>
                    <a:pt x="311" y="1352"/>
                  </a:lnTo>
                  <a:lnTo>
                    <a:pt x="267" y="1320"/>
                  </a:lnTo>
                  <a:lnTo>
                    <a:pt x="236" y="1295"/>
                  </a:lnTo>
                  <a:lnTo>
                    <a:pt x="202" y="1260"/>
                  </a:lnTo>
                  <a:lnTo>
                    <a:pt x="172" y="1228"/>
                  </a:lnTo>
                  <a:lnTo>
                    <a:pt x="142" y="1193"/>
                  </a:lnTo>
                  <a:lnTo>
                    <a:pt x="120" y="1165"/>
                  </a:lnTo>
                  <a:lnTo>
                    <a:pt x="91" y="1125"/>
                  </a:lnTo>
                  <a:lnTo>
                    <a:pt x="63" y="1081"/>
                  </a:lnTo>
                  <a:lnTo>
                    <a:pt x="45" y="1037"/>
                  </a:lnTo>
                  <a:lnTo>
                    <a:pt x="30" y="1000"/>
                  </a:lnTo>
                  <a:lnTo>
                    <a:pt x="16" y="956"/>
                  </a:lnTo>
                  <a:lnTo>
                    <a:pt x="5" y="911"/>
                  </a:lnTo>
                  <a:lnTo>
                    <a:pt x="0" y="851"/>
                  </a:lnTo>
                  <a:lnTo>
                    <a:pt x="3" y="800"/>
                  </a:lnTo>
                  <a:lnTo>
                    <a:pt x="11" y="758"/>
                  </a:lnTo>
                  <a:lnTo>
                    <a:pt x="20" y="715"/>
                  </a:lnTo>
                  <a:lnTo>
                    <a:pt x="36" y="668"/>
                  </a:lnTo>
                  <a:lnTo>
                    <a:pt x="51" y="628"/>
                  </a:lnTo>
                  <a:lnTo>
                    <a:pt x="71" y="591"/>
                  </a:lnTo>
                  <a:lnTo>
                    <a:pt x="101" y="544"/>
                  </a:lnTo>
                  <a:lnTo>
                    <a:pt x="138" y="493"/>
                  </a:lnTo>
                  <a:lnTo>
                    <a:pt x="177" y="451"/>
                  </a:lnTo>
                  <a:lnTo>
                    <a:pt x="210" y="415"/>
                  </a:lnTo>
                  <a:lnTo>
                    <a:pt x="252" y="380"/>
                  </a:lnTo>
                  <a:lnTo>
                    <a:pt x="292" y="352"/>
                  </a:lnTo>
                  <a:lnTo>
                    <a:pt x="338" y="320"/>
                  </a:lnTo>
                  <a:lnTo>
                    <a:pt x="397" y="282"/>
                  </a:lnTo>
                  <a:lnTo>
                    <a:pt x="453" y="253"/>
                  </a:lnTo>
                  <a:lnTo>
                    <a:pt x="517" y="222"/>
                  </a:lnTo>
                  <a:lnTo>
                    <a:pt x="648" y="176"/>
                  </a:lnTo>
                  <a:lnTo>
                    <a:pt x="757" y="148"/>
                  </a:lnTo>
                  <a:lnTo>
                    <a:pt x="873" y="127"/>
                  </a:lnTo>
                  <a:lnTo>
                    <a:pt x="967" y="116"/>
                  </a:lnTo>
                  <a:lnTo>
                    <a:pt x="1087" y="109"/>
                  </a:lnTo>
                  <a:lnTo>
                    <a:pt x="1087" y="0"/>
                  </a:lnTo>
                  <a:lnTo>
                    <a:pt x="1488" y="250"/>
                  </a:lnTo>
                  <a:lnTo>
                    <a:pt x="1082" y="503"/>
                  </a:lnTo>
                  <a:lnTo>
                    <a:pt x="1083" y="391"/>
                  </a:lnTo>
                  <a:lnTo>
                    <a:pt x="963" y="398"/>
                  </a:lnTo>
                  <a:lnTo>
                    <a:pt x="873" y="412"/>
                  </a:lnTo>
                  <a:lnTo>
                    <a:pt x="779" y="433"/>
                  </a:lnTo>
                  <a:lnTo>
                    <a:pt x="648" y="479"/>
                  </a:lnTo>
                  <a:lnTo>
                    <a:pt x="587" y="509"/>
                  </a:lnTo>
                  <a:lnTo>
                    <a:pt x="528" y="542"/>
                  </a:lnTo>
                  <a:lnTo>
                    <a:pt x="480" y="580"/>
                  </a:lnTo>
                  <a:lnTo>
                    <a:pt x="431" y="616"/>
                  </a:lnTo>
                  <a:lnTo>
                    <a:pt x="392" y="651"/>
                  </a:lnTo>
                  <a:lnTo>
                    <a:pt x="360" y="690"/>
                  </a:lnTo>
                  <a:lnTo>
                    <a:pt x="323" y="736"/>
                  </a:lnTo>
                  <a:lnTo>
                    <a:pt x="292" y="788"/>
                  </a:lnTo>
                  <a:lnTo>
                    <a:pt x="270" y="838"/>
                  </a:lnTo>
                  <a:lnTo>
                    <a:pt x="258" y="884"/>
                  </a:lnTo>
                  <a:lnTo>
                    <a:pt x="247" y="940"/>
                  </a:lnTo>
                  <a:lnTo>
                    <a:pt x="246" y="994"/>
                  </a:lnTo>
                  <a:lnTo>
                    <a:pt x="248" y="1031"/>
                  </a:lnTo>
                  <a:lnTo>
                    <a:pt x="255" y="1071"/>
                  </a:lnTo>
                  <a:lnTo>
                    <a:pt x="270" y="1119"/>
                  </a:lnTo>
                  <a:lnTo>
                    <a:pt x="288" y="1165"/>
                  </a:lnTo>
                  <a:lnTo>
                    <a:pt x="311" y="1209"/>
                  </a:lnTo>
                  <a:lnTo>
                    <a:pt x="341" y="1251"/>
                  </a:lnTo>
                  <a:lnTo>
                    <a:pt x="395" y="1313"/>
                  </a:lnTo>
                  <a:lnTo>
                    <a:pt x="440" y="1354"/>
                  </a:lnTo>
                  <a:lnTo>
                    <a:pt x="498" y="1397"/>
                  </a:lnTo>
                  <a:lnTo>
                    <a:pt x="558" y="1435"/>
                  </a:lnTo>
                  <a:lnTo>
                    <a:pt x="603" y="1460"/>
                  </a:lnTo>
                  <a:lnTo>
                    <a:pt x="657" y="1484"/>
                  </a:lnTo>
                  <a:lnTo>
                    <a:pt x="708" y="1503"/>
                  </a:lnTo>
                  <a:lnTo>
                    <a:pt x="749" y="1517"/>
                  </a:lnTo>
                  <a:lnTo>
                    <a:pt x="791" y="1530"/>
                  </a:lnTo>
                  <a:lnTo>
                    <a:pt x="843" y="1541"/>
                  </a:lnTo>
                  <a:lnTo>
                    <a:pt x="891" y="1548"/>
                  </a:lnTo>
                  <a:lnTo>
                    <a:pt x="956" y="1558"/>
                  </a:lnTo>
                  <a:lnTo>
                    <a:pt x="1120" y="1573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32440" y="4770720"/>
              <a:ext cx="175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e-Science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83400" y="3926160"/>
              <a:ext cx="213804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Industry</a:t>
              </a: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Times New Roman (Hebrew)"/>
                </a:rPr>
                <a:t>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&amp; Busines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64200" y="4256280"/>
              <a:ext cx="1523880" cy="460440"/>
            </a:xfrm>
            <a:prstGeom prst="ellipse">
              <a:avLst/>
            </a:prstGeom>
            <a:solidFill>
              <a:srgbClr val="4a69bc">
                <a:alpha val="55000"/>
              </a:srgbClr>
            </a:solidFill>
            <a:ln w="0">
              <a:noFill/>
            </a:ln>
            <a:effectLst>
              <a:outerShdw dist="17819" dir="2700000" blurRad="0" rotWithShape="0">
                <a:srgbClr val="2c3e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  <a:ea typeface="Times New Roman (Hebrew)"/>
                </a:rPr>
                <a:t>Grid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632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What is the Grid ?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7120" y="1068480"/>
            <a:ext cx="854568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A Grid provides an abstraction for resource sharing an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collaboration across multiple administrative domains…”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(Source: NGG Expert Group, 16 June 2003 “European Grid Research 2005-2010)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1DAF-5806-485E-A3C6-5FEBA286B9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73840" y="2079720"/>
            <a:ext cx="151128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li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mantic Grid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virtual organisation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65960" y="4765680"/>
            <a:ext cx="1536840" cy="6858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ovenance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ust and provenance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89640" y="3822840"/>
            <a:ext cx="151164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mining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atamining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ools &amp; servic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440" y="3098880"/>
            <a:ext cx="1587600" cy="8506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GridS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Extended OGSA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mplementation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n UNICOR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7320" y="2031840"/>
            <a:ext cx="1549440" cy="8636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-WF 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base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orkflow &amp;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1341360"/>
            <a:ext cx="320040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COORD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Building the ERA in Grid research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49520" y="231840"/>
            <a:ext cx="6441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99"/>
                </a:solidFill>
                <a:latin typeface="Arial"/>
              </a:rPr>
              <a:t>Grid Research Projects in FP6 – call2/call3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907920"/>
            <a:ext cx="27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rt: SUMMER 200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07920"/>
            <a:ext cx="38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 Funding: 53 MILL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8240" y="3559320"/>
            <a:ext cx="272880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39880" y="3559320"/>
            <a:ext cx="272736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9880" y="4670280"/>
            <a:ext cx="5535720" cy="5040"/>
          </a:xfrm>
          <a:prstGeom prst="rect">
            <a:avLst/>
          </a:prstGeom>
          <a:solidFill>
            <a:srgbClr val="c9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9880" y="4657680"/>
            <a:ext cx="5535720" cy="4680"/>
          </a:xfrm>
          <a:prstGeom prst="rect">
            <a:avLst/>
          </a:prstGeom>
          <a:solidFill>
            <a:srgbClr val="b0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921200"/>
            <a:ext cx="5535720" cy="4680"/>
          </a:xfrm>
          <a:prstGeom prst="rect">
            <a:avLst/>
          </a:prstGeom>
          <a:solidFill>
            <a:srgbClr val="a6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50120" y="2978280"/>
            <a:ext cx="1523880" cy="7236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nto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Services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the semantic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280" y="4124160"/>
            <a:ext cx="1511280" cy="8510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PC4U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ault tolerance,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ependability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4175280"/>
            <a:ext cx="5079960" cy="129528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58920" y="3209760"/>
            <a:ext cx="2629080" cy="12193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298680"/>
            <a:ext cx="2438640" cy="11941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30320" y="2117880"/>
            <a:ext cx="4991040" cy="1371600"/>
          </a:xfrm>
          <a:prstGeom prst="triangle">
            <a:avLst>
              <a:gd name="adj" fmla="val 50000"/>
            </a:avLst>
          </a:prstGeom>
          <a:solidFill>
            <a:srgbClr val="4a69b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610000"/>
            <a:ext cx="331488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Grid-based generic enabling application technologies to facilitate solution of industrial problems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SIMDAT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24200" y="351144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-driven Grid service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rchitecture for busines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industry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Next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02160" y="361332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Mobile Grid architecture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services for dynamic virtual organisation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Akogrim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8640" y="4730760"/>
            <a:ext cx="4838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ropean-wide virtual laboratory for longer term Grid research-creating the foundation for next generation Grid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Core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844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03320" y="5559480"/>
            <a:ext cx="304920" cy="2412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4920" y="5572080"/>
            <a:ext cx="304920" cy="24120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5680" y="554184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support ac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0" y="554184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Integrated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96560" y="554184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Network of excell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87560" y="5541840"/>
            <a:ext cx="22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targeted research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1341360"/>
            <a:ext cx="271476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@Asia (Spring 2005) 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owards EU-Asian Co-operation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025C-42E8-4C8C-A465-65DDF38E09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49160" y="23184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ork Programme 2005-2006</a:t>
            </a:r>
            <a:br>
              <a:rPr sz="2100"/>
            </a:b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Advanced Grid Technologies, Systems and Servic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815240" y="2467080"/>
            <a:ext cx="712800" cy="323208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53400" y="1281240"/>
            <a:ext cx="636480" cy="116028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1520" y="3044880"/>
            <a:ext cx="1549800" cy="2481840"/>
            <a:chOff x="191520" y="3044880"/>
            <a:chExt cx="1549800" cy="2481840"/>
          </a:xfrm>
        </p:grpSpPr>
        <p:sp>
          <p:nvSpPr>
            <p:cNvPr id="112" name=""/>
            <p:cNvSpPr/>
            <p:nvPr/>
          </p:nvSpPr>
          <p:spPr>
            <a:xfrm>
              <a:off x="222480" y="304488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1520" y="482292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094000">
              <a:off x="660240" y="4022640"/>
              <a:ext cx="762120" cy="45720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552200">
              <a:off x="244080" y="4044600"/>
              <a:ext cx="800280" cy="47628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857240" y="4503600"/>
            <a:ext cx="5092920" cy="12574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86760" y="4903920"/>
            <a:ext cx="470844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entric Grid Operating System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otential new fabric layer for future 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distributed systems and service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800">
            <a:off x="2158920" y="358092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95440" y="388296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building the invisible Grid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87520" y="2541600"/>
            <a:ext cx="5118120" cy="1263600"/>
            <a:chOff x="2387520" y="2541600"/>
            <a:chExt cx="5118120" cy="1263600"/>
          </a:xfrm>
        </p:grpSpPr>
        <p:sp>
          <p:nvSpPr>
            <p:cNvPr id="122" name=""/>
            <p:cNvSpPr/>
            <p:nvPr/>
          </p:nvSpPr>
          <p:spPr>
            <a:xfrm>
              <a:off x="2387520" y="254160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1120" y="284616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Research, development, validation and take-up of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generic environments and tools</a:t>
              </a:r>
              <a:endParaRPr b="0" lang="en-US" sz="15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829640" y="1625760"/>
            <a:ext cx="6602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91320" y="1631880"/>
            <a:ext cx="1133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-bus, e-health, e-goy, e-learning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nvironment, …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75640" y="3435480"/>
            <a:ext cx="654120" cy="11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9480" y="3457440"/>
            <a:ext cx="1040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dvance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Gri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echnologies,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ystems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d Servic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7720" y="13352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4338720" y="200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264560" y="20185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38440" y="13190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3335400" y="1998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261240" y="204696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43720" y="133668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6354720" y="204552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274440" y="2069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84440" y="13064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2395800" y="19724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2321640" y="19897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000" y="1069920"/>
            <a:ext cx="200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ST Call 5</a:t>
            </a:r>
            <a:br>
              <a:rPr sz="20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n May 2005</a:t>
            </a:r>
            <a:br>
              <a:rPr sz="16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se </a:t>
            </a:r>
            <a:r>
              <a:rPr b="1" lang="en-GB" sz="1600" spc="-1" strike="noStrike">
                <a:solidFill>
                  <a:srgbClr val="c0371c"/>
                </a:solidFill>
                <a:latin typeface="Arial"/>
              </a:rPr>
              <a:t>Sept 2005</a:t>
            </a:r>
            <a:br>
              <a:rPr sz="16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udget: </a:t>
            </a:r>
            <a:r>
              <a:rPr b="1" lang="en-GB" sz="2000" spc="-1" strike="noStrike">
                <a:solidFill>
                  <a:srgbClr val="c0371c"/>
                </a:solidFill>
                <a:latin typeface="Arial"/>
              </a:rPr>
              <a:t>~70M€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1440" y="2425680"/>
            <a:ext cx="8632800" cy="15840"/>
          </a:xfrm>
          <a:prstGeom prst="line">
            <a:avLst/>
          </a:prstGeom>
          <a:ln w="158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CB55-A171-42FA-BA90-6BDC6EB1EDB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6240" y="1490760"/>
            <a:ext cx="8327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6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Background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hina has well established programs and a critical mass of research in the Grid technologies are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ere are many research and application areas in common with potential for co-oper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re is common interest in the EU and China in promoting collaboration among the existing Grid initiatives and in setting up a framework for long-term cooper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Grid@Asia : SSA whose objective is to ease an EU Asian cooperation in Grid Technologi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4880" y="12240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International Co-operation on Grid Technologies – Target Country: Chin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E7A7-4517-42B6-A293-AC2BD45850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6240" y="1262160"/>
            <a:ext cx="8327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276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Arial"/>
                <a:ea typeface="宋体"/>
              </a:rPr>
              <a:t>Ministry of Science and Technology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China National Grid (CNGrid); part of the National Hi-tech Program(86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76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  <a:ea typeface="宋体"/>
              </a:rPr>
              <a:t>NSF of China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ROWNE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76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Application Grid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ChinaGrid, supported by the Ministry of Edu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hina Science Data Grid (SDG),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supported by the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hinese Academy of Scien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4880" y="12240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Grid activities in China (I)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ED35-6CAC-4EC1-8096-82F09ACBFF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6240" y="1262160"/>
            <a:ext cx="8537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6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Examples of Grid initiatives in China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Grid Test-be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rid Software Developmen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eological Survey Grid; Digital Forest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Meteorological Application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viation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imulation and Manufacturing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ioinformatics Grid; New Drug Discovery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raffic Information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4880" y="12240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Grid activities in China (II)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09F0-B315-42AF-BDF3-41ABF2E2C1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04880" y="12240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International Co-operation on Grid Technologies – Target Country: Chin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31440" y="1706040"/>
            <a:ext cx="8327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Objectives of the Cal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 develop strategic partnerships building on common priority area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 explore new collaboration opportunities for the take-up of Grid-enabled applications by end-us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moting common developments of standards and building joint virtual laboratories involving research and industr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18D1-5CA4-4CE3-BF5B-D482A4D3B6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49160" y="23184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ork Programme 2005-2006</a:t>
            </a:r>
            <a:br>
              <a:rPr sz="2100"/>
            </a:b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International Cooperation on Grid Technologies</a:t>
            </a:r>
            <a:br>
              <a:rPr sz="2100"/>
            </a:b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RESEARCH FOCUS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815240" y="2961720"/>
            <a:ext cx="712800" cy="244476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53400" y="1776240"/>
            <a:ext cx="636480" cy="116064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1520" y="3273480"/>
            <a:ext cx="1549800" cy="2331000"/>
            <a:chOff x="191520" y="3273480"/>
            <a:chExt cx="1549800" cy="2331000"/>
          </a:xfrm>
        </p:grpSpPr>
        <p:sp>
          <p:nvSpPr>
            <p:cNvPr id="155" name=""/>
            <p:cNvSpPr/>
            <p:nvPr/>
          </p:nvSpPr>
          <p:spPr>
            <a:xfrm>
              <a:off x="222480" y="327348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1520" y="490068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094000">
              <a:off x="692640" y="4147920"/>
              <a:ext cx="696960" cy="45720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4552200">
              <a:off x="278280" y="4167360"/>
              <a:ext cx="731880" cy="47628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193800">
            <a:off x="2158920" y="407628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95440" y="437832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the Grid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22680" y="4146480"/>
            <a:ext cx="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387520" y="3036960"/>
            <a:ext cx="5118120" cy="1263600"/>
            <a:chOff x="2387520" y="3036960"/>
            <a:chExt cx="5118120" cy="1263600"/>
          </a:xfrm>
        </p:grpSpPr>
        <p:sp>
          <p:nvSpPr>
            <p:cNvPr id="163" name=""/>
            <p:cNvSpPr/>
            <p:nvPr/>
          </p:nvSpPr>
          <p:spPr>
            <a:xfrm>
              <a:off x="2387520" y="303696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71120" y="334152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Promote global adoption of Grid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environments and tools</a:t>
              </a:r>
              <a:endParaRPr b="0" lang="en-US" sz="15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829640" y="2120760"/>
            <a:ext cx="660240" cy="4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91320" y="2127240"/>
            <a:ext cx="1133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-bus, e-health, e-goy, e-learning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nvironment, …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70880" y="3736800"/>
            <a:ext cx="1079280" cy="8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ternational Cooperation on Grid Technologi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27720" y="18302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4338720" y="24962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264560" y="251388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38440" y="181440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35400" y="2493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261240" y="25423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43720" y="18320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6354720" y="254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6274440" y="2564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84440" y="180180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395800" y="24678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321640" y="248508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1240" y="1565280"/>
            <a:ext cx="2318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ST Call 6</a:t>
            </a:r>
            <a:br>
              <a:rPr sz="20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dicative Budget 5M€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1440" y="2921040"/>
            <a:ext cx="8632800" cy="15840"/>
          </a:xfrm>
          <a:prstGeom prst="line">
            <a:avLst/>
          </a:prstGeom>
          <a:ln w="158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48A9-EAC6-46F2-B036-F0C1BE0F0A2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9:24Z</dcterms:created>
  <dc:creator>J-FTardif</dc:creator>
  <dc:description/>
  <dc:language>en-US</dc:language>
  <cp:lastModifiedBy>bledante</cp:lastModifiedBy>
  <cp:lastPrinted>2004-01-20T15:10:22Z</cp:lastPrinted>
  <dcterms:modified xsi:type="dcterms:W3CDTF">2006-01-31T13:40:48Z</dcterms:modified>
  <cp:revision>571</cp:revision>
  <dc:subject/>
  <dc:title>No Slide Title</dc:title>
</cp:coreProperties>
</file>