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1F45E-4EF7-4816-8201-3356C1C9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CA338-8312-443A-9B8B-E84B6033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5B9B-7FE7-443D-93FC-05BA6DF9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9DFB-D6EC-452A-BACB-6CD13487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320F-6CD6-49EE-B1E1-48867736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313B-A85B-4967-91E3-02238B5E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3CF9-1DA2-45E2-9EA3-D02AA7B8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3F10-F518-4D6F-A599-EDF9F1DF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F357-9FED-472B-9E94-28F87AC8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B092-6434-45C2-B2CA-5FE7FE4F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410D-D6B4-47E6-A60C-C79ED019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A0F4B-6EA3-4A56-83C1-9663BA29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E152-289B-40C9-B4EF-EC7E3279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0983-7D04-4EEB-8BC5-2452D585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D611-CCA4-4479-84AC-4E9BA690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1829-37B1-4772-97FE-2CF6724F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3591-9ADA-4098-B07A-D461FBEE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39F92-B1AE-4C34-86DD-59CC1978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F38A3-6D05-4687-BF61-B516C4DE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AA455-F011-489C-B324-45196995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8E18A-8AFA-4635-9897-475DC668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C635-D3E5-4F25-BE49-14434360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0F66-E28E-45CA-8062-FB0C5473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D8779-1F17-4C53-B914-AB38A2CC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FB91-E902-41D7-8659-D20743A29D14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937B-1E5E-44E0-B343-19F4267613F0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hy@software.ict.ac.cn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fp6.cordis.europa.eu.int/index.cfm?fuseaction=UserSite.FP6DetailsCallPage&amp;call_id=271" TargetMode="External"/><Relationship Id="rId2" Type="http://schemas.openxmlformats.org/officeDocument/2006/relationships/hyperlink" Target="http://www.ceco.org.cn/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yhy@software.ict.ac.cn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ct.ac.cn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vega.ict.ac.c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paring an IST proposal as a Chinese partner –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me experiences from ICT</a:t>
            </a:r>
            <a:br>
              <a:rPr sz="4200"/>
            </a:b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Haiyan Y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Institute of Computing Technology, Chinese Academy of Sci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yhy@software.ict.ac.cn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48000" y="189000"/>
            <a:ext cx="1819440" cy="985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659640" y="189000"/>
            <a:ext cx="2247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oring Cooper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but not the least, let your research be known to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 on high-quality international conferences and journals ( Let reviewers know your work even if not get published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 with people within the same research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nding conferences such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id@Asia, SC, HPCC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volunteers of international activities such as serving as a PC member or panel chair of con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in collaboration forums or consortiums such as G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match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 speaking, for a promising proposal, the project leader (a research institute, a university, more often, a group) is highly active and well known in a specific research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expertise or research experiences could complement to other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ifecycle of a successful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nsortium form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ay immediately start after the call has been annou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ay terminate after there are enough members responsible for each Work Package (W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eparation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ach partner contribute to their interested W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tegrated Draft version 1,2,3 … 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till the d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ubmission of the proposal ( generally no extension !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The First Stage of Evaluation </a:t>
            </a:r>
            <a:r>
              <a:rPr b="0" lang="zh-CN" sz="2000" spc="-1" strike="noStrike">
                <a:solidFill>
                  <a:srgbClr val="00007d"/>
                </a:solidFill>
                <a:latin typeface="Arial"/>
              </a:rPr>
              <a:t>(in 1-2 months after the submi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ust pass the required thresholds in 6 aspects: (1)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Relevance (2) Potential Impact (3) S&amp;T Excellence (4) Quality of the consortium (5) Quality of the management (6) Mobilization of the resource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The Second Stage of Evaluation ( Hear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ond to a number of specific questions concerning the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ntrac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gotiation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termined by results of the second stage of evaluation, in order of precedence - highest ranking proposals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wo or more rounds, much paper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ignature of Contract, Start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ructure of a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 titl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rony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ic objectiv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osal Abstrac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7d"/>
                </a:solidFill>
                <a:latin typeface="Arial"/>
              </a:rPr>
              <a:t>B.1 Scientific and technological objectives of the project and state of the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7d"/>
                </a:solidFill>
                <a:latin typeface="Arial"/>
              </a:rPr>
              <a:t>B.2 Relevance to the objectives of the IST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7d"/>
                </a:solidFill>
                <a:latin typeface="Arial"/>
              </a:rPr>
              <a:t>B.3 Potential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7d"/>
                </a:solidFill>
                <a:latin typeface="Arial"/>
              </a:rPr>
              <a:t>B.4 Outline implementa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7d"/>
                </a:solidFill>
                <a:latin typeface="Arial"/>
              </a:rPr>
              <a:t>B.5 Description of the consor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6 Description of projec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7 Project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7d"/>
                </a:solidFill>
                <a:latin typeface="Arial"/>
              </a:rPr>
              <a:t>B.8 Detailed implementation  plan – first 18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9 Othe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10 Gende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Generally, Chinese partners need to focus on items in blue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Key Sections of a Proposal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pecify which work packages (WPs) you would like to participat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s this WP matching your research interests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hat contribution could you make to this WP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ow many person-months (PMs) could you affor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ovide Inputs &amp; Comments to each WP in which you will be inv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dustry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levance to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lation to other W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ive a coarse estimation of your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wo stages: First 18 months / Later 3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rmally the cost can be calculated by P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Key Sections of a Proposal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or Chinese Partners, the following sections are mand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5 “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Detailed Description of Partner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troduction of your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our skills (research achiev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ey Personnel ( Resume, publications could be attach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5.3 “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Other Countri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hy you are included in the consortium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ome possible answ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xplore new opportunities for international collaboration, jointly addressing important technological issues and enhancing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uld contribute to the improvement of China’s IT infrastructure, could have some profound impact on technology transfer in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ow important is your contribution to the project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hat exactly role do you play in the projec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esign / Implementation / Evaluation / Dissemination /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our expertise complement to the consor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Tip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e active, better than be pa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ake your contributions as much as possible,  add inputs to important sections of the proposal ( such as “Relevance to the objectives of the IST Priority”, “Potential impact “, and etc. ) if you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e careful in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t to bo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nsure technical correc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ake typo error and grammar error che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enerally, A Mailing List  + A Website is an efficient approach for collaboration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imely response is wel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ctive discussion is wel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ouble-win” strateg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vite other possible Chinese partners that could improve the quality of consortium, rather than becoming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Ti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(Additional Cost): for academic partners, 100% get gr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(Full Cost): for industrial partners, 50% get gr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n’t over-estimate your budget 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will impairs the evaluation of the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reason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 Justification of the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o get th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T Call 6 Site (contains all information you need)</a:t>
            </a:r>
            <a:br>
              <a:rPr sz="2400"/>
            </a:b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fp6.cordis.europa.eu.int/index.cfm?fuseaction=UserSite.FP6DetailsCallPage&amp;call_id=27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-EU S&amp;T Site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ceco.org.cn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(in Chine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garding “IST Call 6: International cooperation on Grid Technologi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country: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Chin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focu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 foundations: architecture, design and development of technologies and systems for the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-enabled applications and services for business and society: promote global adoption of Grid environments and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s sha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verage and integrate existing initiat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focal areas in Europe and the target coun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ng in an IST application is a good practice to learn how big projects are coord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opportunity to make China R&amp;D initiatives open to the world, to foster technological innovation through relationships with international p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!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: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yhy@software.ict.ac.c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Xtree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Research @ 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an IST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ing Cooperation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fecycle of a Successful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e of a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Key Sections of a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o Ge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Xtreem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d Research @ 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XtreemO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ST call 5 proposal that has  successfully passed the final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, implementation, evaluation and distribution of an open source Grid operating system with native support for virtu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ing Linux to manage very large and dynamic ensembles of cross-domain resources,  targeting multiple platforms( PC, SMP, clusters, PDA and mobile ph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the reference open source Grid OS, providing a production-quality alternative for current grid research prot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24360" y="476280"/>
            <a:ext cx="320040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XtreemO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success of XtreemOS proposal was largely attributed t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Wel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Balance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ernationa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Consor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 prestigious leader and a good coordinator (IN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 reasonable composition of academic researchers, software vendors, and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cademic partners: CNR, CCLRC, BSC, U. Ulm, U. Vrjie, ZIB, ICT (from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Chin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dustrial partners:  Mandriva, Red Flag (from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Chin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, NEC, SAP, XLAB, Telefonica+D, EADS, EDF, T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Hard Wor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of the consor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476280"/>
            <a:ext cx="320040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XtreemO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pecif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on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f Chinese Partners in Xtree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esign and implementation of OS-level user and resource management mechanisms to support VO (The responsible partner for some tas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eploying, testing and evaluating XtreemOS on China grid testb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 and distribution of Xtre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tegration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Flag Linux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/ Asi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ovide user support of Xtre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724360" y="476280"/>
            <a:ext cx="320040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ut I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ull Name: Institute of Computing Technology, Chinese Academy of Sciences ( ICT of CA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ounded in 1956, the First National Research Institute on Computer Science and Technology in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lot R&amp;D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igh-Performance Computing: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Dawning Cluster 4000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Rank 10th of Top500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,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BlueWhale 1000 Network Storag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eneral Purpose CPU Chips: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GodSon I,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rid Computing: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VEGA Gr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gital Technologies: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Audio and Video Coding Standard (AV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etworking :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IPv6 Testing, Wireless Sens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Cradle of Chinese I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search Institutes originate from ICT: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Software Institute of CAS, Network Center of CA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nterprises incubated by ICT: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 Lenov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Dawn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ict.ac.cn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740720" y="260280"/>
          <a:ext cx="1218960" cy="99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0720" y="260280"/>
                    <a:ext cx="121896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551640" y="0"/>
            <a:ext cx="1981080" cy="1209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d Research @ IC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Center for Grid and Service Computing ( VEGA Center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6526080"/>
            <a:ext cx="842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vega.ict.ac.cn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Middleware: VEGA Software Su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-I and OGSA con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tailorable Implementation of WS-Secu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e part of CNGrid Software, deployed in 8 nodes spanning 6 cities in Chi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-User Programm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M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Visual Studio” for Grid Applications, based on Eclipse RCP (for desktop app.) and AJAX framework (for web ap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N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ervice composition / workflow tool, BPEL compa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-Aware Service Management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LAME2008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Beijing Olympic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Manufacturing: AmGrid, operating in BOE cor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government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operating in GuaDong Provi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cus Virtual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788200">
            <a:off x="5724360" y="5949720"/>
            <a:ext cx="316872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flets availabl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an IST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ing Cooperation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fecycle of a Successful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ucture of a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Key Sections of a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Ge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02:00:04Z</dcterms:created>
  <dc:creator>Haiyan Yu</dc:creator>
  <dc:description/>
  <dc:language>en-US</dc:language>
  <cp:lastModifiedBy>Haiyan Yu</cp:lastModifiedBy>
  <dcterms:modified xsi:type="dcterms:W3CDTF">2006-02-20T13:33:46Z</dcterms:modified>
  <cp:revision>156</cp:revision>
  <dc:subject/>
  <dc:title>幻灯片 1</dc:title>
</cp:coreProperties>
</file>