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68DF-9C0E-490E-8E6E-EA8FD339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2E51-7F2E-41DE-8AA6-6274A25B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6F63-DC6E-4D97-A2D4-5B9D34DE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1E16-5C05-4324-A480-799981C5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A50D-9EAC-4155-B9D4-60022F6C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EA45-179E-4F2D-9CED-0996FF9E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301F-7695-4697-8F4C-FEB65A2C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EFF8-54F0-45D3-8226-3E717A5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443E-E7AD-4430-86FF-CEF1A965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2635-5268-4B3A-A084-A4073002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5F8E-2DCD-4EEF-B879-78FA05B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BE58-D34E-4073-9E57-FC6FDB0B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98C-F077-4E65-AF94-55A23AAD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2D29-F3B1-432A-B11B-AEDAED78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CE8E-720F-47E0-9D25-472EC1CF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C2B-F056-4E93-8672-EDBE77AC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A645-C73D-46DE-9F7E-A2BB945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278A-CE1E-42E2-8F67-4A6B9B72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ED15-EB9D-4DB1-A0C9-AC4ADEF4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5CFC-CB3A-484D-9BF3-7B54D9F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CE9B-D682-4E16-AD62-534CD50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71A1-EB11-44C4-AF55-FCE40A8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8990-800A-4789-8E5D-756D913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7E09-C143-4E7E-BC48-B9FEED93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1AE-9F83-47FD-B3A7-9F6A48B5429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701-F302-4E5B-BE6D-5824207397C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hy@software.ict.ac.cn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p6.cordis.europa.eu.int/index.cfm?fuseaction=UserSite.FP6DetailsCallPage&amp;call_id=271" TargetMode="External"/><Relationship Id="rId2" Type="http://schemas.openxmlformats.org/officeDocument/2006/relationships/hyperlink" Target="http://www.ceco.org.cn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yhy@software.ict.ac.cn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ct.ac.cn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vega.ict.ac.c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paring an IST proposal as a Chinese partner –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e experiences from ICT</a:t>
            </a:r>
            <a:br>
              <a:rPr sz="42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aiyan Y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stitute of Computing Technology, Chinese Academy of Sc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yhy@software.ict.ac.c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1819440" cy="98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2247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ing Cooper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ut not the least, let your research be known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on high-quality international conferences and journals ( Let reviewers know your work even if not get published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people within the same research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ing conferences such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id@Asia, SC, HPC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volunteers of international activities such as serving as a PC member or panel chair of 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n collaboration forums or consortiums such as G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match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speaking, for a promising proposal, the project leader (a research institute, a university, more often, a group) is highly active and well known in a specific research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expertise or research experiences could complement to other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ifecycle of a successful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sortium fo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y immediately start after the call has been annou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y terminate after there are enough members responsible for each Work Package (W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eparation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ach partner contribute to their interested W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egrated Draft version 1,2,3 …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till the 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bmission of the proposal ( generally no extension !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The First Stage of Evaluation </a:t>
            </a:r>
            <a:r>
              <a:rPr b="0" lang="zh-CN" sz="2000" spc="-1" strike="noStrike">
                <a:solidFill>
                  <a:srgbClr val="00007d"/>
                </a:solidFill>
                <a:latin typeface="Arial"/>
              </a:rPr>
              <a:t>(in 1-2 months after the submi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st pass the required thresholds in 6 aspects: (1)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Relevance (2) Potential Impact (3) S&amp;T Excellence (4) Quality of the consortium (5) Quality of the management (6) Mobilization of the resourc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The Second Stage of Evaluation ( Hear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d to a number of specific questions concerning the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tra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otia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termined by results of the second stage of evaluation, in order of precedence - highest ranking proposal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wo or more rounds, much paper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ignature of Contract, Start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ucture of a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tit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rony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al Abstrac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1 Scientific and technological objectives of the project and state of the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2 Relevance to the objectives of the IST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3 Potenti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4 Outline implement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5 Description of the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6 Description of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7 Projec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8 Detailed implementation  plan – first 18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9 O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10 Gend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Generally, Chinese partners need to focus on items in blu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Key Sections of a Proposal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ify which work packages (WPs) you would like to participa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 this WP matching your research interest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hat contribution could you make to this WP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ow many person-months (PMs) could you aff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Inputs &amp; Comments to each WP in which you will be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dustr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evance to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ation to other W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ive a coarse estimation of your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wo stages: First 18 months / Later 3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he cost can be calculated by P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Key Sections of a Proposal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r Chinese Partners, the following sections are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5 “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Detailed Description of Partn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roduction of you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our skills (research achiev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ey Personnel ( Resume, publications could be atta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5.3 “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Other Countri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hy you are included in the consortium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me possible answ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plore new opportunities for international collaboration, jointly addressing important technological issues and enhancing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uld contribute to the improvement of China’s IT infrastructure, could have some profound impact on technology transfer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ow important is your contribution to the projec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at exactly role do you play in the projec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sign / Implementation / Evaluation / Dissemination /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our expertise complement to the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i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 active, better than b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ke your contributions as much as possible,  add inputs to important sections of the proposal ( such as “Relevance to the objectives of the IST Priority”, “Potential impact “, and etc. )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 careful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t to b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sure technical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ke typo error and grammar error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enerally, A Mailing List  + A Website is an efficient approach for collaboration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ly response is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tive discussion is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uble-win” strateg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ite other possible Chinese partners that could improve the quality of consortium, rather than becoming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i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(Additional Cost): for academic partners, 100% get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(Full Cost): for industrial partners, 50% get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n’t over-estimate your budget 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ill impairs the evaluation of the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s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Justification of th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get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 Call 6 Site (contains all information you need)</a:t>
            </a:r>
            <a:br>
              <a:rPr sz="2400"/>
            </a:b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fp6.cordis.europa.eu.int/index.cfm?fuseaction=UserSite.FP6DetailsCallPage&amp;call_id=2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-EU S&amp;T Sit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ceco.org.cn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in Chin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garding “IST Call 6: International cooperation on Grid Technolog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country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Chin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focu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foundations: architecture, design and development of technologies and systems for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-enabled applications and services for business and society: promote global adoption of Grid environment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s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verage and integrate existing initia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ocal areas in Europe and the target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ng in an IST application is a good practice to learn how big projects are co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opportunity to make China R&amp;D initiatives open to the world, to foster technological innovation through relationships with international p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yhy@software.ict.ac.c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Xtree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Research @ 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an IS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ing Cooperation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fecycle of a Successful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Key Sections of a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e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Xtree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Research @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XtreemO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T call 5 proposal that has  successfully passed the fin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implementation, evaluation and distribution of an open source Grid operating system with native support for virtu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Linux to manage very large and dynamic ensembles of cross-domain resources,  targeting multiple platforms( PC, SMP, clusters, PDA and mobile ph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reference open source Grid OS, providing a production-quality alternative for current grid research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32004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Xtreem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success of XtreemOS proposal was largely attributed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Balanc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ernationa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prestigious leader and a good coordinator (IN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reasonable composition of academic researchers, software vendors, and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ademic partners: CNR, CCLRC, BSC, U. Ulm, U. Vrjie, ZIB, ICT (from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dustrial partners:  Mandriva, Red Flag (from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NEC, SAP, XLAB, Telefonica+D, EADS, EDF, 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Hard Wor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of the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32004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XtreemO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f Chinese Partners in Xtre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sign and implementation of OS-level user and resource management mechanisms to support VO (The responsible partner for some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ploying, testing and evaluating XtreemOS on China grid testb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and distribution of Xtre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tegration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Flag Linux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 As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user support of Xtre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32004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ut 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ull Name: Institute of Computing Technology, Chinese Academy of Sciences ( ICT of CA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unded in 1956, the First National Research Institute on Computer Science and Technology i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lot R&amp;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igh-Performance Computing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Dawning Cluster 4000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Rank 10th of Top500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BlueWhale 1000 Network Storag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neral Purpose CPU Chips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GodSon I,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 Computing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VEGA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gital Technologies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Audio and Video Coding Standard (A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ing :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IPv6 Testing, Wireless 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radle of Chinese I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search Institutes originate from ICT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Software Institute of CAS, Network Center of CA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terprises incubated by ICT: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Lenov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Dawn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ict.ac.cn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740720" y="260280"/>
          <a:ext cx="121896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260280"/>
                    <a:ext cx="121896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1981080" cy="120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Research @ IC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Center for Grid and Service Computing ( VEGA Cente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52608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vega.ict.ac.cn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Middleware: VEGA Software Su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-I and OGSA con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tailorable Implementation of WS-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e part of CNGrid Software, deployed in 8 nodes spanning 6 cities in Chi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Programm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M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Visual Studio” for Grid Applications, based on Eclipse RCP (for desktop app.) and AJAX framework (for web ap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N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rvice composition / workflow tool, BPEL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Aware Service Managemen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LAME2008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Beijing Olympic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Manufacturing: AmGrid, operating in BOE cor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government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operating in GuaDong 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cus Virtual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88200">
            <a:off x="5724360" y="5949720"/>
            <a:ext cx="31687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lets availab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an IS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Cooperat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fecycle of a Successful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cture of 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Key Sections of 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2:00:04Z</dcterms:created>
  <dc:creator>Haiyan Yu</dc:creator>
  <dc:description/>
  <dc:language>en-US</dc:language>
  <cp:lastModifiedBy>Haiyan Yu</cp:lastModifiedBy>
  <dcterms:modified xsi:type="dcterms:W3CDTF">2006-02-20T13:33:46Z</dcterms:modified>
  <cp:revision>156</cp:revision>
  <dc:subject/>
  <dc:title>幻灯片 1</dc:title>
</cp:coreProperties>
</file>