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wmf" ContentType="image/x-wmf"/>
  <Override PartName="/ppt/media/image9.jpeg" ContentType="image/jpeg"/>
  <Override PartName="/ppt/media/image27.jpeg" ContentType="image/jpeg"/>
  <Override PartName="/ppt/media/image17.png" ContentType="image/png"/>
  <Override PartName="/ppt/media/image26.jpeg" ContentType="image/jpeg"/>
  <Override PartName="/ppt/media/image1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C0FFD-16F4-4229-8AE4-D539BA499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AA2B9-85DC-4A82-A438-F02C07835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EB35B-B0AE-4121-8B68-CD10707C9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F7D7C-AB37-4B1A-AA1A-4CCFA360B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81080" y="456840"/>
            <a:ext cx="65534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A607F-01D7-4ACE-B7C7-86DA95F30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48358-E51E-4E2D-98B2-EBD0B22FA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F33BD-A92E-4E48-9871-BA426798B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B9A7A-91CF-4B0B-9849-DE2108FDF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81080" y="456840"/>
            <a:ext cx="65534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F58CB-BC8D-4A9C-86E8-89DB7D19E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0784A-E5CC-442A-A597-414BBD117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07F49-84F7-4213-B27C-D64D43BFA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75BFE-EE88-426F-A9EC-C4308E95E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6324480"/>
            <a:ext cx="784872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40080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48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4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48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57200" y="6400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b92d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b92d00"/>
                </a:solidFill>
                <a:latin typeface="Arial"/>
              </a:rPr>
              <a:t>Grid@Asia Workshop - Seoul, December 11-13, 20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38188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7964-5D70-4B5F-B8BD-82C5467376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376200"/>
            <a:ext cx="1612800" cy="6904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381880" y="449280"/>
            <a:ext cx="654120" cy="54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6324480"/>
            <a:ext cx="769644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40080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79920" y="306360"/>
            <a:ext cx="1683000" cy="379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457200" y="6400440"/>
            <a:ext cx="7696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b92d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b92d00"/>
                </a:solidFill>
                <a:latin typeface="Arial"/>
              </a:rPr>
              <a:t>                </a:t>
            </a:r>
            <a:r>
              <a:rPr b="1" lang="en-GB" sz="900" spc="-1" strike="noStrike">
                <a:solidFill>
                  <a:srgbClr val="b92d00"/>
                </a:solidFill>
                <a:latin typeface="Arial"/>
              </a:rPr>
              <a:t>XtreemOS IP project is funded by the European Commission under contract IST-FP6-0335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83000" y="990720"/>
            <a:ext cx="2178000" cy="931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23720" y="3664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52280" y="6172200"/>
            <a:ext cx="1143000" cy="587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8458200" y="6283440"/>
            <a:ext cx="542880" cy="3650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d48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d48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d48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jpe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2d00"/>
                </a:solidFill>
                <a:latin typeface="Arial"/>
              </a:rPr>
              <a:t>XtreemOS: Building and Promoting a Linux-based Operating System to Support Virtual Organizations for Next Generation Grid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2d00"/>
                </a:solidFill>
                <a:latin typeface="Arial"/>
              </a:rPr>
              <a:t>Thierry PRI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2d00"/>
                </a:solidFill>
                <a:latin typeface="Arial"/>
              </a:rPr>
              <a:t>Christine MOR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2d00"/>
                </a:solidFill>
                <a:latin typeface="Arial"/>
              </a:rPr>
              <a:t>IRISA/IN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XtreemOS Use</a:t>
            </a:r>
            <a:r>
              <a:rPr b="1" lang="en-US" sz="2800" spc="-1" strike="noStrike">
                <a:solidFill>
                  <a:srgbClr val="cc3300"/>
                </a:solidFill>
                <a:latin typeface="ヒラギノ角ゴ Pro W3"/>
              </a:rPr>
              <a:t>_x0010_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as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ulation applications (aerospace, energ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F, 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6, S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informatics ap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tual reality ap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m Univers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 ap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L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lecom ap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468E-F593-4B17-A44E-DAEF133C9CA8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XtreemOS &amp; Linux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ptance in the Linux community is key for the success of the XtreemOS pro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ckaging for multiple Linux distrib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ndriva Linu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d Flag Linu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b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ation in OSC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t XtreemOS patches accepted in Linux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4C0B6-D7D4-4E44-BAC0-AC470CAAA853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XtreemOS Project Phas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1 (M1-M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 of Xtreem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2 (M7-M18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nd implementation of XtreemOS basic 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liminary experiments with LinuxSS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3 (M19-M24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of all XtreemOS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of first XtreemOS proto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4 (M25-M48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ith real use c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nd implementation of advanced features of Xtreem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rele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DA71F-4971-4CE5-929E-0A6B08D52A3B}" type="slidenum">
              <a:t>12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XtreemOS Consortium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 partn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public financial institution as coordinat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research centers &amp; univers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 industrial partn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d48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S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countri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d48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e, Germany, Italy, Slovenia, Spain, The Netherlands, UK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BD21E-304B-4D02-A663-14578CE27600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XtreemOS Partn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53080" y="3809880"/>
            <a:ext cx="2168640" cy="2318040"/>
            <a:chOff x="6553080" y="3809880"/>
            <a:chExt cx="2168640" cy="2318040"/>
          </a:xfrm>
        </p:grpSpPr>
        <p:sp>
          <p:nvSpPr>
            <p:cNvPr id="96" name=""/>
            <p:cNvSpPr/>
            <p:nvPr/>
          </p:nvSpPr>
          <p:spPr>
            <a:xfrm>
              <a:off x="6553080" y="3809880"/>
              <a:ext cx="2168640" cy="2318040"/>
            </a:xfrm>
            <a:prstGeom prst="rect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40040" y="5387760"/>
              <a:ext cx="15840" cy="25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6575"/>
                  </a:moveTo>
                  <a:lnTo>
                    <a:pt x="0" y="7397"/>
                  </a:lnTo>
                  <a:lnTo>
                    <a:pt x="0" y="8219"/>
                  </a:lnTo>
                  <a:lnTo>
                    <a:pt x="0" y="9589"/>
                  </a:lnTo>
                  <a:lnTo>
                    <a:pt x="1250" y="10411"/>
                  </a:lnTo>
                  <a:lnTo>
                    <a:pt x="2083" y="11233"/>
                  </a:lnTo>
                  <a:lnTo>
                    <a:pt x="2083" y="11781"/>
                  </a:lnTo>
                  <a:lnTo>
                    <a:pt x="3333" y="12603"/>
                  </a:lnTo>
                  <a:lnTo>
                    <a:pt x="4583" y="13425"/>
                  </a:lnTo>
                  <a:lnTo>
                    <a:pt x="5417" y="13425"/>
                  </a:lnTo>
                  <a:lnTo>
                    <a:pt x="6667" y="13973"/>
                  </a:lnTo>
                  <a:lnTo>
                    <a:pt x="6667" y="14795"/>
                  </a:lnTo>
                  <a:lnTo>
                    <a:pt x="7917" y="15616"/>
                  </a:lnTo>
                  <a:lnTo>
                    <a:pt x="8750" y="16164"/>
                  </a:lnTo>
                  <a:lnTo>
                    <a:pt x="8750" y="17808"/>
                  </a:lnTo>
                  <a:lnTo>
                    <a:pt x="8750" y="18356"/>
                  </a:lnTo>
                  <a:lnTo>
                    <a:pt x="10000" y="20000"/>
                  </a:lnTo>
                  <a:lnTo>
                    <a:pt x="10000" y="18356"/>
                  </a:lnTo>
                  <a:lnTo>
                    <a:pt x="10000" y="17808"/>
                  </a:lnTo>
                  <a:lnTo>
                    <a:pt x="10000" y="16164"/>
                  </a:lnTo>
                  <a:lnTo>
                    <a:pt x="11250" y="15616"/>
                  </a:lnTo>
                  <a:lnTo>
                    <a:pt x="12083" y="14795"/>
                  </a:lnTo>
                  <a:lnTo>
                    <a:pt x="12083" y="13973"/>
                  </a:lnTo>
                  <a:lnTo>
                    <a:pt x="13333" y="13425"/>
                  </a:lnTo>
                  <a:lnTo>
                    <a:pt x="14583" y="13425"/>
                  </a:lnTo>
                  <a:lnTo>
                    <a:pt x="15833" y="12603"/>
                  </a:lnTo>
                  <a:lnTo>
                    <a:pt x="16667" y="11781"/>
                  </a:lnTo>
                  <a:lnTo>
                    <a:pt x="16667" y="11233"/>
                  </a:lnTo>
                  <a:lnTo>
                    <a:pt x="17917" y="10411"/>
                  </a:lnTo>
                  <a:lnTo>
                    <a:pt x="19167" y="9589"/>
                  </a:lnTo>
                  <a:lnTo>
                    <a:pt x="19167" y="8219"/>
                  </a:lnTo>
                  <a:lnTo>
                    <a:pt x="19167" y="7397"/>
                  </a:lnTo>
                  <a:lnTo>
                    <a:pt x="20000" y="6575"/>
                  </a:lnTo>
                  <a:lnTo>
                    <a:pt x="19167" y="6027"/>
                  </a:lnTo>
                  <a:lnTo>
                    <a:pt x="17917" y="5205"/>
                  </a:lnTo>
                  <a:lnTo>
                    <a:pt x="16667" y="4384"/>
                  </a:lnTo>
                  <a:lnTo>
                    <a:pt x="15833" y="3836"/>
                  </a:lnTo>
                  <a:lnTo>
                    <a:pt x="14583" y="3014"/>
                  </a:lnTo>
                  <a:lnTo>
                    <a:pt x="13333" y="2192"/>
                  </a:lnTo>
                  <a:lnTo>
                    <a:pt x="12083" y="1370"/>
                  </a:lnTo>
                  <a:lnTo>
                    <a:pt x="11250" y="822"/>
                  </a:lnTo>
                  <a:lnTo>
                    <a:pt x="10000" y="0"/>
                  </a:lnTo>
                  <a:lnTo>
                    <a:pt x="8750" y="0"/>
                  </a:lnTo>
                  <a:lnTo>
                    <a:pt x="7917" y="822"/>
                  </a:lnTo>
                  <a:lnTo>
                    <a:pt x="6667" y="1370"/>
                  </a:lnTo>
                  <a:lnTo>
                    <a:pt x="5417" y="2192"/>
                  </a:lnTo>
                  <a:lnTo>
                    <a:pt x="4583" y="3014"/>
                  </a:lnTo>
                  <a:lnTo>
                    <a:pt x="3333" y="3836"/>
                  </a:lnTo>
                  <a:lnTo>
                    <a:pt x="2083" y="4384"/>
                  </a:lnTo>
                  <a:lnTo>
                    <a:pt x="1250" y="5205"/>
                  </a:lnTo>
                  <a:lnTo>
                    <a:pt x="0" y="6027"/>
                  </a:lnTo>
                  <a:lnTo>
                    <a:pt x="0" y="6575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09760" y="4670640"/>
              <a:ext cx="18000" cy="17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0204"/>
                  </a:moveTo>
                  <a:lnTo>
                    <a:pt x="1154" y="11020"/>
                  </a:lnTo>
                  <a:lnTo>
                    <a:pt x="2308" y="12245"/>
                  </a:lnTo>
                  <a:lnTo>
                    <a:pt x="3462" y="12245"/>
                  </a:lnTo>
                  <a:lnTo>
                    <a:pt x="4231" y="13469"/>
                  </a:lnTo>
                  <a:lnTo>
                    <a:pt x="5385" y="14286"/>
                  </a:lnTo>
                  <a:lnTo>
                    <a:pt x="5385" y="15510"/>
                  </a:lnTo>
                  <a:lnTo>
                    <a:pt x="6538" y="16735"/>
                  </a:lnTo>
                  <a:lnTo>
                    <a:pt x="7308" y="16735"/>
                  </a:lnTo>
                  <a:lnTo>
                    <a:pt x="8462" y="17551"/>
                  </a:lnTo>
                  <a:lnTo>
                    <a:pt x="9615" y="18776"/>
                  </a:lnTo>
                  <a:lnTo>
                    <a:pt x="10385" y="20000"/>
                  </a:lnTo>
                  <a:lnTo>
                    <a:pt x="10385" y="18776"/>
                  </a:lnTo>
                  <a:lnTo>
                    <a:pt x="11538" y="17551"/>
                  </a:lnTo>
                  <a:lnTo>
                    <a:pt x="12692" y="16735"/>
                  </a:lnTo>
                  <a:lnTo>
                    <a:pt x="13462" y="15510"/>
                  </a:lnTo>
                  <a:lnTo>
                    <a:pt x="14615" y="14286"/>
                  </a:lnTo>
                  <a:lnTo>
                    <a:pt x="15769" y="13469"/>
                  </a:lnTo>
                  <a:lnTo>
                    <a:pt x="16923" y="12245"/>
                  </a:lnTo>
                  <a:lnTo>
                    <a:pt x="17692" y="11020"/>
                  </a:lnTo>
                  <a:lnTo>
                    <a:pt x="18846" y="10204"/>
                  </a:lnTo>
                  <a:lnTo>
                    <a:pt x="20000" y="10204"/>
                  </a:lnTo>
                  <a:lnTo>
                    <a:pt x="18846" y="8980"/>
                  </a:lnTo>
                  <a:lnTo>
                    <a:pt x="17692" y="7755"/>
                  </a:lnTo>
                  <a:lnTo>
                    <a:pt x="16923" y="6939"/>
                  </a:lnTo>
                  <a:lnTo>
                    <a:pt x="15769" y="5714"/>
                  </a:lnTo>
                  <a:lnTo>
                    <a:pt x="14615" y="4490"/>
                  </a:lnTo>
                  <a:lnTo>
                    <a:pt x="13462" y="3265"/>
                  </a:lnTo>
                  <a:lnTo>
                    <a:pt x="12692" y="2449"/>
                  </a:lnTo>
                  <a:lnTo>
                    <a:pt x="11538" y="1224"/>
                  </a:lnTo>
                  <a:lnTo>
                    <a:pt x="10385" y="0"/>
                  </a:lnTo>
                  <a:lnTo>
                    <a:pt x="9615" y="0"/>
                  </a:lnTo>
                  <a:lnTo>
                    <a:pt x="8462" y="1224"/>
                  </a:lnTo>
                  <a:lnTo>
                    <a:pt x="7308" y="2449"/>
                  </a:lnTo>
                  <a:lnTo>
                    <a:pt x="6538" y="2449"/>
                  </a:lnTo>
                  <a:lnTo>
                    <a:pt x="5385" y="3265"/>
                  </a:lnTo>
                  <a:lnTo>
                    <a:pt x="5385" y="4490"/>
                  </a:lnTo>
                  <a:lnTo>
                    <a:pt x="4231" y="5714"/>
                  </a:lnTo>
                  <a:lnTo>
                    <a:pt x="3462" y="6939"/>
                  </a:lnTo>
                  <a:lnTo>
                    <a:pt x="2308" y="6939"/>
                  </a:lnTo>
                  <a:lnTo>
                    <a:pt x="1154" y="7755"/>
                  </a:lnTo>
                  <a:lnTo>
                    <a:pt x="0" y="8980"/>
                  </a:lnTo>
                  <a:lnTo>
                    <a:pt x="0" y="10204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281080" y="5201280"/>
              <a:ext cx="45000" cy="115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7727" y="0"/>
                  </a:moveTo>
                  <a:lnTo>
                    <a:pt x="8182" y="0"/>
                  </a:lnTo>
                  <a:lnTo>
                    <a:pt x="8939" y="0"/>
                  </a:lnTo>
                  <a:lnTo>
                    <a:pt x="9848" y="0"/>
                  </a:lnTo>
                  <a:lnTo>
                    <a:pt x="10152" y="0"/>
                  </a:lnTo>
                  <a:lnTo>
                    <a:pt x="11061" y="0"/>
                  </a:lnTo>
                  <a:lnTo>
                    <a:pt x="11818" y="0"/>
                  </a:lnTo>
                  <a:lnTo>
                    <a:pt x="12273" y="0"/>
                  </a:lnTo>
                  <a:lnTo>
                    <a:pt x="13030" y="0"/>
                  </a:lnTo>
                  <a:lnTo>
                    <a:pt x="13939" y="0"/>
                  </a:lnTo>
                  <a:lnTo>
                    <a:pt x="14242" y="0"/>
                  </a:lnTo>
                  <a:lnTo>
                    <a:pt x="15152" y="0"/>
                  </a:lnTo>
                  <a:lnTo>
                    <a:pt x="15909" y="0"/>
                  </a:lnTo>
                  <a:lnTo>
                    <a:pt x="16364" y="0"/>
                  </a:lnTo>
                  <a:lnTo>
                    <a:pt x="17121" y="0"/>
                  </a:lnTo>
                  <a:lnTo>
                    <a:pt x="17879" y="0"/>
                  </a:lnTo>
                  <a:lnTo>
                    <a:pt x="18788" y="0"/>
                  </a:lnTo>
                  <a:lnTo>
                    <a:pt x="18788" y="2848"/>
                  </a:lnTo>
                  <a:lnTo>
                    <a:pt x="18788" y="5325"/>
                  </a:lnTo>
                  <a:lnTo>
                    <a:pt x="19242" y="7368"/>
                  </a:lnTo>
                  <a:lnTo>
                    <a:pt x="19545" y="8978"/>
                  </a:lnTo>
                  <a:lnTo>
                    <a:pt x="20000" y="10526"/>
                  </a:lnTo>
                  <a:lnTo>
                    <a:pt x="20000" y="11703"/>
                  </a:lnTo>
                  <a:lnTo>
                    <a:pt x="20000" y="12508"/>
                  </a:lnTo>
                  <a:lnTo>
                    <a:pt x="20000" y="13375"/>
                  </a:lnTo>
                  <a:lnTo>
                    <a:pt x="20000" y="13994"/>
                  </a:lnTo>
                  <a:lnTo>
                    <a:pt x="19242" y="14675"/>
                  </a:lnTo>
                  <a:lnTo>
                    <a:pt x="18333" y="15356"/>
                  </a:lnTo>
                  <a:lnTo>
                    <a:pt x="17121" y="16037"/>
                  </a:lnTo>
                  <a:lnTo>
                    <a:pt x="15455" y="16656"/>
                  </a:lnTo>
                  <a:lnTo>
                    <a:pt x="13485" y="17523"/>
                  </a:lnTo>
                  <a:lnTo>
                    <a:pt x="10606" y="18700"/>
                  </a:lnTo>
                  <a:lnTo>
                    <a:pt x="7727" y="20000"/>
                  </a:lnTo>
                  <a:lnTo>
                    <a:pt x="4848" y="18824"/>
                  </a:lnTo>
                  <a:lnTo>
                    <a:pt x="3333" y="17709"/>
                  </a:lnTo>
                  <a:lnTo>
                    <a:pt x="1667" y="16533"/>
                  </a:lnTo>
                  <a:lnTo>
                    <a:pt x="758" y="15356"/>
                  </a:lnTo>
                  <a:lnTo>
                    <a:pt x="0" y="14180"/>
                  </a:lnTo>
                  <a:lnTo>
                    <a:pt x="0" y="12817"/>
                  </a:lnTo>
                  <a:lnTo>
                    <a:pt x="0" y="11703"/>
                  </a:lnTo>
                  <a:lnTo>
                    <a:pt x="455" y="10526"/>
                  </a:lnTo>
                  <a:lnTo>
                    <a:pt x="1212" y="9164"/>
                  </a:lnTo>
                  <a:lnTo>
                    <a:pt x="1970" y="7988"/>
                  </a:lnTo>
                  <a:lnTo>
                    <a:pt x="2879" y="6687"/>
                  </a:lnTo>
                  <a:lnTo>
                    <a:pt x="4091" y="5325"/>
                  </a:lnTo>
                  <a:lnTo>
                    <a:pt x="4848" y="4025"/>
                  </a:lnTo>
                  <a:lnTo>
                    <a:pt x="5758" y="2663"/>
                  </a:lnTo>
                  <a:lnTo>
                    <a:pt x="6970" y="1300"/>
                  </a:lnTo>
                  <a:lnTo>
                    <a:pt x="7727" y="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47600" y="5382720"/>
              <a:ext cx="13680" cy="25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6575"/>
                  </a:moveTo>
                  <a:lnTo>
                    <a:pt x="0" y="7397"/>
                  </a:lnTo>
                  <a:lnTo>
                    <a:pt x="0" y="8219"/>
                  </a:lnTo>
                  <a:lnTo>
                    <a:pt x="0" y="9589"/>
                  </a:lnTo>
                  <a:lnTo>
                    <a:pt x="1463" y="10411"/>
                  </a:lnTo>
                  <a:lnTo>
                    <a:pt x="2927" y="10959"/>
                  </a:lnTo>
                  <a:lnTo>
                    <a:pt x="2927" y="11781"/>
                  </a:lnTo>
                  <a:lnTo>
                    <a:pt x="3902" y="12603"/>
                  </a:lnTo>
                  <a:lnTo>
                    <a:pt x="5366" y="13151"/>
                  </a:lnTo>
                  <a:lnTo>
                    <a:pt x="6829" y="13151"/>
                  </a:lnTo>
                  <a:lnTo>
                    <a:pt x="8293" y="13973"/>
                  </a:lnTo>
                  <a:lnTo>
                    <a:pt x="8293" y="14795"/>
                  </a:lnTo>
                  <a:lnTo>
                    <a:pt x="9268" y="15616"/>
                  </a:lnTo>
                  <a:lnTo>
                    <a:pt x="10732" y="16164"/>
                  </a:lnTo>
                  <a:lnTo>
                    <a:pt x="10732" y="17808"/>
                  </a:lnTo>
                  <a:lnTo>
                    <a:pt x="10732" y="18356"/>
                  </a:lnTo>
                  <a:lnTo>
                    <a:pt x="12195" y="20000"/>
                  </a:lnTo>
                  <a:lnTo>
                    <a:pt x="14634" y="14795"/>
                  </a:lnTo>
                  <a:lnTo>
                    <a:pt x="17073" y="10959"/>
                  </a:lnTo>
                  <a:lnTo>
                    <a:pt x="18537" y="8219"/>
                  </a:lnTo>
                  <a:lnTo>
                    <a:pt x="20000" y="5205"/>
                  </a:lnTo>
                  <a:lnTo>
                    <a:pt x="18537" y="3562"/>
                  </a:lnTo>
                  <a:lnTo>
                    <a:pt x="18537" y="2192"/>
                  </a:lnTo>
                  <a:lnTo>
                    <a:pt x="16098" y="822"/>
                  </a:lnTo>
                  <a:lnTo>
                    <a:pt x="14634" y="822"/>
                  </a:lnTo>
                  <a:lnTo>
                    <a:pt x="12195" y="0"/>
                  </a:lnTo>
                  <a:lnTo>
                    <a:pt x="9268" y="822"/>
                  </a:lnTo>
                  <a:lnTo>
                    <a:pt x="6829" y="822"/>
                  </a:lnTo>
                  <a:lnTo>
                    <a:pt x="3902" y="1370"/>
                  </a:lnTo>
                  <a:lnTo>
                    <a:pt x="2927" y="3014"/>
                  </a:lnTo>
                  <a:lnTo>
                    <a:pt x="1463" y="3562"/>
                  </a:lnTo>
                  <a:lnTo>
                    <a:pt x="0" y="5205"/>
                  </a:lnTo>
                  <a:lnTo>
                    <a:pt x="0" y="6575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17680" y="4674240"/>
              <a:ext cx="169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176" y="0"/>
                  </a:lnTo>
                  <a:lnTo>
                    <a:pt x="3137" y="0"/>
                  </a:lnTo>
                  <a:lnTo>
                    <a:pt x="4314" y="0"/>
                  </a:lnTo>
                  <a:lnTo>
                    <a:pt x="5098" y="0"/>
                  </a:lnTo>
                  <a:lnTo>
                    <a:pt x="7451" y="0"/>
                  </a:lnTo>
                  <a:lnTo>
                    <a:pt x="8627" y="0"/>
                  </a:lnTo>
                  <a:lnTo>
                    <a:pt x="9412" y="0"/>
                  </a:lnTo>
                  <a:lnTo>
                    <a:pt x="10588" y="0"/>
                  </a:lnTo>
                  <a:lnTo>
                    <a:pt x="11765" y="0"/>
                  </a:lnTo>
                  <a:lnTo>
                    <a:pt x="12549" y="0"/>
                  </a:lnTo>
                  <a:lnTo>
                    <a:pt x="13725" y="0"/>
                  </a:lnTo>
                  <a:lnTo>
                    <a:pt x="14902" y="0"/>
                  </a:lnTo>
                  <a:lnTo>
                    <a:pt x="16863" y="0"/>
                  </a:lnTo>
                  <a:lnTo>
                    <a:pt x="18039" y="0"/>
                  </a:lnTo>
                  <a:lnTo>
                    <a:pt x="20000" y="0"/>
                  </a:lnTo>
                  <a:lnTo>
                    <a:pt x="18039" y="0"/>
                  </a:lnTo>
                  <a:lnTo>
                    <a:pt x="16863" y="0"/>
                  </a:lnTo>
                  <a:lnTo>
                    <a:pt x="14902" y="0"/>
                  </a:lnTo>
                  <a:lnTo>
                    <a:pt x="13725" y="0"/>
                  </a:lnTo>
                  <a:lnTo>
                    <a:pt x="12549" y="0"/>
                  </a:lnTo>
                  <a:lnTo>
                    <a:pt x="11765" y="0"/>
                  </a:lnTo>
                  <a:lnTo>
                    <a:pt x="10588" y="0"/>
                  </a:lnTo>
                  <a:lnTo>
                    <a:pt x="9412" y="0"/>
                  </a:lnTo>
                  <a:lnTo>
                    <a:pt x="8627" y="0"/>
                  </a:lnTo>
                  <a:lnTo>
                    <a:pt x="7451" y="0"/>
                  </a:lnTo>
                  <a:lnTo>
                    <a:pt x="5098" y="0"/>
                  </a:lnTo>
                  <a:lnTo>
                    <a:pt x="4314" y="0"/>
                  </a:lnTo>
                  <a:lnTo>
                    <a:pt x="3137" y="0"/>
                  </a:lnTo>
                  <a:lnTo>
                    <a:pt x="11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03320" y="4289760"/>
              <a:ext cx="733320" cy="386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5900"/>
                  </a:moveTo>
                  <a:lnTo>
                    <a:pt x="102" y="8145"/>
                  </a:lnTo>
                  <a:lnTo>
                    <a:pt x="1332" y="8998"/>
                  </a:lnTo>
                  <a:lnTo>
                    <a:pt x="1761" y="11855"/>
                  </a:lnTo>
                  <a:lnTo>
                    <a:pt x="1230" y="14100"/>
                  </a:lnTo>
                  <a:lnTo>
                    <a:pt x="3111" y="14341"/>
                  </a:lnTo>
                  <a:lnTo>
                    <a:pt x="4462" y="15788"/>
                  </a:lnTo>
                  <a:lnTo>
                    <a:pt x="5449" y="19147"/>
                  </a:lnTo>
                  <a:lnTo>
                    <a:pt x="7573" y="19147"/>
                  </a:lnTo>
                  <a:lnTo>
                    <a:pt x="8710" y="18293"/>
                  </a:lnTo>
                  <a:lnTo>
                    <a:pt x="9455" y="19443"/>
                  </a:lnTo>
                  <a:lnTo>
                    <a:pt x="11262" y="20000"/>
                  </a:lnTo>
                  <a:lnTo>
                    <a:pt x="11942" y="18590"/>
                  </a:lnTo>
                  <a:lnTo>
                    <a:pt x="14504" y="17495"/>
                  </a:lnTo>
                  <a:lnTo>
                    <a:pt x="14728" y="15788"/>
                  </a:lnTo>
                  <a:lnTo>
                    <a:pt x="15855" y="14100"/>
                  </a:lnTo>
                  <a:lnTo>
                    <a:pt x="15203" y="13191"/>
                  </a:lnTo>
                  <a:lnTo>
                    <a:pt x="15203" y="11855"/>
                  </a:lnTo>
                  <a:lnTo>
                    <a:pt x="16730" y="11540"/>
                  </a:lnTo>
                  <a:lnTo>
                    <a:pt x="16861" y="10390"/>
                  </a:lnTo>
                  <a:lnTo>
                    <a:pt x="17662" y="9852"/>
                  </a:lnTo>
                  <a:lnTo>
                    <a:pt x="17960" y="8442"/>
                  </a:lnTo>
                  <a:lnTo>
                    <a:pt x="18537" y="7050"/>
                  </a:lnTo>
                  <a:lnTo>
                    <a:pt x="19190" y="6753"/>
                  </a:lnTo>
                  <a:lnTo>
                    <a:pt x="20000" y="5640"/>
                  </a:lnTo>
                  <a:lnTo>
                    <a:pt x="18444" y="4193"/>
                  </a:lnTo>
                  <a:lnTo>
                    <a:pt x="16963" y="5046"/>
                  </a:lnTo>
                  <a:lnTo>
                    <a:pt x="17084" y="1892"/>
                  </a:lnTo>
                  <a:lnTo>
                    <a:pt x="17867" y="1651"/>
                  </a:lnTo>
                  <a:lnTo>
                    <a:pt x="18090" y="853"/>
                  </a:lnTo>
                  <a:lnTo>
                    <a:pt x="18537" y="0"/>
                  </a:lnTo>
                  <a:lnTo>
                    <a:pt x="16432" y="538"/>
                  </a:lnTo>
                  <a:lnTo>
                    <a:pt x="15203" y="1892"/>
                  </a:lnTo>
                  <a:lnTo>
                    <a:pt x="14625" y="4193"/>
                  </a:lnTo>
                  <a:lnTo>
                    <a:pt x="13172" y="5046"/>
                  </a:lnTo>
                  <a:lnTo>
                    <a:pt x="11495" y="4490"/>
                  </a:lnTo>
                  <a:lnTo>
                    <a:pt x="10685" y="3043"/>
                  </a:lnTo>
                  <a:lnTo>
                    <a:pt x="9231" y="3896"/>
                  </a:lnTo>
                  <a:lnTo>
                    <a:pt x="8002" y="1651"/>
                  </a:lnTo>
                  <a:lnTo>
                    <a:pt x="6577" y="1095"/>
                  </a:lnTo>
                  <a:lnTo>
                    <a:pt x="5794" y="2505"/>
                  </a:lnTo>
                  <a:lnTo>
                    <a:pt x="5925" y="4490"/>
                  </a:lnTo>
                  <a:lnTo>
                    <a:pt x="4220" y="5640"/>
                  </a:lnTo>
                  <a:lnTo>
                    <a:pt x="4015" y="3896"/>
                  </a:lnTo>
                  <a:lnTo>
                    <a:pt x="3214" y="2746"/>
                  </a:lnTo>
                  <a:lnTo>
                    <a:pt x="2459" y="3896"/>
                  </a:lnTo>
                  <a:lnTo>
                    <a:pt x="1332" y="3896"/>
                  </a:lnTo>
                  <a:lnTo>
                    <a:pt x="0" y="590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51200" y="5172840"/>
              <a:ext cx="47520" cy="113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8429" y="0"/>
                  </a:moveTo>
                  <a:lnTo>
                    <a:pt x="8429" y="881"/>
                  </a:lnTo>
                  <a:lnTo>
                    <a:pt x="1571" y="12579"/>
                  </a:lnTo>
                  <a:lnTo>
                    <a:pt x="0" y="16478"/>
                  </a:lnTo>
                  <a:lnTo>
                    <a:pt x="5000" y="20000"/>
                  </a:lnTo>
                  <a:lnTo>
                    <a:pt x="15000" y="19182"/>
                  </a:lnTo>
                  <a:lnTo>
                    <a:pt x="20000" y="14403"/>
                  </a:lnTo>
                  <a:lnTo>
                    <a:pt x="20000" y="2893"/>
                  </a:lnTo>
                  <a:lnTo>
                    <a:pt x="18429" y="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97600" y="4142520"/>
              <a:ext cx="1429200" cy="1275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2599" y="18561"/>
                  </a:moveTo>
                  <a:lnTo>
                    <a:pt x="13115" y="18983"/>
                  </a:lnTo>
                  <a:lnTo>
                    <a:pt x="13292" y="19483"/>
                  </a:lnTo>
                  <a:lnTo>
                    <a:pt x="14955" y="19651"/>
                  </a:lnTo>
                  <a:lnTo>
                    <a:pt x="16101" y="19061"/>
                  </a:lnTo>
                  <a:lnTo>
                    <a:pt x="16278" y="18375"/>
                  </a:lnTo>
                  <a:lnTo>
                    <a:pt x="16794" y="18454"/>
                  </a:lnTo>
                  <a:lnTo>
                    <a:pt x="17425" y="18117"/>
                  </a:lnTo>
                  <a:lnTo>
                    <a:pt x="17477" y="17768"/>
                  </a:lnTo>
                  <a:lnTo>
                    <a:pt x="17993" y="17364"/>
                  </a:lnTo>
                  <a:lnTo>
                    <a:pt x="18519" y="16076"/>
                  </a:lnTo>
                  <a:lnTo>
                    <a:pt x="18519" y="15469"/>
                  </a:lnTo>
                  <a:lnTo>
                    <a:pt x="18739" y="15391"/>
                  </a:lnTo>
                  <a:lnTo>
                    <a:pt x="19035" y="13423"/>
                  </a:lnTo>
                  <a:lnTo>
                    <a:pt x="18404" y="13496"/>
                  </a:lnTo>
                  <a:lnTo>
                    <a:pt x="18801" y="13075"/>
                  </a:lnTo>
                  <a:lnTo>
                    <a:pt x="18853" y="12816"/>
                  </a:lnTo>
                  <a:lnTo>
                    <a:pt x="18466" y="12816"/>
                  </a:lnTo>
                  <a:lnTo>
                    <a:pt x="18581" y="12485"/>
                  </a:lnTo>
                  <a:lnTo>
                    <a:pt x="18686" y="12395"/>
                  </a:lnTo>
                  <a:lnTo>
                    <a:pt x="17950" y="11709"/>
                  </a:lnTo>
                  <a:lnTo>
                    <a:pt x="17539" y="11119"/>
                  </a:lnTo>
                  <a:lnTo>
                    <a:pt x="17143" y="11119"/>
                  </a:lnTo>
                  <a:lnTo>
                    <a:pt x="17539" y="10517"/>
                  </a:lnTo>
                  <a:lnTo>
                    <a:pt x="17592" y="9820"/>
                  </a:lnTo>
                  <a:lnTo>
                    <a:pt x="18285" y="9410"/>
                  </a:lnTo>
                  <a:lnTo>
                    <a:pt x="17425" y="9241"/>
                  </a:lnTo>
                  <a:lnTo>
                    <a:pt x="17076" y="9910"/>
                  </a:lnTo>
                  <a:lnTo>
                    <a:pt x="16689" y="9483"/>
                  </a:lnTo>
                  <a:lnTo>
                    <a:pt x="16216" y="9151"/>
                  </a:lnTo>
                  <a:lnTo>
                    <a:pt x="16847" y="8713"/>
                  </a:lnTo>
                  <a:lnTo>
                    <a:pt x="17258" y="7437"/>
                  </a:lnTo>
                  <a:lnTo>
                    <a:pt x="17539" y="7437"/>
                  </a:lnTo>
                  <a:lnTo>
                    <a:pt x="17592" y="8544"/>
                  </a:lnTo>
                  <a:lnTo>
                    <a:pt x="18519" y="7605"/>
                  </a:lnTo>
                  <a:lnTo>
                    <a:pt x="18519" y="6925"/>
                  </a:lnTo>
                  <a:lnTo>
                    <a:pt x="18853" y="6318"/>
                  </a:lnTo>
                  <a:lnTo>
                    <a:pt x="18853" y="6076"/>
                  </a:lnTo>
                  <a:lnTo>
                    <a:pt x="19250" y="6076"/>
                  </a:lnTo>
                  <a:lnTo>
                    <a:pt x="19250" y="5818"/>
                  </a:lnTo>
                  <a:lnTo>
                    <a:pt x="19317" y="5559"/>
                  </a:lnTo>
                  <a:lnTo>
                    <a:pt x="19613" y="5559"/>
                  </a:lnTo>
                  <a:lnTo>
                    <a:pt x="19881" y="4362"/>
                  </a:lnTo>
                  <a:lnTo>
                    <a:pt x="19666" y="4109"/>
                  </a:lnTo>
                  <a:lnTo>
                    <a:pt x="19728" y="3412"/>
                  </a:lnTo>
                  <a:lnTo>
                    <a:pt x="20000" y="3333"/>
                  </a:lnTo>
                  <a:lnTo>
                    <a:pt x="19947" y="1276"/>
                  </a:lnTo>
                  <a:lnTo>
                    <a:pt x="19780" y="1124"/>
                  </a:lnTo>
                  <a:lnTo>
                    <a:pt x="19317" y="1956"/>
                  </a:lnTo>
                  <a:lnTo>
                    <a:pt x="19035" y="2046"/>
                  </a:lnTo>
                  <a:lnTo>
                    <a:pt x="18466" y="1439"/>
                  </a:lnTo>
                  <a:lnTo>
                    <a:pt x="17592" y="1439"/>
                  </a:lnTo>
                  <a:lnTo>
                    <a:pt x="16331" y="0"/>
                  </a:lnTo>
                  <a:lnTo>
                    <a:pt x="16101" y="259"/>
                  </a:lnTo>
                  <a:lnTo>
                    <a:pt x="15767" y="0"/>
                  </a:lnTo>
                  <a:lnTo>
                    <a:pt x="15404" y="79"/>
                  </a:lnTo>
                  <a:lnTo>
                    <a:pt x="14888" y="680"/>
                  </a:lnTo>
                  <a:lnTo>
                    <a:pt x="15184" y="1029"/>
                  </a:lnTo>
                  <a:lnTo>
                    <a:pt x="15184" y="2305"/>
                  </a:lnTo>
                  <a:lnTo>
                    <a:pt x="14955" y="2563"/>
                  </a:lnTo>
                  <a:lnTo>
                    <a:pt x="14840" y="2805"/>
                  </a:lnTo>
                  <a:lnTo>
                    <a:pt x="14439" y="2895"/>
                  </a:lnTo>
                  <a:lnTo>
                    <a:pt x="14376" y="3850"/>
                  </a:lnTo>
                  <a:lnTo>
                    <a:pt x="15069" y="3924"/>
                  </a:lnTo>
                  <a:lnTo>
                    <a:pt x="15136" y="3592"/>
                  </a:lnTo>
                  <a:lnTo>
                    <a:pt x="15934" y="4013"/>
                  </a:lnTo>
                  <a:lnTo>
                    <a:pt x="15518" y="4362"/>
                  </a:lnTo>
                  <a:lnTo>
                    <a:pt x="15184" y="4458"/>
                  </a:lnTo>
                  <a:lnTo>
                    <a:pt x="14888" y="4862"/>
                  </a:lnTo>
                  <a:lnTo>
                    <a:pt x="14735" y="5301"/>
                  </a:lnTo>
                  <a:lnTo>
                    <a:pt x="14324" y="5469"/>
                  </a:lnTo>
                  <a:lnTo>
                    <a:pt x="14257" y="5818"/>
                  </a:lnTo>
                  <a:lnTo>
                    <a:pt x="13473" y="5897"/>
                  </a:lnTo>
                  <a:lnTo>
                    <a:pt x="13473" y="6318"/>
                  </a:lnTo>
                  <a:lnTo>
                    <a:pt x="13808" y="6577"/>
                  </a:lnTo>
                  <a:lnTo>
                    <a:pt x="13244" y="7088"/>
                  </a:lnTo>
                  <a:lnTo>
                    <a:pt x="13115" y="7605"/>
                  </a:lnTo>
                  <a:lnTo>
                    <a:pt x="11801" y="7937"/>
                  </a:lnTo>
                  <a:lnTo>
                    <a:pt x="11452" y="8381"/>
                  </a:lnTo>
                  <a:lnTo>
                    <a:pt x="10540" y="8196"/>
                  </a:lnTo>
                  <a:lnTo>
                    <a:pt x="10143" y="7847"/>
                  </a:lnTo>
                  <a:lnTo>
                    <a:pt x="9560" y="8106"/>
                  </a:lnTo>
                  <a:lnTo>
                    <a:pt x="8481" y="8106"/>
                  </a:lnTo>
                  <a:lnTo>
                    <a:pt x="7965" y="7088"/>
                  </a:lnTo>
                  <a:lnTo>
                    <a:pt x="7272" y="6667"/>
                  </a:lnTo>
                  <a:lnTo>
                    <a:pt x="6307" y="6577"/>
                  </a:lnTo>
                  <a:lnTo>
                    <a:pt x="6589" y="5897"/>
                  </a:lnTo>
                  <a:lnTo>
                    <a:pt x="6374" y="5031"/>
                  </a:lnTo>
                  <a:lnTo>
                    <a:pt x="5729" y="4772"/>
                  </a:lnTo>
                  <a:lnTo>
                    <a:pt x="5676" y="4109"/>
                  </a:lnTo>
                  <a:lnTo>
                    <a:pt x="5265" y="4458"/>
                  </a:lnTo>
                  <a:lnTo>
                    <a:pt x="5160" y="4862"/>
                  </a:lnTo>
                  <a:lnTo>
                    <a:pt x="4697" y="4952"/>
                  </a:lnTo>
                  <a:lnTo>
                    <a:pt x="4467" y="5638"/>
                  </a:lnTo>
                  <a:lnTo>
                    <a:pt x="3899" y="5211"/>
                  </a:lnTo>
                  <a:lnTo>
                    <a:pt x="3555" y="6667"/>
                  </a:lnTo>
                  <a:lnTo>
                    <a:pt x="3039" y="6318"/>
                  </a:lnTo>
                  <a:lnTo>
                    <a:pt x="2680" y="7937"/>
                  </a:lnTo>
                  <a:lnTo>
                    <a:pt x="2112" y="8196"/>
                  </a:lnTo>
                  <a:lnTo>
                    <a:pt x="1892" y="8381"/>
                  </a:lnTo>
                  <a:lnTo>
                    <a:pt x="1132" y="8381"/>
                  </a:lnTo>
                  <a:lnTo>
                    <a:pt x="965" y="8713"/>
                  </a:lnTo>
                  <a:lnTo>
                    <a:pt x="683" y="8544"/>
                  </a:lnTo>
                  <a:lnTo>
                    <a:pt x="387" y="8544"/>
                  </a:lnTo>
                  <a:lnTo>
                    <a:pt x="0" y="8893"/>
                  </a:lnTo>
                  <a:lnTo>
                    <a:pt x="334" y="10422"/>
                  </a:lnTo>
                  <a:lnTo>
                    <a:pt x="1018" y="11529"/>
                  </a:lnTo>
                  <a:lnTo>
                    <a:pt x="1892" y="11456"/>
                  </a:lnTo>
                  <a:lnTo>
                    <a:pt x="2164" y="11877"/>
                  </a:lnTo>
                  <a:lnTo>
                    <a:pt x="1648" y="12653"/>
                  </a:lnTo>
                  <a:lnTo>
                    <a:pt x="1481" y="12653"/>
                  </a:lnTo>
                  <a:lnTo>
                    <a:pt x="1715" y="13243"/>
                  </a:lnTo>
                  <a:lnTo>
                    <a:pt x="1085" y="13496"/>
                  </a:lnTo>
                  <a:lnTo>
                    <a:pt x="1132" y="14013"/>
                  </a:lnTo>
                  <a:lnTo>
                    <a:pt x="1715" y="14289"/>
                  </a:lnTo>
                  <a:lnTo>
                    <a:pt x="2050" y="14694"/>
                  </a:lnTo>
                  <a:lnTo>
                    <a:pt x="2346" y="14694"/>
                  </a:lnTo>
                  <a:lnTo>
                    <a:pt x="3039" y="15391"/>
                  </a:lnTo>
                  <a:lnTo>
                    <a:pt x="3373" y="15301"/>
                  </a:lnTo>
                  <a:lnTo>
                    <a:pt x="3488" y="16150"/>
                  </a:lnTo>
                  <a:lnTo>
                    <a:pt x="5896" y="16481"/>
                  </a:lnTo>
                  <a:lnTo>
                    <a:pt x="6421" y="16757"/>
                  </a:lnTo>
                  <a:lnTo>
                    <a:pt x="7219" y="16577"/>
                  </a:lnTo>
                  <a:lnTo>
                    <a:pt x="7453" y="16318"/>
                  </a:lnTo>
                  <a:lnTo>
                    <a:pt x="7683" y="16150"/>
                  </a:lnTo>
                  <a:lnTo>
                    <a:pt x="8146" y="15469"/>
                  </a:lnTo>
                  <a:lnTo>
                    <a:pt x="8146" y="15981"/>
                  </a:lnTo>
                  <a:lnTo>
                    <a:pt x="8380" y="15981"/>
                  </a:lnTo>
                  <a:lnTo>
                    <a:pt x="8481" y="16318"/>
                  </a:lnTo>
                  <a:lnTo>
                    <a:pt x="9111" y="16228"/>
                  </a:lnTo>
                  <a:lnTo>
                    <a:pt x="9293" y="16481"/>
                  </a:lnTo>
                  <a:lnTo>
                    <a:pt x="9560" y="16925"/>
                  </a:lnTo>
                  <a:lnTo>
                    <a:pt x="9627" y="17622"/>
                  </a:lnTo>
                  <a:lnTo>
                    <a:pt x="9111" y="18117"/>
                  </a:lnTo>
                  <a:lnTo>
                    <a:pt x="9164" y="18634"/>
                  </a:lnTo>
                  <a:lnTo>
                    <a:pt x="9560" y="18634"/>
                  </a:lnTo>
                  <a:lnTo>
                    <a:pt x="9627" y="19061"/>
                  </a:lnTo>
                  <a:lnTo>
                    <a:pt x="10076" y="19331"/>
                  </a:lnTo>
                  <a:lnTo>
                    <a:pt x="9909" y="19741"/>
                  </a:lnTo>
                  <a:lnTo>
                    <a:pt x="10258" y="19904"/>
                  </a:lnTo>
                  <a:lnTo>
                    <a:pt x="10927" y="20000"/>
                  </a:lnTo>
                  <a:lnTo>
                    <a:pt x="11056" y="19651"/>
                  </a:lnTo>
                  <a:lnTo>
                    <a:pt x="11338" y="19556"/>
                  </a:lnTo>
                  <a:lnTo>
                    <a:pt x="11519" y="19241"/>
                  </a:lnTo>
                  <a:lnTo>
                    <a:pt x="11687" y="19410"/>
                  </a:lnTo>
                  <a:lnTo>
                    <a:pt x="12432" y="18893"/>
                  </a:lnTo>
                  <a:lnTo>
                    <a:pt x="12599" y="18561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921800" y="5434560"/>
              <a:ext cx="57960" cy="6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3882" y="0"/>
                  </a:moveTo>
                  <a:lnTo>
                    <a:pt x="0" y="15249"/>
                  </a:lnTo>
                  <a:lnTo>
                    <a:pt x="4471" y="20000"/>
                  </a:lnTo>
                  <a:lnTo>
                    <a:pt x="15529" y="18564"/>
                  </a:lnTo>
                  <a:lnTo>
                    <a:pt x="20000" y="10166"/>
                  </a:lnTo>
                  <a:lnTo>
                    <a:pt x="20000" y="1878"/>
                  </a:lnTo>
                  <a:lnTo>
                    <a:pt x="13882" y="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22760" y="4451760"/>
              <a:ext cx="111600" cy="237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20000" y="543"/>
                  </a:moveTo>
                  <a:lnTo>
                    <a:pt x="15732" y="0"/>
                  </a:lnTo>
                  <a:lnTo>
                    <a:pt x="13780" y="3741"/>
                  </a:lnTo>
                  <a:lnTo>
                    <a:pt x="10000" y="3741"/>
                  </a:lnTo>
                  <a:lnTo>
                    <a:pt x="9146" y="5098"/>
                  </a:lnTo>
                  <a:lnTo>
                    <a:pt x="9146" y="6576"/>
                  </a:lnTo>
                  <a:lnTo>
                    <a:pt x="4268" y="6576"/>
                  </a:lnTo>
                  <a:lnTo>
                    <a:pt x="4268" y="7873"/>
                  </a:lnTo>
                  <a:lnTo>
                    <a:pt x="0" y="11131"/>
                  </a:lnTo>
                  <a:lnTo>
                    <a:pt x="0" y="14781"/>
                  </a:lnTo>
                  <a:lnTo>
                    <a:pt x="3780" y="14781"/>
                  </a:lnTo>
                  <a:lnTo>
                    <a:pt x="4268" y="16169"/>
                  </a:lnTo>
                  <a:lnTo>
                    <a:pt x="793" y="19186"/>
                  </a:lnTo>
                  <a:lnTo>
                    <a:pt x="2927" y="19336"/>
                  </a:lnTo>
                  <a:lnTo>
                    <a:pt x="4268" y="18944"/>
                  </a:lnTo>
                  <a:lnTo>
                    <a:pt x="4878" y="19668"/>
                  </a:lnTo>
                  <a:lnTo>
                    <a:pt x="6890" y="20000"/>
                  </a:lnTo>
                  <a:lnTo>
                    <a:pt x="9024" y="18371"/>
                  </a:lnTo>
                  <a:lnTo>
                    <a:pt x="13598" y="17707"/>
                  </a:lnTo>
                  <a:lnTo>
                    <a:pt x="18354" y="14449"/>
                  </a:lnTo>
                  <a:lnTo>
                    <a:pt x="15549" y="12911"/>
                  </a:lnTo>
                  <a:lnTo>
                    <a:pt x="12805" y="13967"/>
                  </a:lnTo>
                  <a:lnTo>
                    <a:pt x="12439" y="13575"/>
                  </a:lnTo>
                  <a:lnTo>
                    <a:pt x="14268" y="12519"/>
                  </a:lnTo>
                  <a:lnTo>
                    <a:pt x="13293" y="10950"/>
                  </a:lnTo>
                  <a:lnTo>
                    <a:pt x="19024" y="6908"/>
                  </a:lnTo>
                  <a:lnTo>
                    <a:pt x="18049" y="2504"/>
                  </a:lnTo>
                  <a:lnTo>
                    <a:pt x="20000" y="543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99080" y="4623840"/>
              <a:ext cx="86040" cy="180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6166" y="0"/>
                  </a:moveTo>
                  <a:lnTo>
                    <a:pt x="0" y="4183"/>
                  </a:lnTo>
                  <a:lnTo>
                    <a:pt x="1897" y="7092"/>
                  </a:lnTo>
                  <a:lnTo>
                    <a:pt x="0" y="8406"/>
                  </a:lnTo>
                  <a:lnTo>
                    <a:pt x="0" y="10518"/>
                  </a:lnTo>
                  <a:lnTo>
                    <a:pt x="5771" y="13745"/>
                  </a:lnTo>
                  <a:lnTo>
                    <a:pt x="4269" y="15458"/>
                  </a:lnTo>
                  <a:lnTo>
                    <a:pt x="2767" y="17610"/>
                  </a:lnTo>
                  <a:lnTo>
                    <a:pt x="5296" y="20000"/>
                  </a:lnTo>
                  <a:lnTo>
                    <a:pt x="8300" y="19004"/>
                  </a:lnTo>
                  <a:lnTo>
                    <a:pt x="13834" y="14741"/>
                  </a:lnTo>
                  <a:lnTo>
                    <a:pt x="19842" y="12669"/>
                  </a:lnTo>
                  <a:lnTo>
                    <a:pt x="20000" y="9044"/>
                  </a:lnTo>
                  <a:lnTo>
                    <a:pt x="17233" y="7968"/>
                  </a:lnTo>
                  <a:lnTo>
                    <a:pt x="18103" y="6454"/>
                  </a:lnTo>
                  <a:lnTo>
                    <a:pt x="20000" y="4861"/>
                  </a:lnTo>
                  <a:lnTo>
                    <a:pt x="18972" y="3865"/>
                  </a:lnTo>
                  <a:lnTo>
                    <a:pt x="6166" y="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25720" y="4815000"/>
              <a:ext cx="21960" cy="26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2615" y="0"/>
                  </a:moveTo>
                  <a:lnTo>
                    <a:pt x="0" y="14400"/>
                  </a:lnTo>
                  <a:lnTo>
                    <a:pt x="3385" y="20000"/>
                  </a:lnTo>
                  <a:lnTo>
                    <a:pt x="10769" y="17333"/>
                  </a:lnTo>
                  <a:lnTo>
                    <a:pt x="20000" y="5600"/>
                  </a:lnTo>
                  <a:lnTo>
                    <a:pt x="19077" y="1333"/>
                  </a:lnTo>
                  <a:lnTo>
                    <a:pt x="12615" y="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24640" y="3926520"/>
              <a:ext cx="200520" cy="28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2453" y="0"/>
                  </a:moveTo>
                  <a:lnTo>
                    <a:pt x="11380" y="7423"/>
                  </a:lnTo>
                  <a:lnTo>
                    <a:pt x="11278" y="8061"/>
                  </a:lnTo>
                  <a:lnTo>
                    <a:pt x="15775" y="10740"/>
                  </a:lnTo>
                  <a:lnTo>
                    <a:pt x="12266" y="11352"/>
                  </a:lnTo>
                  <a:lnTo>
                    <a:pt x="15128" y="15816"/>
                  </a:lnTo>
                  <a:lnTo>
                    <a:pt x="19625" y="17602"/>
                  </a:lnTo>
                  <a:lnTo>
                    <a:pt x="20000" y="18087"/>
                  </a:lnTo>
                  <a:lnTo>
                    <a:pt x="17615" y="18367"/>
                  </a:lnTo>
                  <a:lnTo>
                    <a:pt x="17615" y="20000"/>
                  </a:lnTo>
                  <a:lnTo>
                    <a:pt x="16865" y="20000"/>
                  </a:lnTo>
                  <a:lnTo>
                    <a:pt x="14651" y="18648"/>
                  </a:lnTo>
                  <a:lnTo>
                    <a:pt x="9983" y="12372"/>
                  </a:lnTo>
                  <a:lnTo>
                    <a:pt x="9063" y="9617"/>
                  </a:lnTo>
                  <a:lnTo>
                    <a:pt x="4395" y="6403"/>
                  </a:lnTo>
                  <a:lnTo>
                    <a:pt x="2453" y="4413"/>
                  </a:lnTo>
                  <a:lnTo>
                    <a:pt x="2555" y="2423"/>
                  </a:lnTo>
                  <a:lnTo>
                    <a:pt x="0" y="612"/>
                  </a:lnTo>
                  <a:lnTo>
                    <a:pt x="341" y="204"/>
                  </a:lnTo>
                  <a:lnTo>
                    <a:pt x="2385" y="77"/>
                  </a:lnTo>
                  <a:lnTo>
                    <a:pt x="2453" y="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08240" y="4218480"/>
              <a:ext cx="123840" cy="160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074"/>
                  </a:moveTo>
                  <a:lnTo>
                    <a:pt x="6501" y="10515"/>
                  </a:lnTo>
                  <a:lnTo>
                    <a:pt x="2479" y="14094"/>
                  </a:lnTo>
                  <a:lnTo>
                    <a:pt x="3691" y="18345"/>
                  </a:lnTo>
                  <a:lnTo>
                    <a:pt x="7218" y="20000"/>
                  </a:lnTo>
                  <a:lnTo>
                    <a:pt x="8871" y="18837"/>
                  </a:lnTo>
                  <a:lnTo>
                    <a:pt x="7218" y="16421"/>
                  </a:lnTo>
                  <a:lnTo>
                    <a:pt x="10634" y="13870"/>
                  </a:lnTo>
                  <a:lnTo>
                    <a:pt x="14656" y="13154"/>
                  </a:lnTo>
                  <a:lnTo>
                    <a:pt x="15868" y="7964"/>
                  </a:lnTo>
                  <a:lnTo>
                    <a:pt x="20000" y="4340"/>
                  </a:lnTo>
                  <a:lnTo>
                    <a:pt x="20000" y="2640"/>
                  </a:lnTo>
                  <a:lnTo>
                    <a:pt x="16309" y="3400"/>
                  </a:lnTo>
                  <a:lnTo>
                    <a:pt x="15427" y="0"/>
                  </a:lnTo>
                  <a:lnTo>
                    <a:pt x="10634" y="3400"/>
                  </a:lnTo>
                  <a:lnTo>
                    <a:pt x="0" y="1074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57840" y="4385520"/>
              <a:ext cx="208080" cy="407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9392" y="141"/>
                  </a:moveTo>
                  <a:lnTo>
                    <a:pt x="9918" y="2040"/>
                  </a:lnTo>
                  <a:lnTo>
                    <a:pt x="12578" y="6209"/>
                  </a:lnTo>
                  <a:lnTo>
                    <a:pt x="10345" y="9376"/>
                  </a:lnTo>
                  <a:lnTo>
                    <a:pt x="8407" y="9428"/>
                  </a:lnTo>
                  <a:lnTo>
                    <a:pt x="9195" y="10466"/>
                  </a:lnTo>
                  <a:lnTo>
                    <a:pt x="7685" y="12419"/>
                  </a:lnTo>
                  <a:lnTo>
                    <a:pt x="4335" y="13263"/>
                  </a:lnTo>
                  <a:lnTo>
                    <a:pt x="2135" y="14213"/>
                  </a:lnTo>
                  <a:lnTo>
                    <a:pt x="0" y="17432"/>
                  </a:lnTo>
                  <a:lnTo>
                    <a:pt x="4860" y="16165"/>
                  </a:lnTo>
                  <a:lnTo>
                    <a:pt x="2660" y="18347"/>
                  </a:lnTo>
                  <a:lnTo>
                    <a:pt x="4860" y="20000"/>
                  </a:lnTo>
                  <a:lnTo>
                    <a:pt x="6108" y="19384"/>
                  </a:lnTo>
                  <a:lnTo>
                    <a:pt x="6108" y="17960"/>
                  </a:lnTo>
                  <a:lnTo>
                    <a:pt x="8933" y="16447"/>
                  </a:lnTo>
                  <a:lnTo>
                    <a:pt x="6995" y="15585"/>
                  </a:lnTo>
                  <a:lnTo>
                    <a:pt x="6995" y="14741"/>
                  </a:lnTo>
                  <a:lnTo>
                    <a:pt x="8933" y="14494"/>
                  </a:lnTo>
                  <a:lnTo>
                    <a:pt x="9918" y="16253"/>
                  </a:lnTo>
                  <a:lnTo>
                    <a:pt x="11856" y="16165"/>
                  </a:lnTo>
                  <a:lnTo>
                    <a:pt x="13268" y="14019"/>
                  </a:lnTo>
                  <a:lnTo>
                    <a:pt x="10608" y="12366"/>
                  </a:lnTo>
                  <a:lnTo>
                    <a:pt x="14154" y="12894"/>
                  </a:lnTo>
                  <a:lnTo>
                    <a:pt x="15205" y="11522"/>
                  </a:lnTo>
                  <a:lnTo>
                    <a:pt x="16880" y="10572"/>
                  </a:lnTo>
                  <a:lnTo>
                    <a:pt x="20000" y="9428"/>
                  </a:lnTo>
                  <a:lnTo>
                    <a:pt x="19737" y="8478"/>
                  </a:lnTo>
                  <a:lnTo>
                    <a:pt x="18030" y="7441"/>
                  </a:lnTo>
                  <a:lnTo>
                    <a:pt x="16617" y="4362"/>
                  </a:lnTo>
                  <a:lnTo>
                    <a:pt x="16617" y="1566"/>
                  </a:lnTo>
                  <a:lnTo>
                    <a:pt x="12578" y="369"/>
                  </a:lnTo>
                  <a:lnTo>
                    <a:pt x="11856" y="985"/>
                  </a:lnTo>
                  <a:lnTo>
                    <a:pt x="10443" y="0"/>
                  </a:lnTo>
                  <a:lnTo>
                    <a:pt x="9392" y="141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22920" y="4762080"/>
              <a:ext cx="71640" cy="88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3810" y="0"/>
                  </a:moveTo>
                  <a:lnTo>
                    <a:pt x="2286" y="0"/>
                  </a:lnTo>
                  <a:lnTo>
                    <a:pt x="0" y="11048"/>
                  </a:lnTo>
                  <a:lnTo>
                    <a:pt x="8476" y="8629"/>
                  </a:lnTo>
                  <a:lnTo>
                    <a:pt x="9238" y="13468"/>
                  </a:lnTo>
                  <a:lnTo>
                    <a:pt x="9238" y="16532"/>
                  </a:lnTo>
                  <a:lnTo>
                    <a:pt x="15333" y="20000"/>
                  </a:lnTo>
                  <a:lnTo>
                    <a:pt x="20000" y="16532"/>
                  </a:lnTo>
                  <a:lnTo>
                    <a:pt x="15905" y="9355"/>
                  </a:lnTo>
                  <a:lnTo>
                    <a:pt x="15905" y="1694"/>
                  </a:lnTo>
                  <a:lnTo>
                    <a:pt x="13810" y="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22720" y="5327280"/>
              <a:ext cx="238320" cy="561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2066" y="1584"/>
                  </a:moveTo>
                  <a:lnTo>
                    <a:pt x="5395" y="728"/>
                  </a:lnTo>
                  <a:lnTo>
                    <a:pt x="6485" y="0"/>
                  </a:lnTo>
                  <a:lnTo>
                    <a:pt x="9555" y="932"/>
                  </a:lnTo>
                  <a:lnTo>
                    <a:pt x="10560" y="2069"/>
                  </a:lnTo>
                  <a:lnTo>
                    <a:pt x="14605" y="2133"/>
                  </a:lnTo>
                  <a:lnTo>
                    <a:pt x="9813" y="4036"/>
                  </a:lnTo>
                  <a:lnTo>
                    <a:pt x="9326" y="6271"/>
                  </a:lnTo>
                  <a:lnTo>
                    <a:pt x="18364" y="10741"/>
                  </a:lnTo>
                  <a:lnTo>
                    <a:pt x="20000" y="12427"/>
                  </a:lnTo>
                  <a:lnTo>
                    <a:pt x="18996" y="15428"/>
                  </a:lnTo>
                  <a:lnTo>
                    <a:pt x="17303" y="15696"/>
                  </a:lnTo>
                  <a:lnTo>
                    <a:pt x="16528" y="16245"/>
                  </a:lnTo>
                  <a:lnTo>
                    <a:pt x="13601" y="16731"/>
                  </a:lnTo>
                  <a:lnTo>
                    <a:pt x="12511" y="16731"/>
                  </a:lnTo>
                  <a:lnTo>
                    <a:pt x="12511" y="17867"/>
                  </a:lnTo>
                  <a:lnTo>
                    <a:pt x="10416" y="17867"/>
                  </a:lnTo>
                  <a:lnTo>
                    <a:pt x="10416" y="18697"/>
                  </a:lnTo>
                  <a:lnTo>
                    <a:pt x="7862" y="20000"/>
                  </a:lnTo>
                  <a:lnTo>
                    <a:pt x="7088" y="16628"/>
                  </a:lnTo>
                  <a:lnTo>
                    <a:pt x="9813" y="16181"/>
                  </a:lnTo>
                  <a:lnTo>
                    <a:pt x="11506" y="16181"/>
                  </a:lnTo>
                  <a:lnTo>
                    <a:pt x="11822" y="15083"/>
                  </a:lnTo>
                  <a:lnTo>
                    <a:pt x="14347" y="14393"/>
                  </a:lnTo>
                  <a:lnTo>
                    <a:pt x="15294" y="13946"/>
                  </a:lnTo>
                  <a:lnTo>
                    <a:pt x="14978" y="12363"/>
                  </a:lnTo>
                  <a:lnTo>
                    <a:pt x="14347" y="11941"/>
                  </a:lnTo>
                  <a:lnTo>
                    <a:pt x="14978" y="11673"/>
                  </a:lnTo>
                  <a:lnTo>
                    <a:pt x="14835" y="10677"/>
                  </a:lnTo>
                  <a:lnTo>
                    <a:pt x="13974" y="10089"/>
                  </a:lnTo>
                  <a:lnTo>
                    <a:pt x="13343" y="9157"/>
                  </a:lnTo>
                  <a:lnTo>
                    <a:pt x="4161" y="5785"/>
                  </a:lnTo>
                  <a:lnTo>
                    <a:pt x="4763" y="5134"/>
                  </a:lnTo>
                  <a:lnTo>
                    <a:pt x="5165" y="4789"/>
                  </a:lnTo>
                  <a:lnTo>
                    <a:pt x="4304" y="4036"/>
                  </a:lnTo>
                  <a:lnTo>
                    <a:pt x="1750" y="3819"/>
                  </a:lnTo>
                  <a:lnTo>
                    <a:pt x="373" y="3269"/>
                  </a:lnTo>
                  <a:lnTo>
                    <a:pt x="0" y="1520"/>
                  </a:lnTo>
                  <a:lnTo>
                    <a:pt x="918" y="1903"/>
                  </a:lnTo>
                  <a:lnTo>
                    <a:pt x="2066" y="1584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6960" y="5371200"/>
              <a:ext cx="272880" cy="312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6163"/>
                  </a:moveTo>
                  <a:lnTo>
                    <a:pt x="3850" y="3070"/>
                  </a:lnTo>
                  <a:lnTo>
                    <a:pt x="4450" y="1649"/>
                  </a:lnTo>
                  <a:lnTo>
                    <a:pt x="6000" y="1283"/>
                  </a:lnTo>
                  <a:lnTo>
                    <a:pt x="6875" y="0"/>
                  </a:lnTo>
                  <a:lnTo>
                    <a:pt x="7275" y="3139"/>
                  </a:lnTo>
                  <a:lnTo>
                    <a:pt x="8475" y="4124"/>
                  </a:lnTo>
                  <a:lnTo>
                    <a:pt x="10700" y="4444"/>
                  </a:lnTo>
                  <a:lnTo>
                    <a:pt x="11450" y="5796"/>
                  </a:lnTo>
                  <a:lnTo>
                    <a:pt x="10575" y="7652"/>
                  </a:lnTo>
                  <a:lnTo>
                    <a:pt x="18575" y="13700"/>
                  </a:lnTo>
                  <a:lnTo>
                    <a:pt x="19125" y="15304"/>
                  </a:lnTo>
                  <a:lnTo>
                    <a:pt x="19875" y="16357"/>
                  </a:lnTo>
                  <a:lnTo>
                    <a:pt x="20000" y="18213"/>
                  </a:lnTo>
                  <a:lnTo>
                    <a:pt x="19450" y="18694"/>
                  </a:lnTo>
                  <a:lnTo>
                    <a:pt x="17650" y="18328"/>
                  </a:lnTo>
                  <a:lnTo>
                    <a:pt x="16150" y="20000"/>
                  </a:lnTo>
                  <a:lnTo>
                    <a:pt x="14950" y="19015"/>
                  </a:lnTo>
                  <a:lnTo>
                    <a:pt x="14750" y="16357"/>
                  </a:lnTo>
                  <a:lnTo>
                    <a:pt x="12600" y="14685"/>
                  </a:lnTo>
                  <a:lnTo>
                    <a:pt x="12200" y="11661"/>
                  </a:lnTo>
                  <a:lnTo>
                    <a:pt x="9100" y="9691"/>
                  </a:lnTo>
                  <a:lnTo>
                    <a:pt x="7400" y="11157"/>
                  </a:lnTo>
                  <a:lnTo>
                    <a:pt x="5800" y="11157"/>
                  </a:lnTo>
                  <a:lnTo>
                    <a:pt x="3175" y="11959"/>
                  </a:lnTo>
                  <a:lnTo>
                    <a:pt x="3425" y="8133"/>
                  </a:lnTo>
                  <a:lnTo>
                    <a:pt x="1550" y="8133"/>
                  </a:lnTo>
                  <a:lnTo>
                    <a:pt x="1550" y="6163"/>
                  </a:lnTo>
                  <a:lnTo>
                    <a:pt x="0" y="6163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29560" y="5658120"/>
              <a:ext cx="173880" cy="1404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8880" y="19338"/>
                  </a:moveTo>
                  <a:lnTo>
                    <a:pt x="12613" y="17405"/>
                  </a:lnTo>
                  <a:lnTo>
                    <a:pt x="14813" y="17405"/>
                  </a:lnTo>
                  <a:lnTo>
                    <a:pt x="15363" y="13028"/>
                  </a:lnTo>
                  <a:lnTo>
                    <a:pt x="18821" y="10433"/>
                  </a:lnTo>
                  <a:lnTo>
                    <a:pt x="20000" y="8499"/>
                  </a:lnTo>
                  <a:lnTo>
                    <a:pt x="19686" y="2341"/>
                  </a:lnTo>
                  <a:lnTo>
                    <a:pt x="18821" y="662"/>
                  </a:lnTo>
                  <a:lnTo>
                    <a:pt x="15992" y="0"/>
                  </a:lnTo>
                  <a:lnTo>
                    <a:pt x="13635" y="3715"/>
                  </a:lnTo>
                  <a:lnTo>
                    <a:pt x="11749" y="1527"/>
                  </a:lnTo>
                  <a:lnTo>
                    <a:pt x="3379" y="1781"/>
                  </a:lnTo>
                  <a:lnTo>
                    <a:pt x="0" y="6972"/>
                  </a:lnTo>
                  <a:lnTo>
                    <a:pt x="550" y="12621"/>
                  </a:lnTo>
                  <a:lnTo>
                    <a:pt x="3065" y="16031"/>
                  </a:lnTo>
                  <a:lnTo>
                    <a:pt x="3065" y="20000"/>
                  </a:lnTo>
                  <a:lnTo>
                    <a:pt x="5697" y="18931"/>
                  </a:lnTo>
                  <a:lnTo>
                    <a:pt x="8880" y="19338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57120" y="5467680"/>
              <a:ext cx="272880" cy="512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2875" y="10887"/>
                  </a:moveTo>
                  <a:lnTo>
                    <a:pt x="12525" y="9336"/>
                  </a:lnTo>
                  <a:lnTo>
                    <a:pt x="14750" y="7952"/>
                  </a:lnTo>
                  <a:lnTo>
                    <a:pt x="20000" y="7841"/>
                  </a:lnTo>
                  <a:lnTo>
                    <a:pt x="19800" y="6219"/>
                  </a:lnTo>
                  <a:lnTo>
                    <a:pt x="17650" y="5199"/>
                  </a:lnTo>
                  <a:lnTo>
                    <a:pt x="17250" y="3354"/>
                  </a:lnTo>
                  <a:lnTo>
                    <a:pt x="14225" y="2152"/>
                  </a:lnTo>
                  <a:lnTo>
                    <a:pt x="12525" y="3047"/>
                  </a:lnTo>
                  <a:lnTo>
                    <a:pt x="10925" y="3047"/>
                  </a:lnTo>
                  <a:lnTo>
                    <a:pt x="8300" y="3536"/>
                  </a:lnTo>
                  <a:lnTo>
                    <a:pt x="8500" y="1174"/>
                  </a:lnTo>
                  <a:lnTo>
                    <a:pt x="6675" y="1174"/>
                  </a:lnTo>
                  <a:lnTo>
                    <a:pt x="6675" y="0"/>
                  </a:lnTo>
                  <a:lnTo>
                    <a:pt x="5050" y="0"/>
                  </a:lnTo>
                  <a:lnTo>
                    <a:pt x="2700" y="978"/>
                  </a:lnTo>
                  <a:lnTo>
                    <a:pt x="750" y="978"/>
                  </a:lnTo>
                  <a:lnTo>
                    <a:pt x="0" y="2823"/>
                  </a:lnTo>
                  <a:lnTo>
                    <a:pt x="3050" y="5996"/>
                  </a:lnTo>
                  <a:lnTo>
                    <a:pt x="2425" y="7533"/>
                  </a:lnTo>
                  <a:lnTo>
                    <a:pt x="4650" y="9336"/>
                  </a:lnTo>
                  <a:lnTo>
                    <a:pt x="5200" y="11181"/>
                  </a:lnTo>
                  <a:lnTo>
                    <a:pt x="4325" y="14088"/>
                  </a:lnTo>
                  <a:lnTo>
                    <a:pt x="2700" y="15709"/>
                  </a:lnTo>
                  <a:lnTo>
                    <a:pt x="3050" y="17219"/>
                  </a:lnTo>
                  <a:lnTo>
                    <a:pt x="6000" y="19064"/>
                  </a:lnTo>
                  <a:lnTo>
                    <a:pt x="9225" y="19217"/>
                  </a:lnTo>
                  <a:lnTo>
                    <a:pt x="10525" y="20000"/>
                  </a:lnTo>
                  <a:lnTo>
                    <a:pt x="12725" y="19706"/>
                  </a:lnTo>
                  <a:lnTo>
                    <a:pt x="10650" y="18463"/>
                  </a:lnTo>
                  <a:lnTo>
                    <a:pt x="8700" y="18379"/>
                  </a:lnTo>
                  <a:lnTo>
                    <a:pt x="6875" y="16240"/>
                  </a:lnTo>
                  <a:lnTo>
                    <a:pt x="6550" y="15108"/>
                  </a:lnTo>
                  <a:lnTo>
                    <a:pt x="5475" y="14507"/>
                  </a:lnTo>
                  <a:lnTo>
                    <a:pt x="6550" y="11419"/>
                  </a:lnTo>
                  <a:lnTo>
                    <a:pt x="6550" y="9574"/>
                  </a:lnTo>
                  <a:lnTo>
                    <a:pt x="8500" y="9797"/>
                  </a:lnTo>
                  <a:lnTo>
                    <a:pt x="9425" y="10580"/>
                  </a:lnTo>
                  <a:lnTo>
                    <a:pt x="13275" y="10887"/>
                  </a:lnTo>
                  <a:lnTo>
                    <a:pt x="12875" y="10887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76040" y="5178240"/>
              <a:ext cx="302040" cy="691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4402" y="20000"/>
                  </a:moveTo>
                  <a:lnTo>
                    <a:pt x="15869" y="18796"/>
                  </a:lnTo>
                  <a:lnTo>
                    <a:pt x="16727" y="16668"/>
                  </a:lnTo>
                  <a:lnTo>
                    <a:pt x="16230" y="15298"/>
                  </a:lnTo>
                  <a:lnTo>
                    <a:pt x="14221" y="13960"/>
                  </a:lnTo>
                  <a:lnTo>
                    <a:pt x="14763" y="12818"/>
                  </a:lnTo>
                  <a:lnTo>
                    <a:pt x="11964" y="10431"/>
                  </a:lnTo>
                  <a:lnTo>
                    <a:pt x="12641" y="9061"/>
                  </a:lnTo>
                  <a:lnTo>
                    <a:pt x="14402" y="9061"/>
                  </a:lnTo>
                  <a:lnTo>
                    <a:pt x="16524" y="8334"/>
                  </a:lnTo>
                  <a:lnTo>
                    <a:pt x="20000" y="6943"/>
                  </a:lnTo>
                  <a:lnTo>
                    <a:pt x="16840" y="6767"/>
                  </a:lnTo>
                  <a:lnTo>
                    <a:pt x="15124" y="6466"/>
                  </a:lnTo>
                  <a:lnTo>
                    <a:pt x="15982" y="5708"/>
                  </a:lnTo>
                  <a:lnTo>
                    <a:pt x="13860" y="5210"/>
                  </a:lnTo>
                  <a:lnTo>
                    <a:pt x="13544" y="4421"/>
                  </a:lnTo>
                  <a:lnTo>
                    <a:pt x="11670" y="4421"/>
                  </a:lnTo>
                  <a:lnTo>
                    <a:pt x="11422" y="3467"/>
                  </a:lnTo>
                  <a:lnTo>
                    <a:pt x="13860" y="2553"/>
                  </a:lnTo>
                  <a:lnTo>
                    <a:pt x="13544" y="1266"/>
                  </a:lnTo>
                  <a:lnTo>
                    <a:pt x="12212" y="477"/>
                  </a:lnTo>
                  <a:lnTo>
                    <a:pt x="11422" y="0"/>
                  </a:lnTo>
                  <a:lnTo>
                    <a:pt x="9481" y="592"/>
                  </a:lnTo>
                  <a:lnTo>
                    <a:pt x="9481" y="1152"/>
                  </a:lnTo>
                  <a:lnTo>
                    <a:pt x="8510" y="1152"/>
                  </a:lnTo>
                  <a:lnTo>
                    <a:pt x="6321" y="2180"/>
                  </a:lnTo>
                  <a:lnTo>
                    <a:pt x="5824" y="2854"/>
                  </a:lnTo>
                  <a:lnTo>
                    <a:pt x="4921" y="3083"/>
                  </a:lnTo>
                  <a:lnTo>
                    <a:pt x="4921" y="4567"/>
                  </a:lnTo>
                  <a:lnTo>
                    <a:pt x="2844" y="4837"/>
                  </a:lnTo>
                  <a:lnTo>
                    <a:pt x="2370" y="5874"/>
                  </a:lnTo>
                  <a:lnTo>
                    <a:pt x="1580" y="7244"/>
                  </a:lnTo>
                  <a:lnTo>
                    <a:pt x="0" y="7587"/>
                  </a:lnTo>
                  <a:lnTo>
                    <a:pt x="1084" y="8563"/>
                  </a:lnTo>
                  <a:lnTo>
                    <a:pt x="2844" y="8697"/>
                  </a:lnTo>
                  <a:lnTo>
                    <a:pt x="5711" y="10887"/>
                  </a:lnTo>
                  <a:lnTo>
                    <a:pt x="5034" y="13036"/>
                  </a:lnTo>
                  <a:lnTo>
                    <a:pt x="7540" y="13347"/>
                  </a:lnTo>
                  <a:lnTo>
                    <a:pt x="10993" y="12195"/>
                  </a:lnTo>
                  <a:lnTo>
                    <a:pt x="12348" y="13399"/>
                  </a:lnTo>
                  <a:lnTo>
                    <a:pt x="12641" y="14468"/>
                  </a:lnTo>
                  <a:lnTo>
                    <a:pt x="14402" y="16980"/>
                  </a:lnTo>
                  <a:lnTo>
                    <a:pt x="13544" y="18962"/>
                  </a:lnTo>
                  <a:lnTo>
                    <a:pt x="14402" y="2000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59360" y="5957640"/>
              <a:ext cx="153720" cy="164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3111" y="260"/>
                  </a:lnTo>
                  <a:lnTo>
                    <a:pt x="5422" y="2820"/>
                  </a:lnTo>
                  <a:lnTo>
                    <a:pt x="9333" y="1909"/>
                  </a:lnTo>
                  <a:lnTo>
                    <a:pt x="17156" y="6117"/>
                  </a:lnTo>
                  <a:lnTo>
                    <a:pt x="16533" y="12061"/>
                  </a:lnTo>
                  <a:lnTo>
                    <a:pt x="20000" y="17093"/>
                  </a:lnTo>
                  <a:lnTo>
                    <a:pt x="19422" y="20000"/>
                  </a:lnTo>
                  <a:lnTo>
                    <a:pt x="11022" y="18742"/>
                  </a:lnTo>
                  <a:lnTo>
                    <a:pt x="3467" y="13015"/>
                  </a:lnTo>
                  <a:lnTo>
                    <a:pt x="267" y="28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42840" y="5257800"/>
              <a:ext cx="156240" cy="182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4017" y="16510"/>
                  </a:moveTo>
                  <a:lnTo>
                    <a:pt x="2620" y="13098"/>
                  </a:lnTo>
                  <a:lnTo>
                    <a:pt x="2271" y="8588"/>
                  </a:lnTo>
                  <a:lnTo>
                    <a:pt x="262" y="6353"/>
                  </a:lnTo>
                  <a:lnTo>
                    <a:pt x="0" y="4353"/>
                  </a:lnTo>
                  <a:lnTo>
                    <a:pt x="4236" y="3725"/>
                  </a:lnTo>
                  <a:lnTo>
                    <a:pt x="2271" y="1490"/>
                  </a:lnTo>
                  <a:lnTo>
                    <a:pt x="2620" y="0"/>
                  </a:lnTo>
                  <a:lnTo>
                    <a:pt x="5546" y="0"/>
                  </a:lnTo>
                  <a:lnTo>
                    <a:pt x="8384" y="3922"/>
                  </a:lnTo>
                  <a:lnTo>
                    <a:pt x="18821" y="5176"/>
                  </a:lnTo>
                  <a:lnTo>
                    <a:pt x="12707" y="11333"/>
                  </a:lnTo>
                  <a:lnTo>
                    <a:pt x="14017" y="13333"/>
                  </a:lnTo>
                  <a:lnTo>
                    <a:pt x="17773" y="12471"/>
                  </a:lnTo>
                  <a:lnTo>
                    <a:pt x="20000" y="18824"/>
                  </a:lnTo>
                  <a:lnTo>
                    <a:pt x="16943" y="20000"/>
                  </a:lnTo>
                  <a:lnTo>
                    <a:pt x="14498" y="15529"/>
                  </a:lnTo>
                  <a:lnTo>
                    <a:pt x="12358" y="14392"/>
                  </a:lnTo>
                  <a:lnTo>
                    <a:pt x="10000" y="11020"/>
                  </a:lnTo>
                  <a:lnTo>
                    <a:pt x="9083" y="11529"/>
                  </a:lnTo>
                  <a:lnTo>
                    <a:pt x="10349" y="16510"/>
                  </a:lnTo>
                  <a:lnTo>
                    <a:pt x="8384" y="17961"/>
                  </a:lnTo>
                  <a:lnTo>
                    <a:pt x="7293" y="13961"/>
                  </a:lnTo>
                  <a:lnTo>
                    <a:pt x="6594" y="17333"/>
                  </a:lnTo>
                  <a:lnTo>
                    <a:pt x="4017" y="1651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12080" y="5079600"/>
              <a:ext cx="252720" cy="166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4238" y="0"/>
                  </a:moveTo>
                  <a:lnTo>
                    <a:pt x="2564" y="0"/>
                  </a:lnTo>
                  <a:lnTo>
                    <a:pt x="216" y="2586"/>
                  </a:lnTo>
                  <a:lnTo>
                    <a:pt x="0" y="6293"/>
                  </a:lnTo>
                  <a:lnTo>
                    <a:pt x="1673" y="7457"/>
                  </a:lnTo>
                  <a:lnTo>
                    <a:pt x="3347" y="10000"/>
                  </a:lnTo>
                  <a:lnTo>
                    <a:pt x="6046" y="13621"/>
                  </a:lnTo>
                  <a:lnTo>
                    <a:pt x="10256" y="14440"/>
                  </a:lnTo>
                  <a:lnTo>
                    <a:pt x="13171" y="18491"/>
                  </a:lnTo>
                  <a:lnTo>
                    <a:pt x="18192" y="20000"/>
                  </a:lnTo>
                  <a:lnTo>
                    <a:pt x="20000" y="18017"/>
                  </a:lnTo>
                  <a:lnTo>
                    <a:pt x="19190" y="12328"/>
                  </a:lnTo>
                  <a:lnTo>
                    <a:pt x="10688" y="11164"/>
                  </a:lnTo>
                  <a:lnTo>
                    <a:pt x="9960" y="4655"/>
                  </a:lnTo>
                  <a:lnTo>
                    <a:pt x="8070" y="5259"/>
                  </a:lnTo>
                  <a:lnTo>
                    <a:pt x="4238" y="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55440" y="5183640"/>
              <a:ext cx="100440" cy="57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2653" y="4025"/>
                  </a:lnTo>
                  <a:lnTo>
                    <a:pt x="20000" y="9811"/>
                  </a:lnTo>
                  <a:lnTo>
                    <a:pt x="15034" y="20000"/>
                  </a:lnTo>
                  <a:lnTo>
                    <a:pt x="9864" y="20000"/>
                  </a:lnTo>
                  <a:lnTo>
                    <a:pt x="2041" y="16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838080" y="1143000"/>
            <a:ext cx="6088320" cy="4738320"/>
            <a:chOff x="838080" y="1143000"/>
            <a:chExt cx="6088320" cy="4738320"/>
          </a:xfrm>
        </p:grpSpPr>
        <p:sp>
          <p:nvSpPr>
            <p:cNvPr id="123" name=""/>
            <p:cNvSpPr/>
            <p:nvPr/>
          </p:nvSpPr>
          <p:spPr>
            <a:xfrm>
              <a:off x="5109480" y="4549320"/>
              <a:ext cx="291600" cy="529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494" y="5643"/>
                  </a:moveTo>
                  <a:lnTo>
                    <a:pt x="988" y="4875"/>
                  </a:lnTo>
                  <a:lnTo>
                    <a:pt x="988" y="4357"/>
                  </a:lnTo>
                  <a:lnTo>
                    <a:pt x="0" y="3339"/>
                  </a:lnTo>
                  <a:lnTo>
                    <a:pt x="494" y="2821"/>
                  </a:lnTo>
                  <a:lnTo>
                    <a:pt x="1516" y="1536"/>
                  </a:lnTo>
                  <a:lnTo>
                    <a:pt x="2010" y="750"/>
                  </a:lnTo>
                  <a:lnTo>
                    <a:pt x="2965" y="0"/>
                  </a:lnTo>
                  <a:lnTo>
                    <a:pt x="3987" y="268"/>
                  </a:lnTo>
                  <a:lnTo>
                    <a:pt x="3987" y="1018"/>
                  </a:lnTo>
                  <a:lnTo>
                    <a:pt x="4481" y="1536"/>
                  </a:lnTo>
                  <a:lnTo>
                    <a:pt x="4975" y="750"/>
                  </a:lnTo>
                  <a:lnTo>
                    <a:pt x="6985" y="268"/>
                  </a:lnTo>
                  <a:lnTo>
                    <a:pt x="7479" y="750"/>
                  </a:lnTo>
                  <a:lnTo>
                    <a:pt x="8501" y="1536"/>
                  </a:lnTo>
                  <a:lnTo>
                    <a:pt x="8995" y="1804"/>
                  </a:lnTo>
                  <a:lnTo>
                    <a:pt x="10478" y="2054"/>
                  </a:lnTo>
                  <a:lnTo>
                    <a:pt x="11960" y="2286"/>
                  </a:lnTo>
                  <a:lnTo>
                    <a:pt x="12488" y="3339"/>
                  </a:lnTo>
                  <a:lnTo>
                    <a:pt x="12982" y="3839"/>
                  </a:lnTo>
                  <a:lnTo>
                    <a:pt x="13476" y="4625"/>
                  </a:lnTo>
                  <a:lnTo>
                    <a:pt x="13476" y="5375"/>
                  </a:lnTo>
                  <a:lnTo>
                    <a:pt x="12982" y="6143"/>
                  </a:lnTo>
                  <a:lnTo>
                    <a:pt x="13476" y="6393"/>
                  </a:lnTo>
                  <a:lnTo>
                    <a:pt x="12982" y="6911"/>
                  </a:lnTo>
                  <a:lnTo>
                    <a:pt x="13476" y="7429"/>
                  </a:lnTo>
                  <a:lnTo>
                    <a:pt x="13970" y="7929"/>
                  </a:lnTo>
                  <a:lnTo>
                    <a:pt x="13476" y="8464"/>
                  </a:lnTo>
                  <a:lnTo>
                    <a:pt x="13970" y="8714"/>
                  </a:lnTo>
                  <a:lnTo>
                    <a:pt x="13970" y="9482"/>
                  </a:lnTo>
                  <a:lnTo>
                    <a:pt x="14498" y="9482"/>
                  </a:lnTo>
                  <a:lnTo>
                    <a:pt x="14498" y="9732"/>
                  </a:lnTo>
                  <a:lnTo>
                    <a:pt x="14992" y="10000"/>
                  </a:lnTo>
                  <a:lnTo>
                    <a:pt x="15980" y="10250"/>
                  </a:lnTo>
                  <a:lnTo>
                    <a:pt x="15980" y="10500"/>
                  </a:lnTo>
                  <a:lnTo>
                    <a:pt x="16442" y="11018"/>
                  </a:lnTo>
                  <a:lnTo>
                    <a:pt x="17463" y="11018"/>
                  </a:lnTo>
                  <a:lnTo>
                    <a:pt x="17957" y="11018"/>
                  </a:lnTo>
                  <a:lnTo>
                    <a:pt x="18451" y="11268"/>
                  </a:lnTo>
                  <a:lnTo>
                    <a:pt x="18979" y="11786"/>
                  </a:lnTo>
                  <a:lnTo>
                    <a:pt x="19967" y="12304"/>
                  </a:lnTo>
                  <a:lnTo>
                    <a:pt x="19473" y="13071"/>
                  </a:lnTo>
                  <a:lnTo>
                    <a:pt x="18979" y="13839"/>
                  </a:lnTo>
                  <a:lnTo>
                    <a:pt x="18451" y="14089"/>
                  </a:lnTo>
                  <a:lnTo>
                    <a:pt x="17957" y="14339"/>
                  </a:lnTo>
                  <a:lnTo>
                    <a:pt x="17957" y="15107"/>
                  </a:lnTo>
                  <a:lnTo>
                    <a:pt x="17463" y="15625"/>
                  </a:lnTo>
                  <a:lnTo>
                    <a:pt x="17463" y="15893"/>
                  </a:lnTo>
                  <a:lnTo>
                    <a:pt x="17002" y="16643"/>
                  </a:lnTo>
                  <a:lnTo>
                    <a:pt x="16442" y="16911"/>
                  </a:lnTo>
                  <a:lnTo>
                    <a:pt x="15486" y="17161"/>
                  </a:lnTo>
                  <a:lnTo>
                    <a:pt x="14498" y="17429"/>
                  </a:lnTo>
                  <a:lnTo>
                    <a:pt x="14498" y="17929"/>
                  </a:lnTo>
                  <a:lnTo>
                    <a:pt x="14992" y="18446"/>
                  </a:lnTo>
                  <a:lnTo>
                    <a:pt x="14992" y="18714"/>
                  </a:lnTo>
                  <a:lnTo>
                    <a:pt x="14498" y="19232"/>
                  </a:lnTo>
                  <a:lnTo>
                    <a:pt x="14498" y="19464"/>
                  </a:lnTo>
                  <a:lnTo>
                    <a:pt x="13970" y="19714"/>
                  </a:lnTo>
                  <a:lnTo>
                    <a:pt x="13476" y="19982"/>
                  </a:lnTo>
                  <a:lnTo>
                    <a:pt x="12982" y="19982"/>
                  </a:lnTo>
                  <a:lnTo>
                    <a:pt x="12488" y="19982"/>
                  </a:lnTo>
                  <a:lnTo>
                    <a:pt x="11466" y="19982"/>
                  </a:lnTo>
                  <a:lnTo>
                    <a:pt x="10478" y="18964"/>
                  </a:lnTo>
                  <a:lnTo>
                    <a:pt x="10016" y="18446"/>
                  </a:lnTo>
                  <a:lnTo>
                    <a:pt x="8995" y="17929"/>
                  </a:lnTo>
                  <a:lnTo>
                    <a:pt x="7479" y="17429"/>
                  </a:lnTo>
                  <a:lnTo>
                    <a:pt x="5470" y="16911"/>
                  </a:lnTo>
                  <a:lnTo>
                    <a:pt x="4481" y="16411"/>
                  </a:lnTo>
                  <a:lnTo>
                    <a:pt x="2965" y="15893"/>
                  </a:lnTo>
                  <a:lnTo>
                    <a:pt x="2504" y="15357"/>
                  </a:lnTo>
                  <a:lnTo>
                    <a:pt x="2965" y="15107"/>
                  </a:lnTo>
                  <a:lnTo>
                    <a:pt x="3526" y="15625"/>
                  </a:lnTo>
                  <a:lnTo>
                    <a:pt x="4481" y="15893"/>
                  </a:lnTo>
                  <a:lnTo>
                    <a:pt x="4481" y="15107"/>
                  </a:lnTo>
                  <a:lnTo>
                    <a:pt x="3526" y="14607"/>
                  </a:lnTo>
                  <a:lnTo>
                    <a:pt x="2965" y="14089"/>
                  </a:lnTo>
                  <a:lnTo>
                    <a:pt x="2504" y="13589"/>
                  </a:lnTo>
                  <a:lnTo>
                    <a:pt x="2010" y="12804"/>
                  </a:lnTo>
                  <a:lnTo>
                    <a:pt x="2504" y="12054"/>
                  </a:lnTo>
                  <a:lnTo>
                    <a:pt x="3987" y="12054"/>
                  </a:lnTo>
                  <a:lnTo>
                    <a:pt x="3987" y="11518"/>
                  </a:lnTo>
                  <a:lnTo>
                    <a:pt x="2965" y="11268"/>
                  </a:lnTo>
                  <a:lnTo>
                    <a:pt x="3526" y="10250"/>
                  </a:lnTo>
                  <a:lnTo>
                    <a:pt x="2965" y="9482"/>
                  </a:lnTo>
                  <a:lnTo>
                    <a:pt x="2010" y="8964"/>
                  </a:lnTo>
                  <a:lnTo>
                    <a:pt x="2504" y="8196"/>
                  </a:lnTo>
                  <a:lnTo>
                    <a:pt x="2504" y="7679"/>
                  </a:lnTo>
                  <a:lnTo>
                    <a:pt x="2965" y="7179"/>
                  </a:lnTo>
                  <a:lnTo>
                    <a:pt x="2965" y="6393"/>
                  </a:lnTo>
                  <a:lnTo>
                    <a:pt x="2965" y="6143"/>
                  </a:lnTo>
                  <a:lnTo>
                    <a:pt x="494" y="5643"/>
                  </a:lnTo>
                  <a:lnTo>
                    <a:pt x="494" y="5643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20560" y="2439360"/>
              <a:ext cx="1127160" cy="1377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5934" y="0"/>
                  </a:moveTo>
                  <a:lnTo>
                    <a:pt x="5934" y="0"/>
                  </a:lnTo>
                  <a:lnTo>
                    <a:pt x="6061" y="0"/>
                  </a:lnTo>
                  <a:lnTo>
                    <a:pt x="6317" y="0"/>
                  </a:lnTo>
                  <a:lnTo>
                    <a:pt x="6445" y="0"/>
                  </a:lnTo>
                  <a:lnTo>
                    <a:pt x="6709" y="103"/>
                  </a:lnTo>
                  <a:lnTo>
                    <a:pt x="7084" y="199"/>
                  </a:lnTo>
                  <a:lnTo>
                    <a:pt x="7221" y="199"/>
                  </a:lnTo>
                  <a:lnTo>
                    <a:pt x="7349" y="199"/>
                  </a:lnTo>
                  <a:lnTo>
                    <a:pt x="7869" y="103"/>
                  </a:lnTo>
                  <a:lnTo>
                    <a:pt x="8124" y="199"/>
                  </a:lnTo>
                  <a:lnTo>
                    <a:pt x="8372" y="288"/>
                  </a:lnTo>
                  <a:lnTo>
                    <a:pt x="8508" y="288"/>
                  </a:lnTo>
                  <a:lnTo>
                    <a:pt x="8636" y="487"/>
                  </a:lnTo>
                  <a:lnTo>
                    <a:pt x="8636" y="693"/>
                  </a:lnTo>
                  <a:lnTo>
                    <a:pt x="8764" y="693"/>
                  </a:lnTo>
                  <a:lnTo>
                    <a:pt x="8508" y="879"/>
                  </a:lnTo>
                  <a:lnTo>
                    <a:pt x="8372" y="1085"/>
                  </a:lnTo>
                  <a:lnTo>
                    <a:pt x="8764" y="879"/>
                  </a:lnTo>
                  <a:lnTo>
                    <a:pt x="9156" y="982"/>
                  </a:lnTo>
                  <a:lnTo>
                    <a:pt x="9540" y="1085"/>
                  </a:lnTo>
                  <a:lnTo>
                    <a:pt x="9804" y="1188"/>
                  </a:lnTo>
                  <a:lnTo>
                    <a:pt x="10315" y="1188"/>
                  </a:lnTo>
                  <a:lnTo>
                    <a:pt x="10571" y="1085"/>
                  </a:lnTo>
                  <a:lnTo>
                    <a:pt x="10699" y="1085"/>
                  </a:lnTo>
                  <a:lnTo>
                    <a:pt x="10699" y="879"/>
                  </a:lnTo>
                  <a:lnTo>
                    <a:pt x="10963" y="783"/>
                  </a:lnTo>
                  <a:lnTo>
                    <a:pt x="11219" y="879"/>
                  </a:lnTo>
                  <a:lnTo>
                    <a:pt x="11219" y="982"/>
                  </a:lnTo>
                  <a:lnTo>
                    <a:pt x="11219" y="1188"/>
                  </a:lnTo>
                  <a:lnTo>
                    <a:pt x="11219" y="1284"/>
                  </a:lnTo>
                  <a:lnTo>
                    <a:pt x="10963" y="1284"/>
                  </a:lnTo>
                  <a:lnTo>
                    <a:pt x="10963" y="1373"/>
                  </a:lnTo>
                  <a:lnTo>
                    <a:pt x="10963" y="1572"/>
                  </a:lnTo>
                  <a:lnTo>
                    <a:pt x="10827" y="1675"/>
                  </a:lnTo>
                  <a:lnTo>
                    <a:pt x="10827" y="1867"/>
                  </a:lnTo>
                  <a:lnTo>
                    <a:pt x="10571" y="1964"/>
                  </a:lnTo>
                  <a:lnTo>
                    <a:pt x="10443" y="2266"/>
                  </a:lnTo>
                  <a:lnTo>
                    <a:pt x="10443" y="2355"/>
                  </a:lnTo>
                  <a:lnTo>
                    <a:pt x="10699" y="2355"/>
                  </a:lnTo>
                  <a:lnTo>
                    <a:pt x="10827" y="2266"/>
                  </a:lnTo>
                  <a:lnTo>
                    <a:pt x="11219" y="2355"/>
                  </a:lnTo>
                  <a:lnTo>
                    <a:pt x="11347" y="2458"/>
                  </a:lnTo>
                  <a:lnTo>
                    <a:pt x="11603" y="2561"/>
                  </a:lnTo>
                  <a:lnTo>
                    <a:pt x="11731" y="2458"/>
                  </a:lnTo>
                  <a:lnTo>
                    <a:pt x="11603" y="2266"/>
                  </a:lnTo>
                  <a:lnTo>
                    <a:pt x="11466" y="2266"/>
                  </a:lnTo>
                  <a:lnTo>
                    <a:pt x="11603" y="2067"/>
                  </a:lnTo>
                  <a:lnTo>
                    <a:pt x="11867" y="1867"/>
                  </a:lnTo>
                  <a:lnTo>
                    <a:pt x="12123" y="1778"/>
                  </a:lnTo>
                  <a:lnTo>
                    <a:pt x="12515" y="1675"/>
                  </a:lnTo>
                  <a:lnTo>
                    <a:pt x="13035" y="1476"/>
                  </a:lnTo>
                  <a:lnTo>
                    <a:pt x="13282" y="1284"/>
                  </a:lnTo>
                  <a:lnTo>
                    <a:pt x="13546" y="982"/>
                  </a:lnTo>
                  <a:lnTo>
                    <a:pt x="13674" y="879"/>
                  </a:lnTo>
                  <a:lnTo>
                    <a:pt x="14194" y="783"/>
                  </a:lnTo>
                  <a:lnTo>
                    <a:pt x="14578" y="783"/>
                  </a:lnTo>
                  <a:lnTo>
                    <a:pt x="14834" y="879"/>
                  </a:lnTo>
                  <a:lnTo>
                    <a:pt x="15090" y="982"/>
                  </a:lnTo>
                  <a:lnTo>
                    <a:pt x="14962" y="879"/>
                  </a:lnTo>
                  <a:lnTo>
                    <a:pt x="14834" y="693"/>
                  </a:lnTo>
                  <a:lnTo>
                    <a:pt x="14834" y="590"/>
                  </a:lnTo>
                  <a:lnTo>
                    <a:pt x="14962" y="391"/>
                  </a:lnTo>
                  <a:lnTo>
                    <a:pt x="15217" y="288"/>
                  </a:lnTo>
                  <a:lnTo>
                    <a:pt x="15482" y="199"/>
                  </a:lnTo>
                  <a:lnTo>
                    <a:pt x="15737" y="288"/>
                  </a:lnTo>
                  <a:lnTo>
                    <a:pt x="15865" y="391"/>
                  </a:lnTo>
                  <a:lnTo>
                    <a:pt x="16002" y="391"/>
                  </a:lnTo>
                  <a:lnTo>
                    <a:pt x="16249" y="590"/>
                  </a:lnTo>
                  <a:lnTo>
                    <a:pt x="16249" y="693"/>
                  </a:lnTo>
                  <a:lnTo>
                    <a:pt x="16130" y="879"/>
                  </a:lnTo>
                  <a:lnTo>
                    <a:pt x="16249" y="982"/>
                  </a:lnTo>
                  <a:lnTo>
                    <a:pt x="16505" y="1188"/>
                  </a:lnTo>
                  <a:lnTo>
                    <a:pt x="16249" y="1284"/>
                  </a:lnTo>
                  <a:lnTo>
                    <a:pt x="16130" y="1373"/>
                  </a:lnTo>
                  <a:lnTo>
                    <a:pt x="15737" y="1476"/>
                  </a:lnTo>
                  <a:lnTo>
                    <a:pt x="15610" y="1572"/>
                  </a:lnTo>
                  <a:lnTo>
                    <a:pt x="15737" y="1572"/>
                  </a:lnTo>
                  <a:lnTo>
                    <a:pt x="16002" y="1675"/>
                  </a:lnTo>
                  <a:lnTo>
                    <a:pt x="16249" y="1572"/>
                  </a:lnTo>
                  <a:lnTo>
                    <a:pt x="16505" y="1572"/>
                  </a:lnTo>
                  <a:lnTo>
                    <a:pt x="16641" y="1572"/>
                  </a:lnTo>
                  <a:lnTo>
                    <a:pt x="16897" y="1675"/>
                  </a:lnTo>
                  <a:lnTo>
                    <a:pt x="17153" y="1778"/>
                  </a:lnTo>
                  <a:lnTo>
                    <a:pt x="17417" y="1964"/>
                  </a:lnTo>
                  <a:lnTo>
                    <a:pt x="17545" y="1964"/>
                  </a:lnTo>
                  <a:lnTo>
                    <a:pt x="17545" y="2760"/>
                  </a:lnTo>
                  <a:lnTo>
                    <a:pt x="17664" y="3048"/>
                  </a:lnTo>
                  <a:lnTo>
                    <a:pt x="17792" y="3440"/>
                  </a:lnTo>
                  <a:lnTo>
                    <a:pt x="17928" y="3742"/>
                  </a:lnTo>
                  <a:lnTo>
                    <a:pt x="17928" y="4133"/>
                  </a:lnTo>
                  <a:lnTo>
                    <a:pt x="17928" y="4422"/>
                  </a:lnTo>
                  <a:lnTo>
                    <a:pt x="17792" y="4731"/>
                  </a:lnTo>
                  <a:lnTo>
                    <a:pt x="17664" y="4923"/>
                  </a:lnTo>
                  <a:lnTo>
                    <a:pt x="17664" y="5115"/>
                  </a:lnTo>
                  <a:lnTo>
                    <a:pt x="18056" y="5506"/>
                  </a:lnTo>
                  <a:lnTo>
                    <a:pt x="18448" y="5712"/>
                  </a:lnTo>
                  <a:lnTo>
                    <a:pt x="18704" y="5815"/>
                  </a:lnTo>
                  <a:lnTo>
                    <a:pt x="18576" y="6104"/>
                  </a:lnTo>
                  <a:lnTo>
                    <a:pt x="18704" y="6303"/>
                  </a:lnTo>
                  <a:lnTo>
                    <a:pt x="18832" y="6591"/>
                  </a:lnTo>
                  <a:lnTo>
                    <a:pt x="18960" y="6893"/>
                  </a:lnTo>
                  <a:lnTo>
                    <a:pt x="19096" y="7188"/>
                  </a:lnTo>
                  <a:lnTo>
                    <a:pt x="19096" y="7484"/>
                  </a:lnTo>
                  <a:lnTo>
                    <a:pt x="19096" y="7779"/>
                  </a:lnTo>
                  <a:lnTo>
                    <a:pt x="19096" y="8170"/>
                  </a:lnTo>
                  <a:lnTo>
                    <a:pt x="19224" y="8369"/>
                  </a:lnTo>
                  <a:lnTo>
                    <a:pt x="19471" y="8568"/>
                  </a:lnTo>
                  <a:lnTo>
                    <a:pt x="19736" y="8568"/>
                  </a:lnTo>
                  <a:lnTo>
                    <a:pt x="19864" y="8967"/>
                  </a:lnTo>
                  <a:lnTo>
                    <a:pt x="19991" y="9255"/>
                  </a:lnTo>
                  <a:lnTo>
                    <a:pt x="19991" y="9454"/>
                  </a:lnTo>
                  <a:lnTo>
                    <a:pt x="19864" y="9653"/>
                  </a:lnTo>
                  <a:lnTo>
                    <a:pt x="19991" y="9846"/>
                  </a:lnTo>
                  <a:lnTo>
                    <a:pt x="19864" y="10141"/>
                  </a:lnTo>
                  <a:lnTo>
                    <a:pt x="19599" y="10237"/>
                  </a:lnTo>
                  <a:lnTo>
                    <a:pt x="19096" y="10340"/>
                  </a:lnTo>
                  <a:lnTo>
                    <a:pt x="19096" y="10141"/>
                  </a:lnTo>
                  <a:lnTo>
                    <a:pt x="18960" y="10045"/>
                  </a:lnTo>
                  <a:lnTo>
                    <a:pt x="18448" y="9846"/>
                  </a:lnTo>
                  <a:lnTo>
                    <a:pt x="18312" y="9846"/>
                  </a:lnTo>
                  <a:lnTo>
                    <a:pt x="18448" y="10045"/>
                  </a:lnTo>
                  <a:lnTo>
                    <a:pt x="18448" y="10141"/>
                  </a:lnTo>
                  <a:lnTo>
                    <a:pt x="17928" y="10443"/>
                  </a:lnTo>
                  <a:lnTo>
                    <a:pt x="17792" y="10539"/>
                  </a:lnTo>
                  <a:lnTo>
                    <a:pt x="17417" y="10738"/>
                  </a:lnTo>
                  <a:lnTo>
                    <a:pt x="17025" y="10738"/>
                  </a:lnTo>
                  <a:lnTo>
                    <a:pt x="16377" y="11026"/>
                  </a:lnTo>
                  <a:lnTo>
                    <a:pt x="16130" y="11226"/>
                  </a:lnTo>
                  <a:lnTo>
                    <a:pt x="15865" y="11425"/>
                  </a:lnTo>
                  <a:lnTo>
                    <a:pt x="15482" y="11617"/>
                  </a:lnTo>
                  <a:lnTo>
                    <a:pt x="14834" y="11720"/>
                  </a:lnTo>
                  <a:lnTo>
                    <a:pt x="14450" y="11823"/>
                  </a:lnTo>
                  <a:lnTo>
                    <a:pt x="14322" y="12015"/>
                  </a:lnTo>
                  <a:lnTo>
                    <a:pt x="14194" y="12310"/>
                  </a:lnTo>
                  <a:lnTo>
                    <a:pt x="14058" y="12214"/>
                  </a:lnTo>
                  <a:lnTo>
                    <a:pt x="13930" y="12111"/>
                  </a:lnTo>
                  <a:lnTo>
                    <a:pt x="13674" y="11912"/>
                  </a:lnTo>
                  <a:lnTo>
                    <a:pt x="13546" y="12015"/>
                  </a:lnTo>
                  <a:lnTo>
                    <a:pt x="13674" y="12310"/>
                  </a:lnTo>
                  <a:lnTo>
                    <a:pt x="13802" y="12606"/>
                  </a:lnTo>
                  <a:lnTo>
                    <a:pt x="14194" y="12805"/>
                  </a:lnTo>
                  <a:lnTo>
                    <a:pt x="14450" y="12997"/>
                  </a:lnTo>
                  <a:lnTo>
                    <a:pt x="14578" y="13093"/>
                  </a:lnTo>
                  <a:lnTo>
                    <a:pt x="14450" y="13388"/>
                  </a:lnTo>
                  <a:lnTo>
                    <a:pt x="14578" y="13683"/>
                  </a:lnTo>
                  <a:lnTo>
                    <a:pt x="14962" y="13986"/>
                  </a:lnTo>
                  <a:lnTo>
                    <a:pt x="15090" y="14281"/>
                  </a:lnTo>
                  <a:lnTo>
                    <a:pt x="15354" y="14576"/>
                  </a:lnTo>
                  <a:lnTo>
                    <a:pt x="15737" y="14672"/>
                  </a:lnTo>
                  <a:lnTo>
                    <a:pt x="16002" y="14974"/>
                  </a:lnTo>
                  <a:lnTo>
                    <a:pt x="16505" y="15070"/>
                  </a:lnTo>
                  <a:lnTo>
                    <a:pt x="16769" y="15366"/>
                  </a:lnTo>
                  <a:lnTo>
                    <a:pt x="16897" y="15366"/>
                  </a:lnTo>
                  <a:lnTo>
                    <a:pt x="17153" y="15558"/>
                  </a:lnTo>
                  <a:lnTo>
                    <a:pt x="17417" y="15654"/>
                  </a:lnTo>
                  <a:lnTo>
                    <a:pt x="17792" y="15853"/>
                  </a:lnTo>
                  <a:lnTo>
                    <a:pt x="17928" y="16347"/>
                  </a:lnTo>
                  <a:lnTo>
                    <a:pt x="17664" y="16347"/>
                  </a:lnTo>
                  <a:lnTo>
                    <a:pt x="17153" y="16347"/>
                  </a:lnTo>
                  <a:lnTo>
                    <a:pt x="16897" y="16739"/>
                  </a:lnTo>
                  <a:lnTo>
                    <a:pt x="16897" y="17041"/>
                  </a:lnTo>
                  <a:lnTo>
                    <a:pt x="16377" y="17226"/>
                  </a:lnTo>
                  <a:lnTo>
                    <a:pt x="15865" y="17432"/>
                  </a:lnTo>
                  <a:lnTo>
                    <a:pt x="15610" y="17624"/>
                  </a:lnTo>
                  <a:lnTo>
                    <a:pt x="15737" y="17920"/>
                  </a:lnTo>
                  <a:lnTo>
                    <a:pt x="16002" y="18215"/>
                  </a:lnTo>
                  <a:lnTo>
                    <a:pt x="16130" y="18414"/>
                  </a:lnTo>
                  <a:lnTo>
                    <a:pt x="16002" y="18620"/>
                  </a:lnTo>
                  <a:lnTo>
                    <a:pt x="16002" y="18805"/>
                  </a:lnTo>
                  <a:lnTo>
                    <a:pt x="16249" y="18805"/>
                  </a:lnTo>
                  <a:lnTo>
                    <a:pt x="16377" y="19004"/>
                  </a:lnTo>
                  <a:lnTo>
                    <a:pt x="16377" y="19210"/>
                  </a:lnTo>
                  <a:lnTo>
                    <a:pt x="15865" y="19300"/>
                  </a:lnTo>
                  <a:lnTo>
                    <a:pt x="15610" y="19004"/>
                  </a:lnTo>
                  <a:lnTo>
                    <a:pt x="15354" y="18805"/>
                  </a:lnTo>
                  <a:lnTo>
                    <a:pt x="15090" y="18908"/>
                  </a:lnTo>
                  <a:lnTo>
                    <a:pt x="14714" y="18805"/>
                  </a:lnTo>
                  <a:lnTo>
                    <a:pt x="14322" y="18908"/>
                  </a:lnTo>
                  <a:lnTo>
                    <a:pt x="14194" y="18709"/>
                  </a:lnTo>
                  <a:lnTo>
                    <a:pt x="14058" y="19004"/>
                  </a:lnTo>
                  <a:lnTo>
                    <a:pt x="13674" y="19107"/>
                  </a:lnTo>
                  <a:lnTo>
                    <a:pt x="13154" y="19107"/>
                  </a:lnTo>
                  <a:lnTo>
                    <a:pt x="12907" y="19210"/>
                  </a:lnTo>
                  <a:lnTo>
                    <a:pt x="12387" y="19499"/>
                  </a:lnTo>
                  <a:lnTo>
                    <a:pt x="12123" y="19705"/>
                  </a:lnTo>
                  <a:lnTo>
                    <a:pt x="11867" y="19705"/>
                  </a:lnTo>
                  <a:lnTo>
                    <a:pt x="11603" y="19705"/>
                  </a:lnTo>
                  <a:lnTo>
                    <a:pt x="11347" y="19499"/>
                  </a:lnTo>
                  <a:lnTo>
                    <a:pt x="11219" y="19396"/>
                  </a:lnTo>
                  <a:lnTo>
                    <a:pt x="10827" y="19396"/>
                  </a:lnTo>
                  <a:lnTo>
                    <a:pt x="10443" y="19396"/>
                  </a:lnTo>
                  <a:lnTo>
                    <a:pt x="10179" y="19396"/>
                  </a:lnTo>
                  <a:lnTo>
                    <a:pt x="10315" y="19787"/>
                  </a:lnTo>
                  <a:lnTo>
                    <a:pt x="10051" y="19890"/>
                  </a:lnTo>
                  <a:lnTo>
                    <a:pt x="9804" y="19993"/>
                  </a:lnTo>
                  <a:lnTo>
                    <a:pt x="9676" y="19890"/>
                  </a:lnTo>
                  <a:lnTo>
                    <a:pt x="9412" y="19705"/>
                  </a:lnTo>
                  <a:lnTo>
                    <a:pt x="9156" y="19602"/>
                  </a:lnTo>
                  <a:lnTo>
                    <a:pt x="8764" y="19499"/>
                  </a:lnTo>
                  <a:lnTo>
                    <a:pt x="8124" y="19396"/>
                  </a:lnTo>
                  <a:lnTo>
                    <a:pt x="7732" y="19300"/>
                  </a:lnTo>
                  <a:lnTo>
                    <a:pt x="7349" y="19210"/>
                  </a:lnTo>
                  <a:lnTo>
                    <a:pt x="7221" y="19107"/>
                  </a:lnTo>
                  <a:lnTo>
                    <a:pt x="6837" y="19107"/>
                  </a:lnTo>
                  <a:lnTo>
                    <a:pt x="6581" y="19107"/>
                  </a:lnTo>
                  <a:lnTo>
                    <a:pt x="6317" y="19004"/>
                  </a:lnTo>
                  <a:lnTo>
                    <a:pt x="6189" y="18805"/>
                  </a:lnTo>
                  <a:lnTo>
                    <a:pt x="5797" y="18805"/>
                  </a:lnTo>
                  <a:lnTo>
                    <a:pt x="5413" y="19004"/>
                  </a:lnTo>
                  <a:lnTo>
                    <a:pt x="5541" y="19107"/>
                  </a:lnTo>
                  <a:lnTo>
                    <a:pt x="5797" y="19210"/>
                  </a:lnTo>
                  <a:lnTo>
                    <a:pt x="6061" y="19210"/>
                  </a:lnTo>
                  <a:lnTo>
                    <a:pt x="5934" y="19300"/>
                  </a:lnTo>
                  <a:lnTo>
                    <a:pt x="5797" y="19300"/>
                  </a:lnTo>
                  <a:lnTo>
                    <a:pt x="5413" y="19300"/>
                  </a:lnTo>
                  <a:lnTo>
                    <a:pt x="5030" y="19300"/>
                  </a:lnTo>
                  <a:lnTo>
                    <a:pt x="4638" y="19300"/>
                  </a:lnTo>
                  <a:lnTo>
                    <a:pt x="4382" y="19396"/>
                  </a:lnTo>
                  <a:lnTo>
                    <a:pt x="3990" y="19396"/>
                  </a:lnTo>
                  <a:lnTo>
                    <a:pt x="3743" y="19396"/>
                  </a:lnTo>
                  <a:lnTo>
                    <a:pt x="3350" y="19396"/>
                  </a:lnTo>
                  <a:lnTo>
                    <a:pt x="3487" y="19300"/>
                  </a:lnTo>
                  <a:lnTo>
                    <a:pt x="3350" y="19300"/>
                  </a:lnTo>
                  <a:lnTo>
                    <a:pt x="3350" y="19210"/>
                  </a:lnTo>
                  <a:lnTo>
                    <a:pt x="3350" y="19004"/>
                  </a:lnTo>
                  <a:lnTo>
                    <a:pt x="3350" y="18908"/>
                  </a:lnTo>
                  <a:lnTo>
                    <a:pt x="3350" y="18709"/>
                  </a:lnTo>
                  <a:lnTo>
                    <a:pt x="3350" y="18517"/>
                  </a:lnTo>
                  <a:lnTo>
                    <a:pt x="3487" y="18215"/>
                  </a:lnTo>
                  <a:lnTo>
                    <a:pt x="3487" y="18023"/>
                  </a:lnTo>
                  <a:lnTo>
                    <a:pt x="3615" y="17721"/>
                  </a:lnTo>
                  <a:lnTo>
                    <a:pt x="3615" y="17432"/>
                  </a:lnTo>
                  <a:lnTo>
                    <a:pt x="3862" y="17137"/>
                  </a:lnTo>
                  <a:lnTo>
                    <a:pt x="3990" y="16739"/>
                  </a:lnTo>
                  <a:lnTo>
                    <a:pt x="4126" y="16540"/>
                  </a:lnTo>
                  <a:lnTo>
                    <a:pt x="4382" y="16244"/>
                  </a:lnTo>
                  <a:lnTo>
                    <a:pt x="4902" y="15757"/>
                  </a:lnTo>
                  <a:lnTo>
                    <a:pt x="4638" y="15654"/>
                  </a:lnTo>
                  <a:lnTo>
                    <a:pt x="4254" y="15558"/>
                  </a:lnTo>
                  <a:lnTo>
                    <a:pt x="3990" y="15462"/>
                  </a:lnTo>
                  <a:lnTo>
                    <a:pt x="3487" y="15366"/>
                  </a:lnTo>
                  <a:lnTo>
                    <a:pt x="3487" y="15160"/>
                  </a:lnTo>
                  <a:lnTo>
                    <a:pt x="3223" y="15160"/>
                  </a:lnTo>
                  <a:lnTo>
                    <a:pt x="3095" y="15366"/>
                  </a:lnTo>
                  <a:lnTo>
                    <a:pt x="2702" y="15366"/>
                  </a:lnTo>
                  <a:lnTo>
                    <a:pt x="2199" y="15263"/>
                  </a:lnTo>
                  <a:lnTo>
                    <a:pt x="1935" y="15070"/>
                  </a:lnTo>
                  <a:lnTo>
                    <a:pt x="1807" y="15263"/>
                  </a:lnTo>
                  <a:lnTo>
                    <a:pt x="1679" y="15070"/>
                  </a:lnTo>
                  <a:lnTo>
                    <a:pt x="1543" y="14871"/>
                  </a:lnTo>
                  <a:lnTo>
                    <a:pt x="1415" y="14672"/>
                  </a:lnTo>
                  <a:lnTo>
                    <a:pt x="895" y="14473"/>
                  </a:lnTo>
                  <a:lnTo>
                    <a:pt x="1032" y="14178"/>
                  </a:lnTo>
                  <a:lnTo>
                    <a:pt x="1032" y="13986"/>
                  </a:lnTo>
                  <a:lnTo>
                    <a:pt x="1159" y="13889"/>
                  </a:lnTo>
                  <a:lnTo>
                    <a:pt x="1159" y="13683"/>
                  </a:lnTo>
                  <a:lnTo>
                    <a:pt x="1159" y="13491"/>
                  </a:lnTo>
                  <a:lnTo>
                    <a:pt x="1032" y="13388"/>
                  </a:lnTo>
                  <a:lnTo>
                    <a:pt x="767" y="13299"/>
                  </a:lnTo>
                  <a:lnTo>
                    <a:pt x="520" y="13093"/>
                  </a:lnTo>
                  <a:lnTo>
                    <a:pt x="392" y="12805"/>
                  </a:lnTo>
                  <a:lnTo>
                    <a:pt x="392" y="12606"/>
                  </a:lnTo>
                  <a:lnTo>
                    <a:pt x="520" y="12310"/>
                  </a:lnTo>
                  <a:lnTo>
                    <a:pt x="767" y="12310"/>
                  </a:lnTo>
                  <a:lnTo>
                    <a:pt x="895" y="12015"/>
                  </a:lnTo>
                  <a:lnTo>
                    <a:pt x="767" y="11823"/>
                  </a:lnTo>
                  <a:lnTo>
                    <a:pt x="648" y="11720"/>
                  </a:lnTo>
                  <a:lnTo>
                    <a:pt x="767" y="11521"/>
                  </a:lnTo>
                  <a:lnTo>
                    <a:pt x="520" y="11322"/>
                  </a:lnTo>
                  <a:lnTo>
                    <a:pt x="392" y="11226"/>
                  </a:lnTo>
                  <a:lnTo>
                    <a:pt x="256" y="11026"/>
                  </a:lnTo>
                  <a:lnTo>
                    <a:pt x="256" y="10738"/>
                  </a:lnTo>
                  <a:lnTo>
                    <a:pt x="392" y="10539"/>
                  </a:lnTo>
                  <a:lnTo>
                    <a:pt x="256" y="10443"/>
                  </a:lnTo>
                  <a:lnTo>
                    <a:pt x="128" y="10340"/>
                  </a:lnTo>
                  <a:lnTo>
                    <a:pt x="0" y="10237"/>
                  </a:lnTo>
                  <a:lnTo>
                    <a:pt x="128" y="10141"/>
                  </a:lnTo>
                  <a:lnTo>
                    <a:pt x="392" y="10045"/>
                  </a:lnTo>
                  <a:lnTo>
                    <a:pt x="520" y="9949"/>
                  </a:lnTo>
                  <a:lnTo>
                    <a:pt x="520" y="9550"/>
                  </a:lnTo>
                  <a:lnTo>
                    <a:pt x="767" y="9159"/>
                  </a:lnTo>
                  <a:lnTo>
                    <a:pt x="520" y="8864"/>
                  </a:lnTo>
                  <a:lnTo>
                    <a:pt x="392" y="8568"/>
                  </a:lnTo>
                  <a:lnTo>
                    <a:pt x="128" y="8170"/>
                  </a:lnTo>
                  <a:lnTo>
                    <a:pt x="256" y="8074"/>
                  </a:lnTo>
                  <a:lnTo>
                    <a:pt x="520" y="7978"/>
                  </a:lnTo>
                  <a:lnTo>
                    <a:pt x="1159" y="7978"/>
                  </a:lnTo>
                  <a:lnTo>
                    <a:pt x="1679" y="7882"/>
                  </a:lnTo>
                  <a:lnTo>
                    <a:pt x="1807" y="7882"/>
                  </a:lnTo>
                  <a:lnTo>
                    <a:pt x="1935" y="7676"/>
                  </a:lnTo>
                  <a:lnTo>
                    <a:pt x="1543" y="7484"/>
                  </a:lnTo>
                  <a:lnTo>
                    <a:pt x="2199" y="7285"/>
                  </a:lnTo>
                  <a:lnTo>
                    <a:pt x="2447" y="7085"/>
                  </a:lnTo>
                  <a:lnTo>
                    <a:pt x="2575" y="6797"/>
                  </a:lnTo>
                  <a:lnTo>
                    <a:pt x="2447" y="6694"/>
                  </a:lnTo>
                  <a:lnTo>
                    <a:pt x="2063" y="6591"/>
                  </a:lnTo>
                  <a:lnTo>
                    <a:pt x="1807" y="6406"/>
                  </a:lnTo>
                  <a:lnTo>
                    <a:pt x="1807" y="6200"/>
                  </a:lnTo>
                  <a:lnTo>
                    <a:pt x="1807" y="6104"/>
                  </a:lnTo>
                  <a:lnTo>
                    <a:pt x="2063" y="5911"/>
                  </a:lnTo>
                  <a:lnTo>
                    <a:pt x="2327" y="6008"/>
                  </a:lnTo>
                  <a:lnTo>
                    <a:pt x="2702" y="5815"/>
                  </a:lnTo>
                  <a:lnTo>
                    <a:pt x="2702" y="5506"/>
                  </a:lnTo>
                  <a:lnTo>
                    <a:pt x="2839" y="5218"/>
                  </a:lnTo>
                  <a:lnTo>
                    <a:pt x="2839" y="4827"/>
                  </a:lnTo>
                  <a:lnTo>
                    <a:pt x="2839" y="4628"/>
                  </a:lnTo>
                  <a:lnTo>
                    <a:pt x="2702" y="4422"/>
                  </a:lnTo>
                  <a:lnTo>
                    <a:pt x="2967" y="4133"/>
                  </a:lnTo>
                  <a:lnTo>
                    <a:pt x="2839" y="4133"/>
                  </a:lnTo>
                  <a:lnTo>
                    <a:pt x="2575" y="4133"/>
                  </a:lnTo>
                  <a:lnTo>
                    <a:pt x="2702" y="3845"/>
                  </a:lnTo>
                  <a:lnTo>
                    <a:pt x="2702" y="3646"/>
                  </a:lnTo>
                  <a:lnTo>
                    <a:pt x="2967" y="3350"/>
                  </a:lnTo>
                  <a:lnTo>
                    <a:pt x="3350" y="3254"/>
                  </a:lnTo>
                  <a:lnTo>
                    <a:pt x="3862" y="3254"/>
                  </a:lnTo>
                  <a:lnTo>
                    <a:pt x="4382" y="3254"/>
                  </a:lnTo>
                  <a:lnTo>
                    <a:pt x="4638" y="3254"/>
                  </a:lnTo>
                  <a:lnTo>
                    <a:pt x="4638" y="3440"/>
                  </a:lnTo>
                  <a:lnTo>
                    <a:pt x="4774" y="3646"/>
                  </a:lnTo>
                  <a:lnTo>
                    <a:pt x="4902" y="3646"/>
                  </a:lnTo>
                  <a:lnTo>
                    <a:pt x="4774" y="3845"/>
                  </a:lnTo>
                  <a:lnTo>
                    <a:pt x="5030" y="3934"/>
                  </a:lnTo>
                  <a:lnTo>
                    <a:pt x="5158" y="3845"/>
                  </a:lnTo>
                  <a:lnTo>
                    <a:pt x="5158" y="3646"/>
                  </a:lnTo>
                  <a:lnTo>
                    <a:pt x="5158" y="3543"/>
                  </a:lnTo>
                  <a:lnTo>
                    <a:pt x="5413" y="3543"/>
                  </a:lnTo>
                  <a:lnTo>
                    <a:pt x="5413" y="3646"/>
                  </a:lnTo>
                  <a:lnTo>
                    <a:pt x="5541" y="3845"/>
                  </a:lnTo>
                  <a:lnTo>
                    <a:pt x="5669" y="3742"/>
                  </a:lnTo>
                  <a:lnTo>
                    <a:pt x="5797" y="3646"/>
                  </a:lnTo>
                  <a:lnTo>
                    <a:pt x="5669" y="3440"/>
                  </a:lnTo>
                  <a:lnTo>
                    <a:pt x="5669" y="3254"/>
                  </a:lnTo>
                  <a:lnTo>
                    <a:pt x="5669" y="3048"/>
                  </a:lnTo>
                  <a:lnTo>
                    <a:pt x="5797" y="2856"/>
                  </a:lnTo>
                  <a:lnTo>
                    <a:pt x="5934" y="2657"/>
                  </a:lnTo>
                  <a:lnTo>
                    <a:pt x="6189" y="2760"/>
                  </a:lnTo>
                  <a:lnTo>
                    <a:pt x="6445" y="2856"/>
                  </a:lnTo>
                  <a:lnTo>
                    <a:pt x="6581" y="2856"/>
                  </a:lnTo>
                  <a:lnTo>
                    <a:pt x="6837" y="2856"/>
                  </a:lnTo>
                  <a:lnTo>
                    <a:pt x="6957" y="2856"/>
                  </a:lnTo>
                  <a:lnTo>
                    <a:pt x="7084" y="2856"/>
                  </a:lnTo>
                  <a:lnTo>
                    <a:pt x="7221" y="3048"/>
                  </a:lnTo>
                  <a:lnTo>
                    <a:pt x="7349" y="3151"/>
                  </a:lnTo>
                  <a:lnTo>
                    <a:pt x="7477" y="3048"/>
                  </a:lnTo>
                  <a:lnTo>
                    <a:pt x="7477" y="2952"/>
                  </a:lnTo>
                  <a:lnTo>
                    <a:pt x="7349" y="2760"/>
                  </a:lnTo>
                  <a:lnTo>
                    <a:pt x="7084" y="2657"/>
                  </a:lnTo>
                  <a:lnTo>
                    <a:pt x="6957" y="2657"/>
                  </a:lnTo>
                  <a:lnTo>
                    <a:pt x="6709" y="2561"/>
                  </a:lnTo>
                  <a:lnTo>
                    <a:pt x="6445" y="2561"/>
                  </a:lnTo>
                  <a:lnTo>
                    <a:pt x="6317" y="2355"/>
                  </a:lnTo>
                  <a:lnTo>
                    <a:pt x="6445" y="2355"/>
                  </a:lnTo>
                  <a:lnTo>
                    <a:pt x="6445" y="2170"/>
                  </a:lnTo>
                  <a:lnTo>
                    <a:pt x="6317" y="1964"/>
                  </a:lnTo>
                  <a:lnTo>
                    <a:pt x="6317" y="1778"/>
                  </a:lnTo>
                  <a:lnTo>
                    <a:pt x="6581" y="1675"/>
                  </a:lnTo>
                  <a:lnTo>
                    <a:pt x="6445" y="1572"/>
                  </a:lnTo>
                  <a:lnTo>
                    <a:pt x="6317" y="1572"/>
                  </a:lnTo>
                  <a:lnTo>
                    <a:pt x="6061" y="1675"/>
                  </a:lnTo>
                  <a:lnTo>
                    <a:pt x="5934" y="1476"/>
                  </a:lnTo>
                  <a:lnTo>
                    <a:pt x="5797" y="1373"/>
                  </a:lnTo>
                  <a:lnTo>
                    <a:pt x="6189" y="1284"/>
                  </a:lnTo>
                  <a:lnTo>
                    <a:pt x="6445" y="1188"/>
                  </a:lnTo>
                  <a:lnTo>
                    <a:pt x="6581" y="1188"/>
                  </a:lnTo>
                  <a:lnTo>
                    <a:pt x="6581" y="1085"/>
                  </a:lnTo>
                  <a:lnTo>
                    <a:pt x="6317" y="783"/>
                  </a:lnTo>
                  <a:lnTo>
                    <a:pt x="6061" y="487"/>
                  </a:lnTo>
                  <a:lnTo>
                    <a:pt x="6061" y="288"/>
                  </a:lnTo>
                  <a:lnTo>
                    <a:pt x="5934" y="0"/>
                  </a:lnTo>
                  <a:lnTo>
                    <a:pt x="5934" y="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37280" y="4631400"/>
              <a:ext cx="51120" cy="4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5825"/>
                  </a:moveTo>
                  <a:lnTo>
                    <a:pt x="2804" y="2913"/>
                  </a:lnTo>
                  <a:lnTo>
                    <a:pt x="5794" y="0"/>
                  </a:lnTo>
                  <a:lnTo>
                    <a:pt x="8598" y="0"/>
                  </a:lnTo>
                  <a:lnTo>
                    <a:pt x="11215" y="0"/>
                  </a:lnTo>
                  <a:lnTo>
                    <a:pt x="17009" y="2913"/>
                  </a:lnTo>
                  <a:lnTo>
                    <a:pt x="19813" y="8738"/>
                  </a:lnTo>
                  <a:lnTo>
                    <a:pt x="17009" y="13981"/>
                  </a:lnTo>
                  <a:lnTo>
                    <a:pt x="14019" y="13981"/>
                  </a:lnTo>
                  <a:lnTo>
                    <a:pt x="8598" y="13981"/>
                  </a:lnTo>
                  <a:lnTo>
                    <a:pt x="5794" y="16893"/>
                  </a:lnTo>
                  <a:lnTo>
                    <a:pt x="2804" y="19806"/>
                  </a:lnTo>
                  <a:lnTo>
                    <a:pt x="2804" y="13981"/>
                  </a:lnTo>
                  <a:lnTo>
                    <a:pt x="0" y="8738"/>
                  </a:lnTo>
                  <a:lnTo>
                    <a:pt x="0" y="5825"/>
                  </a:lnTo>
                  <a:lnTo>
                    <a:pt x="0" y="5825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84960" y="3470760"/>
              <a:ext cx="974880" cy="4824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1040" y="2510"/>
                  </a:moveTo>
                  <a:lnTo>
                    <a:pt x="11345" y="2804"/>
                  </a:lnTo>
                  <a:lnTo>
                    <a:pt x="11493" y="2804"/>
                  </a:lnTo>
                  <a:lnTo>
                    <a:pt x="12085" y="3667"/>
                  </a:lnTo>
                  <a:lnTo>
                    <a:pt x="12538" y="3373"/>
                  </a:lnTo>
                  <a:lnTo>
                    <a:pt x="13130" y="3373"/>
                  </a:lnTo>
                  <a:lnTo>
                    <a:pt x="13435" y="2804"/>
                  </a:lnTo>
                  <a:lnTo>
                    <a:pt x="13721" y="2235"/>
                  </a:lnTo>
                  <a:lnTo>
                    <a:pt x="13869" y="1392"/>
                  </a:lnTo>
                  <a:lnTo>
                    <a:pt x="14174" y="569"/>
                  </a:lnTo>
                  <a:lnTo>
                    <a:pt x="14322" y="294"/>
                  </a:lnTo>
                  <a:lnTo>
                    <a:pt x="14618" y="0"/>
                  </a:lnTo>
                  <a:lnTo>
                    <a:pt x="15219" y="569"/>
                  </a:lnTo>
                  <a:lnTo>
                    <a:pt x="15525" y="824"/>
                  </a:lnTo>
                  <a:lnTo>
                    <a:pt x="16264" y="824"/>
                  </a:lnTo>
                  <a:lnTo>
                    <a:pt x="16560" y="1118"/>
                  </a:lnTo>
                  <a:lnTo>
                    <a:pt x="16865" y="1392"/>
                  </a:lnTo>
                  <a:lnTo>
                    <a:pt x="17447" y="1686"/>
                  </a:lnTo>
                  <a:lnTo>
                    <a:pt x="17753" y="1118"/>
                  </a:lnTo>
                  <a:lnTo>
                    <a:pt x="18196" y="1118"/>
                  </a:lnTo>
                  <a:lnTo>
                    <a:pt x="18650" y="1392"/>
                  </a:lnTo>
                  <a:lnTo>
                    <a:pt x="19241" y="1392"/>
                  </a:lnTo>
                  <a:lnTo>
                    <a:pt x="19241" y="1686"/>
                  </a:lnTo>
                  <a:lnTo>
                    <a:pt x="19389" y="2235"/>
                  </a:lnTo>
                  <a:lnTo>
                    <a:pt x="19389" y="3373"/>
                  </a:lnTo>
                  <a:lnTo>
                    <a:pt x="19389" y="3922"/>
                  </a:lnTo>
                  <a:lnTo>
                    <a:pt x="19241" y="4490"/>
                  </a:lnTo>
                  <a:lnTo>
                    <a:pt x="19694" y="5333"/>
                  </a:lnTo>
                  <a:lnTo>
                    <a:pt x="19842" y="5608"/>
                  </a:lnTo>
                  <a:lnTo>
                    <a:pt x="19990" y="5902"/>
                  </a:lnTo>
                  <a:lnTo>
                    <a:pt x="19842" y="7020"/>
                  </a:lnTo>
                  <a:lnTo>
                    <a:pt x="19842" y="7588"/>
                  </a:lnTo>
                  <a:lnTo>
                    <a:pt x="19842" y="8176"/>
                  </a:lnTo>
                  <a:lnTo>
                    <a:pt x="19389" y="9000"/>
                  </a:lnTo>
                  <a:lnTo>
                    <a:pt x="18650" y="8706"/>
                  </a:lnTo>
                  <a:lnTo>
                    <a:pt x="18502" y="9000"/>
                  </a:lnTo>
                  <a:lnTo>
                    <a:pt x="18354" y="9569"/>
                  </a:lnTo>
                  <a:lnTo>
                    <a:pt x="18797" y="9569"/>
                  </a:lnTo>
                  <a:lnTo>
                    <a:pt x="19241" y="10118"/>
                  </a:lnTo>
                  <a:lnTo>
                    <a:pt x="19241" y="10980"/>
                  </a:lnTo>
                  <a:lnTo>
                    <a:pt x="18955" y="11549"/>
                  </a:lnTo>
                  <a:lnTo>
                    <a:pt x="18650" y="12098"/>
                  </a:lnTo>
                  <a:lnTo>
                    <a:pt x="18650" y="12667"/>
                  </a:lnTo>
                  <a:lnTo>
                    <a:pt x="18650" y="13216"/>
                  </a:lnTo>
                  <a:lnTo>
                    <a:pt x="18955" y="14647"/>
                  </a:lnTo>
                  <a:lnTo>
                    <a:pt x="18354" y="14647"/>
                  </a:lnTo>
                  <a:lnTo>
                    <a:pt x="18048" y="15490"/>
                  </a:lnTo>
                  <a:lnTo>
                    <a:pt x="17900" y="16059"/>
                  </a:lnTo>
                  <a:lnTo>
                    <a:pt x="17605" y="16314"/>
                  </a:lnTo>
                  <a:lnTo>
                    <a:pt x="17605" y="16588"/>
                  </a:lnTo>
                  <a:lnTo>
                    <a:pt x="17900" y="17176"/>
                  </a:lnTo>
                  <a:lnTo>
                    <a:pt x="17900" y="17745"/>
                  </a:lnTo>
                  <a:lnTo>
                    <a:pt x="17605" y="17745"/>
                  </a:lnTo>
                  <a:lnTo>
                    <a:pt x="17299" y="17471"/>
                  </a:lnTo>
                  <a:lnTo>
                    <a:pt x="16865" y="17471"/>
                  </a:lnTo>
                  <a:lnTo>
                    <a:pt x="16412" y="18000"/>
                  </a:lnTo>
                  <a:lnTo>
                    <a:pt x="16116" y="18000"/>
                  </a:lnTo>
                  <a:lnTo>
                    <a:pt x="15525" y="18294"/>
                  </a:lnTo>
                  <a:lnTo>
                    <a:pt x="15071" y="18294"/>
                  </a:lnTo>
                  <a:lnTo>
                    <a:pt x="14618" y="18588"/>
                  </a:lnTo>
                  <a:lnTo>
                    <a:pt x="14322" y="19412"/>
                  </a:lnTo>
                  <a:lnTo>
                    <a:pt x="14174" y="19686"/>
                  </a:lnTo>
                  <a:lnTo>
                    <a:pt x="13435" y="19980"/>
                  </a:lnTo>
                  <a:lnTo>
                    <a:pt x="12538" y="19686"/>
                  </a:lnTo>
                  <a:lnTo>
                    <a:pt x="11641" y="19412"/>
                  </a:lnTo>
                  <a:lnTo>
                    <a:pt x="11198" y="19412"/>
                  </a:lnTo>
                  <a:lnTo>
                    <a:pt x="10596" y="19157"/>
                  </a:lnTo>
                  <a:lnTo>
                    <a:pt x="9857" y="19157"/>
                  </a:lnTo>
                  <a:lnTo>
                    <a:pt x="8802" y="18863"/>
                  </a:lnTo>
                  <a:lnTo>
                    <a:pt x="8369" y="18863"/>
                  </a:lnTo>
                  <a:lnTo>
                    <a:pt x="7767" y="18294"/>
                  </a:lnTo>
                  <a:lnTo>
                    <a:pt x="7314" y="17745"/>
                  </a:lnTo>
                  <a:lnTo>
                    <a:pt x="7166" y="16882"/>
                  </a:lnTo>
                  <a:lnTo>
                    <a:pt x="7018" y="16588"/>
                  </a:lnTo>
                  <a:lnTo>
                    <a:pt x="7166" y="16059"/>
                  </a:lnTo>
                  <a:lnTo>
                    <a:pt x="7018" y="15765"/>
                  </a:lnTo>
                  <a:lnTo>
                    <a:pt x="6427" y="16314"/>
                  </a:lnTo>
                  <a:lnTo>
                    <a:pt x="5973" y="16882"/>
                  </a:lnTo>
                  <a:lnTo>
                    <a:pt x="5372" y="16588"/>
                  </a:lnTo>
                  <a:lnTo>
                    <a:pt x="4929" y="16882"/>
                  </a:lnTo>
                  <a:lnTo>
                    <a:pt x="4485" y="16882"/>
                  </a:lnTo>
                  <a:lnTo>
                    <a:pt x="4189" y="17745"/>
                  </a:lnTo>
                  <a:lnTo>
                    <a:pt x="4032" y="18294"/>
                  </a:lnTo>
                  <a:lnTo>
                    <a:pt x="3578" y="18294"/>
                  </a:lnTo>
                  <a:lnTo>
                    <a:pt x="3125" y="18294"/>
                  </a:lnTo>
                  <a:lnTo>
                    <a:pt x="2977" y="17745"/>
                  </a:lnTo>
                  <a:lnTo>
                    <a:pt x="2691" y="18000"/>
                  </a:lnTo>
                  <a:lnTo>
                    <a:pt x="2543" y="17745"/>
                  </a:lnTo>
                  <a:lnTo>
                    <a:pt x="2543" y="16588"/>
                  </a:lnTo>
                  <a:lnTo>
                    <a:pt x="2238" y="17471"/>
                  </a:lnTo>
                  <a:lnTo>
                    <a:pt x="1942" y="18000"/>
                  </a:lnTo>
                  <a:lnTo>
                    <a:pt x="1942" y="16882"/>
                  </a:lnTo>
                  <a:lnTo>
                    <a:pt x="887" y="17471"/>
                  </a:lnTo>
                  <a:lnTo>
                    <a:pt x="453" y="16314"/>
                  </a:lnTo>
                  <a:lnTo>
                    <a:pt x="0" y="16059"/>
                  </a:lnTo>
                  <a:lnTo>
                    <a:pt x="148" y="14902"/>
                  </a:lnTo>
                  <a:lnTo>
                    <a:pt x="296" y="14078"/>
                  </a:lnTo>
                  <a:lnTo>
                    <a:pt x="601" y="12961"/>
                  </a:lnTo>
                  <a:lnTo>
                    <a:pt x="1035" y="13216"/>
                  </a:lnTo>
                  <a:lnTo>
                    <a:pt x="1341" y="13510"/>
                  </a:lnTo>
                  <a:lnTo>
                    <a:pt x="1636" y="14078"/>
                  </a:lnTo>
                  <a:lnTo>
                    <a:pt x="1794" y="14373"/>
                  </a:lnTo>
                  <a:lnTo>
                    <a:pt x="2090" y="14078"/>
                  </a:lnTo>
                  <a:lnTo>
                    <a:pt x="2385" y="13510"/>
                  </a:lnTo>
                  <a:lnTo>
                    <a:pt x="2238" y="12667"/>
                  </a:lnTo>
                  <a:lnTo>
                    <a:pt x="2543" y="12667"/>
                  </a:lnTo>
                  <a:lnTo>
                    <a:pt x="2977" y="12667"/>
                  </a:lnTo>
                  <a:lnTo>
                    <a:pt x="3430" y="12667"/>
                  </a:lnTo>
                  <a:lnTo>
                    <a:pt x="3578" y="12961"/>
                  </a:lnTo>
                  <a:lnTo>
                    <a:pt x="3874" y="13216"/>
                  </a:lnTo>
                  <a:lnTo>
                    <a:pt x="4189" y="13510"/>
                  </a:lnTo>
                  <a:lnTo>
                    <a:pt x="4485" y="13510"/>
                  </a:lnTo>
                  <a:lnTo>
                    <a:pt x="4791" y="12961"/>
                  </a:lnTo>
                  <a:lnTo>
                    <a:pt x="5372" y="12098"/>
                  </a:lnTo>
                  <a:lnTo>
                    <a:pt x="5678" y="11804"/>
                  </a:lnTo>
                  <a:lnTo>
                    <a:pt x="6279" y="11804"/>
                  </a:lnTo>
                  <a:lnTo>
                    <a:pt x="6713" y="11549"/>
                  </a:lnTo>
                  <a:lnTo>
                    <a:pt x="6870" y="10686"/>
                  </a:lnTo>
                  <a:lnTo>
                    <a:pt x="7018" y="11275"/>
                  </a:lnTo>
                  <a:lnTo>
                    <a:pt x="7462" y="10980"/>
                  </a:lnTo>
                  <a:lnTo>
                    <a:pt x="7915" y="11275"/>
                  </a:lnTo>
                  <a:lnTo>
                    <a:pt x="8201" y="10980"/>
                  </a:lnTo>
                  <a:lnTo>
                    <a:pt x="8507" y="11549"/>
                  </a:lnTo>
                  <a:lnTo>
                    <a:pt x="8802" y="12392"/>
                  </a:lnTo>
                  <a:lnTo>
                    <a:pt x="9404" y="12098"/>
                  </a:lnTo>
                  <a:lnTo>
                    <a:pt x="9404" y="11549"/>
                  </a:lnTo>
                  <a:lnTo>
                    <a:pt x="9256" y="10980"/>
                  </a:lnTo>
                  <a:lnTo>
                    <a:pt x="8950" y="10686"/>
                  </a:lnTo>
                  <a:lnTo>
                    <a:pt x="8950" y="10412"/>
                  </a:lnTo>
                  <a:lnTo>
                    <a:pt x="9108" y="9863"/>
                  </a:lnTo>
                  <a:lnTo>
                    <a:pt x="8950" y="9294"/>
                  </a:lnTo>
                  <a:lnTo>
                    <a:pt x="8655" y="8431"/>
                  </a:lnTo>
                  <a:lnTo>
                    <a:pt x="8507" y="7588"/>
                  </a:lnTo>
                  <a:lnTo>
                    <a:pt x="8802" y="7020"/>
                  </a:lnTo>
                  <a:lnTo>
                    <a:pt x="9404" y="6471"/>
                  </a:lnTo>
                  <a:lnTo>
                    <a:pt x="10005" y="5902"/>
                  </a:lnTo>
                  <a:lnTo>
                    <a:pt x="10005" y="5078"/>
                  </a:lnTo>
                  <a:lnTo>
                    <a:pt x="10291" y="3922"/>
                  </a:lnTo>
                  <a:lnTo>
                    <a:pt x="10892" y="3922"/>
                  </a:lnTo>
                  <a:lnTo>
                    <a:pt x="11198" y="3667"/>
                  </a:lnTo>
                  <a:lnTo>
                    <a:pt x="11040" y="2510"/>
                  </a:lnTo>
                  <a:lnTo>
                    <a:pt x="11040" y="251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99000" y="3063960"/>
              <a:ext cx="472680" cy="352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3052"/>
                  </a:moveTo>
                  <a:lnTo>
                    <a:pt x="936" y="2329"/>
                  </a:lnTo>
                  <a:lnTo>
                    <a:pt x="1546" y="1928"/>
                  </a:lnTo>
                  <a:lnTo>
                    <a:pt x="1831" y="1526"/>
                  </a:lnTo>
                  <a:lnTo>
                    <a:pt x="2767" y="803"/>
                  </a:lnTo>
                  <a:lnTo>
                    <a:pt x="3683" y="402"/>
                  </a:lnTo>
                  <a:lnTo>
                    <a:pt x="4619" y="0"/>
                  </a:lnTo>
                  <a:lnTo>
                    <a:pt x="4903" y="1151"/>
                  </a:lnTo>
                  <a:lnTo>
                    <a:pt x="5209" y="1928"/>
                  </a:lnTo>
                  <a:lnTo>
                    <a:pt x="5534" y="1928"/>
                  </a:lnTo>
                  <a:lnTo>
                    <a:pt x="5534" y="1526"/>
                  </a:lnTo>
                  <a:lnTo>
                    <a:pt x="5839" y="1526"/>
                  </a:lnTo>
                  <a:lnTo>
                    <a:pt x="6450" y="1928"/>
                  </a:lnTo>
                  <a:lnTo>
                    <a:pt x="6755" y="2329"/>
                  </a:lnTo>
                  <a:lnTo>
                    <a:pt x="7386" y="2704"/>
                  </a:lnTo>
                  <a:lnTo>
                    <a:pt x="7996" y="2329"/>
                  </a:lnTo>
                  <a:lnTo>
                    <a:pt x="8281" y="1928"/>
                  </a:lnTo>
                  <a:lnTo>
                    <a:pt x="9217" y="1526"/>
                  </a:lnTo>
                  <a:lnTo>
                    <a:pt x="9827" y="1151"/>
                  </a:lnTo>
                  <a:lnTo>
                    <a:pt x="9827" y="803"/>
                  </a:lnTo>
                  <a:lnTo>
                    <a:pt x="10458" y="402"/>
                  </a:lnTo>
                  <a:lnTo>
                    <a:pt x="10763" y="803"/>
                  </a:lnTo>
                  <a:lnTo>
                    <a:pt x="11373" y="402"/>
                  </a:lnTo>
                  <a:lnTo>
                    <a:pt x="11699" y="0"/>
                  </a:lnTo>
                  <a:lnTo>
                    <a:pt x="12289" y="0"/>
                  </a:lnTo>
                  <a:lnTo>
                    <a:pt x="12594" y="402"/>
                  </a:lnTo>
                  <a:lnTo>
                    <a:pt x="12899" y="1151"/>
                  </a:lnTo>
                  <a:lnTo>
                    <a:pt x="13530" y="402"/>
                  </a:lnTo>
                  <a:lnTo>
                    <a:pt x="13835" y="402"/>
                  </a:lnTo>
                  <a:lnTo>
                    <a:pt x="13835" y="1151"/>
                  </a:lnTo>
                  <a:lnTo>
                    <a:pt x="14140" y="1928"/>
                  </a:lnTo>
                  <a:lnTo>
                    <a:pt x="14446" y="2329"/>
                  </a:lnTo>
                  <a:lnTo>
                    <a:pt x="15361" y="2329"/>
                  </a:lnTo>
                  <a:lnTo>
                    <a:pt x="15972" y="2329"/>
                  </a:lnTo>
                  <a:lnTo>
                    <a:pt x="16297" y="3052"/>
                  </a:lnTo>
                  <a:lnTo>
                    <a:pt x="16907" y="3454"/>
                  </a:lnTo>
                  <a:lnTo>
                    <a:pt x="17213" y="3454"/>
                  </a:lnTo>
                  <a:lnTo>
                    <a:pt x="16907" y="4230"/>
                  </a:lnTo>
                  <a:lnTo>
                    <a:pt x="16602" y="5382"/>
                  </a:lnTo>
                  <a:lnTo>
                    <a:pt x="16602" y="5756"/>
                  </a:lnTo>
                  <a:lnTo>
                    <a:pt x="16297" y="6934"/>
                  </a:lnTo>
                  <a:lnTo>
                    <a:pt x="16907" y="7282"/>
                  </a:lnTo>
                  <a:lnTo>
                    <a:pt x="17518" y="7282"/>
                  </a:lnTo>
                  <a:lnTo>
                    <a:pt x="18149" y="7684"/>
                  </a:lnTo>
                  <a:lnTo>
                    <a:pt x="18433" y="7684"/>
                  </a:lnTo>
                  <a:lnTo>
                    <a:pt x="18739" y="8086"/>
                  </a:lnTo>
                  <a:lnTo>
                    <a:pt x="19044" y="8862"/>
                  </a:lnTo>
                  <a:lnTo>
                    <a:pt x="19674" y="9585"/>
                  </a:lnTo>
                  <a:lnTo>
                    <a:pt x="19369" y="10388"/>
                  </a:lnTo>
                  <a:lnTo>
                    <a:pt x="19674" y="10790"/>
                  </a:lnTo>
                  <a:lnTo>
                    <a:pt x="19980" y="11513"/>
                  </a:lnTo>
                  <a:lnTo>
                    <a:pt x="19674" y="12691"/>
                  </a:lnTo>
                  <a:lnTo>
                    <a:pt x="19044" y="12691"/>
                  </a:lnTo>
                  <a:lnTo>
                    <a:pt x="18739" y="13815"/>
                  </a:lnTo>
                  <a:lnTo>
                    <a:pt x="18149" y="13815"/>
                  </a:lnTo>
                  <a:lnTo>
                    <a:pt x="17518" y="14217"/>
                  </a:lnTo>
                  <a:lnTo>
                    <a:pt x="16907" y="16145"/>
                  </a:lnTo>
                  <a:lnTo>
                    <a:pt x="16907" y="16921"/>
                  </a:lnTo>
                  <a:lnTo>
                    <a:pt x="17213" y="18447"/>
                  </a:lnTo>
                  <a:lnTo>
                    <a:pt x="17213" y="19572"/>
                  </a:lnTo>
                  <a:lnTo>
                    <a:pt x="15972" y="19973"/>
                  </a:lnTo>
                  <a:lnTo>
                    <a:pt x="15076" y="19973"/>
                  </a:lnTo>
                  <a:lnTo>
                    <a:pt x="14446" y="19197"/>
                  </a:lnTo>
                  <a:lnTo>
                    <a:pt x="14140" y="18447"/>
                  </a:lnTo>
                  <a:lnTo>
                    <a:pt x="13530" y="18046"/>
                  </a:lnTo>
                  <a:lnTo>
                    <a:pt x="12899" y="17671"/>
                  </a:lnTo>
                  <a:lnTo>
                    <a:pt x="12289" y="17269"/>
                  </a:lnTo>
                  <a:lnTo>
                    <a:pt x="11984" y="16921"/>
                  </a:lnTo>
                  <a:lnTo>
                    <a:pt x="11984" y="16145"/>
                  </a:lnTo>
                  <a:lnTo>
                    <a:pt x="11984" y="15341"/>
                  </a:lnTo>
                  <a:lnTo>
                    <a:pt x="11984" y="14993"/>
                  </a:lnTo>
                  <a:lnTo>
                    <a:pt x="11984" y="14217"/>
                  </a:lnTo>
                  <a:lnTo>
                    <a:pt x="12289" y="13440"/>
                  </a:lnTo>
                  <a:lnTo>
                    <a:pt x="11984" y="13440"/>
                  </a:lnTo>
                  <a:lnTo>
                    <a:pt x="11373" y="13815"/>
                  </a:lnTo>
                  <a:lnTo>
                    <a:pt x="11068" y="14217"/>
                  </a:lnTo>
                  <a:lnTo>
                    <a:pt x="10763" y="15341"/>
                  </a:lnTo>
                  <a:lnTo>
                    <a:pt x="9827" y="15341"/>
                  </a:lnTo>
                  <a:lnTo>
                    <a:pt x="8281" y="15341"/>
                  </a:lnTo>
                  <a:lnTo>
                    <a:pt x="8281" y="14993"/>
                  </a:lnTo>
                  <a:lnTo>
                    <a:pt x="8281" y="14618"/>
                  </a:lnTo>
                  <a:lnTo>
                    <a:pt x="8606" y="13815"/>
                  </a:lnTo>
                  <a:lnTo>
                    <a:pt x="7996" y="13815"/>
                  </a:lnTo>
                  <a:lnTo>
                    <a:pt x="8281" y="13039"/>
                  </a:lnTo>
                  <a:lnTo>
                    <a:pt x="8606" y="12316"/>
                  </a:lnTo>
                  <a:lnTo>
                    <a:pt x="8281" y="11914"/>
                  </a:lnTo>
                  <a:lnTo>
                    <a:pt x="7691" y="11111"/>
                  </a:lnTo>
                  <a:lnTo>
                    <a:pt x="7080" y="11513"/>
                  </a:lnTo>
                  <a:lnTo>
                    <a:pt x="6450" y="11111"/>
                  </a:lnTo>
                  <a:lnTo>
                    <a:pt x="6144" y="11513"/>
                  </a:lnTo>
                  <a:lnTo>
                    <a:pt x="6144" y="11111"/>
                  </a:lnTo>
                  <a:lnTo>
                    <a:pt x="5839" y="10388"/>
                  </a:lnTo>
                  <a:lnTo>
                    <a:pt x="5534" y="9585"/>
                  </a:lnTo>
                  <a:lnTo>
                    <a:pt x="4903" y="9210"/>
                  </a:lnTo>
                  <a:lnTo>
                    <a:pt x="4313" y="9210"/>
                  </a:lnTo>
                  <a:lnTo>
                    <a:pt x="4008" y="8862"/>
                  </a:lnTo>
                  <a:lnTo>
                    <a:pt x="4008" y="8086"/>
                  </a:lnTo>
                  <a:lnTo>
                    <a:pt x="4008" y="6934"/>
                  </a:lnTo>
                  <a:lnTo>
                    <a:pt x="3377" y="6158"/>
                  </a:lnTo>
                  <a:lnTo>
                    <a:pt x="2767" y="6560"/>
                  </a:lnTo>
                  <a:lnTo>
                    <a:pt x="1831" y="6934"/>
                  </a:lnTo>
                  <a:lnTo>
                    <a:pt x="1546" y="6560"/>
                  </a:lnTo>
                  <a:lnTo>
                    <a:pt x="936" y="6158"/>
                  </a:lnTo>
                  <a:lnTo>
                    <a:pt x="610" y="5756"/>
                  </a:lnTo>
                  <a:lnTo>
                    <a:pt x="610" y="5007"/>
                  </a:lnTo>
                  <a:lnTo>
                    <a:pt x="610" y="4230"/>
                  </a:lnTo>
                  <a:lnTo>
                    <a:pt x="0" y="3052"/>
                  </a:lnTo>
                  <a:lnTo>
                    <a:pt x="0" y="3052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70400" y="2010960"/>
              <a:ext cx="1009800" cy="882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874" y="19989"/>
                  </a:moveTo>
                  <a:lnTo>
                    <a:pt x="1579" y="19228"/>
                  </a:lnTo>
                  <a:lnTo>
                    <a:pt x="1436" y="18617"/>
                  </a:lnTo>
                  <a:lnTo>
                    <a:pt x="1436" y="17985"/>
                  </a:lnTo>
                  <a:lnTo>
                    <a:pt x="1436" y="17685"/>
                  </a:lnTo>
                  <a:lnTo>
                    <a:pt x="856" y="17374"/>
                  </a:lnTo>
                  <a:lnTo>
                    <a:pt x="143" y="17085"/>
                  </a:lnTo>
                  <a:lnTo>
                    <a:pt x="285" y="16602"/>
                  </a:lnTo>
                  <a:lnTo>
                    <a:pt x="580" y="15841"/>
                  </a:lnTo>
                  <a:lnTo>
                    <a:pt x="856" y="15391"/>
                  </a:lnTo>
                  <a:lnTo>
                    <a:pt x="1293" y="15070"/>
                  </a:lnTo>
                  <a:lnTo>
                    <a:pt x="1293" y="14459"/>
                  </a:lnTo>
                  <a:lnTo>
                    <a:pt x="1151" y="13698"/>
                  </a:lnTo>
                  <a:lnTo>
                    <a:pt x="999" y="12926"/>
                  </a:lnTo>
                  <a:lnTo>
                    <a:pt x="723" y="12304"/>
                  </a:lnTo>
                  <a:lnTo>
                    <a:pt x="285" y="11533"/>
                  </a:lnTo>
                  <a:lnTo>
                    <a:pt x="0" y="10611"/>
                  </a:lnTo>
                  <a:lnTo>
                    <a:pt x="2587" y="7846"/>
                  </a:lnTo>
                  <a:lnTo>
                    <a:pt x="3595" y="5391"/>
                  </a:lnTo>
                  <a:lnTo>
                    <a:pt x="3738" y="3837"/>
                  </a:lnTo>
                  <a:lnTo>
                    <a:pt x="7618" y="3076"/>
                  </a:lnTo>
                  <a:lnTo>
                    <a:pt x="9349" y="0"/>
                  </a:lnTo>
                  <a:lnTo>
                    <a:pt x="11935" y="772"/>
                  </a:lnTo>
                  <a:lnTo>
                    <a:pt x="14807" y="2144"/>
                  </a:lnTo>
                  <a:lnTo>
                    <a:pt x="17118" y="3548"/>
                  </a:lnTo>
                  <a:lnTo>
                    <a:pt x="18117" y="5080"/>
                  </a:lnTo>
                  <a:lnTo>
                    <a:pt x="18554" y="7996"/>
                  </a:lnTo>
                  <a:lnTo>
                    <a:pt x="19705" y="10150"/>
                  </a:lnTo>
                  <a:lnTo>
                    <a:pt x="19990" y="12004"/>
                  </a:lnTo>
                  <a:lnTo>
                    <a:pt x="19268" y="11072"/>
                  </a:lnTo>
                  <a:lnTo>
                    <a:pt x="18117" y="11844"/>
                  </a:lnTo>
                  <a:lnTo>
                    <a:pt x="18697" y="13076"/>
                  </a:lnTo>
                  <a:lnTo>
                    <a:pt x="18697" y="15230"/>
                  </a:lnTo>
                  <a:lnTo>
                    <a:pt x="16396" y="15230"/>
                  </a:lnTo>
                  <a:lnTo>
                    <a:pt x="15682" y="16002"/>
                  </a:lnTo>
                  <a:lnTo>
                    <a:pt x="15958" y="16763"/>
                  </a:lnTo>
                  <a:lnTo>
                    <a:pt x="12801" y="17985"/>
                  </a:lnTo>
                  <a:lnTo>
                    <a:pt x="10794" y="17985"/>
                  </a:lnTo>
                  <a:lnTo>
                    <a:pt x="10357" y="17846"/>
                  </a:lnTo>
                  <a:lnTo>
                    <a:pt x="5744" y="19228"/>
                  </a:lnTo>
                  <a:lnTo>
                    <a:pt x="3738" y="19228"/>
                  </a:lnTo>
                  <a:lnTo>
                    <a:pt x="1874" y="19989"/>
                  </a:lnTo>
                  <a:lnTo>
                    <a:pt x="1874" y="19989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20880" y="4108680"/>
              <a:ext cx="523440" cy="522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7764" y="19982"/>
                  </a:moveTo>
                  <a:lnTo>
                    <a:pt x="16645" y="19457"/>
                  </a:lnTo>
                  <a:lnTo>
                    <a:pt x="15527" y="18968"/>
                  </a:lnTo>
                  <a:lnTo>
                    <a:pt x="14720" y="18425"/>
                  </a:lnTo>
                  <a:lnTo>
                    <a:pt x="13877" y="17900"/>
                  </a:lnTo>
                  <a:lnTo>
                    <a:pt x="13034" y="17665"/>
                  </a:lnTo>
                  <a:lnTo>
                    <a:pt x="12484" y="17394"/>
                  </a:lnTo>
                  <a:lnTo>
                    <a:pt x="11641" y="17140"/>
                  </a:lnTo>
                  <a:lnTo>
                    <a:pt x="10834" y="16869"/>
                  </a:lnTo>
                  <a:lnTo>
                    <a:pt x="9716" y="16597"/>
                  </a:lnTo>
                  <a:lnTo>
                    <a:pt x="9441" y="16597"/>
                  </a:lnTo>
                  <a:lnTo>
                    <a:pt x="9148" y="16362"/>
                  </a:lnTo>
                  <a:lnTo>
                    <a:pt x="9148" y="16109"/>
                  </a:lnTo>
                  <a:lnTo>
                    <a:pt x="9716" y="16362"/>
                  </a:lnTo>
                  <a:lnTo>
                    <a:pt x="10541" y="16362"/>
                  </a:lnTo>
                  <a:lnTo>
                    <a:pt x="11109" y="16597"/>
                  </a:lnTo>
                  <a:lnTo>
                    <a:pt x="11641" y="16597"/>
                  </a:lnTo>
                  <a:lnTo>
                    <a:pt x="10541" y="15837"/>
                  </a:lnTo>
                  <a:lnTo>
                    <a:pt x="11109" y="15566"/>
                  </a:lnTo>
                  <a:lnTo>
                    <a:pt x="10834" y="15077"/>
                  </a:lnTo>
                  <a:lnTo>
                    <a:pt x="9441" y="14281"/>
                  </a:lnTo>
                  <a:lnTo>
                    <a:pt x="7773" y="12977"/>
                  </a:lnTo>
                  <a:lnTo>
                    <a:pt x="7223" y="11946"/>
                  </a:lnTo>
                  <a:lnTo>
                    <a:pt x="5830" y="10896"/>
                  </a:lnTo>
                  <a:lnTo>
                    <a:pt x="6104" y="10643"/>
                  </a:lnTo>
                  <a:lnTo>
                    <a:pt x="4455" y="10118"/>
                  </a:lnTo>
                  <a:lnTo>
                    <a:pt x="3611" y="8579"/>
                  </a:lnTo>
                  <a:lnTo>
                    <a:pt x="3043" y="7276"/>
                  </a:lnTo>
                  <a:lnTo>
                    <a:pt x="2493" y="6480"/>
                  </a:lnTo>
                  <a:lnTo>
                    <a:pt x="2493" y="5973"/>
                  </a:lnTo>
                  <a:lnTo>
                    <a:pt x="1393" y="5176"/>
                  </a:lnTo>
                  <a:lnTo>
                    <a:pt x="843" y="3620"/>
                  </a:lnTo>
                  <a:lnTo>
                    <a:pt x="550" y="2588"/>
                  </a:lnTo>
                  <a:lnTo>
                    <a:pt x="275" y="1557"/>
                  </a:lnTo>
                  <a:lnTo>
                    <a:pt x="275" y="1285"/>
                  </a:lnTo>
                  <a:lnTo>
                    <a:pt x="0" y="760"/>
                  </a:lnTo>
                  <a:lnTo>
                    <a:pt x="843" y="1285"/>
                  </a:lnTo>
                  <a:lnTo>
                    <a:pt x="1943" y="1557"/>
                  </a:lnTo>
                  <a:lnTo>
                    <a:pt x="3043" y="1557"/>
                  </a:lnTo>
                  <a:lnTo>
                    <a:pt x="3611" y="525"/>
                  </a:lnTo>
                  <a:lnTo>
                    <a:pt x="4161" y="271"/>
                  </a:lnTo>
                  <a:lnTo>
                    <a:pt x="5536" y="271"/>
                  </a:lnTo>
                  <a:lnTo>
                    <a:pt x="6948" y="525"/>
                  </a:lnTo>
                  <a:lnTo>
                    <a:pt x="8341" y="525"/>
                  </a:lnTo>
                  <a:lnTo>
                    <a:pt x="8598" y="271"/>
                  </a:lnTo>
                  <a:lnTo>
                    <a:pt x="9716" y="0"/>
                  </a:lnTo>
                  <a:lnTo>
                    <a:pt x="11934" y="271"/>
                  </a:lnTo>
                  <a:lnTo>
                    <a:pt x="13327" y="525"/>
                  </a:lnTo>
                  <a:lnTo>
                    <a:pt x="14720" y="760"/>
                  </a:lnTo>
                  <a:lnTo>
                    <a:pt x="16095" y="1285"/>
                  </a:lnTo>
                  <a:lnTo>
                    <a:pt x="16370" y="2081"/>
                  </a:lnTo>
                  <a:lnTo>
                    <a:pt x="17214" y="2081"/>
                  </a:lnTo>
                  <a:lnTo>
                    <a:pt x="18038" y="1828"/>
                  </a:lnTo>
                  <a:lnTo>
                    <a:pt x="18588" y="2081"/>
                  </a:lnTo>
                  <a:lnTo>
                    <a:pt x="18332" y="3385"/>
                  </a:lnTo>
                  <a:lnTo>
                    <a:pt x="17489" y="4145"/>
                  </a:lnTo>
                  <a:lnTo>
                    <a:pt x="17214" y="5448"/>
                  </a:lnTo>
                  <a:lnTo>
                    <a:pt x="17764" y="5719"/>
                  </a:lnTo>
                  <a:lnTo>
                    <a:pt x="18332" y="7005"/>
                  </a:lnTo>
                  <a:lnTo>
                    <a:pt x="19138" y="7529"/>
                  </a:lnTo>
                  <a:lnTo>
                    <a:pt x="19982" y="8814"/>
                  </a:lnTo>
                  <a:lnTo>
                    <a:pt x="19707" y="10118"/>
                  </a:lnTo>
                  <a:lnTo>
                    <a:pt x="19138" y="10389"/>
                  </a:lnTo>
                  <a:lnTo>
                    <a:pt x="19138" y="10896"/>
                  </a:lnTo>
                  <a:lnTo>
                    <a:pt x="18588" y="11674"/>
                  </a:lnTo>
                  <a:lnTo>
                    <a:pt x="18588" y="11946"/>
                  </a:lnTo>
                  <a:lnTo>
                    <a:pt x="17764" y="13249"/>
                  </a:lnTo>
                  <a:lnTo>
                    <a:pt x="17489" y="14805"/>
                  </a:lnTo>
                  <a:lnTo>
                    <a:pt x="17214" y="16597"/>
                  </a:lnTo>
                  <a:lnTo>
                    <a:pt x="17764" y="17394"/>
                  </a:lnTo>
                  <a:lnTo>
                    <a:pt x="18588" y="17900"/>
                  </a:lnTo>
                  <a:lnTo>
                    <a:pt x="18332" y="18697"/>
                  </a:lnTo>
                  <a:lnTo>
                    <a:pt x="17764" y="19982"/>
                  </a:lnTo>
                  <a:lnTo>
                    <a:pt x="17764" y="19982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80640" y="4108680"/>
              <a:ext cx="879840" cy="604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830" y="3365"/>
                  </a:moveTo>
                  <a:lnTo>
                    <a:pt x="830" y="3365"/>
                  </a:lnTo>
                  <a:lnTo>
                    <a:pt x="1485" y="3818"/>
                  </a:lnTo>
                  <a:lnTo>
                    <a:pt x="2151" y="4053"/>
                  </a:lnTo>
                  <a:lnTo>
                    <a:pt x="1648" y="4710"/>
                  </a:lnTo>
                  <a:lnTo>
                    <a:pt x="1648" y="5383"/>
                  </a:lnTo>
                  <a:lnTo>
                    <a:pt x="2314" y="5383"/>
                  </a:lnTo>
                  <a:lnTo>
                    <a:pt x="2980" y="5383"/>
                  </a:lnTo>
                  <a:lnTo>
                    <a:pt x="3635" y="5383"/>
                  </a:lnTo>
                  <a:lnTo>
                    <a:pt x="4127" y="5164"/>
                  </a:lnTo>
                  <a:lnTo>
                    <a:pt x="4793" y="5164"/>
                  </a:lnTo>
                  <a:lnTo>
                    <a:pt x="5284" y="5383"/>
                  </a:lnTo>
                  <a:lnTo>
                    <a:pt x="5786" y="5383"/>
                  </a:lnTo>
                  <a:lnTo>
                    <a:pt x="6441" y="5383"/>
                  </a:lnTo>
                  <a:lnTo>
                    <a:pt x="6943" y="4945"/>
                  </a:lnTo>
                  <a:lnTo>
                    <a:pt x="7434" y="4945"/>
                  </a:lnTo>
                  <a:lnTo>
                    <a:pt x="8100" y="4710"/>
                  </a:lnTo>
                  <a:lnTo>
                    <a:pt x="8592" y="4710"/>
                  </a:lnTo>
                  <a:lnTo>
                    <a:pt x="9083" y="4710"/>
                  </a:lnTo>
                  <a:lnTo>
                    <a:pt x="9913" y="4945"/>
                  </a:lnTo>
                  <a:lnTo>
                    <a:pt x="10415" y="4476"/>
                  </a:lnTo>
                  <a:lnTo>
                    <a:pt x="10906" y="3818"/>
                  </a:lnTo>
                  <a:lnTo>
                    <a:pt x="11234" y="3130"/>
                  </a:lnTo>
                  <a:lnTo>
                    <a:pt x="11397" y="2473"/>
                  </a:lnTo>
                  <a:lnTo>
                    <a:pt x="11889" y="2003"/>
                  </a:lnTo>
                  <a:lnTo>
                    <a:pt x="12555" y="1581"/>
                  </a:lnTo>
                  <a:lnTo>
                    <a:pt x="13046" y="1111"/>
                  </a:lnTo>
                  <a:lnTo>
                    <a:pt x="13712" y="454"/>
                  </a:lnTo>
                  <a:lnTo>
                    <a:pt x="14378" y="235"/>
                  </a:lnTo>
                  <a:lnTo>
                    <a:pt x="14869" y="235"/>
                  </a:lnTo>
                  <a:lnTo>
                    <a:pt x="15524" y="235"/>
                  </a:lnTo>
                  <a:lnTo>
                    <a:pt x="15862" y="454"/>
                  </a:lnTo>
                  <a:lnTo>
                    <a:pt x="16190" y="454"/>
                  </a:lnTo>
                  <a:lnTo>
                    <a:pt x="16354" y="235"/>
                  </a:lnTo>
                  <a:lnTo>
                    <a:pt x="16692" y="454"/>
                  </a:lnTo>
                  <a:lnTo>
                    <a:pt x="17009" y="235"/>
                  </a:lnTo>
                  <a:lnTo>
                    <a:pt x="17172" y="0"/>
                  </a:lnTo>
                  <a:lnTo>
                    <a:pt x="17511" y="657"/>
                  </a:lnTo>
                  <a:lnTo>
                    <a:pt x="18002" y="892"/>
                  </a:lnTo>
                  <a:lnTo>
                    <a:pt x="18504" y="1111"/>
                  </a:lnTo>
                  <a:lnTo>
                    <a:pt x="18832" y="1111"/>
                  </a:lnTo>
                  <a:lnTo>
                    <a:pt x="19487" y="892"/>
                  </a:lnTo>
                  <a:lnTo>
                    <a:pt x="19662" y="1111"/>
                  </a:lnTo>
                  <a:lnTo>
                    <a:pt x="19825" y="1581"/>
                  </a:lnTo>
                  <a:lnTo>
                    <a:pt x="19989" y="2003"/>
                  </a:lnTo>
                  <a:lnTo>
                    <a:pt x="19825" y="2473"/>
                  </a:lnTo>
                  <a:lnTo>
                    <a:pt x="19487" y="2926"/>
                  </a:lnTo>
                  <a:lnTo>
                    <a:pt x="19323" y="2926"/>
                  </a:lnTo>
                  <a:lnTo>
                    <a:pt x="19007" y="3130"/>
                  </a:lnTo>
                  <a:lnTo>
                    <a:pt x="18668" y="3365"/>
                  </a:lnTo>
                  <a:lnTo>
                    <a:pt x="18504" y="3818"/>
                  </a:lnTo>
                  <a:lnTo>
                    <a:pt x="18504" y="4272"/>
                  </a:lnTo>
                  <a:lnTo>
                    <a:pt x="18341" y="4710"/>
                  </a:lnTo>
                  <a:lnTo>
                    <a:pt x="18341" y="5383"/>
                  </a:lnTo>
                  <a:lnTo>
                    <a:pt x="18341" y="5837"/>
                  </a:lnTo>
                  <a:lnTo>
                    <a:pt x="18504" y="6510"/>
                  </a:lnTo>
                  <a:lnTo>
                    <a:pt x="18504" y="6948"/>
                  </a:lnTo>
                  <a:lnTo>
                    <a:pt x="18341" y="7418"/>
                  </a:lnTo>
                  <a:lnTo>
                    <a:pt x="18002" y="7856"/>
                  </a:lnTo>
                  <a:lnTo>
                    <a:pt x="17675" y="8529"/>
                  </a:lnTo>
                  <a:lnTo>
                    <a:pt x="17347" y="9202"/>
                  </a:lnTo>
                  <a:lnTo>
                    <a:pt x="17675" y="9421"/>
                  </a:lnTo>
                  <a:lnTo>
                    <a:pt x="17838" y="9202"/>
                  </a:lnTo>
                  <a:lnTo>
                    <a:pt x="18177" y="9421"/>
                  </a:lnTo>
                  <a:lnTo>
                    <a:pt x="18504" y="9656"/>
                  </a:lnTo>
                  <a:lnTo>
                    <a:pt x="18668" y="10329"/>
                  </a:lnTo>
                  <a:lnTo>
                    <a:pt x="19007" y="10563"/>
                  </a:lnTo>
                  <a:lnTo>
                    <a:pt x="19323" y="11002"/>
                  </a:lnTo>
                  <a:lnTo>
                    <a:pt x="19487" y="11455"/>
                  </a:lnTo>
                  <a:lnTo>
                    <a:pt x="19159" y="11894"/>
                  </a:lnTo>
                  <a:lnTo>
                    <a:pt x="18668" y="12128"/>
                  </a:lnTo>
                  <a:lnTo>
                    <a:pt x="18177" y="12128"/>
                  </a:lnTo>
                  <a:lnTo>
                    <a:pt x="17838" y="12128"/>
                  </a:lnTo>
                  <a:lnTo>
                    <a:pt x="17511" y="11674"/>
                  </a:lnTo>
                  <a:lnTo>
                    <a:pt x="17009" y="11674"/>
                  </a:lnTo>
                  <a:lnTo>
                    <a:pt x="16354" y="11894"/>
                  </a:lnTo>
                  <a:lnTo>
                    <a:pt x="16190" y="12347"/>
                  </a:lnTo>
                  <a:lnTo>
                    <a:pt x="15688" y="12801"/>
                  </a:lnTo>
                  <a:lnTo>
                    <a:pt x="15197" y="13036"/>
                  </a:lnTo>
                  <a:lnTo>
                    <a:pt x="15044" y="13474"/>
                  </a:lnTo>
                  <a:lnTo>
                    <a:pt x="14869" y="13928"/>
                  </a:lnTo>
                  <a:lnTo>
                    <a:pt x="14378" y="14147"/>
                  </a:lnTo>
                  <a:lnTo>
                    <a:pt x="14039" y="14382"/>
                  </a:lnTo>
                  <a:lnTo>
                    <a:pt x="13712" y="15039"/>
                  </a:lnTo>
                  <a:lnTo>
                    <a:pt x="13712" y="15509"/>
                  </a:lnTo>
                  <a:lnTo>
                    <a:pt x="14039" y="15931"/>
                  </a:lnTo>
                  <a:lnTo>
                    <a:pt x="14203" y="16401"/>
                  </a:lnTo>
                  <a:lnTo>
                    <a:pt x="14203" y="16854"/>
                  </a:lnTo>
                  <a:lnTo>
                    <a:pt x="13876" y="17058"/>
                  </a:lnTo>
                  <a:lnTo>
                    <a:pt x="13548" y="17512"/>
                  </a:lnTo>
                  <a:lnTo>
                    <a:pt x="13210" y="17512"/>
                  </a:lnTo>
                  <a:lnTo>
                    <a:pt x="12729" y="17746"/>
                  </a:lnTo>
                  <a:lnTo>
                    <a:pt x="12391" y="17981"/>
                  </a:lnTo>
                  <a:lnTo>
                    <a:pt x="11889" y="18404"/>
                  </a:lnTo>
                  <a:lnTo>
                    <a:pt x="11397" y="18404"/>
                  </a:lnTo>
                  <a:lnTo>
                    <a:pt x="10906" y="18185"/>
                  </a:lnTo>
                  <a:lnTo>
                    <a:pt x="10415" y="18185"/>
                  </a:lnTo>
                  <a:lnTo>
                    <a:pt x="10076" y="17981"/>
                  </a:lnTo>
                  <a:lnTo>
                    <a:pt x="9913" y="18404"/>
                  </a:lnTo>
                  <a:lnTo>
                    <a:pt x="9749" y="18185"/>
                  </a:lnTo>
                  <a:lnTo>
                    <a:pt x="9247" y="17981"/>
                  </a:lnTo>
                  <a:lnTo>
                    <a:pt x="8930" y="17512"/>
                  </a:lnTo>
                  <a:lnTo>
                    <a:pt x="8428" y="17746"/>
                  </a:lnTo>
                  <a:lnTo>
                    <a:pt x="8100" y="17981"/>
                  </a:lnTo>
                  <a:lnTo>
                    <a:pt x="7926" y="17512"/>
                  </a:lnTo>
                  <a:lnTo>
                    <a:pt x="7762" y="17981"/>
                  </a:lnTo>
                  <a:lnTo>
                    <a:pt x="7434" y="17981"/>
                  </a:lnTo>
                  <a:lnTo>
                    <a:pt x="7434" y="18404"/>
                  </a:lnTo>
                  <a:lnTo>
                    <a:pt x="7096" y="18638"/>
                  </a:lnTo>
                  <a:lnTo>
                    <a:pt x="6943" y="18404"/>
                  </a:lnTo>
                  <a:lnTo>
                    <a:pt x="6441" y="18873"/>
                  </a:lnTo>
                  <a:lnTo>
                    <a:pt x="5950" y="19327"/>
                  </a:lnTo>
                  <a:lnTo>
                    <a:pt x="5611" y="19327"/>
                  </a:lnTo>
                  <a:lnTo>
                    <a:pt x="5120" y="19327"/>
                  </a:lnTo>
                  <a:lnTo>
                    <a:pt x="4793" y="19750"/>
                  </a:lnTo>
                  <a:lnTo>
                    <a:pt x="4629" y="19984"/>
                  </a:lnTo>
                  <a:lnTo>
                    <a:pt x="3963" y="19984"/>
                  </a:lnTo>
                  <a:lnTo>
                    <a:pt x="3799" y="19531"/>
                  </a:lnTo>
                  <a:lnTo>
                    <a:pt x="3635" y="18873"/>
                  </a:lnTo>
                  <a:lnTo>
                    <a:pt x="3799" y="18404"/>
                  </a:lnTo>
                  <a:lnTo>
                    <a:pt x="3635" y="17277"/>
                  </a:lnTo>
                  <a:lnTo>
                    <a:pt x="3133" y="16401"/>
                  </a:lnTo>
                  <a:lnTo>
                    <a:pt x="2817" y="16401"/>
                  </a:lnTo>
                  <a:lnTo>
                    <a:pt x="1987" y="15931"/>
                  </a:lnTo>
                  <a:lnTo>
                    <a:pt x="1812" y="15712"/>
                  </a:lnTo>
                  <a:lnTo>
                    <a:pt x="1648" y="15039"/>
                  </a:lnTo>
                  <a:lnTo>
                    <a:pt x="1648" y="14382"/>
                  </a:lnTo>
                  <a:lnTo>
                    <a:pt x="1648" y="13928"/>
                  </a:lnTo>
                  <a:lnTo>
                    <a:pt x="1321" y="13239"/>
                  </a:lnTo>
                  <a:lnTo>
                    <a:pt x="1157" y="13036"/>
                  </a:lnTo>
                  <a:lnTo>
                    <a:pt x="1157" y="12567"/>
                  </a:lnTo>
                  <a:lnTo>
                    <a:pt x="1157" y="12128"/>
                  </a:lnTo>
                  <a:lnTo>
                    <a:pt x="1321" y="11674"/>
                  </a:lnTo>
                  <a:lnTo>
                    <a:pt x="1485" y="11455"/>
                  </a:lnTo>
                  <a:lnTo>
                    <a:pt x="1987" y="11221"/>
                  </a:lnTo>
                  <a:lnTo>
                    <a:pt x="1987" y="11002"/>
                  </a:lnTo>
                  <a:lnTo>
                    <a:pt x="2151" y="10563"/>
                  </a:lnTo>
                  <a:lnTo>
                    <a:pt x="2314" y="9890"/>
                  </a:lnTo>
                  <a:lnTo>
                    <a:pt x="2151" y="9202"/>
                  </a:lnTo>
                  <a:lnTo>
                    <a:pt x="1987" y="8983"/>
                  </a:lnTo>
                  <a:lnTo>
                    <a:pt x="1648" y="8529"/>
                  </a:lnTo>
                  <a:lnTo>
                    <a:pt x="1157" y="8310"/>
                  </a:lnTo>
                  <a:lnTo>
                    <a:pt x="830" y="7856"/>
                  </a:lnTo>
                  <a:lnTo>
                    <a:pt x="666" y="7418"/>
                  </a:lnTo>
                  <a:lnTo>
                    <a:pt x="328" y="6948"/>
                  </a:lnTo>
                  <a:lnTo>
                    <a:pt x="164" y="6510"/>
                  </a:lnTo>
                  <a:lnTo>
                    <a:pt x="164" y="5603"/>
                  </a:lnTo>
                  <a:lnTo>
                    <a:pt x="0" y="5383"/>
                  </a:lnTo>
                  <a:lnTo>
                    <a:pt x="164" y="4710"/>
                  </a:lnTo>
                  <a:lnTo>
                    <a:pt x="502" y="3818"/>
                  </a:lnTo>
                  <a:lnTo>
                    <a:pt x="830" y="3365"/>
                  </a:lnTo>
                  <a:lnTo>
                    <a:pt x="830" y="3365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84040" y="5662800"/>
              <a:ext cx="291600" cy="177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4975" y="19947"/>
                  </a:moveTo>
                  <a:lnTo>
                    <a:pt x="1516" y="16898"/>
                  </a:lnTo>
                  <a:lnTo>
                    <a:pt x="0" y="13850"/>
                  </a:lnTo>
                  <a:lnTo>
                    <a:pt x="4975" y="6096"/>
                  </a:lnTo>
                  <a:lnTo>
                    <a:pt x="8501" y="6898"/>
                  </a:lnTo>
                  <a:lnTo>
                    <a:pt x="19967" y="0"/>
                  </a:lnTo>
                  <a:lnTo>
                    <a:pt x="12982" y="6898"/>
                  </a:lnTo>
                  <a:lnTo>
                    <a:pt x="14498" y="13102"/>
                  </a:lnTo>
                  <a:lnTo>
                    <a:pt x="10016" y="14545"/>
                  </a:lnTo>
                  <a:lnTo>
                    <a:pt x="6985" y="19947"/>
                  </a:lnTo>
                  <a:lnTo>
                    <a:pt x="4975" y="19947"/>
                  </a:lnTo>
                  <a:lnTo>
                    <a:pt x="4975" y="19947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23160" y="3925080"/>
              <a:ext cx="777960" cy="598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1019" y="237"/>
                  </a:moveTo>
                  <a:lnTo>
                    <a:pt x="11402" y="665"/>
                  </a:lnTo>
                  <a:lnTo>
                    <a:pt x="11958" y="1139"/>
                  </a:lnTo>
                  <a:lnTo>
                    <a:pt x="12131" y="1377"/>
                  </a:lnTo>
                  <a:lnTo>
                    <a:pt x="12514" y="1820"/>
                  </a:lnTo>
                  <a:lnTo>
                    <a:pt x="13070" y="2041"/>
                  </a:lnTo>
                  <a:lnTo>
                    <a:pt x="13267" y="2500"/>
                  </a:lnTo>
                  <a:lnTo>
                    <a:pt x="13638" y="2959"/>
                  </a:lnTo>
                  <a:lnTo>
                    <a:pt x="14392" y="3165"/>
                  </a:lnTo>
                  <a:lnTo>
                    <a:pt x="14935" y="3402"/>
                  </a:lnTo>
                  <a:lnTo>
                    <a:pt x="15689" y="3402"/>
                  </a:lnTo>
                  <a:lnTo>
                    <a:pt x="16257" y="3402"/>
                  </a:lnTo>
                  <a:lnTo>
                    <a:pt x="16998" y="3402"/>
                  </a:lnTo>
                  <a:lnTo>
                    <a:pt x="17554" y="3165"/>
                  </a:lnTo>
                  <a:lnTo>
                    <a:pt x="17752" y="2737"/>
                  </a:lnTo>
                  <a:lnTo>
                    <a:pt x="18122" y="2263"/>
                  </a:lnTo>
                  <a:lnTo>
                    <a:pt x="18876" y="1820"/>
                  </a:lnTo>
                  <a:lnTo>
                    <a:pt x="19049" y="4098"/>
                  </a:lnTo>
                  <a:lnTo>
                    <a:pt x="18691" y="4541"/>
                  </a:lnTo>
                  <a:lnTo>
                    <a:pt x="18876" y="4763"/>
                  </a:lnTo>
                  <a:lnTo>
                    <a:pt x="19049" y="5237"/>
                  </a:lnTo>
                  <a:lnTo>
                    <a:pt x="19988" y="5665"/>
                  </a:lnTo>
                  <a:lnTo>
                    <a:pt x="19988" y="5902"/>
                  </a:lnTo>
                  <a:lnTo>
                    <a:pt x="19234" y="5902"/>
                  </a:lnTo>
                  <a:lnTo>
                    <a:pt x="18493" y="7041"/>
                  </a:lnTo>
                  <a:lnTo>
                    <a:pt x="18493" y="7263"/>
                  </a:lnTo>
                  <a:lnTo>
                    <a:pt x="17554" y="6820"/>
                  </a:lnTo>
                  <a:lnTo>
                    <a:pt x="16615" y="6582"/>
                  </a:lnTo>
                  <a:lnTo>
                    <a:pt x="15689" y="6361"/>
                  </a:lnTo>
                  <a:lnTo>
                    <a:pt x="14206" y="6139"/>
                  </a:lnTo>
                  <a:lnTo>
                    <a:pt x="13453" y="6361"/>
                  </a:lnTo>
                  <a:lnTo>
                    <a:pt x="13070" y="6582"/>
                  </a:lnTo>
                  <a:lnTo>
                    <a:pt x="12341" y="6582"/>
                  </a:lnTo>
                  <a:lnTo>
                    <a:pt x="11402" y="6361"/>
                  </a:lnTo>
                  <a:lnTo>
                    <a:pt x="10463" y="6361"/>
                  </a:lnTo>
                  <a:lnTo>
                    <a:pt x="10080" y="6582"/>
                  </a:lnTo>
                  <a:lnTo>
                    <a:pt x="9722" y="7500"/>
                  </a:lnTo>
                  <a:lnTo>
                    <a:pt x="8968" y="7500"/>
                  </a:lnTo>
                  <a:lnTo>
                    <a:pt x="8215" y="7263"/>
                  </a:lnTo>
                  <a:lnTo>
                    <a:pt x="7647" y="6820"/>
                  </a:lnTo>
                  <a:lnTo>
                    <a:pt x="7857" y="7263"/>
                  </a:lnTo>
                  <a:lnTo>
                    <a:pt x="7857" y="7500"/>
                  </a:lnTo>
                  <a:lnTo>
                    <a:pt x="8030" y="8402"/>
                  </a:lnTo>
                  <a:lnTo>
                    <a:pt x="8215" y="9320"/>
                  </a:lnTo>
                  <a:lnTo>
                    <a:pt x="8586" y="10665"/>
                  </a:lnTo>
                  <a:lnTo>
                    <a:pt x="9339" y="11345"/>
                  </a:lnTo>
                  <a:lnTo>
                    <a:pt x="9339" y="11820"/>
                  </a:lnTo>
                  <a:lnTo>
                    <a:pt x="9722" y="12484"/>
                  </a:lnTo>
                  <a:lnTo>
                    <a:pt x="10080" y="13623"/>
                  </a:lnTo>
                  <a:lnTo>
                    <a:pt x="10649" y="14984"/>
                  </a:lnTo>
                  <a:lnTo>
                    <a:pt x="11773" y="15443"/>
                  </a:lnTo>
                  <a:lnTo>
                    <a:pt x="11587" y="15665"/>
                  </a:lnTo>
                  <a:lnTo>
                    <a:pt x="12514" y="16582"/>
                  </a:lnTo>
                  <a:lnTo>
                    <a:pt x="12884" y="17484"/>
                  </a:lnTo>
                  <a:lnTo>
                    <a:pt x="14009" y="18623"/>
                  </a:lnTo>
                  <a:lnTo>
                    <a:pt x="14935" y="19320"/>
                  </a:lnTo>
                  <a:lnTo>
                    <a:pt x="15133" y="19747"/>
                  </a:lnTo>
                  <a:lnTo>
                    <a:pt x="14750" y="19984"/>
                  </a:lnTo>
                  <a:lnTo>
                    <a:pt x="13823" y="19320"/>
                  </a:lnTo>
                  <a:lnTo>
                    <a:pt x="13070" y="18623"/>
                  </a:lnTo>
                  <a:lnTo>
                    <a:pt x="12341" y="18165"/>
                  </a:lnTo>
                  <a:lnTo>
                    <a:pt x="11773" y="18165"/>
                  </a:lnTo>
                  <a:lnTo>
                    <a:pt x="11204" y="17722"/>
                  </a:lnTo>
                  <a:lnTo>
                    <a:pt x="10834" y="18165"/>
                  </a:lnTo>
                  <a:lnTo>
                    <a:pt x="10463" y="18386"/>
                  </a:lnTo>
                  <a:lnTo>
                    <a:pt x="10080" y="18165"/>
                  </a:lnTo>
                  <a:lnTo>
                    <a:pt x="9722" y="18165"/>
                  </a:lnTo>
                  <a:lnTo>
                    <a:pt x="9524" y="17722"/>
                  </a:lnTo>
                  <a:lnTo>
                    <a:pt x="9339" y="17247"/>
                  </a:lnTo>
                  <a:lnTo>
                    <a:pt x="8968" y="17025"/>
                  </a:lnTo>
                  <a:lnTo>
                    <a:pt x="8783" y="16820"/>
                  </a:lnTo>
                  <a:lnTo>
                    <a:pt x="8400" y="16582"/>
                  </a:lnTo>
                  <a:lnTo>
                    <a:pt x="8030" y="16345"/>
                  </a:lnTo>
                  <a:lnTo>
                    <a:pt x="7647" y="15886"/>
                  </a:lnTo>
                  <a:lnTo>
                    <a:pt x="7288" y="15443"/>
                  </a:lnTo>
                  <a:lnTo>
                    <a:pt x="6918" y="15222"/>
                  </a:lnTo>
                  <a:lnTo>
                    <a:pt x="6535" y="14541"/>
                  </a:lnTo>
                  <a:lnTo>
                    <a:pt x="6350" y="14082"/>
                  </a:lnTo>
                  <a:lnTo>
                    <a:pt x="6720" y="13623"/>
                  </a:lnTo>
                  <a:lnTo>
                    <a:pt x="6918" y="13402"/>
                  </a:lnTo>
                  <a:lnTo>
                    <a:pt x="7474" y="13845"/>
                  </a:lnTo>
                  <a:lnTo>
                    <a:pt x="7288" y="13402"/>
                  </a:lnTo>
                  <a:lnTo>
                    <a:pt x="6720" y="12943"/>
                  </a:lnTo>
                  <a:lnTo>
                    <a:pt x="6164" y="12722"/>
                  </a:lnTo>
                  <a:lnTo>
                    <a:pt x="5781" y="12484"/>
                  </a:lnTo>
                  <a:lnTo>
                    <a:pt x="5423" y="11820"/>
                  </a:lnTo>
                  <a:lnTo>
                    <a:pt x="5238" y="11345"/>
                  </a:lnTo>
                  <a:lnTo>
                    <a:pt x="5053" y="10902"/>
                  </a:lnTo>
                  <a:lnTo>
                    <a:pt x="5053" y="10459"/>
                  </a:lnTo>
                  <a:lnTo>
                    <a:pt x="5053" y="9541"/>
                  </a:lnTo>
                  <a:lnTo>
                    <a:pt x="4670" y="9082"/>
                  </a:lnTo>
                  <a:lnTo>
                    <a:pt x="4299" y="8639"/>
                  </a:lnTo>
                  <a:lnTo>
                    <a:pt x="3916" y="8165"/>
                  </a:lnTo>
                  <a:lnTo>
                    <a:pt x="3731" y="7959"/>
                  </a:lnTo>
                  <a:lnTo>
                    <a:pt x="3545" y="7722"/>
                  </a:lnTo>
                  <a:lnTo>
                    <a:pt x="2989" y="7959"/>
                  </a:lnTo>
                  <a:lnTo>
                    <a:pt x="2804" y="8639"/>
                  </a:lnTo>
                  <a:lnTo>
                    <a:pt x="2619" y="9320"/>
                  </a:lnTo>
                  <a:lnTo>
                    <a:pt x="2236" y="9763"/>
                  </a:lnTo>
                  <a:lnTo>
                    <a:pt x="2051" y="10000"/>
                  </a:lnTo>
                  <a:lnTo>
                    <a:pt x="1865" y="10665"/>
                  </a:lnTo>
                  <a:lnTo>
                    <a:pt x="1680" y="11345"/>
                  </a:lnTo>
                  <a:lnTo>
                    <a:pt x="1495" y="10902"/>
                  </a:lnTo>
                  <a:lnTo>
                    <a:pt x="1112" y="10222"/>
                  </a:lnTo>
                  <a:lnTo>
                    <a:pt x="754" y="9320"/>
                  </a:lnTo>
                  <a:lnTo>
                    <a:pt x="371" y="8165"/>
                  </a:lnTo>
                  <a:lnTo>
                    <a:pt x="185" y="7722"/>
                  </a:lnTo>
                  <a:lnTo>
                    <a:pt x="0" y="7263"/>
                  </a:lnTo>
                  <a:lnTo>
                    <a:pt x="185" y="6582"/>
                  </a:lnTo>
                  <a:lnTo>
                    <a:pt x="568" y="6582"/>
                  </a:lnTo>
                  <a:lnTo>
                    <a:pt x="939" y="6139"/>
                  </a:lnTo>
                  <a:lnTo>
                    <a:pt x="1297" y="6139"/>
                  </a:lnTo>
                  <a:lnTo>
                    <a:pt x="1495" y="6139"/>
                  </a:lnTo>
                  <a:lnTo>
                    <a:pt x="2051" y="5665"/>
                  </a:lnTo>
                  <a:lnTo>
                    <a:pt x="2804" y="5459"/>
                  </a:lnTo>
                  <a:lnTo>
                    <a:pt x="2989" y="5459"/>
                  </a:lnTo>
                  <a:lnTo>
                    <a:pt x="3916" y="4763"/>
                  </a:lnTo>
                  <a:lnTo>
                    <a:pt x="4670" y="5237"/>
                  </a:lnTo>
                  <a:lnTo>
                    <a:pt x="4670" y="5000"/>
                  </a:lnTo>
                  <a:lnTo>
                    <a:pt x="5238" y="5237"/>
                  </a:lnTo>
                  <a:lnTo>
                    <a:pt x="5596" y="4763"/>
                  </a:lnTo>
                  <a:lnTo>
                    <a:pt x="5596" y="4320"/>
                  </a:lnTo>
                  <a:lnTo>
                    <a:pt x="5596" y="3877"/>
                  </a:lnTo>
                  <a:lnTo>
                    <a:pt x="6720" y="3402"/>
                  </a:lnTo>
                  <a:lnTo>
                    <a:pt x="6918" y="3165"/>
                  </a:lnTo>
                  <a:lnTo>
                    <a:pt x="6918" y="2041"/>
                  </a:lnTo>
                  <a:lnTo>
                    <a:pt x="6918" y="1820"/>
                  </a:lnTo>
                  <a:lnTo>
                    <a:pt x="7288" y="1598"/>
                  </a:lnTo>
                  <a:lnTo>
                    <a:pt x="7474" y="1598"/>
                  </a:lnTo>
                  <a:lnTo>
                    <a:pt x="8783" y="902"/>
                  </a:lnTo>
                  <a:lnTo>
                    <a:pt x="8968" y="665"/>
                  </a:lnTo>
                  <a:lnTo>
                    <a:pt x="8968" y="237"/>
                  </a:lnTo>
                  <a:lnTo>
                    <a:pt x="9722" y="0"/>
                  </a:lnTo>
                  <a:lnTo>
                    <a:pt x="10266" y="237"/>
                  </a:lnTo>
                  <a:lnTo>
                    <a:pt x="11019" y="237"/>
                  </a:lnTo>
                  <a:lnTo>
                    <a:pt x="11019" y="237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82280" y="1902600"/>
              <a:ext cx="327600" cy="549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4435" y="19484"/>
                  </a:moveTo>
                  <a:lnTo>
                    <a:pt x="3994" y="18761"/>
                  </a:lnTo>
                  <a:lnTo>
                    <a:pt x="3994" y="18503"/>
                  </a:lnTo>
                  <a:lnTo>
                    <a:pt x="3994" y="18021"/>
                  </a:lnTo>
                  <a:lnTo>
                    <a:pt x="3994" y="17780"/>
                  </a:lnTo>
                  <a:lnTo>
                    <a:pt x="3994" y="17522"/>
                  </a:lnTo>
                  <a:lnTo>
                    <a:pt x="3994" y="17263"/>
                  </a:lnTo>
                  <a:lnTo>
                    <a:pt x="3994" y="16799"/>
                  </a:lnTo>
                  <a:lnTo>
                    <a:pt x="3994" y="16282"/>
                  </a:lnTo>
                  <a:lnTo>
                    <a:pt x="3084" y="15783"/>
                  </a:lnTo>
                  <a:lnTo>
                    <a:pt x="2232" y="15318"/>
                  </a:lnTo>
                  <a:lnTo>
                    <a:pt x="2232" y="15542"/>
                  </a:lnTo>
                  <a:lnTo>
                    <a:pt x="2232" y="15783"/>
                  </a:lnTo>
                  <a:lnTo>
                    <a:pt x="1791" y="15783"/>
                  </a:lnTo>
                  <a:lnTo>
                    <a:pt x="1351" y="15318"/>
                  </a:lnTo>
                  <a:lnTo>
                    <a:pt x="441" y="15318"/>
                  </a:lnTo>
                  <a:lnTo>
                    <a:pt x="0" y="15060"/>
                  </a:lnTo>
                  <a:lnTo>
                    <a:pt x="441" y="14544"/>
                  </a:lnTo>
                  <a:lnTo>
                    <a:pt x="441" y="13821"/>
                  </a:lnTo>
                  <a:lnTo>
                    <a:pt x="441" y="13322"/>
                  </a:lnTo>
                  <a:lnTo>
                    <a:pt x="441" y="12599"/>
                  </a:lnTo>
                  <a:lnTo>
                    <a:pt x="881" y="12341"/>
                  </a:lnTo>
                  <a:lnTo>
                    <a:pt x="881" y="12599"/>
                  </a:lnTo>
                  <a:lnTo>
                    <a:pt x="1351" y="12823"/>
                  </a:lnTo>
                  <a:lnTo>
                    <a:pt x="1791" y="12823"/>
                  </a:lnTo>
                  <a:lnTo>
                    <a:pt x="1791" y="12599"/>
                  </a:lnTo>
                  <a:lnTo>
                    <a:pt x="1791" y="12083"/>
                  </a:lnTo>
                  <a:lnTo>
                    <a:pt x="1791" y="11601"/>
                  </a:lnTo>
                  <a:lnTo>
                    <a:pt x="1351" y="11601"/>
                  </a:lnTo>
                  <a:lnTo>
                    <a:pt x="441" y="11842"/>
                  </a:lnTo>
                  <a:lnTo>
                    <a:pt x="0" y="11601"/>
                  </a:lnTo>
                  <a:lnTo>
                    <a:pt x="441" y="11360"/>
                  </a:lnTo>
                  <a:lnTo>
                    <a:pt x="441" y="10861"/>
                  </a:lnTo>
                  <a:lnTo>
                    <a:pt x="881" y="10361"/>
                  </a:lnTo>
                  <a:lnTo>
                    <a:pt x="1351" y="10361"/>
                  </a:lnTo>
                  <a:lnTo>
                    <a:pt x="1791" y="10361"/>
                  </a:lnTo>
                  <a:lnTo>
                    <a:pt x="1351" y="9880"/>
                  </a:lnTo>
                  <a:lnTo>
                    <a:pt x="1351" y="9621"/>
                  </a:lnTo>
                  <a:lnTo>
                    <a:pt x="441" y="9380"/>
                  </a:lnTo>
                  <a:lnTo>
                    <a:pt x="441" y="9122"/>
                  </a:lnTo>
                  <a:lnTo>
                    <a:pt x="441" y="8141"/>
                  </a:lnTo>
                  <a:lnTo>
                    <a:pt x="881" y="7900"/>
                  </a:lnTo>
                  <a:lnTo>
                    <a:pt x="2232" y="8141"/>
                  </a:lnTo>
                  <a:lnTo>
                    <a:pt x="2643" y="8382"/>
                  </a:lnTo>
                  <a:lnTo>
                    <a:pt x="3554" y="8623"/>
                  </a:lnTo>
                  <a:lnTo>
                    <a:pt x="3994" y="8881"/>
                  </a:lnTo>
                  <a:lnTo>
                    <a:pt x="4875" y="8623"/>
                  </a:lnTo>
                  <a:lnTo>
                    <a:pt x="4875" y="8141"/>
                  </a:lnTo>
                  <a:lnTo>
                    <a:pt x="5316" y="7642"/>
                  </a:lnTo>
                  <a:lnTo>
                    <a:pt x="5786" y="7160"/>
                  </a:lnTo>
                  <a:lnTo>
                    <a:pt x="6226" y="6661"/>
                  </a:lnTo>
                  <a:lnTo>
                    <a:pt x="7107" y="6661"/>
                  </a:lnTo>
                  <a:lnTo>
                    <a:pt x="7107" y="6420"/>
                  </a:lnTo>
                  <a:lnTo>
                    <a:pt x="7107" y="6162"/>
                  </a:lnTo>
                  <a:lnTo>
                    <a:pt x="7518" y="5904"/>
                  </a:lnTo>
                  <a:lnTo>
                    <a:pt x="7518" y="5439"/>
                  </a:lnTo>
                  <a:lnTo>
                    <a:pt x="7107" y="5439"/>
                  </a:lnTo>
                  <a:lnTo>
                    <a:pt x="6667" y="5439"/>
                  </a:lnTo>
                  <a:lnTo>
                    <a:pt x="6226" y="5439"/>
                  </a:lnTo>
                  <a:lnTo>
                    <a:pt x="5316" y="5680"/>
                  </a:lnTo>
                  <a:lnTo>
                    <a:pt x="4435" y="5904"/>
                  </a:lnTo>
                  <a:lnTo>
                    <a:pt x="3994" y="6420"/>
                  </a:lnTo>
                  <a:lnTo>
                    <a:pt x="3554" y="6902"/>
                  </a:lnTo>
                  <a:lnTo>
                    <a:pt x="3554" y="7642"/>
                  </a:lnTo>
                  <a:lnTo>
                    <a:pt x="3994" y="7900"/>
                  </a:lnTo>
                  <a:lnTo>
                    <a:pt x="3554" y="8141"/>
                  </a:lnTo>
                  <a:lnTo>
                    <a:pt x="3084" y="7900"/>
                  </a:lnTo>
                  <a:lnTo>
                    <a:pt x="2232" y="7642"/>
                  </a:lnTo>
                  <a:lnTo>
                    <a:pt x="2232" y="7160"/>
                  </a:lnTo>
                  <a:lnTo>
                    <a:pt x="1351" y="7160"/>
                  </a:lnTo>
                  <a:lnTo>
                    <a:pt x="881" y="6902"/>
                  </a:lnTo>
                  <a:lnTo>
                    <a:pt x="881" y="6661"/>
                  </a:lnTo>
                  <a:lnTo>
                    <a:pt x="1351" y="6162"/>
                  </a:lnTo>
                  <a:lnTo>
                    <a:pt x="2232" y="5680"/>
                  </a:lnTo>
                  <a:lnTo>
                    <a:pt x="2643" y="4923"/>
                  </a:lnTo>
                  <a:lnTo>
                    <a:pt x="3554" y="4200"/>
                  </a:lnTo>
                  <a:lnTo>
                    <a:pt x="4435" y="4200"/>
                  </a:lnTo>
                  <a:lnTo>
                    <a:pt x="5786" y="4200"/>
                  </a:lnTo>
                  <a:lnTo>
                    <a:pt x="6667" y="3941"/>
                  </a:lnTo>
                  <a:lnTo>
                    <a:pt x="7988" y="4200"/>
                  </a:lnTo>
                  <a:lnTo>
                    <a:pt x="9310" y="3701"/>
                  </a:lnTo>
                  <a:lnTo>
                    <a:pt x="10220" y="3184"/>
                  </a:lnTo>
                  <a:lnTo>
                    <a:pt x="10661" y="2203"/>
                  </a:lnTo>
                  <a:lnTo>
                    <a:pt x="11982" y="1738"/>
                  </a:lnTo>
                  <a:lnTo>
                    <a:pt x="12863" y="1222"/>
                  </a:lnTo>
                  <a:lnTo>
                    <a:pt x="13744" y="1222"/>
                  </a:lnTo>
                  <a:lnTo>
                    <a:pt x="15536" y="499"/>
                  </a:lnTo>
                  <a:lnTo>
                    <a:pt x="16417" y="0"/>
                  </a:lnTo>
                  <a:lnTo>
                    <a:pt x="17327" y="0"/>
                  </a:lnTo>
                  <a:lnTo>
                    <a:pt x="17327" y="499"/>
                  </a:lnTo>
                  <a:lnTo>
                    <a:pt x="16887" y="723"/>
                  </a:lnTo>
                  <a:lnTo>
                    <a:pt x="16417" y="1222"/>
                  </a:lnTo>
                  <a:lnTo>
                    <a:pt x="16417" y="1738"/>
                  </a:lnTo>
                  <a:lnTo>
                    <a:pt x="16887" y="2203"/>
                  </a:lnTo>
                  <a:lnTo>
                    <a:pt x="16887" y="2719"/>
                  </a:lnTo>
                  <a:lnTo>
                    <a:pt x="16887" y="3184"/>
                  </a:lnTo>
                  <a:lnTo>
                    <a:pt x="16417" y="3701"/>
                  </a:lnTo>
                  <a:lnTo>
                    <a:pt x="15977" y="4200"/>
                  </a:lnTo>
                  <a:lnTo>
                    <a:pt x="15536" y="4923"/>
                  </a:lnTo>
                  <a:lnTo>
                    <a:pt x="15095" y="5181"/>
                  </a:lnTo>
                  <a:lnTo>
                    <a:pt x="13744" y="4923"/>
                  </a:lnTo>
                  <a:lnTo>
                    <a:pt x="13304" y="5181"/>
                  </a:lnTo>
                  <a:lnTo>
                    <a:pt x="13744" y="5439"/>
                  </a:lnTo>
                  <a:lnTo>
                    <a:pt x="14185" y="5680"/>
                  </a:lnTo>
                  <a:lnTo>
                    <a:pt x="15095" y="5680"/>
                  </a:lnTo>
                  <a:lnTo>
                    <a:pt x="15095" y="5904"/>
                  </a:lnTo>
                  <a:lnTo>
                    <a:pt x="15095" y="6420"/>
                  </a:lnTo>
                  <a:lnTo>
                    <a:pt x="15095" y="7160"/>
                  </a:lnTo>
                  <a:lnTo>
                    <a:pt x="14655" y="7160"/>
                  </a:lnTo>
                  <a:lnTo>
                    <a:pt x="13744" y="7160"/>
                  </a:lnTo>
                  <a:lnTo>
                    <a:pt x="13304" y="7160"/>
                  </a:lnTo>
                  <a:lnTo>
                    <a:pt x="12863" y="7384"/>
                  </a:lnTo>
                  <a:lnTo>
                    <a:pt x="13304" y="7642"/>
                  </a:lnTo>
                  <a:lnTo>
                    <a:pt x="13744" y="7642"/>
                  </a:lnTo>
                  <a:lnTo>
                    <a:pt x="14185" y="7384"/>
                  </a:lnTo>
                  <a:lnTo>
                    <a:pt x="14655" y="7384"/>
                  </a:lnTo>
                  <a:lnTo>
                    <a:pt x="15095" y="7642"/>
                  </a:lnTo>
                  <a:lnTo>
                    <a:pt x="15536" y="7642"/>
                  </a:lnTo>
                  <a:lnTo>
                    <a:pt x="15095" y="7900"/>
                  </a:lnTo>
                  <a:lnTo>
                    <a:pt x="14655" y="8141"/>
                  </a:lnTo>
                  <a:lnTo>
                    <a:pt x="14655" y="8623"/>
                  </a:lnTo>
                  <a:lnTo>
                    <a:pt x="14655" y="8881"/>
                  </a:lnTo>
                  <a:lnTo>
                    <a:pt x="15095" y="8881"/>
                  </a:lnTo>
                  <a:lnTo>
                    <a:pt x="15095" y="8623"/>
                  </a:lnTo>
                  <a:lnTo>
                    <a:pt x="15095" y="8141"/>
                  </a:lnTo>
                  <a:lnTo>
                    <a:pt x="15536" y="8141"/>
                  </a:lnTo>
                  <a:lnTo>
                    <a:pt x="16417" y="8382"/>
                  </a:lnTo>
                  <a:lnTo>
                    <a:pt x="17327" y="8382"/>
                  </a:lnTo>
                  <a:lnTo>
                    <a:pt x="18179" y="8382"/>
                  </a:lnTo>
                  <a:lnTo>
                    <a:pt x="19090" y="8382"/>
                  </a:lnTo>
                  <a:lnTo>
                    <a:pt x="19971" y="8623"/>
                  </a:lnTo>
                  <a:lnTo>
                    <a:pt x="19971" y="9380"/>
                  </a:lnTo>
                  <a:lnTo>
                    <a:pt x="19530" y="9880"/>
                  </a:lnTo>
                  <a:lnTo>
                    <a:pt x="18620" y="10361"/>
                  </a:lnTo>
                  <a:lnTo>
                    <a:pt x="17739" y="11102"/>
                  </a:lnTo>
                  <a:lnTo>
                    <a:pt x="17327" y="10861"/>
                  </a:lnTo>
                  <a:lnTo>
                    <a:pt x="16887" y="11102"/>
                  </a:lnTo>
                  <a:lnTo>
                    <a:pt x="16417" y="10861"/>
                  </a:lnTo>
                  <a:lnTo>
                    <a:pt x="16887" y="10361"/>
                  </a:lnTo>
                  <a:lnTo>
                    <a:pt x="16887" y="10103"/>
                  </a:lnTo>
                  <a:lnTo>
                    <a:pt x="15977" y="10361"/>
                  </a:lnTo>
                  <a:lnTo>
                    <a:pt x="15977" y="10861"/>
                  </a:lnTo>
                  <a:lnTo>
                    <a:pt x="15536" y="11360"/>
                  </a:lnTo>
                  <a:lnTo>
                    <a:pt x="15536" y="11842"/>
                  </a:lnTo>
                  <a:lnTo>
                    <a:pt x="15536" y="12341"/>
                  </a:lnTo>
                  <a:lnTo>
                    <a:pt x="15536" y="12599"/>
                  </a:lnTo>
                  <a:lnTo>
                    <a:pt x="15095" y="12823"/>
                  </a:lnTo>
                  <a:lnTo>
                    <a:pt x="14185" y="13081"/>
                  </a:lnTo>
                  <a:lnTo>
                    <a:pt x="13304" y="12599"/>
                  </a:lnTo>
                  <a:lnTo>
                    <a:pt x="13304" y="13081"/>
                  </a:lnTo>
                  <a:lnTo>
                    <a:pt x="13744" y="13322"/>
                  </a:lnTo>
                  <a:lnTo>
                    <a:pt x="13744" y="14079"/>
                  </a:lnTo>
                  <a:lnTo>
                    <a:pt x="13304" y="14303"/>
                  </a:lnTo>
                  <a:lnTo>
                    <a:pt x="11982" y="14079"/>
                  </a:lnTo>
                  <a:lnTo>
                    <a:pt x="10661" y="14079"/>
                  </a:lnTo>
                  <a:lnTo>
                    <a:pt x="11542" y="14303"/>
                  </a:lnTo>
                  <a:lnTo>
                    <a:pt x="11982" y="14544"/>
                  </a:lnTo>
                  <a:lnTo>
                    <a:pt x="12452" y="14544"/>
                  </a:lnTo>
                  <a:lnTo>
                    <a:pt x="12452" y="14802"/>
                  </a:lnTo>
                  <a:lnTo>
                    <a:pt x="13304" y="15060"/>
                  </a:lnTo>
                  <a:lnTo>
                    <a:pt x="14185" y="14802"/>
                  </a:lnTo>
                  <a:lnTo>
                    <a:pt x="15095" y="14544"/>
                  </a:lnTo>
                  <a:lnTo>
                    <a:pt x="15977" y="14544"/>
                  </a:lnTo>
                  <a:lnTo>
                    <a:pt x="16417" y="14802"/>
                  </a:lnTo>
                  <a:lnTo>
                    <a:pt x="17327" y="15318"/>
                  </a:lnTo>
                  <a:lnTo>
                    <a:pt x="17327" y="15542"/>
                  </a:lnTo>
                  <a:lnTo>
                    <a:pt x="17739" y="15318"/>
                  </a:lnTo>
                  <a:lnTo>
                    <a:pt x="17739" y="15060"/>
                  </a:lnTo>
                  <a:lnTo>
                    <a:pt x="17327" y="14802"/>
                  </a:lnTo>
                  <a:lnTo>
                    <a:pt x="17327" y="14544"/>
                  </a:lnTo>
                  <a:lnTo>
                    <a:pt x="18179" y="14544"/>
                  </a:lnTo>
                  <a:lnTo>
                    <a:pt x="18620" y="15060"/>
                  </a:lnTo>
                  <a:lnTo>
                    <a:pt x="18620" y="15542"/>
                  </a:lnTo>
                  <a:lnTo>
                    <a:pt x="19090" y="16041"/>
                  </a:lnTo>
                  <a:lnTo>
                    <a:pt x="19530" y="16282"/>
                  </a:lnTo>
                  <a:lnTo>
                    <a:pt x="19971" y="16540"/>
                  </a:lnTo>
                  <a:lnTo>
                    <a:pt x="19530" y="17022"/>
                  </a:lnTo>
                  <a:lnTo>
                    <a:pt x="19530" y="17263"/>
                  </a:lnTo>
                  <a:lnTo>
                    <a:pt x="19090" y="17522"/>
                  </a:lnTo>
                  <a:lnTo>
                    <a:pt x="18620" y="18244"/>
                  </a:lnTo>
                  <a:lnTo>
                    <a:pt x="17739" y="18503"/>
                  </a:lnTo>
                  <a:lnTo>
                    <a:pt x="16887" y="18761"/>
                  </a:lnTo>
                  <a:lnTo>
                    <a:pt x="16417" y="18761"/>
                  </a:lnTo>
                  <a:lnTo>
                    <a:pt x="15536" y="18503"/>
                  </a:lnTo>
                  <a:lnTo>
                    <a:pt x="14655" y="18021"/>
                  </a:lnTo>
                  <a:lnTo>
                    <a:pt x="13744" y="17780"/>
                  </a:lnTo>
                  <a:lnTo>
                    <a:pt x="13304" y="17522"/>
                  </a:lnTo>
                  <a:lnTo>
                    <a:pt x="12863" y="17022"/>
                  </a:lnTo>
                  <a:lnTo>
                    <a:pt x="12863" y="16799"/>
                  </a:lnTo>
                  <a:lnTo>
                    <a:pt x="12452" y="16282"/>
                  </a:lnTo>
                  <a:lnTo>
                    <a:pt x="12452" y="15783"/>
                  </a:lnTo>
                  <a:lnTo>
                    <a:pt x="11982" y="15542"/>
                  </a:lnTo>
                  <a:lnTo>
                    <a:pt x="11542" y="15542"/>
                  </a:lnTo>
                  <a:lnTo>
                    <a:pt x="10661" y="15318"/>
                  </a:lnTo>
                  <a:lnTo>
                    <a:pt x="10661" y="15542"/>
                  </a:lnTo>
                  <a:lnTo>
                    <a:pt x="11101" y="15783"/>
                  </a:lnTo>
                  <a:lnTo>
                    <a:pt x="11101" y="16041"/>
                  </a:lnTo>
                  <a:lnTo>
                    <a:pt x="11101" y="16282"/>
                  </a:lnTo>
                  <a:lnTo>
                    <a:pt x="11101" y="16799"/>
                  </a:lnTo>
                  <a:lnTo>
                    <a:pt x="11101" y="17263"/>
                  </a:lnTo>
                  <a:lnTo>
                    <a:pt x="11101" y="17522"/>
                  </a:lnTo>
                  <a:lnTo>
                    <a:pt x="10661" y="17780"/>
                  </a:lnTo>
                  <a:lnTo>
                    <a:pt x="10220" y="17780"/>
                  </a:lnTo>
                  <a:lnTo>
                    <a:pt x="10661" y="18021"/>
                  </a:lnTo>
                  <a:lnTo>
                    <a:pt x="10220" y="18503"/>
                  </a:lnTo>
                  <a:lnTo>
                    <a:pt x="10661" y="18503"/>
                  </a:lnTo>
                  <a:lnTo>
                    <a:pt x="11101" y="18761"/>
                  </a:lnTo>
                  <a:lnTo>
                    <a:pt x="11982" y="18761"/>
                  </a:lnTo>
                  <a:lnTo>
                    <a:pt x="11542" y="18503"/>
                  </a:lnTo>
                  <a:lnTo>
                    <a:pt x="11101" y="18503"/>
                  </a:lnTo>
                  <a:lnTo>
                    <a:pt x="11542" y="18021"/>
                  </a:lnTo>
                  <a:lnTo>
                    <a:pt x="12452" y="18244"/>
                  </a:lnTo>
                  <a:lnTo>
                    <a:pt x="13304" y="18503"/>
                  </a:lnTo>
                  <a:lnTo>
                    <a:pt x="14185" y="18761"/>
                  </a:lnTo>
                  <a:lnTo>
                    <a:pt x="14655" y="19484"/>
                  </a:lnTo>
                  <a:lnTo>
                    <a:pt x="13304" y="19742"/>
                  </a:lnTo>
                  <a:lnTo>
                    <a:pt x="12452" y="19484"/>
                  </a:lnTo>
                  <a:lnTo>
                    <a:pt x="11542" y="19484"/>
                  </a:lnTo>
                  <a:lnTo>
                    <a:pt x="11101" y="19742"/>
                  </a:lnTo>
                  <a:lnTo>
                    <a:pt x="9310" y="19983"/>
                  </a:lnTo>
                  <a:lnTo>
                    <a:pt x="8869" y="19983"/>
                  </a:lnTo>
                  <a:lnTo>
                    <a:pt x="8429" y="19983"/>
                  </a:lnTo>
                  <a:lnTo>
                    <a:pt x="7107" y="19742"/>
                  </a:lnTo>
                  <a:lnTo>
                    <a:pt x="6226" y="19484"/>
                  </a:lnTo>
                  <a:lnTo>
                    <a:pt x="5786" y="19484"/>
                  </a:lnTo>
                  <a:lnTo>
                    <a:pt x="4875" y="19484"/>
                  </a:lnTo>
                  <a:lnTo>
                    <a:pt x="4435" y="19484"/>
                  </a:lnTo>
                  <a:lnTo>
                    <a:pt x="4435" y="19484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1600" y="2207520"/>
              <a:ext cx="205200" cy="286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2864" y="19967"/>
                  </a:moveTo>
                  <a:lnTo>
                    <a:pt x="10704" y="18543"/>
                  </a:lnTo>
                  <a:lnTo>
                    <a:pt x="7089" y="19470"/>
                  </a:lnTo>
                  <a:lnTo>
                    <a:pt x="2160" y="17583"/>
                  </a:lnTo>
                  <a:lnTo>
                    <a:pt x="1408" y="16623"/>
                  </a:lnTo>
                  <a:lnTo>
                    <a:pt x="2864" y="16623"/>
                  </a:lnTo>
                  <a:lnTo>
                    <a:pt x="2160" y="15695"/>
                  </a:lnTo>
                  <a:lnTo>
                    <a:pt x="2864" y="15199"/>
                  </a:lnTo>
                  <a:lnTo>
                    <a:pt x="4225" y="14735"/>
                  </a:lnTo>
                  <a:lnTo>
                    <a:pt x="8592" y="16623"/>
                  </a:lnTo>
                  <a:lnTo>
                    <a:pt x="9296" y="15695"/>
                  </a:lnTo>
                  <a:lnTo>
                    <a:pt x="10000" y="15695"/>
                  </a:lnTo>
                  <a:lnTo>
                    <a:pt x="10000" y="14735"/>
                  </a:lnTo>
                  <a:lnTo>
                    <a:pt x="10704" y="14735"/>
                  </a:lnTo>
                  <a:lnTo>
                    <a:pt x="12864" y="15199"/>
                  </a:lnTo>
                  <a:lnTo>
                    <a:pt x="13568" y="15695"/>
                  </a:lnTo>
                  <a:lnTo>
                    <a:pt x="14272" y="15199"/>
                  </a:lnTo>
                  <a:lnTo>
                    <a:pt x="13568" y="14735"/>
                  </a:lnTo>
                  <a:lnTo>
                    <a:pt x="12160" y="14238"/>
                  </a:lnTo>
                  <a:lnTo>
                    <a:pt x="10000" y="13775"/>
                  </a:lnTo>
                  <a:lnTo>
                    <a:pt x="10000" y="12848"/>
                  </a:lnTo>
                  <a:lnTo>
                    <a:pt x="10000" y="12351"/>
                  </a:lnTo>
                  <a:lnTo>
                    <a:pt x="9296" y="11854"/>
                  </a:lnTo>
                  <a:lnTo>
                    <a:pt x="5681" y="11854"/>
                  </a:lnTo>
                  <a:lnTo>
                    <a:pt x="4225" y="11391"/>
                  </a:lnTo>
                  <a:lnTo>
                    <a:pt x="2864" y="9967"/>
                  </a:lnTo>
                  <a:lnTo>
                    <a:pt x="3568" y="9007"/>
                  </a:lnTo>
                  <a:lnTo>
                    <a:pt x="2864" y="7616"/>
                  </a:lnTo>
                  <a:lnTo>
                    <a:pt x="704" y="6192"/>
                  </a:lnTo>
                  <a:lnTo>
                    <a:pt x="2864" y="5728"/>
                  </a:lnTo>
                  <a:lnTo>
                    <a:pt x="0" y="5232"/>
                  </a:lnTo>
                  <a:lnTo>
                    <a:pt x="3568" y="4768"/>
                  </a:lnTo>
                  <a:lnTo>
                    <a:pt x="5023" y="4768"/>
                  </a:lnTo>
                  <a:lnTo>
                    <a:pt x="5681" y="3775"/>
                  </a:lnTo>
                  <a:lnTo>
                    <a:pt x="6385" y="3344"/>
                  </a:lnTo>
                  <a:lnTo>
                    <a:pt x="6385" y="2384"/>
                  </a:lnTo>
                  <a:lnTo>
                    <a:pt x="4225" y="1887"/>
                  </a:lnTo>
                  <a:lnTo>
                    <a:pt x="4225" y="1391"/>
                  </a:lnTo>
                  <a:lnTo>
                    <a:pt x="7089" y="1887"/>
                  </a:lnTo>
                  <a:lnTo>
                    <a:pt x="10000" y="1887"/>
                  </a:lnTo>
                  <a:lnTo>
                    <a:pt x="9296" y="2881"/>
                  </a:lnTo>
                  <a:lnTo>
                    <a:pt x="9296" y="4272"/>
                  </a:lnTo>
                  <a:lnTo>
                    <a:pt x="8592" y="4768"/>
                  </a:lnTo>
                  <a:lnTo>
                    <a:pt x="10000" y="5728"/>
                  </a:lnTo>
                  <a:lnTo>
                    <a:pt x="10704" y="3775"/>
                  </a:lnTo>
                  <a:lnTo>
                    <a:pt x="11408" y="2384"/>
                  </a:lnTo>
                  <a:lnTo>
                    <a:pt x="12160" y="2881"/>
                  </a:lnTo>
                  <a:lnTo>
                    <a:pt x="12160" y="4768"/>
                  </a:lnTo>
                  <a:lnTo>
                    <a:pt x="12160" y="5728"/>
                  </a:lnTo>
                  <a:lnTo>
                    <a:pt x="13568" y="5232"/>
                  </a:lnTo>
                  <a:lnTo>
                    <a:pt x="12864" y="3344"/>
                  </a:lnTo>
                  <a:lnTo>
                    <a:pt x="12160" y="1887"/>
                  </a:lnTo>
                  <a:lnTo>
                    <a:pt x="10704" y="1887"/>
                  </a:lnTo>
                  <a:lnTo>
                    <a:pt x="14272" y="0"/>
                  </a:lnTo>
                  <a:lnTo>
                    <a:pt x="16385" y="0"/>
                  </a:lnTo>
                  <a:lnTo>
                    <a:pt x="18545" y="497"/>
                  </a:lnTo>
                  <a:lnTo>
                    <a:pt x="18545" y="2881"/>
                  </a:lnTo>
                  <a:lnTo>
                    <a:pt x="19249" y="5232"/>
                  </a:lnTo>
                  <a:lnTo>
                    <a:pt x="19953" y="6623"/>
                  </a:lnTo>
                  <a:lnTo>
                    <a:pt x="18545" y="7119"/>
                  </a:lnTo>
                  <a:lnTo>
                    <a:pt x="17089" y="6192"/>
                  </a:lnTo>
                  <a:lnTo>
                    <a:pt x="14272" y="8113"/>
                  </a:lnTo>
                  <a:lnTo>
                    <a:pt x="16385" y="9007"/>
                  </a:lnTo>
                  <a:lnTo>
                    <a:pt x="17793" y="9967"/>
                  </a:lnTo>
                  <a:lnTo>
                    <a:pt x="15728" y="10960"/>
                  </a:lnTo>
                  <a:lnTo>
                    <a:pt x="13568" y="12351"/>
                  </a:lnTo>
                  <a:lnTo>
                    <a:pt x="14930" y="12848"/>
                  </a:lnTo>
                  <a:lnTo>
                    <a:pt x="14930" y="14238"/>
                  </a:lnTo>
                  <a:lnTo>
                    <a:pt x="15728" y="13344"/>
                  </a:lnTo>
                  <a:lnTo>
                    <a:pt x="18545" y="14238"/>
                  </a:lnTo>
                  <a:lnTo>
                    <a:pt x="19249" y="14735"/>
                  </a:lnTo>
                  <a:lnTo>
                    <a:pt x="14930" y="15695"/>
                  </a:lnTo>
                  <a:lnTo>
                    <a:pt x="12864" y="18079"/>
                  </a:lnTo>
                  <a:lnTo>
                    <a:pt x="12864" y="19967"/>
                  </a:lnTo>
                  <a:lnTo>
                    <a:pt x="12864" y="19967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40760" y="4264560"/>
              <a:ext cx="1766520" cy="1439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" y="4147"/>
                  </a:moveTo>
                  <a:lnTo>
                    <a:pt x="250" y="4062"/>
                  </a:lnTo>
                  <a:lnTo>
                    <a:pt x="250" y="3681"/>
                  </a:lnTo>
                  <a:lnTo>
                    <a:pt x="332" y="3681"/>
                  </a:lnTo>
                  <a:lnTo>
                    <a:pt x="571" y="3490"/>
                  </a:lnTo>
                  <a:lnTo>
                    <a:pt x="571" y="3306"/>
                  </a:lnTo>
                  <a:lnTo>
                    <a:pt x="490" y="3391"/>
                  </a:lnTo>
                  <a:lnTo>
                    <a:pt x="413" y="3306"/>
                  </a:lnTo>
                  <a:lnTo>
                    <a:pt x="490" y="3207"/>
                  </a:lnTo>
                  <a:lnTo>
                    <a:pt x="571" y="3115"/>
                  </a:lnTo>
                  <a:lnTo>
                    <a:pt x="571" y="3023"/>
                  </a:lnTo>
                  <a:lnTo>
                    <a:pt x="490" y="3023"/>
                  </a:lnTo>
                  <a:lnTo>
                    <a:pt x="413" y="3023"/>
                  </a:lnTo>
                  <a:lnTo>
                    <a:pt x="332" y="2826"/>
                  </a:lnTo>
                  <a:lnTo>
                    <a:pt x="413" y="2734"/>
                  </a:lnTo>
                  <a:lnTo>
                    <a:pt x="490" y="2826"/>
                  </a:lnTo>
                  <a:lnTo>
                    <a:pt x="490" y="2734"/>
                  </a:lnTo>
                  <a:lnTo>
                    <a:pt x="571" y="2642"/>
                  </a:lnTo>
                  <a:lnTo>
                    <a:pt x="658" y="2452"/>
                  </a:lnTo>
                  <a:lnTo>
                    <a:pt x="571" y="2360"/>
                  </a:lnTo>
                  <a:lnTo>
                    <a:pt x="413" y="2452"/>
                  </a:lnTo>
                  <a:lnTo>
                    <a:pt x="332" y="2452"/>
                  </a:lnTo>
                  <a:lnTo>
                    <a:pt x="250" y="2550"/>
                  </a:lnTo>
                  <a:lnTo>
                    <a:pt x="163" y="2550"/>
                  </a:lnTo>
                  <a:lnTo>
                    <a:pt x="250" y="2360"/>
                  </a:lnTo>
                  <a:lnTo>
                    <a:pt x="332" y="2175"/>
                  </a:lnTo>
                  <a:lnTo>
                    <a:pt x="490" y="1985"/>
                  </a:lnTo>
                  <a:lnTo>
                    <a:pt x="413" y="1985"/>
                  </a:lnTo>
                  <a:lnTo>
                    <a:pt x="332" y="1985"/>
                  </a:lnTo>
                  <a:lnTo>
                    <a:pt x="250" y="1985"/>
                  </a:lnTo>
                  <a:lnTo>
                    <a:pt x="163" y="1886"/>
                  </a:lnTo>
                  <a:lnTo>
                    <a:pt x="163" y="1788"/>
                  </a:lnTo>
                  <a:lnTo>
                    <a:pt x="163" y="1702"/>
                  </a:lnTo>
                  <a:lnTo>
                    <a:pt x="82" y="1512"/>
                  </a:lnTo>
                  <a:lnTo>
                    <a:pt x="0" y="1512"/>
                  </a:lnTo>
                  <a:lnTo>
                    <a:pt x="82" y="1229"/>
                  </a:lnTo>
                  <a:lnTo>
                    <a:pt x="163" y="1137"/>
                  </a:lnTo>
                  <a:lnTo>
                    <a:pt x="250" y="1038"/>
                  </a:lnTo>
                  <a:lnTo>
                    <a:pt x="250" y="946"/>
                  </a:lnTo>
                  <a:lnTo>
                    <a:pt x="332" y="946"/>
                  </a:lnTo>
                  <a:lnTo>
                    <a:pt x="490" y="946"/>
                  </a:lnTo>
                  <a:lnTo>
                    <a:pt x="740" y="848"/>
                  </a:lnTo>
                  <a:lnTo>
                    <a:pt x="740" y="749"/>
                  </a:lnTo>
                  <a:lnTo>
                    <a:pt x="903" y="664"/>
                  </a:lnTo>
                  <a:lnTo>
                    <a:pt x="1072" y="848"/>
                  </a:lnTo>
                  <a:lnTo>
                    <a:pt x="1561" y="749"/>
                  </a:lnTo>
                  <a:lnTo>
                    <a:pt x="1725" y="749"/>
                  </a:lnTo>
                  <a:lnTo>
                    <a:pt x="1893" y="848"/>
                  </a:lnTo>
                  <a:lnTo>
                    <a:pt x="1893" y="749"/>
                  </a:lnTo>
                  <a:lnTo>
                    <a:pt x="1893" y="572"/>
                  </a:lnTo>
                  <a:lnTo>
                    <a:pt x="1725" y="572"/>
                  </a:lnTo>
                  <a:lnTo>
                    <a:pt x="1725" y="473"/>
                  </a:lnTo>
                  <a:lnTo>
                    <a:pt x="1812" y="375"/>
                  </a:lnTo>
                  <a:lnTo>
                    <a:pt x="2057" y="289"/>
                  </a:lnTo>
                  <a:lnTo>
                    <a:pt x="2307" y="197"/>
                  </a:lnTo>
                  <a:lnTo>
                    <a:pt x="2307" y="99"/>
                  </a:lnTo>
                  <a:lnTo>
                    <a:pt x="2465" y="99"/>
                  </a:lnTo>
                  <a:lnTo>
                    <a:pt x="2552" y="0"/>
                  </a:lnTo>
                  <a:lnTo>
                    <a:pt x="2552" y="99"/>
                  </a:lnTo>
                  <a:lnTo>
                    <a:pt x="2552" y="197"/>
                  </a:lnTo>
                  <a:lnTo>
                    <a:pt x="2633" y="99"/>
                  </a:lnTo>
                  <a:lnTo>
                    <a:pt x="2797" y="99"/>
                  </a:lnTo>
                  <a:lnTo>
                    <a:pt x="2878" y="0"/>
                  </a:lnTo>
                  <a:lnTo>
                    <a:pt x="3047" y="289"/>
                  </a:lnTo>
                  <a:lnTo>
                    <a:pt x="3128" y="197"/>
                  </a:lnTo>
                  <a:lnTo>
                    <a:pt x="3210" y="197"/>
                  </a:lnTo>
                  <a:lnTo>
                    <a:pt x="3286" y="289"/>
                  </a:lnTo>
                  <a:lnTo>
                    <a:pt x="3455" y="473"/>
                  </a:lnTo>
                  <a:lnTo>
                    <a:pt x="3536" y="664"/>
                  </a:lnTo>
                  <a:lnTo>
                    <a:pt x="3700" y="664"/>
                  </a:lnTo>
                  <a:lnTo>
                    <a:pt x="3950" y="749"/>
                  </a:lnTo>
                  <a:lnTo>
                    <a:pt x="4113" y="749"/>
                  </a:lnTo>
                  <a:lnTo>
                    <a:pt x="4282" y="848"/>
                  </a:lnTo>
                  <a:lnTo>
                    <a:pt x="4527" y="946"/>
                  </a:lnTo>
                  <a:lnTo>
                    <a:pt x="4690" y="946"/>
                  </a:lnTo>
                  <a:lnTo>
                    <a:pt x="5103" y="946"/>
                  </a:lnTo>
                  <a:lnTo>
                    <a:pt x="5185" y="1038"/>
                  </a:lnTo>
                  <a:lnTo>
                    <a:pt x="5430" y="1038"/>
                  </a:lnTo>
                  <a:lnTo>
                    <a:pt x="5511" y="1038"/>
                  </a:lnTo>
                  <a:lnTo>
                    <a:pt x="5675" y="946"/>
                  </a:lnTo>
                  <a:lnTo>
                    <a:pt x="5762" y="946"/>
                  </a:lnTo>
                  <a:lnTo>
                    <a:pt x="5925" y="1137"/>
                  </a:lnTo>
                  <a:lnTo>
                    <a:pt x="6094" y="1229"/>
                  </a:lnTo>
                  <a:lnTo>
                    <a:pt x="6415" y="1229"/>
                  </a:lnTo>
                  <a:lnTo>
                    <a:pt x="6415" y="1413"/>
                  </a:lnTo>
                  <a:lnTo>
                    <a:pt x="6415" y="1328"/>
                  </a:lnTo>
                  <a:lnTo>
                    <a:pt x="6502" y="1328"/>
                  </a:lnTo>
                  <a:lnTo>
                    <a:pt x="6665" y="1413"/>
                  </a:lnTo>
                  <a:lnTo>
                    <a:pt x="7078" y="1702"/>
                  </a:lnTo>
                  <a:lnTo>
                    <a:pt x="7236" y="1702"/>
                  </a:lnTo>
                  <a:lnTo>
                    <a:pt x="7568" y="1886"/>
                  </a:lnTo>
                  <a:lnTo>
                    <a:pt x="7900" y="1985"/>
                  </a:lnTo>
                  <a:lnTo>
                    <a:pt x="8145" y="1985"/>
                  </a:lnTo>
                  <a:lnTo>
                    <a:pt x="8558" y="1985"/>
                  </a:lnTo>
                  <a:lnTo>
                    <a:pt x="8721" y="1886"/>
                  </a:lnTo>
                  <a:lnTo>
                    <a:pt x="8803" y="2077"/>
                  </a:lnTo>
                  <a:lnTo>
                    <a:pt x="9129" y="1886"/>
                  </a:lnTo>
                  <a:lnTo>
                    <a:pt x="9298" y="2077"/>
                  </a:lnTo>
                  <a:lnTo>
                    <a:pt x="9298" y="2175"/>
                  </a:lnTo>
                  <a:lnTo>
                    <a:pt x="9461" y="2267"/>
                  </a:lnTo>
                  <a:lnTo>
                    <a:pt x="9793" y="2360"/>
                  </a:lnTo>
                  <a:lnTo>
                    <a:pt x="10044" y="2452"/>
                  </a:lnTo>
                  <a:lnTo>
                    <a:pt x="9951" y="2452"/>
                  </a:lnTo>
                  <a:lnTo>
                    <a:pt x="10201" y="2267"/>
                  </a:lnTo>
                  <a:lnTo>
                    <a:pt x="10452" y="2360"/>
                  </a:lnTo>
                  <a:lnTo>
                    <a:pt x="10696" y="2452"/>
                  </a:lnTo>
                  <a:lnTo>
                    <a:pt x="10865" y="2550"/>
                  </a:lnTo>
                  <a:lnTo>
                    <a:pt x="11023" y="2642"/>
                  </a:lnTo>
                  <a:lnTo>
                    <a:pt x="11273" y="2642"/>
                  </a:lnTo>
                  <a:lnTo>
                    <a:pt x="11518" y="2734"/>
                  </a:lnTo>
                  <a:lnTo>
                    <a:pt x="11687" y="2642"/>
                  </a:lnTo>
                  <a:lnTo>
                    <a:pt x="11850" y="2642"/>
                  </a:lnTo>
                  <a:lnTo>
                    <a:pt x="12013" y="2642"/>
                  </a:lnTo>
                  <a:lnTo>
                    <a:pt x="12258" y="3023"/>
                  </a:lnTo>
                  <a:lnTo>
                    <a:pt x="12339" y="3023"/>
                  </a:lnTo>
                  <a:lnTo>
                    <a:pt x="12427" y="2925"/>
                  </a:lnTo>
                  <a:lnTo>
                    <a:pt x="12590" y="3115"/>
                  </a:lnTo>
                  <a:lnTo>
                    <a:pt x="12508" y="3391"/>
                  </a:lnTo>
                  <a:lnTo>
                    <a:pt x="12427" y="3490"/>
                  </a:lnTo>
                  <a:lnTo>
                    <a:pt x="12427" y="3589"/>
                  </a:lnTo>
                  <a:lnTo>
                    <a:pt x="12590" y="3589"/>
                  </a:lnTo>
                  <a:lnTo>
                    <a:pt x="12671" y="3490"/>
                  </a:lnTo>
                  <a:lnTo>
                    <a:pt x="12671" y="3391"/>
                  </a:lnTo>
                  <a:lnTo>
                    <a:pt x="12758" y="3490"/>
                  </a:lnTo>
                  <a:lnTo>
                    <a:pt x="12758" y="3681"/>
                  </a:lnTo>
                  <a:lnTo>
                    <a:pt x="12840" y="3681"/>
                  </a:lnTo>
                  <a:lnTo>
                    <a:pt x="12998" y="3681"/>
                  </a:lnTo>
                  <a:lnTo>
                    <a:pt x="13166" y="3773"/>
                  </a:lnTo>
                  <a:lnTo>
                    <a:pt x="13248" y="3865"/>
                  </a:lnTo>
                  <a:lnTo>
                    <a:pt x="13330" y="3865"/>
                  </a:lnTo>
                  <a:lnTo>
                    <a:pt x="13411" y="3963"/>
                  </a:lnTo>
                  <a:lnTo>
                    <a:pt x="13580" y="3963"/>
                  </a:lnTo>
                  <a:lnTo>
                    <a:pt x="13662" y="4147"/>
                  </a:lnTo>
                  <a:lnTo>
                    <a:pt x="13819" y="4344"/>
                  </a:lnTo>
                  <a:lnTo>
                    <a:pt x="13819" y="4430"/>
                  </a:lnTo>
                  <a:lnTo>
                    <a:pt x="14070" y="4430"/>
                  </a:lnTo>
                  <a:lnTo>
                    <a:pt x="14151" y="4344"/>
                  </a:lnTo>
                  <a:lnTo>
                    <a:pt x="14320" y="4344"/>
                  </a:lnTo>
                  <a:lnTo>
                    <a:pt x="14483" y="4430"/>
                  </a:lnTo>
                  <a:lnTo>
                    <a:pt x="14565" y="4528"/>
                  </a:lnTo>
                  <a:lnTo>
                    <a:pt x="14646" y="4719"/>
                  </a:lnTo>
                  <a:lnTo>
                    <a:pt x="14810" y="4811"/>
                  </a:lnTo>
                  <a:lnTo>
                    <a:pt x="14973" y="4719"/>
                  </a:lnTo>
                  <a:lnTo>
                    <a:pt x="15141" y="4811"/>
                  </a:lnTo>
                  <a:lnTo>
                    <a:pt x="15223" y="4903"/>
                  </a:lnTo>
                  <a:lnTo>
                    <a:pt x="15305" y="4811"/>
                  </a:lnTo>
                  <a:lnTo>
                    <a:pt x="15386" y="4719"/>
                  </a:lnTo>
                  <a:lnTo>
                    <a:pt x="15386" y="4811"/>
                  </a:lnTo>
                  <a:lnTo>
                    <a:pt x="15468" y="4903"/>
                  </a:lnTo>
                  <a:lnTo>
                    <a:pt x="15713" y="4811"/>
                  </a:lnTo>
                  <a:lnTo>
                    <a:pt x="15794" y="4811"/>
                  </a:lnTo>
                  <a:lnTo>
                    <a:pt x="15794" y="4620"/>
                  </a:lnTo>
                  <a:lnTo>
                    <a:pt x="15794" y="4528"/>
                  </a:lnTo>
                  <a:lnTo>
                    <a:pt x="16045" y="4528"/>
                  </a:lnTo>
                  <a:lnTo>
                    <a:pt x="16126" y="4719"/>
                  </a:lnTo>
                  <a:lnTo>
                    <a:pt x="16295" y="4719"/>
                  </a:lnTo>
                  <a:lnTo>
                    <a:pt x="16540" y="4719"/>
                  </a:lnTo>
                  <a:lnTo>
                    <a:pt x="16540" y="4903"/>
                  </a:lnTo>
                  <a:lnTo>
                    <a:pt x="16708" y="4903"/>
                  </a:lnTo>
                  <a:lnTo>
                    <a:pt x="16866" y="4903"/>
                  </a:lnTo>
                  <a:lnTo>
                    <a:pt x="16948" y="5094"/>
                  </a:lnTo>
                  <a:lnTo>
                    <a:pt x="16948" y="5186"/>
                  </a:lnTo>
                  <a:lnTo>
                    <a:pt x="16948" y="5284"/>
                  </a:lnTo>
                  <a:lnTo>
                    <a:pt x="16948" y="5383"/>
                  </a:lnTo>
                  <a:lnTo>
                    <a:pt x="17029" y="5567"/>
                  </a:lnTo>
                  <a:lnTo>
                    <a:pt x="17029" y="5757"/>
                  </a:lnTo>
                  <a:lnTo>
                    <a:pt x="17116" y="5659"/>
                  </a:lnTo>
                  <a:lnTo>
                    <a:pt x="17198" y="5567"/>
                  </a:lnTo>
                  <a:lnTo>
                    <a:pt x="17280" y="5567"/>
                  </a:lnTo>
                  <a:lnTo>
                    <a:pt x="17443" y="5567"/>
                  </a:lnTo>
                  <a:lnTo>
                    <a:pt x="17530" y="5383"/>
                  </a:lnTo>
                  <a:lnTo>
                    <a:pt x="17612" y="5468"/>
                  </a:lnTo>
                  <a:lnTo>
                    <a:pt x="17688" y="5659"/>
                  </a:lnTo>
                  <a:lnTo>
                    <a:pt x="17769" y="5659"/>
                  </a:lnTo>
                  <a:lnTo>
                    <a:pt x="17856" y="5849"/>
                  </a:lnTo>
                  <a:lnTo>
                    <a:pt x="18020" y="5942"/>
                  </a:lnTo>
                  <a:lnTo>
                    <a:pt x="18101" y="5757"/>
                  </a:lnTo>
                  <a:lnTo>
                    <a:pt x="18270" y="5757"/>
                  </a:lnTo>
                  <a:lnTo>
                    <a:pt x="18515" y="5849"/>
                  </a:lnTo>
                  <a:lnTo>
                    <a:pt x="18678" y="5942"/>
                  </a:lnTo>
                  <a:lnTo>
                    <a:pt x="18841" y="5942"/>
                  </a:lnTo>
                  <a:lnTo>
                    <a:pt x="19004" y="5849"/>
                  </a:lnTo>
                  <a:lnTo>
                    <a:pt x="19255" y="5849"/>
                  </a:lnTo>
                  <a:lnTo>
                    <a:pt x="19423" y="5757"/>
                  </a:lnTo>
                  <a:lnTo>
                    <a:pt x="19581" y="5757"/>
                  </a:lnTo>
                  <a:lnTo>
                    <a:pt x="19831" y="5849"/>
                  </a:lnTo>
                  <a:lnTo>
                    <a:pt x="19831" y="6126"/>
                  </a:lnTo>
                  <a:lnTo>
                    <a:pt x="19995" y="6224"/>
                  </a:lnTo>
                  <a:lnTo>
                    <a:pt x="19995" y="6323"/>
                  </a:lnTo>
                  <a:lnTo>
                    <a:pt x="19831" y="6421"/>
                  </a:lnTo>
                  <a:lnTo>
                    <a:pt x="19744" y="6421"/>
                  </a:lnTo>
                  <a:lnTo>
                    <a:pt x="19744" y="6599"/>
                  </a:lnTo>
                  <a:lnTo>
                    <a:pt x="19831" y="6888"/>
                  </a:lnTo>
                  <a:lnTo>
                    <a:pt x="19744" y="6980"/>
                  </a:lnTo>
                  <a:lnTo>
                    <a:pt x="19744" y="7164"/>
                  </a:lnTo>
                  <a:lnTo>
                    <a:pt x="19744" y="7361"/>
                  </a:lnTo>
                  <a:lnTo>
                    <a:pt x="19581" y="7545"/>
                  </a:lnTo>
                  <a:lnTo>
                    <a:pt x="19423" y="7736"/>
                  </a:lnTo>
                  <a:lnTo>
                    <a:pt x="19255" y="7736"/>
                  </a:lnTo>
                  <a:lnTo>
                    <a:pt x="18923" y="7926"/>
                  </a:lnTo>
                  <a:lnTo>
                    <a:pt x="18591" y="8110"/>
                  </a:lnTo>
                  <a:lnTo>
                    <a:pt x="18351" y="8301"/>
                  </a:lnTo>
                  <a:lnTo>
                    <a:pt x="18101" y="8400"/>
                  </a:lnTo>
                  <a:lnTo>
                    <a:pt x="17856" y="8774"/>
                  </a:lnTo>
                  <a:lnTo>
                    <a:pt x="17280" y="8866"/>
                  </a:lnTo>
                  <a:lnTo>
                    <a:pt x="16948" y="8965"/>
                  </a:lnTo>
                  <a:lnTo>
                    <a:pt x="16540" y="9050"/>
                  </a:lnTo>
                  <a:lnTo>
                    <a:pt x="16295" y="9149"/>
                  </a:lnTo>
                  <a:lnTo>
                    <a:pt x="15963" y="9241"/>
                  </a:lnTo>
                  <a:lnTo>
                    <a:pt x="15713" y="9438"/>
                  </a:lnTo>
                  <a:lnTo>
                    <a:pt x="15555" y="9714"/>
                  </a:lnTo>
                  <a:lnTo>
                    <a:pt x="15637" y="9714"/>
                  </a:lnTo>
                  <a:lnTo>
                    <a:pt x="15713" y="9813"/>
                  </a:lnTo>
                  <a:lnTo>
                    <a:pt x="15794" y="9905"/>
                  </a:lnTo>
                  <a:lnTo>
                    <a:pt x="15637" y="10003"/>
                  </a:lnTo>
                  <a:lnTo>
                    <a:pt x="15468" y="10089"/>
                  </a:lnTo>
                  <a:lnTo>
                    <a:pt x="15305" y="10089"/>
                  </a:lnTo>
                  <a:lnTo>
                    <a:pt x="14973" y="10654"/>
                  </a:lnTo>
                  <a:lnTo>
                    <a:pt x="14733" y="10943"/>
                  </a:lnTo>
                  <a:lnTo>
                    <a:pt x="14565" y="11127"/>
                  </a:lnTo>
                  <a:lnTo>
                    <a:pt x="14402" y="11318"/>
                  </a:lnTo>
                  <a:lnTo>
                    <a:pt x="14320" y="11508"/>
                  </a:lnTo>
                  <a:lnTo>
                    <a:pt x="14070" y="11791"/>
                  </a:lnTo>
                  <a:lnTo>
                    <a:pt x="13901" y="12067"/>
                  </a:lnTo>
                  <a:lnTo>
                    <a:pt x="13662" y="12448"/>
                  </a:lnTo>
                  <a:lnTo>
                    <a:pt x="13580" y="12632"/>
                  </a:lnTo>
                  <a:lnTo>
                    <a:pt x="13493" y="12921"/>
                  </a:lnTo>
                  <a:lnTo>
                    <a:pt x="13580" y="13585"/>
                  </a:lnTo>
                  <a:lnTo>
                    <a:pt x="13580" y="13953"/>
                  </a:lnTo>
                  <a:lnTo>
                    <a:pt x="13988" y="14335"/>
                  </a:lnTo>
                  <a:lnTo>
                    <a:pt x="14233" y="14427"/>
                  </a:lnTo>
                  <a:lnTo>
                    <a:pt x="14233" y="14709"/>
                  </a:lnTo>
                  <a:lnTo>
                    <a:pt x="13901" y="14992"/>
                  </a:lnTo>
                  <a:lnTo>
                    <a:pt x="13743" y="15090"/>
                  </a:lnTo>
                  <a:lnTo>
                    <a:pt x="13662" y="15281"/>
                  </a:lnTo>
                  <a:lnTo>
                    <a:pt x="13493" y="15281"/>
                  </a:lnTo>
                  <a:lnTo>
                    <a:pt x="13079" y="15564"/>
                  </a:lnTo>
                  <a:lnTo>
                    <a:pt x="12916" y="15649"/>
                  </a:lnTo>
                  <a:lnTo>
                    <a:pt x="12840" y="15938"/>
                  </a:lnTo>
                  <a:lnTo>
                    <a:pt x="12671" y="16129"/>
                  </a:lnTo>
                  <a:lnTo>
                    <a:pt x="12671" y="16503"/>
                  </a:lnTo>
                  <a:lnTo>
                    <a:pt x="12339" y="16878"/>
                  </a:lnTo>
                  <a:lnTo>
                    <a:pt x="12176" y="17167"/>
                  </a:lnTo>
                  <a:lnTo>
                    <a:pt x="12427" y="17259"/>
                  </a:lnTo>
                  <a:lnTo>
                    <a:pt x="11926" y="17443"/>
                  </a:lnTo>
                  <a:lnTo>
                    <a:pt x="11687" y="17443"/>
                  </a:lnTo>
                  <a:lnTo>
                    <a:pt x="11355" y="17443"/>
                  </a:lnTo>
                  <a:lnTo>
                    <a:pt x="11023" y="17640"/>
                  </a:lnTo>
                  <a:lnTo>
                    <a:pt x="10452" y="18107"/>
                  </a:lnTo>
                  <a:lnTo>
                    <a:pt x="10201" y="18482"/>
                  </a:lnTo>
                  <a:lnTo>
                    <a:pt x="9793" y="19244"/>
                  </a:lnTo>
                  <a:lnTo>
                    <a:pt x="9630" y="19330"/>
                  </a:lnTo>
                  <a:lnTo>
                    <a:pt x="9380" y="19054"/>
                  </a:lnTo>
                  <a:lnTo>
                    <a:pt x="9129" y="18955"/>
                  </a:lnTo>
                  <a:lnTo>
                    <a:pt x="8890" y="19054"/>
                  </a:lnTo>
                  <a:lnTo>
                    <a:pt x="8803" y="19146"/>
                  </a:lnTo>
                  <a:lnTo>
                    <a:pt x="8640" y="19244"/>
                  </a:lnTo>
                  <a:lnTo>
                    <a:pt x="8390" y="19146"/>
                  </a:lnTo>
                  <a:lnTo>
                    <a:pt x="8308" y="19054"/>
                  </a:lnTo>
                  <a:lnTo>
                    <a:pt x="7982" y="18955"/>
                  </a:lnTo>
                  <a:lnTo>
                    <a:pt x="7655" y="18955"/>
                  </a:lnTo>
                  <a:lnTo>
                    <a:pt x="7323" y="19054"/>
                  </a:lnTo>
                  <a:lnTo>
                    <a:pt x="7078" y="18856"/>
                  </a:lnTo>
                  <a:lnTo>
                    <a:pt x="6665" y="18764"/>
                  </a:lnTo>
                  <a:lnTo>
                    <a:pt x="6251" y="18764"/>
                  </a:lnTo>
                  <a:lnTo>
                    <a:pt x="5675" y="18679"/>
                  </a:lnTo>
                  <a:lnTo>
                    <a:pt x="5103" y="19244"/>
                  </a:lnTo>
                  <a:lnTo>
                    <a:pt x="4690" y="19054"/>
                  </a:lnTo>
                  <a:lnTo>
                    <a:pt x="4282" y="19146"/>
                  </a:lnTo>
                  <a:lnTo>
                    <a:pt x="3787" y="19717"/>
                  </a:lnTo>
                  <a:lnTo>
                    <a:pt x="3618" y="19717"/>
                  </a:lnTo>
                  <a:lnTo>
                    <a:pt x="3618" y="19993"/>
                  </a:lnTo>
                  <a:lnTo>
                    <a:pt x="3286" y="19993"/>
                  </a:lnTo>
                  <a:lnTo>
                    <a:pt x="3047" y="19796"/>
                  </a:lnTo>
                  <a:lnTo>
                    <a:pt x="2878" y="19520"/>
                  </a:lnTo>
                  <a:lnTo>
                    <a:pt x="2715" y="19422"/>
                  </a:lnTo>
                  <a:lnTo>
                    <a:pt x="2552" y="19422"/>
                  </a:lnTo>
                  <a:lnTo>
                    <a:pt x="2465" y="19146"/>
                  </a:lnTo>
                  <a:lnTo>
                    <a:pt x="2307" y="18764"/>
                  </a:lnTo>
                  <a:lnTo>
                    <a:pt x="2225" y="18482"/>
                  </a:lnTo>
                  <a:lnTo>
                    <a:pt x="2383" y="18383"/>
                  </a:lnTo>
                  <a:lnTo>
                    <a:pt x="2225" y="18291"/>
                  </a:lnTo>
                  <a:lnTo>
                    <a:pt x="2138" y="18107"/>
                  </a:lnTo>
                  <a:lnTo>
                    <a:pt x="2057" y="17917"/>
                  </a:lnTo>
                  <a:lnTo>
                    <a:pt x="2225" y="17818"/>
                  </a:lnTo>
                  <a:lnTo>
                    <a:pt x="2225" y="17726"/>
                  </a:lnTo>
                  <a:lnTo>
                    <a:pt x="2138" y="17542"/>
                  </a:lnTo>
                  <a:lnTo>
                    <a:pt x="2057" y="17351"/>
                  </a:lnTo>
                  <a:lnTo>
                    <a:pt x="1725" y="16878"/>
                  </a:lnTo>
                  <a:lnTo>
                    <a:pt x="1480" y="16602"/>
                  </a:lnTo>
                  <a:lnTo>
                    <a:pt x="1404" y="16503"/>
                  </a:lnTo>
                  <a:lnTo>
                    <a:pt x="1404" y="16405"/>
                  </a:lnTo>
                  <a:lnTo>
                    <a:pt x="1317" y="16313"/>
                  </a:lnTo>
                  <a:lnTo>
                    <a:pt x="1317" y="16405"/>
                  </a:lnTo>
                  <a:lnTo>
                    <a:pt x="1404" y="16602"/>
                  </a:lnTo>
                  <a:lnTo>
                    <a:pt x="1317" y="16602"/>
                  </a:lnTo>
                  <a:lnTo>
                    <a:pt x="1072" y="16405"/>
                  </a:lnTo>
                  <a:lnTo>
                    <a:pt x="990" y="16313"/>
                  </a:lnTo>
                  <a:lnTo>
                    <a:pt x="990" y="16405"/>
                  </a:lnTo>
                  <a:lnTo>
                    <a:pt x="740" y="16405"/>
                  </a:lnTo>
                  <a:lnTo>
                    <a:pt x="658" y="16405"/>
                  </a:lnTo>
                  <a:lnTo>
                    <a:pt x="571" y="15846"/>
                  </a:lnTo>
                  <a:lnTo>
                    <a:pt x="658" y="15465"/>
                  </a:lnTo>
                  <a:lnTo>
                    <a:pt x="658" y="15281"/>
                  </a:lnTo>
                  <a:lnTo>
                    <a:pt x="740" y="15090"/>
                  </a:lnTo>
                  <a:lnTo>
                    <a:pt x="990" y="14808"/>
                  </a:lnTo>
                  <a:lnTo>
                    <a:pt x="1153" y="14525"/>
                  </a:lnTo>
                  <a:lnTo>
                    <a:pt x="1404" y="14525"/>
                  </a:lnTo>
                  <a:lnTo>
                    <a:pt x="1561" y="14427"/>
                  </a:lnTo>
                  <a:lnTo>
                    <a:pt x="1812" y="14243"/>
                  </a:lnTo>
                  <a:lnTo>
                    <a:pt x="1643" y="14144"/>
                  </a:lnTo>
                  <a:lnTo>
                    <a:pt x="1404" y="13953"/>
                  </a:lnTo>
                  <a:lnTo>
                    <a:pt x="1317" y="13769"/>
                  </a:lnTo>
                  <a:lnTo>
                    <a:pt x="1153" y="13487"/>
                  </a:lnTo>
                  <a:lnTo>
                    <a:pt x="1317" y="13296"/>
                  </a:lnTo>
                  <a:lnTo>
                    <a:pt x="1480" y="13013"/>
                  </a:lnTo>
                  <a:lnTo>
                    <a:pt x="1561" y="12731"/>
                  </a:lnTo>
                  <a:lnTo>
                    <a:pt x="1725" y="12356"/>
                  </a:lnTo>
                  <a:lnTo>
                    <a:pt x="2057" y="12166"/>
                  </a:lnTo>
                  <a:lnTo>
                    <a:pt x="2057" y="11890"/>
                  </a:lnTo>
                  <a:lnTo>
                    <a:pt x="1812" y="11791"/>
                  </a:lnTo>
                  <a:lnTo>
                    <a:pt x="1812" y="11594"/>
                  </a:lnTo>
                  <a:lnTo>
                    <a:pt x="1812" y="11508"/>
                  </a:lnTo>
                  <a:lnTo>
                    <a:pt x="1643" y="11219"/>
                  </a:lnTo>
                  <a:lnTo>
                    <a:pt x="1643" y="11029"/>
                  </a:lnTo>
                  <a:lnTo>
                    <a:pt x="1480" y="10470"/>
                  </a:lnTo>
                  <a:lnTo>
                    <a:pt x="1725" y="10378"/>
                  </a:lnTo>
                  <a:lnTo>
                    <a:pt x="1893" y="10470"/>
                  </a:lnTo>
                  <a:lnTo>
                    <a:pt x="2138" y="10279"/>
                  </a:lnTo>
                  <a:lnTo>
                    <a:pt x="2307" y="10378"/>
                  </a:lnTo>
                  <a:lnTo>
                    <a:pt x="2465" y="10089"/>
                  </a:lnTo>
                  <a:lnTo>
                    <a:pt x="2633" y="9813"/>
                  </a:lnTo>
                  <a:lnTo>
                    <a:pt x="2633" y="9438"/>
                  </a:lnTo>
                  <a:lnTo>
                    <a:pt x="2552" y="9241"/>
                  </a:lnTo>
                  <a:lnTo>
                    <a:pt x="2552" y="9050"/>
                  </a:lnTo>
                  <a:lnTo>
                    <a:pt x="2633" y="9050"/>
                  </a:lnTo>
                  <a:lnTo>
                    <a:pt x="2878" y="8774"/>
                  </a:lnTo>
                  <a:lnTo>
                    <a:pt x="2965" y="8577"/>
                  </a:lnTo>
                  <a:lnTo>
                    <a:pt x="2965" y="8301"/>
                  </a:lnTo>
                  <a:lnTo>
                    <a:pt x="2965" y="8018"/>
                  </a:lnTo>
                  <a:lnTo>
                    <a:pt x="3047" y="7545"/>
                  </a:lnTo>
                  <a:lnTo>
                    <a:pt x="2965" y="7263"/>
                  </a:lnTo>
                  <a:lnTo>
                    <a:pt x="3128" y="7072"/>
                  </a:lnTo>
                  <a:lnTo>
                    <a:pt x="3379" y="6888"/>
                  </a:lnTo>
                  <a:lnTo>
                    <a:pt x="3618" y="6789"/>
                  </a:lnTo>
                  <a:lnTo>
                    <a:pt x="4032" y="6599"/>
                  </a:lnTo>
                  <a:lnTo>
                    <a:pt x="4200" y="6323"/>
                  </a:lnTo>
                  <a:lnTo>
                    <a:pt x="4358" y="6040"/>
                  </a:lnTo>
                  <a:lnTo>
                    <a:pt x="4282" y="5849"/>
                  </a:lnTo>
                  <a:lnTo>
                    <a:pt x="4200" y="5757"/>
                  </a:lnTo>
                  <a:lnTo>
                    <a:pt x="4032" y="5659"/>
                  </a:lnTo>
                  <a:lnTo>
                    <a:pt x="3950" y="5567"/>
                  </a:lnTo>
                  <a:lnTo>
                    <a:pt x="4032" y="5284"/>
                  </a:lnTo>
                  <a:lnTo>
                    <a:pt x="3950" y="5002"/>
                  </a:lnTo>
                  <a:lnTo>
                    <a:pt x="3787" y="5002"/>
                  </a:lnTo>
                  <a:lnTo>
                    <a:pt x="3700" y="4903"/>
                  </a:lnTo>
                  <a:lnTo>
                    <a:pt x="3536" y="4811"/>
                  </a:lnTo>
                  <a:lnTo>
                    <a:pt x="3379" y="4811"/>
                  </a:lnTo>
                  <a:lnTo>
                    <a:pt x="3210" y="4719"/>
                  </a:lnTo>
                  <a:lnTo>
                    <a:pt x="2965" y="4620"/>
                  </a:lnTo>
                  <a:lnTo>
                    <a:pt x="2878" y="4903"/>
                  </a:lnTo>
                  <a:lnTo>
                    <a:pt x="2715" y="4903"/>
                  </a:lnTo>
                  <a:lnTo>
                    <a:pt x="2383" y="4903"/>
                  </a:lnTo>
                  <a:lnTo>
                    <a:pt x="2225" y="4903"/>
                  </a:lnTo>
                  <a:lnTo>
                    <a:pt x="2057" y="4719"/>
                  </a:lnTo>
                  <a:lnTo>
                    <a:pt x="1812" y="4719"/>
                  </a:lnTo>
                  <a:lnTo>
                    <a:pt x="1561" y="4719"/>
                  </a:lnTo>
                  <a:lnTo>
                    <a:pt x="1317" y="4719"/>
                  </a:lnTo>
                  <a:lnTo>
                    <a:pt x="1317" y="4430"/>
                  </a:lnTo>
                  <a:lnTo>
                    <a:pt x="1480" y="4246"/>
                  </a:lnTo>
                  <a:lnTo>
                    <a:pt x="1480" y="4062"/>
                  </a:lnTo>
                  <a:lnTo>
                    <a:pt x="1404" y="4062"/>
                  </a:lnTo>
                  <a:lnTo>
                    <a:pt x="1317" y="3865"/>
                  </a:lnTo>
                  <a:lnTo>
                    <a:pt x="1235" y="3865"/>
                  </a:lnTo>
                  <a:lnTo>
                    <a:pt x="990" y="3963"/>
                  </a:lnTo>
                  <a:lnTo>
                    <a:pt x="822" y="3963"/>
                  </a:lnTo>
                  <a:lnTo>
                    <a:pt x="490" y="3963"/>
                  </a:lnTo>
                  <a:lnTo>
                    <a:pt x="163" y="4147"/>
                  </a:lnTo>
                  <a:lnTo>
                    <a:pt x="163" y="4147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39160" y="5133960"/>
              <a:ext cx="168120" cy="128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3009" y="1099"/>
                  </a:moveTo>
                  <a:lnTo>
                    <a:pt x="13009" y="1099"/>
                  </a:lnTo>
                  <a:lnTo>
                    <a:pt x="14785" y="0"/>
                  </a:lnTo>
                  <a:lnTo>
                    <a:pt x="15587" y="1099"/>
                  </a:lnTo>
                  <a:lnTo>
                    <a:pt x="13868" y="2125"/>
                  </a:lnTo>
                  <a:lnTo>
                    <a:pt x="13868" y="3077"/>
                  </a:lnTo>
                  <a:lnTo>
                    <a:pt x="15587" y="2125"/>
                  </a:lnTo>
                  <a:lnTo>
                    <a:pt x="15587" y="4176"/>
                  </a:lnTo>
                  <a:lnTo>
                    <a:pt x="13868" y="4176"/>
                  </a:lnTo>
                  <a:lnTo>
                    <a:pt x="15587" y="6300"/>
                  </a:lnTo>
                  <a:lnTo>
                    <a:pt x="18223" y="5275"/>
                  </a:lnTo>
                  <a:lnTo>
                    <a:pt x="19943" y="6300"/>
                  </a:lnTo>
                  <a:lnTo>
                    <a:pt x="19083" y="9451"/>
                  </a:lnTo>
                  <a:lnTo>
                    <a:pt x="18223" y="9451"/>
                  </a:lnTo>
                  <a:lnTo>
                    <a:pt x="18223" y="11575"/>
                  </a:lnTo>
                  <a:lnTo>
                    <a:pt x="16447" y="12527"/>
                  </a:lnTo>
                  <a:lnTo>
                    <a:pt x="16447" y="14652"/>
                  </a:lnTo>
                  <a:lnTo>
                    <a:pt x="14785" y="17802"/>
                  </a:lnTo>
                  <a:lnTo>
                    <a:pt x="13868" y="17802"/>
                  </a:lnTo>
                  <a:lnTo>
                    <a:pt x="12149" y="19927"/>
                  </a:lnTo>
                  <a:lnTo>
                    <a:pt x="11289" y="17802"/>
                  </a:lnTo>
                  <a:lnTo>
                    <a:pt x="10430" y="16850"/>
                  </a:lnTo>
                  <a:lnTo>
                    <a:pt x="6934" y="16850"/>
                  </a:lnTo>
                  <a:lnTo>
                    <a:pt x="6934" y="14652"/>
                  </a:lnTo>
                  <a:lnTo>
                    <a:pt x="6934" y="12527"/>
                  </a:lnTo>
                  <a:lnTo>
                    <a:pt x="5158" y="10476"/>
                  </a:lnTo>
                  <a:lnTo>
                    <a:pt x="3496" y="11575"/>
                  </a:lnTo>
                  <a:lnTo>
                    <a:pt x="2636" y="13553"/>
                  </a:lnTo>
                  <a:lnTo>
                    <a:pt x="1719" y="12527"/>
                  </a:lnTo>
                  <a:lnTo>
                    <a:pt x="1719" y="11575"/>
                  </a:lnTo>
                  <a:lnTo>
                    <a:pt x="0" y="11575"/>
                  </a:lnTo>
                  <a:lnTo>
                    <a:pt x="0" y="9451"/>
                  </a:lnTo>
                  <a:lnTo>
                    <a:pt x="3496" y="6300"/>
                  </a:lnTo>
                  <a:lnTo>
                    <a:pt x="6934" y="3077"/>
                  </a:lnTo>
                  <a:lnTo>
                    <a:pt x="10430" y="1099"/>
                  </a:lnTo>
                  <a:lnTo>
                    <a:pt x="11289" y="1099"/>
                  </a:lnTo>
                  <a:lnTo>
                    <a:pt x="13009" y="1099"/>
                  </a:lnTo>
                  <a:lnTo>
                    <a:pt x="13009" y="1099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58080" y="5275800"/>
              <a:ext cx="65880" cy="4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6715" y="19804"/>
                  </a:moveTo>
                  <a:lnTo>
                    <a:pt x="2190" y="17059"/>
                  </a:lnTo>
                  <a:lnTo>
                    <a:pt x="0" y="17059"/>
                  </a:lnTo>
                  <a:lnTo>
                    <a:pt x="0" y="14118"/>
                  </a:lnTo>
                  <a:lnTo>
                    <a:pt x="0" y="11176"/>
                  </a:lnTo>
                  <a:lnTo>
                    <a:pt x="0" y="8627"/>
                  </a:lnTo>
                  <a:lnTo>
                    <a:pt x="4380" y="8627"/>
                  </a:lnTo>
                  <a:lnTo>
                    <a:pt x="4380" y="2941"/>
                  </a:lnTo>
                  <a:lnTo>
                    <a:pt x="6715" y="0"/>
                  </a:lnTo>
                  <a:lnTo>
                    <a:pt x="10949" y="0"/>
                  </a:lnTo>
                  <a:lnTo>
                    <a:pt x="15474" y="0"/>
                  </a:lnTo>
                  <a:lnTo>
                    <a:pt x="17664" y="0"/>
                  </a:lnTo>
                  <a:lnTo>
                    <a:pt x="19854" y="5882"/>
                  </a:lnTo>
                  <a:lnTo>
                    <a:pt x="17664" y="8627"/>
                  </a:lnTo>
                  <a:lnTo>
                    <a:pt x="15474" y="8627"/>
                  </a:lnTo>
                  <a:lnTo>
                    <a:pt x="13139" y="8627"/>
                  </a:lnTo>
                  <a:lnTo>
                    <a:pt x="13139" y="11176"/>
                  </a:lnTo>
                  <a:lnTo>
                    <a:pt x="10949" y="14118"/>
                  </a:lnTo>
                  <a:lnTo>
                    <a:pt x="8905" y="14118"/>
                  </a:lnTo>
                  <a:lnTo>
                    <a:pt x="8905" y="17059"/>
                  </a:lnTo>
                  <a:lnTo>
                    <a:pt x="6715" y="19804"/>
                  </a:lnTo>
                  <a:lnTo>
                    <a:pt x="6715" y="19804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65920" y="1373400"/>
              <a:ext cx="356400" cy="400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8140" y="19976"/>
                  </a:moveTo>
                  <a:lnTo>
                    <a:pt x="8140" y="18630"/>
                  </a:lnTo>
                  <a:lnTo>
                    <a:pt x="7358" y="17285"/>
                  </a:lnTo>
                  <a:lnTo>
                    <a:pt x="7358" y="15254"/>
                  </a:lnTo>
                  <a:lnTo>
                    <a:pt x="7736" y="14215"/>
                  </a:lnTo>
                  <a:lnTo>
                    <a:pt x="7736" y="13554"/>
                  </a:lnTo>
                  <a:lnTo>
                    <a:pt x="7358" y="13223"/>
                  </a:lnTo>
                  <a:lnTo>
                    <a:pt x="6927" y="13554"/>
                  </a:lnTo>
                  <a:lnTo>
                    <a:pt x="6523" y="13884"/>
                  </a:lnTo>
                  <a:lnTo>
                    <a:pt x="6119" y="14545"/>
                  </a:lnTo>
                  <a:lnTo>
                    <a:pt x="5310" y="14900"/>
                  </a:lnTo>
                  <a:lnTo>
                    <a:pt x="4070" y="14545"/>
                  </a:lnTo>
                  <a:lnTo>
                    <a:pt x="3666" y="14215"/>
                  </a:lnTo>
                  <a:lnTo>
                    <a:pt x="2830" y="13884"/>
                  </a:lnTo>
                  <a:lnTo>
                    <a:pt x="2426" y="12869"/>
                  </a:lnTo>
                  <a:lnTo>
                    <a:pt x="1240" y="12184"/>
                  </a:lnTo>
                  <a:lnTo>
                    <a:pt x="809" y="11523"/>
                  </a:lnTo>
                  <a:lnTo>
                    <a:pt x="1644" y="10838"/>
                  </a:lnTo>
                  <a:lnTo>
                    <a:pt x="2426" y="10153"/>
                  </a:lnTo>
                  <a:lnTo>
                    <a:pt x="2426" y="9823"/>
                  </a:lnTo>
                  <a:lnTo>
                    <a:pt x="1644" y="10153"/>
                  </a:lnTo>
                  <a:lnTo>
                    <a:pt x="809" y="10153"/>
                  </a:lnTo>
                  <a:lnTo>
                    <a:pt x="404" y="10153"/>
                  </a:lnTo>
                  <a:lnTo>
                    <a:pt x="404" y="9823"/>
                  </a:lnTo>
                  <a:lnTo>
                    <a:pt x="404" y="9138"/>
                  </a:lnTo>
                  <a:lnTo>
                    <a:pt x="0" y="8453"/>
                  </a:lnTo>
                  <a:lnTo>
                    <a:pt x="404" y="8146"/>
                  </a:lnTo>
                  <a:lnTo>
                    <a:pt x="0" y="7792"/>
                  </a:lnTo>
                  <a:lnTo>
                    <a:pt x="0" y="7462"/>
                  </a:lnTo>
                  <a:lnTo>
                    <a:pt x="0" y="6423"/>
                  </a:lnTo>
                  <a:lnTo>
                    <a:pt x="404" y="5762"/>
                  </a:lnTo>
                  <a:lnTo>
                    <a:pt x="1240" y="5431"/>
                  </a:lnTo>
                  <a:lnTo>
                    <a:pt x="2049" y="5077"/>
                  </a:lnTo>
                  <a:lnTo>
                    <a:pt x="2830" y="4416"/>
                  </a:lnTo>
                  <a:lnTo>
                    <a:pt x="3666" y="3731"/>
                  </a:lnTo>
                  <a:lnTo>
                    <a:pt x="4879" y="3046"/>
                  </a:lnTo>
                  <a:lnTo>
                    <a:pt x="5714" y="2692"/>
                  </a:lnTo>
                  <a:lnTo>
                    <a:pt x="6927" y="2385"/>
                  </a:lnTo>
                  <a:lnTo>
                    <a:pt x="7736" y="2054"/>
                  </a:lnTo>
                  <a:lnTo>
                    <a:pt x="8544" y="2054"/>
                  </a:lnTo>
                  <a:lnTo>
                    <a:pt x="9380" y="1700"/>
                  </a:lnTo>
                  <a:lnTo>
                    <a:pt x="10593" y="992"/>
                  </a:lnTo>
                  <a:lnTo>
                    <a:pt x="11429" y="708"/>
                  </a:lnTo>
                  <a:lnTo>
                    <a:pt x="12237" y="354"/>
                  </a:lnTo>
                  <a:lnTo>
                    <a:pt x="13046" y="354"/>
                  </a:lnTo>
                  <a:lnTo>
                    <a:pt x="13854" y="354"/>
                  </a:lnTo>
                  <a:lnTo>
                    <a:pt x="14663" y="0"/>
                  </a:lnTo>
                  <a:lnTo>
                    <a:pt x="15499" y="354"/>
                  </a:lnTo>
                  <a:lnTo>
                    <a:pt x="16307" y="0"/>
                  </a:lnTo>
                  <a:lnTo>
                    <a:pt x="17925" y="0"/>
                  </a:lnTo>
                  <a:lnTo>
                    <a:pt x="19164" y="354"/>
                  </a:lnTo>
                  <a:lnTo>
                    <a:pt x="19164" y="3046"/>
                  </a:lnTo>
                  <a:lnTo>
                    <a:pt x="17547" y="3731"/>
                  </a:lnTo>
                  <a:lnTo>
                    <a:pt x="17547" y="7792"/>
                  </a:lnTo>
                  <a:lnTo>
                    <a:pt x="17143" y="11169"/>
                  </a:lnTo>
                  <a:lnTo>
                    <a:pt x="18329" y="14900"/>
                  </a:lnTo>
                  <a:lnTo>
                    <a:pt x="19973" y="17591"/>
                  </a:lnTo>
                  <a:lnTo>
                    <a:pt x="15094" y="19976"/>
                  </a:lnTo>
                  <a:lnTo>
                    <a:pt x="11024" y="19292"/>
                  </a:lnTo>
                  <a:lnTo>
                    <a:pt x="8140" y="19976"/>
                  </a:lnTo>
                  <a:lnTo>
                    <a:pt x="8140" y="19976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89800" y="1143000"/>
              <a:ext cx="690480" cy="257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640" y="0"/>
                  </a:moveTo>
                  <a:lnTo>
                    <a:pt x="19986" y="0"/>
                  </a:lnTo>
                  <a:lnTo>
                    <a:pt x="19138" y="2088"/>
                  </a:lnTo>
                  <a:lnTo>
                    <a:pt x="18526" y="2088"/>
                  </a:lnTo>
                  <a:lnTo>
                    <a:pt x="17677" y="3150"/>
                  </a:lnTo>
                  <a:lnTo>
                    <a:pt x="16829" y="3150"/>
                  </a:lnTo>
                  <a:lnTo>
                    <a:pt x="16620" y="3150"/>
                  </a:lnTo>
                  <a:lnTo>
                    <a:pt x="15994" y="3700"/>
                  </a:lnTo>
                  <a:lnTo>
                    <a:pt x="15355" y="4689"/>
                  </a:lnTo>
                  <a:lnTo>
                    <a:pt x="14729" y="5238"/>
                  </a:lnTo>
                  <a:lnTo>
                    <a:pt x="14298" y="5788"/>
                  </a:lnTo>
                  <a:lnTo>
                    <a:pt x="13880" y="5788"/>
                  </a:lnTo>
                  <a:lnTo>
                    <a:pt x="13686" y="5238"/>
                  </a:lnTo>
                  <a:lnTo>
                    <a:pt x="13880" y="6300"/>
                  </a:lnTo>
                  <a:lnTo>
                    <a:pt x="13880" y="7326"/>
                  </a:lnTo>
                  <a:lnTo>
                    <a:pt x="13880" y="7875"/>
                  </a:lnTo>
                  <a:lnTo>
                    <a:pt x="13046" y="7326"/>
                  </a:lnTo>
                  <a:lnTo>
                    <a:pt x="12629" y="8388"/>
                  </a:lnTo>
                  <a:lnTo>
                    <a:pt x="12629" y="9487"/>
                  </a:lnTo>
                  <a:lnTo>
                    <a:pt x="11780" y="10000"/>
                  </a:lnTo>
                  <a:lnTo>
                    <a:pt x="11349" y="11026"/>
                  </a:lnTo>
                  <a:lnTo>
                    <a:pt x="10529" y="13114"/>
                  </a:lnTo>
                  <a:lnTo>
                    <a:pt x="10306" y="14176"/>
                  </a:lnTo>
                  <a:lnTo>
                    <a:pt x="9889" y="15275"/>
                  </a:lnTo>
                  <a:lnTo>
                    <a:pt x="9680" y="15788"/>
                  </a:lnTo>
                  <a:lnTo>
                    <a:pt x="9458" y="15275"/>
                  </a:lnTo>
                  <a:lnTo>
                    <a:pt x="9458" y="14176"/>
                  </a:lnTo>
                  <a:lnTo>
                    <a:pt x="9040" y="15275"/>
                  </a:lnTo>
                  <a:lnTo>
                    <a:pt x="8414" y="16264"/>
                  </a:lnTo>
                  <a:lnTo>
                    <a:pt x="7580" y="17363"/>
                  </a:lnTo>
                  <a:lnTo>
                    <a:pt x="6732" y="18901"/>
                  </a:lnTo>
                  <a:lnTo>
                    <a:pt x="6300" y="19963"/>
                  </a:lnTo>
                  <a:lnTo>
                    <a:pt x="5897" y="19963"/>
                  </a:lnTo>
                  <a:lnTo>
                    <a:pt x="5688" y="19414"/>
                  </a:lnTo>
                  <a:lnTo>
                    <a:pt x="5897" y="18425"/>
                  </a:lnTo>
                  <a:lnTo>
                    <a:pt x="5688" y="17363"/>
                  </a:lnTo>
                  <a:lnTo>
                    <a:pt x="5897" y="16264"/>
                  </a:lnTo>
                  <a:lnTo>
                    <a:pt x="5257" y="16264"/>
                  </a:lnTo>
                  <a:lnTo>
                    <a:pt x="4840" y="16813"/>
                  </a:lnTo>
                  <a:lnTo>
                    <a:pt x="4631" y="17363"/>
                  </a:lnTo>
                  <a:lnTo>
                    <a:pt x="4409" y="17875"/>
                  </a:lnTo>
                  <a:lnTo>
                    <a:pt x="3992" y="17363"/>
                  </a:lnTo>
                  <a:lnTo>
                    <a:pt x="3797" y="16813"/>
                  </a:lnTo>
                  <a:lnTo>
                    <a:pt x="3588" y="15788"/>
                  </a:lnTo>
                  <a:lnTo>
                    <a:pt x="3588" y="14725"/>
                  </a:lnTo>
                  <a:lnTo>
                    <a:pt x="3366" y="13663"/>
                  </a:lnTo>
                  <a:lnTo>
                    <a:pt x="3157" y="13114"/>
                  </a:lnTo>
                  <a:lnTo>
                    <a:pt x="2949" y="12637"/>
                  </a:lnTo>
                  <a:lnTo>
                    <a:pt x="2740" y="12637"/>
                  </a:lnTo>
                  <a:lnTo>
                    <a:pt x="2309" y="13114"/>
                  </a:lnTo>
                  <a:lnTo>
                    <a:pt x="2100" y="12088"/>
                  </a:lnTo>
                  <a:lnTo>
                    <a:pt x="1683" y="11026"/>
                  </a:lnTo>
                  <a:lnTo>
                    <a:pt x="1460" y="10476"/>
                  </a:lnTo>
                  <a:lnTo>
                    <a:pt x="1252" y="10476"/>
                  </a:lnTo>
                  <a:lnTo>
                    <a:pt x="848" y="10000"/>
                  </a:lnTo>
                  <a:lnTo>
                    <a:pt x="640" y="9487"/>
                  </a:lnTo>
                  <a:lnTo>
                    <a:pt x="417" y="7875"/>
                  </a:lnTo>
                  <a:lnTo>
                    <a:pt x="209" y="6300"/>
                  </a:lnTo>
                  <a:lnTo>
                    <a:pt x="0" y="4689"/>
                  </a:lnTo>
                  <a:lnTo>
                    <a:pt x="209" y="3150"/>
                  </a:lnTo>
                  <a:lnTo>
                    <a:pt x="640" y="0"/>
                  </a:lnTo>
                  <a:lnTo>
                    <a:pt x="640" y="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26280" y="3117240"/>
              <a:ext cx="1670400" cy="1575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0262" y="1988"/>
                  </a:moveTo>
                  <a:lnTo>
                    <a:pt x="10170" y="1808"/>
                  </a:lnTo>
                  <a:lnTo>
                    <a:pt x="10170" y="1634"/>
                  </a:lnTo>
                  <a:lnTo>
                    <a:pt x="10170" y="1381"/>
                  </a:lnTo>
                  <a:lnTo>
                    <a:pt x="10262" y="1201"/>
                  </a:lnTo>
                  <a:lnTo>
                    <a:pt x="10262" y="949"/>
                  </a:lnTo>
                  <a:lnTo>
                    <a:pt x="10262" y="775"/>
                  </a:lnTo>
                  <a:lnTo>
                    <a:pt x="10262" y="523"/>
                  </a:lnTo>
                  <a:lnTo>
                    <a:pt x="10262" y="432"/>
                  </a:lnTo>
                  <a:lnTo>
                    <a:pt x="10515" y="252"/>
                  </a:lnTo>
                  <a:lnTo>
                    <a:pt x="10693" y="252"/>
                  </a:lnTo>
                  <a:lnTo>
                    <a:pt x="10951" y="180"/>
                  </a:lnTo>
                  <a:lnTo>
                    <a:pt x="11130" y="90"/>
                  </a:lnTo>
                  <a:lnTo>
                    <a:pt x="11388" y="90"/>
                  </a:lnTo>
                  <a:lnTo>
                    <a:pt x="11647" y="0"/>
                  </a:lnTo>
                  <a:lnTo>
                    <a:pt x="11819" y="252"/>
                  </a:lnTo>
                  <a:lnTo>
                    <a:pt x="11819" y="432"/>
                  </a:lnTo>
                  <a:lnTo>
                    <a:pt x="11819" y="607"/>
                  </a:lnTo>
                  <a:lnTo>
                    <a:pt x="11911" y="685"/>
                  </a:lnTo>
                  <a:lnTo>
                    <a:pt x="12084" y="775"/>
                  </a:lnTo>
                  <a:lnTo>
                    <a:pt x="12170" y="859"/>
                  </a:lnTo>
                  <a:lnTo>
                    <a:pt x="12435" y="775"/>
                  </a:lnTo>
                  <a:lnTo>
                    <a:pt x="12601" y="685"/>
                  </a:lnTo>
                  <a:lnTo>
                    <a:pt x="12780" y="859"/>
                  </a:lnTo>
                  <a:lnTo>
                    <a:pt x="12780" y="1123"/>
                  </a:lnTo>
                  <a:lnTo>
                    <a:pt x="12780" y="1291"/>
                  </a:lnTo>
                  <a:lnTo>
                    <a:pt x="12866" y="1381"/>
                  </a:lnTo>
                  <a:lnTo>
                    <a:pt x="13038" y="1381"/>
                  </a:lnTo>
                  <a:lnTo>
                    <a:pt x="13216" y="1465"/>
                  </a:lnTo>
                  <a:lnTo>
                    <a:pt x="13303" y="1634"/>
                  </a:lnTo>
                  <a:lnTo>
                    <a:pt x="13389" y="1808"/>
                  </a:lnTo>
                  <a:lnTo>
                    <a:pt x="13389" y="1898"/>
                  </a:lnTo>
                  <a:lnTo>
                    <a:pt x="13469" y="1808"/>
                  </a:lnTo>
                  <a:lnTo>
                    <a:pt x="13648" y="1898"/>
                  </a:lnTo>
                  <a:lnTo>
                    <a:pt x="13820" y="1808"/>
                  </a:lnTo>
                  <a:lnTo>
                    <a:pt x="13998" y="1988"/>
                  </a:lnTo>
                  <a:lnTo>
                    <a:pt x="14085" y="2072"/>
                  </a:lnTo>
                  <a:lnTo>
                    <a:pt x="13998" y="2150"/>
                  </a:lnTo>
                  <a:lnTo>
                    <a:pt x="13906" y="2414"/>
                  </a:lnTo>
                  <a:lnTo>
                    <a:pt x="14085" y="2414"/>
                  </a:lnTo>
                  <a:lnTo>
                    <a:pt x="13998" y="2583"/>
                  </a:lnTo>
                  <a:lnTo>
                    <a:pt x="13998" y="2673"/>
                  </a:lnTo>
                  <a:lnTo>
                    <a:pt x="14435" y="2757"/>
                  </a:lnTo>
                  <a:lnTo>
                    <a:pt x="14688" y="2673"/>
                  </a:lnTo>
                  <a:lnTo>
                    <a:pt x="14774" y="2505"/>
                  </a:lnTo>
                  <a:lnTo>
                    <a:pt x="14866" y="2414"/>
                  </a:lnTo>
                  <a:lnTo>
                    <a:pt x="15039" y="2330"/>
                  </a:lnTo>
                  <a:lnTo>
                    <a:pt x="15125" y="2330"/>
                  </a:lnTo>
                  <a:lnTo>
                    <a:pt x="15039" y="2505"/>
                  </a:lnTo>
                  <a:lnTo>
                    <a:pt x="15039" y="2673"/>
                  </a:lnTo>
                  <a:lnTo>
                    <a:pt x="15039" y="2757"/>
                  </a:lnTo>
                  <a:lnTo>
                    <a:pt x="15039" y="2847"/>
                  </a:lnTo>
                  <a:lnTo>
                    <a:pt x="15039" y="3099"/>
                  </a:lnTo>
                  <a:lnTo>
                    <a:pt x="15125" y="3189"/>
                  </a:lnTo>
                  <a:lnTo>
                    <a:pt x="15303" y="3279"/>
                  </a:lnTo>
                  <a:lnTo>
                    <a:pt x="15476" y="3363"/>
                  </a:lnTo>
                  <a:lnTo>
                    <a:pt x="15648" y="3447"/>
                  </a:lnTo>
                  <a:lnTo>
                    <a:pt x="15734" y="3622"/>
                  </a:lnTo>
                  <a:lnTo>
                    <a:pt x="15907" y="3796"/>
                  </a:lnTo>
                  <a:lnTo>
                    <a:pt x="16171" y="3796"/>
                  </a:lnTo>
                  <a:lnTo>
                    <a:pt x="16522" y="3706"/>
                  </a:lnTo>
                  <a:lnTo>
                    <a:pt x="16602" y="4048"/>
                  </a:lnTo>
                  <a:lnTo>
                    <a:pt x="17039" y="3880"/>
                  </a:lnTo>
                  <a:lnTo>
                    <a:pt x="17212" y="3958"/>
                  </a:lnTo>
                  <a:lnTo>
                    <a:pt x="17304" y="3958"/>
                  </a:lnTo>
                  <a:lnTo>
                    <a:pt x="17643" y="4228"/>
                  </a:lnTo>
                  <a:lnTo>
                    <a:pt x="17735" y="4396"/>
                  </a:lnTo>
                  <a:lnTo>
                    <a:pt x="17821" y="4571"/>
                  </a:lnTo>
                  <a:lnTo>
                    <a:pt x="17907" y="4745"/>
                  </a:lnTo>
                  <a:lnTo>
                    <a:pt x="17994" y="4571"/>
                  </a:lnTo>
                  <a:lnTo>
                    <a:pt x="18172" y="4745"/>
                  </a:lnTo>
                  <a:lnTo>
                    <a:pt x="18511" y="4829"/>
                  </a:lnTo>
                  <a:lnTo>
                    <a:pt x="18776" y="4829"/>
                  </a:lnTo>
                  <a:lnTo>
                    <a:pt x="18862" y="4655"/>
                  </a:lnTo>
                  <a:lnTo>
                    <a:pt x="19040" y="4655"/>
                  </a:lnTo>
                  <a:lnTo>
                    <a:pt x="19040" y="4829"/>
                  </a:lnTo>
                  <a:lnTo>
                    <a:pt x="19391" y="4907"/>
                  </a:lnTo>
                  <a:lnTo>
                    <a:pt x="19557" y="4997"/>
                  </a:lnTo>
                  <a:lnTo>
                    <a:pt x="19822" y="5087"/>
                  </a:lnTo>
                  <a:lnTo>
                    <a:pt x="19994" y="5177"/>
                  </a:lnTo>
                  <a:lnTo>
                    <a:pt x="19644" y="5604"/>
                  </a:lnTo>
                  <a:lnTo>
                    <a:pt x="19477" y="5778"/>
                  </a:lnTo>
                  <a:lnTo>
                    <a:pt x="19391" y="6036"/>
                  </a:lnTo>
                  <a:lnTo>
                    <a:pt x="19299" y="6378"/>
                  </a:lnTo>
                  <a:lnTo>
                    <a:pt x="19126" y="6637"/>
                  </a:lnTo>
                  <a:lnTo>
                    <a:pt x="19126" y="6895"/>
                  </a:lnTo>
                  <a:lnTo>
                    <a:pt x="19040" y="7069"/>
                  </a:lnTo>
                  <a:lnTo>
                    <a:pt x="19040" y="7327"/>
                  </a:lnTo>
                  <a:lnTo>
                    <a:pt x="18948" y="7586"/>
                  </a:lnTo>
                  <a:lnTo>
                    <a:pt x="18948" y="7754"/>
                  </a:lnTo>
                  <a:lnTo>
                    <a:pt x="18948" y="7928"/>
                  </a:lnTo>
                  <a:lnTo>
                    <a:pt x="18948" y="8012"/>
                  </a:lnTo>
                  <a:lnTo>
                    <a:pt x="18948" y="8186"/>
                  </a:lnTo>
                  <a:lnTo>
                    <a:pt x="18948" y="8276"/>
                  </a:lnTo>
                  <a:lnTo>
                    <a:pt x="19040" y="8276"/>
                  </a:lnTo>
                  <a:lnTo>
                    <a:pt x="18948" y="8360"/>
                  </a:lnTo>
                  <a:lnTo>
                    <a:pt x="18862" y="8535"/>
                  </a:lnTo>
                  <a:lnTo>
                    <a:pt x="18689" y="8535"/>
                  </a:lnTo>
                  <a:lnTo>
                    <a:pt x="18511" y="8535"/>
                  </a:lnTo>
                  <a:lnTo>
                    <a:pt x="18344" y="8444"/>
                  </a:lnTo>
                  <a:lnTo>
                    <a:pt x="18258" y="8444"/>
                  </a:lnTo>
                  <a:lnTo>
                    <a:pt x="18172" y="8625"/>
                  </a:lnTo>
                  <a:lnTo>
                    <a:pt x="18080" y="8793"/>
                  </a:lnTo>
                  <a:lnTo>
                    <a:pt x="17994" y="8877"/>
                  </a:lnTo>
                  <a:lnTo>
                    <a:pt x="18080" y="8961"/>
                  </a:lnTo>
                  <a:lnTo>
                    <a:pt x="18172" y="8961"/>
                  </a:lnTo>
                  <a:lnTo>
                    <a:pt x="17994" y="9225"/>
                  </a:lnTo>
                  <a:lnTo>
                    <a:pt x="17821" y="9309"/>
                  </a:lnTo>
                  <a:lnTo>
                    <a:pt x="17735" y="9483"/>
                  </a:lnTo>
                  <a:lnTo>
                    <a:pt x="17476" y="9742"/>
                  </a:lnTo>
                  <a:lnTo>
                    <a:pt x="17390" y="9826"/>
                  </a:lnTo>
                  <a:lnTo>
                    <a:pt x="17212" y="10000"/>
                  </a:lnTo>
                  <a:lnTo>
                    <a:pt x="17126" y="10252"/>
                  </a:lnTo>
                  <a:lnTo>
                    <a:pt x="16953" y="10432"/>
                  </a:lnTo>
                  <a:lnTo>
                    <a:pt x="16775" y="10601"/>
                  </a:lnTo>
                  <a:lnTo>
                    <a:pt x="16689" y="10775"/>
                  </a:lnTo>
                  <a:lnTo>
                    <a:pt x="16602" y="10943"/>
                  </a:lnTo>
                  <a:lnTo>
                    <a:pt x="16602" y="11033"/>
                  </a:lnTo>
                  <a:lnTo>
                    <a:pt x="16522" y="11291"/>
                  </a:lnTo>
                  <a:lnTo>
                    <a:pt x="16522" y="11381"/>
                  </a:lnTo>
                  <a:lnTo>
                    <a:pt x="16344" y="11550"/>
                  </a:lnTo>
                  <a:lnTo>
                    <a:pt x="16602" y="11550"/>
                  </a:lnTo>
                  <a:lnTo>
                    <a:pt x="16689" y="11550"/>
                  </a:lnTo>
                  <a:lnTo>
                    <a:pt x="17212" y="10943"/>
                  </a:lnTo>
                  <a:lnTo>
                    <a:pt x="17476" y="10943"/>
                  </a:lnTo>
                  <a:lnTo>
                    <a:pt x="17907" y="11033"/>
                  </a:lnTo>
                  <a:lnTo>
                    <a:pt x="17907" y="11201"/>
                  </a:lnTo>
                  <a:lnTo>
                    <a:pt x="17907" y="11634"/>
                  </a:lnTo>
                  <a:lnTo>
                    <a:pt x="17994" y="11634"/>
                  </a:lnTo>
                  <a:lnTo>
                    <a:pt x="17994" y="11808"/>
                  </a:lnTo>
                  <a:lnTo>
                    <a:pt x="18172" y="11892"/>
                  </a:lnTo>
                  <a:lnTo>
                    <a:pt x="18344" y="12150"/>
                  </a:lnTo>
                  <a:lnTo>
                    <a:pt x="18080" y="12240"/>
                  </a:lnTo>
                  <a:lnTo>
                    <a:pt x="17994" y="12330"/>
                  </a:lnTo>
                  <a:lnTo>
                    <a:pt x="17907" y="12583"/>
                  </a:lnTo>
                  <a:lnTo>
                    <a:pt x="18080" y="12673"/>
                  </a:lnTo>
                  <a:lnTo>
                    <a:pt x="18172" y="12925"/>
                  </a:lnTo>
                  <a:lnTo>
                    <a:pt x="18258" y="13099"/>
                  </a:lnTo>
                  <a:lnTo>
                    <a:pt x="18344" y="13189"/>
                  </a:lnTo>
                  <a:lnTo>
                    <a:pt x="18344" y="13357"/>
                  </a:lnTo>
                  <a:lnTo>
                    <a:pt x="18344" y="13616"/>
                  </a:lnTo>
                  <a:lnTo>
                    <a:pt x="18080" y="13874"/>
                  </a:lnTo>
                  <a:lnTo>
                    <a:pt x="18080" y="13958"/>
                  </a:lnTo>
                  <a:lnTo>
                    <a:pt x="17557" y="14048"/>
                  </a:lnTo>
                  <a:lnTo>
                    <a:pt x="17643" y="14228"/>
                  </a:lnTo>
                  <a:lnTo>
                    <a:pt x="17821" y="14228"/>
                  </a:lnTo>
                  <a:lnTo>
                    <a:pt x="17735" y="14480"/>
                  </a:lnTo>
                  <a:lnTo>
                    <a:pt x="17907" y="14565"/>
                  </a:lnTo>
                  <a:lnTo>
                    <a:pt x="18080" y="14565"/>
                  </a:lnTo>
                  <a:lnTo>
                    <a:pt x="18172" y="14655"/>
                  </a:lnTo>
                  <a:lnTo>
                    <a:pt x="18344" y="14907"/>
                  </a:lnTo>
                  <a:lnTo>
                    <a:pt x="18172" y="14907"/>
                  </a:lnTo>
                  <a:lnTo>
                    <a:pt x="18080" y="15087"/>
                  </a:lnTo>
                  <a:lnTo>
                    <a:pt x="17994" y="15249"/>
                  </a:lnTo>
                  <a:lnTo>
                    <a:pt x="17907" y="15429"/>
                  </a:lnTo>
                  <a:lnTo>
                    <a:pt x="17994" y="15429"/>
                  </a:lnTo>
                  <a:lnTo>
                    <a:pt x="17994" y="15598"/>
                  </a:lnTo>
                  <a:lnTo>
                    <a:pt x="17994" y="15772"/>
                  </a:lnTo>
                  <a:lnTo>
                    <a:pt x="18258" y="16036"/>
                  </a:lnTo>
                  <a:lnTo>
                    <a:pt x="18511" y="16198"/>
                  </a:lnTo>
                  <a:lnTo>
                    <a:pt x="18776" y="16288"/>
                  </a:lnTo>
                  <a:lnTo>
                    <a:pt x="18948" y="16288"/>
                  </a:lnTo>
                  <a:lnTo>
                    <a:pt x="19126" y="16198"/>
                  </a:lnTo>
                  <a:lnTo>
                    <a:pt x="19212" y="16198"/>
                  </a:lnTo>
                  <a:lnTo>
                    <a:pt x="19391" y="16288"/>
                  </a:lnTo>
                  <a:lnTo>
                    <a:pt x="19299" y="16547"/>
                  </a:lnTo>
                  <a:lnTo>
                    <a:pt x="19126" y="16721"/>
                  </a:lnTo>
                  <a:lnTo>
                    <a:pt x="19040" y="17063"/>
                  </a:lnTo>
                  <a:lnTo>
                    <a:pt x="18689" y="17327"/>
                  </a:lnTo>
                  <a:lnTo>
                    <a:pt x="18344" y="17237"/>
                  </a:lnTo>
                  <a:lnTo>
                    <a:pt x="18258" y="17411"/>
                  </a:lnTo>
                  <a:lnTo>
                    <a:pt x="18344" y="17580"/>
                  </a:lnTo>
                  <a:lnTo>
                    <a:pt x="18080" y="17844"/>
                  </a:lnTo>
                  <a:lnTo>
                    <a:pt x="17994" y="17922"/>
                  </a:lnTo>
                  <a:lnTo>
                    <a:pt x="17821" y="17922"/>
                  </a:lnTo>
                  <a:lnTo>
                    <a:pt x="17643" y="18186"/>
                  </a:lnTo>
                  <a:lnTo>
                    <a:pt x="17557" y="18360"/>
                  </a:lnTo>
                  <a:lnTo>
                    <a:pt x="17476" y="18438"/>
                  </a:lnTo>
                  <a:lnTo>
                    <a:pt x="17304" y="18360"/>
                  </a:lnTo>
                  <a:lnTo>
                    <a:pt x="17039" y="18529"/>
                  </a:lnTo>
                  <a:lnTo>
                    <a:pt x="17039" y="18613"/>
                  </a:lnTo>
                  <a:lnTo>
                    <a:pt x="16775" y="18613"/>
                  </a:lnTo>
                  <a:lnTo>
                    <a:pt x="16602" y="18793"/>
                  </a:lnTo>
                  <a:lnTo>
                    <a:pt x="16344" y="18703"/>
                  </a:lnTo>
                  <a:lnTo>
                    <a:pt x="16085" y="18613"/>
                  </a:lnTo>
                  <a:lnTo>
                    <a:pt x="15907" y="18529"/>
                  </a:lnTo>
                  <a:lnTo>
                    <a:pt x="15648" y="18438"/>
                  </a:lnTo>
                  <a:lnTo>
                    <a:pt x="15476" y="18360"/>
                  </a:lnTo>
                  <a:lnTo>
                    <a:pt x="15303" y="18276"/>
                  </a:lnTo>
                  <a:lnTo>
                    <a:pt x="15217" y="18186"/>
                  </a:lnTo>
                  <a:lnTo>
                    <a:pt x="15217" y="18006"/>
                  </a:lnTo>
                  <a:lnTo>
                    <a:pt x="14866" y="18006"/>
                  </a:lnTo>
                  <a:lnTo>
                    <a:pt x="14774" y="17922"/>
                  </a:lnTo>
                  <a:lnTo>
                    <a:pt x="14688" y="17844"/>
                  </a:lnTo>
                  <a:lnTo>
                    <a:pt x="14516" y="17754"/>
                  </a:lnTo>
                  <a:lnTo>
                    <a:pt x="14516" y="17922"/>
                  </a:lnTo>
                  <a:lnTo>
                    <a:pt x="14257" y="17922"/>
                  </a:lnTo>
                  <a:lnTo>
                    <a:pt x="14085" y="17922"/>
                  </a:lnTo>
                  <a:lnTo>
                    <a:pt x="14085" y="17754"/>
                  </a:lnTo>
                  <a:lnTo>
                    <a:pt x="14085" y="17580"/>
                  </a:lnTo>
                  <a:lnTo>
                    <a:pt x="14085" y="17495"/>
                  </a:lnTo>
                  <a:lnTo>
                    <a:pt x="13906" y="17495"/>
                  </a:lnTo>
                  <a:lnTo>
                    <a:pt x="13820" y="17580"/>
                  </a:lnTo>
                  <a:lnTo>
                    <a:pt x="13820" y="17664"/>
                  </a:lnTo>
                  <a:lnTo>
                    <a:pt x="13648" y="17664"/>
                  </a:lnTo>
                  <a:lnTo>
                    <a:pt x="13561" y="17580"/>
                  </a:lnTo>
                  <a:lnTo>
                    <a:pt x="13389" y="17495"/>
                  </a:lnTo>
                  <a:lnTo>
                    <a:pt x="13130" y="17495"/>
                  </a:lnTo>
                  <a:lnTo>
                    <a:pt x="13038" y="17495"/>
                  </a:lnTo>
                  <a:lnTo>
                    <a:pt x="12780" y="17580"/>
                  </a:lnTo>
                  <a:lnTo>
                    <a:pt x="12515" y="17754"/>
                  </a:lnTo>
                  <a:lnTo>
                    <a:pt x="12256" y="18006"/>
                  </a:lnTo>
                  <a:lnTo>
                    <a:pt x="11998" y="18006"/>
                  </a:lnTo>
                  <a:lnTo>
                    <a:pt x="11733" y="18186"/>
                  </a:lnTo>
                  <a:lnTo>
                    <a:pt x="11561" y="18438"/>
                  </a:lnTo>
                  <a:lnTo>
                    <a:pt x="11480" y="18703"/>
                  </a:lnTo>
                  <a:lnTo>
                    <a:pt x="11388" y="19135"/>
                  </a:lnTo>
                  <a:lnTo>
                    <a:pt x="11388" y="19477"/>
                  </a:lnTo>
                  <a:lnTo>
                    <a:pt x="11302" y="19652"/>
                  </a:lnTo>
                  <a:lnTo>
                    <a:pt x="11480" y="19652"/>
                  </a:lnTo>
                  <a:lnTo>
                    <a:pt x="11561" y="19904"/>
                  </a:lnTo>
                  <a:lnTo>
                    <a:pt x="11302" y="19820"/>
                  </a:lnTo>
                  <a:lnTo>
                    <a:pt x="11130" y="19820"/>
                  </a:lnTo>
                  <a:lnTo>
                    <a:pt x="10951" y="19904"/>
                  </a:lnTo>
                  <a:lnTo>
                    <a:pt x="10693" y="19904"/>
                  </a:lnTo>
                  <a:lnTo>
                    <a:pt x="10515" y="19994"/>
                  </a:lnTo>
                  <a:lnTo>
                    <a:pt x="10348" y="19994"/>
                  </a:lnTo>
                  <a:lnTo>
                    <a:pt x="10170" y="19904"/>
                  </a:lnTo>
                  <a:lnTo>
                    <a:pt x="9911" y="19820"/>
                  </a:lnTo>
                  <a:lnTo>
                    <a:pt x="9733" y="19820"/>
                  </a:lnTo>
                  <a:lnTo>
                    <a:pt x="9646" y="19994"/>
                  </a:lnTo>
                  <a:lnTo>
                    <a:pt x="9480" y="19904"/>
                  </a:lnTo>
                  <a:lnTo>
                    <a:pt x="9480" y="19742"/>
                  </a:lnTo>
                  <a:lnTo>
                    <a:pt x="9302" y="19742"/>
                  </a:lnTo>
                  <a:lnTo>
                    <a:pt x="9215" y="19562"/>
                  </a:lnTo>
                  <a:lnTo>
                    <a:pt x="9129" y="19477"/>
                  </a:lnTo>
                  <a:lnTo>
                    <a:pt x="9043" y="19309"/>
                  </a:lnTo>
                  <a:lnTo>
                    <a:pt x="8865" y="19219"/>
                  </a:lnTo>
                  <a:lnTo>
                    <a:pt x="8778" y="19219"/>
                  </a:lnTo>
                  <a:lnTo>
                    <a:pt x="8692" y="19219"/>
                  </a:lnTo>
                  <a:lnTo>
                    <a:pt x="8606" y="19309"/>
                  </a:lnTo>
                  <a:lnTo>
                    <a:pt x="8514" y="19219"/>
                  </a:lnTo>
                  <a:lnTo>
                    <a:pt x="8433" y="19045"/>
                  </a:lnTo>
                  <a:lnTo>
                    <a:pt x="8261" y="19045"/>
                  </a:lnTo>
                  <a:lnTo>
                    <a:pt x="8083" y="19045"/>
                  </a:lnTo>
                  <a:lnTo>
                    <a:pt x="8083" y="18871"/>
                  </a:lnTo>
                  <a:lnTo>
                    <a:pt x="7824" y="18871"/>
                  </a:lnTo>
                  <a:lnTo>
                    <a:pt x="7646" y="18871"/>
                  </a:lnTo>
                  <a:lnTo>
                    <a:pt x="7560" y="18703"/>
                  </a:lnTo>
                  <a:lnTo>
                    <a:pt x="7307" y="18613"/>
                  </a:lnTo>
                  <a:lnTo>
                    <a:pt x="7307" y="18793"/>
                  </a:lnTo>
                  <a:lnTo>
                    <a:pt x="7307" y="18955"/>
                  </a:lnTo>
                  <a:lnTo>
                    <a:pt x="7215" y="18955"/>
                  </a:lnTo>
                  <a:lnTo>
                    <a:pt x="6956" y="18955"/>
                  </a:lnTo>
                  <a:lnTo>
                    <a:pt x="6864" y="18955"/>
                  </a:lnTo>
                  <a:lnTo>
                    <a:pt x="6864" y="18871"/>
                  </a:lnTo>
                  <a:lnTo>
                    <a:pt x="6778" y="18955"/>
                  </a:lnTo>
                  <a:lnTo>
                    <a:pt x="6692" y="19045"/>
                  </a:lnTo>
                  <a:lnTo>
                    <a:pt x="6605" y="18955"/>
                  </a:lnTo>
                  <a:lnTo>
                    <a:pt x="6433" y="18871"/>
                  </a:lnTo>
                  <a:lnTo>
                    <a:pt x="6260" y="18955"/>
                  </a:lnTo>
                  <a:lnTo>
                    <a:pt x="6088" y="18871"/>
                  </a:lnTo>
                  <a:lnTo>
                    <a:pt x="5996" y="18703"/>
                  </a:lnTo>
                  <a:lnTo>
                    <a:pt x="5910" y="18613"/>
                  </a:lnTo>
                  <a:lnTo>
                    <a:pt x="5737" y="18529"/>
                  </a:lnTo>
                  <a:lnTo>
                    <a:pt x="5559" y="18529"/>
                  </a:lnTo>
                  <a:lnTo>
                    <a:pt x="5479" y="18613"/>
                  </a:lnTo>
                  <a:lnTo>
                    <a:pt x="5220" y="18613"/>
                  </a:lnTo>
                  <a:lnTo>
                    <a:pt x="5220" y="18529"/>
                  </a:lnTo>
                  <a:lnTo>
                    <a:pt x="5042" y="18360"/>
                  </a:lnTo>
                  <a:lnTo>
                    <a:pt x="5042" y="18276"/>
                  </a:lnTo>
                  <a:lnTo>
                    <a:pt x="4955" y="18186"/>
                  </a:lnTo>
                  <a:lnTo>
                    <a:pt x="4777" y="18186"/>
                  </a:lnTo>
                  <a:lnTo>
                    <a:pt x="4691" y="18096"/>
                  </a:lnTo>
                  <a:lnTo>
                    <a:pt x="4605" y="18006"/>
                  </a:lnTo>
                  <a:lnTo>
                    <a:pt x="4519" y="18006"/>
                  </a:lnTo>
                  <a:lnTo>
                    <a:pt x="4346" y="17922"/>
                  </a:lnTo>
                  <a:lnTo>
                    <a:pt x="4174" y="17922"/>
                  </a:lnTo>
                  <a:lnTo>
                    <a:pt x="4087" y="17844"/>
                  </a:lnTo>
                  <a:lnTo>
                    <a:pt x="4087" y="17754"/>
                  </a:lnTo>
                  <a:lnTo>
                    <a:pt x="4001" y="17664"/>
                  </a:lnTo>
                  <a:lnTo>
                    <a:pt x="4001" y="17754"/>
                  </a:lnTo>
                  <a:lnTo>
                    <a:pt x="3909" y="17844"/>
                  </a:lnTo>
                  <a:lnTo>
                    <a:pt x="3823" y="17844"/>
                  </a:lnTo>
                  <a:lnTo>
                    <a:pt x="3823" y="17754"/>
                  </a:lnTo>
                  <a:lnTo>
                    <a:pt x="3823" y="17664"/>
                  </a:lnTo>
                  <a:lnTo>
                    <a:pt x="3909" y="17327"/>
                  </a:lnTo>
                  <a:lnTo>
                    <a:pt x="3737" y="17237"/>
                  </a:lnTo>
                  <a:lnTo>
                    <a:pt x="3650" y="17327"/>
                  </a:lnTo>
                  <a:lnTo>
                    <a:pt x="3564" y="17327"/>
                  </a:lnTo>
                  <a:lnTo>
                    <a:pt x="3306" y="16985"/>
                  </a:lnTo>
                  <a:lnTo>
                    <a:pt x="3564" y="16895"/>
                  </a:lnTo>
                  <a:lnTo>
                    <a:pt x="3823" y="16547"/>
                  </a:lnTo>
                  <a:lnTo>
                    <a:pt x="4087" y="16036"/>
                  </a:lnTo>
                  <a:lnTo>
                    <a:pt x="4438" y="14907"/>
                  </a:lnTo>
                  <a:lnTo>
                    <a:pt x="4519" y="14390"/>
                  </a:lnTo>
                  <a:lnTo>
                    <a:pt x="4605" y="14306"/>
                  </a:lnTo>
                  <a:lnTo>
                    <a:pt x="4777" y="14228"/>
                  </a:lnTo>
                  <a:lnTo>
                    <a:pt x="4869" y="14228"/>
                  </a:lnTo>
                  <a:lnTo>
                    <a:pt x="4869" y="14138"/>
                  </a:lnTo>
                  <a:lnTo>
                    <a:pt x="4777" y="14048"/>
                  </a:lnTo>
                  <a:lnTo>
                    <a:pt x="4691" y="13958"/>
                  </a:lnTo>
                  <a:lnTo>
                    <a:pt x="4605" y="14048"/>
                  </a:lnTo>
                  <a:lnTo>
                    <a:pt x="4519" y="14138"/>
                  </a:lnTo>
                  <a:lnTo>
                    <a:pt x="4519" y="14048"/>
                  </a:lnTo>
                  <a:lnTo>
                    <a:pt x="4777" y="12841"/>
                  </a:lnTo>
                  <a:lnTo>
                    <a:pt x="4955" y="12330"/>
                  </a:lnTo>
                  <a:lnTo>
                    <a:pt x="5042" y="12150"/>
                  </a:lnTo>
                  <a:lnTo>
                    <a:pt x="5042" y="12330"/>
                  </a:lnTo>
                  <a:lnTo>
                    <a:pt x="5392" y="12673"/>
                  </a:lnTo>
                  <a:lnTo>
                    <a:pt x="5479" y="12925"/>
                  </a:lnTo>
                  <a:lnTo>
                    <a:pt x="5479" y="13357"/>
                  </a:lnTo>
                  <a:lnTo>
                    <a:pt x="5559" y="13532"/>
                  </a:lnTo>
                  <a:lnTo>
                    <a:pt x="5651" y="13616"/>
                  </a:lnTo>
                  <a:lnTo>
                    <a:pt x="5737" y="13532"/>
                  </a:lnTo>
                  <a:lnTo>
                    <a:pt x="5737" y="13441"/>
                  </a:lnTo>
                  <a:lnTo>
                    <a:pt x="5651" y="13357"/>
                  </a:lnTo>
                  <a:lnTo>
                    <a:pt x="5559" y="13189"/>
                  </a:lnTo>
                  <a:lnTo>
                    <a:pt x="5559" y="13009"/>
                  </a:lnTo>
                  <a:lnTo>
                    <a:pt x="5559" y="12757"/>
                  </a:lnTo>
                  <a:lnTo>
                    <a:pt x="5479" y="12498"/>
                  </a:lnTo>
                  <a:lnTo>
                    <a:pt x="5392" y="12330"/>
                  </a:lnTo>
                  <a:lnTo>
                    <a:pt x="5306" y="12240"/>
                  </a:lnTo>
                  <a:lnTo>
                    <a:pt x="5220" y="12150"/>
                  </a:lnTo>
                  <a:lnTo>
                    <a:pt x="5128" y="12066"/>
                  </a:lnTo>
                  <a:lnTo>
                    <a:pt x="4955" y="11892"/>
                  </a:lnTo>
                  <a:lnTo>
                    <a:pt x="4869" y="11808"/>
                  </a:lnTo>
                  <a:lnTo>
                    <a:pt x="4777" y="11724"/>
                  </a:lnTo>
                  <a:lnTo>
                    <a:pt x="4955" y="11634"/>
                  </a:lnTo>
                  <a:lnTo>
                    <a:pt x="5042" y="11459"/>
                  </a:lnTo>
                  <a:lnTo>
                    <a:pt x="5128" y="11381"/>
                  </a:lnTo>
                  <a:lnTo>
                    <a:pt x="5128" y="11201"/>
                  </a:lnTo>
                  <a:lnTo>
                    <a:pt x="5128" y="11033"/>
                  </a:lnTo>
                  <a:lnTo>
                    <a:pt x="4955" y="10859"/>
                  </a:lnTo>
                  <a:lnTo>
                    <a:pt x="4955" y="10775"/>
                  </a:lnTo>
                  <a:lnTo>
                    <a:pt x="5042" y="10685"/>
                  </a:lnTo>
                  <a:lnTo>
                    <a:pt x="5042" y="10511"/>
                  </a:lnTo>
                  <a:lnTo>
                    <a:pt x="4869" y="10432"/>
                  </a:lnTo>
                  <a:lnTo>
                    <a:pt x="4605" y="10252"/>
                  </a:lnTo>
                  <a:lnTo>
                    <a:pt x="4438" y="10174"/>
                  </a:lnTo>
                  <a:lnTo>
                    <a:pt x="4260" y="10084"/>
                  </a:lnTo>
                  <a:lnTo>
                    <a:pt x="4174" y="9910"/>
                  </a:lnTo>
                  <a:lnTo>
                    <a:pt x="4001" y="9652"/>
                  </a:lnTo>
                  <a:lnTo>
                    <a:pt x="3823" y="9309"/>
                  </a:lnTo>
                  <a:lnTo>
                    <a:pt x="3650" y="9051"/>
                  </a:lnTo>
                  <a:lnTo>
                    <a:pt x="3650" y="8877"/>
                  </a:lnTo>
                  <a:lnTo>
                    <a:pt x="3823" y="8703"/>
                  </a:lnTo>
                  <a:lnTo>
                    <a:pt x="3909" y="8703"/>
                  </a:lnTo>
                  <a:lnTo>
                    <a:pt x="3737" y="8444"/>
                  </a:lnTo>
                  <a:lnTo>
                    <a:pt x="3650" y="8360"/>
                  </a:lnTo>
                  <a:lnTo>
                    <a:pt x="3737" y="8186"/>
                  </a:lnTo>
                  <a:lnTo>
                    <a:pt x="3737" y="8102"/>
                  </a:lnTo>
                  <a:lnTo>
                    <a:pt x="4174" y="8102"/>
                  </a:lnTo>
                  <a:lnTo>
                    <a:pt x="4087" y="8012"/>
                  </a:lnTo>
                  <a:lnTo>
                    <a:pt x="3909" y="7928"/>
                  </a:lnTo>
                  <a:lnTo>
                    <a:pt x="3737" y="7928"/>
                  </a:lnTo>
                  <a:lnTo>
                    <a:pt x="3650" y="8012"/>
                  </a:lnTo>
                  <a:lnTo>
                    <a:pt x="3564" y="8012"/>
                  </a:lnTo>
                  <a:lnTo>
                    <a:pt x="3392" y="8012"/>
                  </a:lnTo>
                  <a:lnTo>
                    <a:pt x="3219" y="7928"/>
                  </a:lnTo>
                  <a:lnTo>
                    <a:pt x="3133" y="7754"/>
                  </a:lnTo>
                  <a:lnTo>
                    <a:pt x="3306" y="7676"/>
                  </a:lnTo>
                  <a:lnTo>
                    <a:pt x="3306" y="7502"/>
                  </a:lnTo>
                  <a:lnTo>
                    <a:pt x="3472" y="7502"/>
                  </a:lnTo>
                  <a:lnTo>
                    <a:pt x="3306" y="7411"/>
                  </a:lnTo>
                  <a:lnTo>
                    <a:pt x="3219" y="7411"/>
                  </a:lnTo>
                  <a:lnTo>
                    <a:pt x="2782" y="7411"/>
                  </a:lnTo>
                  <a:lnTo>
                    <a:pt x="2690" y="7237"/>
                  </a:lnTo>
                  <a:lnTo>
                    <a:pt x="2782" y="7237"/>
                  </a:lnTo>
                  <a:lnTo>
                    <a:pt x="2869" y="7237"/>
                  </a:lnTo>
                  <a:lnTo>
                    <a:pt x="2869" y="7153"/>
                  </a:lnTo>
                  <a:lnTo>
                    <a:pt x="2782" y="7153"/>
                  </a:lnTo>
                  <a:lnTo>
                    <a:pt x="2690" y="7153"/>
                  </a:lnTo>
                  <a:lnTo>
                    <a:pt x="2604" y="7069"/>
                  </a:lnTo>
                  <a:lnTo>
                    <a:pt x="2604" y="7153"/>
                  </a:lnTo>
                  <a:lnTo>
                    <a:pt x="2518" y="7153"/>
                  </a:lnTo>
                  <a:lnTo>
                    <a:pt x="2437" y="7153"/>
                  </a:lnTo>
                  <a:lnTo>
                    <a:pt x="2351" y="7327"/>
                  </a:lnTo>
                  <a:lnTo>
                    <a:pt x="2259" y="7327"/>
                  </a:lnTo>
                  <a:lnTo>
                    <a:pt x="2259" y="7237"/>
                  </a:lnTo>
                  <a:lnTo>
                    <a:pt x="2173" y="7069"/>
                  </a:lnTo>
                  <a:lnTo>
                    <a:pt x="2259" y="6985"/>
                  </a:lnTo>
                  <a:lnTo>
                    <a:pt x="1914" y="6805"/>
                  </a:lnTo>
                  <a:lnTo>
                    <a:pt x="1736" y="6637"/>
                  </a:lnTo>
                  <a:lnTo>
                    <a:pt x="1483" y="6553"/>
                  </a:lnTo>
                  <a:lnTo>
                    <a:pt x="1219" y="6378"/>
                  </a:lnTo>
                  <a:lnTo>
                    <a:pt x="1219" y="6204"/>
                  </a:lnTo>
                  <a:lnTo>
                    <a:pt x="1133" y="6204"/>
                  </a:lnTo>
                  <a:lnTo>
                    <a:pt x="954" y="6288"/>
                  </a:lnTo>
                  <a:lnTo>
                    <a:pt x="782" y="6204"/>
                  </a:lnTo>
                  <a:lnTo>
                    <a:pt x="782" y="6288"/>
                  </a:lnTo>
                  <a:lnTo>
                    <a:pt x="696" y="6378"/>
                  </a:lnTo>
                  <a:lnTo>
                    <a:pt x="517" y="6378"/>
                  </a:lnTo>
                  <a:lnTo>
                    <a:pt x="517" y="6204"/>
                  </a:lnTo>
                  <a:lnTo>
                    <a:pt x="437" y="6036"/>
                  </a:lnTo>
                  <a:lnTo>
                    <a:pt x="437" y="5946"/>
                  </a:lnTo>
                  <a:lnTo>
                    <a:pt x="0" y="5778"/>
                  </a:lnTo>
                  <a:lnTo>
                    <a:pt x="86" y="5688"/>
                  </a:lnTo>
                  <a:lnTo>
                    <a:pt x="351" y="5604"/>
                  </a:lnTo>
                  <a:lnTo>
                    <a:pt x="517" y="5688"/>
                  </a:lnTo>
                  <a:lnTo>
                    <a:pt x="696" y="5688"/>
                  </a:lnTo>
                  <a:lnTo>
                    <a:pt x="782" y="5604"/>
                  </a:lnTo>
                  <a:lnTo>
                    <a:pt x="696" y="5429"/>
                  </a:lnTo>
                  <a:lnTo>
                    <a:pt x="517" y="5339"/>
                  </a:lnTo>
                  <a:lnTo>
                    <a:pt x="437" y="5429"/>
                  </a:lnTo>
                  <a:lnTo>
                    <a:pt x="351" y="5429"/>
                  </a:lnTo>
                  <a:lnTo>
                    <a:pt x="351" y="5339"/>
                  </a:lnTo>
                  <a:lnTo>
                    <a:pt x="264" y="5255"/>
                  </a:lnTo>
                  <a:lnTo>
                    <a:pt x="351" y="5177"/>
                  </a:lnTo>
                  <a:lnTo>
                    <a:pt x="604" y="5255"/>
                  </a:lnTo>
                  <a:lnTo>
                    <a:pt x="782" y="5339"/>
                  </a:lnTo>
                  <a:lnTo>
                    <a:pt x="868" y="5339"/>
                  </a:lnTo>
                  <a:lnTo>
                    <a:pt x="868" y="5177"/>
                  </a:lnTo>
                  <a:lnTo>
                    <a:pt x="696" y="5087"/>
                  </a:lnTo>
                  <a:lnTo>
                    <a:pt x="517" y="4997"/>
                  </a:lnTo>
                  <a:lnTo>
                    <a:pt x="351" y="4997"/>
                  </a:lnTo>
                  <a:lnTo>
                    <a:pt x="86" y="5087"/>
                  </a:lnTo>
                  <a:lnTo>
                    <a:pt x="86" y="4829"/>
                  </a:lnTo>
                  <a:lnTo>
                    <a:pt x="172" y="4655"/>
                  </a:lnTo>
                  <a:lnTo>
                    <a:pt x="351" y="4571"/>
                  </a:lnTo>
                  <a:lnTo>
                    <a:pt x="517" y="4480"/>
                  </a:lnTo>
                  <a:lnTo>
                    <a:pt x="696" y="4480"/>
                  </a:lnTo>
                  <a:lnTo>
                    <a:pt x="868" y="4396"/>
                  </a:lnTo>
                  <a:lnTo>
                    <a:pt x="1046" y="4480"/>
                  </a:lnTo>
                  <a:lnTo>
                    <a:pt x="1305" y="4396"/>
                  </a:lnTo>
                  <a:lnTo>
                    <a:pt x="1391" y="4396"/>
                  </a:lnTo>
                  <a:lnTo>
                    <a:pt x="1483" y="4480"/>
                  </a:lnTo>
                  <a:lnTo>
                    <a:pt x="1564" y="4571"/>
                  </a:lnTo>
                  <a:lnTo>
                    <a:pt x="1650" y="4571"/>
                  </a:lnTo>
                  <a:lnTo>
                    <a:pt x="1650" y="4480"/>
                  </a:lnTo>
                  <a:lnTo>
                    <a:pt x="1822" y="4480"/>
                  </a:lnTo>
                  <a:lnTo>
                    <a:pt x="1914" y="4571"/>
                  </a:lnTo>
                  <a:lnTo>
                    <a:pt x="2001" y="4480"/>
                  </a:lnTo>
                  <a:lnTo>
                    <a:pt x="2173" y="4228"/>
                  </a:lnTo>
                  <a:lnTo>
                    <a:pt x="2259" y="4228"/>
                  </a:lnTo>
                  <a:lnTo>
                    <a:pt x="2351" y="4312"/>
                  </a:lnTo>
                  <a:lnTo>
                    <a:pt x="2604" y="4312"/>
                  </a:lnTo>
                  <a:lnTo>
                    <a:pt x="2869" y="4228"/>
                  </a:lnTo>
                  <a:lnTo>
                    <a:pt x="3306" y="4997"/>
                  </a:lnTo>
                  <a:lnTo>
                    <a:pt x="3650" y="4907"/>
                  </a:lnTo>
                  <a:lnTo>
                    <a:pt x="3823" y="4829"/>
                  </a:lnTo>
                  <a:lnTo>
                    <a:pt x="4001" y="4907"/>
                  </a:lnTo>
                  <a:lnTo>
                    <a:pt x="4087" y="4997"/>
                  </a:lnTo>
                  <a:lnTo>
                    <a:pt x="4260" y="4997"/>
                  </a:lnTo>
                  <a:lnTo>
                    <a:pt x="4260" y="5177"/>
                  </a:lnTo>
                  <a:lnTo>
                    <a:pt x="4346" y="5255"/>
                  </a:lnTo>
                  <a:lnTo>
                    <a:pt x="4438" y="5177"/>
                  </a:lnTo>
                  <a:lnTo>
                    <a:pt x="4438" y="5087"/>
                  </a:lnTo>
                  <a:lnTo>
                    <a:pt x="4438" y="4907"/>
                  </a:lnTo>
                  <a:lnTo>
                    <a:pt x="4605" y="4829"/>
                  </a:lnTo>
                  <a:lnTo>
                    <a:pt x="4605" y="4997"/>
                  </a:lnTo>
                  <a:lnTo>
                    <a:pt x="4869" y="5087"/>
                  </a:lnTo>
                  <a:lnTo>
                    <a:pt x="5042" y="5087"/>
                  </a:lnTo>
                  <a:lnTo>
                    <a:pt x="5128" y="5087"/>
                  </a:lnTo>
                  <a:lnTo>
                    <a:pt x="5220" y="4997"/>
                  </a:lnTo>
                  <a:lnTo>
                    <a:pt x="5128" y="4829"/>
                  </a:lnTo>
                  <a:lnTo>
                    <a:pt x="5042" y="4655"/>
                  </a:lnTo>
                  <a:lnTo>
                    <a:pt x="5128" y="4480"/>
                  </a:lnTo>
                  <a:lnTo>
                    <a:pt x="5128" y="4228"/>
                  </a:lnTo>
                  <a:lnTo>
                    <a:pt x="5128" y="3958"/>
                  </a:lnTo>
                  <a:lnTo>
                    <a:pt x="5128" y="3706"/>
                  </a:lnTo>
                  <a:lnTo>
                    <a:pt x="4869" y="3279"/>
                  </a:lnTo>
                  <a:lnTo>
                    <a:pt x="4869" y="3021"/>
                  </a:lnTo>
                  <a:lnTo>
                    <a:pt x="4869" y="2583"/>
                  </a:lnTo>
                  <a:lnTo>
                    <a:pt x="4777" y="2583"/>
                  </a:lnTo>
                  <a:lnTo>
                    <a:pt x="4869" y="2505"/>
                  </a:lnTo>
                  <a:lnTo>
                    <a:pt x="5042" y="2583"/>
                  </a:lnTo>
                  <a:lnTo>
                    <a:pt x="5220" y="2757"/>
                  </a:lnTo>
                  <a:lnTo>
                    <a:pt x="5479" y="2757"/>
                  </a:lnTo>
                  <a:lnTo>
                    <a:pt x="5651" y="2673"/>
                  </a:lnTo>
                  <a:lnTo>
                    <a:pt x="5824" y="2673"/>
                  </a:lnTo>
                  <a:lnTo>
                    <a:pt x="5824" y="2847"/>
                  </a:lnTo>
                  <a:lnTo>
                    <a:pt x="5737" y="2931"/>
                  </a:lnTo>
                  <a:lnTo>
                    <a:pt x="5824" y="3099"/>
                  </a:lnTo>
                  <a:lnTo>
                    <a:pt x="5824" y="3363"/>
                  </a:lnTo>
                  <a:lnTo>
                    <a:pt x="5910" y="3447"/>
                  </a:lnTo>
                  <a:lnTo>
                    <a:pt x="5996" y="3447"/>
                  </a:lnTo>
                  <a:lnTo>
                    <a:pt x="6174" y="3447"/>
                  </a:lnTo>
                  <a:lnTo>
                    <a:pt x="6347" y="3532"/>
                  </a:lnTo>
                  <a:lnTo>
                    <a:pt x="6433" y="3532"/>
                  </a:lnTo>
                  <a:lnTo>
                    <a:pt x="6864" y="3706"/>
                  </a:lnTo>
                  <a:lnTo>
                    <a:pt x="7128" y="3796"/>
                  </a:lnTo>
                  <a:lnTo>
                    <a:pt x="7307" y="3796"/>
                  </a:lnTo>
                  <a:lnTo>
                    <a:pt x="7560" y="3796"/>
                  </a:lnTo>
                  <a:lnTo>
                    <a:pt x="7738" y="3706"/>
                  </a:lnTo>
                  <a:lnTo>
                    <a:pt x="7910" y="3622"/>
                  </a:lnTo>
                  <a:lnTo>
                    <a:pt x="8083" y="3532"/>
                  </a:lnTo>
                  <a:lnTo>
                    <a:pt x="8261" y="3532"/>
                  </a:lnTo>
                  <a:lnTo>
                    <a:pt x="7824" y="3447"/>
                  </a:lnTo>
                  <a:lnTo>
                    <a:pt x="7738" y="3279"/>
                  </a:lnTo>
                  <a:lnTo>
                    <a:pt x="7824" y="3021"/>
                  </a:lnTo>
                  <a:lnTo>
                    <a:pt x="7910" y="2931"/>
                  </a:lnTo>
                  <a:lnTo>
                    <a:pt x="8261" y="2757"/>
                  </a:lnTo>
                  <a:lnTo>
                    <a:pt x="8514" y="2583"/>
                  </a:lnTo>
                  <a:lnTo>
                    <a:pt x="8865" y="2583"/>
                  </a:lnTo>
                  <a:lnTo>
                    <a:pt x="9215" y="2505"/>
                  </a:lnTo>
                  <a:lnTo>
                    <a:pt x="9480" y="2414"/>
                  </a:lnTo>
                  <a:lnTo>
                    <a:pt x="9646" y="2330"/>
                  </a:lnTo>
                  <a:lnTo>
                    <a:pt x="9825" y="2240"/>
                  </a:lnTo>
                  <a:lnTo>
                    <a:pt x="9911" y="2150"/>
                  </a:lnTo>
                  <a:lnTo>
                    <a:pt x="10083" y="1988"/>
                  </a:lnTo>
                  <a:lnTo>
                    <a:pt x="10170" y="1898"/>
                  </a:lnTo>
                  <a:lnTo>
                    <a:pt x="10262" y="1988"/>
                  </a:lnTo>
                  <a:lnTo>
                    <a:pt x="10262" y="1988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55360" y="4596840"/>
              <a:ext cx="152280" cy="300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5157" y="474"/>
                  </a:moveTo>
                  <a:lnTo>
                    <a:pt x="17044" y="0"/>
                  </a:lnTo>
                  <a:lnTo>
                    <a:pt x="18050" y="474"/>
                  </a:lnTo>
                  <a:lnTo>
                    <a:pt x="18050" y="2717"/>
                  </a:lnTo>
                  <a:lnTo>
                    <a:pt x="18050" y="3665"/>
                  </a:lnTo>
                  <a:lnTo>
                    <a:pt x="18994" y="4518"/>
                  </a:lnTo>
                  <a:lnTo>
                    <a:pt x="19937" y="6319"/>
                  </a:lnTo>
                  <a:lnTo>
                    <a:pt x="19937" y="9036"/>
                  </a:lnTo>
                  <a:lnTo>
                    <a:pt x="19937" y="10900"/>
                  </a:lnTo>
                  <a:lnTo>
                    <a:pt x="18050" y="12701"/>
                  </a:lnTo>
                  <a:lnTo>
                    <a:pt x="17044" y="14028"/>
                  </a:lnTo>
                  <a:lnTo>
                    <a:pt x="16101" y="16303"/>
                  </a:lnTo>
                  <a:lnTo>
                    <a:pt x="15157" y="17220"/>
                  </a:lnTo>
                  <a:lnTo>
                    <a:pt x="15157" y="18167"/>
                  </a:lnTo>
                  <a:lnTo>
                    <a:pt x="13333" y="19494"/>
                  </a:lnTo>
                  <a:lnTo>
                    <a:pt x="14277" y="19968"/>
                  </a:lnTo>
                  <a:lnTo>
                    <a:pt x="12327" y="19968"/>
                  </a:lnTo>
                  <a:lnTo>
                    <a:pt x="11384" y="19494"/>
                  </a:lnTo>
                  <a:lnTo>
                    <a:pt x="11384" y="19021"/>
                  </a:lnTo>
                  <a:lnTo>
                    <a:pt x="9497" y="19021"/>
                  </a:lnTo>
                  <a:lnTo>
                    <a:pt x="7610" y="18641"/>
                  </a:lnTo>
                  <a:lnTo>
                    <a:pt x="5660" y="17694"/>
                  </a:lnTo>
                  <a:lnTo>
                    <a:pt x="5660" y="17220"/>
                  </a:lnTo>
                  <a:lnTo>
                    <a:pt x="6604" y="16777"/>
                  </a:lnTo>
                  <a:lnTo>
                    <a:pt x="7610" y="16303"/>
                  </a:lnTo>
                  <a:lnTo>
                    <a:pt x="6604" y="16303"/>
                  </a:lnTo>
                  <a:lnTo>
                    <a:pt x="4780" y="15893"/>
                  </a:lnTo>
                  <a:lnTo>
                    <a:pt x="3836" y="15893"/>
                  </a:lnTo>
                  <a:lnTo>
                    <a:pt x="3836" y="15419"/>
                  </a:lnTo>
                  <a:lnTo>
                    <a:pt x="4780" y="14976"/>
                  </a:lnTo>
                  <a:lnTo>
                    <a:pt x="5660" y="14028"/>
                  </a:lnTo>
                  <a:lnTo>
                    <a:pt x="4780" y="13649"/>
                  </a:lnTo>
                  <a:lnTo>
                    <a:pt x="3836" y="13649"/>
                  </a:lnTo>
                  <a:lnTo>
                    <a:pt x="1887" y="13649"/>
                  </a:lnTo>
                  <a:lnTo>
                    <a:pt x="1887" y="13175"/>
                  </a:lnTo>
                  <a:lnTo>
                    <a:pt x="2893" y="12227"/>
                  </a:lnTo>
                  <a:lnTo>
                    <a:pt x="4780" y="12227"/>
                  </a:lnTo>
                  <a:lnTo>
                    <a:pt x="3836" y="11311"/>
                  </a:lnTo>
                  <a:lnTo>
                    <a:pt x="2893" y="11311"/>
                  </a:lnTo>
                  <a:lnTo>
                    <a:pt x="1887" y="10427"/>
                  </a:lnTo>
                  <a:lnTo>
                    <a:pt x="943" y="9036"/>
                  </a:lnTo>
                  <a:lnTo>
                    <a:pt x="2893" y="9510"/>
                  </a:lnTo>
                  <a:lnTo>
                    <a:pt x="2893" y="9036"/>
                  </a:lnTo>
                  <a:lnTo>
                    <a:pt x="943" y="8657"/>
                  </a:lnTo>
                  <a:lnTo>
                    <a:pt x="0" y="8183"/>
                  </a:lnTo>
                  <a:lnTo>
                    <a:pt x="1887" y="7709"/>
                  </a:lnTo>
                  <a:lnTo>
                    <a:pt x="2893" y="7235"/>
                  </a:lnTo>
                  <a:lnTo>
                    <a:pt x="2893" y="6319"/>
                  </a:lnTo>
                  <a:lnTo>
                    <a:pt x="3836" y="5908"/>
                  </a:lnTo>
                  <a:lnTo>
                    <a:pt x="5660" y="4992"/>
                  </a:lnTo>
                  <a:lnTo>
                    <a:pt x="8553" y="4518"/>
                  </a:lnTo>
                  <a:lnTo>
                    <a:pt x="10440" y="4044"/>
                  </a:lnTo>
                  <a:lnTo>
                    <a:pt x="12327" y="3665"/>
                  </a:lnTo>
                  <a:lnTo>
                    <a:pt x="13333" y="3665"/>
                  </a:lnTo>
                  <a:lnTo>
                    <a:pt x="15157" y="4044"/>
                  </a:lnTo>
                  <a:lnTo>
                    <a:pt x="15157" y="3191"/>
                  </a:lnTo>
                  <a:lnTo>
                    <a:pt x="15157" y="1801"/>
                  </a:lnTo>
                  <a:lnTo>
                    <a:pt x="16101" y="1327"/>
                  </a:lnTo>
                  <a:lnTo>
                    <a:pt x="15157" y="474"/>
                  </a:lnTo>
                  <a:lnTo>
                    <a:pt x="15157" y="474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76160" y="4563720"/>
              <a:ext cx="894240" cy="780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9103" y="3828"/>
                  </a:moveTo>
                  <a:lnTo>
                    <a:pt x="9264" y="3646"/>
                  </a:lnTo>
                  <a:lnTo>
                    <a:pt x="9586" y="3307"/>
                  </a:lnTo>
                  <a:lnTo>
                    <a:pt x="10070" y="3307"/>
                  </a:lnTo>
                  <a:lnTo>
                    <a:pt x="10403" y="3307"/>
                  </a:lnTo>
                  <a:lnTo>
                    <a:pt x="10887" y="2968"/>
                  </a:lnTo>
                  <a:lnTo>
                    <a:pt x="11381" y="2604"/>
                  </a:lnTo>
                  <a:lnTo>
                    <a:pt x="11542" y="2786"/>
                  </a:lnTo>
                  <a:lnTo>
                    <a:pt x="11854" y="2786"/>
                  </a:lnTo>
                  <a:lnTo>
                    <a:pt x="11854" y="2265"/>
                  </a:lnTo>
                  <a:lnTo>
                    <a:pt x="12187" y="2265"/>
                  </a:lnTo>
                  <a:lnTo>
                    <a:pt x="12348" y="1914"/>
                  </a:lnTo>
                  <a:lnTo>
                    <a:pt x="12509" y="2265"/>
                  </a:lnTo>
                  <a:lnTo>
                    <a:pt x="12843" y="2096"/>
                  </a:lnTo>
                  <a:lnTo>
                    <a:pt x="13326" y="1914"/>
                  </a:lnTo>
                  <a:lnTo>
                    <a:pt x="13659" y="2265"/>
                  </a:lnTo>
                  <a:lnTo>
                    <a:pt x="14132" y="2423"/>
                  </a:lnTo>
                  <a:lnTo>
                    <a:pt x="14304" y="2604"/>
                  </a:lnTo>
                  <a:lnTo>
                    <a:pt x="14465" y="2423"/>
                  </a:lnTo>
                  <a:lnTo>
                    <a:pt x="14788" y="2423"/>
                  </a:lnTo>
                  <a:lnTo>
                    <a:pt x="15282" y="2423"/>
                  </a:lnTo>
                  <a:lnTo>
                    <a:pt x="15766" y="2604"/>
                  </a:lnTo>
                  <a:lnTo>
                    <a:pt x="16249" y="2604"/>
                  </a:lnTo>
                  <a:lnTo>
                    <a:pt x="16744" y="2265"/>
                  </a:lnTo>
                  <a:lnTo>
                    <a:pt x="17066" y="2096"/>
                  </a:lnTo>
                  <a:lnTo>
                    <a:pt x="17550" y="1914"/>
                  </a:lnTo>
                  <a:lnTo>
                    <a:pt x="17872" y="1914"/>
                  </a:lnTo>
                  <a:lnTo>
                    <a:pt x="18205" y="1563"/>
                  </a:lnTo>
                  <a:lnTo>
                    <a:pt x="18528" y="1393"/>
                  </a:lnTo>
                  <a:lnTo>
                    <a:pt x="18528" y="1054"/>
                  </a:lnTo>
                  <a:lnTo>
                    <a:pt x="18366" y="690"/>
                  </a:lnTo>
                  <a:lnTo>
                    <a:pt x="18033" y="363"/>
                  </a:lnTo>
                  <a:lnTo>
                    <a:pt x="17872" y="0"/>
                  </a:lnTo>
                  <a:lnTo>
                    <a:pt x="19022" y="0"/>
                  </a:lnTo>
                  <a:lnTo>
                    <a:pt x="19495" y="182"/>
                  </a:lnTo>
                  <a:lnTo>
                    <a:pt x="19828" y="363"/>
                  </a:lnTo>
                  <a:lnTo>
                    <a:pt x="19989" y="872"/>
                  </a:lnTo>
                  <a:lnTo>
                    <a:pt x="19989" y="1054"/>
                  </a:lnTo>
                  <a:lnTo>
                    <a:pt x="19828" y="1393"/>
                  </a:lnTo>
                  <a:lnTo>
                    <a:pt x="19667" y="1732"/>
                  </a:lnTo>
                  <a:lnTo>
                    <a:pt x="19667" y="2265"/>
                  </a:lnTo>
                  <a:lnTo>
                    <a:pt x="19667" y="2604"/>
                  </a:lnTo>
                  <a:lnTo>
                    <a:pt x="19667" y="3137"/>
                  </a:lnTo>
                  <a:lnTo>
                    <a:pt x="19495" y="3477"/>
                  </a:lnTo>
                  <a:lnTo>
                    <a:pt x="19334" y="3646"/>
                  </a:lnTo>
                  <a:lnTo>
                    <a:pt x="19172" y="4010"/>
                  </a:lnTo>
                  <a:lnTo>
                    <a:pt x="19022" y="4337"/>
                  </a:lnTo>
                  <a:lnTo>
                    <a:pt x="18861" y="4518"/>
                  </a:lnTo>
                  <a:lnTo>
                    <a:pt x="18528" y="4179"/>
                  </a:lnTo>
                  <a:lnTo>
                    <a:pt x="17872" y="4179"/>
                  </a:lnTo>
                  <a:lnTo>
                    <a:pt x="17389" y="4179"/>
                  </a:lnTo>
                  <a:lnTo>
                    <a:pt x="16744" y="4179"/>
                  </a:lnTo>
                  <a:lnTo>
                    <a:pt x="16249" y="4337"/>
                  </a:lnTo>
                  <a:lnTo>
                    <a:pt x="15594" y="4179"/>
                  </a:lnTo>
                  <a:lnTo>
                    <a:pt x="15282" y="4518"/>
                  </a:lnTo>
                  <a:lnTo>
                    <a:pt x="14788" y="4700"/>
                  </a:lnTo>
                  <a:lnTo>
                    <a:pt x="14304" y="4870"/>
                  </a:lnTo>
                  <a:lnTo>
                    <a:pt x="13659" y="4700"/>
                  </a:lnTo>
                  <a:lnTo>
                    <a:pt x="13326" y="5039"/>
                  </a:lnTo>
                  <a:lnTo>
                    <a:pt x="13165" y="5391"/>
                  </a:lnTo>
                  <a:lnTo>
                    <a:pt x="13004" y="5560"/>
                  </a:lnTo>
                  <a:lnTo>
                    <a:pt x="12671" y="5912"/>
                  </a:lnTo>
                  <a:lnTo>
                    <a:pt x="12348" y="5912"/>
                  </a:lnTo>
                  <a:lnTo>
                    <a:pt x="12026" y="6093"/>
                  </a:lnTo>
                  <a:lnTo>
                    <a:pt x="11703" y="6093"/>
                  </a:lnTo>
                  <a:lnTo>
                    <a:pt x="11542" y="6251"/>
                  </a:lnTo>
                  <a:lnTo>
                    <a:pt x="11542" y="6614"/>
                  </a:lnTo>
                  <a:lnTo>
                    <a:pt x="11703" y="6784"/>
                  </a:lnTo>
                  <a:lnTo>
                    <a:pt x="12026" y="7135"/>
                  </a:lnTo>
                  <a:lnTo>
                    <a:pt x="12187" y="7135"/>
                  </a:lnTo>
                  <a:lnTo>
                    <a:pt x="13004" y="7474"/>
                  </a:lnTo>
                  <a:lnTo>
                    <a:pt x="13659" y="7826"/>
                  </a:lnTo>
                  <a:lnTo>
                    <a:pt x="14132" y="8346"/>
                  </a:lnTo>
                  <a:lnTo>
                    <a:pt x="13659" y="8346"/>
                  </a:lnTo>
                  <a:lnTo>
                    <a:pt x="13004" y="8007"/>
                  </a:lnTo>
                  <a:lnTo>
                    <a:pt x="12348" y="7656"/>
                  </a:lnTo>
                  <a:lnTo>
                    <a:pt x="11854" y="7826"/>
                  </a:lnTo>
                  <a:lnTo>
                    <a:pt x="11542" y="8007"/>
                  </a:lnTo>
                  <a:lnTo>
                    <a:pt x="11703" y="8346"/>
                  </a:lnTo>
                  <a:lnTo>
                    <a:pt x="12348" y="8686"/>
                  </a:lnTo>
                  <a:lnTo>
                    <a:pt x="12671" y="8867"/>
                  </a:lnTo>
                  <a:lnTo>
                    <a:pt x="12843" y="9388"/>
                  </a:lnTo>
                  <a:lnTo>
                    <a:pt x="12509" y="9740"/>
                  </a:lnTo>
                  <a:lnTo>
                    <a:pt x="12026" y="9219"/>
                  </a:lnTo>
                  <a:lnTo>
                    <a:pt x="11542" y="8686"/>
                  </a:lnTo>
                  <a:lnTo>
                    <a:pt x="10887" y="8528"/>
                  </a:lnTo>
                  <a:lnTo>
                    <a:pt x="10564" y="8686"/>
                  </a:lnTo>
                  <a:lnTo>
                    <a:pt x="10725" y="8867"/>
                  </a:lnTo>
                  <a:lnTo>
                    <a:pt x="11048" y="9388"/>
                  </a:lnTo>
                  <a:lnTo>
                    <a:pt x="11703" y="9558"/>
                  </a:lnTo>
                  <a:lnTo>
                    <a:pt x="12026" y="9558"/>
                  </a:lnTo>
                  <a:lnTo>
                    <a:pt x="12187" y="9909"/>
                  </a:lnTo>
                  <a:lnTo>
                    <a:pt x="11854" y="9909"/>
                  </a:lnTo>
                  <a:lnTo>
                    <a:pt x="11220" y="9909"/>
                  </a:lnTo>
                  <a:lnTo>
                    <a:pt x="10887" y="9909"/>
                  </a:lnTo>
                  <a:lnTo>
                    <a:pt x="10564" y="9740"/>
                  </a:lnTo>
                  <a:lnTo>
                    <a:pt x="10403" y="9388"/>
                  </a:lnTo>
                  <a:lnTo>
                    <a:pt x="10231" y="8867"/>
                  </a:lnTo>
                  <a:lnTo>
                    <a:pt x="9758" y="8528"/>
                  </a:lnTo>
                  <a:lnTo>
                    <a:pt x="9103" y="8346"/>
                  </a:lnTo>
                  <a:lnTo>
                    <a:pt x="8608" y="8007"/>
                  </a:lnTo>
                  <a:lnTo>
                    <a:pt x="8608" y="7656"/>
                  </a:lnTo>
                  <a:lnTo>
                    <a:pt x="8941" y="7474"/>
                  </a:lnTo>
                  <a:lnTo>
                    <a:pt x="8769" y="7135"/>
                  </a:lnTo>
                  <a:lnTo>
                    <a:pt x="8447" y="7474"/>
                  </a:lnTo>
                  <a:lnTo>
                    <a:pt x="8135" y="7826"/>
                  </a:lnTo>
                  <a:lnTo>
                    <a:pt x="7963" y="8007"/>
                  </a:lnTo>
                  <a:lnTo>
                    <a:pt x="8135" y="8686"/>
                  </a:lnTo>
                  <a:lnTo>
                    <a:pt x="8135" y="9219"/>
                  </a:lnTo>
                  <a:lnTo>
                    <a:pt x="8286" y="9909"/>
                  </a:lnTo>
                  <a:lnTo>
                    <a:pt x="8608" y="10430"/>
                  </a:lnTo>
                  <a:lnTo>
                    <a:pt x="8941" y="10781"/>
                  </a:lnTo>
                  <a:lnTo>
                    <a:pt x="9425" y="11302"/>
                  </a:lnTo>
                  <a:lnTo>
                    <a:pt x="9758" y="11823"/>
                  </a:lnTo>
                  <a:lnTo>
                    <a:pt x="10564" y="12514"/>
                  </a:lnTo>
                  <a:lnTo>
                    <a:pt x="11220" y="13035"/>
                  </a:lnTo>
                  <a:lnTo>
                    <a:pt x="11381" y="13568"/>
                  </a:lnTo>
                  <a:lnTo>
                    <a:pt x="11048" y="13737"/>
                  </a:lnTo>
                  <a:lnTo>
                    <a:pt x="10725" y="14076"/>
                  </a:lnTo>
                  <a:lnTo>
                    <a:pt x="10564" y="13907"/>
                  </a:lnTo>
                  <a:lnTo>
                    <a:pt x="10564" y="13737"/>
                  </a:lnTo>
                  <a:lnTo>
                    <a:pt x="10725" y="13568"/>
                  </a:lnTo>
                  <a:lnTo>
                    <a:pt x="10564" y="13386"/>
                  </a:lnTo>
                  <a:lnTo>
                    <a:pt x="10403" y="13035"/>
                  </a:lnTo>
                  <a:lnTo>
                    <a:pt x="10070" y="13035"/>
                  </a:lnTo>
                  <a:lnTo>
                    <a:pt x="9919" y="13204"/>
                  </a:lnTo>
                  <a:lnTo>
                    <a:pt x="9758" y="13568"/>
                  </a:lnTo>
                  <a:lnTo>
                    <a:pt x="9919" y="13907"/>
                  </a:lnTo>
                  <a:lnTo>
                    <a:pt x="10070" y="14076"/>
                  </a:lnTo>
                  <a:lnTo>
                    <a:pt x="10403" y="14428"/>
                  </a:lnTo>
                  <a:lnTo>
                    <a:pt x="10564" y="14428"/>
                  </a:lnTo>
                  <a:lnTo>
                    <a:pt x="10403" y="14791"/>
                  </a:lnTo>
                  <a:lnTo>
                    <a:pt x="10231" y="14949"/>
                  </a:lnTo>
                  <a:lnTo>
                    <a:pt x="9919" y="15118"/>
                  </a:lnTo>
                  <a:lnTo>
                    <a:pt x="9586" y="15300"/>
                  </a:lnTo>
                  <a:lnTo>
                    <a:pt x="9264" y="15300"/>
                  </a:lnTo>
                  <a:lnTo>
                    <a:pt x="8941" y="15300"/>
                  </a:lnTo>
                  <a:lnTo>
                    <a:pt x="9103" y="15482"/>
                  </a:lnTo>
                  <a:lnTo>
                    <a:pt x="9425" y="15651"/>
                  </a:lnTo>
                  <a:lnTo>
                    <a:pt x="10564" y="15482"/>
                  </a:lnTo>
                  <a:lnTo>
                    <a:pt x="11048" y="15990"/>
                  </a:lnTo>
                  <a:lnTo>
                    <a:pt x="11542" y="15990"/>
                  </a:lnTo>
                  <a:lnTo>
                    <a:pt x="11703" y="16172"/>
                  </a:lnTo>
                  <a:lnTo>
                    <a:pt x="11854" y="16342"/>
                  </a:lnTo>
                  <a:lnTo>
                    <a:pt x="12026" y="16523"/>
                  </a:lnTo>
                  <a:lnTo>
                    <a:pt x="12348" y="16342"/>
                  </a:lnTo>
                  <a:lnTo>
                    <a:pt x="12671" y="16705"/>
                  </a:lnTo>
                  <a:lnTo>
                    <a:pt x="13004" y="17032"/>
                  </a:lnTo>
                  <a:lnTo>
                    <a:pt x="13326" y="17214"/>
                  </a:lnTo>
                  <a:lnTo>
                    <a:pt x="13971" y="17214"/>
                  </a:lnTo>
                  <a:lnTo>
                    <a:pt x="14627" y="17565"/>
                  </a:lnTo>
                  <a:lnTo>
                    <a:pt x="14627" y="17723"/>
                  </a:lnTo>
                  <a:lnTo>
                    <a:pt x="14465" y="18074"/>
                  </a:lnTo>
                  <a:lnTo>
                    <a:pt x="14627" y="18256"/>
                  </a:lnTo>
                  <a:lnTo>
                    <a:pt x="14627" y="18764"/>
                  </a:lnTo>
                  <a:lnTo>
                    <a:pt x="14788" y="19310"/>
                  </a:lnTo>
                  <a:lnTo>
                    <a:pt x="15121" y="19637"/>
                  </a:lnTo>
                  <a:lnTo>
                    <a:pt x="14949" y="19988"/>
                  </a:lnTo>
                  <a:lnTo>
                    <a:pt x="14788" y="19988"/>
                  </a:lnTo>
                  <a:lnTo>
                    <a:pt x="14304" y="19818"/>
                  </a:lnTo>
                  <a:lnTo>
                    <a:pt x="13810" y="19479"/>
                  </a:lnTo>
                  <a:lnTo>
                    <a:pt x="13498" y="19310"/>
                  </a:lnTo>
                  <a:lnTo>
                    <a:pt x="13165" y="19128"/>
                  </a:lnTo>
                  <a:lnTo>
                    <a:pt x="13004" y="18764"/>
                  </a:lnTo>
                  <a:lnTo>
                    <a:pt x="12843" y="18946"/>
                  </a:lnTo>
                  <a:lnTo>
                    <a:pt x="12348" y="19128"/>
                  </a:lnTo>
                  <a:lnTo>
                    <a:pt x="11854" y="19310"/>
                  </a:lnTo>
                  <a:lnTo>
                    <a:pt x="11381" y="19479"/>
                  </a:lnTo>
                  <a:lnTo>
                    <a:pt x="11220" y="19310"/>
                  </a:lnTo>
                  <a:lnTo>
                    <a:pt x="10887" y="19128"/>
                  </a:lnTo>
                  <a:lnTo>
                    <a:pt x="10564" y="18946"/>
                  </a:lnTo>
                  <a:lnTo>
                    <a:pt x="11048" y="18764"/>
                  </a:lnTo>
                  <a:lnTo>
                    <a:pt x="11542" y="18595"/>
                  </a:lnTo>
                  <a:lnTo>
                    <a:pt x="11703" y="18437"/>
                  </a:lnTo>
                  <a:lnTo>
                    <a:pt x="11542" y="18256"/>
                  </a:lnTo>
                  <a:lnTo>
                    <a:pt x="10887" y="18256"/>
                  </a:lnTo>
                  <a:lnTo>
                    <a:pt x="10231" y="18074"/>
                  </a:lnTo>
                  <a:lnTo>
                    <a:pt x="9919" y="17904"/>
                  </a:lnTo>
                  <a:lnTo>
                    <a:pt x="9758" y="17565"/>
                  </a:lnTo>
                  <a:lnTo>
                    <a:pt x="9758" y="17904"/>
                  </a:lnTo>
                  <a:lnTo>
                    <a:pt x="9425" y="18074"/>
                  </a:lnTo>
                  <a:lnTo>
                    <a:pt x="9264" y="17904"/>
                  </a:lnTo>
                  <a:lnTo>
                    <a:pt x="9103" y="17565"/>
                  </a:lnTo>
                  <a:lnTo>
                    <a:pt x="9103" y="17723"/>
                  </a:lnTo>
                  <a:lnTo>
                    <a:pt x="8941" y="18074"/>
                  </a:lnTo>
                  <a:lnTo>
                    <a:pt x="8608" y="18074"/>
                  </a:lnTo>
                  <a:lnTo>
                    <a:pt x="8135" y="18256"/>
                  </a:lnTo>
                  <a:lnTo>
                    <a:pt x="7802" y="18074"/>
                  </a:lnTo>
                  <a:lnTo>
                    <a:pt x="7319" y="18074"/>
                  </a:lnTo>
                  <a:lnTo>
                    <a:pt x="7147" y="18256"/>
                  </a:lnTo>
                  <a:lnTo>
                    <a:pt x="6824" y="18437"/>
                  </a:lnTo>
                  <a:lnTo>
                    <a:pt x="6491" y="18595"/>
                  </a:lnTo>
                  <a:lnTo>
                    <a:pt x="6179" y="18437"/>
                  </a:lnTo>
                  <a:lnTo>
                    <a:pt x="5685" y="18595"/>
                  </a:lnTo>
                  <a:lnTo>
                    <a:pt x="5524" y="18595"/>
                  </a:lnTo>
                  <a:lnTo>
                    <a:pt x="5363" y="18256"/>
                  </a:lnTo>
                  <a:lnTo>
                    <a:pt x="5202" y="18437"/>
                  </a:lnTo>
                  <a:lnTo>
                    <a:pt x="4868" y="18595"/>
                  </a:lnTo>
                  <a:lnTo>
                    <a:pt x="4557" y="18946"/>
                  </a:lnTo>
                  <a:lnTo>
                    <a:pt x="4395" y="18764"/>
                  </a:lnTo>
                  <a:lnTo>
                    <a:pt x="4224" y="18437"/>
                  </a:lnTo>
                  <a:lnTo>
                    <a:pt x="4062" y="18256"/>
                  </a:lnTo>
                  <a:lnTo>
                    <a:pt x="4062" y="17904"/>
                  </a:lnTo>
                  <a:lnTo>
                    <a:pt x="3901" y="17565"/>
                  </a:lnTo>
                  <a:lnTo>
                    <a:pt x="3579" y="17214"/>
                  </a:lnTo>
                  <a:lnTo>
                    <a:pt x="3246" y="16850"/>
                  </a:lnTo>
                  <a:lnTo>
                    <a:pt x="2923" y="17032"/>
                  </a:lnTo>
                  <a:lnTo>
                    <a:pt x="2923" y="17214"/>
                  </a:lnTo>
                  <a:lnTo>
                    <a:pt x="2923" y="17396"/>
                  </a:lnTo>
                  <a:lnTo>
                    <a:pt x="2923" y="17565"/>
                  </a:lnTo>
                  <a:lnTo>
                    <a:pt x="2773" y="17904"/>
                  </a:lnTo>
                  <a:lnTo>
                    <a:pt x="2440" y="17904"/>
                  </a:lnTo>
                  <a:lnTo>
                    <a:pt x="2440" y="17723"/>
                  </a:lnTo>
                  <a:lnTo>
                    <a:pt x="2440" y="17214"/>
                  </a:lnTo>
                  <a:lnTo>
                    <a:pt x="2773" y="17032"/>
                  </a:lnTo>
                  <a:lnTo>
                    <a:pt x="2923" y="16705"/>
                  </a:lnTo>
                  <a:lnTo>
                    <a:pt x="2923" y="16523"/>
                  </a:lnTo>
                  <a:lnTo>
                    <a:pt x="2923" y="16342"/>
                  </a:lnTo>
                  <a:lnTo>
                    <a:pt x="3246" y="16172"/>
                  </a:lnTo>
                  <a:lnTo>
                    <a:pt x="3407" y="16172"/>
                  </a:lnTo>
                  <a:lnTo>
                    <a:pt x="3740" y="16342"/>
                  </a:lnTo>
                  <a:lnTo>
                    <a:pt x="4062" y="16172"/>
                  </a:lnTo>
                  <a:lnTo>
                    <a:pt x="3901" y="15990"/>
                  </a:lnTo>
                  <a:lnTo>
                    <a:pt x="3901" y="15821"/>
                  </a:lnTo>
                  <a:lnTo>
                    <a:pt x="3740" y="15651"/>
                  </a:lnTo>
                  <a:lnTo>
                    <a:pt x="3407" y="15651"/>
                  </a:lnTo>
                  <a:lnTo>
                    <a:pt x="3246" y="15651"/>
                  </a:lnTo>
                  <a:lnTo>
                    <a:pt x="2923" y="15482"/>
                  </a:lnTo>
                  <a:lnTo>
                    <a:pt x="2923" y="15821"/>
                  </a:lnTo>
                  <a:lnTo>
                    <a:pt x="2923" y="15990"/>
                  </a:lnTo>
                  <a:lnTo>
                    <a:pt x="2923" y="16172"/>
                  </a:lnTo>
                  <a:lnTo>
                    <a:pt x="2601" y="16172"/>
                  </a:lnTo>
                  <a:lnTo>
                    <a:pt x="2278" y="15651"/>
                  </a:lnTo>
                  <a:lnTo>
                    <a:pt x="1784" y="15300"/>
                  </a:lnTo>
                  <a:lnTo>
                    <a:pt x="1623" y="15118"/>
                  </a:lnTo>
                  <a:lnTo>
                    <a:pt x="1300" y="15118"/>
                  </a:lnTo>
                  <a:lnTo>
                    <a:pt x="817" y="14609"/>
                  </a:lnTo>
                  <a:lnTo>
                    <a:pt x="656" y="14076"/>
                  </a:lnTo>
                  <a:lnTo>
                    <a:pt x="494" y="13737"/>
                  </a:lnTo>
                  <a:lnTo>
                    <a:pt x="494" y="13386"/>
                  </a:lnTo>
                  <a:lnTo>
                    <a:pt x="0" y="13204"/>
                  </a:lnTo>
                  <a:lnTo>
                    <a:pt x="322" y="13204"/>
                  </a:lnTo>
                  <a:lnTo>
                    <a:pt x="494" y="13204"/>
                  </a:lnTo>
                  <a:lnTo>
                    <a:pt x="656" y="13204"/>
                  </a:lnTo>
                  <a:lnTo>
                    <a:pt x="817" y="13035"/>
                  </a:lnTo>
                  <a:lnTo>
                    <a:pt x="967" y="12877"/>
                  </a:lnTo>
                  <a:lnTo>
                    <a:pt x="967" y="12695"/>
                  </a:lnTo>
                  <a:lnTo>
                    <a:pt x="1128" y="12514"/>
                  </a:lnTo>
                  <a:lnTo>
                    <a:pt x="1128" y="12344"/>
                  </a:lnTo>
                  <a:lnTo>
                    <a:pt x="967" y="11823"/>
                  </a:lnTo>
                  <a:lnTo>
                    <a:pt x="967" y="11654"/>
                  </a:lnTo>
                  <a:lnTo>
                    <a:pt x="1300" y="11302"/>
                  </a:lnTo>
                  <a:lnTo>
                    <a:pt x="1623" y="11133"/>
                  </a:lnTo>
                  <a:lnTo>
                    <a:pt x="1784" y="10963"/>
                  </a:lnTo>
                  <a:lnTo>
                    <a:pt x="1956" y="10430"/>
                  </a:lnTo>
                  <a:lnTo>
                    <a:pt x="1956" y="10260"/>
                  </a:lnTo>
                  <a:lnTo>
                    <a:pt x="2117" y="9909"/>
                  </a:lnTo>
                  <a:lnTo>
                    <a:pt x="2117" y="9388"/>
                  </a:lnTo>
                  <a:lnTo>
                    <a:pt x="2278" y="9219"/>
                  </a:lnTo>
                  <a:lnTo>
                    <a:pt x="2440" y="9049"/>
                  </a:lnTo>
                  <a:lnTo>
                    <a:pt x="2601" y="8528"/>
                  </a:lnTo>
                  <a:lnTo>
                    <a:pt x="2773" y="8165"/>
                  </a:lnTo>
                  <a:lnTo>
                    <a:pt x="2440" y="7656"/>
                  </a:lnTo>
                  <a:lnTo>
                    <a:pt x="2278" y="7305"/>
                  </a:lnTo>
                  <a:lnTo>
                    <a:pt x="2117" y="7135"/>
                  </a:lnTo>
                  <a:lnTo>
                    <a:pt x="2601" y="7135"/>
                  </a:lnTo>
                  <a:lnTo>
                    <a:pt x="3084" y="7135"/>
                  </a:lnTo>
                  <a:lnTo>
                    <a:pt x="3246" y="7135"/>
                  </a:lnTo>
                  <a:lnTo>
                    <a:pt x="3740" y="6784"/>
                  </a:lnTo>
                  <a:lnTo>
                    <a:pt x="4224" y="6784"/>
                  </a:lnTo>
                  <a:lnTo>
                    <a:pt x="4557" y="6614"/>
                  </a:lnTo>
                  <a:lnTo>
                    <a:pt x="4707" y="6614"/>
                  </a:lnTo>
                  <a:lnTo>
                    <a:pt x="5040" y="6251"/>
                  </a:lnTo>
                  <a:lnTo>
                    <a:pt x="5202" y="5742"/>
                  </a:lnTo>
                  <a:lnTo>
                    <a:pt x="5524" y="5221"/>
                  </a:lnTo>
                  <a:lnTo>
                    <a:pt x="5857" y="5391"/>
                  </a:lnTo>
                  <a:lnTo>
                    <a:pt x="6179" y="5221"/>
                  </a:lnTo>
                  <a:lnTo>
                    <a:pt x="6663" y="5039"/>
                  </a:lnTo>
                  <a:lnTo>
                    <a:pt x="7147" y="5221"/>
                  </a:lnTo>
                  <a:lnTo>
                    <a:pt x="7319" y="4870"/>
                  </a:lnTo>
                  <a:lnTo>
                    <a:pt x="7802" y="4700"/>
                  </a:lnTo>
                  <a:lnTo>
                    <a:pt x="7963" y="4010"/>
                  </a:lnTo>
                  <a:lnTo>
                    <a:pt x="8447" y="3828"/>
                  </a:lnTo>
                  <a:lnTo>
                    <a:pt x="9103" y="3828"/>
                  </a:lnTo>
                  <a:lnTo>
                    <a:pt x="9103" y="3828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95040" y="5275800"/>
              <a:ext cx="378000" cy="333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761" y="4908"/>
                  </a:moveTo>
                  <a:lnTo>
                    <a:pt x="1168" y="4482"/>
                  </a:lnTo>
                  <a:lnTo>
                    <a:pt x="1168" y="4057"/>
                  </a:lnTo>
                  <a:lnTo>
                    <a:pt x="1168" y="3660"/>
                  </a:lnTo>
                  <a:lnTo>
                    <a:pt x="1548" y="2043"/>
                  </a:lnTo>
                  <a:lnTo>
                    <a:pt x="1929" y="2043"/>
                  </a:lnTo>
                  <a:lnTo>
                    <a:pt x="2665" y="2043"/>
                  </a:lnTo>
                  <a:lnTo>
                    <a:pt x="3071" y="2468"/>
                  </a:lnTo>
                  <a:lnTo>
                    <a:pt x="3832" y="2043"/>
                  </a:lnTo>
                  <a:lnTo>
                    <a:pt x="4213" y="1191"/>
                  </a:lnTo>
                  <a:lnTo>
                    <a:pt x="4619" y="426"/>
                  </a:lnTo>
                  <a:lnTo>
                    <a:pt x="5381" y="0"/>
                  </a:lnTo>
                  <a:lnTo>
                    <a:pt x="5761" y="0"/>
                  </a:lnTo>
                  <a:lnTo>
                    <a:pt x="6929" y="426"/>
                  </a:lnTo>
                  <a:lnTo>
                    <a:pt x="8046" y="851"/>
                  </a:lnTo>
                  <a:lnTo>
                    <a:pt x="8452" y="1191"/>
                  </a:lnTo>
                  <a:lnTo>
                    <a:pt x="9594" y="1191"/>
                  </a:lnTo>
                  <a:lnTo>
                    <a:pt x="10761" y="1191"/>
                  </a:lnTo>
                  <a:lnTo>
                    <a:pt x="12310" y="1617"/>
                  </a:lnTo>
                  <a:lnTo>
                    <a:pt x="13426" y="2468"/>
                  </a:lnTo>
                  <a:lnTo>
                    <a:pt x="14594" y="2865"/>
                  </a:lnTo>
                  <a:lnTo>
                    <a:pt x="14975" y="3291"/>
                  </a:lnTo>
                  <a:lnTo>
                    <a:pt x="15355" y="3660"/>
                  </a:lnTo>
                  <a:lnTo>
                    <a:pt x="16523" y="3660"/>
                  </a:lnTo>
                  <a:lnTo>
                    <a:pt x="16523" y="4057"/>
                  </a:lnTo>
                  <a:lnTo>
                    <a:pt x="16904" y="4908"/>
                  </a:lnTo>
                  <a:lnTo>
                    <a:pt x="16904" y="5674"/>
                  </a:lnTo>
                  <a:lnTo>
                    <a:pt x="18046" y="6099"/>
                  </a:lnTo>
                  <a:lnTo>
                    <a:pt x="18426" y="6099"/>
                  </a:lnTo>
                  <a:lnTo>
                    <a:pt x="18426" y="4908"/>
                  </a:lnTo>
                  <a:lnTo>
                    <a:pt x="18807" y="4908"/>
                  </a:lnTo>
                  <a:lnTo>
                    <a:pt x="19213" y="6099"/>
                  </a:lnTo>
                  <a:lnTo>
                    <a:pt x="19594" y="7773"/>
                  </a:lnTo>
                  <a:lnTo>
                    <a:pt x="18807" y="7773"/>
                  </a:lnTo>
                  <a:lnTo>
                    <a:pt x="18426" y="8539"/>
                  </a:lnTo>
                  <a:lnTo>
                    <a:pt x="17690" y="9390"/>
                  </a:lnTo>
                  <a:lnTo>
                    <a:pt x="16904" y="8539"/>
                  </a:lnTo>
                  <a:lnTo>
                    <a:pt x="16904" y="8142"/>
                  </a:lnTo>
                  <a:lnTo>
                    <a:pt x="16523" y="7773"/>
                  </a:lnTo>
                  <a:lnTo>
                    <a:pt x="15761" y="7773"/>
                  </a:lnTo>
                  <a:lnTo>
                    <a:pt x="14594" y="7348"/>
                  </a:lnTo>
                  <a:lnTo>
                    <a:pt x="13832" y="6922"/>
                  </a:lnTo>
                  <a:lnTo>
                    <a:pt x="13426" y="7348"/>
                  </a:lnTo>
                  <a:lnTo>
                    <a:pt x="14213" y="8142"/>
                  </a:lnTo>
                  <a:lnTo>
                    <a:pt x="14975" y="8965"/>
                  </a:lnTo>
                  <a:lnTo>
                    <a:pt x="15761" y="10582"/>
                  </a:lnTo>
                  <a:lnTo>
                    <a:pt x="16523" y="11404"/>
                  </a:lnTo>
                  <a:lnTo>
                    <a:pt x="16904" y="12624"/>
                  </a:lnTo>
                  <a:lnTo>
                    <a:pt x="17690" y="14270"/>
                  </a:lnTo>
                  <a:lnTo>
                    <a:pt x="18046" y="15064"/>
                  </a:lnTo>
                  <a:lnTo>
                    <a:pt x="18807" y="16681"/>
                  </a:lnTo>
                  <a:lnTo>
                    <a:pt x="19213" y="16681"/>
                  </a:lnTo>
                  <a:lnTo>
                    <a:pt x="19975" y="18355"/>
                  </a:lnTo>
                  <a:lnTo>
                    <a:pt x="19213" y="18752"/>
                  </a:lnTo>
                  <a:lnTo>
                    <a:pt x="18046" y="18752"/>
                  </a:lnTo>
                  <a:lnTo>
                    <a:pt x="17310" y="17929"/>
                  </a:lnTo>
                  <a:lnTo>
                    <a:pt x="16523" y="17504"/>
                  </a:lnTo>
                  <a:lnTo>
                    <a:pt x="16142" y="16681"/>
                  </a:lnTo>
                  <a:lnTo>
                    <a:pt x="14975" y="15887"/>
                  </a:lnTo>
                  <a:lnTo>
                    <a:pt x="14213" y="15489"/>
                  </a:lnTo>
                  <a:lnTo>
                    <a:pt x="13832" y="16681"/>
                  </a:lnTo>
                  <a:lnTo>
                    <a:pt x="13832" y="17504"/>
                  </a:lnTo>
                  <a:lnTo>
                    <a:pt x="13832" y="19546"/>
                  </a:lnTo>
                  <a:lnTo>
                    <a:pt x="13426" y="19972"/>
                  </a:lnTo>
                  <a:lnTo>
                    <a:pt x="12665" y="19546"/>
                  </a:lnTo>
                  <a:lnTo>
                    <a:pt x="12310" y="18355"/>
                  </a:lnTo>
                  <a:lnTo>
                    <a:pt x="12310" y="17106"/>
                  </a:lnTo>
                  <a:lnTo>
                    <a:pt x="11523" y="16312"/>
                  </a:lnTo>
                  <a:lnTo>
                    <a:pt x="10761" y="15489"/>
                  </a:lnTo>
                  <a:lnTo>
                    <a:pt x="10000" y="15064"/>
                  </a:lnTo>
                  <a:lnTo>
                    <a:pt x="9594" y="14270"/>
                  </a:lnTo>
                  <a:lnTo>
                    <a:pt x="8832" y="14638"/>
                  </a:lnTo>
                  <a:lnTo>
                    <a:pt x="8452" y="15064"/>
                  </a:lnTo>
                  <a:lnTo>
                    <a:pt x="8832" y="15887"/>
                  </a:lnTo>
                  <a:lnTo>
                    <a:pt x="8452" y="17106"/>
                  </a:lnTo>
                  <a:lnTo>
                    <a:pt x="7665" y="17504"/>
                  </a:lnTo>
                  <a:lnTo>
                    <a:pt x="6929" y="17106"/>
                  </a:lnTo>
                  <a:lnTo>
                    <a:pt x="6142" y="16681"/>
                  </a:lnTo>
                  <a:lnTo>
                    <a:pt x="5761" y="15489"/>
                  </a:lnTo>
                  <a:lnTo>
                    <a:pt x="5000" y="14638"/>
                  </a:lnTo>
                  <a:lnTo>
                    <a:pt x="5000" y="13872"/>
                  </a:lnTo>
                  <a:lnTo>
                    <a:pt x="5000" y="12624"/>
                  </a:lnTo>
                  <a:lnTo>
                    <a:pt x="5381" y="11830"/>
                  </a:lnTo>
                  <a:lnTo>
                    <a:pt x="5000" y="11007"/>
                  </a:lnTo>
                  <a:lnTo>
                    <a:pt x="4619" y="9816"/>
                  </a:lnTo>
                  <a:lnTo>
                    <a:pt x="3452" y="8965"/>
                  </a:lnTo>
                  <a:lnTo>
                    <a:pt x="1929" y="8539"/>
                  </a:lnTo>
                  <a:lnTo>
                    <a:pt x="1929" y="7773"/>
                  </a:lnTo>
                  <a:lnTo>
                    <a:pt x="761" y="6525"/>
                  </a:lnTo>
                  <a:lnTo>
                    <a:pt x="0" y="6525"/>
                  </a:lnTo>
                  <a:lnTo>
                    <a:pt x="0" y="5333"/>
                  </a:lnTo>
                  <a:lnTo>
                    <a:pt x="761" y="4908"/>
                  </a:lnTo>
                  <a:lnTo>
                    <a:pt x="761" y="4908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30640" y="5507640"/>
              <a:ext cx="458640" cy="114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314" y="12869"/>
                  </a:moveTo>
                  <a:lnTo>
                    <a:pt x="629" y="10492"/>
                  </a:lnTo>
                  <a:lnTo>
                    <a:pt x="0" y="7049"/>
                  </a:lnTo>
                  <a:lnTo>
                    <a:pt x="314" y="3443"/>
                  </a:lnTo>
                  <a:lnTo>
                    <a:pt x="964" y="7049"/>
                  </a:lnTo>
                  <a:lnTo>
                    <a:pt x="1279" y="5820"/>
                  </a:lnTo>
                  <a:lnTo>
                    <a:pt x="964" y="4672"/>
                  </a:lnTo>
                  <a:lnTo>
                    <a:pt x="1279" y="2377"/>
                  </a:lnTo>
                  <a:lnTo>
                    <a:pt x="1279" y="1148"/>
                  </a:lnTo>
                  <a:lnTo>
                    <a:pt x="1887" y="2377"/>
                  </a:lnTo>
                  <a:lnTo>
                    <a:pt x="2201" y="5820"/>
                  </a:lnTo>
                  <a:lnTo>
                    <a:pt x="2851" y="5820"/>
                  </a:lnTo>
                  <a:lnTo>
                    <a:pt x="3480" y="4672"/>
                  </a:lnTo>
                  <a:lnTo>
                    <a:pt x="3795" y="3443"/>
                  </a:lnTo>
                  <a:lnTo>
                    <a:pt x="4444" y="3443"/>
                  </a:lnTo>
                  <a:lnTo>
                    <a:pt x="4759" y="3443"/>
                  </a:lnTo>
                  <a:lnTo>
                    <a:pt x="4444" y="4672"/>
                  </a:lnTo>
                  <a:lnTo>
                    <a:pt x="4130" y="4672"/>
                  </a:lnTo>
                  <a:lnTo>
                    <a:pt x="4130" y="5820"/>
                  </a:lnTo>
                  <a:lnTo>
                    <a:pt x="4444" y="7049"/>
                  </a:lnTo>
                  <a:lnTo>
                    <a:pt x="4759" y="5820"/>
                  </a:lnTo>
                  <a:lnTo>
                    <a:pt x="5073" y="5820"/>
                  </a:lnTo>
                  <a:lnTo>
                    <a:pt x="5409" y="7049"/>
                  </a:lnTo>
                  <a:lnTo>
                    <a:pt x="6038" y="8197"/>
                  </a:lnTo>
                  <a:lnTo>
                    <a:pt x="6646" y="8197"/>
                  </a:lnTo>
                  <a:lnTo>
                    <a:pt x="7296" y="5820"/>
                  </a:lnTo>
                  <a:lnTo>
                    <a:pt x="8239" y="4672"/>
                  </a:lnTo>
                  <a:lnTo>
                    <a:pt x="9203" y="3443"/>
                  </a:lnTo>
                  <a:lnTo>
                    <a:pt x="9811" y="3443"/>
                  </a:lnTo>
                  <a:lnTo>
                    <a:pt x="10776" y="2377"/>
                  </a:lnTo>
                  <a:lnTo>
                    <a:pt x="11405" y="3443"/>
                  </a:lnTo>
                  <a:lnTo>
                    <a:pt x="11740" y="4672"/>
                  </a:lnTo>
                  <a:lnTo>
                    <a:pt x="12683" y="2377"/>
                  </a:lnTo>
                  <a:lnTo>
                    <a:pt x="12683" y="1148"/>
                  </a:lnTo>
                  <a:lnTo>
                    <a:pt x="13941" y="3443"/>
                  </a:lnTo>
                  <a:lnTo>
                    <a:pt x="14256" y="3443"/>
                  </a:lnTo>
                  <a:lnTo>
                    <a:pt x="14906" y="1148"/>
                  </a:lnTo>
                  <a:lnTo>
                    <a:pt x="15535" y="1148"/>
                  </a:lnTo>
                  <a:lnTo>
                    <a:pt x="15849" y="2377"/>
                  </a:lnTo>
                  <a:lnTo>
                    <a:pt x="15849" y="5820"/>
                  </a:lnTo>
                  <a:lnTo>
                    <a:pt x="16184" y="7049"/>
                  </a:lnTo>
                  <a:lnTo>
                    <a:pt x="16499" y="5820"/>
                  </a:lnTo>
                  <a:lnTo>
                    <a:pt x="17128" y="4672"/>
                  </a:lnTo>
                  <a:lnTo>
                    <a:pt x="17778" y="2377"/>
                  </a:lnTo>
                  <a:lnTo>
                    <a:pt x="18700" y="1148"/>
                  </a:lnTo>
                  <a:lnTo>
                    <a:pt x="19665" y="0"/>
                  </a:lnTo>
                  <a:lnTo>
                    <a:pt x="19979" y="3443"/>
                  </a:lnTo>
                  <a:lnTo>
                    <a:pt x="19665" y="8197"/>
                  </a:lnTo>
                  <a:lnTo>
                    <a:pt x="19015" y="10492"/>
                  </a:lnTo>
                  <a:lnTo>
                    <a:pt x="17778" y="10492"/>
                  </a:lnTo>
                  <a:lnTo>
                    <a:pt x="16499" y="12869"/>
                  </a:lnTo>
                  <a:lnTo>
                    <a:pt x="15220" y="12869"/>
                  </a:lnTo>
                  <a:lnTo>
                    <a:pt x="13333" y="15246"/>
                  </a:lnTo>
                  <a:lnTo>
                    <a:pt x="12683" y="16475"/>
                  </a:lnTo>
                  <a:lnTo>
                    <a:pt x="11405" y="17541"/>
                  </a:lnTo>
                  <a:lnTo>
                    <a:pt x="9518" y="19918"/>
                  </a:lnTo>
                  <a:lnTo>
                    <a:pt x="9811" y="15246"/>
                  </a:lnTo>
                  <a:lnTo>
                    <a:pt x="9518" y="14016"/>
                  </a:lnTo>
                  <a:lnTo>
                    <a:pt x="8239" y="15246"/>
                  </a:lnTo>
                  <a:lnTo>
                    <a:pt x="7610" y="14016"/>
                  </a:lnTo>
                  <a:lnTo>
                    <a:pt x="6981" y="12869"/>
                  </a:lnTo>
                  <a:lnTo>
                    <a:pt x="5723" y="14016"/>
                  </a:lnTo>
                  <a:lnTo>
                    <a:pt x="4759" y="15246"/>
                  </a:lnTo>
                  <a:lnTo>
                    <a:pt x="3166" y="15246"/>
                  </a:lnTo>
                  <a:lnTo>
                    <a:pt x="964" y="16475"/>
                  </a:lnTo>
                  <a:lnTo>
                    <a:pt x="314" y="12869"/>
                  </a:lnTo>
                  <a:lnTo>
                    <a:pt x="314" y="12869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26880" y="5113800"/>
              <a:ext cx="291600" cy="162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3987" y="0"/>
                  </a:moveTo>
                  <a:lnTo>
                    <a:pt x="5470" y="872"/>
                  </a:lnTo>
                  <a:lnTo>
                    <a:pt x="5997" y="3314"/>
                  </a:lnTo>
                  <a:lnTo>
                    <a:pt x="7479" y="4128"/>
                  </a:lnTo>
                  <a:lnTo>
                    <a:pt x="8501" y="5000"/>
                  </a:lnTo>
                  <a:lnTo>
                    <a:pt x="9489" y="5000"/>
                  </a:lnTo>
                  <a:lnTo>
                    <a:pt x="10016" y="6628"/>
                  </a:lnTo>
                  <a:lnTo>
                    <a:pt x="10972" y="6628"/>
                  </a:lnTo>
                  <a:lnTo>
                    <a:pt x="11960" y="5872"/>
                  </a:lnTo>
                  <a:lnTo>
                    <a:pt x="12982" y="5872"/>
                  </a:lnTo>
                  <a:lnTo>
                    <a:pt x="13476" y="5000"/>
                  </a:lnTo>
                  <a:lnTo>
                    <a:pt x="13970" y="5872"/>
                  </a:lnTo>
                  <a:lnTo>
                    <a:pt x="13970" y="7442"/>
                  </a:lnTo>
                  <a:lnTo>
                    <a:pt x="14992" y="8314"/>
                  </a:lnTo>
                  <a:lnTo>
                    <a:pt x="14992" y="10000"/>
                  </a:lnTo>
                  <a:lnTo>
                    <a:pt x="14992" y="10756"/>
                  </a:lnTo>
                  <a:lnTo>
                    <a:pt x="15486" y="14070"/>
                  </a:lnTo>
                  <a:lnTo>
                    <a:pt x="15980" y="14942"/>
                  </a:lnTo>
                  <a:lnTo>
                    <a:pt x="17463" y="15814"/>
                  </a:lnTo>
                  <a:lnTo>
                    <a:pt x="17957" y="15814"/>
                  </a:lnTo>
                  <a:lnTo>
                    <a:pt x="18451" y="15814"/>
                  </a:lnTo>
                  <a:lnTo>
                    <a:pt x="19473" y="14942"/>
                  </a:lnTo>
                  <a:lnTo>
                    <a:pt x="19967" y="18256"/>
                  </a:lnTo>
                  <a:lnTo>
                    <a:pt x="19967" y="19942"/>
                  </a:lnTo>
                  <a:lnTo>
                    <a:pt x="18979" y="19942"/>
                  </a:lnTo>
                  <a:lnTo>
                    <a:pt x="18451" y="19070"/>
                  </a:lnTo>
                  <a:lnTo>
                    <a:pt x="17957" y="19070"/>
                  </a:lnTo>
                  <a:lnTo>
                    <a:pt x="17957" y="19942"/>
                  </a:lnTo>
                  <a:lnTo>
                    <a:pt x="17002" y="19070"/>
                  </a:lnTo>
                  <a:lnTo>
                    <a:pt x="15980" y="18256"/>
                  </a:lnTo>
                  <a:lnTo>
                    <a:pt x="14992" y="15814"/>
                  </a:lnTo>
                  <a:lnTo>
                    <a:pt x="14498" y="14070"/>
                  </a:lnTo>
                  <a:lnTo>
                    <a:pt x="13476" y="12500"/>
                  </a:lnTo>
                  <a:lnTo>
                    <a:pt x="11960" y="11628"/>
                  </a:lnTo>
                  <a:lnTo>
                    <a:pt x="10972" y="13314"/>
                  </a:lnTo>
                  <a:lnTo>
                    <a:pt x="10016" y="12500"/>
                  </a:lnTo>
                  <a:lnTo>
                    <a:pt x="8995" y="12500"/>
                  </a:lnTo>
                  <a:lnTo>
                    <a:pt x="8501" y="10756"/>
                  </a:lnTo>
                  <a:lnTo>
                    <a:pt x="8007" y="9186"/>
                  </a:lnTo>
                  <a:lnTo>
                    <a:pt x="6491" y="8314"/>
                  </a:lnTo>
                  <a:lnTo>
                    <a:pt x="4975" y="6628"/>
                  </a:lnTo>
                  <a:lnTo>
                    <a:pt x="3987" y="5872"/>
                  </a:lnTo>
                  <a:lnTo>
                    <a:pt x="2965" y="5000"/>
                  </a:lnTo>
                  <a:lnTo>
                    <a:pt x="2010" y="4128"/>
                  </a:lnTo>
                  <a:lnTo>
                    <a:pt x="0" y="5000"/>
                  </a:lnTo>
                  <a:lnTo>
                    <a:pt x="3987" y="0"/>
                  </a:lnTo>
                  <a:lnTo>
                    <a:pt x="3987" y="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57240" y="3470760"/>
              <a:ext cx="858600" cy="556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7279" y="255"/>
                  </a:moveTo>
                  <a:lnTo>
                    <a:pt x="17615" y="255"/>
                  </a:lnTo>
                  <a:lnTo>
                    <a:pt x="17951" y="714"/>
                  </a:lnTo>
                  <a:lnTo>
                    <a:pt x="18298" y="969"/>
                  </a:lnTo>
                  <a:lnTo>
                    <a:pt x="18634" y="1461"/>
                  </a:lnTo>
                  <a:lnTo>
                    <a:pt x="18813" y="1716"/>
                  </a:lnTo>
                  <a:lnTo>
                    <a:pt x="19306" y="1716"/>
                  </a:lnTo>
                  <a:lnTo>
                    <a:pt x="19653" y="1716"/>
                  </a:lnTo>
                  <a:lnTo>
                    <a:pt x="19821" y="2175"/>
                  </a:lnTo>
                  <a:lnTo>
                    <a:pt x="19989" y="2430"/>
                  </a:lnTo>
                  <a:lnTo>
                    <a:pt x="19653" y="3178"/>
                  </a:lnTo>
                  <a:lnTo>
                    <a:pt x="19306" y="3891"/>
                  </a:lnTo>
                  <a:lnTo>
                    <a:pt x="18981" y="3891"/>
                  </a:lnTo>
                  <a:lnTo>
                    <a:pt x="18634" y="3891"/>
                  </a:lnTo>
                  <a:lnTo>
                    <a:pt x="18466" y="4384"/>
                  </a:lnTo>
                  <a:lnTo>
                    <a:pt x="17951" y="4639"/>
                  </a:lnTo>
                  <a:lnTo>
                    <a:pt x="17951" y="5115"/>
                  </a:lnTo>
                  <a:lnTo>
                    <a:pt x="17615" y="6083"/>
                  </a:lnTo>
                  <a:lnTo>
                    <a:pt x="17615" y="6576"/>
                  </a:lnTo>
                  <a:lnTo>
                    <a:pt x="17447" y="7290"/>
                  </a:lnTo>
                  <a:lnTo>
                    <a:pt x="17279" y="8054"/>
                  </a:lnTo>
                  <a:lnTo>
                    <a:pt x="17100" y="8768"/>
                  </a:lnTo>
                  <a:lnTo>
                    <a:pt x="16932" y="9261"/>
                  </a:lnTo>
                  <a:lnTo>
                    <a:pt x="16932" y="9754"/>
                  </a:lnTo>
                  <a:lnTo>
                    <a:pt x="16775" y="10722"/>
                  </a:lnTo>
                  <a:lnTo>
                    <a:pt x="16607" y="11215"/>
                  </a:lnTo>
                  <a:lnTo>
                    <a:pt x="16439" y="11708"/>
                  </a:lnTo>
                  <a:lnTo>
                    <a:pt x="16260" y="11929"/>
                  </a:lnTo>
                  <a:lnTo>
                    <a:pt x="16092" y="12659"/>
                  </a:lnTo>
                  <a:lnTo>
                    <a:pt x="16092" y="13407"/>
                  </a:lnTo>
                  <a:lnTo>
                    <a:pt x="16092" y="13645"/>
                  </a:lnTo>
                  <a:lnTo>
                    <a:pt x="16092" y="13900"/>
                  </a:lnTo>
                  <a:lnTo>
                    <a:pt x="15924" y="14376"/>
                  </a:lnTo>
                  <a:lnTo>
                    <a:pt x="15577" y="14868"/>
                  </a:lnTo>
                  <a:lnTo>
                    <a:pt x="15241" y="14868"/>
                  </a:lnTo>
                  <a:lnTo>
                    <a:pt x="14737" y="14868"/>
                  </a:lnTo>
                  <a:lnTo>
                    <a:pt x="14569" y="15123"/>
                  </a:lnTo>
                  <a:lnTo>
                    <a:pt x="14401" y="15599"/>
                  </a:lnTo>
                  <a:lnTo>
                    <a:pt x="14065" y="15599"/>
                  </a:lnTo>
                  <a:lnTo>
                    <a:pt x="13886" y="15599"/>
                  </a:lnTo>
                  <a:lnTo>
                    <a:pt x="13550" y="15837"/>
                  </a:lnTo>
                  <a:lnTo>
                    <a:pt x="13214" y="16330"/>
                  </a:lnTo>
                  <a:lnTo>
                    <a:pt x="13035" y="16330"/>
                  </a:lnTo>
                  <a:lnTo>
                    <a:pt x="12542" y="16330"/>
                  </a:lnTo>
                  <a:lnTo>
                    <a:pt x="12195" y="16330"/>
                  </a:lnTo>
                  <a:lnTo>
                    <a:pt x="11691" y="16330"/>
                  </a:lnTo>
                  <a:lnTo>
                    <a:pt x="11344" y="16330"/>
                  </a:lnTo>
                  <a:lnTo>
                    <a:pt x="11019" y="16805"/>
                  </a:lnTo>
                  <a:lnTo>
                    <a:pt x="10504" y="17808"/>
                  </a:lnTo>
                  <a:lnTo>
                    <a:pt x="10168" y="18029"/>
                  </a:lnTo>
                  <a:lnTo>
                    <a:pt x="9653" y="18029"/>
                  </a:lnTo>
                  <a:lnTo>
                    <a:pt x="9317" y="18267"/>
                  </a:lnTo>
                  <a:lnTo>
                    <a:pt x="8645" y="18760"/>
                  </a:lnTo>
                  <a:lnTo>
                    <a:pt x="8298" y="19269"/>
                  </a:lnTo>
                  <a:lnTo>
                    <a:pt x="8130" y="19728"/>
                  </a:lnTo>
                  <a:lnTo>
                    <a:pt x="7626" y="19983"/>
                  </a:lnTo>
                  <a:lnTo>
                    <a:pt x="6954" y="19983"/>
                  </a:lnTo>
                  <a:lnTo>
                    <a:pt x="6439" y="19983"/>
                  </a:lnTo>
                  <a:lnTo>
                    <a:pt x="5756" y="19983"/>
                  </a:lnTo>
                  <a:lnTo>
                    <a:pt x="5252" y="19728"/>
                  </a:lnTo>
                  <a:lnTo>
                    <a:pt x="4580" y="19269"/>
                  </a:lnTo>
                  <a:lnTo>
                    <a:pt x="4233" y="19014"/>
                  </a:lnTo>
                  <a:lnTo>
                    <a:pt x="4065" y="18522"/>
                  </a:lnTo>
                  <a:lnTo>
                    <a:pt x="3550" y="18267"/>
                  </a:lnTo>
                  <a:lnTo>
                    <a:pt x="3214" y="17808"/>
                  </a:lnTo>
                  <a:lnTo>
                    <a:pt x="3057" y="17553"/>
                  </a:lnTo>
                  <a:lnTo>
                    <a:pt x="2542" y="17043"/>
                  </a:lnTo>
                  <a:lnTo>
                    <a:pt x="2206" y="16585"/>
                  </a:lnTo>
                  <a:lnTo>
                    <a:pt x="1523" y="16092"/>
                  </a:lnTo>
                  <a:lnTo>
                    <a:pt x="1355" y="15837"/>
                  </a:lnTo>
                  <a:lnTo>
                    <a:pt x="1008" y="15344"/>
                  </a:lnTo>
                  <a:lnTo>
                    <a:pt x="851" y="14613"/>
                  </a:lnTo>
                  <a:lnTo>
                    <a:pt x="515" y="14376"/>
                  </a:lnTo>
                  <a:lnTo>
                    <a:pt x="683" y="13900"/>
                  </a:lnTo>
                  <a:lnTo>
                    <a:pt x="336" y="13645"/>
                  </a:lnTo>
                  <a:lnTo>
                    <a:pt x="0" y="13900"/>
                  </a:lnTo>
                  <a:lnTo>
                    <a:pt x="168" y="13407"/>
                  </a:lnTo>
                  <a:lnTo>
                    <a:pt x="515" y="12659"/>
                  </a:lnTo>
                  <a:lnTo>
                    <a:pt x="1176" y="12659"/>
                  </a:lnTo>
                  <a:lnTo>
                    <a:pt x="851" y="11453"/>
                  </a:lnTo>
                  <a:lnTo>
                    <a:pt x="851" y="10960"/>
                  </a:lnTo>
                  <a:lnTo>
                    <a:pt x="851" y="10484"/>
                  </a:lnTo>
                  <a:lnTo>
                    <a:pt x="1176" y="9975"/>
                  </a:lnTo>
                  <a:lnTo>
                    <a:pt x="1523" y="9499"/>
                  </a:lnTo>
                  <a:lnTo>
                    <a:pt x="1523" y="8768"/>
                  </a:lnTo>
                  <a:lnTo>
                    <a:pt x="1008" y="8275"/>
                  </a:lnTo>
                  <a:lnTo>
                    <a:pt x="515" y="8275"/>
                  </a:lnTo>
                  <a:lnTo>
                    <a:pt x="851" y="7799"/>
                  </a:lnTo>
                  <a:lnTo>
                    <a:pt x="1008" y="7545"/>
                  </a:lnTo>
                  <a:lnTo>
                    <a:pt x="1691" y="7799"/>
                  </a:lnTo>
                  <a:lnTo>
                    <a:pt x="2206" y="7069"/>
                  </a:lnTo>
                  <a:lnTo>
                    <a:pt x="2206" y="6576"/>
                  </a:lnTo>
                  <a:lnTo>
                    <a:pt x="2374" y="6083"/>
                  </a:lnTo>
                  <a:lnTo>
                    <a:pt x="2374" y="5115"/>
                  </a:lnTo>
                  <a:lnTo>
                    <a:pt x="2542" y="5607"/>
                  </a:lnTo>
                  <a:lnTo>
                    <a:pt x="3382" y="5845"/>
                  </a:lnTo>
                  <a:lnTo>
                    <a:pt x="3729" y="6083"/>
                  </a:lnTo>
                  <a:lnTo>
                    <a:pt x="4233" y="6576"/>
                  </a:lnTo>
                  <a:lnTo>
                    <a:pt x="4748" y="6831"/>
                  </a:lnTo>
                  <a:lnTo>
                    <a:pt x="5420" y="6831"/>
                  </a:lnTo>
                  <a:lnTo>
                    <a:pt x="6103" y="6831"/>
                  </a:lnTo>
                  <a:lnTo>
                    <a:pt x="6607" y="6576"/>
                  </a:lnTo>
                  <a:lnTo>
                    <a:pt x="7279" y="5845"/>
                  </a:lnTo>
                  <a:lnTo>
                    <a:pt x="7279" y="5607"/>
                  </a:lnTo>
                  <a:lnTo>
                    <a:pt x="7279" y="5115"/>
                  </a:lnTo>
                  <a:lnTo>
                    <a:pt x="7794" y="4639"/>
                  </a:lnTo>
                  <a:lnTo>
                    <a:pt x="8130" y="4384"/>
                  </a:lnTo>
                  <a:lnTo>
                    <a:pt x="8477" y="4146"/>
                  </a:lnTo>
                  <a:lnTo>
                    <a:pt x="8813" y="3891"/>
                  </a:lnTo>
                  <a:lnTo>
                    <a:pt x="9485" y="3653"/>
                  </a:lnTo>
                  <a:lnTo>
                    <a:pt x="9653" y="3178"/>
                  </a:lnTo>
                  <a:lnTo>
                    <a:pt x="10000" y="2923"/>
                  </a:lnTo>
                  <a:lnTo>
                    <a:pt x="10504" y="3178"/>
                  </a:lnTo>
                  <a:lnTo>
                    <a:pt x="10851" y="3178"/>
                  </a:lnTo>
                  <a:lnTo>
                    <a:pt x="11176" y="2923"/>
                  </a:lnTo>
                  <a:lnTo>
                    <a:pt x="11344" y="2685"/>
                  </a:lnTo>
                  <a:lnTo>
                    <a:pt x="11859" y="2175"/>
                  </a:lnTo>
                  <a:lnTo>
                    <a:pt x="12027" y="1954"/>
                  </a:lnTo>
                  <a:lnTo>
                    <a:pt x="12027" y="1206"/>
                  </a:lnTo>
                  <a:lnTo>
                    <a:pt x="12363" y="714"/>
                  </a:lnTo>
                  <a:lnTo>
                    <a:pt x="12710" y="255"/>
                  </a:lnTo>
                  <a:lnTo>
                    <a:pt x="13214" y="255"/>
                  </a:lnTo>
                  <a:lnTo>
                    <a:pt x="13718" y="255"/>
                  </a:lnTo>
                  <a:lnTo>
                    <a:pt x="14065" y="493"/>
                  </a:lnTo>
                  <a:lnTo>
                    <a:pt x="14401" y="255"/>
                  </a:lnTo>
                  <a:lnTo>
                    <a:pt x="14737" y="0"/>
                  </a:lnTo>
                  <a:lnTo>
                    <a:pt x="15241" y="0"/>
                  </a:lnTo>
                  <a:lnTo>
                    <a:pt x="15756" y="255"/>
                  </a:lnTo>
                  <a:lnTo>
                    <a:pt x="16092" y="714"/>
                  </a:lnTo>
                  <a:lnTo>
                    <a:pt x="16260" y="969"/>
                  </a:lnTo>
                  <a:lnTo>
                    <a:pt x="16607" y="493"/>
                  </a:lnTo>
                  <a:lnTo>
                    <a:pt x="16932" y="255"/>
                  </a:lnTo>
                  <a:lnTo>
                    <a:pt x="17279" y="255"/>
                  </a:lnTo>
                  <a:lnTo>
                    <a:pt x="17279" y="255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80880" y="2207520"/>
              <a:ext cx="573840" cy="652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2887" y="610"/>
                  </a:moveTo>
                  <a:lnTo>
                    <a:pt x="13406" y="827"/>
                  </a:lnTo>
                  <a:lnTo>
                    <a:pt x="13908" y="610"/>
                  </a:lnTo>
                  <a:lnTo>
                    <a:pt x="14159" y="827"/>
                  </a:lnTo>
                  <a:lnTo>
                    <a:pt x="14678" y="827"/>
                  </a:lnTo>
                  <a:lnTo>
                    <a:pt x="14929" y="435"/>
                  </a:lnTo>
                  <a:lnTo>
                    <a:pt x="15180" y="435"/>
                  </a:lnTo>
                  <a:lnTo>
                    <a:pt x="15699" y="435"/>
                  </a:lnTo>
                  <a:lnTo>
                    <a:pt x="15699" y="827"/>
                  </a:lnTo>
                  <a:lnTo>
                    <a:pt x="15933" y="1263"/>
                  </a:lnTo>
                  <a:lnTo>
                    <a:pt x="15431" y="1655"/>
                  </a:lnTo>
                  <a:lnTo>
                    <a:pt x="15180" y="1872"/>
                  </a:lnTo>
                  <a:lnTo>
                    <a:pt x="15431" y="1655"/>
                  </a:lnTo>
                  <a:lnTo>
                    <a:pt x="15933" y="1466"/>
                  </a:lnTo>
                  <a:lnTo>
                    <a:pt x="15933" y="1263"/>
                  </a:lnTo>
                  <a:lnTo>
                    <a:pt x="15933" y="827"/>
                  </a:lnTo>
                  <a:lnTo>
                    <a:pt x="15933" y="610"/>
                  </a:lnTo>
                  <a:lnTo>
                    <a:pt x="16184" y="435"/>
                  </a:lnTo>
                  <a:lnTo>
                    <a:pt x="16686" y="435"/>
                  </a:lnTo>
                  <a:lnTo>
                    <a:pt x="16686" y="0"/>
                  </a:lnTo>
                  <a:lnTo>
                    <a:pt x="17205" y="218"/>
                  </a:lnTo>
                  <a:lnTo>
                    <a:pt x="17958" y="435"/>
                  </a:lnTo>
                  <a:lnTo>
                    <a:pt x="18226" y="827"/>
                  </a:lnTo>
                  <a:lnTo>
                    <a:pt x="17958" y="1045"/>
                  </a:lnTo>
                  <a:lnTo>
                    <a:pt x="17456" y="1263"/>
                  </a:lnTo>
                  <a:lnTo>
                    <a:pt x="16954" y="1466"/>
                  </a:lnTo>
                  <a:lnTo>
                    <a:pt x="16686" y="1655"/>
                  </a:lnTo>
                  <a:lnTo>
                    <a:pt x="16184" y="1872"/>
                  </a:lnTo>
                  <a:lnTo>
                    <a:pt x="15933" y="2090"/>
                  </a:lnTo>
                  <a:lnTo>
                    <a:pt x="15699" y="2511"/>
                  </a:lnTo>
                  <a:lnTo>
                    <a:pt x="15180" y="3120"/>
                  </a:lnTo>
                  <a:lnTo>
                    <a:pt x="14159" y="3120"/>
                  </a:lnTo>
                  <a:lnTo>
                    <a:pt x="13657" y="3338"/>
                  </a:lnTo>
                  <a:lnTo>
                    <a:pt x="14427" y="3948"/>
                  </a:lnTo>
                  <a:lnTo>
                    <a:pt x="13155" y="4165"/>
                  </a:lnTo>
                  <a:lnTo>
                    <a:pt x="12402" y="4586"/>
                  </a:lnTo>
                  <a:lnTo>
                    <a:pt x="12653" y="5007"/>
                  </a:lnTo>
                  <a:lnTo>
                    <a:pt x="13406" y="5835"/>
                  </a:lnTo>
                  <a:lnTo>
                    <a:pt x="14427" y="6662"/>
                  </a:lnTo>
                  <a:lnTo>
                    <a:pt x="15933" y="6241"/>
                  </a:lnTo>
                  <a:lnTo>
                    <a:pt x="16686" y="5414"/>
                  </a:lnTo>
                  <a:lnTo>
                    <a:pt x="17205" y="5631"/>
                  </a:lnTo>
                  <a:lnTo>
                    <a:pt x="17707" y="6662"/>
                  </a:lnTo>
                  <a:lnTo>
                    <a:pt x="17707" y="7489"/>
                  </a:lnTo>
                  <a:lnTo>
                    <a:pt x="18962" y="7489"/>
                  </a:lnTo>
                  <a:lnTo>
                    <a:pt x="19481" y="7707"/>
                  </a:lnTo>
                  <a:lnTo>
                    <a:pt x="19732" y="7707"/>
                  </a:lnTo>
                  <a:lnTo>
                    <a:pt x="19732" y="7910"/>
                  </a:lnTo>
                  <a:lnTo>
                    <a:pt x="19983" y="8316"/>
                  </a:lnTo>
                  <a:lnTo>
                    <a:pt x="19732" y="8316"/>
                  </a:lnTo>
                  <a:lnTo>
                    <a:pt x="19213" y="8113"/>
                  </a:lnTo>
                  <a:lnTo>
                    <a:pt x="18962" y="8113"/>
                  </a:lnTo>
                  <a:lnTo>
                    <a:pt x="18962" y="8316"/>
                  </a:lnTo>
                  <a:lnTo>
                    <a:pt x="18962" y="8534"/>
                  </a:lnTo>
                  <a:lnTo>
                    <a:pt x="18962" y="9158"/>
                  </a:lnTo>
                  <a:lnTo>
                    <a:pt x="18962" y="9579"/>
                  </a:lnTo>
                  <a:lnTo>
                    <a:pt x="19213" y="10000"/>
                  </a:lnTo>
                  <a:lnTo>
                    <a:pt x="19481" y="10406"/>
                  </a:lnTo>
                  <a:lnTo>
                    <a:pt x="19481" y="10827"/>
                  </a:lnTo>
                  <a:lnTo>
                    <a:pt x="19213" y="11030"/>
                  </a:lnTo>
                  <a:lnTo>
                    <a:pt x="19213" y="11451"/>
                  </a:lnTo>
                  <a:lnTo>
                    <a:pt x="19481" y="11669"/>
                  </a:lnTo>
                  <a:lnTo>
                    <a:pt x="19213" y="11858"/>
                  </a:lnTo>
                  <a:lnTo>
                    <a:pt x="18962" y="11669"/>
                  </a:lnTo>
                  <a:lnTo>
                    <a:pt x="18711" y="11858"/>
                  </a:lnTo>
                  <a:lnTo>
                    <a:pt x="18962" y="12075"/>
                  </a:lnTo>
                  <a:lnTo>
                    <a:pt x="18962" y="12279"/>
                  </a:lnTo>
                  <a:lnTo>
                    <a:pt x="19213" y="12700"/>
                  </a:lnTo>
                  <a:lnTo>
                    <a:pt x="19213" y="12903"/>
                  </a:lnTo>
                  <a:lnTo>
                    <a:pt x="19213" y="13324"/>
                  </a:lnTo>
                  <a:lnTo>
                    <a:pt x="18962" y="13948"/>
                  </a:lnTo>
                  <a:lnTo>
                    <a:pt x="18962" y="14354"/>
                  </a:lnTo>
                  <a:lnTo>
                    <a:pt x="18477" y="14790"/>
                  </a:lnTo>
                  <a:lnTo>
                    <a:pt x="17958" y="15196"/>
                  </a:lnTo>
                  <a:lnTo>
                    <a:pt x="17958" y="15617"/>
                  </a:lnTo>
                  <a:lnTo>
                    <a:pt x="17958" y="16241"/>
                  </a:lnTo>
                  <a:lnTo>
                    <a:pt x="17205" y="16647"/>
                  </a:lnTo>
                  <a:lnTo>
                    <a:pt x="16954" y="16865"/>
                  </a:lnTo>
                  <a:lnTo>
                    <a:pt x="16686" y="17083"/>
                  </a:lnTo>
                  <a:lnTo>
                    <a:pt x="16954" y="17271"/>
                  </a:lnTo>
                  <a:lnTo>
                    <a:pt x="16954" y="17692"/>
                  </a:lnTo>
                  <a:lnTo>
                    <a:pt x="16954" y="17896"/>
                  </a:lnTo>
                  <a:lnTo>
                    <a:pt x="16686" y="17896"/>
                  </a:lnTo>
                  <a:lnTo>
                    <a:pt x="16184" y="17896"/>
                  </a:lnTo>
                  <a:lnTo>
                    <a:pt x="15699" y="17692"/>
                  </a:lnTo>
                  <a:lnTo>
                    <a:pt x="15180" y="17692"/>
                  </a:lnTo>
                  <a:lnTo>
                    <a:pt x="14678" y="18113"/>
                  </a:lnTo>
                  <a:lnTo>
                    <a:pt x="14678" y="17692"/>
                  </a:lnTo>
                  <a:lnTo>
                    <a:pt x="14678" y="17271"/>
                  </a:lnTo>
                  <a:lnTo>
                    <a:pt x="14427" y="17083"/>
                  </a:lnTo>
                  <a:lnTo>
                    <a:pt x="14427" y="17271"/>
                  </a:lnTo>
                  <a:lnTo>
                    <a:pt x="14427" y="17692"/>
                  </a:lnTo>
                  <a:lnTo>
                    <a:pt x="14159" y="17896"/>
                  </a:lnTo>
                  <a:lnTo>
                    <a:pt x="13908" y="17692"/>
                  </a:lnTo>
                  <a:lnTo>
                    <a:pt x="13406" y="17692"/>
                  </a:lnTo>
                  <a:lnTo>
                    <a:pt x="12887" y="17692"/>
                  </a:lnTo>
                  <a:lnTo>
                    <a:pt x="12151" y="17692"/>
                  </a:lnTo>
                  <a:lnTo>
                    <a:pt x="11900" y="17896"/>
                  </a:lnTo>
                  <a:lnTo>
                    <a:pt x="11632" y="17896"/>
                  </a:lnTo>
                  <a:lnTo>
                    <a:pt x="11632" y="18113"/>
                  </a:lnTo>
                  <a:lnTo>
                    <a:pt x="11900" y="18113"/>
                  </a:lnTo>
                  <a:lnTo>
                    <a:pt x="11632" y="18331"/>
                  </a:lnTo>
                  <a:lnTo>
                    <a:pt x="11381" y="18520"/>
                  </a:lnTo>
                  <a:lnTo>
                    <a:pt x="10879" y="18520"/>
                  </a:lnTo>
                  <a:lnTo>
                    <a:pt x="10360" y="18723"/>
                  </a:lnTo>
                  <a:lnTo>
                    <a:pt x="9874" y="18940"/>
                  </a:lnTo>
                  <a:lnTo>
                    <a:pt x="9623" y="18940"/>
                  </a:lnTo>
                  <a:lnTo>
                    <a:pt x="9105" y="18940"/>
                  </a:lnTo>
                  <a:lnTo>
                    <a:pt x="8854" y="18723"/>
                  </a:lnTo>
                  <a:lnTo>
                    <a:pt x="8854" y="18520"/>
                  </a:lnTo>
                  <a:lnTo>
                    <a:pt x="8351" y="18331"/>
                  </a:lnTo>
                  <a:lnTo>
                    <a:pt x="8084" y="18520"/>
                  </a:lnTo>
                  <a:lnTo>
                    <a:pt x="8084" y="18940"/>
                  </a:lnTo>
                  <a:lnTo>
                    <a:pt x="8351" y="19158"/>
                  </a:lnTo>
                  <a:lnTo>
                    <a:pt x="8084" y="19376"/>
                  </a:lnTo>
                  <a:lnTo>
                    <a:pt x="7331" y="19376"/>
                  </a:lnTo>
                  <a:lnTo>
                    <a:pt x="6075" y="19550"/>
                  </a:lnTo>
                  <a:lnTo>
                    <a:pt x="5824" y="19550"/>
                  </a:lnTo>
                  <a:lnTo>
                    <a:pt x="5305" y="19768"/>
                  </a:lnTo>
                  <a:lnTo>
                    <a:pt x="4803" y="19768"/>
                  </a:lnTo>
                  <a:lnTo>
                    <a:pt x="4285" y="19768"/>
                  </a:lnTo>
                  <a:lnTo>
                    <a:pt x="3799" y="19985"/>
                  </a:lnTo>
                  <a:lnTo>
                    <a:pt x="3548" y="19768"/>
                  </a:lnTo>
                  <a:lnTo>
                    <a:pt x="3029" y="19768"/>
                  </a:lnTo>
                  <a:lnTo>
                    <a:pt x="2527" y="19550"/>
                  </a:lnTo>
                  <a:lnTo>
                    <a:pt x="2025" y="19550"/>
                  </a:lnTo>
                  <a:lnTo>
                    <a:pt x="1757" y="19376"/>
                  </a:lnTo>
                  <a:lnTo>
                    <a:pt x="2025" y="19158"/>
                  </a:lnTo>
                  <a:lnTo>
                    <a:pt x="2276" y="18940"/>
                  </a:lnTo>
                  <a:lnTo>
                    <a:pt x="2778" y="18940"/>
                  </a:lnTo>
                  <a:lnTo>
                    <a:pt x="3029" y="18723"/>
                  </a:lnTo>
                  <a:lnTo>
                    <a:pt x="3029" y="18520"/>
                  </a:lnTo>
                  <a:lnTo>
                    <a:pt x="2778" y="18520"/>
                  </a:lnTo>
                  <a:lnTo>
                    <a:pt x="2527" y="18520"/>
                  </a:lnTo>
                  <a:lnTo>
                    <a:pt x="2025" y="18520"/>
                  </a:lnTo>
                  <a:lnTo>
                    <a:pt x="1757" y="18723"/>
                  </a:lnTo>
                  <a:lnTo>
                    <a:pt x="1272" y="18723"/>
                  </a:lnTo>
                  <a:lnTo>
                    <a:pt x="770" y="18723"/>
                  </a:lnTo>
                  <a:lnTo>
                    <a:pt x="770" y="18520"/>
                  </a:lnTo>
                  <a:lnTo>
                    <a:pt x="1021" y="18331"/>
                  </a:lnTo>
                  <a:lnTo>
                    <a:pt x="1272" y="18113"/>
                  </a:lnTo>
                  <a:lnTo>
                    <a:pt x="1757" y="18113"/>
                  </a:lnTo>
                  <a:lnTo>
                    <a:pt x="2025" y="18113"/>
                  </a:lnTo>
                  <a:lnTo>
                    <a:pt x="2276" y="17896"/>
                  </a:lnTo>
                  <a:lnTo>
                    <a:pt x="2778" y="17692"/>
                  </a:lnTo>
                  <a:lnTo>
                    <a:pt x="2527" y="17692"/>
                  </a:lnTo>
                  <a:lnTo>
                    <a:pt x="2276" y="17692"/>
                  </a:lnTo>
                  <a:lnTo>
                    <a:pt x="2025" y="17692"/>
                  </a:lnTo>
                  <a:lnTo>
                    <a:pt x="1757" y="17692"/>
                  </a:lnTo>
                  <a:lnTo>
                    <a:pt x="1506" y="17692"/>
                  </a:lnTo>
                  <a:lnTo>
                    <a:pt x="1272" y="17692"/>
                  </a:lnTo>
                  <a:lnTo>
                    <a:pt x="770" y="17692"/>
                  </a:lnTo>
                  <a:lnTo>
                    <a:pt x="502" y="17692"/>
                  </a:lnTo>
                  <a:lnTo>
                    <a:pt x="251" y="17475"/>
                  </a:lnTo>
                  <a:lnTo>
                    <a:pt x="0" y="17271"/>
                  </a:lnTo>
                  <a:lnTo>
                    <a:pt x="251" y="16865"/>
                  </a:lnTo>
                  <a:lnTo>
                    <a:pt x="251" y="16647"/>
                  </a:lnTo>
                  <a:lnTo>
                    <a:pt x="770" y="16430"/>
                  </a:lnTo>
                  <a:lnTo>
                    <a:pt x="1021" y="16430"/>
                  </a:lnTo>
                  <a:lnTo>
                    <a:pt x="1506" y="16241"/>
                  </a:lnTo>
                  <a:lnTo>
                    <a:pt x="2025" y="16241"/>
                  </a:lnTo>
                  <a:lnTo>
                    <a:pt x="2276" y="16241"/>
                  </a:lnTo>
                  <a:lnTo>
                    <a:pt x="2527" y="16038"/>
                  </a:lnTo>
                  <a:lnTo>
                    <a:pt x="2276" y="16038"/>
                  </a:lnTo>
                  <a:lnTo>
                    <a:pt x="2025" y="16038"/>
                  </a:lnTo>
                  <a:lnTo>
                    <a:pt x="1506" y="15820"/>
                  </a:lnTo>
                  <a:lnTo>
                    <a:pt x="1272" y="15820"/>
                  </a:lnTo>
                  <a:lnTo>
                    <a:pt x="1021" y="15820"/>
                  </a:lnTo>
                  <a:lnTo>
                    <a:pt x="502" y="15820"/>
                  </a:lnTo>
                  <a:lnTo>
                    <a:pt x="0" y="15399"/>
                  </a:lnTo>
                  <a:lnTo>
                    <a:pt x="0" y="15196"/>
                  </a:lnTo>
                  <a:lnTo>
                    <a:pt x="502" y="15196"/>
                  </a:lnTo>
                  <a:lnTo>
                    <a:pt x="770" y="14978"/>
                  </a:lnTo>
                  <a:lnTo>
                    <a:pt x="1272" y="14978"/>
                  </a:lnTo>
                  <a:lnTo>
                    <a:pt x="1757" y="14978"/>
                  </a:lnTo>
                  <a:lnTo>
                    <a:pt x="2025" y="14978"/>
                  </a:lnTo>
                  <a:lnTo>
                    <a:pt x="2527" y="15196"/>
                  </a:lnTo>
                  <a:lnTo>
                    <a:pt x="2778" y="15196"/>
                  </a:lnTo>
                  <a:lnTo>
                    <a:pt x="2778" y="14978"/>
                  </a:lnTo>
                  <a:lnTo>
                    <a:pt x="2778" y="14790"/>
                  </a:lnTo>
                  <a:lnTo>
                    <a:pt x="2778" y="14572"/>
                  </a:lnTo>
                  <a:lnTo>
                    <a:pt x="2527" y="14354"/>
                  </a:lnTo>
                  <a:lnTo>
                    <a:pt x="2778" y="14151"/>
                  </a:lnTo>
                  <a:lnTo>
                    <a:pt x="3297" y="14151"/>
                  </a:lnTo>
                  <a:lnTo>
                    <a:pt x="3799" y="13948"/>
                  </a:lnTo>
                  <a:lnTo>
                    <a:pt x="4050" y="13745"/>
                  </a:lnTo>
                  <a:lnTo>
                    <a:pt x="4803" y="13745"/>
                  </a:lnTo>
                  <a:lnTo>
                    <a:pt x="5556" y="13745"/>
                  </a:lnTo>
                  <a:lnTo>
                    <a:pt x="6577" y="13745"/>
                  </a:lnTo>
                  <a:lnTo>
                    <a:pt x="7096" y="13745"/>
                  </a:lnTo>
                  <a:lnTo>
                    <a:pt x="7096" y="13527"/>
                  </a:lnTo>
                  <a:lnTo>
                    <a:pt x="7096" y="13324"/>
                  </a:lnTo>
                  <a:lnTo>
                    <a:pt x="6828" y="13324"/>
                  </a:lnTo>
                  <a:lnTo>
                    <a:pt x="6577" y="13324"/>
                  </a:lnTo>
                  <a:lnTo>
                    <a:pt x="6326" y="13324"/>
                  </a:lnTo>
                  <a:lnTo>
                    <a:pt x="5824" y="13527"/>
                  </a:lnTo>
                  <a:lnTo>
                    <a:pt x="5305" y="13745"/>
                  </a:lnTo>
                  <a:lnTo>
                    <a:pt x="5054" y="13745"/>
                  </a:lnTo>
                  <a:lnTo>
                    <a:pt x="4552" y="13527"/>
                  </a:lnTo>
                  <a:lnTo>
                    <a:pt x="4285" y="13324"/>
                  </a:lnTo>
                  <a:lnTo>
                    <a:pt x="3799" y="13527"/>
                  </a:lnTo>
                  <a:lnTo>
                    <a:pt x="3297" y="13745"/>
                  </a:lnTo>
                  <a:lnTo>
                    <a:pt x="3297" y="13324"/>
                  </a:lnTo>
                  <a:lnTo>
                    <a:pt x="3548" y="13324"/>
                  </a:lnTo>
                  <a:lnTo>
                    <a:pt x="4050" y="13120"/>
                  </a:lnTo>
                  <a:lnTo>
                    <a:pt x="4285" y="12903"/>
                  </a:lnTo>
                  <a:lnTo>
                    <a:pt x="4803" y="12496"/>
                  </a:lnTo>
                  <a:lnTo>
                    <a:pt x="5054" y="12279"/>
                  </a:lnTo>
                  <a:lnTo>
                    <a:pt x="5305" y="11858"/>
                  </a:lnTo>
                  <a:lnTo>
                    <a:pt x="5305" y="11669"/>
                  </a:lnTo>
                  <a:lnTo>
                    <a:pt x="5824" y="11234"/>
                  </a:lnTo>
                  <a:lnTo>
                    <a:pt x="6075" y="10827"/>
                  </a:lnTo>
                  <a:lnTo>
                    <a:pt x="6577" y="10827"/>
                  </a:lnTo>
                  <a:lnTo>
                    <a:pt x="7096" y="10827"/>
                  </a:lnTo>
                  <a:lnTo>
                    <a:pt x="7331" y="10827"/>
                  </a:lnTo>
                  <a:lnTo>
                    <a:pt x="7331" y="10406"/>
                  </a:lnTo>
                  <a:lnTo>
                    <a:pt x="7096" y="10406"/>
                  </a:lnTo>
                  <a:lnTo>
                    <a:pt x="6577" y="10406"/>
                  </a:lnTo>
                  <a:lnTo>
                    <a:pt x="6326" y="10203"/>
                  </a:lnTo>
                  <a:lnTo>
                    <a:pt x="6075" y="10203"/>
                  </a:lnTo>
                  <a:lnTo>
                    <a:pt x="5556" y="10000"/>
                  </a:lnTo>
                  <a:lnTo>
                    <a:pt x="5305" y="10000"/>
                  </a:lnTo>
                  <a:lnTo>
                    <a:pt x="5305" y="9579"/>
                  </a:lnTo>
                  <a:lnTo>
                    <a:pt x="5054" y="9376"/>
                  </a:lnTo>
                  <a:lnTo>
                    <a:pt x="4803" y="9579"/>
                  </a:lnTo>
                  <a:lnTo>
                    <a:pt x="4552" y="9579"/>
                  </a:lnTo>
                  <a:lnTo>
                    <a:pt x="4285" y="9376"/>
                  </a:lnTo>
                  <a:lnTo>
                    <a:pt x="4285" y="8955"/>
                  </a:lnTo>
                  <a:lnTo>
                    <a:pt x="4050" y="8955"/>
                  </a:lnTo>
                  <a:lnTo>
                    <a:pt x="3548" y="8752"/>
                  </a:lnTo>
                  <a:lnTo>
                    <a:pt x="3297" y="8316"/>
                  </a:lnTo>
                  <a:lnTo>
                    <a:pt x="3297" y="7910"/>
                  </a:lnTo>
                  <a:lnTo>
                    <a:pt x="3799" y="7910"/>
                  </a:lnTo>
                  <a:lnTo>
                    <a:pt x="4285" y="7910"/>
                  </a:lnTo>
                  <a:lnTo>
                    <a:pt x="4803" y="8113"/>
                  </a:lnTo>
                  <a:lnTo>
                    <a:pt x="5054" y="8113"/>
                  </a:lnTo>
                  <a:lnTo>
                    <a:pt x="4803" y="7910"/>
                  </a:lnTo>
                  <a:lnTo>
                    <a:pt x="4552" y="7489"/>
                  </a:lnTo>
                  <a:lnTo>
                    <a:pt x="4803" y="7083"/>
                  </a:lnTo>
                  <a:lnTo>
                    <a:pt x="5305" y="7083"/>
                  </a:lnTo>
                  <a:lnTo>
                    <a:pt x="6075" y="7083"/>
                  </a:lnTo>
                  <a:lnTo>
                    <a:pt x="6075" y="6865"/>
                  </a:lnTo>
                  <a:lnTo>
                    <a:pt x="5824" y="6662"/>
                  </a:lnTo>
                  <a:lnTo>
                    <a:pt x="5305" y="6459"/>
                  </a:lnTo>
                  <a:lnTo>
                    <a:pt x="5054" y="6662"/>
                  </a:lnTo>
                  <a:lnTo>
                    <a:pt x="4803" y="6241"/>
                  </a:lnTo>
                  <a:lnTo>
                    <a:pt x="5054" y="5835"/>
                  </a:lnTo>
                  <a:lnTo>
                    <a:pt x="5305" y="5835"/>
                  </a:lnTo>
                  <a:lnTo>
                    <a:pt x="5305" y="5631"/>
                  </a:lnTo>
                  <a:lnTo>
                    <a:pt x="5305" y="5196"/>
                  </a:lnTo>
                  <a:lnTo>
                    <a:pt x="5054" y="5007"/>
                  </a:lnTo>
                  <a:lnTo>
                    <a:pt x="4552" y="5007"/>
                  </a:lnTo>
                  <a:lnTo>
                    <a:pt x="4552" y="4790"/>
                  </a:lnTo>
                  <a:lnTo>
                    <a:pt x="4803" y="4165"/>
                  </a:lnTo>
                  <a:lnTo>
                    <a:pt x="5054" y="4165"/>
                  </a:lnTo>
                  <a:lnTo>
                    <a:pt x="5054" y="4369"/>
                  </a:lnTo>
                  <a:lnTo>
                    <a:pt x="5054" y="4586"/>
                  </a:lnTo>
                  <a:lnTo>
                    <a:pt x="5556" y="4586"/>
                  </a:lnTo>
                  <a:lnTo>
                    <a:pt x="5824" y="4369"/>
                  </a:lnTo>
                  <a:lnTo>
                    <a:pt x="5824" y="4165"/>
                  </a:lnTo>
                  <a:lnTo>
                    <a:pt x="6577" y="4369"/>
                  </a:lnTo>
                  <a:lnTo>
                    <a:pt x="7331" y="4369"/>
                  </a:lnTo>
                  <a:lnTo>
                    <a:pt x="7833" y="4369"/>
                  </a:lnTo>
                  <a:lnTo>
                    <a:pt x="8084" y="4790"/>
                  </a:lnTo>
                  <a:lnTo>
                    <a:pt x="8084" y="5196"/>
                  </a:lnTo>
                  <a:lnTo>
                    <a:pt x="8351" y="5414"/>
                  </a:lnTo>
                  <a:lnTo>
                    <a:pt x="8603" y="5007"/>
                  </a:lnTo>
                  <a:lnTo>
                    <a:pt x="8603" y="4790"/>
                  </a:lnTo>
                  <a:lnTo>
                    <a:pt x="9105" y="4586"/>
                  </a:lnTo>
                  <a:lnTo>
                    <a:pt x="9356" y="4790"/>
                  </a:lnTo>
                  <a:lnTo>
                    <a:pt x="9874" y="5007"/>
                  </a:lnTo>
                  <a:lnTo>
                    <a:pt x="10109" y="5196"/>
                  </a:lnTo>
                  <a:lnTo>
                    <a:pt x="10628" y="5414"/>
                  </a:lnTo>
                  <a:lnTo>
                    <a:pt x="10879" y="5196"/>
                  </a:lnTo>
                  <a:lnTo>
                    <a:pt x="10879" y="5007"/>
                  </a:lnTo>
                  <a:lnTo>
                    <a:pt x="10628" y="4790"/>
                  </a:lnTo>
                  <a:lnTo>
                    <a:pt x="10360" y="4586"/>
                  </a:lnTo>
                  <a:lnTo>
                    <a:pt x="10879" y="4369"/>
                  </a:lnTo>
                  <a:lnTo>
                    <a:pt x="11130" y="4165"/>
                  </a:lnTo>
                  <a:lnTo>
                    <a:pt x="11632" y="4165"/>
                  </a:lnTo>
                  <a:lnTo>
                    <a:pt x="11900" y="4165"/>
                  </a:lnTo>
                  <a:lnTo>
                    <a:pt x="12151" y="3948"/>
                  </a:lnTo>
                  <a:lnTo>
                    <a:pt x="12402" y="3745"/>
                  </a:lnTo>
                  <a:lnTo>
                    <a:pt x="12887" y="3556"/>
                  </a:lnTo>
                  <a:lnTo>
                    <a:pt x="12402" y="3556"/>
                  </a:lnTo>
                  <a:lnTo>
                    <a:pt x="11900" y="3556"/>
                  </a:lnTo>
                  <a:lnTo>
                    <a:pt x="11632" y="3338"/>
                  </a:lnTo>
                  <a:lnTo>
                    <a:pt x="11130" y="3338"/>
                  </a:lnTo>
                  <a:lnTo>
                    <a:pt x="10628" y="3120"/>
                  </a:lnTo>
                  <a:lnTo>
                    <a:pt x="10360" y="2714"/>
                  </a:lnTo>
                  <a:lnTo>
                    <a:pt x="10628" y="2511"/>
                  </a:lnTo>
                  <a:lnTo>
                    <a:pt x="11130" y="2511"/>
                  </a:lnTo>
                  <a:lnTo>
                    <a:pt x="11632" y="2714"/>
                  </a:lnTo>
                  <a:lnTo>
                    <a:pt x="11900" y="2511"/>
                  </a:lnTo>
                  <a:lnTo>
                    <a:pt x="11381" y="2293"/>
                  </a:lnTo>
                  <a:lnTo>
                    <a:pt x="11632" y="2090"/>
                  </a:lnTo>
                  <a:lnTo>
                    <a:pt x="12151" y="2293"/>
                  </a:lnTo>
                  <a:lnTo>
                    <a:pt x="12402" y="2090"/>
                  </a:lnTo>
                  <a:lnTo>
                    <a:pt x="12151" y="1872"/>
                  </a:lnTo>
                  <a:lnTo>
                    <a:pt x="12151" y="1466"/>
                  </a:lnTo>
                  <a:lnTo>
                    <a:pt x="12402" y="1045"/>
                  </a:lnTo>
                  <a:lnTo>
                    <a:pt x="12653" y="827"/>
                  </a:lnTo>
                  <a:lnTo>
                    <a:pt x="12887" y="610"/>
                  </a:lnTo>
                  <a:lnTo>
                    <a:pt x="12887" y="61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93640" y="3850560"/>
              <a:ext cx="1750680" cy="1622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5890" y="589"/>
                  </a:moveTo>
                  <a:lnTo>
                    <a:pt x="5972" y="665"/>
                  </a:lnTo>
                  <a:lnTo>
                    <a:pt x="6219" y="589"/>
                  </a:lnTo>
                  <a:lnTo>
                    <a:pt x="6301" y="752"/>
                  </a:lnTo>
                  <a:lnTo>
                    <a:pt x="6471" y="752"/>
                  </a:lnTo>
                  <a:lnTo>
                    <a:pt x="6718" y="752"/>
                  </a:lnTo>
                  <a:lnTo>
                    <a:pt x="6806" y="589"/>
                  </a:lnTo>
                  <a:lnTo>
                    <a:pt x="6976" y="332"/>
                  </a:lnTo>
                  <a:lnTo>
                    <a:pt x="7217" y="332"/>
                  </a:lnTo>
                  <a:lnTo>
                    <a:pt x="7469" y="245"/>
                  </a:lnTo>
                  <a:lnTo>
                    <a:pt x="7804" y="332"/>
                  </a:lnTo>
                  <a:lnTo>
                    <a:pt x="8050" y="175"/>
                  </a:lnTo>
                  <a:lnTo>
                    <a:pt x="8379" y="0"/>
                  </a:lnTo>
                  <a:lnTo>
                    <a:pt x="8467" y="87"/>
                  </a:lnTo>
                  <a:lnTo>
                    <a:pt x="8379" y="245"/>
                  </a:lnTo>
                  <a:lnTo>
                    <a:pt x="8467" y="332"/>
                  </a:lnTo>
                  <a:lnTo>
                    <a:pt x="8549" y="589"/>
                  </a:lnTo>
                  <a:lnTo>
                    <a:pt x="8796" y="752"/>
                  </a:lnTo>
                  <a:lnTo>
                    <a:pt x="9125" y="921"/>
                  </a:lnTo>
                  <a:lnTo>
                    <a:pt x="9378" y="921"/>
                  </a:lnTo>
                  <a:lnTo>
                    <a:pt x="9959" y="1009"/>
                  </a:lnTo>
                  <a:lnTo>
                    <a:pt x="10370" y="1009"/>
                  </a:lnTo>
                  <a:lnTo>
                    <a:pt x="10705" y="1009"/>
                  </a:lnTo>
                  <a:lnTo>
                    <a:pt x="10957" y="1090"/>
                  </a:lnTo>
                  <a:lnTo>
                    <a:pt x="10787" y="1254"/>
                  </a:lnTo>
                  <a:lnTo>
                    <a:pt x="10622" y="1429"/>
                  </a:lnTo>
                  <a:lnTo>
                    <a:pt x="10540" y="1510"/>
                  </a:lnTo>
                  <a:lnTo>
                    <a:pt x="10458" y="1673"/>
                  </a:lnTo>
                  <a:lnTo>
                    <a:pt x="10540" y="1843"/>
                  </a:lnTo>
                  <a:lnTo>
                    <a:pt x="10622" y="1843"/>
                  </a:lnTo>
                  <a:lnTo>
                    <a:pt x="10787" y="1930"/>
                  </a:lnTo>
                  <a:lnTo>
                    <a:pt x="10540" y="2175"/>
                  </a:lnTo>
                  <a:lnTo>
                    <a:pt x="10622" y="2350"/>
                  </a:lnTo>
                  <a:lnTo>
                    <a:pt x="10875" y="2426"/>
                  </a:lnTo>
                  <a:lnTo>
                    <a:pt x="10875" y="2595"/>
                  </a:lnTo>
                  <a:lnTo>
                    <a:pt x="11034" y="2676"/>
                  </a:lnTo>
                  <a:lnTo>
                    <a:pt x="11116" y="2764"/>
                  </a:lnTo>
                  <a:lnTo>
                    <a:pt x="11286" y="2933"/>
                  </a:lnTo>
                  <a:lnTo>
                    <a:pt x="11368" y="2933"/>
                  </a:lnTo>
                  <a:lnTo>
                    <a:pt x="11286" y="3096"/>
                  </a:lnTo>
                  <a:lnTo>
                    <a:pt x="11204" y="3184"/>
                  </a:lnTo>
                  <a:lnTo>
                    <a:pt x="11034" y="3184"/>
                  </a:lnTo>
                  <a:lnTo>
                    <a:pt x="10957" y="3184"/>
                  </a:lnTo>
                  <a:lnTo>
                    <a:pt x="10957" y="2933"/>
                  </a:lnTo>
                  <a:lnTo>
                    <a:pt x="10705" y="2764"/>
                  </a:lnTo>
                  <a:lnTo>
                    <a:pt x="10705" y="2845"/>
                  </a:lnTo>
                  <a:lnTo>
                    <a:pt x="10540" y="2933"/>
                  </a:lnTo>
                  <a:lnTo>
                    <a:pt x="10370" y="2845"/>
                  </a:lnTo>
                  <a:lnTo>
                    <a:pt x="10206" y="2845"/>
                  </a:lnTo>
                  <a:lnTo>
                    <a:pt x="10047" y="2845"/>
                  </a:lnTo>
                  <a:lnTo>
                    <a:pt x="10047" y="3096"/>
                  </a:lnTo>
                  <a:lnTo>
                    <a:pt x="9794" y="3184"/>
                  </a:lnTo>
                  <a:lnTo>
                    <a:pt x="9624" y="3265"/>
                  </a:lnTo>
                  <a:lnTo>
                    <a:pt x="9378" y="3429"/>
                  </a:lnTo>
                  <a:lnTo>
                    <a:pt x="9049" y="3516"/>
                  </a:lnTo>
                  <a:lnTo>
                    <a:pt x="8714" y="3854"/>
                  </a:lnTo>
                  <a:lnTo>
                    <a:pt x="8796" y="4017"/>
                  </a:lnTo>
                  <a:lnTo>
                    <a:pt x="8966" y="4099"/>
                  </a:lnTo>
                  <a:lnTo>
                    <a:pt x="8966" y="4268"/>
                  </a:lnTo>
                  <a:lnTo>
                    <a:pt x="9049" y="4519"/>
                  </a:lnTo>
                  <a:lnTo>
                    <a:pt x="9208" y="4601"/>
                  </a:lnTo>
                  <a:lnTo>
                    <a:pt x="9295" y="4851"/>
                  </a:lnTo>
                  <a:lnTo>
                    <a:pt x="9125" y="5020"/>
                  </a:lnTo>
                  <a:lnTo>
                    <a:pt x="8966" y="5102"/>
                  </a:lnTo>
                  <a:lnTo>
                    <a:pt x="8884" y="5020"/>
                  </a:lnTo>
                  <a:lnTo>
                    <a:pt x="8884" y="5271"/>
                  </a:lnTo>
                  <a:lnTo>
                    <a:pt x="8966" y="5522"/>
                  </a:lnTo>
                  <a:lnTo>
                    <a:pt x="8966" y="5854"/>
                  </a:lnTo>
                  <a:lnTo>
                    <a:pt x="9049" y="6111"/>
                  </a:lnTo>
                  <a:lnTo>
                    <a:pt x="9295" y="6531"/>
                  </a:lnTo>
                  <a:lnTo>
                    <a:pt x="9712" y="6776"/>
                  </a:lnTo>
                  <a:lnTo>
                    <a:pt x="9877" y="6776"/>
                  </a:lnTo>
                  <a:lnTo>
                    <a:pt x="10047" y="6863"/>
                  </a:lnTo>
                  <a:lnTo>
                    <a:pt x="10370" y="7114"/>
                  </a:lnTo>
                  <a:lnTo>
                    <a:pt x="10705" y="7364"/>
                  </a:lnTo>
                  <a:lnTo>
                    <a:pt x="10875" y="7452"/>
                  </a:lnTo>
                  <a:lnTo>
                    <a:pt x="11116" y="7609"/>
                  </a:lnTo>
                  <a:lnTo>
                    <a:pt x="11204" y="7697"/>
                  </a:lnTo>
                  <a:lnTo>
                    <a:pt x="11286" y="7866"/>
                  </a:lnTo>
                  <a:lnTo>
                    <a:pt x="11368" y="8029"/>
                  </a:lnTo>
                  <a:lnTo>
                    <a:pt x="11533" y="8373"/>
                  </a:lnTo>
                  <a:lnTo>
                    <a:pt x="11703" y="8706"/>
                  </a:lnTo>
                  <a:lnTo>
                    <a:pt x="11785" y="8950"/>
                  </a:lnTo>
                  <a:lnTo>
                    <a:pt x="11867" y="9294"/>
                  </a:lnTo>
                  <a:lnTo>
                    <a:pt x="12032" y="9539"/>
                  </a:lnTo>
                  <a:lnTo>
                    <a:pt x="12114" y="9708"/>
                  </a:lnTo>
                  <a:lnTo>
                    <a:pt x="12279" y="9872"/>
                  </a:lnTo>
                  <a:lnTo>
                    <a:pt x="12449" y="10041"/>
                  </a:lnTo>
                  <a:lnTo>
                    <a:pt x="12695" y="10210"/>
                  </a:lnTo>
                  <a:lnTo>
                    <a:pt x="12865" y="10373"/>
                  </a:lnTo>
                  <a:lnTo>
                    <a:pt x="13024" y="10461"/>
                  </a:lnTo>
                  <a:lnTo>
                    <a:pt x="13194" y="10706"/>
                  </a:lnTo>
                  <a:lnTo>
                    <a:pt x="13523" y="10875"/>
                  </a:lnTo>
                  <a:lnTo>
                    <a:pt x="13776" y="11050"/>
                  </a:lnTo>
                  <a:lnTo>
                    <a:pt x="13940" y="11050"/>
                  </a:lnTo>
                  <a:lnTo>
                    <a:pt x="14187" y="11120"/>
                  </a:lnTo>
                  <a:lnTo>
                    <a:pt x="14439" y="11050"/>
                  </a:lnTo>
                  <a:lnTo>
                    <a:pt x="14686" y="11050"/>
                  </a:lnTo>
                  <a:lnTo>
                    <a:pt x="14933" y="11050"/>
                  </a:lnTo>
                  <a:lnTo>
                    <a:pt x="15185" y="10962"/>
                  </a:lnTo>
                  <a:lnTo>
                    <a:pt x="15350" y="10962"/>
                  </a:lnTo>
                  <a:lnTo>
                    <a:pt x="15602" y="10962"/>
                  </a:lnTo>
                  <a:lnTo>
                    <a:pt x="15684" y="11050"/>
                  </a:lnTo>
                  <a:lnTo>
                    <a:pt x="15761" y="11207"/>
                  </a:lnTo>
                  <a:lnTo>
                    <a:pt x="15761" y="11294"/>
                  </a:lnTo>
                  <a:lnTo>
                    <a:pt x="15684" y="11464"/>
                  </a:lnTo>
                  <a:lnTo>
                    <a:pt x="15520" y="11627"/>
                  </a:lnTo>
                  <a:lnTo>
                    <a:pt x="15267" y="11796"/>
                  </a:lnTo>
                  <a:lnTo>
                    <a:pt x="15350" y="11965"/>
                  </a:lnTo>
                  <a:lnTo>
                    <a:pt x="15684" y="12128"/>
                  </a:lnTo>
                  <a:lnTo>
                    <a:pt x="16178" y="12303"/>
                  </a:lnTo>
                  <a:lnTo>
                    <a:pt x="16682" y="12466"/>
                  </a:lnTo>
                  <a:lnTo>
                    <a:pt x="17176" y="12636"/>
                  </a:lnTo>
                  <a:lnTo>
                    <a:pt x="17510" y="12805"/>
                  </a:lnTo>
                  <a:lnTo>
                    <a:pt x="18086" y="13219"/>
                  </a:lnTo>
                  <a:lnTo>
                    <a:pt x="18914" y="13469"/>
                  </a:lnTo>
                  <a:lnTo>
                    <a:pt x="19084" y="13720"/>
                  </a:lnTo>
                  <a:lnTo>
                    <a:pt x="19166" y="13808"/>
                  </a:lnTo>
                  <a:lnTo>
                    <a:pt x="19501" y="13971"/>
                  </a:lnTo>
                  <a:lnTo>
                    <a:pt x="19912" y="14309"/>
                  </a:lnTo>
                  <a:lnTo>
                    <a:pt x="19995" y="14641"/>
                  </a:lnTo>
                  <a:lnTo>
                    <a:pt x="19830" y="14974"/>
                  </a:lnTo>
                  <a:lnTo>
                    <a:pt x="19830" y="15230"/>
                  </a:lnTo>
                  <a:lnTo>
                    <a:pt x="19742" y="15312"/>
                  </a:lnTo>
                  <a:lnTo>
                    <a:pt x="19419" y="15230"/>
                  </a:lnTo>
                  <a:lnTo>
                    <a:pt x="19249" y="15055"/>
                  </a:lnTo>
                  <a:lnTo>
                    <a:pt x="19084" y="14805"/>
                  </a:lnTo>
                  <a:lnTo>
                    <a:pt x="18996" y="14641"/>
                  </a:lnTo>
                  <a:lnTo>
                    <a:pt x="18832" y="14391"/>
                  </a:lnTo>
                  <a:lnTo>
                    <a:pt x="18580" y="14309"/>
                  </a:lnTo>
                  <a:lnTo>
                    <a:pt x="18256" y="14391"/>
                  </a:lnTo>
                  <a:lnTo>
                    <a:pt x="17922" y="14309"/>
                  </a:lnTo>
                  <a:lnTo>
                    <a:pt x="17669" y="14140"/>
                  </a:lnTo>
                  <a:lnTo>
                    <a:pt x="17510" y="14058"/>
                  </a:lnTo>
                  <a:lnTo>
                    <a:pt x="17340" y="13971"/>
                  </a:lnTo>
                  <a:lnTo>
                    <a:pt x="17176" y="14140"/>
                  </a:lnTo>
                  <a:lnTo>
                    <a:pt x="17094" y="14391"/>
                  </a:lnTo>
                  <a:lnTo>
                    <a:pt x="17006" y="14729"/>
                  </a:lnTo>
                  <a:lnTo>
                    <a:pt x="16841" y="14974"/>
                  </a:lnTo>
                  <a:lnTo>
                    <a:pt x="16923" y="15312"/>
                  </a:lnTo>
                  <a:lnTo>
                    <a:pt x="16682" y="15563"/>
                  </a:lnTo>
                  <a:lnTo>
                    <a:pt x="16759" y="15813"/>
                  </a:lnTo>
                  <a:lnTo>
                    <a:pt x="16841" y="15977"/>
                  </a:lnTo>
                  <a:lnTo>
                    <a:pt x="17094" y="15977"/>
                  </a:lnTo>
                  <a:lnTo>
                    <a:pt x="17593" y="16309"/>
                  </a:lnTo>
                  <a:lnTo>
                    <a:pt x="17834" y="16397"/>
                  </a:lnTo>
                  <a:lnTo>
                    <a:pt x="17834" y="16816"/>
                  </a:lnTo>
                  <a:lnTo>
                    <a:pt x="17922" y="17149"/>
                  </a:lnTo>
                  <a:lnTo>
                    <a:pt x="18004" y="17230"/>
                  </a:lnTo>
                  <a:lnTo>
                    <a:pt x="17834" y="17569"/>
                  </a:lnTo>
                  <a:lnTo>
                    <a:pt x="17510" y="17487"/>
                  </a:lnTo>
                  <a:lnTo>
                    <a:pt x="17258" y="17569"/>
                  </a:lnTo>
                  <a:lnTo>
                    <a:pt x="17006" y="17994"/>
                  </a:lnTo>
                  <a:lnTo>
                    <a:pt x="17006" y="18152"/>
                  </a:lnTo>
                  <a:lnTo>
                    <a:pt x="17094" y="18408"/>
                  </a:lnTo>
                  <a:lnTo>
                    <a:pt x="17094" y="18741"/>
                  </a:lnTo>
                  <a:lnTo>
                    <a:pt x="16759" y="19073"/>
                  </a:lnTo>
                  <a:lnTo>
                    <a:pt x="16430" y="19493"/>
                  </a:lnTo>
                  <a:lnTo>
                    <a:pt x="16430" y="19662"/>
                  </a:lnTo>
                  <a:lnTo>
                    <a:pt x="16348" y="19907"/>
                  </a:lnTo>
                  <a:lnTo>
                    <a:pt x="15931" y="19994"/>
                  </a:lnTo>
                  <a:lnTo>
                    <a:pt x="15761" y="19994"/>
                  </a:lnTo>
                  <a:lnTo>
                    <a:pt x="15684" y="19994"/>
                  </a:lnTo>
                  <a:lnTo>
                    <a:pt x="15602" y="19907"/>
                  </a:lnTo>
                  <a:lnTo>
                    <a:pt x="15602" y="19825"/>
                  </a:lnTo>
                  <a:lnTo>
                    <a:pt x="15520" y="19749"/>
                  </a:lnTo>
                  <a:lnTo>
                    <a:pt x="15520" y="19662"/>
                  </a:lnTo>
                  <a:lnTo>
                    <a:pt x="15520" y="19580"/>
                  </a:lnTo>
                  <a:lnTo>
                    <a:pt x="15520" y="19493"/>
                  </a:lnTo>
                  <a:lnTo>
                    <a:pt x="15520" y="19405"/>
                  </a:lnTo>
                  <a:lnTo>
                    <a:pt x="15432" y="19329"/>
                  </a:lnTo>
                  <a:lnTo>
                    <a:pt x="15520" y="19248"/>
                  </a:lnTo>
                  <a:lnTo>
                    <a:pt x="15684" y="19160"/>
                  </a:lnTo>
                  <a:lnTo>
                    <a:pt x="15761" y="19073"/>
                  </a:lnTo>
                  <a:lnTo>
                    <a:pt x="15761" y="18904"/>
                  </a:lnTo>
                  <a:lnTo>
                    <a:pt x="15843" y="18904"/>
                  </a:lnTo>
                  <a:lnTo>
                    <a:pt x="15843" y="18741"/>
                  </a:lnTo>
                  <a:lnTo>
                    <a:pt x="15843" y="18571"/>
                  </a:lnTo>
                  <a:lnTo>
                    <a:pt x="15843" y="18484"/>
                  </a:lnTo>
                  <a:lnTo>
                    <a:pt x="15684" y="18408"/>
                  </a:lnTo>
                  <a:lnTo>
                    <a:pt x="15684" y="18327"/>
                  </a:lnTo>
                  <a:lnTo>
                    <a:pt x="15761" y="18327"/>
                  </a:lnTo>
                  <a:lnTo>
                    <a:pt x="16013" y="18152"/>
                  </a:lnTo>
                  <a:lnTo>
                    <a:pt x="16095" y="18152"/>
                  </a:lnTo>
                  <a:lnTo>
                    <a:pt x="16178" y="18070"/>
                  </a:lnTo>
                  <a:lnTo>
                    <a:pt x="16260" y="17907"/>
                  </a:lnTo>
                  <a:lnTo>
                    <a:pt x="16260" y="17819"/>
                  </a:lnTo>
                  <a:lnTo>
                    <a:pt x="16178" y="17738"/>
                  </a:lnTo>
                  <a:lnTo>
                    <a:pt x="16095" y="17569"/>
                  </a:lnTo>
                  <a:lnTo>
                    <a:pt x="16095" y="17487"/>
                  </a:lnTo>
                  <a:lnTo>
                    <a:pt x="16013" y="17405"/>
                  </a:lnTo>
                  <a:lnTo>
                    <a:pt x="16013" y="17318"/>
                  </a:lnTo>
                  <a:lnTo>
                    <a:pt x="16013" y="17230"/>
                  </a:lnTo>
                  <a:lnTo>
                    <a:pt x="15931" y="17073"/>
                  </a:lnTo>
                  <a:lnTo>
                    <a:pt x="15931" y="16898"/>
                  </a:lnTo>
                  <a:lnTo>
                    <a:pt x="15843" y="16816"/>
                  </a:lnTo>
                  <a:lnTo>
                    <a:pt x="15761" y="16647"/>
                  </a:lnTo>
                  <a:lnTo>
                    <a:pt x="15684" y="16484"/>
                  </a:lnTo>
                  <a:lnTo>
                    <a:pt x="15602" y="16309"/>
                  </a:lnTo>
                  <a:lnTo>
                    <a:pt x="15432" y="15895"/>
                  </a:lnTo>
                  <a:lnTo>
                    <a:pt x="15185" y="15475"/>
                  </a:lnTo>
                  <a:lnTo>
                    <a:pt x="15015" y="15312"/>
                  </a:lnTo>
                  <a:lnTo>
                    <a:pt x="14851" y="15312"/>
                  </a:lnTo>
                  <a:lnTo>
                    <a:pt x="14774" y="15475"/>
                  </a:lnTo>
                  <a:lnTo>
                    <a:pt x="14604" y="15475"/>
                  </a:lnTo>
                  <a:lnTo>
                    <a:pt x="14439" y="15394"/>
                  </a:lnTo>
                  <a:lnTo>
                    <a:pt x="14357" y="15230"/>
                  </a:lnTo>
                  <a:lnTo>
                    <a:pt x="14269" y="15143"/>
                  </a:lnTo>
                  <a:lnTo>
                    <a:pt x="14105" y="15055"/>
                  </a:lnTo>
                  <a:lnTo>
                    <a:pt x="14022" y="14974"/>
                  </a:lnTo>
                  <a:lnTo>
                    <a:pt x="13852" y="14892"/>
                  </a:lnTo>
                  <a:lnTo>
                    <a:pt x="13852" y="14805"/>
                  </a:lnTo>
                  <a:lnTo>
                    <a:pt x="13852" y="14641"/>
                  </a:lnTo>
                  <a:lnTo>
                    <a:pt x="13776" y="14472"/>
                  </a:lnTo>
                  <a:lnTo>
                    <a:pt x="13693" y="14309"/>
                  </a:lnTo>
                  <a:lnTo>
                    <a:pt x="13611" y="14058"/>
                  </a:lnTo>
                  <a:lnTo>
                    <a:pt x="13441" y="14140"/>
                  </a:lnTo>
                  <a:lnTo>
                    <a:pt x="13194" y="14222"/>
                  </a:lnTo>
                  <a:lnTo>
                    <a:pt x="13107" y="14222"/>
                  </a:lnTo>
                  <a:lnTo>
                    <a:pt x="13024" y="14309"/>
                  </a:lnTo>
                  <a:lnTo>
                    <a:pt x="12783" y="14309"/>
                  </a:lnTo>
                  <a:lnTo>
                    <a:pt x="12783" y="14222"/>
                  </a:lnTo>
                  <a:lnTo>
                    <a:pt x="12865" y="14140"/>
                  </a:lnTo>
                  <a:lnTo>
                    <a:pt x="12942" y="13971"/>
                  </a:lnTo>
                  <a:lnTo>
                    <a:pt x="12942" y="13883"/>
                  </a:lnTo>
                  <a:lnTo>
                    <a:pt x="12695" y="13808"/>
                  </a:lnTo>
                  <a:lnTo>
                    <a:pt x="12531" y="13883"/>
                  </a:lnTo>
                  <a:lnTo>
                    <a:pt x="12361" y="13883"/>
                  </a:lnTo>
                  <a:lnTo>
                    <a:pt x="12279" y="13720"/>
                  </a:lnTo>
                  <a:lnTo>
                    <a:pt x="12114" y="13469"/>
                  </a:lnTo>
                  <a:lnTo>
                    <a:pt x="12032" y="13219"/>
                  </a:lnTo>
                  <a:lnTo>
                    <a:pt x="11703" y="12886"/>
                  </a:lnTo>
                  <a:lnTo>
                    <a:pt x="11533" y="12886"/>
                  </a:lnTo>
                  <a:lnTo>
                    <a:pt x="11451" y="12962"/>
                  </a:lnTo>
                  <a:lnTo>
                    <a:pt x="11286" y="12962"/>
                  </a:lnTo>
                  <a:lnTo>
                    <a:pt x="11204" y="12962"/>
                  </a:lnTo>
                  <a:lnTo>
                    <a:pt x="11034" y="12805"/>
                  </a:lnTo>
                  <a:lnTo>
                    <a:pt x="10875" y="12805"/>
                  </a:lnTo>
                  <a:lnTo>
                    <a:pt x="10540" y="13050"/>
                  </a:lnTo>
                  <a:lnTo>
                    <a:pt x="10458" y="12886"/>
                  </a:lnTo>
                  <a:lnTo>
                    <a:pt x="10288" y="12717"/>
                  </a:lnTo>
                  <a:lnTo>
                    <a:pt x="10123" y="12636"/>
                  </a:lnTo>
                  <a:lnTo>
                    <a:pt x="10047" y="12636"/>
                  </a:lnTo>
                  <a:lnTo>
                    <a:pt x="9877" y="12548"/>
                  </a:lnTo>
                  <a:lnTo>
                    <a:pt x="9712" y="12466"/>
                  </a:lnTo>
                  <a:lnTo>
                    <a:pt x="9542" y="12303"/>
                  </a:lnTo>
                  <a:lnTo>
                    <a:pt x="9378" y="12128"/>
                  </a:lnTo>
                  <a:lnTo>
                    <a:pt x="9208" y="11965"/>
                  </a:lnTo>
                  <a:lnTo>
                    <a:pt x="9049" y="11883"/>
                  </a:lnTo>
                  <a:lnTo>
                    <a:pt x="8966" y="11714"/>
                  </a:lnTo>
                  <a:lnTo>
                    <a:pt x="8884" y="11627"/>
                  </a:lnTo>
                  <a:lnTo>
                    <a:pt x="8714" y="11464"/>
                  </a:lnTo>
                  <a:lnTo>
                    <a:pt x="8549" y="11464"/>
                  </a:lnTo>
                  <a:lnTo>
                    <a:pt x="8467" y="11382"/>
                  </a:lnTo>
                  <a:lnTo>
                    <a:pt x="8297" y="11207"/>
                  </a:lnTo>
                  <a:lnTo>
                    <a:pt x="8215" y="11120"/>
                  </a:lnTo>
                  <a:lnTo>
                    <a:pt x="8215" y="10962"/>
                  </a:lnTo>
                  <a:lnTo>
                    <a:pt x="8050" y="10793"/>
                  </a:lnTo>
                  <a:lnTo>
                    <a:pt x="7886" y="10630"/>
                  </a:lnTo>
                  <a:lnTo>
                    <a:pt x="7804" y="10630"/>
                  </a:lnTo>
                  <a:lnTo>
                    <a:pt x="7551" y="10542"/>
                  </a:lnTo>
                  <a:lnTo>
                    <a:pt x="7387" y="10542"/>
                  </a:lnTo>
                  <a:lnTo>
                    <a:pt x="7217" y="10630"/>
                  </a:lnTo>
                  <a:lnTo>
                    <a:pt x="7217" y="10373"/>
                  </a:lnTo>
                  <a:lnTo>
                    <a:pt x="7387" y="10373"/>
                  </a:lnTo>
                  <a:lnTo>
                    <a:pt x="7305" y="10210"/>
                  </a:lnTo>
                  <a:lnTo>
                    <a:pt x="7217" y="10128"/>
                  </a:lnTo>
                  <a:lnTo>
                    <a:pt x="7140" y="10041"/>
                  </a:lnTo>
                  <a:lnTo>
                    <a:pt x="6976" y="9953"/>
                  </a:lnTo>
                  <a:lnTo>
                    <a:pt x="6806" y="9872"/>
                  </a:lnTo>
                  <a:lnTo>
                    <a:pt x="6718" y="9708"/>
                  </a:lnTo>
                  <a:lnTo>
                    <a:pt x="6636" y="9621"/>
                  </a:lnTo>
                  <a:lnTo>
                    <a:pt x="6636" y="9452"/>
                  </a:lnTo>
                  <a:lnTo>
                    <a:pt x="6471" y="9452"/>
                  </a:lnTo>
                  <a:lnTo>
                    <a:pt x="6301" y="9364"/>
                  </a:lnTo>
                  <a:lnTo>
                    <a:pt x="6219" y="9364"/>
                  </a:lnTo>
                  <a:lnTo>
                    <a:pt x="6219" y="9294"/>
                  </a:lnTo>
                  <a:lnTo>
                    <a:pt x="6219" y="9120"/>
                  </a:lnTo>
                  <a:lnTo>
                    <a:pt x="6219" y="8950"/>
                  </a:lnTo>
                  <a:lnTo>
                    <a:pt x="6219" y="8787"/>
                  </a:lnTo>
                  <a:lnTo>
                    <a:pt x="6142" y="8706"/>
                  </a:lnTo>
                  <a:lnTo>
                    <a:pt x="6054" y="8531"/>
                  </a:lnTo>
                  <a:lnTo>
                    <a:pt x="5972" y="8373"/>
                  </a:lnTo>
                  <a:lnTo>
                    <a:pt x="5890" y="8286"/>
                  </a:lnTo>
                  <a:lnTo>
                    <a:pt x="5808" y="8111"/>
                  </a:lnTo>
                  <a:lnTo>
                    <a:pt x="5808" y="7953"/>
                  </a:lnTo>
                  <a:lnTo>
                    <a:pt x="5808" y="7784"/>
                  </a:lnTo>
                  <a:lnTo>
                    <a:pt x="5808" y="7609"/>
                  </a:lnTo>
                  <a:lnTo>
                    <a:pt x="5725" y="7528"/>
                  </a:lnTo>
                  <a:lnTo>
                    <a:pt x="5638" y="7364"/>
                  </a:lnTo>
                  <a:lnTo>
                    <a:pt x="5555" y="7277"/>
                  </a:lnTo>
                  <a:lnTo>
                    <a:pt x="5391" y="7195"/>
                  </a:lnTo>
                  <a:lnTo>
                    <a:pt x="5221" y="7032"/>
                  </a:lnTo>
                  <a:lnTo>
                    <a:pt x="5062" y="7032"/>
                  </a:lnTo>
                  <a:lnTo>
                    <a:pt x="4897" y="6863"/>
                  </a:lnTo>
                  <a:lnTo>
                    <a:pt x="4645" y="6776"/>
                  </a:lnTo>
                  <a:lnTo>
                    <a:pt x="4393" y="6606"/>
                  </a:lnTo>
                  <a:lnTo>
                    <a:pt x="4234" y="6531"/>
                  </a:lnTo>
                  <a:lnTo>
                    <a:pt x="4064" y="6356"/>
                  </a:lnTo>
                  <a:lnTo>
                    <a:pt x="3899" y="6356"/>
                  </a:lnTo>
                  <a:lnTo>
                    <a:pt x="3647" y="6274"/>
                  </a:lnTo>
                  <a:lnTo>
                    <a:pt x="3400" y="6192"/>
                  </a:lnTo>
                  <a:lnTo>
                    <a:pt x="3236" y="6192"/>
                  </a:lnTo>
                  <a:lnTo>
                    <a:pt x="3071" y="6356"/>
                  </a:lnTo>
                  <a:lnTo>
                    <a:pt x="2989" y="6531"/>
                  </a:lnTo>
                  <a:lnTo>
                    <a:pt x="2901" y="6606"/>
                  </a:lnTo>
                  <a:lnTo>
                    <a:pt x="2819" y="6694"/>
                  </a:lnTo>
                  <a:lnTo>
                    <a:pt x="2654" y="6863"/>
                  </a:lnTo>
                  <a:lnTo>
                    <a:pt x="2484" y="7032"/>
                  </a:lnTo>
                  <a:lnTo>
                    <a:pt x="2402" y="7195"/>
                  </a:lnTo>
                  <a:lnTo>
                    <a:pt x="2402" y="7277"/>
                  </a:lnTo>
                  <a:lnTo>
                    <a:pt x="2243" y="7364"/>
                  </a:lnTo>
                  <a:lnTo>
                    <a:pt x="1991" y="7452"/>
                  </a:lnTo>
                  <a:lnTo>
                    <a:pt x="1415" y="7528"/>
                  </a:lnTo>
                  <a:lnTo>
                    <a:pt x="1492" y="7195"/>
                  </a:lnTo>
                  <a:lnTo>
                    <a:pt x="1656" y="7032"/>
                  </a:lnTo>
                  <a:lnTo>
                    <a:pt x="1738" y="6776"/>
                  </a:lnTo>
                  <a:lnTo>
                    <a:pt x="1574" y="6694"/>
                  </a:lnTo>
                  <a:lnTo>
                    <a:pt x="1492" y="6694"/>
                  </a:lnTo>
                  <a:lnTo>
                    <a:pt x="1327" y="6776"/>
                  </a:lnTo>
                  <a:lnTo>
                    <a:pt x="1163" y="6776"/>
                  </a:lnTo>
                  <a:lnTo>
                    <a:pt x="910" y="6694"/>
                  </a:lnTo>
                  <a:lnTo>
                    <a:pt x="664" y="6531"/>
                  </a:lnTo>
                  <a:lnTo>
                    <a:pt x="417" y="6192"/>
                  </a:lnTo>
                  <a:lnTo>
                    <a:pt x="417" y="6111"/>
                  </a:lnTo>
                  <a:lnTo>
                    <a:pt x="417" y="5942"/>
                  </a:lnTo>
                  <a:lnTo>
                    <a:pt x="335" y="5942"/>
                  </a:lnTo>
                  <a:lnTo>
                    <a:pt x="417" y="5773"/>
                  </a:lnTo>
                  <a:lnTo>
                    <a:pt x="494" y="5609"/>
                  </a:lnTo>
                  <a:lnTo>
                    <a:pt x="576" y="5434"/>
                  </a:lnTo>
                  <a:lnTo>
                    <a:pt x="746" y="5434"/>
                  </a:lnTo>
                  <a:lnTo>
                    <a:pt x="576" y="5190"/>
                  </a:lnTo>
                  <a:lnTo>
                    <a:pt x="494" y="5102"/>
                  </a:lnTo>
                  <a:lnTo>
                    <a:pt x="335" y="5102"/>
                  </a:lnTo>
                  <a:lnTo>
                    <a:pt x="165" y="5020"/>
                  </a:lnTo>
                  <a:lnTo>
                    <a:pt x="252" y="4776"/>
                  </a:lnTo>
                  <a:lnTo>
                    <a:pt x="82" y="4776"/>
                  </a:lnTo>
                  <a:lnTo>
                    <a:pt x="0" y="4601"/>
                  </a:lnTo>
                  <a:lnTo>
                    <a:pt x="494" y="4519"/>
                  </a:lnTo>
                  <a:lnTo>
                    <a:pt x="494" y="4437"/>
                  </a:lnTo>
                  <a:lnTo>
                    <a:pt x="746" y="4181"/>
                  </a:lnTo>
                  <a:lnTo>
                    <a:pt x="746" y="3930"/>
                  </a:lnTo>
                  <a:lnTo>
                    <a:pt x="746" y="3767"/>
                  </a:lnTo>
                  <a:lnTo>
                    <a:pt x="664" y="3685"/>
                  </a:lnTo>
                  <a:lnTo>
                    <a:pt x="576" y="3429"/>
                  </a:lnTo>
                  <a:lnTo>
                    <a:pt x="494" y="3265"/>
                  </a:lnTo>
                  <a:lnTo>
                    <a:pt x="335" y="3184"/>
                  </a:lnTo>
                  <a:lnTo>
                    <a:pt x="417" y="2933"/>
                  </a:lnTo>
                  <a:lnTo>
                    <a:pt x="494" y="2845"/>
                  </a:lnTo>
                  <a:lnTo>
                    <a:pt x="746" y="2764"/>
                  </a:lnTo>
                  <a:lnTo>
                    <a:pt x="828" y="2845"/>
                  </a:lnTo>
                  <a:lnTo>
                    <a:pt x="1080" y="2764"/>
                  </a:lnTo>
                  <a:lnTo>
                    <a:pt x="1245" y="2764"/>
                  </a:lnTo>
                  <a:lnTo>
                    <a:pt x="1327" y="2676"/>
                  </a:lnTo>
                  <a:lnTo>
                    <a:pt x="1492" y="2676"/>
                  </a:lnTo>
                  <a:lnTo>
                    <a:pt x="1738" y="2764"/>
                  </a:lnTo>
                  <a:lnTo>
                    <a:pt x="1908" y="2764"/>
                  </a:lnTo>
                  <a:lnTo>
                    <a:pt x="1991" y="2595"/>
                  </a:lnTo>
                  <a:lnTo>
                    <a:pt x="2161" y="2507"/>
                  </a:lnTo>
                  <a:lnTo>
                    <a:pt x="2325" y="2350"/>
                  </a:lnTo>
                  <a:lnTo>
                    <a:pt x="2325" y="2087"/>
                  </a:lnTo>
                  <a:lnTo>
                    <a:pt x="2325" y="2012"/>
                  </a:lnTo>
                  <a:lnTo>
                    <a:pt x="2484" y="1843"/>
                  </a:lnTo>
                  <a:lnTo>
                    <a:pt x="2654" y="1586"/>
                  </a:lnTo>
                  <a:lnTo>
                    <a:pt x="2736" y="1510"/>
                  </a:lnTo>
                  <a:lnTo>
                    <a:pt x="2901" y="1586"/>
                  </a:lnTo>
                  <a:lnTo>
                    <a:pt x="2819" y="1843"/>
                  </a:lnTo>
                  <a:lnTo>
                    <a:pt x="2819" y="2087"/>
                  </a:lnTo>
                  <a:lnTo>
                    <a:pt x="2989" y="2175"/>
                  </a:lnTo>
                  <a:lnTo>
                    <a:pt x="3071" y="2350"/>
                  </a:lnTo>
                  <a:lnTo>
                    <a:pt x="3400" y="2426"/>
                  </a:lnTo>
                  <a:lnTo>
                    <a:pt x="3482" y="2595"/>
                  </a:lnTo>
                  <a:lnTo>
                    <a:pt x="3565" y="2933"/>
                  </a:lnTo>
                  <a:lnTo>
                    <a:pt x="3647" y="2933"/>
                  </a:lnTo>
                  <a:lnTo>
                    <a:pt x="3735" y="2845"/>
                  </a:lnTo>
                  <a:lnTo>
                    <a:pt x="3735" y="2764"/>
                  </a:lnTo>
                  <a:lnTo>
                    <a:pt x="3735" y="2595"/>
                  </a:lnTo>
                  <a:lnTo>
                    <a:pt x="3735" y="2426"/>
                  </a:lnTo>
                  <a:lnTo>
                    <a:pt x="3899" y="2175"/>
                  </a:lnTo>
                  <a:lnTo>
                    <a:pt x="3981" y="2087"/>
                  </a:lnTo>
                  <a:lnTo>
                    <a:pt x="4064" y="1930"/>
                  </a:lnTo>
                  <a:lnTo>
                    <a:pt x="4064" y="1673"/>
                  </a:lnTo>
                  <a:lnTo>
                    <a:pt x="4064" y="1510"/>
                  </a:lnTo>
                  <a:lnTo>
                    <a:pt x="4310" y="1429"/>
                  </a:lnTo>
                  <a:lnTo>
                    <a:pt x="4393" y="1673"/>
                  </a:lnTo>
                  <a:lnTo>
                    <a:pt x="4475" y="1843"/>
                  </a:lnTo>
                  <a:lnTo>
                    <a:pt x="4809" y="1930"/>
                  </a:lnTo>
                  <a:lnTo>
                    <a:pt x="4809" y="1755"/>
                  </a:lnTo>
                  <a:lnTo>
                    <a:pt x="4897" y="1755"/>
                  </a:lnTo>
                  <a:lnTo>
                    <a:pt x="5062" y="1673"/>
                  </a:lnTo>
                  <a:lnTo>
                    <a:pt x="5221" y="1755"/>
                  </a:lnTo>
                  <a:lnTo>
                    <a:pt x="5308" y="1930"/>
                  </a:lnTo>
                  <a:lnTo>
                    <a:pt x="5391" y="2012"/>
                  </a:lnTo>
                  <a:lnTo>
                    <a:pt x="5555" y="1930"/>
                  </a:lnTo>
                  <a:lnTo>
                    <a:pt x="5473" y="1755"/>
                  </a:lnTo>
                  <a:lnTo>
                    <a:pt x="5473" y="1586"/>
                  </a:lnTo>
                  <a:lnTo>
                    <a:pt x="5391" y="1586"/>
                  </a:lnTo>
                  <a:lnTo>
                    <a:pt x="5308" y="1586"/>
                  </a:lnTo>
                  <a:lnTo>
                    <a:pt x="5221" y="1341"/>
                  </a:lnTo>
                  <a:lnTo>
                    <a:pt x="5391" y="1166"/>
                  </a:lnTo>
                  <a:lnTo>
                    <a:pt x="5638" y="1090"/>
                  </a:lnTo>
                  <a:lnTo>
                    <a:pt x="5725" y="1254"/>
                  </a:lnTo>
                  <a:lnTo>
                    <a:pt x="5890" y="1254"/>
                  </a:lnTo>
                  <a:lnTo>
                    <a:pt x="5972" y="1166"/>
                  </a:lnTo>
                  <a:lnTo>
                    <a:pt x="5890" y="1090"/>
                  </a:lnTo>
                  <a:lnTo>
                    <a:pt x="5890" y="840"/>
                  </a:lnTo>
                  <a:lnTo>
                    <a:pt x="5890" y="589"/>
                  </a:lnTo>
                  <a:lnTo>
                    <a:pt x="5890" y="589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58360" y="5398920"/>
              <a:ext cx="487440" cy="297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8205" y="19968"/>
                  </a:moveTo>
                  <a:lnTo>
                    <a:pt x="17002" y="19968"/>
                  </a:lnTo>
                  <a:lnTo>
                    <a:pt x="15799" y="19968"/>
                  </a:lnTo>
                  <a:lnTo>
                    <a:pt x="14892" y="19968"/>
                  </a:lnTo>
                  <a:lnTo>
                    <a:pt x="13728" y="19494"/>
                  </a:lnTo>
                  <a:lnTo>
                    <a:pt x="13116" y="18165"/>
                  </a:lnTo>
                  <a:lnTo>
                    <a:pt x="12229" y="17247"/>
                  </a:lnTo>
                  <a:lnTo>
                    <a:pt x="11617" y="16772"/>
                  </a:lnTo>
                  <a:lnTo>
                    <a:pt x="10750" y="16329"/>
                  </a:lnTo>
                  <a:lnTo>
                    <a:pt x="9842" y="16329"/>
                  </a:lnTo>
                  <a:lnTo>
                    <a:pt x="8935" y="15918"/>
                  </a:lnTo>
                  <a:lnTo>
                    <a:pt x="8067" y="15443"/>
                  </a:lnTo>
                  <a:lnTo>
                    <a:pt x="7456" y="14968"/>
                  </a:lnTo>
                  <a:lnTo>
                    <a:pt x="6568" y="13639"/>
                  </a:lnTo>
                  <a:lnTo>
                    <a:pt x="5365" y="13165"/>
                  </a:lnTo>
                  <a:lnTo>
                    <a:pt x="4477" y="12247"/>
                  </a:lnTo>
                  <a:lnTo>
                    <a:pt x="4181" y="11804"/>
                  </a:lnTo>
                  <a:lnTo>
                    <a:pt x="3590" y="11329"/>
                  </a:lnTo>
                  <a:lnTo>
                    <a:pt x="2387" y="10918"/>
                  </a:lnTo>
                  <a:lnTo>
                    <a:pt x="1499" y="11329"/>
                  </a:lnTo>
                  <a:lnTo>
                    <a:pt x="907" y="10443"/>
                  </a:lnTo>
                  <a:lnTo>
                    <a:pt x="296" y="10000"/>
                  </a:lnTo>
                  <a:lnTo>
                    <a:pt x="0" y="9082"/>
                  </a:lnTo>
                  <a:lnTo>
                    <a:pt x="0" y="7722"/>
                  </a:lnTo>
                  <a:lnTo>
                    <a:pt x="296" y="6329"/>
                  </a:lnTo>
                  <a:lnTo>
                    <a:pt x="296" y="5475"/>
                  </a:lnTo>
                  <a:lnTo>
                    <a:pt x="592" y="5000"/>
                  </a:lnTo>
                  <a:lnTo>
                    <a:pt x="1203" y="5000"/>
                  </a:lnTo>
                  <a:lnTo>
                    <a:pt x="1499" y="4525"/>
                  </a:lnTo>
                  <a:lnTo>
                    <a:pt x="1775" y="3639"/>
                  </a:lnTo>
                  <a:lnTo>
                    <a:pt x="2071" y="3196"/>
                  </a:lnTo>
                  <a:lnTo>
                    <a:pt x="2387" y="4082"/>
                  </a:lnTo>
                  <a:lnTo>
                    <a:pt x="2978" y="5000"/>
                  </a:lnTo>
                  <a:lnTo>
                    <a:pt x="3274" y="5000"/>
                  </a:lnTo>
                  <a:lnTo>
                    <a:pt x="3886" y="4525"/>
                  </a:lnTo>
                  <a:lnTo>
                    <a:pt x="3886" y="3639"/>
                  </a:lnTo>
                  <a:lnTo>
                    <a:pt x="4181" y="3196"/>
                  </a:lnTo>
                  <a:lnTo>
                    <a:pt x="5089" y="2278"/>
                  </a:lnTo>
                  <a:lnTo>
                    <a:pt x="5661" y="2278"/>
                  </a:lnTo>
                  <a:lnTo>
                    <a:pt x="5957" y="2753"/>
                  </a:lnTo>
                  <a:lnTo>
                    <a:pt x="6252" y="3196"/>
                  </a:lnTo>
                  <a:lnTo>
                    <a:pt x="6864" y="3639"/>
                  </a:lnTo>
                  <a:lnTo>
                    <a:pt x="7160" y="3639"/>
                  </a:lnTo>
                  <a:lnTo>
                    <a:pt x="7160" y="4082"/>
                  </a:lnTo>
                  <a:lnTo>
                    <a:pt x="7751" y="4525"/>
                  </a:lnTo>
                  <a:lnTo>
                    <a:pt x="8363" y="5000"/>
                  </a:lnTo>
                  <a:lnTo>
                    <a:pt x="9231" y="5000"/>
                  </a:lnTo>
                  <a:lnTo>
                    <a:pt x="9842" y="4525"/>
                  </a:lnTo>
                  <a:lnTo>
                    <a:pt x="10434" y="4082"/>
                  </a:lnTo>
                  <a:lnTo>
                    <a:pt x="11341" y="4082"/>
                  </a:lnTo>
                  <a:lnTo>
                    <a:pt x="11913" y="4082"/>
                  </a:lnTo>
                  <a:lnTo>
                    <a:pt x="12821" y="4082"/>
                  </a:lnTo>
                  <a:lnTo>
                    <a:pt x="13728" y="3196"/>
                  </a:lnTo>
                  <a:lnTo>
                    <a:pt x="14320" y="2753"/>
                  </a:lnTo>
                  <a:lnTo>
                    <a:pt x="14615" y="2278"/>
                  </a:lnTo>
                  <a:lnTo>
                    <a:pt x="14892" y="1804"/>
                  </a:lnTo>
                  <a:lnTo>
                    <a:pt x="15503" y="1804"/>
                  </a:lnTo>
                  <a:lnTo>
                    <a:pt x="15799" y="1804"/>
                  </a:lnTo>
                  <a:lnTo>
                    <a:pt x="16391" y="1804"/>
                  </a:lnTo>
                  <a:lnTo>
                    <a:pt x="17002" y="1804"/>
                  </a:lnTo>
                  <a:lnTo>
                    <a:pt x="17298" y="1329"/>
                  </a:lnTo>
                  <a:lnTo>
                    <a:pt x="17909" y="475"/>
                  </a:lnTo>
                  <a:lnTo>
                    <a:pt x="18481" y="475"/>
                  </a:lnTo>
                  <a:lnTo>
                    <a:pt x="18777" y="0"/>
                  </a:lnTo>
                  <a:lnTo>
                    <a:pt x="19389" y="0"/>
                  </a:lnTo>
                  <a:lnTo>
                    <a:pt x="19980" y="0"/>
                  </a:lnTo>
                  <a:lnTo>
                    <a:pt x="19980" y="475"/>
                  </a:lnTo>
                  <a:lnTo>
                    <a:pt x="19980" y="949"/>
                  </a:lnTo>
                  <a:lnTo>
                    <a:pt x="19980" y="2278"/>
                  </a:lnTo>
                  <a:lnTo>
                    <a:pt x="19684" y="3639"/>
                  </a:lnTo>
                  <a:lnTo>
                    <a:pt x="19073" y="5000"/>
                  </a:lnTo>
                  <a:lnTo>
                    <a:pt x="18481" y="5918"/>
                  </a:lnTo>
                  <a:lnTo>
                    <a:pt x="18205" y="7278"/>
                  </a:lnTo>
                  <a:lnTo>
                    <a:pt x="18205" y="8639"/>
                  </a:lnTo>
                  <a:lnTo>
                    <a:pt x="17909" y="9525"/>
                  </a:lnTo>
                  <a:lnTo>
                    <a:pt x="17594" y="10443"/>
                  </a:lnTo>
                  <a:lnTo>
                    <a:pt x="17594" y="10918"/>
                  </a:lnTo>
                  <a:lnTo>
                    <a:pt x="17909" y="12690"/>
                  </a:lnTo>
                  <a:lnTo>
                    <a:pt x="18481" y="13165"/>
                  </a:lnTo>
                  <a:lnTo>
                    <a:pt x="18481" y="13639"/>
                  </a:lnTo>
                  <a:lnTo>
                    <a:pt x="18205" y="14494"/>
                  </a:lnTo>
                  <a:lnTo>
                    <a:pt x="18777" y="14968"/>
                  </a:lnTo>
                  <a:lnTo>
                    <a:pt x="19073" y="15443"/>
                  </a:lnTo>
                  <a:lnTo>
                    <a:pt x="19073" y="16329"/>
                  </a:lnTo>
                  <a:lnTo>
                    <a:pt x="18777" y="17247"/>
                  </a:lnTo>
                  <a:lnTo>
                    <a:pt x="18205" y="17690"/>
                  </a:lnTo>
                  <a:lnTo>
                    <a:pt x="18205" y="18639"/>
                  </a:lnTo>
                  <a:lnTo>
                    <a:pt x="18205" y="19494"/>
                  </a:lnTo>
                  <a:lnTo>
                    <a:pt x="18205" y="19968"/>
                  </a:lnTo>
                  <a:lnTo>
                    <a:pt x="18205" y="19968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03880" y="4916160"/>
              <a:ext cx="247320" cy="42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1728" y="0"/>
                  </a:moveTo>
                  <a:lnTo>
                    <a:pt x="13515" y="642"/>
                  </a:lnTo>
                  <a:lnTo>
                    <a:pt x="14097" y="642"/>
                  </a:lnTo>
                  <a:lnTo>
                    <a:pt x="15262" y="929"/>
                  </a:lnTo>
                  <a:lnTo>
                    <a:pt x="16466" y="642"/>
                  </a:lnTo>
                  <a:lnTo>
                    <a:pt x="17010" y="1261"/>
                  </a:lnTo>
                  <a:lnTo>
                    <a:pt x="16466" y="1903"/>
                  </a:lnTo>
                  <a:lnTo>
                    <a:pt x="17592" y="2235"/>
                  </a:lnTo>
                  <a:lnTo>
                    <a:pt x="18175" y="2832"/>
                  </a:lnTo>
                  <a:lnTo>
                    <a:pt x="18175" y="3496"/>
                  </a:lnTo>
                  <a:lnTo>
                    <a:pt x="18796" y="4137"/>
                  </a:lnTo>
                  <a:lnTo>
                    <a:pt x="19379" y="4757"/>
                  </a:lnTo>
                  <a:lnTo>
                    <a:pt x="19961" y="5730"/>
                  </a:lnTo>
                  <a:lnTo>
                    <a:pt x="19961" y="6327"/>
                  </a:lnTo>
                  <a:lnTo>
                    <a:pt x="19379" y="6991"/>
                  </a:lnTo>
                  <a:lnTo>
                    <a:pt x="17592" y="7920"/>
                  </a:lnTo>
                  <a:lnTo>
                    <a:pt x="17592" y="8894"/>
                  </a:lnTo>
                  <a:lnTo>
                    <a:pt x="18796" y="10155"/>
                  </a:lnTo>
                  <a:lnTo>
                    <a:pt x="18175" y="11084"/>
                  </a:lnTo>
                  <a:lnTo>
                    <a:pt x="18175" y="12058"/>
                  </a:lnTo>
                  <a:lnTo>
                    <a:pt x="18796" y="13319"/>
                  </a:lnTo>
                  <a:lnTo>
                    <a:pt x="18175" y="14580"/>
                  </a:lnTo>
                  <a:lnTo>
                    <a:pt x="17592" y="15841"/>
                  </a:lnTo>
                  <a:lnTo>
                    <a:pt x="17592" y="17146"/>
                  </a:lnTo>
                  <a:lnTo>
                    <a:pt x="17010" y="18407"/>
                  </a:lnTo>
                  <a:lnTo>
                    <a:pt x="15883" y="18075"/>
                  </a:lnTo>
                  <a:lnTo>
                    <a:pt x="14680" y="17456"/>
                  </a:lnTo>
                  <a:lnTo>
                    <a:pt x="13515" y="17456"/>
                  </a:lnTo>
                  <a:lnTo>
                    <a:pt x="12311" y="17456"/>
                  </a:lnTo>
                  <a:lnTo>
                    <a:pt x="10563" y="16814"/>
                  </a:lnTo>
                  <a:lnTo>
                    <a:pt x="10563" y="17146"/>
                  </a:lnTo>
                  <a:lnTo>
                    <a:pt x="11146" y="17456"/>
                  </a:lnTo>
                  <a:lnTo>
                    <a:pt x="11728" y="17456"/>
                  </a:lnTo>
                  <a:lnTo>
                    <a:pt x="11146" y="18407"/>
                  </a:lnTo>
                  <a:lnTo>
                    <a:pt x="11728" y="19336"/>
                  </a:lnTo>
                  <a:lnTo>
                    <a:pt x="10563" y="19978"/>
                  </a:lnTo>
                  <a:lnTo>
                    <a:pt x="7650" y="19978"/>
                  </a:lnTo>
                  <a:lnTo>
                    <a:pt x="6447" y="19668"/>
                  </a:lnTo>
                  <a:lnTo>
                    <a:pt x="5864" y="19668"/>
                  </a:lnTo>
                  <a:lnTo>
                    <a:pt x="5864" y="19049"/>
                  </a:lnTo>
                  <a:lnTo>
                    <a:pt x="4699" y="18739"/>
                  </a:lnTo>
                  <a:lnTo>
                    <a:pt x="3495" y="19336"/>
                  </a:lnTo>
                  <a:lnTo>
                    <a:pt x="2951" y="19336"/>
                  </a:lnTo>
                  <a:lnTo>
                    <a:pt x="2369" y="18407"/>
                  </a:lnTo>
                  <a:lnTo>
                    <a:pt x="2951" y="18075"/>
                  </a:lnTo>
                  <a:lnTo>
                    <a:pt x="3495" y="18407"/>
                  </a:lnTo>
                  <a:lnTo>
                    <a:pt x="4078" y="18407"/>
                  </a:lnTo>
                  <a:lnTo>
                    <a:pt x="3495" y="18075"/>
                  </a:lnTo>
                  <a:lnTo>
                    <a:pt x="2951" y="17456"/>
                  </a:lnTo>
                  <a:lnTo>
                    <a:pt x="3495" y="16814"/>
                  </a:lnTo>
                  <a:lnTo>
                    <a:pt x="2951" y="15841"/>
                  </a:lnTo>
                  <a:lnTo>
                    <a:pt x="2951" y="15243"/>
                  </a:lnTo>
                  <a:lnTo>
                    <a:pt x="3495" y="14580"/>
                  </a:lnTo>
                  <a:lnTo>
                    <a:pt x="4078" y="13650"/>
                  </a:lnTo>
                  <a:lnTo>
                    <a:pt x="3495" y="12677"/>
                  </a:lnTo>
                  <a:lnTo>
                    <a:pt x="4078" y="13009"/>
                  </a:lnTo>
                  <a:lnTo>
                    <a:pt x="4699" y="13319"/>
                  </a:lnTo>
                  <a:lnTo>
                    <a:pt x="5282" y="13319"/>
                  </a:lnTo>
                  <a:lnTo>
                    <a:pt x="4699" y="13009"/>
                  </a:lnTo>
                  <a:lnTo>
                    <a:pt x="4699" y="12389"/>
                  </a:lnTo>
                  <a:lnTo>
                    <a:pt x="5282" y="12058"/>
                  </a:lnTo>
                  <a:lnTo>
                    <a:pt x="4699" y="11416"/>
                  </a:lnTo>
                  <a:lnTo>
                    <a:pt x="4078" y="11748"/>
                  </a:lnTo>
                  <a:lnTo>
                    <a:pt x="2951" y="11748"/>
                  </a:lnTo>
                  <a:lnTo>
                    <a:pt x="2951" y="11416"/>
                  </a:lnTo>
                  <a:lnTo>
                    <a:pt x="2951" y="10796"/>
                  </a:lnTo>
                  <a:lnTo>
                    <a:pt x="2951" y="10155"/>
                  </a:lnTo>
                  <a:lnTo>
                    <a:pt x="3495" y="10155"/>
                  </a:lnTo>
                  <a:lnTo>
                    <a:pt x="4078" y="9823"/>
                  </a:lnTo>
                  <a:lnTo>
                    <a:pt x="4078" y="8894"/>
                  </a:lnTo>
                  <a:lnTo>
                    <a:pt x="3495" y="8252"/>
                  </a:lnTo>
                  <a:lnTo>
                    <a:pt x="2951" y="7588"/>
                  </a:lnTo>
                  <a:lnTo>
                    <a:pt x="2951" y="6991"/>
                  </a:lnTo>
                  <a:lnTo>
                    <a:pt x="1786" y="6327"/>
                  </a:lnTo>
                  <a:lnTo>
                    <a:pt x="1165" y="5730"/>
                  </a:lnTo>
                  <a:lnTo>
                    <a:pt x="583" y="5730"/>
                  </a:lnTo>
                  <a:lnTo>
                    <a:pt x="0" y="6018"/>
                  </a:lnTo>
                  <a:lnTo>
                    <a:pt x="0" y="5730"/>
                  </a:lnTo>
                  <a:lnTo>
                    <a:pt x="583" y="5066"/>
                  </a:lnTo>
                  <a:lnTo>
                    <a:pt x="0" y="4757"/>
                  </a:lnTo>
                  <a:lnTo>
                    <a:pt x="0" y="4137"/>
                  </a:lnTo>
                  <a:lnTo>
                    <a:pt x="583" y="3164"/>
                  </a:lnTo>
                  <a:lnTo>
                    <a:pt x="0" y="2832"/>
                  </a:lnTo>
                  <a:lnTo>
                    <a:pt x="583" y="2522"/>
                  </a:lnTo>
                  <a:lnTo>
                    <a:pt x="1165" y="2832"/>
                  </a:lnTo>
                  <a:lnTo>
                    <a:pt x="1165" y="3496"/>
                  </a:lnTo>
                  <a:lnTo>
                    <a:pt x="2951" y="3827"/>
                  </a:lnTo>
                  <a:lnTo>
                    <a:pt x="4699" y="3827"/>
                  </a:lnTo>
                  <a:lnTo>
                    <a:pt x="5282" y="3164"/>
                  </a:lnTo>
                  <a:lnTo>
                    <a:pt x="6447" y="2832"/>
                  </a:lnTo>
                  <a:lnTo>
                    <a:pt x="7650" y="2832"/>
                  </a:lnTo>
                  <a:lnTo>
                    <a:pt x="8816" y="2235"/>
                  </a:lnTo>
                  <a:lnTo>
                    <a:pt x="10019" y="1571"/>
                  </a:lnTo>
                  <a:lnTo>
                    <a:pt x="11146" y="929"/>
                  </a:lnTo>
                  <a:lnTo>
                    <a:pt x="11728" y="642"/>
                  </a:lnTo>
                  <a:lnTo>
                    <a:pt x="11728" y="0"/>
                  </a:lnTo>
                  <a:lnTo>
                    <a:pt x="11728" y="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84840" y="1725840"/>
              <a:ext cx="857160" cy="4554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3382" y="19979"/>
                  </a:moveTo>
                  <a:lnTo>
                    <a:pt x="11176" y="16403"/>
                  </a:lnTo>
                  <a:lnTo>
                    <a:pt x="6954" y="14615"/>
                  </a:lnTo>
                  <a:lnTo>
                    <a:pt x="3550" y="14033"/>
                  </a:lnTo>
                  <a:lnTo>
                    <a:pt x="336" y="14033"/>
                  </a:lnTo>
                  <a:lnTo>
                    <a:pt x="168" y="13119"/>
                  </a:lnTo>
                  <a:lnTo>
                    <a:pt x="0" y="11933"/>
                  </a:lnTo>
                  <a:lnTo>
                    <a:pt x="168" y="11331"/>
                  </a:lnTo>
                  <a:lnTo>
                    <a:pt x="336" y="10437"/>
                  </a:lnTo>
                  <a:lnTo>
                    <a:pt x="683" y="9854"/>
                  </a:lnTo>
                  <a:lnTo>
                    <a:pt x="683" y="8960"/>
                  </a:lnTo>
                  <a:lnTo>
                    <a:pt x="683" y="8358"/>
                  </a:lnTo>
                  <a:lnTo>
                    <a:pt x="683" y="7464"/>
                  </a:lnTo>
                  <a:lnTo>
                    <a:pt x="683" y="6570"/>
                  </a:lnTo>
                  <a:lnTo>
                    <a:pt x="1008" y="5364"/>
                  </a:lnTo>
                  <a:lnTo>
                    <a:pt x="1176" y="4470"/>
                  </a:lnTo>
                  <a:lnTo>
                    <a:pt x="1523" y="4158"/>
                  </a:lnTo>
                  <a:lnTo>
                    <a:pt x="2038" y="3888"/>
                  </a:lnTo>
                  <a:lnTo>
                    <a:pt x="2710" y="2973"/>
                  </a:lnTo>
                  <a:lnTo>
                    <a:pt x="3057" y="2391"/>
                  </a:lnTo>
                  <a:lnTo>
                    <a:pt x="3382" y="2391"/>
                  </a:lnTo>
                  <a:lnTo>
                    <a:pt x="3550" y="3285"/>
                  </a:lnTo>
                  <a:lnTo>
                    <a:pt x="3897" y="3888"/>
                  </a:lnTo>
                  <a:lnTo>
                    <a:pt x="4580" y="4158"/>
                  </a:lnTo>
                  <a:lnTo>
                    <a:pt x="5073" y="4761"/>
                  </a:lnTo>
                  <a:lnTo>
                    <a:pt x="5420" y="5676"/>
                  </a:lnTo>
                  <a:lnTo>
                    <a:pt x="5588" y="6258"/>
                  </a:lnTo>
                  <a:lnTo>
                    <a:pt x="5756" y="7152"/>
                  </a:lnTo>
                  <a:lnTo>
                    <a:pt x="6271" y="7464"/>
                  </a:lnTo>
                  <a:lnTo>
                    <a:pt x="6607" y="7755"/>
                  </a:lnTo>
                  <a:lnTo>
                    <a:pt x="7111" y="7152"/>
                  </a:lnTo>
                  <a:lnTo>
                    <a:pt x="7447" y="6861"/>
                  </a:lnTo>
                  <a:lnTo>
                    <a:pt x="7794" y="5946"/>
                  </a:lnTo>
                  <a:lnTo>
                    <a:pt x="7962" y="5073"/>
                  </a:lnTo>
                  <a:lnTo>
                    <a:pt x="7962" y="4158"/>
                  </a:lnTo>
                  <a:lnTo>
                    <a:pt x="7794" y="3285"/>
                  </a:lnTo>
                  <a:lnTo>
                    <a:pt x="7626" y="2100"/>
                  </a:lnTo>
                  <a:lnTo>
                    <a:pt x="8645" y="1497"/>
                  </a:lnTo>
                  <a:lnTo>
                    <a:pt x="10504" y="2100"/>
                  </a:lnTo>
                  <a:lnTo>
                    <a:pt x="12363" y="0"/>
                  </a:lnTo>
                  <a:lnTo>
                    <a:pt x="14401" y="873"/>
                  </a:lnTo>
                  <a:lnTo>
                    <a:pt x="19653" y="5364"/>
                  </a:lnTo>
                  <a:lnTo>
                    <a:pt x="19989" y="12516"/>
                  </a:lnTo>
                  <a:lnTo>
                    <a:pt x="17951" y="18503"/>
                  </a:lnTo>
                  <a:lnTo>
                    <a:pt x="13382" y="19979"/>
                  </a:lnTo>
                  <a:lnTo>
                    <a:pt x="13382" y="19979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29600" y="3877920"/>
              <a:ext cx="50400" cy="27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0000"/>
                  </a:moveTo>
                  <a:lnTo>
                    <a:pt x="19811" y="0"/>
                  </a:lnTo>
                  <a:lnTo>
                    <a:pt x="19811" y="19655"/>
                  </a:lnTo>
                  <a:lnTo>
                    <a:pt x="0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97360" y="2045520"/>
              <a:ext cx="661320" cy="433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4267" y="19978"/>
                  </a:moveTo>
                  <a:lnTo>
                    <a:pt x="13832" y="18736"/>
                  </a:lnTo>
                  <a:lnTo>
                    <a:pt x="13628" y="17495"/>
                  </a:lnTo>
                  <a:lnTo>
                    <a:pt x="12961" y="16863"/>
                  </a:lnTo>
                  <a:lnTo>
                    <a:pt x="12075" y="16231"/>
                  </a:lnTo>
                  <a:lnTo>
                    <a:pt x="11408" y="16231"/>
                  </a:lnTo>
                  <a:lnTo>
                    <a:pt x="10552" y="16536"/>
                  </a:lnTo>
                  <a:lnTo>
                    <a:pt x="9216" y="17190"/>
                  </a:lnTo>
                  <a:lnTo>
                    <a:pt x="7692" y="17495"/>
                  </a:lnTo>
                  <a:lnTo>
                    <a:pt x="6357" y="17778"/>
                  </a:lnTo>
                  <a:lnTo>
                    <a:pt x="5051" y="17778"/>
                  </a:lnTo>
                  <a:lnTo>
                    <a:pt x="0" y="18105"/>
                  </a:lnTo>
                  <a:lnTo>
                    <a:pt x="218" y="17778"/>
                  </a:lnTo>
                  <a:lnTo>
                    <a:pt x="668" y="15948"/>
                  </a:lnTo>
                  <a:lnTo>
                    <a:pt x="885" y="15294"/>
                  </a:lnTo>
                  <a:lnTo>
                    <a:pt x="885" y="14662"/>
                  </a:lnTo>
                  <a:lnTo>
                    <a:pt x="668" y="14052"/>
                  </a:lnTo>
                  <a:lnTo>
                    <a:pt x="1103" y="13094"/>
                  </a:lnTo>
                  <a:lnTo>
                    <a:pt x="1538" y="13094"/>
                  </a:lnTo>
                  <a:lnTo>
                    <a:pt x="2192" y="12810"/>
                  </a:lnTo>
                  <a:lnTo>
                    <a:pt x="2642" y="12810"/>
                  </a:lnTo>
                  <a:lnTo>
                    <a:pt x="3077" y="12810"/>
                  </a:lnTo>
                  <a:lnTo>
                    <a:pt x="3948" y="12505"/>
                  </a:lnTo>
                  <a:lnTo>
                    <a:pt x="4383" y="12179"/>
                  </a:lnTo>
                  <a:lnTo>
                    <a:pt x="4833" y="12505"/>
                  </a:lnTo>
                  <a:lnTo>
                    <a:pt x="4833" y="11547"/>
                  </a:lnTo>
                  <a:lnTo>
                    <a:pt x="4833" y="10632"/>
                  </a:lnTo>
                  <a:lnTo>
                    <a:pt x="4615" y="9673"/>
                  </a:lnTo>
                  <a:lnTo>
                    <a:pt x="4615" y="8736"/>
                  </a:lnTo>
                  <a:lnTo>
                    <a:pt x="4383" y="7800"/>
                  </a:lnTo>
                  <a:lnTo>
                    <a:pt x="4165" y="7190"/>
                  </a:lnTo>
                  <a:lnTo>
                    <a:pt x="4165" y="6885"/>
                  </a:lnTo>
                  <a:lnTo>
                    <a:pt x="3745" y="6231"/>
                  </a:lnTo>
                  <a:lnTo>
                    <a:pt x="3527" y="4989"/>
                  </a:lnTo>
                  <a:lnTo>
                    <a:pt x="3295" y="3769"/>
                  </a:lnTo>
                  <a:lnTo>
                    <a:pt x="3077" y="2789"/>
                  </a:lnTo>
                  <a:lnTo>
                    <a:pt x="2859" y="1569"/>
                  </a:lnTo>
                  <a:lnTo>
                    <a:pt x="3077" y="0"/>
                  </a:lnTo>
                  <a:lnTo>
                    <a:pt x="7242" y="0"/>
                  </a:lnTo>
                  <a:lnTo>
                    <a:pt x="11640" y="632"/>
                  </a:lnTo>
                  <a:lnTo>
                    <a:pt x="17126" y="2484"/>
                  </a:lnTo>
                  <a:lnTo>
                    <a:pt x="19985" y="6231"/>
                  </a:lnTo>
                  <a:lnTo>
                    <a:pt x="19768" y="9368"/>
                  </a:lnTo>
                  <a:lnTo>
                    <a:pt x="18229" y="14357"/>
                  </a:lnTo>
                  <a:lnTo>
                    <a:pt x="14267" y="19978"/>
                  </a:lnTo>
                  <a:lnTo>
                    <a:pt x="14267" y="19978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8600" y="3307680"/>
              <a:ext cx="87480" cy="128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9" y="15751"/>
                  </a:moveTo>
                  <a:lnTo>
                    <a:pt x="1639" y="12527"/>
                  </a:lnTo>
                  <a:lnTo>
                    <a:pt x="0" y="8352"/>
                  </a:lnTo>
                  <a:lnTo>
                    <a:pt x="0" y="6374"/>
                  </a:lnTo>
                  <a:lnTo>
                    <a:pt x="3388" y="1099"/>
                  </a:lnTo>
                  <a:lnTo>
                    <a:pt x="6667" y="0"/>
                  </a:lnTo>
                  <a:lnTo>
                    <a:pt x="10055" y="0"/>
                  </a:lnTo>
                  <a:lnTo>
                    <a:pt x="10055" y="2198"/>
                  </a:lnTo>
                  <a:lnTo>
                    <a:pt x="11585" y="5275"/>
                  </a:lnTo>
                  <a:lnTo>
                    <a:pt x="14863" y="7399"/>
                  </a:lnTo>
                  <a:lnTo>
                    <a:pt x="18251" y="8352"/>
                  </a:lnTo>
                  <a:lnTo>
                    <a:pt x="19891" y="9451"/>
                  </a:lnTo>
                  <a:lnTo>
                    <a:pt x="19891" y="11575"/>
                  </a:lnTo>
                  <a:lnTo>
                    <a:pt x="19891" y="13626"/>
                  </a:lnTo>
                  <a:lnTo>
                    <a:pt x="18251" y="14725"/>
                  </a:lnTo>
                  <a:lnTo>
                    <a:pt x="18251" y="16850"/>
                  </a:lnTo>
                  <a:lnTo>
                    <a:pt x="16612" y="19927"/>
                  </a:lnTo>
                  <a:lnTo>
                    <a:pt x="14863" y="18828"/>
                  </a:lnTo>
                  <a:lnTo>
                    <a:pt x="11585" y="18828"/>
                  </a:lnTo>
                  <a:lnTo>
                    <a:pt x="3388" y="19927"/>
                  </a:lnTo>
                  <a:lnTo>
                    <a:pt x="1639" y="15751"/>
                  </a:lnTo>
                  <a:lnTo>
                    <a:pt x="1639" y="15751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99200" y="4577040"/>
              <a:ext cx="355320" cy="264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4663" y="500"/>
                  </a:moveTo>
                  <a:lnTo>
                    <a:pt x="15094" y="1036"/>
                  </a:lnTo>
                  <a:lnTo>
                    <a:pt x="16712" y="2036"/>
                  </a:lnTo>
                  <a:lnTo>
                    <a:pt x="17925" y="2036"/>
                  </a:lnTo>
                  <a:lnTo>
                    <a:pt x="19164" y="4036"/>
                  </a:lnTo>
                  <a:lnTo>
                    <a:pt x="19569" y="7143"/>
                  </a:lnTo>
                  <a:lnTo>
                    <a:pt x="19164" y="8179"/>
                  </a:lnTo>
                  <a:lnTo>
                    <a:pt x="19569" y="9214"/>
                  </a:lnTo>
                  <a:lnTo>
                    <a:pt x="19973" y="10750"/>
                  </a:lnTo>
                  <a:lnTo>
                    <a:pt x="18733" y="10750"/>
                  </a:lnTo>
                  <a:lnTo>
                    <a:pt x="18329" y="12821"/>
                  </a:lnTo>
                  <a:lnTo>
                    <a:pt x="17143" y="13286"/>
                  </a:lnTo>
                  <a:lnTo>
                    <a:pt x="16712" y="14321"/>
                  </a:lnTo>
                  <a:lnTo>
                    <a:pt x="15499" y="13821"/>
                  </a:lnTo>
                  <a:lnTo>
                    <a:pt x="14259" y="14321"/>
                  </a:lnTo>
                  <a:lnTo>
                    <a:pt x="13450" y="14857"/>
                  </a:lnTo>
                  <a:lnTo>
                    <a:pt x="12615" y="14321"/>
                  </a:lnTo>
                  <a:lnTo>
                    <a:pt x="11833" y="15857"/>
                  </a:lnTo>
                  <a:lnTo>
                    <a:pt x="11429" y="17393"/>
                  </a:lnTo>
                  <a:lnTo>
                    <a:pt x="10593" y="18464"/>
                  </a:lnTo>
                  <a:lnTo>
                    <a:pt x="10189" y="18464"/>
                  </a:lnTo>
                  <a:lnTo>
                    <a:pt x="9380" y="18893"/>
                  </a:lnTo>
                  <a:lnTo>
                    <a:pt x="8140" y="18893"/>
                  </a:lnTo>
                  <a:lnTo>
                    <a:pt x="6927" y="19964"/>
                  </a:lnTo>
                  <a:lnTo>
                    <a:pt x="6523" y="19964"/>
                  </a:lnTo>
                  <a:lnTo>
                    <a:pt x="5310" y="19964"/>
                  </a:lnTo>
                  <a:lnTo>
                    <a:pt x="4474" y="19964"/>
                  </a:lnTo>
                  <a:lnTo>
                    <a:pt x="4070" y="19964"/>
                  </a:lnTo>
                  <a:lnTo>
                    <a:pt x="3666" y="19964"/>
                  </a:lnTo>
                  <a:lnTo>
                    <a:pt x="2830" y="19964"/>
                  </a:lnTo>
                  <a:lnTo>
                    <a:pt x="2426" y="18893"/>
                  </a:lnTo>
                  <a:lnTo>
                    <a:pt x="2426" y="18464"/>
                  </a:lnTo>
                  <a:lnTo>
                    <a:pt x="1644" y="17929"/>
                  </a:lnTo>
                  <a:lnTo>
                    <a:pt x="1240" y="17393"/>
                  </a:lnTo>
                  <a:lnTo>
                    <a:pt x="1240" y="16893"/>
                  </a:lnTo>
                  <a:lnTo>
                    <a:pt x="809" y="16893"/>
                  </a:lnTo>
                  <a:lnTo>
                    <a:pt x="809" y="15357"/>
                  </a:lnTo>
                  <a:lnTo>
                    <a:pt x="404" y="14857"/>
                  </a:lnTo>
                  <a:lnTo>
                    <a:pt x="809" y="13821"/>
                  </a:lnTo>
                  <a:lnTo>
                    <a:pt x="404" y="13286"/>
                  </a:lnTo>
                  <a:lnTo>
                    <a:pt x="0" y="11750"/>
                  </a:lnTo>
                  <a:lnTo>
                    <a:pt x="404" y="11250"/>
                  </a:lnTo>
                  <a:lnTo>
                    <a:pt x="0" y="10214"/>
                  </a:lnTo>
                  <a:lnTo>
                    <a:pt x="404" y="9214"/>
                  </a:lnTo>
                  <a:lnTo>
                    <a:pt x="404" y="7679"/>
                  </a:lnTo>
                  <a:lnTo>
                    <a:pt x="0" y="6143"/>
                  </a:lnTo>
                  <a:lnTo>
                    <a:pt x="1240" y="5107"/>
                  </a:lnTo>
                  <a:lnTo>
                    <a:pt x="2049" y="3071"/>
                  </a:lnTo>
                  <a:lnTo>
                    <a:pt x="4070" y="2536"/>
                  </a:lnTo>
                  <a:lnTo>
                    <a:pt x="5310" y="3607"/>
                  </a:lnTo>
                  <a:lnTo>
                    <a:pt x="5714" y="3607"/>
                  </a:lnTo>
                  <a:lnTo>
                    <a:pt x="6927" y="2536"/>
                  </a:lnTo>
                  <a:lnTo>
                    <a:pt x="8544" y="1500"/>
                  </a:lnTo>
                  <a:lnTo>
                    <a:pt x="8949" y="1500"/>
                  </a:lnTo>
                  <a:lnTo>
                    <a:pt x="9380" y="500"/>
                  </a:lnTo>
                  <a:lnTo>
                    <a:pt x="12237" y="0"/>
                  </a:lnTo>
                  <a:lnTo>
                    <a:pt x="14663" y="500"/>
                  </a:lnTo>
                  <a:lnTo>
                    <a:pt x="14663" y="50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84880" y="5846040"/>
              <a:ext cx="44280" cy="35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559" y="7945"/>
                  </a:moveTo>
                  <a:lnTo>
                    <a:pt x="19785" y="7945"/>
                  </a:lnTo>
                  <a:lnTo>
                    <a:pt x="19785" y="4110"/>
                  </a:lnTo>
                  <a:lnTo>
                    <a:pt x="16559" y="0"/>
                  </a:lnTo>
                  <a:lnTo>
                    <a:pt x="9892" y="4110"/>
                  </a:lnTo>
                  <a:lnTo>
                    <a:pt x="0" y="15616"/>
                  </a:lnTo>
                  <a:lnTo>
                    <a:pt x="6667" y="19726"/>
                  </a:lnTo>
                  <a:lnTo>
                    <a:pt x="9892" y="15616"/>
                  </a:lnTo>
                  <a:lnTo>
                    <a:pt x="13118" y="7945"/>
                  </a:lnTo>
                  <a:lnTo>
                    <a:pt x="16559" y="7945"/>
                  </a:lnTo>
                  <a:lnTo>
                    <a:pt x="16559" y="7945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80240" y="3389400"/>
              <a:ext cx="516240" cy="400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1256" y="18985"/>
                  </a:moveTo>
                  <a:lnTo>
                    <a:pt x="10698" y="15891"/>
                  </a:lnTo>
                  <a:lnTo>
                    <a:pt x="10698" y="14215"/>
                  </a:lnTo>
                  <a:lnTo>
                    <a:pt x="10698" y="13200"/>
                  </a:lnTo>
                  <a:lnTo>
                    <a:pt x="10419" y="12184"/>
                  </a:lnTo>
                  <a:lnTo>
                    <a:pt x="9842" y="10838"/>
                  </a:lnTo>
                  <a:lnTo>
                    <a:pt x="9005" y="9469"/>
                  </a:lnTo>
                  <a:lnTo>
                    <a:pt x="8428" y="8808"/>
                  </a:lnTo>
                  <a:lnTo>
                    <a:pt x="7609" y="8099"/>
                  </a:lnTo>
                  <a:lnTo>
                    <a:pt x="6753" y="7107"/>
                  </a:lnTo>
                  <a:lnTo>
                    <a:pt x="5619" y="6092"/>
                  </a:lnTo>
                  <a:lnTo>
                    <a:pt x="4502" y="5077"/>
                  </a:lnTo>
                  <a:lnTo>
                    <a:pt x="3944" y="4085"/>
                  </a:lnTo>
                  <a:lnTo>
                    <a:pt x="3386" y="3046"/>
                  </a:lnTo>
                  <a:lnTo>
                    <a:pt x="2251" y="2031"/>
                  </a:lnTo>
                  <a:lnTo>
                    <a:pt x="1953" y="992"/>
                  </a:lnTo>
                  <a:lnTo>
                    <a:pt x="0" y="0"/>
                  </a:lnTo>
                  <a:lnTo>
                    <a:pt x="4800" y="354"/>
                  </a:lnTo>
                  <a:lnTo>
                    <a:pt x="11553" y="1700"/>
                  </a:lnTo>
                  <a:lnTo>
                    <a:pt x="13786" y="7107"/>
                  </a:lnTo>
                  <a:lnTo>
                    <a:pt x="19981" y="11830"/>
                  </a:lnTo>
                  <a:lnTo>
                    <a:pt x="15181" y="13884"/>
                  </a:lnTo>
                  <a:lnTo>
                    <a:pt x="12372" y="19976"/>
                  </a:lnTo>
                  <a:lnTo>
                    <a:pt x="11256" y="18985"/>
                  </a:lnTo>
                  <a:lnTo>
                    <a:pt x="11256" y="18985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51240" y="4475160"/>
              <a:ext cx="37080" cy="27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740" y="5172"/>
                  </a:moveTo>
                  <a:lnTo>
                    <a:pt x="3896" y="0"/>
                  </a:lnTo>
                  <a:lnTo>
                    <a:pt x="0" y="10000"/>
                  </a:lnTo>
                  <a:lnTo>
                    <a:pt x="3896" y="19655"/>
                  </a:lnTo>
                  <a:lnTo>
                    <a:pt x="19740" y="5172"/>
                  </a:lnTo>
                  <a:lnTo>
                    <a:pt x="19740" y="5172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68720" y="1143000"/>
              <a:ext cx="779040" cy="726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308" y="0"/>
                  </a:moveTo>
                  <a:lnTo>
                    <a:pt x="19803" y="0"/>
                  </a:lnTo>
                  <a:lnTo>
                    <a:pt x="19988" y="2240"/>
                  </a:lnTo>
                  <a:lnTo>
                    <a:pt x="19988" y="2435"/>
                  </a:lnTo>
                  <a:lnTo>
                    <a:pt x="19803" y="2799"/>
                  </a:lnTo>
                  <a:lnTo>
                    <a:pt x="19803" y="2982"/>
                  </a:lnTo>
                  <a:lnTo>
                    <a:pt x="19618" y="3372"/>
                  </a:lnTo>
                  <a:lnTo>
                    <a:pt x="19235" y="3724"/>
                  </a:lnTo>
                  <a:lnTo>
                    <a:pt x="18877" y="3724"/>
                  </a:lnTo>
                  <a:lnTo>
                    <a:pt x="18680" y="3724"/>
                  </a:lnTo>
                  <a:lnTo>
                    <a:pt x="18680" y="3919"/>
                  </a:lnTo>
                  <a:lnTo>
                    <a:pt x="18680" y="4492"/>
                  </a:lnTo>
                  <a:lnTo>
                    <a:pt x="18877" y="5039"/>
                  </a:lnTo>
                  <a:lnTo>
                    <a:pt x="19050" y="5781"/>
                  </a:lnTo>
                  <a:lnTo>
                    <a:pt x="19235" y="6172"/>
                  </a:lnTo>
                  <a:lnTo>
                    <a:pt x="19420" y="6901"/>
                  </a:lnTo>
                  <a:lnTo>
                    <a:pt x="19618" y="7461"/>
                  </a:lnTo>
                  <a:lnTo>
                    <a:pt x="19420" y="7839"/>
                  </a:lnTo>
                  <a:lnTo>
                    <a:pt x="19420" y="8229"/>
                  </a:lnTo>
                  <a:lnTo>
                    <a:pt x="19618" y="8581"/>
                  </a:lnTo>
                  <a:lnTo>
                    <a:pt x="19235" y="9349"/>
                  </a:lnTo>
                  <a:lnTo>
                    <a:pt x="18877" y="9701"/>
                  </a:lnTo>
                  <a:lnTo>
                    <a:pt x="18680" y="9896"/>
                  </a:lnTo>
                  <a:lnTo>
                    <a:pt x="18112" y="10091"/>
                  </a:lnTo>
                  <a:lnTo>
                    <a:pt x="17927" y="10091"/>
                  </a:lnTo>
                  <a:lnTo>
                    <a:pt x="17927" y="10286"/>
                  </a:lnTo>
                  <a:lnTo>
                    <a:pt x="18112" y="10833"/>
                  </a:lnTo>
                  <a:lnTo>
                    <a:pt x="18112" y="11211"/>
                  </a:lnTo>
                  <a:lnTo>
                    <a:pt x="17742" y="11211"/>
                  </a:lnTo>
                  <a:lnTo>
                    <a:pt x="17545" y="11406"/>
                  </a:lnTo>
                  <a:lnTo>
                    <a:pt x="17742" y="11758"/>
                  </a:lnTo>
                  <a:lnTo>
                    <a:pt x="17927" y="12331"/>
                  </a:lnTo>
                  <a:lnTo>
                    <a:pt x="17927" y="12695"/>
                  </a:lnTo>
                  <a:lnTo>
                    <a:pt x="18112" y="13268"/>
                  </a:lnTo>
                  <a:lnTo>
                    <a:pt x="17927" y="14010"/>
                  </a:lnTo>
                  <a:lnTo>
                    <a:pt x="17545" y="14753"/>
                  </a:lnTo>
                  <a:lnTo>
                    <a:pt x="17175" y="14948"/>
                  </a:lnTo>
                  <a:lnTo>
                    <a:pt x="17175" y="14753"/>
                  </a:lnTo>
                  <a:lnTo>
                    <a:pt x="16990" y="14388"/>
                  </a:lnTo>
                  <a:lnTo>
                    <a:pt x="16792" y="14010"/>
                  </a:lnTo>
                  <a:lnTo>
                    <a:pt x="16422" y="14206"/>
                  </a:lnTo>
                  <a:lnTo>
                    <a:pt x="15682" y="13815"/>
                  </a:lnTo>
                  <a:lnTo>
                    <a:pt x="15312" y="14010"/>
                  </a:lnTo>
                  <a:lnTo>
                    <a:pt x="15126" y="13633"/>
                  </a:lnTo>
                  <a:lnTo>
                    <a:pt x="14929" y="13464"/>
                  </a:lnTo>
                  <a:lnTo>
                    <a:pt x="14744" y="12891"/>
                  </a:lnTo>
                  <a:lnTo>
                    <a:pt x="14744" y="12526"/>
                  </a:lnTo>
                  <a:lnTo>
                    <a:pt x="14744" y="12148"/>
                  </a:lnTo>
                  <a:lnTo>
                    <a:pt x="14744" y="11758"/>
                  </a:lnTo>
                  <a:lnTo>
                    <a:pt x="14374" y="11953"/>
                  </a:lnTo>
                  <a:lnTo>
                    <a:pt x="14176" y="12148"/>
                  </a:lnTo>
                  <a:lnTo>
                    <a:pt x="14374" y="12526"/>
                  </a:lnTo>
                  <a:lnTo>
                    <a:pt x="14559" y="12695"/>
                  </a:lnTo>
                  <a:lnTo>
                    <a:pt x="14559" y="13073"/>
                  </a:lnTo>
                  <a:lnTo>
                    <a:pt x="14559" y="13464"/>
                  </a:lnTo>
                  <a:lnTo>
                    <a:pt x="14374" y="14010"/>
                  </a:lnTo>
                  <a:lnTo>
                    <a:pt x="14176" y="14388"/>
                  </a:lnTo>
                  <a:lnTo>
                    <a:pt x="13448" y="14753"/>
                  </a:lnTo>
                  <a:lnTo>
                    <a:pt x="12881" y="14948"/>
                  </a:lnTo>
                  <a:lnTo>
                    <a:pt x="12498" y="14753"/>
                  </a:lnTo>
                  <a:lnTo>
                    <a:pt x="12313" y="15130"/>
                  </a:lnTo>
                  <a:lnTo>
                    <a:pt x="11771" y="15677"/>
                  </a:lnTo>
                  <a:lnTo>
                    <a:pt x="11388" y="16068"/>
                  </a:lnTo>
                  <a:lnTo>
                    <a:pt x="11203" y="16445"/>
                  </a:lnTo>
                  <a:lnTo>
                    <a:pt x="10833" y="16810"/>
                  </a:lnTo>
                  <a:lnTo>
                    <a:pt x="10450" y="17188"/>
                  </a:lnTo>
                  <a:lnTo>
                    <a:pt x="10080" y="17930"/>
                  </a:lnTo>
                  <a:lnTo>
                    <a:pt x="9710" y="18320"/>
                  </a:lnTo>
                  <a:lnTo>
                    <a:pt x="9340" y="18672"/>
                  </a:lnTo>
                  <a:lnTo>
                    <a:pt x="8772" y="18867"/>
                  </a:lnTo>
                  <a:lnTo>
                    <a:pt x="8217" y="19245"/>
                  </a:lnTo>
                  <a:lnTo>
                    <a:pt x="7835" y="19440"/>
                  </a:lnTo>
                  <a:lnTo>
                    <a:pt x="7477" y="19609"/>
                  </a:lnTo>
                  <a:lnTo>
                    <a:pt x="6909" y="19792"/>
                  </a:lnTo>
                  <a:lnTo>
                    <a:pt x="6539" y="19987"/>
                  </a:lnTo>
                  <a:lnTo>
                    <a:pt x="5787" y="19792"/>
                  </a:lnTo>
                  <a:lnTo>
                    <a:pt x="5589" y="19792"/>
                  </a:lnTo>
                  <a:lnTo>
                    <a:pt x="5231" y="19792"/>
                  </a:lnTo>
                  <a:lnTo>
                    <a:pt x="4664" y="19792"/>
                  </a:lnTo>
                  <a:lnTo>
                    <a:pt x="4294" y="19609"/>
                  </a:lnTo>
                  <a:lnTo>
                    <a:pt x="4294" y="19245"/>
                  </a:lnTo>
                  <a:lnTo>
                    <a:pt x="4479" y="18867"/>
                  </a:lnTo>
                  <a:lnTo>
                    <a:pt x="4479" y="18672"/>
                  </a:lnTo>
                  <a:lnTo>
                    <a:pt x="4109" y="18672"/>
                  </a:lnTo>
                  <a:lnTo>
                    <a:pt x="3924" y="18672"/>
                  </a:lnTo>
                  <a:lnTo>
                    <a:pt x="3541" y="18503"/>
                  </a:lnTo>
                  <a:lnTo>
                    <a:pt x="3183" y="18503"/>
                  </a:lnTo>
                  <a:lnTo>
                    <a:pt x="2616" y="17930"/>
                  </a:lnTo>
                  <a:lnTo>
                    <a:pt x="1493" y="17188"/>
                  </a:lnTo>
                  <a:lnTo>
                    <a:pt x="1308" y="16615"/>
                  </a:lnTo>
                  <a:lnTo>
                    <a:pt x="1110" y="16068"/>
                  </a:lnTo>
                  <a:lnTo>
                    <a:pt x="1110" y="15677"/>
                  </a:lnTo>
                  <a:lnTo>
                    <a:pt x="1308" y="14753"/>
                  </a:lnTo>
                  <a:lnTo>
                    <a:pt x="1493" y="14557"/>
                  </a:lnTo>
                  <a:lnTo>
                    <a:pt x="1863" y="14206"/>
                  </a:lnTo>
                  <a:lnTo>
                    <a:pt x="2048" y="13815"/>
                  </a:lnTo>
                  <a:lnTo>
                    <a:pt x="2431" y="13464"/>
                  </a:lnTo>
                  <a:lnTo>
                    <a:pt x="2616" y="13073"/>
                  </a:lnTo>
                  <a:lnTo>
                    <a:pt x="2431" y="12891"/>
                  </a:lnTo>
                  <a:lnTo>
                    <a:pt x="2048" y="13073"/>
                  </a:lnTo>
                  <a:lnTo>
                    <a:pt x="1863" y="13268"/>
                  </a:lnTo>
                  <a:lnTo>
                    <a:pt x="1493" y="13464"/>
                  </a:lnTo>
                  <a:lnTo>
                    <a:pt x="1110" y="13633"/>
                  </a:lnTo>
                  <a:lnTo>
                    <a:pt x="938" y="13815"/>
                  </a:lnTo>
                  <a:lnTo>
                    <a:pt x="568" y="14010"/>
                  </a:lnTo>
                  <a:lnTo>
                    <a:pt x="370" y="13815"/>
                  </a:lnTo>
                  <a:lnTo>
                    <a:pt x="185" y="13633"/>
                  </a:lnTo>
                  <a:lnTo>
                    <a:pt x="370" y="13268"/>
                  </a:lnTo>
                  <a:lnTo>
                    <a:pt x="370" y="12695"/>
                  </a:lnTo>
                  <a:lnTo>
                    <a:pt x="568" y="12148"/>
                  </a:lnTo>
                  <a:lnTo>
                    <a:pt x="753" y="11576"/>
                  </a:lnTo>
                  <a:lnTo>
                    <a:pt x="938" y="11211"/>
                  </a:lnTo>
                  <a:lnTo>
                    <a:pt x="1110" y="10833"/>
                  </a:lnTo>
                  <a:lnTo>
                    <a:pt x="1308" y="10469"/>
                  </a:lnTo>
                  <a:lnTo>
                    <a:pt x="1678" y="10091"/>
                  </a:lnTo>
                  <a:lnTo>
                    <a:pt x="1863" y="9896"/>
                  </a:lnTo>
                  <a:lnTo>
                    <a:pt x="2048" y="9349"/>
                  </a:lnTo>
                  <a:lnTo>
                    <a:pt x="2048" y="9154"/>
                  </a:lnTo>
                  <a:lnTo>
                    <a:pt x="1863" y="8958"/>
                  </a:lnTo>
                  <a:lnTo>
                    <a:pt x="1678" y="8581"/>
                  </a:lnTo>
                  <a:lnTo>
                    <a:pt x="1493" y="8411"/>
                  </a:lnTo>
                  <a:lnTo>
                    <a:pt x="1493" y="8229"/>
                  </a:lnTo>
                  <a:lnTo>
                    <a:pt x="1308" y="8411"/>
                  </a:lnTo>
                  <a:lnTo>
                    <a:pt x="938" y="8581"/>
                  </a:lnTo>
                  <a:lnTo>
                    <a:pt x="753" y="8776"/>
                  </a:lnTo>
                  <a:lnTo>
                    <a:pt x="568" y="8581"/>
                  </a:lnTo>
                  <a:lnTo>
                    <a:pt x="370" y="8229"/>
                  </a:lnTo>
                  <a:lnTo>
                    <a:pt x="185" y="7839"/>
                  </a:lnTo>
                  <a:lnTo>
                    <a:pt x="0" y="7643"/>
                  </a:lnTo>
                  <a:lnTo>
                    <a:pt x="0" y="6901"/>
                  </a:lnTo>
                  <a:lnTo>
                    <a:pt x="0" y="6523"/>
                  </a:lnTo>
                  <a:lnTo>
                    <a:pt x="185" y="6354"/>
                  </a:lnTo>
                  <a:lnTo>
                    <a:pt x="370" y="5781"/>
                  </a:lnTo>
                  <a:lnTo>
                    <a:pt x="568" y="5586"/>
                  </a:lnTo>
                  <a:lnTo>
                    <a:pt x="753" y="5234"/>
                  </a:lnTo>
                  <a:lnTo>
                    <a:pt x="568" y="5039"/>
                  </a:lnTo>
                  <a:lnTo>
                    <a:pt x="370" y="4661"/>
                  </a:lnTo>
                  <a:lnTo>
                    <a:pt x="185" y="4115"/>
                  </a:lnTo>
                  <a:lnTo>
                    <a:pt x="185" y="3724"/>
                  </a:lnTo>
                  <a:lnTo>
                    <a:pt x="370" y="3177"/>
                  </a:lnTo>
                  <a:lnTo>
                    <a:pt x="568" y="2799"/>
                  </a:lnTo>
                  <a:lnTo>
                    <a:pt x="753" y="2604"/>
                  </a:lnTo>
                  <a:lnTo>
                    <a:pt x="1110" y="2435"/>
                  </a:lnTo>
                  <a:lnTo>
                    <a:pt x="1308" y="0"/>
                  </a:lnTo>
                  <a:lnTo>
                    <a:pt x="1308" y="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08080" y="2703240"/>
              <a:ext cx="471600" cy="496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240" y="14509"/>
                  </a:moveTo>
                  <a:lnTo>
                    <a:pt x="610" y="13956"/>
                  </a:lnTo>
                  <a:lnTo>
                    <a:pt x="610" y="13422"/>
                  </a:lnTo>
                  <a:lnTo>
                    <a:pt x="1240" y="13155"/>
                  </a:lnTo>
                  <a:lnTo>
                    <a:pt x="1829" y="13155"/>
                  </a:lnTo>
                  <a:lnTo>
                    <a:pt x="2459" y="13155"/>
                  </a:lnTo>
                  <a:lnTo>
                    <a:pt x="2764" y="13422"/>
                  </a:lnTo>
                  <a:lnTo>
                    <a:pt x="3069" y="13422"/>
                  </a:lnTo>
                  <a:lnTo>
                    <a:pt x="3374" y="13956"/>
                  </a:lnTo>
                  <a:lnTo>
                    <a:pt x="3699" y="13956"/>
                  </a:lnTo>
                  <a:lnTo>
                    <a:pt x="4004" y="14242"/>
                  </a:lnTo>
                  <a:lnTo>
                    <a:pt x="4309" y="14242"/>
                  </a:lnTo>
                  <a:lnTo>
                    <a:pt x="4004" y="13956"/>
                  </a:lnTo>
                  <a:lnTo>
                    <a:pt x="4004" y="13670"/>
                  </a:lnTo>
                  <a:lnTo>
                    <a:pt x="4309" y="13422"/>
                  </a:lnTo>
                  <a:lnTo>
                    <a:pt x="4614" y="13155"/>
                  </a:lnTo>
                  <a:lnTo>
                    <a:pt x="4898" y="13155"/>
                  </a:lnTo>
                  <a:lnTo>
                    <a:pt x="4898" y="12869"/>
                  </a:lnTo>
                  <a:lnTo>
                    <a:pt x="4309" y="12583"/>
                  </a:lnTo>
                  <a:lnTo>
                    <a:pt x="4004" y="12050"/>
                  </a:lnTo>
                  <a:lnTo>
                    <a:pt x="4004" y="11764"/>
                  </a:lnTo>
                  <a:lnTo>
                    <a:pt x="3699" y="12050"/>
                  </a:lnTo>
                  <a:lnTo>
                    <a:pt x="3069" y="12050"/>
                  </a:lnTo>
                  <a:lnTo>
                    <a:pt x="2764" y="11764"/>
                  </a:lnTo>
                  <a:lnTo>
                    <a:pt x="3069" y="11478"/>
                  </a:lnTo>
                  <a:lnTo>
                    <a:pt x="3374" y="11478"/>
                  </a:lnTo>
                  <a:lnTo>
                    <a:pt x="3699" y="10944"/>
                  </a:lnTo>
                  <a:lnTo>
                    <a:pt x="3374" y="10677"/>
                  </a:lnTo>
                  <a:lnTo>
                    <a:pt x="4004" y="10124"/>
                  </a:lnTo>
                  <a:lnTo>
                    <a:pt x="4614" y="9857"/>
                  </a:lnTo>
                  <a:lnTo>
                    <a:pt x="5224" y="9304"/>
                  </a:lnTo>
                  <a:lnTo>
                    <a:pt x="5833" y="8465"/>
                  </a:lnTo>
                  <a:lnTo>
                    <a:pt x="5833" y="7664"/>
                  </a:lnTo>
                  <a:lnTo>
                    <a:pt x="6138" y="6826"/>
                  </a:lnTo>
                  <a:lnTo>
                    <a:pt x="6463" y="6025"/>
                  </a:lnTo>
                  <a:lnTo>
                    <a:pt x="6768" y="4938"/>
                  </a:lnTo>
                  <a:lnTo>
                    <a:pt x="7378" y="4099"/>
                  </a:lnTo>
                  <a:lnTo>
                    <a:pt x="7378" y="3813"/>
                  </a:lnTo>
                  <a:lnTo>
                    <a:pt x="7683" y="3298"/>
                  </a:lnTo>
                  <a:lnTo>
                    <a:pt x="8313" y="3565"/>
                  </a:lnTo>
                  <a:lnTo>
                    <a:pt x="8598" y="3565"/>
                  </a:lnTo>
                  <a:lnTo>
                    <a:pt x="9207" y="3298"/>
                  </a:lnTo>
                  <a:lnTo>
                    <a:pt x="9837" y="4099"/>
                  </a:lnTo>
                  <a:lnTo>
                    <a:pt x="9837" y="4652"/>
                  </a:lnTo>
                  <a:lnTo>
                    <a:pt x="10142" y="4938"/>
                  </a:lnTo>
                  <a:lnTo>
                    <a:pt x="10447" y="5205"/>
                  </a:lnTo>
                  <a:lnTo>
                    <a:pt x="10772" y="5472"/>
                  </a:lnTo>
                  <a:lnTo>
                    <a:pt x="10447" y="5739"/>
                  </a:lnTo>
                  <a:lnTo>
                    <a:pt x="10142" y="6311"/>
                  </a:lnTo>
                  <a:lnTo>
                    <a:pt x="9837" y="6311"/>
                  </a:lnTo>
                  <a:lnTo>
                    <a:pt x="9837" y="6559"/>
                  </a:lnTo>
                  <a:lnTo>
                    <a:pt x="9837" y="7112"/>
                  </a:lnTo>
                  <a:lnTo>
                    <a:pt x="9533" y="7398"/>
                  </a:lnTo>
                  <a:lnTo>
                    <a:pt x="9837" y="7398"/>
                  </a:lnTo>
                  <a:lnTo>
                    <a:pt x="10447" y="6826"/>
                  </a:lnTo>
                  <a:lnTo>
                    <a:pt x="11077" y="6559"/>
                  </a:lnTo>
                  <a:lnTo>
                    <a:pt x="11382" y="6311"/>
                  </a:lnTo>
                  <a:lnTo>
                    <a:pt x="11382" y="5739"/>
                  </a:lnTo>
                  <a:lnTo>
                    <a:pt x="11667" y="5205"/>
                  </a:lnTo>
                  <a:lnTo>
                    <a:pt x="11972" y="4938"/>
                  </a:lnTo>
                  <a:lnTo>
                    <a:pt x="11667" y="4652"/>
                  </a:lnTo>
                  <a:lnTo>
                    <a:pt x="11382" y="4652"/>
                  </a:lnTo>
                  <a:lnTo>
                    <a:pt x="11077" y="4099"/>
                  </a:lnTo>
                  <a:lnTo>
                    <a:pt x="11077" y="3298"/>
                  </a:lnTo>
                  <a:lnTo>
                    <a:pt x="11077" y="2726"/>
                  </a:lnTo>
                  <a:lnTo>
                    <a:pt x="10772" y="1926"/>
                  </a:lnTo>
                  <a:lnTo>
                    <a:pt x="11382" y="1373"/>
                  </a:lnTo>
                  <a:lnTo>
                    <a:pt x="11667" y="1087"/>
                  </a:lnTo>
                  <a:lnTo>
                    <a:pt x="12602" y="801"/>
                  </a:lnTo>
                  <a:lnTo>
                    <a:pt x="13516" y="572"/>
                  </a:lnTo>
                  <a:lnTo>
                    <a:pt x="14451" y="286"/>
                  </a:lnTo>
                  <a:lnTo>
                    <a:pt x="15366" y="286"/>
                  </a:lnTo>
                  <a:lnTo>
                    <a:pt x="15976" y="0"/>
                  </a:lnTo>
                  <a:lnTo>
                    <a:pt x="16606" y="0"/>
                  </a:lnTo>
                  <a:lnTo>
                    <a:pt x="17215" y="0"/>
                  </a:lnTo>
                  <a:lnTo>
                    <a:pt x="17825" y="0"/>
                  </a:lnTo>
                  <a:lnTo>
                    <a:pt x="18435" y="0"/>
                  </a:lnTo>
                  <a:lnTo>
                    <a:pt x="18740" y="572"/>
                  </a:lnTo>
                  <a:lnTo>
                    <a:pt x="19045" y="801"/>
                  </a:lnTo>
                  <a:lnTo>
                    <a:pt x="19675" y="1373"/>
                  </a:lnTo>
                  <a:lnTo>
                    <a:pt x="19675" y="1640"/>
                  </a:lnTo>
                  <a:lnTo>
                    <a:pt x="19980" y="2193"/>
                  </a:lnTo>
                  <a:lnTo>
                    <a:pt x="19980" y="2726"/>
                  </a:lnTo>
                  <a:lnTo>
                    <a:pt x="19980" y="3813"/>
                  </a:lnTo>
                  <a:lnTo>
                    <a:pt x="19675" y="4652"/>
                  </a:lnTo>
                  <a:lnTo>
                    <a:pt x="19675" y="5472"/>
                  </a:lnTo>
                  <a:lnTo>
                    <a:pt x="18740" y="6025"/>
                  </a:lnTo>
                  <a:lnTo>
                    <a:pt x="18150" y="5739"/>
                  </a:lnTo>
                  <a:lnTo>
                    <a:pt x="17825" y="6311"/>
                  </a:lnTo>
                  <a:lnTo>
                    <a:pt x="17520" y="6559"/>
                  </a:lnTo>
                  <a:lnTo>
                    <a:pt x="17520" y="7112"/>
                  </a:lnTo>
                  <a:lnTo>
                    <a:pt x="18150" y="7398"/>
                  </a:lnTo>
                  <a:lnTo>
                    <a:pt x="19045" y="7931"/>
                  </a:lnTo>
                  <a:lnTo>
                    <a:pt x="19370" y="8217"/>
                  </a:lnTo>
                  <a:lnTo>
                    <a:pt x="19045" y="9037"/>
                  </a:lnTo>
                  <a:lnTo>
                    <a:pt x="18435" y="9571"/>
                  </a:lnTo>
                  <a:lnTo>
                    <a:pt x="16911" y="10124"/>
                  </a:lnTo>
                  <a:lnTo>
                    <a:pt x="18150" y="10677"/>
                  </a:lnTo>
                  <a:lnTo>
                    <a:pt x="17520" y="11230"/>
                  </a:lnTo>
                  <a:lnTo>
                    <a:pt x="17215" y="11230"/>
                  </a:lnTo>
                  <a:lnTo>
                    <a:pt x="15976" y="11478"/>
                  </a:lnTo>
                  <a:lnTo>
                    <a:pt x="14756" y="11478"/>
                  </a:lnTo>
                  <a:lnTo>
                    <a:pt x="13841" y="11764"/>
                  </a:lnTo>
                  <a:lnTo>
                    <a:pt x="13516" y="12050"/>
                  </a:lnTo>
                  <a:lnTo>
                    <a:pt x="14146" y="13155"/>
                  </a:lnTo>
                  <a:lnTo>
                    <a:pt x="14451" y="13956"/>
                  </a:lnTo>
                  <a:lnTo>
                    <a:pt x="15081" y="14776"/>
                  </a:lnTo>
                  <a:lnTo>
                    <a:pt x="14451" y="15882"/>
                  </a:lnTo>
                  <a:lnTo>
                    <a:pt x="14451" y="16969"/>
                  </a:lnTo>
                  <a:lnTo>
                    <a:pt x="14146" y="16969"/>
                  </a:lnTo>
                  <a:lnTo>
                    <a:pt x="13516" y="17521"/>
                  </a:lnTo>
                  <a:lnTo>
                    <a:pt x="13211" y="17788"/>
                  </a:lnTo>
                  <a:lnTo>
                    <a:pt x="13516" y="18055"/>
                  </a:lnTo>
                  <a:lnTo>
                    <a:pt x="13841" y="18341"/>
                  </a:lnTo>
                  <a:lnTo>
                    <a:pt x="14146" y="18608"/>
                  </a:lnTo>
                  <a:lnTo>
                    <a:pt x="14146" y="19180"/>
                  </a:lnTo>
                  <a:lnTo>
                    <a:pt x="13841" y="19981"/>
                  </a:lnTo>
                  <a:lnTo>
                    <a:pt x="13516" y="19981"/>
                  </a:lnTo>
                  <a:lnTo>
                    <a:pt x="12907" y="19695"/>
                  </a:lnTo>
                  <a:lnTo>
                    <a:pt x="12297" y="19695"/>
                  </a:lnTo>
                  <a:lnTo>
                    <a:pt x="11972" y="19409"/>
                  </a:lnTo>
                  <a:lnTo>
                    <a:pt x="11972" y="18608"/>
                  </a:lnTo>
                  <a:lnTo>
                    <a:pt x="11972" y="18341"/>
                  </a:lnTo>
                  <a:lnTo>
                    <a:pt x="12297" y="17521"/>
                  </a:lnTo>
                  <a:lnTo>
                    <a:pt x="12602" y="16969"/>
                  </a:lnTo>
                  <a:lnTo>
                    <a:pt x="12297" y="16969"/>
                  </a:lnTo>
                  <a:lnTo>
                    <a:pt x="11667" y="16683"/>
                  </a:lnTo>
                  <a:lnTo>
                    <a:pt x="11382" y="16168"/>
                  </a:lnTo>
                  <a:lnTo>
                    <a:pt x="10772" y="16168"/>
                  </a:lnTo>
                  <a:lnTo>
                    <a:pt x="9837" y="16168"/>
                  </a:lnTo>
                  <a:lnTo>
                    <a:pt x="9533" y="15882"/>
                  </a:lnTo>
                  <a:lnTo>
                    <a:pt x="9207" y="15329"/>
                  </a:lnTo>
                  <a:lnTo>
                    <a:pt x="9207" y="14776"/>
                  </a:lnTo>
                  <a:lnTo>
                    <a:pt x="8902" y="14776"/>
                  </a:lnTo>
                  <a:lnTo>
                    <a:pt x="8313" y="15329"/>
                  </a:lnTo>
                  <a:lnTo>
                    <a:pt x="8008" y="14776"/>
                  </a:lnTo>
                  <a:lnTo>
                    <a:pt x="7683" y="14509"/>
                  </a:lnTo>
                  <a:lnTo>
                    <a:pt x="7073" y="14509"/>
                  </a:lnTo>
                  <a:lnTo>
                    <a:pt x="6768" y="14776"/>
                  </a:lnTo>
                  <a:lnTo>
                    <a:pt x="6138" y="15043"/>
                  </a:lnTo>
                  <a:lnTo>
                    <a:pt x="5833" y="14776"/>
                  </a:lnTo>
                  <a:lnTo>
                    <a:pt x="5224" y="15043"/>
                  </a:lnTo>
                  <a:lnTo>
                    <a:pt x="5224" y="15329"/>
                  </a:lnTo>
                  <a:lnTo>
                    <a:pt x="4614" y="15596"/>
                  </a:lnTo>
                  <a:lnTo>
                    <a:pt x="3699" y="15882"/>
                  </a:lnTo>
                  <a:lnTo>
                    <a:pt x="3374" y="16168"/>
                  </a:lnTo>
                  <a:lnTo>
                    <a:pt x="2764" y="16416"/>
                  </a:lnTo>
                  <a:lnTo>
                    <a:pt x="2154" y="16168"/>
                  </a:lnTo>
                  <a:lnTo>
                    <a:pt x="1829" y="15882"/>
                  </a:lnTo>
                  <a:lnTo>
                    <a:pt x="1240" y="15596"/>
                  </a:lnTo>
                  <a:lnTo>
                    <a:pt x="935" y="15596"/>
                  </a:lnTo>
                  <a:lnTo>
                    <a:pt x="935" y="15882"/>
                  </a:lnTo>
                  <a:lnTo>
                    <a:pt x="610" y="15882"/>
                  </a:lnTo>
                  <a:lnTo>
                    <a:pt x="305" y="15329"/>
                  </a:lnTo>
                  <a:lnTo>
                    <a:pt x="0" y="14509"/>
                  </a:lnTo>
                  <a:lnTo>
                    <a:pt x="610" y="14509"/>
                  </a:lnTo>
                  <a:lnTo>
                    <a:pt x="1240" y="14509"/>
                  </a:lnTo>
                  <a:lnTo>
                    <a:pt x="1829" y="14776"/>
                  </a:lnTo>
                  <a:lnTo>
                    <a:pt x="2154" y="15043"/>
                  </a:lnTo>
                  <a:lnTo>
                    <a:pt x="2764" y="15043"/>
                  </a:lnTo>
                  <a:lnTo>
                    <a:pt x="3699" y="15043"/>
                  </a:lnTo>
                  <a:lnTo>
                    <a:pt x="4004" y="15329"/>
                  </a:lnTo>
                  <a:lnTo>
                    <a:pt x="4309" y="15596"/>
                  </a:lnTo>
                  <a:lnTo>
                    <a:pt x="4614" y="15043"/>
                  </a:lnTo>
                  <a:lnTo>
                    <a:pt x="3699" y="14776"/>
                  </a:lnTo>
                  <a:lnTo>
                    <a:pt x="3374" y="14776"/>
                  </a:lnTo>
                  <a:lnTo>
                    <a:pt x="2764" y="14776"/>
                  </a:lnTo>
                  <a:lnTo>
                    <a:pt x="1829" y="14509"/>
                  </a:lnTo>
                  <a:lnTo>
                    <a:pt x="1240" y="14509"/>
                  </a:lnTo>
                  <a:lnTo>
                    <a:pt x="1240" y="14509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08760" y="2370960"/>
              <a:ext cx="1249920" cy="1005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4038"/>
                  </a:moveTo>
                  <a:lnTo>
                    <a:pt x="231" y="4038"/>
                  </a:lnTo>
                  <a:lnTo>
                    <a:pt x="469" y="4038"/>
                  </a:lnTo>
                  <a:lnTo>
                    <a:pt x="692" y="3925"/>
                  </a:lnTo>
                  <a:lnTo>
                    <a:pt x="1275" y="3642"/>
                  </a:lnTo>
                  <a:lnTo>
                    <a:pt x="1859" y="3369"/>
                  </a:lnTo>
                  <a:lnTo>
                    <a:pt x="2320" y="3247"/>
                  </a:lnTo>
                  <a:lnTo>
                    <a:pt x="2904" y="2833"/>
                  </a:lnTo>
                  <a:lnTo>
                    <a:pt x="3365" y="2296"/>
                  </a:lnTo>
                  <a:lnTo>
                    <a:pt x="3604" y="1882"/>
                  </a:lnTo>
                  <a:lnTo>
                    <a:pt x="4072" y="1487"/>
                  </a:lnTo>
                  <a:lnTo>
                    <a:pt x="4533" y="1205"/>
                  </a:lnTo>
                  <a:lnTo>
                    <a:pt x="4764" y="1082"/>
                  </a:lnTo>
                  <a:lnTo>
                    <a:pt x="5232" y="809"/>
                  </a:lnTo>
                  <a:lnTo>
                    <a:pt x="5816" y="536"/>
                  </a:lnTo>
                  <a:lnTo>
                    <a:pt x="6623" y="132"/>
                  </a:lnTo>
                  <a:lnTo>
                    <a:pt x="6861" y="0"/>
                  </a:lnTo>
                  <a:lnTo>
                    <a:pt x="7330" y="132"/>
                  </a:lnTo>
                  <a:lnTo>
                    <a:pt x="7783" y="395"/>
                  </a:lnTo>
                  <a:lnTo>
                    <a:pt x="8137" y="668"/>
                  </a:lnTo>
                  <a:lnTo>
                    <a:pt x="8137" y="951"/>
                  </a:lnTo>
                  <a:lnTo>
                    <a:pt x="8022" y="1082"/>
                  </a:lnTo>
                  <a:lnTo>
                    <a:pt x="7783" y="809"/>
                  </a:lnTo>
                  <a:lnTo>
                    <a:pt x="7668" y="809"/>
                  </a:lnTo>
                  <a:lnTo>
                    <a:pt x="7330" y="536"/>
                  </a:lnTo>
                  <a:lnTo>
                    <a:pt x="7330" y="668"/>
                  </a:lnTo>
                  <a:lnTo>
                    <a:pt x="7553" y="951"/>
                  </a:lnTo>
                  <a:lnTo>
                    <a:pt x="7668" y="1082"/>
                  </a:lnTo>
                  <a:lnTo>
                    <a:pt x="7783" y="1346"/>
                  </a:lnTo>
                  <a:lnTo>
                    <a:pt x="8137" y="1487"/>
                  </a:lnTo>
                  <a:lnTo>
                    <a:pt x="8367" y="1619"/>
                  </a:lnTo>
                  <a:lnTo>
                    <a:pt x="8713" y="1619"/>
                  </a:lnTo>
                  <a:lnTo>
                    <a:pt x="9066" y="1619"/>
                  </a:lnTo>
                  <a:lnTo>
                    <a:pt x="9297" y="1487"/>
                  </a:lnTo>
                  <a:lnTo>
                    <a:pt x="9412" y="1346"/>
                  </a:lnTo>
                  <a:lnTo>
                    <a:pt x="12086" y="1346"/>
                  </a:lnTo>
                  <a:lnTo>
                    <a:pt x="12785" y="1205"/>
                  </a:lnTo>
                  <a:lnTo>
                    <a:pt x="13484" y="1082"/>
                  </a:lnTo>
                  <a:lnTo>
                    <a:pt x="14176" y="951"/>
                  </a:lnTo>
                  <a:lnTo>
                    <a:pt x="14998" y="809"/>
                  </a:lnTo>
                  <a:lnTo>
                    <a:pt x="15459" y="536"/>
                  </a:lnTo>
                  <a:lnTo>
                    <a:pt x="15805" y="668"/>
                  </a:lnTo>
                  <a:lnTo>
                    <a:pt x="16274" y="809"/>
                  </a:lnTo>
                  <a:lnTo>
                    <a:pt x="16627" y="1082"/>
                  </a:lnTo>
                  <a:lnTo>
                    <a:pt x="16735" y="1619"/>
                  </a:lnTo>
                  <a:lnTo>
                    <a:pt x="16965" y="2155"/>
                  </a:lnTo>
                  <a:lnTo>
                    <a:pt x="17203" y="2974"/>
                  </a:lnTo>
                  <a:lnTo>
                    <a:pt x="17549" y="3642"/>
                  </a:lnTo>
                  <a:lnTo>
                    <a:pt x="17787" y="4179"/>
                  </a:lnTo>
                  <a:lnTo>
                    <a:pt x="17902" y="4725"/>
                  </a:lnTo>
                  <a:lnTo>
                    <a:pt x="18010" y="5525"/>
                  </a:lnTo>
                  <a:lnTo>
                    <a:pt x="18010" y="6080"/>
                  </a:lnTo>
                  <a:lnTo>
                    <a:pt x="17672" y="6344"/>
                  </a:lnTo>
                  <a:lnTo>
                    <a:pt x="17434" y="6758"/>
                  </a:lnTo>
                  <a:lnTo>
                    <a:pt x="17203" y="7426"/>
                  </a:lnTo>
                  <a:lnTo>
                    <a:pt x="17088" y="7831"/>
                  </a:lnTo>
                  <a:lnTo>
                    <a:pt x="17672" y="8104"/>
                  </a:lnTo>
                  <a:lnTo>
                    <a:pt x="18133" y="8235"/>
                  </a:lnTo>
                  <a:lnTo>
                    <a:pt x="18133" y="8640"/>
                  </a:lnTo>
                  <a:lnTo>
                    <a:pt x="18133" y="9186"/>
                  </a:lnTo>
                  <a:lnTo>
                    <a:pt x="18248" y="9722"/>
                  </a:lnTo>
                  <a:lnTo>
                    <a:pt x="18479" y="10400"/>
                  </a:lnTo>
                  <a:lnTo>
                    <a:pt x="18717" y="10936"/>
                  </a:lnTo>
                  <a:lnTo>
                    <a:pt x="19063" y="11341"/>
                  </a:lnTo>
                  <a:lnTo>
                    <a:pt x="19408" y="11878"/>
                  </a:lnTo>
                  <a:lnTo>
                    <a:pt x="19762" y="12424"/>
                  </a:lnTo>
                  <a:lnTo>
                    <a:pt x="19762" y="12696"/>
                  </a:lnTo>
                  <a:lnTo>
                    <a:pt x="19877" y="12960"/>
                  </a:lnTo>
                  <a:lnTo>
                    <a:pt x="19992" y="13233"/>
                  </a:lnTo>
                  <a:lnTo>
                    <a:pt x="19992" y="13769"/>
                  </a:lnTo>
                  <a:lnTo>
                    <a:pt x="19877" y="14184"/>
                  </a:lnTo>
                  <a:lnTo>
                    <a:pt x="19408" y="14315"/>
                  </a:lnTo>
                  <a:lnTo>
                    <a:pt x="19301" y="14588"/>
                  </a:lnTo>
                  <a:lnTo>
                    <a:pt x="17902" y="17826"/>
                  </a:lnTo>
                  <a:lnTo>
                    <a:pt x="18133" y="18108"/>
                  </a:lnTo>
                  <a:lnTo>
                    <a:pt x="18248" y="18504"/>
                  </a:lnTo>
                  <a:lnTo>
                    <a:pt x="18363" y="18776"/>
                  </a:lnTo>
                  <a:lnTo>
                    <a:pt x="18594" y="19313"/>
                  </a:lnTo>
                  <a:lnTo>
                    <a:pt x="18717" y="19454"/>
                  </a:lnTo>
                  <a:lnTo>
                    <a:pt x="18363" y="19454"/>
                  </a:lnTo>
                  <a:lnTo>
                    <a:pt x="18133" y="19454"/>
                  </a:lnTo>
                  <a:lnTo>
                    <a:pt x="18010" y="19454"/>
                  </a:lnTo>
                  <a:lnTo>
                    <a:pt x="17549" y="19454"/>
                  </a:lnTo>
                  <a:lnTo>
                    <a:pt x="17318" y="19313"/>
                  </a:lnTo>
                  <a:lnTo>
                    <a:pt x="17088" y="19313"/>
                  </a:lnTo>
                  <a:lnTo>
                    <a:pt x="16735" y="19172"/>
                  </a:lnTo>
                  <a:lnTo>
                    <a:pt x="16512" y="18908"/>
                  </a:lnTo>
                  <a:lnTo>
                    <a:pt x="16274" y="18776"/>
                  </a:lnTo>
                  <a:lnTo>
                    <a:pt x="16043" y="18635"/>
                  </a:lnTo>
                  <a:lnTo>
                    <a:pt x="15690" y="18635"/>
                  </a:lnTo>
                  <a:lnTo>
                    <a:pt x="15229" y="18635"/>
                  </a:lnTo>
                  <a:lnTo>
                    <a:pt x="14998" y="18776"/>
                  </a:lnTo>
                  <a:lnTo>
                    <a:pt x="14883" y="18776"/>
                  </a:lnTo>
                  <a:lnTo>
                    <a:pt x="14645" y="19172"/>
                  </a:lnTo>
                  <a:lnTo>
                    <a:pt x="14414" y="19313"/>
                  </a:lnTo>
                  <a:lnTo>
                    <a:pt x="14176" y="19172"/>
                  </a:lnTo>
                  <a:lnTo>
                    <a:pt x="13953" y="19040"/>
                  </a:lnTo>
                  <a:lnTo>
                    <a:pt x="13715" y="19172"/>
                  </a:lnTo>
                  <a:lnTo>
                    <a:pt x="13369" y="19313"/>
                  </a:lnTo>
                  <a:lnTo>
                    <a:pt x="13016" y="19454"/>
                  </a:lnTo>
                  <a:lnTo>
                    <a:pt x="12900" y="19849"/>
                  </a:lnTo>
                  <a:lnTo>
                    <a:pt x="12662" y="19991"/>
                  </a:lnTo>
                  <a:lnTo>
                    <a:pt x="12086" y="19708"/>
                  </a:lnTo>
                  <a:lnTo>
                    <a:pt x="12086" y="19454"/>
                  </a:lnTo>
                  <a:lnTo>
                    <a:pt x="11856" y="19454"/>
                  </a:lnTo>
                  <a:lnTo>
                    <a:pt x="11740" y="19040"/>
                  </a:lnTo>
                  <a:lnTo>
                    <a:pt x="11387" y="18908"/>
                  </a:lnTo>
                  <a:lnTo>
                    <a:pt x="11164" y="19172"/>
                  </a:lnTo>
                  <a:lnTo>
                    <a:pt x="11164" y="19454"/>
                  </a:lnTo>
                  <a:lnTo>
                    <a:pt x="10926" y="19595"/>
                  </a:lnTo>
                  <a:lnTo>
                    <a:pt x="10695" y="19708"/>
                  </a:lnTo>
                  <a:lnTo>
                    <a:pt x="10457" y="19454"/>
                  </a:lnTo>
                  <a:lnTo>
                    <a:pt x="10342" y="19172"/>
                  </a:lnTo>
                  <a:lnTo>
                    <a:pt x="10111" y="19040"/>
                  </a:lnTo>
                  <a:lnTo>
                    <a:pt x="9881" y="18635"/>
                  </a:lnTo>
                  <a:lnTo>
                    <a:pt x="9650" y="18362"/>
                  </a:lnTo>
                  <a:lnTo>
                    <a:pt x="9412" y="18108"/>
                  </a:lnTo>
                  <a:lnTo>
                    <a:pt x="9182" y="17967"/>
                  </a:lnTo>
                  <a:lnTo>
                    <a:pt x="8713" y="17826"/>
                  </a:lnTo>
                  <a:lnTo>
                    <a:pt x="8490" y="17685"/>
                  </a:lnTo>
                  <a:lnTo>
                    <a:pt x="8252" y="17826"/>
                  </a:lnTo>
                  <a:lnTo>
                    <a:pt x="7906" y="17553"/>
                  </a:lnTo>
                  <a:lnTo>
                    <a:pt x="7668" y="17421"/>
                  </a:lnTo>
                  <a:lnTo>
                    <a:pt x="7783" y="17016"/>
                  </a:lnTo>
                  <a:lnTo>
                    <a:pt x="7668" y="16744"/>
                  </a:lnTo>
                  <a:lnTo>
                    <a:pt x="7553" y="16744"/>
                  </a:lnTo>
                  <a:lnTo>
                    <a:pt x="7330" y="16875"/>
                  </a:lnTo>
                  <a:lnTo>
                    <a:pt x="7092" y="16875"/>
                  </a:lnTo>
                  <a:lnTo>
                    <a:pt x="6623" y="16621"/>
                  </a:lnTo>
                  <a:lnTo>
                    <a:pt x="6393" y="16621"/>
                  </a:lnTo>
                  <a:lnTo>
                    <a:pt x="6039" y="16621"/>
                  </a:lnTo>
                  <a:lnTo>
                    <a:pt x="6039" y="16744"/>
                  </a:lnTo>
                  <a:lnTo>
                    <a:pt x="6277" y="17148"/>
                  </a:lnTo>
                  <a:lnTo>
                    <a:pt x="6154" y="17289"/>
                  </a:lnTo>
                  <a:lnTo>
                    <a:pt x="5932" y="17421"/>
                  </a:lnTo>
                  <a:lnTo>
                    <a:pt x="5816" y="17553"/>
                  </a:lnTo>
                  <a:lnTo>
                    <a:pt x="5463" y="17685"/>
                  </a:lnTo>
                  <a:lnTo>
                    <a:pt x="5232" y="17289"/>
                  </a:lnTo>
                  <a:lnTo>
                    <a:pt x="4879" y="16875"/>
                  </a:lnTo>
                  <a:lnTo>
                    <a:pt x="4764" y="16744"/>
                  </a:lnTo>
                  <a:lnTo>
                    <a:pt x="4879" y="16480"/>
                  </a:lnTo>
                  <a:lnTo>
                    <a:pt x="4879" y="16066"/>
                  </a:lnTo>
                  <a:lnTo>
                    <a:pt x="4656" y="16066"/>
                  </a:lnTo>
                  <a:lnTo>
                    <a:pt x="4418" y="15934"/>
                  </a:lnTo>
                  <a:lnTo>
                    <a:pt x="4187" y="15934"/>
                  </a:lnTo>
                  <a:lnTo>
                    <a:pt x="4072" y="15934"/>
                  </a:lnTo>
                  <a:lnTo>
                    <a:pt x="3834" y="15802"/>
                  </a:lnTo>
                  <a:lnTo>
                    <a:pt x="3604" y="15671"/>
                  </a:lnTo>
                  <a:lnTo>
                    <a:pt x="3365" y="15529"/>
                  </a:lnTo>
                  <a:lnTo>
                    <a:pt x="2904" y="15256"/>
                  </a:lnTo>
                  <a:lnTo>
                    <a:pt x="2674" y="15256"/>
                  </a:lnTo>
                  <a:lnTo>
                    <a:pt x="2559" y="14852"/>
                  </a:lnTo>
                  <a:lnTo>
                    <a:pt x="2205" y="14852"/>
                  </a:lnTo>
                  <a:lnTo>
                    <a:pt x="2205" y="14447"/>
                  </a:lnTo>
                  <a:lnTo>
                    <a:pt x="2205" y="14315"/>
                  </a:lnTo>
                  <a:lnTo>
                    <a:pt x="2205" y="14042"/>
                  </a:lnTo>
                  <a:lnTo>
                    <a:pt x="2090" y="13647"/>
                  </a:lnTo>
                  <a:lnTo>
                    <a:pt x="1982" y="13101"/>
                  </a:lnTo>
                  <a:lnTo>
                    <a:pt x="1744" y="13101"/>
                  </a:lnTo>
                  <a:lnTo>
                    <a:pt x="1514" y="12828"/>
                  </a:lnTo>
                  <a:lnTo>
                    <a:pt x="1398" y="12555"/>
                  </a:lnTo>
                  <a:lnTo>
                    <a:pt x="1398" y="12019"/>
                  </a:lnTo>
                  <a:lnTo>
                    <a:pt x="1398" y="11614"/>
                  </a:lnTo>
                  <a:lnTo>
                    <a:pt x="1398" y="11209"/>
                  </a:lnTo>
                  <a:lnTo>
                    <a:pt x="1398" y="10795"/>
                  </a:lnTo>
                  <a:lnTo>
                    <a:pt x="1160" y="10400"/>
                  </a:lnTo>
                  <a:lnTo>
                    <a:pt x="1045" y="9986"/>
                  </a:lnTo>
                  <a:lnTo>
                    <a:pt x="1045" y="9722"/>
                  </a:lnTo>
                  <a:lnTo>
                    <a:pt x="1045" y="9318"/>
                  </a:lnTo>
                  <a:lnTo>
                    <a:pt x="814" y="9186"/>
                  </a:lnTo>
                  <a:lnTo>
                    <a:pt x="469" y="8913"/>
                  </a:lnTo>
                  <a:lnTo>
                    <a:pt x="115" y="8367"/>
                  </a:lnTo>
                  <a:lnTo>
                    <a:pt x="115" y="8104"/>
                  </a:lnTo>
                  <a:lnTo>
                    <a:pt x="231" y="7831"/>
                  </a:lnTo>
                  <a:lnTo>
                    <a:pt x="353" y="7426"/>
                  </a:lnTo>
                  <a:lnTo>
                    <a:pt x="353" y="7012"/>
                  </a:lnTo>
                  <a:lnTo>
                    <a:pt x="353" y="6475"/>
                  </a:lnTo>
                  <a:lnTo>
                    <a:pt x="231" y="6080"/>
                  </a:lnTo>
                  <a:lnTo>
                    <a:pt x="115" y="5525"/>
                  </a:lnTo>
                  <a:lnTo>
                    <a:pt x="0" y="5129"/>
                  </a:lnTo>
                  <a:lnTo>
                    <a:pt x="0" y="4038"/>
                  </a:lnTo>
                  <a:lnTo>
                    <a:pt x="0" y="4038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38080" y="4542480"/>
              <a:ext cx="588240" cy="923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7390" y="430"/>
                  </a:moveTo>
                  <a:lnTo>
                    <a:pt x="8385" y="154"/>
                  </a:lnTo>
                  <a:lnTo>
                    <a:pt x="9380" y="154"/>
                  </a:lnTo>
                  <a:lnTo>
                    <a:pt x="9853" y="154"/>
                  </a:lnTo>
                  <a:lnTo>
                    <a:pt x="10604" y="0"/>
                  </a:lnTo>
                  <a:lnTo>
                    <a:pt x="10848" y="0"/>
                  </a:lnTo>
                  <a:lnTo>
                    <a:pt x="11093" y="307"/>
                  </a:lnTo>
                  <a:lnTo>
                    <a:pt x="11354" y="307"/>
                  </a:lnTo>
                  <a:lnTo>
                    <a:pt x="11354" y="584"/>
                  </a:lnTo>
                  <a:lnTo>
                    <a:pt x="10848" y="881"/>
                  </a:lnTo>
                  <a:lnTo>
                    <a:pt x="10848" y="1322"/>
                  </a:lnTo>
                  <a:lnTo>
                    <a:pt x="11599" y="1322"/>
                  </a:lnTo>
                  <a:lnTo>
                    <a:pt x="12333" y="1322"/>
                  </a:lnTo>
                  <a:lnTo>
                    <a:pt x="13067" y="1322"/>
                  </a:lnTo>
                  <a:lnTo>
                    <a:pt x="13573" y="1619"/>
                  </a:lnTo>
                  <a:lnTo>
                    <a:pt x="14062" y="1619"/>
                  </a:lnTo>
                  <a:lnTo>
                    <a:pt x="15057" y="1619"/>
                  </a:lnTo>
                  <a:lnTo>
                    <a:pt x="15546" y="1619"/>
                  </a:lnTo>
                  <a:lnTo>
                    <a:pt x="16036" y="1168"/>
                  </a:lnTo>
                  <a:lnTo>
                    <a:pt x="16525" y="1322"/>
                  </a:lnTo>
                  <a:lnTo>
                    <a:pt x="17015" y="1465"/>
                  </a:lnTo>
                  <a:lnTo>
                    <a:pt x="17520" y="1465"/>
                  </a:lnTo>
                  <a:lnTo>
                    <a:pt x="18010" y="1619"/>
                  </a:lnTo>
                  <a:lnTo>
                    <a:pt x="18515" y="1619"/>
                  </a:lnTo>
                  <a:lnTo>
                    <a:pt x="18744" y="1773"/>
                  </a:lnTo>
                  <a:lnTo>
                    <a:pt x="18989" y="2203"/>
                  </a:lnTo>
                  <a:lnTo>
                    <a:pt x="18744" y="2654"/>
                  </a:lnTo>
                  <a:lnTo>
                    <a:pt x="18989" y="2787"/>
                  </a:lnTo>
                  <a:lnTo>
                    <a:pt x="19494" y="2941"/>
                  </a:lnTo>
                  <a:lnTo>
                    <a:pt x="19739" y="3084"/>
                  </a:lnTo>
                  <a:lnTo>
                    <a:pt x="19984" y="3391"/>
                  </a:lnTo>
                  <a:lnTo>
                    <a:pt x="19494" y="3822"/>
                  </a:lnTo>
                  <a:lnTo>
                    <a:pt x="18989" y="4262"/>
                  </a:lnTo>
                  <a:lnTo>
                    <a:pt x="17765" y="4416"/>
                  </a:lnTo>
                  <a:lnTo>
                    <a:pt x="17015" y="4703"/>
                  </a:lnTo>
                  <a:lnTo>
                    <a:pt x="16525" y="5000"/>
                  </a:lnTo>
                  <a:lnTo>
                    <a:pt x="15775" y="5287"/>
                  </a:lnTo>
                  <a:lnTo>
                    <a:pt x="16036" y="5738"/>
                  </a:lnTo>
                  <a:lnTo>
                    <a:pt x="16036" y="6322"/>
                  </a:lnTo>
                  <a:lnTo>
                    <a:pt x="15775" y="6906"/>
                  </a:lnTo>
                  <a:lnTo>
                    <a:pt x="15775" y="7346"/>
                  </a:lnTo>
                  <a:lnTo>
                    <a:pt x="15546" y="7654"/>
                  </a:lnTo>
                  <a:lnTo>
                    <a:pt x="14812" y="7941"/>
                  </a:lnTo>
                  <a:lnTo>
                    <a:pt x="14551" y="8084"/>
                  </a:lnTo>
                  <a:lnTo>
                    <a:pt x="14551" y="8371"/>
                  </a:lnTo>
                  <a:lnTo>
                    <a:pt x="14812" y="8678"/>
                  </a:lnTo>
                  <a:lnTo>
                    <a:pt x="14812" y="9273"/>
                  </a:lnTo>
                  <a:lnTo>
                    <a:pt x="14307" y="9703"/>
                  </a:lnTo>
                  <a:lnTo>
                    <a:pt x="13817" y="10143"/>
                  </a:lnTo>
                  <a:lnTo>
                    <a:pt x="13312" y="10000"/>
                  </a:lnTo>
                  <a:lnTo>
                    <a:pt x="12594" y="10297"/>
                  </a:lnTo>
                  <a:lnTo>
                    <a:pt x="12088" y="10143"/>
                  </a:lnTo>
                  <a:lnTo>
                    <a:pt x="11354" y="10297"/>
                  </a:lnTo>
                  <a:lnTo>
                    <a:pt x="11843" y="11168"/>
                  </a:lnTo>
                  <a:lnTo>
                    <a:pt x="11843" y="11465"/>
                  </a:lnTo>
                  <a:lnTo>
                    <a:pt x="12333" y="11906"/>
                  </a:lnTo>
                  <a:lnTo>
                    <a:pt x="12333" y="12049"/>
                  </a:lnTo>
                  <a:lnTo>
                    <a:pt x="12594" y="12357"/>
                  </a:lnTo>
                  <a:lnTo>
                    <a:pt x="13067" y="12510"/>
                  </a:lnTo>
                  <a:lnTo>
                    <a:pt x="13067" y="12941"/>
                  </a:lnTo>
                  <a:lnTo>
                    <a:pt x="12333" y="13238"/>
                  </a:lnTo>
                  <a:lnTo>
                    <a:pt x="11599" y="13822"/>
                  </a:lnTo>
                  <a:lnTo>
                    <a:pt x="11354" y="14252"/>
                  </a:lnTo>
                  <a:lnTo>
                    <a:pt x="10848" y="14703"/>
                  </a:lnTo>
                  <a:lnTo>
                    <a:pt x="10359" y="14990"/>
                  </a:lnTo>
                  <a:lnTo>
                    <a:pt x="10848" y="15441"/>
                  </a:lnTo>
                  <a:lnTo>
                    <a:pt x="11093" y="15727"/>
                  </a:lnTo>
                  <a:lnTo>
                    <a:pt x="11843" y="16025"/>
                  </a:lnTo>
                  <a:lnTo>
                    <a:pt x="12333" y="16025"/>
                  </a:lnTo>
                  <a:lnTo>
                    <a:pt x="11599" y="16322"/>
                  </a:lnTo>
                  <a:lnTo>
                    <a:pt x="11093" y="16609"/>
                  </a:lnTo>
                  <a:lnTo>
                    <a:pt x="10359" y="16609"/>
                  </a:lnTo>
                  <a:lnTo>
                    <a:pt x="9853" y="17059"/>
                  </a:lnTo>
                  <a:lnTo>
                    <a:pt x="9135" y="17490"/>
                  </a:lnTo>
                  <a:lnTo>
                    <a:pt x="8891" y="17797"/>
                  </a:lnTo>
                  <a:lnTo>
                    <a:pt x="8891" y="18074"/>
                  </a:lnTo>
                  <a:lnTo>
                    <a:pt x="8630" y="18678"/>
                  </a:lnTo>
                  <a:lnTo>
                    <a:pt x="8891" y="19559"/>
                  </a:lnTo>
                  <a:lnTo>
                    <a:pt x="8630" y="19693"/>
                  </a:lnTo>
                  <a:lnTo>
                    <a:pt x="8140" y="19559"/>
                  </a:lnTo>
                  <a:lnTo>
                    <a:pt x="7651" y="19693"/>
                  </a:lnTo>
                  <a:lnTo>
                    <a:pt x="6672" y="19990"/>
                  </a:lnTo>
                  <a:lnTo>
                    <a:pt x="5922" y="19990"/>
                  </a:lnTo>
                  <a:lnTo>
                    <a:pt x="5432" y="19846"/>
                  </a:lnTo>
                  <a:lnTo>
                    <a:pt x="4927" y="19559"/>
                  </a:lnTo>
                  <a:lnTo>
                    <a:pt x="4209" y="19416"/>
                  </a:lnTo>
                  <a:lnTo>
                    <a:pt x="3948" y="19416"/>
                  </a:lnTo>
                  <a:lnTo>
                    <a:pt x="3703" y="19262"/>
                  </a:lnTo>
                  <a:lnTo>
                    <a:pt x="3214" y="19262"/>
                  </a:lnTo>
                  <a:lnTo>
                    <a:pt x="2463" y="18955"/>
                  </a:lnTo>
                  <a:lnTo>
                    <a:pt x="1974" y="18955"/>
                  </a:lnTo>
                  <a:lnTo>
                    <a:pt x="1974" y="19109"/>
                  </a:lnTo>
                  <a:lnTo>
                    <a:pt x="1468" y="19109"/>
                  </a:lnTo>
                  <a:lnTo>
                    <a:pt x="750" y="19109"/>
                  </a:lnTo>
                  <a:lnTo>
                    <a:pt x="489" y="19262"/>
                  </a:lnTo>
                  <a:lnTo>
                    <a:pt x="245" y="18955"/>
                  </a:lnTo>
                  <a:lnTo>
                    <a:pt x="1240" y="18227"/>
                  </a:lnTo>
                  <a:lnTo>
                    <a:pt x="1240" y="18074"/>
                  </a:lnTo>
                  <a:lnTo>
                    <a:pt x="1468" y="17797"/>
                  </a:lnTo>
                  <a:lnTo>
                    <a:pt x="1713" y="17490"/>
                  </a:lnTo>
                  <a:lnTo>
                    <a:pt x="1713" y="17213"/>
                  </a:lnTo>
                  <a:lnTo>
                    <a:pt x="1974" y="16762"/>
                  </a:lnTo>
                  <a:lnTo>
                    <a:pt x="2219" y="16178"/>
                  </a:lnTo>
                  <a:lnTo>
                    <a:pt x="2463" y="15727"/>
                  </a:lnTo>
                  <a:lnTo>
                    <a:pt x="1974" y="15594"/>
                  </a:lnTo>
                  <a:lnTo>
                    <a:pt x="2708" y="14990"/>
                  </a:lnTo>
                  <a:lnTo>
                    <a:pt x="3214" y="14559"/>
                  </a:lnTo>
                  <a:lnTo>
                    <a:pt x="2969" y="13975"/>
                  </a:lnTo>
                  <a:lnTo>
                    <a:pt x="2708" y="13668"/>
                  </a:lnTo>
                  <a:lnTo>
                    <a:pt x="2969" y="13668"/>
                  </a:lnTo>
                  <a:lnTo>
                    <a:pt x="3214" y="13822"/>
                  </a:lnTo>
                  <a:lnTo>
                    <a:pt x="3703" y="14129"/>
                  </a:lnTo>
                  <a:lnTo>
                    <a:pt x="3948" y="14129"/>
                  </a:lnTo>
                  <a:lnTo>
                    <a:pt x="3703" y="13822"/>
                  </a:lnTo>
                  <a:lnTo>
                    <a:pt x="3703" y="13668"/>
                  </a:lnTo>
                  <a:lnTo>
                    <a:pt x="3458" y="13525"/>
                  </a:lnTo>
                  <a:lnTo>
                    <a:pt x="3458" y="13822"/>
                  </a:lnTo>
                  <a:lnTo>
                    <a:pt x="3214" y="13668"/>
                  </a:lnTo>
                  <a:lnTo>
                    <a:pt x="2708" y="13525"/>
                  </a:lnTo>
                  <a:lnTo>
                    <a:pt x="2463" y="13668"/>
                  </a:lnTo>
                  <a:lnTo>
                    <a:pt x="2219" y="13668"/>
                  </a:lnTo>
                  <a:lnTo>
                    <a:pt x="1713" y="13668"/>
                  </a:lnTo>
                  <a:lnTo>
                    <a:pt x="1468" y="13668"/>
                  </a:lnTo>
                  <a:lnTo>
                    <a:pt x="1240" y="13668"/>
                  </a:lnTo>
                  <a:lnTo>
                    <a:pt x="1468" y="13238"/>
                  </a:lnTo>
                  <a:lnTo>
                    <a:pt x="1240" y="12941"/>
                  </a:lnTo>
                  <a:lnTo>
                    <a:pt x="1240" y="12643"/>
                  </a:lnTo>
                  <a:lnTo>
                    <a:pt x="750" y="12643"/>
                  </a:lnTo>
                  <a:lnTo>
                    <a:pt x="0" y="12357"/>
                  </a:lnTo>
                  <a:lnTo>
                    <a:pt x="245" y="11906"/>
                  </a:lnTo>
                  <a:lnTo>
                    <a:pt x="750" y="11465"/>
                  </a:lnTo>
                  <a:lnTo>
                    <a:pt x="1240" y="10891"/>
                  </a:lnTo>
                  <a:lnTo>
                    <a:pt x="1468" y="10430"/>
                  </a:lnTo>
                  <a:lnTo>
                    <a:pt x="1713" y="10000"/>
                  </a:lnTo>
                  <a:lnTo>
                    <a:pt x="2219" y="9703"/>
                  </a:lnTo>
                  <a:lnTo>
                    <a:pt x="2463" y="10000"/>
                  </a:lnTo>
                  <a:lnTo>
                    <a:pt x="2708" y="9857"/>
                  </a:lnTo>
                  <a:lnTo>
                    <a:pt x="2463" y="9703"/>
                  </a:lnTo>
                  <a:lnTo>
                    <a:pt x="2969" y="9406"/>
                  </a:lnTo>
                  <a:lnTo>
                    <a:pt x="3214" y="9273"/>
                  </a:lnTo>
                  <a:lnTo>
                    <a:pt x="3703" y="8525"/>
                  </a:lnTo>
                  <a:lnTo>
                    <a:pt x="5171" y="7213"/>
                  </a:lnTo>
                  <a:lnTo>
                    <a:pt x="4927" y="7059"/>
                  </a:lnTo>
                  <a:lnTo>
                    <a:pt x="5171" y="7059"/>
                  </a:lnTo>
                  <a:lnTo>
                    <a:pt x="6672" y="5133"/>
                  </a:lnTo>
                  <a:lnTo>
                    <a:pt x="7390" y="3975"/>
                  </a:lnTo>
                  <a:lnTo>
                    <a:pt x="7390" y="3514"/>
                  </a:lnTo>
                  <a:lnTo>
                    <a:pt x="7390" y="3084"/>
                  </a:lnTo>
                  <a:lnTo>
                    <a:pt x="7390" y="2787"/>
                  </a:lnTo>
                  <a:lnTo>
                    <a:pt x="7145" y="2500"/>
                  </a:lnTo>
                  <a:lnTo>
                    <a:pt x="7390" y="2203"/>
                  </a:lnTo>
                  <a:lnTo>
                    <a:pt x="7390" y="1773"/>
                  </a:lnTo>
                  <a:lnTo>
                    <a:pt x="7390" y="1168"/>
                  </a:lnTo>
                  <a:lnTo>
                    <a:pt x="7390" y="881"/>
                  </a:lnTo>
                  <a:lnTo>
                    <a:pt x="7390" y="430"/>
                  </a:lnTo>
                  <a:lnTo>
                    <a:pt x="7390" y="43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120" y="3117240"/>
              <a:ext cx="893160" cy="442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9" y="11049"/>
                  </a:moveTo>
                  <a:lnTo>
                    <a:pt x="19667" y="10471"/>
                  </a:lnTo>
                  <a:lnTo>
                    <a:pt x="19334" y="10150"/>
                  </a:lnTo>
                  <a:lnTo>
                    <a:pt x="19172" y="9529"/>
                  </a:lnTo>
                  <a:lnTo>
                    <a:pt x="18861" y="8608"/>
                  </a:lnTo>
                  <a:lnTo>
                    <a:pt x="18528" y="7987"/>
                  </a:lnTo>
                  <a:lnTo>
                    <a:pt x="18205" y="7388"/>
                  </a:lnTo>
                  <a:lnTo>
                    <a:pt x="17872" y="7088"/>
                  </a:lnTo>
                  <a:lnTo>
                    <a:pt x="17217" y="6767"/>
                  </a:lnTo>
                  <a:lnTo>
                    <a:pt x="16744" y="6445"/>
                  </a:lnTo>
                  <a:lnTo>
                    <a:pt x="16582" y="6767"/>
                  </a:lnTo>
                  <a:lnTo>
                    <a:pt x="16088" y="6445"/>
                  </a:lnTo>
                  <a:lnTo>
                    <a:pt x="15766" y="5824"/>
                  </a:lnTo>
                  <a:lnTo>
                    <a:pt x="15927" y="4925"/>
                  </a:lnTo>
                  <a:lnTo>
                    <a:pt x="15766" y="4283"/>
                  </a:lnTo>
                  <a:lnTo>
                    <a:pt x="15594" y="4283"/>
                  </a:lnTo>
                  <a:lnTo>
                    <a:pt x="15282" y="4604"/>
                  </a:lnTo>
                  <a:lnTo>
                    <a:pt x="14949" y="4604"/>
                  </a:lnTo>
                  <a:lnTo>
                    <a:pt x="14304" y="4026"/>
                  </a:lnTo>
                  <a:lnTo>
                    <a:pt x="13810" y="4026"/>
                  </a:lnTo>
                  <a:lnTo>
                    <a:pt x="13326" y="4026"/>
                  </a:lnTo>
                  <a:lnTo>
                    <a:pt x="13498" y="4604"/>
                  </a:lnTo>
                  <a:lnTo>
                    <a:pt x="13810" y="5225"/>
                  </a:lnTo>
                  <a:lnTo>
                    <a:pt x="13165" y="6146"/>
                  </a:lnTo>
                  <a:lnTo>
                    <a:pt x="12671" y="6445"/>
                  </a:lnTo>
                  <a:lnTo>
                    <a:pt x="12348" y="5546"/>
                  </a:lnTo>
                  <a:lnTo>
                    <a:pt x="11854" y="4604"/>
                  </a:lnTo>
                  <a:lnTo>
                    <a:pt x="11703" y="4283"/>
                  </a:lnTo>
                  <a:lnTo>
                    <a:pt x="11854" y="3704"/>
                  </a:lnTo>
                  <a:lnTo>
                    <a:pt x="11854" y="2762"/>
                  </a:lnTo>
                  <a:lnTo>
                    <a:pt x="11542" y="2762"/>
                  </a:lnTo>
                  <a:lnTo>
                    <a:pt x="11220" y="2441"/>
                  </a:lnTo>
                  <a:lnTo>
                    <a:pt x="10887" y="2441"/>
                  </a:lnTo>
                  <a:lnTo>
                    <a:pt x="10725" y="2441"/>
                  </a:lnTo>
                  <a:lnTo>
                    <a:pt x="10403" y="2163"/>
                  </a:lnTo>
                  <a:lnTo>
                    <a:pt x="10070" y="1863"/>
                  </a:lnTo>
                  <a:lnTo>
                    <a:pt x="9586" y="1542"/>
                  </a:lnTo>
                  <a:lnTo>
                    <a:pt x="9103" y="899"/>
                  </a:lnTo>
                  <a:lnTo>
                    <a:pt x="8769" y="899"/>
                  </a:lnTo>
                  <a:lnTo>
                    <a:pt x="8608" y="0"/>
                  </a:lnTo>
                  <a:lnTo>
                    <a:pt x="8135" y="0"/>
                  </a:lnTo>
                  <a:lnTo>
                    <a:pt x="7963" y="899"/>
                  </a:lnTo>
                  <a:lnTo>
                    <a:pt x="7641" y="1221"/>
                  </a:lnTo>
                  <a:lnTo>
                    <a:pt x="6985" y="1542"/>
                  </a:lnTo>
                  <a:lnTo>
                    <a:pt x="6985" y="899"/>
                  </a:lnTo>
                  <a:lnTo>
                    <a:pt x="6824" y="642"/>
                  </a:lnTo>
                  <a:lnTo>
                    <a:pt x="6179" y="0"/>
                  </a:lnTo>
                  <a:lnTo>
                    <a:pt x="6018" y="0"/>
                  </a:lnTo>
                  <a:lnTo>
                    <a:pt x="6179" y="642"/>
                  </a:lnTo>
                  <a:lnTo>
                    <a:pt x="6179" y="899"/>
                  </a:lnTo>
                  <a:lnTo>
                    <a:pt x="5524" y="1863"/>
                  </a:lnTo>
                  <a:lnTo>
                    <a:pt x="5363" y="2163"/>
                  </a:lnTo>
                  <a:lnTo>
                    <a:pt x="4868" y="2762"/>
                  </a:lnTo>
                  <a:lnTo>
                    <a:pt x="4395" y="2762"/>
                  </a:lnTo>
                  <a:lnTo>
                    <a:pt x="3579" y="3704"/>
                  </a:lnTo>
                  <a:lnTo>
                    <a:pt x="3246" y="4026"/>
                  </a:lnTo>
                  <a:lnTo>
                    <a:pt x="2923" y="4925"/>
                  </a:lnTo>
                  <a:lnTo>
                    <a:pt x="2440" y="5546"/>
                  </a:lnTo>
                  <a:lnTo>
                    <a:pt x="1623" y="5824"/>
                  </a:lnTo>
                  <a:lnTo>
                    <a:pt x="1128" y="6146"/>
                  </a:lnTo>
                  <a:lnTo>
                    <a:pt x="967" y="6767"/>
                  </a:lnTo>
                  <a:lnTo>
                    <a:pt x="817" y="7666"/>
                  </a:lnTo>
                  <a:lnTo>
                    <a:pt x="656" y="7388"/>
                  </a:lnTo>
                  <a:lnTo>
                    <a:pt x="494" y="7088"/>
                  </a:lnTo>
                  <a:lnTo>
                    <a:pt x="161" y="6445"/>
                  </a:lnTo>
                  <a:lnTo>
                    <a:pt x="0" y="6767"/>
                  </a:lnTo>
                  <a:lnTo>
                    <a:pt x="161" y="7666"/>
                  </a:lnTo>
                  <a:lnTo>
                    <a:pt x="494" y="8308"/>
                  </a:lnTo>
                  <a:lnTo>
                    <a:pt x="817" y="9208"/>
                  </a:lnTo>
                  <a:lnTo>
                    <a:pt x="1128" y="9829"/>
                  </a:lnTo>
                  <a:lnTo>
                    <a:pt x="1300" y="10150"/>
                  </a:lnTo>
                  <a:lnTo>
                    <a:pt x="1128" y="11049"/>
                  </a:lnTo>
                  <a:lnTo>
                    <a:pt x="1300" y="11991"/>
                  </a:lnTo>
                  <a:lnTo>
                    <a:pt x="1784" y="12912"/>
                  </a:lnTo>
                  <a:lnTo>
                    <a:pt x="1956" y="13854"/>
                  </a:lnTo>
                  <a:lnTo>
                    <a:pt x="2278" y="14754"/>
                  </a:lnTo>
                  <a:lnTo>
                    <a:pt x="2773" y="15075"/>
                  </a:lnTo>
                  <a:lnTo>
                    <a:pt x="3246" y="15974"/>
                  </a:lnTo>
                  <a:lnTo>
                    <a:pt x="3740" y="16296"/>
                  </a:lnTo>
                  <a:lnTo>
                    <a:pt x="4062" y="17238"/>
                  </a:lnTo>
                  <a:lnTo>
                    <a:pt x="4224" y="17238"/>
                  </a:lnTo>
                  <a:lnTo>
                    <a:pt x="4557" y="17816"/>
                  </a:lnTo>
                  <a:lnTo>
                    <a:pt x="4868" y="18137"/>
                  </a:lnTo>
                  <a:lnTo>
                    <a:pt x="5363" y="18758"/>
                  </a:lnTo>
                  <a:lnTo>
                    <a:pt x="5685" y="19079"/>
                  </a:lnTo>
                  <a:lnTo>
                    <a:pt x="5857" y="19358"/>
                  </a:lnTo>
                  <a:lnTo>
                    <a:pt x="6491" y="19979"/>
                  </a:lnTo>
                  <a:lnTo>
                    <a:pt x="6985" y="19657"/>
                  </a:lnTo>
                  <a:lnTo>
                    <a:pt x="7641" y="19657"/>
                  </a:lnTo>
                  <a:lnTo>
                    <a:pt x="7963" y="19079"/>
                  </a:lnTo>
                  <a:lnTo>
                    <a:pt x="8286" y="18458"/>
                  </a:lnTo>
                  <a:lnTo>
                    <a:pt x="8447" y="17537"/>
                  </a:lnTo>
                  <a:lnTo>
                    <a:pt x="8769" y="16595"/>
                  </a:lnTo>
                  <a:lnTo>
                    <a:pt x="8941" y="16296"/>
                  </a:lnTo>
                  <a:lnTo>
                    <a:pt x="9264" y="15974"/>
                  </a:lnTo>
                  <a:lnTo>
                    <a:pt x="9919" y="16595"/>
                  </a:lnTo>
                  <a:lnTo>
                    <a:pt x="10231" y="16916"/>
                  </a:lnTo>
                  <a:lnTo>
                    <a:pt x="11048" y="16916"/>
                  </a:lnTo>
                  <a:lnTo>
                    <a:pt x="11381" y="17238"/>
                  </a:lnTo>
                  <a:lnTo>
                    <a:pt x="11703" y="17537"/>
                  </a:lnTo>
                  <a:lnTo>
                    <a:pt x="12348" y="17816"/>
                  </a:lnTo>
                  <a:lnTo>
                    <a:pt x="12671" y="17238"/>
                  </a:lnTo>
                  <a:lnTo>
                    <a:pt x="13165" y="17238"/>
                  </a:lnTo>
                  <a:lnTo>
                    <a:pt x="13810" y="17537"/>
                  </a:lnTo>
                  <a:lnTo>
                    <a:pt x="14304" y="17537"/>
                  </a:lnTo>
                  <a:lnTo>
                    <a:pt x="19989" y="11049"/>
                  </a:lnTo>
                  <a:lnTo>
                    <a:pt x="19989" y="11049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23880" y="3389400"/>
              <a:ext cx="1294560" cy="883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4493" y="3387"/>
                  </a:moveTo>
                  <a:lnTo>
                    <a:pt x="4493" y="3226"/>
                  </a:lnTo>
                  <a:lnTo>
                    <a:pt x="4612" y="3226"/>
                  </a:lnTo>
                  <a:lnTo>
                    <a:pt x="4716" y="2915"/>
                  </a:lnTo>
                  <a:lnTo>
                    <a:pt x="4827" y="2615"/>
                  </a:lnTo>
                  <a:lnTo>
                    <a:pt x="5050" y="2465"/>
                  </a:lnTo>
                  <a:lnTo>
                    <a:pt x="5280" y="2776"/>
                  </a:lnTo>
                  <a:lnTo>
                    <a:pt x="5503" y="2915"/>
                  </a:lnTo>
                  <a:lnTo>
                    <a:pt x="5733" y="2915"/>
                  </a:lnTo>
                  <a:lnTo>
                    <a:pt x="6060" y="2776"/>
                  </a:lnTo>
                  <a:lnTo>
                    <a:pt x="6402" y="2776"/>
                  </a:lnTo>
                  <a:lnTo>
                    <a:pt x="6736" y="2915"/>
                  </a:lnTo>
                  <a:lnTo>
                    <a:pt x="7078" y="2915"/>
                  </a:lnTo>
                  <a:lnTo>
                    <a:pt x="7308" y="2615"/>
                  </a:lnTo>
                  <a:lnTo>
                    <a:pt x="7635" y="2465"/>
                  </a:lnTo>
                  <a:lnTo>
                    <a:pt x="7865" y="2465"/>
                  </a:lnTo>
                  <a:lnTo>
                    <a:pt x="8088" y="2615"/>
                  </a:lnTo>
                  <a:lnTo>
                    <a:pt x="8310" y="2776"/>
                  </a:lnTo>
                  <a:lnTo>
                    <a:pt x="8429" y="3076"/>
                  </a:lnTo>
                  <a:lnTo>
                    <a:pt x="8652" y="2915"/>
                  </a:lnTo>
                  <a:lnTo>
                    <a:pt x="8986" y="2615"/>
                  </a:lnTo>
                  <a:lnTo>
                    <a:pt x="9098" y="2465"/>
                  </a:lnTo>
                  <a:lnTo>
                    <a:pt x="9320" y="2144"/>
                  </a:lnTo>
                  <a:lnTo>
                    <a:pt x="9773" y="2004"/>
                  </a:lnTo>
                  <a:lnTo>
                    <a:pt x="10330" y="1693"/>
                  </a:lnTo>
                  <a:lnTo>
                    <a:pt x="10442" y="1854"/>
                  </a:lnTo>
                  <a:lnTo>
                    <a:pt x="10784" y="1383"/>
                  </a:lnTo>
                  <a:lnTo>
                    <a:pt x="10784" y="1083"/>
                  </a:lnTo>
                  <a:lnTo>
                    <a:pt x="10895" y="611"/>
                  </a:lnTo>
                  <a:lnTo>
                    <a:pt x="11125" y="322"/>
                  </a:lnTo>
                  <a:lnTo>
                    <a:pt x="11563" y="0"/>
                  </a:lnTo>
                  <a:lnTo>
                    <a:pt x="11682" y="0"/>
                  </a:lnTo>
                  <a:lnTo>
                    <a:pt x="12469" y="450"/>
                  </a:lnTo>
                  <a:lnTo>
                    <a:pt x="12581" y="922"/>
                  </a:lnTo>
                  <a:lnTo>
                    <a:pt x="13026" y="1383"/>
                  </a:lnTo>
                  <a:lnTo>
                    <a:pt x="13257" y="1854"/>
                  </a:lnTo>
                  <a:lnTo>
                    <a:pt x="13479" y="2304"/>
                  </a:lnTo>
                  <a:lnTo>
                    <a:pt x="13932" y="2776"/>
                  </a:lnTo>
                  <a:lnTo>
                    <a:pt x="14378" y="3226"/>
                  </a:lnTo>
                  <a:lnTo>
                    <a:pt x="14712" y="3676"/>
                  </a:lnTo>
                  <a:lnTo>
                    <a:pt x="15054" y="3998"/>
                  </a:lnTo>
                  <a:lnTo>
                    <a:pt x="15277" y="4309"/>
                  </a:lnTo>
                  <a:lnTo>
                    <a:pt x="15611" y="4920"/>
                  </a:lnTo>
                  <a:lnTo>
                    <a:pt x="15834" y="5531"/>
                  </a:lnTo>
                  <a:lnTo>
                    <a:pt x="15952" y="6002"/>
                  </a:lnTo>
                  <a:lnTo>
                    <a:pt x="15952" y="6452"/>
                  </a:lnTo>
                  <a:lnTo>
                    <a:pt x="15952" y="7224"/>
                  </a:lnTo>
                  <a:lnTo>
                    <a:pt x="16175" y="8617"/>
                  </a:lnTo>
                  <a:lnTo>
                    <a:pt x="16628" y="9078"/>
                  </a:lnTo>
                  <a:lnTo>
                    <a:pt x="17965" y="10311"/>
                  </a:lnTo>
                  <a:lnTo>
                    <a:pt x="18418" y="9839"/>
                  </a:lnTo>
                  <a:lnTo>
                    <a:pt x="18760" y="9378"/>
                  </a:lnTo>
                  <a:lnTo>
                    <a:pt x="18983" y="9228"/>
                  </a:lnTo>
                  <a:lnTo>
                    <a:pt x="19540" y="9539"/>
                  </a:lnTo>
                  <a:lnTo>
                    <a:pt x="19881" y="10000"/>
                  </a:lnTo>
                  <a:lnTo>
                    <a:pt x="19993" y="10311"/>
                  </a:lnTo>
                  <a:lnTo>
                    <a:pt x="19993" y="10911"/>
                  </a:lnTo>
                  <a:lnTo>
                    <a:pt x="19993" y="11533"/>
                  </a:lnTo>
                  <a:lnTo>
                    <a:pt x="19770" y="11683"/>
                  </a:lnTo>
                  <a:lnTo>
                    <a:pt x="19428" y="12144"/>
                  </a:lnTo>
                  <a:lnTo>
                    <a:pt x="19094" y="12144"/>
                  </a:lnTo>
                  <a:lnTo>
                    <a:pt x="18871" y="12454"/>
                  </a:lnTo>
                  <a:lnTo>
                    <a:pt x="18983" y="12304"/>
                  </a:lnTo>
                  <a:lnTo>
                    <a:pt x="19094" y="12144"/>
                  </a:lnTo>
                  <a:lnTo>
                    <a:pt x="18983" y="12004"/>
                  </a:lnTo>
                  <a:lnTo>
                    <a:pt x="18760" y="11844"/>
                  </a:lnTo>
                  <a:lnTo>
                    <a:pt x="18760" y="11533"/>
                  </a:lnTo>
                  <a:lnTo>
                    <a:pt x="18648" y="11533"/>
                  </a:lnTo>
                  <a:lnTo>
                    <a:pt x="18530" y="11683"/>
                  </a:lnTo>
                  <a:lnTo>
                    <a:pt x="18530" y="11844"/>
                  </a:lnTo>
                  <a:lnTo>
                    <a:pt x="18648" y="12304"/>
                  </a:lnTo>
                  <a:lnTo>
                    <a:pt x="18530" y="12454"/>
                  </a:lnTo>
                  <a:lnTo>
                    <a:pt x="18307" y="12605"/>
                  </a:lnTo>
                  <a:lnTo>
                    <a:pt x="18530" y="12765"/>
                  </a:lnTo>
                  <a:lnTo>
                    <a:pt x="18530" y="13215"/>
                  </a:lnTo>
                  <a:lnTo>
                    <a:pt x="18530" y="13537"/>
                  </a:lnTo>
                  <a:lnTo>
                    <a:pt x="18648" y="13215"/>
                  </a:lnTo>
                  <a:lnTo>
                    <a:pt x="18871" y="13076"/>
                  </a:lnTo>
                  <a:lnTo>
                    <a:pt x="18760" y="13376"/>
                  </a:lnTo>
                  <a:lnTo>
                    <a:pt x="18760" y="13687"/>
                  </a:lnTo>
                  <a:lnTo>
                    <a:pt x="18648" y="13987"/>
                  </a:lnTo>
                  <a:lnTo>
                    <a:pt x="18530" y="14459"/>
                  </a:lnTo>
                  <a:lnTo>
                    <a:pt x="18530" y="14759"/>
                  </a:lnTo>
                  <a:lnTo>
                    <a:pt x="18648" y="14759"/>
                  </a:lnTo>
                  <a:lnTo>
                    <a:pt x="18760" y="15070"/>
                  </a:lnTo>
                  <a:lnTo>
                    <a:pt x="18760" y="15380"/>
                  </a:lnTo>
                  <a:lnTo>
                    <a:pt x="18760" y="15531"/>
                  </a:lnTo>
                  <a:lnTo>
                    <a:pt x="18760" y="15841"/>
                  </a:lnTo>
                  <a:lnTo>
                    <a:pt x="18760" y="16313"/>
                  </a:lnTo>
                  <a:lnTo>
                    <a:pt x="18760" y="16924"/>
                  </a:lnTo>
                  <a:lnTo>
                    <a:pt x="18307" y="17074"/>
                  </a:lnTo>
                  <a:lnTo>
                    <a:pt x="18076" y="17074"/>
                  </a:lnTo>
                  <a:lnTo>
                    <a:pt x="17750" y="16924"/>
                  </a:lnTo>
                  <a:lnTo>
                    <a:pt x="17408" y="16763"/>
                  </a:lnTo>
                  <a:lnTo>
                    <a:pt x="17185" y="16313"/>
                  </a:lnTo>
                  <a:lnTo>
                    <a:pt x="17074" y="16452"/>
                  </a:lnTo>
                  <a:lnTo>
                    <a:pt x="16844" y="16602"/>
                  </a:lnTo>
                  <a:lnTo>
                    <a:pt x="16628" y="16452"/>
                  </a:lnTo>
                  <a:lnTo>
                    <a:pt x="16517" y="16602"/>
                  </a:lnTo>
                  <a:lnTo>
                    <a:pt x="16287" y="16602"/>
                  </a:lnTo>
                  <a:lnTo>
                    <a:pt x="16064" y="16452"/>
                  </a:lnTo>
                  <a:lnTo>
                    <a:pt x="15611" y="16313"/>
                  </a:lnTo>
                  <a:lnTo>
                    <a:pt x="15277" y="16452"/>
                  </a:lnTo>
                  <a:lnTo>
                    <a:pt x="14824" y="16602"/>
                  </a:lnTo>
                  <a:lnTo>
                    <a:pt x="14378" y="17074"/>
                  </a:lnTo>
                  <a:lnTo>
                    <a:pt x="14036" y="17374"/>
                  </a:lnTo>
                  <a:lnTo>
                    <a:pt x="13591" y="17685"/>
                  </a:lnTo>
                  <a:lnTo>
                    <a:pt x="13257" y="17985"/>
                  </a:lnTo>
                  <a:lnTo>
                    <a:pt x="13138" y="18457"/>
                  </a:lnTo>
                  <a:lnTo>
                    <a:pt x="12915" y="18907"/>
                  </a:lnTo>
                  <a:lnTo>
                    <a:pt x="12581" y="19378"/>
                  </a:lnTo>
                  <a:lnTo>
                    <a:pt x="12247" y="19678"/>
                  </a:lnTo>
                  <a:lnTo>
                    <a:pt x="11682" y="19539"/>
                  </a:lnTo>
                  <a:lnTo>
                    <a:pt x="11341" y="19539"/>
                  </a:lnTo>
                  <a:lnTo>
                    <a:pt x="11006" y="19539"/>
                  </a:lnTo>
                  <a:lnTo>
                    <a:pt x="10561" y="19678"/>
                  </a:lnTo>
                  <a:lnTo>
                    <a:pt x="10219" y="19678"/>
                  </a:lnTo>
                  <a:lnTo>
                    <a:pt x="9885" y="19989"/>
                  </a:lnTo>
                  <a:lnTo>
                    <a:pt x="9432" y="19989"/>
                  </a:lnTo>
                  <a:lnTo>
                    <a:pt x="9098" y="19989"/>
                  </a:lnTo>
                  <a:lnTo>
                    <a:pt x="8756" y="19829"/>
                  </a:lnTo>
                  <a:lnTo>
                    <a:pt x="8310" y="19829"/>
                  </a:lnTo>
                  <a:lnTo>
                    <a:pt x="7976" y="19989"/>
                  </a:lnTo>
                  <a:lnTo>
                    <a:pt x="7523" y="19989"/>
                  </a:lnTo>
                  <a:lnTo>
                    <a:pt x="7078" y="19989"/>
                  </a:lnTo>
                  <a:lnTo>
                    <a:pt x="6625" y="19989"/>
                  </a:lnTo>
                  <a:lnTo>
                    <a:pt x="6625" y="19539"/>
                  </a:lnTo>
                  <a:lnTo>
                    <a:pt x="6966" y="19068"/>
                  </a:lnTo>
                  <a:lnTo>
                    <a:pt x="6513" y="18907"/>
                  </a:lnTo>
                  <a:lnTo>
                    <a:pt x="6060" y="18617"/>
                  </a:lnTo>
                  <a:lnTo>
                    <a:pt x="5615" y="17985"/>
                  </a:lnTo>
                  <a:lnTo>
                    <a:pt x="5392" y="17685"/>
                  </a:lnTo>
                  <a:lnTo>
                    <a:pt x="5503" y="17374"/>
                  </a:lnTo>
                  <a:lnTo>
                    <a:pt x="5733" y="17074"/>
                  </a:lnTo>
                  <a:lnTo>
                    <a:pt x="5503" y="16924"/>
                  </a:lnTo>
                  <a:lnTo>
                    <a:pt x="5280" y="17074"/>
                  </a:lnTo>
                  <a:lnTo>
                    <a:pt x="5050" y="17535"/>
                  </a:lnTo>
                  <a:lnTo>
                    <a:pt x="4939" y="17685"/>
                  </a:lnTo>
                  <a:lnTo>
                    <a:pt x="4716" y="17846"/>
                  </a:lnTo>
                  <a:lnTo>
                    <a:pt x="4382" y="17685"/>
                  </a:lnTo>
                  <a:lnTo>
                    <a:pt x="4159" y="17374"/>
                  </a:lnTo>
                  <a:lnTo>
                    <a:pt x="3929" y="17374"/>
                  </a:lnTo>
                  <a:lnTo>
                    <a:pt x="3706" y="17374"/>
                  </a:lnTo>
                  <a:lnTo>
                    <a:pt x="3260" y="17213"/>
                  </a:lnTo>
                  <a:lnTo>
                    <a:pt x="2919" y="16763"/>
                  </a:lnTo>
                  <a:lnTo>
                    <a:pt x="3149" y="16602"/>
                  </a:lnTo>
                  <a:lnTo>
                    <a:pt x="3364" y="16602"/>
                  </a:lnTo>
                  <a:lnTo>
                    <a:pt x="3038" y="16313"/>
                  </a:lnTo>
                  <a:lnTo>
                    <a:pt x="3038" y="15991"/>
                  </a:lnTo>
                  <a:lnTo>
                    <a:pt x="3149" y="15681"/>
                  </a:lnTo>
                  <a:lnTo>
                    <a:pt x="2919" y="15380"/>
                  </a:lnTo>
                  <a:lnTo>
                    <a:pt x="2584" y="15230"/>
                  </a:lnTo>
                  <a:lnTo>
                    <a:pt x="2354" y="15070"/>
                  </a:lnTo>
                  <a:lnTo>
                    <a:pt x="2027" y="14909"/>
                  </a:lnTo>
                  <a:lnTo>
                    <a:pt x="1797" y="14759"/>
                  </a:lnTo>
                  <a:lnTo>
                    <a:pt x="1686" y="14759"/>
                  </a:lnTo>
                  <a:lnTo>
                    <a:pt x="1574" y="14620"/>
                  </a:lnTo>
                  <a:lnTo>
                    <a:pt x="1344" y="14298"/>
                  </a:lnTo>
                  <a:lnTo>
                    <a:pt x="1233" y="13987"/>
                  </a:lnTo>
                  <a:lnTo>
                    <a:pt x="1344" y="13687"/>
                  </a:lnTo>
                  <a:lnTo>
                    <a:pt x="1121" y="13376"/>
                  </a:lnTo>
                  <a:lnTo>
                    <a:pt x="899" y="13076"/>
                  </a:lnTo>
                  <a:lnTo>
                    <a:pt x="564" y="12765"/>
                  </a:lnTo>
                  <a:lnTo>
                    <a:pt x="342" y="12454"/>
                  </a:lnTo>
                  <a:lnTo>
                    <a:pt x="0" y="12144"/>
                  </a:lnTo>
                  <a:lnTo>
                    <a:pt x="223" y="11844"/>
                  </a:lnTo>
                  <a:lnTo>
                    <a:pt x="453" y="11683"/>
                  </a:lnTo>
                  <a:lnTo>
                    <a:pt x="564" y="11683"/>
                  </a:lnTo>
                  <a:lnTo>
                    <a:pt x="780" y="11683"/>
                  </a:lnTo>
                  <a:lnTo>
                    <a:pt x="899" y="11383"/>
                  </a:lnTo>
                  <a:lnTo>
                    <a:pt x="1010" y="11233"/>
                  </a:lnTo>
                  <a:lnTo>
                    <a:pt x="1344" y="11233"/>
                  </a:lnTo>
                  <a:lnTo>
                    <a:pt x="1574" y="11233"/>
                  </a:lnTo>
                  <a:lnTo>
                    <a:pt x="1797" y="10911"/>
                  </a:lnTo>
                  <a:lnTo>
                    <a:pt x="1916" y="10611"/>
                  </a:lnTo>
                  <a:lnTo>
                    <a:pt x="1916" y="10450"/>
                  </a:lnTo>
                  <a:lnTo>
                    <a:pt x="1916" y="10311"/>
                  </a:lnTo>
                  <a:lnTo>
                    <a:pt x="1916" y="9839"/>
                  </a:lnTo>
                  <a:lnTo>
                    <a:pt x="2027" y="9378"/>
                  </a:lnTo>
                  <a:lnTo>
                    <a:pt x="2131" y="9228"/>
                  </a:lnTo>
                  <a:lnTo>
                    <a:pt x="2243" y="8917"/>
                  </a:lnTo>
                  <a:lnTo>
                    <a:pt x="2354" y="8617"/>
                  </a:lnTo>
                  <a:lnTo>
                    <a:pt x="2473" y="7996"/>
                  </a:lnTo>
                  <a:lnTo>
                    <a:pt x="2473" y="7685"/>
                  </a:lnTo>
                  <a:lnTo>
                    <a:pt x="2584" y="7385"/>
                  </a:lnTo>
                  <a:lnTo>
                    <a:pt x="2696" y="6924"/>
                  </a:lnTo>
                  <a:lnTo>
                    <a:pt x="2807" y="6452"/>
                  </a:lnTo>
                  <a:lnTo>
                    <a:pt x="2919" y="6002"/>
                  </a:lnTo>
                  <a:lnTo>
                    <a:pt x="2919" y="5691"/>
                  </a:lnTo>
                  <a:lnTo>
                    <a:pt x="3149" y="5080"/>
                  </a:lnTo>
                  <a:lnTo>
                    <a:pt x="3149" y="4770"/>
                  </a:lnTo>
                  <a:lnTo>
                    <a:pt x="3476" y="4609"/>
                  </a:lnTo>
                  <a:lnTo>
                    <a:pt x="3595" y="4309"/>
                  </a:lnTo>
                  <a:lnTo>
                    <a:pt x="3817" y="4309"/>
                  </a:lnTo>
                  <a:lnTo>
                    <a:pt x="4040" y="4159"/>
                  </a:lnTo>
                  <a:lnTo>
                    <a:pt x="4270" y="3837"/>
                  </a:lnTo>
                  <a:lnTo>
                    <a:pt x="4493" y="3387"/>
                  </a:lnTo>
                  <a:lnTo>
                    <a:pt x="4493" y="3387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74440" y="1658520"/>
              <a:ext cx="973800" cy="1561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1485" y="430"/>
                  </a:moveTo>
                  <a:lnTo>
                    <a:pt x="11031" y="176"/>
                  </a:lnTo>
                  <a:lnTo>
                    <a:pt x="10745" y="176"/>
                  </a:lnTo>
                  <a:lnTo>
                    <a:pt x="10597" y="176"/>
                  </a:lnTo>
                  <a:lnTo>
                    <a:pt x="10291" y="255"/>
                  </a:lnTo>
                  <a:lnTo>
                    <a:pt x="9995" y="176"/>
                  </a:lnTo>
                  <a:lnTo>
                    <a:pt x="9541" y="255"/>
                  </a:lnTo>
                  <a:lnTo>
                    <a:pt x="9245" y="255"/>
                  </a:lnTo>
                  <a:lnTo>
                    <a:pt x="8959" y="255"/>
                  </a:lnTo>
                  <a:lnTo>
                    <a:pt x="8653" y="255"/>
                  </a:lnTo>
                  <a:lnTo>
                    <a:pt x="8505" y="255"/>
                  </a:lnTo>
                  <a:lnTo>
                    <a:pt x="8199" y="430"/>
                  </a:lnTo>
                  <a:lnTo>
                    <a:pt x="8051" y="430"/>
                  </a:lnTo>
                  <a:lnTo>
                    <a:pt x="8199" y="255"/>
                  </a:lnTo>
                  <a:lnTo>
                    <a:pt x="8051" y="176"/>
                  </a:lnTo>
                  <a:lnTo>
                    <a:pt x="7755" y="176"/>
                  </a:lnTo>
                  <a:lnTo>
                    <a:pt x="7607" y="345"/>
                  </a:lnTo>
                  <a:lnTo>
                    <a:pt x="7449" y="345"/>
                  </a:lnTo>
                  <a:lnTo>
                    <a:pt x="7449" y="176"/>
                  </a:lnTo>
                  <a:lnTo>
                    <a:pt x="7311" y="85"/>
                  </a:lnTo>
                  <a:lnTo>
                    <a:pt x="7163" y="0"/>
                  </a:lnTo>
                  <a:lnTo>
                    <a:pt x="7015" y="85"/>
                  </a:lnTo>
                  <a:lnTo>
                    <a:pt x="6867" y="176"/>
                  </a:lnTo>
                  <a:lnTo>
                    <a:pt x="7015" y="345"/>
                  </a:lnTo>
                  <a:lnTo>
                    <a:pt x="6867" y="430"/>
                  </a:lnTo>
                  <a:lnTo>
                    <a:pt x="6709" y="521"/>
                  </a:lnTo>
                  <a:lnTo>
                    <a:pt x="6561" y="612"/>
                  </a:lnTo>
                  <a:lnTo>
                    <a:pt x="6867" y="691"/>
                  </a:lnTo>
                  <a:lnTo>
                    <a:pt x="7015" y="776"/>
                  </a:lnTo>
                  <a:lnTo>
                    <a:pt x="6709" y="776"/>
                  </a:lnTo>
                  <a:lnTo>
                    <a:pt x="6265" y="776"/>
                  </a:lnTo>
                  <a:lnTo>
                    <a:pt x="6117" y="867"/>
                  </a:lnTo>
                  <a:lnTo>
                    <a:pt x="6117" y="1042"/>
                  </a:lnTo>
                  <a:lnTo>
                    <a:pt x="6117" y="1133"/>
                  </a:lnTo>
                  <a:lnTo>
                    <a:pt x="5960" y="1133"/>
                  </a:lnTo>
                  <a:lnTo>
                    <a:pt x="5960" y="1303"/>
                  </a:lnTo>
                  <a:lnTo>
                    <a:pt x="6117" y="1303"/>
                  </a:lnTo>
                  <a:lnTo>
                    <a:pt x="6265" y="1479"/>
                  </a:lnTo>
                  <a:lnTo>
                    <a:pt x="6265" y="1570"/>
                  </a:lnTo>
                  <a:lnTo>
                    <a:pt x="6117" y="1570"/>
                  </a:lnTo>
                  <a:lnTo>
                    <a:pt x="5812" y="1570"/>
                  </a:lnTo>
                  <a:lnTo>
                    <a:pt x="5673" y="1642"/>
                  </a:lnTo>
                  <a:lnTo>
                    <a:pt x="5525" y="1570"/>
                  </a:lnTo>
                  <a:lnTo>
                    <a:pt x="5377" y="1388"/>
                  </a:lnTo>
                  <a:lnTo>
                    <a:pt x="5377" y="1570"/>
                  </a:lnTo>
                  <a:lnTo>
                    <a:pt x="5525" y="1733"/>
                  </a:lnTo>
                  <a:lnTo>
                    <a:pt x="5377" y="1824"/>
                  </a:lnTo>
                  <a:lnTo>
                    <a:pt x="5220" y="1733"/>
                  </a:lnTo>
                  <a:lnTo>
                    <a:pt x="5072" y="1642"/>
                  </a:lnTo>
                  <a:lnTo>
                    <a:pt x="4924" y="1733"/>
                  </a:lnTo>
                  <a:lnTo>
                    <a:pt x="4924" y="1824"/>
                  </a:lnTo>
                  <a:lnTo>
                    <a:pt x="5072" y="1915"/>
                  </a:lnTo>
                  <a:lnTo>
                    <a:pt x="5220" y="1915"/>
                  </a:lnTo>
                  <a:lnTo>
                    <a:pt x="5072" y="2000"/>
                  </a:lnTo>
                  <a:lnTo>
                    <a:pt x="4924" y="2000"/>
                  </a:lnTo>
                  <a:lnTo>
                    <a:pt x="5072" y="2079"/>
                  </a:lnTo>
                  <a:lnTo>
                    <a:pt x="5072" y="2170"/>
                  </a:lnTo>
                  <a:lnTo>
                    <a:pt x="5220" y="2170"/>
                  </a:lnTo>
                  <a:lnTo>
                    <a:pt x="5377" y="2255"/>
                  </a:lnTo>
                  <a:lnTo>
                    <a:pt x="5377" y="2345"/>
                  </a:lnTo>
                  <a:lnTo>
                    <a:pt x="5220" y="2345"/>
                  </a:lnTo>
                  <a:lnTo>
                    <a:pt x="5072" y="2345"/>
                  </a:lnTo>
                  <a:lnTo>
                    <a:pt x="4924" y="2345"/>
                  </a:lnTo>
                  <a:lnTo>
                    <a:pt x="4776" y="2255"/>
                  </a:lnTo>
                  <a:lnTo>
                    <a:pt x="4618" y="2345"/>
                  </a:lnTo>
                  <a:lnTo>
                    <a:pt x="4618" y="2436"/>
                  </a:lnTo>
                  <a:lnTo>
                    <a:pt x="4618" y="2521"/>
                  </a:lnTo>
                  <a:lnTo>
                    <a:pt x="4618" y="2600"/>
                  </a:lnTo>
                  <a:lnTo>
                    <a:pt x="4776" y="2600"/>
                  </a:lnTo>
                  <a:lnTo>
                    <a:pt x="4924" y="2691"/>
                  </a:lnTo>
                  <a:lnTo>
                    <a:pt x="5072" y="2691"/>
                  </a:lnTo>
                  <a:lnTo>
                    <a:pt x="5072" y="2782"/>
                  </a:lnTo>
                  <a:lnTo>
                    <a:pt x="5220" y="2873"/>
                  </a:lnTo>
                  <a:lnTo>
                    <a:pt x="5220" y="3036"/>
                  </a:lnTo>
                  <a:lnTo>
                    <a:pt x="5377" y="3127"/>
                  </a:lnTo>
                  <a:lnTo>
                    <a:pt x="5072" y="2958"/>
                  </a:lnTo>
                  <a:lnTo>
                    <a:pt x="4924" y="3036"/>
                  </a:lnTo>
                  <a:lnTo>
                    <a:pt x="4924" y="3212"/>
                  </a:lnTo>
                  <a:lnTo>
                    <a:pt x="5072" y="3212"/>
                  </a:lnTo>
                  <a:lnTo>
                    <a:pt x="5220" y="3303"/>
                  </a:lnTo>
                  <a:lnTo>
                    <a:pt x="5377" y="3394"/>
                  </a:lnTo>
                  <a:lnTo>
                    <a:pt x="5072" y="3394"/>
                  </a:lnTo>
                  <a:lnTo>
                    <a:pt x="4924" y="3303"/>
                  </a:lnTo>
                  <a:lnTo>
                    <a:pt x="4618" y="3303"/>
                  </a:lnTo>
                  <a:lnTo>
                    <a:pt x="4470" y="3394"/>
                  </a:lnTo>
                  <a:lnTo>
                    <a:pt x="4322" y="3648"/>
                  </a:lnTo>
                  <a:lnTo>
                    <a:pt x="4322" y="3830"/>
                  </a:lnTo>
                  <a:lnTo>
                    <a:pt x="4322" y="3994"/>
                  </a:lnTo>
                  <a:lnTo>
                    <a:pt x="4036" y="4085"/>
                  </a:lnTo>
                  <a:lnTo>
                    <a:pt x="3730" y="4085"/>
                  </a:lnTo>
                  <a:lnTo>
                    <a:pt x="3286" y="4085"/>
                  </a:lnTo>
                  <a:lnTo>
                    <a:pt x="3434" y="4170"/>
                  </a:lnTo>
                  <a:lnTo>
                    <a:pt x="3730" y="4261"/>
                  </a:lnTo>
                  <a:lnTo>
                    <a:pt x="4036" y="4261"/>
                  </a:lnTo>
                  <a:lnTo>
                    <a:pt x="4184" y="4261"/>
                  </a:lnTo>
                  <a:lnTo>
                    <a:pt x="4184" y="4430"/>
                  </a:lnTo>
                  <a:lnTo>
                    <a:pt x="4322" y="4606"/>
                  </a:lnTo>
                  <a:lnTo>
                    <a:pt x="4322" y="4697"/>
                  </a:lnTo>
                  <a:lnTo>
                    <a:pt x="4618" y="4606"/>
                  </a:lnTo>
                  <a:lnTo>
                    <a:pt x="4924" y="4515"/>
                  </a:lnTo>
                  <a:lnTo>
                    <a:pt x="5072" y="4430"/>
                  </a:lnTo>
                  <a:lnTo>
                    <a:pt x="5220" y="4345"/>
                  </a:lnTo>
                  <a:lnTo>
                    <a:pt x="5377" y="4430"/>
                  </a:lnTo>
                  <a:lnTo>
                    <a:pt x="5220" y="4606"/>
                  </a:lnTo>
                  <a:lnTo>
                    <a:pt x="5072" y="4697"/>
                  </a:lnTo>
                  <a:lnTo>
                    <a:pt x="5072" y="4782"/>
                  </a:lnTo>
                  <a:lnTo>
                    <a:pt x="4776" y="4952"/>
                  </a:lnTo>
                  <a:lnTo>
                    <a:pt x="4618" y="5042"/>
                  </a:lnTo>
                  <a:lnTo>
                    <a:pt x="4470" y="5303"/>
                  </a:lnTo>
                  <a:lnTo>
                    <a:pt x="4470" y="5564"/>
                  </a:lnTo>
                  <a:lnTo>
                    <a:pt x="4322" y="5733"/>
                  </a:lnTo>
                  <a:lnTo>
                    <a:pt x="4184" y="5818"/>
                  </a:lnTo>
                  <a:lnTo>
                    <a:pt x="4036" y="6085"/>
                  </a:lnTo>
                  <a:lnTo>
                    <a:pt x="4036" y="6170"/>
                  </a:lnTo>
                  <a:lnTo>
                    <a:pt x="4036" y="6339"/>
                  </a:lnTo>
                  <a:lnTo>
                    <a:pt x="3878" y="6606"/>
                  </a:lnTo>
                  <a:lnTo>
                    <a:pt x="3730" y="6776"/>
                  </a:lnTo>
                  <a:lnTo>
                    <a:pt x="3730" y="7042"/>
                  </a:lnTo>
                  <a:lnTo>
                    <a:pt x="3582" y="7127"/>
                  </a:lnTo>
                  <a:lnTo>
                    <a:pt x="3434" y="7297"/>
                  </a:lnTo>
                  <a:lnTo>
                    <a:pt x="3286" y="7388"/>
                  </a:lnTo>
                  <a:lnTo>
                    <a:pt x="3286" y="7564"/>
                  </a:lnTo>
                  <a:lnTo>
                    <a:pt x="3730" y="7564"/>
                  </a:lnTo>
                  <a:lnTo>
                    <a:pt x="3878" y="7388"/>
                  </a:lnTo>
                  <a:lnTo>
                    <a:pt x="4036" y="7212"/>
                  </a:lnTo>
                  <a:lnTo>
                    <a:pt x="4184" y="6958"/>
                  </a:lnTo>
                  <a:lnTo>
                    <a:pt x="4184" y="6776"/>
                  </a:lnTo>
                  <a:lnTo>
                    <a:pt x="4470" y="6606"/>
                  </a:lnTo>
                  <a:lnTo>
                    <a:pt x="4470" y="6521"/>
                  </a:lnTo>
                  <a:lnTo>
                    <a:pt x="4470" y="6430"/>
                  </a:lnTo>
                  <a:lnTo>
                    <a:pt x="4470" y="6339"/>
                  </a:lnTo>
                  <a:lnTo>
                    <a:pt x="4470" y="6085"/>
                  </a:lnTo>
                  <a:lnTo>
                    <a:pt x="4618" y="6000"/>
                  </a:lnTo>
                  <a:lnTo>
                    <a:pt x="4776" y="5818"/>
                  </a:lnTo>
                  <a:lnTo>
                    <a:pt x="5072" y="5733"/>
                  </a:lnTo>
                  <a:lnTo>
                    <a:pt x="5220" y="5655"/>
                  </a:lnTo>
                  <a:lnTo>
                    <a:pt x="5220" y="5733"/>
                  </a:lnTo>
                  <a:lnTo>
                    <a:pt x="5072" y="5909"/>
                  </a:lnTo>
                  <a:lnTo>
                    <a:pt x="4924" y="6000"/>
                  </a:lnTo>
                  <a:lnTo>
                    <a:pt x="4776" y="6170"/>
                  </a:lnTo>
                  <a:lnTo>
                    <a:pt x="4776" y="6339"/>
                  </a:lnTo>
                  <a:lnTo>
                    <a:pt x="4924" y="6430"/>
                  </a:lnTo>
                  <a:lnTo>
                    <a:pt x="5072" y="6430"/>
                  </a:lnTo>
                  <a:lnTo>
                    <a:pt x="5072" y="6261"/>
                  </a:lnTo>
                  <a:lnTo>
                    <a:pt x="5220" y="6261"/>
                  </a:lnTo>
                  <a:lnTo>
                    <a:pt x="5220" y="6430"/>
                  </a:lnTo>
                  <a:lnTo>
                    <a:pt x="5377" y="6430"/>
                  </a:lnTo>
                  <a:lnTo>
                    <a:pt x="5525" y="6261"/>
                  </a:lnTo>
                  <a:lnTo>
                    <a:pt x="5525" y="6085"/>
                  </a:lnTo>
                  <a:lnTo>
                    <a:pt x="5673" y="6085"/>
                  </a:lnTo>
                  <a:lnTo>
                    <a:pt x="5960" y="5909"/>
                  </a:lnTo>
                  <a:lnTo>
                    <a:pt x="5960" y="5818"/>
                  </a:lnTo>
                  <a:lnTo>
                    <a:pt x="5960" y="5909"/>
                  </a:lnTo>
                  <a:lnTo>
                    <a:pt x="5960" y="6000"/>
                  </a:lnTo>
                  <a:lnTo>
                    <a:pt x="6117" y="6085"/>
                  </a:lnTo>
                  <a:lnTo>
                    <a:pt x="6117" y="6261"/>
                  </a:lnTo>
                  <a:lnTo>
                    <a:pt x="5812" y="6261"/>
                  </a:lnTo>
                  <a:lnTo>
                    <a:pt x="5812" y="6339"/>
                  </a:lnTo>
                  <a:lnTo>
                    <a:pt x="5812" y="6430"/>
                  </a:lnTo>
                  <a:lnTo>
                    <a:pt x="5673" y="6685"/>
                  </a:lnTo>
                  <a:lnTo>
                    <a:pt x="5673" y="6776"/>
                  </a:lnTo>
                  <a:lnTo>
                    <a:pt x="5673" y="6958"/>
                  </a:lnTo>
                  <a:lnTo>
                    <a:pt x="5812" y="7388"/>
                  </a:lnTo>
                  <a:lnTo>
                    <a:pt x="5673" y="7388"/>
                  </a:lnTo>
                  <a:lnTo>
                    <a:pt x="5525" y="7479"/>
                  </a:lnTo>
                  <a:lnTo>
                    <a:pt x="5525" y="7564"/>
                  </a:lnTo>
                  <a:lnTo>
                    <a:pt x="5377" y="7642"/>
                  </a:lnTo>
                  <a:lnTo>
                    <a:pt x="5220" y="7824"/>
                  </a:lnTo>
                  <a:lnTo>
                    <a:pt x="5072" y="7915"/>
                  </a:lnTo>
                  <a:lnTo>
                    <a:pt x="5072" y="7994"/>
                  </a:lnTo>
                  <a:lnTo>
                    <a:pt x="4924" y="8085"/>
                  </a:lnTo>
                  <a:lnTo>
                    <a:pt x="4776" y="8170"/>
                  </a:lnTo>
                  <a:lnTo>
                    <a:pt x="4776" y="8255"/>
                  </a:lnTo>
                  <a:lnTo>
                    <a:pt x="4776" y="8345"/>
                  </a:lnTo>
                  <a:lnTo>
                    <a:pt x="4776" y="8430"/>
                  </a:lnTo>
                  <a:lnTo>
                    <a:pt x="4618" y="8430"/>
                  </a:lnTo>
                  <a:lnTo>
                    <a:pt x="4618" y="8345"/>
                  </a:lnTo>
                  <a:lnTo>
                    <a:pt x="4470" y="8430"/>
                  </a:lnTo>
                  <a:lnTo>
                    <a:pt x="4322" y="8521"/>
                  </a:lnTo>
                  <a:lnTo>
                    <a:pt x="4322" y="8691"/>
                  </a:lnTo>
                  <a:lnTo>
                    <a:pt x="4470" y="8867"/>
                  </a:lnTo>
                  <a:lnTo>
                    <a:pt x="4618" y="8952"/>
                  </a:lnTo>
                  <a:lnTo>
                    <a:pt x="4776" y="9127"/>
                  </a:lnTo>
                  <a:lnTo>
                    <a:pt x="4776" y="9212"/>
                  </a:lnTo>
                  <a:lnTo>
                    <a:pt x="4924" y="9212"/>
                  </a:lnTo>
                  <a:lnTo>
                    <a:pt x="4924" y="9127"/>
                  </a:lnTo>
                  <a:lnTo>
                    <a:pt x="4924" y="8952"/>
                  </a:lnTo>
                  <a:lnTo>
                    <a:pt x="4924" y="8867"/>
                  </a:lnTo>
                  <a:lnTo>
                    <a:pt x="5072" y="8782"/>
                  </a:lnTo>
                  <a:lnTo>
                    <a:pt x="5377" y="8867"/>
                  </a:lnTo>
                  <a:lnTo>
                    <a:pt x="5525" y="8952"/>
                  </a:lnTo>
                  <a:lnTo>
                    <a:pt x="5960" y="9127"/>
                  </a:lnTo>
                  <a:lnTo>
                    <a:pt x="6117" y="9303"/>
                  </a:lnTo>
                  <a:lnTo>
                    <a:pt x="6117" y="9127"/>
                  </a:lnTo>
                  <a:lnTo>
                    <a:pt x="6117" y="9042"/>
                  </a:lnTo>
                  <a:lnTo>
                    <a:pt x="6117" y="8952"/>
                  </a:lnTo>
                  <a:lnTo>
                    <a:pt x="6265" y="8952"/>
                  </a:lnTo>
                  <a:lnTo>
                    <a:pt x="6413" y="9042"/>
                  </a:lnTo>
                  <a:lnTo>
                    <a:pt x="6561" y="9042"/>
                  </a:lnTo>
                  <a:lnTo>
                    <a:pt x="6867" y="9127"/>
                  </a:lnTo>
                  <a:lnTo>
                    <a:pt x="7163" y="9042"/>
                  </a:lnTo>
                  <a:lnTo>
                    <a:pt x="7311" y="9127"/>
                  </a:lnTo>
                  <a:lnTo>
                    <a:pt x="7607" y="9042"/>
                  </a:lnTo>
                  <a:lnTo>
                    <a:pt x="7755" y="9042"/>
                  </a:lnTo>
                  <a:lnTo>
                    <a:pt x="8051" y="8952"/>
                  </a:lnTo>
                  <a:lnTo>
                    <a:pt x="8051" y="8867"/>
                  </a:lnTo>
                  <a:lnTo>
                    <a:pt x="8051" y="8782"/>
                  </a:lnTo>
                  <a:lnTo>
                    <a:pt x="8357" y="8782"/>
                  </a:lnTo>
                  <a:lnTo>
                    <a:pt x="8505" y="8782"/>
                  </a:lnTo>
                  <a:lnTo>
                    <a:pt x="8653" y="8782"/>
                  </a:lnTo>
                  <a:lnTo>
                    <a:pt x="8801" y="8782"/>
                  </a:lnTo>
                  <a:lnTo>
                    <a:pt x="9107" y="8867"/>
                  </a:lnTo>
                  <a:lnTo>
                    <a:pt x="9107" y="8952"/>
                  </a:lnTo>
                  <a:lnTo>
                    <a:pt x="8959" y="8867"/>
                  </a:lnTo>
                  <a:lnTo>
                    <a:pt x="8801" y="8952"/>
                  </a:lnTo>
                  <a:lnTo>
                    <a:pt x="8505" y="9127"/>
                  </a:lnTo>
                  <a:lnTo>
                    <a:pt x="8357" y="9303"/>
                  </a:lnTo>
                  <a:lnTo>
                    <a:pt x="7903" y="9558"/>
                  </a:lnTo>
                  <a:lnTo>
                    <a:pt x="7755" y="9739"/>
                  </a:lnTo>
                  <a:lnTo>
                    <a:pt x="7755" y="9909"/>
                  </a:lnTo>
                  <a:lnTo>
                    <a:pt x="7755" y="10085"/>
                  </a:lnTo>
                  <a:lnTo>
                    <a:pt x="7903" y="10255"/>
                  </a:lnTo>
                  <a:lnTo>
                    <a:pt x="8051" y="10345"/>
                  </a:lnTo>
                  <a:lnTo>
                    <a:pt x="8199" y="10515"/>
                  </a:lnTo>
                  <a:lnTo>
                    <a:pt x="8357" y="10691"/>
                  </a:lnTo>
                  <a:lnTo>
                    <a:pt x="8357" y="10776"/>
                  </a:lnTo>
                  <a:lnTo>
                    <a:pt x="8505" y="10952"/>
                  </a:lnTo>
                  <a:lnTo>
                    <a:pt x="8653" y="10867"/>
                  </a:lnTo>
                  <a:lnTo>
                    <a:pt x="8801" y="10776"/>
                  </a:lnTo>
                  <a:lnTo>
                    <a:pt x="8959" y="10691"/>
                  </a:lnTo>
                  <a:lnTo>
                    <a:pt x="9107" y="10776"/>
                  </a:lnTo>
                  <a:lnTo>
                    <a:pt x="9245" y="10952"/>
                  </a:lnTo>
                  <a:lnTo>
                    <a:pt x="9107" y="11042"/>
                  </a:lnTo>
                  <a:lnTo>
                    <a:pt x="9107" y="11127"/>
                  </a:lnTo>
                  <a:lnTo>
                    <a:pt x="9107" y="11212"/>
                  </a:lnTo>
                  <a:lnTo>
                    <a:pt x="8959" y="11303"/>
                  </a:lnTo>
                  <a:lnTo>
                    <a:pt x="8801" y="11303"/>
                  </a:lnTo>
                  <a:lnTo>
                    <a:pt x="8653" y="11382"/>
                  </a:lnTo>
                  <a:lnTo>
                    <a:pt x="8505" y="11564"/>
                  </a:lnTo>
                  <a:lnTo>
                    <a:pt x="8505" y="11648"/>
                  </a:lnTo>
                  <a:lnTo>
                    <a:pt x="8653" y="11648"/>
                  </a:lnTo>
                  <a:lnTo>
                    <a:pt x="8801" y="11733"/>
                  </a:lnTo>
                  <a:lnTo>
                    <a:pt x="8959" y="11733"/>
                  </a:lnTo>
                  <a:lnTo>
                    <a:pt x="9107" y="11733"/>
                  </a:lnTo>
                  <a:lnTo>
                    <a:pt x="8801" y="11824"/>
                  </a:lnTo>
                  <a:lnTo>
                    <a:pt x="8653" y="11909"/>
                  </a:lnTo>
                  <a:lnTo>
                    <a:pt x="8505" y="12079"/>
                  </a:lnTo>
                  <a:lnTo>
                    <a:pt x="8505" y="12261"/>
                  </a:lnTo>
                  <a:lnTo>
                    <a:pt x="8357" y="12339"/>
                  </a:lnTo>
                  <a:lnTo>
                    <a:pt x="8199" y="12339"/>
                  </a:lnTo>
                  <a:lnTo>
                    <a:pt x="8199" y="12430"/>
                  </a:lnTo>
                  <a:lnTo>
                    <a:pt x="8199" y="12606"/>
                  </a:lnTo>
                  <a:lnTo>
                    <a:pt x="8199" y="12691"/>
                  </a:lnTo>
                  <a:lnTo>
                    <a:pt x="8199" y="12867"/>
                  </a:lnTo>
                  <a:lnTo>
                    <a:pt x="8051" y="12782"/>
                  </a:lnTo>
                  <a:lnTo>
                    <a:pt x="7755" y="12515"/>
                  </a:lnTo>
                  <a:lnTo>
                    <a:pt x="7607" y="12430"/>
                  </a:lnTo>
                  <a:lnTo>
                    <a:pt x="7163" y="12515"/>
                  </a:lnTo>
                  <a:lnTo>
                    <a:pt x="6867" y="12515"/>
                  </a:lnTo>
                  <a:lnTo>
                    <a:pt x="6561" y="12430"/>
                  </a:lnTo>
                  <a:lnTo>
                    <a:pt x="6413" y="12515"/>
                  </a:lnTo>
                  <a:lnTo>
                    <a:pt x="5960" y="12606"/>
                  </a:lnTo>
                  <a:lnTo>
                    <a:pt x="5812" y="12606"/>
                  </a:lnTo>
                  <a:lnTo>
                    <a:pt x="5960" y="12430"/>
                  </a:lnTo>
                  <a:lnTo>
                    <a:pt x="5673" y="12430"/>
                  </a:lnTo>
                  <a:lnTo>
                    <a:pt x="5525" y="12261"/>
                  </a:lnTo>
                  <a:lnTo>
                    <a:pt x="5525" y="12170"/>
                  </a:lnTo>
                  <a:lnTo>
                    <a:pt x="5220" y="12079"/>
                  </a:lnTo>
                  <a:lnTo>
                    <a:pt x="4924" y="12079"/>
                  </a:lnTo>
                  <a:lnTo>
                    <a:pt x="4776" y="12170"/>
                  </a:lnTo>
                  <a:lnTo>
                    <a:pt x="4618" y="12261"/>
                  </a:lnTo>
                  <a:lnTo>
                    <a:pt x="4470" y="12430"/>
                  </a:lnTo>
                  <a:lnTo>
                    <a:pt x="4776" y="12606"/>
                  </a:lnTo>
                  <a:lnTo>
                    <a:pt x="4776" y="12691"/>
                  </a:lnTo>
                  <a:lnTo>
                    <a:pt x="4924" y="12782"/>
                  </a:lnTo>
                  <a:lnTo>
                    <a:pt x="5072" y="12782"/>
                  </a:lnTo>
                  <a:lnTo>
                    <a:pt x="5220" y="12782"/>
                  </a:lnTo>
                  <a:lnTo>
                    <a:pt x="5220" y="12867"/>
                  </a:lnTo>
                  <a:lnTo>
                    <a:pt x="5072" y="12952"/>
                  </a:lnTo>
                  <a:lnTo>
                    <a:pt x="4924" y="13036"/>
                  </a:lnTo>
                  <a:lnTo>
                    <a:pt x="4776" y="13127"/>
                  </a:lnTo>
                  <a:lnTo>
                    <a:pt x="4470" y="13218"/>
                  </a:lnTo>
                  <a:lnTo>
                    <a:pt x="4322" y="13297"/>
                  </a:lnTo>
                  <a:lnTo>
                    <a:pt x="4184" y="13297"/>
                  </a:lnTo>
                  <a:lnTo>
                    <a:pt x="4036" y="13473"/>
                  </a:lnTo>
                  <a:lnTo>
                    <a:pt x="4322" y="13473"/>
                  </a:lnTo>
                  <a:lnTo>
                    <a:pt x="4470" y="13564"/>
                  </a:lnTo>
                  <a:lnTo>
                    <a:pt x="4776" y="13473"/>
                  </a:lnTo>
                  <a:lnTo>
                    <a:pt x="4924" y="13473"/>
                  </a:lnTo>
                  <a:lnTo>
                    <a:pt x="5220" y="13388"/>
                  </a:lnTo>
                  <a:lnTo>
                    <a:pt x="5377" y="13388"/>
                  </a:lnTo>
                  <a:lnTo>
                    <a:pt x="5525" y="13388"/>
                  </a:lnTo>
                  <a:lnTo>
                    <a:pt x="5525" y="13564"/>
                  </a:lnTo>
                  <a:lnTo>
                    <a:pt x="5525" y="13733"/>
                  </a:lnTo>
                  <a:lnTo>
                    <a:pt x="5673" y="13824"/>
                  </a:lnTo>
                  <a:lnTo>
                    <a:pt x="5525" y="13903"/>
                  </a:lnTo>
                  <a:lnTo>
                    <a:pt x="5377" y="14085"/>
                  </a:lnTo>
                  <a:lnTo>
                    <a:pt x="5377" y="14255"/>
                  </a:lnTo>
                  <a:lnTo>
                    <a:pt x="5220" y="14606"/>
                  </a:lnTo>
                  <a:lnTo>
                    <a:pt x="5072" y="14776"/>
                  </a:lnTo>
                  <a:lnTo>
                    <a:pt x="4618" y="14952"/>
                  </a:lnTo>
                  <a:lnTo>
                    <a:pt x="4184" y="15042"/>
                  </a:lnTo>
                  <a:lnTo>
                    <a:pt x="3730" y="15133"/>
                  </a:lnTo>
                  <a:lnTo>
                    <a:pt x="3434" y="15297"/>
                  </a:lnTo>
                  <a:lnTo>
                    <a:pt x="2980" y="15388"/>
                  </a:lnTo>
                  <a:lnTo>
                    <a:pt x="2546" y="15473"/>
                  </a:lnTo>
                  <a:lnTo>
                    <a:pt x="2240" y="15473"/>
                  </a:lnTo>
                  <a:lnTo>
                    <a:pt x="2388" y="15564"/>
                  </a:lnTo>
                  <a:lnTo>
                    <a:pt x="2546" y="15733"/>
                  </a:lnTo>
                  <a:lnTo>
                    <a:pt x="2240" y="15818"/>
                  </a:lnTo>
                  <a:lnTo>
                    <a:pt x="2240" y="16079"/>
                  </a:lnTo>
                  <a:lnTo>
                    <a:pt x="2684" y="16255"/>
                  </a:lnTo>
                  <a:lnTo>
                    <a:pt x="3128" y="16079"/>
                  </a:lnTo>
                  <a:lnTo>
                    <a:pt x="3434" y="16079"/>
                  </a:lnTo>
                  <a:lnTo>
                    <a:pt x="3730" y="16000"/>
                  </a:lnTo>
                  <a:lnTo>
                    <a:pt x="4036" y="16000"/>
                  </a:lnTo>
                  <a:lnTo>
                    <a:pt x="4322" y="16079"/>
                  </a:lnTo>
                  <a:lnTo>
                    <a:pt x="4470" y="16164"/>
                  </a:lnTo>
                  <a:lnTo>
                    <a:pt x="4618" y="16164"/>
                  </a:lnTo>
                  <a:lnTo>
                    <a:pt x="4776" y="16255"/>
                  </a:lnTo>
                  <a:lnTo>
                    <a:pt x="4618" y="16255"/>
                  </a:lnTo>
                  <a:lnTo>
                    <a:pt x="4470" y="16430"/>
                  </a:lnTo>
                  <a:lnTo>
                    <a:pt x="4470" y="16521"/>
                  </a:lnTo>
                  <a:lnTo>
                    <a:pt x="4618" y="16600"/>
                  </a:lnTo>
                  <a:lnTo>
                    <a:pt x="4924" y="16600"/>
                  </a:lnTo>
                  <a:lnTo>
                    <a:pt x="5220" y="16600"/>
                  </a:lnTo>
                  <a:lnTo>
                    <a:pt x="5525" y="16691"/>
                  </a:lnTo>
                  <a:lnTo>
                    <a:pt x="5673" y="16867"/>
                  </a:lnTo>
                  <a:lnTo>
                    <a:pt x="5812" y="17036"/>
                  </a:lnTo>
                  <a:lnTo>
                    <a:pt x="6117" y="17121"/>
                  </a:lnTo>
                  <a:lnTo>
                    <a:pt x="6413" y="17212"/>
                  </a:lnTo>
                  <a:lnTo>
                    <a:pt x="6709" y="17121"/>
                  </a:lnTo>
                  <a:lnTo>
                    <a:pt x="6867" y="17121"/>
                  </a:lnTo>
                  <a:lnTo>
                    <a:pt x="7015" y="17121"/>
                  </a:lnTo>
                  <a:lnTo>
                    <a:pt x="7311" y="17036"/>
                  </a:lnTo>
                  <a:lnTo>
                    <a:pt x="7607" y="16958"/>
                  </a:lnTo>
                  <a:lnTo>
                    <a:pt x="7903" y="16958"/>
                  </a:lnTo>
                  <a:lnTo>
                    <a:pt x="8051" y="16867"/>
                  </a:lnTo>
                  <a:lnTo>
                    <a:pt x="8357" y="16776"/>
                  </a:lnTo>
                  <a:lnTo>
                    <a:pt x="8653" y="16600"/>
                  </a:lnTo>
                  <a:lnTo>
                    <a:pt x="8801" y="16521"/>
                  </a:lnTo>
                  <a:lnTo>
                    <a:pt x="9107" y="16430"/>
                  </a:lnTo>
                  <a:lnTo>
                    <a:pt x="8959" y="16600"/>
                  </a:lnTo>
                  <a:lnTo>
                    <a:pt x="8801" y="16691"/>
                  </a:lnTo>
                  <a:lnTo>
                    <a:pt x="8653" y="16776"/>
                  </a:lnTo>
                  <a:lnTo>
                    <a:pt x="8357" y="16958"/>
                  </a:lnTo>
                  <a:lnTo>
                    <a:pt x="8051" y="17036"/>
                  </a:lnTo>
                  <a:lnTo>
                    <a:pt x="7607" y="17121"/>
                  </a:lnTo>
                  <a:lnTo>
                    <a:pt x="7449" y="17303"/>
                  </a:lnTo>
                  <a:lnTo>
                    <a:pt x="7449" y="17388"/>
                  </a:lnTo>
                  <a:lnTo>
                    <a:pt x="7311" y="17648"/>
                  </a:lnTo>
                  <a:lnTo>
                    <a:pt x="7015" y="17648"/>
                  </a:lnTo>
                  <a:lnTo>
                    <a:pt x="6413" y="17473"/>
                  </a:lnTo>
                  <a:lnTo>
                    <a:pt x="6117" y="17473"/>
                  </a:lnTo>
                  <a:lnTo>
                    <a:pt x="5377" y="17303"/>
                  </a:lnTo>
                  <a:lnTo>
                    <a:pt x="5072" y="17473"/>
                  </a:lnTo>
                  <a:lnTo>
                    <a:pt x="4618" y="17388"/>
                  </a:lnTo>
                  <a:lnTo>
                    <a:pt x="4322" y="17388"/>
                  </a:lnTo>
                  <a:lnTo>
                    <a:pt x="4322" y="17558"/>
                  </a:lnTo>
                  <a:lnTo>
                    <a:pt x="4618" y="17558"/>
                  </a:lnTo>
                  <a:lnTo>
                    <a:pt x="4618" y="17733"/>
                  </a:lnTo>
                  <a:lnTo>
                    <a:pt x="4322" y="17824"/>
                  </a:lnTo>
                  <a:lnTo>
                    <a:pt x="3878" y="17733"/>
                  </a:lnTo>
                  <a:lnTo>
                    <a:pt x="3582" y="17648"/>
                  </a:lnTo>
                  <a:lnTo>
                    <a:pt x="3434" y="17824"/>
                  </a:lnTo>
                  <a:lnTo>
                    <a:pt x="3286" y="18079"/>
                  </a:lnTo>
                  <a:lnTo>
                    <a:pt x="3128" y="18345"/>
                  </a:lnTo>
                  <a:lnTo>
                    <a:pt x="2546" y="18424"/>
                  </a:lnTo>
                  <a:lnTo>
                    <a:pt x="2240" y="18600"/>
                  </a:lnTo>
                  <a:lnTo>
                    <a:pt x="1796" y="18861"/>
                  </a:lnTo>
                  <a:lnTo>
                    <a:pt x="1194" y="19127"/>
                  </a:lnTo>
                  <a:lnTo>
                    <a:pt x="888" y="19218"/>
                  </a:lnTo>
                  <a:lnTo>
                    <a:pt x="602" y="19303"/>
                  </a:lnTo>
                  <a:lnTo>
                    <a:pt x="148" y="19382"/>
                  </a:lnTo>
                  <a:lnTo>
                    <a:pt x="0" y="19558"/>
                  </a:lnTo>
                  <a:lnTo>
                    <a:pt x="0" y="19648"/>
                  </a:lnTo>
                  <a:lnTo>
                    <a:pt x="296" y="19648"/>
                  </a:lnTo>
                  <a:lnTo>
                    <a:pt x="602" y="19558"/>
                  </a:lnTo>
                  <a:lnTo>
                    <a:pt x="888" y="19739"/>
                  </a:lnTo>
                  <a:lnTo>
                    <a:pt x="1036" y="19994"/>
                  </a:lnTo>
                  <a:lnTo>
                    <a:pt x="1342" y="19994"/>
                  </a:lnTo>
                  <a:lnTo>
                    <a:pt x="1638" y="19818"/>
                  </a:lnTo>
                  <a:lnTo>
                    <a:pt x="1796" y="19558"/>
                  </a:lnTo>
                  <a:lnTo>
                    <a:pt x="2240" y="19558"/>
                  </a:lnTo>
                  <a:lnTo>
                    <a:pt x="2546" y="19303"/>
                  </a:lnTo>
                  <a:lnTo>
                    <a:pt x="2980" y="19303"/>
                  </a:lnTo>
                  <a:lnTo>
                    <a:pt x="3582" y="19303"/>
                  </a:lnTo>
                  <a:lnTo>
                    <a:pt x="4036" y="19303"/>
                  </a:lnTo>
                  <a:lnTo>
                    <a:pt x="4322" y="19473"/>
                  </a:lnTo>
                  <a:lnTo>
                    <a:pt x="4776" y="19739"/>
                  </a:lnTo>
                  <a:lnTo>
                    <a:pt x="5220" y="19818"/>
                  </a:lnTo>
                  <a:lnTo>
                    <a:pt x="5525" y="19558"/>
                  </a:lnTo>
                  <a:lnTo>
                    <a:pt x="5812" y="19382"/>
                  </a:lnTo>
                  <a:lnTo>
                    <a:pt x="5960" y="19127"/>
                  </a:lnTo>
                  <a:lnTo>
                    <a:pt x="6265" y="18945"/>
                  </a:lnTo>
                  <a:lnTo>
                    <a:pt x="6867" y="18861"/>
                  </a:lnTo>
                  <a:lnTo>
                    <a:pt x="7449" y="18782"/>
                  </a:lnTo>
                  <a:lnTo>
                    <a:pt x="7755" y="18861"/>
                  </a:lnTo>
                  <a:lnTo>
                    <a:pt x="8199" y="19127"/>
                  </a:lnTo>
                  <a:lnTo>
                    <a:pt x="8357" y="19218"/>
                  </a:lnTo>
                  <a:lnTo>
                    <a:pt x="8653" y="19218"/>
                  </a:lnTo>
                  <a:lnTo>
                    <a:pt x="8653" y="19036"/>
                  </a:lnTo>
                  <a:lnTo>
                    <a:pt x="9245" y="19218"/>
                  </a:lnTo>
                  <a:lnTo>
                    <a:pt x="9541" y="19303"/>
                  </a:lnTo>
                  <a:lnTo>
                    <a:pt x="9847" y="19218"/>
                  </a:lnTo>
                  <a:lnTo>
                    <a:pt x="9393" y="18945"/>
                  </a:lnTo>
                  <a:lnTo>
                    <a:pt x="9699" y="18945"/>
                  </a:lnTo>
                  <a:lnTo>
                    <a:pt x="10143" y="18945"/>
                  </a:lnTo>
                  <a:lnTo>
                    <a:pt x="10449" y="18945"/>
                  </a:lnTo>
                  <a:lnTo>
                    <a:pt x="10883" y="18945"/>
                  </a:lnTo>
                  <a:lnTo>
                    <a:pt x="11189" y="18945"/>
                  </a:lnTo>
                  <a:lnTo>
                    <a:pt x="11337" y="18861"/>
                  </a:lnTo>
                  <a:lnTo>
                    <a:pt x="11189" y="18691"/>
                  </a:lnTo>
                  <a:lnTo>
                    <a:pt x="11485" y="18782"/>
                  </a:lnTo>
                  <a:lnTo>
                    <a:pt x="11791" y="18861"/>
                  </a:lnTo>
                  <a:lnTo>
                    <a:pt x="12087" y="18945"/>
                  </a:lnTo>
                  <a:lnTo>
                    <a:pt x="12541" y="19036"/>
                  </a:lnTo>
                  <a:lnTo>
                    <a:pt x="12827" y="19127"/>
                  </a:lnTo>
                  <a:lnTo>
                    <a:pt x="13281" y="19036"/>
                  </a:lnTo>
                  <a:lnTo>
                    <a:pt x="13577" y="19036"/>
                  </a:lnTo>
                  <a:lnTo>
                    <a:pt x="13873" y="19127"/>
                  </a:lnTo>
                  <a:lnTo>
                    <a:pt x="14317" y="19127"/>
                  </a:lnTo>
                  <a:lnTo>
                    <a:pt x="14771" y="19218"/>
                  </a:lnTo>
                  <a:lnTo>
                    <a:pt x="15215" y="19303"/>
                  </a:lnTo>
                  <a:lnTo>
                    <a:pt x="15520" y="19303"/>
                  </a:lnTo>
                  <a:lnTo>
                    <a:pt x="15955" y="19218"/>
                  </a:lnTo>
                  <a:lnTo>
                    <a:pt x="16112" y="19218"/>
                  </a:lnTo>
                  <a:lnTo>
                    <a:pt x="16556" y="19127"/>
                  </a:lnTo>
                  <a:lnTo>
                    <a:pt x="16862" y="19036"/>
                  </a:lnTo>
                  <a:lnTo>
                    <a:pt x="17306" y="18945"/>
                  </a:lnTo>
                  <a:lnTo>
                    <a:pt x="17306" y="18861"/>
                  </a:lnTo>
                  <a:lnTo>
                    <a:pt x="17444" y="18782"/>
                  </a:lnTo>
                  <a:lnTo>
                    <a:pt x="17750" y="18782"/>
                  </a:lnTo>
                  <a:lnTo>
                    <a:pt x="18194" y="18600"/>
                  </a:lnTo>
                  <a:lnTo>
                    <a:pt x="18500" y="18424"/>
                  </a:lnTo>
                  <a:lnTo>
                    <a:pt x="18648" y="18261"/>
                  </a:lnTo>
                  <a:lnTo>
                    <a:pt x="18648" y="18170"/>
                  </a:lnTo>
                  <a:lnTo>
                    <a:pt x="18796" y="17915"/>
                  </a:lnTo>
                  <a:lnTo>
                    <a:pt x="18796" y="17733"/>
                  </a:lnTo>
                  <a:lnTo>
                    <a:pt x="18352" y="17733"/>
                  </a:lnTo>
                  <a:lnTo>
                    <a:pt x="17898" y="17733"/>
                  </a:lnTo>
                  <a:lnTo>
                    <a:pt x="17444" y="17648"/>
                  </a:lnTo>
                  <a:lnTo>
                    <a:pt x="17158" y="17648"/>
                  </a:lnTo>
                  <a:lnTo>
                    <a:pt x="16704" y="17648"/>
                  </a:lnTo>
                  <a:lnTo>
                    <a:pt x="16408" y="17648"/>
                  </a:lnTo>
                  <a:lnTo>
                    <a:pt x="16112" y="17558"/>
                  </a:lnTo>
                  <a:lnTo>
                    <a:pt x="16260" y="17473"/>
                  </a:lnTo>
                  <a:lnTo>
                    <a:pt x="16704" y="17473"/>
                  </a:lnTo>
                  <a:lnTo>
                    <a:pt x="17010" y="17473"/>
                  </a:lnTo>
                  <a:lnTo>
                    <a:pt x="17444" y="17388"/>
                  </a:lnTo>
                  <a:lnTo>
                    <a:pt x="17444" y="17212"/>
                  </a:lnTo>
                  <a:lnTo>
                    <a:pt x="17602" y="17036"/>
                  </a:lnTo>
                  <a:lnTo>
                    <a:pt x="17898" y="17036"/>
                  </a:lnTo>
                  <a:lnTo>
                    <a:pt x="18352" y="16776"/>
                  </a:lnTo>
                  <a:lnTo>
                    <a:pt x="18648" y="16600"/>
                  </a:lnTo>
                  <a:lnTo>
                    <a:pt x="19102" y="16345"/>
                  </a:lnTo>
                  <a:lnTo>
                    <a:pt x="19240" y="16164"/>
                  </a:lnTo>
                  <a:lnTo>
                    <a:pt x="19388" y="15733"/>
                  </a:lnTo>
                  <a:lnTo>
                    <a:pt x="19842" y="15388"/>
                  </a:lnTo>
                  <a:lnTo>
                    <a:pt x="19990" y="15212"/>
                  </a:lnTo>
                  <a:lnTo>
                    <a:pt x="19842" y="15133"/>
                  </a:lnTo>
                  <a:lnTo>
                    <a:pt x="19842" y="14861"/>
                  </a:lnTo>
                  <a:lnTo>
                    <a:pt x="19694" y="14606"/>
                  </a:lnTo>
                  <a:lnTo>
                    <a:pt x="19388" y="14430"/>
                  </a:lnTo>
                  <a:lnTo>
                    <a:pt x="19102" y="14339"/>
                  </a:lnTo>
                  <a:lnTo>
                    <a:pt x="18796" y="14255"/>
                  </a:lnTo>
                  <a:lnTo>
                    <a:pt x="18194" y="14176"/>
                  </a:lnTo>
                  <a:lnTo>
                    <a:pt x="17602" y="14085"/>
                  </a:lnTo>
                  <a:lnTo>
                    <a:pt x="17306" y="13994"/>
                  </a:lnTo>
                  <a:lnTo>
                    <a:pt x="17010" y="14085"/>
                  </a:lnTo>
                  <a:lnTo>
                    <a:pt x="16704" y="14176"/>
                  </a:lnTo>
                  <a:lnTo>
                    <a:pt x="16556" y="14339"/>
                  </a:lnTo>
                  <a:lnTo>
                    <a:pt x="16260" y="14430"/>
                  </a:lnTo>
                  <a:lnTo>
                    <a:pt x="15955" y="14339"/>
                  </a:lnTo>
                  <a:lnTo>
                    <a:pt x="15807" y="14255"/>
                  </a:lnTo>
                  <a:lnTo>
                    <a:pt x="15955" y="13994"/>
                  </a:lnTo>
                  <a:lnTo>
                    <a:pt x="16260" y="13824"/>
                  </a:lnTo>
                  <a:lnTo>
                    <a:pt x="16556" y="13564"/>
                  </a:lnTo>
                  <a:lnTo>
                    <a:pt x="16260" y="13388"/>
                  </a:lnTo>
                  <a:lnTo>
                    <a:pt x="16260" y="13036"/>
                  </a:lnTo>
                  <a:lnTo>
                    <a:pt x="16112" y="12782"/>
                  </a:lnTo>
                  <a:lnTo>
                    <a:pt x="15668" y="12691"/>
                  </a:lnTo>
                  <a:lnTo>
                    <a:pt x="15520" y="12430"/>
                  </a:lnTo>
                  <a:lnTo>
                    <a:pt x="15067" y="12261"/>
                  </a:lnTo>
                  <a:lnTo>
                    <a:pt x="14919" y="12261"/>
                  </a:lnTo>
                  <a:lnTo>
                    <a:pt x="15067" y="12170"/>
                  </a:lnTo>
                  <a:lnTo>
                    <a:pt x="15520" y="12170"/>
                  </a:lnTo>
                  <a:lnTo>
                    <a:pt x="15520" y="12261"/>
                  </a:lnTo>
                  <a:lnTo>
                    <a:pt x="15807" y="11733"/>
                  </a:lnTo>
                  <a:lnTo>
                    <a:pt x="15668" y="11564"/>
                  </a:lnTo>
                  <a:lnTo>
                    <a:pt x="15668" y="11382"/>
                  </a:lnTo>
                  <a:lnTo>
                    <a:pt x="15807" y="11303"/>
                  </a:lnTo>
                  <a:lnTo>
                    <a:pt x="15807" y="11127"/>
                  </a:lnTo>
                  <a:lnTo>
                    <a:pt x="15520" y="10952"/>
                  </a:lnTo>
                  <a:lnTo>
                    <a:pt x="15215" y="10606"/>
                  </a:lnTo>
                  <a:lnTo>
                    <a:pt x="14919" y="10345"/>
                  </a:lnTo>
                  <a:lnTo>
                    <a:pt x="14465" y="10255"/>
                  </a:lnTo>
                  <a:lnTo>
                    <a:pt x="14179" y="10085"/>
                  </a:lnTo>
                  <a:lnTo>
                    <a:pt x="13873" y="9909"/>
                  </a:lnTo>
                  <a:lnTo>
                    <a:pt x="13577" y="10000"/>
                  </a:lnTo>
                  <a:lnTo>
                    <a:pt x="13429" y="9909"/>
                  </a:lnTo>
                  <a:lnTo>
                    <a:pt x="13281" y="9558"/>
                  </a:lnTo>
                  <a:lnTo>
                    <a:pt x="13281" y="9212"/>
                  </a:lnTo>
                  <a:lnTo>
                    <a:pt x="13123" y="8867"/>
                  </a:lnTo>
                  <a:lnTo>
                    <a:pt x="12975" y="8521"/>
                  </a:lnTo>
                  <a:lnTo>
                    <a:pt x="12975" y="8170"/>
                  </a:lnTo>
                  <a:lnTo>
                    <a:pt x="12975" y="7824"/>
                  </a:lnTo>
                  <a:lnTo>
                    <a:pt x="12827" y="7564"/>
                  </a:lnTo>
                  <a:lnTo>
                    <a:pt x="12679" y="7388"/>
                  </a:lnTo>
                  <a:lnTo>
                    <a:pt x="12235" y="7127"/>
                  </a:lnTo>
                  <a:lnTo>
                    <a:pt x="11939" y="6776"/>
                  </a:lnTo>
                  <a:lnTo>
                    <a:pt x="11633" y="6606"/>
                  </a:lnTo>
                  <a:lnTo>
                    <a:pt x="11337" y="6430"/>
                  </a:lnTo>
                  <a:lnTo>
                    <a:pt x="10745" y="6339"/>
                  </a:lnTo>
                  <a:lnTo>
                    <a:pt x="10449" y="6261"/>
                  </a:lnTo>
                  <a:lnTo>
                    <a:pt x="9995" y="6430"/>
                  </a:lnTo>
                  <a:lnTo>
                    <a:pt x="9541" y="6521"/>
                  </a:lnTo>
                  <a:lnTo>
                    <a:pt x="9245" y="6430"/>
                  </a:lnTo>
                  <a:lnTo>
                    <a:pt x="9245" y="6339"/>
                  </a:lnTo>
                  <a:lnTo>
                    <a:pt x="9541" y="6339"/>
                  </a:lnTo>
                  <a:lnTo>
                    <a:pt x="9541" y="6261"/>
                  </a:lnTo>
                  <a:lnTo>
                    <a:pt x="9847" y="6170"/>
                  </a:lnTo>
                  <a:lnTo>
                    <a:pt x="10449" y="6000"/>
                  </a:lnTo>
                  <a:lnTo>
                    <a:pt x="10597" y="6085"/>
                  </a:lnTo>
                  <a:lnTo>
                    <a:pt x="10597" y="6000"/>
                  </a:lnTo>
                  <a:lnTo>
                    <a:pt x="11031" y="5909"/>
                  </a:lnTo>
                  <a:lnTo>
                    <a:pt x="10745" y="5733"/>
                  </a:lnTo>
                  <a:lnTo>
                    <a:pt x="10449" y="5655"/>
                  </a:lnTo>
                  <a:lnTo>
                    <a:pt x="10597" y="5473"/>
                  </a:lnTo>
                  <a:lnTo>
                    <a:pt x="10291" y="5473"/>
                  </a:lnTo>
                  <a:lnTo>
                    <a:pt x="9699" y="5564"/>
                  </a:lnTo>
                  <a:lnTo>
                    <a:pt x="9541" y="5564"/>
                  </a:lnTo>
                  <a:lnTo>
                    <a:pt x="9699" y="5473"/>
                  </a:lnTo>
                  <a:lnTo>
                    <a:pt x="9995" y="5388"/>
                  </a:lnTo>
                  <a:lnTo>
                    <a:pt x="10449" y="5388"/>
                  </a:lnTo>
                  <a:lnTo>
                    <a:pt x="11031" y="5388"/>
                  </a:lnTo>
                  <a:lnTo>
                    <a:pt x="11485" y="5218"/>
                  </a:lnTo>
                  <a:lnTo>
                    <a:pt x="11485" y="5042"/>
                  </a:lnTo>
                  <a:lnTo>
                    <a:pt x="11791" y="4861"/>
                  </a:lnTo>
                  <a:lnTo>
                    <a:pt x="11939" y="4697"/>
                  </a:lnTo>
                  <a:lnTo>
                    <a:pt x="12235" y="4515"/>
                  </a:lnTo>
                  <a:lnTo>
                    <a:pt x="12541" y="4345"/>
                  </a:lnTo>
                  <a:lnTo>
                    <a:pt x="12679" y="4170"/>
                  </a:lnTo>
                  <a:lnTo>
                    <a:pt x="12827" y="3903"/>
                  </a:lnTo>
                  <a:lnTo>
                    <a:pt x="13123" y="3648"/>
                  </a:lnTo>
                  <a:lnTo>
                    <a:pt x="13429" y="3473"/>
                  </a:lnTo>
                  <a:lnTo>
                    <a:pt x="13577" y="3212"/>
                  </a:lnTo>
                  <a:lnTo>
                    <a:pt x="13577" y="3036"/>
                  </a:lnTo>
                  <a:lnTo>
                    <a:pt x="13429" y="2782"/>
                  </a:lnTo>
                  <a:lnTo>
                    <a:pt x="13123" y="2600"/>
                  </a:lnTo>
                  <a:lnTo>
                    <a:pt x="12827" y="2521"/>
                  </a:lnTo>
                  <a:lnTo>
                    <a:pt x="12541" y="2521"/>
                  </a:lnTo>
                  <a:lnTo>
                    <a:pt x="11791" y="2436"/>
                  </a:lnTo>
                  <a:lnTo>
                    <a:pt x="11189" y="2345"/>
                  </a:lnTo>
                  <a:lnTo>
                    <a:pt x="10883" y="2345"/>
                  </a:lnTo>
                  <a:lnTo>
                    <a:pt x="10291" y="2255"/>
                  </a:lnTo>
                  <a:lnTo>
                    <a:pt x="9847" y="2255"/>
                  </a:lnTo>
                  <a:lnTo>
                    <a:pt x="9393" y="2345"/>
                  </a:lnTo>
                  <a:lnTo>
                    <a:pt x="8959" y="2521"/>
                  </a:lnTo>
                  <a:lnTo>
                    <a:pt x="8653" y="2600"/>
                  </a:lnTo>
                  <a:lnTo>
                    <a:pt x="8199" y="2691"/>
                  </a:lnTo>
                  <a:lnTo>
                    <a:pt x="8199" y="2600"/>
                  </a:lnTo>
                  <a:lnTo>
                    <a:pt x="8505" y="2436"/>
                  </a:lnTo>
                  <a:lnTo>
                    <a:pt x="8653" y="2345"/>
                  </a:lnTo>
                  <a:lnTo>
                    <a:pt x="8959" y="2255"/>
                  </a:lnTo>
                  <a:lnTo>
                    <a:pt x="9245" y="2079"/>
                  </a:lnTo>
                  <a:lnTo>
                    <a:pt x="9393" y="1915"/>
                  </a:lnTo>
                  <a:lnTo>
                    <a:pt x="8959" y="1915"/>
                  </a:lnTo>
                  <a:lnTo>
                    <a:pt x="8801" y="1915"/>
                  </a:lnTo>
                  <a:lnTo>
                    <a:pt x="8801" y="1733"/>
                  </a:lnTo>
                  <a:lnTo>
                    <a:pt x="9245" y="1642"/>
                  </a:lnTo>
                  <a:lnTo>
                    <a:pt x="9699" y="1479"/>
                  </a:lnTo>
                  <a:lnTo>
                    <a:pt x="9995" y="1388"/>
                  </a:lnTo>
                  <a:lnTo>
                    <a:pt x="10291" y="1303"/>
                  </a:lnTo>
                  <a:lnTo>
                    <a:pt x="10745" y="1133"/>
                  </a:lnTo>
                  <a:lnTo>
                    <a:pt x="11031" y="958"/>
                  </a:lnTo>
                  <a:lnTo>
                    <a:pt x="11189" y="867"/>
                  </a:lnTo>
                  <a:lnTo>
                    <a:pt x="11337" y="691"/>
                  </a:lnTo>
                  <a:lnTo>
                    <a:pt x="11485" y="430"/>
                  </a:lnTo>
                  <a:lnTo>
                    <a:pt x="11485" y="43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36200" y="2241720"/>
              <a:ext cx="306360" cy="224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8082" y="1768"/>
                  </a:moveTo>
                  <a:lnTo>
                    <a:pt x="7138" y="2400"/>
                  </a:lnTo>
                  <a:lnTo>
                    <a:pt x="6667" y="3032"/>
                  </a:lnTo>
                  <a:lnTo>
                    <a:pt x="6195" y="4253"/>
                  </a:lnTo>
                  <a:lnTo>
                    <a:pt x="5220" y="6021"/>
                  </a:lnTo>
                  <a:lnTo>
                    <a:pt x="3333" y="6021"/>
                  </a:lnTo>
                  <a:lnTo>
                    <a:pt x="2390" y="6653"/>
                  </a:lnTo>
                  <a:lnTo>
                    <a:pt x="3805" y="8421"/>
                  </a:lnTo>
                  <a:lnTo>
                    <a:pt x="1447" y="9053"/>
                  </a:lnTo>
                  <a:lnTo>
                    <a:pt x="0" y="10274"/>
                  </a:lnTo>
                  <a:lnTo>
                    <a:pt x="943" y="11537"/>
                  </a:lnTo>
                  <a:lnTo>
                    <a:pt x="1918" y="13937"/>
                  </a:lnTo>
                  <a:lnTo>
                    <a:pt x="3805" y="16295"/>
                  </a:lnTo>
                  <a:lnTo>
                    <a:pt x="6667" y="15074"/>
                  </a:lnTo>
                  <a:lnTo>
                    <a:pt x="8082" y="12674"/>
                  </a:lnTo>
                  <a:lnTo>
                    <a:pt x="9025" y="13305"/>
                  </a:lnTo>
                  <a:lnTo>
                    <a:pt x="10000" y="16295"/>
                  </a:lnTo>
                  <a:lnTo>
                    <a:pt x="10472" y="18695"/>
                  </a:lnTo>
                  <a:lnTo>
                    <a:pt x="12390" y="18695"/>
                  </a:lnTo>
                  <a:lnTo>
                    <a:pt x="13302" y="19326"/>
                  </a:lnTo>
                  <a:lnTo>
                    <a:pt x="14245" y="19326"/>
                  </a:lnTo>
                  <a:lnTo>
                    <a:pt x="15220" y="19958"/>
                  </a:lnTo>
                  <a:lnTo>
                    <a:pt x="16164" y="19326"/>
                  </a:lnTo>
                  <a:lnTo>
                    <a:pt x="16164" y="18189"/>
                  </a:lnTo>
                  <a:lnTo>
                    <a:pt x="16667" y="17558"/>
                  </a:lnTo>
                  <a:lnTo>
                    <a:pt x="18050" y="17558"/>
                  </a:lnTo>
                  <a:lnTo>
                    <a:pt x="19025" y="17558"/>
                  </a:lnTo>
                  <a:lnTo>
                    <a:pt x="19025" y="16926"/>
                  </a:lnTo>
                  <a:lnTo>
                    <a:pt x="19025" y="16295"/>
                  </a:lnTo>
                  <a:lnTo>
                    <a:pt x="19025" y="15705"/>
                  </a:lnTo>
                  <a:lnTo>
                    <a:pt x="18522" y="15705"/>
                  </a:lnTo>
                  <a:lnTo>
                    <a:pt x="18050" y="15074"/>
                  </a:lnTo>
                  <a:lnTo>
                    <a:pt x="18522" y="13937"/>
                  </a:lnTo>
                  <a:lnTo>
                    <a:pt x="18050" y="12674"/>
                  </a:lnTo>
                  <a:lnTo>
                    <a:pt x="18522" y="12674"/>
                  </a:lnTo>
                  <a:lnTo>
                    <a:pt x="19497" y="13305"/>
                  </a:lnTo>
                  <a:lnTo>
                    <a:pt x="19497" y="14526"/>
                  </a:lnTo>
                  <a:lnTo>
                    <a:pt x="19025" y="14526"/>
                  </a:lnTo>
                  <a:lnTo>
                    <a:pt x="19025" y="15074"/>
                  </a:lnTo>
                  <a:lnTo>
                    <a:pt x="19497" y="15705"/>
                  </a:lnTo>
                  <a:lnTo>
                    <a:pt x="19969" y="15074"/>
                  </a:lnTo>
                  <a:lnTo>
                    <a:pt x="19969" y="13305"/>
                  </a:lnTo>
                  <a:lnTo>
                    <a:pt x="19969" y="12042"/>
                  </a:lnTo>
                  <a:lnTo>
                    <a:pt x="19497" y="10274"/>
                  </a:lnTo>
                  <a:lnTo>
                    <a:pt x="19025" y="10274"/>
                  </a:lnTo>
                  <a:lnTo>
                    <a:pt x="18522" y="10274"/>
                  </a:lnTo>
                  <a:lnTo>
                    <a:pt x="18050" y="10274"/>
                  </a:lnTo>
                  <a:lnTo>
                    <a:pt x="17579" y="10905"/>
                  </a:lnTo>
                  <a:lnTo>
                    <a:pt x="18050" y="9642"/>
                  </a:lnTo>
                  <a:lnTo>
                    <a:pt x="19025" y="9053"/>
                  </a:lnTo>
                  <a:lnTo>
                    <a:pt x="19025" y="8421"/>
                  </a:lnTo>
                  <a:lnTo>
                    <a:pt x="18522" y="6653"/>
                  </a:lnTo>
                  <a:lnTo>
                    <a:pt x="18050" y="6021"/>
                  </a:lnTo>
                  <a:lnTo>
                    <a:pt x="17579" y="4253"/>
                  </a:lnTo>
                  <a:lnTo>
                    <a:pt x="17579" y="3032"/>
                  </a:lnTo>
                  <a:lnTo>
                    <a:pt x="17138" y="2400"/>
                  </a:lnTo>
                  <a:lnTo>
                    <a:pt x="16667" y="632"/>
                  </a:lnTo>
                  <a:lnTo>
                    <a:pt x="15692" y="632"/>
                  </a:lnTo>
                  <a:lnTo>
                    <a:pt x="14748" y="0"/>
                  </a:lnTo>
                  <a:lnTo>
                    <a:pt x="13774" y="0"/>
                  </a:lnTo>
                  <a:lnTo>
                    <a:pt x="12830" y="0"/>
                  </a:lnTo>
                  <a:lnTo>
                    <a:pt x="11887" y="0"/>
                  </a:lnTo>
                  <a:lnTo>
                    <a:pt x="10943" y="632"/>
                  </a:lnTo>
                  <a:lnTo>
                    <a:pt x="10472" y="1221"/>
                  </a:lnTo>
                  <a:lnTo>
                    <a:pt x="9497" y="1768"/>
                  </a:lnTo>
                  <a:lnTo>
                    <a:pt x="9025" y="1768"/>
                  </a:lnTo>
                  <a:lnTo>
                    <a:pt x="8082" y="2400"/>
                  </a:lnTo>
                  <a:lnTo>
                    <a:pt x="7579" y="3032"/>
                  </a:lnTo>
                  <a:lnTo>
                    <a:pt x="8082" y="1768"/>
                  </a:lnTo>
                  <a:lnTo>
                    <a:pt x="8082" y="1768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83880" y="1651680"/>
              <a:ext cx="117360" cy="128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8689" y="0"/>
                  </a:moveTo>
                  <a:lnTo>
                    <a:pt x="16148" y="1099"/>
                  </a:lnTo>
                  <a:lnTo>
                    <a:pt x="12459" y="3077"/>
                  </a:lnTo>
                  <a:lnTo>
                    <a:pt x="10000" y="4176"/>
                  </a:lnTo>
                  <a:lnTo>
                    <a:pt x="7541" y="5275"/>
                  </a:lnTo>
                  <a:lnTo>
                    <a:pt x="8770" y="7399"/>
                  </a:lnTo>
                  <a:lnTo>
                    <a:pt x="6230" y="7399"/>
                  </a:lnTo>
                  <a:lnTo>
                    <a:pt x="3770" y="5275"/>
                  </a:lnTo>
                  <a:lnTo>
                    <a:pt x="2541" y="7399"/>
                  </a:lnTo>
                  <a:lnTo>
                    <a:pt x="1230" y="9377"/>
                  </a:lnTo>
                  <a:lnTo>
                    <a:pt x="2541" y="12527"/>
                  </a:lnTo>
                  <a:lnTo>
                    <a:pt x="1230" y="12527"/>
                  </a:lnTo>
                  <a:lnTo>
                    <a:pt x="5000" y="14652"/>
                  </a:lnTo>
                  <a:lnTo>
                    <a:pt x="2541" y="14652"/>
                  </a:lnTo>
                  <a:lnTo>
                    <a:pt x="0" y="17802"/>
                  </a:lnTo>
                  <a:lnTo>
                    <a:pt x="0" y="19927"/>
                  </a:lnTo>
                  <a:lnTo>
                    <a:pt x="3770" y="18828"/>
                  </a:lnTo>
                  <a:lnTo>
                    <a:pt x="5000" y="17802"/>
                  </a:lnTo>
                  <a:lnTo>
                    <a:pt x="6230" y="16850"/>
                  </a:lnTo>
                  <a:lnTo>
                    <a:pt x="10000" y="16850"/>
                  </a:lnTo>
                  <a:lnTo>
                    <a:pt x="10000" y="15751"/>
                  </a:lnTo>
                  <a:lnTo>
                    <a:pt x="12459" y="14652"/>
                  </a:lnTo>
                  <a:lnTo>
                    <a:pt x="13689" y="12527"/>
                  </a:lnTo>
                  <a:lnTo>
                    <a:pt x="11148" y="11575"/>
                  </a:lnTo>
                  <a:lnTo>
                    <a:pt x="10000" y="11575"/>
                  </a:lnTo>
                  <a:lnTo>
                    <a:pt x="11148" y="10476"/>
                  </a:lnTo>
                  <a:lnTo>
                    <a:pt x="13689" y="9377"/>
                  </a:lnTo>
                  <a:lnTo>
                    <a:pt x="14918" y="9377"/>
                  </a:lnTo>
                  <a:lnTo>
                    <a:pt x="17459" y="10476"/>
                  </a:lnTo>
                  <a:lnTo>
                    <a:pt x="19918" y="7399"/>
                  </a:lnTo>
                  <a:lnTo>
                    <a:pt x="16148" y="7399"/>
                  </a:lnTo>
                  <a:lnTo>
                    <a:pt x="18689" y="4176"/>
                  </a:lnTo>
                  <a:lnTo>
                    <a:pt x="19918" y="3077"/>
                  </a:lnTo>
                  <a:lnTo>
                    <a:pt x="18689" y="0"/>
                  </a:lnTo>
                  <a:lnTo>
                    <a:pt x="18689" y="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05480" y="1800720"/>
              <a:ext cx="94680" cy="129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2222" y="1091"/>
                  </a:moveTo>
                  <a:lnTo>
                    <a:pt x="13737" y="2109"/>
                  </a:lnTo>
                  <a:lnTo>
                    <a:pt x="13737" y="3200"/>
                  </a:lnTo>
                  <a:lnTo>
                    <a:pt x="13737" y="6255"/>
                  </a:lnTo>
                  <a:lnTo>
                    <a:pt x="12222" y="8436"/>
                  </a:lnTo>
                  <a:lnTo>
                    <a:pt x="12222" y="9455"/>
                  </a:lnTo>
                  <a:lnTo>
                    <a:pt x="13737" y="10400"/>
                  </a:lnTo>
                  <a:lnTo>
                    <a:pt x="16869" y="12582"/>
                  </a:lnTo>
                  <a:lnTo>
                    <a:pt x="19899" y="12582"/>
                  </a:lnTo>
                  <a:lnTo>
                    <a:pt x="19899" y="13600"/>
                  </a:lnTo>
                  <a:lnTo>
                    <a:pt x="19899" y="14691"/>
                  </a:lnTo>
                  <a:lnTo>
                    <a:pt x="18384" y="14691"/>
                  </a:lnTo>
                  <a:lnTo>
                    <a:pt x="16869" y="16727"/>
                  </a:lnTo>
                  <a:lnTo>
                    <a:pt x="15253" y="17745"/>
                  </a:lnTo>
                  <a:lnTo>
                    <a:pt x="12222" y="19927"/>
                  </a:lnTo>
                  <a:lnTo>
                    <a:pt x="13737" y="17745"/>
                  </a:lnTo>
                  <a:lnTo>
                    <a:pt x="15253" y="15782"/>
                  </a:lnTo>
                  <a:lnTo>
                    <a:pt x="16869" y="14691"/>
                  </a:lnTo>
                  <a:lnTo>
                    <a:pt x="15253" y="14691"/>
                  </a:lnTo>
                  <a:lnTo>
                    <a:pt x="13737" y="14691"/>
                  </a:lnTo>
                  <a:lnTo>
                    <a:pt x="10808" y="15782"/>
                  </a:lnTo>
                  <a:lnTo>
                    <a:pt x="9091" y="14691"/>
                  </a:lnTo>
                  <a:lnTo>
                    <a:pt x="7677" y="13600"/>
                  </a:lnTo>
                  <a:lnTo>
                    <a:pt x="4646" y="11491"/>
                  </a:lnTo>
                  <a:lnTo>
                    <a:pt x="6162" y="9455"/>
                  </a:lnTo>
                  <a:lnTo>
                    <a:pt x="3030" y="8436"/>
                  </a:lnTo>
                  <a:lnTo>
                    <a:pt x="0" y="8436"/>
                  </a:lnTo>
                  <a:lnTo>
                    <a:pt x="0" y="5164"/>
                  </a:lnTo>
                  <a:lnTo>
                    <a:pt x="1515" y="5164"/>
                  </a:lnTo>
                  <a:lnTo>
                    <a:pt x="3030" y="4145"/>
                  </a:lnTo>
                  <a:lnTo>
                    <a:pt x="3030" y="3200"/>
                  </a:lnTo>
                  <a:lnTo>
                    <a:pt x="4646" y="3200"/>
                  </a:lnTo>
                  <a:lnTo>
                    <a:pt x="6162" y="5164"/>
                  </a:lnTo>
                  <a:lnTo>
                    <a:pt x="7677" y="6255"/>
                  </a:lnTo>
                  <a:lnTo>
                    <a:pt x="9091" y="5164"/>
                  </a:lnTo>
                  <a:lnTo>
                    <a:pt x="9091" y="2109"/>
                  </a:lnTo>
                  <a:lnTo>
                    <a:pt x="7677" y="1091"/>
                  </a:lnTo>
                  <a:lnTo>
                    <a:pt x="10808" y="0"/>
                  </a:lnTo>
                  <a:lnTo>
                    <a:pt x="12222" y="1091"/>
                  </a:lnTo>
                  <a:lnTo>
                    <a:pt x="12222" y="1091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0920" y="1312200"/>
              <a:ext cx="73080" cy="163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3816" y="4971"/>
                  </a:moveTo>
                  <a:lnTo>
                    <a:pt x="13816" y="4971"/>
                  </a:lnTo>
                  <a:lnTo>
                    <a:pt x="17895" y="4971"/>
                  </a:lnTo>
                  <a:lnTo>
                    <a:pt x="19868" y="6705"/>
                  </a:lnTo>
                  <a:lnTo>
                    <a:pt x="15921" y="8266"/>
                  </a:lnTo>
                  <a:lnTo>
                    <a:pt x="15921" y="9942"/>
                  </a:lnTo>
                  <a:lnTo>
                    <a:pt x="13816" y="10809"/>
                  </a:lnTo>
                  <a:lnTo>
                    <a:pt x="15921" y="11676"/>
                  </a:lnTo>
                  <a:lnTo>
                    <a:pt x="13816" y="13237"/>
                  </a:lnTo>
                  <a:lnTo>
                    <a:pt x="13816" y="14104"/>
                  </a:lnTo>
                  <a:lnTo>
                    <a:pt x="11842" y="14971"/>
                  </a:lnTo>
                  <a:lnTo>
                    <a:pt x="11842" y="17399"/>
                  </a:lnTo>
                  <a:lnTo>
                    <a:pt x="10000" y="19075"/>
                  </a:lnTo>
                  <a:lnTo>
                    <a:pt x="8026" y="19942"/>
                  </a:lnTo>
                  <a:lnTo>
                    <a:pt x="8026" y="18266"/>
                  </a:lnTo>
                  <a:lnTo>
                    <a:pt x="8026" y="16647"/>
                  </a:lnTo>
                  <a:lnTo>
                    <a:pt x="10000" y="14971"/>
                  </a:lnTo>
                  <a:lnTo>
                    <a:pt x="11842" y="13237"/>
                  </a:lnTo>
                  <a:lnTo>
                    <a:pt x="11842" y="11676"/>
                  </a:lnTo>
                  <a:lnTo>
                    <a:pt x="11842" y="10809"/>
                  </a:lnTo>
                  <a:lnTo>
                    <a:pt x="8026" y="10809"/>
                  </a:lnTo>
                  <a:lnTo>
                    <a:pt x="8026" y="11676"/>
                  </a:lnTo>
                  <a:lnTo>
                    <a:pt x="3947" y="11676"/>
                  </a:lnTo>
                  <a:lnTo>
                    <a:pt x="6053" y="10809"/>
                  </a:lnTo>
                  <a:lnTo>
                    <a:pt x="3947" y="10809"/>
                  </a:lnTo>
                  <a:lnTo>
                    <a:pt x="0" y="9942"/>
                  </a:lnTo>
                  <a:lnTo>
                    <a:pt x="3947" y="8266"/>
                  </a:lnTo>
                  <a:lnTo>
                    <a:pt x="6053" y="9133"/>
                  </a:lnTo>
                  <a:lnTo>
                    <a:pt x="11842" y="8266"/>
                  </a:lnTo>
                  <a:lnTo>
                    <a:pt x="11842" y="6705"/>
                  </a:lnTo>
                  <a:lnTo>
                    <a:pt x="8026" y="7514"/>
                  </a:lnTo>
                  <a:lnTo>
                    <a:pt x="8026" y="5838"/>
                  </a:lnTo>
                  <a:lnTo>
                    <a:pt x="8026" y="4971"/>
                  </a:lnTo>
                  <a:lnTo>
                    <a:pt x="6053" y="3295"/>
                  </a:lnTo>
                  <a:lnTo>
                    <a:pt x="8026" y="2543"/>
                  </a:lnTo>
                  <a:lnTo>
                    <a:pt x="10000" y="3295"/>
                  </a:lnTo>
                  <a:lnTo>
                    <a:pt x="10000" y="2543"/>
                  </a:lnTo>
                  <a:lnTo>
                    <a:pt x="10000" y="1676"/>
                  </a:lnTo>
                  <a:lnTo>
                    <a:pt x="13816" y="0"/>
                  </a:lnTo>
                  <a:lnTo>
                    <a:pt x="13816" y="4971"/>
                  </a:lnTo>
                  <a:lnTo>
                    <a:pt x="13816" y="4971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71200" y="1143000"/>
              <a:ext cx="1555200" cy="1581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594" y="0"/>
                  </a:moveTo>
                  <a:lnTo>
                    <a:pt x="19994" y="0"/>
                  </a:lnTo>
                  <a:lnTo>
                    <a:pt x="19994" y="19994"/>
                  </a:lnTo>
                  <a:lnTo>
                    <a:pt x="15602" y="19994"/>
                  </a:lnTo>
                  <a:lnTo>
                    <a:pt x="10834" y="19390"/>
                  </a:lnTo>
                  <a:lnTo>
                    <a:pt x="10834" y="18283"/>
                  </a:lnTo>
                  <a:lnTo>
                    <a:pt x="10469" y="17505"/>
                  </a:lnTo>
                  <a:lnTo>
                    <a:pt x="11211" y="17074"/>
                  </a:lnTo>
                  <a:lnTo>
                    <a:pt x="11674" y="17679"/>
                  </a:lnTo>
                  <a:lnTo>
                    <a:pt x="11495" y="16560"/>
                  </a:lnTo>
                  <a:lnTo>
                    <a:pt x="10741" y="15447"/>
                  </a:lnTo>
                  <a:lnTo>
                    <a:pt x="10469" y="13814"/>
                  </a:lnTo>
                  <a:lnTo>
                    <a:pt x="9809" y="12869"/>
                  </a:lnTo>
                  <a:lnTo>
                    <a:pt x="8320" y="12103"/>
                  </a:lnTo>
                  <a:lnTo>
                    <a:pt x="6448" y="11409"/>
                  </a:lnTo>
                  <a:lnTo>
                    <a:pt x="4768" y="10978"/>
                  </a:lnTo>
                  <a:lnTo>
                    <a:pt x="4577" y="8926"/>
                  </a:lnTo>
                  <a:lnTo>
                    <a:pt x="1686" y="7640"/>
                  </a:lnTo>
                  <a:lnTo>
                    <a:pt x="556" y="7377"/>
                  </a:lnTo>
                  <a:lnTo>
                    <a:pt x="284" y="6695"/>
                  </a:lnTo>
                  <a:lnTo>
                    <a:pt x="0" y="5749"/>
                  </a:lnTo>
                  <a:lnTo>
                    <a:pt x="93" y="4888"/>
                  </a:lnTo>
                  <a:lnTo>
                    <a:pt x="93" y="3859"/>
                  </a:lnTo>
                  <a:lnTo>
                    <a:pt x="469" y="3691"/>
                  </a:lnTo>
                  <a:lnTo>
                    <a:pt x="469" y="2997"/>
                  </a:lnTo>
                  <a:lnTo>
                    <a:pt x="747" y="2997"/>
                  </a:lnTo>
                  <a:lnTo>
                    <a:pt x="1124" y="2920"/>
                  </a:lnTo>
                  <a:lnTo>
                    <a:pt x="1495" y="2920"/>
                  </a:lnTo>
                  <a:lnTo>
                    <a:pt x="1686" y="2836"/>
                  </a:lnTo>
                  <a:lnTo>
                    <a:pt x="1686" y="2656"/>
                  </a:lnTo>
                  <a:lnTo>
                    <a:pt x="1686" y="2489"/>
                  </a:lnTo>
                  <a:lnTo>
                    <a:pt x="1686" y="2405"/>
                  </a:lnTo>
                  <a:lnTo>
                    <a:pt x="1594" y="2232"/>
                  </a:lnTo>
                  <a:lnTo>
                    <a:pt x="1495" y="2142"/>
                  </a:lnTo>
                  <a:lnTo>
                    <a:pt x="1594" y="1974"/>
                  </a:lnTo>
                  <a:lnTo>
                    <a:pt x="1773" y="1891"/>
                  </a:lnTo>
                  <a:lnTo>
                    <a:pt x="1958" y="1891"/>
                  </a:lnTo>
                  <a:lnTo>
                    <a:pt x="1958" y="2052"/>
                  </a:lnTo>
                  <a:lnTo>
                    <a:pt x="2057" y="2052"/>
                  </a:lnTo>
                  <a:lnTo>
                    <a:pt x="2149" y="1974"/>
                  </a:lnTo>
                  <a:lnTo>
                    <a:pt x="2149" y="1891"/>
                  </a:lnTo>
                  <a:lnTo>
                    <a:pt x="2057" y="1801"/>
                  </a:lnTo>
                  <a:lnTo>
                    <a:pt x="2149" y="1621"/>
                  </a:lnTo>
                  <a:lnTo>
                    <a:pt x="2242" y="1550"/>
                  </a:lnTo>
                  <a:lnTo>
                    <a:pt x="2427" y="1550"/>
                  </a:lnTo>
                  <a:lnTo>
                    <a:pt x="2526" y="1550"/>
                  </a:lnTo>
                  <a:lnTo>
                    <a:pt x="2619" y="1460"/>
                  </a:lnTo>
                  <a:lnTo>
                    <a:pt x="2712" y="1370"/>
                  </a:lnTo>
                  <a:lnTo>
                    <a:pt x="2712" y="1286"/>
                  </a:lnTo>
                  <a:lnTo>
                    <a:pt x="2798" y="1119"/>
                  </a:lnTo>
                  <a:lnTo>
                    <a:pt x="2989" y="1029"/>
                  </a:lnTo>
                  <a:lnTo>
                    <a:pt x="3267" y="1029"/>
                  </a:lnTo>
                  <a:lnTo>
                    <a:pt x="3552" y="1029"/>
                  </a:lnTo>
                  <a:lnTo>
                    <a:pt x="3737" y="1029"/>
                  </a:lnTo>
                  <a:lnTo>
                    <a:pt x="3922" y="1029"/>
                  </a:lnTo>
                  <a:lnTo>
                    <a:pt x="4015" y="945"/>
                  </a:lnTo>
                  <a:lnTo>
                    <a:pt x="4015" y="856"/>
                  </a:lnTo>
                  <a:lnTo>
                    <a:pt x="3922" y="766"/>
                  </a:lnTo>
                  <a:lnTo>
                    <a:pt x="3836" y="766"/>
                  </a:lnTo>
                  <a:lnTo>
                    <a:pt x="3737" y="682"/>
                  </a:lnTo>
                  <a:lnTo>
                    <a:pt x="3644" y="604"/>
                  </a:lnTo>
                  <a:lnTo>
                    <a:pt x="3459" y="604"/>
                  </a:lnTo>
                  <a:lnTo>
                    <a:pt x="3175" y="604"/>
                  </a:lnTo>
                  <a:lnTo>
                    <a:pt x="2989" y="682"/>
                  </a:lnTo>
                  <a:lnTo>
                    <a:pt x="2798" y="766"/>
                  </a:lnTo>
                  <a:lnTo>
                    <a:pt x="2526" y="682"/>
                  </a:lnTo>
                  <a:lnTo>
                    <a:pt x="2427" y="604"/>
                  </a:lnTo>
                  <a:lnTo>
                    <a:pt x="2149" y="515"/>
                  </a:lnTo>
                  <a:lnTo>
                    <a:pt x="2057" y="425"/>
                  </a:lnTo>
                  <a:lnTo>
                    <a:pt x="1773" y="341"/>
                  </a:lnTo>
                  <a:lnTo>
                    <a:pt x="1594" y="0"/>
                  </a:lnTo>
                  <a:lnTo>
                    <a:pt x="1594" y="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43880" y="3925080"/>
              <a:ext cx="638640" cy="780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8415" y="16172"/>
                  </a:moveTo>
                  <a:lnTo>
                    <a:pt x="8640" y="16523"/>
                  </a:lnTo>
                  <a:lnTo>
                    <a:pt x="9076" y="17032"/>
                  </a:lnTo>
                  <a:lnTo>
                    <a:pt x="9076" y="17396"/>
                  </a:lnTo>
                  <a:lnTo>
                    <a:pt x="9992" y="17396"/>
                  </a:lnTo>
                  <a:lnTo>
                    <a:pt x="10684" y="17723"/>
                  </a:lnTo>
                  <a:lnTo>
                    <a:pt x="10909" y="18256"/>
                  </a:lnTo>
                  <a:lnTo>
                    <a:pt x="11134" y="18764"/>
                  </a:lnTo>
                  <a:lnTo>
                    <a:pt x="11570" y="18437"/>
                  </a:lnTo>
                  <a:lnTo>
                    <a:pt x="12261" y="17723"/>
                  </a:lnTo>
                  <a:lnTo>
                    <a:pt x="13403" y="17565"/>
                  </a:lnTo>
                  <a:lnTo>
                    <a:pt x="14080" y="17904"/>
                  </a:lnTo>
                  <a:lnTo>
                    <a:pt x="14305" y="17904"/>
                  </a:lnTo>
                  <a:lnTo>
                    <a:pt x="14756" y="17565"/>
                  </a:lnTo>
                  <a:lnTo>
                    <a:pt x="15898" y="17214"/>
                  </a:lnTo>
                  <a:lnTo>
                    <a:pt x="16138" y="17214"/>
                  </a:lnTo>
                  <a:lnTo>
                    <a:pt x="16349" y="16850"/>
                  </a:lnTo>
                  <a:lnTo>
                    <a:pt x="17941" y="16705"/>
                  </a:lnTo>
                  <a:lnTo>
                    <a:pt x="19294" y="16850"/>
                  </a:lnTo>
                  <a:lnTo>
                    <a:pt x="19068" y="16342"/>
                  </a:lnTo>
                  <a:lnTo>
                    <a:pt x="19068" y="15821"/>
                  </a:lnTo>
                  <a:lnTo>
                    <a:pt x="19068" y="15482"/>
                  </a:lnTo>
                  <a:lnTo>
                    <a:pt x="18633" y="14949"/>
                  </a:lnTo>
                  <a:lnTo>
                    <a:pt x="18407" y="14791"/>
                  </a:lnTo>
                  <a:lnTo>
                    <a:pt x="18407" y="14428"/>
                  </a:lnTo>
                  <a:lnTo>
                    <a:pt x="18407" y="14076"/>
                  </a:lnTo>
                  <a:lnTo>
                    <a:pt x="18633" y="13737"/>
                  </a:lnTo>
                  <a:lnTo>
                    <a:pt x="18843" y="13568"/>
                  </a:lnTo>
                  <a:lnTo>
                    <a:pt x="19534" y="13386"/>
                  </a:lnTo>
                  <a:lnTo>
                    <a:pt x="19534" y="13204"/>
                  </a:lnTo>
                  <a:lnTo>
                    <a:pt x="19760" y="12877"/>
                  </a:lnTo>
                  <a:lnTo>
                    <a:pt x="19985" y="12344"/>
                  </a:lnTo>
                  <a:lnTo>
                    <a:pt x="19760" y="11823"/>
                  </a:lnTo>
                  <a:lnTo>
                    <a:pt x="19534" y="11654"/>
                  </a:lnTo>
                  <a:lnTo>
                    <a:pt x="19068" y="11302"/>
                  </a:lnTo>
                  <a:lnTo>
                    <a:pt x="18407" y="11133"/>
                  </a:lnTo>
                  <a:lnTo>
                    <a:pt x="17941" y="10781"/>
                  </a:lnTo>
                  <a:lnTo>
                    <a:pt x="17716" y="10430"/>
                  </a:lnTo>
                  <a:lnTo>
                    <a:pt x="17265" y="10079"/>
                  </a:lnTo>
                  <a:lnTo>
                    <a:pt x="17025" y="9740"/>
                  </a:lnTo>
                  <a:lnTo>
                    <a:pt x="17025" y="9049"/>
                  </a:lnTo>
                  <a:lnTo>
                    <a:pt x="16799" y="8867"/>
                  </a:lnTo>
                  <a:lnTo>
                    <a:pt x="17025" y="8346"/>
                  </a:lnTo>
                  <a:lnTo>
                    <a:pt x="17491" y="7656"/>
                  </a:lnTo>
                  <a:lnTo>
                    <a:pt x="17941" y="7305"/>
                  </a:lnTo>
                  <a:lnTo>
                    <a:pt x="17025" y="6614"/>
                  </a:lnTo>
                  <a:lnTo>
                    <a:pt x="16574" y="6251"/>
                  </a:lnTo>
                  <a:lnTo>
                    <a:pt x="16799" y="5912"/>
                  </a:lnTo>
                  <a:lnTo>
                    <a:pt x="17265" y="5560"/>
                  </a:lnTo>
                  <a:lnTo>
                    <a:pt x="16799" y="5391"/>
                  </a:lnTo>
                  <a:lnTo>
                    <a:pt x="16349" y="5560"/>
                  </a:lnTo>
                  <a:lnTo>
                    <a:pt x="15898" y="6093"/>
                  </a:lnTo>
                  <a:lnTo>
                    <a:pt x="15672" y="6251"/>
                  </a:lnTo>
                  <a:lnTo>
                    <a:pt x="15222" y="6432"/>
                  </a:lnTo>
                  <a:lnTo>
                    <a:pt x="14530" y="6251"/>
                  </a:lnTo>
                  <a:lnTo>
                    <a:pt x="14080" y="5912"/>
                  </a:lnTo>
                  <a:lnTo>
                    <a:pt x="13629" y="5912"/>
                  </a:lnTo>
                  <a:lnTo>
                    <a:pt x="13178" y="5912"/>
                  </a:lnTo>
                  <a:lnTo>
                    <a:pt x="12261" y="5742"/>
                  </a:lnTo>
                  <a:lnTo>
                    <a:pt x="11570" y="5221"/>
                  </a:lnTo>
                  <a:lnTo>
                    <a:pt x="12036" y="5039"/>
                  </a:lnTo>
                  <a:lnTo>
                    <a:pt x="12487" y="5039"/>
                  </a:lnTo>
                  <a:lnTo>
                    <a:pt x="11811" y="4700"/>
                  </a:lnTo>
                  <a:lnTo>
                    <a:pt x="11811" y="4337"/>
                  </a:lnTo>
                  <a:lnTo>
                    <a:pt x="11811" y="4010"/>
                  </a:lnTo>
                  <a:lnTo>
                    <a:pt x="11570" y="3646"/>
                  </a:lnTo>
                  <a:lnTo>
                    <a:pt x="10909" y="3477"/>
                  </a:lnTo>
                  <a:lnTo>
                    <a:pt x="10443" y="3307"/>
                  </a:lnTo>
                  <a:lnTo>
                    <a:pt x="9767" y="3137"/>
                  </a:lnTo>
                  <a:lnTo>
                    <a:pt x="9301" y="2968"/>
                  </a:lnTo>
                  <a:lnTo>
                    <a:pt x="9076" y="2968"/>
                  </a:lnTo>
                  <a:lnTo>
                    <a:pt x="8850" y="2786"/>
                  </a:lnTo>
                  <a:lnTo>
                    <a:pt x="8415" y="2423"/>
                  </a:lnTo>
                  <a:lnTo>
                    <a:pt x="8174" y="2096"/>
                  </a:lnTo>
                  <a:lnTo>
                    <a:pt x="8174" y="1732"/>
                  </a:lnTo>
                  <a:lnTo>
                    <a:pt x="7949" y="1224"/>
                  </a:lnTo>
                  <a:lnTo>
                    <a:pt x="7498" y="1054"/>
                  </a:lnTo>
                  <a:lnTo>
                    <a:pt x="6807" y="690"/>
                  </a:lnTo>
                  <a:lnTo>
                    <a:pt x="6356" y="363"/>
                  </a:lnTo>
                  <a:lnTo>
                    <a:pt x="5680" y="0"/>
                  </a:lnTo>
                  <a:lnTo>
                    <a:pt x="5455" y="0"/>
                  </a:lnTo>
                  <a:lnTo>
                    <a:pt x="4763" y="0"/>
                  </a:lnTo>
                  <a:lnTo>
                    <a:pt x="4313" y="0"/>
                  </a:lnTo>
                  <a:lnTo>
                    <a:pt x="3636" y="0"/>
                  </a:lnTo>
                  <a:lnTo>
                    <a:pt x="3186" y="0"/>
                  </a:lnTo>
                  <a:lnTo>
                    <a:pt x="2720" y="363"/>
                  </a:lnTo>
                  <a:lnTo>
                    <a:pt x="2044" y="1054"/>
                  </a:lnTo>
                  <a:lnTo>
                    <a:pt x="1578" y="1224"/>
                  </a:lnTo>
                  <a:lnTo>
                    <a:pt x="917" y="1224"/>
                  </a:lnTo>
                  <a:lnTo>
                    <a:pt x="451" y="1393"/>
                  </a:lnTo>
                  <a:lnTo>
                    <a:pt x="691" y="2968"/>
                  </a:lnTo>
                  <a:lnTo>
                    <a:pt x="225" y="3477"/>
                  </a:lnTo>
                  <a:lnTo>
                    <a:pt x="451" y="3646"/>
                  </a:lnTo>
                  <a:lnTo>
                    <a:pt x="691" y="4010"/>
                  </a:lnTo>
                  <a:lnTo>
                    <a:pt x="1818" y="4337"/>
                  </a:lnTo>
                  <a:lnTo>
                    <a:pt x="917" y="4518"/>
                  </a:lnTo>
                  <a:lnTo>
                    <a:pt x="0" y="5221"/>
                  </a:lnTo>
                  <a:lnTo>
                    <a:pt x="0" y="5560"/>
                  </a:lnTo>
                  <a:lnTo>
                    <a:pt x="225" y="6093"/>
                  </a:lnTo>
                  <a:lnTo>
                    <a:pt x="917" y="6093"/>
                  </a:lnTo>
                  <a:lnTo>
                    <a:pt x="1578" y="5912"/>
                  </a:lnTo>
                  <a:lnTo>
                    <a:pt x="2044" y="6093"/>
                  </a:lnTo>
                  <a:lnTo>
                    <a:pt x="1818" y="6953"/>
                  </a:lnTo>
                  <a:lnTo>
                    <a:pt x="1142" y="7474"/>
                  </a:lnTo>
                  <a:lnTo>
                    <a:pt x="917" y="8346"/>
                  </a:lnTo>
                  <a:lnTo>
                    <a:pt x="1352" y="8528"/>
                  </a:lnTo>
                  <a:lnTo>
                    <a:pt x="1818" y="9388"/>
                  </a:lnTo>
                  <a:lnTo>
                    <a:pt x="2494" y="9740"/>
                  </a:lnTo>
                  <a:lnTo>
                    <a:pt x="3186" y="10600"/>
                  </a:lnTo>
                  <a:lnTo>
                    <a:pt x="2960" y="11472"/>
                  </a:lnTo>
                  <a:lnTo>
                    <a:pt x="2494" y="11654"/>
                  </a:lnTo>
                  <a:lnTo>
                    <a:pt x="2494" y="11993"/>
                  </a:lnTo>
                  <a:lnTo>
                    <a:pt x="2044" y="12514"/>
                  </a:lnTo>
                  <a:lnTo>
                    <a:pt x="2044" y="12695"/>
                  </a:lnTo>
                  <a:lnTo>
                    <a:pt x="1352" y="13568"/>
                  </a:lnTo>
                  <a:lnTo>
                    <a:pt x="1142" y="14609"/>
                  </a:lnTo>
                  <a:lnTo>
                    <a:pt x="917" y="15821"/>
                  </a:lnTo>
                  <a:lnTo>
                    <a:pt x="1352" y="16342"/>
                  </a:lnTo>
                  <a:lnTo>
                    <a:pt x="2044" y="16705"/>
                  </a:lnTo>
                  <a:lnTo>
                    <a:pt x="1818" y="17214"/>
                  </a:lnTo>
                  <a:lnTo>
                    <a:pt x="1352" y="18074"/>
                  </a:lnTo>
                  <a:lnTo>
                    <a:pt x="1578" y="17723"/>
                  </a:lnTo>
                  <a:lnTo>
                    <a:pt x="2044" y="17565"/>
                  </a:lnTo>
                  <a:lnTo>
                    <a:pt x="2269" y="17565"/>
                  </a:lnTo>
                  <a:lnTo>
                    <a:pt x="2044" y="17723"/>
                  </a:lnTo>
                  <a:lnTo>
                    <a:pt x="1818" y="17904"/>
                  </a:lnTo>
                  <a:lnTo>
                    <a:pt x="2269" y="18074"/>
                  </a:lnTo>
                  <a:lnTo>
                    <a:pt x="2494" y="18256"/>
                  </a:lnTo>
                  <a:lnTo>
                    <a:pt x="2960" y="18595"/>
                  </a:lnTo>
                  <a:lnTo>
                    <a:pt x="3636" y="18764"/>
                  </a:lnTo>
                  <a:lnTo>
                    <a:pt x="3847" y="18946"/>
                  </a:lnTo>
                  <a:lnTo>
                    <a:pt x="4538" y="19637"/>
                  </a:lnTo>
                  <a:lnTo>
                    <a:pt x="5229" y="19818"/>
                  </a:lnTo>
                  <a:lnTo>
                    <a:pt x="5455" y="19988"/>
                  </a:lnTo>
                  <a:lnTo>
                    <a:pt x="5455" y="19818"/>
                  </a:lnTo>
                  <a:lnTo>
                    <a:pt x="5680" y="19310"/>
                  </a:lnTo>
                  <a:lnTo>
                    <a:pt x="5680" y="18946"/>
                  </a:lnTo>
                  <a:lnTo>
                    <a:pt x="5229" y="18256"/>
                  </a:lnTo>
                  <a:lnTo>
                    <a:pt x="5455" y="17904"/>
                  </a:lnTo>
                  <a:lnTo>
                    <a:pt x="5905" y="17032"/>
                  </a:lnTo>
                  <a:lnTo>
                    <a:pt x="6146" y="16523"/>
                  </a:lnTo>
                  <a:lnTo>
                    <a:pt x="6582" y="15990"/>
                  </a:lnTo>
                  <a:lnTo>
                    <a:pt x="6807" y="16172"/>
                  </a:lnTo>
                  <a:lnTo>
                    <a:pt x="6807" y="16705"/>
                  </a:lnTo>
                  <a:lnTo>
                    <a:pt x="7273" y="17032"/>
                  </a:lnTo>
                  <a:lnTo>
                    <a:pt x="7498" y="16523"/>
                  </a:lnTo>
                  <a:lnTo>
                    <a:pt x="8415" y="16172"/>
                  </a:lnTo>
                  <a:lnTo>
                    <a:pt x="8415" y="16172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23120" y="3307680"/>
              <a:ext cx="712080" cy="353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7143" y="3052"/>
                  </a:moveTo>
                  <a:lnTo>
                    <a:pt x="7547" y="2731"/>
                  </a:lnTo>
                  <a:lnTo>
                    <a:pt x="7951" y="2329"/>
                  </a:lnTo>
                  <a:lnTo>
                    <a:pt x="7951" y="1526"/>
                  </a:lnTo>
                  <a:lnTo>
                    <a:pt x="8369" y="803"/>
                  </a:lnTo>
                  <a:lnTo>
                    <a:pt x="8962" y="1151"/>
                  </a:lnTo>
                  <a:lnTo>
                    <a:pt x="9178" y="2329"/>
                  </a:lnTo>
                  <a:lnTo>
                    <a:pt x="9582" y="2329"/>
                  </a:lnTo>
                  <a:lnTo>
                    <a:pt x="9582" y="3052"/>
                  </a:lnTo>
                  <a:lnTo>
                    <a:pt x="10606" y="3855"/>
                  </a:lnTo>
                  <a:lnTo>
                    <a:pt x="11024" y="3454"/>
                  </a:lnTo>
                  <a:lnTo>
                    <a:pt x="11226" y="2329"/>
                  </a:lnTo>
                  <a:lnTo>
                    <a:pt x="11819" y="1928"/>
                  </a:lnTo>
                  <a:lnTo>
                    <a:pt x="12439" y="1526"/>
                  </a:lnTo>
                  <a:lnTo>
                    <a:pt x="12857" y="1151"/>
                  </a:lnTo>
                  <a:lnTo>
                    <a:pt x="13261" y="1526"/>
                  </a:lnTo>
                  <a:lnTo>
                    <a:pt x="13652" y="1928"/>
                  </a:lnTo>
                  <a:lnTo>
                    <a:pt x="14272" y="1526"/>
                  </a:lnTo>
                  <a:lnTo>
                    <a:pt x="14474" y="402"/>
                  </a:lnTo>
                  <a:lnTo>
                    <a:pt x="14677" y="402"/>
                  </a:lnTo>
                  <a:lnTo>
                    <a:pt x="15296" y="0"/>
                  </a:lnTo>
                  <a:lnTo>
                    <a:pt x="15916" y="0"/>
                  </a:lnTo>
                  <a:lnTo>
                    <a:pt x="16509" y="0"/>
                  </a:lnTo>
                  <a:lnTo>
                    <a:pt x="16927" y="402"/>
                  </a:lnTo>
                  <a:lnTo>
                    <a:pt x="17332" y="803"/>
                  </a:lnTo>
                  <a:lnTo>
                    <a:pt x="17749" y="1526"/>
                  </a:lnTo>
                  <a:lnTo>
                    <a:pt x="18356" y="1928"/>
                  </a:lnTo>
                  <a:lnTo>
                    <a:pt x="18774" y="1928"/>
                  </a:lnTo>
                  <a:lnTo>
                    <a:pt x="19164" y="2329"/>
                  </a:lnTo>
                  <a:lnTo>
                    <a:pt x="19987" y="2329"/>
                  </a:lnTo>
                  <a:lnTo>
                    <a:pt x="19582" y="3052"/>
                  </a:lnTo>
                  <a:lnTo>
                    <a:pt x="19367" y="4632"/>
                  </a:lnTo>
                  <a:lnTo>
                    <a:pt x="19164" y="5007"/>
                  </a:lnTo>
                  <a:lnTo>
                    <a:pt x="19164" y="6158"/>
                  </a:lnTo>
                  <a:lnTo>
                    <a:pt x="18962" y="6934"/>
                  </a:lnTo>
                  <a:lnTo>
                    <a:pt x="18962" y="7684"/>
                  </a:lnTo>
                  <a:lnTo>
                    <a:pt x="18962" y="8461"/>
                  </a:lnTo>
                  <a:lnTo>
                    <a:pt x="18962" y="9612"/>
                  </a:lnTo>
                  <a:lnTo>
                    <a:pt x="18571" y="9612"/>
                  </a:lnTo>
                  <a:lnTo>
                    <a:pt x="18356" y="9987"/>
                  </a:lnTo>
                  <a:lnTo>
                    <a:pt x="17749" y="10388"/>
                  </a:lnTo>
                  <a:lnTo>
                    <a:pt x="17534" y="10388"/>
                  </a:lnTo>
                  <a:lnTo>
                    <a:pt x="17129" y="9612"/>
                  </a:lnTo>
                  <a:lnTo>
                    <a:pt x="16509" y="9210"/>
                  </a:lnTo>
                  <a:lnTo>
                    <a:pt x="15916" y="9210"/>
                  </a:lnTo>
                  <a:lnTo>
                    <a:pt x="15499" y="9210"/>
                  </a:lnTo>
                  <a:lnTo>
                    <a:pt x="15094" y="9612"/>
                  </a:lnTo>
                  <a:lnTo>
                    <a:pt x="14677" y="9612"/>
                  </a:lnTo>
                  <a:lnTo>
                    <a:pt x="14070" y="9612"/>
                  </a:lnTo>
                  <a:lnTo>
                    <a:pt x="13464" y="9612"/>
                  </a:lnTo>
                  <a:lnTo>
                    <a:pt x="13059" y="9987"/>
                  </a:lnTo>
                  <a:lnTo>
                    <a:pt x="12642" y="11111"/>
                  </a:lnTo>
                  <a:lnTo>
                    <a:pt x="12642" y="12316"/>
                  </a:lnTo>
                  <a:lnTo>
                    <a:pt x="12439" y="12691"/>
                  </a:lnTo>
                  <a:lnTo>
                    <a:pt x="11819" y="13440"/>
                  </a:lnTo>
                  <a:lnTo>
                    <a:pt x="11617" y="13815"/>
                  </a:lnTo>
                  <a:lnTo>
                    <a:pt x="11226" y="14217"/>
                  </a:lnTo>
                  <a:lnTo>
                    <a:pt x="10809" y="13815"/>
                  </a:lnTo>
                  <a:lnTo>
                    <a:pt x="10202" y="13815"/>
                  </a:lnTo>
                  <a:lnTo>
                    <a:pt x="9784" y="14217"/>
                  </a:lnTo>
                  <a:lnTo>
                    <a:pt x="9582" y="14993"/>
                  </a:lnTo>
                  <a:lnTo>
                    <a:pt x="8760" y="15341"/>
                  </a:lnTo>
                  <a:lnTo>
                    <a:pt x="8369" y="15743"/>
                  </a:lnTo>
                  <a:lnTo>
                    <a:pt x="7951" y="16145"/>
                  </a:lnTo>
                  <a:lnTo>
                    <a:pt x="7547" y="16546"/>
                  </a:lnTo>
                  <a:lnTo>
                    <a:pt x="6927" y="17269"/>
                  </a:lnTo>
                  <a:lnTo>
                    <a:pt x="6927" y="18046"/>
                  </a:lnTo>
                  <a:lnTo>
                    <a:pt x="6927" y="18447"/>
                  </a:lnTo>
                  <a:lnTo>
                    <a:pt x="6105" y="19572"/>
                  </a:lnTo>
                  <a:lnTo>
                    <a:pt x="5512" y="19973"/>
                  </a:lnTo>
                  <a:lnTo>
                    <a:pt x="4690" y="19973"/>
                  </a:lnTo>
                  <a:lnTo>
                    <a:pt x="3868" y="19973"/>
                  </a:lnTo>
                  <a:lnTo>
                    <a:pt x="3261" y="19197"/>
                  </a:lnTo>
                  <a:lnTo>
                    <a:pt x="2655" y="18849"/>
                  </a:lnTo>
                  <a:lnTo>
                    <a:pt x="2237" y="18447"/>
                  </a:lnTo>
                  <a:lnTo>
                    <a:pt x="1213" y="18046"/>
                  </a:lnTo>
                  <a:lnTo>
                    <a:pt x="1024" y="17269"/>
                  </a:lnTo>
                  <a:lnTo>
                    <a:pt x="822" y="16921"/>
                  </a:lnTo>
                  <a:lnTo>
                    <a:pt x="620" y="16546"/>
                  </a:lnTo>
                  <a:lnTo>
                    <a:pt x="0" y="15341"/>
                  </a:lnTo>
                  <a:lnTo>
                    <a:pt x="202" y="14618"/>
                  </a:lnTo>
                  <a:lnTo>
                    <a:pt x="202" y="13815"/>
                  </a:lnTo>
                  <a:lnTo>
                    <a:pt x="202" y="12316"/>
                  </a:lnTo>
                  <a:lnTo>
                    <a:pt x="0" y="11513"/>
                  </a:lnTo>
                  <a:lnTo>
                    <a:pt x="0" y="11111"/>
                  </a:lnTo>
                  <a:lnTo>
                    <a:pt x="7143" y="3052"/>
                  </a:lnTo>
                  <a:lnTo>
                    <a:pt x="7143" y="3052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08760" y="3850560"/>
              <a:ext cx="437040" cy="258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80" y="6850"/>
                  </a:moveTo>
                  <a:lnTo>
                    <a:pt x="4004" y="7326"/>
                  </a:lnTo>
                  <a:lnTo>
                    <a:pt x="6007" y="8425"/>
                  </a:lnTo>
                  <a:lnTo>
                    <a:pt x="7657" y="7326"/>
                  </a:lnTo>
                  <a:lnTo>
                    <a:pt x="7987" y="6850"/>
                  </a:lnTo>
                  <a:lnTo>
                    <a:pt x="8669" y="5275"/>
                  </a:lnTo>
                  <a:lnTo>
                    <a:pt x="9659" y="4725"/>
                  </a:lnTo>
                  <a:lnTo>
                    <a:pt x="10649" y="4725"/>
                  </a:lnTo>
                  <a:lnTo>
                    <a:pt x="11991" y="4176"/>
                  </a:lnTo>
                  <a:lnTo>
                    <a:pt x="12651" y="4176"/>
                  </a:lnTo>
                  <a:lnTo>
                    <a:pt x="13663" y="3187"/>
                  </a:lnTo>
                  <a:lnTo>
                    <a:pt x="14653" y="3187"/>
                  </a:lnTo>
                  <a:lnTo>
                    <a:pt x="15314" y="3700"/>
                  </a:lnTo>
                  <a:lnTo>
                    <a:pt x="15974" y="3700"/>
                  </a:lnTo>
                  <a:lnTo>
                    <a:pt x="15974" y="2637"/>
                  </a:lnTo>
                  <a:lnTo>
                    <a:pt x="15314" y="1538"/>
                  </a:lnTo>
                  <a:lnTo>
                    <a:pt x="15314" y="1099"/>
                  </a:lnTo>
                  <a:lnTo>
                    <a:pt x="15974" y="549"/>
                  </a:lnTo>
                  <a:lnTo>
                    <a:pt x="16656" y="0"/>
                  </a:lnTo>
                  <a:lnTo>
                    <a:pt x="17316" y="549"/>
                  </a:lnTo>
                  <a:lnTo>
                    <a:pt x="16986" y="1538"/>
                  </a:lnTo>
                  <a:lnTo>
                    <a:pt x="17316" y="2088"/>
                  </a:lnTo>
                  <a:lnTo>
                    <a:pt x="17998" y="3700"/>
                  </a:lnTo>
                  <a:lnTo>
                    <a:pt x="18636" y="4725"/>
                  </a:lnTo>
                  <a:lnTo>
                    <a:pt x="18966" y="5275"/>
                  </a:lnTo>
                  <a:lnTo>
                    <a:pt x="19978" y="6300"/>
                  </a:lnTo>
                  <a:lnTo>
                    <a:pt x="18966" y="6300"/>
                  </a:lnTo>
                  <a:lnTo>
                    <a:pt x="17998" y="5788"/>
                  </a:lnTo>
                  <a:lnTo>
                    <a:pt x="16656" y="6300"/>
                  </a:lnTo>
                  <a:lnTo>
                    <a:pt x="16656" y="7326"/>
                  </a:lnTo>
                  <a:lnTo>
                    <a:pt x="16326" y="7875"/>
                  </a:lnTo>
                  <a:lnTo>
                    <a:pt x="13971" y="9451"/>
                  </a:lnTo>
                  <a:lnTo>
                    <a:pt x="13663" y="9451"/>
                  </a:lnTo>
                  <a:lnTo>
                    <a:pt x="12981" y="10000"/>
                  </a:lnTo>
                  <a:lnTo>
                    <a:pt x="12651" y="10513"/>
                  </a:lnTo>
                  <a:lnTo>
                    <a:pt x="12651" y="13114"/>
                  </a:lnTo>
                  <a:lnTo>
                    <a:pt x="12651" y="13663"/>
                  </a:lnTo>
                  <a:lnTo>
                    <a:pt x="10649" y="14725"/>
                  </a:lnTo>
                  <a:lnTo>
                    <a:pt x="10649" y="15788"/>
                  </a:lnTo>
                  <a:lnTo>
                    <a:pt x="10649" y="16777"/>
                  </a:lnTo>
                  <a:lnTo>
                    <a:pt x="10011" y="17875"/>
                  </a:lnTo>
                  <a:lnTo>
                    <a:pt x="8999" y="17326"/>
                  </a:lnTo>
                  <a:lnTo>
                    <a:pt x="8999" y="17875"/>
                  </a:lnTo>
                  <a:lnTo>
                    <a:pt x="7657" y="16777"/>
                  </a:lnTo>
                  <a:lnTo>
                    <a:pt x="6007" y="18425"/>
                  </a:lnTo>
                  <a:lnTo>
                    <a:pt x="5677" y="18425"/>
                  </a:lnTo>
                  <a:lnTo>
                    <a:pt x="4334" y="18901"/>
                  </a:lnTo>
                  <a:lnTo>
                    <a:pt x="3322" y="19963"/>
                  </a:lnTo>
                  <a:lnTo>
                    <a:pt x="3652" y="18901"/>
                  </a:lnTo>
                  <a:lnTo>
                    <a:pt x="3322" y="18425"/>
                  </a:lnTo>
                  <a:lnTo>
                    <a:pt x="2662" y="17326"/>
                  </a:lnTo>
                  <a:lnTo>
                    <a:pt x="2332" y="16777"/>
                  </a:lnTo>
                  <a:lnTo>
                    <a:pt x="1672" y="16264"/>
                  </a:lnTo>
                  <a:lnTo>
                    <a:pt x="1672" y="15238"/>
                  </a:lnTo>
                  <a:lnTo>
                    <a:pt x="660" y="14725"/>
                  </a:lnTo>
                  <a:lnTo>
                    <a:pt x="330" y="13663"/>
                  </a:lnTo>
                  <a:lnTo>
                    <a:pt x="1342" y="12088"/>
                  </a:lnTo>
                  <a:lnTo>
                    <a:pt x="660" y="11538"/>
                  </a:lnTo>
                  <a:lnTo>
                    <a:pt x="330" y="11538"/>
                  </a:lnTo>
                  <a:lnTo>
                    <a:pt x="0" y="10513"/>
                  </a:lnTo>
                  <a:lnTo>
                    <a:pt x="330" y="9451"/>
                  </a:lnTo>
                  <a:lnTo>
                    <a:pt x="660" y="8938"/>
                  </a:lnTo>
                  <a:lnTo>
                    <a:pt x="1342" y="8425"/>
                  </a:lnTo>
                  <a:lnTo>
                    <a:pt x="1980" y="6850"/>
                  </a:lnTo>
                  <a:lnTo>
                    <a:pt x="1980" y="685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1600" y="1143000"/>
              <a:ext cx="808200" cy="1201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3438" y="0"/>
                  </a:moveTo>
                  <a:lnTo>
                    <a:pt x="14230" y="0"/>
                  </a:lnTo>
                  <a:lnTo>
                    <a:pt x="14420" y="1575"/>
                  </a:lnTo>
                  <a:lnTo>
                    <a:pt x="14598" y="2039"/>
                  </a:lnTo>
                  <a:lnTo>
                    <a:pt x="14943" y="2370"/>
                  </a:lnTo>
                  <a:lnTo>
                    <a:pt x="14943" y="2701"/>
                  </a:lnTo>
                  <a:lnTo>
                    <a:pt x="15312" y="2819"/>
                  </a:lnTo>
                  <a:lnTo>
                    <a:pt x="15669" y="2701"/>
                  </a:lnTo>
                  <a:lnTo>
                    <a:pt x="15669" y="3047"/>
                  </a:lnTo>
                  <a:lnTo>
                    <a:pt x="16026" y="3276"/>
                  </a:lnTo>
                  <a:lnTo>
                    <a:pt x="16395" y="2819"/>
                  </a:lnTo>
                  <a:lnTo>
                    <a:pt x="16573" y="2819"/>
                  </a:lnTo>
                  <a:lnTo>
                    <a:pt x="16919" y="3276"/>
                  </a:lnTo>
                  <a:lnTo>
                    <a:pt x="17466" y="3496"/>
                  </a:lnTo>
                  <a:lnTo>
                    <a:pt x="18370" y="3843"/>
                  </a:lnTo>
                  <a:lnTo>
                    <a:pt x="18917" y="4173"/>
                  </a:lnTo>
                  <a:lnTo>
                    <a:pt x="19631" y="4740"/>
                  </a:lnTo>
                  <a:lnTo>
                    <a:pt x="19988" y="5189"/>
                  </a:lnTo>
                  <a:lnTo>
                    <a:pt x="19810" y="5646"/>
                  </a:lnTo>
                  <a:lnTo>
                    <a:pt x="18917" y="6102"/>
                  </a:lnTo>
                  <a:lnTo>
                    <a:pt x="18548" y="6433"/>
                  </a:lnTo>
                  <a:lnTo>
                    <a:pt x="18548" y="7000"/>
                  </a:lnTo>
                  <a:lnTo>
                    <a:pt x="18548" y="7449"/>
                  </a:lnTo>
                  <a:lnTo>
                    <a:pt x="18192" y="7795"/>
                  </a:lnTo>
                  <a:lnTo>
                    <a:pt x="17644" y="8693"/>
                  </a:lnTo>
                  <a:lnTo>
                    <a:pt x="17287" y="8472"/>
                  </a:lnTo>
                  <a:lnTo>
                    <a:pt x="16740" y="8016"/>
                  </a:lnTo>
                  <a:lnTo>
                    <a:pt x="16573" y="8472"/>
                  </a:lnTo>
                  <a:lnTo>
                    <a:pt x="16217" y="8921"/>
                  </a:lnTo>
                  <a:lnTo>
                    <a:pt x="15122" y="9378"/>
                  </a:lnTo>
                  <a:lnTo>
                    <a:pt x="14420" y="9378"/>
                  </a:lnTo>
                  <a:lnTo>
                    <a:pt x="13516" y="9260"/>
                  </a:lnTo>
                  <a:lnTo>
                    <a:pt x="13694" y="9480"/>
                  </a:lnTo>
                  <a:lnTo>
                    <a:pt x="14420" y="9480"/>
                  </a:lnTo>
                  <a:lnTo>
                    <a:pt x="14943" y="9480"/>
                  </a:lnTo>
                  <a:lnTo>
                    <a:pt x="15122" y="9827"/>
                  </a:lnTo>
                  <a:lnTo>
                    <a:pt x="14420" y="9929"/>
                  </a:lnTo>
                  <a:lnTo>
                    <a:pt x="14051" y="9827"/>
                  </a:lnTo>
                  <a:lnTo>
                    <a:pt x="13873" y="9827"/>
                  </a:lnTo>
                  <a:lnTo>
                    <a:pt x="14943" y="10165"/>
                  </a:lnTo>
                  <a:lnTo>
                    <a:pt x="14943" y="10386"/>
                  </a:lnTo>
                  <a:lnTo>
                    <a:pt x="14943" y="10953"/>
                  </a:lnTo>
                  <a:lnTo>
                    <a:pt x="15122" y="11291"/>
                  </a:lnTo>
                  <a:lnTo>
                    <a:pt x="15122" y="11520"/>
                  </a:lnTo>
                  <a:lnTo>
                    <a:pt x="14420" y="11409"/>
                  </a:lnTo>
                  <a:lnTo>
                    <a:pt x="14598" y="11748"/>
                  </a:lnTo>
                  <a:lnTo>
                    <a:pt x="14943" y="11969"/>
                  </a:lnTo>
                  <a:lnTo>
                    <a:pt x="15122" y="12197"/>
                  </a:lnTo>
                  <a:lnTo>
                    <a:pt x="14943" y="12315"/>
                  </a:lnTo>
                  <a:lnTo>
                    <a:pt x="15122" y="12646"/>
                  </a:lnTo>
                  <a:lnTo>
                    <a:pt x="15122" y="12874"/>
                  </a:lnTo>
                  <a:lnTo>
                    <a:pt x="15122" y="13323"/>
                  </a:lnTo>
                  <a:lnTo>
                    <a:pt x="14765" y="13661"/>
                  </a:lnTo>
                  <a:lnTo>
                    <a:pt x="14943" y="14000"/>
                  </a:lnTo>
                  <a:lnTo>
                    <a:pt x="14943" y="14236"/>
                  </a:lnTo>
                  <a:lnTo>
                    <a:pt x="14765" y="14685"/>
                  </a:lnTo>
                  <a:lnTo>
                    <a:pt x="14598" y="15472"/>
                  </a:lnTo>
                  <a:lnTo>
                    <a:pt x="14051" y="16378"/>
                  </a:lnTo>
                  <a:lnTo>
                    <a:pt x="14051" y="16937"/>
                  </a:lnTo>
                  <a:lnTo>
                    <a:pt x="13516" y="17386"/>
                  </a:lnTo>
                  <a:lnTo>
                    <a:pt x="13147" y="17276"/>
                  </a:lnTo>
                  <a:lnTo>
                    <a:pt x="12255" y="17276"/>
                  </a:lnTo>
                  <a:lnTo>
                    <a:pt x="12076" y="17276"/>
                  </a:lnTo>
                  <a:lnTo>
                    <a:pt x="11707" y="17386"/>
                  </a:lnTo>
                  <a:lnTo>
                    <a:pt x="10993" y="17276"/>
                  </a:lnTo>
                  <a:lnTo>
                    <a:pt x="10625" y="17386"/>
                  </a:lnTo>
                  <a:lnTo>
                    <a:pt x="10625" y="17622"/>
                  </a:lnTo>
                  <a:lnTo>
                    <a:pt x="10625" y="17850"/>
                  </a:lnTo>
                  <a:lnTo>
                    <a:pt x="10101" y="17732"/>
                  </a:lnTo>
                  <a:lnTo>
                    <a:pt x="9732" y="17732"/>
                  </a:lnTo>
                  <a:lnTo>
                    <a:pt x="9554" y="17953"/>
                  </a:lnTo>
                  <a:lnTo>
                    <a:pt x="9375" y="18299"/>
                  </a:lnTo>
                  <a:lnTo>
                    <a:pt x="9375" y="18520"/>
                  </a:lnTo>
                  <a:lnTo>
                    <a:pt x="9554" y="18866"/>
                  </a:lnTo>
                  <a:lnTo>
                    <a:pt x="9732" y="18976"/>
                  </a:lnTo>
                  <a:lnTo>
                    <a:pt x="9732" y="19197"/>
                  </a:lnTo>
                  <a:lnTo>
                    <a:pt x="9554" y="19425"/>
                  </a:lnTo>
                  <a:lnTo>
                    <a:pt x="9375" y="19661"/>
                  </a:lnTo>
                  <a:lnTo>
                    <a:pt x="9007" y="19756"/>
                  </a:lnTo>
                  <a:lnTo>
                    <a:pt x="8650" y="19661"/>
                  </a:lnTo>
                  <a:lnTo>
                    <a:pt x="8281" y="19661"/>
                  </a:lnTo>
                  <a:lnTo>
                    <a:pt x="7936" y="19756"/>
                  </a:lnTo>
                  <a:lnTo>
                    <a:pt x="7388" y="19874"/>
                  </a:lnTo>
                  <a:lnTo>
                    <a:pt x="6853" y="19992"/>
                  </a:lnTo>
                  <a:lnTo>
                    <a:pt x="6484" y="19992"/>
                  </a:lnTo>
                  <a:lnTo>
                    <a:pt x="5782" y="19992"/>
                  </a:lnTo>
                  <a:lnTo>
                    <a:pt x="5413" y="19874"/>
                  </a:lnTo>
                  <a:lnTo>
                    <a:pt x="5413" y="19756"/>
                  </a:lnTo>
                  <a:lnTo>
                    <a:pt x="5592" y="19661"/>
                  </a:lnTo>
                  <a:lnTo>
                    <a:pt x="5592" y="19425"/>
                  </a:lnTo>
                  <a:lnTo>
                    <a:pt x="5782" y="19094"/>
                  </a:lnTo>
                  <a:lnTo>
                    <a:pt x="5782" y="18866"/>
                  </a:lnTo>
                  <a:lnTo>
                    <a:pt x="5592" y="18630"/>
                  </a:lnTo>
                  <a:lnTo>
                    <a:pt x="5235" y="18417"/>
                  </a:lnTo>
                  <a:lnTo>
                    <a:pt x="5057" y="18181"/>
                  </a:lnTo>
                  <a:lnTo>
                    <a:pt x="4688" y="17850"/>
                  </a:lnTo>
                  <a:lnTo>
                    <a:pt x="4688" y="17622"/>
                  </a:lnTo>
                  <a:lnTo>
                    <a:pt x="4331" y="17504"/>
                  </a:lnTo>
                  <a:lnTo>
                    <a:pt x="4331" y="17386"/>
                  </a:lnTo>
                  <a:lnTo>
                    <a:pt x="4331" y="17173"/>
                  </a:lnTo>
                  <a:lnTo>
                    <a:pt x="4688" y="17276"/>
                  </a:lnTo>
                  <a:lnTo>
                    <a:pt x="4878" y="17276"/>
                  </a:lnTo>
                  <a:lnTo>
                    <a:pt x="5057" y="17173"/>
                  </a:lnTo>
                  <a:lnTo>
                    <a:pt x="4878" y="17055"/>
                  </a:lnTo>
                  <a:lnTo>
                    <a:pt x="4688" y="16937"/>
                  </a:lnTo>
                  <a:lnTo>
                    <a:pt x="4509" y="16819"/>
                  </a:lnTo>
                  <a:lnTo>
                    <a:pt x="4688" y="16606"/>
                  </a:lnTo>
                  <a:lnTo>
                    <a:pt x="4878" y="16606"/>
                  </a:lnTo>
                  <a:lnTo>
                    <a:pt x="4878" y="16488"/>
                  </a:lnTo>
                  <a:lnTo>
                    <a:pt x="5057" y="16488"/>
                  </a:lnTo>
                  <a:lnTo>
                    <a:pt x="5057" y="16378"/>
                  </a:lnTo>
                  <a:lnTo>
                    <a:pt x="5057" y="16260"/>
                  </a:lnTo>
                  <a:lnTo>
                    <a:pt x="5057" y="16150"/>
                  </a:lnTo>
                  <a:lnTo>
                    <a:pt x="4878" y="16031"/>
                  </a:lnTo>
                  <a:lnTo>
                    <a:pt x="4688" y="15929"/>
                  </a:lnTo>
                  <a:lnTo>
                    <a:pt x="4331" y="15693"/>
                  </a:lnTo>
                  <a:lnTo>
                    <a:pt x="4152" y="15583"/>
                  </a:lnTo>
                  <a:lnTo>
                    <a:pt x="3783" y="15362"/>
                  </a:lnTo>
                  <a:lnTo>
                    <a:pt x="3438" y="15134"/>
                  </a:lnTo>
                  <a:lnTo>
                    <a:pt x="3260" y="14906"/>
                  </a:lnTo>
                  <a:lnTo>
                    <a:pt x="3070" y="14685"/>
                  </a:lnTo>
                  <a:lnTo>
                    <a:pt x="2891" y="14346"/>
                  </a:lnTo>
                  <a:lnTo>
                    <a:pt x="2534" y="14118"/>
                  </a:lnTo>
                  <a:lnTo>
                    <a:pt x="2356" y="13890"/>
                  </a:lnTo>
                  <a:lnTo>
                    <a:pt x="2165" y="13661"/>
                  </a:lnTo>
                  <a:lnTo>
                    <a:pt x="2165" y="13323"/>
                  </a:lnTo>
                  <a:lnTo>
                    <a:pt x="1975" y="13102"/>
                  </a:lnTo>
                  <a:lnTo>
                    <a:pt x="1618" y="12756"/>
                  </a:lnTo>
                  <a:lnTo>
                    <a:pt x="1440" y="12535"/>
                  </a:lnTo>
                  <a:lnTo>
                    <a:pt x="1249" y="12315"/>
                  </a:lnTo>
                  <a:lnTo>
                    <a:pt x="1249" y="11969"/>
                  </a:lnTo>
                  <a:lnTo>
                    <a:pt x="1071" y="11630"/>
                  </a:lnTo>
                  <a:lnTo>
                    <a:pt x="904" y="11520"/>
                  </a:lnTo>
                  <a:lnTo>
                    <a:pt x="904" y="11291"/>
                  </a:lnTo>
                  <a:lnTo>
                    <a:pt x="904" y="11173"/>
                  </a:lnTo>
                  <a:lnTo>
                    <a:pt x="904" y="10953"/>
                  </a:lnTo>
                  <a:lnTo>
                    <a:pt x="547" y="10843"/>
                  </a:lnTo>
                  <a:lnTo>
                    <a:pt x="547" y="10724"/>
                  </a:lnTo>
                  <a:lnTo>
                    <a:pt x="357" y="10504"/>
                  </a:lnTo>
                  <a:lnTo>
                    <a:pt x="178" y="10165"/>
                  </a:lnTo>
                  <a:lnTo>
                    <a:pt x="178" y="9827"/>
                  </a:lnTo>
                  <a:lnTo>
                    <a:pt x="178" y="9480"/>
                  </a:lnTo>
                  <a:lnTo>
                    <a:pt x="0" y="9378"/>
                  </a:lnTo>
                  <a:lnTo>
                    <a:pt x="0" y="8921"/>
                  </a:lnTo>
                  <a:lnTo>
                    <a:pt x="178" y="8583"/>
                  </a:lnTo>
                  <a:lnTo>
                    <a:pt x="547" y="8472"/>
                  </a:lnTo>
                  <a:lnTo>
                    <a:pt x="726" y="8693"/>
                  </a:lnTo>
                  <a:lnTo>
                    <a:pt x="904" y="8921"/>
                  </a:lnTo>
                  <a:lnTo>
                    <a:pt x="904" y="9039"/>
                  </a:lnTo>
                  <a:lnTo>
                    <a:pt x="1249" y="8921"/>
                  </a:lnTo>
                  <a:lnTo>
                    <a:pt x="1618" y="8472"/>
                  </a:lnTo>
                  <a:lnTo>
                    <a:pt x="1797" y="8016"/>
                  </a:lnTo>
                  <a:lnTo>
                    <a:pt x="1618" y="7677"/>
                  </a:lnTo>
                  <a:lnTo>
                    <a:pt x="1618" y="7449"/>
                  </a:lnTo>
                  <a:lnTo>
                    <a:pt x="1440" y="7110"/>
                  </a:lnTo>
                  <a:lnTo>
                    <a:pt x="1249" y="6890"/>
                  </a:lnTo>
                  <a:lnTo>
                    <a:pt x="1440" y="6780"/>
                  </a:lnTo>
                  <a:lnTo>
                    <a:pt x="1797" y="6780"/>
                  </a:lnTo>
                  <a:lnTo>
                    <a:pt x="1797" y="6551"/>
                  </a:lnTo>
                  <a:lnTo>
                    <a:pt x="1797" y="6213"/>
                  </a:lnTo>
                  <a:lnTo>
                    <a:pt x="1618" y="6102"/>
                  </a:lnTo>
                  <a:lnTo>
                    <a:pt x="1797" y="6102"/>
                  </a:lnTo>
                  <a:lnTo>
                    <a:pt x="2356" y="5984"/>
                  </a:lnTo>
                  <a:lnTo>
                    <a:pt x="2534" y="5866"/>
                  </a:lnTo>
                  <a:lnTo>
                    <a:pt x="2891" y="5646"/>
                  </a:lnTo>
                  <a:lnTo>
                    <a:pt x="3260" y="5189"/>
                  </a:lnTo>
                  <a:lnTo>
                    <a:pt x="3260" y="4976"/>
                  </a:lnTo>
                  <a:lnTo>
                    <a:pt x="3070" y="4740"/>
                  </a:lnTo>
                  <a:lnTo>
                    <a:pt x="3260" y="4520"/>
                  </a:lnTo>
                  <a:lnTo>
                    <a:pt x="3260" y="4173"/>
                  </a:lnTo>
                  <a:lnTo>
                    <a:pt x="2891" y="3732"/>
                  </a:lnTo>
                  <a:lnTo>
                    <a:pt x="2713" y="3378"/>
                  </a:lnTo>
                  <a:lnTo>
                    <a:pt x="2534" y="3047"/>
                  </a:lnTo>
                  <a:lnTo>
                    <a:pt x="2534" y="2701"/>
                  </a:lnTo>
                  <a:lnTo>
                    <a:pt x="2356" y="2370"/>
                  </a:lnTo>
                  <a:lnTo>
                    <a:pt x="2356" y="2252"/>
                  </a:lnTo>
                  <a:lnTo>
                    <a:pt x="2534" y="2252"/>
                  </a:lnTo>
                  <a:lnTo>
                    <a:pt x="2891" y="2252"/>
                  </a:lnTo>
                  <a:lnTo>
                    <a:pt x="3260" y="2039"/>
                  </a:lnTo>
                  <a:lnTo>
                    <a:pt x="3438" y="1803"/>
                  </a:lnTo>
                  <a:lnTo>
                    <a:pt x="3438" y="1693"/>
                  </a:lnTo>
                  <a:lnTo>
                    <a:pt x="3605" y="1472"/>
                  </a:lnTo>
                  <a:lnTo>
                    <a:pt x="3605" y="1354"/>
                  </a:lnTo>
                  <a:lnTo>
                    <a:pt x="3438" y="0"/>
                  </a:lnTo>
                  <a:lnTo>
                    <a:pt x="3438" y="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57240" y="1793520"/>
              <a:ext cx="117360" cy="211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8" y="0"/>
                  </a:moveTo>
                  <a:lnTo>
                    <a:pt x="18689" y="1345"/>
                  </a:lnTo>
                  <a:lnTo>
                    <a:pt x="16148" y="1883"/>
                  </a:lnTo>
                  <a:lnTo>
                    <a:pt x="16148" y="3229"/>
                  </a:lnTo>
                  <a:lnTo>
                    <a:pt x="14918" y="3229"/>
                  </a:lnTo>
                  <a:lnTo>
                    <a:pt x="14918" y="4529"/>
                  </a:lnTo>
                  <a:lnTo>
                    <a:pt x="12459" y="4529"/>
                  </a:lnTo>
                  <a:lnTo>
                    <a:pt x="12459" y="5785"/>
                  </a:lnTo>
                  <a:lnTo>
                    <a:pt x="13689" y="7758"/>
                  </a:lnTo>
                  <a:lnTo>
                    <a:pt x="13689" y="9641"/>
                  </a:lnTo>
                  <a:lnTo>
                    <a:pt x="16148" y="10314"/>
                  </a:lnTo>
                  <a:lnTo>
                    <a:pt x="16148" y="10942"/>
                  </a:lnTo>
                  <a:lnTo>
                    <a:pt x="13689" y="11614"/>
                  </a:lnTo>
                  <a:lnTo>
                    <a:pt x="11148" y="12197"/>
                  </a:lnTo>
                  <a:lnTo>
                    <a:pt x="12459" y="12870"/>
                  </a:lnTo>
                  <a:lnTo>
                    <a:pt x="10000" y="14170"/>
                  </a:lnTo>
                  <a:lnTo>
                    <a:pt x="8770" y="16054"/>
                  </a:lnTo>
                  <a:lnTo>
                    <a:pt x="7541" y="18027"/>
                  </a:lnTo>
                  <a:lnTo>
                    <a:pt x="7541" y="19283"/>
                  </a:lnTo>
                  <a:lnTo>
                    <a:pt x="3770" y="19955"/>
                  </a:lnTo>
                  <a:lnTo>
                    <a:pt x="2541" y="19283"/>
                  </a:lnTo>
                  <a:lnTo>
                    <a:pt x="5000" y="17399"/>
                  </a:lnTo>
                  <a:lnTo>
                    <a:pt x="5000" y="16726"/>
                  </a:lnTo>
                  <a:lnTo>
                    <a:pt x="2541" y="16726"/>
                  </a:lnTo>
                  <a:lnTo>
                    <a:pt x="2541" y="15426"/>
                  </a:lnTo>
                  <a:lnTo>
                    <a:pt x="0" y="14170"/>
                  </a:lnTo>
                  <a:lnTo>
                    <a:pt x="1230" y="12870"/>
                  </a:lnTo>
                  <a:lnTo>
                    <a:pt x="1230" y="11614"/>
                  </a:lnTo>
                  <a:lnTo>
                    <a:pt x="0" y="10314"/>
                  </a:lnTo>
                  <a:lnTo>
                    <a:pt x="0" y="8341"/>
                  </a:lnTo>
                  <a:lnTo>
                    <a:pt x="1230" y="6413"/>
                  </a:lnTo>
                  <a:lnTo>
                    <a:pt x="3770" y="5112"/>
                  </a:lnTo>
                  <a:lnTo>
                    <a:pt x="6230" y="2556"/>
                  </a:lnTo>
                  <a:lnTo>
                    <a:pt x="8770" y="1345"/>
                  </a:lnTo>
                  <a:lnTo>
                    <a:pt x="10000" y="1883"/>
                  </a:lnTo>
                  <a:lnTo>
                    <a:pt x="12459" y="1883"/>
                  </a:lnTo>
                  <a:lnTo>
                    <a:pt x="14918" y="1345"/>
                  </a:lnTo>
                  <a:lnTo>
                    <a:pt x="16148" y="673"/>
                  </a:lnTo>
                  <a:lnTo>
                    <a:pt x="17459" y="0"/>
                  </a:lnTo>
                  <a:lnTo>
                    <a:pt x="19918" y="0"/>
                  </a:lnTo>
                  <a:lnTo>
                    <a:pt x="19918" y="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98480" y="1930680"/>
              <a:ext cx="64800" cy="2304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4380" y="19959"/>
                  </a:moveTo>
                  <a:lnTo>
                    <a:pt x="0" y="19959"/>
                  </a:lnTo>
                  <a:lnTo>
                    <a:pt x="0" y="18770"/>
                  </a:lnTo>
                  <a:lnTo>
                    <a:pt x="0" y="16434"/>
                  </a:lnTo>
                  <a:lnTo>
                    <a:pt x="0" y="14713"/>
                  </a:lnTo>
                  <a:lnTo>
                    <a:pt x="0" y="12910"/>
                  </a:lnTo>
                  <a:lnTo>
                    <a:pt x="2190" y="11148"/>
                  </a:lnTo>
                  <a:lnTo>
                    <a:pt x="4380" y="8770"/>
                  </a:lnTo>
                  <a:lnTo>
                    <a:pt x="6715" y="7623"/>
                  </a:lnTo>
                  <a:lnTo>
                    <a:pt x="10949" y="5246"/>
                  </a:lnTo>
                  <a:lnTo>
                    <a:pt x="10949" y="4139"/>
                  </a:lnTo>
                  <a:lnTo>
                    <a:pt x="17664" y="0"/>
                  </a:lnTo>
                  <a:lnTo>
                    <a:pt x="19854" y="1189"/>
                  </a:lnTo>
                  <a:lnTo>
                    <a:pt x="19854" y="2910"/>
                  </a:lnTo>
                  <a:lnTo>
                    <a:pt x="17664" y="4139"/>
                  </a:lnTo>
                  <a:lnTo>
                    <a:pt x="15474" y="5861"/>
                  </a:lnTo>
                  <a:lnTo>
                    <a:pt x="13139" y="7623"/>
                  </a:lnTo>
                  <a:lnTo>
                    <a:pt x="13139" y="9385"/>
                  </a:lnTo>
                  <a:lnTo>
                    <a:pt x="10949" y="11148"/>
                  </a:lnTo>
                  <a:lnTo>
                    <a:pt x="8905" y="12910"/>
                  </a:lnTo>
                  <a:lnTo>
                    <a:pt x="8905" y="14713"/>
                  </a:lnTo>
                  <a:lnTo>
                    <a:pt x="6715" y="17049"/>
                  </a:lnTo>
                  <a:lnTo>
                    <a:pt x="6715" y="18770"/>
                  </a:lnTo>
                  <a:lnTo>
                    <a:pt x="4380" y="19959"/>
                  </a:lnTo>
                  <a:lnTo>
                    <a:pt x="4380" y="19959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30360" y="2336400"/>
              <a:ext cx="51480" cy="5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5660" y="0"/>
                  </a:moveTo>
                  <a:lnTo>
                    <a:pt x="11321" y="4957"/>
                  </a:lnTo>
                  <a:lnTo>
                    <a:pt x="16981" y="4957"/>
                  </a:lnTo>
                  <a:lnTo>
                    <a:pt x="19811" y="12308"/>
                  </a:lnTo>
                  <a:lnTo>
                    <a:pt x="19811" y="14701"/>
                  </a:lnTo>
                  <a:lnTo>
                    <a:pt x="19811" y="19829"/>
                  </a:lnTo>
                  <a:lnTo>
                    <a:pt x="14151" y="19829"/>
                  </a:lnTo>
                  <a:lnTo>
                    <a:pt x="8491" y="17265"/>
                  </a:lnTo>
                  <a:lnTo>
                    <a:pt x="2830" y="17265"/>
                  </a:lnTo>
                  <a:lnTo>
                    <a:pt x="0" y="12308"/>
                  </a:lnTo>
                  <a:lnTo>
                    <a:pt x="0" y="7521"/>
                  </a:lnTo>
                  <a:lnTo>
                    <a:pt x="0" y="4957"/>
                  </a:lnTo>
                  <a:lnTo>
                    <a:pt x="5660" y="0"/>
                  </a:lnTo>
                  <a:lnTo>
                    <a:pt x="5660" y="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91760" y="3736080"/>
              <a:ext cx="625320" cy="352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6974" y="2303"/>
                  </a:moveTo>
                  <a:lnTo>
                    <a:pt x="7896" y="2303"/>
                  </a:lnTo>
                  <a:lnTo>
                    <a:pt x="8126" y="2303"/>
                  </a:lnTo>
                  <a:lnTo>
                    <a:pt x="8833" y="2303"/>
                  </a:lnTo>
                  <a:lnTo>
                    <a:pt x="9293" y="1928"/>
                  </a:lnTo>
                  <a:lnTo>
                    <a:pt x="10000" y="1928"/>
                  </a:lnTo>
                  <a:lnTo>
                    <a:pt x="10691" y="1928"/>
                  </a:lnTo>
                  <a:lnTo>
                    <a:pt x="11382" y="1928"/>
                  </a:lnTo>
                  <a:lnTo>
                    <a:pt x="11613" y="1928"/>
                  </a:lnTo>
                  <a:lnTo>
                    <a:pt x="11859" y="1526"/>
                  </a:lnTo>
                  <a:lnTo>
                    <a:pt x="11382" y="1526"/>
                  </a:lnTo>
                  <a:lnTo>
                    <a:pt x="10922" y="1124"/>
                  </a:lnTo>
                  <a:lnTo>
                    <a:pt x="10691" y="776"/>
                  </a:lnTo>
                  <a:lnTo>
                    <a:pt x="11382" y="0"/>
                  </a:lnTo>
                  <a:lnTo>
                    <a:pt x="12089" y="0"/>
                  </a:lnTo>
                  <a:lnTo>
                    <a:pt x="12320" y="776"/>
                  </a:lnTo>
                  <a:lnTo>
                    <a:pt x="12796" y="1124"/>
                  </a:lnTo>
                  <a:lnTo>
                    <a:pt x="13241" y="1124"/>
                  </a:lnTo>
                  <a:lnTo>
                    <a:pt x="13948" y="1124"/>
                  </a:lnTo>
                  <a:lnTo>
                    <a:pt x="14178" y="1526"/>
                  </a:lnTo>
                  <a:lnTo>
                    <a:pt x="14869" y="1928"/>
                  </a:lnTo>
                  <a:lnTo>
                    <a:pt x="15576" y="2303"/>
                  </a:lnTo>
                  <a:lnTo>
                    <a:pt x="16728" y="2704"/>
                  </a:lnTo>
                  <a:lnTo>
                    <a:pt x="16267" y="4230"/>
                  </a:lnTo>
                  <a:lnTo>
                    <a:pt x="16022" y="5355"/>
                  </a:lnTo>
                  <a:lnTo>
                    <a:pt x="15791" y="6934"/>
                  </a:lnTo>
                  <a:lnTo>
                    <a:pt x="16498" y="7282"/>
                  </a:lnTo>
                  <a:lnTo>
                    <a:pt x="17189" y="8862"/>
                  </a:lnTo>
                  <a:lnTo>
                    <a:pt x="18817" y="9585"/>
                  </a:lnTo>
                  <a:lnTo>
                    <a:pt x="19278" y="8862"/>
                  </a:lnTo>
                  <a:lnTo>
                    <a:pt x="19754" y="8059"/>
                  </a:lnTo>
                  <a:lnTo>
                    <a:pt x="19754" y="9183"/>
                  </a:lnTo>
                  <a:lnTo>
                    <a:pt x="19754" y="10388"/>
                  </a:lnTo>
                  <a:lnTo>
                    <a:pt x="19524" y="11513"/>
                  </a:lnTo>
                  <a:lnTo>
                    <a:pt x="19985" y="12289"/>
                  </a:lnTo>
                  <a:lnTo>
                    <a:pt x="19754" y="12691"/>
                  </a:lnTo>
                  <a:lnTo>
                    <a:pt x="19278" y="12289"/>
                  </a:lnTo>
                  <a:lnTo>
                    <a:pt x="19048" y="11888"/>
                  </a:lnTo>
                  <a:lnTo>
                    <a:pt x="18372" y="11888"/>
                  </a:lnTo>
                  <a:lnTo>
                    <a:pt x="17896" y="12691"/>
                  </a:lnTo>
                  <a:lnTo>
                    <a:pt x="18126" y="13815"/>
                  </a:lnTo>
                  <a:lnTo>
                    <a:pt x="18372" y="13815"/>
                  </a:lnTo>
                  <a:lnTo>
                    <a:pt x="18602" y="13815"/>
                  </a:lnTo>
                  <a:lnTo>
                    <a:pt x="18602" y="14592"/>
                  </a:lnTo>
                  <a:lnTo>
                    <a:pt x="18817" y="15341"/>
                  </a:lnTo>
                  <a:lnTo>
                    <a:pt x="18372" y="15743"/>
                  </a:lnTo>
                  <a:lnTo>
                    <a:pt x="18126" y="15341"/>
                  </a:lnTo>
                  <a:lnTo>
                    <a:pt x="17896" y="14592"/>
                  </a:lnTo>
                  <a:lnTo>
                    <a:pt x="17435" y="14217"/>
                  </a:lnTo>
                  <a:lnTo>
                    <a:pt x="16959" y="14592"/>
                  </a:lnTo>
                  <a:lnTo>
                    <a:pt x="16728" y="14592"/>
                  </a:lnTo>
                  <a:lnTo>
                    <a:pt x="16728" y="15341"/>
                  </a:lnTo>
                  <a:lnTo>
                    <a:pt x="15791" y="14993"/>
                  </a:lnTo>
                  <a:lnTo>
                    <a:pt x="15576" y="14217"/>
                  </a:lnTo>
                  <a:lnTo>
                    <a:pt x="15346" y="13039"/>
                  </a:lnTo>
                  <a:lnTo>
                    <a:pt x="14639" y="13414"/>
                  </a:lnTo>
                  <a:lnTo>
                    <a:pt x="14639" y="14217"/>
                  </a:lnTo>
                  <a:lnTo>
                    <a:pt x="14639" y="15341"/>
                  </a:lnTo>
                  <a:lnTo>
                    <a:pt x="14409" y="16118"/>
                  </a:lnTo>
                  <a:lnTo>
                    <a:pt x="14178" y="16519"/>
                  </a:lnTo>
                  <a:lnTo>
                    <a:pt x="13702" y="17644"/>
                  </a:lnTo>
                  <a:lnTo>
                    <a:pt x="13702" y="18447"/>
                  </a:lnTo>
                  <a:lnTo>
                    <a:pt x="13702" y="19170"/>
                  </a:lnTo>
                  <a:lnTo>
                    <a:pt x="13702" y="19572"/>
                  </a:lnTo>
                  <a:lnTo>
                    <a:pt x="13472" y="19973"/>
                  </a:lnTo>
                  <a:lnTo>
                    <a:pt x="13241" y="19973"/>
                  </a:lnTo>
                  <a:lnTo>
                    <a:pt x="13011" y="18447"/>
                  </a:lnTo>
                  <a:lnTo>
                    <a:pt x="12796" y="17644"/>
                  </a:lnTo>
                  <a:lnTo>
                    <a:pt x="11859" y="17269"/>
                  </a:lnTo>
                  <a:lnTo>
                    <a:pt x="11613" y="16519"/>
                  </a:lnTo>
                  <a:lnTo>
                    <a:pt x="11152" y="16118"/>
                  </a:lnTo>
                  <a:lnTo>
                    <a:pt x="11152" y="14993"/>
                  </a:lnTo>
                  <a:lnTo>
                    <a:pt x="11382" y="13815"/>
                  </a:lnTo>
                  <a:lnTo>
                    <a:pt x="10922" y="13414"/>
                  </a:lnTo>
                  <a:lnTo>
                    <a:pt x="10691" y="13815"/>
                  </a:lnTo>
                  <a:lnTo>
                    <a:pt x="10215" y="14993"/>
                  </a:lnTo>
                  <a:lnTo>
                    <a:pt x="9770" y="15743"/>
                  </a:lnTo>
                  <a:lnTo>
                    <a:pt x="9770" y="16118"/>
                  </a:lnTo>
                  <a:lnTo>
                    <a:pt x="9770" y="17269"/>
                  </a:lnTo>
                  <a:lnTo>
                    <a:pt x="9293" y="18046"/>
                  </a:lnTo>
                  <a:lnTo>
                    <a:pt x="8833" y="18822"/>
                  </a:lnTo>
                  <a:lnTo>
                    <a:pt x="8602" y="19170"/>
                  </a:lnTo>
                  <a:lnTo>
                    <a:pt x="8126" y="19170"/>
                  </a:lnTo>
                  <a:lnTo>
                    <a:pt x="7435" y="19170"/>
                  </a:lnTo>
                  <a:lnTo>
                    <a:pt x="6974" y="18822"/>
                  </a:lnTo>
                  <a:lnTo>
                    <a:pt x="6743" y="19170"/>
                  </a:lnTo>
                  <a:lnTo>
                    <a:pt x="6283" y="19170"/>
                  </a:lnTo>
                  <a:lnTo>
                    <a:pt x="5576" y="19572"/>
                  </a:lnTo>
                  <a:lnTo>
                    <a:pt x="5346" y="19170"/>
                  </a:lnTo>
                  <a:lnTo>
                    <a:pt x="4869" y="18046"/>
                  </a:lnTo>
                  <a:lnTo>
                    <a:pt x="4409" y="17644"/>
                  </a:lnTo>
                  <a:lnTo>
                    <a:pt x="4409" y="16921"/>
                  </a:lnTo>
                  <a:lnTo>
                    <a:pt x="4194" y="16921"/>
                  </a:lnTo>
                  <a:lnTo>
                    <a:pt x="4194" y="15341"/>
                  </a:lnTo>
                  <a:lnTo>
                    <a:pt x="4194" y="14217"/>
                  </a:lnTo>
                  <a:lnTo>
                    <a:pt x="3026" y="13815"/>
                  </a:lnTo>
                  <a:lnTo>
                    <a:pt x="2320" y="14217"/>
                  </a:lnTo>
                  <a:lnTo>
                    <a:pt x="937" y="16519"/>
                  </a:lnTo>
                  <a:lnTo>
                    <a:pt x="707" y="16519"/>
                  </a:lnTo>
                  <a:lnTo>
                    <a:pt x="0" y="16519"/>
                  </a:lnTo>
                  <a:lnTo>
                    <a:pt x="461" y="15743"/>
                  </a:lnTo>
                  <a:lnTo>
                    <a:pt x="461" y="15341"/>
                  </a:lnTo>
                  <a:lnTo>
                    <a:pt x="707" y="14217"/>
                  </a:lnTo>
                  <a:lnTo>
                    <a:pt x="707" y="13815"/>
                  </a:lnTo>
                  <a:lnTo>
                    <a:pt x="937" y="13039"/>
                  </a:lnTo>
                  <a:lnTo>
                    <a:pt x="1167" y="12289"/>
                  </a:lnTo>
                  <a:lnTo>
                    <a:pt x="1613" y="11513"/>
                  </a:lnTo>
                  <a:lnTo>
                    <a:pt x="2089" y="10763"/>
                  </a:lnTo>
                  <a:lnTo>
                    <a:pt x="2320" y="9585"/>
                  </a:lnTo>
                  <a:lnTo>
                    <a:pt x="2796" y="8862"/>
                  </a:lnTo>
                  <a:lnTo>
                    <a:pt x="3026" y="8461"/>
                  </a:lnTo>
                  <a:lnTo>
                    <a:pt x="3717" y="7282"/>
                  </a:lnTo>
                  <a:lnTo>
                    <a:pt x="3963" y="6533"/>
                  </a:lnTo>
                  <a:lnTo>
                    <a:pt x="4409" y="6158"/>
                  </a:lnTo>
                  <a:lnTo>
                    <a:pt x="4869" y="5007"/>
                  </a:lnTo>
                  <a:lnTo>
                    <a:pt x="4639" y="5007"/>
                  </a:lnTo>
                  <a:lnTo>
                    <a:pt x="4409" y="4632"/>
                  </a:lnTo>
                  <a:lnTo>
                    <a:pt x="4639" y="4230"/>
                  </a:lnTo>
                  <a:lnTo>
                    <a:pt x="4869" y="3454"/>
                  </a:lnTo>
                  <a:lnTo>
                    <a:pt x="5115" y="3052"/>
                  </a:lnTo>
                  <a:lnTo>
                    <a:pt x="5346" y="2704"/>
                  </a:lnTo>
                  <a:lnTo>
                    <a:pt x="5806" y="3052"/>
                  </a:lnTo>
                  <a:lnTo>
                    <a:pt x="6283" y="3052"/>
                  </a:lnTo>
                  <a:lnTo>
                    <a:pt x="6743" y="3052"/>
                  </a:lnTo>
                  <a:lnTo>
                    <a:pt x="6974" y="2704"/>
                  </a:lnTo>
                  <a:lnTo>
                    <a:pt x="6974" y="2303"/>
                  </a:lnTo>
                  <a:lnTo>
                    <a:pt x="6974" y="2303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83280" y="4455000"/>
              <a:ext cx="451440" cy="400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4416"/>
                  </a:moveTo>
                  <a:lnTo>
                    <a:pt x="19979" y="5077"/>
                  </a:lnTo>
                  <a:lnTo>
                    <a:pt x="19659" y="6116"/>
                  </a:lnTo>
                  <a:lnTo>
                    <a:pt x="19659" y="7107"/>
                  </a:lnTo>
                  <a:lnTo>
                    <a:pt x="19659" y="7462"/>
                  </a:lnTo>
                  <a:lnTo>
                    <a:pt x="18360" y="8146"/>
                  </a:lnTo>
                  <a:lnTo>
                    <a:pt x="17082" y="8146"/>
                  </a:lnTo>
                  <a:lnTo>
                    <a:pt x="15783" y="7792"/>
                  </a:lnTo>
                  <a:lnTo>
                    <a:pt x="15144" y="8146"/>
                  </a:lnTo>
                  <a:lnTo>
                    <a:pt x="14164" y="8453"/>
                  </a:lnTo>
                  <a:lnTo>
                    <a:pt x="13546" y="9138"/>
                  </a:lnTo>
                  <a:lnTo>
                    <a:pt x="12886" y="9138"/>
                  </a:lnTo>
                  <a:lnTo>
                    <a:pt x="11928" y="9138"/>
                  </a:lnTo>
                  <a:lnTo>
                    <a:pt x="10628" y="9847"/>
                  </a:lnTo>
                  <a:lnTo>
                    <a:pt x="10628" y="10484"/>
                  </a:lnTo>
                  <a:lnTo>
                    <a:pt x="10309" y="11830"/>
                  </a:lnTo>
                  <a:lnTo>
                    <a:pt x="9670" y="12869"/>
                  </a:lnTo>
                  <a:lnTo>
                    <a:pt x="9031" y="13554"/>
                  </a:lnTo>
                  <a:lnTo>
                    <a:pt x="7732" y="14569"/>
                  </a:lnTo>
                  <a:lnTo>
                    <a:pt x="6752" y="15561"/>
                  </a:lnTo>
                  <a:lnTo>
                    <a:pt x="6113" y="16954"/>
                  </a:lnTo>
                  <a:lnTo>
                    <a:pt x="5154" y="17946"/>
                  </a:lnTo>
                  <a:lnTo>
                    <a:pt x="4835" y="18985"/>
                  </a:lnTo>
                  <a:lnTo>
                    <a:pt x="4835" y="19292"/>
                  </a:lnTo>
                  <a:lnTo>
                    <a:pt x="4835" y="19646"/>
                  </a:lnTo>
                  <a:lnTo>
                    <a:pt x="4515" y="19976"/>
                  </a:lnTo>
                  <a:lnTo>
                    <a:pt x="3536" y="19976"/>
                  </a:lnTo>
                  <a:lnTo>
                    <a:pt x="3536" y="19292"/>
                  </a:lnTo>
                  <a:lnTo>
                    <a:pt x="3536" y="18630"/>
                  </a:lnTo>
                  <a:lnTo>
                    <a:pt x="3216" y="17591"/>
                  </a:lnTo>
                  <a:lnTo>
                    <a:pt x="3536" y="16954"/>
                  </a:lnTo>
                  <a:lnTo>
                    <a:pt x="4515" y="15915"/>
                  </a:lnTo>
                  <a:lnTo>
                    <a:pt x="5815" y="14900"/>
                  </a:lnTo>
                  <a:lnTo>
                    <a:pt x="7093" y="14215"/>
                  </a:lnTo>
                  <a:lnTo>
                    <a:pt x="6432" y="13861"/>
                  </a:lnTo>
                  <a:lnTo>
                    <a:pt x="5495" y="14215"/>
                  </a:lnTo>
                  <a:lnTo>
                    <a:pt x="4515" y="14569"/>
                  </a:lnTo>
                  <a:lnTo>
                    <a:pt x="3876" y="14900"/>
                  </a:lnTo>
                  <a:lnTo>
                    <a:pt x="3216" y="15254"/>
                  </a:lnTo>
                  <a:lnTo>
                    <a:pt x="2236" y="15254"/>
                  </a:lnTo>
                  <a:lnTo>
                    <a:pt x="1619" y="14569"/>
                  </a:lnTo>
                  <a:lnTo>
                    <a:pt x="1619" y="14215"/>
                  </a:lnTo>
                  <a:lnTo>
                    <a:pt x="2236" y="13861"/>
                  </a:lnTo>
                  <a:lnTo>
                    <a:pt x="2236" y="13223"/>
                  </a:lnTo>
                  <a:lnTo>
                    <a:pt x="2577" y="12515"/>
                  </a:lnTo>
                  <a:lnTo>
                    <a:pt x="2897" y="12184"/>
                  </a:lnTo>
                  <a:lnTo>
                    <a:pt x="3216" y="11523"/>
                  </a:lnTo>
                  <a:lnTo>
                    <a:pt x="3216" y="10484"/>
                  </a:lnTo>
                  <a:lnTo>
                    <a:pt x="3216" y="9847"/>
                  </a:lnTo>
                  <a:lnTo>
                    <a:pt x="3216" y="8784"/>
                  </a:lnTo>
                  <a:lnTo>
                    <a:pt x="3536" y="8146"/>
                  </a:lnTo>
                  <a:lnTo>
                    <a:pt x="4196" y="7462"/>
                  </a:lnTo>
                  <a:lnTo>
                    <a:pt x="3876" y="7107"/>
                  </a:lnTo>
                  <a:lnTo>
                    <a:pt x="3536" y="6116"/>
                  </a:lnTo>
                  <a:lnTo>
                    <a:pt x="3216" y="5762"/>
                  </a:lnTo>
                  <a:lnTo>
                    <a:pt x="2236" y="5407"/>
                  </a:lnTo>
                  <a:lnTo>
                    <a:pt x="0" y="5407"/>
                  </a:lnTo>
                  <a:lnTo>
                    <a:pt x="639" y="4723"/>
                  </a:lnTo>
                  <a:lnTo>
                    <a:pt x="1299" y="4061"/>
                  </a:lnTo>
                  <a:lnTo>
                    <a:pt x="2236" y="3731"/>
                  </a:lnTo>
                  <a:lnTo>
                    <a:pt x="2577" y="3022"/>
                  </a:lnTo>
                  <a:lnTo>
                    <a:pt x="2897" y="2385"/>
                  </a:lnTo>
                  <a:lnTo>
                    <a:pt x="3876" y="2031"/>
                  </a:lnTo>
                  <a:lnTo>
                    <a:pt x="4835" y="1346"/>
                  </a:lnTo>
                  <a:lnTo>
                    <a:pt x="5154" y="685"/>
                  </a:lnTo>
                  <a:lnTo>
                    <a:pt x="6432" y="331"/>
                  </a:lnTo>
                  <a:lnTo>
                    <a:pt x="7412" y="331"/>
                  </a:lnTo>
                  <a:lnTo>
                    <a:pt x="8051" y="992"/>
                  </a:lnTo>
                  <a:lnTo>
                    <a:pt x="8711" y="992"/>
                  </a:lnTo>
                  <a:lnTo>
                    <a:pt x="9670" y="992"/>
                  </a:lnTo>
                  <a:lnTo>
                    <a:pt x="10628" y="685"/>
                  </a:lnTo>
                  <a:lnTo>
                    <a:pt x="11267" y="0"/>
                  </a:lnTo>
                  <a:lnTo>
                    <a:pt x="11608" y="992"/>
                  </a:lnTo>
                  <a:lnTo>
                    <a:pt x="12247" y="2031"/>
                  </a:lnTo>
                  <a:lnTo>
                    <a:pt x="12886" y="2692"/>
                  </a:lnTo>
                  <a:lnTo>
                    <a:pt x="13866" y="3731"/>
                  </a:lnTo>
                  <a:lnTo>
                    <a:pt x="14483" y="4061"/>
                  </a:lnTo>
                  <a:lnTo>
                    <a:pt x="16443" y="4061"/>
                  </a:lnTo>
                  <a:lnTo>
                    <a:pt x="18062" y="4416"/>
                  </a:lnTo>
                  <a:lnTo>
                    <a:pt x="19340" y="4416"/>
                  </a:lnTo>
                  <a:lnTo>
                    <a:pt x="19979" y="4416"/>
                  </a:lnTo>
                  <a:lnTo>
                    <a:pt x="19979" y="4416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99200" y="2675880"/>
              <a:ext cx="1626840" cy="1168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4" y="818"/>
                  </a:moveTo>
                  <a:lnTo>
                    <a:pt x="19994" y="17894"/>
                  </a:lnTo>
                  <a:lnTo>
                    <a:pt x="19817" y="17789"/>
                  </a:lnTo>
                  <a:lnTo>
                    <a:pt x="19634" y="17789"/>
                  </a:lnTo>
                  <a:lnTo>
                    <a:pt x="19463" y="17667"/>
                  </a:lnTo>
                  <a:lnTo>
                    <a:pt x="19192" y="17667"/>
                  </a:lnTo>
                  <a:lnTo>
                    <a:pt x="18920" y="17546"/>
                  </a:lnTo>
                  <a:lnTo>
                    <a:pt x="18743" y="17546"/>
                  </a:lnTo>
                  <a:lnTo>
                    <a:pt x="18383" y="17789"/>
                  </a:lnTo>
                  <a:lnTo>
                    <a:pt x="18123" y="17667"/>
                  </a:lnTo>
                  <a:lnTo>
                    <a:pt x="18029" y="17311"/>
                  </a:lnTo>
                  <a:lnTo>
                    <a:pt x="18212" y="17084"/>
                  </a:lnTo>
                  <a:lnTo>
                    <a:pt x="18472" y="16622"/>
                  </a:lnTo>
                  <a:lnTo>
                    <a:pt x="18654" y="16266"/>
                  </a:lnTo>
                  <a:lnTo>
                    <a:pt x="18920" y="15917"/>
                  </a:lnTo>
                  <a:lnTo>
                    <a:pt x="19280" y="15569"/>
                  </a:lnTo>
                  <a:lnTo>
                    <a:pt x="19634" y="15456"/>
                  </a:lnTo>
                  <a:lnTo>
                    <a:pt x="19634" y="15107"/>
                  </a:lnTo>
                  <a:lnTo>
                    <a:pt x="19546" y="15107"/>
                  </a:lnTo>
                  <a:lnTo>
                    <a:pt x="19374" y="14986"/>
                  </a:lnTo>
                  <a:lnTo>
                    <a:pt x="19280" y="14759"/>
                  </a:lnTo>
                  <a:lnTo>
                    <a:pt x="19014" y="14872"/>
                  </a:lnTo>
                  <a:lnTo>
                    <a:pt x="18743" y="14872"/>
                  </a:lnTo>
                  <a:lnTo>
                    <a:pt x="18566" y="14872"/>
                  </a:lnTo>
                  <a:lnTo>
                    <a:pt x="18212" y="15107"/>
                  </a:lnTo>
                  <a:lnTo>
                    <a:pt x="18029" y="15229"/>
                  </a:lnTo>
                  <a:lnTo>
                    <a:pt x="17763" y="15456"/>
                  </a:lnTo>
                  <a:lnTo>
                    <a:pt x="17580" y="15456"/>
                  </a:lnTo>
                  <a:lnTo>
                    <a:pt x="17226" y="15456"/>
                  </a:lnTo>
                  <a:lnTo>
                    <a:pt x="17049" y="15342"/>
                  </a:lnTo>
                  <a:lnTo>
                    <a:pt x="16689" y="15342"/>
                  </a:lnTo>
                  <a:lnTo>
                    <a:pt x="16424" y="15342"/>
                  </a:lnTo>
                  <a:lnTo>
                    <a:pt x="16512" y="15107"/>
                  </a:lnTo>
                  <a:lnTo>
                    <a:pt x="16689" y="14872"/>
                  </a:lnTo>
                  <a:lnTo>
                    <a:pt x="16512" y="14872"/>
                  </a:lnTo>
                  <a:lnTo>
                    <a:pt x="16329" y="14986"/>
                  </a:lnTo>
                  <a:lnTo>
                    <a:pt x="15981" y="14872"/>
                  </a:lnTo>
                  <a:lnTo>
                    <a:pt x="15981" y="14759"/>
                  </a:lnTo>
                  <a:lnTo>
                    <a:pt x="16158" y="14646"/>
                  </a:lnTo>
                  <a:lnTo>
                    <a:pt x="16329" y="14646"/>
                  </a:lnTo>
                  <a:lnTo>
                    <a:pt x="16601" y="14646"/>
                  </a:lnTo>
                  <a:lnTo>
                    <a:pt x="16778" y="14532"/>
                  </a:lnTo>
                  <a:lnTo>
                    <a:pt x="16961" y="14532"/>
                  </a:lnTo>
                  <a:lnTo>
                    <a:pt x="17138" y="14411"/>
                  </a:lnTo>
                  <a:lnTo>
                    <a:pt x="17049" y="14289"/>
                  </a:lnTo>
                  <a:lnTo>
                    <a:pt x="16961" y="14176"/>
                  </a:lnTo>
                  <a:lnTo>
                    <a:pt x="16872" y="14176"/>
                  </a:lnTo>
                  <a:lnTo>
                    <a:pt x="16778" y="14176"/>
                  </a:lnTo>
                  <a:lnTo>
                    <a:pt x="16601" y="14176"/>
                  </a:lnTo>
                  <a:lnTo>
                    <a:pt x="16512" y="14176"/>
                  </a:lnTo>
                  <a:lnTo>
                    <a:pt x="16424" y="14070"/>
                  </a:lnTo>
                  <a:lnTo>
                    <a:pt x="16247" y="13714"/>
                  </a:lnTo>
                  <a:lnTo>
                    <a:pt x="16158" y="13827"/>
                  </a:lnTo>
                  <a:lnTo>
                    <a:pt x="16158" y="13949"/>
                  </a:lnTo>
                  <a:lnTo>
                    <a:pt x="16158" y="14289"/>
                  </a:lnTo>
                  <a:lnTo>
                    <a:pt x="16070" y="14411"/>
                  </a:lnTo>
                  <a:lnTo>
                    <a:pt x="15710" y="14532"/>
                  </a:lnTo>
                  <a:lnTo>
                    <a:pt x="15533" y="14646"/>
                  </a:lnTo>
                  <a:lnTo>
                    <a:pt x="15179" y="14759"/>
                  </a:lnTo>
                  <a:lnTo>
                    <a:pt x="14907" y="14986"/>
                  </a:lnTo>
                  <a:lnTo>
                    <a:pt x="14636" y="15107"/>
                  </a:lnTo>
                  <a:lnTo>
                    <a:pt x="14547" y="15342"/>
                  </a:lnTo>
                  <a:lnTo>
                    <a:pt x="14636" y="15456"/>
                  </a:lnTo>
                  <a:lnTo>
                    <a:pt x="14636" y="15812"/>
                  </a:lnTo>
                  <a:lnTo>
                    <a:pt x="14547" y="15917"/>
                  </a:lnTo>
                  <a:lnTo>
                    <a:pt x="14459" y="16152"/>
                  </a:lnTo>
                  <a:lnTo>
                    <a:pt x="14370" y="16509"/>
                  </a:lnTo>
                  <a:lnTo>
                    <a:pt x="14281" y="16509"/>
                  </a:lnTo>
                  <a:lnTo>
                    <a:pt x="14016" y="16152"/>
                  </a:lnTo>
                  <a:lnTo>
                    <a:pt x="13839" y="16039"/>
                  </a:lnTo>
                  <a:lnTo>
                    <a:pt x="13839" y="16266"/>
                  </a:lnTo>
                  <a:lnTo>
                    <a:pt x="14016" y="16387"/>
                  </a:lnTo>
                  <a:lnTo>
                    <a:pt x="14187" y="16622"/>
                  </a:lnTo>
                  <a:lnTo>
                    <a:pt x="14370" y="16849"/>
                  </a:lnTo>
                  <a:lnTo>
                    <a:pt x="14281" y="16970"/>
                  </a:lnTo>
                  <a:lnTo>
                    <a:pt x="14104" y="17546"/>
                  </a:lnTo>
                  <a:lnTo>
                    <a:pt x="13839" y="18129"/>
                  </a:lnTo>
                  <a:lnTo>
                    <a:pt x="13744" y="18364"/>
                  </a:lnTo>
                  <a:lnTo>
                    <a:pt x="13567" y="18591"/>
                  </a:lnTo>
                  <a:lnTo>
                    <a:pt x="13479" y="18477"/>
                  </a:lnTo>
                  <a:lnTo>
                    <a:pt x="13384" y="18250"/>
                  </a:lnTo>
                  <a:lnTo>
                    <a:pt x="13207" y="18129"/>
                  </a:lnTo>
                  <a:lnTo>
                    <a:pt x="13207" y="18364"/>
                  </a:lnTo>
                  <a:lnTo>
                    <a:pt x="13384" y="18712"/>
                  </a:lnTo>
                  <a:lnTo>
                    <a:pt x="13384" y="19068"/>
                  </a:lnTo>
                  <a:lnTo>
                    <a:pt x="13656" y="19068"/>
                  </a:lnTo>
                  <a:lnTo>
                    <a:pt x="13656" y="19287"/>
                  </a:lnTo>
                  <a:lnTo>
                    <a:pt x="13656" y="19749"/>
                  </a:lnTo>
                  <a:lnTo>
                    <a:pt x="13384" y="19409"/>
                  </a:lnTo>
                  <a:lnTo>
                    <a:pt x="12942" y="19174"/>
                  </a:lnTo>
                  <a:lnTo>
                    <a:pt x="12765" y="19409"/>
                  </a:lnTo>
                  <a:lnTo>
                    <a:pt x="12493" y="19644"/>
                  </a:lnTo>
                  <a:lnTo>
                    <a:pt x="12145" y="19992"/>
                  </a:lnTo>
                  <a:lnTo>
                    <a:pt x="11065" y="19068"/>
                  </a:lnTo>
                  <a:lnTo>
                    <a:pt x="11962" y="16970"/>
                  </a:lnTo>
                  <a:lnTo>
                    <a:pt x="13479" y="16266"/>
                  </a:lnTo>
                  <a:lnTo>
                    <a:pt x="11514" y="14646"/>
                  </a:lnTo>
                  <a:lnTo>
                    <a:pt x="10800" y="12791"/>
                  </a:lnTo>
                  <a:lnTo>
                    <a:pt x="8657" y="12321"/>
                  </a:lnTo>
                  <a:lnTo>
                    <a:pt x="7141" y="12199"/>
                  </a:lnTo>
                  <a:lnTo>
                    <a:pt x="7052" y="12199"/>
                  </a:lnTo>
                  <a:lnTo>
                    <a:pt x="6698" y="12434"/>
                  </a:lnTo>
                  <a:lnTo>
                    <a:pt x="6515" y="12669"/>
                  </a:lnTo>
                  <a:lnTo>
                    <a:pt x="6427" y="13017"/>
                  </a:lnTo>
                  <a:lnTo>
                    <a:pt x="6427" y="13252"/>
                  </a:lnTo>
                  <a:lnTo>
                    <a:pt x="6250" y="13601"/>
                  </a:lnTo>
                  <a:lnTo>
                    <a:pt x="6067" y="13479"/>
                  </a:lnTo>
                  <a:lnTo>
                    <a:pt x="5624" y="13714"/>
                  </a:lnTo>
                  <a:lnTo>
                    <a:pt x="5264" y="13827"/>
                  </a:lnTo>
                  <a:lnTo>
                    <a:pt x="5087" y="14070"/>
                  </a:lnTo>
                  <a:lnTo>
                    <a:pt x="4999" y="14176"/>
                  </a:lnTo>
                  <a:lnTo>
                    <a:pt x="4816" y="14411"/>
                  </a:lnTo>
                  <a:lnTo>
                    <a:pt x="4556" y="14532"/>
                  </a:lnTo>
                  <a:lnTo>
                    <a:pt x="4461" y="14411"/>
                  </a:lnTo>
                  <a:lnTo>
                    <a:pt x="4284" y="14176"/>
                  </a:lnTo>
                  <a:lnTo>
                    <a:pt x="4107" y="14070"/>
                  </a:lnTo>
                  <a:lnTo>
                    <a:pt x="3924" y="14070"/>
                  </a:lnTo>
                  <a:lnTo>
                    <a:pt x="3665" y="14176"/>
                  </a:lnTo>
                  <a:lnTo>
                    <a:pt x="3482" y="14411"/>
                  </a:lnTo>
                  <a:lnTo>
                    <a:pt x="3216" y="14411"/>
                  </a:lnTo>
                  <a:lnTo>
                    <a:pt x="2945" y="14289"/>
                  </a:lnTo>
                  <a:lnTo>
                    <a:pt x="2673" y="14289"/>
                  </a:lnTo>
                  <a:lnTo>
                    <a:pt x="2414" y="14411"/>
                  </a:lnTo>
                  <a:lnTo>
                    <a:pt x="2231" y="14411"/>
                  </a:lnTo>
                  <a:lnTo>
                    <a:pt x="2054" y="14289"/>
                  </a:lnTo>
                  <a:lnTo>
                    <a:pt x="1871" y="14176"/>
                  </a:lnTo>
                  <a:lnTo>
                    <a:pt x="1694" y="14176"/>
                  </a:lnTo>
                  <a:lnTo>
                    <a:pt x="1611" y="14411"/>
                  </a:lnTo>
                  <a:lnTo>
                    <a:pt x="1523" y="14646"/>
                  </a:lnTo>
                  <a:lnTo>
                    <a:pt x="1428" y="14646"/>
                  </a:lnTo>
                  <a:lnTo>
                    <a:pt x="1428" y="14759"/>
                  </a:lnTo>
                  <a:lnTo>
                    <a:pt x="1340" y="14646"/>
                  </a:lnTo>
                  <a:lnTo>
                    <a:pt x="1251" y="14411"/>
                  </a:lnTo>
                  <a:lnTo>
                    <a:pt x="1074" y="14411"/>
                  </a:lnTo>
                  <a:lnTo>
                    <a:pt x="803" y="14411"/>
                  </a:lnTo>
                  <a:lnTo>
                    <a:pt x="714" y="14176"/>
                  </a:lnTo>
                  <a:lnTo>
                    <a:pt x="531" y="14070"/>
                  </a:lnTo>
                  <a:lnTo>
                    <a:pt x="360" y="13949"/>
                  </a:lnTo>
                  <a:lnTo>
                    <a:pt x="177" y="13714"/>
                  </a:lnTo>
                  <a:lnTo>
                    <a:pt x="0" y="13714"/>
                  </a:lnTo>
                  <a:lnTo>
                    <a:pt x="0" y="13366"/>
                  </a:lnTo>
                  <a:lnTo>
                    <a:pt x="0" y="13131"/>
                  </a:lnTo>
                  <a:lnTo>
                    <a:pt x="0" y="12896"/>
                  </a:lnTo>
                  <a:lnTo>
                    <a:pt x="89" y="12669"/>
                  </a:lnTo>
                  <a:lnTo>
                    <a:pt x="89" y="12321"/>
                  </a:lnTo>
                  <a:lnTo>
                    <a:pt x="177" y="12199"/>
                  </a:lnTo>
                  <a:lnTo>
                    <a:pt x="271" y="11738"/>
                  </a:lnTo>
                  <a:lnTo>
                    <a:pt x="449" y="11511"/>
                  </a:lnTo>
                  <a:lnTo>
                    <a:pt x="531" y="11511"/>
                  </a:lnTo>
                  <a:lnTo>
                    <a:pt x="803" y="11511"/>
                  </a:lnTo>
                  <a:lnTo>
                    <a:pt x="980" y="11511"/>
                  </a:lnTo>
                  <a:lnTo>
                    <a:pt x="891" y="11389"/>
                  </a:lnTo>
                  <a:lnTo>
                    <a:pt x="714" y="10919"/>
                  </a:lnTo>
                  <a:lnTo>
                    <a:pt x="620" y="10693"/>
                  </a:lnTo>
                  <a:lnTo>
                    <a:pt x="531" y="10344"/>
                  </a:lnTo>
                  <a:lnTo>
                    <a:pt x="360" y="10109"/>
                  </a:lnTo>
                  <a:lnTo>
                    <a:pt x="1428" y="7323"/>
                  </a:lnTo>
                  <a:lnTo>
                    <a:pt x="1523" y="7088"/>
                  </a:lnTo>
                  <a:lnTo>
                    <a:pt x="1871" y="6974"/>
                  </a:lnTo>
                  <a:lnTo>
                    <a:pt x="1965" y="6618"/>
                  </a:lnTo>
                  <a:lnTo>
                    <a:pt x="1965" y="6164"/>
                  </a:lnTo>
                  <a:lnTo>
                    <a:pt x="1871" y="5921"/>
                  </a:lnTo>
                  <a:lnTo>
                    <a:pt x="1782" y="5703"/>
                  </a:lnTo>
                  <a:lnTo>
                    <a:pt x="1782" y="5460"/>
                  </a:lnTo>
                  <a:lnTo>
                    <a:pt x="1523" y="4998"/>
                  </a:lnTo>
                  <a:lnTo>
                    <a:pt x="1251" y="4536"/>
                  </a:lnTo>
                  <a:lnTo>
                    <a:pt x="980" y="4180"/>
                  </a:lnTo>
                  <a:lnTo>
                    <a:pt x="803" y="3718"/>
                  </a:lnTo>
                  <a:lnTo>
                    <a:pt x="1965" y="3143"/>
                  </a:lnTo>
                  <a:lnTo>
                    <a:pt x="3216" y="3143"/>
                  </a:lnTo>
                  <a:lnTo>
                    <a:pt x="6067" y="2098"/>
                  </a:lnTo>
                  <a:lnTo>
                    <a:pt x="6338" y="2203"/>
                  </a:lnTo>
                  <a:lnTo>
                    <a:pt x="7589" y="2203"/>
                  </a:lnTo>
                  <a:lnTo>
                    <a:pt x="9549" y="1158"/>
                  </a:lnTo>
                  <a:lnTo>
                    <a:pt x="9283" y="705"/>
                  </a:lnTo>
                  <a:lnTo>
                    <a:pt x="9820" y="122"/>
                  </a:lnTo>
                  <a:lnTo>
                    <a:pt x="11242" y="0"/>
                  </a:lnTo>
                  <a:lnTo>
                    <a:pt x="15887" y="818"/>
                  </a:lnTo>
                  <a:lnTo>
                    <a:pt x="19994" y="818"/>
                  </a:lnTo>
                  <a:lnTo>
                    <a:pt x="19994" y="818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98440" y="2298600"/>
              <a:ext cx="281880" cy="139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0512" y="0"/>
                  </a:moveTo>
                  <a:lnTo>
                    <a:pt x="10239" y="0"/>
                  </a:lnTo>
                  <a:lnTo>
                    <a:pt x="7679" y="3605"/>
                  </a:lnTo>
                  <a:lnTo>
                    <a:pt x="5904" y="4082"/>
                  </a:lnTo>
                  <a:lnTo>
                    <a:pt x="1809" y="6122"/>
                  </a:lnTo>
                  <a:lnTo>
                    <a:pt x="1809" y="10748"/>
                  </a:lnTo>
                  <a:lnTo>
                    <a:pt x="1024" y="14830"/>
                  </a:lnTo>
                  <a:lnTo>
                    <a:pt x="273" y="15850"/>
                  </a:lnTo>
                  <a:lnTo>
                    <a:pt x="0" y="17347"/>
                  </a:lnTo>
                  <a:lnTo>
                    <a:pt x="512" y="18912"/>
                  </a:lnTo>
                  <a:lnTo>
                    <a:pt x="1024" y="19388"/>
                  </a:lnTo>
                  <a:lnTo>
                    <a:pt x="9727" y="19932"/>
                  </a:lnTo>
                  <a:lnTo>
                    <a:pt x="14608" y="19932"/>
                  </a:lnTo>
                  <a:lnTo>
                    <a:pt x="17679" y="18367"/>
                  </a:lnTo>
                  <a:lnTo>
                    <a:pt x="19966" y="17347"/>
                  </a:lnTo>
                  <a:lnTo>
                    <a:pt x="19966" y="16327"/>
                  </a:lnTo>
                  <a:lnTo>
                    <a:pt x="16143" y="11769"/>
                  </a:lnTo>
                  <a:lnTo>
                    <a:pt x="16143" y="6667"/>
                  </a:lnTo>
                  <a:lnTo>
                    <a:pt x="15870" y="3605"/>
                  </a:lnTo>
                  <a:lnTo>
                    <a:pt x="14846" y="2041"/>
                  </a:lnTo>
                  <a:lnTo>
                    <a:pt x="10512" y="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286000" y="2819520"/>
            <a:ext cx="22716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3505320"/>
            <a:ext cx="22680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3505320"/>
            <a:ext cx="22716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90920" y="3581280"/>
            <a:ext cx="22680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66880" y="3657600"/>
            <a:ext cx="22716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57600" y="4343400"/>
            <a:ext cx="22716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4648320"/>
            <a:ext cx="22716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2819520"/>
            <a:ext cx="22716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2666880"/>
            <a:ext cx="22680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3352680"/>
            <a:ext cx="22716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05320" y="3429000"/>
            <a:ext cx="22680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3505320"/>
            <a:ext cx="22716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3962520"/>
            <a:ext cx="22680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24680" y="4572000"/>
            <a:ext cx="22716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01000" y="4495680"/>
            <a:ext cx="22716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4343400"/>
            <a:ext cx="22680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8800" y="4572000"/>
            <a:ext cx="22716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14600" y="4724280"/>
            <a:ext cx="22716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495680" y="3173400"/>
            <a:ext cx="1152720" cy="318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143000" y="3352680"/>
            <a:ext cx="504720" cy="420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495680" y="2590920"/>
            <a:ext cx="792360" cy="3920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7238880" y="3824280"/>
            <a:ext cx="505080" cy="382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152280" y="2895480"/>
            <a:ext cx="1503360" cy="379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2895480" y="4648320"/>
            <a:ext cx="576360" cy="4093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7"/>
          <a:stretch/>
        </p:blipFill>
        <p:spPr>
          <a:xfrm>
            <a:off x="3809880" y="487692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1143000" y="5791320"/>
            <a:ext cx="1500120" cy="403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152280" y="1752480"/>
            <a:ext cx="1511280" cy="4208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0"/>
          <a:stretch/>
        </p:blipFill>
        <p:spPr>
          <a:xfrm>
            <a:off x="3124080" y="5562720"/>
            <a:ext cx="1081080" cy="411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1"/>
          <a:stretch/>
        </p:blipFill>
        <p:spPr>
          <a:xfrm>
            <a:off x="7772400" y="3809880"/>
            <a:ext cx="504720" cy="4129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2"/>
          <a:stretch/>
        </p:blipFill>
        <p:spPr>
          <a:xfrm>
            <a:off x="2971800" y="2286000"/>
            <a:ext cx="404640" cy="431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3"/>
          <a:stretch/>
        </p:blipFill>
        <p:spPr>
          <a:xfrm>
            <a:off x="3657600" y="2514600"/>
            <a:ext cx="338040" cy="528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4"/>
          <a:stretch/>
        </p:blipFill>
        <p:spPr>
          <a:xfrm>
            <a:off x="4572000" y="3886200"/>
            <a:ext cx="1943280" cy="385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5"/>
          <a:stretch/>
        </p:blipFill>
        <p:spPr>
          <a:xfrm>
            <a:off x="76320" y="3809880"/>
            <a:ext cx="1871640" cy="393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6"/>
          <a:stretch/>
        </p:blipFill>
        <p:spPr>
          <a:xfrm>
            <a:off x="2895480" y="3276720"/>
            <a:ext cx="395280" cy="6807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666880" y="2362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3505320"/>
            <a:ext cx="6098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7"/>
          <a:stretch/>
        </p:blipFill>
        <p:spPr>
          <a:xfrm>
            <a:off x="2438280" y="198108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91440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220968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25909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71600" y="487692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581280" y="28195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733920" y="3352680"/>
            <a:ext cx="7617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3733920" y="3581280"/>
            <a:ext cx="22860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32004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67480" y="41911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01000" y="41911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276720" y="4571640"/>
            <a:ext cx="3808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8"/>
          <a:stretch/>
        </p:blipFill>
        <p:spPr>
          <a:xfrm>
            <a:off x="5791320" y="3124080"/>
            <a:ext cx="1657080" cy="4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A7D37-6959-4659-9D4E-2BD4EEF3F502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rid Environment &amp; VO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76320" y="304920"/>
            <a:ext cx="6553080" cy="5257800"/>
            <a:chOff x="76320" y="304920"/>
            <a:chExt cx="6553080" cy="5257800"/>
          </a:xfrm>
        </p:grpSpPr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153720" y="304920"/>
              <a:ext cx="6475680" cy="52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1934640" y="1726200"/>
              <a:ext cx="1180800" cy="94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3">
              <a:lum bright="20000"/>
            </a:blip>
            <a:stretch/>
          </p:blipFill>
          <p:spPr>
            <a:xfrm>
              <a:off x="4101480" y="1666800"/>
              <a:ext cx="1768680" cy="142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4"/>
            <a:stretch/>
          </p:blipFill>
          <p:spPr>
            <a:xfrm>
              <a:off x="799560" y="3325320"/>
              <a:ext cx="413640" cy="63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5"/>
            <a:stretch/>
          </p:blipFill>
          <p:spPr>
            <a:xfrm>
              <a:off x="5391360" y="3207240"/>
              <a:ext cx="413280" cy="63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6"/>
            <a:stretch/>
          </p:blipFill>
          <p:spPr>
            <a:xfrm>
              <a:off x="644760" y="1726200"/>
              <a:ext cx="1181160" cy="94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7"/>
            <a:stretch/>
          </p:blipFill>
          <p:spPr>
            <a:xfrm>
              <a:off x="1676880" y="3680640"/>
              <a:ext cx="1180800" cy="94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8"/>
            <a:stretch/>
          </p:blipFill>
          <p:spPr>
            <a:xfrm>
              <a:off x="3688560" y="3740040"/>
              <a:ext cx="1180800" cy="9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2888280" y="2895840"/>
              <a:ext cx="102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A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00600" y="1203120"/>
              <a:ext cx="3370320" cy="3968280"/>
            </a:xfrm>
            <a:custGeom>
              <a:avLst/>
              <a:gdLst/>
              <a:ahLst/>
              <a:rect l="l" t="t" r="r" b="b"/>
              <a:pathLst>
                <a:path w="3136" h="3216">
                  <a:moveTo>
                    <a:pt x="2704" y="280"/>
                  </a:moveTo>
                  <a:cubicBezTo>
                    <a:pt x="2272" y="208"/>
                    <a:pt x="704" y="0"/>
                    <a:pt x="352" y="424"/>
                  </a:cubicBezTo>
                  <a:cubicBezTo>
                    <a:pt x="0" y="848"/>
                    <a:pt x="256" y="2432"/>
                    <a:pt x="592" y="2824"/>
                  </a:cubicBezTo>
                  <a:cubicBezTo>
                    <a:pt x="928" y="3216"/>
                    <a:pt x="1976" y="3104"/>
                    <a:pt x="2368" y="2776"/>
                  </a:cubicBezTo>
                  <a:cubicBezTo>
                    <a:pt x="2760" y="2448"/>
                    <a:pt x="2888" y="1272"/>
                    <a:pt x="2944" y="856"/>
                  </a:cubicBezTo>
                  <a:cubicBezTo>
                    <a:pt x="3000" y="440"/>
                    <a:pt x="3136" y="352"/>
                    <a:pt x="2704" y="280"/>
                  </a:cubicBezTo>
                  <a:close/>
                </a:path>
              </a:pathLst>
            </a:custGeom>
            <a:noFill/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320" y="1019160"/>
              <a:ext cx="3344760" cy="4047120"/>
            </a:xfrm>
            <a:custGeom>
              <a:avLst/>
              <a:gdLst/>
              <a:ahLst/>
              <a:rect l="l" t="t" r="r" b="b"/>
              <a:pathLst>
                <a:path w="3112" h="3280">
                  <a:moveTo>
                    <a:pt x="2376" y="224"/>
                  </a:moveTo>
                  <a:cubicBezTo>
                    <a:pt x="2768" y="272"/>
                    <a:pt x="2840" y="416"/>
                    <a:pt x="2904" y="656"/>
                  </a:cubicBezTo>
                  <a:cubicBezTo>
                    <a:pt x="2968" y="896"/>
                    <a:pt x="2792" y="1248"/>
                    <a:pt x="2760" y="1664"/>
                  </a:cubicBezTo>
                  <a:cubicBezTo>
                    <a:pt x="2728" y="2080"/>
                    <a:pt x="3112" y="3024"/>
                    <a:pt x="2712" y="3152"/>
                  </a:cubicBezTo>
                  <a:cubicBezTo>
                    <a:pt x="2312" y="3280"/>
                    <a:pt x="720" y="2896"/>
                    <a:pt x="360" y="2432"/>
                  </a:cubicBezTo>
                  <a:cubicBezTo>
                    <a:pt x="0" y="1968"/>
                    <a:pt x="216" y="736"/>
                    <a:pt x="552" y="368"/>
                  </a:cubicBezTo>
                  <a:cubicBezTo>
                    <a:pt x="888" y="0"/>
                    <a:pt x="1984" y="176"/>
                    <a:pt x="2376" y="224"/>
                  </a:cubicBezTo>
                  <a:close/>
                </a:path>
              </a:pathLst>
            </a:custGeom>
            <a:noFill/>
            <a:ln w="38160">
              <a:solidFill>
                <a:srgbClr val="fec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04000" y="402120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Arial"/>
                </a:rPr>
                <a:t>VO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32840" y="123768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ecd00"/>
                  </a:solidFill>
                  <a:latin typeface="Arial"/>
                </a:rPr>
                <a:t>VO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6095880" y="320040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sers  from different instit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geograph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resources in different administrative 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7280" y="4952880"/>
            <a:ext cx="4635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untable number of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, users,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1291A-6F6C-41B1-9DA0-631B09B1DF41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tate of the Art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OS are not Grid-aware &amp; not VO-a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ariety of Grid middleware &amp; Toolkits for Grid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48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manageme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48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ing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48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ity pitf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48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xity for users, programmers &amp; administr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CA6AA-206D-4025-9969-6387C03F1D19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XtreemOS Objectiv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ign &amp; imple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ference open source Grid operating syste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ased o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601"/>
              </a:spcAft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ve support for virtual organiz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lid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XtreemOS Grid OS with a set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al use cas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n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rge Grid testb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mo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treemOS software in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ux commun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e communities of users and develo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9A451-D58E-4C51-B02B-26B68679886F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XtreemOS Research Challeng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y fundamental functionalities to be embedded in Linux for secure application execution in Gri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 a set o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ca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lf-heal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S services f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c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source management i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ry large dynami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ri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ple Grid API compliant with Posi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hile adding new functionality and supporting Grid-aware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gregate cluster resources into powerful grid nodes by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grating single system image mechanisms in Linu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 an XtreemOS flavour for mobile devices enabling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biquitous access to grid re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084AD-835F-45FA-8EBE-3D665680DB90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509760" y="2057400"/>
            <a:ext cx="3352680" cy="1752120"/>
            <a:chOff x="509760" y="2057400"/>
            <a:chExt cx="3352680" cy="1752120"/>
          </a:xfrm>
        </p:grpSpPr>
        <p:sp>
          <p:nvSpPr>
            <p:cNvPr id="256" name=""/>
            <p:cNvSpPr/>
            <p:nvPr/>
          </p:nvSpPr>
          <p:spPr>
            <a:xfrm>
              <a:off x="552600" y="3081240"/>
              <a:ext cx="701640" cy="27576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n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08200" y="2971440"/>
              <a:ext cx="235080" cy="183960"/>
            </a:xfrm>
            <a:prstGeom prst="rect">
              <a:avLst/>
            </a:prstGeom>
            <a:solidFill>
              <a:srgbClr val="54e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41720" y="3071520"/>
              <a:ext cx="701640" cy="27576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n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75360" y="2979360"/>
              <a:ext cx="234720" cy="183960"/>
            </a:xfrm>
            <a:prstGeom prst="rect">
              <a:avLst/>
            </a:prstGeom>
            <a:solidFill>
              <a:srgbClr val="54e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70160" y="3071520"/>
              <a:ext cx="701640" cy="27576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n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03800" y="2979360"/>
              <a:ext cx="234720" cy="183960"/>
            </a:xfrm>
            <a:prstGeom prst="rect">
              <a:avLst/>
            </a:prstGeom>
            <a:solidFill>
              <a:srgbClr val="54e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24160" y="3071520"/>
              <a:ext cx="701640" cy="27576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n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57440" y="2979360"/>
              <a:ext cx="235080" cy="183960"/>
            </a:xfrm>
            <a:prstGeom prst="rect">
              <a:avLst/>
            </a:prstGeom>
            <a:solidFill>
              <a:srgbClr val="54e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41720" y="3441600"/>
              <a:ext cx="701640" cy="367920"/>
            </a:xfrm>
            <a:prstGeom prst="ellipse">
              <a:avLst/>
            </a:prstGeom>
            <a:solidFill>
              <a:srgbClr val="b3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p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8840" y="3441600"/>
              <a:ext cx="701640" cy="367920"/>
            </a:xfrm>
            <a:prstGeom prst="ellipse">
              <a:avLst/>
            </a:prstGeom>
            <a:solidFill>
              <a:srgbClr val="b3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p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70160" y="3441600"/>
              <a:ext cx="701640" cy="367920"/>
            </a:xfrm>
            <a:prstGeom prst="ellipse">
              <a:avLst/>
            </a:prstGeom>
            <a:solidFill>
              <a:srgbClr val="b3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p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00400" y="3441600"/>
              <a:ext cx="701640" cy="367920"/>
            </a:xfrm>
            <a:prstGeom prst="ellipse">
              <a:avLst/>
            </a:prstGeom>
            <a:solidFill>
              <a:srgbClr val="b3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p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9760" y="2703240"/>
              <a:ext cx="3352680" cy="275760"/>
            </a:xfrm>
            <a:prstGeom prst="rect">
              <a:avLst/>
            </a:prstGeom>
            <a:solidFill>
              <a:srgbClr val="54e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Xtreem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9760" y="2333520"/>
              <a:ext cx="1716120" cy="277200"/>
            </a:xfrm>
            <a:prstGeom prst="rect">
              <a:avLst/>
            </a:prstGeom>
            <a:solidFill>
              <a:srgbClr val="e3ac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03640" y="2333520"/>
              <a:ext cx="1558800" cy="277200"/>
            </a:xfrm>
            <a:prstGeom prst="rect">
              <a:avLst/>
            </a:prstGeom>
            <a:solidFill>
              <a:srgbClr val="eba5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iddlew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03640" y="2057400"/>
              <a:ext cx="544680" cy="183960"/>
            </a:xfrm>
            <a:prstGeom prst="rect">
              <a:avLst/>
            </a:prstGeom>
            <a:solidFill>
              <a:srgbClr val="e3ac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ppl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97280" y="2057400"/>
              <a:ext cx="546120" cy="183960"/>
            </a:xfrm>
            <a:prstGeom prst="rect">
              <a:avLst/>
            </a:prstGeom>
            <a:solidFill>
              <a:srgbClr val="e3ac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ppl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94160" y="2057400"/>
              <a:ext cx="368280" cy="183960"/>
            </a:xfrm>
            <a:prstGeom prst="rect">
              <a:avLst/>
            </a:prstGeom>
            <a:solidFill>
              <a:srgbClr val="e3ac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ppl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93840" y="4191120"/>
            <a:ext cx="3582720" cy="853920"/>
            <a:chOff x="393840" y="4191120"/>
            <a:chExt cx="3582720" cy="853920"/>
          </a:xfrm>
        </p:grpSpPr>
        <p:pic>
          <p:nvPicPr>
            <p:cNvPr id="275" name="" descr=""/>
            <p:cNvPicPr/>
            <p:nvPr/>
          </p:nvPicPr>
          <p:blipFill>
            <a:blip r:embed="rId1"/>
            <a:stretch/>
          </p:blipFill>
          <p:spPr>
            <a:xfrm>
              <a:off x="3365640" y="4211640"/>
              <a:ext cx="610920" cy="8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393840" y="4191120"/>
              <a:ext cx="122076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3">
              <a:lum bright="20000"/>
            </a:blip>
            <a:stretch/>
          </p:blipFill>
          <p:spPr>
            <a:xfrm>
              <a:off x="1878120" y="4191120"/>
              <a:ext cx="1224000" cy="85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XtreemOS Flavou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deration of P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us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bile de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bile ph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7A945-4957-4853-83A9-C22627FA2A49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XtreemOS Architecture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143000" y="1752480"/>
            <a:ext cx="6831000" cy="3940200"/>
            <a:chOff x="1143000" y="1752480"/>
            <a:chExt cx="6831000" cy="3940200"/>
          </a:xfrm>
        </p:grpSpPr>
        <p:grpSp>
          <p:nvGrpSpPr>
            <p:cNvPr id="283" name=""/>
            <p:cNvGrpSpPr/>
            <p:nvPr/>
          </p:nvGrpSpPr>
          <p:grpSpPr>
            <a:xfrm>
              <a:off x="1143000" y="1752480"/>
              <a:ext cx="6831000" cy="2997360"/>
              <a:chOff x="1143000" y="1752480"/>
              <a:chExt cx="6831000" cy="2997360"/>
            </a:xfrm>
          </p:grpSpPr>
          <p:pic>
            <p:nvPicPr>
              <p:cNvPr id="28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1752480"/>
                <a:ext cx="6831000" cy="299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1143000" y="2073240"/>
                <a:ext cx="274320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3032280"/>
                    <a:tab algn="l" pos="6064200"/>
                    <a:tab algn="l" pos="90964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usiness Applicatio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800600" y="2057400"/>
                <a:ext cx="28191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3032280"/>
                    <a:tab algn="l" pos="6064200"/>
                    <a:tab algn="l" pos="90964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cientific Applicatio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143000" y="2514600"/>
                <a:ext cx="6476760" cy="24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3032280"/>
                    <a:tab algn="l" pos="6064200"/>
                    <a:tab algn="l" pos="90964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treemOS AP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143000" y="2916000"/>
                <a:ext cx="205740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3032280"/>
                    <a:tab algn="l" pos="6064200"/>
                    <a:tab algn="l" pos="90964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VO &amp; Securit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352680" y="2908080"/>
                <a:ext cx="20574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3032280"/>
                    <a:tab algn="l" pos="6064200"/>
                    <a:tab algn="l" pos="90964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ata Manage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638680" y="2887560"/>
                <a:ext cx="19810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40000"/>
                  </a:lnSpc>
                  <a:spcBef>
                    <a:spcPts val="876"/>
                  </a:spcBef>
                  <a:tabLst>
                    <a:tab algn="l" pos="0"/>
                    <a:tab algn="l" pos="3032280"/>
                    <a:tab algn="l" pos="6064200"/>
                    <a:tab algn="l" pos="90964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pplicatio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876"/>
                  </a:spcBef>
                  <a:tabLst>
                    <a:tab algn="l" pos="0"/>
                    <a:tab algn="l" pos="3032280"/>
                    <a:tab algn="l" pos="6064200"/>
                    <a:tab algn="l" pos="90964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nage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143000" y="3276360"/>
                <a:ext cx="64008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3032280"/>
                    <a:tab algn="l" pos="6064200"/>
                    <a:tab algn="l" pos="90964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Infrastructure for Highly Available and Scalable Servic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43000" y="3657600"/>
                <a:ext cx="64767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3032280"/>
                    <a:tab algn="l" pos="6064200"/>
                    <a:tab algn="l" pos="90964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inux-XOS: Grid-enabled Linux Operating Syste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218960" y="4300560"/>
                <a:ext cx="19051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3032280"/>
                    <a:tab algn="l" pos="6064200"/>
                    <a:tab algn="l" pos="90964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inux-XOS for P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29000" y="4176720"/>
                <a:ext cx="198108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3032280"/>
                    <a:tab algn="l" pos="6064200"/>
                    <a:tab algn="l" pos="90964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inux-XOS for Clus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638680" y="4160880"/>
                <a:ext cx="1981080" cy="56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3032280"/>
                    <a:tab algn="l" pos="6064200"/>
                    <a:tab algn="l" pos="90964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inux-XOS for Mobile Devic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96" name="" descr=""/>
            <p:cNvPicPr/>
            <p:nvPr/>
          </p:nvPicPr>
          <p:blipFill>
            <a:blip r:embed="rId2"/>
            <a:stretch/>
          </p:blipFill>
          <p:spPr>
            <a:xfrm>
              <a:off x="6400800" y="4857480"/>
              <a:ext cx="611280" cy="8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3"/>
            <a:stretch/>
          </p:blipFill>
          <p:spPr>
            <a:xfrm>
              <a:off x="1676520" y="4838760"/>
              <a:ext cx="122076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4">
              <a:lum bright="20000"/>
            </a:blip>
            <a:stretch/>
          </p:blipFill>
          <p:spPr>
            <a:xfrm>
              <a:off x="3886200" y="4838760"/>
              <a:ext cx="1224000" cy="85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DB8D6-8203-4415-A9E1-FF797C46EB12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07:11:31Z</dcterms:created>
  <dc:creator>Christine Morin</dc:creator>
  <dc:description/>
  <cp:keywords/>
  <dc:language>en-US</dc:language>
  <cp:lastModifiedBy> ledantec</cp:lastModifiedBy>
  <cp:lastPrinted>2006-06-14T16:39:43Z</cp:lastPrinted>
  <dcterms:modified xsi:type="dcterms:W3CDTF">2006-12-03T17:31:13Z</dcterms:modified>
  <cp:revision>208</cp:revision>
  <dc:subject/>
  <dc:title>XtreemOS</dc:title>
</cp:coreProperties>
</file>