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53213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67800" y="655956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Grid@Asia – Seoul December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250920" y="981000"/>
            <a:ext cx="8642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137280"/>
            <a:ext cx="66528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graphics46.tripod.com/gifs/4thofjuly/declaration.gif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raphics46.tripod.com/gifs/4thofjuly/declaration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137280"/>
            <a:ext cx="665280" cy="72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3141720"/>
            <a:ext cx="669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396720" y="836640"/>
            <a:ext cx="9540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ERC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eparing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European propos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08464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uno Le Dan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IM EE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2060640"/>
            <a:ext cx="3959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6559560"/>
            <a:ext cx="286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Grid@Asia – Seoul December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valuation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42920" y="2205000"/>
            <a:ext cx="64908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205000"/>
            <a:ext cx="64764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3068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MT Extra Bold"/>
              </a:rPr>
              <a:t>ACCEPTED                           </a:t>
            </a:r>
            <a:r>
              <a:rPr b="1" lang="en-US" sz="2000" spc="-1" strike="noStrike">
                <a:solidFill>
                  <a:srgbClr val="fc0128"/>
                </a:solidFill>
                <a:latin typeface="Times New Roman MT Extra Bold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16280"/>
            <a:ext cx="82296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aring – IP and N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nal Appro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gnature of the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89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Hearing and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579920"/>
            <a:ext cx="215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35640" y="349992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93228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61280" y="117468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34400" y="2411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kto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869000"/>
            <a:ext cx="8445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169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fter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28960" y="5311800"/>
            <a:ext cx="4554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 it pays of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0120" y="184392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30240"/>
                <a:tab algn="l" pos="1760400"/>
                <a:tab algn="l" pos="2585880"/>
                <a:tab algn="l" pos="3411360"/>
                <a:tab algn="l" pos="423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 MT Extra Bold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0120" y="312516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30240"/>
                <a:tab algn="l" pos="1760400"/>
                <a:tab algn="l" pos="2585880"/>
                <a:tab algn="l" pos="3411360"/>
                <a:tab algn="l" pos="423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 MT Extra Bold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40120" y="519840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30240"/>
                <a:tab algn="l" pos="1760400"/>
                <a:tab algn="l" pos="2585880"/>
                <a:tab algn="l" pos="3411360"/>
                <a:tab algn="l" pos="423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 MT Extra Bold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700280"/>
          <a:ext cx="921672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9216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195640" y="580536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 MT Extra Bold"/>
              </a:rPr>
              <a:t>+ VITALAS and ECHOGRID (currently under negot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189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ropos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00040"/>
            <a:ext cx="51116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EC implements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Framework Programmes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(FP) to support research activiti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ERCIM Office scans permanently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Calls for proposals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over a wide scope of domains in line with ERCIM Expert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The good preparation of a proposal is a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Key Success Factor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068640"/>
            <a:ext cx="5400720" cy="1152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264400">
            <a:off x="6679800" y="1399680"/>
            <a:ext cx="380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6880" y="4156200"/>
            <a:ext cx="2433600" cy="1031400"/>
            <a:chOff x="6176880" y="4156200"/>
            <a:chExt cx="2433600" cy="1031400"/>
          </a:xfrm>
        </p:grpSpPr>
        <p:sp>
          <p:nvSpPr>
            <p:cNvPr id="53" name=""/>
            <p:cNvSpPr/>
            <p:nvPr/>
          </p:nvSpPr>
          <p:spPr>
            <a:xfrm>
              <a:off x="6230880" y="4184640"/>
              <a:ext cx="2379600" cy="1002960"/>
            </a:xfrm>
            <a:custGeom>
              <a:avLst/>
              <a:gdLst/>
              <a:ahLst/>
              <a:rect l="l" t="t" r="r" b="b"/>
              <a:pathLst>
                <a:path w="1499" h="632">
                  <a:moveTo>
                    <a:pt x="1499" y="278"/>
                  </a:moveTo>
                  <a:lnTo>
                    <a:pt x="218" y="632"/>
                  </a:lnTo>
                  <a:lnTo>
                    <a:pt x="0" y="531"/>
                  </a:lnTo>
                  <a:lnTo>
                    <a:pt x="124" y="355"/>
                  </a:lnTo>
                  <a:lnTo>
                    <a:pt x="1407" y="0"/>
                  </a:lnTo>
                  <a:lnTo>
                    <a:pt x="1499" y="278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76880" y="4156200"/>
              <a:ext cx="2379600" cy="1002960"/>
            </a:xfrm>
            <a:custGeom>
              <a:avLst/>
              <a:gdLst/>
              <a:ahLst/>
              <a:rect l="l" t="t" r="r" b="b"/>
              <a:pathLst>
                <a:path w="1499" h="632">
                  <a:moveTo>
                    <a:pt x="1499" y="278"/>
                  </a:moveTo>
                  <a:lnTo>
                    <a:pt x="218" y="632"/>
                  </a:lnTo>
                  <a:lnTo>
                    <a:pt x="0" y="530"/>
                  </a:lnTo>
                  <a:lnTo>
                    <a:pt x="124" y="355"/>
                  </a:lnTo>
                  <a:lnTo>
                    <a:pt x="1407" y="0"/>
                  </a:lnTo>
                  <a:lnTo>
                    <a:pt x="1499" y="278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877000" y="2813040"/>
            <a:ext cx="2413080" cy="981000"/>
            <a:chOff x="5877000" y="2813040"/>
            <a:chExt cx="2413080" cy="981000"/>
          </a:xfrm>
        </p:grpSpPr>
        <p:sp>
          <p:nvSpPr>
            <p:cNvPr id="56" name=""/>
            <p:cNvSpPr/>
            <p:nvPr/>
          </p:nvSpPr>
          <p:spPr>
            <a:xfrm>
              <a:off x="5896080" y="2854080"/>
              <a:ext cx="2394000" cy="939960"/>
            </a:xfrm>
            <a:custGeom>
              <a:avLst/>
              <a:gdLst/>
              <a:ahLst/>
              <a:rect l="l" t="t" r="r" b="b"/>
              <a:pathLst>
                <a:path w="1508" h="592">
                  <a:moveTo>
                    <a:pt x="1508" y="310"/>
                  </a:moveTo>
                  <a:lnTo>
                    <a:pt x="214" y="0"/>
                  </a:lnTo>
                  <a:lnTo>
                    <a:pt x="0" y="111"/>
                  </a:lnTo>
                  <a:lnTo>
                    <a:pt x="130" y="281"/>
                  </a:lnTo>
                  <a:lnTo>
                    <a:pt x="1425" y="592"/>
                  </a:lnTo>
                  <a:lnTo>
                    <a:pt x="1508" y="31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77000" y="2813040"/>
              <a:ext cx="2392560" cy="938160"/>
            </a:xfrm>
            <a:custGeom>
              <a:avLst/>
              <a:gdLst/>
              <a:ahLst/>
              <a:rect l="l" t="t" r="r" b="b"/>
              <a:pathLst>
                <a:path w="1507" h="591">
                  <a:moveTo>
                    <a:pt x="1507" y="309"/>
                  </a:moveTo>
                  <a:lnTo>
                    <a:pt x="214" y="0"/>
                  </a:lnTo>
                  <a:lnTo>
                    <a:pt x="0" y="110"/>
                  </a:lnTo>
                  <a:lnTo>
                    <a:pt x="130" y="281"/>
                  </a:lnTo>
                  <a:lnTo>
                    <a:pt x="1424" y="591"/>
                  </a:lnTo>
                  <a:lnTo>
                    <a:pt x="1507" y="309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705000">
            <a:off x="6105240" y="306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66080" y="1628640"/>
            <a:ext cx="687240" cy="4876920"/>
          </a:xfrm>
          <a:custGeom>
            <a:avLst/>
            <a:gdLst/>
            <a:ahLst/>
            <a:rect l="l" t="t" r="r" b="b"/>
            <a:pathLst>
              <a:path w="433" h="3703">
                <a:moveTo>
                  <a:pt x="0" y="96"/>
                </a:moveTo>
                <a:lnTo>
                  <a:pt x="192" y="0"/>
                </a:lnTo>
                <a:lnTo>
                  <a:pt x="433" y="96"/>
                </a:lnTo>
                <a:lnTo>
                  <a:pt x="433" y="3655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solidFill>
            <a:srgbClr val="9966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6080" y="1628640"/>
            <a:ext cx="304560" cy="419112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66080" y="1628640"/>
            <a:ext cx="306360" cy="41148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66080" y="1628640"/>
            <a:ext cx="304560" cy="411480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0698200">
            <a:off x="5724360" y="4584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66080" y="1628640"/>
            <a:ext cx="306360" cy="48769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66080" y="1628640"/>
            <a:ext cx="304560" cy="4876920"/>
          </a:xfrm>
          <a:custGeom>
            <a:avLst/>
            <a:gdLst/>
            <a:ahLst/>
            <a:rect l="l" t="t" r="r" b="b"/>
            <a:pathLst>
              <a:path w="192" h="3703">
                <a:moveTo>
                  <a:pt x="0" y="96"/>
                </a:moveTo>
                <a:lnTo>
                  <a:pt x="192" y="0"/>
                </a:lnTo>
                <a:lnTo>
                  <a:pt x="192" y="3703"/>
                </a:lnTo>
                <a:lnTo>
                  <a:pt x="0" y="3607"/>
                </a:lnTo>
                <a:lnTo>
                  <a:pt x="0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10120" y="1827360"/>
            <a:ext cx="2414520" cy="845640"/>
            <a:chOff x="5910120" y="1827360"/>
            <a:chExt cx="2414520" cy="845640"/>
          </a:xfrm>
        </p:grpSpPr>
        <p:sp>
          <p:nvSpPr>
            <p:cNvPr id="67" name=""/>
            <p:cNvSpPr/>
            <p:nvPr/>
          </p:nvSpPr>
          <p:spPr>
            <a:xfrm>
              <a:off x="5910120" y="1861920"/>
              <a:ext cx="2381400" cy="811080"/>
            </a:xfrm>
            <a:custGeom>
              <a:avLst/>
              <a:gdLst/>
              <a:ahLst/>
              <a:rect l="l" t="t" r="r" b="b"/>
              <a:pathLst>
                <a:path w="1500" h="511">
                  <a:moveTo>
                    <a:pt x="1467" y="511"/>
                  </a:moveTo>
                  <a:lnTo>
                    <a:pt x="154" y="291"/>
                  </a:lnTo>
                  <a:lnTo>
                    <a:pt x="0" y="106"/>
                  </a:lnTo>
                  <a:lnTo>
                    <a:pt x="188" y="0"/>
                  </a:lnTo>
                  <a:lnTo>
                    <a:pt x="1500" y="221"/>
                  </a:lnTo>
                  <a:lnTo>
                    <a:pt x="1467" y="5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43600" y="1827360"/>
              <a:ext cx="2381040" cy="811080"/>
            </a:xfrm>
            <a:custGeom>
              <a:avLst/>
              <a:gdLst/>
              <a:ahLst/>
              <a:rect l="l" t="t" r="r" b="b"/>
              <a:pathLst>
                <a:path w="1500" h="511">
                  <a:moveTo>
                    <a:pt x="1467" y="511"/>
                  </a:moveTo>
                  <a:lnTo>
                    <a:pt x="154" y="291"/>
                  </a:lnTo>
                  <a:lnTo>
                    <a:pt x="0" y="106"/>
                  </a:lnTo>
                  <a:lnTo>
                    <a:pt x="188" y="0"/>
                  </a:lnTo>
                  <a:lnTo>
                    <a:pt x="1500" y="221"/>
                  </a:lnTo>
                  <a:lnTo>
                    <a:pt x="1467" y="5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697800" y="2384280"/>
            <a:ext cx="2426760" cy="639720"/>
            <a:chOff x="6697800" y="2384280"/>
            <a:chExt cx="2426760" cy="639720"/>
          </a:xfrm>
        </p:grpSpPr>
        <p:sp>
          <p:nvSpPr>
            <p:cNvPr id="70" name=""/>
            <p:cNvSpPr/>
            <p:nvPr/>
          </p:nvSpPr>
          <p:spPr>
            <a:xfrm>
              <a:off x="6697800" y="2428920"/>
              <a:ext cx="2387160" cy="595080"/>
            </a:xfrm>
            <a:custGeom>
              <a:avLst/>
              <a:gdLst/>
              <a:ahLst/>
              <a:rect l="l" t="t" r="r" b="b"/>
              <a:pathLst>
                <a:path w="1504" h="375">
                  <a:moveTo>
                    <a:pt x="3" y="375"/>
                  </a:moveTo>
                  <a:lnTo>
                    <a:pt x="1331" y="293"/>
                  </a:lnTo>
                  <a:lnTo>
                    <a:pt x="1504" y="126"/>
                  </a:lnTo>
                  <a:lnTo>
                    <a:pt x="1330" y="0"/>
                  </a:lnTo>
                  <a:lnTo>
                    <a:pt x="0" y="82"/>
                  </a:lnTo>
                  <a:lnTo>
                    <a:pt x="3" y="37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8840" y="2384280"/>
              <a:ext cx="2385720" cy="595440"/>
            </a:xfrm>
            <a:custGeom>
              <a:avLst/>
              <a:gdLst/>
              <a:ahLst/>
              <a:rect l="l" t="t" r="r" b="b"/>
              <a:pathLst>
                <a:path w="1503" h="375">
                  <a:moveTo>
                    <a:pt x="3" y="375"/>
                  </a:moveTo>
                  <a:lnTo>
                    <a:pt x="1331" y="292"/>
                  </a:lnTo>
                  <a:lnTo>
                    <a:pt x="1503" y="125"/>
                  </a:lnTo>
                  <a:lnTo>
                    <a:pt x="1329" y="0"/>
                  </a:lnTo>
                  <a:lnTo>
                    <a:pt x="0" y="82"/>
                  </a:lnTo>
                  <a:lnTo>
                    <a:pt x="3" y="375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545160" y="3679920"/>
            <a:ext cx="2432160" cy="736560"/>
            <a:chOff x="6545160" y="3679920"/>
            <a:chExt cx="2432160" cy="736560"/>
          </a:xfrm>
        </p:grpSpPr>
        <p:sp>
          <p:nvSpPr>
            <p:cNvPr id="73" name=""/>
            <p:cNvSpPr/>
            <p:nvPr/>
          </p:nvSpPr>
          <p:spPr>
            <a:xfrm>
              <a:off x="6545160" y="3713400"/>
              <a:ext cx="2386080" cy="703080"/>
            </a:xfrm>
            <a:custGeom>
              <a:avLst/>
              <a:gdLst/>
              <a:ahLst/>
              <a:rect l="l" t="t" r="r" b="b"/>
              <a:pathLst>
                <a:path w="1503" h="443">
                  <a:moveTo>
                    <a:pt x="16" y="0"/>
                  </a:moveTo>
                  <a:lnTo>
                    <a:pt x="1339" y="151"/>
                  </a:lnTo>
                  <a:lnTo>
                    <a:pt x="1503" y="328"/>
                  </a:lnTo>
                  <a:lnTo>
                    <a:pt x="1321" y="443"/>
                  </a:lnTo>
                  <a:lnTo>
                    <a:pt x="0" y="29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9440" y="3679920"/>
              <a:ext cx="2387880" cy="704880"/>
            </a:xfrm>
            <a:custGeom>
              <a:avLst/>
              <a:gdLst/>
              <a:ahLst/>
              <a:rect l="l" t="t" r="r" b="b"/>
              <a:pathLst>
                <a:path w="1504" h="444">
                  <a:moveTo>
                    <a:pt x="18" y="0"/>
                  </a:moveTo>
                  <a:lnTo>
                    <a:pt x="1339" y="152"/>
                  </a:lnTo>
                  <a:lnTo>
                    <a:pt x="1504" y="328"/>
                  </a:lnTo>
                  <a:lnTo>
                    <a:pt x="1321" y="444"/>
                  </a:lnTo>
                  <a:lnTo>
                    <a:pt x="0" y="29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f8f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21382800">
            <a:off x="6715080" y="2466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394200">
            <a:off x="6562800" y="3838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3600">
            <a:off x="5876640" y="19936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264400">
            <a:off x="6990840" y="1552320"/>
            <a:ext cx="3812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motivation: Ideas,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um: Building the 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ing: Identifying the appropriat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: Writing of the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760" y="260280"/>
            <a:ext cx="54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 MT Extra Bold"/>
              </a:rPr>
              <a:t>Steps of Proposal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724280"/>
            <a:ext cx="1380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55054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your 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n innovative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 the differ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560" y="338040"/>
            <a:ext cx="70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Scientific motivation: </a:t>
            </a:r>
            <a:r>
              <a:rPr b="1" lang="en-US" sz="2800" spc="-1" strike="noStrike">
                <a:solidFill>
                  <a:srgbClr val="160ba1"/>
                </a:solidFill>
                <a:latin typeface="Times New Roman MT Extra Bold"/>
              </a:rPr>
              <a:t>Ideas,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required expertise to achieve the work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d attract the correspon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 a critical mass of scientific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good representation of all the stakehol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scientific &amp; an administrative coordin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responsible task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oid overlap of compe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mulate sy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84040"/>
            <a:ext cx="7201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MT Extra Bold"/>
              </a:rPr>
              <a:t>Consortium: </a:t>
            </a:r>
            <a:r>
              <a:rPr b="1" lang="en-US" sz="2800" spc="-1" strike="noStrike">
                <a:solidFill>
                  <a:srgbClr val="160ba1"/>
                </a:solidFill>
                <a:latin typeface="Times New Roman MT Extra Bold"/>
              </a:rPr>
              <a:t>Building the projec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295280" y="4905000"/>
            <a:ext cx="647640" cy="43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248760 h 432000"/>
              <a:gd name="textAreaBottom" fmla="*/ 3700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484020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5084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1413000"/>
            <a:ext cx="763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6 is subdivided in distinct Calls for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ll is covering a given number of research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start of FP6, there have been 6 calls for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c0128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 selection of the Call is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3933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all must be answered within a strict dea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8520" y="317520"/>
            <a:ext cx="69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itioning: </a:t>
            </a:r>
            <a:r>
              <a:rPr b="1" lang="en-US" sz="2800" spc="-1" strike="noStrike">
                <a:solidFill>
                  <a:srgbClr val="160ba1"/>
                </a:solidFill>
                <a:latin typeface="Times New Roman"/>
              </a:rPr>
              <a:t>Identifying the appropriate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5300640"/>
            <a:ext cx="62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fortunatelly, no more call for F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UT FP7 is coming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5084640"/>
            <a:ext cx="6191280" cy="1368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59640" y="3141720"/>
            <a:ext cx="17380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9040" y="243000"/>
            <a:ext cx="770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itioning : </a:t>
            </a:r>
            <a:r>
              <a:rPr b="1" lang="en-US" sz="2800" spc="-1" strike="noStrike">
                <a:solidFill>
                  <a:srgbClr val="160ba1"/>
                </a:solidFill>
                <a:latin typeface="Times New Roman"/>
              </a:rPr>
              <a:t>Selecting the appropriate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75840" y="120816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different kinds of project frames to follow in every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grated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ive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s of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fic targeted research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ress specif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-ordinatio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oint of common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fic Support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P6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4960" y="4508640"/>
            <a:ext cx="41054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Calls for</a:t>
            </a:r>
            <a:r>
              <a:rPr b="0" lang="en-GB" sz="2400" spc="-1" strike="noStrike">
                <a:solidFill>
                  <a:srgbClr val="160ba1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propos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ill 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ch instruments are to be us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ch have priority …. and for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68720" y="4508640"/>
            <a:ext cx="4024440" cy="2016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54800" y="2697120"/>
            <a:ext cx="374760" cy="37476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72280" y="2492280"/>
            <a:ext cx="747720" cy="74772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84920" y="2876400"/>
            <a:ext cx="1584360" cy="32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1720" y="2187720"/>
            <a:ext cx="3240" cy="149832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ation: </a:t>
            </a:r>
            <a:r>
              <a:rPr b="1" lang="en-US" sz="2800" spc="-1" strike="noStrike">
                <a:solidFill>
                  <a:srgbClr val="160ba1"/>
                </a:solidFill>
                <a:latin typeface="Times New Roman"/>
              </a:rPr>
              <a:t>Writing of the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431640" y="1052640"/>
            <a:ext cx="9612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of the proposal according to strict guidelines and proced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006640"/>
            <a:ext cx="88200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buClr>
                <a:srgbClr val="fc012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work, budget, coordination, managem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deliverables, re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&amp;T objectives, socio-economic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“implementation plan” for whole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mplementation plan for first 1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fication of resources an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and safety iss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284360" y="1484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75640" y="5049720"/>
            <a:ext cx="648000" cy="431640"/>
          </a:xfrm>
          <a:custGeom>
            <a:avLst/>
            <a:gdLst>
              <a:gd name="textAreaLeft" fmla="*/ 216000 w 648000"/>
              <a:gd name="textAreaRight" fmla="*/ 555120 w 64800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157720"/>
            <a:ext cx="68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e complete quidelines for proposers are available on-line 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9800" y="5651640"/>
            <a:ext cx="62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160ba1"/>
                </a:solidFill>
                <a:uFillTx/>
                <a:latin typeface="Times New Roman"/>
              </a:rPr>
              <a:t>http://www.cordis.lu/fp6/find-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5157720"/>
            <a:ext cx="6840720" cy="10796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8840" y="340920"/>
            <a:ext cx="32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dead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ubmission – EC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A: administrativ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B: definition of the activiti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04000" y="134136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5400000">
            <a:off x="2879280" y="5481360"/>
            <a:ext cx="720720" cy="647640"/>
          </a:xfrm>
          <a:custGeom>
            <a:avLst/>
            <a:gdLst>
              <a:gd name="textAreaLeft" fmla="*/ 240120 w 720720"/>
              <a:gd name="textAreaRight" fmla="*/ 617400 w 72072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5516640"/>
            <a:ext cx="5111640" cy="936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571824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 MT Extra Bold"/>
              </a:rPr>
              <a:t>Wait for evalu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10:24Z</dcterms:created>
  <dc:creator>ERCIM</dc:creator>
  <dc:description/>
  <cp:keywords/>
  <dc:language>en-US</dc:language>
  <cp:lastModifiedBy> ledantec</cp:lastModifiedBy>
  <cp:lastPrinted>2004-05-17T13:06:06Z</cp:lastPrinted>
  <dcterms:modified xsi:type="dcterms:W3CDTF">2006-12-12T04:52:36Z</dcterms:modified>
  <cp:revision>450</cp:revision>
  <dc:subject/>
  <dc:title>ERCIM slides</dc:title>
</cp:coreProperties>
</file>