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08707-C2BF-4691-926A-85DE171FC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62920"/>
            <a:ext cx="82915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9D94A-2EE5-4A2B-A9C3-97A5A539A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26828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6292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356292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AA45-63A5-45DD-8013-D4B746181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697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0880" y="1268280"/>
            <a:ext cx="26697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4560" y="1268280"/>
            <a:ext cx="26697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62920"/>
            <a:ext cx="26697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0880" y="3562920"/>
            <a:ext cx="26697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4560" y="3562920"/>
            <a:ext cx="26697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D58B-C5B4-43E9-9DF3-8D087D87F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460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5920" y="1268280"/>
            <a:ext cx="40460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2184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268280"/>
            <a:ext cx="40460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6292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95468-05E1-46CE-A8F0-6DCB9C245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460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26828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5920" y="356292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920" y="126828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62920"/>
            <a:ext cx="82915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62920"/>
            <a:ext cx="82915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126828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6292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5920" y="356292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697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0880" y="1268280"/>
            <a:ext cx="26697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4560" y="1268280"/>
            <a:ext cx="26697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62920"/>
            <a:ext cx="26697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0880" y="3562920"/>
            <a:ext cx="26697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4560" y="3562920"/>
            <a:ext cx="26697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FA6E1-7108-4C0E-845B-494482EA1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460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268280"/>
            <a:ext cx="40460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A84E3-3A5C-4AA9-89DD-F99C2AF01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5D91-AF60-4F8C-9CFF-E074A6D14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2184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85520-388B-41A8-9DF4-FE7532B5E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268280"/>
            <a:ext cx="40460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6292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5C76-E560-4B08-8933-C654F603B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460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26828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356292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7A33-628B-4390-A386-0689616A4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268280"/>
            <a:ext cx="40460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62920"/>
            <a:ext cx="82915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5118-72C3-4D14-A168-3C940B5E7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c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7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7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7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7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7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7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7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563640" y="6237000"/>
            <a:ext cx="1871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7577-B060-4AC0-BA5F-4A8DC644E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734080"/>
            <a:ext cx="9144000" cy="1285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79280" y="5950080"/>
            <a:ext cx="2760840" cy="7682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885080" y="6093000"/>
            <a:ext cx="669960" cy="457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380360" y="6524640"/>
            <a:ext cx="1676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Arial"/>
              </a:rPr>
              <a:t>EU project: RIO31844-OMII-EUROP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435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808080"/>
                </a:solidFill>
                <a:latin typeface="Arial"/>
              </a:rPr>
              <a:t>http://www.omii-europe.or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95800" cy="512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756480"/>
            <a:ext cx="9144000" cy="128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643280" y="3789360"/>
            <a:ext cx="4059360" cy="1017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47640" y="5013000"/>
            <a:ext cx="7128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7c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47640" y="4869000"/>
            <a:ext cx="7128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7cf"/>
                </a:solidFill>
                <a:latin typeface="Arial"/>
              </a:rPr>
              <a:t>Interoperability and Usability</a:t>
            </a:r>
            <a:br>
              <a:rPr sz="2800"/>
            </a:br>
            <a:r>
              <a:rPr b="1" lang="en-GB" sz="2800" spc="-1" strike="noStrike">
                <a:solidFill>
                  <a:srgbClr val="0087cf"/>
                </a:solidFill>
                <a:latin typeface="Arial"/>
              </a:rPr>
              <a:t>of Grid Infrastructures</a:t>
            </a:r>
            <a:endParaRPr b="1" lang="en-US" sz="28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347640" y="5732640"/>
            <a:ext cx="532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</a:rPr>
              <a:t>Alistair Dunlop </a:t>
            </a:r>
            <a:r>
              <a:rPr b="1" lang="en-GB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en-GB" sz="1400" spc="-1" strike="noStrike" u="sng">
                <a:solidFill>
                  <a:srgbClr val="808080"/>
                </a:solidFill>
                <a:uFillTx/>
                <a:latin typeface="Arial"/>
              </a:rPr>
              <a:t>Achim Streit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</a:rPr>
              <a:t>University of Southampton</a:t>
            </a:r>
            <a:r>
              <a:rPr b="1" lang="en-GB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808080"/>
                </a:solidFill>
                <a:latin typeface="Arial"/>
              </a:rPr>
              <a:t>Forschungszentrum Jülich</a:t>
            </a:r>
            <a:r>
              <a:rPr b="1" lang="en-GB" sz="1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7cf"/>
                </a:solidFill>
                <a:latin typeface="Arial"/>
              </a:rPr>
              <a:t>Job Submit and Job Monitoring Service</a:t>
            </a: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Implementation of the JSDL (job submission description language) and BES (Basic execution service) specifications from the Compute working group at OGF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on way to specify and control jobs (abstraction of OS and cluster control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Other specifications such as scheduling, but above are essential and well developed with implementations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Work is to make BES and JSDL available on Globus, UNICORE and gLite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itial version for UNICORE available in May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SDL translator (using XSLT) for gLite i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7cf"/>
                </a:solidFill>
                <a:latin typeface="Arial"/>
              </a:rPr>
              <a:t>Virtual Organisation Management Service</a:t>
            </a: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Authorisation service available for Globus and gLite. 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information on the user's relationship with Virtual Organization: groups, roles and capabi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Work to make VOMS available under UNICORE and to extend VOMS with SAML support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L (Security Authorisation Markup Language) from OASIS Technical Committee.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for XML exchanging authentication and authorisation data between security doma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ha version for UNICORE with SAML support scheduled for May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7cf"/>
                </a:solidFill>
                <a:latin typeface="Arial"/>
              </a:rPr>
              <a:t>Accounting Service</a:t>
            </a: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Implementation of the Resource Usage Service (RUS) from the Management working group within OGF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cks use of resources (accounting in traditional UNIX sense), but not concerned with paym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osely related to Usage Record (UG-WG) within OG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Specification available for public comment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Alpha version of RUS (or equivalent) available in May 2007 for Globus, gLite and UNICORE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7cf"/>
                </a:solidFill>
                <a:latin typeface="Arial"/>
              </a:rPr>
              <a:t>Portal Service</a:t>
            </a: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Integration of the Gridsphere portal framework with Globus, UNICORE and gLite and provide portlets for job submit, accounting, etc…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application level portability at a portle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rtlets available for main OMII-Europ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7cf"/>
                </a:solidFill>
                <a:latin typeface="Arial"/>
              </a:rPr>
              <a:t>Additional Services</a:t>
            </a: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Current solution: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Chinese partners will make all services available on Chinese CROWNgrid infrastructure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In May 2007, launch of the second round of service integration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475164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7cf"/>
                </a:solidFill>
                <a:latin typeface="Arial"/>
              </a:rPr>
              <a:t>OMII-Europe Infrastructure Integration</a:t>
            </a: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37c"/>
                </a:solidFill>
                <a:latin typeface="Arial"/>
              </a:rPr>
              <a:t>This activity goes beyond the adoption of common services and focuses on full grid infrastructure integration through employing: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mon security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ch similarity (X.509) and differences (handling of proxies, authorisation, anonymity and audi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ntion to define a common security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a strengthened form of X.509 credential management through using myPro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b exchange between Globus/gLite/UNI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s on Globus/UNICORE Grip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Close collaboration with OGF GIN WG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7cf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OMII-Europe has support from the major Grid Infrastructure providers to deliver interoperability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point to be trying to solve the problem without vendor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OMII-Europe’s emphasis on standards provides a non-biased approach towards interoperability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open independent process needs to be used to arrive at technical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Achieving interoperability is a long term goal, don’t try and eat an elephant in one go!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I-Europe will improve overall USABILITY of grid Infrastructures and improve INTEROPERABILITY of grid infrastructures over the next two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0" t="3423" r="0" b="0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69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7cf"/>
                </a:solidFill>
                <a:latin typeface="Arial"/>
              </a:rPr>
              <a:t>OMII-Europe Vision</a:t>
            </a: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54720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demonstrate that interoperable Grids can be built from standards-compliant Web Services and to deliver a set of quality-assured services, sourced from open source repositories, able to be used on the principal Grid infrastructures in use in Europe today.</a:t>
            </a:r>
            <a:endParaRPr b="1" lang="en-US" sz="2400" spc="-1" strike="noStrike">
              <a:solidFill>
                <a:srgbClr val="0023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7cf"/>
                </a:solidFill>
                <a:latin typeface="Arial"/>
              </a:rPr>
              <a:t>What is OMII-Europe?</a:t>
            </a: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37c"/>
                </a:solidFill>
                <a:latin typeface="Arial"/>
              </a:rPr>
              <a:t>EU funded FP6 project (RI)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May 2006, initial 2 year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partners (8 European, 4 USA, 4 Chine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37c"/>
                </a:solidFill>
                <a:latin typeface="Arial"/>
              </a:rPr>
              <a:t>Open Middleware Infrastructure Institute for Europe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imentary to existing national programm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MII-UK, NMI, C-OMEGA, OMII-China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37c"/>
                </a:solidFill>
                <a:latin typeface="Arial"/>
              </a:rPr>
              <a:t>Goal is to provide key software components for building e-infrastructures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Project will demonstrate “proof of concept” with expectation for a follow-on project in FP7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7cf"/>
                </a:solidFill>
                <a:latin typeface="Arial"/>
              </a:rPr>
              <a:t>OMII-Europe Project Partners</a:t>
            </a: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1366920"/>
          <a:ext cx="8280360" cy="3933720"/>
        </p:xfrm>
        <a:graphic>
          <a:graphicData uri="http://schemas.openxmlformats.org/drawingml/2006/table">
            <a:tbl>
              <a:tblPr/>
              <a:tblGrid>
                <a:gridCol w="4050000"/>
                <a:gridCol w="4230360"/>
              </a:tblGrid>
              <a:tr h="43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University of Southampton, </a:t>
                      </a:r>
                      <a:r>
                        <a:rPr b="1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UK (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University of Chicago,</a:t>
                      </a:r>
                      <a:r>
                        <a:rPr b="1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 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ujitsu Laboratories Europe,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U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CSA, University of Illinois,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Forschungszentrum Jülich,</a:t>
                      </a:r>
                      <a:r>
                        <a:rPr b="1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 German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University of Southern California,</a:t>
                      </a:r>
                      <a:r>
                        <a:rPr b="1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Los Angeles,</a:t>
                      </a:r>
                      <a:r>
                        <a:rPr b="1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 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ungl Tekniska Högskolan,</a:t>
                      </a: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Swed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niversity of Wisconsin-Madison,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</a:tr>
              <a:tr h="38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Istituto Nazionale di Fisica Nucleare,</a:t>
                      </a:r>
                      <a:r>
                        <a:rPr b="1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 Ita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Beihang University,</a:t>
                      </a:r>
                      <a:r>
                        <a:rPr b="1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 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znan Supercomputing &amp; Networking Center,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lan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hina Institute of Computing Technology,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eijing,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University of Edinburgh,</a:t>
                      </a:r>
                      <a:r>
                        <a:rPr b="1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 U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Computer Network Information Centre, Beijing,</a:t>
                      </a:r>
                      <a:r>
                        <a:rPr b="1" lang="en-US" sz="1400" spc="-1" strike="noStrike">
                          <a:solidFill>
                            <a:srgbClr val="00237c"/>
                          </a:solidFill>
                          <a:latin typeface="Arial"/>
                          <a:ea typeface="Times New Roman"/>
                        </a:rPr>
                        <a:t> 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ERN, European Organisation for Nuclear Research,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Switzer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singhua University,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7cf"/>
                </a:solidFill>
                <a:latin typeface="Arial"/>
              </a:rPr>
              <a:t>What will OMII-Europe do?</a:t>
            </a: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37c"/>
                </a:solidFill>
                <a:latin typeface="Arial"/>
              </a:rPr>
              <a:t>Initial focus on providing common interfaces and integration of major Grid software infrastructures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37c"/>
                </a:solidFill>
                <a:latin typeface="Arial"/>
              </a:rPr>
              <a:t>Common services: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Access, Virtual Organisation Management, Portal, Accounting, Job Submission and Job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se represent many of the outputs from the standards function grou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y to add additional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phasis on porting and re-engineering work, not developing from scr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37c"/>
                </a:solidFill>
                <a:latin typeface="Arial"/>
              </a:rPr>
              <a:t>Infrastructure integration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gLite/UNICORE/Globus/CROWNgrid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operable security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7cf"/>
                </a:solidFill>
                <a:latin typeface="Arial"/>
              </a:rPr>
              <a:t>OMII-Europe guiding principles</a:t>
            </a: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91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37c"/>
                </a:solidFill>
                <a:latin typeface="Arial"/>
              </a:rPr>
              <a:t>Committed to standards process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agreed open standards and working wit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s process (OGF/Oa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37c"/>
                </a:solidFill>
                <a:latin typeface="Arial"/>
              </a:rPr>
              <a:t>Quality Assurance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ed methodology and compliance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oftware components have public QA process and audit tr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with similar projects and organisations to agree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37c"/>
                </a:solidFill>
                <a:latin typeface="Arial"/>
              </a:rPr>
              <a:t>Impartiality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II-Europe is “honest broker” providing impartial advice/information on e-infra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7cf"/>
                </a:solidFill>
                <a:latin typeface="Arial"/>
              </a:rPr>
              <a:t>What will OMII-Europe deliver?</a:t>
            </a: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37c"/>
                </a:solidFill>
                <a:latin typeface="Arial"/>
              </a:rPr>
              <a:t>Repository of open-source, quality assured software services for gLite, Globus, UNICORE and CROWNgrid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ervices bundled with major grid distrib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integration work with gLite, UNICORE and Glo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37c"/>
                </a:solidFill>
                <a:latin typeface="Arial"/>
              </a:rPr>
              <a:t>Public reports on grid infrastructures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benchmark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rtial advice an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37c"/>
                </a:solidFill>
                <a:latin typeface="Arial"/>
              </a:rPr>
              <a:t>Evaluation infrastructure to “test” services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support and training fo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7cf"/>
                </a:solidFill>
                <a:latin typeface="Arial"/>
              </a:rPr>
              <a:t>Why Globus, UNICORE, gLite and CROWNgrid?</a:t>
            </a:r>
            <a:endParaRPr b="0" lang="en-US" sz="28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Minimal significant set: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ite is a complete set of middleware developed within EGEE and is deployed to create a Grid containing more than 150 sites and 30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CORE is a major EU and national middleware initiative and is deployed at many supercomputer sites, in particular those available through DE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us is the world-leading open-source platform for Grid computing developed within the USA and is used for many research projects world-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three Grid platforms have significant user bodies with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OWNgrid is the middleware used on the major Chinese grid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7cf"/>
                </a:solidFill>
                <a:latin typeface="Arial"/>
              </a:rPr>
              <a:t>OMII-Europe re-engineering activities</a:t>
            </a: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676520"/>
            <a:ext cx="76960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5120" indent="-19512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04920" y="1447920"/>
          <a:ext cx="8534160" cy="3962160"/>
        </p:xfrm>
        <a:graphic>
          <a:graphicData uri="http://schemas.openxmlformats.org/drawingml/2006/table">
            <a:tbl>
              <a:tblPr/>
              <a:tblGrid>
                <a:gridCol w="1420560"/>
                <a:gridCol w="1152720"/>
                <a:gridCol w="1084320"/>
                <a:gridCol w="1218960"/>
                <a:gridCol w="1219320"/>
                <a:gridCol w="1219320"/>
                <a:gridCol w="1218960"/>
              </a:tblGrid>
              <a:tr h="86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GSA D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234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234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234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234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he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234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c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ied Compo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23476"/>
                    </a:solidFill>
                  </a:tcPr>
                </a:tc>
              </a:tr>
              <a:tr h="78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234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800"/>
                    </a:solidFill>
                  </a:tcPr>
                </a:tc>
              </a:tr>
              <a:tr h="77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234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800"/>
                    </a:solidFill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b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234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7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800"/>
                    </a:solidFill>
                  </a:tcPr>
                </a:tc>
              </a:tr>
              <a:tr h="75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c. OMII-UK, USA,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234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3203640" y="4365720"/>
            <a:ext cx="385560" cy="672840"/>
          </a:xfrm>
          <a:prstGeom prst="upArrow">
            <a:avLst>
              <a:gd name="adj1" fmla="val 50000"/>
              <a:gd name="adj2" fmla="val 72090"/>
            </a:avLst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3619440"/>
            <a:ext cx="385920" cy="673200"/>
          </a:xfrm>
          <a:prstGeom prst="upArrow">
            <a:avLst>
              <a:gd name="adj1" fmla="val 50000"/>
              <a:gd name="adj2" fmla="val 72061"/>
            </a:avLst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4365720"/>
            <a:ext cx="385920" cy="672840"/>
          </a:xfrm>
          <a:prstGeom prst="upArrow">
            <a:avLst>
              <a:gd name="adj1" fmla="val 50000"/>
              <a:gd name="adj2" fmla="val 72023"/>
            </a:avLst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4365720"/>
            <a:ext cx="385920" cy="672840"/>
          </a:xfrm>
          <a:prstGeom prst="upArrow">
            <a:avLst>
              <a:gd name="adj1" fmla="val 50000"/>
              <a:gd name="adj2" fmla="val 72023"/>
            </a:avLst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28000" y="4365720"/>
            <a:ext cx="385920" cy="672840"/>
          </a:xfrm>
          <a:prstGeom prst="upArrow">
            <a:avLst>
              <a:gd name="adj1" fmla="val 50000"/>
              <a:gd name="adj2" fmla="val 72023"/>
            </a:avLst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56000" y="3573360"/>
            <a:ext cx="385920" cy="673200"/>
          </a:xfrm>
          <a:prstGeom prst="upArrow">
            <a:avLst>
              <a:gd name="adj1" fmla="val 50000"/>
              <a:gd name="adj2" fmla="val 72061"/>
            </a:avLst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4356000" y="2708280"/>
            <a:ext cx="385920" cy="673200"/>
          </a:xfrm>
          <a:prstGeom prst="upArrow">
            <a:avLst>
              <a:gd name="adj1" fmla="val 50000"/>
              <a:gd name="adj2" fmla="val 72061"/>
            </a:avLst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7cf"/>
                </a:solidFill>
                <a:latin typeface="Arial"/>
              </a:rPr>
              <a:t>Database Service</a:t>
            </a:r>
            <a:endParaRPr b="0" lang="en-US" sz="3200" spc="-1" strike="noStrike">
              <a:solidFill>
                <a:srgbClr val="0087c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Implementation of the OGSA-DAI specification from the DAIS-WG within the Data function group of OGF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GSA-DAI service federates data resources with different support mechanisms (Relational/XML Databases/flat files) allowing uniform access across thes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Number of other data specifications emerging that may be considered later.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action management; byte IO; Grid file systems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DAIS implementation already available for Globus 4 – 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3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37c"/>
                </a:solidFill>
                <a:latin typeface="Arial"/>
              </a:rPr>
              <a:t>Work is to port to UNICORE and gLite – Alpha releases scheduled for May 2007. </a:t>
            </a:r>
            <a:endParaRPr b="1" lang="en-US" sz="2000" spc="-1" strike="noStrike">
              <a:solidFill>
                <a:srgbClr val="00237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aluating OGSADai4Unicore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5T10:58:38Z</dcterms:created>
  <dc:creator>Alistair Dunlop</dc:creator>
  <dc:description/>
  <dc:language>en-US</dc:language>
  <cp:lastModifiedBy> ledantec</cp:lastModifiedBy>
  <dcterms:modified xsi:type="dcterms:W3CDTF">2006-12-03T10:23:38Z</dcterms:modified>
  <cp:revision>48</cp:revision>
  <dc:subject/>
  <dc:title>Project Overview</dc:title>
</cp:coreProperties>
</file>