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1E1C-1B6B-4160-B64D-D54D78E980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9E98-B96C-4C4F-9037-A01E2BA7C6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71B-26B5-4F15-A14B-D6A2D32B72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Promote an ICT-based environment, in which all researchers have an easy-to-use controlled access to unique or distributed scientific facilities, regardless of their type and location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Strengthen collaboration between research centres and their researchers in </a:t>
            </a:r>
            <a:r>
              <a:rPr b="1" i="1" lang="en-US" sz="1200" spc="-1" strike="noStrike">
                <a:solidFill>
                  <a:srgbClr val="a50021"/>
                </a:solidFill>
                <a:latin typeface="Times New Roman"/>
              </a:rPr>
              <a:t>virtual research communities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, enabling worldwide sustainable partnerships in all e-Science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Infrastructure layer more </a:t>
            </a:r>
            <a:r>
              <a:rPr b="1" i="1" lang="en-US" sz="1200" spc="-1" strike="noStrike">
                <a:solidFill>
                  <a:srgbClr val="a50021"/>
                </a:solidFill>
                <a:latin typeface="Times New Roman"/>
              </a:rPr>
              <a:t>transparent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 and adequately serving </a:t>
            </a:r>
            <a:r>
              <a:rPr b="1" i="1" lang="en-US" sz="1200" spc="-1" strike="noStrike">
                <a:solidFill>
                  <a:srgbClr val="a50021"/>
                </a:solidFill>
                <a:latin typeface="Times New Roman"/>
              </a:rPr>
              <a:t>cross-disciplinary needs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e-Science Grid infrastructur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further deployment, extension in time and evolution of core European grid-empowered e-Infrastructures, exploiting the sharing of more computing resources (including distributed supercomputing), scientific instrumentation and data facilities across multiple scientific discipli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provision of persistent, cross disciplinary services to pan-European virtual research communities, with increased levels of trust and confid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open standards and interoperability, fast adoption of new research results and innovation and consolidation of middleware technology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Scientific Digital Reposit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deployment of digital repositories for the scientific communities by pooling existing resources and supporting data storage, archiving, access, interpretation, interoperability, management and curation activiti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aggregate and combine information to generate and share knowledge, profiting from a transparent underlying data infrastructure across different communities, institutions and geographic boundari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open standards are key to bridge heterogeneity and ensure long term preservatio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e-Infrastructures for scientific commun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consolidation and expansion of e-Infrastructures by addressing the specific needs of new scientific communities within a coherent pan-European 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impact, adoption and global relevance of e-Infrastructures across various areas of science &amp; enginee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advanced applications and capabilities to more researchers, capturing commonalities, fostering interoperability, promoting open standards and federating approach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adaptation of methods &amp; scientific practices to exploit the extended capabilities of e-Infrastruc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Scientific Data Infrastruc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support the deployment of standardised mechanisms to store, archive, authenticate, access, transfer, preserve, curate, certify, interpret scientific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provide an integrated set of services exploiting the middleware and grid capabilities to federate data in an ecosystem of digital resour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support the deployment of a broad European multidisciplinary scientific data infrastructure able to be easily federated with knowledge infrastructures in other parts of the wor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0696-FFCC-417D-BCA3-FA176BC522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FF12-C181-4B40-A2FA-79CE238F99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256D-6C30-4276-AAF4-DF4138C7F8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6C82-F595-40B9-90B2-275698CAB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C985-6C13-4A48-B072-99B535493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EDF7-D38E-4F39-984D-6B9A99F2E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CFF5-7A71-4A67-A18F-886CCB7B37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644D-982E-4E17-8DB1-09EF46439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3C13-BC05-4787-9CAA-1FF82FE19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941D-5529-412C-9025-974AF4C8C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9E19-CF0C-4E48-BFD8-F70B5515F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E601-49FE-4513-9517-305C61DE0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38A4-F739-42DF-805F-745E957C7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BEE8-A6AD-4AEE-A776-355FDDBEF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031E-84ED-432B-9535-2362BD3FA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E1981590-CA66-409F-AC4D-B5A3BF02F361}" type="slidenum">
              <a:rPr b="1" lang="en-US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hyperlink" Target="http://www.lmc.ethz.ch/Instruments/Zeiss510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www.affordablespaceflight.com/SE00.jpg" TargetMode="External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hyperlink" Target="http://www.e-science.clrc.ac.uk/documents/projects/hpcxsupport/HPCxPhoto.jpg" TargetMode="External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765000"/>
            <a:ext cx="7445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Grid Technologies in the new EU Research Framework Program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645000"/>
            <a:ext cx="708660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Jorge Gasós</a:t>
            </a:r>
            <a:br>
              <a:rPr sz="4000"/>
            </a:b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formation Society and Media Directorat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Grid Technologies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E1DC-C72F-41C6-AEC7-796B3AD2F0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74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etwork of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mobile, broadband … spectrum-efficient, high-speed … managed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ed med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multimedia networks, platforms, services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Paradigms and experimental facil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advanced networking architectures, interconnected testbeds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 &amp; software architectures, infrastructures &amp; engineer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tools for service development, software design, virtualisation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CT in support of the networked enterpri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Inter-enterprise operation and collaboration, integrated enterprise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ure, dependable and trusted infrastructur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resilience in networks, trust in services, identity, privacy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itical infrastructure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secure, resilient, always available information infrastructures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89000"/>
            <a:ext cx="8137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Challen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1: Pervasive &amp; Trusted Network &amp; Service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0954-E6B6-4FD0-BFBD-B3BCBED521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view of the ICT cooperation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3300"/>
                </a:solidFill>
                <a:latin typeface="Verdana"/>
              </a:rPr>
              <a:t>Service and Software Architectures, Infrastructures and E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esearch Infrastructures in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8CEB-EC3F-40D6-89CB-DBBBF771E8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88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ervices &amp; Software: Some Tre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Products to Servic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Services, SOA, Software as a servic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T infrastruc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ed for more flexibility and reduction of T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converge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borative development and distribu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societies and economies depend more and more on softwa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 requirements for reliability and dependa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ws, regulations, habits and cultur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2724-44A4-4F2D-BB0B-5849C5496F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8497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ork programm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2. Service and Software Architectures, Infrastructures and Engin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44640"/>
            <a:ext cx="3429000" cy="41911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Top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Archite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isation tools, Grid middleware and network-centric operating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/Software Engineer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tery of Complexity and Depend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1852560"/>
            <a:ext cx="3524040" cy="41911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cted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namic Services and network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sharing and system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, productivity, reliability in Services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2640" y="6237360"/>
            <a:ext cx="2987640" cy="3682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imated budget 120 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23BC-AAC6-461B-8493-FFAC974726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ork Programme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413000"/>
            <a:ext cx="8424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57280" indent="-378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ding Grid-based systems that orchestrate unlimited, heterogeneous and dynamic resources distributed across multiple platforms as a single entity, and provide platform-independent access and sharing of knowledge, processing, communication, storage and conten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378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rvice architectures, platforms, technologies, methods and tools that enable context-awareness and discovery, advertising, personalisation and dynamic composition of servic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28AA-E758-4E4C-A2C9-0563CD13A2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152280"/>
            <a:ext cx="7631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917800" y="1773360"/>
            <a:ext cx="3382920" cy="739800"/>
            <a:chOff x="2917800" y="1773360"/>
            <a:chExt cx="3382920" cy="739800"/>
          </a:xfrm>
        </p:grpSpPr>
        <p:sp>
          <p:nvSpPr>
            <p:cNvPr id="126" name=""/>
            <p:cNvSpPr/>
            <p:nvPr/>
          </p:nvSpPr>
          <p:spPr>
            <a:xfrm>
              <a:off x="2917800" y="1773360"/>
              <a:ext cx="3382920" cy="739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21160" y="1881360"/>
              <a:ext cx="21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038400" y="4994280"/>
            <a:ext cx="3321000" cy="739800"/>
            <a:chOff x="3038400" y="4994280"/>
            <a:chExt cx="3321000" cy="739800"/>
          </a:xfrm>
        </p:grpSpPr>
        <p:sp>
          <p:nvSpPr>
            <p:cNvPr id="129" name=""/>
            <p:cNvSpPr/>
            <p:nvPr/>
          </p:nvSpPr>
          <p:spPr>
            <a:xfrm>
              <a:off x="3038400" y="4994280"/>
              <a:ext cx="3321000" cy="739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42480" y="5312160"/>
              <a:ext cx="20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Arial"/>
                </a:rPr>
                <a:t>ICT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516720" y="4941720"/>
            <a:ext cx="1727280" cy="678600"/>
            <a:chOff x="6516720" y="4941720"/>
            <a:chExt cx="1727280" cy="678600"/>
          </a:xfrm>
        </p:grpSpPr>
        <p:sp>
          <p:nvSpPr>
            <p:cNvPr id="132" name=""/>
            <p:cNvSpPr/>
            <p:nvPr/>
          </p:nvSpPr>
          <p:spPr>
            <a:xfrm>
              <a:off x="6516720" y="5100120"/>
              <a:ext cx="172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333399"/>
                  </a:solidFill>
                  <a:latin typeface="Arial"/>
                </a:rPr>
                <a:t>MANAGEABILITY FEAS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8240" y="4941720"/>
              <a:ext cx="191520" cy="104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044720" y="4730760"/>
            <a:ext cx="1873080" cy="783360"/>
            <a:chOff x="1044720" y="4730760"/>
            <a:chExt cx="1873080" cy="783360"/>
          </a:xfrm>
        </p:grpSpPr>
        <p:sp>
          <p:nvSpPr>
            <p:cNvPr id="135" name=""/>
            <p:cNvSpPr/>
            <p:nvPr/>
          </p:nvSpPr>
          <p:spPr>
            <a:xfrm>
              <a:off x="1044720" y="4993920"/>
              <a:ext cx="18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333399"/>
                  </a:solidFill>
                  <a:latin typeface="Arial"/>
                </a:rPr>
                <a:t>PRODUCTIVITY OPEN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192040" y="4730760"/>
              <a:ext cx="120960" cy="158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649520" y="2249640"/>
            <a:ext cx="6022800" cy="29588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6699ff"/>
              </a:gs>
              <a:gs pos="100000">
                <a:srgbClr val="808080"/>
              </a:gs>
            </a:gsLst>
            <a:lin ang="5400000"/>
          </a:gradFill>
          <a:ln w="349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25520" y="3611520"/>
            <a:ext cx="1357560" cy="687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5f5f5f"/>
                </a:solidFill>
                <a:latin typeface="Arial"/>
              </a:rPr>
              <a:t>Software</a:t>
            </a:r>
            <a:br>
              <a:rPr sz="1300"/>
            </a:br>
            <a:r>
              <a:rPr b="1" lang="fr-BE" sz="1300" spc="-1" strike="noStrike">
                <a:solidFill>
                  <a:srgbClr val="5f5f5f"/>
                </a:solidFill>
                <a:latin typeface="Arial"/>
              </a:rPr>
              <a:t>and Service</a:t>
            </a:r>
            <a:br>
              <a:rPr sz="1300"/>
            </a:br>
            <a:r>
              <a:rPr b="1" lang="fr-BE" sz="1300" spc="-1" strike="noStrike">
                <a:solidFill>
                  <a:srgbClr val="5f5f5f"/>
                </a:solidFill>
                <a:latin typeface="Arial"/>
              </a:rPr>
              <a:t>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95920" y="3622680"/>
            <a:ext cx="1281240" cy="687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Mastering</a:t>
            </a:r>
            <a:br>
              <a:rPr sz="1300"/>
            </a:b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Complexity &amp;</a:t>
            </a:r>
            <a:br>
              <a:rPr sz="1300"/>
            </a:b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Depend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16280" y="3886200"/>
            <a:ext cx="1863720" cy="687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Virtualisation, Grids,</a:t>
            </a:r>
            <a:br>
              <a:rPr sz="1300"/>
            </a:b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Network-centric Operating Syste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8760" y="2881440"/>
            <a:ext cx="237672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5f5f5f"/>
                </a:solidFill>
                <a:latin typeface="Arial"/>
              </a:rPr>
              <a:t>Service Architectures</a:t>
            </a:r>
            <a:br>
              <a:rPr sz="1400"/>
            </a:br>
            <a:r>
              <a:rPr b="1" lang="fr-BE" sz="1400" spc="-1" strike="noStrike">
                <a:solidFill>
                  <a:srgbClr val="5f5f5f"/>
                </a:solidFill>
                <a:latin typeface="Arial"/>
              </a:rPr>
              <a:t>and Plat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08360" y="2408400"/>
            <a:ext cx="0" cy="47448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08360" y="3411360"/>
            <a:ext cx="0" cy="47484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19120" y="3411360"/>
            <a:ext cx="181080" cy="21276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54600" y="3411360"/>
            <a:ext cx="182520" cy="21276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55640" y="2198520"/>
            <a:ext cx="1800360" cy="582840"/>
            <a:chOff x="755640" y="2198520"/>
            <a:chExt cx="1800360" cy="582840"/>
          </a:xfrm>
        </p:grpSpPr>
        <p:sp>
          <p:nvSpPr>
            <p:cNvPr id="147" name=""/>
            <p:cNvSpPr/>
            <p:nvPr/>
          </p:nvSpPr>
          <p:spPr>
            <a:xfrm>
              <a:off x="755640" y="2198520"/>
              <a:ext cx="180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333399"/>
                  </a:solidFill>
                  <a:latin typeface="Arial"/>
                </a:rPr>
                <a:t>STANDARDISED ARCHITE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848600" y="2676240"/>
              <a:ext cx="192600" cy="1051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62880" y="2141640"/>
            <a:ext cx="1509120" cy="520200"/>
            <a:chOff x="6662880" y="2141640"/>
            <a:chExt cx="1509120" cy="520200"/>
          </a:xfrm>
        </p:grpSpPr>
        <p:sp>
          <p:nvSpPr>
            <p:cNvPr id="150" name=""/>
            <p:cNvSpPr/>
            <p:nvPr/>
          </p:nvSpPr>
          <p:spPr>
            <a:xfrm>
              <a:off x="6725520" y="2141640"/>
              <a:ext cx="144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333399"/>
                  </a:solidFill>
                  <a:latin typeface="Arial"/>
                </a:rPr>
                <a:t>DEPENDABL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662880" y="2405880"/>
              <a:ext cx="181080" cy="105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900520" y="5940360"/>
            <a:ext cx="3530160" cy="64260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oiting future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stering advanced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F827-6BB5-4650-9F65-AAF951EBB6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71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br>
              <a:rPr sz="1700"/>
            </a:br>
            <a:r>
              <a:rPr b="1" lang="fr-BE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R &amp; D Ev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877000"/>
            <a:ext cx="8317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4000" y="1773000"/>
            <a:ext cx="0" cy="4321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987640" y="1628640"/>
            <a:ext cx="6085080" cy="2946240"/>
            <a:chOff x="2987640" y="1628640"/>
            <a:chExt cx="6085080" cy="2946240"/>
          </a:xfrm>
        </p:grpSpPr>
        <p:sp>
          <p:nvSpPr>
            <p:cNvPr id="158" name=""/>
            <p:cNvSpPr txBox="1"/>
            <p:nvPr/>
          </p:nvSpPr>
          <p:spPr>
            <a:xfrm>
              <a:off x="3590280" y="3258360"/>
              <a:ext cx="1834560" cy="1092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Cloud"/>
            <p:cNvSpPr/>
            <p:nvPr/>
          </p:nvSpPr>
          <p:spPr>
            <a:xfrm>
              <a:off x="6084720" y="1628640"/>
              <a:ext cx="2988000" cy="19987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987640" y="4360680"/>
              <a:ext cx="432000" cy="214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724360" y="2901960"/>
              <a:ext cx="43200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09760"/>
              <a:ext cx="230472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Complex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Open-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Verdana"/>
                </a:rPr>
                <a:t>Gri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72360" y="1917720"/>
              <a:ext cx="230508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Service 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Complexity and dynamic com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Service infra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203640" y="5661000"/>
            <a:ext cx="0" cy="503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661000"/>
            <a:ext cx="0" cy="503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120" y="2502000"/>
            <a:ext cx="14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42000" y="595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F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39440" y="595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F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720" y="595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FP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95280" y="3932280"/>
            <a:ext cx="2736720" cy="1873080"/>
            <a:chOff x="395280" y="3932280"/>
            <a:chExt cx="2736720" cy="1873080"/>
          </a:xfrm>
        </p:grpSpPr>
        <p:sp>
          <p:nvSpPr>
            <p:cNvPr id="171" name="Cloud"/>
            <p:cNvSpPr/>
            <p:nvPr/>
          </p:nvSpPr>
          <p:spPr>
            <a:xfrm>
              <a:off x="395280" y="3932280"/>
              <a:ext cx="2736720" cy="18730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1280" y="4221000"/>
              <a:ext cx="23050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Component bas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SW 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Verdana"/>
                </a:rPr>
                <a:t>Archite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333399"/>
                  </a:solidFill>
                  <a:latin typeface="Verdana"/>
                </a:rPr>
                <a:t>PC-based resourc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9589-E64B-49D9-A23C-4D2F510DA2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arg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42920" y="1700280"/>
          <a:ext cx="7010280" cy="4529160"/>
        </p:xfrm>
        <a:graphic>
          <a:graphicData uri="http://schemas.openxmlformats.org/drawingml/2006/table">
            <a:tbl>
              <a:tblPr/>
              <a:tblGrid>
                <a:gridCol w="3506760"/>
                <a:gridCol w="350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-10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programme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 coding, decom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ty of devices and networks are apparent to the us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ed to use own resources to access networke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“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gence” emerging at the device level bu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 handles separate networks, a multiplicity of  devices, disparate servi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ynamic composition of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 level modeling, composition of modu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ty transparent to the u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imited capacity, virtualised resour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where, anytime, any de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imited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nfigurability, adaptability, Interoperability, Service composi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4DFA-5E5C-440E-BCE0-0F03AF41FE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155736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id and Service Oriented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able more efficient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ort dynamic provision of resources and virtual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e evolving towards general-purpose service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e key drivers for the evolution of the service and knowledg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2960" y="5410080"/>
            <a:ext cx="7331040" cy="1117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Grid, SOA and service infrastructures are a the heart of FP7 IST challenge 1 “Pervasive and Trusted Network and Service Infrastructur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4324-27AE-46EB-A6EB-8DFD6E2DB4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view of the ICT cooperation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3300"/>
                </a:solidFill>
                <a:latin typeface="Verdana"/>
              </a:rPr>
              <a:t>Research Infrastructures in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409C-8678-4C5F-8787-7383A9664D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2720" y="1628640"/>
            <a:ext cx="7056360" cy="4873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4280"/>
            <a:ext cx="7488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P7 – Specific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060640"/>
            <a:ext cx="4103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7 years d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3.2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085F-D8AB-4D5B-A490-7CA40F855F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69720" y="472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 in FP7 - Obj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189080" y="1628640"/>
            <a:ext cx="682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optimise the use and development of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st research infrastructures existing in Europ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and to help to create in all fields of science and technology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ew research infrastructures of pan-European intere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 to remain at the forefront of the advancement of research, and able to help industry to strengthen its base of knowledge and its technological know how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27800" y="4535640"/>
            <a:ext cx="27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arch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2% of Capa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715 M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720" y="4613400"/>
            <a:ext cx="1932120" cy="798480"/>
          </a:xfrm>
          <a:custGeom>
            <a:avLst/>
            <a:gdLst/>
            <a:ahLst/>
            <a:rect l="l" t="t" r="r" b="b"/>
            <a:pathLst>
              <a:path w="1114" h="288">
                <a:moveTo>
                  <a:pt x="0" y="23"/>
                </a:moveTo>
                <a:lnTo>
                  <a:pt x="24" y="23"/>
                </a:lnTo>
                <a:lnTo>
                  <a:pt x="47" y="17"/>
                </a:lnTo>
                <a:lnTo>
                  <a:pt x="65" y="17"/>
                </a:lnTo>
                <a:lnTo>
                  <a:pt x="94" y="11"/>
                </a:lnTo>
                <a:lnTo>
                  <a:pt x="118" y="11"/>
                </a:lnTo>
                <a:lnTo>
                  <a:pt x="142" y="6"/>
                </a:lnTo>
                <a:lnTo>
                  <a:pt x="165" y="6"/>
                </a:lnTo>
                <a:lnTo>
                  <a:pt x="177" y="6"/>
                </a:lnTo>
                <a:lnTo>
                  <a:pt x="200" y="6"/>
                </a:lnTo>
                <a:lnTo>
                  <a:pt x="230" y="0"/>
                </a:lnTo>
                <a:lnTo>
                  <a:pt x="253" y="0"/>
                </a:lnTo>
                <a:lnTo>
                  <a:pt x="277" y="0"/>
                </a:lnTo>
                <a:lnTo>
                  <a:pt x="307" y="0"/>
                </a:lnTo>
                <a:lnTo>
                  <a:pt x="330" y="0"/>
                </a:lnTo>
                <a:lnTo>
                  <a:pt x="360" y="0"/>
                </a:lnTo>
                <a:lnTo>
                  <a:pt x="383" y="0"/>
                </a:lnTo>
                <a:lnTo>
                  <a:pt x="407" y="0"/>
                </a:lnTo>
                <a:lnTo>
                  <a:pt x="436" y="0"/>
                </a:lnTo>
                <a:lnTo>
                  <a:pt x="460" y="0"/>
                </a:lnTo>
                <a:lnTo>
                  <a:pt x="483" y="0"/>
                </a:lnTo>
                <a:lnTo>
                  <a:pt x="513" y="0"/>
                </a:lnTo>
                <a:lnTo>
                  <a:pt x="536" y="6"/>
                </a:lnTo>
                <a:lnTo>
                  <a:pt x="560" y="6"/>
                </a:lnTo>
                <a:lnTo>
                  <a:pt x="572" y="6"/>
                </a:lnTo>
                <a:lnTo>
                  <a:pt x="601" y="6"/>
                </a:lnTo>
                <a:lnTo>
                  <a:pt x="625" y="11"/>
                </a:lnTo>
                <a:lnTo>
                  <a:pt x="648" y="11"/>
                </a:lnTo>
                <a:lnTo>
                  <a:pt x="672" y="17"/>
                </a:lnTo>
                <a:lnTo>
                  <a:pt x="695" y="17"/>
                </a:lnTo>
                <a:lnTo>
                  <a:pt x="719" y="23"/>
                </a:lnTo>
                <a:lnTo>
                  <a:pt x="742" y="23"/>
                </a:lnTo>
                <a:lnTo>
                  <a:pt x="766" y="29"/>
                </a:lnTo>
                <a:lnTo>
                  <a:pt x="784" y="29"/>
                </a:lnTo>
                <a:lnTo>
                  <a:pt x="807" y="35"/>
                </a:lnTo>
                <a:lnTo>
                  <a:pt x="825" y="41"/>
                </a:lnTo>
                <a:lnTo>
                  <a:pt x="849" y="41"/>
                </a:lnTo>
                <a:lnTo>
                  <a:pt x="866" y="47"/>
                </a:lnTo>
                <a:lnTo>
                  <a:pt x="884" y="53"/>
                </a:lnTo>
                <a:lnTo>
                  <a:pt x="902" y="59"/>
                </a:lnTo>
                <a:lnTo>
                  <a:pt x="913" y="59"/>
                </a:lnTo>
                <a:lnTo>
                  <a:pt x="931" y="64"/>
                </a:lnTo>
                <a:lnTo>
                  <a:pt x="949" y="70"/>
                </a:lnTo>
                <a:lnTo>
                  <a:pt x="960" y="76"/>
                </a:lnTo>
                <a:lnTo>
                  <a:pt x="978" y="82"/>
                </a:lnTo>
                <a:lnTo>
                  <a:pt x="990" y="88"/>
                </a:lnTo>
                <a:lnTo>
                  <a:pt x="1008" y="94"/>
                </a:lnTo>
                <a:lnTo>
                  <a:pt x="1019" y="94"/>
                </a:lnTo>
                <a:lnTo>
                  <a:pt x="1031" y="100"/>
                </a:lnTo>
                <a:lnTo>
                  <a:pt x="1043" y="112"/>
                </a:lnTo>
                <a:lnTo>
                  <a:pt x="1055" y="117"/>
                </a:lnTo>
                <a:lnTo>
                  <a:pt x="1061" y="123"/>
                </a:lnTo>
                <a:lnTo>
                  <a:pt x="1072" y="129"/>
                </a:lnTo>
                <a:lnTo>
                  <a:pt x="1078" y="135"/>
                </a:lnTo>
                <a:lnTo>
                  <a:pt x="1084" y="141"/>
                </a:lnTo>
                <a:lnTo>
                  <a:pt x="1090" y="141"/>
                </a:lnTo>
                <a:lnTo>
                  <a:pt x="1096" y="147"/>
                </a:lnTo>
                <a:lnTo>
                  <a:pt x="1102" y="159"/>
                </a:lnTo>
                <a:lnTo>
                  <a:pt x="1108" y="165"/>
                </a:lnTo>
                <a:lnTo>
                  <a:pt x="1108" y="170"/>
                </a:lnTo>
                <a:lnTo>
                  <a:pt x="1108" y="176"/>
                </a:lnTo>
                <a:lnTo>
                  <a:pt x="1114" y="182"/>
                </a:lnTo>
                <a:lnTo>
                  <a:pt x="1114" y="188"/>
                </a:lnTo>
                <a:lnTo>
                  <a:pt x="1114" y="194"/>
                </a:lnTo>
                <a:lnTo>
                  <a:pt x="1108" y="206"/>
                </a:lnTo>
                <a:lnTo>
                  <a:pt x="1108" y="212"/>
                </a:lnTo>
                <a:lnTo>
                  <a:pt x="1108" y="218"/>
                </a:lnTo>
                <a:lnTo>
                  <a:pt x="1102" y="223"/>
                </a:lnTo>
                <a:lnTo>
                  <a:pt x="1096" y="229"/>
                </a:lnTo>
                <a:lnTo>
                  <a:pt x="1090" y="235"/>
                </a:lnTo>
                <a:lnTo>
                  <a:pt x="1084" y="241"/>
                </a:lnTo>
                <a:lnTo>
                  <a:pt x="1078" y="247"/>
                </a:lnTo>
                <a:lnTo>
                  <a:pt x="1072" y="253"/>
                </a:lnTo>
                <a:lnTo>
                  <a:pt x="1061" y="259"/>
                </a:lnTo>
                <a:lnTo>
                  <a:pt x="1055" y="265"/>
                </a:lnTo>
                <a:lnTo>
                  <a:pt x="1043" y="271"/>
                </a:lnTo>
                <a:lnTo>
                  <a:pt x="1031" y="276"/>
                </a:lnTo>
                <a:lnTo>
                  <a:pt x="1019" y="282"/>
                </a:lnTo>
                <a:lnTo>
                  <a:pt x="1008" y="288"/>
                </a:lnTo>
                <a:lnTo>
                  <a:pt x="371" y="188"/>
                </a:lnTo>
                <a:lnTo>
                  <a:pt x="0" y="23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95520" y="4702320"/>
            <a:ext cx="736560" cy="453960"/>
          </a:xfrm>
          <a:custGeom>
            <a:avLst/>
            <a:gdLst/>
            <a:ahLst/>
            <a:rect l="l" t="t" r="r" b="b"/>
            <a:pathLst>
              <a:path w="448" h="164">
                <a:moveTo>
                  <a:pt x="0" y="11"/>
                </a:moveTo>
                <a:lnTo>
                  <a:pt x="12" y="11"/>
                </a:lnTo>
                <a:lnTo>
                  <a:pt x="18" y="11"/>
                </a:lnTo>
                <a:lnTo>
                  <a:pt x="41" y="5"/>
                </a:lnTo>
                <a:lnTo>
                  <a:pt x="53" y="5"/>
                </a:lnTo>
                <a:lnTo>
                  <a:pt x="65" y="0"/>
                </a:lnTo>
                <a:lnTo>
                  <a:pt x="76" y="0"/>
                </a:lnTo>
                <a:lnTo>
                  <a:pt x="448" y="164"/>
                </a:lnTo>
                <a:lnTo>
                  <a:pt x="0" y="11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08160" y="4759200"/>
            <a:ext cx="978120" cy="424080"/>
          </a:xfrm>
          <a:custGeom>
            <a:avLst/>
            <a:gdLst/>
            <a:ahLst/>
            <a:rect l="l" t="t" r="r" b="b"/>
            <a:pathLst>
              <a:path w="595" h="153">
                <a:moveTo>
                  <a:pt x="0" y="42"/>
                </a:moveTo>
                <a:lnTo>
                  <a:pt x="17" y="36"/>
                </a:lnTo>
                <a:lnTo>
                  <a:pt x="35" y="30"/>
                </a:lnTo>
                <a:lnTo>
                  <a:pt x="41" y="30"/>
                </a:lnTo>
                <a:lnTo>
                  <a:pt x="59" y="24"/>
                </a:lnTo>
                <a:lnTo>
                  <a:pt x="76" y="18"/>
                </a:lnTo>
                <a:lnTo>
                  <a:pt x="94" y="12"/>
                </a:lnTo>
                <a:lnTo>
                  <a:pt x="106" y="12"/>
                </a:lnTo>
                <a:lnTo>
                  <a:pt x="123" y="6"/>
                </a:lnTo>
                <a:lnTo>
                  <a:pt x="147" y="0"/>
                </a:lnTo>
                <a:lnTo>
                  <a:pt x="595" y="153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90640" y="4938840"/>
            <a:ext cx="1211400" cy="307800"/>
          </a:xfrm>
          <a:custGeom>
            <a:avLst/>
            <a:gdLst/>
            <a:ahLst/>
            <a:rect l="l" t="t" r="r" b="b"/>
            <a:pathLst>
              <a:path w="737" h="111">
                <a:moveTo>
                  <a:pt x="0" y="88"/>
                </a:moveTo>
                <a:lnTo>
                  <a:pt x="6" y="82"/>
                </a:lnTo>
                <a:lnTo>
                  <a:pt x="12" y="70"/>
                </a:lnTo>
                <a:lnTo>
                  <a:pt x="12" y="64"/>
                </a:lnTo>
                <a:lnTo>
                  <a:pt x="24" y="58"/>
                </a:lnTo>
                <a:lnTo>
                  <a:pt x="30" y="53"/>
                </a:lnTo>
                <a:lnTo>
                  <a:pt x="36" y="47"/>
                </a:lnTo>
                <a:lnTo>
                  <a:pt x="47" y="41"/>
                </a:lnTo>
                <a:lnTo>
                  <a:pt x="53" y="41"/>
                </a:lnTo>
                <a:lnTo>
                  <a:pt x="65" y="35"/>
                </a:lnTo>
                <a:lnTo>
                  <a:pt x="71" y="23"/>
                </a:lnTo>
                <a:lnTo>
                  <a:pt x="89" y="17"/>
                </a:lnTo>
                <a:lnTo>
                  <a:pt x="100" y="17"/>
                </a:lnTo>
                <a:lnTo>
                  <a:pt x="112" y="11"/>
                </a:lnTo>
                <a:lnTo>
                  <a:pt x="130" y="5"/>
                </a:lnTo>
                <a:lnTo>
                  <a:pt x="142" y="0"/>
                </a:lnTo>
                <a:lnTo>
                  <a:pt x="737" y="111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73560" y="5291280"/>
            <a:ext cx="1046160" cy="358560"/>
          </a:xfrm>
          <a:custGeom>
            <a:avLst/>
            <a:gdLst/>
            <a:ahLst/>
            <a:rect l="l" t="t" r="r" b="b"/>
            <a:pathLst>
              <a:path w="636" h="130">
                <a:moveTo>
                  <a:pt x="636" y="101"/>
                </a:moveTo>
                <a:lnTo>
                  <a:pt x="618" y="106"/>
                </a:lnTo>
                <a:lnTo>
                  <a:pt x="606" y="112"/>
                </a:lnTo>
                <a:lnTo>
                  <a:pt x="589" y="118"/>
                </a:lnTo>
                <a:lnTo>
                  <a:pt x="583" y="118"/>
                </a:lnTo>
                <a:lnTo>
                  <a:pt x="565" y="124"/>
                </a:lnTo>
                <a:lnTo>
                  <a:pt x="547" y="130"/>
                </a:lnTo>
                <a:lnTo>
                  <a:pt x="0" y="0"/>
                </a:lnTo>
                <a:lnTo>
                  <a:pt x="636" y="101"/>
                </a:lnTo>
                <a:close/>
              </a:path>
            </a:pathLst>
          </a:custGeom>
          <a:gradFill rotWithShape="0">
            <a:gsLst>
              <a:gs pos="0">
                <a:srgbClr val="6600ff"/>
              </a:gs>
              <a:gs pos="100000">
                <a:srgbClr val="66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16240" y="5364000"/>
            <a:ext cx="898560" cy="506520"/>
          </a:xfrm>
          <a:custGeom>
            <a:avLst/>
            <a:gdLst/>
            <a:ahLst/>
            <a:rect l="l" t="t" r="r" b="b"/>
            <a:pathLst>
              <a:path w="547" h="183">
                <a:moveTo>
                  <a:pt x="547" y="130"/>
                </a:moveTo>
                <a:lnTo>
                  <a:pt x="530" y="136"/>
                </a:lnTo>
                <a:lnTo>
                  <a:pt x="512" y="142"/>
                </a:lnTo>
                <a:lnTo>
                  <a:pt x="494" y="142"/>
                </a:lnTo>
                <a:lnTo>
                  <a:pt x="477" y="148"/>
                </a:lnTo>
                <a:lnTo>
                  <a:pt x="453" y="154"/>
                </a:lnTo>
                <a:lnTo>
                  <a:pt x="436" y="160"/>
                </a:lnTo>
                <a:lnTo>
                  <a:pt x="412" y="160"/>
                </a:lnTo>
                <a:lnTo>
                  <a:pt x="400" y="165"/>
                </a:lnTo>
                <a:lnTo>
                  <a:pt x="383" y="165"/>
                </a:lnTo>
                <a:lnTo>
                  <a:pt x="359" y="171"/>
                </a:lnTo>
                <a:lnTo>
                  <a:pt x="335" y="171"/>
                </a:lnTo>
                <a:lnTo>
                  <a:pt x="312" y="177"/>
                </a:lnTo>
                <a:lnTo>
                  <a:pt x="288" y="177"/>
                </a:lnTo>
                <a:lnTo>
                  <a:pt x="265" y="183"/>
                </a:lnTo>
                <a:lnTo>
                  <a:pt x="241" y="183"/>
                </a:lnTo>
                <a:lnTo>
                  <a:pt x="0" y="0"/>
                </a:lnTo>
                <a:lnTo>
                  <a:pt x="547" y="130"/>
                </a:lnTo>
                <a:close/>
              </a:path>
            </a:pathLst>
          </a:custGeom>
          <a:gradFill rotWithShape="0">
            <a:gsLst>
              <a:gs pos="0">
                <a:srgbClr val="ff4f4f"/>
              </a:gs>
              <a:gs pos="100000">
                <a:srgbClr val="ff4f4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90640" y="5321160"/>
            <a:ext cx="1600200" cy="582840"/>
          </a:xfrm>
          <a:custGeom>
            <a:avLst/>
            <a:gdLst/>
            <a:ahLst/>
            <a:rect l="l" t="t" r="r" b="b"/>
            <a:pathLst>
              <a:path w="1008" h="367">
                <a:moveTo>
                  <a:pt x="756" y="28"/>
                </a:moveTo>
                <a:lnTo>
                  <a:pt x="1008" y="352"/>
                </a:lnTo>
                <a:cubicBezTo>
                  <a:pt x="896" y="364"/>
                  <a:pt x="504" y="367"/>
                  <a:pt x="336" y="308"/>
                </a:cubicBezTo>
                <a:cubicBezTo>
                  <a:pt x="168" y="249"/>
                  <a:pt x="4" y="148"/>
                  <a:pt x="0" y="0"/>
                </a:cubicBezTo>
                <a:cubicBezTo>
                  <a:pt x="378" y="14"/>
                  <a:pt x="756" y="28"/>
                  <a:pt x="756" y="28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E740-2C29-4188-BF4E-607E0C3EAD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7640" y="1628640"/>
            <a:ext cx="7307280" cy="424836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marL="360360" indent="-36036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50640" y="259560"/>
            <a:ext cx="699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P7 - e-Infrastructures strate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1560" y="4748040"/>
            <a:ext cx="6618240" cy="600120"/>
            <a:chOff x="1141560" y="4748040"/>
            <a:chExt cx="6618240" cy="600120"/>
          </a:xfrm>
        </p:grpSpPr>
        <p:sp>
          <p:nvSpPr>
            <p:cNvPr id="198" name=""/>
            <p:cNvSpPr/>
            <p:nvPr/>
          </p:nvSpPr>
          <p:spPr>
            <a:xfrm>
              <a:off x="5697720" y="4832280"/>
              <a:ext cx="576360" cy="51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0760" y="4832280"/>
              <a:ext cx="576000" cy="515880"/>
            </a:xfrm>
            <a:prstGeom prst="rect">
              <a:avLst/>
            </a:prstGeom>
            <a:solidFill>
              <a:srgbClr val="78eeb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83440" y="4832280"/>
              <a:ext cx="576360" cy="515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58040" y="4748040"/>
              <a:ext cx="1257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333399"/>
                  </a:solidFill>
                  <a:latin typeface="Arial Narrow"/>
                </a:rPr>
                <a:t>. . . . . . 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4800" y="4830480"/>
              <a:ext cx="576360" cy="516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3840" y="4830480"/>
              <a:ext cx="576000" cy="516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22520" y="4830480"/>
              <a:ext cx="576360" cy="516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11560" y="4830480"/>
              <a:ext cx="576360" cy="516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00600" y="4830480"/>
              <a:ext cx="576360" cy="516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1832040" y="4832280"/>
              <a:ext cx="5763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2522520" y="4832280"/>
              <a:ext cx="5763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"/>
            <a:srcRect l="0" t="0" r="0" b="11598"/>
            <a:stretch/>
          </p:blipFill>
          <p:spPr>
            <a:xfrm>
              <a:off x="5693040" y="4832280"/>
              <a:ext cx="5760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5"/>
            <a:srcRect l="10204" t="8017" r="30247" b="12407"/>
            <a:stretch/>
          </p:blipFill>
          <p:spPr>
            <a:xfrm>
              <a:off x="3897360" y="4832280"/>
              <a:ext cx="5763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6"/>
            <a:stretch/>
          </p:blipFill>
          <p:spPr>
            <a:xfrm>
              <a:off x="7183440" y="4832280"/>
              <a:ext cx="5763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zeiss.jpg">
              <a:hlinkClick r:id="rId7"/>
            </p:cNvPr>
            <p:cNvPicPr/>
            <p:nvPr/>
          </p:nvPicPr>
          <p:blipFill>
            <a:blip r:embed="rId8"/>
            <a:srcRect l="27969" t="7402" r="25891" b="24567"/>
            <a:stretch/>
          </p:blipFill>
          <p:spPr>
            <a:xfrm>
              <a:off x="3206880" y="4830480"/>
              <a:ext cx="582480" cy="5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437520" y="4832280"/>
              <a:ext cx="5745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1"/>
            <a:srcRect l="0" t="0" r="26658" b="0"/>
            <a:stretch/>
          </p:blipFill>
          <p:spPr>
            <a:xfrm>
              <a:off x="1141560" y="4835520"/>
              <a:ext cx="57636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1138320" y="4210200"/>
            <a:ext cx="6610320" cy="269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ommunication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38320" y="3767040"/>
            <a:ext cx="6610320" cy="270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haring Scientific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38320" y="3305160"/>
            <a:ext cx="6610320" cy="2682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cientific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180200" y="4832280"/>
            <a:ext cx="579240" cy="517680"/>
            <a:chOff x="7180200" y="4832280"/>
            <a:chExt cx="579240" cy="517680"/>
          </a:xfrm>
        </p:grpSpPr>
        <p:sp>
          <p:nvSpPr>
            <p:cNvPr id="219" name=""/>
            <p:cNvSpPr/>
            <p:nvPr/>
          </p:nvSpPr>
          <p:spPr>
            <a:xfrm>
              <a:off x="7183080" y="4832280"/>
              <a:ext cx="576360" cy="515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7180200" y="4835520"/>
              <a:ext cx="57924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1087560" y="2208240"/>
            <a:ext cx="2703240" cy="3165480"/>
            <a:chOff x="1087560" y="2208240"/>
            <a:chExt cx="2703240" cy="3165480"/>
          </a:xfrm>
        </p:grpSpPr>
        <p:sp>
          <p:nvSpPr>
            <p:cNvPr id="222" name=""/>
            <p:cNvSpPr/>
            <p:nvPr/>
          </p:nvSpPr>
          <p:spPr>
            <a:xfrm>
              <a:off x="1087560" y="2208240"/>
              <a:ext cx="2703240" cy="3165480"/>
            </a:xfrm>
            <a:custGeom>
              <a:avLst/>
              <a:gdLst/>
              <a:ahLst/>
              <a:rect l="l" t="t" r="r" b="b"/>
              <a:pathLst>
                <a:path w="1703" h="1994">
                  <a:moveTo>
                    <a:pt x="31" y="1992"/>
                  </a:moveTo>
                  <a:cubicBezTo>
                    <a:pt x="25" y="1173"/>
                    <a:pt x="88" y="0"/>
                    <a:pt x="876" y="0"/>
                  </a:cubicBezTo>
                  <a:cubicBezTo>
                    <a:pt x="1664" y="0"/>
                    <a:pt x="1703" y="1169"/>
                    <a:pt x="1703" y="1994"/>
                  </a:cubicBezTo>
                  <a:cubicBezTo>
                    <a:pt x="1337" y="1994"/>
                    <a:pt x="1673" y="1992"/>
                    <a:pt x="1334" y="1992"/>
                  </a:cubicBezTo>
                  <a:cubicBezTo>
                    <a:pt x="1331" y="1287"/>
                    <a:pt x="1284" y="708"/>
                    <a:pt x="875" y="708"/>
                  </a:cubicBezTo>
                  <a:cubicBezTo>
                    <a:pt x="466" y="708"/>
                    <a:pt x="400" y="1281"/>
                    <a:pt x="403" y="1992"/>
                  </a:cubicBezTo>
                  <a:cubicBezTo>
                    <a:pt x="0" y="1992"/>
                    <a:pt x="427" y="1992"/>
                    <a:pt x="31" y="199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56680" y="2301840"/>
              <a:ext cx="923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0c0c0"/>
                  </a:solidFill>
                  <a:latin typeface="Arial"/>
                </a:rPr>
                <a:t>Weather</a:t>
              </a:r>
              <a:br>
                <a:rPr sz="1400"/>
              </a:br>
              <a:r>
                <a:rPr b="1" lang="en-GB" sz="1400" spc="-1" strike="noStrike">
                  <a:solidFill>
                    <a:srgbClr val="c0c0c0"/>
                  </a:solidFill>
                  <a:latin typeface="Arial"/>
                </a:rPr>
                <a:t>Forec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c0c0"/>
                  </a:solidFill>
                  <a:latin typeface="Arial"/>
                </a:rPr>
                <a:t>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184480" y="2212920"/>
            <a:ext cx="4263840" cy="3157560"/>
            <a:chOff x="2184480" y="2212920"/>
            <a:chExt cx="4263840" cy="3157560"/>
          </a:xfrm>
        </p:grpSpPr>
        <p:sp>
          <p:nvSpPr>
            <p:cNvPr id="225" name=""/>
            <p:cNvSpPr/>
            <p:nvPr/>
          </p:nvSpPr>
          <p:spPr>
            <a:xfrm>
              <a:off x="2184480" y="2212920"/>
              <a:ext cx="4263840" cy="3157560"/>
            </a:xfrm>
            <a:custGeom>
              <a:avLst/>
              <a:gdLst/>
              <a:ahLst/>
              <a:rect l="l" t="t" r="r" b="b"/>
              <a:pathLst>
                <a:path w="2686" h="1989">
                  <a:moveTo>
                    <a:pt x="209" y="1989"/>
                  </a:moveTo>
                  <a:cubicBezTo>
                    <a:pt x="200" y="1170"/>
                    <a:pt x="288" y="0"/>
                    <a:pt x="1405" y="0"/>
                  </a:cubicBezTo>
                  <a:cubicBezTo>
                    <a:pt x="2521" y="0"/>
                    <a:pt x="2596" y="1164"/>
                    <a:pt x="2596" y="1989"/>
                  </a:cubicBezTo>
                  <a:cubicBezTo>
                    <a:pt x="2077" y="1989"/>
                    <a:pt x="2686" y="1989"/>
                    <a:pt x="2206" y="1989"/>
                  </a:cubicBezTo>
                  <a:cubicBezTo>
                    <a:pt x="2201" y="1284"/>
                    <a:pt x="1984" y="708"/>
                    <a:pt x="1405" y="708"/>
                  </a:cubicBezTo>
                  <a:cubicBezTo>
                    <a:pt x="825" y="708"/>
                    <a:pt x="567" y="1278"/>
                    <a:pt x="571" y="1989"/>
                  </a:cubicBezTo>
                  <a:cubicBezTo>
                    <a:pt x="0" y="1989"/>
                    <a:pt x="770" y="1989"/>
                    <a:pt x="209" y="198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58760" y="2305080"/>
              <a:ext cx="108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0c0c0"/>
                  </a:solidFill>
                  <a:latin typeface="Arial"/>
                </a:rPr>
                <a:t>Biomed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c0c0"/>
                  </a:solidFill>
                  <a:latin typeface="Arial"/>
                </a:rPr>
                <a:t>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49600" y="2208240"/>
            <a:ext cx="4402080" cy="3162240"/>
            <a:chOff x="3549600" y="2208240"/>
            <a:chExt cx="4402080" cy="3162240"/>
          </a:xfrm>
        </p:grpSpPr>
        <p:sp>
          <p:nvSpPr>
            <p:cNvPr id="228" name=""/>
            <p:cNvSpPr/>
            <p:nvPr/>
          </p:nvSpPr>
          <p:spPr>
            <a:xfrm>
              <a:off x="3549600" y="2208240"/>
              <a:ext cx="4402080" cy="3162240"/>
            </a:xfrm>
            <a:custGeom>
              <a:avLst/>
              <a:gdLst/>
              <a:ahLst/>
              <a:rect l="l" t="t" r="r" b="b"/>
              <a:pathLst>
                <a:path w="2773" h="1992">
                  <a:moveTo>
                    <a:pt x="214" y="1992"/>
                  </a:moveTo>
                  <a:cubicBezTo>
                    <a:pt x="205" y="1173"/>
                    <a:pt x="298" y="0"/>
                    <a:pt x="1447" y="0"/>
                  </a:cubicBezTo>
                  <a:cubicBezTo>
                    <a:pt x="2595" y="0"/>
                    <a:pt x="2662" y="1167"/>
                    <a:pt x="2662" y="1992"/>
                  </a:cubicBezTo>
                  <a:cubicBezTo>
                    <a:pt x="2129" y="1992"/>
                    <a:pt x="2773" y="1992"/>
                    <a:pt x="2279" y="1992"/>
                  </a:cubicBezTo>
                  <a:cubicBezTo>
                    <a:pt x="2274" y="1287"/>
                    <a:pt x="2043" y="708"/>
                    <a:pt x="1447" y="708"/>
                  </a:cubicBezTo>
                  <a:cubicBezTo>
                    <a:pt x="851" y="708"/>
                    <a:pt x="583" y="1281"/>
                    <a:pt x="587" y="1992"/>
                  </a:cubicBezTo>
                  <a:cubicBezTo>
                    <a:pt x="0" y="1992"/>
                    <a:pt x="791" y="1992"/>
                    <a:pt x="214" y="199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02520" y="2300400"/>
              <a:ext cx="130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0c0c0"/>
                  </a:solidFill>
                  <a:latin typeface="Arial"/>
                </a:rPr>
                <a:t>Astrophys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c0c0"/>
                  </a:solidFill>
                  <a:latin typeface="Arial"/>
                </a:rPr>
                <a:t>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94040" y="5938920"/>
            <a:ext cx="4946400" cy="812880"/>
          </a:xfrm>
          <a:prstGeom prst="roundRect">
            <a:avLst>
              <a:gd name="adj" fmla="val 5801"/>
            </a:avLst>
          </a:prstGeom>
          <a:gradFill rotWithShape="0">
            <a:gsLst>
              <a:gs pos="0">
                <a:srgbClr val="ffab57"/>
              </a:gs>
              <a:gs pos="100000">
                <a:srgbClr val="fce1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ringing the best brains together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haring the best scientific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for producing the best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CD11-A6C9-4D32-B6C2-0623EDCE45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17640" y="1413000"/>
            <a:ext cx="7307280" cy="4680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marL="360360" indent="-36036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5280" y="259560"/>
            <a:ext cx="699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ÉANT – Call2, 95M€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rcRect l="0" t="8625" r="651" b="460"/>
          <a:stretch/>
        </p:blipFill>
        <p:spPr>
          <a:xfrm>
            <a:off x="3648240" y="1582560"/>
            <a:ext cx="4470120" cy="4353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1252440" y="4579920"/>
            <a:ext cx="2184480" cy="1265400"/>
            <a:chOff x="1252440" y="4579920"/>
            <a:chExt cx="2184480" cy="1265400"/>
          </a:xfrm>
        </p:grpSpPr>
        <p:sp>
          <p:nvSpPr>
            <p:cNvPr id="236" name=""/>
            <p:cNvSpPr/>
            <p:nvPr/>
          </p:nvSpPr>
          <p:spPr>
            <a:xfrm>
              <a:off x="1252440" y="4579920"/>
              <a:ext cx="2184480" cy="1265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9040" y="4659480"/>
              <a:ext cx="12600" cy="46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9560" y="4668840"/>
              <a:ext cx="6480" cy="3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9" y="1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89280" y="4673880"/>
              <a:ext cx="4680" cy="2196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4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92520" y="5135760"/>
              <a:ext cx="7920" cy="9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5" y="0"/>
                  </a:moveTo>
                  <a:lnTo>
                    <a:pt x="0" y="28"/>
                  </a:lnTo>
                  <a:lnTo>
                    <a:pt x="29" y="1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98640" y="5141880"/>
              <a:ext cx="6480" cy="32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3" y="0"/>
                  </a:moveTo>
                  <a:lnTo>
                    <a:pt x="0" y="9"/>
                  </a:lnTo>
                  <a:lnTo>
                    <a:pt x="17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22320" y="4770720"/>
              <a:ext cx="19080" cy="1872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8" y="61"/>
                  </a:moveTo>
                  <a:lnTo>
                    <a:pt x="59" y="49"/>
                  </a:lnTo>
                  <a:lnTo>
                    <a:pt x="53" y="21"/>
                  </a:lnTo>
                  <a:lnTo>
                    <a:pt x="30" y="1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" y="36"/>
                  </a:lnTo>
                  <a:lnTo>
                    <a:pt x="27" y="61"/>
                  </a:lnTo>
                  <a:lnTo>
                    <a:pt x="48" y="61"/>
                  </a:lnTo>
                  <a:lnTo>
                    <a:pt x="48" y="61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84520" y="4819680"/>
              <a:ext cx="29880" cy="3348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95" y="8"/>
                  </a:moveTo>
                  <a:lnTo>
                    <a:pt x="65" y="0"/>
                  </a:lnTo>
                  <a:lnTo>
                    <a:pt x="32" y="8"/>
                  </a:lnTo>
                  <a:lnTo>
                    <a:pt x="21" y="25"/>
                  </a:lnTo>
                  <a:lnTo>
                    <a:pt x="40" y="25"/>
                  </a:lnTo>
                  <a:lnTo>
                    <a:pt x="32" y="38"/>
                  </a:lnTo>
                  <a:lnTo>
                    <a:pt x="0" y="42"/>
                  </a:lnTo>
                  <a:lnTo>
                    <a:pt x="13" y="67"/>
                  </a:lnTo>
                  <a:lnTo>
                    <a:pt x="29" y="65"/>
                  </a:lnTo>
                  <a:lnTo>
                    <a:pt x="32" y="78"/>
                  </a:lnTo>
                  <a:lnTo>
                    <a:pt x="51" y="103"/>
                  </a:lnTo>
                  <a:lnTo>
                    <a:pt x="93" y="74"/>
                  </a:lnTo>
                  <a:lnTo>
                    <a:pt x="78" y="59"/>
                  </a:lnTo>
                  <a:lnTo>
                    <a:pt x="93" y="51"/>
                  </a:lnTo>
                  <a:lnTo>
                    <a:pt x="82" y="32"/>
                  </a:lnTo>
                  <a:lnTo>
                    <a:pt x="95" y="21"/>
                  </a:lnTo>
                  <a:lnTo>
                    <a:pt x="95" y="8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95600" y="4745160"/>
              <a:ext cx="95040" cy="3492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124" y="17"/>
                  </a:moveTo>
                  <a:lnTo>
                    <a:pt x="78" y="17"/>
                  </a:lnTo>
                  <a:lnTo>
                    <a:pt x="63" y="17"/>
                  </a:lnTo>
                  <a:lnTo>
                    <a:pt x="15" y="32"/>
                  </a:lnTo>
                  <a:lnTo>
                    <a:pt x="0" y="63"/>
                  </a:lnTo>
                  <a:lnTo>
                    <a:pt x="48" y="63"/>
                  </a:lnTo>
                  <a:lnTo>
                    <a:pt x="78" y="47"/>
                  </a:lnTo>
                  <a:lnTo>
                    <a:pt x="63" y="80"/>
                  </a:lnTo>
                  <a:lnTo>
                    <a:pt x="108" y="80"/>
                  </a:lnTo>
                  <a:lnTo>
                    <a:pt x="108" y="108"/>
                  </a:lnTo>
                  <a:lnTo>
                    <a:pt x="124" y="108"/>
                  </a:lnTo>
                  <a:lnTo>
                    <a:pt x="186" y="95"/>
                  </a:lnTo>
                  <a:lnTo>
                    <a:pt x="262" y="80"/>
                  </a:lnTo>
                  <a:lnTo>
                    <a:pt x="249" y="63"/>
                  </a:lnTo>
                  <a:lnTo>
                    <a:pt x="219" y="63"/>
                  </a:lnTo>
                  <a:lnTo>
                    <a:pt x="234" y="32"/>
                  </a:lnTo>
                  <a:lnTo>
                    <a:pt x="202" y="32"/>
                  </a:lnTo>
                  <a:lnTo>
                    <a:pt x="202" y="0"/>
                  </a:lnTo>
                  <a:lnTo>
                    <a:pt x="186" y="0"/>
                  </a:lnTo>
                  <a:lnTo>
                    <a:pt x="156" y="47"/>
                  </a:lnTo>
                  <a:lnTo>
                    <a:pt x="124" y="17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4800" y="4738680"/>
              <a:ext cx="30240" cy="14400"/>
            </a:xfrm>
            <a:custGeom>
              <a:avLst/>
              <a:gdLst/>
              <a:ahLst/>
              <a:rect l="l" t="t" r="r" b="b"/>
              <a:pathLst>
                <a:path w="80" h="46">
                  <a:moveTo>
                    <a:pt x="65" y="0"/>
                  </a:moveTo>
                  <a:lnTo>
                    <a:pt x="17" y="0"/>
                  </a:lnTo>
                  <a:lnTo>
                    <a:pt x="0" y="17"/>
                  </a:lnTo>
                  <a:lnTo>
                    <a:pt x="50" y="17"/>
                  </a:lnTo>
                  <a:lnTo>
                    <a:pt x="0" y="33"/>
                  </a:lnTo>
                  <a:lnTo>
                    <a:pt x="65" y="46"/>
                  </a:lnTo>
                  <a:lnTo>
                    <a:pt x="80" y="17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03240" y="4735800"/>
              <a:ext cx="30240" cy="18720"/>
            </a:xfrm>
            <a:custGeom>
              <a:avLst/>
              <a:gdLst/>
              <a:ahLst/>
              <a:rect l="l" t="t" r="r" b="b"/>
              <a:pathLst>
                <a:path w="86" h="61">
                  <a:moveTo>
                    <a:pt x="86" y="57"/>
                  </a:moveTo>
                  <a:lnTo>
                    <a:pt x="86" y="40"/>
                  </a:lnTo>
                  <a:lnTo>
                    <a:pt x="61" y="28"/>
                  </a:lnTo>
                  <a:lnTo>
                    <a:pt x="30" y="0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7" y="32"/>
                  </a:lnTo>
                  <a:lnTo>
                    <a:pt x="4" y="40"/>
                  </a:lnTo>
                  <a:lnTo>
                    <a:pt x="4" y="61"/>
                  </a:lnTo>
                  <a:lnTo>
                    <a:pt x="51" y="45"/>
                  </a:lnTo>
                  <a:lnTo>
                    <a:pt x="68" y="47"/>
                  </a:lnTo>
                  <a:lnTo>
                    <a:pt x="68" y="57"/>
                  </a:lnTo>
                  <a:lnTo>
                    <a:pt x="86" y="57"/>
                  </a:lnTo>
                  <a:lnTo>
                    <a:pt x="86" y="57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63560" y="4778640"/>
              <a:ext cx="120960" cy="52200"/>
            </a:xfrm>
            <a:custGeom>
              <a:avLst/>
              <a:gdLst/>
              <a:ahLst/>
              <a:rect l="l" t="t" r="r" b="b"/>
              <a:pathLst>
                <a:path w="329" h="158">
                  <a:moveTo>
                    <a:pt x="135" y="14"/>
                  </a:moveTo>
                  <a:lnTo>
                    <a:pt x="60" y="6"/>
                  </a:lnTo>
                  <a:lnTo>
                    <a:pt x="30" y="0"/>
                  </a:lnTo>
                  <a:lnTo>
                    <a:pt x="38" y="14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13" y="99"/>
                  </a:lnTo>
                  <a:lnTo>
                    <a:pt x="22" y="118"/>
                  </a:lnTo>
                  <a:lnTo>
                    <a:pt x="53" y="116"/>
                  </a:lnTo>
                  <a:lnTo>
                    <a:pt x="53" y="105"/>
                  </a:lnTo>
                  <a:lnTo>
                    <a:pt x="68" y="101"/>
                  </a:lnTo>
                  <a:lnTo>
                    <a:pt x="93" y="56"/>
                  </a:lnTo>
                  <a:lnTo>
                    <a:pt x="110" y="69"/>
                  </a:lnTo>
                  <a:lnTo>
                    <a:pt x="93" y="80"/>
                  </a:lnTo>
                  <a:lnTo>
                    <a:pt x="93" y="109"/>
                  </a:lnTo>
                  <a:lnTo>
                    <a:pt x="106" y="99"/>
                  </a:lnTo>
                  <a:lnTo>
                    <a:pt x="93" y="122"/>
                  </a:lnTo>
                  <a:lnTo>
                    <a:pt x="93" y="135"/>
                  </a:lnTo>
                  <a:lnTo>
                    <a:pt x="142" y="147"/>
                  </a:lnTo>
                  <a:lnTo>
                    <a:pt x="205" y="156"/>
                  </a:lnTo>
                  <a:lnTo>
                    <a:pt x="235" y="135"/>
                  </a:lnTo>
                  <a:lnTo>
                    <a:pt x="264" y="156"/>
                  </a:lnTo>
                  <a:lnTo>
                    <a:pt x="321" y="158"/>
                  </a:lnTo>
                  <a:lnTo>
                    <a:pt x="323" y="141"/>
                  </a:lnTo>
                  <a:lnTo>
                    <a:pt x="292" y="115"/>
                  </a:lnTo>
                  <a:lnTo>
                    <a:pt x="306" y="82"/>
                  </a:lnTo>
                  <a:lnTo>
                    <a:pt x="325" y="61"/>
                  </a:lnTo>
                  <a:lnTo>
                    <a:pt x="329" y="33"/>
                  </a:lnTo>
                  <a:lnTo>
                    <a:pt x="272" y="31"/>
                  </a:lnTo>
                  <a:lnTo>
                    <a:pt x="264" y="65"/>
                  </a:lnTo>
                  <a:lnTo>
                    <a:pt x="239" y="69"/>
                  </a:lnTo>
                  <a:lnTo>
                    <a:pt x="230" y="92"/>
                  </a:lnTo>
                  <a:lnTo>
                    <a:pt x="201" y="48"/>
                  </a:lnTo>
                  <a:lnTo>
                    <a:pt x="184" y="65"/>
                  </a:lnTo>
                  <a:lnTo>
                    <a:pt x="173" y="52"/>
                  </a:lnTo>
                  <a:lnTo>
                    <a:pt x="178" y="33"/>
                  </a:lnTo>
                  <a:lnTo>
                    <a:pt x="142" y="31"/>
                  </a:lnTo>
                  <a:lnTo>
                    <a:pt x="135" y="14"/>
                  </a:lnTo>
                  <a:lnTo>
                    <a:pt x="135" y="1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3240" y="4805640"/>
              <a:ext cx="41400" cy="1728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7" y="0"/>
                  </a:moveTo>
                  <a:lnTo>
                    <a:pt x="0" y="13"/>
                  </a:lnTo>
                  <a:lnTo>
                    <a:pt x="23" y="40"/>
                  </a:lnTo>
                  <a:lnTo>
                    <a:pt x="61" y="38"/>
                  </a:lnTo>
                  <a:lnTo>
                    <a:pt x="49" y="51"/>
                  </a:lnTo>
                  <a:lnTo>
                    <a:pt x="97" y="55"/>
                  </a:lnTo>
                  <a:lnTo>
                    <a:pt x="104" y="28"/>
                  </a:lnTo>
                  <a:lnTo>
                    <a:pt x="110" y="0"/>
                  </a:lnTo>
                  <a:lnTo>
                    <a:pt x="61" y="3"/>
                  </a:lnTo>
                  <a:lnTo>
                    <a:pt x="51" y="21"/>
                  </a:lnTo>
                  <a:lnTo>
                    <a:pt x="23" y="1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46440" y="4770720"/>
              <a:ext cx="142560" cy="11880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71" y="0"/>
                  </a:moveTo>
                  <a:lnTo>
                    <a:pt x="39" y="17"/>
                  </a:lnTo>
                  <a:lnTo>
                    <a:pt x="0" y="68"/>
                  </a:lnTo>
                  <a:lnTo>
                    <a:pt x="12" y="108"/>
                  </a:lnTo>
                  <a:lnTo>
                    <a:pt x="77" y="125"/>
                  </a:lnTo>
                  <a:lnTo>
                    <a:pt x="151" y="125"/>
                  </a:lnTo>
                  <a:lnTo>
                    <a:pt x="170" y="158"/>
                  </a:lnTo>
                  <a:lnTo>
                    <a:pt x="206" y="160"/>
                  </a:lnTo>
                  <a:lnTo>
                    <a:pt x="232" y="192"/>
                  </a:lnTo>
                  <a:lnTo>
                    <a:pt x="215" y="226"/>
                  </a:lnTo>
                  <a:lnTo>
                    <a:pt x="183" y="260"/>
                  </a:lnTo>
                  <a:lnTo>
                    <a:pt x="149" y="259"/>
                  </a:lnTo>
                  <a:lnTo>
                    <a:pt x="122" y="274"/>
                  </a:lnTo>
                  <a:lnTo>
                    <a:pt x="206" y="291"/>
                  </a:lnTo>
                  <a:lnTo>
                    <a:pt x="248" y="344"/>
                  </a:lnTo>
                  <a:lnTo>
                    <a:pt x="301" y="365"/>
                  </a:lnTo>
                  <a:lnTo>
                    <a:pt x="301" y="350"/>
                  </a:lnTo>
                  <a:lnTo>
                    <a:pt x="274" y="316"/>
                  </a:lnTo>
                  <a:lnTo>
                    <a:pt x="320" y="342"/>
                  </a:lnTo>
                  <a:lnTo>
                    <a:pt x="337" y="331"/>
                  </a:lnTo>
                  <a:lnTo>
                    <a:pt x="303" y="276"/>
                  </a:lnTo>
                  <a:lnTo>
                    <a:pt x="299" y="243"/>
                  </a:lnTo>
                  <a:lnTo>
                    <a:pt x="322" y="243"/>
                  </a:lnTo>
                  <a:lnTo>
                    <a:pt x="337" y="276"/>
                  </a:lnTo>
                  <a:lnTo>
                    <a:pt x="369" y="283"/>
                  </a:lnTo>
                  <a:lnTo>
                    <a:pt x="392" y="251"/>
                  </a:lnTo>
                  <a:lnTo>
                    <a:pt x="392" y="215"/>
                  </a:lnTo>
                  <a:lnTo>
                    <a:pt x="350" y="190"/>
                  </a:lnTo>
                  <a:lnTo>
                    <a:pt x="331" y="190"/>
                  </a:lnTo>
                  <a:lnTo>
                    <a:pt x="320" y="173"/>
                  </a:lnTo>
                  <a:lnTo>
                    <a:pt x="291" y="160"/>
                  </a:lnTo>
                  <a:lnTo>
                    <a:pt x="333" y="154"/>
                  </a:lnTo>
                  <a:lnTo>
                    <a:pt x="326" y="137"/>
                  </a:lnTo>
                  <a:lnTo>
                    <a:pt x="299" y="110"/>
                  </a:lnTo>
                  <a:lnTo>
                    <a:pt x="299" y="85"/>
                  </a:lnTo>
                  <a:lnTo>
                    <a:pt x="248" y="80"/>
                  </a:lnTo>
                  <a:lnTo>
                    <a:pt x="242" y="65"/>
                  </a:lnTo>
                  <a:lnTo>
                    <a:pt x="213" y="49"/>
                  </a:lnTo>
                  <a:lnTo>
                    <a:pt x="191" y="13"/>
                  </a:lnTo>
                  <a:lnTo>
                    <a:pt x="132" y="11"/>
                  </a:lnTo>
                  <a:lnTo>
                    <a:pt x="90" y="21"/>
                  </a:lnTo>
                  <a:lnTo>
                    <a:pt x="65" y="70"/>
                  </a:lnTo>
                  <a:lnTo>
                    <a:pt x="77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47880" y="4837320"/>
              <a:ext cx="41400" cy="41040"/>
            </a:xfrm>
            <a:custGeom>
              <a:avLst/>
              <a:gdLst/>
              <a:ahLst/>
              <a:rect l="l" t="t" r="r" b="b"/>
              <a:pathLst>
                <a:path w="110" h="124">
                  <a:moveTo>
                    <a:pt x="43" y="0"/>
                  </a:moveTo>
                  <a:lnTo>
                    <a:pt x="36" y="32"/>
                  </a:lnTo>
                  <a:lnTo>
                    <a:pt x="3" y="67"/>
                  </a:lnTo>
                  <a:lnTo>
                    <a:pt x="0" y="91"/>
                  </a:lnTo>
                  <a:lnTo>
                    <a:pt x="36" y="80"/>
                  </a:lnTo>
                  <a:lnTo>
                    <a:pt x="49" y="89"/>
                  </a:lnTo>
                  <a:lnTo>
                    <a:pt x="24" y="101"/>
                  </a:lnTo>
                  <a:lnTo>
                    <a:pt x="43" y="124"/>
                  </a:lnTo>
                  <a:lnTo>
                    <a:pt x="66" y="108"/>
                  </a:lnTo>
                  <a:lnTo>
                    <a:pt x="78" y="86"/>
                  </a:lnTo>
                  <a:lnTo>
                    <a:pt x="110" y="78"/>
                  </a:lnTo>
                  <a:lnTo>
                    <a:pt x="93" y="53"/>
                  </a:lnTo>
                  <a:lnTo>
                    <a:pt x="53" y="19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040" y="4676760"/>
              <a:ext cx="185760" cy="73080"/>
            </a:xfrm>
            <a:custGeom>
              <a:avLst/>
              <a:gdLst/>
              <a:ahLst/>
              <a:rect l="l" t="t" r="r" b="b"/>
              <a:pathLst>
                <a:path w="510" h="223">
                  <a:moveTo>
                    <a:pt x="510" y="34"/>
                  </a:moveTo>
                  <a:lnTo>
                    <a:pt x="451" y="21"/>
                  </a:lnTo>
                  <a:lnTo>
                    <a:pt x="396" y="17"/>
                  </a:lnTo>
                  <a:lnTo>
                    <a:pt x="356" y="0"/>
                  </a:lnTo>
                  <a:lnTo>
                    <a:pt x="248" y="6"/>
                  </a:lnTo>
                  <a:lnTo>
                    <a:pt x="212" y="21"/>
                  </a:lnTo>
                  <a:lnTo>
                    <a:pt x="147" y="21"/>
                  </a:lnTo>
                  <a:lnTo>
                    <a:pt x="134" y="38"/>
                  </a:lnTo>
                  <a:lnTo>
                    <a:pt x="80" y="40"/>
                  </a:lnTo>
                  <a:lnTo>
                    <a:pt x="141" y="74"/>
                  </a:lnTo>
                  <a:lnTo>
                    <a:pt x="126" y="90"/>
                  </a:lnTo>
                  <a:lnTo>
                    <a:pt x="90" y="72"/>
                  </a:lnTo>
                  <a:lnTo>
                    <a:pt x="69" y="63"/>
                  </a:lnTo>
                  <a:lnTo>
                    <a:pt x="63" y="50"/>
                  </a:lnTo>
                  <a:lnTo>
                    <a:pt x="31" y="53"/>
                  </a:lnTo>
                  <a:lnTo>
                    <a:pt x="2" y="67"/>
                  </a:lnTo>
                  <a:lnTo>
                    <a:pt x="0" y="116"/>
                  </a:lnTo>
                  <a:lnTo>
                    <a:pt x="23" y="124"/>
                  </a:lnTo>
                  <a:lnTo>
                    <a:pt x="59" y="124"/>
                  </a:lnTo>
                  <a:lnTo>
                    <a:pt x="35" y="147"/>
                  </a:lnTo>
                  <a:lnTo>
                    <a:pt x="67" y="177"/>
                  </a:lnTo>
                  <a:lnTo>
                    <a:pt x="78" y="158"/>
                  </a:lnTo>
                  <a:lnTo>
                    <a:pt x="134" y="124"/>
                  </a:lnTo>
                  <a:lnTo>
                    <a:pt x="151" y="129"/>
                  </a:lnTo>
                  <a:lnTo>
                    <a:pt x="101" y="158"/>
                  </a:lnTo>
                  <a:lnTo>
                    <a:pt x="132" y="171"/>
                  </a:lnTo>
                  <a:lnTo>
                    <a:pt x="103" y="179"/>
                  </a:lnTo>
                  <a:lnTo>
                    <a:pt x="80" y="207"/>
                  </a:lnTo>
                  <a:lnTo>
                    <a:pt x="128" y="219"/>
                  </a:lnTo>
                  <a:lnTo>
                    <a:pt x="244" y="223"/>
                  </a:lnTo>
                  <a:lnTo>
                    <a:pt x="217" y="202"/>
                  </a:lnTo>
                  <a:lnTo>
                    <a:pt x="251" y="183"/>
                  </a:lnTo>
                  <a:lnTo>
                    <a:pt x="267" y="148"/>
                  </a:lnTo>
                  <a:lnTo>
                    <a:pt x="303" y="145"/>
                  </a:lnTo>
                  <a:lnTo>
                    <a:pt x="297" y="124"/>
                  </a:lnTo>
                  <a:lnTo>
                    <a:pt x="346" y="122"/>
                  </a:lnTo>
                  <a:lnTo>
                    <a:pt x="375" y="88"/>
                  </a:lnTo>
                  <a:lnTo>
                    <a:pt x="434" y="76"/>
                  </a:lnTo>
                  <a:lnTo>
                    <a:pt x="476" y="46"/>
                  </a:lnTo>
                  <a:lnTo>
                    <a:pt x="510" y="34"/>
                  </a:lnTo>
                  <a:lnTo>
                    <a:pt x="510" y="3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5560" y="4751640"/>
              <a:ext cx="88920" cy="25200"/>
            </a:xfrm>
            <a:custGeom>
              <a:avLst/>
              <a:gdLst/>
              <a:ahLst/>
              <a:rect l="l" t="t" r="r" b="b"/>
              <a:pathLst>
                <a:path w="246" h="80">
                  <a:moveTo>
                    <a:pt x="0" y="0"/>
                  </a:moveTo>
                  <a:lnTo>
                    <a:pt x="42" y="15"/>
                  </a:lnTo>
                  <a:lnTo>
                    <a:pt x="88" y="10"/>
                  </a:lnTo>
                  <a:lnTo>
                    <a:pt x="141" y="44"/>
                  </a:lnTo>
                  <a:lnTo>
                    <a:pt x="246" y="44"/>
                  </a:lnTo>
                  <a:lnTo>
                    <a:pt x="232" y="80"/>
                  </a:lnTo>
                  <a:lnTo>
                    <a:pt x="139" y="74"/>
                  </a:lnTo>
                  <a:lnTo>
                    <a:pt x="84" y="65"/>
                  </a:lnTo>
                  <a:lnTo>
                    <a:pt x="52" y="57"/>
                  </a:lnTo>
                  <a:lnTo>
                    <a:pt x="35" y="2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55880" y="4656240"/>
              <a:ext cx="325440" cy="246240"/>
            </a:xfrm>
            <a:custGeom>
              <a:avLst/>
              <a:gdLst/>
              <a:ahLst/>
              <a:rect l="l" t="t" r="r" b="b"/>
              <a:pathLst>
                <a:path w="890" h="751">
                  <a:moveTo>
                    <a:pt x="751" y="55"/>
                  </a:moveTo>
                  <a:lnTo>
                    <a:pt x="727" y="38"/>
                  </a:lnTo>
                  <a:lnTo>
                    <a:pt x="672" y="34"/>
                  </a:lnTo>
                  <a:lnTo>
                    <a:pt x="643" y="23"/>
                  </a:lnTo>
                  <a:lnTo>
                    <a:pt x="597" y="34"/>
                  </a:lnTo>
                  <a:lnTo>
                    <a:pt x="651" y="8"/>
                  </a:lnTo>
                  <a:lnTo>
                    <a:pt x="575" y="0"/>
                  </a:lnTo>
                  <a:lnTo>
                    <a:pt x="519" y="13"/>
                  </a:lnTo>
                  <a:lnTo>
                    <a:pt x="434" y="21"/>
                  </a:lnTo>
                  <a:lnTo>
                    <a:pt x="394" y="38"/>
                  </a:lnTo>
                  <a:lnTo>
                    <a:pt x="345" y="42"/>
                  </a:lnTo>
                  <a:lnTo>
                    <a:pt x="327" y="67"/>
                  </a:lnTo>
                  <a:lnTo>
                    <a:pt x="288" y="51"/>
                  </a:lnTo>
                  <a:lnTo>
                    <a:pt x="215" y="67"/>
                  </a:lnTo>
                  <a:lnTo>
                    <a:pt x="172" y="74"/>
                  </a:lnTo>
                  <a:lnTo>
                    <a:pt x="139" y="107"/>
                  </a:lnTo>
                  <a:lnTo>
                    <a:pt x="97" y="124"/>
                  </a:lnTo>
                  <a:lnTo>
                    <a:pt x="120" y="141"/>
                  </a:lnTo>
                  <a:lnTo>
                    <a:pt x="88" y="158"/>
                  </a:lnTo>
                  <a:lnTo>
                    <a:pt x="38" y="165"/>
                  </a:lnTo>
                  <a:lnTo>
                    <a:pt x="0" y="200"/>
                  </a:lnTo>
                  <a:lnTo>
                    <a:pt x="38" y="215"/>
                  </a:lnTo>
                  <a:lnTo>
                    <a:pt x="12" y="232"/>
                  </a:lnTo>
                  <a:lnTo>
                    <a:pt x="27" y="249"/>
                  </a:lnTo>
                  <a:lnTo>
                    <a:pt x="80" y="249"/>
                  </a:lnTo>
                  <a:lnTo>
                    <a:pt x="69" y="268"/>
                  </a:lnTo>
                  <a:lnTo>
                    <a:pt x="200" y="274"/>
                  </a:lnTo>
                  <a:lnTo>
                    <a:pt x="229" y="297"/>
                  </a:lnTo>
                  <a:lnTo>
                    <a:pt x="219" y="365"/>
                  </a:lnTo>
                  <a:lnTo>
                    <a:pt x="246" y="388"/>
                  </a:lnTo>
                  <a:lnTo>
                    <a:pt x="219" y="413"/>
                  </a:lnTo>
                  <a:lnTo>
                    <a:pt x="265" y="422"/>
                  </a:lnTo>
                  <a:lnTo>
                    <a:pt x="225" y="424"/>
                  </a:lnTo>
                  <a:lnTo>
                    <a:pt x="229" y="464"/>
                  </a:lnTo>
                  <a:lnTo>
                    <a:pt x="282" y="474"/>
                  </a:lnTo>
                  <a:lnTo>
                    <a:pt x="265" y="487"/>
                  </a:lnTo>
                  <a:lnTo>
                    <a:pt x="232" y="487"/>
                  </a:lnTo>
                  <a:lnTo>
                    <a:pt x="219" y="521"/>
                  </a:lnTo>
                  <a:lnTo>
                    <a:pt x="238" y="580"/>
                  </a:lnTo>
                  <a:lnTo>
                    <a:pt x="282" y="652"/>
                  </a:lnTo>
                  <a:lnTo>
                    <a:pt x="282" y="677"/>
                  </a:lnTo>
                  <a:lnTo>
                    <a:pt x="316" y="728"/>
                  </a:lnTo>
                  <a:lnTo>
                    <a:pt x="369" y="751"/>
                  </a:lnTo>
                  <a:lnTo>
                    <a:pt x="381" y="726"/>
                  </a:lnTo>
                  <a:lnTo>
                    <a:pt x="428" y="668"/>
                  </a:lnTo>
                  <a:lnTo>
                    <a:pt x="432" y="590"/>
                  </a:lnTo>
                  <a:lnTo>
                    <a:pt x="464" y="595"/>
                  </a:lnTo>
                  <a:lnTo>
                    <a:pt x="476" y="572"/>
                  </a:lnTo>
                  <a:lnTo>
                    <a:pt x="508" y="571"/>
                  </a:lnTo>
                  <a:lnTo>
                    <a:pt x="535" y="548"/>
                  </a:lnTo>
                  <a:lnTo>
                    <a:pt x="580" y="504"/>
                  </a:lnTo>
                  <a:lnTo>
                    <a:pt x="637" y="502"/>
                  </a:lnTo>
                  <a:lnTo>
                    <a:pt x="654" y="481"/>
                  </a:lnTo>
                  <a:lnTo>
                    <a:pt x="732" y="466"/>
                  </a:lnTo>
                  <a:lnTo>
                    <a:pt x="736" y="449"/>
                  </a:lnTo>
                  <a:lnTo>
                    <a:pt x="673" y="443"/>
                  </a:lnTo>
                  <a:lnTo>
                    <a:pt x="670" y="413"/>
                  </a:lnTo>
                  <a:lnTo>
                    <a:pt x="693" y="432"/>
                  </a:lnTo>
                  <a:lnTo>
                    <a:pt x="740" y="428"/>
                  </a:lnTo>
                  <a:lnTo>
                    <a:pt x="694" y="397"/>
                  </a:lnTo>
                  <a:lnTo>
                    <a:pt x="700" y="377"/>
                  </a:lnTo>
                  <a:lnTo>
                    <a:pt x="729" y="392"/>
                  </a:lnTo>
                  <a:lnTo>
                    <a:pt x="744" y="361"/>
                  </a:lnTo>
                  <a:lnTo>
                    <a:pt x="727" y="337"/>
                  </a:lnTo>
                  <a:lnTo>
                    <a:pt x="770" y="320"/>
                  </a:lnTo>
                  <a:lnTo>
                    <a:pt x="744" y="283"/>
                  </a:lnTo>
                  <a:lnTo>
                    <a:pt x="765" y="283"/>
                  </a:lnTo>
                  <a:lnTo>
                    <a:pt x="748" y="249"/>
                  </a:lnTo>
                  <a:lnTo>
                    <a:pt x="767" y="249"/>
                  </a:lnTo>
                  <a:lnTo>
                    <a:pt x="786" y="257"/>
                  </a:lnTo>
                  <a:lnTo>
                    <a:pt x="793" y="232"/>
                  </a:lnTo>
                  <a:lnTo>
                    <a:pt x="765" y="204"/>
                  </a:lnTo>
                  <a:lnTo>
                    <a:pt x="772" y="141"/>
                  </a:lnTo>
                  <a:lnTo>
                    <a:pt x="816" y="135"/>
                  </a:lnTo>
                  <a:lnTo>
                    <a:pt x="824" y="112"/>
                  </a:lnTo>
                  <a:lnTo>
                    <a:pt x="890" y="89"/>
                  </a:lnTo>
                  <a:lnTo>
                    <a:pt x="871" y="74"/>
                  </a:lnTo>
                  <a:lnTo>
                    <a:pt x="835" y="72"/>
                  </a:lnTo>
                  <a:lnTo>
                    <a:pt x="799" y="93"/>
                  </a:lnTo>
                  <a:lnTo>
                    <a:pt x="751" y="89"/>
                  </a:lnTo>
                  <a:lnTo>
                    <a:pt x="719" y="110"/>
                  </a:lnTo>
                  <a:lnTo>
                    <a:pt x="729" y="74"/>
                  </a:lnTo>
                  <a:lnTo>
                    <a:pt x="685" y="67"/>
                  </a:lnTo>
                  <a:lnTo>
                    <a:pt x="725" y="59"/>
                  </a:lnTo>
                  <a:lnTo>
                    <a:pt x="751" y="55"/>
                  </a:lnTo>
                  <a:lnTo>
                    <a:pt x="751" y="55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5600" y="4786560"/>
              <a:ext cx="603360" cy="536400"/>
            </a:xfrm>
            <a:custGeom>
              <a:avLst/>
              <a:gdLst/>
              <a:ahLst/>
              <a:rect l="l" t="t" r="r" b="b"/>
              <a:pathLst>
                <a:path w="1544" h="1372">
                  <a:moveTo>
                    <a:pt x="1157" y="23"/>
                  </a:moveTo>
                  <a:lnTo>
                    <a:pt x="1120" y="0"/>
                  </a:lnTo>
                  <a:lnTo>
                    <a:pt x="1096" y="32"/>
                  </a:lnTo>
                  <a:lnTo>
                    <a:pt x="1093" y="86"/>
                  </a:lnTo>
                  <a:lnTo>
                    <a:pt x="1070" y="116"/>
                  </a:lnTo>
                  <a:lnTo>
                    <a:pt x="1079" y="137"/>
                  </a:lnTo>
                  <a:lnTo>
                    <a:pt x="1041" y="152"/>
                  </a:lnTo>
                  <a:lnTo>
                    <a:pt x="1033" y="116"/>
                  </a:lnTo>
                  <a:lnTo>
                    <a:pt x="998" y="137"/>
                  </a:lnTo>
                  <a:lnTo>
                    <a:pt x="996" y="163"/>
                  </a:lnTo>
                  <a:lnTo>
                    <a:pt x="922" y="132"/>
                  </a:lnTo>
                  <a:lnTo>
                    <a:pt x="888" y="142"/>
                  </a:lnTo>
                  <a:lnTo>
                    <a:pt x="872" y="168"/>
                  </a:lnTo>
                  <a:lnTo>
                    <a:pt x="794" y="153"/>
                  </a:lnTo>
                  <a:lnTo>
                    <a:pt x="794" y="125"/>
                  </a:lnTo>
                  <a:lnTo>
                    <a:pt x="748" y="129"/>
                  </a:lnTo>
                  <a:lnTo>
                    <a:pt x="716" y="94"/>
                  </a:lnTo>
                  <a:lnTo>
                    <a:pt x="694" y="97"/>
                  </a:lnTo>
                  <a:lnTo>
                    <a:pt x="694" y="121"/>
                  </a:lnTo>
                  <a:lnTo>
                    <a:pt x="663" y="97"/>
                  </a:lnTo>
                  <a:lnTo>
                    <a:pt x="610" y="116"/>
                  </a:lnTo>
                  <a:lnTo>
                    <a:pt x="579" y="129"/>
                  </a:lnTo>
                  <a:lnTo>
                    <a:pt x="557" y="116"/>
                  </a:lnTo>
                  <a:lnTo>
                    <a:pt x="538" y="129"/>
                  </a:lnTo>
                  <a:lnTo>
                    <a:pt x="501" y="107"/>
                  </a:lnTo>
                  <a:lnTo>
                    <a:pt x="437" y="97"/>
                  </a:lnTo>
                  <a:lnTo>
                    <a:pt x="422" y="111"/>
                  </a:lnTo>
                  <a:lnTo>
                    <a:pt x="406" y="97"/>
                  </a:lnTo>
                  <a:lnTo>
                    <a:pt x="370" y="94"/>
                  </a:lnTo>
                  <a:lnTo>
                    <a:pt x="353" y="73"/>
                  </a:lnTo>
                  <a:lnTo>
                    <a:pt x="326" y="76"/>
                  </a:lnTo>
                  <a:lnTo>
                    <a:pt x="318" y="53"/>
                  </a:lnTo>
                  <a:lnTo>
                    <a:pt x="286" y="66"/>
                  </a:lnTo>
                  <a:lnTo>
                    <a:pt x="202" y="89"/>
                  </a:lnTo>
                  <a:lnTo>
                    <a:pt x="168" y="129"/>
                  </a:lnTo>
                  <a:lnTo>
                    <a:pt x="202" y="173"/>
                  </a:lnTo>
                  <a:lnTo>
                    <a:pt x="197" y="182"/>
                  </a:lnTo>
                  <a:lnTo>
                    <a:pt x="162" y="168"/>
                  </a:lnTo>
                  <a:lnTo>
                    <a:pt x="134" y="182"/>
                  </a:lnTo>
                  <a:lnTo>
                    <a:pt x="152" y="229"/>
                  </a:lnTo>
                  <a:lnTo>
                    <a:pt x="176" y="216"/>
                  </a:lnTo>
                  <a:lnTo>
                    <a:pt x="197" y="229"/>
                  </a:lnTo>
                  <a:lnTo>
                    <a:pt x="176" y="248"/>
                  </a:lnTo>
                  <a:lnTo>
                    <a:pt x="168" y="264"/>
                  </a:lnTo>
                  <a:lnTo>
                    <a:pt x="138" y="261"/>
                  </a:lnTo>
                  <a:lnTo>
                    <a:pt x="108" y="287"/>
                  </a:lnTo>
                  <a:lnTo>
                    <a:pt x="108" y="325"/>
                  </a:lnTo>
                  <a:lnTo>
                    <a:pt x="134" y="339"/>
                  </a:lnTo>
                  <a:lnTo>
                    <a:pt x="160" y="330"/>
                  </a:lnTo>
                  <a:lnTo>
                    <a:pt x="149" y="357"/>
                  </a:lnTo>
                  <a:lnTo>
                    <a:pt x="182" y="361"/>
                  </a:lnTo>
                  <a:lnTo>
                    <a:pt x="185" y="379"/>
                  </a:lnTo>
                  <a:lnTo>
                    <a:pt x="129" y="433"/>
                  </a:lnTo>
                  <a:lnTo>
                    <a:pt x="0" y="553"/>
                  </a:lnTo>
                  <a:lnTo>
                    <a:pt x="54" y="511"/>
                  </a:lnTo>
                  <a:lnTo>
                    <a:pt x="135" y="445"/>
                  </a:lnTo>
                  <a:lnTo>
                    <a:pt x="242" y="348"/>
                  </a:lnTo>
                  <a:lnTo>
                    <a:pt x="227" y="330"/>
                  </a:lnTo>
                  <a:lnTo>
                    <a:pt x="214" y="323"/>
                  </a:lnTo>
                  <a:lnTo>
                    <a:pt x="242" y="323"/>
                  </a:lnTo>
                  <a:lnTo>
                    <a:pt x="283" y="282"/>
                  </a:lnTo>
                  <a:lnTo>
                    <a:pt x="283" y="295"/>
                  </a:lnTo>
                  <a:lnTo>
                    <a:pt x="263" y="323"/>
                  </a:lnTo>
                  <a:lnTo>
                    <a:pt x="304" y="318"/>
                  </a:lnTo>
                  <a:lnTo>
                    <a:pt x="326" y="323"/>
                  </a:lnTo>
                  <a:lnTo>
                    <a:pt x="326" y="305"/>
                  </a:lnTo>
                  <a:lnTo>
                    <a:pt x="344" y="308"/>
                  </a:lnTo>
                  <a:lnTo>
                    <a:pt x="380" y="323"/>
                  </a:lnTo>
                  <a:lnTo>
                    <a:pt x="406" y="305"/>
                  </a:lnTo>
                  <a:lnTo>
                    <a:pt x="410" y="287"/>
                  </a:lnTo>
                  <a:lnTo>
                    <a:pt x="445" y="305"/>
                  </a:lnTo>
                  <a:lnTo>
                    <a:pt x="422" y="323"/>
                  </a:lnTo>
                  <a:lnTo>
                    <a:pt x="434" y="352"/>
                  </a:lnTo>
                  <a:lnTo>
                    <a:pt x="453" y="361"/>
                  </a:lnTo>
                  <a:lnTo>
                    <a:pt x="466" y="437"/>
                  </a:lnTo>
                  <a:lnTo>
                    <a:pt x="485" y="455"/>
                  </a:lnTo>
                  <a:lnTo>
                    <a:pt x="501" y="445"/>
                  </a:lnTo>
                  <a:lnTo>
                    <a:pt x="522" y="468"/>
                  </a:lnTo>
                  <a:lnTo>
                    <a:pt x="522" y="498"/>
                  </a:lnTo>
                  <a:lnTo>
                    <a:pt x="534" y="514"/>
                  </a:lnTo>
                  <a:lnTo>
                    <a:pt x="512" y="524"/>
                  </a:lnTo>
                  <a:lnTo>
                    <a:pt x="535" y="564"/>
                  </a:lnTo>
                  <a:lnTo>
                    <a:pt x="546" y="577"/>
                  </a:lnTo>
                  <a:lnTo>
                    <a:pt x="519" y="684"/>
                  </a:lnTo>
                  <a:lnTo>
                    <a:pt x="568" y="852"/>
                  </a:lnTo>
                  <a:lnTo>
                    <a:pt x="579" y="890"/>
                  </a:lnTo>
                  <a:lnTo>
                    <a:pt x="610" y="897"/>
                  </a:lnTo>
                  <a:lnTo>
                    <a:pt x="619" y="951"/>
                  </a:lnTo>
                  <a:lnTo>
                    <a:pt x="632" y="977"/>
                  </a:lnTo>
                  <a:lnTo>
                    <a:pt x="619" y="995"/>
                  </a:lnTo>
                  <a:lnTo>
                    <a:pt x="629" y="1015"/>
                  </a:lnTo>
                  <a:lnTo>
                    <a:pt x="657" y="1047"/>
                  </a:lnTo>
                  <a:lnTo>
                    <a:pt x="672" y="1075"/>
                  </a:lnTo>
                  <a:lnTo>
                    <a:pt x="699" y="1091"/>
                  </a:lnTo>
                  <a:lnTo>
                    <a:pt x="706" y="1086"/>
                  </a:lnTo>
                  <a:lnTo>
                    <a:pt x="694" y="1057"/>
                  </a:lnTo>
                  <a:lnTo>
                    <a:pt x="668" y="1007"/>
                  </a:lnTo>
                  <a:lnTo>
                    <a:pt x="657" y="972"/>
                  </a:lnTo>
                  <a:lnTo>
                    <a:pt x="654" y="941"/>
                  </a:lnTo>
                  <a:lnTo>
                    <a:pt x="668" y="941"/>
                  </a:lnTo>
                  <a:lnTo>
                    <a:pt x="672" y="984"/>
                  </a:lnTo>
                  <a:lnTo>
                    <a:pt x="696" y="1022"/>
                  </a:lnTo>
                  <a:lnTo>
                    <a:pt x="753" y="1086"/>
                  </a:lnTo>
                  <a:lnTo>
                    <a:pt x="768" y="1091"/>
                  </a:lnTo>
                  <a:lnTo>
                    <a:pt x="792" y="1120"/>
                  </a:lnTo>
                  <a:lnTo>
                    <a:pt x="826" y="1141"/>
                  </a:lnTo>
                  <a:lnTo>
                    <a:pt x="864" y="1175"/>
                  </a:lnTo>
                  <a:lnTo>
                    <a:pt x="902" y="1189"/>
                  </a:lnTo>
                  <a:lnTo>
                    <a:pt x="940" y="1205"/>
                  </a:lnTo>
                  <a:lnTo>
                    <a:pt x="1003" y="1279"/>
                  </a:lnTo>
                  <a:lnTo>
                    <a:pt x="1021" y="1294"/>
                  </a:lnTo>
                  <a:lnTo>
                    <a:pt x="1047" y="1308"/>
                  </a:lnTo>
                  <a:lnTo>
                    <a:pt x="1142" y="1352"/>
                  </a:lnTo>
                  <a:lnTo>
                    <a:pt x="1164" y="1336"/>
                  </a:lnTo>
                  <a:lnTo>
                    <a:pt x="1191" y="1372"/>
                  </a:lnTo>
                  <a:lnTo>
                    <a:pt x="1191" y="1342"/>
                  </a:lnTo>
                  <a:lnTo>
                    <a:pt x="1154" y="1296"/>
                  </a:lnTo>
                  <a:lnTo>
                    <a:pt x="1115" y="1298"/>
                  </a:lnTo>
                  <a:lnTo>
                    <a:pt x="1094" y="1258"/>
                  </a:lnTo>
                  <a:lnTo>
                    <a:pt x="1098" y="1218"/>
                  </a:lnTo>
                  <a:lnTo>
                    <a:pt x="1080" y="1196"/>
                  </a:lnTo>
                  <a:lnTo>
                    <a:pt x="1053" y="1196"/>
                  </a:lnTo>
                  <a:lnTo>
                    <a:pt x="1010" y="1202"/>
                  </a:lnTo>
                  <a:lnTo>
                    <a:pt x="1016" y="1157"/>
                  </a:lnTo>
                  <a:lnTo>
                    <a:pt x="992" y="1152"/>
                  </a:lnTo>
                  <a:lnTo>
                    <a:pt x="987" y="1161"/>
                  </a:lnTo>
                  <a:lnTo>
                    <a:pt x="956" y="1152"/>
                  </a:lnTo>
                  <a:lnTo>
                    <a:pt x="965" y="1134"/>
                  </a:lnTo>
                  <a:lnTo>
                    <a:pt x="998" y="1127"/>
                  </a:lnTo>
                  <a:lnTo>
                    <a:pt x="987" y="1095"/>
                  </a:lnTo>
                  <a:lnTo>
                    <a:pt x="996" y="1086"/>
                  </a:lnTo>
                  <a:lnTo>
                    <a:pt x="989" y="1047"/>
                  </a:lnTo>
                  <a:lnTo>
                    <a:pt x="977" y="1052"/>
                  </a:lnTo>
                  <a:lnTo>
                    <a:pt x="950" y="1057"/>
                  </a:lnTo>
                  <a:lnTo>
                    <a:pt x="930" y="1081"/>
                  </a:lnTo>
                  <a:lnTo>
                    <a:pt x="888" y="1086"/>
                  </a:lnTo>
                  <a:lnTo>
                    <a:pt x="846" y="1065"/>
                  </a:lnTo>
                  <a:lnTo>
                    <a:pt x="841" y="1011"/>
                  </a:lnTo>
                  <a:lnTo>
                    <a:pt x="867" y="984"/>
                  </a:lnTo>
                  <a:lnTo>
                    <a:pt x="867" y="959"/>
                  </a:lnTo>
                  <a:lnTo>
                    <a:pt x="854" y="941"/>
                  </a:lnTo>
                  <a:lnTo>
                    <a:pt x="876" y="946"/>
                  </a:lnTo>
                  <a:lnTo>
                    <a:pt x="912" y="928"/>
                  </a:lnTo>
                  <a:lnTo>
                    <a:pt x="915" y="915"/>
                  </a:lnTo>
                  <a:lnTo>
                    <a:pt x="933" y="918"/>
                  </a:lnTo>
                  <a:lnTo>
                    <a:pt x="935" y="933"/>
                  </a:lnTo>
                  <a:lnTo>
                    <a:pt x="964" y="933"/>
                  </a:lnTo>
                  <a:lnTo>
                    <a:pt x="987" y="946"/>
                  </a:lnTo>
                  <a:lnTo>
                    <a:pt x="987" y="925"/>
                  </a:lnTo>
                  <a:lnTo>
                    <a:pt x="1003" y="925"/>
                  </a:lnTo>
                  <a:lnTo>
                    <a:pt x="1019" y="941"/>
                  </a:lnTo>
                  <a:lnTo>
                    <a:pt x="1061" y="941"/>
                  </a:lnTo>
                  <a:lnTo>
                    <a:pt x="1061" y="984"/>
                  </a:lnTo>
                  <a:lnTo>
                    <a:pt x="1079" y="1015"/>
                  </a:lnTo>
                  <a:lnTo>
                    <a:pt x="1100" y="1022"/>
                  </a:lnTo>
                  <a:lnTo>
                    <a:pt x="1103" y="1002"/>
                  </a:lnTo>
                  <a:lnTo>
                    <a:pt x="1103" y="941"/>
                  </a:lnTo>
                  <a:lnTo>
                    <a:pt x="1093" y="925"/>
                  </a:lnTo>
                  <a:lnTo>
                    <a:pt x="1146" y="849"/>
                  </a:lnTo>
                  <a:lnTo>
                    <a:pt x="1171" y="846"/>
                  </a:lnTo>
                  <a:lnTo>
                    <a:pt x="1180" y="818"/>
                  </a:lnTo>
                  <a:lnTo>
                    <a:pt x="1196" y="814"/>
                  </a:lnTo>
                  <a:lnTo>
                    <a:pt x="1180" y="796"/>
                  </a:lnTo>
                  <a:lnTo>
                    <a:pt x="1183" y="780"/>
                  </a:lnTo>
                  <a:lnTo>
                    <a:pt x="1210" y="766"/>
                  </a:lnTo>
                  <a:lnTo>
                    <a:pt x="1232" y="736"/>
                  </a:lnTo>
                  <a:lnTo>
                    <a:pt x="1267" y="730"/>
                  </a:lnTo>
                  <a:lnTo>
                    <a:pt x="1277" y="700"/>
                  </a:lnTo>
                  <a:lnTo>
                    <a:pt x="1267" y="693"/>
                  </a:lnTo>
                  <a:lnTo>
                    <a:pt x="1282" y="673"/>
                  </a:lnTo>
                  <a:lnTo>
                    <a:pt x="1323" y="664"/>
                  </a:lnTo>
                  <a:lnTo>
                    <a:pt x="1363" y="652"/>
                  </a:lnTo>
                  <a:lnTo>
                    <a:pt x="1369" y="677"/>
                  </a:lnTo>
                  <a:lnTo>
                    <a:pt x="1358" y="700"/>
                  </a:lnTo>
                  <a:lnTo>
                    <a:pt x="1348" y="720"/>
                  </a:lnTo>
                  <a:lnTo>
                    <a:pt x="1382" y="727"/>
                  </a:lnTo>
                  <a:lnTo>
                    <a:pt x="1392" y="709"/>
                  </a:lnTo>
                  <a:lnTo>
                    <a:pt x="1407" y="696"/>
                  </a:lnTo>
                  <a:lnTo>
                    <a:pt x="1440" y="684"/>
                  </a:lnTo>
                  <a:lnTo>
                    <a:pt x="1440" y="652"/>
                  </a:lnTo>
                  <a:lnTo>
                    <a:pt x="1419" y="643"/>
                  </a:lnTo>
                  <a:lnTo>
                    <a:pt x="1419" y="656"/>
                  </a:lnTo>
                  <a:lnTo>
                    <a:pt x="1404" y="664"/>
                  </a:lnTo>
                  <a:lnTo>
                    <a:pt x="1380" y="656"/>
                  </a:lnTo>
                  <a:lnTo>
                    <a:pt x="1392" y="625"/>
                  </a:lnTo>
                  <a:lnTo>
                    <a:pt x="1384" y="611"/>
                  </a:lnTo>
                  <a:lnTo>
                    <a:pt x="1363" y="611"/>
                  </a:lnTo>
                  <a:lnTo>
                    <a:pt x="1310" y="629"/>
                  </a:lnTo>
                  <a:lnTo>
                    <a:pt x="1363" y="600"/>
                  </a:lnTo>
                  <a:lnTo>
                    <a:pt x="1444" y="604"/>
                  </a:lnTo>
                  <a:lnTo>
                    <a:pt x="1476" y="590"/>
                  </a:lnTo>
                  <a:lnTo>
                    <a:pt x="1485" y="611"/>
                  </a:lnTo>
                  <a:lnTo>
                    <a:pt x="1449" y="629"/>
                  </a:lnTo>
                  <a:lnTo>
                    <a:pt x="1456" y="638"/>
                  </a:lnTo>
                  <a:lnTo>
                    <a:pt x="1485" y="656"/>
                  </a:lnTo>
                  <a:lnTo>
                    <a:pt x="1493" y="643"/>
                  </a:lnTo>
                  <a:lnTo>
                    <a:pt x="1503" y="670"/>
                  </a:lnTo>
                  <a:lnTo>
                    <a:pt x="1519" y="656"/>
                  </a:lnTo>
                  <a:lnTo>
                    <a:pt x="1544" y="656"/>
                  </a:lnTo>
                  <a:lnTo>
                    <a:pt x="1540" y="611"/>
                  </a:lnTo>
                  <a:lnTo>
                    <a:pt x="1515" y="604"/>
                  </a:lnTo>
                  <a:lnTo>
                    <a:pt x="1503" y="582"/>
                  </a:lnTo>
                  <a:lnTo>
                    <a:pt x="1519" y="574"/>
                  </a:lnTo>
                  <a:lnTo>
                    <a:pt x="1519" y="514"/>
                  </a:lnTo>
                  <a:lnTo>
                    <a:pt x="1485" y="488"/>
                  </a:lnTo>
                  <a:lnTo>
                    <a:pt x="1453" y="480"/>
                  </a:lnTo>
                  <a:lnTo>
                    <a:pt x="1449" y="434"/>
                  </a:lnTo>
                  <a:lnTo>
                    <a:pt x="1429" y="391"/>
                  </a:lnTo>
                  <a:lnTo>
                    <a:pt x="1419" y="352"/>
                  </a:lnTo>
                  <a:lnTo>
                    <a:pt x="1407" y="357"/>
                  </a:lnTo>
                  <a:lnTo>
                    <a:pt x="1389" y="345"/>
                  </a:lnTo>
                  <a:lnTo>
                    <a:pt x="1382" y="382"/>
                  </a:lnTo>
                  <a:lnTo>
                    <a:pt x="1363" y="396"/>
                  </a:lnTo>
                  <a:lnTo>
                    <a:pt x="1345" y="366"/>
                  </a:lnTo>
                  <a:lnTo>
                    <a:pt x="1363" y="348"/>
                  </a:lnTo>
                  <a:lnTo>
                    <a:pt x="1345" y="325"/>
                  </a:lnTo>
                  <a:lnTo>
                    <a:pt x="1319" y="323"/>
                  </a:lnTo>
                  <a:lnTo>
                    <a:pt x="1305" y="302"/>
                  </a:lnTo>
                  <a:lnTo>
                    <a:pt x="1238" y="302"/>
                  </a:lnTo>
                  <a:lnTo>
                    <a:pt x="1245" y="330"/>
                  </a:lnTo>
                  <a:lnTo>
                    <a:pt x="1227" y="345"/>
                  </a:lnTo>
                  <a:lnTo>
                    <a:pt x="1238" y="361"/>
                  </a:lnTo>
                  <a:lnTo>
                    <a:pt x="1222" y="389"/>
                  </a:lnTo>
                  <a:lnTo>
                    <a:pt x="1238" y="409"/>
                  </a:lnTo>
                  <a:lnTo>
                    <a:pt x="1224" y="445"/>
                  </a:lnTo>
                  <a:lnTo>
                    <a:pt x="1192" y="468"/>
                  </a:lnTo>
                  <a:lnTo>
                    <a:pt x="1195" y="485"/>
                  </a:lnTo>
                  <a:lnTo>
                    <a:pt x="1195" y="529"/>
                  </a:lnTo>
                  <a:lnTo>
                    <a:pt x="1171" y="529"/>
                  </a:lnTo>
                  <a:lnTo>
                    <a:pt x="1180" y="502"/>
                  </a:lnTo>
                  <a:lnTo>
                    <a:pt x="1168" y="485"/>
                  </a:lnTo>
                  <a:lnTo>
                    <a:pt x="1168" y="457"/>
                  </a:lnTo>
                  <a:lnTo>
                    <a:pt x="1146" y="455"/>
                  </a:lnTo>
                  <a:lnTo>
                    <a:pt x="1111" y="437"/>
                  </a:lnTo>
                  <a:lnTo>
                    <a:pt x="1079" y="414"/>
                  </a:lnTo>
                  <a:lnTo>
                    <a:pt x="1061" y="419"/>
                  </a:lnTo>
                  <a:lnTo>
                    <a:pt x="1046" y="374"/>
                  </a:lnTo>
                  <a:lnTo>
                    <a:pt x="1023" y="361"/>
                  </a:lnTo>
                  <a:lnTo>
                    <a:pt x="1036" y="318"/>
                  </a:lnTo>
                  <a:lnTo>
                    <a:pt x="1061" y="305"/>
                  </a:lnTo>
                  <a:lnTo>
                    <a:pt x="1084" y="302"/>
                  </a:lnTo>
                  <a:lnTo>
                    <a:pt x="1087" y="269"/>
                  </a:lnTo>
                  <a:lnTo>
                    <a:pt x="1126" y="261"/>
                  </a:lnTo>
                  <a:lnTo>
                    <a:pt x="1154" y="226"/>
                  </a:lnTo>
                  <a:lnTo>
                    <a:pt x="1168" y="195"/>
                  </a:lnTo>
                  <a:lnTo>
                    <a:pt x="1201" y="189"/>
                  </a:lnTo>
                  <a:lnTo>
                    <a:pt x="1227" y="173"/>
                  </a:lnTo>
                  <a:lnTo>
                    <a:pt x="1205" y="163"/>
                  </a:lnTo>
                  <a:lnTo>
                    <a:pt x="1196" y="132"/>
                  </a:lnTo>
                  <a:lnTo>
                    <a:pt x="1177" y="132"/>
                  </a:lnTo>
                  <a:lnTo>
                    <a:pt x="1160" y="163"/>
                  </a:lnTo>
                  <a:lnTo>
                    <a:pt x="1146" y="137"/>
                  </a:lnTo>
                  <a:lnTo>
                    <a:pt x="1114" y="125"/>
                  </a:lnTo>
                  <a:lnTo>
                    <a:pt x="1120" y="100"/>
                  </a:lnTo>
                  <a:lnTo>
                    <a:pt x="1103" y="86"/>
                  </a:lnTo>
                  <a:lnTo>
                    <a:pt x="1124" y="32"/>
                  </a:lnTo>
                  <a:lnTo>
                    <a:pt x="1157" y="23"/>
                  </a:lnTo>
                  <a:lnTo>
                    <a:pt x="1157" y="23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66960" y="5294520"/>
              <a:ext cx="284040" cy="504720"/>
            </a:xfrm>
            <a:custGeom>
              <a:avLst/>
              <a:gdLst/>
              <a:ahLst/>
              <a:rect l="l" t="t" r="r" b="b"/>
              <a:pathLst>
                <a:path w="818" h="1449">
                  <a:moveTo>
                    <a:pt x="114" y="22"/>
                  </a:moveTo>
                  <a:lnTo>
                    <a:pt x="86" y="76"/>
                  </a:lnTo>
                  <a:lnTo>
                    <a:pt x="82" y="140"/>
                  </a:lnTo>
                  <a:lnTo>
                    <a:pt x="95" y="193"/>
                  </a:lnTo>
                  <a:lnTo>
                    <a:pt x="29" y="245"/>
                  </a:lnTo>
                  <a:lnTo>
                    <a:pt x="37" y="309"/>
                  </a:lnTo>
                  <a:lnTo>
                    <a:pt x="0" y="334"/>
                  </a:lnTo>
                  <a:lnTo>
                    <a:pt x="12" y="363"/>
                  </a:lnTo>
                  <a:lnTo>
                    <a:pt x="75" y="433"/>
                  </a:lnTo>
                  <a:lnTo>
                    <a:pt x="78" y="475"/>
                  </a:lnTo>
                  <a:lnTo>
                    <a:pt x="143" y="562"/>
                  </a:lnTo>
                  <a:lnTo>
                    <a:pt x="187" y="574"/>
                  </a:lnTo>
                  <a:lnTo>
                    <a:pt x="196" y="627"/>
                  </a:lnTo>
                  <a:lnTo>
                    <a:pt x="210" y="656"/>
                  </a:lnTo>
                  <a:lnTo>
                    <a:pt x="204" y="779"/>
                  </a:lnTo>
                  <a:lnTo>
                    <a:pt x="187" y="827"/>
                  </a:lnTo>
                  <a:lnTo>
                    <a:pt x="192" y="956"/>
                  </a:lnTo>
                  <a:lnTo>
                    <a:pt x="175" y="1089"/>
                  </a:lnTo>
                  <a:lnTo>
                    <a:pt x="200" y="1108"/>
                  </a:lnTo>
                  <a:lnTo>
                    <a:pt x="187" y="1188"/>
                  </a:lnTo>
                  <a:lnTo>
                    <a:pt x="164" y="1207"/>
                  </a:lnTo>
                  <a:lnTo>
                    <a:pt x="183" y="1295"/>
                  </a:lnTo>
                  <a:lnTo>
                    <a:pt x="219" y="1342"/>
                  </a:lnTo>
                  <a:lnTo>
                    <a:pt x="219" y="1371"/>
                  </a:lnTo>
                  <a:lnTo>
                    <a:pt x="232" y="1390"/>
                  </a:lnTo>
                  <a:lnTo>
                    <a:pt x="213" y="1401"/>
                  </a:lnTo>
                  <a:lnTo>
                    <a:pt x="261" y="1430"/>
                  </a:lnTo>
                  <a:lnTo>
                    <a:pt x="301" y="1430"/>
                  </a:lnTo>
                  <a:lnTo>
                    <a:pt x="356" y="1449"/>
                  </a:lnTo>
                  <a:lnTo>
                    <a:pt x="375" y="1430"/>
                  </a:lnTo>
                  <a:lnTo>
                    <a:pt x="324" y="1401"/>
                  </a:lnTo>
                  <a:lnTo>
                    <a:pt x="306" y="1378"/>
                  </a:lnTo>
                  <a:lnTo>
                    <a:pt x="265" y="1378"/>
                  </a:lnTo>
                  <a:lnTo>
                    <a:pt x="306" y="1348"/>
                  </a:lnTo>
                  <a:lnTo>
                    <a:pt x="268" y="1329"/>
                  </a:lnTo>
                  <a:lnTo>
                    <a:pt x="320" y="1260"/>
                  </a:lnTo>
                  <a:lnTo>
                    <a:pt x="293" y="1232"/>
                  </a:lnTo>
                  <a:lnTo>
                    <a:pt x="284" y="1196"/>
                  </a:lnTo>
                  <a:lnTo>
                    <a:pt x="314" y="1184"/>
                  </a:lnTo>
                  <a:lnTo>
                    <a:pt x="335" y="1148"/>
                  </a:lnTo>
                  <a:lnTo>
                    <a:pt x="360" y="1137"/>
                  </a:lnTo>
                  <a:lnTo>
                    <a:pt x="320" y="1097"/>
                  </a:lnTo>
                  <a:lnTo>
                    <a:pt x="356" y="1089"/>
                  </a:lnTo>
                  <a:lnTo>
                    <a:pt x="381" y="1055"/>
                  </a:lnTo>
                  <a:lnTo>
                    <a:pt x="411" y="1055"/>
                  </a:lnTo>
                  <a:lnTo>
                    <a:pt x="453" y="1015"/>
                  </a:lnTo>
                  <a:lnTo>
                    <a:pt x="434" y="948"/>
                  </a:lnTo>
                  <a:lnTo>
                    <a:pt x="460" y="948"/>
                  </a:lnTo>
                  <a:lnTo>
                    <a:pt x="466" y="967"/>
                  </a:lnTo>
                  <a:lnTo>
                    <a:pt x="519" y="937"/>
                  </a:lnTo>
                  <a:lnTo>
                    <a:pt x="523" y="878"/>
                  </a:lnTo>
                  <a:lnTo>
                    <a:pt x="571" y="874"/>
                  </a:lnTo>
                  <a:lnTo>
                    <a:pt x="588" y="850"/>
                  </a:lnTo>
                  <a:lnTo>
                    <a:pt x="584" y="779"/>
                  </a:lnTo>
                  <a:lnTo>
                    <a:pt x="626" y="762"/>
                  </a:lnTo>
                  <a:lnTo>
                    <a:pt x="630" y="728"/>
                  </a:lnTo>
                  <a:lnTo>
                    <a:pt x="681" y="711"/>
                  </a:lnTo>
                  <a:lnTo>
                    <a:pt x="744" y="644"/>
                  </a:lnTo>
                  <a:lnTo>
                    <a:pt x="744" y="521"/>
                  </a:lnTo>
                  <a:lnTo>
                    <a:pt x="799" y="441"/>
                  </a:lnTo>
                  <a:lnTo>
                    <a:pt x="818" y="363"/>
                  </a:lnTo>
                  <a:lnTo>
                    <a:pt x="767" y="346"/>
                  </a:lnTo>
                  <a:lnTo>
                    <a:pt x="740" y="309"/>
                  </a:lnTo>
                  <a:lnTo>
                    <a:pt x="687" y="304"/>
                  </a:lnTo>
                  <a:lnTo>
                    <a:pt x="666" y="279"/>
                  </a:lnTo>
                  <a:lnTo>
                    <a:pt x="654" y="296"/>
                  </a:lnTo>
                  <a:lnTo>
                    <a:pt x="597" y="256"/>
                  </a:lnTo>
                  <a:lnTo>
                    <a:pt x="580" y="262"/>
                  </a:lnTo>
                  <a:lnTo>
                    <a:pt x="552" y="228"/>
                  </a:lnTo>
                  <a:lnTo>
                    <a:pt x="571" y="211"/>
                  </a:lnTo>
                  <a:lnTo>
                    <a:pt x="544" y="171"/>
                  </a:lnTo>
                  <a:lnTo>
                    <a:pt x="510" y="171"/>
                  </a:lnTo>
                  <a:lnTo>
                    <a:pt x="489" y="146"/>
                  </a:lnTo>
                  <a:lnTo>
                    <a:pt x="434" y="140"/>
                  </a:lnTo>
                  <a:lnTo>
                    <a:pt x="411" y="95"/>
                  </a:lnTo>
                  <a:lnTo>
                    <a:pt x="388" y="89"/>
                  </a:lnTo>
                  <a:lnTo>
                    <a:pt x="371" y="34"/>
                  </a:lnTo>
                  <a:lnTo>
                    <a:pt x="236" y="34"/>
                  </a:lnTo>
                  <a:lnTo>
                    <a:pt x="213" y="0"/>
                  </a:lnTo>
                  <a:lnTo>
                    <a:pt x="187" y="5"/>
                  </a:lnTo>
                  <a:lnTo>
                    <a:pt x="151" y="17"/>
                  </a:lnTo>
                  <a:lnTo>
                    <a:pt x="114" y="22"/>
                  </a:lnTo>
                  <a:lnTo>
                    <a:pt x="114" y="22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55800" y="5207040"/>
              <a:ext cx="61920" cy="2700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8" y="64"/>
                  </a:moveTo>
                  <a:lnTo>
                    <a:pt x="156" y="81"/>
                  </a:lnTo>
                  <a:lnTo>
                    <a:pt x="110" y="64"/>
                  </a:lnTo>
                  <a:lnTo>
                    <a:pt x="61" y="41"/>
                  </a:lnTo>
                  <a:lnTo>
                    <a:pt x="0" y="32"/>
                  </a:lnTo>
                  <a:lnTo>
                    <a:pt x="15" y="15"/>
                  </a:lnTo>
                  <a:lnTo>
                    <a:pt x="65" y="0"/>
                  </a:lnTo>
                  <a:lnTo>
                    <a:pt x="114" y="41"/>
                  </a:lnTo>
                  <a:lnTo>
                    <a:pt x="188" y="64"/>
                  </a:lnTo>
                  <a:lnTo>
                    <a:pt x="188" y="6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5120" y="5240520"/>
              <a:ext cx="47520" cy="11160"/>
            </a:xfrm>
            <a:custGeom>
              <a:avLst/>
              <a:gdLst/>
              <a:ahLst/>
              <a:rect l="l" t="t" r="r" b="b"/>
              <a:pathLst>
                <a:path w="147" h="35">
                  <a:moveTo>
                    <a:pt x="147" y="27"/>
                  </a:moveTo>
                  <a:lnTo>
                    <a:pt x="103" y="0"/>
                  </a:lnTo>
                  <a:lnTo>
                    <a:pt x="42" y="2"/>
                  </a:lnTo>
                  <a:lnTo>
                    <a:pt x="0" y="23"/>
                  </a:lnTo>
                  <a:lnTo>
                    <a:pt x="42" y="27"/>
                  </a:lnTo>
                  <a:lnTo>
                    <a:pt x="103" y="35"/>
                  </a:lnTo>
                  <a:lnTo>
                    <a:pt x="147" y="27"/>
                  </a:lnTo>
                  <a:lnTo>
                    <a:pt x="147" y="27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4800" y="4645080"/>
              <a:ext cx="20880" cy="6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21"/>
                  </a:moveTo>
                  <a:lnTo>
                    <a:pt x="43" y="0"/>
                  </a:lnTo>
                  <a:lnTo>
                    <a:pt x="1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82800" y="5240520"/>
              <a:ext cx="12600" cy="6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66960" y="4657680"/>
              <a:ext cx="6480" cy="50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9" y="1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6680" y="4664160"/>
              <a:ext cx="4680" cy="22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3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78120" y="5126040"/>
              <a:ext cx="9720" cy="9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5" y="0"/>
                  </a:moveTo>
                  <a:lnTo>
                    <a:pt x="0" y="29"/>
                  </a:lnTo>
                  <a:lnTo>
                    <a:pt x="29" y="1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87840" y="5132520"/>
              <a:ext cx="4680" cy="32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3" y="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55760" y="5110200"/>
              <a:ext cx="406440" cy="528840"/>
            </a:xfrm>
            <a:custGeom>
              <a:avLst/>
              <a:gdLst/>
              <a:ahLst/>
              <a:rect l="l" t="t" r="r" b="b"/>
              <a:pathLst>
                <a:path w="1171" h="1525">
                  <a:moveTo>
                    <a:pt x="852" y="144"/>
                  </a:moveTo>
                  <a:lnTo>
                    <a:pt x="724" y="114"/>
                  </a:lnTo>
                  <a:lnTo>
                    <a:pt x="650" y="102"/>
                  </a:lnTo>
                  <a:lnTo>
                    <a:pt x="631" y="133"/>
                  </a:lnTo>
                  <a:lnTo>
                    <a:pt x="587" y="133"/>
                  </a:lnTo>
                  <a:lnTo>
                    <a:pt x="542" y="97"/>
                  </a:lnTo>
                  <a:lnTo>
                    <a:pt x="479" y="87"/>
                  </a:lnTo>
                  <a:lnTo>
                    <a:pt x="496" y="9"/>
                  </a:lnTo>
                  <a:lnTo>
                    <a:pt x="435" y="0"/>
                  </a:lnTo>
                  <a:lnTo>
                    <a:pt x="390" y="9"/>
                  </a:lnTo>
                  <a:lnTo>
                    <a:pt x="338" y="9"/>
                  </a:lnTo>
                  <a:lnTo>
                    <a:pt x="274" y="41"/>
                  </a:lnTo>
                  <a:lnTo>
                    <a:pt x="190" y="47"/>
                  </a:lnTo>
                  <a:lnTo>
                    <a:pt x="156" y="93"/>
                  </a:lnTo>
                  <a:lnTo>
                    <a:pt x="116" y="118"/>
                  </a:lnTo>
                  <a:lnTo>
                    <a:pt x="97" y="184"/>
                  </a:lnTo>
                  <a:lnTo>
                    <a:pt x="55" y="222"/>
                  </a:lnTo>
                  <a:lnTo>
                    <a:pt x="4" y="313"/>
                  </a:lnTo>
                  <a:lnTo>
                    <a:pt x="17" y="386"/>
                  </a:lnTo>
                  <a:lnTo>
                    <a:pt x="0" y="469"/>
                  </a:lnTo>
                  <a:lnTo>
                    <a:pt x="11" y="538"/>
                  </a:lnTo>
                  <a:lnTo>
                    <a:pt x="65" y="574"/>
                  </a:lnTo>
                  <a:lnTo>
                    <a:pt x="80" y="629"/>
                  </a:lnTo>
                  <a:lnTo>
                    <a:pt x="120" y="644"/>
                  </a:lnTo>
                  <a:lnTo>
                    <a:pt x="144" y="682"/>
                  </a:lnTo>
                  <a:lnTo>
                    <a:pt x="222" y="701"/>
                  </a:lnTo>
                  <a:lnTo>
                    <a:pt x="323" y="686"/>
                  </a:lnTo>
                  <a:lnTo>
                    <a:pt x="352" y="650"/>
                  </a:lnTo>
                  <a:lnTo>
                    <a:pt x="399" y="692"/>
                  </a:lnTo>
                  <a:lnTo>
                    <a:pt x="451" y="692"/>
                  </a:lnTo>
                  <a:lnTo>
                    <a:pt x="471" y="718"/>
                  </a:lnTo>
                  <a:lnTo>
                    <a:pt x="431" y="768"/>
                  </a:lnTo>
                  <a:lnTo>
                    <a:pt x="435" y="834"/>
                  </a:lnTo>
                  <a:lnTo>
                    <a:pt x="496" y="893"/>
                  </a:lnTo>
                  <a:lnTo>
                    <a:pt x="506" y="975"/>
                  </a:lnTo>
                  <a:lnTo>
                    <a:pt x="490" y="1053"/>
                  </a:lnTo>
                  <a:lnTo>
                    <a:pt x="483" y="1104"/>
                  </a:lnTo>
                  <a:lnTo>
                    <a:pt x="464" y="1150"/>
                  </a:lnTo>
                  <a:lnTo>
                    <a:pt x="483" y="1177"/>
                  </a:lnTo>
                  <a:lnTo>
                    <a:pt x="487" y="1213"/>
                  </a:lnTo>
                  <a:lnTo>
                    <a:pt x="528" y="1245"/>
                  </a:lnTo>
                  <a:lnTo>
                    <a:pt x="559" y="1382"/>
                  </a:lnTo>
                  <a:lnTo>
                    <a:pt x="578" y="1403"/>
                  </a:lnTo>
                  <a:lnTo>
                    <a:pt x="578" y="1502"/>
                  </a:lnTo>
                  <a:lnTo>
                    <a:pt x="599" y="1525"/>
                  </a:lnTo>
                  <a:lnTo>
                    <a:pt x="696" y="1525"/>
                  </a:lnTo>
                  <a:lnTo>
                    <a:pt x="757" y="1490"/>
                  </a:lnTo>
                  <a:lnTo>
                    <a:pt x="772" y="1435"/>
                  </a:lnTo>
                  <a:lnTo>
                    <a:pt x="795" y="1420"/>
                  </a:lnTo>
                  <a:lnTo>
                    <a:pt x="795" y="1367"/>
                  </a:lnTo>
                  <a:lnTo>
                    <a:pt x="836" y="1346"/>
                  </a:lnTo>
                  <a:lnTo>
                    <a:pt x="884" y="1295"/>
                  </a:lnTo>
                  <a:lnTo>
                    <a:pt x="884" y="1253"/>
                  </a:lnTo>
                  <a:lnTo>
                    <a:pt x="865" y="1213"/>
                  </a:lnTo>
                  <a:lnTo>
                    <a:pt x="888" y="1186"/>
                  </a:lnTo>
                  <a:lnTo>
                    <a:pt x="970" y="1156"/>
                  </a:lnTo>
                  <a:lnTo>
                    <a:pt x="981" y="1108"/>
                  </a:lnTo>
                  <a:lnTo>
                    <a:pt x="977" y="1046"/>
                  </a:lnTo>
                  <a:lnTo>
                    <a:pt x="966" y="1026"/>
                  </a:lnTo>
                  <a:lnTo>
                    <a:pt x="966" y="924"/>
                  </a:lnTo>
                  <a:lnTo>
                    <a:pt x="998" y="861"/>
                  </a:lnTo>
                  <a:lnTo>
                    <a:pt x="1053" y="808"/>
                  </a:lnTo>
                  <a:lnTo>
                    <a:pt x="1093" y="789"/>
                  </a:lnTo>
                  <a:lnTo>
                    <a:pt x="1125" y="741"/>
                  </a:lnTo>
                  <a:lnTo>
                    <a:pt x="1129" y="711"/>
                  </a:lnTo>
                  <a:lnTo>
                    <a:pt x="1162" y="682"/>
                  </a:lnTo>
                  <a:lnTo>
                    <a:pt x="1171" y="629"/>
                  </a:lnTo>
                  <a:lnTo>
                    <a:pt x="1162" y="587"/>
                  </a:lnTo>
                  <a:lnTo>
                    <a:pt x="1135" y="587"/>
                  </a:lnTo>
                  <a:lnTo>
                    <a:pt x="1118" y="604"/>
                  </a:lnTo>
                  <a:lnTo>
                    <a:pt x="1053" y="599"/>
                  </a:lnTo>
                  <a:lnTo>
                    <a:pt x="949" y="469"/>
                  </a:lnTo>
                  <a:lnTo>
                    <a:pt x="933" y="397"/>
                  </a:lnTo>
                  <a:lnTo>
                    <a:pt x="884" y="251"/>
                  </a:lnTo>
                  <a:lnTo>
                    <a:pt x="855" y="165"/>
                  </a:lnTo>
                  <a:lnTo>
                    <a:pt x="852" y="144"/>
                  </a:lnTo>
                  <a:lnTo>
                    <a:pt x="852" y="14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11440" y="5473800"/>
              <a:ext cx="39600" cy="88920"/>
            </a:xfrm>
            <a:custGeom>
              <a:avLst/>
              <a:gdLst/>
              <a:ahLst/>
              <a:rect l="l" t="t" r="r" b="b"/>
              <a:pathLst>
                <a:path w="120" h="270">
                  <a:moveTo>
                    <a:pt x="91" y="4"/>
                  </a:moveTo>
                  <a:lnTo>
                    <a:pt x="70" y="63"/>
                  </a:lnTo>
                  <a:lnTo>
                    <a:pt x="10" y="97"/>
                  </a:lnTo>
                  <a:lnTo>
                    <a:pt x="0" y="199"/>
                  </a:lnTo>
                  <a:lnTo>
                    <a:pt x="13" y="270"/>
                  </a:lnTo>
                  <a:lnTo>
                    <a:pt x="70" y="270"/>
                  </a:lnTo>
                  <a:lnTo>
                    <a:pt x="101" y="142"/>
                  </a:lnTo>
                  <a:lnTo>
                    <a:pt x="120" y="66"/>
                  </a:lnTo>
                  <a:lnTo>
                    <a:pt x="105" y="0"/>
                  </a:lnTo>
                  <a:lnTo>
                    <a:pt x="91" y="4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22440" y="4700880"/>
              <a:ext cx="71640" cy="41040"/>
            </a:xfrm>
            <a:custGeom>
              <a:avLst/>
              <a:gdLst/>
              <a:ahLst/>
              <a:rect l="l" t="t" r="r" b="b"/>
              <a:pathLst>
                <a:path w="216" h="123">
                  <a:moveTo>
                    <a:pt x="216" y="78"/>
                  </a:moveTo>
                  <a:lnTo>
                    <a:pt x="163" y="61"/>
                  </a:lnTo>
                  <a:lnTo>
                    <a:pt x="106" y="4"/>
                  </a:lnTo>
                  <a:lnTo>
                    <a:pt x="76" y="0"/>
                  </a:lnTo>
                  <a:lnTo>
                    <a:pt x="66" y="19"/>
                  </a:lnTo>
                  <a:lnTo>
                    <a:pt x="3" y="19"/>
                  </a:lnTo>
                  <a:lnTo>
                    <a:pt x="0" y="45"/>
                  </a:lnTo>
                  <a:lnTo>
                    <a:pt x="53" y="68"/>
                  </a:lnTo>
                  <a:lnTo>
                    <a:pt x="38" y="85"/>
                  </a:lnTo>
                  <a:lnTo>
                    <a:pt x="70" y="123"/>
                  </a:lnTo>
                  <a:lnTo>
                    <a:pt x="108" y="99"/>
                  </a:lnTo>
                  <a:lnTo>
                    <a:pt x="133" y="51"/>
                  </a:lnTo>
                  <a:lnTo>
                    <a:pt x="159" y="72"/>
                  </a:lnTo>
                  <a:lnTo>
                    <a:pt x="138" y="95"/>
                  </a:lnTo>
                  <a:lnTo>
                    <a:pt x="186" y="110"/>
                  </a:lnTo>
                  <a:lnTo>
                    <a:pt x="211" y="99"/>
                  </a:lnTo>
                  <a:lnTo>
                    <a:pt x="216" y="78"/>
                  </a:lnTo>
                  <a:lnTo>
                    <a:pt x="216" y="78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63840" y="4700880"/>
              <a:ext cx="39600" cy="1260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0" y="4"/>
                  </a:moveTo>
                  <a:lnTo>
                    <a:pt x="116" y="0"/>
                  </a:lnTo>
                  <a:lnTo>
                    <a:pt x="124" y="19"/>
                  </a:lnTo>
                  <a:lnTo>
                    <a:pt x="99" y="26"/>
                  </a:lnTo>
                  <a:lnTo>
                    <a:pt x="61" y="40"/>
                  </a:lnTo>
                  <a:lnTo>
                    <a:pt x="25" y="28"/>
                  </a:lnTo>
                  <a:lnTo>
                    <a:pt x="48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57520" y="4738680"/>
              <a:ext cx="79200" cy="63720"/>
            </a:xfrm>
            <a:custGeom>
              <a:avLst/>
              <a:gdLst/>
              <a:ahLst/>
              <a:rect l="l" t="t" r="r" b="b"/>
              <a:pathLst>
                <a:path w="238" h="192">
                  <a:moveTo>
                    <a:pt x="238" y="2"/>
                  </a:moveTo>
                  <a:lnTo>
                    <a:pt x="198" y="0"/>
                  </a:lnTo>
                  <a:lnTo>
                    <a:pt x="168" y="23"/>
                  </a:lnTo>
                  <a:lnTo>
                    <a:pt x="94" y="40"/>
                  </a:lnTo>
                  <a:lnTo>
                    <a:pt x="38" y="61"/>
                  </a:lnTo>
                  <a:lnTo>
                    <a:pt x="21" y="106"/>
                  </a:lnTo>
                  <a:lnTo>
                    <a:pt x="0" y="163"/>
                  </a:lnTo>
                  <a:lnTo>
                    <a:pt x="38" y="192"/>
                  </a:lnTo>
                  <a:lnTo>
                    <a:pt x="84" y="182"/>
                  </a:lnTo>
                  <a:lnTo>
                    <a:pt x="59" y="154"/>
                  </a:lnTo>
                  <a:lnTo>
                    <a:pt x="88" y="83"/>
                  </a:lnTo>
                  <a:lnTo>
                    <a:pt x="151" y="53"/>
                  </a:lnTo>
                  <a:lnTo>
                    <a:pt x="238" y="26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89120" y="4691160"/>
              <a:ext cx="46080" cy="1908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122" y="33"/>
                  </a:moveTo>
                  <a:lnTo>
                    <a:pt x="141" y="52"/>
                  </a:lnTo>
                  <a:lnTo>
                    <a:pt x="91" y="57"/>
                  </a:lnTo>
                  <a:lnTo>
                    <a:pt x="42" y="19"/>
                  </a:lnTo>
                  <a:lnTo>
                    <a:pt x="0" y="33"/>
                  </a:lnTo>
                  <a:lnTo>
                    <a:pt x="13" y="16"/>
                  </a:lnTo>
                  <a:lnTo>
                    <a:pt x="59" y="0"/>
                  </a:lnTo>
                  <a:lnTo>
                    <a:pt x="101" y="29"/>
                  </a:lnTo>
                  <a:lnTo>
                    <a:pt x="122" y="33"/>
                  </a:lnTo>
                  <a:lnTo>
                    <a:pt x="122" y="33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44960" y="5018040"/>
              <a:ext cx="29880" cy="82800"/>
            </a:xfrm>
            <a:custGeom>
              <a:avLst/>
              <a:gdLst/>
              <a:ahLst/>
              <a:rect l="l" t="t" r="r" b="b"/>
              <a:pathLst>
                <a:path w="95" h="253">
                  <a:moveTo>
                    <a:pt x="0" y="0"/>
                  </a:moveTo>
                  <a:lnTo>
                    <a:pt x="16" y="95"/>
                  </a:lnTo>
                  <a:lnTo>
                    <a:pt x="23" y="253"/>
                  </a:lnTo>
                  <a:lnTo>
                    <a:pt x="67" y="213"/>
                  </a:lnTo>
                  <a:lnTo>
                    <a:pt x="36" y="143"/>
                  </a:lnTo>
                  <a:lnTo>
                    <a:pt x="54" y="118"/>
                  </a:lnTo>
                  <a:lnTo>
                    <a:pt x="78" y="152"/>
                  </a:lnTo>
                  <a:lnTo>
                    <a:pt x="95" y="135"/>
                  </a:lnTo>
                  <a:lnTo>
                    <a:pt x="59" y="105"/>
                  </a:lnTo>
                  <a:lnTo>
                    <a:pt x="42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06800" y="5108760"/>
              <a:ext cx="58680" cy="5724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128" y="0"/>
                  </a:moveTo>
                  <a:lnTo>
                    <a:pt x="134" y="62"/>
                  </a:lnTo>
                  <a:lnTo>
                    <a:pt x="92" y="116"/>
                  </a:lnTo>
                  <a:lnTo>
                    <a:pt x="20" y="133"/>
                  </a:lnTo>
                  <a:lnTo>
                    <a:pt x="0" y="156"/>
                  </a:lnTo>
                  <a:lnTo>
                    <a:pt x="92" y="148"/>
                  </a:lnTo>
                  <a:lnTo>
                    <a:pt x="111" y="171"/>
                  </a:lnTo>
                  <a:lnTo>
                    <a:pt x="185" y="108"/>
                  </a:lnTo>
                  <a:lnTo>
                    <a:pt x="172" y="62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65400" y="5219640"/>
              <a:ext cx="17640" cy="2700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49" y="0"/>
                  </a:moveTo>
                  <a:lnTo>
                    <a:pt x="11" y="0"/>
                  </a:lnTo>
                  <a:lnTo>
                    <a:pt x="0" y="55"/>
                  </a:lnTo>
                  <a:lnTo>
                    <a:pt x="6" y="80"/>
                  </a:lnTo>
                  <a:lnTo>
                    <a:pt x="36" y="4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2160" y="5264280"/>
              <a:ext cx="27000" cy="5076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6" y="0"/>
                  </a:moveTo>
                  <a:lnTo>
                    <a:pt x="37" y="16"/>
                  </a:lnTo>
                  <a:lnTo>
                    <a:pt x="37" y="71"/>
                  </a:lnTo>
                  <a:lnTo>
                    <a:pt x="80" y="111"/>
                  </a:lnTo>
                  <a:lnTo>
                    <a:pt x="73" y="158"/>
                  </a:lnTo>
                  <a:lnTo>
                    <a:pt x="48" y="120"/>
                  </a:lnTo>
                  <a:lnTo>
                    <a:pt x="0" y="8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03480" y="5335560"/>
              <a:ext cx="54000" cy="6984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152" y="23"/>
                  </a:moveTo>
                  <a:lnTo>
                    <a:pt x="135" y="0"/>
                  </a:lnTo>
                  <a:lnTo>
                    <a:pt x="80" y="78"/>
                  </a:lnTo>
                  <a:lnTo>
                    <a:pt x="5" y="101"/>
                  </a:lnTo>
                  <a:lnTo>
                    <a:pt x="0" y="141"/>
                  </a:lnTo>
                  <a:lnTo>
                    <a:pt x="43" y="203"/>
                  </a:lnTo>
                  <a:lnTo>
                    <a:pt x="110" y="211"/>
                  </a:lnTo>
                  <a:lnTo>
                    <a:pt x="135" y="158"/>
                  </a:lnTo>
                  <a:lnTo>
                    <a:pt x="165" y="133"/>
                  </a:lnTo>
                  <a:lnTo>
                    <a:pt x="152" y="85"/>
                  </a:lnTo>
                  <a:lnTo>
                    <a:pt x="165" y="53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57480" y="5369040"/>
              <a:ext cx="39600" cy="5724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0"/>
                  </a:moveTo>
                  <a:lnTo>
                    <a:pt x="93" y="15"/>
                  </a:lnTo>
                  <a:lnTo>
                    <a:pt x="31" y="22"/>
                  </a:lnTo>
                  <a:lnTo>
                    <a:pt x="0" y="70"/>
                  </a:lnTo>
                  <a:lnTo>
                    <a:pt x="0" y="119"/>
                  </a:lnTo>
                  <a:lnTo>
                    <a:pt x="0" y="173"/>
                  </a:lnTo>
                  <a:lnTo>
                    <a:pt x="44" y="110"/>
                  </a:lnTo>
                  <a:lnTo>
                    <a:pt x="69" y="135"/>
                  </a:lnTo>
                  <a:lnTo>
                    <a:pt x="80" y="102"/>
                  </a:lnTo>
                  <a:lnTo>
                    <a:pt x="61" y="80"/>
                  </a:lnTo>
                  <a:lnTo>
                    <a:pt x="80" y="47"/>
                  </a:lnTo>
                  <a:lnTo>
                    <a:pt x="50" y="40"/>
                  </a:lnTo>
                  <a:lnTo>
                    <a:pt x="103" y="3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75120" y="5318280"/>
              <a:ext cx="31680" cy="3024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66" y="0"/>
                  </a:moveTo>
                  <a:lnTo>
                    <a:pt x="47" y="30"/>
                  </a:lnTo>
                  <a:lnTo>
                    <a:pt x="11" y="38"/>
                  </a:lnTo>
                  <a:lnTo>
                    <a:pt x="0" y="70"/>
                  </a:lnTo>
                  <a:lnTo>
                    <a:pt x="36" y="55"/>
                  </a:lnTo>
                  <a:lnTo>
                    <a:pt x="43" y="93"/>
                  </a:lnTo>
                  <a:lnTo>
                    <a:pt x="96" y="55"/>
                  </a:lnTo>
                  <a:lnTo>
                    <a:pt x="74" y="3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19600" y="5340600"/>
              <a:ext cx="71280" cy="81000"/>
            </a:xfrm>
            <a:custGeom>
              <a:avLst/>
              <a:gdLst/>
              <a:ahLst/>
              <a:rect l="l" t="t" r="r" b="b"/>
              <a:pathLst>
                <a:path w="215" h="244">
                  <a:moveTo>
                    <a:pt x="0" y="0"/>
                  </a:moveTo>
                  <a:lnTo>
                    <a:pt x="49" y="23"/>
                  </a:lnTo>
                  <a:lnTo>
                    <a:pt x="93" y="95"/>
                  </a:lnTo>
                  <a:lnTo>
                    <a:pt x="160" y="148"/>
                  </a:lnTo>
                  <a:lnTo>
                    <a:pt x="215" y="181"/>
                  </a:lnTo>
                  <a:lnTo>
                    <a:pt x="196" y="244"/>
                  </a:lnTo>
                  <a:lnTo>
                    <a:pt x="129" y="221"/>
                  </a:lnTo>
                  <a:lnTo>
                    <a:pt x="74" y="118"/>
                  </a:lnTo>
                  <a:lnTo>
                    <a:pt x="32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95560" y="5421600"/>
              <a:ext cx="104760" cy="25200"/>
            </a:xfrm>
            <a:custGeom>
              <a:avLst/>
              <a:gdLst/>
              <a:ahLst/>
              <a:rect l="l" t="t" r="r" b="b"/>
              <a:pathLst>
                <a:path w="319" h="77">
                  <a:moveTo>
                    <a:pt x="0" y="0"/>
                  </a:moveTo>
                  <a:lnTo>
                    <a:pt x="82" y="32"/>
                  </a:lnTo>
                  <a:lnTo>
                    <a:pt x="215" y="62"/>
                  </a:lnTo>
                  <a:lnTo>
                    <a:pt x="319" y="39"/>
                  </a:lnTo>
                  <a:lnTo>
                    <a:pt x="293" y="72"/>
                  </a:lnTo>
                  <a:lnTo>
                    <a:pt x="135" y="77"/>
                  </a:lnTo>
                  <a:lnTo>
                    <a:pt x="21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16160" y="5388120"/>
              <a:ext cx="181080" cy="71280"/>
            </a:xfrm>
            <a:custGeom>
              <a:avLst/>
              <a:gdLst/>
              <a:ahLst/>
              <a:rect l="l" t="t" r="r" b="b"/>
              <a:pathLst>
                <a:path w="549" h="217">
                  <a:moveTo>
                    <a:pt x="97" y="38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80" y="45"/>
                  </a:lnTo>
                  <a:lnTo>
                    <a:pt x="30" y="53"/>
                  </a:lnTo>
                  <a:lnTo>
                    <a:pt x="38" y="78"/>
                  </a:lnTo>
                  <a:lnTo>
                    <a:pt x="141" y="101"/>
                  </a:lnTo>
                  <a:lnTo>
                    <a:pt x="123" y="154"/>
                  </a:lnTo>
                  <a:lnTo>
                    <a:pt x="207" y="173"/>
                  </a:lnTo>
                  <a:lnTo>
                    <a:pt x="239" y="154"/>
                  </a:lnTo>
                  <a:lnTo>
                    <a:pt x="300" y="211"/>
                  </a:lnTo>
                  <a:lnTo>
                    <a:pt x="399" y="211"/>
                  </a:lnTo>
                  <a:lnTo>
                    <a:pt x="416" y="173"/>
                  </a:lnTo>
                  <a:lnTo>
                    <a:pt x="534" y="217"/>
                  </a:lnTo>
                  <a:lnTo>
                    <a:pt x="549" y="178"/>
                  </a:lnTo>
                  <a:lnTo>
                    <a:pt x="460" y="163"/>
                  </a:lnTo>
                  <a:lnTo>
                    <a:pt x="386" y="85"/>
                  </a:lnTo>
                  <a:lnTo>
                    <a:pt x="319" y="110"/>
                  </a:lnTo>
                  <a:lnTo>
                    <a:pt x="207" y="78"/>
                  </a:lnTo>
                  <a:lnTo>
                    <a:pt x="135" y="23"/>
                  </a:lnTo>
                  <a:lnTo>
                    <a:pt x="97" y="38"/>
                  </a:lnTo>
                  <a:lnTo>
                    <a:pt x="97" y="38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43160" y="4837320"/>
              <a:ext cx="58680" cy="3636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120" y="0"/>
                  </a:moveTo>
                  <a:lnTo>
                    <a:pt x="84" y="25"/>
                  </a:lnTo>
                  <a:lnTo>
                    <a:pt x="53" y="25"/>
                  </a:lnTo>
                  <a:lnTo>
                    <a:pt x="40" y="8"/>
                  </a:lnTo>
                  <a:lnTo>
                    <a:pt x="0" y="38"/>
                  </a:lnTo>
                  <a:lnTo>
                    <a:pt x="19" y="74"/>
                  </a:lnTo>
                  <a:lnTo>
                    <a:pt x="17" y="99"/>
                  </a:lnTo>
                  <a:lnTo>
                    <a:pt x="99" y="105"/>
                  </a:lnTo>
                  <a:lnTo>
                    <a:pt x="127" y="84"/>
                  </a:lnTo>
                  <a:lnTo>
                    <a:pt x="165" y="76"/>
                  </a:lnTo>
                  <a:lnTo>
                    <a:pt x="169" y="8"/>
                  </a:lnTo>
                  <a:lnTo>
                    <a:pt x="137" y="1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36760" y="4911840"/>
              <a:ext cx="42840" cy="85680"/>
            </a:xfrm>
            <a:custGeom>
              <a:avLst/>
              <a:gdLst/>
              <a:ahLst/>
              <a:rect l="l" t="t" r="r" b="b"/>
              <a:pathLst>
                <a:path w="119" h="251">
                  <a:moveTo>
                    <a:pt x="66" y="2"/>
                  </a:moveTo>
                  <a:lnTo>
                    <a:pt x="72" y="38"/>
                  </a:lnTo>
                  <a:lnTo>
                    <a:pt x="43" y="63"/>
                  </a:lnTo>
                  <a:lnTo>
                    <a:pt x="70" y="63"/>
                  </a:lnTo>
                  <a:lnTo>
                    <a:pt x="80" y="80"/>
                  </a:lnTo>
                  <a:lnTo>
                    <a:pt x="66" y="103"/>
                  </a:lnTo>
                  <a:lnTo>
                    <a:pt x="93" y="118"/>
                  </a:lnTo>
                  <a:lnTo>
                    <a:pt x="97" y="158"/>
                  </a:lnTo>
                  <a:lnTo>
                    <a:pt x="116" y="173"/>
                  </a:lnTo>
                  <a:lnTo>
                    <a:pt x="119" y="198"/>
                  </a:lnTo>
                  <a:lnTo>
                    <a:pt x="80" y="219"/>
                  </a:lnTo>
                  <a:lnTo>
                    <a:pt x="32" y="236"/>
                  </a:lnTo>
                  <a:lnTo>
                    <a:pt x="3" y="251"/>
                  </a:lnTo>
                  <a:lnTo>
                    <a:pt x="21" y="224"/>
                  </a:lnTo>
                  <a:lnTo>
                    <a:pt x="32" y="215"/>
                  </a:lnTo>
                  <a:lnTo>
                    <a:pt x="13" y="211"/>
                  </a:lnTo>
                  <a:lnTo>
                    <a:pt x="28" y="181"/>
                  </a:lnTo>
                  <a:lnTo>
                    <a:pt x="17" y="167"/>
                  </a:lnTo>
                  <a:lnTo>
                    <a:pt x="40" y="167"/>
                  </a:lnTo>
                  <a:lnTo>
                    <a:pt x="51" y="146"/>
                  </a:lnTo>
                  <a:lnTo>
                    <a:pt x="32" y="129"/>
                  </a:lnTo>
                  <a:lnTo>
                    <a:pt x="0" y="101"/>
                  </a:lnTo>
                  <a:lnTo>
                    <a:pt x="0" y="48"/>
                  </a:lnTo>
                  <a:lnTo>
                    <a:pt x="17" y="38"/>
                  </a:lnTo>
                  <a:lnTo>
                    <a:pt x="51" y="27"/>
                  </a:lnTo>
                  <a:lnTo>
                    <a:pt x="61" y="0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14440" y="4948200"/>
              <a:ext cx="25560" cy="38160"/>
            </a:xfrm>
            <a:custGeom>
              <a:avLst/>
              <a:gdLst/>
              <a:ahLst/>
              <a:rect l="l" t="t" r="r" b="b"/>
              <a:pathLst>
                <a:path w="72" h="112">
                  <a:moveTo>
                    <a:pt x="72" y="28"/>
                  </a:moveTo>
                  <a:lnTo>
                    <a:pt x="61" y="51"/>
                  </a:lnTo>
                  <a:lnTo>
                    <a:pt x="72" y="91"/>
                  </a:lnTo>
                  <a:lnTo>
                    <a:pt x="50" y="112"/>
                  </a:lnTo>
                  <a:lnTo>
                    <a:pt x="0" y="108"/>
                  </a:lnTo>
                  <a:lnTo>
                    <a:pt x="14" y="62"/>
                  </a:lnTo>
                  <a:lnTo>
                    <a:pt x="6" y="24"/>
                  </a:lnTo>
                  <a:lnTo>
                    <a:pt x="46" y="0"/>
                  </a:lnTo>
                  <a:lnTo>
                    <a:pt x="72" y="28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14440" y="4749840"/>
              <a:ext cx="982800" cy="625680"/>
            </a:xfrm>
            <a:custGeom>
              <a:avLst/>
              <a:gdLst/>
              <a:ahLst/>
              <a:rect l="l" t="t" r="r" b="b"/>
              <a:pathLst>
                <a:path w="2537" h="1618">
                  <a:moveTo>
                    <a:pt x="2468" y="327"/>
                  </a:moveTo>
                  <a:lnTo>
                    <a:pt x="2458" y="318"/>
                  </a:lnTo>
                  <a:lnTo>
                    <a:pt x="2444" y="304"/>
                  </a:lnTo>
                  <a:lnTo>
                    <a:pt x="2425" y="284"/>
                  </a:lnTo>
                  <a:lnTo>
                    <a:pt x="2339" y="214"/>
                  </a:lnTo>
                  <a:lnTo>
                    <a:pt x="2252" y="211"/>
                  </a:lnTo>
                  <a:lnTo>
                    <a:pt x="2209" y="191"/>
                  </a:lnTo>
                  <a:lnTo>
                    <a:pt x="2108" y="177"/>
                  </a:lnTo>
                  <a:lnTo>
                    <a:pt x="2069" y="147"/>
                  </a:lnTo>
                  <a:lnTo>
                    <a:pt x="1939" y="121"/>
                  </a:lnTo>
                  <a:lnTo>
                    <a:pt x="1950" y="147"/>
                  </a:lnTo>
                  <a:lnTo>
                    <a:pt x="1900" y="147"/>
                  </a:lnTo>
                  <a:lnTo>
                    <a:pt x="1836" y="141"/>
                  </a:lnTo>
                  <a:lnTo>
                    <a:pt x="1824" y="169"/>
                  </a:lnTo>
                  <a:lnTo>
                    <a:pt x="1765" y="113"/>
                  </a:lnTo>
                  <a:lnTo>
                    <a:pt x="1662" y="92"/>
                  </a:lnTo>
                  <a:lnTo>
                    <a:pt x="1569" y="85"/>
                  </a:lnTo>
                  <a:lnTo>
                    <a:pt x="1591" y="22"/>
                  </a:lnTo>
                  <a:lnTo>
                    <a:pt x="1488" y="0"/>
                  </a:lnTo>
                  <a:lnTo>
                    <a:pt x="1395" y="36"/>
                  </a:lnTo>
                  <a:lnTo>
                    <a:pt x="1270" y="56"/>
                  </a:lnTo>
                  <a:lnTo>
                    <a:pt x="1244" y="99"/>
                  </a:lnTo>
                  <a:lnTo>
                    <a:pt x="1191" y="106"/>
                  </a:lnTo>
                  <a:lnTo>
                    <a:pt x="1191" y="141"/>
                  </a:lnTo>
                  <a:lnTo>
                    <a:pt x="1140" y="147"/>
                  </a:lnTo>
                  <a:lnTo>
                    <a:pt x="1113" y="121"/>
                  </a:lnTo>
                  <a:lnTo>
                    <a:pt x="1130" y="191"/>
                  </a:lnTo>
                  <a:lnTo>
                    <a:pt x="1081" y="113"/>
                  </a:lnTo>
                  <a:lnTo>
                    <a:pt x="1017" y="128"/>
                  </a:lnTo>
                  <a:lnTo>
                    <a:pt x="988" y="191"/>
                  </a:lnTo>
                  <a:lnTo>
                    <a:pt x="927" y="155"/>
                  </a:lnTo>
                  <a:lnTo>
                    <a:pt x="907" y="177"/>
                  </a:lnTo>
                  <a:lnTo>
                    <a:pt x="895" y="206"/>
                  </a:lnTo>
                  <a:lnTo>
                    <a:pt x="814" y="211"/>
                  </a:lnTo>
                  <a:lnTo>
                    <a:pt x="770" y="245"/>
                  </a:lnTo>
                  <a:lnTo>
                    <a:pt x="743" y="211"/>
                  </a:lnTo>
                  <a:lnTo>
                    <a:pt x="706" y="206"/>
                  </a:lnTo>
                  <a:lnTo>
                    <a:pt x="723" y="262"/>
                  </a:lnTo>
                  <a:lnTo>
                    <a:pt x="679" y="305"/>
                  </a:lnTo>
                  <a:lnTo>
                    <a:pt x="625" y="305"/>
                  </a:lnTo>
                  <a:lnTo>
                    <a:pt x="576" y="245"/>
                  </a:lnTo>
                  <a:lnTo>
                    <a:pt x="625" y="245"/>
                  </a:lnTo>
                  <a:lnTo>
                    <a:pt x="652" y="267"/>
                  </a:lnTo>
                  <a:lnTo>
                    <a:pt x="701" y="254"/>
                  </a:lnTo>
                  <a:lnTo>
                    <a:pt x="657" y="198"/>
                  </a:lnTo>
                  <a:lnTo>
                    <a:pt x="586" y="155"/>
                  </a:lnTo>
                  <a:lnTo>
                    <a:pt x="569" y="169"/>
                  </a:lnTo>
                  <a:lnTo>
                    <a:pt x="530" y="141"/>
                  </a:lnTo>
                  <a:lnTo>
                    <a:pt x="505" y="155"/>
                  </a:lnTo>
                  <a:lnTo>
                    <a:pt x="451" y="141"/>
                  </a:lnTo>
                  <a:lnTo>
                    <a:pt x="417" y="162"/>
                  </a:lnTo>
                  <a:lnTo>
                    <a:pt x="353" y="169"/>
                  </a:lnTo>
                  <a:lnTo>
                    <a:pt x="309" y="211"/>
                  </a:lnTo>
                  <a:lnTo>
                    <a:pt x="341" y="220"/>
                  </a:lnTo>
                  <a:lnTo>
                    <a:pt x="309" y="296"/>
                  </a:lnTo>
                  <a:lnTo>
                    <a:pt x="223" y="352"/>
                  </a:lnTo>
                  <a:lnTo>
                    <a:pt x="211" y="422"/>
                  </a:lnTo>
                  <a:lnTo>
                    <a:pt x="250" y="451"/>
                  </a:lnTo>
                  <a:lnTo>
                    <a:pt x="287" y="443"/>
                  </a:lnTo>
                  <a:lnTo>
                    <a:pt x="309" y="471"/>
                  </a:lnTo>
                  <a:lnTo>
                    <a:pt x="333" y="519"/>
                  </a:lnTo>
                  <a:lnTo>
                    <a:pt x="370" y="507"/>
                  </a:lnTo>
                  <a:lnTo>
                    <a:pt x="392" y="437"/>
                  </a:lnTo>
                  <a:lnTo>
                    <a:pt x="412" y="422"/>
                  </a:lnTo>
                  <a:lnTo>
                    <a:pt x="385" y="352"/>
                  </a:lnTo>
                  <a:lnTo>
                    <a:pt x="436" y="283"/>
                  </a:lnTo>
                  <a:lnTo>
                    <a:pt x="478" y="275"/>
                  </a:lnTo>
                  <a:lnTo>
                    <a:pt x="440" y="330"/>
                  </a:lnTo>
                  <a:lnTo>
                    <a:pt x="440" y="409"/>
                  </a:lnTo>
                  <a:lnTo>
                    <a:pt x="530" y="417"/>
                  </a:lnTo>
                  <a:lnTo>
                    <a:pt x="466" y="437"/>
                  </a:lnTo>
                  <a:lnTo>
                    <a:pt x="478" y="464"/>
                  </a:lnTo>
                  <a:lnTo>
                    <a:pt x="436" y="451"/>
                  </a:lnTo>
                  <a:lnTo>
                    <a:pt x="429" y="498"/>
                  </a:lnTo>
                  <a:lnTo>
                    <a:pt x="370" y="541"/>
                  </a:lnTo>
                  <a:lnTo>
                    <a:pt x="333" y="528"/>
                  </a:lnTo>
                  <a:lnTo>
                    <a:pt x="287" y="528"/>
                  </a:lnTo>
                  <a:lnTo>
                    <a:pt x="287" y="479"/>
                  </a:lnTo>
                  <a:lnTo>
                    <a:pt x="255" y="471"/>
                  </a:lnTo>
                  <a:lnTo>
                    <a:pt x="238" y="498"/>
                  </a:lnTo>
                  <a:lnTo>
                    <a:pt x="255" y="536"/>
                  </a:lnTo>
                  <a:lnTo>
                    <a:pt x="206" y="549"/>
                  </a:lnTo>
                  <a:lnTo>
                    <a:pt x="191" y="597"/>
                  </a:lnTo>
                  <a:lnTo>
                    <a:pt x="131" y="640"/>
                  </a:lnTo>
                  <a:lnTo>
                    <a:pt x="61" y="669"/>
                  </a:lnTo>
                  <a:lnTo>
                    <a:pt x="86" y="696"/>
                  </a:lnTo>
                  <a:lnTo>
                    <a:pt x="114" y="716"/>
                  </a:lnTo>
                  <a:lnTo>
                    <a:pt x="98" y="767"/>
                  </a:lnTo>
                  <a:lnTo>
                    <a:pt x="54" y="752"/>
                  </a:lnTo>
                  <a:lnTo>
                    <a:pt x="0" y="773"/>
                  </a:lnTo>
                  <a:lnTo>
                    <a:pt x="0" y="830"/>
                  </a:lnTo>
                  <a:lnTo>
                    <a:pt x="17" y="885"/>
                  </a:lnTo>
                  <a:lnTo>
                    <a:pt x="54" y="900"/>
                  </a:lnTo>
                  <a:lnTo>
                    <a:pt x="147" y="871"/>
                  </a:lnTo>
                  <a:lnTo>
                    <a:pt x="133" y="837"/>
                  </a:lnTo>
                  <a:lnTo>
                    <a:pt x="164" y="815"/>
                  </a:lnTo>
                  <a:lnTo>
                    <a:pt x="200" y="801"/>
                  </a:lnTo>
                  <a:lnTo>
                    <a:pt x="200" y="781"/>
                  </a:lnTo>
                  <a:lnTo>
                    <a:pt x="272" y="760"/>
                  </a:lnTo>
                  <a:lnTo>
                    <a:pt x="309" y="794"/>
                  </a:lnTo>
                  <a:lnTo>
                    <a:pt x="348" y="815"/>
                  </a:lnTo>
                  <a:lnTo>
                    <a:pt x="358" y="871"/>
                  </a:lnTo>
                  <a:lnTo>
                    <a:pt x="380" y="864"/>
                  </a:lnTo>
                  <a:lnTo>
                    <a:pt x="380" y="837"/>
                  </a:lnTo>
                  <a:lnTo>
                    <a:pt x="404" y="837"/>
                  </a:lnTo>
                  <a:lnTo>
                    <a:pt x="363" y="809"/>
                  </a:lnTo>
                  <a:lnTo>
                    <a:pt x="321" y="767"/>
                  </a:lnTo>
                  <a:lnTo>
                    <a:pt x="321" y="723"/>
                  </a:lnTo>
                  <a:lnTo>
                    <a:pt x="358" y="781"/>
                  </a:lnTo>
                  <a:lnTo>
                    <a:pt x="392" y="794"/>
                  </a:lnTo>
                  <a:lnTo>
                    <a:pt x="417" y="843"/>
                  </a:lnTo>
                  <a:lnTo>
                    <a:pt x="436" y="864"/>
                  </a:lnTo>
                  <a:lnTo>
                    <a:pt x="436" y="885"/>
                  </a:lnTo>
                  <a:lnTo>
                    <a:pt x="451" y="879"/>
                  </a:lnTo>
                  <a:lnTo>
                    <a:pt x="466" y="915"/>
                  </a:lnTo>
                  <a:lnTo>
                    <a:pt x="495" y="885"/>
                  </a:lnTo>
                  <a:lnTo>
                    <a:pt x="457" y="837"/>
                  </a:lnTo>
                  <a:lnTo>
                    <a:pt x="510" y="830"/>
                  </a:lnTo>
                  <a:lnTo>
                    <a:pt x="505" y="849"/>
                  </a:lnTo>
                  <a:lnTo>
                    <a:pt x="543" y="915"/>
                  </a:lnTo>
                  <a:lnTo>
                    <a:pt x="581" y="928"/>
                  </a:lnTo>
                  <a:lnTo>
                    <a:pt x="613" y="905"/>
                  </a:lnTo>
                  <a:lnTo>
                    <a:pt x="640" y="922"/>
                  </a:lnTo>
                  <a:lnTo>
                    <a:pt x="625" y="970"/>
                  </a:lnTo>
                  <a:lnTo>
                    <a:pt x="635" y="992"/>
                  </a:lnTo>
                  <a:lnTo>
                    <a:pt x="608" y="999"/>
                  </a:lnTo>
                  <a:lnTo>
                    <a:pt x="635" y="1111"/>
                  </a:lnTo>
                  <a:lnTo>
                    <a:pt x="672" y="1131"/>
                  </a:lnTo>
                  <a:lnTo>
                    <a:pt x="711" y="1167"/>
                  </a:lnTo>
                  <a:lnTo>
                    <a:pt x="711" y="1216"/>
                  </a:lnTo>
                  <a:lnTo>
                    <a:pt x="767" y="1293"/>
                  </a:lnTo>
                  <a:lnTo>
                    <a:pt x="770" y="1358"/>
                  </a:lnTo>
                  <a:lnTo>
                    <a:pt x="848" y="1364"/>
                  </a:lnTo>
                  <a:lnTo>
                    <a:pt x="912" y="1322"/>
                  </a:lnTo>
                  <a:lnTo>
                    <a:pt x="988" y="1300"/>
                  </a:lnTo>
                  <a:lnTo>
                    <a:pt x="988" y="1245"/>
                  </a:lnTo>
                  <a:lnTo>
                    <a:pt x="1032" y="1209"/>
                  </a:lnTo>
                  <a:lnTo>
                    <a:pt x="1010" y="1167"/>
                  </a:lnTo>
                  <a:lnTo>
                    <a:pt x="966" y="1138"/>
                  </a:lnTo>
                  <a:lnTo>
                    <a:pt x="927" y="1147"/>
                  </a:lnTo>
                  <a:lnTo>
                    <a:pt x="895" y="1147"/>
                  </a:lnTo>
                  <a:lnTo>
                    <a:pt x="862" y="1116"/>
                  </a:lnTo>
                  <a:lnTo>
                    <a:pt x="848" y="1062"/>
                  </a:lnTo>
                  <a:lnTo>
                    <a:pt x="912" y="1111"/>
                  </a:lnTo>
                  <a:lnTo>
                    <a:pt x="988" y="1124"/>
                  </a:lnTo>
                  <a:lnTo>
                    <a:pt x="1057" y="1154"/>
                  </a:lnTo>
                  <a:lnTo>
                    <a:pt x="1152" y="1154"/>
                  </a:lnTo>
                  <a:lnTo>
                    <a:pt x="1184" y="1216"/>
                  </a:lnTo>
                  <a:lnTo>
                    <a:pt x="1211" y="1322"/>
                  </a:lnTo>
                  <a:lnTo>
                    <a:pt x="1265" y="1432"/>
                  </a:lnTo>
                  <a:lnTo>
                    <a:pt x="1309" y="1420"/>
                  </a:lnTo>
                  <a:lnTo>
                    <a:pt x="1321" y="1309"/>
                  </a:lnTo>
                  <a:lnTo>
                    <a:pt x="1388" y="1258"/>
                  </a:lnTo>
                  <a:lnTo>
                    <a:pt x="1478" y="1216"/>
                  </a:lnTo>
                  <a:lnTo>
                    <a:pt x="1505" y="1279"/>
                  </a:lnTo>
                  <a:lnTo>
                    <a:pt x="1532" y="1364"/>
                  </a:lnTo>
                  <a:lnTo>
                    <a:pt x="1569" y="1349"/>
                  </a:lnTo>
                  <a:lnTo>
                    <a:pt x="1596" y="1443"/>
                  </a:lnTo>
                  <a:lnTo>
                    <a:pt x="1601" y="1497"/>
                  </a:lnTo>
                  <a:lnTo>
                    <a:pt x="1652" y="1587"/>
                  </a:lnTo>
                  <a:lnTo>
                    <a:pt x="1694" y="1618"/>
                  </a:lnTo>
                  <a:lnTo>
                    <a:pt x="1667" y="1546"/>
                  </a:lnTo>
                  <a:lnTo>
                    <a:pt x="1630" y="1483"/>
                  </a:lnTo>
                  <a:lnTo>
                    <a:pt x="1645" y="1427"/>
                  </a:lnTo>
                  <a:lnTo>
                    <a:pt x="1688" y="1477"/>
                  </a:lnTo>
                  <a:lnTo>
                    <a:pt x="1743" y="1468"/>
                  </a:lnTo>
                  <a:lnTo>
                    <a:pt x="1780" y="1407"/>
                  </a:lnTo>
                  <a:lnTo>
                    <a:pt x="1758" y="1349"/>
                  </a:lnTo>
                  <a:lnTo>
                    <a:pt x="1694" y="1293"/>
                  </a:lnTo>
                  <a:lnTo>
                    <a:pt x="1731" y="1252"/>
                  </a:lnTo>
                  <a:lnTo>
                    <a:pt x="1765" y="1252"/>
                  </a:lnTo>
                  <a:lnTo>
                    <a:pt x="1775" y="1286"/>
                  </a:lnTo>
                  <a:lnTo>
                    <a:pt x="1829" y="1245"/>
                  </a:lnTo>
                  <a:lnTo>
                    <a:pt x="1888" y="1224"/>
                  </a:lnTo>
                  <a:lnTo>
                    <a:pt x="1900" y="1190"/>
                  </a:lnTo>
                  <a:lnTo>
                    <a:pt x="1939" y="1116"/>
                  </a:lnTo>
                  <a:lnTo>
                    <a:pt x="1944" y="1068"/>
                  </a:lnTo>
                  <a:lnTo>
                    <a:pt x="1888" y="999"/>
                  </a:lnTo>
                  <a:lnTo>
                    <a:pt x="1922" y="963"/>
                  </a:lnTo>
                  <a:lnTo>
                    <a:pt x="1868" y="943"/>
                  </a:lnTo>
                  <a:lnTo>
                    <a:pt x="1861" y="915"/>
                  </a:lnTo>
                  <a:lnTo>
                    <a:pt x="1895" y="885"/>
                  </a:lnTo>
                  <a:lnTo>
                    <a:pt x="1907" y="922"/>
                  </a:lnTo>
                  <a:lnTo>
                    <a:pt x="1961" y="915"/>
                  </a:lnTo>
                  <a:lnTo>
                    <a:pt x="1954" y="949"/>
                  </a:lnTo>
                  <a:lnTo>
                    <a:pt x="1966" y="1012"/>
                  </a:lnTo>
                  <a:lnTo>
                    <a:pt x="2014" y="1012"/>
                  </a:lnTo>
                  <a:lnTo>
                    <a:pt x="2025" y="963"/>
                  </a:lnTo>
                  <a:lnTo>
                    <a:pt x="1991" y="922"/>
                  </a:lnTo>
                  <a:lnTo>
                    <a:pt x="2037" y="843"/>
                  </a:lnTo>
                  <a:lnTo>
                    <a:pt x="2030" y="809"/>
                  </a:lnTo>
                  <a:lnTo>
                    <a:pt x="2111" y="767"/>
                  </a:lnTo>
                  <a:lnTo>
                    <a:pt x="2128" y="669"/>
                  </a:lnTo>
                  <a:lnTo>
                    <a:pt x="2108" y="597"/>
                  </a:lnTo>
                  <a:lnTo>
                    <a:pt x="2047" y="584"/>
                  </a:lnTo>
                  <a:lnTo>
                    <a:pt x="2042" y="559"/>
                  </a:lnTo>
                  <a:lnTo>
                    <a:pt x="2081" y="513"/>
                  </a:lnTo>
                  <a:lnTo>
                    <a:pt x="2108" y="464"/>
                  </a:lnTo>
                  <a:lnTo>
                    <a:pt x="2187" y="485"/>
                  </a:lnTo>
                  <a:lnTo>
                    <a:pt x="2248" y="494"/>
                  </a:lnTo>
                  <a:lnTo>
                    <a:pt x="2248" y="451"/>
                  </a:lnTo>
                  <a:lnTo>
                    <a:pt x="2292" y="422"/>
                  </a:lnTo>
                  <a:lnTo>
                    <a:pt x="2317" y="441"/>
                  </a:lnTo>
                  <a:lnTo>
                    <a:pt x="2319" y="479"/>
                  </a:lnTo>
                  <a:lnTo>
                    <a:pt x="2278" y="519"/>
                  </a:lnTo>
                  <a:lnTo>
                    <a:pt x="2303" y="640"/>
                  </a:lnTo>
                  <a:lnTo>
                    <a:pt x="2336" y="673"/>
                  </a:lnTo>
                  <a:lnTo>
                    <a:pt x="2388" y="584"/>
                  </a:lnTo>
                  <a:lnTo>
                    <a:pt x="2395" y="507"/>
                  </a:lnTo>
                  <a:lnTo>
                    <a:pt x="2355" y="498"/>
                  </a:lnTo>
                  <a:lnTo>
                    <a:pt x="2363" y="464"/>
                  </a:lnTo>
                  <a:lnTo>
                    <a:pt x="2415" y="471"/>
                  </a:lnTo>
                  <a:lnTo>
                    <a:pt x="2498" y="428"/>
                  </a:lnTo>
                  <a:lnTo>
                    <a:pt x="2530" y="435"/>
                  </a:lnTo>
                  <a:lnTo>
                    <a:pt x="2537" y="417"/>
                  </a:lnTo>
                  <a:lnTo>
                    <a:pt x="2536" y="415"/>
                  </a:lnTo>
                  <a:lnTo>
                    <a:pt x="2519" y="382"/>
                  </a:lnTo>
                  <a:lnTo>
                    <a:pt x="2509" y="369"/>
                  </a:lnTo>
                  <a:lnTo>
                    <a:pt x="2501" y="357"/>
                  </a:lnTo>
                  <a:lnTo>
                    <a:pt x="2495" y="348"/>
                  </a:lnTo>
                  <a:lnTo>
                    <a:pt x="2488" y="342"/>
                  </a:lnTo>
                  <a:lnTo>
                    <a:pt x="2486" y="336"/>
                  </a:lnTo>
                  <a:lnTo>
                    <a:pt x="2480" y="337"/>
                  </a:lnTo>
                  <a:lnTo>
                    <a:pt x="2479" y="334"/>
                  </a:lnTo>
                  <a:lnTo>
                    <a:pt x="2468" y="327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16440" y="4775400"/>
              <a:ext cx="74520" cy="1728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55"/>
                  </a:moveTo>
                  <a:lnTo>
                    <a:pt x="215" y="32"/>
                  </a:lnTo>
                  <a:lnTo>
                    <a:pt x="80" y="8"/>
                  </a:lnTo>
                  <a:lnTo>
                    <a:pt x="57" y="23"/>
                  </a:lnTo>
                  <a:lnTo>
                    <a:pt x="8" y="0"/>
                  </a:lnTo>
                  <a:lnTo>
                    <a:pt x="0" y="38"/>
                  </a:lnTo>
                  <a:lnTo>
                    <a:pt x="86" y="55"/>
                  </a:lnTo>
                  <a:lnTo>
                    <a:pt x="124" y="38"/>
                  </a:lnTo>
                  <a:lnTo>
                    <a:pt x="226" y="55"/>
                  </a:lnTo>
                  <a:lnTo>
                    <a:pt x="226" y="55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19600" y="5300640"/>
              <a:ext cx="4680" cy="30240"/>
            </a:xfrm>
            <a:custGeom>
              <a:avLst/>
              <a:gdLst/>
              <a:ahLst/>
              <a:rect l="l" t="t" r="r" b="b"/>
              <a:pathLst>
                <a:path w="17" h="93">
                  <a:moveTo>
                    <a:pt x="0" y="0"/>
                  </a:moveTo>
                  <a:lnTo>
                    <a:pt x="17" y="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8240" y="5166000"/>
              <a:ext cx="17640" cy="2376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0" y="9"/>
                  </a:moveTo>
                  <a:lnTo>
                    <a:pt x="53" y="0"/>
                  </a:lnTo>
                  <a:lnTo>
                    <a:pt x="53" y="70"/>
                  </a:lnTo>
                  <a:lnTo>
                    <a:pt x="17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2840" y="5403960"/>
              <a:ext cx="55800" cy="2700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0" y="0"/>
                  </a:moveTo>
                  <a:lnTo>
                    <a:pt x="116" y="17"/>
                  </a:lnTo>
                  <a:lnTo>
                    <a:pt x="173" y="88"/>
                  </a:lnTo>
                  <a:lnTo>
                    <a:pt x="108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09960" y="5462640"/>
              <a:ext cx="196920" cy="174600"/>
            </a:xfrm>
            <a:custGeom>
              <a:avLst/>
              <a:gdLst/>
              <a:ahLst/>
              <a:rect l="l" t="t" r="r" b="b"/>
              <a:pathLst>
                <a:path w="703" h="596">
                  <a:moveTo>
                    <a:pt x="526" y="0"/>
                  </a:moveTo>
                  <a:lnTo>
                    <a:pt x="500" y="63"/>
                  </a:lnTo>
                  <a:lnTo>
                    <a:pt x="500" y="126"/>
                  </a:lnTo>
                  <a:lnTo>
                    <a:pt x="439" y="109"/>
                  </a:lnTo>
                  <a:lnTo>
                    <a:pt x="420" y="25"/>
                  </a:lnTo>
                  <a:lnTo>
                    <a:pt x="344" y="0"/>
                  </a:lnTo>
                  <a:lnTo>
                    <a:pt x="300" y="25"/>
                  </a:lnTo>
                  <a:lnTo>
                    <a:pt x="281" y="71"/>
                  </a:lnTo>
                  <a:lnTo>
                    <a:pt x="243" y="46"/>
                  </a:lnTo>
                  <a:lnTo>
                    <a:pt x="203" y="103"/>
                  </a:lnTo>
                  <a:lnTo>
                    <a:pt x="154" y="116"/>
                  </a:lnTo>
                  <a:lnTo>
                    <a:pt x="146" y="166"/>
                  </a:lnTo>
                  <a:lnTo>
                    <a:pt x="17" y="211"/>
                  </a:lnTo>
                  <a:lnTo>
                    <a:pt x="0" y="322"/>
                  </a:lnTo>
                  <a:lnTo>
                    <a:pt x="38" y="424"/>
                  </a:lnTo>
                  <a:lnTo>
                    <a:pt x="0" y="455"/>
                  </a:lnTo>
                  <a:lnTo>
                    <a:pt x="30" y="487"/>
                  </a:lnTo>
                  <a:lnTo>
                    <a:pt x="129" y="497"/>
                  </a:lnTo>
                  <a:lnTo>
                    <a:pt x="220" y="440"/>
                  </a:lnTo>
                  <a:lnTo>
                    <a:pt x="292" y="424"/>
                  </a:lnTo>
                  <a:lnTo>
                    <a:pt x="361" y="502"/>
                  </a:lnTo>
                  <a:lnTo>
                    <a:pt x="389" y="462"/>
                  </a:lnTo>
                  <a:lnTo>
                    <a:pt x="410" y="550"/>
                  </a:lnTo>
                  <a:lnTo>
                    <a:pt x="452" y="573"/>
                  </a:lnTo>
                  <a:lnTo>
                    <a:pt x="505" y="558"/>
                  </a:lnTo>
                  <a:lnTo>
                    <a:pt x="551" y="596"/>
                  </a:lnTo>
                  <a:lnTo>
                    <a:pt x="629" y="510"/>
                  </a:lnTo>
                  <a:lnTo>
                    <a:pt x="667" y="402"/>
                  </a:lnTo>
                  <a:lnTo>
                    <a:pt x="703" y="385"/>
                  </a:lnTo>
                  <a:lnTo>
                    <a:pt x="686" y="307"/>
                  </a:lnTo>
                  <a:lnTo>
                    <a:pt x="642" y="244"/>
                  </a:lnTo>
                  <a:lnTo>
                    <a:pt x="612" y="172"/>
                  </a:lnTo>
                  <a:lnTo>
                    <a:pt x="566" y="156"/>
                  </a:lnTo>
                  <a:lnTo>
                    <a:pt x="543" y="46"/>
                  </a:lnTo>
                  <a:lnTo>
                    <a:pt x="526" y="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06800" y="5631120"/>
              <a:ext cx="30240" cy="284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12" y="0"/>
                  </a:moveTo>
                  <a:lnTo>
                    <a:pt x="48" y="13"/>
                  </a:lnTo>
                  <a:lnTo>
                    <a:pt x="91" y="7"/>
                  </a:lnTo>
                  <a:lnTo>
                    <a:pt x="86" y="55"/>
                  </a:lnTo>
                  <a:lnTo>
                    <a:pt x="17" y="85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46520" y="4711680"/>
              <a:ext cx="74520" cy="4608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57" y="0"/>
                  </a:moveTo>
                  <a:lnTo>
                    <a:pt x="204" y="36"/>
                  </a:lnTo>
                  <a:lnTo>
                    <a:pt x="225" y="120"/>
                  </a:lnTo>
                  <a:lnTo>
                    <a:pt x="158" y="82"/>
                  </a:lnTo>
                  <a:lnTo>
                    <a:pt x="134" y="141"/>
                  </a:lnTo>
                  <a:lnTo>
                    <a:pt x="0" y="47"/>
                  </a:lnTo>
                  <a:lnTo>
                    <a:pt x="86" y="6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05160" y="5061240"/>
              <a:ext cx="12600" cy="33120"/>
            </a:xfrm>
            <a:custGeom>
              <a:avLst/>
              <a:gdLst/>
              <a:ahLst/>
              <a:rect l="l" t="t" r="r" b="b"/>
              <a:pathLst>
                <a:path w="41" h="99">
                  <a:moveTo>
                    <a:pt x="17" y="0"/>
                  </a:moveTo>
                  <a:lnTo>
                    <a:pt x="30" y="9"/>
                  </a:lnTo>
                  <a:lnTo>
                    <a:pt x="41" y="38"/>
                  </a:lnTo>
                  <a:lnTo>
                    <a:pt x="30" y="45"/>
                  </a:lnTo>
                  <a:lnTo>
                    <a:pt x="39" y="66"/>
                  </a:lnTo>
                  <a:lnTo>
                    <a:pt x="28" y="99"/>
                  </a:lnTo>
                  <a:lnTo>
                    <a:pt x="1" y="99"/>
                  </a:lnTo>
                  <a:lnTo>
                    <a:pt x="0" y="61"/>
                  </a:lnTo>
                  <a:lnTo>
                    <a:pt x="17" y="47"/>
                  </a:lnTo>
                  <a:lnTo>
                    <a:pt x="13" y="1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90840" y="5108760"/>
              <a:ext cx="15840" cy="93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9" y="0"/>
                  </a:moveTo>
                  <a:lnTo>
                    <a:pt x="26" y="10"/>
                  </a:lnTo>
                  <a:lnTo>
                    <a:pt x="47" y="6"/>
                  </a:lnTo>
                  <a:lnTo>
                    <a:pt x="40" y="23"/>
                  </a:lnTo>
                  <a:lnTo>
                    <a:pt x="19" y="27"/>
                  </a:lnTo>
                  <a:lnTo>
                    <a:pt x="0" y="1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23960" y="5119920"/>
              <a:ext cx="11160" cy="46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0"/>
                  </a:moveTo>
                  <a:lnTo>
                    <a:pt x="19" y="5"/>
                  </a:lnTo>
                  <a:lnTo>
                    <a:pt x="0" y="9"/>
                  </a:lnTo>
                  <a:lnTo>
                    <a:pt x="5" y="19"/>
                  </a:lnTo>
                  <a:lnTo>
                    <a:pt x="32" y="1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84200" y="4869000"/>
              <a:ext cx="84240" cy="92160"/>
            </a:xfrm>
            <a:custGeom>
              <a:avLst/>
              <a:gdLst/>
              <a:ahLst/>
              <a:rect l="l" t="t" r="r" b="b"/>
              <a:pathLst>
                <a:path w="214" h="242">
                  <a:moveTo>
                    <a:pt x="144" y="8"/>
                  </a:moveTo>
                  <a:cubicBezTo>
                    <a:pt x="180" y="17"/>
                    <a:pt x="193" y="25"/>
                    <a:pt x="214" y="55"/>
                  </a:cubicBezTo>
                  <a:cubicBezTo>
                    <a:pt x="211" y="65"/>
                    <a:pt x="212" y="77"/>
                    <a:pt x="206" y="86"/>
                  </a:cubicBezTo>
                  <a:cubicBezTo>
                    <a:pt x="201" y="94"/>
                    <a:pt x="185" y="93"/>
                    <a:pt x="183" y="102"/>
                  </a:cubicBezTo>
                  <a:cubicBezTo>
                    <a:pt x="179" y="120"/>
                    <a:pt x="188" y="138"/>
                    <a:pt x="190" y="156"/>
                  </a:cubicBezTo>
                  <a:cubicBezTo>
                    <a:pt x="76" y="173"/>
                    <a:pt x="173" y="145"/>
                    <a:pt x="120" y="187"/>
                  </a:cubicBezTo>
                  <a:cubicBezTo>
                    <a:pt x="106" y="198"/>
                    <a:pt x="88" y="201"/>
                    <a:pt x="74" y="211"/>
                  </a:cubicBezTo>
                  <a:cubicBezTo>
                    <a:pt x="66" y="208"/>
                    <a:pt x="58" y="202"/>
                    <a:pt x="50" y="203"/>
                  </a:cubicBezTo>
                  <a:cubicBezTo>
                    <a:pt x="9" y="210"/>
                    <a:pt x="42" y="242"/>
                    <a:pt x="11" y="195"/>
                  </a:cubicBezTo>
                  <a:cubicBezTo>
                    <a:pt x="28" y="81"/>
                    <a:pt x="0" y="178"/>
                    <a:pt x="42" y="125"/>
                  </a:cubicBezTo>
                  <a:cubicBezTo>
                    <a:pt x="47" y="119"/>
                    <a:pt x="44" y="108"/>
                    <a:pt x="50" y="102"/>
                  </a:cubicBezTo>
                  <a:cubicBezTo>
                    <a:pt x="63" y="89"/>
                    <a:pt x="97" y="70"/>
                    <a:pt x="97" y="70"/>
                  </a:cubicBezTo>
                  <a:cubicBezTo>
                    <a:pt x="108" y="38"/>
                    <a:pt x="111" y="25"/>
                    <a:pt x="136" y="0"/>
                  </a:cubicBezTo>
                  <a:cubicBezTo>
                    <a:pt x="164" y="10"/>
                    <a:pt x="167" y="8"/>
                    <a:pt x="144" y="8"/>
                  </a:cubicBez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41680" y="5026320"/>
              <a:ext cx="49320" cy="77760"/>
            </a:xfrm>
            <a:custGeom>
              <a:avLst/>
              <a:gdLst/>
              <a:ahLst/>
              <a:rect l="l" t="t" r="r" b="b"/>
              <a:pathLst>
                <a:path w="126" h="200">
                  <a:moveTo>
                    <a:pt x="112" y="17"/>
                  </a:moveTo>
                  <a:lnTo>
                    <a:pt x="88" y="0"/>
                  </a:lnTo>
                  <a:lnTo>
                    <a:pt x="36" y="1"/>
                  </a:lnTo>
                  <a:lnTo>
                    <a:pt x="0" y="33"/>
                  </a:lnTo>
                  <a:lnTo>
                    <a:pt x="2" y="62"/>
                  </a:lnTo>
                  <a:lnTo>
                    <a:pt x="17" y="76"/>
                  </a:lnTo>
                  <a:lnTo>
                    <a:pt x="48" y="87"/>
                  </a:lnTo>
                  <a:lnTo>
                    <a:pt x="42" y="126"/>
                  </a:lnTo>
                  <a:lnTo>
                    <a:pt x="36" y="154"/>
                  </a:lnTo>
                  <a:lnTo>
                    <a:pt x="42" y="186"/>
                  </a:lnTo>
                  <a:lnTo>
                    <a:pt x="74" y="200"/>
                  </a:lnTo>
                  <a:lnTo>
                    <a:pt x="110" y="188"/>
                  </a:lnTo>
                  <a:lnTo>
                    <a:pt x="126" y="154"/>
                  </a:lnTo>
                  <a:lnTo>
                    <a:pt x="106" y="118"/>
                  </a:lnTo>
                  <a:lnTo>
                    <a:pt x="88" y="74"/>
                  </a:lnTo>
                  <a:lnTo>
                    <a:pt x="30" y="45"/>
                  </a:lnTo>
                  <a:lnTo>
                    <a:pt x="103" y="26"/>
                  </a:lnTo>
                  <a:lnTo>
                    <a:pt x="112" y="17"/>
                  </a:lnTo>
                  <a:lnTo>
                    <a:pt x="112" y="17"/>
                  </a:lnTo>
                  <a:close/>
                </a:path>
              </a:pathLst>
            </a:custGeom>
            <a:solidFill>
              <a:srgbClr val="9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32240" y="5023080"/>
              <a:ext cx="74520" cy="41040"/>
            </a:xfrm>
            <a:custGeom>
              <a:avLst/>
              <a:gdLst/>
              <a:ahLst/>
              <a:rect l="l" t="t" r="r" b="b"/>
              <a:pathLst>
                <a:path w="195" h="107">
                  <a:moveTo>
                    <a:pt x="32" y="0"/>
                  </a:moveTo>
                  <a:lnTo>
                    <a:pt x="18" y="20"/>
                  </a:lnTo>
                  <a:lnTo>
                    <a:pt x="18" y="47"/>
                  </a:lnTo>
                  <a:lnTo>
                    <a:pt x="0" y="68"/>
                  </a:lnTo>
                  <a:lnTo>
                    <a:pt x="11" y="97"/>
                  </a:lnTo>
                  <a:lnTo>
                    <a:pt x="45" y="104"/>
                  </a:lnTo>
                  <a:lnTo>
                    <a:pt x="77" y="81"/>
                  </a:lnTo>
                  <a:lnTo>
                    <a:pt x="119" y="89"/>
                  </a:lnTo>
                  <a:lnTo>
                    <a:pt x="143" y="107"/>
                  </a:lnTo>
                  <a:lnTo>
                    <a:pt x="195" y="99"/>
                  </a:lnTo>
                  <a:lnTo>
                    <a:pt x="171" y="62"/>
                  </a:lnTo>
                  <a:lnTo>
                    <a:pt x="145" y="48"/>
                  </a:lnTo>
                  <a:lnTo>
                    <a:pt x="111" y="34"/>
                  </a:lnTo>
                  <a:lnTo>
                    <a:pt x="69" y="50"/>
                  </a:lnTo>
                  <a:lnTo>
                    <a:pt x="73" y="18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93880" y="5031000"/>
              <a:ext cx="30240" cy="284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19" y="0"/>
                  </a:moveTo>
                  <a:lnTo>
                    <a:pt x="0" y="11"/>
                  </a:lnTo>
                  <a:lnTo>
                    <a:pt x="2" y="38"/>
                  </a:lnTo>
                  <a:lnTo>
                    <a:pt x="25" y="36"/>
                  </a:lnTo>
                  <a:lnTo>
                    <a:pt x="42" y="21"/>
                  </a:lnTo>
                  <a:lnTo>
                    <a:pt x="25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5120" y="4865760"/>
              <a:ext cx="101880" cy="8568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168" y="8"/>
                  </a:moveTo>
                  <a:cubicBezTo>
                    <a:pt x="204" y="17"/>
                    <a:pt x="242" y="25"/>
                    <a:pt x="263" y="55"/>
                  </a:cubicBezTo>
                  <a:cubicBezTo>
                    <a:pt x="260" y="65"/>
                    <a:pt x="261" y="77"/>
                    <a:pt x="255" y="86"/>
                  </a:cubicBezTo>
                  <a:cubicBezTo>
                    <a:pt x="250" y="94"/>
                    <a:pt x="234" y="93"/>
                    <a:pt x="232" y="102"/>
                  </a:cubicBezTo>
                  <a:cubicBezTo>
                    <a:pt x="228" y="120"/>
                    <a:pt x="237" y="138"/>
                    <a:pt x="239" y="156"/>
                  </a:cubicBezTo>
                  <a:cubicBezTo>
                    <a:pt x="125" y="173"/>
                    <a:pt x="222" y="145"/>
                    <a:pt x="169" y="187"/>
                  </a:cubicBezTo>
                  <a:cubicBezTo>
                    <a:pt x="155" y="198"/>
                    <a:pt x="137" y="201"/>
                    <a:pt x="123" y="211"/>
                  </a:cubicBezTo>
                  <a:cubicBezTo>
                    <a:pt x="115" y="208"/>
                    <a:pt x="107" y="202"/>
                    <a:pt x="99" y="203"/>
                  </a:cubicBezTo>
                  <a:cubicBezTo>
                    <a:pt x="58" y="210"/>
                    <a:pt x="64" y="223"/>
                    <a:pt x="33" y="176"/>
                  </a:cubicBezTo>
                  <a:cubicBezTo>
                    <a:pt x="50" y="62"/>
                    <a:pt x="0" y="172"/>
                    <a:pt x="42" y="119"/>
                  </a:cubicBezTo>
                  <a:lnTo>
                    <a:pt x="78" y="95"/>
                  </a:lnTo>
                  <a:cubicBezTo>
                    <a:pt x="91" y="82"/>
                    <a:pt x="102" y="62"/>
                    <a:pt x="102" y="62"/>
                  </a:cubicBezTo>
                  <a:cubicBezTo>
                    <a:pt x="102" y="62"/>
                    <a:pt x="160" y="25"/>
                    <a:pt x="185" y="0"/>
                  </a:cubicBezTo>
                  <a:cubicBezTo>
                    <a:pt x="213" y="10"/>
                    <a:pt x="191" y="8"/>
                    <a:pt x="168" y="8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59040" y="4656240"/>
              <a:ext cx="12600" cy="46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79560" y="4665600"/>
              <a:ext cx="5040" cy="3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9" y="1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87840" y="4672080"/>
              <a:ext cx="4680" cy="205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4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73360" y="4641840"/>
              <a:ext cx="20520" cy="6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21"/>
                  </a:moveTo>
                  <a:lnTo>
                    <a:pt x="43" y="0"/>
                  </a:lnTo>
                  <a:lnTo>
                    <a:pt x="1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66960" y="4656240"/>
              <a:ext cx="4680" cy="32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9" y="1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76680" y="4660920"/>
              <a:ext cx="2880" cy="22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3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22440" y="4697640"/>
              <a:ext cx="71640" cy="41040"/>
            </a:xfrm>
            <a:custGeom>
              <a:avLst/>
              <a:gdLst/>
              <a:ahLst/>
              <a:rect l="l" t="t" r="r" b="b"/>
              <a:pathLst>
                <a:path w="216" h="123">
                  <a:moveTo>
                    <a:pt x="216" y="78"/>
                  </a:moveTo>
                  <a:lnTo>
                    <a:pt x="163" y="61"/>
                  </a:lnTo>
                  <a:lnTo>
                    <a:pt x="106" y="4"/>
                  </a:lnTo>
                  <a:lnTo>
                    <a:pt x="76" y="0"/>
                  </a:lnTo>
                  <a:lnTo>
                    <a:pt x="66" y="19"/>
                  </a:lnTo>
                  <a:lnTo>
                    <a:pt x="3" y="19"/>
                  </a:lnTo>
                  <a:lnTo>
                    <a:pt x="0" y="45"/>
                  </a:lnTo>
                  <a:lnTo>
                    <a:pt x="53" y="68"/>
                  </a:lnTo>
                  <a:lnTo>
                    <a:pt x="38" y="85"/>
                  </a:lnTo>
                  <a:lnTo>
                    <a:pt x="70" y="123"/>
                  </a:lnTo>
                  <a:lnTo>
                    <a:pt x="108" y="99"/>
                  </a:lnTo>
                  <a:lnTo>
                    <a:pt x="133" y="51"/>
                  </a:lnTo>
                  <a:lnTo>
                    <a:pt x="159" y="72"/>
                  </a:lnTo>
                  <a:lnTo>
                    <a:pt x="138" y="95"/>
                  </a:lnTo>
                  <a:lnTo>
                    <a:pt x="186" y="110"/>
                  </a:lnTo>
                  <a:lnTo>
                    <a:pt x="211" y="99"/>
                  </a:lnTo>
                  <a:lnTo>
                    <a:pt x="216" y="78"/>
                  </a:lnTo>
                  <a:lnTo>
                    <a:pt x="216" y="7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63840" y="4697640"/>
              <a:ext cx="39600" cy="1404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0" y="4"/>
                  </a:moveTo>
                  <a:lnTo>
                    <a:pt x="116" y="0"/>
                  </a:lnTo>
                  <a:lnTo>
                    <a:pt x="124" y="19"/>
                  </a:lnTo>
                  <a:lnTo>
                    <a:pt x="99" y="26"/>
                  </a:lnTo>
                  <a:lnTo>
                    <a:pt x="61" y="40"/>
                  </a:lnTo>
                  <a:lnTo>
                    <a:pt x="25" y="28"/>
                  </a:lnTo>
                  <a:lnTo>
                    <a:pt x="48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57520" y="4737240"/>
              <a:ext cx="77760" cy="61920"/>
            </a:xfrm>
            <a:custGeom>
              <a:avLst/>
              <a:gdLst/>
              <a:ahLst/>
              <a:rect l="l" t="t" r="r" b="b"/>
              <a:pathLst>
                <a:path w="238" h="192">
                  <a:moveTo>
                    <a:pt x="238" y="2"/>
                  </a:moveTo>
                  <a:lnTo>
                    <a:pt x="198" y="0"/>
                  </a:lnTo>
                  <a:lnTo>
                    <a:pt x="168" y="23"/>
                  </a:lnTo>
                  <a:lnTo>
                    <a:pt x="94" y="40"/>
                  </a:lnTo>
                  <a:lnTo>
                    <a:pt x="38" y="61"/>
                  </a:lnTo>
                  <a:lnTo>
                    <a:pt x="21" y="106"/>
                  </a:lnTo>
                  <a:lnTo>
                    <a:pt x="0" y="163"/>
                  </a:lnTo>
                  <a:lnTo>
                    <a:pt x="38" y="192"/>
                  </a:lnTo>
                  <a:lnTo>
                    <a:pt x="84" y="182"/>
                  </a:lnTo>
                  <a:lnTo>
                    <a:pt x="59" y="154"/>
                  </a:lnTo>
                  <a:lnTo>
                    <a:pt x="88" y="83"/>
                  </a:lnTo>
                  <a:lnTo>
                    <a:pt x="151" y="53"/>
                  </a:lnTo>
                  <a:lnTo>
                    <a:pt x="238" y="26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89120" y="4689720"/>
              <a:ext cx="46080" cy="1908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122" y="33"/>
                  </a:moveTo>
                  <a:lnTo>
                    <a:pt x="141" y="52"/>
                  </a:lnTo>
                  <a:lnTo>
                    <a:pt x="91" y="57"/>
                  </a:lnTo>
                  <a:lnTo>
                    <a:pt x="42" y="19"/>
                  </a:lnTo>
                  <a:lnTo>
                    <a:pt x="0" y="33"/>
                  </a:lnTo>
                  <a:lnTo>
                    <a:pt x="13" y="16"/>
                  </a:lnTo>
                  <a:lnTo>
                    <a:pt x="59" y="0"/>
                  </a:lnTo>
                  <a:lnTo>
                    <a:pt x="101" y="29"/>
                  </a:lnTo>
                  <a:lnTo>
                    <a:pt x="122" y="33"/>
                  </a:lnTo>
                  <a:lnTo>
                    <a:pt x="122" y="33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43160" y="4835520"/>
              <a:ext cx="58680" cy="3492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120" y="0"/>
                  </a:moveTo>
                  <a:lnTo>
                    <a:pt x="84" y="25"/>
                  </a:lnTo>
                  <a:lnTo>
                    <a:pt x="53" y="25"/>
                  </a:lnTo>
                  <a:lnTo>
                    <a:pt x="40" y="8"/>
                  </a:lnTo>
                  <a:lnTo>
                    <a:pt x="0" y="38"/>
                  </a:lnTo>
                  <a:lnTo>
                    <a:pt x="19" y="74"/>
                  </a:lnTo>
                  <a:lnTo>
                    <a:pt x="17" y="99"/>
                  </a:lnTo>
                  <a:lnTo>
                    <a:pt x="99" y="105"/>
                  </a:lnTo>
                  <a:lnTo>
                    <a:pt x="127" y="84"/>
                  </a:lnTo>
                  <a:lnTo>
                    <a:pt x="165" y="76"/>
                  </a:lnTo>
                  <a:lnTo>
                    <a:pt x="169" y="8"/>
                  </a:lnTo>
                  <a:lnTo>
                    <a:pt x="137" y="1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36760" y="4908600"/>
              <a:ext cx="41400" cy="87480"/>
            </a:xfrm>
            <a:custGeom>
              <a:avLst/>
              <a:gdLst/>
              <a:ahLst/>
              <a:rect l="l" t="t" r="r" b="b"/>
              <a:pathLst>
                <a:path w="119" h="251">
                  <a:moveTo>
                    <a:pt x="66" y="2"/>
                  </a:moveTo>
                  <a:lnTo>
                    <a:pt x="72" y="38"/>
                  </a:lnTo>
                  <a:lnTo>
                    <a:pt x="43" y="63"/>
                  </a:lnTo>
                  <a:lnTo>
                    <a:pt x="70" y="63"/>
                  </a:lnTo>
                  <a:lnTo>
                    <a:pt x="80" y="80"/>
                  </a:lnTo>
                  <a:lnTo>
                    <a:pt x="66" y="103"/>
                  </a:lnTo>
                  <a:lnTo>
                    <a:pt x="93" y="118"/>
                  </a:lnTo>
                  <a:lnTo>
                    <a:pt x="97" y="158"/>
                  </a:lnTo>
                  <a:lnTo>
                    <a:pt x="116" y="173"/>
                  </a:lnTo>
                  <a:lnTo>
                    <a:pt x="119" y="198"/>
                  </a:lnTo>
                  <a:lnTo>
                    <a:pt x="80" y="219"/>
                  </a:lnTo>
                  <a:lnTo>
                    <a:pt x="32" y="236"/>
                  </a:lnTo>
                  <a:lnTo>
                    <a:pt x="3" y="251"/>
                  </a:lnTo>
                  <a:lnTo>
                    <a:pt x="21" y="224"/>
                  </a:lnTo>
                  <a:lnTo>
                    <a:pt x="32" y="215"/>
                  </a:lnTo>
                  <a:lnTo>
                    <a:pt x="13" y="211"/>
                  </a:lnTo>
                  <a:lnTo>
                    <a:pt x="28" y="181"/>
                  </a:lnTo>
                  <a:lnTo>
                    <a:pt x="17" y="167"/>
                  </a:lnTo>
                  <a:lnTo>
                    <a:pt x="40" y="167"/>
                  </a:lnTo>
                  <a:lnTo>
                    <a:pt x="51" y="146"/>
                  </a:lnTo>
                  <a:lnTo>
                    <a:pt x="32" y="129"/>
                  </a:lnTo>
                  <a:lnTo>
                    <a:pt x="0" y="101"/>
                  </a:lnTo>
                  <a:lnTo>
                    <a:pt x="0" y="48"/>
                  </a:lnTo>
                  <a:lnTo>
                    <a:pt x="17" y="38"/>
                  </a:lnTo>
                  <a:lnTo>
                    <a:pt x="51" y="27"/>
                  </a:lnTo>
                  <a:lnTo>
                    <a:pt x="61" y="0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14440" y="4945320"/>
              <a:ext cx="24120" cy="39600"/>
            </a:xfrm>
            <a:custGeom>
              <a:avLst/>
              <a:gdLst/>
              <a:ahLst/>
              <a:rect l="l" t="t" r="r" b="b"/>
              <a:pathLst>
                <a:path w="72" h="112">
                  <a:moveTo>
                    <a:pt x="72" y="28"/>
                  </a:moveTo>
                  <a:lnTo>
                    <a:pt x="61" y="51"/>
                  </a:lnTo>
                  <a:lnTo>
                    <a:pt x="72" y="91"/>
                  </a:lnTo>
                  <a:lnTo>
                    <a:pt x="50" y="112"/>
                  </a:lnTo>
                  <a:lnTo>
                    <a:pt x="0" y="108"/>
                  </a:lnTo>
                  <a:lnTo>
                    <a:pt x="14" y="62"/>
                  </a:lnTo>
                  <a:lnTo>
                    <a:pt x="6" y="24"/>
                  </a:lnTo>
                  <a:lnTo>
                    <a:pt x="46" y="0"/>
                  </a:lnTo>
                  <a:lnTo>
                    <a:pt x="72" y="28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14640" y="4772160"/>
              <a:ext cx="74520" cy="1908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55"/>
                  </a:moveTo>
                  <a:lnTo>
                    <a:pt x="215" y="32"/>
                  </a:lnTo>
                  <a:lnTo>
                    <a:pt x="80" y="8"/>
                  </a:lnTo>
                  <a:lnTo>
                    <a:pt x="57" y="23"/>
                  </a:lnTo>
                  <a:lnTo>
                    <a:pt x="8" y="0"/>
                  </a:lnTo>
                  <a:lnTo>
                    <a:pt x="0" y="38"/>
                  </a:lnTo>
                  <a:lnTo>
                    <a:pt x="86" y="55"/>
                  </a:lnTo>
                  <a:lnTo>
                    <a:pt x="124" y="38"/>
                  </a:lnTo>
                  <a:lnTo>
                    <a:pt x="226" y="55"/>
                  </a:lnTo>
                  <a:lnTo>
                    <a:pt x="226" y="55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46520" y="4710240"/>
              <a:ext cx="73080" cy="4608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57" y="0"/>
                  </a:moveTo>
                  <a:lnTo>
                    <a:pt x="204" y="36"/>
                  </a:lnTo>
                  <a:lnTo>
                    <a:pt x="225" y="120"/>
                  </a:lnTo>
                  <a:lnTo>
                    <a:pt x="158" y="82"/>
                  </a:lnTo>
                  <a:lnTo>
                    <a:pt x="134" y="141"/>
                  </a:lnTo>
                  <a:lnTo>
                    <a:pt x="0" y="47"/>
                  </a:lnTo>
                  <a:lnTo>
                    <a:pt x="86" y="6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3360" y="5059440"/>
              <a:ext cx="14400" cy="31680"/>
            </a:xfrm>
            <a:custGeom>
              <a:avLst/>
              <a:gdLst/>
              <a:ahLst/>
              <a:rect l="l" t="t" r="r" b="b"/>
              <a:pathLst>
                <a:path w="41" h="99">
                  <a:moveTo>
                    <a:pt x="17" y="0"/>
                  </a:moveTo>
                  <a:lnTo>
                    <a:pt x="30" y="9"/>
                  </a:lnTo>
                  <a:lnTo>
                    <a:pt x="41" y="38"/>
                  </a:lnTo>
                  <a:lnTo>
                    <a:pt x="30" y="45"/>
                  </a:lnTo>
                  <a:lnTo>
                    <a:pt x="39" y="66"/>
                  </a:lnTo>
                  <a:lnTo>
                    <a:pt x="28" y="99"/>
                  </a:lnTo>
                  <a:lnTo>
                    <a:pt x="1" y="99"/>
                  </a:lnTo>
                  <a:lnTo>
                    <a:pt x="0" y="61"/>
                  </a:lnTo>
                  <a:lnTo>
                    <a:pt x="17" y="47"/>
                  </a:lnTo>
                  <a:lnTo>
                    <a:pt x="13" y="1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89040" y="5106960"/>
              <a:ext cx="16200" cy="79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9" y="0"/>
                  </a:moveTo>
                  <a:lnTo>
                    <a:pt x="26" y="10"/>
                  </a:lnTo>
                  <a:lnTo>
                    <a:pt x="47" y="6"/>
                  </a:lnTo>
                  <a:lnTo>
                    <a:pt x="40" y="23"/>
                  </a:lnTo>
                  <a:lnTo>
                    <a:pt x="19" y="27"/>
                  </a:lnTo>
                  <a:lnTo>
                    <a:pt x="0" y="1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23960" y="5116680"/>
              <a:ext cx="11160" cy="46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0"/>
                  </a:moveTo>
                  <a:lnTo>
                    <a:pt x="19" y="5"/>
                  </a:lnTo>
                  <a:lnTo>
                    <a:pt x="0" y="9"/>
                  </a:lnTo>
                  <a:lnTo>
                    <a:pt x="5" y="19"/>
                  </a:lnTo>
                  <a:lnTo>
                    <a:pt x="32" y="1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55800" y="4656240"/>
              <a:ext cx="12960" cy="46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668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9" y="1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84600" y="4672080"/>
              <a:ext cx="4680" cy="205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4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71920" y="4641840"/>
              <a:ext cx="19080" cy="6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21"/>
                  </a:moveTo>
                  <a:lnTo>
                    <a:pt x="43" y="0"/>
                  </a:lnTo>
                  <a:lnTo>
                    <a:pt x="1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3720" y="4656240"/>
              <a:ext cx="6480" cy="32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9" y="1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73440" y="4660920"/>
              <a:ext cx="3240" cy="22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3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19200" y="4697640"/>
              <a:ext cx="69840" cy="41040"/>
            </a:xfrm>
            <a:custGeom>
              <a:avLst/>
              <a:gdLst/>
              <a:ahLst/>
              <a:rect l="l" t="t" r="r" b="b"/>
              <a:pathLst>
                <a:path w="216" h="123">
                  <a:moveTo>
                    <a:pt x="216" y="78"/>
                  </a:moveTo>
                  <a:lnTo>
                    <a:pt x="163" y="61"/>
                  </a:lnTo>
                  <a:lnTo>
                    <a:pt x="106" y="4"/>
                  </a:lnTo>
                  <a:lnTo>
                    <a:pt x="76" y="0"/>
                  </a:lnTo>
                  <a:lnTo>
                    <a:pt x="66" y="19"/>
                  </a:lnTo>
                  <a:lnTo>
                    <a:pt x="3" y="19"/>
                  </a:lnTo>
                  <a:lnTo>
                    <a:pt x="0" y="45"/>
                  </a:lnTo>
                  <a:lnTo>
                    <a:pt x="53" y="68"/>
                  </a:lnTo>
                  <a:lnTo>
                    <a:pt x="38" y="85"/>
                  </a:lnTo>
                  <a:lnTo>
                    <a:pt x="70" y="123"/>
                  </a:lnTo>
                  <a:lnTo>
                    <a:pt x="108" y="99"/>
                  </a:lnTo>
                  <a:lnTo>
                    <a:pt x="133" y="51"/>
                  </a:lnTo>
                  <a:lnTo>
                    <a:pt x="159" y="72"/>
                  </a:lnTo>
                  <a:lnTo>
                    <a:pt x="138" y="95"/>
                  </a:lnTo>
                  <a:lnTo>
                    <a:pt x="186" y="110"/>
                  </a:lnTo>
                  <a:lnTo>
                    <a:pt x="211" y="99"/>
                  </a:lnTo>
                  <a:lnTo>
                    <a:pt x="216" y="78"/>
                  </a:lnTo>
                  <a:lnTo>
                    <a:pt x="216" y="7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60600" y="4697640"/>
              <a:ext cx="39600" cy="1404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0" y="4"/>
                  </a:moveTo>
                  <a:lnTo>
                    <a:pt x="116" y="0"/>
                  </a:lnTo>
                  <a:lnTo>
                    <a:pt x="124" y="19"/>
                  </a:lnTo>
                  <a:lnTo>
                    <a:pt x="99" y="26"/>
                  </a:lnTo>
                  <a:lnTo>
                    <a:pt x="61" y="40"/>
                  </a:lnTo>
                  <a:lnTo>
                    <a:pt x="25" y="28"/>
                  </a:lnTo>
                  <a:lnTo>
                    <a:pt x="48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54280" y="4737240"/>
              <a:ext cx="77760" cy="61920"/>
            </a:xfrm>
            <a:custGeom>
              <a:avLst/>
              <a:gdLst/>
              <a:ahLst/>
              <a:rect l="l" t="t" r="r" b="b"/>
              <a:pathLst>
                <a:path w="238" h="192">
                  <a:moveTo>
                    <a:pt x="238" y="2"/>
                  </a:moveTo>
                  <a:lnTo>
                    <a:pt x="198" y="0"/>
                  </a:lnTo>
                  <a:lnTo>
                    <a:pt x="168" y="23"/>
                  </a:lnTo>
                  <a:lnTo>
                    <a:pt x="94" y="40"/>
                  </a:lnTo>
                  <a:lnTo>
                    <a:pt x="38" y="61"/>
                  </a:lnTo>
                  <a:lnTo>
                    <a:pt x="21" y="106"/>
                  </a:lnTo>
                  <a:lnTo>
                    <a:pt x="0" y="163"/>
                  </a:lnTo>
                  <a:lnTo>
                    <a:pt x="38" y="192"/>
                  </a:lnTo>
                  <a:lnTo>
                    <a:pt x="84" y="182"/>
                  </a:lnTo>
                  <a:lnTo>
                    <a:pt x="59" y="154"/>
                  </a:lnTo>
                  <a:lnTo>
                    <a:pt x="88" y="83"/>
                  </a:lnTo>
                  <a:lnTo>
                    <a:pt x="151" y="53"/>
                  </a:lnTo>
                  <a:lnTo>
                    <a:pt x="238" y="26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85880" y="4689720"/>
              <a:ext cx="46080" cy="1908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122" y="33"/>
                  </a:moveTo>
                  <a:lnTo>
                    <a:pt x="141" y="52"/>
                  </a:lnTo>
                  <a:lnTo>
                    <a:pt x="91" y="57"/>
                  </a:lnTo>
                  <a:lnTo>
                    <a:pt x="42" y="19"/>
                  </a:lnTo>
                  <a:lnTo>
                    <a:pt x="0" y="33"/>
                  </a:lnTo>
                  <a:lnTo>
                    <a:pt x="13" y="16"/>
                  </a:lnTo>
                  <a:lnTo>
                    <a:pt x="59" y="0"/>
                  </a:lnTo>
                  <a:lnTo>
                    <a:pt x="101" y="29"/>
                  </a:lnTo>
                  <a:lnTo>
                    <a:pt x="122" y="33"/>
                  </a:lnTo>
                  <a:lnTo>
                    <a:pt x="122" y="33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39920" y="4835520"/>
              <a:ext cx="58680" cy="3492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120" y="0"/>
                  </a:moveTo>
                  <a:lnTo>
                    <a:pt x="84" y="25"/>
                  </a:lnTo>
                  <a:lnTo>
                    <a:pt x="53" y="25"/>
                  </a:lnTo>
                  <a:lnTo>
                    <a:pt x="40" y="8"/>
                  </a:lnTo>
                  <a:lnTo>
                    <a:pt x="0" y="38"/>
                  </a:lnTo>
                  <a:lnTo>
                    <a:pt x="19" y="74"/>
                  </a:lnTo>
                  <a:lnTo>
                    <a:pt x="17" y="99"/>
                  </a:lnTo>
                  <a:lnTo>
                    <a:pt x="99" y="105"/>
                  </a:lnTo>
                  <a:lnTo>
                    <a:pt x="127" y="84"/>
                  </a:lnTo>
                  <a:lnTo>
                    <a:pt x="165" y="76"/>
                  </a:lnTo>
                  <a:lnTo>
                    <a:pt x="169" y="8"/>
                  </a:lnTo>
                  <a:lnTo>
                    <a:pt x="137" y="1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33520" y="4908600"/>
              <a:ext cx="41400" cy="87480"/>
            </a:xfrm>
            <a:custGeom>
              <a:avLst/>
              <a:gdLst/>
              <a:ahLst/>
              <a:rect l="l" t="t" r="r" b="b"/>
              <a:pathLst>
                <a:path w="119" h="251">
                  <a:moveTo>
                    <a:pt x="66" y="2"/>
                  </a:moveTo>
                  <a:lnTo>
                    <a:pt x="72" y="38"/>
                  </a:lnTo>
                  <a:lnTo>
                    <a:pt x="43" y="63"/>
                  </a:lnTo>
                  <a:lnTo>
                    <a:pt x="70" y="63"/>
                  </a:lnTo>
                  <a:lnTo>
                    <a:pt x="80" y="80"/>
                  </a:lnTo>
                  <a:lnTo>
                    <a:pt x="66" y="103"/>
                  </a:lnTo>
                  <a:lnTo>
                    <a:pt x="93" y="118"/>
                  </a:lnTo>
                  <a:lnTo>
                    <a:pt x="97" y="158"/>
                  </a:lnTo>
                  <a:lnTo>
                    <a:pt x="116" y="173"/>
                  </a:lnTo>
                  <a:lnTo>
                    <a:pt x="119" y="198"/>
                  </a:lnTo>
                  <a:lnTo>
                    <a:pt x="80" y="219"/>
                  </a:lnTo>
                  <a:lnTo>
                    <a:pt x="32" y="236"/>
                  </a:lnTo>
                  <a:lnTo>
                    <a:pt x="3" y="251"/>
                  </a:lnTo>
                  <a:lnTo>
                    <a:pt x="21" y="224"/>
                  </a:lnTo>
                  <a:lnTo>
                    <a:pt x="32" y="215"/>
                  </a:lnTo>
                  <a:lnTo>
                    <a:pt x="13" y="211"/>
                  </a:lnTo>
                  <a:lnTo>
                    <a:pt x="28" y="181"/>
                  </a:lnTo>
                  <a:lnTo>
                    <a:pt x="17" y="167"/>
                  </a:lnTo>
                  <a:lnTo>
                    <a:pt x="40" y="167"/>
                  </a:lnTo>
                  <a:lnTo>
                    <a:pt x="51" y="146"/>
                  </a:lnTo>
                  <a:lnTo>
                    <a:pt x="32" y="129"/>
                  </a:lnTo>
                  <a:lnTo>
                    <a:pt x="0" y="101"/>
                  </a:lnTo>
                  <a:lnTo>
                    <a:pt x="0" y="48"/>
                  </a:lnTo>
                  <a:lnTo>
                    <a:pt x="17" y="38"/>
                  </a:lnTo>
                  <a:lnTo>
                    <a:pt x="51" y="27"/>
                  </a:lnTo>
                  <a:lnTo>
                    <a:pt x="61" y="0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1560" y="4945320"/>
              <a:ext cx="23760" cy="39600"/>
            </a:xfrm>
            <a:custGeom>
              <a:avLst/>
              <a:gdLst/>
              <a:ahLst/>
              <a:rect l="l" t="t" r="r" b="b"/>
              <a:pathLst>
                <a:path w="72" h="112">
                  <a:moveTo>
                    <a:pt x="72" y="28"/>
                  </a:moveTo>
                  <a:lnTo>
                    <a:pt x="61" y="51"/>
                  </a:lnTo>
                  <a:lnTo>
                    <a:pt x="72" y="91"/>
                  </a:lnTo>
                  <a:lnTo>
                    <a:pt x="50" y="112"/>
                  </a:lnTo>
                  <a:lnTo>
                    <a:pt x="0" y="108"/>
                  </a:lnTo>
                  <a:lnTo>
                    <a:pt x="14" y="62"/>
                  </a:lnTo>
                  <a:lnTo>
                    <a:pt x="6" y="24"/>
                  </a:lnTo>
                  <a:lnTo>
                    <a:pt x="46" y="0"/>
                  </a:lnTo>
                  <a:lnTo>
                    <a:pt x="72" y="28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3200" y="4772160"/>
              <a:ext cx="73080" cy="1908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55"/>
                  </a:moveTo>
                  <a:lnTo>
                    <a:pt x="215" y="32"/>
                  </a:lnTo>
                  <a:lnTo>
                    <a:pt x="80" y="8"/>
                  </a:lnTo>
                  <a:lnTo>
                    <a:pt x="57" y="23"/>
                  </a:lnTo>
                  <a:lnTo>
                    <a:pt x="8" y="0"/>
                  </a:lnTo>
                  <a:lnTo>
                    <a:pt x="0" y="38"/>
                  </a:lnTo>
                  <a:lnTo>
                    <a:pt x="86" y="55"/>
                  </a:lnTo>
                  <a:lnTo>
                    <a:pt x="124" y="38"/>
                  </a:lnTo>
                  <a:lnTo>
                    <a:pt x="226" y="55"/>
                  </a:lnTo>
                  <a:lnTo>
                    <a:pt x="226" y="55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3280" y="4710240"/>
              <a:ext cx="73080" cy="4608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57" y="0"/>
                  </a:moveTo>
                  <a:lnTo>
                    <a:pt x="204" y="36"/>
                  </a:lnTo>
                  <a:lnTo>
                    <a:pt x="225" y="120"/>
                  </a:lnTo>
                  <a:lnTo>
                    <a:pt x="158" y="82"/>
                  </a:lnTo>
                  <a:lnTo>
                    <a:pt x="134" y="141"/>
                  </a:lnTo>
                  <a:lnTo>
                    <a:pt x="0" y="47"/>
                  </a:lnTo>
                  <a:lnTo>
                    <a:pt x="86" y="6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00480" y="5059440"/>
              <a:ext cx="14040" cy="31680"/>
            </a:xfrm>
            <a:custGeom>
              <a:avLst/>
              <a:gdLst/>
              <a:ahLst/>
              <a:rect l="l" t="t" r="r" b="b"/>
              <a:pathLst>
                <a:path w="41" h="99">
                  <a:moveTo>
                    <a:pt x="17" y="0"/>
                  </a:moveTo>
                  <a:lnTo>
                    <a:pt x="30" y="9"/>
                  </a:lnTo>
                  <a:lnTo>
                    <a:pt x="41" y="38"/>
                  </a:lnTo>
                  <a:lnTo>
                    <a:pt x="30" y="45"/>
                  </a:lnTo>
                  <a:lnTo>
                    <a:pt x="39" y="66"/>
                  </a:lnTo>
                  <a:lnTo>
                    <a:pt x="28" y="99"/>
                  </a:lnTo>
                  <a:lnTo>
                    <a:pt x="1" y="99"/>
                  </a:lnTo>
                  <a:lnTo>
                    <a:pt x="0" y="61"/>
                  </a:lnTo>
                  <a:lnTo>
                    <a:pt x="17" y="47"/>
                  </a:lnTo>
                  <a:lnTo>
                    <a:pt x="13" y="1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86160" y="5106960"/>
              <a:ext cx="15840" cy="79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9" y="0"/>
                  </a:moveTo>
                  <a:lnTo>
                    <a:pt x="26" y="10"/>
                  </a:lnTo>
                  <a:lnTo>
                    <a:pt x="47" y="6"/>
                  </a:lnTo>
                  <a:lnTo>
                    <a:pt x="40" y="23"/>
                  </a:lnTo>
                  <a:lnTo>
                    <a:pt x="19" y="27"/>
                  </a:lnTo>
                  <a:lnTo>
                    <a:pt x="0" y="1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21080" y="5116680"/>
              <a:ext cx="11160" cy="46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0"/>
                  </a:moveTo>
                  <a:lnTo>
                    <a:pt x="19" y="5"/>
                  </a:lnTo>
                  <a:lnTo>
                    <a:pt x="0" y="9"/>
                  </a:lnTo>
                  <a:lnTo>
                    <a:pt x="5" y="19"/>
                  </a:lnTo>
                  <a:lnTo>
                    <a:pt x="32" y="1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14440" y="4746600"/>
              <a:ext cx="981360" cy="354240"/>
            </a:xfrm>
            <a:custGeom>
              <a:avLst/>
              <a:gdLst/>
              <a:ahLst/>
              <a:rect l="l" t="t" r="r" b="b"/>
              <a:pathLst>
                <a:path w="2537" h="915">
                  <a:moveTo>
                    <a:pt x="2468" y="327"/>
                  </a:moveTo>
                  <a:lnTo>
                    <a:pt x="2458" y="318"/>
                  </a:lnTo>
                  <a:lnTo>
                    <a:pt x="2444" y="304"/>
                  </a:lnTo>
                  <a:lnTo>
                    <a:pt x="2425" y="284"/>
                  </a:lnTo>
                  <a:lnTo>
                    <a:pt x="2339" y="214"/>
                  </a:lnTo>
                  <a:lnTo>
                    <a:pt x="2252" y="211"/>
                  </a:lnTo>
                  <a:lnTo>
                    <a:pt x="2209" y="191"/>
                  </a:lnTo>
                  <a:lnTo>
                    <a:pt x="2108" y="177"/>
                  </a:lnTo>
                  <a:lnTo>
                    <a:pt x="2069" y="147"/>
                  </a:lnTo>
                  <a:lnTo>
                    <a:pt x="1939" y="121"/>
                  </a:lnTo>
                  <a:lnTo>
                    <a:pt x="1950" y="147"/>
                  </a:lnTo>
                  <a:lnTo>
                    <a:pt x="1900" y="147"/>
                  </a:lnTo>
                  <a:lnTo>
                    <a:pt x="1836" y="141"/>
                  </a:lnTo>
                  <a:lnTo>
                    <a:pt x="1824" y="169"/>
                  </a:lnTo>
                  <a:lnTo>
                    <a:pt x="1765" y="113"/>
                  </a:lnTo>
                  <a:lnTo>
                    <a:pt x="1662" y="92"/>
                  </a:lnTo>
                  <a:lnTo>
                    <a:pt x="1569" y="85"/>
                  </a:lnTo>
                  <a:lnTo>
                    <a:pt x="1591" y="22"/>
                  </a:lnTo>
                  <a:lnTo>
                    <a:pt x="1488" y="0"/>
                  </a:lnTo>
                  <a:lnTo>
                    <a:pt x="1395" y="36"/>
                  </a:lnTo>
                  <a:lnTo>
                    <a:pt x="1270" y="56"/>
                  </a:lnTo>
                  <a:lnTo>
                    <a:pt x="1244" y="99"/>
                  </a:lnTo>
                  <a:lnTo>
                    <a:pt x="1191" y="106"/>
                  </a:lnTo>
                  <a:lnTo>
                    <a:pt x="1191" y="141"/>
                  </a:lnTo>
                  <a:lnTo>
                    <a:pt x="1140" y="147"/>
                  </a:lnTo>
                  <a:lnTo>
                    <a:pt x="1113" y="121"/>
                  </a:lnTo>
                  <a:lnTo>
                    <a:pt x="1130" y="191"/>
                  </a:lnTo>
                  <a:lnTo>
                    <a:pt x="1081" y="113"/>
                  </a:lnTo>
                  <a:lnTo>
                    <a:pt x="1017" y="128"/>
                  </a:lnTo>
                  <a:lnTo>
                    <a:pt x="988" y="191"/>
                  </a:lnTo>
                  <a:lnTo>
                    <a:pt x="927" y="155"/>
                  </a:lnTo>
                  <a:lnTo>
                    <a:pt x="907" y="177"/>
                  </a:lnTo>
                  <a:lnTo>
                    <a:pt x="895" y="206"/>
                  </a:lnTo>
                  <a:lnTo>
                    <a:pt x="814" y="211"/>
                  </a:lnTo>
                  <a:lnTo>
                    <a:pt x="770" y="245"/>
                  </a:lnTo>
                  <a:lnTo>
                    <a:pt x="743" y="211"/>
                  </a:lnTo>
                  <a:lnTo>
                    <a:pt x="706" y="206"/>
                  </a:lnTo>
                  <a:lnTo>
                    <a:pt x="723" y="262"/>
                  </a:lnTo>
                  <a:lnTo>
                    <a:pt x="679" y="305"/>
                  </a:lnTo>
                  <a:lnTo>
                    <a:pt x="625" y="305"/>
                  </a:lnTo>
                  <a:lnTo>
                    <a:pt x="576" y="245"/>
                  </a:lnTo>
                  <a:lnTo>
                    <a:pt x="625" y="245"/>
                  </a:lnTo>
                  <a:lnTo>
                    <a:pt x="652" y="267"/>
                  </a:lnTo>
                  <a:lnTo>
                    <a:pt x="701" y="254"/>
                  </a:lnTo>
                  <a:lnTo>
                    <a:pt x="657" y="198"/>
                  </a:lnTo>
                  <a:lnTo>
                    <a:pt x="586" y="155"/>
                  </a:lnTo>
                  <a:lnTo>
                    <a:pt x="569" y="169"/>
                  </a:lnTo>
                  <a:lnTo>
                    <a:pt x="530" y="141"/>
                  </a:lnTo>
                  <a:lnTo>
                    <a:pt x="505" y="155"/>
                  </a:lnTo>
                  <a:lnTo>
                    <a:pt x="451" y="141"/>
                  </a:lnTo>
                  <a:lnTo>
                    <a:pt x="417" y="162"/>
                  </a:lnTo>
                  <a:lnTo>
                    <a:pt x="353" y="169"/>
                  </a:lnTo>
                  <a:lnTo>
                    <a:pt x="309" y="211"/>
                  </a:lnTo>
                  <a:lnTo>
                    <a:pt x="341" y="220"/>
                  </a:lnTo>
                  <a:lnTo>
                    <a:pt x="309" y="296"/>
                  </a:lnTo>
                  <a:lnTo>
                    <a:pt x="223" y="352"/>
                  </a:lnTo>
                  <a:lnTo>
                    <a:pt x="211" y="422"/>
                  </a:lnTo>
                  <a:lnTo>
                    <a:pt x="250" y="451"/>
                  </a:lnTo>
                  <a:lnTo>
                    <a:pt x="287" y="443"/>
                  </a:lnTo>
                  <a:lnTo>
                    <a:pt x="309" y="471"/>
                  </a:lnTo>
                  <a:lnTo>
                    <a:pt x="333" y="519"/>
                  </a:lnTo>
                  <a:lnTo>
                    <a:pt x="370" y="507"/>
                  </a:lnTo>
                  <a:lnTo>
                    <a:pt x="392" y="437"/>
                  </a:lnTo>
                  <a:lnTo>
                    <a:pt x="412" y="422"/>
                  </a:lnTo>
                  <a:lnTo>
                    <a:pt x="385" y="352"/>
                  </a:lnTo>
                  <a:lnTo>
                    <a:pt x="436" y="283"/>
                  </a:lnTo>
                  <a:lnTo>
                    <a:pt x="478" y="275"/>
                  </a:lnTo>
                  <a:lnTo>
                    <a:pt x="440" y="330"/>
                  </a:lnTo>
                  <a:lnTo>
                    <a:pt x="440" y="409"/>
                  </a:lnTo>
                  <a:lnTo>
                    <a:pt x="530" y="417"/>
                  </a:lnTo>
                  <a:lnTo>
                    <a:pt x="466" y="437"/>
                  </a:lnTo>
                  <a:lnTo>
                    <a:pt x="478" y="464"/>
                  </a:lnTo>
                  <a:lnTo>
                    <a:pt x="436" y="451"/>
                  </a:lnTo>
                  <a:lnTo>
                    <a:pt x="429" y="498"/>
                  </a:lnTo>
                  <a:lnTo>
                    <a:pt x="370" y="541"/>
                  </a:lnTo>
                  <a:lnTo>
                    <a:pt x="333" y="528"/>
                  </a:lnTo>
                  <a:lnTo>
                    <a:pt x="287" y="528"/>
                  </a:lnTo>
                  <a:lnTo>
                    <a:pt x="287" y="479"/>
                  </a:lnTo>
                  <a:lnTo>
                    <a:pt x="255" y="471"/>
                  </a:lnTo>
                  <a:lnTo>
                    <a:pt x="238" y="498"/>
                  </a:lnTo>
                  <a:lnTo>
                    <a:pt x="255" y="536"/>
                  </a:lnTo>
                  <a:lnTo>
                    <a:pt x="206" y="549"/>
                  </a:lnTo>
                  <a:lnTo>
                    <a:pt x="191" y="597"/>
                  </a:lnTo>
                  <a:lnTo>
                    <a:pt x="131" y="640"/>
                  </a:lnTo>
                  <a:lnTo>
                    <a:pt x="61" y="669"/>
                  </a:lnTo>
                  <a:lnTo>
                    <a:pt x="86" y="696"/>
                  </a:lnTo>
                  <a:lnTo>
                    <a:pt x="114" y="716"/>
                  </a:lnTo>
                  <a:lnTo>
                    <a:pt x="98" y="767"/>
                  </a:lnTo>
                  <a:lnTo>
                    <a:pt x="54" y="752"/>
                  </a:lnTo>
                  <a:lnTo>
                    <a:pt x="0" y="773"/>
                  </a:lnTo>
                  <a:lnTo>
                    <a:pt x="0" y="830"/>
                  </a:lnTo>
                  <a:lnTo>
                    <a:pt x="17" y="885"/>
                  </a:lnTo>
                  <a:lnTo>
                    <a:pt x="54" y="900"/>
                  </a:lnTo>
                  <a:lnTo>
                    <a:pt x="147" y="871"/>
                  </a:lnTo>
                  <a:lnTo>
                    <a:pt x="133" y="837"/>
                  </a:lnTo>
                  <a:lnTo>
                    <a:pt x="164" y="815"/>
                  </a:lnTo>
                  <a:lnTo>
                    <a:pt x="200" y="801"/>
                  </a:lnTo>
                  <a:lnTo>
                    <a:pt x="200" y="781"/>
                  </a:lnTo>
                  <a:lnTo>
                    <a:pt x="272" y="760"/>
                  </a:lnTo>
                  <a:lnTo>
                    <a:pt x="309" y="794"/>
                  </a:lnTo>
                  <a:lnTo>
                    <a:pt x="348" y="815"/>
                  </a:lnTo>
                  <a:lnTo>
                    <a:pt x="358" y="871"/>
                  </a:lnTo>
                  <a:lnTo>
                    <a:pt x="380" y="864"/>
                  </a:lnTo>
                  <a:lnTo>
                    <a:pt x="380" y="837"/>
                  </a:lnTo>
                  <a:lnTo>
                    <a:pt x="404" y="837"/>
                  </a:lnTo>
                  <a:lnTo>
                    <a:pt x="363" y="809"/>
                  </a:lnTo>
                  <a:lnTo>
                    <a:pt x="321" y="767"/>
                  </a:lnTo>
                  <a:lnTo>
                    <a:pt x="321" y="723"/>
                  </a:lnTo>
                  <a:lnTo>
                    <a:pt x="358" y="781"/>
                  </a:lnTo>
                  <a:lnTo>
                    <a:pt x="392" y="794"/>
                  </a:lnTo>
                  <a:lnTo>
                    <a:pt x="417" y="843"/>
                  </a:lnTo>
                  <a:lnTo>
                    <a:pt x="436" y="864"/>
                  </a:lnTo>
                  <a:lnTo>
                    <a:pt x="436" y="885"/>
                  </a:lnTo>
                  <a:lnTo>
                    <a:pt x="451" y="879"/>
                  </a:lnTo>
                  <a:lnTo>
                    <a:pt x="466" y="915"/>
                  </a:lnTo>
                  <a:lnTo>
                    <a:pt x="495" y="885"/>
                  </a:lnTo>
                  <a:lnTo>
                    <a:pt x="474" y="837"/>
                  </a:lnTo>
                  <a:lnTo>
                    <a:pt x="453" y="843"/>
                  </a:lnTo>
                  <a:lnTo>
                    <a:pt x="411" y="822"/>
                  </a:lnTo>
                  <a:lnTo>
                    <a:pt x="390" y="771"/>
                  </a:lnTo>
                  <a:lnTo>
                    <a:pt x="414" y="741"/>
                  </a:lnTo>
                  <a:lnTo>
                    <a:pt x="432" y="735"/>
                  </a:lnTo>
                  <a:lnTo>
                    <a:pt x="450" y="756"/>
                  </a:lnTo>
                  <a:lnTo>
                    <a:pt x="486" y="759"/>
                  </a:lnTo>
                  <a:lnTo>
                    <a:pt x="537" y="759"/>
                  </a:lnTo>
                  <a:lnTo>
                    <a:pt x="565" y="767"/>
                  </a:lnTo>
                  <a:lnTo>
                    <a:pt x="570" y="771"/>
                  </a:lnTo>
                  <a:lnTo>
                    <a:pt x="582" y="711"/>
                  </a:lnTo>
                  <a:lnTo>
                    <a:pt x="624" y="729"/>
                  </a:lnTo>
                  <a:lnTo>
                    <a:pt x="633" y="753"/>
                  </a:lnTo>
                  <a:lnTo>
                    <a:pt x="651" y="747"/>
                  </a:lnTo>
                  <a:lnTo>
                    <a:pt x="696" y="753"/>
                  </a:lnTo>
                  <a:lnTo>
                    <a:pt x="798" y="789"/>
                  </a:lnTo>
                  <a:lnTo>
                    <a:pt x="834" y="810"/>
                  </a:lnTo>
                  <a:lnTo>
                    <a:pt x="858" y="819"/>
                  </a:lnTo>
                  <a:lnTo>
                    <a:pt x="873" y="804"/>
                  </a:lnTo>
                  <a:lnTo>
                    <a:pt x="849" y="786"/>
                  </a:lnTo>
                  <a:lnTo>
                    <a:pt x="852" y="747"/>
                  </a:lnTo>
                  <a:lnTo>
                    <a:pt x="888" y="717"/>
                  </a:lnTo>
                  <a:lnTo>
                    <a:pt x="870" y="708"/>
                  </a:lnTo>
                  <a:lnTo>
                    <a:pt x="855" y="711"/>
                  </a:lnTo>
                  <a:lnTo>
                    <a:pt x="822" y="663"/>
                  </a:lnTo>
                  <a:lnTo>
                    <a:pt x="837" y="621"/>
                  </a:lnTo>
                  <a:lnTo>
                    <a:pt x="867" y="609"/>
                  </a:lnTo>
                  <a:lnTo>
                    <a:pt x="894" y="603"/>
                  </a:lnTo>
                  <a:lnTo>
                    <a:pt x="912" y="600"/>
                  </a:lnTo>
                  <a:lnTo>
                    <a:pt x="936" y="612"/>
                  </a:lnTo>
                  <a:lnTo>
                    <a:pt x="972" y="624"/>
                  </a:lnTo>
                  <a:lnTo>
                    <a:pt x="1005" y="636"/>
                  </a:lnTo>
                  <a:lnTo>
                    <a:pt x="1023" y="630"/>
                  </a:lnTo>
                  <a:lnTo>
                    <a:pt x="1017" y="612"/>
                  </a:lnTo>
                  <a:lnTo>
                    <a:pt x="1023" y="576"/>
                  </a:lnTo>
                  <a:lnTo>
                    <a:pt x="1038" y="552"/>
                  </a:lnTo>
                  <a:lnTo>
                    <a:pt x="1062" y="546"/>
                  </a:lnTo>
                  <a:lnTo>
                    <a:pt x="1086" y="552"/>
                  </a:lnTo>
                  <a:lnTo>
                    <a:pt x="1107" y="561"/>
                  </a:lnTo>
                  <a:lnTo>
                    <a:pt x="1134" y="564"/>
                  </a:lnTo>
                  <a:lnTo>
                    <a:pt x="1155" y="555"/>
                  </a:lnTo>
                  <a:lnTo>
                    <a:pt x="1191" y="561"/>
                  </a:lnTo>
                  <a:lnTo>
                    <a:pt x="1215" y="567"/>
                  </a:lnTo>
                  <a:lnTo>
                    <a:pt x="1239" y="573"/>
                  </a:lnTo>
                  <a:lnTo>
                    <a:pt x="1272" y="582"/>
                  </a:lnTo>
                  <a:lnTo>
                    <a:pt x="1299" y="603"/>
                  </a:lnTo>
                  <a:lnTo>
                    <a:pt x="1314" y="624"/>
                  </a:lnTo>
                  <a:lnTo>
                    <a:pt x="1362" y="657"/>
                  </a:lnTo>
                  <a:lnTo>
                    <a:pt x="1392" y="657"/>
                  </a:lnTo>
                  <a:lnTo>
                    <a:pt x="1523" y="601"/>
                  </a:lnTo>
                  <a:lnTo>
                    <a:pt x="1533" y="555"/>
                  </a:lnTo>
                  <a:lnTo>
                    <a:pt x="1569" y="587"/>
                  </a:lnTo>
                  <a:lnTo>
                    <a:pt x="1654" y="601"/>
                  </a:lnTo>
                  <a:lnTo>
                    <a:pt x="1753" y="626"/>
                  </a:lnTo>
                  <a:lnTo>
                    <a:pt x="1843" y="626"/>
                  </a:lnTo>
                  <a:lnTo>
                    <a:pt x="1893" y="667"/>
                  </a:lnTo>
                  <a:lnTo>
                    <a:pt x="1933" y="663"/>
                  </a:lnTo>
                  <a:lnTo>
                    <a:pt x="1925" y="595"/>
                  </a:lnTo>
                  <a:lnTo>
                    <a:pt x="1981" y="603"/>
                  </a:lnTo>
                  <a:lnTo>
                    <a:pt x="2009" y="619"/>
                  </a:lnTo>
                  <a:lnTo>
                    <a:pt x="2049" y="663"/>
                  </a:lnTo>
                  <a:lnTo>
                    <a:pt x="2045" y="707"/>
                  </a:lnTo>
                  <a:lnTo>
                    <a:pt x="2061" y="743"/>
                  </a:lnTo>
                  <a:lnTo>
                    <a:pt x="2029" y="783"/>
                  </a:lnTo>
                  <a:lnTo>
                    <a:pt x="2030" y="809"/>
                  </a:lnTo>
                  <a:lnTo>
                    <a:pt x="2111" y="767"/>
                  </a:lnTo>
                  <a:lnTo>
                    <a:pt x="2128" y="669"/>
                  </a:lnTo>
                  <a:lnTo>
                    <a:pt x="2108" y="597"/>
                  </a:lnTo>
                  <a:lnTo>
                    <a:pt x="2047" y="584"/>
                  </a:lnTo>
                  <a:lnTo>
                    <a:pt x="2042" y="559"/>
                  </a:lnTo>
                  <a:lnTo>
                    <a:pt x="2081" y="513"/>
                  </a:lnTo>
                  <a:lnTo>
                    <a:pt x="2108" y="464"/>
                  </a:lnTo>
                  <a:lnTo>
                    <a:pt x="2187" y="485"/>
                  </a:lnTo>
                  <a:lnTo>
                    <a:pt x="2248" y="494"/>
                  </a:lnTo>
                  <a:lnTo>
                    <a:pt x="2248" y="451"/>
                  </a:lnTo>
                  <a:lnTo>
                    <a:pt x="2292" y="422"/>
                  </a:lnTo>
                  <a:lnTo>
                    <a:pt x="2317" y="441"/>
                  </a:lnTo>
                  <a:lnTo>
                    <a:pt x="2319" y="479"/>
                  </a:lnTo>
                  <a:lnTo>
                    <a:pt x="2278" y="519"/>
                  </a:lnTo>
                  <a:lnTo>
                    <a:pt x="2303" y="640"/>
                  </a:lnTo>
                  <a:lnTo>
                    <a:pt x="2336" y="673"/>
                  </a:lnTo>
                  <a:lnTo>
                    <a:pt x="2388" y="584"/>
                  </a:lnTo>
                  <a:lnTo>
                    <a:pt x="2395" y="507"/>
                  </a:lnTo>
                  <a:lnTo>
                    <a:pt x="2355" y="498"/>
                  </a:lnTo>
                  <a:lnTo>
                    <a:pt x="2363" y="464"/>
                  </a:lnTo>
                  <a:lnTo>
                    <a:pt x="2415" y="471"/>
                  </a:lnTo>
                  <a:lnTo>
                    <a:pt x="2498" y="428"/>
                  </a:lnTo>
                  <a:lnTo>
                    <a:pt x="2530" y="435"/>
                  </a:lnTo>
                  <a:lnTo>
                    <a:pt x="2537" y="417"/>
                  </a:lnTo>
                  <a:lnTo>
                    <a:pt x="2536" y="415"/>
                  </a:lnTo>
                  <a:lnTo>
                    <a:pt x="2519" y="382"/>
                  </a:lnTo>
                  <a:lnTo>
                    <a:pt x="2509" y="369"/>
                  </a:lnTo>
                  <a:lnTo>
                    <a:pt x="2501" y="357"/>
                  </a:lnTo>
                  <a:lnTo>
                    <a:pt x="2495" y="348"/>
                  </a:lnTo>
                  <a:lnTo>
                    <a:pt x="2488" y="342"/>
                  </a:lnTo>
                  <a:lnTo>
                    <a:pt x="2486" y="336"/>
                  </a:lnTo>
                  <a:lnTo>
                    <a:pt x="2480" y="337"/>
                  </a:lnTo>
                  <a:lnTo>
                    <a:pt x="2479" y="334"/>
                  </a:lnTo>
                  <a:lnTo>
                    <a:pt x="2468" y="327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09920" y="5051520"/>
              <a:ext cx="120600" cy="55440"/>
            </a:xfrm>
            <a:custGeom>
              <a:avLst/>
              <a:gdLst/>
              <a:ahLst/>
              <a:rect l="l" t="t" r="r" b="b"/>
              <a:pathLst>
                <a:path w="314" h="141">
                  <a:moveTo>
                    <a:pt x="9" y="39"/>
                  </a:moveTo>
                  <a:cubicBezTo>
                    <a:pt x="0" y="65"/>
                    <a:pt x="13" y="108"/>
                    <a:pt x="39" y="123"/>
                  </a:cubicBezTo>
                  <a:cubicBezTo>
                    <a:pt x="45" y="126"/>
                    <a:pt x="52" y="125"/>
                    <a:pt x="57" y="129"/>
                  </a:cubicBezTo>
                  <a:cubicBezTo>
                    <a:pt x="60" y="131"/>
                    <a:pt x="63" y="133"/>
                    <a:pt x="66" y="135"/>
                  </a:cubicBezTo>
                  <a:cubicBezTo>
                    <a:pt x="88" y="129"/>
                    <a:pt x="96" y="120"/>
                    <a:pt x="120" y="117"/>
                  </a:cubicBezTo>
                  <a:cubicBezTo>
                    <a:pt x="154" y="119"/>
                    <a:pt x="175" y="122"/>
                    <a:pt x="207" y="126"/>
                  </a:cubicBezTo>
                  <a:cubicBezTo>
                    <a:pt x="229" y="137"/>
                    <a:pt x="229" y="138"/>
                    <a:pt x="258" y="141"/>
                  </a:cubicBezTo>
                  <a:cubicBezTo>
                    <a:pt x="280" y="134"/>
                    <a:pt x="276" y="128"/>
                    <a:pt x="300" y="126"/>
                  </a:cubicBezTo>
                  <a:cubicBezTo>
                    <a:pt x="314" y="106"/>
                    <a:pt x="296" y="86"/>
                    <a:pt x="279" y="75"/>
                  </a:cubicBezTo>
                  <a:cubicBezTo>
                    <a:pt x="272" y="55"/>
                    <a:pt x="289" y="26"/>
                    <a:pt x="261" y="24"/>
                  </a:cubicBezTo>
                  <a:cubicBezTo>
                    <a:pt x="238" y="22"/>
                    <a:pt x="215" y="22"/>
                    <a:pt x="192" y="21"/>
                  </a:cubicBezTo>
                  <a:cubicBezTo>
                    <a:pt x="167" y="13"/>
                    <a:pt x="163" y="5"/>
                    <a:pt x="135" y="0"/>
                  </a:cubicBezTo>
                  <a:cubicBezTo>
                    <a:pt x="118" y="6"/>
                    <a:pt x="107" y="18"/>
                    <a:pt x="90" y="24"/>
                  </a:cubicBezTo>
                  <a:cubicBezTo>
                    <a:pt x="77" y="21"/>
                    <a:pt x="67" y="16"/>
                    <a:pt x="54" y="12"/>
                  </a:cubicBezTo>
                  <a:cubicBezTo>
                    <a:pt x="33" y="26"/>
                    <a:pt x="43" y="22"/>
                    <a:pt x="24" y="27"/>
                  </a:cubicBezTo>
                  <a:cubicBezTo>
                    <a:pt x="13" y="35"/>
                    <a:pt x="18" y="30"/>
                    <a:pt x="9" y="39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59040" y="4656240"/>
              <a:ext cx="12600" cy="46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79560" y="4665600"/>
              <a:ext cx="5040" cy="3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9" y="1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87840" y="4672080"/>
              <a:ext cx="4680" cy="205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4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73360" y="4641840"/>
              <a:ext cx="20520" cy="6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21"/>
                  </a:moveTo>
                  <a:lnTo>
                    <a:pt x="43" y="0"/>
                  </a:lnTo>
                  <a:lnTo>
                    <a:pt x="1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6960" y="4656240"/>
              <a:ext cx="4680" cy="32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9" y="1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76680" y="4660920"/>
              <a:ext cx="2880" cy="22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3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22440" y="4697640"/>
              <a:ext cx="71640" cy="41040"/>
            </a:xfrm>
            <a:custGeom>
              <a:avLst/>
              <a:gdLst/>
              <a:ahLst/>
              <a:rect l="l" t="t" r="r" b="b"/>
              <a:pathLst>
                <a:path w="216" h="123">
                  <a:moveTo>
                    <a:pt x="216" y="78"/>
                  </a:moveTo>
                  <a:lnTo>
                    <a:pt x="163" y="61"/>
                  </a:lnTo>
                  <a:lnTo>
                    <a:pt x="106" y="4"/>
                  </a:lnTo>
                  <a:lnTo>
                    <a:pt x="76" y="0"/>
                  </a:lnTo>
                  <a:lnTo>
                    <a:pt x="66" y="19"/>
                  </a:lnTo>
                  <a:lnTo>
                    <a:pt x="3" y="19"/>
                  </a:lnTo>
                  <a:lnTo>
                    <a:pt x="0" y="45"/>
                  </a:lnTo>
                  <a:lnTo>
                    <a:pt x="53" y="68"/>
                  </a:lnTo>
                  <a:lnTo>
                    <a:pt x="38" y="85"/>
                  </a:lnTo>
                  <a:lnTo>
                    <a:pt x="70" y="123"/>
                  </a:lnTo>
                  <a:lnTo>
                    <a:pt x="108" y="99"/>
                  </a:lnTo>
                  <a:lnTo>
                    <a:pt x="133" y="51"/>
                  </a:lnTo>
                  <a:lnTo>
                    <a:pt x="159" y="72"/>
                  </a:lnTo>
                  <a:lnTo>
                    <a:pt x="138" y="95"/>
                  </a:lnTo>
                  <a:lnTo>
                    <a:pt x="186" y="110"/>
                  </a:lnTo>
                  <a:lnTo>
                    <a:pt x="211" y="99"/>
                  </a:lnTo>
                  <a:lnTo>
                    <a:pt x="216" y="78"/>
                  </a:lnTo>
                  <a:lnTo>
                    <a:pt x="216" y="7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63840" y="4697640"/>
              <a:ext cx="39600" cy="1404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0" y="4"/>
                  </a:moveTo>
                  <a:lnTo>
                    <a:pt x="116" y="0"/>
                  </a:lnTo>
                  <a:lnTo>
                    <a:pt x="124" y="19"/>
                  </a:lnTo>
                  <a:lnTo>
                    <a:pt x="99" y="26"/>
                  </a:lnTo>
                  <a:lnTo>
                    <a:pt x="61" y="40"/>
                  </a:lnTo>
                  <a:lnTo>
                    <a:pt x="25" y="28"/>
                  </a:lnTo>
                  <a:lnTo>
                    <a:pt x="48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57520" y="4737240"/>
              <a:ext cx="77760" cy="61920"/>
            </a:xfrm>
            <a:custGeom>
              <a:avLst/>
              <a:gdLst/>
              <a:ahLst/>
              <a:rect l="l" t="t" r="r" b="b"/>
              <a:pathLst>
                <a:path w="238" h="192">
                  <a:moveTo>
                    <a:pt x="238" y="2"/>
                  </a:moveTo>
                  <a:lnTo>
                    <a:pt x="198" y="0"/>
                  </a:lnTo>
                  <a:lnTo>
                    <a:pt x="168" y="23"/>
                  </a:lnTo>
                  <a:lnTo>
                    <a:pt x="94" y="40"/>
                  </a:lnTo>
                  <a:lnTo>
                    <a:pt x="38" y="61"/>
                  </a:lnTo>
                  <a:lnTo>
                    <a:pt x="21" y="106"/>
                  </a:lnTo>
                  <a:lnTo>
                    <a:pt x="0" y="163"/>
                  </a:lnTo>
                  <a:lnTo>
                    <a:pt x="38" y="192"/>
                  </a:lnTo>
                  <a:lnTo>
                    <a:pt x="84" y="182"/>
                  </a:lnTo>
                  <a:lnTo>
                    <a:pt x="59" y="154"/>
                  </a:lnTo>
                  <a:lnTo>
                    <a:pt x="88" y="83"/>
                  </a:lnTo>
                  <a:lnTo>
                    <a:pt x="151" y="53"/>
                  </a:lnTo>
                  <a:lnTo>
                    <a:pt x="238" y="26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89120" y="4689720"/>
              <a:ext cx="46080" cy="1908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122" y="33"/>
                  </a:moveTo>
                  <a:lnTo>
                    <a:pt x="141" y="52"/>
                  </a:lnTo>
                  <a:lnTo>
                    <a:pt x="91" y="57"/>
                  </a:lnTo>
                  <a:lnTo>
                    <a:pt x="42" y="19"/>
                  </a:lnTo>
                  <a:lnTo>
                    <a:pt x="0" y="33"/>
                  </a:lnTo>
                  <a:lnTo>
                    <a:pt x="13" y="16"/>
                  </a:lnTo>
                  <a:lnTo>
                    <a:pt x="59" y="0"/>
                  </a:lnTo>
                  <a:lnTo>
                    <a:pt x="101" y="29"/>
                  </a:lnTo>
                  <a:lnTo>
                    <a:pt x="122" y="33"/>
                  </a:lnTo>
                  <a:lnTo>
                    <a:pt x="122" y="33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43160" y="4835520"/>
              <a:ext cx="58680" cy="3492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120" y="0"/>
                  </a:moveTo>
                  <a:lnTo>
                    <a:pt x="84" y="25"/>
                  </a:lnTo>
                  <a:lnTo>
                    <a:pt x="53" y="25"/>
                  </a:lnTo>
                  <a:lnTo>
                    <a:pt x="40" y="8"/>
                  </a:lnTo>
                  <a:lnTo>
                    <a:pt x="0" y="38"/>
                  </a:lnTo>
                  <a:lnTo>
                    <a:pt x="19" y="74"/>
                  </a:lnTo>
                  <a:lnTo>
                    <a:pt x="17" y="99"/>
                  </a:lnTo>
                  <a:lnTo>
                    <a:pt x="99" y="105"/>
                  </a:lnTo>
                  <a:lnTo>
                    <a:pt x="127" y="84"/>
                  </a:lnTo>
                  <a:lnTo>
                    <a:pt x="165" y="76"/>
                  </a:lnTo>
                  <a:lnTo>
                    <a:pt x="169" y="8"/>
                  </a:lnTo>
                  <a:lnTo>
                    <a:pt x="137" y="1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36760" y="4908600"/>
              <a:ext cx="41400" cy="87480"/>
            </a:xfrm>
            <a:custGeom>
              <a:avLst/>
              <a:gdLst/>
              <a:ahLst/>
              <a:rect l="l" t="t" r="r" b="b"/>
              <a:pathLst>
                <a:path w="119" h="251">
                  <a:moveTo>
                    <a:pt x="66" y="2"/>
                  </a:moveTo>
                  <a:lnTo>
                    <a:pt x="72" y="38"/>
                  </a:lnTo>
                  <a:lnTo>
                    <a:pt x="43" y="63"/>
                  </a:lnTo>
                  <a:lnTo>
                    <a:pt x="70" y="63"/>
                  </a:lnTo>
                  <a:lnTo>
                    <a:pt x="80" y="80"/>
                  </a:lnTo>
                  <a:lnTo>
                    <a:pt x="66" y="103"/>
                  </a:lnTo>
                  <a:lnTo>
                    <a:pt x="93" y="118"/>
                  </a:lnTo>
                  <a:lnTo>
                    <a:pt x="97" y="158"/>
                  </a:lnTo>
                  <a:lnTo>
                    <a:pt x="116" y="173"/>
                  </a:lnTo>
                  <a:lnTo>
                    <a:pt x="119" y="198"/>
                  </a:lnTo>
                  <a:lnTo>
                    <a:pt x="80" y="219"/>
                  </a:lnTo>
                  <a:lnTo>
                    <a:pt x="32" y="236"/>
                  </a:lnTo>
                  <a:lnTo>
                    <a:pt x="3" y="251"/>
                  </a:lnTo>
                  <a:lnTo>
                    <a:pt x="21" y="224"/>
                  </a:lnTo>
                  <a:lnTo>
                    <a:pt x="32" y="215"/>
                  </a:lnTo>
                  <a:lnTo>
                    <a:pt x="13" y="211"/>
                  </a:lnTo>
                  <a:lnTo>
                    <a:pt x="28" y="181"/>
                  </a:lnTo>
                  <a:lnTo>
                    <a:pt x="17" y="167"/>
                  </a:lnTo>
                  <a:lnTo>
                    <a:pt x="40" y="167"/>
                  </a:lnTo>
                  <a:lnTo>
                    <a:pt x="51" y="146"/>
                  </a:lnTo>
                  <a:lnTo>
                    <a:pt x="32" y="129"/>
                  </a:lnTo>
                  <a:lnTo>
                    <a:pt x="0" y="101"/>
                  </a:lnTo>
                  <a:lnTo>
                    <a:pt x="0" y="48"/>
                  </a:lnTo>
                  <a:lnTo>
                    <a:pt x="17" y="38"/>
                  </a:lnTo>
                  <a:lnTo>
                    <a:pt x="51" y="27"/>
                  </a:lnTo>
                  <a:lnTo>
                    <a:pt x="61" y="0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14440" y="4945320"/>
              <a:ext cx="24120" cy="39600"/>
            </a:xfrm>
            <a:custGeom>
              <a:avLst/>
              <a:gdLst/>
              <a:ahLst/>
              <a:rect l="l" t="t" r="r" b="b"/>
              <a:pathLst>
                <a:path w="72" h="112">
                  <a:moveTo>
                    <a:pt x="72" y="28"/>
                  </a:moveTo>
                  <a:lnTo>
                    <a:pt x="61" y="51"/>
                  </a:lnTo>
                  <a:lnTo>
                    <a:pt x="72" y="91"/>
                  </a:lnTo>
                  <a:lnTo>
                    <a:pt x="50" y="112"/>
                  </a:lnTo>
                  <a:lnTo>
                    <a:pt x="0" y="108"/>
                  </a:lnTo>
                  <a:lnTo>
                    <a:pt x="14" y="62"/>
                  </a:lnTo>
                  <a:lnTo>
                    <a:pt x="6" y="24"/>
                  </a:lnTo>
                  <a:lnTo>
                    <a:pt x="46" y="0"/>
                  </a:lnTo>
                  <a:lnTo>
                    <a:pt x="72" y="28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14640" y="4772160"/>
              <a:ext cx="74520" cy="1908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55"/>
                  </a:moveTo>
                  <a:lnTo>
                    <a:pt x="215" y="32"/>
                  </a:lnTo>
                  <a:lnTo>
                    <a:pt x="80" y="8"/>
                  </a:lnTo>
                  <a:lnTo>
                    <a:pt x="57" y="23"/>
                  </a:lnTo>
                  <a:lnTo>
                    <a:pt x="8" y="0"/>
                  </a:lnTo>
                  <a:lnTo>
                    <a:pt x="0" y="38"/>
                  </a:lnTo>
                  <a:lnTo>
                    <a:pt x="86" y="55"/>
                  </a:lnTo>
                  <a:lnTo>
                    <a:pt x="124" y="38"/>
                  </a:lnTo>
                  <a:lnTo>
                    <a:pt x="226" y="55"/>
                  </a:lnTo>
                  <a:lnTo>
                    <a:pt x="226" y="55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6520" y="4710240"/>
              <a:ext cx="73080" cy="4608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57" y="0"/>
                  </a:moveTo>
                  <a:lnTo>
                    <a:pt x="204" y="36"/>
                  </a:lnTo>
                  <a:lnTo>
                    <a:pt x="225" y="120"/>
                  </a:lnTo>
                  <a:lnTo>
                    <a:pt x="158" y="82"/>
                  </a:lnTo>
                  <a:lnTo>
                    <a:pt x="134" y="141"/>
                  </a:lnTo>
                  <a:lnTo>
                    <a:pt x="0" y="47"/>
                  </a:lnTo>
                  <a:lnTo>
                    <a:pt x="86" y="6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03360" y="5059440"/>
              <a:ext cx="14400" cy="31680"/>
            </a:xfrm>
            <a:custGeom>
              <a:avLst/>
              <a:gdLst/>
              <a:ahLst/>
              <a:rect l="l" t="t" r="r" b="b"/>
              <a:pathLst>
                <a:path w="41" h="99">
                  <a:moveTo>
                    <a:pt x="17" y="0"/>
                  </a:moveTo>
                  <a:lnTo>
                    <a:pt x="30" y="9"/>
                  </a:lnTo>
                  <a:lnTo>
                    <a:pt x="41" y="38"/>
                  </a:lnTo>
                  <a:lnTo>
                    <a:pt x="30" y="45"/>
                  </a:lnTo>
                  <a:lnTo>
                    <a:pt x="39" y="66"/>
                  </a:lnTo>
                  <a:lnTo>
                    <a:pt x="28" y="99"/>
                  </a:lnTo>
                  <a:lnTo>
                    <a:pt x="1" y="99"/>
                  </a:lnTo>
                  <a:lnTo>
                    <a:pt x="0" y="61"/>
                  </a:lnTo>
                  <a:lnTo>
                    <a:pt x="17" y="47"/>
                  </a:lnTo>
                  <a:lnTo>
                    <a:pt x="13" y="1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89040" y="5106960"/>
              <a:ext cx="16200" cy="79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9" y="0"/>
                  </a:moveTo>
                  <a:lnTo>
                    <a:pt x="26" y="10"/>
                  </a:lnTo>
                  <a:lnTo>
                    <a:pt x="47" y="6"/>
                  </a:lnTo>
                  <a:lnTo>
                    <a:pt x="40" y="23"/>
                  </a:lnTo>
                  <a:lnTo>
                    <a:pt x="19" y="27"/>
                  </a:lnTo>
                  <a:lnTo>
                    <a:pt x="0" y="1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3960" y="5116680"/>
              <a:ext cx="11160" cy="46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0"/>
                  </a:moveTo>
                  <a:lnTo>
                    <a:pt x="19" y="5"/>
                  </a:lnTo>
                  <a:lnTo>
                    <a:pt x="0" y="9"/>
                  </a:lnTo>
                  <a:lnTo>
                    <a:pt x="5" y="19"/>
                  </a:lnTo>
                  <a:lnTo>
                    <a:pt x="32" y="1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23920" y="5338800"/>
              <a:ext cx="19080" cy="255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19" y="5"/>
                  </a:moveTo>
                  <a:cubicBezTo>
                    <a:pt x="14" y="19"/>
                    <a:pt x="0" y="45"/>
                    <a:pt x="19" y="59"/>
                  </a:cubicBezTo>
                  <a:cubicBezTo>
                    <a:pt x="25" y="64"/>
                    <a:pt x="34" y="54"/>
                    <a:pt x="42" y="52"/>
                  </a:cubicBezTo>
                  <a:cubicBezTo>
                    <a:pt x="33" y="0"/>
                    <a:pt x="50" y="5"/>
                    <a:pt x="19" y="5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52760" y="5124600"/>
              <a:ext cx="9360" cy="205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20" y="0"/>
                  </a:moveTo>
                  <a:cubicBezTo>
                    <a:pt x="18" y="20"/>
                    <a:pt x="25" y="56"/>
                    <a:pt x="0" y="48"/>
                  </a:cubicBezTo>
                  <a:cubicBezTo>
                    <a:pt x="5" y="30"/>
                    <a:pt x="7" y="13"/>
                    <a:pt x="20" y="0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98920" y="5032440"/>
              <a:ext cx="29880" cy="2880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7" y="12"/>
                  </a:moveTo>
                  <a:cubicBezTo>
                    <a:pt x="7" y="15"/>
                    <a:pt x="0" y="60"/>
                    <a:pt x="7" y="66"/>
                  </a:cubicBezTo>
                  <a:cubicBezTo>
                    <a:pt x="12" y="71"/>
                    <a:pt x="21" y="64"/>
                    <a:pt x="28" y="63"/>
                  </a:cubicBezTo>
                  <a:cubicBezTo>
                    <a:pt x="38" y="62"/>
                    <a:pt x="48" y="61"/>
                    <a:pt x="58" y="60"/>
                  </a:cubicBezTo>
                  <a:cubicBezTo>
                    <a:pt x="64" y="56"/>
                    <a:pt x="70" y="52"/>
                    <a:pt x="76" y="48"/>
                  </a:cubicBezTo>
                  <a:cubicBezTo>
                    <a:pt x="81" y="44"/>
                    <a:pt x="82" y="30"/>
                    <a:pt x="82" y="30"/>
                  </a:cubicBezTo>
                  <a:cubicBezTo>
                    <a:pt x="67" y="27"/>
                    <a:pt x="67" y="30"/>
                    <a:pt x="58" y="18"/>
                  </a:cubicBezTo>
                  <a:cubicBezTo>
                    <a:pt x="54" y="12"/>
                    <a:pt x="46" y="0"/>
                    <a:pt x="46" y="0"/>
                  </a:cubicBezTo>
                  <a:cubicBezTo>
                    <a:pt x="40" y="1"/>
                    <a:pt x="34" y="1"/>
                    <a:pt x="28" y="3"/>
                  </a:cubicBezTo>
                  <a:cubicBezTo>
                    <a:pt x="5" y="12"/>
                    <a:pt x="16" y="21"/>
                    <a:pt x="7" y="12"/>
                  </a:cubicBezTo>
                  <a:close/>
                </a:path>
              </a:pathLst>
            </a:custGeom>
            <a:solidFill>
              <a:srgbClr val="a7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03520" y="5048280"/>
              <a:ext cx="54000" cy="47880"/>
            </a:xfrm>
            <a:custGeom>
              <a:avLst/>
              <a:gdLst/>
              <a:ahLst/>
              <a:rect l="l" t="t" r="r" b="b"/>
              <a:pathLst>
                <a:path w="141" h="124">
                  <a:moveTo>
                    <a:pt x="0" y="10"/>
                  </a:moveTo>
                  <a:cubicBezTo>
                    <a:pt x="29" y="0"/>
                    <a:pt x="53" y="23"/>
                    <a:pt x="80" y="30"/>
                  </a:cubicBezTo>
                  <a:cubicBezTo>
                    <a:pt x="96" y="41"/>
                    <a:pt x="115" y="49"/>
                    <a:pt x="132" y="58"/>
                  </a:cubicBezTo>
                  <a:cubicBezTo>
                    <a:pt x="132" y="59"/>
                    <a:pt x="141" y="113"/>
                    <a:pt x="132" y="122"/>
                  </a:cubicBezTo>
                  <a:cubicBezTo>
                    <a:pt x="130" y="124"/>
                    <a:pt x="91" y="111"/>
                    <a:pt x="88" y="110"/>
                  </a:cubicBezTo>
                  <a:cubicBezTo>
                    <a:pt x="76" y="98"/>
                    <a:pt x="66" y="95"/>
                    <a:pt x="52" y="86"/>
                  </a:cubicBezTo>
                  <a:cubicBezTo>
                    <a:pt x="46" y="68"/>
                    <a:pt x="35" y="72"/>
                    <a:pt x="20" y="62"/>
                  </a:cubicBezTo>
                  <a:cubicBezTo>
                    <a:pt x="15" y="43"/>
                    <a:pt x="11" y="26"/>
                    <a:pt x="0" y="1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38440" y="4961160"/>
              <a:ext cx="228600" cy="158760"/>
            </a:xfrm>
            <a:custGeom>
              <a:avLst/>
              <a:gdLst/>
              <a:ahLst/>
              <a:rect l="l" t="t" r="r" b="b"/>
              <a:pathLst>
                <a:path w="589" h="407">
                  <a:moveTo>
                    <a:pt x="40" y="160"/>
                  </a:moveTo>
                  <a:cubicBezTo>
                    <a:pt x="28" y="144"/>
                    <a:pt x="12" y="130"/>
                    <a:pt x="4" y="112"/>
                  </a:cubicBezTo>
                  <a:cubicBezTo>
                    <a:pt x="0" y="103"/>
                    <a:pt x="3" y="92"/>
                    <a:pt x="8" y="84"/>
                  </a:cubicBezTo>
                  <a:cubicBezTo>
                    <a:pt x="13" y="76"/>
                    <a:pt x="32" y="68"/>
                    <a:pt x="32" y="68"/>
                  </a:cubicBezTo>
                  <a:cubicBezTo>
                    <a:pt x="43" y="52"/>
                    <a:pt x="50" y="50"/>
                    <a:pt x="68" y="56"/>
                  </a:cubicBezTo>
                  <a:cubicBezTo>
                    <a:pt x="87" y="43"/>
                    <a:pt x="86" y="52"/>
                    <a:pt x="104" y="60"/>
                  </a:cubicBezTo>
                  <a:cubicBezTo>
                    <a:pt x="126" y="70"/>
                    <a:pt x="126" y="67"/>
                    <a:pt x="148" y="72"/>
                  </a:cubicBezTo>
                  <a:cubicBezTo>
                    <a:pt x="161" y="75"/>
                    <a:pt x="171" y="84"/>
                    <a:pt x="184" y="88"/>
                  </a:cubicBezTo>
                  <a:cubicBezTo>
                    <a:pt x="220" y="76"/>
                    <a:pt x="174" y="96"/>
                    <a:pt x="200" y="24"/>
                  </a:cubicBezTo>
                  <a:cubicBezTo>
                    <a:pt x="205" y="10"/>
                    <a:pt x="236" y="0"/>
                    <a:pt x="236" y="0"/>
                  </a:cubicBezTo>
                  <a:cubicBezTo>
                    <a:pt x="293" y="6"/>
                    <a:pt x="262" y="7"/>
                    <a:pt x="300" y="20"/>
                  </a:cubicBezTo>
                  <a:cubicBezTo>
                    <a:pt x="314" y="15"/>
                    <a:pt x="326" y="9"/>
                    <a:pt x="340" y="4"/>
                  </a:cubicBezTo>
                  <a:cubicBezTo>
                    <a:pt x="366" y="21"/>
                    <a:pt x="379" y="17"/>
                    <a:pt x="416" y="20"/>
                  </a:cubicBezTo>
                  <a:cubicBezTo>
                    <a:pt x="419" y="24"/>
                    <a:pt x="420" y="30"/>
                    <a:pt x="424" y="32"/>
                  </a:cubicBezTo>
                  <a:cubicBezTo>
                    <a:pt x="434" y="37"/>
                    <a:pt x="456" y="40"/>
                    <a:pt x="456" y="40"/>
                  </a:cubicBezTo>
                  <a:cubicBezTo>
                    <a:pt x="463" y="45"/>
                    <a:pt x="474" y="46"/>
                    <a:pt x="480" y="52"/>
                  </a:cubicBezTo>
                  <a:cubicBezTo>
                    <a:pt x="483" y="55"/>
                    <a:pt x="482" y="60"/>
                    <a:pt x="484" y="64"/>
                  </a:cubicBezTo>
                  <a:cubicBezTo>
                    <a:pt x="492" y="79"/>
                    <a:pt x="509" y="93"/>
                    <a:pt x="520" y="104"/>
                  </a:cubicBezTo>
                  <a:cubicBezTo>
                    <a:pt x="529" y="113"/>
                    <a:pt x="562" y="114"/>
                    <a:pt x="572" y="116"/>
                  </a:cubicBezTo>
                  <a:cubicBezTo>
                    <a:pt x="589" y="141"/>
                    <a:pt x="562" y="140"/>
                    <a:pt x="544" y="152"/>
                  </a:cubicBezTo>
                  <a:cubicBezTo>
                    <a:pt x="539" y="160"/>
                    <a:pt x="533" y="168"/>
                    <a:pt x="528" y="176"/>
                  </a:cubicBezTo>
                  <a:cubicBezTo>
                    <a:pt x="523" y="184"/>
                    <a:pt x="504" y="192"/>
                    <a:pt x="504" y="192"/>
                  </a:cubicBezTo>
                  <a:cubicBezTo>
                    <a:pt x="489" y="215"/>
                    <a:pt x="502" y="242"/>
                    <a:pt x="472" y="252"/>
                  </a:cubicBezTo>
                  <a:cubicBezTo>
                    <a:pt x="467" y="268"/>
                    <a:pt x="464" y="275"/>
                    <a:pt x="448" y="280"/>
                  </a:cubicBezTo>
                  <a:cubicBezTo>
                    <a:pt x="428" y="300"/>
                    <a:pt x="428" y="313"/>
                    <a:pt x="396" y="324"/>
                  </a:cubicBezTo>
                  <a:cubicBezTo>
                    <a:pt x="390" y="342"/>
                    <a:pt x="397" y="346"/>
                    <a:pt x="412" y="356"/>
                  </a:cubicBezTo>
                  <a:cubicBezTo>
                    <a:pt x="403" y="370"/>
                    <a:pt x="388" y="387"/>
                    <a:pt x="372" y="392"/>
                  </a:cubicBezTo>
                  <a:cubicBezTo>
                    <a:pt x="325" y="380"/>
                    <a:pt x="385" y="359"/>
                    <a:pt x="328" y="368"/>
                  </a:cubicBezTo>
                  <a:cubicBezTo>
                    <a:pt x="309" y="380"/>
                    <a:pt x="313" y="367"/>
                    <a:pt x="296" y="356"/>
                  </a:cubicBezTo>
                  <a:cubicBezTo>
                    <a:pt x="289" y="361"/>
                    <a:pt x="277" y="368"/>
                    <a:pt x="272" y="376"/>
                  </a:cubicBezTo>
                  <a:cubicBezTo>
                    <a:pt x="255" y="407"/>
                    <a:pt x="276" y="396"/>
                    <a:pt x="252" y="404"/>
                  </a:cubicBezTo>
                  <a:cubicBezTo>
                    <a:pt x="227" y="398"/>
                    <a:pt x="228" y="388"/>
                    <a:pt x="220" y="364"/>
                  </a:cubicBezTo>
                  <a:cubicBezTo>
                    <a:pt x="217" y="354"/>
                    <a:pt x="196" y="338"/>
                    <a:pt x="188" y="332"/>
                  </a:cubicBezTo>
                  <a:cubicBezTo>
                    <a:pt x="170" y="336"/>
                    <a:pt x="161" y="342"/>
                    <a:pt x="144" y="348"/>
                  </a:cubicBezTo>
                  <a:cubicBezTo>
                    <a:pt x="129" y="344"/>
                    <a:pt x="151" y="308"/>
                    <a:pt x="139" y="299"/>
                  </a:cubicBezTo>
                  <a:cubicBezTo>
                    <a:pt x="127" y="289"/>
                    <a:pt x="115" y="262"/>
                    <a:pt x="109" y="245"/>
                  </a:cubicBezTo>
                  <a:cubicBezTo>
                    <a:pt x="108" y="236"/>
                    <a:pt x="78" y="229"/>
                    <a:pt x="73" y="221"/>
                  </a:cubicBezTo>
                  <a:cubicBezTo>
                    <a:pt x="68" y="213"/>
                    <a:pt x="69" y="205"/>
                    <a:pt x="61" y="200"/>
                  </a:cubicBezTo>
                  <a:cubicBezTo>
                    <a:pt x="57" y="197"/>
                    <a:pt x="61" y="194"/>
                    <a:pt x="61" y="194"/>
                  </a:cubicBezTo>
                  <a:cubicBezTo>
                    <a:pt x="75" y="190"/>
                    <a:pt x="100" y="194"/>
                    <a:pt x="100" y="194"/>
                  </a:cubicBezTo>
                  <a:cubicBezTo>
                    <a:pt x="102" y="189"/>
                    <a:pt x="142" y="191"/>
                    <a:pt x="121" y="173"/>
                  </a:cubicBezTo>
                  <a:cubicBezTo>
                    <a:pt x="96" y="159"/>
                    <a:pt x="40" y="150"/>
                    <a:pt x="40" y="16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65280" y="5031000"/>
              <a:ext cx="47880" cy="41040"/>
            </a:xfrm>
            <a:custGeom>
              <a:avLst/>
              <a:gdLst/>
              <a:ahLst/>
              <a:rect l="l" t="t" r="r" b="b"/>
              <a:pathLst>
                <a:path w="114" h="99">
                  <a:moveTo>
                    <a:pt x="27" y="0"/>
                  </a:moveTo>
                  <a:lnTo>
                    <a:pt x="0" y="24"/>
                  </a:lnTo>
                  <a:lnTo>
                    <a:pt x="15" y="78"/>
                  </a:lnTo>
                  <a:lnTo>
                    <a:pt x="60" y="99"/>
                  </a:lnTo>
                  <a:lnTo>
                    <a:pt x="81" y="96"/>
                  </a:lnTo>
                  <a:lnTo>
                    <a:pt x="99" y="69"/>
                  </a:lnTo>
                  <a:lnTo>
                    <a:pt x="114" y="42"/>
                  </a:lnTo>
                  <a:lnTo>
                    <a:pt x="99" y="27"/>
                  </a:lnTo>
                  <a:lnTo>
                    <a:pt x="48" y="1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57240" y="5207040"/>
              <a:ext cx="61920" cy="2700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8" y="64"/>
                  </a:moveTo>
                  <a:lnTo>
                    <a:pt x="156" y="81"/>
                  </a:lnTo>
                  <a:lnTo>
                    <a:pt x="110" y="64"/>
                  </a:lnTo>
                  <a:lnTo>
                    <a:pt x="61" y="41"/>
                  </a:lnTo>
                  <a:lnTo>
                    <a:pt x="0" y="32"/>
                  </a:lnTo>
                  <a:lnTo>
                    <a:pt x="15" y="15"/>
                  </a:lnTo>
                  <a:lnTo>
                    <a:pt x="65" y="0"/>
                  </a:lnTo>
                  <a:lnTo>
                    <a:pt x="114" y="41"/>
                  </a:lnTo>
                  <a:lnTo>
                    <a:pt x="188" y="64"/>
                  </a:lnTo>
                  <a:lnTo>
                    <a:pt x="188" y="6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68600" y="5141880"/>
              <a:ext cx="225360" cy="181080"/>
            </a:xfrm>
            <a:custGeom>
              <a:avLst/>
              <a:gdLst/>
              <a:ahLst/>
              <a:rect l="l" t="t" r="r" b="b"/>
              <a:pathLst>
                <a:path w="585" h="468">
                  <a:moveTo>
                    <a:pt x="579" y="468"/>
                  </a:moveTo>
                  <a:lnTo>
                    <a:pt x="549" y="435"/>
                  </a:lnTo>
                  <a:lnTo>
                    <a:pt x="528" y="450"/>
                  </a:lnTo>
                  <a:lnTo>
                    <a:pt x="471" y="420"/>
                  </a:lnTo>
                  <a:lnTo>
                    <a:pt x="369" y="357"/>
                  </a:lnTo>
                  <a:lnTo>
                    <a:pt x="309" y="291"/>
                  </a:lnTo>
                  <a:lnTo>
                    <a:pt x="252" y="264"/>
                  </a:lnTo>
                  <a:lnTo>
                    <a:pt x="192" y="216"/>
                  </a:lnTo>
                  <a:lnTo>
                    <a:pt x="156" y="192"/>
                  </a:lnTo>
                  <a:lnTo>
                    <a:pt x="120" y="162"/>
                  </a:lnTo>
                  <a:lnTo>
                    <a:pt x="81" y="111"/>
                  </a:lnTo>
                  <a:lnTo>
                    <a:pt x="54" y="69"/>
                  </a:lnTo>
                  <a:lnTo>
                    <a:pt x="51" y="36"/>
                  </a:lnTo>
                  <a:lnTo>
                    <a:pt x="45" y="102"/>
                  </a:lnTo>
                  <a:lnTo>
                    <a:pt x="75" y="150"/>
                  </a:lnTo>
                  <a:lnTo>
                    <a:pt x="90" y="180"/>
                  </a:lnTo>
                  <a:lnTo>
                    <a:pt x="60" y="171"/>
                  </a:lnTo>
                  <a:lnTo>
                    <a:pt x="42" y="144"/>
                  </a:lnTo>
                  <a:lnTo>
                    <a:pt x="24" y="111"/>
                  </a:lnTo>
                  <a:lnTo>
                    <a:pt x="9" y="87"/>
                  </a:lnTo>
                  <a:lnTo>
                    <a:pt x="18" y="66"/>
                  </a:lnTo>
                  <a:lnTo>
                    <a:pt x="6" y="36"/>
                  </a:lnTo>
                  <a:lnTo>
                    <a:pt x="0" y="0"/>
                  </a:lnTo>
                  <a:lnTo>
                    <a:pt x="48" y="0"/>
                  </a:lnTo>
                  <a:lnTo>
                    <a:pt x="84" y="24"/>
                  </a:lnTo>
                  <a:lnTo>
                    <a:pt x="123" y="24"/>
                  </a:lnTo>
                  <a:lnTo>
                    <a:pt x="162" y="18"/>
                  </a:lnTo>
                  <a:lnTo>
                    <a:pt x="198" y="51"/>
                  </a:lnTo>
                  <a:lnTo>
                    <a:pt x="222" y="57"/>
                  </a:lnTo>
                  <a:lnTo>
                    <a:pt x="246" y="75"/>
                  </a:lnTo>
                  <a:lnTo>
                    <a:pt x="228" y="105"/>
                  </a:lnTo>
                  <a:lnTo>
                    <a:pt x="228" y="156"/>
                  </a:lnTo>
                  <a:lnTo>
                    <a:pt x="291" y="183"/>
                  </a:lnTo>
                  <a:lnTo>
                    <a:pt x="321" y="171"/>
                  </a:lnTo>
                  <a:lnTo>
                    <a:pt x="345" y="153"/>
                  </a:lnTo>
                  <a:lnTo>
                    <a:pt x="372" y="156"/>
                  </a:lnTo>
                  <a:lnTo>
                    <a:pt x="378" y="180"/>
                  </a:lnTo>
                  <a:lnTo>
                    <a:pt x="387" y="225"/>
                  </a:lnTo>
                  <a:lnTo>
                    <a:pt x="351" y="231"/>
                  </a:lnTo>
                  <a:lnTo>
                    <a:pt x="345" y="249"/>
                  </a:lnTo>
                  <a:lnTo>
                    <a:pt x="369" y="255"/>
                  </a:lnTo>
                  <a:lnTo>
                    <a:pt x="405" y="255"/>
                  </a:lnTo>
                  <a:lnTo>
                    <a:pt x="402" y="291"/>
                  </a:lnTo>
                  <a:lnTo>
                    <a:pt x="432" y="291"/>
                  </a:lnTo>
                  <a:lnTo>
                    <a:pt x="462" y="285"/>
                  </a:lnTo>
                  <a:lnTo>
                    <a:pt x="480" y="309"/>
                  </a:lnTo>
                  <a:lnTo>
                    <a:pt x="486" y="345"/>
                  </a:lnTo>
                  <a:lnTo>
                    <a:pt x="492" y="381"/>
                  </a:lnTo>
                  <a:lnTo>
                    <a:pt x="513" y="393"/>
                  </a:lnTo>
                  <a:lnTo>
                    <a:pt x="537" y="390"/>
                  </a:lnTo>
                  <a:lnTo>
                    <a:pt x="573" y="423"/>
                  </a:lnTo>
                  <a:lnTo>
                    <a:pt x="585" y="441"/>
                  </a:lnTo>
                  <a:lnTo>
                    <a:pt x="579" y="46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68400" y="5297760"/>
              <a:ext cx="284400" cy="504720"/>
            </a:xfrm>
            <a:custGeom>
              <a:avLst/>
              <a:gdLst/>
              <a:ahLst/>
              <a:rect l="l" t="t" r="r" b="b"/>
              <a:pathLst>
                <a:path w="733" h="1304">
                  <a:moveTo>
                    <a:pt x="102" y="20"/>
                  </a:moveTo>
                  <a:lnTo>
                    <a:pt x="77" y="68"/>
                  </a:lnTo>
                  <a:lnTo>
                    <a:pt x="73" y="126"/>
                  </a:lnTo>
                  <a:lnTo>
                    <a:pt x="85" y="174"/>
                  </a:lnTo>
                  <a:lnTo>
                    <a:pt x="26" y="220"/>
                  </a:lnTo>
                  <a:lnTo>
                    <a:pt x="33" y="278"/>
                  </a:lnTo>
                  <a:lnTo>
                    <a:pt x="0" y="301"/>
                  </a:lnTo>
                  <a:lnTo>
                    <a:pt x="11" y="327"/>
                  </a:lnTo>
                  <a:lnTo>
                    <a:pt x="67" y="390"/>
                  </a:lnTo>
                  <a:lnTo>
                    <a:pt x="70" y="427"/>
                  </a:lnTo>
                  <a:lnTo>
                    <a:pt x="128" y="506"/>
                  </a:lnTo>
                  <a:lnTo>
                    <a:pt x="168" y="517"/>
                  </a:lnTo>
                  <a:lnTo>
                    <a:pt x="176" y="564"/>
                  </a:lnTo>
                  <a:lnTo>
                    <a:pt x="188" y="590"/>
                  </a:lnTo>
                  <a:lnTo>
                    <a:pt x="183" y="701"/>
                  </a:lnTo>
                  <a:lnTo>
                    <a:pt x="168" y="744"/>
                  </a:lnTo>
                  <a:lnTo>
                    <a:pt x="172" y="860"/>
                  </a:lnTo>
                  <a:lnTo>
                    <a:pt x="157" y="980"/>
                  </a:lnTo>
                  <a:lnTo>
                    <a:pt x="179" y="997"/>
                  </a:lnTo>
                  <a:lnTo>
                    <a:pt x="168" y="1069"/>
                  </a:lnTo>
                  <a:lnTo>
                    <a:pt x="147" y="1086"/>
                  </a:lnTo>
                  <a:lnTo>
                    <a:pt x="164" y="1165"/>
                  </a:lnTo>
                  <a:lnTo>
                    <a:pt x="196" y="1208"/>
                  </a:lnTo>
                  <a:lnTo>
                    <a:pt x="196" y="1234"/>
                  </a:lnTo>
                  <a:lnTo>
                    <a:pt x="208" y="1251"/>
                  </a:lnTo>
                  <a:lnTo>
                    <a:pt x="191" y="1261"/>
                  </a:lnTo>
                  <a:lnTo>
                    <a:pt x="234" y="1287"/>
                  </a:lnTo>
                  <a:lnTo>
                    <a:pt x="270" y="1287"/>
                  </a:lnTo>
                  <a:lnTo>
                    <a:pt x="319" y="1304"/>
                  </a:lnTo>
                  <a:lnTo>
                    <a:pt x="336" y="1287"/>
                  </a:lnTo>
                  <a:lnTo>
                    <a:pt x="290" y="1261"/>
                  </a:lnTo>
                  <a:lnTo>
                    <a:pt x="274" y="1240"/>
                  </a:lnTo>
                  <a:lnTo>
                    <a:pt x="237" y="1240"/>
                  </a:lnTo>
                  <a:lnTo>
                    <a:pt x="274" y="1213"/>
                  </a:lnTo>
                  <a:lnTo>
                    <a:pt x="240" y="1196"/>
                  </a:lnTo>
                  <a:lnTo>
                    <a:pt x="287" y="1134"/>
                  </a:lnTo>
                  <a:lnTo>
                    <a:pt x="263" y="1109"/>
                  </a:lnTo>
                  <a:lnTo>
                    <a:pt x="254" y="1076"/>
                  </a:lnTo>
                  <a:lnTo>
                    <a:pt x="281" y="1066"/>
                  </a:lnTo>
                  <a:lnTo>
                    <a:pt x="300" y="1033"/>
                  </a:lnTo>
                  <a:lnTo>
                    <a:pt x="323" y="1023"/>
                  </a:lnTo>
                  <a:lnTo>
                    <a:pt x="287" y="987"/>
                  </a:lnTo>
                  <a:lnTo>
                    <a:pt x="319" y="980"/>
                  </a:lnTo>
                  <a:lnTo>
                    <a:pt x="341" y="949"/>
                  </a:lnTo>
                  <a:lnTo>
                    <a:pt x="368" y="949"/>
                  </a:lnTo>
                  <a:lnTo>
                    <a:pt x="406" y="913"/>
                  </a:lnTo>
                  <a:lnTo>
                    <a:pt x="389" y="853"/>
                  </a:lnTo>
                  <a:lnTo>
                    <a:pt x="412" y="853"/>
                  </a:lnTo>
                  <a:lnTo>
                    <a:pt x="418" y="870"/>
                  </a:lnTo>
                  <a:lnTo>
                    <a:pt x="465" y="843"/>
                  </a:lnTo>
                  <a:lnTo>
                    <a:pt x="469" y="790"/>
                  </a:lnTo>
                  <a:lnTo>
                    <a:pt x="512" y="787"/>
                  </a:lnTo>
                  <a:lnTo>
                    <a:pt x="527" y="765"/>
                  </a:lnTo>
                  <a:lnTo>
                    <a:pt x="523" y="701"/>
                  </a:lnTo>
                  <a:lnTo>
                    <a:pt x="561" y="686"/>
                  </a:lnTo>
                  <a:lnTo>
                    <a:pt x="565" y="655"/>
                  </a:lnTo>
                  <a:lnTo>
                    <a:pt x="610" y="640"/>
                  </a:lnTo>
                  <a:lnTo>
                    <a:pt x="667" y="580"/>
                  </a:lnTo>
                  <a:lnTo>
                    <a:pt x="667" y="469"/>
                  </a:lnTo>
                  <a:lnTo>
                    <a:pt x="716" y="397"/>
                  </a:lnTo>
                  <a:lnTo>
                    <a:pt x="733" y="327"/>
                  </a:lnTo>
                  <a:lnTo>
                    <a:pt x="687" y="311"/>
                  </a:lnTo>
                  <a:lnTo>
                    <a:pt x="663" y="278"/>
                  </a:lnTo>
                  <a:lnTo>
                    <a:pt x="616" y="274"/>
                  </a:lnTo>
                  <a:lnTo>
                    <a:pt x="597" y="251"/>
                  </a:lnTo>
                  <a:lnTo>
                    <a:pt x="586" y="266"/>
                  </a:lnTo>
                  <a:lnTo>
                    <a:pt x="535" y="230"/>
                  </a:lnTo>
                  <a:lnTo>
                    <a:pt x="520" y="236"/>
                  </a:lnTo>
                  <a:lnTo>
                    <a:pt x="495" y="205"/>
                  </a:lnTo>
                  <a:lnTo>
                    <a:pt x="512" y="190"/>
                  </a:lnTo>
                  <a:lnTo>
                    <a:pt x="487" y="154"/>
                  </a:lnTo>
                  <a:lnTo>
                    <a:pt x="457" y="154"/>
                  </a:lnTo>
                  <a:lnTo>
                    <a:pt x="426" y="192"/>
                  </a:lnTo>
                  <a:lnTo>
                    <a:pt x="354" y="192"/>
                  </a:lnTo>
                  <a:lnTo>
                    <a:pt x="314" y="192"/>
                  </a:lnTo>
                  <a:lnTo>
                    <a:pt x="338" y="156"/>
                  </a:lnTo>
                  <a:lnTo>
                    <a:pt x="318" y="124"/>
                  </a:lnTo>
                  <a:lnTo>
                    <a:pt x="314" y="88"/>
                  </a:lnTo>
                  <a:lnTo>
                    <a:pt x="332" y="31"/>
                  </a:lnTo>
                  <a:lnTo>
                    <a:pt x="211" y="31"/>
                  </a:lnTo>
                  <a:lnTo>
                    <a:pt x="191" y="0"/>
                  </a:lnTo>
                  <a:lnTo>
                    <a:pt x="168" y="4"/>
                  </a:lnTo>
                  <a:lnTo>
                    <a:pt x="135" y="15"/>
                  </a:lnTo>
                  <a:lnTo>
                    <a:pt x="102" y="20"/>
                  </a:lnTo>
                  <a:lnTo>
                    <a:pt x="102" y="2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17800" y="5067360"/>
              <a:ext cx="333360" cy="379440"/>
            </a:xfrm>
            <a:custGeom>
              <a:avLst/>
              <a:gdLst/>
              <a:ahLst/>
              <a:rect l="l" t="t" r="r" b="b"/>
              <a:pathLst>
                <a:path w="863" h="980">
                  <a:moveTo>
                    <a:pt x="863" y="0"/>
                  </a:moveTo>
                  <a:cubicBezTo>
                    <a:pt x="813" y="6"/>
                    <a:pt x="658" y="12"/>
                    <a:pt x="563" y="36"/>
                  </a:cubicBezTo>
                  <a:cubicBezTo>
                    <a:pt x="468" y="60"/>
                    <a:pt x="370" y="87"/>
                    <a:pt x="291" y="144"/>
                  </a:cubicBezTo>
                  <a:cubicBezTo>
                    <a:pt x="212" y="201"/>
                    <a:pt x="134" y="287"/>
                    <a:pt x="87" y="380"/>
                  </a:cubicBezTo>
                  <a:cubicBezTo>
                    <a:pt x="40" y="473"/>
                    <a:pt x="22" y="604"/>
                    <a:pt x="11" y="704"/>
                  </a:cubicBezTo>
                  <a:cubicBezTo>
                    <a:pt x="0" y="804"/>
                    <a:pt x="21" y="923"/>
                    <a:pt x="23" y="98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17800" y="5067360"/>
              <a:ext cx="326880" cy="370080"/>
            </a:xfrm>
            <a:custGeom>
              <a:avLst/>
              <a:gdLst/>
              <a:ahLst/>
              <a:rect l="l" t="t" r="r" b="b"/>
              <a:pathLst>
                <a:path w="845" h="954">
                  <a:moveTo>
                    <a:pt x="845" y="0"/>
                  </a:moveTo>
                  <a:cubicBezTo>
                    <a:pt x="798" y="5"/>
                    <a:pt x="655" y="6"/>
                    <a:pt x="563" y="29"/>
                  </a:cubicBezTo>
                  <a:cubicBezTo>
                    <a:pt x="471" y="52"/>
                    <a:pt x="370" y="80"/>
                    <a:pt x="291" y="137"/>
                  </a:cubicBezTo>
                  <a:cubicBezTo>
                    <a:pt x="212" y="194"/>
                    <a:pt x="134" y="280"/>
                    <a:pt x="87" y="373"/>
                  </a:cubicBezTo>
                  <a:cubicBezTo>
                    <a:pt x="40" y="466"/>
                    <a:pt x="22" y="600"/>
                    <a:pt x="11" y="697"/>
                  </a:cubicBezTo>
                  <a:cubicBezTo>
                    <a:pt x="0" y="794"/>
                    <a:pt x="18" y="901"/>
                    <a:pt x="20" y="954"/>
                  </a:cubicBezTo>
                </a:path>
              </a:pathLst>
            </a:custGeom>
            <a:noFill/>
            <a:ln w="64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5108760"/>
              <a:ext cx="149400" cy="133200"/>
            </a:xfrm>
            <a:custGeom>
              <a:avLst/>
              <a:gdLst/>
              <a:ahLst/>
              <a:rect l="l" t="t" r="r" b="b"/>
              <a:pathLst>
                <a:path w="388" h="344">
                  <a:moveTo>
                    <a:pt x="0" y="185"/>
                  </a:moveTo>
                  <a:cubicBezTo>
                    <a:pt x="19" y="179"/>
                    <a:pt x="17" y="171"/>
                    <a:pt x="12" y="153"/>
                  </a:cubicBezTo>
                  <a:cubicBezTo>
                    <a:pt x="13" y="142"/>
                    <a:pt x="12" y="131"/>
                    <a:pt x="16" y="121"/>
                  </a:cubicBezTo>
                  <a:cubicBezTo>
                    <a:pt x="18" y="117"/>
                    <a:pt x="25" y="120"/>
                    <a:pt x="28" y="117"/>
                  </a:cubicBezTo>
                  <a:cubicBezTo>
                    <a:pt x="32" y="114"/>
                    <a:pt x="32" y="108"/>
                    <a:pt x="36" y="105"/>
                  </a:cubicBezTo>
                  <a:cubicBezTo>
                    <a:pt x="43" y="99"/>
                    <a:pt x="53" y="98"/>
                    <a:pt x="60" y="93"/>
                  </a:cubicBezTo>
                  <a:cubicBezTo>
                    <a:pt x="91" y="46"/>
                    <a:pt x="87" y="54"/>
                    <a:pt x="148" y="49"/>
                  </a:cubicBezTo>
                  <a:cubicBezTo>
                    <a:pt x="189" y="22"/>
                    <a:pt x="235" y="17"/>
                    <a:pt x="284" y="13"/>
                  </a:cubicBezTo>
                  <a:cubicBezTo>
                    <a:pt x="323" y="0"/>
                    <a:pt x="353" y="18"/>
                    <a:pt x="388" y="25"/>
                  </a:cubicBezTo>
                  <a:cubicBezTo>
                    <a:pt x="383" y="41"/>
                    <a:pt x="378" y="48"/>
                    <a:pt x="364" y="57"/>
                  </a:cubicBezTo>
                  <a:cubicBezTo>
                    <a:pt x="363" y="61"/>
                    <a:pt x="359" y="65"/>
                    <a:pt x="360" y="69"/>
                  </a:cubicBezTo>
                  <a:cubicBezTo>
                    <a:pt x="362" y="74"/>
                    <a:pt x="372" y="75"/>
                    <a:pt x="372" y="81"/>
                  </a:cubicBezTo>
                  <a:cubicBezTo>
                    <a:pt x="372" y="86"/>
                    <a:pt x="351" y="92"/>
                    <a:pt x="348" y="93"/>
                  </a:cubicBezTo>
                  <a:cubicBezTo>
                    <a:pt x="334" y="114"/>
                    <a:pt x="328" y="129"/>
                    <a:pt x="320" y="153"/>
                  </a:cubicBezTo>
                  <a:cubicBezTo>
                    <a:pt x="317" y="161"/>
                    <a:pt x="312" y="177"/>
                    <a:pt x="312" y="177"/>
                  </a:cubicBezTo>
                  <a:cubicBezTo>
                    <a:pt x="313" y="198"/>
                    <a:pt x="311" y="220"/>
                    <a:pt x="316" y="241"/>
                  </a:cubicBezTo>
                  <a:cubicBezTo>
                    <a:pt x="319" y="255"/>
                    <a:pt x="354" y="251"/>
                    <a:pt x="364" y="261"/>
                  </a:cubicBezTo>
                  <a:cubicBezTo>
                    <a:pt x="252" y="344"/>
                    <a:pt x="301" y="341"/>
                    <a:pt x="240" y="341"/>
                  </a:cubicBezTo>
                  <a:lnTo>
                    <a:pt x="204" y="313"/>
                  </a:lnTo>
                  <a:lnTo>
                    <a:pt x="72" y="209"/>
                  </a:lnTo>
                  <a:cubicBezTo>
                    <a:pt x="65" y="210"/>
                    <a:pt x="59" y="211"/>
                    <a:pt x="52" y="213"/>
                  </a:cubicBezTo>
                  <a:cubicBezTo>
                    <a:pt x="48" y="214"/>
                    <a:pt x="40" y="217"/>
                    <a:pt x="40" y="217"/>
                  </a:cubicBezTo>
                  <a:lnTo>
                    <a:pt x="36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03440" y="5151600"/>
              <a:ext cx="65160" cy="68040"/>
            </a:xfrm>
            <a:custGeom>
              <a:avLst/>
              <a:gdLst/>
              <a:ahLst/>
              <a:rect l="l" t="t" r="r" b="b"/>
              <a:pathLst>
                <a:path w="160" h="176">
                  <a:moveTo>
                    <a:pt x="0" y="0"/>
                  </a:moveTo>
                  <a:cubicBezTo>
                    <a:pt x="38" y="4"/>
                    <a:pt x="73" y="14"/>
                    <a:pt x="112" y="20"/>
                  </a:cubicBezTo>
                  <a:cubicBezTo>
                    <a:pt x="130" y="38"/>
                    <a:pt x="122" y="27"/>
                    <a:pt x="132" y="56"/>
                  </a:cubicBezTo>
                  <a:cubicBezTo>
                    <a:pt x="133" y="60"/>
                    <a:pt x="136" y="68"/>
                    <a:pt x="136" y="68"/>
                  </a:cubicBezTo>
                  <a:cubicBezTo>
                    <a:pt x="137" y="79"/>
                    <a:pt x="138" y="100"/>
                    <a:pt x="144" y="112"/>
                  </a:cubicBezTo>
                  <a:cubicBezTo>
                    <a:pt x="152" y="128"/>
                    <a:pt x="160" y="141"/>
                    <a:pt x="160" y="160"/>
                  </a:cubicBezTo>
                  <a:lnTo>
                    <a:pt x="128" y="176"/>
                  </a:lnTo>
                  <a:lnTo>
                    <a:pt x="8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49520" y="5102280"/>
              <a:ext cx="49320" cy="7452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12" y="136"/>
                  </a:moveTo>
                  <a:lnTo>
                    <a:pt x="20" y="192"/>
                  </a:lnTo>
                  <a:lnTo>
                    <a:pt x="44" y="180"/>
                  </a:lnTo>
                  <a:lnTo>
                    <a:pt x="64" y="108"/>
                  </a:lnTo>
                  <a:lnTo>
                    <a:pt x="88" y="72"/>
                  </a:lnTo>
                  <a:lnTo>
                    <a:pt x="108" y="48"/>
                  </a:lnTo>
                  <a:lnTo>
                    <a:pt x="124" y="24"/>
                  </a:lnTo>
                  <a:lnTo>
                    <a:pt x="124" y="0"/>
                  </a:lnTo>
                  <a:lnTo>
                    <a:pt x="72" y="4"/>
                  </a:lnTo>
                  <a:lnTo>
                    <a:pt x="36" y="20"/>
                  </a:lnTo>
                  <a:lnTo>
                    <a:pt x="16" y="60"/>
                  </a:lnTo>
                  <a:lnTo>
                    <a:pt x="0" y="92"/>
                  </a:lnTo>
                  <a:lnTo>
                    <a:pt x="12" y="136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27200" y="5121360"/>
              <a:ext cx="15840" cy="79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30" y="0"/>
                  </a:moveTo>
                  <a:cubicBezTo>
                    <a:pt x="20" y="3"/>
                    <a:pt x="11" y="7"/>
                    <a:pt x="0" y="9"/>
                  </a:cubicBezTo>
                  <a:cubicBezTo>
                    <a:pt x="4" y="16"/>
                    <a:pt x="7" y="15"/>
                    <a:pt x="15" y="14"/>
                  </a:cubicBezTo>
                  <a:cubicBezTo>
                    <a:pt x="21" y="19"/>
                    <a:pt x="24" y="16"/>
                    <a:pt x="30" y="12"/>
                  </a:cubicBezTo>
                  <a:cubicBezTo>
                    <a:pt x="33" y="8"/>
                    <a:pt x="41" y="0"/>
                    <a:pt x="30" y="0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3160" y="5056200"/>
              <a:ext cx="107640" cy="57240"/>
            </a:xfrm>
            <a:custGeom>
              <a:avLst/>
              <a:gdLst/>
              <a:ahLst/>
              <a:rect l="l" t="t" r="r" b="b"/>
              <a:pathLst>
                <a:path w="279" h="150">
                  <a:moveTo>
                    <a:pt x="137" y="138"/>
                  </a:moveTo>
                  <a:cubicBezTo>
                    <a:pt x="130" y="137"/>
                    <a:pt x="125" y="132"/>
                    <a:pt x="117" y="131"/>
                  </a:cubicBezTo>
                  <a:cubicBezTo>
                    <a:pt x="111" y="126"/>
                    <a:pt x="109" y="126"/>
                    <a:pt x="102" y="128"/>
                  </a:cubicBezTo>
                  <a:cubicBezTo>
                    <a:pt x="97" y="131"/>
                    <a:pt x="95" y="135"/>
                    <a:pt x="90" y="138"/>
                  </a:cubicBezTo>
                  <a:cubicBezTo>
                    <a:pt x="89" y="145"/>
                    <a:pt x="82" y="146"/>
                    <a:pt x="75" y="147"/>
                  </a:cubicBezTo>
                  <a:cubicBezTo>
                    <a:pt x="70" y="150"/>
                    <a:pt x="66" y="150"/>
                    <a:pt x="60" y="149"/>
                  </a:cubicBezTo>
                  <a:cubicBezTo>
                    <a:pt x="53" y="146"/>
                    <a:pt x="49" y="141"/>
                    <a:pt x="42" y="138"/>
                  </a:cubicBezTo>
                  <a:cubicBezTo>
                    <a:pt x="37" y="131"/>
                    <a:pt x="32" y="123"/>
                    <a:pt x="27" y="116"/>
                  </a:cubicBezTo>
                  <a:cubicBezTo>
                    <a:pt x="25" y="107"/>
                    <a:pt x="17" y="98"/>
                    <a:pt x="12" y="89"/>
                  </a:cubicBezTo>
                  <a:cubicBezTo>
                    <a:pt x="11" y="82"/>
                    <a:pt x="7" y="77"/>
                    <a:pt x="3" y="71"/>
                  </a:cubicBezTo>
                  <a:cubicBezTo>
                    <a:pt x="2" y="68"/>
                    <a:pt x="0" y="65"/>
                    <a:pt x="0" y="62"/>
                  </a:cubicBezTo>
                  <a:cubicBezTo>
                    <a:pt x="0" y="53"/>
                    <a:pt x="16" y="42"/>
                    <a:pt x="23" y="41"/>
                  </a:cubicBezTo>
                  <a:cubicBezTo>
                    <a:pt x="28" y="37"/>
                    <a:pt x="32" y="36"/>
                    <a:pt x="38" y="35"/>
                  </a:cubicBezTo>
                  <a:cubicBezTo>
                    <a:pt x="48" y="30"/>
                    <a:pt x="58" y="22"/>
                    <a:pt x="68" y="20"/>
                  </a:cubicBezTo>
                  <a:cubicBezTo>
                    <a:pt x="73" y="18"/>
                    <a:pt x="78" y="17"/>
                    <a:pt x="83" y="15"/>
                  </a:cubicBezTo>
                  <a:cubicBezTo>
                    <a:pt x="89" y="18"/>
                    <a:pt x="92" y="20"/>
                    <a:pt x="99" y="21"/>
                  </a:cubicBezTo>
                  <a:cubicBezTo>
                    <a:pt x="104" y="20"/>
                    <a:pt x="108" y="18"/>
                    <a:pt x="113" y="17"/>
                  </a:cubicBezTo>
                  <a:cubicBezTo>
                    <a:pt x="123" y="12"/>
                    <a:pt x="132" y="4"/>
                    <a:pt x="143" y="0"/>
                  </a:cubicBezTo>
                  <a:cubicBezTo>
                    <a:pt x="156" y="4"/>
                    <a:pt x="168" y="10"/>
                    <a:pt x="182" y="12"/>
                  </a:cubicBezTo>
                  <a:cubicBezTo>
                    <a:pt x="186" y="18"/>
                    <a:pt x="187" y="20"/>
                    <a:pt x="194" y="21"/>
                  </a:cubicBezTo>
                  <a:cubicBezTo>
                    <a:pt x="204" y="29"/>
                    <a:pt x="215" y="25"/>
                    <a:pt x="227" y="21"/>
                  </a:cubicBezTo>
                  <a:cubicBezTo>
                    <a:pt x="238" y="27"/>
                    <a:pt x="222" y="20"/>
                    <a:pt x="237" y="21"/>
                  </a:cubicBezTo>
                  <a:cubicBezTo>
                    <a:pt x="244" y="22"/>
                    <a:pt x="250" y="29"/>
                    <a:pt x="257" y="30"/>
                  </a:cubicBezTo>
                  <a:cubicBezTo>
                    <a:pt x="262" y="34"/>
                    <a:pt x="265" y="37"/>
                    <a:pt x="269" y="42"/>
                  </a:cubicBezTo>
                  <a:cubicBezTo>
                    <a:pt x="270" y="49"/>
                    <a:pt x="273" y="56"/>
                    <a:pt x="275" y="63"/>
                  </a:cubicBezTo>
                  <a:cubicBezTo>
                    <a:pt x="273" y="68"/>
                    <a:pt x="272" y="73"/>
                    <a:pt x="270" y="78"/>
                  </a:cubicBezTo>
                  <a:cubicBezTo>
                    <a:pt x="269" y="83"/>
                    <a:pt x="277" y="117"/>
                    <a:pt x="276" y="122"/>
                  </a:cubicBezTo>
                  <a:cubicBezTo>
                    <a:pt x="279" y="137"/>
                    <a:pt x="255" y="121"/>
                    <a:pt x="240" y="123"/>
                  </a:cubicBezTo>
                  <a:cubicBezTo>
                    <a:pt x="234" y="126"/>
                    <a:pt x="231" y="126"/>
                    <a:pt x="225" y="125"/>
                  </a:cubicBezTo>
                  <a:cubicBezTo>
                    <a:pt x="216" y="118"/>
                    <a:pt x="200" y="127"/>
                    <a:pt x="189" y="129"/>
                  </a:cubicBezTo>
                  <a:cubicBezTo>
                    <a:pt x="182" y="132"/>
                    <a:pt x="174" y="134"/>
                    <a:pt x="167" y="135"/>
                  </a:cubicBezTo>
                  <a:cubicBezTo>
                    <a:pt x="158" y="133"/>
                    <a:pt x="144" y="131"/>
                    <a:pt x="137" y="13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48200" y="5016600"/>
              <a:ext cx="29880" cy="82440"/>
            </a:xfrm>
            <a:custGeom>
              <a:avLst/>
              <a:gdLst/>
              <a:ahLst/>
              <a:rect l="l" t="t" r="r" b="b"/>
              <a:pathLst>
                <a:path w="95" h="253">
                  <a:moveTo>
                    <a:pt x="0" y="0"/>
                  </a:moveTo>
                  <a:lnTo>
                    <a:pt x="16" y="95"/>
                  </a:lnTo>
                  <a:lnTo>
                    <a:pt x="23" y="253"/>
                  </a:lnTo>
                  <a:lnTo>
                    <a:pt x="67" y="213"/>
                  </a:lnTo>
                  <a:lnTo>
                    <a:pt x="36" y="143"/>
                  </a:lnTo>
                  <a:lnTo>
                    <a:pt x="54" y="118"/>
                  </a:lnTo>
                  <a:lnTo>
                    <a:pt x="78" y="152"/>
                  </a:lnTo>
                  <a:lnTo>
                    <a:pt x="95" y="135"/>
                  </a:lnTo>
                  <a:lnTo>
                    <a:pt x="59" y="105"/>
                  </a:lnTo>
                  <a:lnTo>
                    <a:pt x="42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08240" y="5106960"/>
              <a:ext cx="60480" cy="5580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128" y="0"/>
                  </a:moveTo>
                  <a:lnTo>
                    <a:pt x="134" y="62"/>
                  </a:lnTo>
                  <a:lnTo>
                    <a:pt x="92" y="116"/>
                  </a:lnTo>
                  <a:lnTo>
                    <a:pt x="20" y="133"/>
                  </a:lnTo>
                  <a:lnTo>
                    <a:pt x="0" y="156"/>
                  </a:lnTo>
                  <a:lnTo>
                    <a:pt x="92" y="148"/>
                  </a:lnTo>
                  <a:lnTo>
                    <a:pt x="111" y="171"/>
                  </a:lnTo>
                  <a:lnTo>
                    <a:pt x="185" y="108"/>
                  </a:lnTo>
                  <a:lnTo>
                    <a:pt x="172" y="62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68640" y="5218200"/>
              <a:ext cx="15840" cy="2556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49" y="0"/>
                  </a:moveTo>
                  <a:lnTo>
                    <a:pt x="11" y="0"/>
                  </a:lnTo>
                  <a:lnTo>
                    <a:pt x="0" y="55"/>
                  </a:lnTo>
                  <a:lnTo>
                    <a:pt x="6" y="80"/>
                  </a:lnTo>
                  <a:lnTo>
                    <a:pt x="36" y="4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63960" y="5261040"/>
              <a:ext cx="27000" cy="5256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6" y="0"/>
                  </a:moveTo>
                  <a:lnTo>
                    <a:pt x="37" y="16"/>
                  </a:lnTo>
                  <a:lnTo>
                    <a:pt x="37" y="71"/>
                  </a:lnTo>
                  <a:lnTo>
                    <a:pt x="80" y="111"/>
                  </a:lnTo>
                  <a:lnTo>
                    <a:pt x="73" y="158"/>
                  </a:lnTo>
                  <a:lnTo>
                    <a:pt x="48" y="120"/>
                  </a:lnTo>
                  <a:lnTo>
                    <a:pt x="0" y="8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06720" y="5334120"/>
              <a:ext cx="54000" cy="6840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152" y="23"/>
                  </a:moveTo>
                  <a:lnTo>
                    <a:pt x="135" y="0"/>
                  </a:lnTo>
                  <a:lnTo>
                    <a:pt x="80" y="78"/>
                  </a:lnTo>
                  <a:lnTo>
                    <a:pt x="5" y="101"/>
                  </a:lnTo>
                  <a:lnTo>
                    <a:pt x="0" y="141"/>
                  </a:lnTo>
                  <a:lnTo>
                    <a:pt x="43" y="203"/>
                  </a:lnTo>
                  <a:lnTo>
                    <a:pt x="110" y="211"/>
                  </a:lnTo>
                  <a:lnTo>
                    <a:pt x="135" y="158"/>
                  </a:lnTo>
                  <a:lnTo>
                    <a:pt x="165" y="133"/>
                  </a:lnTo>
                  <a:lnTo>
                    <a:pt x="152" y="85"/>
                  </a:lnTo>
                  <a:lnTo>
                    <a:pt x="165" y="53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60720" y="5367600"/>
              <a:ext cx="38160" cy="5544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0"/>
                  </a:moveTo>
                  <a:lnTo>
                    <a:pt x="93" y="15"/>
                  </a:lnTo>
                  <a:lnTo>
                    <a:pt x="31" y="22"/>
                  </a:lnTo>
                  <a:lnTo>
                    <a:pt x="0" y="70"/>
                  </a:lnTo>
                  <a:lnTo>
                    <a:pt x="0" y="119"/>
                  </a:lnTo>
                  <a:lnTo>
                    <a:pt x="0" y="173"/>
                  </a:lnTo>
                  <a:lnTo>
                    <a:pt x="44" y="110"/>
                  </a:lnTo>
                  <a:lnTo>
                    <a:pt x="69" y="135"/>
                  </a:lnTo>
                  <a:lnTo>
                    <a:pt x="80" y="102"/>
                  </a:lnTo>
                  <a:lnTo>
                    <a:pt x="61" y="80"/>
                  </a:lnTo>
                  <a:lnTo>
                    <a:pt x="80" y="47"/>
                  </a:lnTo>
                  <a:lnTo>
                    <a:pt x="50" y="40"/>
                  </a:lnTo>
                  <a:lnTo>
                    <a:pt x="103" y="3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76560" y="5315040"/>
              <a:ext cx="31680" cy="3168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66" y="0"/>
                  </a:moveTo>
                  <a:lnTo>
                    <a:pt x="47" y="30"/>
                  </a:lnTo>
                  <a:lnTo>
                    <a:pt x="11" y="38"/>
                  </a:lnTo>
                  <a:lnTo>
                    <a:pt x="0" y="70"/>
                  </a:lnTo>
                  <a:lnTo>
                    <a:pt x="36" y="55"/>
                  </a:lnTo>
                  <a:lnTo>
                    <a:pt x="43" y="93"/>
                  </a:lnTo>
                  <a:lnTo>
                    <a:pt x="96" y="55"/>
                  </a:lnTo>
                  <a:lnTo>
                    <a:pt x="74" y="3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22480" y="5338800"/>
              <a:ext cx="69840" cy="79560"/>
            </a:xfrm>
            <a:custGeom>
              <a:avLst/>
              <a:gdLst/>
              <a:ahLst/>
              <a:rect l="l" t="t" r="r" b="b"/>
              <a:pathLst>
                <a:path w="215" h="244">
                  <a:moveTo>
                    <a:pt x="0" y="0"/>
                  </a:moveTo>
                  <a:lnTo>
                    <a:pt x="49" y="23"/>
                  </a:lnTo>
                  <a:lnTo>
                    <a:pt x="93" y="95"/>
                  </a:lnTo>
                  <a:lnTo>
                    <a:pt x="160" y="148"/>
                  </a:lnTo>
                  <a:lnTo>
                    <a:pt x="215" y="181"/>
                  </a:lnTo>
                  <a:lnTo>
                    <a:pt x="196" y="244"/>
                  </a:lnTo>
                  <a:lnTo>
                    <a:pt x="129" y="221"/>
                  </a:lnTo>
                  <a:lnTo>
                    <a:pt x="74" y="118"/>
                  </a:lnTo>
                  <a:lnTo>
                    <a:pt x="32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97360" y="5418360"/>
              <a:ext cx="104760" cy="25200"/>
            </a:xfrm>
            <a:custGeom>
              <a:avLst/>
              <a:gdLst/>
              <a:ahLst/>
              <a:rect l="l" t="t" r="r" b="b"/>
              <a:pathLst>
                <a:path w="319" h="77">
                  <a:moveTo>
                    <a:pt x="0" y="0"/>
                  </a:moveTo>
                  <a:lnTo>
                    <a:pt x="82" y="32"/>
                  </a:lnTo>
                  <a:lnTo>
                    <a:pt x="215" y="62"/>
                  </a:lnTo>
                  <a:lnTo>
                    <a:pt x="319" y="39"/>
                  </a:lnTo>
                  <a:lnTo>
                    <a:pt x="293" y="72"/>
                  </a:lnTo>
                  <a:lnTo>
                    <a:pt x="135" y="77"/>
                  </a:lnTo>
                  <a:lnTo>
                    <a:pt x="21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7960" y="5386680"/>
              <a:ext cx="93600" cy="56880"/>
            </a:xfrm>
            <a:custGeom>
              <a:avLst/>
              <a:gdLst/>
              <a:ahLst/>
              <a:rect l="l" t="t" r="r" b="b"/>
              <a:pathLst>
                <a:path w="239" h="148">
                  <a:moveTo>
                    <a:pt x="82" y="32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68" y="38"/>
                  </a:lnTo>
                  <a:lnTo>
                    <a:pt x="25" y="45"/>
                  </a:lnTo>
                  <a:lnTo>
                    <a:pt x="32" y="66"/>
                  </a:lnTo>
                  <a:lnTo>
                    <a:pt x="120" y="85"/>
                  </a:lnTo>
                  <a:lnTo>
                    <a:pt x="104" y="130"/>
                  </a:lnTo>
                  <a:lnTo>
                    <a:pt x="176" y="146"/>
                  </a:lnTo>
                  <a:lnTo>
                    <a:pt x="203" y="130"/>
                  </a:lnTo>
                  <a:lnTo>
                    <a:pt x="233" y="148"/>
                  </a:lnTo>
                  <a:lnTo>
                    <a:pt x="239" y="86"/>
                  </a:lnTo>
                  <a:lnTo>
                    <a:pt x="176" y="66"/>
                  </a:lnTo>
                  <a:lnTo>
                    <a:pt x="115" y="19"/>
                  </a:lnTo>
                  <a:lnTo>
                    <a:pt x="82" y="32"/>
                  </a:lnTo>
                  <a:lnTo>
                    <a:pt x="82" y="32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21040" y="5297760"/>
              <a:ext cx="4680" cy="29880"/>
            </a:xfrm>
            <a:custGeom>
              <a:avLst/>
              <a:gdLst/>
              <a:ahLst/>
              <a:rect l="l" t="t" r="r" b="b"/>
              <a:pathLst>
                <a:path w="17" h="93">
                  <a:moveTo>
                    <a:pt x="0" y="0"/>
                  </a:moveTo>
                  <a:lnTo>
                    <a:pt x="17" y="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11480" y="5162760"/>
              <a:ext cx="15840" cy="2376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0" y="9"/>
                  </a:moveTo>
                  <a:lnTo>
                    <a:pt x="53" y="0"/>
                  </a:lnTo>
                  <a:lnTo>
                    <a:pt x="53" y="70"/>
                  </a:lnTo>
                  <a:lnTo>
                    <a:pt x="17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63720" y="5011920"/>
              <a:ext cx="341280" cy="253800"/>
            </a:xfrm>
            <a:custGeom>
              <a:avLst/>
              <a:gdLst/>
              <a:ahLst/>
              <a:rect l="l" t="t" r="r" b="b"/>
              <a:pathLst>
                <a:path w="884" h="658">
                  <a:moveTo>
                    <a:pt x="100" y="232"/>
                  </a:moveTo>
                  <a:lnTo>
                    <a:pt x="56" y="240"/>
                  </a:lnTo>
                  <a:lnTo>
                    <a:pt x="0" y="240"/>
                  </a:lnTo>
                  <a:lnTo>
                    <a:pt x="52" y="276"/>
                  </a:lnTo>
                  <a:lnTo>
                    <a:pt x="128" y="276"/>
                  </a:lnTo>
                  <a:lnTo>
                    <a:pt x="196" y="256"/>
                  </a:lnTo>
                  <a:lnTo>
                    <a:pt x="216" y="284"/>
                  </a:lnTo>
                  <a:lnTo>
                    <a:pt x="256" y="300"/>
                  </a:lnTo>
                  <a:lnTo>
                    <a:pt x="284" y="316"/>
                  </a:lnTo>
                  <a:lnTo>
                    <a:pt x="328" y="328"/>
                  </a:lnTo>
                  <a:lnTo>
                    <a:pt x="360" y="364"/>
                  </a:lnTo>
                  <a:lnTo>
                    <a:pt x="376" y="392"/>
                  </a:lnTo>
                  <a:lnTo>
                    <a:pt x="352" y="412"/>
                  </a:lnTo>
                  <a:lnTo>
                    <a:pt x="396" y="432"/>
                  </a:lnTo>
                  <a:lnTo>
                    <a:pt x="400" y="452"/>
                  </a:lnTo>
                  <a:lnTo>
                    <a:pt x="416" y="496"/>
                  </a:lnTo>
                  <a:lnTo>
                    <a:pt x="380" y="524"/>
                  </a:lnTo>
                  <a:lnTo>
                    <a:pt x="416" y="568"/>
                  </a:lnTo>
                  <a:lnTo>
                    <a:pt x="424" y="604"/>
                  </a:lnTo>
                  <a:lnTo>
                    <a:pt x="408" y="656"/>
                  </a:lnTo>
                  <a:lnTo>
                    <a:pt x="450" y="658"/>
                  </a:lnTo>
                  <a:lnTo>
                    <a:pt x="462" y="654"/>
                  </a:lnTo>
                  <a:lnTo>
                    <a:pt x="494" y="650"/>
                  </a:lnTo>
                  <a:lnTo>
                    <a:pt x="542" y="632"/>
                  </a:lnTo>
                  <a:lnTo>
                    <a:pt x="548" y="608"/>
                  </a:lnTo>
                  <a:lnTo>
                    <a:pt x="596" y="556"/>
                  </a:lnTo>
                  <a:lnTo>
                    <a:pt x="624" y="580"/>
                  </a:lnTo>
                  <a:lnTo>
                    <a:pt x="624" y="608"/>
                  </a:lnTo>
                  <a:lnTo>
                    <a:pt x="692" y="552"/>
                  </a:lnTo>
                  <a:lnTo>
                    <a:pt x="740" y="540"/>
                  </a:lnTo>
                  <a:lnTo>
                    <a:pt x="776" y="468"/>
                  </a:lnTo>
                  <a:lnTo>
                    <a:pt x="788" y="404"/>
                  </a:lnTo>
                  <a:lnTo>
                    <a:pt x="788" y="376"/>
                  </a:lnTo>
                  <a:lnTo>
                    <a:pt x="732" y="320"/>
                  </a:lnTo>
                  <a:lnTo>
                    <a:pt x="756" y="292"/>
                  </a:lnTo>
                  <a:lnTo>
                    <a:pt x="708" y="252"/>
                  </a:lnTo>
                  <a:lnTo>
                    <a:pt x="724" y="228"/>
                  </a:lnTo>
                  <a:lnTo>
                    <a:pt x="748" y="216"/>
                  </a:lnTo>
                  <a:lnTo>
                    <a:pt x="804" y="236"/>
                  </a:lnTo>
                  <a:lnTo>
                    <a:pt x="840" y="232"/>
                  </a:lnTo>
                  <a:lnTo>
                    <a:pt x="864" y="184"/>
                  </a:lnTo>
                  <a:lnTo>
                    <a:pt x="884" y="140"/>
                  </a:lnTo>
                  <a:lnTo>
                    <a:pt x="784" y="108"/>
                  </a:lnTo>
                  <a:lnTo>
                    <a:pt x="760" y="72"/>
                  </a:lnTo>
                  <a:lnTo>
                    <a:pt x="696" y="68"/>
                  </a:lnTo>
                  <a:lnTo>
                    <a:pt x="636" y="84"/>
                  </a:lnTo>
                  <a:lnTo>
                    <a:pt x="612" y="104"/>
                  </a:lnTo>
                  <a:lnTo>
                    <a:pt x="584" y="120"/>
                  </a:lnTo>
                  <a:lnTo>
                    <a:pt x="540" y="136"/>
                  </a:lnTo>
                  <a:lnTo>
                    <a:pt x="488" y="140"/>
                  </a:lnTo>
                  <a:lnTo>
                    <a:pt x="424" y="120"/>
                  </a:lnTo>
                  <a:lnTo>
                    <a:pt x="356" y="100"/>
                  </a:lnTo>
                  <a:lnTo>
                    <a:pt x="280" y="76"/>
                  </a:lnTo>
                  <a:lnTo>
                    <a:pt x="256" y="0"/>
                  </a:lnTo>
                  <a:lnTo>
                    <a:pt x="208" y="20"/>
                  </a:lnTo>
                  <a:lnTo>
                    <a:pt x="192" y="48"/>
                  </a:lnTo>
                  <a:lnTo>
                    <a:pt x="180" y="72"/>
                  </a:lnTo>
                  <a:lnTo>
                    <a:pt x="172" y="100"/>
                  </a:lnTo>
                  <a:lnTo>
                    <a:pt x="156" y="136"/>
                  </a:lnTo>
                  <a:lnTo>
                    <a:pt x="132" y="148"/>
                  </a:lnTo>
                  <a:lnTo>
                    <a:pt x="76" y="200"/>
                  </a:lnTo>
                  <a:lnTo>
                    <a:pt x="100" y="232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71800" y="5246640"/>
              <a:ext cx="36360" cy="69840"/>
            </a:xfrm>
            <a:custGeom>
              <a:avLst/>
              <a:gdLst/>
              <a:ahLst/>
              <a:rect l="l" t="t" r="r" b="b"/>
              <a:pathLst>
                <a:path w="91" h="179">
                  <a:moveTo>
                    <a:pt x="4" y="0"/>
                  </a:moveTo>
                  <a:cubicBezTo>
                    <a:pt x="15" y="14"/>
                    <a:pt x="25" y="16"/>
                    <a:pt x="38" y="26"/>
                  </a:cubicBezTo>
                  <a:cubicBezTo>
                    <a:pt x="42" y="30"/>
                    <a:pt x="45" y="35"/>
                    <a:pt x="50" y="38"/>
                  </a:cubicBezTo>
                  <a:cubicBezTo>
                    <a:pt x="52" y="39"/>
                    <a:pt x="54" y="41"/>
                    <a:pt x="56" y="42"/>
                  </a:cubicBezTo>
                  <a:cubicBezTo>
                    <a:pt x="61" y="50"/>
                    <a:pt x="68" y="59"/>
                    <a:pt x="76" y="64"/>
                  </a:cubicBezTo>
                  <a:cubicBezTo>
                    <a:pt x="78" y="78"/>
                    <a:pt x="80" y="94"/>
                    <a:pt x="88" y="106"/>
                  </a:cubicBezTo>
                  <a:cubicBezTo>
                    <a:pt x="91" y="121"/>
                    <a:pt x="89" y="133"/>
                    <a:pt x="76" y="142"/>
                  </a:cubicBezTo>
                  <a:cubicBezTo>
                    <a:pt x="73" y="151"/>
                    <a:pt x="69" y="159"/>
                    <a:pt x="62" y="164"/>
                  </a:cubicBezTo>
                  <a:cubicBezTo>
                    <a:pt x="58" y="170"/>
                    <a:pt x="54" y="179"/>
                    <a:pt x="50" y="168"/>
                  </a:cubicBezTo>
                  <a:cubicBezTo>
                    <a:pt x="52" y="153"/>
                    <a:pt x="51" y="150"/>
                    <a:pt x="62" y="142"/>
                  </a:cubicBezTo>
                  <a:cubicBezTo>
                    <a:pt x="61" y="123"/>
                    <a:pt x="63" y="103"/>
                    <a:pt x="60" y="84"/>
                  </a:cubicBezTo>
                  <a:cubicBezTo>
                    <a:pt x="58" y="72"/>
                    <a:pt x="34" y="58"/>
                    <a:pt x="34" y="58"/>
                  </a:cubicBezTo>
                  <a:cubicBezTo>
                    <a:pt x="31" y="53"/>
                    <a:pt x="20" y="33"/>
                    <a:pt x="16" y="32"/>
                  </a:cubicBezTo>
                  <a:cubicBezTo>
                    <a:pt x="12" y="31"/>
                    <a:pt x="0" y="31"/>
                    <a:pt x="0" y="26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33640" y="5268960"/>
              <a:ext cx="42840" cy="103320"/>
            </a:xfrm>
            <a:custGeom>
              <a:avLst/>
              <a:gdLst/>
              <a:ahLst/>
              <a:rect l="l" t="t" r="r" b="b"/>
              <a:pathLst>
                <a:path w="113" h="268">
                  <a:moveTo>
                    <a:pt x="79" y="0"/>
                  </a:moveTo>
                  <a:cubicBezTo>
                    <a:pt x="81" y="36"/>
                    <a:pt x="88" y="21"/>
                    <a:pt x="106" y="33"/>
                  </a:cubicBezTo>
                  <a:cubicBezTo>
                    <a:pt x="104" y="66"/>
                    <a:pt x="113" y="82"/>
                    <a:pt x="79" y="75"/>
                  </a:cubicBezTo>
                  <a:cubicBezTo>
                    <a:pt x="79" y="87"/>
                    <a:pt x="60" y="86"/>
                    <a:pt x="52" y="84"/>
                  </a:cubicBezTo>
                  <a:cubicBezTo>
                    <a:pt x="60" y="87"/>
                    <a:pt x="44" y="134"/>
                    <a:pt x="44" y="134"/>
                  </a:cubicBezTo>
                  <a:cubicBezTo>
                    <a:pt x="47" y="150"/>
                    <a:pt x="54" y="157"/>
                    <a:pt x="68" y="166"/>
                  </a:cubicBezTo>
                  <a:cubicBezTo>
                    <a:pt x="73" y="187"/>
                    <a:pt x="78" y="209"/>
                    <a:pt x="88" y="228"/>
                  </a:cubicBezTo>
                  <a:cubicBezTo>
                    <a:pt x="92" y="236"/>
                    <a:pt x="95" y="244"/>
                    <a:pt x="98" y="252"/>
                  </a:cubicBezTo>
                  <a:cubicBezTo>
                    <a:pt x="99" y="254"/>
                    <a:pt x="100" y="258"/>
                    <a:pt x="100" y="258"/>
                  </a:cubicBezTo>
                  <a:cubicBezTo>
                    <a:pt x="97" y="268"/>
                    <a:pt x="93" y="263"/>
                    <a:pt x="86" y="258"/>
                  </a:cubicBezTo>
                  <a:cubicBezTo>
                    <a:pt x="82" y="252"/>
                    <a:pt x="75" y="249"/>
                    <a:pt x="72" y="242"/>
                  </a:cubicBezTo>
                  <a:cubicBezTo>
                    <a:pt x="66" y="229"/>
                    <a:pt x="66" y="215"/>
                    <a:pt x="58" y="204"/>
                  </a:cubicBezTo>
                  <a:cubicBezTo>
                    <a:pt x="41" y="180"/>
                    <a:pt x="23" y="166"/>
                    <a:pt x="18" y="136"/>
                  </a:cubicBezTo>
                  <a:cubicBezTo>
                    <a:pt x="16" y="111"/>
                    <a:pt x="11" y="99"/>
                    <a:pt x="4" y="78"/>
                  </a:cubicBezTo>
                  <a:cubicBezTo>
                    <a:pt x="0" y="53"/>
                    <a:pt x="8" y="43"/>
                    <a:pt x="4" y="18"/>
                  </a:cubicBezTo>
                  <a:cubicBezTo>
                    <a:pt x="6" y="3"/>
                    <a:pt x="28" y="12"/>
                    <a:pt x="31" y="6"/>
                  </a:cubicBezTo>
                  <a:lnTo>
                    <a:pt x="57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62160" y="5110200"/>
              <a:ext cx="36720" cy="316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29" y="18"/>
                  </a:moveTo>
                  <a:cubicBezTo>
                    <a:pt x="29" y="18"/>
                    <a:pt x="84" y="0"/>
                    <a:pt x="91" y="18"/>
                  </a:cubicBezTo>
                  <a:cubicBezTo>
                    <a:pt x="92" y="21"/>
                    <a:pt x="78" y="66"/>
                    <a:pt x="76" y="72"/>
                  </a:cubicBezTo>
                  <a:cubicBezTo>
                    <a:pt x="0" y="56"/>
                    <a:pt x="51" y="80"/>
                    <a:pt x="44" y="41"/>
                  </a:cubicBezTo>
                  <a:cubicBezTo>
                    <a:pt x="42" y="32"/>
                    <a:pt x="34" y="26"/>
                    <a:pt x="29" y="18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89320" y="5032440"/>
              <a:ext cx="703080" cy="271440"/>
            </a:xfrm>
            <a:custGeom>
              <a:avLst/>
              <a:gdLst/>
              <a:ahLst/>
              <a:rect l="l" t="t" r="r" b="b"/>
              <a:pathLst>
                <a:path w="1675" h="647">
                  <a:moveTo>
                    <a:pt x="0" y="0"/>
                  </a:moveTo>
                  <a:cubicBezTo>
                    <a:pt x="29" y="18"/>
                    <a:pt x="101" y="52"/>
                    <a:pt x="174" y="111"/>
                  </a:cubicBezTo>
                  <a:cubicBezTo>
                    <a:pt x="247" y="170"/>
                    <a:pt x="349" y="282"/>
                    <a:pt x="436" y="355"/>
                  </a:cubicBezTo>
                  <a:cubicBezTo>
                    <a:pt x="523" y="428"/>
                    <a:pt x="603" y="501"/>
                    <a:pt x="697" y="547"/>
                  </a:cubicBezTo>
                  <a:cubicBezTo>
                    <a:pt x="791" y="593"/>
                    <a:pt x="897" y="621"/>
                    <a:pt x="1003" y="634"/>
                  </a:cubicBezTo>
                  <a:cubicBezTo>
                    <a:pt x="1109" y="647"/>
                    <a:pt x="1243" y="646"/>
                    <a:pt x="1335" y="626"/>
                  </a:cubicBezTo>
                  <a:cubicBezTo>
                    <a:pt x="1427" y="606"/>
                    <a:pt x="1496" y="577"/>
                    <a:pt x="1553" y="512"/>
                  </a:cubicBezTo>
                  <a:cubicBezTo>
                    <a:pt x="1610" y="447"/>
                    <a:pt x="1650" y="291"/>
                    <a:pt x="1675" y="23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2840" y="5029200"/>
              <a:ext cx="704880" cy="273240"/>
            </a:xfrm>
            <a:custGeom>
              <a:avLst/>
              <a:gdLst/>
              <a:ahLst/>
              <a:rect l="l" t="t" r="r" b="b"/>
              <a:pathLst>
                <a:path w="1675" h="647">
                  <a:moveTo>
                    <a:pt x="0" y="0"/>
                  </a:moveTo>
                  <a:cubicBezTo>
                    <a:pt x="29" y="18"/>
                    <a:pt x="101" y="52"/>
                    <a:pt x="174" y="111"/>
                  </a:cubicBezTo>
                  <a:cubicBezTo>
                    <a:pt x="247" y="170"/>
                    <a:pt x="349" y="282"/>
                    <a:pt x="436" y="355"/>
                  </a:cubicBezTo>
                  <a:cubicBezTo>
                    <a:pt x="523" y="428"/>
                    <a:pt x="603" y="501"/>
                    <a:pt x="697" y="547"/>
                  </a:cubicBezTo>
                  <a:cubicBezTo>
                    <a:pt x="791" y="593"/>
                    <a:pt x="897" y="621"/>
                    <a:pt x="1003" y="634"/>
                  </a:cubicBezTo>
                  <a:cubicBezTo>
                    <a:pt x="1109" y="647"/>
                    <a:pt x="1243" y="646"/>
                    <a:pt x="1335" y="626"/>
                  </a:cubicBezTo>
                  <a:cubicBezTo>
                    <a:pt x="1427" y="606"/>
                    <a:pt x="1496" y="577"/>
                    <a:pt x="1553" y="512"/>
                  </a:cubicBezTo>
                  <a:cubicBezTo>
                    <a:pt x="1610" y="447"/>
                    <a:pt x="1650" y="291"/>
                    <a:pt x="1675" y="233"/>
                  </a:cubicBezTo>
                </a:path>
              </a:pathLst>
            </a:custGeom>
            <a:noFill/>
            <a:ln w="648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44960" y="5016600"/>
              <a:ext cx="31680" cy="82440"/>
            </a:xfrm>
            <a:custGeom>
              <a:avLst/>
              <a:gdLst/>
              <a:ahLst/>
              <a:rect l="l" t="t" r="r" b="b"/>
              <a:pathLst>
                <a:path w="95" h="253">
                  <a:moveTo>
                    <a:pt x="0" y="0"/>
                  </a:moveTo>
                  <a:lnTo>
                    <a:pt x="16" y="95"/>
                  </a:lnTo>
                  <a:lnTo>
                    <a:pt x="23" y="253"/>
                  </a:lnTo>
                  <a:lnTo>
                    <a:pt x="67" y="213"/>
                  </a:lnTo>
                  <a:lnTo>
                    <a:pt x="36" y="143"/>
                  </a:lnTo>
                  <a:lnTo>
                    <a:pt x="54" y="118"/>
                  </a:lnTo>
                  <a:lnTo>
                    <a:pt x="78" y="152"/>
                  </a:lnTo>
                  <a:lnTo>
                    <a:pt x="95" y="135"/>
                  </a:lnTo>
                  <a:lnTo>
                    <a:pt x="59" y="105"/>
                  </a:lnTo>
                  <a:lnTo>
                    <a:pt x="42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06800" y="5106960"/>
              <a:ext cx="60120" cy="5580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128" y="0"/>
                  </a:moveTo>
                  <a:lnTo>
                    <a:pt x="134" y="62"/>
                  </a:lnTo>
                  <a:lnTo>
                    <a:pt x="92" y="116"/>
                  </a:lnTo>
                  <a:lnTo>
                    <a:pt x="20" y="133"/>
                  </a:lnTo>
                  <a:lnTo>
                    <a:pt x="0" y="156"/>
                  </a:lnTo>
                  <a:lnTo>
                    <a:pt x="92" y="148"/>
                  </a:lnTo>
                  <a:lnTo>
                    <a:pt x="111" y="171"/>
                  </a:lnTo>
                  <a:lnTo>
                    <a:pt x="185" y="108"/>
                  </a:lnTo>
                  <a:lnTo>
                    <a:pt x="172" y="62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08240" y="5162760"/>
              <a:ext cx="17640" cy="2376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0" y="9"/>
                  </a:moveTo>
                  <a:lnTo>
                    <a:pt x="53" y="0"/>
                  </a:lnTo>
                  <a:lnTo>
                    <a:pt x="53" y="70"/>
                  </a:lnTo>
                  <a:lnTo>
                    <a:pt x="17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425600" y="4673880"/>
              <a:ext cx="603360" cy="509400"/>
              <a:chOff x="1425600" y="4673880"/>
              <a:chExt cx="603360" cy="509400"/>
            </a:xfrm>
          </p:grpSpPr>
          <p:sp>
            <p:nvSpPr>
              <p:cNvPr id="393" name=""/>
              <p:cNvSpPr/>
              <p:nvPr/>
            </p:nvSpPr>
            <p:spPr>
              <a:xfrm>
                <a:off x="1821600" y="476748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48" y="61"/>
                    </a:moveTo>
                    <a:lnTo>
                      <a:pt x="59" y="49"/>
                    </a:lnTo>
                    <a:lnTo>
                      <a:pt x="53" y="21"/>
                    </a:lnTo>
                    <a:lnTo>
                      <a:pt x="30" y="13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2" y="36"/>
                    </a:lnTo>
                    <a:lnTo>
                      <a:pt x="27" y="61"/>
                    </a:lnTo>
                    <a:lnTo>
                      <a:pt x="48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83800" y="4816800"/>
                <a:ext cx="30960" cy="33120"/>
              </a:xfrm>
              <a:custGeom>
                <a:avLst/>
                <a:gdLst/>
                <a:ahLst/>
                <a:rect l="l" t="t" r="r" b="b"/>
                <a:pathLst>
                  <a:path w="95" h="103">
                    <a:moveTo>
                      <a:pt x="95" y="8"/>
                    </a:moveTo>
                    <a:lnTo>
                      <a:pt x="65" y="0"/>
                    </a:lnTo>
                    <a:lnTo>
                      <a:pt x="32" y="8"/>
                    </a:lnTo>
                    <a:lnTo>
                      <a:pt x="21" y="25"/>
                    </a:lnTo>
                    <a:lnTo>
                      <a:pt x="40" y="25"/>
                    </a:lnTo>
                    <a:lnTo>
                      <a:pt x="32" y="38"/>
                    </a:lnTo>
                    <a:lnTo>
                      <a:pt x="0" y="42"/>
                    </a:lnTo>
                    <a:lnTo>
                      <a:pt x="13" y="67"/>
                    </a:lnTo>
                    <a:lnTo>
                      <a:pt x="29" y="65"/>
                    </a:lnTo>
                    <a:lnTo>
                      <a:pt x="32" y="78"/>
                    </a:lnTo>
                    <a:lnTo>
                      <a:pt x="51" y="103"/>
                    </a:lnTo>
                    <a:lnTo>
                      <a:pt x="93" y="74"/>
                    </a:lnTo>
                    <a:lnTo>
                      <a:pt x="78" y="59"/>
                    </a:lnTo>
                    <a:lnTo>
                      <a:pt x="93" y="51"/>
                    </a:lnTo>
                    <a:lnTo>
                      <a:pt x="82" y="32"/>
                    </a:lnTo>
                    <a:lnTo>
                      <a:pt x="95" y="21"/>
                    </a:lnTo>
                    <a:lnTo>
                      <a:pt x="95" y="8"/>
                    </a:lnTo>
                    <a:lnTo>
                      <a:pt x="95" y="8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95240" y="4741560"/>
                <a:ext cx="95400" cy="35640"/>
              </a:xfrm>
              <a:custGeom>
                <a:avLst/>
                <a:gdLst/>
                <a:ahLst/>
                <a:rect l="l" t="t" r="r" b="b"/>
                <a:pathLst>
                  <a:path w="262" h="108">
                    <a:moveTo>
                      <a:pt x="124" y="17"/>
                    </a:moveTo>
                    <a:lnTo>
                      <a:pt x="78" y="17"/>
                    </a:lnTo>
                    <a:lnTo>
                      <a:pt x="63" y="17"/>
                    </a:lnTo>
                    <a:lnTo>
                      <a:pt x="15" y="32"/>
                    </a:lnTo>
                    <a:lnTo>
                      <a:pt x="0" y="63"/>
                    </a:lnTo>
                    <a:lnTo>
                      <a:pt x="48" y="63"/>
                    </a:lnTo>
                    <a:lnTo>
                      <a:pt x="78" y="47"/>
                    </a:lnTo>
                    <a:lnTo>
                      <a:pt x="63" y="80"/>
                    </a:lnTo>
                    <a:lnTo>
                      <a:pt x="108" y="80"/>
                    </a:lnTo>
                    <a:lnTo>
                      <a:pt x="108" y="108"/>
                    </a:lnTo>
                    <a:lnTo>
                      <a:pt x="124" y="108"/>
                    </a:lnTo>
                    <a:lnTo>
                      <a:pt x="186" y="95"/>
                    </a:lnTo>
                    <a:lnTo>
                      <a:pt x="262" y="80"/>
                    </a:lnTo>
                    <a:lnTo>
                      <a:pt x="249" y="63"/>
                    </a:lnTo>
                    <a:lnTo>
                      <a:pt x="219" y="63"/>
                    </a:lnTo>
                    <a:lnTo>
                      <a:pt x="234" y="32"/>
                    </a:lnTo>
                    <a:lnTo>
                      <a:pt x="202" y="32"/>
                    </a:lnTo>
                    <a:lnTo>
                      <a:pt x="202" y="0"/>
                    </a:lnTo>
                    <a:lnTo>
                      <a:pt x="186" y="0"/>
                    </a:lnTo>
                    <a:lnTo>
                      <a:pt x="156" y="47"/>
                    </a:lnTo>
                    <a:lnTo>
                      <a:pt x="124" y="17"/>
                    </a:lnTo>
                    <a:lnTo>
                      <a:pt x="124" y="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74800" y="4735800"/>
                <a:ext cx="29160" cy="1476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65" y="0"/>
                    </a:moveTo>
                    <a:lnTo>
                      <a:pt x="17" y="0"/>
                    </a:lnTo>
                    <a:lnTo>
                      <a:pt x="0" y="17"/>
                    </a:lnTo>
                    <a:lnTo>
                      <a:pt x="50" y="17"/>
                    </a:lnTo>
                    <a:lnTo>
                      <a:pt x="0" y="33"/>
                    </a:lnTo>
                    <a:lnTo>
                      <a:pt x="65" y="46"/>
                    </a:lnTo>
                    <a:lnTo>
                      <a:pt x="80" y="17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02520" y="4731840"/>
                <a:ext cx="31320" cy="19800"/>
              </a:xfrm>
              <a:custGeom>
                <a:avLst/>
                <a:gdLst/>
                <a:ahLst/>
                <a:rect l="l" t="t" r="r" b="b"/>
                <a:pathLst>
                  <a:path w="86" h="61">
                    <a:moveTo>
                      <a:pt x="86" y="57"/>
                    </a:moveTo>
                    <a:lnTo>
                      <a:pt x="86" y="40"/>
                    </a:lnTo>
                    <a:lnTo>
                      <a:pt x="61" y="28"/>
                    </a:lnTo>
                    <a:lnTo>
                      <a:pt x="30" y="0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27" y="32"/>
                    </a:lnTo>
                    <a:lnTo>
                      <a:pt x="4" y="40"/>
                    </a:lnTo>
                    <a:lnTo>
                      <a:pt x="4" y="61"/>
                    </a:lnTo>
                    <a:lnTo>
                      <a:pt x="51" y="45"/>
                    </a:lnTo>
                    <a:lnTo>
                      <a:pt x="68" y="47"/>
                    </a:lnTo>
                    <a:lnTo>
                      <a:pt x="68" y="57"/>
                    </a:lnTo>
                    <a:lnTo>
                      <a:pt x="86" y="57"/>
                    </a:lnTo>
                    <a:lnTo>
                      <a:pt x="86" y="5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64280" y="4775760"/>
                <a:ext cx="120240" cy="51840"/>
              </a:xfrm>
              <a:custGeom>
                <a:avLst/>
                <a:gdLst/>
                <a:ahLst/>
                <a:rect l="l" t="t" r="r" b="b"/>
                <a:pathLst>
                  <a:path w="329" h="158">
                    <a:moveTo>
                      <a:pt x="135" y="14"/>
                    </a:moveTo>
                    <a:lnTo>
                      <a:pt x="60" y="6"/>
                    </a:lnTo>
                    <a:lnTo>
                      <a:pt x="30" y="0"/>
                    </a:lnTo>
                    <a:lnTo>
                      <a:pt x="38" y="14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3" y="99"/>
                    </a:lnTo>
                    <a:lnTo>
                      <a:pt x="22" y="118"/>
                    </a:lnTo>
                    <a:lnTo>
                      <a:pt x="53" y="116"/>
                    </a:lnTo>
                    <a:lnTo>
                      <a:pt x="53" y="105"/>
                    </a:lnTo>
                    <a:lnTo>
                      <a:pt x="68" y="101"/>
                    </a:lnTo>
                    <a:lnTo>
                      <a:pt x="93" y="56"/>
                    </a:lnTo>
                    <a:lnTo>
                      <a:pt x="110" y="69"/>
                    </a:lnTo>
                    <a:lnTo>
                      <a:pt x="93" y="80"/>
                    </a:lnTo>
                    <a:lnTo>
                      <a:pt x="93" y="109"/>
                    </a:lnTo>
                    <a:lnTo>
                      <a:pt x="106" y="99"/>
                    </a:lnTo>
                    <a:lnTo>
                      <a:pt x="93" y="122"/>
                    </a:lnTo>
                    <a:lnTo>
                      <a:pt x="93" y="135"/>
                    </a:lnTo>
                    <a:lnTo>
                      <a:pt x="142" y="147"/>
                    </a:lnTo>
                    <a:lnTo>
                      <a:pt x="205" y="156"/>
                    </a:lnTo>
                    <a:lnTo>
                      <a:pt x="235" y="135"/>
                    </a:lnTo>
                    <a:lnTo>
                      <a:pt x="264" y="156"/>
                    </a:lnTo>
                    <a:lnTo>
                      <a:pt x="321" y="158"/>
                    </a:lnTo>
                    <a:lnTo>
                      <a:pt x="323" y="141"/>
                    </a:lnTo>
                    <a:lnTo>
                      <a:pt x="292" y="115"/>
                    </a:lnTo>
                    <a:lnTo>
                      <a:pt x="306" y="82"/>
                    </a:lnTo>
                    <a:lnTo>
                      <a:pt x="325" y="61"/>
                    </a:lnTo>
                    <a:lnTo>
                      <a:pt x="329" y="33"/>
                    </a:lnTo>
                    <a:lnTo>
                      <a:pt x="272" y="31"/>
                    </a:lnTo>
                    <a:lnTo>
                      <a:pt x="264" y="65"/>
                    </a:lnTo>
                    <a:lnTo>
                      <a:pt x="239" y="69"/>
                    </a:lnTo>
                    <a:lnTo>
                      <a:pt x="230" y="92"/>
                    </a:lnTo>
                    <a:lnTo>
                      <a:pt x="201" y="48"/>
                    </a:lnTo>
                    <a:lnTo>
                      <a:pt x="184" y="65"/>
                    </a:lnTo>
                    <a:lnTo>
                      <a:pt x="173" y="52"/>
                    </a:lnTo>
                    <a:lnTo>
                      <a:pt x="178" y="33"/>
                    </a:lnTo>
                    <a:lnTo>
                      <a:pt x="142" y="31"/>
                    </a:lnTo>
                    <a:lnTo>
                      <a:pt x="135" y="14"/>
                    </a:lnTo>
                    <a:lnTo>
                      <a:pt x="135" y="1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03600" y="4802400"/>
                <a:ext cx="41040" cy="17640"/>
              </a:xfrm>
              <a:custGeom>
                <a:avLst/>
                <a:gdLst/>
                <a:ahLst/>
                <a:rect l="l" t="t" r="r" b="b"/>
                <a:pathLst>
                  <a:path w="110" h="55">
                    <a:moveTo>
                      <a:pt x="7" y="0"/>
                    </a:moveTo>
                    <a:lnTo>
                      <a:pt x="0" y="13"/>
                    </a:lnTo>
                    <a:lnTo>
                      <a:pt x="23" y="40"/>
                    </a:lnTo>
                    <a:lnTo>
                      <a:pt x="61" y="38"/>
                    </a:lnTo>
                    <a:lnTo>
                      <a:pt x="49" y="51"/>
                    </a:lnTo>
                    <a:lnTo>
                      <a:pt x="97" y="55"/>
                    </a:lnTo>
                    <a:lnTo>
                      <a:pt x="104" y="28"/>
                    </a:lnTo>
                    <a:lnTo>
                      <a:pt x="110" y="0"/>
                    </a:lnTo>
                    <a:lnTo>
                      <a:pt x="61" y="3"/>
                    </a:lnTo>
                    <a:lnTo>
                      <a:pt x="51" y="21"/>
                    </a:lnTo>
                    <a:lnTo>
                      <a:pt x="23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6080" y="4766760"/>
                <a:ext cx="142920" cy="11988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71" y="0"/>
                    </a:moveTo>
                    <a:lnTo>
                      <a:pt x="39" y="17"/>
                    </a:lnTo>
                    <a:lnTo>
                      <a:pt x="0" y="68"/>
                    </a:lnTo>
                    <a:lnTo>
                      <a:pt x="12" y="108"/>
                    </a:lnTo>
                    <a:lnTo>
                      <a:pt x="77" y="125"/>
                    </a:lnTo>
                    <a:lnTo>
                      <a:pt x="151" y="125"/>
                    </a:lnTo>
                    <a:lnTo>
                      <a:pt x="170" y="158"/>
                    </a:lnTo>
                    <a:lnTo>
                      <a:pt x="206" y="160"/>
                    </a:lnTo>
                    <a:lnTo>
                      <a:pt x="232" y="192"/>
                    </a:lnTo>
                    <a:lnTo>
                      <a:pt x="215" y="226"/>
                    </a:lnTo>
                    <a:lnTo>
                      <a:pt x="183" y="260"/>
                    </a:lnTo>
                    <a:lnTo>
                      <a:pt x="149" y="259"/>
                    </a:lnTo>
                    <a:lnTo>
                      <a:pt x="122" y="274"/>
                    </a:lnTo>
                    <a:lnTo>
                      <a:pt x="206" y="291"/>
                    </a:lnTo>
                    <a:lnTo>
                      <a:pt x="248" y="344"/>
                    </a:lnTo>
                    <a:lnTo>
                      <a:pt x="301" y="365"/>
                    </a:lnTo>
                    <a:lnTo>
                      <a:pt x="301" y="350"/>
                    </a:lnTo>
                    <a:lnTo>
                      <a:pt x="274" y="316"/>
                    </a:lnTo>
                    <a:lnTo>
                      <a:pt x="320" y="342"/>
                    </a:lnTo>
                    <a:lnTo>
                      <a:pt x="337" y="331"/>
                    </a:lnTo>
                    <a:lnTo>
                      <a:pt x="303" y="276"/>
                    </a:lnTo>
                    <a:lnTo>
                      <a:pt x="299" y="243"/>
                    </a:lnTo>
                    <a:lnTo>
                      <a:pt x="322" y="243"/>
                    </a:lnTo>
                    <a:lnTo>
                      <a:pt x="337" y="276"/>
                    </a:lnTo>
                    <a:lnTo>
                      <a:pt x="369" y="283"/>
                    </a:lnTo>
                    <a:lnTo>
                      <a:pt x="392" y="251"/>
                    </a:lnTo>
                    <a:lnTo>
                      <a:pt x="392" y="215"/>
                    </a:lnTo>
                    <a:lnTo>
                      <a:pt x="350" y="190"/>
                    </a:lnTo>
                    <a:lnTo>
                      <a:pt x="331" y="190"/>
                    </a:lnTo>
                    <a:lnTo>
                      <a:pt x="320" y="173"/>
                    </a:lnTo>
                    <a:lnTo>
                      <a:pt x="291" y="160"/>
                    </a:lnTo>
                    <a:lnTo>
                      <a:pt x="333" y="154"/>
                    </a:lnTo>
                    <a:lnTo>
                      <a:pt x="326" y="137"/>
                    </a:lnTo>
                    <a:lnTo>
                      <a:pt x="299" y="110"/>
                    </a:lnTo>
                    <a:lnTo>
                      <a:pt x="299" y="85"/>
                    </a:lnTo>
                    <a:lnTo>
                      <a:pt x="248" y="80"/>
                    </a:lnTo>
                    <a:lnTo>
                      <a:pt x="242" y="65"/>
                    </a:lnTo>
                    <a:lnTo>
                      <a:pt x="213" y="49"/>
                    </a:lnTo>
                    <a:lnTo>
                      <a:pt x="191" y="13"/>
                    </a:lnTo>
                    <a:lnTo>
                      <a:pt x="132" y="11"/>
                    </a:lnTo>
                    <a:lnTo>
                      <a:pt x="90" y="21"/>
                    </a:lnTo>
                    <a:lnTo>
                      <a:pt x="65" y="70"/>
                    </a:lnTo>
                    <a:lnTo>
                      <a:pt x="77" y="13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47520" y="483444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110" h="124">
                    <a:moveTo>
                      <a:pt x="43" y="0"/>
                    </a:moveTo>
                    <a:lnTo>
                      <a:pt x="36" y="32"/>
                    </a:lnTo>
                    <a:lnTo>
                      <a:pt x="3" y="67"/>
                    </a:lnTo>
                    <a:lnTo>
                      <a:pt x="0" y="91"/>
                    </a:lnTo>
                    <a:lnTo>
                      <a:pt x="36" y="80"/>
                    </a:lnTo>
                    <a:lnTo>
                      <a:pt x="49" y="89"/>
                    </a:lnTo>
                    <a:lnTo>
                      <a:pt x="24" y="101"/>
                    </a:lnTo>
                    <a:lnTo>
                      <a:pt x="43" y="124"/>
                    </a:lnTo>
                    <a:lnTo>
                      <a:pt x="66" y="108"/>
                    </a:lnTo>
                    <a:lnTo>
                      <a:pt x="78" y="86"/>
                    </a:lnTo>
                    <a:lnTo>
                      <a:pt x="110" y="78"/>
                    </a:lnTo>
                    <a:lnTo>
                      <a:pt x="93" y="53"/>
                    </a:lnTo>
                    <a:lnTo>
                      <a:pt x="53" y="19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31320" y="4673880"/>
                <a:ext cx="185040" cy="72720"/>
              </a:xfrm>
              <a:custGeom>
                <a:avLst/>
                <a:gdLst/>
                <a:ahLst/>
                <a:rect l="l" t="t" r="r" b="b"/>
                <a:pathLst>
                  <a:path w="510" h="223">
                    <a:moveTo>
                      <a:pt x="510" y="34"/>
                    </a:moveTo>
                    <a:lnTo>
                      <a:pt x="451" y="21"/>
                    </a:lnTo>
                    <a:lnTo>
                      <a:pt x="396" y="17"/>
                    </a:lnTo>
                    <a:lnTo>
                      <a:pt x="356" y="0"/>
                    </a:lnTo>
                    <a:lnTo>
                      <a:pt x="248" y="6"/>
                    </a:lnTo>
                    <a:lnTo>
                      <a:pt x="212" y="21"/>
                    </a:lnTo>
                    <a:lnTo>
                      <a:pt x="147" y="21"/>
                    </a:lnTo>
                    <a:lnTo>
                      <a:pt x="134" y="38"/>
                    </a:lnTo>
                    <a:lnTo>
                      <a:pt x="80" y="40"/>
                    </a:lnTo>
                    <a:lnTo>
                      <a:pt x="141" y="74"/>
                    </a:lnTo>
                    <a:lnTo>
                      <a:pt x="126" y="90"/>
                    </a:lnTo>
                    <a:lnTo>
                      <a:pt x="90" y="72"/>
                    </a:lnTo>
                    <a:lnTo>
                      <a:pt x="69" y="63"/>
                    </a:lnTo>
                    <a:lnTo>
                      <a:pt x="63" y="50"/>
                    </a:lnTo>
                    <a:lnTo>
                      <a:pt x="31" y="53"/>
                    </a:lnTo>
                    <a:lnTo>
                      <a:pt x="2" y="67"/>
                    </a:lnTo>
                    <a:lnTo>
                      <a:pt x="0" y="116"/>
                    </a:lnTo>
                    <a:lnTo>
                      <a:pt x="23" y="124"/>
                    </a:lnTo>
                    <a:lnTo>
                      <a:pt x="59" y="124"/>
                    </a:lnTo>
                    <a:lnTo>
                      <a:pt x="35" y="147"/>
                    </a:lnTo>
                    <a:lnTo>
                      <a:pt x="67" y="177"/>
                    </a:lnTo>
                    <a:lnTo>
                      <a:pt x="78" y="158"/>
                    </a:lnTo>
                    <a:lnTo>
                      <a:pt x="134" y="124"/>
                    </a:lnTo>
                    <a:lnTo>
                      <a:pt x="151" y="129"/>
                    </a:lnTo>
                    <a:lnTo>
                      <a:pt x="101" y="158"/>
                    </a:lnTo>
                    <a:lnTo>
                      <a:pt x="132" y="171"/>
                    </a:lnTo>
                    <a:lnTo>
                      <a:pt x="103" y="179"/>
                    </a:lnTo>
                    <a:lnTo>
                      <a:pt x="80" y="207"/>
                    </a:lnTo>
                    <a:lnTo>
                      <a:pt x="128" y="219"/>
                    </a:lnTo>
                    <a:lnTo>
                      <a:pt x="244" y="223"/>
                    </a:lnTo>
                    <a:lnTo>
                      <a:pt x="217" y="202"/>
                    </a:lnTo>
                    <a:lnTo>
                      <a:pt x="251" y="183"/>
                    </a:lnTo>
                    <a:lnTo>
                      <a:pt x="267" y="148"/>
                    </a:lnTo>
                    <a:lnTo>
                      <a:pt x="303" y="145"/>
                    </a:lnTo>
                    <a:lnTo>
                      <a:pt x="297" y="124"/>
                    </a:lnTo>
                    <a:lnTo>
                      <a:pt x="346" y="122"/>
                    </a:lnTo>
                    <a:lnTo>
                      <a:pt x="375" y="88"/>
                    </a:lnTo>
                    <a:lnTo>
                      <a:pt x="434" y="76"/>
                    </a:lnTo>
                    <a:lnTo>
                      <a:pt x="476" y="46"/>
                    </a:lnTo>
                    <a:lnTo>
                      <a:pt x="510" y="34"/>
                    </a:lnTo>
                    <a:lnTo>
                      <a:pt x="510" y="3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25200" y="4748040"/>
                <a:ext cx="89280" cy="26280"/>
              </a:xfrm>
              <a:custGeom>
                <a:avLst/>
                <a:gdLst/>
                <a:ahLst/>
                <a:rect l="l" t="t" r="r" b="b"/>
                <a:pathLst>
                  <a:path w="246" h="80">
                    <a:moveTo>
                      <a:pt x="0" y="0"/>
                    </a:moveTo>
                    <a:lnTo>
                      <a:pt x="42" y="15"/>
                    </a:lnTo>
                    <a:lnTo>
                      <a:pt x="88" y="10"/>
                    </a:lnTo>
                    <a:lnTo>
                      <a:pt x="141" y="44"/>
                    </a:lnTo>
                    <a:lnTo>
                      <a:pt x="246" y="44"/>
                    </a:lnTo>
                    <a:lnTo>
                      <a:pt x="232" y="80"/>
                    </a:lnTo>
                    <a:lnTo>
                      <a:pt x="139" y="74"/>
                    </a:lnTo>
                    <a:lnTo>
                      <a:pt x="84" y="65"/>
                    </a:lnTo>
                    <a:lnTo>
                      <a:pt x="52" y="57"/>
                    </a:lnTo>
                    <a:lnTo>
                      <a:pt x="35" y="27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425600" y="4783320"/>
                <a:ext cx="603360" cy="399960"/>
              </a:xfrm>
              <a:custGeom>
                <a:avLst/>
                <a:gdLst/>
                <a:ahLst/>
                <a:rect l="l" t="t" r="r" b="b"/>
                <a:pathLst>
                  <a:path w="1560" h="1032">
                    <a:moveTo>
                      <a:pt x="1169" y="23"/>
                    </a:moveTo>
                    <a:lnTo>
                      <a:pt x="1132" y="0"/>
                    </a:lnTo>
                    <a:lnTo>
                      <a:pt x="1107" y="32"/>
                    </a:lnTo>
                    <a:lnTo>
                      <a:pt x="1104" y="87"/>
                    </a:lnTo>
                    <a:lnTo>
                      <a:pt x="1081" y="117"/>
                    </a:lnTo>
                    <a:lnTo>
                      <a:pt x="1090" y="138"/>
                    </a:lnTo>
                    <a:lnTo>
                      <a:pt x="1052" y="154"/>
                    </a:lnTo>
                    <a:lnTo>
                      <a:pt x="1044" y="117"/>
                    </a:lnTo>
                    <a:lnTo>
                      <a:pt x="1008" y="138"/>
                    </a:lnTo>
                    <a:lnTo>
                      <a:pt x="1006" y="165"/>
                    </a:lnTo>
                    <a:lnTo>
                      <a:pt x="932" y="133"/>
                    </a:lnTo>
                    <a:lnTo>
                      <a:pt x="897" y="143"/>
                    </a:lnTo>
                    <a:lnTo>
                      <a:pt x="881" y="170"/>
                    </a:lnTo>
                    <a:lnTo>
                      <a:pt x="802" y="155"/>
                    </a:lnTo>
                    <a:lnTo>
                      <a:pt x="802" y="126"/>
                    </a:lnTo>
                    <a:lnTo>
                      <a:pt x="756" y="130"/>
                    </a:lnTo>
                    <a:lnTo>
                      <a:pt x="723" y="95"/>
                    </a:lnTo>
                    <a:lnTo>
                      <a:pt x="701" y="98"/>
                    </a:lnTo>
                    <a:lnTo>
                      <a:pt x="701" y="122"/>
                    </a:lnTo>
                    <a:lnTo>
                      <a:pt x="670" y="98"/>
                    </a:lnTo>
                    <a:lnTo>
                      <a:pt x="616" y="117"/>
                    </a:lnTo>
                    <a:lnTo>
                      <a:pt x="585" y="130"/>
                    </a:lnTo>
                    <a:lnTo>
                      <a:pt x="563" y="117"/>
                    </a:lnTo>
                    <a:lnTo>
                      <a:pt x="544" y="130"/>
                    </a:lnTo>
                    <a:lnTo>
                      <a:pt x="506" y="108"/>
                    </a:lnTo>
                    <a:lnTo>
                      <a:pt x="442" y="98"/>
                    </a:lnTo>
                    <a:lnTo>
                      <a:pt x="426" y="112"/>
                    </a:lnTo>
                    <a:lnTo>
                      <a:pt x="410" y="98"/>
                    </a:lnTo>
                    <a:lnTo>
                      <a:pt x="374" y="95"/>
                    </a:lnTo>
                    <a:lnTo>
                      <a:pt x="357" y="74"/>
                    </a:lnTo>
                    <a:lnTo>
                      <a:pt x="329" y="77"/>
                    </a:lnTo>
                    <a:lnTo>
                      <a:pt x="321" y="54"/>
                    </a:lnTo>
                    <a:lnTo>
                      <a:pt x="289" y="67"/>
                    </a:lnTo>
                    <a:lnTo>
                      <a:pt x="204" y="90"/>
                    </a:lnTo>
                    <a:lnTo>
                      <a:pt x="170" y="130"/>
                    </a:lnTo>
                    <a:lnTo>
                      <a:pt x="204" y="175"/>
                    </a:lnTo>
                    <a:lnTo>
                      <a:pt x="199" y="184"/>
                    </a:lnTo>
                    <a:lnTo>
                      <a:pt x="164" y="170"/>
                    </a:lnTo>
                    <a:lnTo>
                      <a:pt x="135" y="184"/>
                    </a:lnTo>
                    <a:lnTo>
                      <a:pt x="154" y="231"/>
                    </a:lnTo>
                    <a:lnTo>
                      <a:pt x="178" y="218"/>
                    </a:lnTo>
                    <a:lnTo>
                      <a:pt x="199" y="231"/>
                    </a:lnTo>
                    <a:lnTo>
                      <a:pt x="178" y="251"/>
                    </a:lnTo>
                    <a:lnTo>
                      <a:pt x="170" y="267"/>
                    </a:lnTo>
                    <a:lnTo>
                      <a:pt x="139" y="264"/>
                    </a:lnTo>
                    <a:lnTo>
                      <a:pt x="109" y="290"/>
                    </a:lnTo>
                    <a:lnTo>
                      <a:pt x="109" y="328"/>
                    </a:lnTo>
                    <a:lnTo>
                      <a:pt x="135" y="342"/>
                    </a:lnTo>
                    <a:lnTo>
                      <a:pt x="162" y="333"/>
                    </a:lnTo>
                    <a:lnTo>
                      <a:pt x="151" y="361"/>
                    </a:lnTo>
                    <a:lnTo>
                      <a:pt x="184" y="365"/>
                    </a:lnTo>
                    <a:lnTo>
                      <a:pt x="187" y="383"/>
                    </a:lnTo>
                    <a:lnTo>
                      <a:pt x="130" y="437"/>
                    </a:lnTo>
                    <a:lnTo>
                      <a:pt x="0" y="559"/>
                    </a:lnTo>
                    <a:lnTo>
                      <a:pt x="55" y="516"/>
                    </a:lnTo>
                    <a:lnTo>
                      <a:pt x="136" y="450"/>
                    </a:lnTo>
                    <a:lnTo>
                      <a:pt x="245" y="352"/>
                    </a:lnTo>
                    <a:lnTo>
                      <a:pt x="229" y="333"/>
                    </a:lnTo>
                    <a:lnTo>
                      <a:pt x="216" y="326"/>
                    </a:lnTo>
                    <a:lnTo>
                      <a:pt x="245" y="326"/>
                    </a:lnTo>
                    <a:lnTo>
                      <a:pt x="286" y="285"/>
                    </a:lnTo>
                    <a:lnTo>
                      <a:pt x="286" y="298"/>
                    </a:lnTo>
                    <a:lnTo>
                      <a:pt x="266" y="326"/>
                    </a:lnTo>
                    <a:lnTo>
                      <a:pt x="307" y="321"/>
                    </a:lnTo>
                    <a:lnTo>
                      <a:pt x="329" y="326"/>
                    </a:lnTo>
                    <a:lnTo>
                      <a:pt x="329" y="308"/>
                    </a:lnTo>
                    <a:lnTo>
                      <a:pt x="348" y="311"/>
                    </a:lnTo>
                    <a:lnTo>
                      <a:pt x="384" y="326"/>
                    </a:lnTo>
                    <a:lnTo>
                      <a:pt x="410" y="308"/>
                    </a:lnTo>
                    <a:lnTo>
                      <a:pt x="414" y="290"/>
                    </a:lnTo>
                    <a:lnTo>
                      <a:pt x="450" y="308"/>
                    </a:lnTo>
                    <a:lnTo>
                      <a:pt x="426" y="326"/>
                    </a:lnTo>
                    <a:lnTo>
                      <a:pt x="438" y="356"/>
                    </a:lnTo>
                    <a:lnTo>
                      <a:pt x="458" y="365"/>
                    </a:lnTo>
                    <a:lnTo>
                      <a:pt x="471" y="441"/>
                    </a:lnTo>
                    <a:lnTo>
                      <a:pt x="490" y="460"/>
                    </a:lnTo>
                    <a:lnTo>
                      <a:pt x="506" y="450"/>
                    </a:lnTo>
                    <a:lnTo>
                      <a:pt x="527" y="473"/>
                    </a:lnTo>
                    <a:lnTo>
                      <a:pt x="527" y="503"/>
                    </a:lnTo>
                    <a:lnTo>
                      <a:pt x="540" y="519"/>
                    </a:lnTo>
                    <a:lnTo>
                      <a:pt x="517" y="529"/>
                    </a:lnTo>
                    <a:lnTo>
                      <a:pt x="541" y="570"/>
                    </a:lnTo>
                    <a:lnTo>
                      <a:pt x="552" y="583"/>
                    </a:lnTo>
                    <a:lnTo>
                      <a:pt x="524" y="691"/>
                    </a:lnTo>
                    <a:lnTo>
                      <a:pt x="574" y="861"/>
                    </a:lnTo>
                    <a:lnTo>
                      <a:pt x="585" y="899"/>
                    </a:lnTo>
                    <a:lnTo>
                      <a:pt x="616" y="906"/>
                    </a:lnTo>
                    <a:lnTo>
                      <a:pt x="680" y="924"/>
                    </a:lnTo>
                    <a:lnTo>
                      <a:pt x="692" y="933"/>
                    </a:lnTo>
                    <a:lnTo>
                      <a:pt x="716" y="933"/>
                    </a:lnTo>
                    <a:lnTo>
                      <a:pt x="749" y="930"/>
                    </a:lnTo>
                    <a:lnTo>
                      <a:pt x="782" y="933"/>
                    </a:lnTo>
                    <a:lnTo>
                      <a:pt x="806" y="963"/>
                    </a:lnTo>
                    <a:lnTo>
                      <a:pt x="851" y="972"/>
                    </a:lnTo>
                    <a:lnTo>
                      <a:pt x="881" y="1011"/>
                    </a:lnTo>
                    <a:lnTo>
                      <a:pt x="876" y="969"/>
                    </a:lnTo>
                    <a:lnTo>
                      <a:pt x="863" y="951"/>
                    </a:lnTo>
                    <a:lnTo>
                      <a:pt x="885" y="956"/>
                    </a:lnTo>
                    <a:lnTo>
                      <a:pt x="921" y="937"/>
                    </a:lnTo>
                    <a:lnTo>
                      <a:pt x="924" y="924"/>
                    </a:lnTo>
                    <a:lnTo>
                      <a:pt x="943" y="927"/>
                    </a:lnTo>
                    <a:lnTo>
                      <a:pt x="945" y="943"/>
                    </a:lnTo>
                    <a:lnTo>
                      <a:pt x="974" y="943"/>
                    </a:lnTo>
                    <a:lnTo>
                      <a:pt x="997" y="956"/>
                    </a:lnTo>
                    <a:lnTo>
                      <a:pt x="997" y="934"/>
                    </a:lnTo>
                    <a:lnTo>
                      <a:pt x="1013" y="934"/>
                    </a:lnTo>
                    <a:lnTo>
                      <a:pt x="1030" y="951"/>
                    </a:lnTo>
                    <a:lnTo>
                      <a:pt x="1072" y="951"/>
                    </a:lnTo>
                    <a:lnTo>
                      <a:pt x="1072" y="994"/>
                    </a:lnTo>
                    <a:lnTo>
                      <a:pt x="1090" y="1025"/>
                    </a:lnTo>
                    <a:lnTo>
                      <a:pt x="1111" y="1032"/>
                    </a:lnTo>
                    <a:lnTo>
                      <a:pt x="1114" y="1012"/>
                    </a:lnTo>
                    <a:lnTo>
                      <a:pt x="1114" y="951"/>
                    </a:lnTo>
                    <a:lnTo>
                      <a:pt x="1104" y="934"/>
                    </a:lnTo>
                    <a:lnTo>
                      <a:pt x="1158" y="858"/>
                    </a:lnTo>
                    <a:lnTo>
                      <a:pt x="1183" y="855"/>
                    </a:lnTo>
                    <a:lnTo>
                      <a:pt x="1192" y="826"/>
                    </a:lnTo>
                    <a:lnTo>
                      <a:pt x="1208" y="822"/>
                    </a:lnTo>
                    <a:lnTo>
                      <a:pt x="1192" y="804"/>
                    </a:lnTo>
                    <a:lnTo>
                      <a:pt x="1195" y="788"/>
                    </a:lnTo>
                    <a:lnTo>
                      <a:pt x="1223" y="774"/>
                    </a:lnTo>
                    <a:lnTo>
                      <a:pt x="1245" y="744"/>
                    </a:lnTo>
                    <a:lnTo>
                      <a:pt x="1280" y="737"/>
                    </a:lnTo>
                    <a:lnTo>
                      <a:pt x="1290" y="707"/>
                    </a:lnTo>
                    <a:lnTo>
                      <a:pt x="1280" y="700"/>
                    </a:lnTo>
                    <a:lnTo>
                      <a:pt x="1295" y="680"/>
                    </a:lnTo>
                    <a:lnTo>
                      <a:pt x="1337" y="671"/>
                    </a:lnTo>
                    <a:lnTo>
                      <a:pt x="1377" y="659"/>
                    </a:lnTo>
                    <a:lnTo>
                      <a:pt x="1383" y="684"/>
                    </a:lnTo>
                    <a:lnTo>
                      <a:pt x="1372" y="707"/>
                    </a:lnTo>
                    <a:lnTo>
                      <a:pt x="1362" y="727"/>
                    </a:lnTo>
                    <a:lnTo>
                      <a:pt x="1396" y="734"/>
                    </a:lnTo>
                    <a:lnTo>
                      <a:pt x="1406" y="716"/>
                    </a:lnTo>
                    <a:lnTo>
                      <a:pt x="1422" y="703"/>
                    </a:lnTo>
                    <a:lnTo>
                      <a:pt x="1455" y="691"/>
                    </a:lnTo>
                    <a:lnTo>
                      <a:pt x="1455" y="659"/>
                    </a:lnTo>
                    <a:lnTo>
                      <a:pt x="1434" y="650"/>
                    </a:lnTo>
                    <a:lnTo>
                      <a:pt x="1434" y="663"/>
                    </a:lnTo>
                    <a:lnTo>
                      <a:pt x="1419" y="671"/>
                    </a:lnTo>
                    <a:lnTo>
                      <a:pt x="1394" y="663"/>
                    </a:lnTo>
                    <a:lnTo>
                      <a:pt x="1406" y="631"/>
                    </a:lnTo>
                    <a:lnTo>
                      <a:pt x="1398" y="617"/>
                    </a:lnTo>
                    <a:lnTo>
                      <a:pt x="1377" y="617"/>
                    </a:lnTo>
                    <a:lnTo>
                      <a:pt x="1324" y="635"/>
                    </a:lnTo>
                    <a:lnTo>
                      <a:pt x="1377" y="606"/>
                    </a:lnTo>
                    <a:lnTo>
                      <a:pt x="1459" y="610"/>
                    </a:lnTo>
                    <a:lnTo>
                      <a:pt x="1491" y="596"/>
                    </a:lnTo>
                    <a:lnTo>
                      <a:pt x="1500" y="617"/>
                    </a:lnTo>
                    <a:lnTo>
                      <a:pt x="1464" y="635"/>
                    </a:lnTo>
                    <a:lnTo>
                      <a:pt x="1471" y="645"/>
                    </a:lnTo>
                    <a:lnTo>
                      <a:pt x="1500" y="663"/>
                    </a:lnTo>
                    <a:lnTo>
                      <a:pt x="1508" y="650"/>
                    </a:lnTo>
                    <a:lnTo>
                      <a:pt x="1519" y="677"/>
                    </a:lnTo>
                    <a:lnTo>
                      <a:pt x="1535" y="663"/>
                    </a:lnTo>
                    <a:lnTo>
                      <a:pt x="1560" y="663"/>
                    </a:lnTo>
                    <a:lnTo>
                      <a:pt x="1556" y="617"/>
                    </a:lnTo>
                    <a:lnTo>
                      <a:pt x="1531" y="610"/>
                    </a:lnTo>
                    <a:lnTo>
                      <a:pt x="1519" y="588"/>
                    </a:lnTo>
                    <a:lnTo>
                      <a:pt x="1535" y="580"/>
                    </a:lnTo>
                    <a:lnTo>
                      <a:pt x="1535" y="519"/>
                    </a:lnTo>
                    <a:lnTo>
                      <a:pt x="1500" y="493"/>
                    </a:lnTo>
                    <a:lnTo>
                      <a:pt x="1468" y="485"/>
                    </a:lnTo>
                    <a:lnTo>
                      <a:pt x="1464" y="438"/>
                    </a:lnTo>
                    <a:lnTo>
                      <a:pt x="1444" y="395"/>
                    </a:lnTo>
                    <a:lnTo>
                      <a:pt x="1434" y="356"/>
                    </a:lnTo>
                    <a:lnTo>
                      <a:pt x="1422" y="361"/>
                    </a:lnTo>
                    <a:lnTo>
                      <a:pt x="1403" y="349"/>
                    </a:lnTo>
                    <a:lnTo>
                      <a:pt x="1396" y="386"/>
                    </a:lnTo>
                    <a:lnTo>
                      <a:pt x="1377" y="400"/>
                    </a:lnTo>
                    <a:lnTo>
                      <a:pt x="1359" y="370"/>
                    </a:lnTo>
                    <a:lnTo>
                      <a:pt x="1377" y="352"/>
                    </a:lnTo>
                    <a:lnTo>
                      <a:pt x="1359" y="328"/>
                    </a:lnTo>
                    <a:lnTo>
                      <a:pt x="1333" y="326"/>
                    </a:lnTo>
                    <a:lnTo>
                      <a:pt x="1319" y="305"/>
                    </a:lnTo>
                    <a:lnTo>
                      <a:pt x="1251" y="305"/>
                    </a:lnTo>
                    <a:lnTo>
                      <a:pt x="1258" y="333"/>
                    </a:lnTo>
                    <a:lnTo>
                      <a:pt x="1240" y="349"/>
                    </a:lnTo>
                    <a:lnTo>
                      <a:pt x="1251" y="365"/>
                    </a:lnTo>
                    <a:lnTo>
                      <a:pt x="1235" y="393"/>
                    </a:lnTo>
                    <a:lnTo>
                      <a:pt x="1251" y="413"/>
                    </a:lnTo>
                    <a:lnTo>
                      <a:pt x="1237" y="450"/>
                    </a:lnTo>
                    <a:lnTo>
                      <a:pt x="1204" y="473"/>
                    </a:lnTo>
                    <a:lnTo>
                      <a:pt x="1207" y="490"/>
                    </a:lnTo>
                    <a:lnTo>
                      <a:pt x="1207" y="534"/>
                    </a:lnTo>
                    <a:lnTo>
                      <a:pt x="1183" y="534"/>
                    </a:lnTo>
                    <a:lnTo>
                      <a:pt x="1192" y="507"/>
                    </a:lnTo>
                    <a:lnTo>
                      <a:pt x="1180" y="490"/>
                    </a:lnTo>
                    <a:lnTo>
                      <a:pt x="1180" y="462"/>
                    </a:lnTo>
                    <a:lnTo>
                      <a:pt x="1158" y="460"/>
                    </a:lnTo>
                    <a:lnTo>
                      <a:pt x="1123" y="441"/>
                    </a:lnTo>
                    <a:lnTo>
                      <a:pt x="1090" y="418"/>
                    </a:lnTo>
                    <a:lnTo>
                      <a:pt x="1072" y="423"/>
                    </a:lnTo>
                    <a:lnTo>
                      <a:pt x="1057" y="378"/>
                    </a:lnTo>
                    <a:lnTo>
                      <a:pt x="1034" y="365"/>
                    </a:lnTo>
                    <a:lnTo>
                      <a:pt x="1047" y="321"/>
                    </a:lnTo>
                    <a:lnTo>
                      <a:pt x="1072" y="308"/>
                    </a:lnTo>
                    <a:lnTo>
                      <a:pt x="1095" y="305"/>
                    </a:lnTo>
                    <a:lnTo>
                      <a:pt x="1098" y="272"/>
                    </a:lnTo>
                    <a:lnTo>
                      <a:pt x="1138" y="264"/>
                    </a:lnTo>
                    <a:lnTo>
                      <a:pt x="1166" y="228"/>
                    </a:lnTo>
                    <a:lnTo>
                      <a:pt x="1180" y="197"/>
                    </a:lnTo>
                    <a:lnTo>
                      <a:pt x="1213" y="191"/>
                    </a:lnTo>
                    <a:lnTo>
                      <a:pt x="1240" y="175"/>
                    </a:lnTo>
                    <a:lnTo>
                      <a:pt x="1217" y="165"/>
                    </a:lnTo>
                    <a:lnTo>
                      <a:pt x="1208" y="133"/>
                    </a:lnTo>
                    <a:lnTo>
                      <a:pt x="1189" y="133"/>
                    </a:lnTo>
                    <a:lnTo>
                      <a:pt x="1172" y="165"/>
                    </a:lnTo>
                    <a:lnTo>
                      <a:pt x="1158" y="138"/>
                    </a:lnTo>
                    <a:lnTo>
                      <a:pt x="1126" y="126"/>
                    </a:lnTo>
                    <a:lnTo>
                      <a:pt x="1132" y="101"/>
                    </a:lnTo>
                    <a:lnTo>
                      <a:pt x="1114" y="87"/>
                    </a:lnTo>
                    <a:lnTo>
                      <a:pt x="1136" y="32"/>
                    </a:lnTo>
                    <a:lnTo>
                      <a:pt x="1169" y="23"/>
                    </a:lnTo>
                    <a:lnTo>
                      <a:pt x="1169" y="23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3144960" y="5016600"/>
              <a:ext cx="31680" cy="82440"/>
            </a:xfrm>
            <a:custGeom>
              <a:avLst/>
              <a:gdLst/>
              <a:ahLst/>
              <a:rect l="l" t="t" r="r" b="b"/>
              <a:pathLst>
                <a:path w="95" h="253">
                  <a:moveTo>
                    <a:pt x="0" y="0"/>
                  </a:moveTo>
                  <a:lnTo>
                    <a:pt x="16" y="95"/>
                  </a:lnTo>
                  <a:lnTo>
                    <a:pt x="23" y="253"/>
                  </a:lnTo>
                  <a:lnTo>
                    <a:pt x="67" y="213"/>
                  </a:lnTo>
                  <a:lnTo>
                    <a:pt x="36" y="143"/>
                  </a:lnTo>
                  <a:lnTo>
                    <a:pt x="54" y="118"/>
                  </a:lnTo>
                  <a:lnTo>
                    <a:pt x="78" y="152"/>
                  </a:lnTo>
                  <a:lnTo>
                    <a:pt x="95" y="135"/>
                  </a:lnTo>
                  <a:lnTo>
                    <a:pt x="59" y="105"/>
                  </a:lnTo>
                  <a:lnTo>
                    <a:pt x="42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06800" y="5106960"/>
              <a:ext cx="60120" cy="5580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128" y="0"/>
                  </a:moveTo>
                  <a:lnTo>
                    <a:pt x="134" y="62"/>
                  </a:lnTo>
                  <a:lnTo>
                    <a:pt x="92" y="116"/>
                  </a:lnTo>
                  <a:lnTo>
                    <a:pt x="20" y="133"/>
                  </a:lnTo>
                  <a:lnTo>
                    <a:pt x="0" y="156"/>
                  </a:lnTo>
                  <a:lnTo>
                    <a:pt x="92" y="148"/>
                  </a:lnTo>
                  <a:lnTo>
                    <a:pt x="111" y="171"/>
                  </a:lnTo>
                  <a:lnTo>
                    <a:pt x="185" y="108"/>
                  </a:lnTo>
                  <a:lnTo>
                    <a:pt x="172" y="62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08240" y="5162760"/>
              <a:ext cx="17640" cy="2376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0" y="9"/>
                  </a:moveTo>
                  <a:lnTo>
                    <a:pt x="53" y="0"/>
                  </a:lnTo>
                  <a:lnTo>
                    <a:pt x="53" y="70"/>
                  </a:lnTo>
                  <a:lnTo>
                    <a:pt x="17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22400" y="4864320"/>
              <a:ext cx="474840" cy="150840"/>
            </a:xfrm>
            <a:custGeom>
              <a:avLst/>
              <a:gdLst/>
              <a:ahLst/>
              <a:rect l="l" t="t" r="r" b="b"/>
              <a:pathLst>
                <a:path w="1132" h="358">
                  <a:moveTo>
                    <a:pt x="0" y="358"/>
                  </a:moveTo>
                  <a:cubicBezTo>
                    <a:pt x="17" y="331"/>
                    <a:pt x="59" y="239"/>
                    <a:pt x="102" y="193"/>
                  </a:cubicBezTo>
                  <a:cubicBezTo>
                    <a:pt x="145" y="147"/>
                    <a:pt x="192" y="113"/>
                    <a:pt x="257" y="83"/>
                  </a:cubicBezTo>
                  <a:cubicBezTo>
                    <a:pt x="322" y="53"/>
                    <a:pt x="425" y="22"/>
                    <a:pt x="494" y="11"/>
                  </a:cubicBezTo>
                  <a:cubicBezTo>
                    <a:pt x="563" y="0"/>
                    <a:pt x="613" y="7"/>
                    <a:pt x="671" y="16"/>
                  </a:cubicBezTo>
                  <a:cubicBezTo>
                    <a:pt x="729" y="24"/>
                    <a:pt x="790" y="38"/>
                    <a:pt x="845" y="62"/>
                  </a:cubicBezTo>
                  <a:cubicBezTo>
                    <a:pt x="900" y="86"/>
                    <a:pt x="964" y="132"/>
                    <a:pt x="1003" y="162"/>
                  </a:cubicBezTo>
                  <a:cubicBezTo>
                    <a:pt x="1042" y="191"/>
                    <a:pt x="1054" y="208"/>
                    <a:pt x="1075" y="240"/>
                  </a:cubicBezTo>
                  <a:cubicBezTo>
                    <a:pt x="1096" y="272"/>
                    <a:pt x="1120" y="331"/>
                    <a:pt x="1132" y="3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35000" y="4930920"/>
              <a:ext cx="411480" cy="87120"/>
            </a:xfrm>
            <a:custGeom>
              <a:avLst/>
              <a:gdLst/>
              <a:ahLst/>
              <a:rect l="l" t="t" r="r" b="b"/>
              <a:pathLst>
                <a:path w="980" h="207">
                  <a:moveTo>
                    <a:pt x="0" y="207"/>
                  </a:moveTo>
                  <a:cubicBezTo>
                    <a:pt x="24" y="191"/>
                    <a:pt x="92" y="139"/>
                    <a:pt x="144" y="111"/>
                  </a:cubicBezTo>
                  <a:cubicBezTo>
                    <a:pt x="196" y="83"/>
                    <a:pt x="254" y="59"/>
                    <a:pt x="313" y="41"/>
                  </a:cubicBezTo>
                  <a:cubicBezTo>
                    <a:pt x="372" y="23"/>
                    <a:pt x="435" y="6"/>
                    <a:pt x="497" y="3"/>
                  </a:cubicBezTo>
                  <a:cubicBezTo>
                    <a:pt x="559" y="0"/>
                    <a:pt x="628" y="13"/>
                    <a:pt x="685" y="25"/>
                  </a:cubicBezTo>
                  <a:cubicBezTo>
                    <a:pt x="742" y="37"/>
                    <a:pt x="799" y="61"/>
                    <a:pt x="840" y="76"/>
                  </a:cubicBezTo>
                  <a:cubicBezTo>
                    <a:pt x="880" y="92"/>
                    <a:pt x="907" y="108"/>
                    <a:pt x="930" y="120"/>
                  </a:cubicBezTo>
                  <a:cubicBezTo>
                    <a:pt x="953" y="132"/>
                    <a:pt x="970" y="144"/>
                    <a:pt x="980" y="15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46480" y="4886280"/>
              <a:ext cx="796680" cy="249480"/>
            </a:xfrm>
            <a:custGeom>
              <a:avLst/>
              <a:gdLst/>
              <a:ahLst/>
              <a:rect l="l" t="t" r="r" b="b"/>
              <a:pathLst>
                <a:path w="2060" h="639">
                  <a:moveTo>
                    <a:pt x="0" y="269"/>
                  </a:moveTo>
                  <a:cubicBezTo>
                    <a:pt x="24" y="248"/>
                    <a:pt x="67" y="180"/>
                    <a:pt x="143" y="140"/>
                  </a:cubicBezTo>
                  <a:cubicBezTo>
                    <a:pt x="219" y="100"/>
                    <a:pt x="348" y="53"/>
                    <a:pt x="454" y="31"/>
                  </a:cubicBezTo>
                  <a:cubicBezTo>
                    <a:pt x="560" y="9"/>
                    <a:pt x="659" y="0"/>
                    <a:pt x="782" y="8"/>
                  </a:cubicBezTo>
                  <a:cubicBezTo>
                    <a:pt x="905" y="16"/>
                    <a:pt x="1067" y="44"/>
                    <a:pt x="1195" y="78"/>
                  </a:cubicBezTo>
                  <a:cubicBezTo>
                    <a:pt x="1323" y="112"/>
                    <a:pt x="1448" y="159"/>
                    <a:pt x="1553" y="210"/>
                  </a:cubicBezTo>
                  <a:cubicBezTo>
                    <a:pt x="1658" y="261"/>
                    <a:pt x="1742" y="310"/>
                    <a:pt x="1826" y="382"/>
                  </a:cubicBezTo>
                  <a:cubicBezTo>
                    <a:pt x="1910" y="454"/>
                    <a:pt x="2011" y="586"/>
                    <a:pt x="2060" y="639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2040" y="4996080"/>
              <a:ext cx="544320" cy="180720"/>
            </a:xfrm>
            <a:custGeom>
              <a:avLst/>
              <a:gdLst/>
              <a:ahLst/>
              <a:rect l="l" t="t" r="r" b="b"/>
              <a:pathLst>
                <a:path w="1295" h="432">
                  <a:moveTo>
                    <a:pt x="1295" y="0"/>
                  </a:moveTo>
                  <a:cubicBezTo>
                    <a:pt x="1287" y="19"/>
                    <a:pt x="1270" y="78"/>
                    <a:pt x="1245" y="115"/>
                  </a:cubicBezTo>
                  <a:cubicBezTo>
                    <a:pt x="1220" y="152"/>
                    <a:pt x="1183" y="192"/>
                    <a:pt x="1146" y="223"/>
                  </a:cubicBezTo>
                  <a:cubicBezTo>
                    <a:pt x="1109" y="254"/>
                    <a:pt x="1069" y="279"/>
                    <a:pt x="1022" y="302"/>
                  </a:cubicBezTo>
                  <a:cubicBezTo>
                    <a:pt x="975" y="325"/>
                    <a:pt x="928" y="341"/>
                    <a:pt x="865" y="360"/>
                  </a:cubicBezTo>
                  <a:cubicBezTo>
                    <a:pt x="801" y="378"/>
                    <a:pt x="729" y="402"/>
                    <a:pt x="642" y="410"/>
                  </a:cubicBezTo>
                  <a:cubicBezTo>
                    <a:pt x="554" y="419"/>
                    <a:pt x="433" y="432"/>
                    <a:pt x="341" y="410"/>
                  </a:cubicBezTo>
                  <a:cubicBezTo>
                    <a:pt x="249" y="388"/>
                    <a:pt x="147" y="335"/>
                    <a:pt x="90" y="280"/>
                  </a:cubicBezTo>
                  <a:cubicBezTo>
                    <a:pt x="33" y="225"/>
                    <a:pt x="19" y="123"/>
                    <a:pt x="0" y="82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17720" y="5032440"/>
              <a:ext cx="517680" cy="165240"/>
            </a:xfrm>
            <a:custGeom>
              <a:avLst/>
              <a:gdLst/>
              <a:ahLst/>
              <a:rect l="l" t="t" r="r" b="b"/>
              <a:pathLst>
                <a:path w="1228" h="391">
                  <a:moveTo>
                    <a:pt x="1228" y="0"/>
                  </a:moveTo>
                  <a:cubicBezTo>
                    <a:pt x="1212" y="19"/>
                    <a:pt x="1162" y="81"/>
                    <a:pt x="1129" y="117"/>
                  </a:cubicBezTo>
                  <a:cubicBezTo>
                    <a:pt x="1097" y="153"/>
                    <a:pt x="1076" y="185"/>
                    <a:pt x="1034" y="215"/>
                  </a:cubicBezTo>
                  <a:cubicBezTo>
                    <a:pt x="991" y="246"/>
                    <a:pt x="925" y="278"/>
                    <a:pt x="876" y="301"/>
                  </a:cubicBezTo>
                  <a:cubicBezTo>
                    <a:pt x="827" y="324"/>
                    <a:pt x="811" y="339"/>
                    <a:pt x="740" y="351"/>
                  </a:cubicBezTo>
                  <a:cubicBezTo>
                    <a:pt x="669" y="364"/>
                    <a:pt x="548" y="391"/>
                    <a:pt x="453" y="380"/>
                  </a:cubicBezTo>
                  <a:cubicBezTo>
                    <a:pt x="357" y="369"/>
                    <a:pt x="236" y="324"/>
                    <a:pt x="165" y="287"/>
                  </a:cubicBezTo>
                  <a:cubicBezTo>
                    <a:pt x="94" y="250"/>
                    <a:pt x="52" y="207"/>
                    <a:pt x="26" y="159"/>
                  </a:cubicBezTo>
                  <a:cubicBezTo>
                    <a:pt x="0" y="111"/>
                    <a:pt x="14" y="33"/>
                    <a:pt x="1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2040" y="4999320"/>
              <a:ext cx="544320" cy="180720"/>
            </a:xfrm>
            <a:custGeom>
              <a:avLst/>
              <a:gdLst/>
              <a:ahLst/>
              <a:rect l="l" t="t" r="r" b="b"/>
              <a:pathLst>
                <a:path w="1295" h="432">
                  <a:moveTo>
                    <a:pt x="1295" y="0"/>
                  </a:moveTo>
                  <a:cubicBezTo>
                    <a:pt x="1287" y="19"/>
                    <a:pt x="1270" y="78"/>
                    <a:pt x="1245" y="115"/>
                  </a:cubicBezTo>
                  <a:cubicBezTo>
                    <a:pt x="1220" y="152"/>
                    <a:pt x="1183" y="192"/>
                    <a:pt x="1146" y="223"/>
                  </a:cubicBezTo>
                  <a:cubicBezTo>
                    <a:pt x="1109" y="254"/>
                    <a:pt x="1069" y="279"/>
                    <a:pt x="1022" y="302"/>
                  </a:cubicBezTo>
                  <a:cubicBezTo>
                    <a:pt x="975" y="325"/>
                    <a:pt x="928" y="341"/>
                    <a:pt x="865" y="360"/>
                  </a:cubicBezTo>
                  <a:cubicBezTo>
                    <a:pt x="801" y="378"/>
                    <a:pt x="729" y="402"/>
                    <a:pt x="642" y="410"/>
                  </a:cubicBezTo>
                  <a:cubicBezTo>
                    <a:pt x="554" y="419"/>
                    <a:pt x="433" y="432"/>
                    <a:pt x="341" y="410"/>
                  </a:cubicBezTo>
                  <a:cubicBezTo>
                    <a:pt x="249" y="388"/>
                    <a:pt x="147" y="335"/>
                    <a:pt x="90" y="280"/>
                  </a:cubicBezTo>
                  <a:cubicBezTo>
                    <a:pt x="33" y="225"/>
                    <a:pt x="19" y="123"/>
                    <a:pt x="0" y="82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22400" y="4867560"/>
              <a:ext cx="474840" cy="150480"/>
            </a:xfrm>
            <a:custGeom>
              <a:avLst/>
              <a:gdLst/>
              <a:ahLst/>
              <a:rect l="l" t="t" r="r" b="b"/>
              <a:pathLst>
                <a:path w="1132" h="358">
                  <a:moveTo>
                    <a:pt x="0" y="358"/>
                  </a:moveTo>
                  <a:cubicBezTo>
                    <a:pt x="17" y="331"/>
                    <a:pt x="59" y="239"/>
                    <a:pt x="102" y="193"/>
                  </a:cubicBezTo>
                  <a:cubicBezTo>
                    <a:pt x="145" y="147"/>
                    <a:pt x="192" y="113"/>
                    <a:pt x="257" y="83"/>
                  </a:cubicBezTo>
                  <a:cubicBezTo>
                    <a:pt x="322" y="53"/>
                    <a:pt x="425" y="22"/>
                    <a:pt x="494" y="11"/>
                  </a:cubicBezTo>
                  <a:cubicBezTo>
                    <a:pt x="563" y="0"/>
                    <a:pt x="613" y="7"/>
                    <a:pt x="671" y="16"/>
                  </a:cubicBezTo>
                  <a:cubicBezTo>
                    <a:pt x="729" y="24"/>
                    <a:pt x="790" y="38"/>
                    <a:pt x="845" y="62"/>
                  </a:cubicBezTo>
                  <a:cubicBezTo>
                    <a:pt x="900" y="86"/>
                    <a:pt x="964" y="132"/>
                    <a:pt x="1003" y="162"/>
                  </a:cubicBezTo>
                  <a:cubicBezTo>
                    <a:pt x="1042" y="191"/>
                    <a:pt x="1054" y="208"/>
                    <a:pt x="1075" y="240"/>
                  </a:cubicBezTo>
                  <a:cubicBezTo>
                    <a:pt x="1096" y="272"/>
                    <a:pt x="1120" y="331"/>
                    <a:pt x="1132" y="355"/>
                  </a:cubicBez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33560" y="4934160"/>
              <a:ext cx="412920" cy="87120"/>
            </a:xfrm>
            <a:custGeom>
              <a:avLst/>
              <a:gdLst/>
              <a:ahLst/>
              <a:rect l="l" t="t" r="r" b="b"/>
              <a:pathLst>
                <a:path w="980" h="207">
                  <a:moveTo>
                    <a:pt x="0" y="207"/>
                  </a:moveTo>
                  <a:cubicBezTo>
                    <a:pt x="24" y="191"/>
                    <a:pt x="92" y="139"/>
                    <a:pt x="144" y="111"/>
                  </a:cubicBezTo>
                  <a:cubicBezTo>
                    <a:pt x="196" y="83"/>
                    <a:pt x="254" y="59"/>
                    <a:pt x="313" y="41"/>
                  </a:cubicBezTo>
                  <a:cubicBezTo>
                    <a:pt x="372" y="23"/>
                    <a:pt x="435" y="6"/>
                    <a:pt x="497" y="3"/>
                  </a:cubicBezTo>
                  <a:cubicBezTo>
                    <a:pt x="559" y="0"/>
                    <a:pt x="628" y="13"/>
                    <a:pt x="685" y="25"/>
                  </a:cubicBezTo>
                  <a:cubicBezTo>
                    <a:pt x="742" y="37"/>
                    <a:pt x="799" y="61"/>
                    <a:pt x="840" y="76"/>
                  </a:cubicBezTo>
                  <a:cubicBezTo>
                    <a:pt x="880" y="92"/>
                    <a:pt x="907" y="108"/>
                    <a:pt x="930" y="120"/>
                  </a:cubicBezTo>
                  <a:cubicBezTo>
                    <a:pt x="953" y="132"/>
                    <a:pt x="970" y="144"/>
                    <a:pt x="980" y="150"/>
                  </a:cubicBez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44680" y="4891320"/>
              <a:ext cx="798480" cy="247680"/>
            </a:xfrm>
            <a:custGeom>
              <a:avLst/>
              <a:gdLst/>
              <a:ahLst/>
              <a:rect l="l" t="t" r="r" b="b"/>
              <a:pathLst>
                <a:path w="2060" h="639">
                  <a:moveTo>
                    <a:pt x="0" y="269"/>
                  </a:moveTo>
                  <a:cubicBezTo>
                    <a:pt x="24" y="248"/>
                    <a:pt x="67" y="180"/>
                    <a:pt x="143" y="140"/>
                  </a:cubicBezTo>
                  <a:cubicBezTo>
                    <a:pt x="219" y="100"/>
                    <a:pt x="348" y="53"/>
                    <a:pt x="454" y="31"/>
                  </a:cubicBezTo>
                  <a:cubicBezTo>
                    <a:pt x="560" y="9"/>
                    <a:pt x="659" y="0"/>
                    <a:pt x="782" y="8"/>
                  </a:cubicBezTo>
                  <a:cubicBezTo>
                    <a:pt x="905" y="16"/>
                    <a:pt x="1067" y="44"/>
                    <a:pt x="1195" y="78"/>
                  </a:cubicBezTo>
                  <a:cubicBezTo>
                    <a:pt x="1323" y="112"/>
                    <a:pt x="1448" y="159"/>
                    <a:pt x="1553" y="210"/>
                  </a:cubicBezTo>
                  <a:cubicBezTo>
                    <a:pt x="1658" y="261"/>
                    <a:pt x="1742" y="310"/>
                    <a:pt x="1826" y="382"/>
                  </a:cubicBezTo>
                  <a:cubicBezTo>
                    <a:pt x="1910" y="454"/>
                    <a:pt x="2011" y="586"/>
                    <a:pt x="2060" y="639"/>
                  </a:cubicBez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17720" y="5029200"/>
              <a:ext cx="515880" cy="171720"/>
            </a:xfrm>
            <a:custGeom>
              <a:avLst/>
              <a:gdLst/>
              <a:ahLst/>
              <a:rect l="l" t="t" r="r" b="b"/>
              <a:pathLst>
                <a:path w="1228" h="405">
                  <a:moveTo>
                    <a:pt x="1228" y="14"/>
                  </a:moveTo>
                  <a:cubicBezTo>
                    <a:pt x="1212" y="33"/>
                    <a:pt x="1162" y="95"/>
                    <a:pt x="1129" y="131"/>
                  </a:cubicBezTo>
                  <a:cubicBezTo>
                    <a:pt x="1097" y="167"/>
                    <a:pt x="1076" y="199"/>
                    <a:pt x="1034" y="229"/>
                  </a:cubicBezTo>
                  <a:cubicBezTo>
                    <a:pt x="991" y="260"/>
                    <a:pt x="925" y="292"/>
                    <a:pt x="876" y="315"/>
                  </a:cubicBezTo>
                  <a:cubicBezTo>
                    <a:pt x="827" y="338"/>
                    <a:pt x="811" y="353"/>
                    <a:pt x="740" y="365"/>
                  </a:cubicBezTo>
                  <a:cubicBezTo>
                    <a:pt x="669" y="378"/>
                    <a:pt x="548" y="405"/>
                    <a:pt x="453" y="394"/>
                  </a:cubicBezTo>
                  <a:cubicBezTo>
                    <a:pt x="357" y="383"/>
                    <a:pt x="236" y="342"/>
                    <a:pt x="165" y="301"/>
                  </a:cubicBezTo>
                  <a:cubicBezTo>
                    <a:pt x="94" y="260"/>
                    <a:pt x="54" y="200"/>
                    <a:pt x="27" y="150"/>
                  </a:cubicBezTo>
                  <a:cubicBezTo>
                    <a:pt x="0" y="100"/>
                    <a:pt x="8" y="31"/>
                    <a:pt x="3" y="0"/>
                  </a:cubicBez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19400" y="4991040"/>
              <a:ext cx="245880" cy="635040"/>
            </a:xfrm>
            <a:custGeom>
              <a:avLst/>
              <a:gdLst/>
              <a:ahLst/>
              <a:rect l="l" t="t" r="r" b="b"/>
              <a:pathLst>
                <a:path w="588" h="1510">
                  <a:moveTo>
                    <a:pt x="292" y="0"/>
                  </a:moveTo>
                  <a:cubicBezTo>
                    <a:pt x="257" y="41"/>
                    <a:pt x="130" y="145"/>
                    <a:pt x="82" y="244"/>
                  </a:cubicBezTo>
                  <a:cubicBezTo>
                    <a:pt x="34" y="343"/>
                    <a:pt x="0" y="471"/>
                    <a:pt x="4" y="593"/>
                  </a:cubicBezTo>
                  <a:cubicBezTo>
                    <a:pt x="8" y="715"/>
                    <a:pt x="54" y="865"/>
                    <a:pt x="108" y="977"/>
                  </a:cubicBezTo>
                  <a:cubicBezTo>
                    <a:pt x="162" y="1089"/>
                    <a:pt x="246" y="1176"/>
                    <a:pt x="326" y="1265"/>
                  </a:cubicBezTo>
                  <a:cubicBezTo>
                    <a:pt x="406" y="1354"/>
                    <a:pt x="533" y="1459"/>
                    <a:pt x="588" y="151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16160" y="4991040"/>
              <a:ext cx="247680" cy="636840"/>
            </a:xfrm>
            <a:custGeom>
              <a:avLst/>
              <a:gdLst/>
              <a:ahLst/>
              <a:rect l="l" t="t" r="r" b="b"/>
              <a:pathLst>
                <a:path w="588" h="1510">
                  <a:moveTo>
                    <a:pt x="292" y="0"/>
                  </a:moveTo>
                  <a:cubicBezTo>
                    <a:pt x="257" y="41"/>
                    <a:pt x="130" y="145"/>
                    <a:pt x="82" y="244"/>
                  </a:cubicBezTo>
                  <a:cubicBezTo>
                    <a:pt x="34" y="343"/>
                    <a:pt x="0" y="471"/>
                    <a:pt x="4" y="593"/>
                  </a:cubicBezTo>
                  <a:cubicBezTo>
                    <a:pt x="8" y="715"/>
                    <a:pt x="54" y="865"/>
                    <a:pt x="108" y="977"/>
                  </a:cubicBezTo>
                  <a:cubicBezTo>
                    <a:pt x="162" y="1089"/>
                    <a:pt x="246" y="1176"/>
                    <a:pt x="326" y="1265"/>
                  </a:cubicBezTo>
                  <a:cubicBezTo>
                    <a:pt x="406" y="1354"/>
                    <a:pt x="533" y="1459"/>
                    <a:pt x="588" y="1510"/>
                  </a:cubicBezTo>
                </a:path>
              </a:pathLst>
            </a:custGeom>
            <a:noFill/>
            <a:ln w="648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55920" y="5594400"/>
              <a:ext cx="66600" cy="44640"/>
            </a:xfrm>
            <a:custGeom>
              <a:avLst/>
              <a:gdLst/>
              <a:ahLst/>
              <a:rect l="l" t="t" r="r" b="b"/>
              <a:pathLst>
                <a:path w="159" h="106">
                  <a:moveTo>
                    <a:pt x="6" y="42"/>
                  </a:moveTo>
                  <a:cubicBezTo>
                    <a:pt x="2" y="64"/>
                    <a:pt x="4" y="56"/>
                    <a:pt x="0" y="68"/>
                  </a:cubicBezTo>
                  <a:cubicBezTo>
                    <a:pt x="1" y="75"/>
                    <a:pt x="0" y="83"/>
                    <a:pt x="2" y="90"/>
                  </a:cubicBezTo>
                  <a:cubicBezTo>
                    <a:pt x="5" y="98"/>
                    <a:pt x="24" y="104"/>
                    <a:pt x="24" y="104"/>
                  </a:cubicBezTo>
                  <a:cubicBezTo>
                    <a:pt x="48" y="103"/>
                    <a:pt x="70" y="99"/>
                    <a:pt x="92" y="106"/>
                  </a:cubicBezTo>
                  <a:cubicBezTo>
                    <a:pt x="108" y="103"/>
                    <a:pt x="100" y="105"/>
                    <a:pt x="116" y="100"/>
                  </a:cubicBezTo>
                  <a:cubicBezTo>
                    <a:pt x="120" y="99"/>
                    <a:pt x="128" y="96"/>
                    <a:pt x="128" y="96"/>
                  </a:cubicBezTo>
                  <a:cubicBezTo>
                    <a:pt x="133" y="88"/>
                    <a:pt x="142" y="75"/>
                    <a:pt x="150" y="70"/>
                  </a:cubicBezTo>
                  <a:cubicBezTo>
                    <a:pt x="159" y="56"/>
                    <a:pt x="132" y="40"/>
                    <a:pt x="150" y="34"/>
                  </a:cubicBezTo>
                  <a:cubicBezTo>
                    <a:pt x="155" y="25"/>
                    <a:pt x="153" y="22"/>
                    <a:pt x="154" y="16"/>
                  </a:cubicBezTo>
                  <a:cubicBezTo>
                    <a:pt x="155" y="10"/>
                    <a:pt x="158" y="1"/>
                    <a:pt x="154" y="0"/>
                  </a:cubicBezTo>
                  <a:cubicBezTo>
                    <a:pt x="140" y="2"/>
                    <a:pt x="141" y="4"/>
                    <a:pt x="130" y="12"/>
                  </a:cubicBezTo>
                  <a:cubicBezTo>
                    <a:pt x="125" y="19"/>
                    <a:pt x="125" y="27"/>
                    <a:pt x="120" y="34"/>
                  </a:cubicBezTo>
                  <a:cubicBezTo>
                    <a:pt x="110" y="31"/>
                    <a:pt x="105" y="37"/>
                    <a:pt x="96" y="40"/>
                  </a:cubicBezTo>
                  <a:cubicBezTo>
                    <a:pt x="87" y="38"/>
                    <a:pt x="53" y="56"/>
                    <a:pt x="48" y="48"/>
                  </a:cubicBezTo>
                  <a:cubicBezTo>
                    <a:pt x="33" y="48"/>
                    <a:pt x="19" y="36"/>
                    <a:pt x="6" y="42"/>
                  </a:cubicBezTo>
                  <a:close/>
                </a:path>
              </a:pathLst>
            </a:custGeom>
            <a:solidFill>
              <a:srgbClr val="990099"/>
            </a:solidFill>
            <a:ln w="93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95680" y="5253120"/>
              <a:ext cx="101520" cy="20520"/>
            </a:xfrm>
            <a:custGeom>
              <a:avLst/>
              <a:gdLst/>
              <a:ahLst/>
              <a:rect l="l" t="t" r="r" b="b"/>
              <a:pathLst>
                <a:path w="244" h="51">
                  <a:moveTo>
                    <a:pt x="0" y="35"/>
                  </a:moveTo>
                  <a:cubicBezTo>
                    <a:pt x="19" y="37"/>
                    <a:pt x="88" y="47"/>
                    <a:pt x="115" y="49"/>
                  </a:cubicBezTo>
                  <a:cubicBezTo>
                    <a:pt x="142" y="51"/>
                    <a:pt x="148" y="51"/>
                    <a:pt x="163" y="49"/>
                  </a:cubicBezTo>
                  <a:cubicBezTo>
                    <a:pt x="178" y="47"/>
                    <a:pt x="195" y="44"/>
                    <a:pt x="208" y="36"/>
                  </a:cubicBezTo>
                  <a:cubicBezTo>
                    <a:pt x="221" y="28"/>
                    <a:pt x="237" y="7"/>
                    <a:pt x="244" y="0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51160" y="4805640"/>
              <a:ext cx="677880" cy="307800"/>
            </a:xfrm>
            <a:custGeom>
              <a:avLst/>
              <a:gdLst/>
              <a:ahLst/>
              <a:rect l="l" t="t" r="r" b="b"/>
              <a:pathLst>
                <a:path w="1614" h="732">
                  <a:moveTo>
                    <a:pt x="0" y="400"/>
                  </a:moveTo>
                  <a:cubicBezTo>
                    <a:pt x="39" y="364"/>
                    <a:pt x="129" y="244"/>
                    <a:pt x="235" y="182"/>
                  </a:cubicBezTo>
                  <a:cubicBezTo>
                    <a:pt x="341" y="120"/>
                    <a:pt x="497" y="50"/>
                    <a:pt x="637" y="25"/>
                  </a:cubicBezTo>
                  <a:cubicBezTo>
                    <a:pt x="777" y="0"/>
                    <a:pt x="947" y="8"/>
                    <a:pt x="1073" y="34"/>
                  </a:cubicBezTo>
                  <a:cubicBezTo>
                    <a:pt x="1199" y="60"/>
                    <a:pt x="1310" y="112"/>
                    <a:pt x="1396" y="182"/>
                  </a:cubicBezTo>
                  <a:cubicBezTo>
                    <a:pt x="1482" y="252"/>
                    <a:pt x="1562" y="361"/>
                    <a:pt x="1588" y="453"/>
                  </a:cubicBezTo>
                  <a:cubicBezTo>
                    <a:pt x="1614" y="545"/>
                    <a:pt x="1560" y="674"/>
                    <a:pt x="1553" y="732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51160" y="4805640"/>
              <a:ext cx="677880" cy="307800"/>
            </a:xfrm>
            <a:custGeom>
              <a:avLst/>
              <a:gdLst/>
              <a:ahLst/>
              <a:rect l="l" t="t" r="r" b="b"/>
              <a:pathLst>
                <a:path w="1614" h="732">
                  <a:moveTo>
                    <a:pt x="0" y="400"/>
                  </a:moveTo>
                  <a:cubicBezTo>
                    <a:pt x="39" y="364"/>
                    <a:pt x="129" y="244"/>
                    <a:pt x="235" y="182"/>
                  </a:cubicBezTo>
                  <a:cubicBezTo>
                    <a:pt x="341" y="120"/>
                    <a:pt x="497" y="50"/>
                    <a:pt x="637" y="25"/>
                  </a:cubicBezTo>
                  <a:cubicBezTo>
                    <a:pt x="777" y="0"/>
                    <a:pt x="947" y="8"/>
                    <a:pt x="1073" y="34"/>
                  </a:cubicBezTo>
                  <a:cubicBezTo>
                    <a:pt x="1199" y="60"/>
                    <a:pt x="1310" y="112"/>
                    <a:pt x="1396" y="182"/>
                  </a:cubicBezTo>
                  <a:cubicBezTo>
                    <a:pt x="1482" y="252"/>
                    <a:pt x="1562" y="361"/>
                    <a:pt x="1588" y="453"/>
                  </a:cubicBezTo>
                  <a:cubicBezTo>
                    <a:pt x="1614" y="545"/>
                    <a:pt x="1560" y="674"/>
                    <a:pt x="1553" y="732"/>
                  </a:cubicBezTo>
                </a:path>
              </a:pathLst>
            </a:custGeom>
            <a:noFill/>
            <a:ln w="6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09960" y="5462640"/>
              <a:ext cx="196920" cy="174600"/>
            </a:xfrm>
            <a:custGeom>
              <a:avLst/>
              <a:gdLst/>
              <a:ahLst/>
              <a:rect l="l" t="t" r="r" b="b"/>
              <a:pathLst>
                <a:path w="703" h="596">
                  <a:moveTo>
                    <a:pt x="526" y="0"/>
                  </a:moveTo>
                  <a:lnTo>
                    <a:pt x="500" y="63"/>
                  </a:lnTo>
                  <a:lnTo>
                    <a:pt x="500" y="126"/>
                  </a:lnTo>
                  <a:lnTo>
                    <a:pt x="439" y="109"/>
                  </a:lnTo>
                  <a:lnTo>
                    <a:pt x="420" y="25"/>
                  </a:lnTo>
                  <a:lnTo>
                    <a:pt x="344" y="0"/>
                  </a:lnTo>
                  <a:lnTo>
                    <a:pt x="300" y="25"/>
                  </a:lnTo>
                  <a:lnTo>
                    <a:pt x="281" y="71"/>
                  </a:lnTo>
                  <a:lnTo>
                    <a:pt x="243" y="46"/>
                  </a:lnTo>
                  <a:lnTo>
                    <a:pt x="203" y="103"/>
                  </a:lnTo>
                  <a:lnTo>
                    <a:pt x="154" y="116"/>
                  </a:lnTo>
                  <a:lnTo>
                    <a:pt x="146" y="166"/>
                  </a:lnTo>
                  <a:lnTo>
                    <a:pt x="17" y="211"/>
                  </a:lnTo>
                  <a:lnTo>
                    <a:pt x="0" y="322"/>
                  </a:lnTo>
                  <a:lnTo>
                    <a:pt x="38" y="424"/>
                  </a:lnTo>
                  <a:lnTo>
                    <a:pt x="0" y="455"/>
                  </a:lnTo>
                  <a:lnTo>
                    <a:pt x="30" y="487"/>
                  </a:lnTo>
                  <a:lnTo>
                    <a:pt x="129" y="497"/>
                  </a:lnTo>
                  <a:lnTo>
                    <a:pt x="220" y="440"/>
                  </a:lnTo>
                  <a:lnTo>
                    <a:pt x="292" y="424"/>
                  </a:lnTo>
                  <a:lnTo>
                    <a:pt x="361" y="502"/>
                  </a:lnTo>
                  <a:lnTo>
                    <a:pt x="389" y="462"/>
                  </a:lnTo>
                  <a:lnTo>
                    <a:pt x="410" y="550"/>
                  </a:lnTo>
                  <a:lnTo>
                    <a:pt x="452" y="573"/>
                  </a:lnTo>
                  <a:lnTo>
                    <a:pt x="505" y="558"/>
                  </a:lnTo>
                  <a:lnTo>
                    <a:pt x="551" y="596"/>
                  </a:lnTo>
                  <a:lnTo>
                    <a:pt x="629" y="510"/>
                  </a:lnTo>
                  <a:lnTo>
                    <a:pt x="667" y="402"/>
                  </a:lnTo>
                  <a:lnTo>
                    <a:pt x="703" y="385"/>
                  </a:lnTo>
                  <a:lnTo>
                    <a:pt x="686" y="307"/>
                  </a:lnTo>
                  <a:lnTo>
                    <a:pt x="642" y="244"/>
                  </a:lnTo>
                  <a:lnTo>
                    <a:pt x="612" y="172"/>
                  </a:lnTo>
                  <a:lnTo>
                    <a:pt x="566" y="156"/>
                  </a:lnTo>
                  <a:lnTo>
                    <a:pt x="543" y="46"/>
                  </a:lnTo>
                  <a:lnTo>
                    <a:pt x="526" y="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65400" y="5184720"/>
              <a:ext cx="128520" cy="349560"/>
            </a:xfrm>
            <a:custGeom>
              <a:avLst/>
              <a:gdLst/>
              <a:ahLst/>
              <a:rect l="l" t="t" r="r" b="b"/>
              <a:pathLst>
                <a:path w="307" h="829">
                  <a:moveTo>
                    <a:pt x="0" y="0"/>
                  </a:moveTo>
                  <a:cubicBezTo>
                    <a:pt x="36" y="27"/>
                    <a:pt x="168" y="112"/>
                    <a:pt x="217" y="165"/>
                  </a:cubicBezTo>
                  <a:cubicBezTo>
                    <a:pt x="264" y="219"/>
                    <a:pt x="287" y="258"/>
                    <a:pt x="297" y="317"/>
                  </a:cubicBezTo>
                  <a:cubicBezTo>
                    <a:pt x="307" y="376"/>
                    <a:pt x="306" y="433"/>
                    <a:pt x="275" y="517"/>
                  </a:cubicBezTo>
                  <a:cubicBezTo>
                    <a:pt x="244" y="601"/>
                    <a:pt x="133" y="764"/>
                    <a:pt x="96" y="829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65400" y="5186520"/>
              <a:ext cx="128520" cy="349200"/>
            </a:xfrm>
            <a:custGeom>
              <a:avLst/>
              <a:gdLst/>
              <a:ahLst/>
              <a:rect l="l" t="t" r="r" b="b"/>
              <a:pathLst>
                <a:path w="307" h="829">
                  <a:moveTo>
                    <a:pt x="0" y="0"/>
                  </a:moveTo>
                  <a:cubicBezTo>
                    <a:pt x="36" y="27"/>
                    <a:pt x="168" y="112"/>
                    <a:pt x="217" y="165"/>
                  </a:cubicBezTo>
                  <a:cubicBezTo>
                    <a:pt x="264" y="219"/>
                    <a:pt x="287" y="258"/>
                    <a:pt x="297" y="317"/>
                  </a:cubicBezTo>
                  <a:cubicBezTo>
                    <a:pt x="307" y="376"/>
                    <a:pt x="306" y="433"/>
                    <a:pt x="275" y="517"/>
                  </a:cubicBezTo>
                  <a:cubicBezTo>
                    <a:pt x="244" y="601"/>
                    <a:pt x="133" y="764"/>
                    <a:pt x="96" y="829"/>
                  </a:cubicBezTo>
                </a:path>
              </a:pathLst>
            </a:custGeom>
            <a:noFill/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950760" y="1427040"/>
            <a:ext cx="264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eployment and evolution of the pan-European high-capacity and high-performance communication network (GÉ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3844-5641-460D-B7B4-7AAFD0ED3B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07640" y="332640"/>
            <a:ext cx="699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sting e-Infra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950760" y="1492200"/>
            <a:ext cx="760428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Science Grid infrastructures (call1, 50M€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oyment of grid-empowered e-Infrastructures exploiting the sharing of mor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Infrastructures for new communities (call1, 24M€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olidation and expansion of e-Infrastructures by addressing the needs of new scientific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Digital Repositories (call1, 15M€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oyment of digital repositories for the scientific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Data Infrastructures (call2, 20M€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the deployment of standardised mechanisms to handle scientifi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0964-5011-455D-9B76-5049B0AA81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7640" y="259560"/>
            <a:ext cx="699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e-Infra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950760" y="1601640"/>
            <a:ext cx="737568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studies (call1, 8M€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ing” infrastructure &amp; major updgr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FRI ‘emerging’ 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new sustainable approach to e-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: ‘Conceptual design report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ess for strategic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ion – preparatory phase (call1, 15M€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ed in ESFRI road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: Readiness to start constructio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d technical, financial and legal matu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U signed by consor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A855-7EE7-4E13-88F9-4136EED418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917640" y="1413000"/>
            <a:ext cx="7307280" cy="4680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marL="360360" indent="-36036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18920" y="259560"/>
            <a:ext cx="699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nfrastructures from FP6 to FP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"/>
          <p:cNvSpPr/>
          <p:nvPr/>
        </p:nvSpPr>
        <p:spPr>
          <a:xfrm>
            <a:off x="950760" y="1427040"/>
            <a:ext cx="72360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492360" y="5629320"/>
            <a:ext cx="4633560" cy="204840"/>
            <a:chOff x="3492360" y="5629320"/>
            <a:chExt cx="4633560" cy="204840"/>
          </a:xfrm>
        </p:grpSpPr>
        <p:sp>
          <p:nvSpPr>
            <p:cNvPr id="439" name=""/>
            <p:cNvSpPr/>
            <p:nvPr/>
          </p:nvSpPr>
          <p:spPr>
            <a:xfrm>
              <a:off x="3492360" y="5629320"/>
              <a:ext cx="4437360" cy="204840"/>
            </a:xfrm>
            <a:prstGeom prst="rect">
              <a:avLst/>
            </a:prstGeom>
            <a:gradFill rotWithShape="0">
              <a:gsLst>
                <a:gs pos="0">
                  <a:srgbClr val="5e002f"/>
                </a:gs>
                <a:gs pos="50000">
                  <a:srgbClr val="cc0066"/>
                </a:gs>
                <a:gs pos="100000">
                  <a:srgbClr val="5e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FP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25840" y="5629320"/>
              <a:ext cx="100080" cy="204840"/>
            </a:xfrm>
            <a:prstGeom prst="rect">
              <a:avLst/>
            </a:prstGeom>
            <a:gradFill rotWithShape="0">
              <a:gsLst>
                <a:gs pos="0">
                  <a:srgbClr val="5e002f"/>
                </a:gs>
                <a:gs pos="50000">
                  <a:srgbClr val="cc0066"/>
                </a:gs>
                <a:gs pos="100000">
                  <a:srgbClr val="5e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071720" y="2252520"/>
            <a:ext cx="7043400" cy="3016440"/>
            <a:chOff x="1071720" y="2252520"/>
            <a:chExt cx="7043400" cy="3016440"/>
          </a:xfrm>
        </p:grpSpPr>
        <p:sp>
          <p:nvSpPr>
            <p:cNvPr id="442" name=""/>
            <p:cNvSpPr/>
            <p:nvPr/>
          </p:nvSpPr>
          <p:spPr>
            <a:xfrm>
              <a:off x="1272240" y="2252520"/>
              <a:ext cx="6667560" cy="301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ff99"/>
                </a:gs>
                <a:gs pos="100000">
                  <a:srgbClr val="ff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1720" y="2252520"/>
              <a:ext cx="102960" cy="301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ff99"/>
                </a:gs>
                <a:gs pos="100000">
                  <a:srgbClr val="ff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11800" y="2252520"/>
              <a:ext cx="103320" cy="301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ff99"/>
                </a:gs>
                <a:gs pos="100000">
                  <a:srgbClr val="ff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079640" y="2408400"/>
            <a:ext cx="1364760" cy="3186000"/>
            <a:chOff x="1079640" y="2408400"/>
            <a:chExt cx="1364760" cy="3186000"/>
          </a:xfrm>
        </p:grpSpPr>
        <p:sp>
          <p:nvSpPr>
            <p:cNvPr id="446" name=""/>
            <p:cNvSpPr/>
            <p:nvPr/>
          </p:nvSpPr>
          <p:spPr>
            <a:xfrm>
              <a:off x="1263240" y="5389920"/>
              <a:ext cx="729000" cy="2044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F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9640" y="5385600"/>
              <a:ext cx="100080" cy="2044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91680" y="2408400"/>
              <a:ext cx="1152720" cy="3052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GÉ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87920" y="2408400"/>
              <a:ext cx="94680" cy="3052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255680" y="1760400"/>
            <a:ext cx="6868800" cy="300240"/>
            <a:chOff x="1255680" y="1760400"/>
            <a:chExt cx="6868800" cy="300240"/>
          </a:xfrm>
        </p:grpSpPr>
        <p:sp>
          <p:nvSpPr>
            <p:cNvPr id="451" name=""/>
            <p:cNvSpPr/>
            <p:nvPr/>
          </p:nvSpPr>
          <p:spPr>
            <a:xfrm>
              <a:off x="1255680" y="1760400"/>
              <a:ext cx="74304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98720" y="1760400"/>
              <a:ext cx="74160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40680" y="1760400"/>
              <a:ext cx="74160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82640" y="1760400"/>
              <a:ext cx="74592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28920" y="1760400"/>
              <a:ext cx="73872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68000" y="1760400"/>
              <a:ext cx="74592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13920" y="1760400"/>
              <a:ext cx="74016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54440" y="1760400"/>
              <a:ext cx="74484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99280" y="1760400"/>
              <a:ext cx="74160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21520" y="1760400"/>
              <a:ext cx="10296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263600" y="2408400"/>
            <a:ext cx="4119120" cy="3303000"/>
            <a:chOff x="1263600" y="2408400"/>
            <a:chExt cx="4119120" cy="3303000"/>
          </a:xfrm>
        </p:grpSpPr>
        <p:sp>
          <p:nvSpPr>
            <p:cNvPr id="462" name=""/>
            <p:cNvSpPr/>
            <p:nvPr/>
          </p:nvSpPr>
          <p:spPr>
            <a:xfrm>
              <a:off x="1263600" y="5506920"/>
              <a:ext cx="2962440" cy="2044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FP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27840" y="2408400"/>
              <a:ext cx="2954880" cy="3052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GÉAN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46320" y="2811960"/>
              <a:ext cx="2973960" cy="3052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Grid infrastru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47760" y="3215880"/>
              <a:ext cx="2973960" cy="3052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Supercomputer gr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75440" y="3621240"/>
              <a:ext cx="1483920" cy="3052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New 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959360" y="2811600"/>
            <a:ext cx="2156760" cy="2328480"/>
            <a:chOff x="4959360" y="2811600"/>
            <a:chExt cx="2156760" cy="2328480"/>
          </a:xfrm>
        </p:grpSpPr>
        <p:grpSp>
          <p:nvGrpSpPr>
            <p:cNvPr id="468" name=""/>
            <p:cNvGrpSpPr/>
            <p:nvPr/>
          </p:nvGrpSpPr>
          <p:grpSpPr>
            <a:xfrm>
              <a:off x="5105520" y="2811600"/>
              <a:ext cx="2010600" cy="709560"/>
              <a:chOff x="5105520" y="2811600"/>
              <a:chExt cx="2010600" cy="7095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5105520" y="2811600"/>
                <a:ext cx="2009520" cy="305640"/>
                <a:chOff x="5105520" y="2811600"/>
                <a:chExt cx="2009520" cy="3056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105520" y="2811600"/>
                  <a:ext cx="168552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…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upgra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864120" y="2811600"/>
                  <a:ext cx="9288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022160" y="2811600"/>
                  <a:ext cx="9288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106600" y="3215520"/>
                <a:ext cx="2009520" cy="305640"/>
                <a:chOff x="5106600" y="3215520"/>
                <a:chExt cx="2009520" cy="305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106600" y="3215520"/>
                  <a:ext cx="168516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…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upgra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864840" y="3215520"/>
                  <a:ext cx="9324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22880" y="3215520"/>
                  <a:ext cx="9324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7" name=""/>
            <p:cNvGrpSpPr/>
            <p:nvPr/>
          </p:nvGrpSpPr>
          <p:grpSpPr>
            <a:xfrm>
              <a:off x="4959360" y="3620880"/>
              <a:ext cx="2016360" cy="305640"/>
              <a:chOff x="4959360" y="3620880"/>
              <a:chExt cx="2016360" cy="305640"/>
            </a:xfrm>
          </p:grpSpPr>
          <p:sp>
            <p:nvSpPr>
              <p:cNvPr id="478" name=""/>
              <p:cNvSpPr/>
              <p:nvPr/>
            </p:nvSpPr>
            <p:spPr>
              <a:xfrm>
                <a:off x="4959360" y="3620880"/>
                <a:ext cx="169200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… 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reinfor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24800" y="362088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82480" y="362088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959360" y="4025160"/>
              <a:ext cx="2022120" cy="305640"/>
              <a:chOff x="4959360" y="4025160"/>
              <a:chExt cx="2022120" cy="305640"/>
            </a:xfrm>
          </p:grpSpPr>
          <p:sp>
            <p:nvSpPr>
              <p:cNvPr id="482" name=""/>
              <p:cNvSpPr/>
              <p:nvPr/>
            </p:nvSpPr>
            <p:spPr>
              <a:xfrm>
                <a:off x="4959360" y="4025160"/>
                <a:ext cx="169632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Reposito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29120" y="402516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888600" y="4025160"/>
                <a:ext cx="9288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966200" y="4834440"/>
              <a:ext cx="2009160" cy="305640"/>
              <a:chOff x="4966200" y="4834440"/>
              <a:chExt cx="2009160" cy="305640"/>
            </a:xfrm>
          </p:grpSpPr>
          <p:sp>
            <p:nvSpPr>
              <p:cNvPr id="486" name=""/>
              <p:cNvSpPr/>
              <p:nvPr/>
            </p:nvSpPr>
            <p:spPr>
              <a:xfrm>
                <a:off x="4966200" y="4834440"/>
                <a:ext cx="168480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Org, policy, inter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24440" y="483444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82120" y="483444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1255680" y="1733400"/>
            <a:ext cx="6678720" cy="4102200"/>
            <a:chOff x="1255680" y="1733400"/>
            <a:chExt cx="6678720" cy="4102200"/>
          </a:xfrm>
        </p:grpSpPr>
        <p:sp>
          <p:nvSpPr>
            <p:cNvPr id="490" name=""/>
            <p:cNvSpPr/>
            <p:nvPr/>
          </p:nvSpPr>
          <p:spPr>
            <a:xfrm>
              <a:off x="645444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428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7232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3036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8696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500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0016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9640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440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5568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380200" y="2408400"/>
            <a:ext cx="2731680" cy="2325240"/>
            <a:chOff x="5380200" y="2408400"/>
            <a:chExt cx="2731680" cy="2325240"/>
          </a:xfrm>
        </p:grpSpPr>
        <p:grpSp>
          <p:nvGrpSpPr>
            <p:cNvPr id="501" name=""/>
            <p:cNvGrpSpPr/>
            <p:nvPr/>
          </p:nvGrpSpPr>
          <p:grpSpPr>
            <a:xfrm>
              <a:off x="5701320" y="4428360"/>
              <a:ext cx="2008440" cy="305280"/>
              <a:chOff x="5701320" y="4428360"/>
              <a:chExt cx="2008440" cy="305280"/>
            </a:xfrm>
          </p:grpSpPr>
          <p:sp>
            <p:nvSpPr>
              <p:cNvPr id="502" name=""/>
              <p:cNvSpPr/>
              <p:nvPr/>
            </p:nvSpPr>
            <p:spPr>
              <a:xfrm>
                <a:off x="5701320" y="4428360"/>
                <a:ext cx="1684440" cy="30528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Data infrastructu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459200" y="4428360"/>
                <a:ext cx="92880" cy="30528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16880" y="4428360"/>
                <a:ext cx="92880" cy="30528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380200" y="2408400"/>
              <a:ext cx="2731680" cy="305280"/>
              <a:chOff x="5380200" y="2408400"/>
              <a:chExt cx="2731680" cy="3052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5380200" y="2408400"/>
                <a:ext cx="2731680" cy="305280"/>
                <a:chOff x="5380200" y="2408400"/>
                <a:chExt cx="2731680" cy="3052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5380200" y="2408400"/>
                  <a:ext cx="2559600" cy="30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…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upgra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018640" y="2408400"/>
                  <a:ext cx="93240" cy="30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5469120" y="2408400"/>
                <a:ext cx="92880" cy="305280"/>
              </a:xfrm>
              <a:prstGeom prst="rect">
                <a:avLst/>
              </a:prstGeom>
              <a:gradFill rotWithShape="0">
                <a:gsLst>
                  <a:gs pos="0">
                    <a:srgbClr val="75175e"/>
                  </a:gs>
                  <a:gs pos="50000">
                    <a:srgbClr val="ff33cc"/>
                  </a:gs>
                  <a:gs pos="100000">
                    <a:srgbClr val="7517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27160" y="2408400"/>
                <a:ext cx="92880" cy="305280"/>
              </a:xfrm>
              <a:prstGeom prst="rect">
                <a:avLst/>
              </a:prstGeom>
              <a:gradFill rotWithShape="0">
                <a:gsLst>
                  <a:gs pos="0">
                    <a:srgbClr val="75175e"/>
                  </a:gs>
                  <a:gs pos="50000">
                    <a:srgbClr val="ff33cc"/>
                  </a:gs>
                  <a:gs pos="100000">
                    <a:srgbClr val="7517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6349-B370-4943-9FC4-B251650D8A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view of the ICT cooperation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esearch Infrastructures in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3300"/>
                </a:solidFill>
                <a:latin typeface="Verdana"/>
              </a:rPr>
              <a:t>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96AE-C1DF-493A-A0AB-AB4E2C0E5C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ivers for 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"/>
          <p:cNvSpPr/>
          <p:nvPr/>
        </p:nvSpPr>
        <p:spPr>
          <a:xfrm>
            <a:off x="539640" y="206064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Build S&amp;T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宋体"/>
              </a:rPr>
              <a:t>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based on mutual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hance Europe’s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宋体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Contribute to implementing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宋体"/>
              </a:rPr>
              <a:t>EU polic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and international commitments eff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9E14-DA85-46A1-BB3E-E467542DBC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enefits of international cooperation with developing reg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660240" y="141300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uman Resource Develop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lps retain top-class researchers and attract international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ibute to joint knowledge gener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ximise benefits from national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are in experience and experti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ilding loc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verage international investment in R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ows for international benchmarking and identification of bes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F147-D06F-45BF-810E-DB321B524A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177336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FP6, Grids and Research Infrastructures have been two of the most active IST areas in international coope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22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22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G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22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id Technologies with East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3F26-FA86-4AB8-98BD-011D8E8DCB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985080" cy="528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03280" y="44280"/>
            <a:ext cx="7488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operation - T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F9BE-7B4A-4AD3-B6E1-1E527EBF5D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44360" y="404640"/>
            <a:ext cx="48592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NASA, Abilene, EsNet, Canet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pan Connec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SI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CLAR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8 NREN, 22 part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EREN2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9 NREN, 11 part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IN2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 Asia NREN, 13 part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UMEDConnec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2 NREN, 14 part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IEN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h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645000" y="2090520"/>
            <a:ext cx="5616000" cy="4690080"/>
            <a:chOff x="3645000" y="2090520"/>
            <a:chExt cx="5616000" cy="4690080"/>
          </a:xfrm>
        </p:grpSpPr>
        <p:sp>
          <p:nvSpPr>
            <p:cNvPr id="525" name=""/>
            <p:cNvSpPr/>
            <p:nvPr/>
          </p:nvSpPr>
          <p:spPr>
            <a:xfrm>
              <a:off x="8102160" y="5797800"/>
              <a:ext cx="11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EUMEDconn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8745120" y="4716000"/>
              <a:ext cx="432720" cy="380520"/>
              <a:chOff x="8745120" y="4716000"/>
              <a:chExt cx="432720" cy="380520"/>
            </a:xfrm>
          </p:grpSpPr>
          <p:sp>
            <p:nvSpPr>
              <p:cNvPr id="527" name=""/>
              <p:cNvSpPr/>
              <p:nvPr/>
            </p:nvSpPr>
            <p:spPr>
              <a:xfrm rot="20780400">
                <a:off x="8823960" y="4989600"/>
                <a:ext cx="95400" cy="5040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0" y="18"/>
                    </a:moveTo>
                    <a:lnTo>
                      <a:pt x="40" y="0"/>
                    </a:lnTo>
                    <a:lnTo>
                      <a:pt x="80" y="6"/>
                    </a:lnTo>
                    <a:lnTo>
                      <a:pt x="116" y="18"/>
                    </a:lnTo>
                    <a:lnTo>
                      <a:pt x="134" y="58"/>
                    </a:lnTo>
                    <a:lnTo>
                      <a:pt x="104" y="70"/>
                    </a:lnTo>
                    <a:lnTo>
                      <a:pt x="52" y="34"/>
                    </a:lnTo>
                    <a:lnTo>
                      <a:pt x="16" y="3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20780400">
                <a:off x="8775360" y="4755600"/>
                <a:ext cx="372240" cy="301320"/>
              </a:xfrm>
              <a:custGeom>
                <a:avLst/>
                <a:gdLst/>
                <a:ahLst/>
                <a:rect l="l" t="t" r="r" b="b"/>
                <a:pathLst>
                  <a:path w="517" h="411">
                    <a:moveTo>
                      <a:pt x="122" y="0"/>
                    </a:moveTo>
                    <a:lnTo>
                      <a:pt x="186" y="12"/>
                    </a:lnTo>
                    <a:lnTo>
                      <a:pt x="243" y="28"/>
                    </a:lnTo>
                    <a:lnTo>
                      <a:pt x="280" y="55"/>
                    </a:lnTo>
                    <a:lnTo>
                      <a:pt x="310" y="46"/>
                    </a:lnTo>
                    <a:lnTo>
                      <a:pt x="313" y="6"/>
                    </a:lnTo>
                    <a:lnTo>
                      <a:pt x="392" y="79"/>
                    </a:lnTo>
                    <a:lnTo>
                      <a:pt x="444" y="73"/>
                    </a:lnTo>
                    <a:lnTo>
                      <a:pt x="517" y="92"/>
                    </a:lnTo>
                    <a:lnTo>
                      <a:pt x="468" y="128"/>
                    </a:lnTo>
                    <a:lnTo>
                      <a:pt x="450" y="149"/>
                    </a:lnTo>
                    <a:lnTo>
                      <a:pt x="426" y="207"/>
                    </a:lnTo>
                    <a:lnTo>
                      <a:pt x="444" y="329"/>
                    </a:lnTo>
                    <a:lnTo>
                      <a:pt x="414" y="286"/>
                    </a:lnTo>
                    <a:lnTo>
                      <a:pt x="392" y="304"/>
                    </a:lnTo>
                    <a:lnTo>
                      <a:pt x="395" y="411"/>
                    </a:lnTo>
                    <a:lnTo>
                      <a:pt x="304" y="350"/>
                    </a:lnTo>
                    <a:lnTo>
                      <a:pt x="322" y="292"/>
                    </a:lnTo>
                    <a:lnTo>
                      <a:pt x="298" y="265"/>
                    </a:lnTo>
                    <a:lnTo>
                      <a:pt x="246" y="262"/>
                    </a:lnTo>
                    <a:lnTo>
                      <a:pt x="204" y="332"/>
                    </a:lnTo>
                    <a:lnTo>
                      <a:pt x="204" y="323"/>
                    </a:lnTo>
                    <a:lnTo>
                      <a:pt x="179" y="244"/>
                    </a:lnTo>
                    <a:lnTo>
                      <a:pt x="106" y="222"/>
                    </a:lnTo>
                    <a:lnTo>
                      <a:pt x="82" y="210"/>
                    </a:lnTo>
                    <a:lnTo>
                      <a:pt x="103" y="195"/>
                    </a:lnTo>
                    <a:lnTo>
                      <a:pt x="88" y="161"/>
                    </a:lnTo>
                    <a:lnTo>
                      <a:pt x="52" y="161"/>
                    </a:lnTo>
                    <a:lnTo>
                      <a:pt x="52" y="134"/>
                    </a:lnTo>
                    <a:lnTo>
                      <a:pt x="30" y="116"/>
                    </a:lnTo>
                    <a:lnTo>
                      <a:pt x="0" y="113"/>
                    </a:lnTo>
                    <a:lnTo>
                      <a:pt x="27" y="92"/>
                    </a:lnTo>
                    <a:lnTo>
                      <a:pt x="67" y="76"/>
                    </a:lnTo>
                    <a:lnTo>
                      <a:pt x="112" y="98"/>
                    </a:lnTo>
                    <a:lnTo>
                      <a:pt x="158" y="104"/>
                    </a:lnTo>
                    <a:lnTo>
                      <a:pt x="195" y="107"/>
                    </a:lnTo>
                    <a:lnTo>
                      <a:pt x="228" y="88"/>
                    </a:lnTo>
                    <a:lnTo>
                      <a:pt x="198" y="61"/>
                    </a:lnTo>
                    <a:lnTo>
                      <a:pt x="143" y="46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8102880" y="4695480"/>
              <a:ext cx="922680" cy="180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8715240" y="4690800"/>
              <a:ext cx="298080" cy="0"/>
            </a:xfrm>
            <a:prstGeom prst="line">
              <a:avLst/>
            </a:prstGeom>
            <a:ln cap="rnd" w="1908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645000" y="368820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Cana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Jap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780400">
              <a:off x="6781320" y="2295000"/>
              <a:ext cx="2093400" cy="2998800"/>
            </a:xfrm>
            <a:custGeom>
              <a:avLst/>
              <a:gdLst/>
              <a:ahLst/>
              <a:rect l="l" t="t" r="r" b="b"/>
              <a:pathLst>
                <a:path w="2922" h="4078">
                  <a:moveTo>
                    <a:pt x="1942" y="97"/>
                  </a:moveTo>
                  <a:lnTo>
                    <a:pt x="1767" y="0"/>
                  </a:lnTo>
                  <a:lnTo>
                    <a:pt x="1713" y="164"/>
                  </a:lnTo>
                  <a:lnTo>
                    <a:pt x="1612" y="137"/>
                  </a:lnTo>
                  <a:lnTo>
                    <a:pt x="1653" y="178"/>
                  </a:lnTo>
                  <a:lnTo>
                    <a:pt x="1717" y="205"/>
                  </a:lnTo>
                  <a:lnTo>
                    <a:pt x="1649" y="251"/>
                  </a:lnTo>
                  <a:lnTo>
                    <a:pt x="1672" y="424"/>
                  </a:lnTo>
                  <a:lnTo>
                    <a:pt x="1621" y="476"/>
                  </a:lnTo>
                  <a:lnTo>
                    <a:pt x="1553" y="499"/>
                  </a:lnTo>
                  <a:lnTo>
                    <a:pt x="1489" y="490"/>
                  </a:lnTo>
                  <a:lnTo>
                    <a:pt x="1452" y="449"/>
                  </a:lnTo>
                  <a:lnTo>
                    <a:pt x="1421" y="427"/>
                  </a:lnTo>
                  <a:lnTo>
                    <a:pt x="1393" y="388"/>
                  </a:lnTo>
                  <a:lnTo>
                    <a:pt x="1402" y="333"/>
                  </a:lnTo>
                  <a:lnTo>
                    <a:pt x="1370" y="292"/>
                  </a:lnTo>
                  <a:lnTo>
                    <a:pt x="1452" y="265"/>
                  </a:lnTo>
                  <a:lnTo>
                    <a:pt x="1466" y="210"/>
                  </a:lnTo>
                  <a:lnTo>
                    <a:pt x="1439" y="137"/>
                  </a:lnTo>
                  <a:lnTo>
                    <a:pt x="1366" y="114"/>
                  </a:lnTo>
                  <a:lnTo>
                    <a:pt x="1320" y="141"/>
                  </a:lnTo>
                  <a:lnTo>
                    <a:pt x="1220" y="155"/>
                  </a:lnTo>
                  <a:lnTo>
                    <a:pt x="1165" y="151"/>
                  </a:lnTo>
                  <a:lnTo>
                    <a:pt x="1220" y="201"/>
                  </a:lnTo>
                  <a:lnTo>
                    <a:pt x="1261" y="260"/>
                  </a:lnTo>
                  <a:lnTo>
                    <a:pt x="1288" y="306"/>
                  </a:lnTo>
                  <a:lnTo>
                    <a:pt x="1306" y="370"/>
                  </a:lnTo>
                  <a:lnTo>
                    <a:pt x="1302" y="440"/>
                  </a:lnTo>
                  <a:lnTo>
                    <a:pt x="1338" y="472"/>
                  </a:lnTo>
                  <a:lnTo>
                    <a:pt x="1393" y="599"/>
                  </a:lnTo>
                  <a:lnTo>
                    <a:pt x="1343" y="572"/>
                  </a:lnTo>
                  <a:lnTo>
                    <a:pt x="1279" y="545"/>
                  </a:lnTo>
                  <a:lnTo>
                    <a:pt x="1229" y="517"/>
                  </a:lnTo>
                  <a:lnTo>
                    <a:pt x="1211" y="622"/>
                  </a:lnTo>
                  <a:lnTo>
                    <a:pt x="1151" y="704"/>
                  </a:lnTo>
                  <a:lnTo>
                    <a:pt x="1106" y="741"/>
                  </a:lnTo>
                  <a:lnTo>
                    <a:pt x="1215" y="896"/>
                  </a:lnTo>
                  <a:lnTo>
                    <a:pt x="1197" y="942"/>
                  </a:lnTo>
                  <a:lnTo>
                    <a:pt x="1138" y="960"/>
                  </a:lnTo>
                  <a:lnTo>
                    <a:pt x="1051" y="937"/>
                  </a:lnTo>
                  <a:lnTo>
                    <a:pt x="1014" y="928"/>
                  </a:lnTo>
                  <a:lnTo>
                    <a:pt x="964" y="914"/>
                  </a:lnTo>
                  <a:lnTo>
                    <a:pt x="932" y="946"/>
                  </a:lnTo>
                  <a:lnTo>
                    <a:pt x="950" y="987"/>
                  </a:lnTo>
                  <a:lnTo>
                    <a:pt x="987" y="1010"/>
                  </a:lnTo>
                  <a:lnTo>
                    <a:pt x="1069" y="1001"/>
                  </a:lnTo>
                  <a:lnTo>
                    <a:pt x="1097" y="1115"/>
                  </a:lnTo>
                  <a:lnTo>
                    <a:pt x="1028" y="1133"/>
                  </a:lnTo>
                  <a:lnTo>
                    <a:pt x="937" y="1101"/>
                  </a:lnTo>
                  <a:lnTo>
                    <a:pt x="836" y="1051"/>
                  </a:lnTo>
                  <a:lnTo>
                    <a:pt x="798" y="1006"/>
                  </a:lnTo>
                  <a:lnTo>
                    <a:pt x="744" y="809"/>
                  </a:lnTo>
                  <a:lnTo>
                    <a:pt x="703" y="750"/>
                  </a:lnTo>
                  <a:lnTo>
                    <a:pt x="620" y="695"/>
                  </a:lnTo>
                  <a:lnTo>
                    <a:pt x="579" y="640"/>
                  </a:lnTo>
                  <a:lnTo>
                    <a:pt x="552" y="586"/>
                  </a:lnTo>
                  <a:lnTo>
                    <a:pt x="744" y="668"/>
                  </a:lnTo>
                  <a:lnTo>
                    <a:pt x="891" y="682"/>
                  </a:lnTo>
                  <a:lnTo>
                    <a:pt x="987" y="663"/>
                  </a:lnTo>
                  <a:lnTo>
                    <a:pt x="1028" y="640"/>
                  </a:lnTo>
                  <a:lnTo>
                    <a:pt x="1065" y="581"/>
                  </a:lnTo>
                  <a:lnTo>
                    <a:pt x="1083" y="531"/>
                  </a:lnTo>
                  <a:lnTo>
                    <a:pt x="1083" y="458"/>
                  </a:lnTo>
                  <a:lnTo>
                    <a:pt x="1001" y="411"/>
                  </a:lnTo>
                  <a:lnTo>
                    <a:pt x="964" y="427"/>
                  </a:lnTo>
                  <a:lnTo>
                    <a:pt x="824" y="342"/>
                  </a:lnTo>
                  <a:lnTo>
                    <a:pt x="703" y="342"/>
                  </a:lnTo>
                  <a:lnTo>
                    <a:pt x="525" y="356"/>
                  </a:lnTo>
                  <a:lnTo>
                    <a:pt x="470" y="370"/>
                  </a:lnTo>
                  <a:lnTo>
                    <a:pt x="442" y="370"/>
                  </a:lnTo>
                  <a:lnTo>
                    <a:pt x="410" y="339"/>
                  </a:lnTo>
                  <a:lnTo>
                    <a:pt x="433" y="274"/>
                  </a:lnTo>
                  <a:lnTo>
                    <a:pt x="395" y="272"/>
                  </a:lnTo>
                  <a:lnTo>
                    <a:pt x="372" y="310"/>
                  </a:lnTo>
                  <a:lnTo>
                    <a:pt x="333" y="306"/>
                  </a:lnTo>
                  <a:lnTo>
                    <a:pt x="304" y="315"/>
                  </a:lnTo>
                  <a:lnTo>
                    <a:pt x="287" y="342"/>
                  </a:lnTo>
                  <a:lnTo>
                    <a:pt x="245" y="379"/>
                  </a:lnTo>
                  <a:lnTo>
                    <a:pt x="239" y="440"/>
                  </a:lnTo>
                  <a:lnTo>
                    <a:pt x="229" y="462"/>
                  </a:lnTo>
                  <a:lnTo>
                    <a:pt x="229" y="499"/>
                  </a:lnTo>
                  <a:lnTo>
                    <a:pt x="272" y="528"/>
                  </a:lnTo>
                  <a:lnTo>
                    <a:pt x="277" y="555"/>
                  </a:lnTo>
                  <a:lnTo>
                    <a:pt x="302" y="590"/>
                  </a:lnTo>
                  <a:lnTo>
                    <a:pt x="312" y="618"/>
                  </a:lnTo>
                  <a:lnTo>
                    <a:pt x="313" y="654"/>
                  </a:lnTo>
                  <a:lnTo>
                    <a:pt x="307" y="694"/>
                  </a:lnTo>
                  <a:lnTo>
                    <a:pt x="324" y="761"/>
                  </a:lnTo>
                  <a:lnTo>
                    <a:pt x="354" y="820"/>
                  </a:lnTo>
                  <a:lnTo>
                    <a:pt x="347" y="914"/>
                  </a:lnTo>
                  <a:lnTo>
                    <a:pt x="382" y="996"/>
                  </a:lnTo>
                  <a:lnTo>
                    <a:pt x="389" y="1074"/>
                  </a:lnTo>
                  <a:lnTo>
                    <a:pt x="403" y="1107"/>
                  </a:lnTo>
                  <a:lnTo>
                    <a:pt x="462" y="1155"/>
                  </a:lnTo>
                  <a:lnTo>
                    <a:pt x="483" y="1202"/>
                  </a:lnTo>
                  <a:lnTo>
                    <a:pt x="483" y="1243"/>
                  </a:lnTo>
                  <a:lnTo>
                    <a:pt x="465" y="1313"/>
                  </a:lnTo>
                  <a:lnTo>
                    <a:pt x="458" y="1328"/>
                  </a:lnTo>
                  <a:lnTo>
                    <a:pt x="465" y="1346"/>
                  </a:lnTo>
                  <a:lnTo>
                    <a:pt x="442" y="1384"/>
                  </a:lnTo>
                  <a:lnTo>
                    <a:pt x="409" y="1401"/>
                  </a:lnTo>
                  <a:lnTo>
                    <a:pt x="401" y="1424"/>
                  </a:lnTo>
                  <a:lnTo>
                    <a:pt x="359" y="1485"/>
                  </a:lnTo>
                  <a:lnTo>
                    <a:pt x="321" y="1504"/>
                  </a:lnTo>
                  <a:lnTo>
                    <a:pt x="315" y="1544"/>
                  </a:lnTo>
                  <a:lnTo>
                    <a:pt x="339" y="1541"/>
                  </a:lnTo>
                  <a:lnTo>
                    <a:pt x="359" y="1518"/>
                  </a:lnTo>
                  <a:lnTo>
                    <a:pt x="374" y="1523"/>
                  </a:lnTo>
                  <a:lnTo>
                    <a:pt x="383" y="1546"/>
                  </a:lnTo>
                  <a:lnTo>
                    <a:pt x="357" y="1564"/>
                  </a:lnTo>
                  <a:lnTo>
                    <a:pt x="397" y="1603"/>
                  </a:lnTo>
                  <a:lnTo>
                    <a:pt x="420" y="1602"/>
                  </a:lnTo>
                  <a:lnTo>
                    <a:pt x="447" y="1619"/>
                  </a:lnTo>
                  <a:lnTo>
                    <a:pt x="483" y="1652"/>
                  </a:lnTo>
                  <a:lnTo>
                    <a:pt x="497" y="1692"/>
                  </a:lnTo>
                  <a:lnTo>
                    <a:pt x="497" y="1692"/>
                  </a:lnTo>
                  <a:lnTo>
                    <a:pt x="448" y="1655"/>
                  </a:lnTo>
                  <a:lnTo>
                    <a:pt x="424" y="1637"/>
                  </a:lnTo>
                  <a:lnTo>
                    <a:pt x="395" y="1634"/>
                  </a:lnTo>
                  <a:lnTo>
                    <a:pt x="398" y="1652"/>
                  </a:lnTo>
                  <a:lnTo>
                    <a:pt x="374" y="1643"/>
                  </a:lnTo>
                  <a:lnTo>
                    <a:pt x="347" y="1643"/>
                  </a:lnTo>
                  <a:lnTo>
                    <a:pt x="351" y="1679"/>
                  </a:lnTo>
                  <a:lnTo>
                    <a:pt x="357" y="1701"/>
                  </a:lnTo>
                  <a:lnTo>
                    <a:pt x="347" y="1746"/>
                  </a:lnTo>
                  <a:lnTo>
                    <a:pt x="334" y="1760"/>
                  </a:lnTo>
                  <a:lnTo>
                    <a:pt x="292" y="1760"/>
                  </a:lnTo>
                  <a:lnTo>
                    <a:pt x="287" y="1787"/>
                  </a:lnTo>
                  <a:lnTo>
                    <a:pt x="310" y="1815"/>
                  </a:lnTo>
                  <a:lnTo>
                    <a:pt x="324" y="1862"/>
                  </a:lnTo>
                  <a:lnTo>
                    <a:pt x="354" y="1883"/>
                  </a:lnTo>
                  <a:lnTo>
                    <a:pt x="354" y="1908"/>
                  </a:lnTo>
                  <a:lnTo>
                    <a:pt x="342" y="1921"/>
                  </a:lnTo>
                  <a:lnTo>
                    <a:pt x="345" y="1938"/>
                  </a:lnTo>
                  <a:lnTo>
                    <a:pt x="357" y="1953"/>
                  </a:lnTo>
                  <a:lnTo>
                    <a:pt x="382" y="2011"/>
                  </a:lnTo>
                  <a:lnTo>
                    <a:pt x="404" y="2034"/>
                  </a:lnTo>
                  <a:lnTo>
                    <a:pt x="424" y="2043"/>
                  </a:lnTo>
                  <a:lnTo>
                    <a:pt x="432" y="2096"/>
                  </a:lnTo>
                  <a:lnTo>
                    <a:pt x="409" y="2125"/>
                  </a:lnTo>
                  <a:lnTo>
                    <a:pt x="377" y="2157"/>
                  </a:lnTo>
                  <a:lnTo>
                    <a:pt x="363" y="2181"/>
                  </a:lnTo>
                  <a:lnTo>
                    <a:pt x="347" y="2187"/>
                  </a:lnTo>
                  <a:lnTo>
                    <a:pt x="319" y="2186"/>
                  </a:lnTo>
                  <a:lnTo>
                    <a:pt x="309" y="2200"/>
                  </a:lnTo>
                  <a:lnTo>
                    <a:pt x="316" y="2210"/>
                  </a:lnTo>
                  <a:lnTo>
                    <a:pt x="321" y="2261"/>
                  </a:lnTo>
                  <a:lnTo>
                    <a:pt x="296" y="2264"/>
                  </a:lnTo>
                  <a:lnTo>
                    <a:pt x="274" y="2283"/>
                  </a:lnTo>
                  <a:lnTo>
                    <a:pt x="269" y="2315"/>
                  </a:lnTo>
                  <a:lnTo>
                    <a:pt x="260" y="2341"/>
                  </a:lnTo>
                  <a:lnTo>
                    <a:pt x="252" y="2419"/>
                  </a:lnTo>
                  <a:lnTo>
                    <a:pt x="223" y="2417"/>
                  </a:lnTo>
                  <a:lnTo>
                    <a:pt x="201" y="2425"/>
                  </a:lnTo>
                  <a:lnTo>
                    <a:pt x="181" y="2451"/>
                  </a:lnTo>
                  <a:lnTo>
                    <a:pt x="155" y="2467"/>
                  </a:lnTo>
                  <a:lnTo>
                    <a:pt x="128" y="2451"/>
                  </a:lnTo>
                  <a:lnTo>
                    <a:pt x="96" y="2457"/>
                  </a:lnTo>
                  <a:lnTo>
                    <a:pt x="93" y="2492"/>
                  </a:lnTo>
                  <a:lnTo>
                    <a:pt x="108" y="2533"/>
                  </a:lnTo>
                  <a:lnTo>
                    <a:pt x="117" y="2597"/>
                  </a:lnTo>
                  <a:lnTo>
                    <a:pt x="73" y="2656"/>
                  </a:lnTo>
                  <a:lnTo>
                    <a:pt x="93" y="2683"/>
                  </a:lnTo>
                  <a:lnTo>
                    <a:pt x="83" y="2724"/>
                  </a:lnTo>
                  <a:lnTo>
                    <a:pt x="86" y="2763"/>
                  </a:lnTo>
                  <a:lnTo>
                    <a:pt x="106" y="2779"/>
                  </a:lnTo>
                  <a:lnTo>
                    <a:pt x="135" y="2825"/>
                  </a:lnTo>
                  <a:lnTo>
                    <a:pt x="155" y="2889"/>
                  </a:lnTo>
                  <a:lnTo>
                    <a:pt x="152" y="2927"/>
                  </a:lnTo>
                  <a:lnTo>
                    <a:pt x="48" y="3023"/>
                  </a:lnTo>
                  <a:lnTo>
                    <a:pt x="70" y="3094"/>
                  </a:lnTo>
                  <a:lnTo>
                    <a:pt x="24" y="3141"/>
                  </a:lnTo>
                  <a:lnTo>
                    <a:pt x="0" y="3163"/>
                  </a:lnTo>
                  <a:lnTo>
                    <a:pt x="0" y="3193"/>
                  </a:lnTo>
                  <a:lnTo>
                    <a:pt x="33" y="3248"/>
                  </a:lnTo>
                  <a:lnTo>
                    <a:pt x="74" y="3249"/>
                  </a:lnTo>
                  <a:lnTo>
                    <a:pt x="91" y="3255"/>
                  </a:lnTo>
                  <a:lnTo>
                    <a:pt x="121" y="3237"/>
                  </a:lnTo>
                  <a:lnTo>
                    <a:pt x="152" y="3233"/>
                  </a:lnTo>
                  <a:lnTo>
                    <a:pt x="173" y="3245"/>
                  </a:lnTo>
                  <a:lnTo>
                    <a:pt x="204" y="3243"/>
                  </a:lnTo>
                  <a:lnTo>
                    <a:pt x="242" y="3228"/>
                  </a:lnTo>
                  <a:lnTo>
                    <a:pt x="264" y="3236"/>
                  </a:lnTo>
                  <a:lnTo>
                    <a:pt x="284" y="3252"/>
                  </a:lnTo>
                  <a:lnTo>
                    <a:pt x="313" y="3254"/>
                  </a:lnTo>
                  <a:lnTo>
                    <a:pt x="345" y="3230"/>
                  </a:lnTo>
                  <a:lnTo>
                    <a:pt x="394" y="3228"/>
                  </a:lnTo>
                  <a:lnTo>
                    <a:pt x="415" y="3205"/>
                  </a:lnTo>
                  <a:lnTo>
                    <a:pt x="445" y="3214"/>
                  </a:lnTo>
                  <a:lnTo>
                    <a:pt x="470" y="3266"/>
                  </a:lnTo>
                  <a:lnTo>
                    <a:pt x="502" y="3290"/>
                  </a:lnTo>
                  <a:lnTo>
                    <a:pt x="518" y="3333"/>
                  </a:lnTo>
                  <a:lnTo>
                    <a:pt x="547" y="3365"/>
                  </a:lnTo>
                  <a:lnTo>
                    <a:pt x="556" y="3392"/>
                  </a:lnTo>
                  <a:lnTo>
                    <a:pt x="553" y="3430"/>
                  </a:lnTo>
                  <a:lnTo>
                    <a:pt x="553" y="3459"/>
                  </a:lnTo>
                  <a:lnTo>
                    <a:pt x="576" y="3493"/>
                  </a:lnTo>
                  <a:lnTo>
                    <a:pt x="582" y="3547"/>
                  </a:lnTo>
                  <a:lnTo>
                    <a:pt x="602" y="3557"/>
                  </a:lnTo>
                  <a:lnTo>
                    <a:pt x="637" y="3561"/>
                  </a:lnTo>
                  <a:lnTo>
                    <a:pt x="684" y="3552"/>
                  </a:lnTo>
                  <a:lnTo>
                    <a:pt x="728" y="3561"/>
                  </a:lnTo>
                  <a:lnTo>
                    <a:pt x="759" y="3541"/>
                  </a:lnTo>
                  <a:lnTo>
                    <a:pt x="725" y="3516"/>
                  </a:lnTo>
                  <a:lnTo>
                    <a:pt x="713" y="3467"/>
                  </a:lnTo>
                  <a:lnTo>
                    <a:pt x="748" y="3511"/>
                  </a:lnTo>
                  <a:lnTo>
                    <a:pt x="760" y="3502"/>
                  </a:lnTo>
                  <a:lnTo>
                    <a:pt x="739" y="3474"/>
                  </a:lnTo>
                  <a:lnTo>
                    <a:pt x="766" y="3488"/>
                  </a:lnTo>
                  <a:lnTo>
                    <a:pt x="789" y="3473"/>
                  </a:lnTo>
                  <a:lnTo>
                    <a:pt x="801" y="3447"/>
                  </a:lnTo>
                  <a:lnTo>
                    <a:pt x="789" y="3429"/>
                  </a:lnTo>
                  <a:lnTo>
                    <a:pt x="760" y="3411"/>
                  </a:lnTo>
                  <a:lnTo>
                    <a:pt x="800" y="3414"/>
                  </a:lnTo>
                  <a:lnTo>
                    <a:pt x="798" y="3388"/>
                  </a:lnTo>
                  <a:lnTo>
                    <a:pt x="817" y="3377"/>
                  </a:lnTo>
                  <a:lnTo>
                    <a:pt x="839" y="3354"/>
                  </a:lnTo>
                  <a:lnTo>
                    <a:pt x="852" y="3351"/>
                  </a:lnTo>
                  <a:lnTo>
                    <a:pt x="873" y="3350"/>
                  </a:lnTo>
                  <a:lnTo>
                    <a:pt x="891" y="3374"/>
                  </a:lnTo>
                  <a:lnTo>
                    <a:pt x="852" y="3388"/>
                  </a:lnTo>
                  <a:lnTo>
                    <a:pt x="853" y="3403"/>
                  </a:lnTo>
                  <a:lnTo>
                    <a:pt x="893" y="3418"/>
                  </a:lnTo>
                  <a:lnTo>
                    <a:pt x="899" y="3406"/>
                  </a:lnTo>
                  <a:lnTo>
                    <a:pt x="920" y="3412"/>
                  </a:lnTo>
                  <a:lnTo>
                    <a:pt x="946" y="3404"/>
                  </a:lnTo>
                  <a:lnTo>
                    <a:pt x="976" y="3398"/>
                  </a:lnTo>
                  <a:lnTo>
                    <a:pt x="996" y="3392"/>
                  </a:lnTo>
                  <a:lnTo>
                    <a:pt x="1004" y="3417"/>
                  </a:lnTo>
                  <a:lnTo>
                    <a:pt x="966" y="3442"/>
                  </a:lnTo>
                  <a:lnTo>
                    <a:pt x="955" y="3476"/>
                  </a:lnTo>
                  <a:lnTo>
                    <a:pt x="937" y="3500"/>
                  </a:lnTo>
                  <a:lnTo>
                    <a:pt x="932" y="3534"/>
                  </a:lnTo>
                  <a:lnTo>
                    <a:pt x="964" y="3544"/>
                  </a:lnTo>
                  <a:lnTo>
                    <a:pt x="982" y="3547"/>
                  </a:lnTo>
                  <a:lnTo>
                    <a:pt x="1004" y="3547"/>
                  </a:lnTo>
                  <a:lnTo>
                    <a:pt x="1017" y="3552"/>
                  </a:lnTo>
                  <a:lnTo>
                    <a:pt x="1027" y="3578"/>
                  </a:lnTo>
                  <a:lnTo>
                    <a:pt x="1036" y="3601"/>
                  </a:lnTo>
                  <a:lnTo>
                    <a:pt x="1027" y="3651"/>
                  </a:lnTo>
                  <a:lnTo>
                    <a:pt x="1066" y="3669"/>
                  </a:lnTo>
                  <a:lnTo>
                    <a:pt x="1081" y="3655"/>
                  </a:lnTo>
                  <a:lnTo>
                    <a:pt x="1098" y="3630"/>
                  </a:lnTo>
                  <a:lnTo>
                    <a:pt x="1112" y="3598"/>
                  </a:lnTo>
                  <a:lnTo>
                    <a:pt x="1138" y="3584"/>
                  </a:lnTo>
                  <a:lnTo>
                    <a:pt x="1165" y="3564"/>
                  </a:lnTo>
                  <a:lnTo>
                    <a:pt x="1180" y="3532"/>
                  </a:lnTo>
                  <a:lnTo>
                    <a:pt x="1195" y="3538"/>
                  </a:lnTo>
                  <a:lnTo>
                    <a:pt x="1211" y="3546"/>
                  </a:lnTo>
                  <a:lnTo>
                    <a:pt x="1238" y="3552"/>
                  </a:lnTo>
                  <a:lnTo>
                    <a:pt x="1273" y="3532"/>
                  </a:lnTo>
                  <a:lnTo>
                    <a:pt x="1293" y="3488"/>
                  </a:lnTo>
                  <a:lnTo>
                    <a:pt x="1259" y="3488"/>
                  </a:lnTo>
                  <a:lnTo>
                    <a:pt x="1236" y="3500"/>
                  </a:lnTo>
                  <a:lnTo>
                    <a:pt x="1224" y="3485"/>
                  </a:lnTo>
                  <a:lnTo>
                    <a:pt x="1206" y="3502"/>
                  </a:lnTo>
                  <a:lnTo>
                    <a:pt x="1177" y="3502"/>
                  </a:lnTo>
                  <a:lnTo>
                    <a:pt x="1154" y="3491"/>
                  </a:lnTo>
                  <a:lnTo>
                    <a:pt x="1147" y="3456"/>
                  </a:lnTo>
                  <a:lnTo>
                    <a:pt x="1127" y="3432"/>
                  </a:lnTo>
                  <a:lnTo>
                    <a:pt x="1112" y="3418"/>
                  </a:lnTo>
                  <a:lnTo>
                    <a:pt x="1103" y="3412"/>
                  </a:lnTo>
                  <a:lnTo>
                    <a:pt x="1086" y="3401"/>
                  </a:lnTo>
                  <a:lnTo>
                    <a:pt x="1046" y="3397"/>
                  </a:lnTo>
                  <a:lnTo>
                    <a:pt x="1016" y="3366"/>
                  </a:lnTo>
                  <a:lnTo>
                    <a:pt x="1063" y="3362"/>
                  </a:lnTo>
                  <a:lnTo>
                    <a:pt x="1104" y="3351"/>
                  </a:lnTo>
                  <a:lnTo>
                    <a:pt x="1133" y="3319"/>
                  </a:lnTo>
                  <a:lnTo>
                    <a:pt x="1241" y="3274"/>
                  </a:lnTo>
                  <a:lnTo>
                    <a:pt x="1306" y="3228"/>
                  </a:lnTo>
                  <a:lnTo>
                    <a:pt x="1407" y="3201"/>
                  </a:lnTo>
                  <a:lnTo>
                    <a:pt x="1484" y="3175"/>
                  </a:lnTo>
                  <a:lnTo>
                    <a:pt x="1535" y="3178"/>
                  </a:lnTo>
                  <a:lnTo>
                    <a:pt x="1471" y="3228"/>
                  </a:lnTo>
                  <a:lnTo>
                    <a:pt x="1512" y="3251"/>
                  </a:lnTo>
                  <a:lnTo>
                    <a:pt x="1430" y="3260"/>
                  </a:lnTo>
                  <a:lnTo>
                    <a:pt x="1433" y="3293"/>
                  </a:lnTo>
                  <a:lnTo>
                    <a:pt x="1492" y="3331"/>
                  </a:lnTo>
                  <a:lnTo>
                    <a:pt x="1448" y="3334"/>
                  </a:lnTo>
                  <a:lnTo>
                    <a:pt x="1416" y="3374"/>
                  </a:lnTo>
                  <a:lnTo>
                    <a:pt x="1398" y="3412"/>
                  </a:lnTo>
                  <a:lnTo>
                    <a:pt x="1393" y="3470"/>
                  </a:lnTo>
                  <a:lnTo>
                    <a:pt x="1363" y="3506"/>
                  </a:lnTo>
                  <a:lnTo>
                    <a:pt x="1344" y="3502"/>
                  </a:lnTo>
                  <a:lnTo>
                    <a:pt x="1320" y="3494"/>
                  </a:lnTo>
                  <a:lnTo>
                    <a:pt x="1334" y="3525"/>
                  </a:lnTo>
                  <a:lnTo>
                    <a:pt x="1314" y="3541"/>
                  </a:lnTo>
                  <a:lnTo>
                    <a:pt x="1373" y="3561"/>
                  </a:lnTo>
                  <a:lnTo>
                    <a:pt x="1421" y="3602"/>
                  </a:lnTo>
                  <a:lnTo>
                    <a:pt x="1507" y="3614"/>
                  </a:lnTo>
                  <a:lnTo>
                    <a:pt x="1621" y="3625"/>
                  </a:lnTo>
                  <a:lnTo>
                    <a:pt x="1694" y="3639"/>
                  </a:lnTo>
                  <a:lnTo>
                    <a:pt x="1781" y="3652"/>
                  </a:lnTo>
                  <a:lnTo>
                    <a:pt x="1875" y="3681"/>
                  </a:lnTo>
                  <a:lnTo>
                    <a:pt x="1923" y="3692"/>
                  </a:lnTo>
                  <a:lnTo>
                    <a:pt x="1959" y="3725"/>
                  </a:lnTo>
                  <a:lnTo>
                    <a:pt x="1973" y="3767"/>
                  </a:lnTo>
                  <a:lnTo>
                    <a:pt x="1977" y="3815"/>
                  </a:lnTo>
                  <a:lnTo>
                    <a:pt x="2062" y="3820"/>
                  </a:lnTo>
                  <a:lnTo>
                    <a:pt x="2096" y="3780"/>
                  </a:lnTo>
                  <a:lnTo>
                    <a:pt x="2122" y="3786"/>
                  </a:lnTo>
                  <a:lnTo>
                    <a:pt x="2128" y="3808"/>
                  </a:lnTo>
                  <a:lnTo>
                    <a:pt x="2196" y="3823"/>
                  </a:lnTo>
                  <a:lnTo>
                    <a:pt x="2231" y="3911"/>
                  </a:lnTo>
                  <a:lnTo>
                    <a:pt x="2358" y="3916"/>
                  </a:lnTo>
                  <a:lnTo>
                    <a:pt x="2399" y="3967"/>
                  </a:lnTo>
                  <a:lnTo>
                    <a:pt x="2434" y="3992"/>
                  </a:lnTo>
                  <a:lnTo>
                    <a:pt x="2475" y="3996"/>
                  </a:lnTo>
                  <a:lnTo>
                    <a:pt x="2525" y="4028"/>
                  </a:lnTo>
                  <a:lnTo>
                    <a:pt x="2580" y="4010"/>
                  </a:lnTo>
                  <a:lnTo>
                    <a:pt x="2602" y="3978"/>
                  </a:lnTo>
                  <a:lnTo>
                    <a:pt x="2630" y="3934"/>
                  </a:lnTo>
                  <a:lnTo>
                    <a:pt x="2680" y="3938"/>
                  </a:lnTo>
                  <a:lnTo>
                    <a:pt x="2703" y="3964"/>
                  </a:lnTo>
                  <a:lnTo>
                    <a:pt x="2685" y="4024"/>
                  </a:lnTo>
                  <a:lnTo>
                    <a:pt x="2780" y="4078"/>
                  </a:lnTo>
                  <a:lnTo>
                    <a:pt x="2780" y="4001"/>
                  </a:lnTo>
                  <a:lnTo>
                    <a:pt x="2780" y="3973"/>
                  </a:lnTo>
                  <a:lnTo>
                    <a:pt x="2799" y="3960"/>
                  </a:lnTo>
                  <a:lnTo>
                    <a:pt x="2826" y="4005"/>
                  </a:lnTo>
                  <a:lnTo>
                    <a:pt x="2808" y="3876"/>
                  </a:lnTo>
                  <a:lnTo>
                    <a:pt x="2835" y="3821"/>
                  </a:lnTo>
                  <a:lnTo>
                    <a:pt x="2863" y="3794"/>
                  </a:lnTo>
                  <a:lnTo>
                    <a:pt x="2899" y="3767"/>
                  </a:lnTo>
                  <a:lnTo>
                    <a:pt x="2822" y="3753"/>
                  </a:lnTo>
                  <a:lnTo>
                    <a:pt x="2780" y="3753"/>
                  </a:lnTo>
                  <a:lnTo>
                    <a:pt x="2644" y="3630"/>
                  </a:lnTo>
                  <a:lnTo>
                    <a:pt x="2580" y="3561"/>
                  </a:lnTo>
                  <a:lnTo>
                    <a:pt x="2552" y="3424"/>
                  </a:lnTo>
                  <a:lnTo>
                    <a:pt x="2539" y="3506"/>
                  </a:lnTo>
                  <a:lnTo>
                    <a:pt x="2520" y="3420"/>
                  </a:lnTo>
                  <a:lnTo>
                    <a:pt x="2438" y="3342"/>
                  </a:lnTo>
                  <a:lnTo>
                    <a:pt x="2397" y="3274"/>
                  </a:lnTo>
                  <a:lnTo>
                    <a:pt x="2411" y="3191"/>
                  </a:lnTo>
                  <a:lnTo>
                    <a:pt x="2438" y="3137"/>
                  </a:lnTo>
                  <a:lnTo>
                    <a:pt x="2466" y="3056"/>
                  </a:lnTo>
                  <a:lnTo>
                    <a:pt x="2507" y="2989"/>
                  </a:lnTo>
                  <a:lnTo>
                    <a:pt x="2507" y="2989"/>
                  </a:lnTo>
                  <a:lnTo>
                    <a:pt x="2507" y="2934"/>
                  </a:lnTo>
                  <a:lnTo>
                    <a:pt x="2602" y="2934"/>
                  </a:lnTo>
                  <a:lnTo>
                    <a:pt x="2505" y="2933"/>
                  </a:lnTo>
                  <a:lnTo>
                    <a:pt x="2499" y="3006"/>
                  </a:lnTo>
                  <a:lnTo>
                    <a:pt x="2450" y="3073"/>
                  </a:lnTo>
                  <a:lnTo>
                    <a:pt x="2438" y="3128"/>
                  </a:lnTo>
                  <a:lnTo>
                    <a:pt x="2411" y="3179"/>
                  </a:lnTo>
                  <a:lnTo>
                    <a:pt x="2402" y="3225"/>
                  </a:lnTo>
                  <a:lnTo>
                    <a:pt x="2399" y="3274"/>
                  </a:lnTo>
                  <a:lnTo>
                    <a:pt x="2441" y="3347"/>
                  </a:lnTo>
                  <a:lnTo>
                    <a:pt x="2487" y="3386"/>
                  </a:lnTo>
                  <a:lnTo>
                    <a:pt x="2511" y="3414"/>
                  </a:lnTo>
                  <a:lnTo>
                    <a:pt x="2533" y="3508"/>
                  </a:lnTo>
                  <a:lnTo>
                    <a:pt x="2554" y="3426"/>
                  </a:lnTo>
                  <a:lnTo>
                    <a:pt x="2533" y="3502"/>
                  </a:lnTo>
                  <a:lnTo>
                    <a:pt x="2520" y="3453"/>
                  </a:lnTo>
                  <a:lnTo>
                    <a:pt x="2514" y="3420"/>
                  </a:lnTo>
                  <a:lnTo>
                    <a:pt x="2490" y="3389"/>
                  </a:lnTo>
                  <a:lnTo>
                    <a:pt x="2466" y="3371"/>
                  </a:lnTo>
                  <a:lnTo>
                    <a:pt x="2438" y="3350"/>
                  </a:lnTo>
                  <a:lnTo>
                    <a:pt x="2426" y="3325"/>
                  </a:lnTo>
                  <a:lnTo>
                    <a:pt x="2411" y="3304"/>
                  </a:lnTo>
                  <a:lnTo>
                    <a:pt x="2402" y="3277"/>
                  </a:lnTo>
                  <a:lnTo>
                    <a:pt x="2402" y="3258"/>
                  </a:lnTo>
                  <a:lnTo>
                    <a:pt x="2405" y="3222"/>
                  </a:lnTo>
                  <a:lnTo>
                    <a:pt x="2426" y="3161"/>
                  </a:lnTo>
                  <a:lnTo>
                    <a:pt x="2444" y="3125"/>
                  </a:lnTo>
                  <a:lnTo>
                    <a:pt x="2447" y="3094"/>
                  </a:lnTo>
                  <a:lnTo>
                    <a:pt x="2460" y="3067"/>
                  </a:lnTo>
                  <a:lnTo>
                    <a:pt x="2478" y="3039"/>
                  </a:lnTo>
                  <a:lnTo>
                    <a:pt x="2493" y="3015"/>
                  </a:lnTo>
                  <a:lnTo>
                    <a:pt x="2505" y="2988"/>
                  </a:lnTo>
                  <a:lnTo>
                    <a:pt x="2505" y="2954"/>
                  </a:lnTo>
                  <a:lnTo>
                    <a:pt x="2511" y="2933"/>
                  </a:lnTo>
                  <a:lnTo>
                    <a:pt x="2560" y="2936"/>
                  </a:lnTo>
                  <a:lnTo>
                    <a:pt x="2602" y="2933"/>
                  </a:lnTo>
                  <a:lnTo>
                    <a:pt x="2639" y="2893"/>
                  </a:lnTo>
                  <a:lnTo>
                    <a:pt x="2663" y="2863"/>
                  </a:lnTo>
                  <a:lnTo>
                    <a:pt x="2694" y="2842"/>
                  </a:lnTo>
                  <a:lnTo>
                    <a:pt x="2645" y="2778"/>
                  </a:lnTo>
                  <a:lnTo>
                    <a:pt x="2593" y="2714"/>
                  </a:lnTo>
                  <a:lnTo>
                    <a:pt x="2593" y="2613"/>
                  </a:lnTo>
                  <a:lnTo>
                    <a:pt x="2694" y="2559"/>
                  </a:lnTo>
                  <a:lnTo>
                    <a:pt x="2812" y="2522"/>
                  </a:lnTo>
                  <a:lnTo>
                    <a:pt x="2913" y="2467"/>
                  </a:lnTo>
                  <a:lnTo>
                    <a:pt x="2922" y="2404"/>
                  </a:lnTo>
                  <a:lnTo>
                    <a:pt x="2812" y="2321"/>
                  </a:lnTo>
                  <a:lnTo>
                    <a:pt x="2703" y="2212"/>
                  </a:lnTo>
                  <a:lnTo>
                    <a:pt x="2621" y="2148"/>
                  </a:lnTo>
                  <a:lnTo>
                    <a:pt x="2630" y="1993"/>
                  </a:lnTo>
                  <a:lnTo>
                    <a:pt x="2475" y="1847"/>
                  </a:lnTo>
                  <a:lnTo>
                    <a:pt x="2320" y="1637"/>
                  </a:lnTo>
                  <a:lnTo>
                    <a:pt x="2201" y="1418"/>
                  </a:lnTo>
                  <a:lnTo>
                    <a:pt x="2128" y="1226"/>
                  </a:lnTo>
                  <a:lnTo>
                    <a:pt x="2037" y="1007"/>
                  </a:lnTo>
                  <a:lnTo>
                    <a:pt x="1982" y="806"/>
                  </a:lnTo>
                  <a:lnTo>
                    <a:pt x="2000" y="624"/>
                  </a:lnTo>
                  <a:lnTo>
                    <a:pt x="2046" y="459"/>
                  </a:lnTo>
                  <a:lnTo>
                    <a:pt x="2064" y="268"/>
                  </a:lnTo>
                  <a:lnTo>
                    <a:pt x="2046" y="140"/>
                  </a:lnTo>
                  <a:lnTo>
                    <a:pt x="1942" y="97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813000" y="3705120"/>
              <a:ext cx="309240" cy="28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780400">
              <a:off x="6717960" y="4223520"/>
              <a:ext cx="162720" cy="10728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0" y="57"/>
                  </a:moveTo>
                  <a:lnTo>
                    <a:pt x="51" y="0"/>
                  </a:lnTo>
                  <a:lnTo>
                    <a:pt x="93" y="21"/>
                  </a:lnTo>
                  <a:lnTo>
                    <a:pt x="96" y="48"/>
                  </a:lnTo>
                  <a:lnTo>
                    <a:pt x="114" y="72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780400">
              <a:off x="4826160" y="5626800"/>
              <a:ext cx="333720" cy="486000"/>
            </a:xfrm>
            <a:custGeom>
              <a:avLst/>
              <a:gdLst/>
              <a:ahLst/>
              <a:rect l="l" t="t" r="r" b="b"/>
              <a:pathLst>
                <a:path w="465" h="661">
                  <a:moveTo>
                    <a:pt x="236" y="6"/>
                  </a:moveTo>
                  <a:lnTo>
                    <a:pt x="269" y="0"/>
                  </a:lnTo>
                  <a:lnTo>
                    <a:pt x="292" y="25"/>
                  </a:lnTo>
                  <a:lnTo>
                    <a:pt x="295" y="56"/>
                  </a:lnTo>
                  <a:lnTo>
                    <a:pt x="304" y="62"/>
                  </a:lnTo>
                  <a:lnTo>
                    <a:pt x="321" y="57"/>
                  </a:lnTo>
                  <a:lnTo>
                    <a:pt x="374" y="79"/>
                  </a:lnTo>
                  <a:lnTo>
                    <a:pt x="389" y="68"/>
                  </a:lnTo>
                  <a:lnTo>
                    <a:pt x="411" y="66"/>
                  </a:lnTo>
                  <a:lnTo>
                    <a:pt x="424" y="85"/>
                  </a:lnTo>
                  <a:lnTo>
                    <a:pt x="437" y="115"/>
                  </a:lnTo>
                  <a:lnTo>
                    <a:pt x="453" y="135"/>
                  </a:lnTo>
                  <a:lnTo>
                    <a:pt x="465" y="146"/>
                  </a:lnTo>
                  <a:lnTo>
                    <a:pt x="461" y="156"/>
                  </a:lnTo>
                  <a:lnTo>
                    <a:pt x="421" y="167"/>
                  </a:lnTo>
                  <a:lnTo>
                    <a:pt x="377" y="191"/>
                  </a:lnTo>
                  <a:lnTo>
                    <a:pt x="379" y="232"/>
                  </a:lnTo>
                  <a:lnTo>
                    <a:pt x="353" y="254"/>
                  </a:lnTo>
                  <a:lnTo>
                    <a:pt x="332" y="272"/>
                  </a:lnTo>
                  <a:lnTo>
                    <a:pt x="329" y="311"/>
                  </a:lnTo>
                  <a:lnTo>
                    <a:pt x="329" y="337"/>
                  </a:lnTo>
                  <a:lnTo>
                    <a:pt x="312" y="355"/>
                  </a:lnTo>
                  <a:lnTo>
                    <a:pt x="298" y="337"/>
                  </a:lnTo>
                  <a:lnTo>
                    <a:pt x="274" y="345"/>
                  </a:lnTo>
                  <a:lnTo>
                    <a:pt x="271" y="357"/>
                  </a:lnTo>
                  <a:lnTo>
                    <a:pt x="266" y="390"/>
                  </a:lnTo>
                  <a:lnTo>
                    <a:pt x="275" y="403"/>
                  </a:lnTo>
                  <a:lnTo>
                    <a:pt x="271" y="435"/>
                  </a:lnTo>
                  <a:lnTo>
                    <a:pt x="256" y="450"/>
                  </a:lnTo>
                  <a:lnTo>
                    <a:pt x="236" y="476"/>
                  </a:lnTo>
                  <a:lnTo>
                    <a:pt x="227" y="497"/>
                  </a:lnTo>
                  <a:lnTo>
                    <a:pt x="231" y="536"/>
                  </a:lnTo>
                  <a:lnTo>
                    <a:pt x="248" y="559"/>
                  </a:lnTo>
                  <a:lnTo>
                    <a:pt x="237" y="573"/>
                  </a:lnTo>
                  <a:lnTo>
                    <a:pt x="193" y="587"/>
                  </a:lnTo>
                  <a:lnTo>
                    <a:pt x="176" y="603"/>
                  </a:lnTo>
                  <a:lnTo>
                    <a:pt x="175" y="622"/>
                  </a:lnTo>
                  <a:lnTo>
                    <a:pt x="175" y="655"/>
                  </a:lnTo>
                  <a:lnTo>
                    <a:pt x="125" y="655"/>
                  </a:lnTo>
                  <a:lnTo>
                    <a:pt x="90" y="661"/>
                  </a:lnTo>
                  <a:lnTo>
                    <a:pt x="50" y="616"/>
                  </a:lnTo>
                  <a:lnTo>
                    <a:pt x="29" y="616"/>
                  </a:lnTo>
                  <a:lnTo>
                    <a:pt x="11" y="616"/>
                  </a:lnTo>
                  <a:lnTo>
                    <a:pt x="0" y="599"/>
                  </a:lnTo>
                  <a:lnTo>
                    <a:pt x="11" y="582"/>
                  </a:lnTo>
                  <a:lnTo>
                    <a:pt x="33" y="549"/>
                  </a:lnTo>
                  <a:lnTo>
                    <a:pt x="46" y="515"/>
                  </a:lnTo>
                  <a:lnTo>
                    <a:pt x="73" y="476"/>
                  </a:lnTo>
                  <a:lnTo>
                    <a:pt x="79" y="453"/>
                  </a:lnTo>
                  <a:lnTo>
                    <a:pt x="67" y="436"/>
                  </a:lnTo>
                  <a:lnTo>
                    <a:pt x="50" y="421"/>
                  </a:lnTo>
                  <a:lnTo>
                    <a:pt x="46" y="412"/>
                  </a:lnTo>
                  <a:lnTo>
                    <a:pt x="67" y="406"/>
                  </a:lnTo>
                  <a:lnTo>
                    <a:pt x="79" y="383"/>
                  </a:lnTo>
                  <a:lnTo>
                    <a:pt x="56" y="377"/>
                  </a:lnTo>
                  <a:lnTo>
                    <a:pt x="33" y="389"/>
                  </a:lnTo>
                  <a:lnTo>
                    <a:pt x="33" y="360"/>
                  </a:lnTo>
                  <a:lnTo>
                    <a:pt x="46" y="343"/>
                  </a:lnTo>
                  <a:lnTo>
                    <a:pt x="56" y="327"/>
                  </a:lnTo>
                  <a:lnTo>
                    <a:pt x="62" y="304"/>
                  </a:lnTo>
                  <a:lnTo>
                    <a:pt x="67" y="287"/>
                  </a:lnTo>
                  <a:lnTo>
                    <a:pt x="79" y="282"/>
                  </a:lnTo>
                  <a:lnTo>
                    <a:pt x="96" y="293"/>
                  </a:lnTo>
                  <a:lnTo>
                    <a:pt x="125" y="254"/>
                  </a:lnTo>
                  <a:lnTo>
                    <a:pt x="141" y="226"/>
                  </a:lnTo>
                  <a:lnTo>
                    <a:pt x="186" y="174"/>
                  </a:lnTo>
                  <a:lnTo>
                    <a:pt x="186" y="153"/>
                  </a:lnTo>
                  <a:lnTo>
                    <a:pt x="208" y="118"/>
                  </a:lnTo>
                  <a:lnTo>
                    <a:pt x="214" y="79"/>
                  </a:lnTo>
                  <a:lnTo>
                    <a:pt x="225" y="57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4858200" y="5284080"/>
              <a:ext cx="1047600" cy="987840"/>
              <a:chOff x="4858200" y="5284080"/>
              <a:chExt cx="1047600" cy="987840"/>
            </a:xfrm>
          </p:grpSpPr>
          <p:sp>
            <p:nvSpPr>
              <p:cNvPr id="537" name=""/>
              <p:cNvSpPr/>
              <p:nvPr/>
            </p:nvSpPr>
            <p:spPr>
              <a:xfrm rot="20780400">
                <a:off x="4940280" y="5376600"/>
                <a:ext cx="883080" cy="802080"/>
              </a:xfrm>
              <a:custGeom>
                <a:avLst/>
                <a:gdLst/>
                <a:ahLst/>
                <a:rect l="l" t="t" r="r" b="b"/>
                <a:pathLst>
                  <a:path w="1231" h="1091">
                    <a:moveTo>
                      <a:pt x="62" y="215"/>
                    </a:moveTo>
                    <a:lnTo>
                      <a:pt x="56" y="198"/>
                    </a:lnTo>
                    <a:lnTo>
                      <a:pt x="62" y="175"/>
                    </a:lnTo>
                    <a:lnTo>
                      <a:pt x="96" y="119"/>
                    </a:lnTo>
                    <a:lnTo>
                      <a:pt x="79" y="107"/>
                    </a:lnTo>
                    <a:lnTo>
                      <a:pt x="85" y="90"/>
                    </a:lnTo>
                    <a:lnTo>
                      <a:pt x="67" y="85"/>
                    </a:lnTo>
                    <a:lnTo>
                      <a:pt x="67" y="62"/>
                    </a:lnTo>
                    <a:lnTo>
                      <a:pt x="79" y="46"/>
                    </a:lnTo>
                    <a:lnTo>
                      <a:pt x="135" y="29"/>
                    </a:lnTo>
                    <a:lnTo>
                      <a:pt x="181" y="34"/>
                    </a:lnTo>
                    <a:lnTo>
                      <a:pt x="186" y="17"/>
                    </a:lnTo>
                    <a:lnTo>
                      <a:pt x="219" y="0"/>
                    </a:lnTo>
                    <a:lnTo>
                      <a:pt x="237" y="6"/>
                    </a:lnTo>
                    <a:lnTo>
                      <a:pt x="275" y="56"/>
                    </a:lnTo>
                    <a:lnTo>
                      <a:pt x="338" y="85"/>
                    </a:lnTo>
                    <a:lnTo>
                      <a:pt x="394" y="85"/>
                    </a:lnTo>
                    <a:lnTo>
                      <a:pt x="409" y="90"/>
                    </a:lnTo>
                    <a:lnTo>
                      <a:pt x="560" y="175"/>
                    </a:lnTo>
                    <a:lnTo>
                      <a:pt x="605" y="181"/>
                    </a:lnTo>
                    <a:lnTo>
                      <a:pt x="639" y="215"/>
                    </a:lnTo>
                    <a:lnTo>
                      <a:pt x="689" y="202"/>
                    </a:lnTo>
                    <a:lnTo>
                      <a:pt x="718" y="221"/>
                    </a:lnTo>
                    <a:lnTo>
                      <a:pt x="747" y="248"/>
                    </a:lnTo>
                    <a:lnTo>
                      <a:pt x="780" y="248"/>
                    </a:lnTo>
                    <a:lnTo>
                      <a:pt x="803" y="254"/>
                    </a:lnTo>
                    <a:lnTo>
                      <a:pt x="814" y="265"/>
                    </a:lnTo>
                    <a:lnTo>
                      <a:pt x="803" y="282"/>
                    </a:lnTo>
                    <a:lnTo>
                      <a:pt x="803" y="304"/>
                    </a:lnTo>
                    <a:lnTo>
                      <a:pt x="893" y="367"/>
                    </a:lnTo>
                    <a:lnTo>
                      <a:pt x="943" y="406"/>
                    </a:lnTo>
                    <a:lnTo>
                      <a:pt x="966" y="400"/>
                    </a:lnTo>
                    <a:lnTo>
                      <a:pt x="993" y="394"/>
                    </a:lnTo>
                    <a:lnTo>
                      <a:pt x="1078" y="434"/>
                    </a:lnTo>
                    <a:lnTo>
                      <a:pt x="1089" y="463"/>
                    </a:lnTo>
                    <a:lnTo>
                      <a:pt x="1101" y="473"/>
                    </a:lnTo>
                    <a:lnTo>
                      <a:pt x="1129" y="479"/>
                    </a:lnTo>
                    <a:lnTo>
                      <a:pt x="1145" y="490"/>
                    </a:lnTo>
                    <a:lnTo>
                      <a:pt x="1168" y="490"/>
                    </a:lnTo>
                    <a:lnTo>
                      <a:pt x="1191" y="490"/>
                    </a:lnTo>
                    <a:lnTo>
                      <a:pt x="1214" y="496"/>
                    </a:lnTo>
                    <a:lnTo>
                      <a:pt x="1220" y="490"/>
                    </a:lnTo>
                    <a:lnTo>
                      <a:pt x="1231" y="513"/>
                    </a:lnTo>
                    <a:lnTo>
                      <a:pt x="1231" y="542"/>
                    </a:lnTo>
                    <a:lnTo>
                      <a:pt x="1214" y="558"/>
                    </a:lnTo>
                    <a:lnTo>
                      <a:pt x="1124" y="624"/>
                    </a:lnTo>
                    <a:lnTo>
                      <a:pt x="1085" y="624"/>
                    </a:lnTo>
                    <a:lnTo>
                      <a:pt x="972" y="651"/>
                    </a:lnTo>
                    <a:lnTo>
                      <a:pt x="932" y="657"/>
                    </a:lnTo>
                    <a:lnTo>
                      <a:pt x="932" y="691"/>
                    </a:lnTo>
                    <a:lnTo>
                      <a:pt x="910" y="691"/>
                    </a:lnTo>
                    <a:lnTo>
                      <a:pt x="887" y="707"/>
                    </a:lnTo>
                    <a:lnTo>
                      <a:pt x="864" y="736"/>
                    </a:lnTo>
                    <a:lnTo>
                      <a:pt x="841" y="758"/>
                    </a:lnTo>
                    <a:lnTo>
                      <a:pt x="814" y="764"/>
                    </a:lnTo>
                    <a:lnTo>
                      <a:pt x="791" y="793"/>
                    </a:lnTo>
                    <a:lnTo>
                      <a:pt x="791" y="832"/>
                    </a:lnTo>
                    <a:lnTo>
                      <a:pt x="808" y="854"/>
                    </a:lnTo>
                    <a:lnTo>
                      <a:pt x="814" y="870"/>
                    </a:lnTo>
                    <a:lnTo>
                      <a:pt x="814" y="899"/>
                    </a:lnTo>
                    <a:lnTo>
                      <a:pt x="808" y="910"/>
                    </a:lnTo>
                    <a:lnTo>
                      <a:pt x="785" y="916"/>
                    </a:lnTo>
                    <a:lnTo>
                      <a:pt x="751" y="945"/>
                    </a:lnTo>
                    <a:lnTo>
                      <a:pt x="707" y="984"/>
                    </a:lnTo>
                    <a:lnTo>
                      <a:pt x="689" y="1001"/>
                    </a:lnTo>
                    <a:lnTo>
                      <a:pt x="678" y="1012"/>
                    </a:lnTo>
                    <a:lnTo>
                      <a:pt x="678" y="1028"/>
                    </a:lnTo>
                    <a:lnTo>
                      <a:pt x="628" y="1028"/>
                    </a:lnTo>
                    <a:lnTo>
                      <a:pt x="599" y="1035"/>
                    </a:lnTo>
                    <a:lnTo>
                      <a:pt x="576" y="1041"/>
                    </a:lnTo>
                    <a:lnTo>
                      <a:pt x="566" y="1051"/>
                    </a:lnTo>
                    <a:lnTo>
                      <a:pt x="549" y="1074"/>
                    </a:lnTo>
                    <a:lnTo>
                      <a:pt x="520" y="1085"/>
                    </a:lnTo>
                    <a:lnTo>
                      <a:pt x="503" y="1085"/>
                    </a:lnTo>
                    <a:lnTo>
                      <a:pt x="470" y="1080"/>
                    </a:lnTo>
                    <a:lnTo>
                      <a:pt x="414" y="1074"/>
                    </a:lnTo>
                    <a:lnTo>
                      <a:pt x="315" y="1035"/>
                    </a:lnTo>
                    <a:lnTo>
                      <a:pt x="275" y="1028"/>
                    </a:lnTo>
                    <a:lnTo>
                      <a:pt x="237" y="1041"/>
                    </a:lnTo>
                    <a:lnTo>
                      <a:pt x="208" y="1057"/>
                    </a:lnTo>
                    <a:lnTo>
                      <a:pt x="175" y="1062"/>
                    </a:lnTo>
                    <a:lnTo>
                      <a:pt x="146" y="1080"/>
                    </a:lnTo>
                    <a:lnTo>
                      <a:pt x="129" y="1091"/>
                    </a:lnTo>
                    <a:lnTo>
                      <a:pt x="67" y="1024"/>
                    </a:lnTo>
                    <a:lnTo>
                      <a:pt x="67" y="928"/>
                    </a:lnTo>
                    <a:lnTo>
                      <a:pt x="39" y="893"/>
                    </a:lnTo>
                    <a:lnTo>
                      <a:pt x="6" y="866"/>
                    </a:lnTo>
                    <a:lnTo>
                      <a:pt x="0" y="849"/>
                    </a:lnTo>
                    <a:lnTo>
                      <a:pt x="0" y="814"/>
                    </a:lnTo>
                    <a:lnTo>
                      <a:pt x="17" y="797"/>
                    </a:lnTo>
                    <a:lnTo>
                      <a:pt x="62" y="780"/>
                    </a:lnTo>
                    <a:lnTo>
                      <a:pt x="73" y="770"/>
                    </a:lnTo>
                    <a:lnTo>
                      <a:pt x="56" y="747"/>
                    </a:lnTo>
                    <a:lnTo>
                      <a:pt x="50" y="707"/>
                    </a:lnTo>
                    <a:lnTo>
                      <a:pt x="67" y="674"/>
                    </a:lnTo>
                    <a:lnTo>
                      <a:pt x="102" y="641"/>
                    </a:lnTo>
                    <a:lnTo>
                      <a:pt x="102" y="615"/>
                    </a:lnTo>
                    <a:lnTo>
                      <a:pt x="90" y="592"/>
                    </a:lnTo>
                    <a:lnTo>
                      <a:pt x="102" y="552"/>
                    </a:lnTo>
                    <a:lnTo>
                      <a:pt x="106" y="548"/>
                    </a:lnTo>
                    <a:lnTo>
                      <a:pt x="123" y="548"/>
                    </a:lnTo>
                    <a:lnTo>
                      <a:pt x="135" y="564"/>
                    </a:lnTo>
                    <a:lnTo>
                      <a:pt x="152" y="542"/>
                    </a:lnTo>
                    <a:lnTo>
                      <a:pt x="158" y="479"/>
                    </a:lnTo>
                    <a:lnTo>
                      <a:pt x="202" y="440"/>
                    </a:lnTo>
                    <a:lnTo>
                      <a:pt x="202" y="417"/>
                    </a:lnTo>
                    <a:lnTo>
                      <a:pt x="202" y="400"/>
                    </a:lnTo>
                    <a:lnTo>
                      <a:pt x="248" y="373"/>
                    </a:lnTo>
                    <a:lnTo>
                      <a:pt x="281" y="367"/>
                    </a:lnTo>
                    <a:lnTo>
                      <a:pt x="294" y="355"/>
                    </a:lnTo>
                    <a:lnTo>
                      <a:pt x="265" y="327"/>
                    </a:lnTo>
                    <a:lnTo>
                      <a:pt x="242" y="282"/>
                    </a:lnTo>
                    <a:lnTo>
                      <a:pt x="231" y="271"/>
                    </a:lnTo>
                    <a:lnTo>
                      <a:pt x="198" y="288"/>
                    </a:lnTo>
                    <a:lnTo>
                      <a:pt x="175" y="277"/>
                    </a:lnTo>
                    <a:lnTo>
                      <a:pt x="141" y="265"/>
                    </a:lnTo>
                    <a:lnTo>
                      <a:pt x="129" y="271"/>
                    </a:lnTo>
                    <a:lnTo>
                      <a:pt x="119" y="259"/>
                    </a:lnTo>
                    <a:lnTo>
                      <a:pt x="119" y="237"/>
                    </a:lnTo>
                    <a:lnTo>
                      <a:pt x="102" y="215"/>
                    </a:lnTo>
                    <a:lnTo>
                      <a:pt x="90" y="209"/>
                    </a:lnTo>
                    <a:lnTo>
                      <a:pt x="62" y="21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780400">
                <a:off x="5671080" y="5975640"/>
                <a:ext cx="34200" cy="2484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47" y="0"/>
                    </a:moveTo>
                    <a:lnTo>
                      <a:pt x="24" y="0"/>
                    </a:lnTo>
                    <a:lnTo>
                      <a:pt x="0" y="23"/>
                    </a:lnTo>
                    <a:lnTo>
                      <a:pt x="12" y="34"/>
                    </a:lnTo>
                    <a:lnTo>
                      <a:pt x="35" y="3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0780400">
                <a:off x="5754960" y="5886720"/>
                <a:ext cx="77400" cy="61920"/>
              </a:xfrm>
              <a:custGeom>
                <a:avLst/>
                <a:gdLst/>
                <a:ahLst/>
                <a:rect l="l" t="t" r="r" b="b"/>
                <a:pathLst>
                  <a:path w="108" h="85">
                    <a:moveTo>
                      <a:pt x="79" y="0"/>
                    </a:moveTo>
                    <a:lnTo>
                      <a:pt x="68" y="11"/>
                    </a:lnTo>
                    <a:lnTo>
                      <a:pt x="23" y="17"/>
                    </a:lnTo>
                    <a:lnTo>
                      <a:pt x="0" y="46"/>
                    </a:lnTo>
                    <a:lnTo>
                      <a:pt x="33" y="68"/>
                    </a:lnTo>
                    <a:lnTo>
                      <a:pt x="52" y="85"/>
                    </a:lnTo>
                    <a:lnTo>
                      <a:pt x="85" y="79"/>
                    </a:lnTo>
                    <a:lnTo>
                      <a:pt x="108" y="68"/>
                    </a:lnTo>
                    <a:lnTo>
                      <a:pt x="102" y="46"/>
                    </a:lnTo>
                    <a:lnTo>
                      <a:pt x="85" y="29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0780400">
                <a:off x="5871600" y="5868720"/>
                <a:ext cx="24120" cy="320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23" y="0"/>
                    </a:moveTo>
                    <a:lnTo>
                      <a:pt x="0" y="11"/>
                    </a:lnTo>
                    <a:lnTo>
                      <a:pt x="18" y="28"/>
                    </a:lnTo>
                    <a:lnTo>
                      <a:pt x="35" y="4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011640" y="5040720"/>
              <a:ext cx="997560" cy="1119600"/>
              <a:chOff x="6011640" y="5040720"/>
              <a:chExt cx="997560" cy="1119600"/>
            </a:xfrm>
          </p:grpSpPr>
          <p:sp>
            <p:nvSpPr>
              <p:cNvPr id="542" name=""/>
              <p:cNvSpPr/>
              <p:nvPr/>
            </p:nvSpPr>
            <p:spPr>
              <a:xfrm rot="20780400">
                <a:off x="6192720" y="5738760"/>
                <a:ext cx="127440" cy="215640"/>
              </a:xfrm>
              <a:custGeom>
                <a:avLst/>
                <a:gdLst/>
                <a:ahLst/>
                <a:rect l="l" t="t" r="r" b="b"/>
                <a:pathLst>
                  <a:path w="180" h="294">
                    <a:moveTo>
                      <a:pt x="107" y="0"/>
                    </a:moveTo>
                    <a:lnTo>
                      <a:pt x="80" y="17"/>
                    </a:lnTo>
                    <a:lnTo>
                      <a:pt x="57" y="34"/>
                    </a:lnTo>
                    <a:lnTo>
                      <a:pt x="34" y="40"/>
                    </a:lnTo>
                    <a:lnTo>
                      <a:pt x="0" y="34"/>
                    </a:lnTo>
                    <a:lnTo>
                      <a:pt x="7" y="69"/>
                    </a:lnTo>
                    <a:lnTo>
                      <a:pt x="23" y="90"/>
                    </a:lnTo>
                    <a:lnTo>
                      <a:pt x="17" y="148"/>
                    </a:lnTo>
                    <a:lnTo>
                      <a:pt x="17" y="175"/>
                    </a:lnTo>
                    <a:lnTo>
                      <a:pt x="23" y="198"/>
                    </a:lnTo>
                    <a:lnTo>
                      <a:pt x="7" y="244"/>
                    </a:lnTo>
                    <a:lnTo>
                      <a:pt x="11" y="277"/>
                    </a:lnTo>
                    <a:lnTo>
                      <a:pt x="34" y="294"/>
                    </a:lnTo>
                    <a:lnTo>
                      <a:pt x="67" y="271"/>
                    </a:lnTo>
                    <a:lnTo>
                      <a:pt x="80" y="265"/>
                    </a:lnTo>
                    <a:lnTo>
                      <a:pt x="113" y="271"/>
                    </a:lnTo>
                    <a:lnTo>
                      <a:pt x="136" y="248"/>
                    </a:lnTo>
                    <a:lnTo>
                      <a:pt x="136" y="226"/>
                    </a:lnTo>
                    <a:lnTo>
                      <a:pt x="163" y="182"/>
                    </a:lnTo>
                    <a:lnTo>
                      <a:pt x="174" y="153"/>
                    </a:lnTo>
                    <a:lnTo>
                      <a:pt x="163" y="125"/>
                    </a:lnTo>
                    <a:lnTo>
                      <a:pt x="180" y="90"/>
                    </a:lnTo>
                    <a:lnTo>
                      <a:pt x="169" y="40"/>
                    </a:lnTo>
                    <a:lnTo>
                      <a:pt x="163" y="11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780400">
                <a:off x="6552720" y="5983200"/>
                <a:ext cx="235080" cy="151200"/>
              </a:xfrm>
              <a:custGeom>
                <a:avLst/>
                <a:gdLst/>
                <a:ahLst/>
                <a:rect l="l" t="t" r="r" b="b"/>
                <a:pathLst>
                  <a:path w="329" h="207">
                    <a:moveTo>
                      <a:pt x="312" y="0"/>
                    </a:moveTo>
                    <a:lnTo>
                      <a:pt x="329" y="17"/>
                    </a:lnTo>
                    <a:lnTo>
                      <a:pt x="318" y="34"/>
                    </a:lnTo>
                    <a:lnTo>
                      <a:pt x="306" y="61"/>
                    </a:lnTo>
                    <a:lnTo>
                      <a:pt x="289" y="78"/>
                    </a:lnTo>
                    <a:lnTo>
                      <a:pt x="295" y="130"/>
                    </a:lnTo>
                    <a:lnTo>
                      <a:pt x="306" y="168"/>
                    </a:lnTo>
                    <a:lnTo>
                      <a:pt x="277" y="184"/>
                    </a:lnTo>
                    <a:lnTo>
                      <a:pt x="273" y="201"/>
                    </a:lnTo>
                    <a:lnTo>
                      <a:pt x="250" y="207"/>
                    </a:lnTo>
                    <a:lnTo>
                      <a:pt x="216" y="174"/>
                    </a:lnTo>
                    <a:lnTo>
                      <a:pt x="193" y="174"/>
                    </a:lnTo>
                    <a:lnTo>
                      <a:pt x="175" y="146"/>
                    </a:lnTo>
                    <a:lnTo>
                      <a:pt x="142" y="130"/>
                    </a:lnTo>
                    <a:lnTo>
                      <a:pt x="119" y="124"/>
                    </a:lnTo>
                    <a:lnTo>
                      <a:pt x="96" y="113"/>
                    </a:lnTo>
                    <a:lnTo>
                      <a:pt x="73" y="95"/>
                    </a:lnTo>
                    <a:lnTo>
                      <a:pt x="34" y="67"/>
                    </a:lnTo>
                    <a:lnTo>
                      <a:pt x="17" y="61"/>
                    </a:lnTo>
                    <a:lnTo>
                      <a:pt x="0" y="44"/>
                    </a:lnTo>
                    <a:lnTo>
                      <a:pt x="0" y="23"/>
                    </a:lnTo>
                    <a:lnTo>
                      <a:pt x="6" y="6"/>
                    </a:lnTo>
                    <a:lnTo>
                      <a:pt x="40" y="11"/>
                    </a:lnTo>
                    <a:lnTo>
                      <a:pt x="92" y="11"/>
                    </a:lnTo>
                    <a:lnTo>
                      <a:pt x="102" y="28"/>
                    </a:lnTo>
                    <a:lnTo>
                      <a:pt x="158" y="28"/>
                    </a:lnTo>
                    <a:lnTo>
                      <a:pt x="198" y="28"/>
                    </a:lnTo>
                    <a:lnTo>
                      <a:pt x="250" y="1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0780400">
                <a:off x="6109560" y="5122080"/>
                <a:ext cx="801360" cy="926640"/>
              </a:xfrm>
              <a:custGeom>
                <a:avLst/>
                <a:gdLst/>
                <a:ahLst/>
                <a:rect l="l" t="t" r="r" b="b"/>
                <a:pathLst>
                  <a:path w="1118" h="1261">
                    <a:moveTo>
                      <a:pt x="811" y="1244"/>
                    </a:moveTo>
                    <a:lnTo>
                      <a:pt x="827" y="1261"/>
                    </a:lnTo>
                    <a:lnTo>
                      <a:pt x="856" y="1244"/>
                    </a:lnTo>
                    <a:lnTo>
                      <a:pt x="890" y="1198"/>
                    </a:lnTo>
                    <a:lnTo>
                      <a:pt x="907" y="1131"/>
                    </a:lnTo>
                    <a:lnTo>
                      <a:pt x="923" y="1125"/>
                    </a:lnTo>
                    <a:lnTo>
                      <a:pt x="935" y="1136"/>
                    </a:lnTo>
                    <a:lnTo>
                      <a:pt x="958" y="1115"/>
                    </a:lnTo>
                    <a:lnTo>
                      <a:pt x="952" y="1086"/>
                    </a:lnTo>
                    <a:lnTo>
                      <a:pt x="963" y="1063"/>
                    </a:lnTo>
                    <a:lnTo>
                      <a:pt x="958" y="1052"/>
                    </a:lnTo>
                    <a:lnTo>
                      <a:pt x="929" y="1029"/>
                    </a:lnTo>
                    <a:lnTo>
                      <a:pt x="919" y="1029"/>
                    </a:lnTo>
                    <a:lnTo>
                      <a:pt x="923" y="1017"/>
                    </a:lnTo>
                    <a:lnTo>
                      <a:pt x="902" y="1023"/>
                    </a:lnTo>
                    <a:lnTo>
                      <a:pt x="890" y="1013"/>
                    </a:lnTo>
                    <a:lnTo>
                      <a:pt x="890" y="1001"/>
                    </a:lnTo>
                    <a:lnTo>
                      <a:pt x="923" y="979"/>
                    </a:lnTo>
                    <a:lnTo>
                      <a:pt x="940" y="956"/>
                    </a:lnTo>
                    <a:lnTo>
                      <a:pt x="940" y="921"/>
                    </a:lnTo>
                    <a:lnTo>
                      <a:pt x="958" y="917"/>
                    </a:lnTo>
                    <a:lnTo>
                      <a:pt x="1015" y="944"/>
                    </a:lnTo>
                    <a:lnTo>
                      <a:pt x="1036" y="950"/>
                    </a:lnTo>
                    <a:lnTo>
                      <a:pt x="1065" y="990"/>
                    </a:lnTo>
                    <a:lnTo>
                      <a:pt x="1075" y="1013"/>
                    </a:lnTo>
                    <a:lnTo>
                      <a:pt x="1092" y="1013"/>
                    </a:lnTo>
                    <a:lnTo>
                      <a:pt x="1109" y="990"/>
                    </a:lnTo>
                    <a:lnTo>
                      <a:pt x="1118" y="967"/>
                    </a:lnTo>
                    <a:lnTo>
                      <a:pt x="1098" y="928"/>
                    </a:lnTo>
                    <a:lnTo>
                      <a:pt x="1075" y="905"/>
                    </a:lnTo>
                    <a:lnTo>
                      <a:pt x="1054" y="905"/>
                    </a:lnTo>
                    <a:lnTo>
                      <a:pt x="1054" y="900"/>
                    </a:lnTo>
                    <a:lnTo>
                      <a:pt x="1042" y="900"/>
                    </a:lnTo>
                    <a:lnTo>
                      <a:pt x="986" y="842"/>
                    </a:lnTo>
                    <a:lnTo>
                      <a:pt x="958" y="848"/>
                    </a:lnTo>
                    <a:lnTo>
                      <a:pt x="923" y="804"/>
                    </a:lnTo>
                    <a:lnTo>
                      <a:pt x="902" y="798"/>
                    </a:lnTo>
                    <a:lnTo>
                      <a:pt x="867" y="765"/>
                    </a:lnTo>
                    <a:lnTo>
                      <a:pt x="850" y="753"/>
                    </a:lnTo>
                    <a:lnTo>
                      <a:pt x="862" y="742"/>
                    </a:lnTo>
                    <a:lnTo>
                      <a:pt x="879" y="736"/>
                    </a:lnTo>
                    <a:lnTo>
                      <a:pt x="856" y="719"/>
                    </a:lnTo>
                    <a:lnTo>
                      <a:pt x="827" y="730"/>
                    </a:lnTo>
                    <a:lnTo>
                      <a:pt x="806" y="719"/>
                    </a:lnTo>
                    <a:lnTo>
                      <a:pt x="744" y="667"/>
                    </a:lnTo>
                    <a:lnTo>
                      <a:pt x="738" y="646"/>
                    </a:lnTo>
                    <a:lnTo>
                      <a:pt x="715" y="640"/>
                    </a:lnTo>
                    <a:lnTo>
                      <a:pt x="694" y="623"/>
                    </a:lnTo>
                    <a:lnTo>
                      <a:pt x="636" y="502"/>
                    </a:lnTo>
                    <a:lnTo>
                      <a:pt x="619" y="485"/>
                    </a:lnTo>
                    <a:lnTo>
                      <a:pt x="575" y="445"/>
                    </a:lnTo>
                    <a:lnTo>
                      <a:pt x="523" y="366"/>
                    </a:lnTo>
                    <a:lnTo>
                      <a:pt x="523" y="321"/>
                    </a:lnTo>
                    <a:lnTo>
                      <a:pt x="552" y="304"/>
                    </a:lnTo>
                    <a:lnTo>
                      <a:pt x="552" y="281"/>
                    </a:lnTo>
                    <a:lnTo>
                      <a:pt x="529" y="260"/>
                    </a:lnTo>
                    <a:lnTo>
                      <a:pt x="519" y="248"/>
                    </a:lnTo>
                    <a:lnTo>
                      <a:pt x="523" y="231"/>
                    </a:lnTo>
                    <a:lnTo>
                      <a:pt x="546" y="220"/>
                    </a:lnTo>
                    <a:lnTo>
                      <a:pt x="614" y="203"/>
                    </a:lnTo>
                    <a:lnTo>
                      <a:pt x="642" y="185"/>
                    </a:lnTo>
                    <a:lnTo>
                      <a:pt x="665" y="164"/>
                    </a:lnTo>
                    <a:lnTo>
                      <a:pt x="659" y="106"/>
                    </a:lnTo>
                    <a:lnTo>
                      <a:pt x="665" y="85"/>
                    </a:lnTo>
                    <a:lnTo>
                      <a:pt x="631" y="79"/>
                    </a:lnTo>
                    <a:lnTo>
                      <a:pt x="558" y="62"/>
                    </a:lnTo>
                    <a:lnTo>
                      <a:pt x="546" y="45"/>
                    </a:lnTo>
                    <a:lnTo>
                      <a:pt x="541" y="39"/>
                    </a:lnTo>
                    <a:lnTo>
                      <a:pt x="541" y="22"/>
                    </a:lnTo>
                    <a:lnTo>
                      <a:pt x="535" y="6"/>
                    </a:lnTo>
                    <a:lnTo>
                      <a:pt x="496" y="0"/>
                    </a:lnTo>
                    <a:lnTo>
                      <a:pt x="400" y="6"/>
                    </a:lnTo>
                    <a:lnTo>
                      <a:pt x="389" y="28"/>
                    </a:lnTo>
                    <a:lnTo>
                      <a:pt x="354" y="33"/>
                    </a:lnTo>
                    <a:lnTo>
                      <a:pt x="333" y="79"/>
                    </a:lnTo>
                    <a:lnTo>
                      <a:pt x="333" y="95"/>
                    </a:lnTo>
                    <a:lnTo>
                      <a:pt x="310" y="79"/>
                    </a:lnTo>
                    <a:lnTo>
                      <a:pt x="275" y="73"/>
                    </a:lnTo>
                    <a:lnTo>
                      <a:pt x="254" y="85"/>
                    </a:lnTo>
                    <a:lnTo>
                      <a:pt x="237" y="118"/>
                    </a:lnTo>
                    <a:lnTo>
                      <a:pt x="202" y="95"/>
                    </a:lnTo>
                    <a:lnTo>
                      <a:pt x="208" y="62"/>
                    </a:lnTo>
                    <a:lnTo>
                      <a:pt x="198" y="39"/>
                    </a:lnTo>
                    <a:lnTo>
                      <a:pt x="175" y="45"/>
                    </a:lnTo>
                    <a:lnTo>
                      <a:pt x="169" y="73"/>
                    </a:lnTo>
                    <a:lnTo>
                      <a:pt x="152" y="89"/>
                    </a:lnTo>
                    <a:lnTo>
                      <a:pt x="135" y="89"/>
                    </a:lnTo>
                    <a:lnTo>
                      <a:pt x="56" y="79"/>
                    </a:lnTo>
                    <a:lnTo>
                      <a:pt x="29" y="101"/>
                    </a:lnTo>
                    <a:lnTo>
                      <a:pt x="33" y="129"/>
                    </a:lnTo>
                    <a:lnTo>
                      <a:pt x="39" y="152"/>
                    </a:lnTo>
                    <a:lnTo>
                      <a:pt x="0" y="185"/>
                    </a:lnTo>
                    <a:lnTo>
                      <a:pt x="11" y="208"/>
                    </a:lnTo>
                    <a:lnTo>
                      <a:pt x="23" y="220"/>
                    </a:lnTo>
                    <a:lnTo>
                      <a:pt x="0" y="248"/>
                    </a:lnTo>
                    <a:lnTo>
                      <a:pt x="0" y="287"/>
                    </a:lnTo>
                    <a:lnTo>
                      <a:pt x="11" y="304"/>
                    </a:lnTo>
                    <a:lnTo>
                      <a:pt x="33" y="304"/>
                    </a:lnTo>
                    <a:lnTo>
                      <a:pt x="46" y="316"/>
                    </a:lnTo>
                    <a:lnTo>
                      <a:pt x="56" y="343"/>
                    </a:lnTo>
                    <a:lnTo>
                      <a:pt x="56" y="372"/>
                    </a:lnTo>
                    <a:lnTo>
                      <a:pt x="79" y="378"/>
                    </a:lnTo>
                    <a:lnTo>
                      <a:pt x="96" y="372"/>
                    </a:lnTo>
                    <a:lnTo>
                      <a:pt x="158" y="310"/>
                    </a:lnTo>
                    <a:lnTo>
                      <a:pt x="185" y="321"/>
                    </a:lnTo>
                    <a:lnTo>
                      <a:pt x="242" y="349"/>
                    </a:lnTo>
                    <a:lnTo>
                      <a:pt x="281" y="378"/>
                    </a:lnTo>
                    <a:lnTo>
                      <a:pt x="287" y="412"/>
                    </a:lnTo>
                    <a:lnTo>
                      <a:pt x="310" y="435"/>
                    </a:lnTo>
                    <a:lnTo>
                      <a:pt x="321" y="474"/>
                    </a:lnTo>
                    <a:lnTo>
                      <a:pt x="333" y="535"/>
                    </a:lnTo>
                    <a:lnTo>
                      <a:pt x="350" y="564"/>
                    </a:lnTo>
                    <a:lnTo>
                      <a:pt x="371" y="587"/>
                    </a:lnTo>
                    <a:lnTo>
                      <a:pt x="411" y="602"/>
                    </a:lnTo>
                    <a:lnTo>
                      <a:pt x="446" y="657"/>
                    </a:lnTo>
                    <a:lnTo>
                      <a:pt x="479" y="702"/>
                    </a:lnTo>
                    <a:lnTo>
                      <a:pt x="513" y="725"/>
                    </a:lnTo>
                    <a:lnTo>
                      <a:pt x="575" y="798"/>
                    </a:lnTo>
                    <a:lnTo>
                      <a:pt x="619" y="798"/>
                    </a:lnTo>
                    <a:lnTo>
                      <a:pt x="671" y="842"/>
                    </a:lnTo>
                    <a:lnTo>
                      <a:pt x="671" y="888"/>
                    </a:lnTo>
                    <a:lnTo>
                      <a:pt x="687" y="900"/>
                    </a:lnTo>
                    <a:lnTo>
                      <a:pt x="721" y="877"/>
                    </a:lnTo>
                    <a:lnTo>
                      <a:pt x="727" y="900"/>
                    </a:lnTo>
                    <a:lnTo>
                      <a:pt x="727" y="928"/>
                    </a:lnTo>
                    <a:lnTo>
                      <a:pt x="761" y="956"/>
                    </a:lnTo>
                    <a:lnTo>
                      <a:pt x="771" y="973"/>
                    </a:lnTo>
                    <a:lnTo>
                      <a:pt x="817" y="961"/>
                    </a:lnTo>
                    <a:lnTo>
                      <a:pt x="823" y="979"/>
                    </a:lnTo>
                    <a:lnTo>
                      <a:pt x="817" y="1017"/>
                    </a:lnTo>
                    <a:lnTo>
                      <a:pt x="840" y="1052"/>
                    </a:lnTo>
                    <a:lnTo>
                      <a:pt x="846" y="1080"/>
                    </a:lnTo>
                    <a:lnTo>
                      <a:pt x="856" y="1109"/>
                    </a:lnTo>
                    <a:lnTo>
                      <a:pt x="850" y="1131"/>
                    </a:lnTo>
                    <a:lnTo>
                      <a:pt x="827" y="1154"/>
                    </a:lnTo>
                    <a:lnTo>
                      <a:pt x="823" y="1182"/>
                    </a:lnTo>
                    <a:lnTo>
                      <a:pt x="806" y="1215"/>
                    </a:lnTo>
                    <a:lnTo>
                      <a:pt x="811" y="1244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 rot="20780400">
              <a:off x="5967000" y="5070960"/>
              <a:ext cx="322920" cy="2174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37" y="56"/>
                  </a:moveTo>
                  <a:lnTo>
                    <a:pt x="215" y="36"/>
                  </a:lnTo>
                  <a:lnTo>
                    <a:pt x="218" y="28"/>
                  </a:lnTo>
                  <a:lnTo>
                    <a:pt x="204" y="16"/>
                  </a:lnTo>
                  <a:lnTo>
                    <a:pt x="192" y="0"/>
                  </a:lnTo>
                  <a:lnTo>
                    <a:pt x="178" y="16"/>
                  </a:lnTo>
                  <a:lnTo>
                    <a:pt x="169" y="10"/>
                  </a:lnTo>
                  <a:lnTo>
                    <a:pt x="152" y="25"/>
                  </a:lnTo>
                  <a:lnTo>
                    <a:pt x="152" y="33"/>
                  </a:lnTo>
                  <a:lnTo>
                    <a:pt x="132" y="42"/>
                  </a:lnTo>
                  <a:lnTo>
                    <a:pt x="82" y="82"/>
                  </a:lnTo>
                  <a:lnTo>
                    <a:pt x="69" y="98"/>
                  </a:lnTo>
                  <a:lnTo>
                    <a:pt x="69" y="118"/>
                  </a:lnTo>
                  <a:lnTo>
                    <a:pt x="50" y="124"/>
                  </a:lnTo>
                  <a:lnTo>
                    <a:pt x="14" y="164"/>
                  </a:lnTo>
                  <a:lnTo>
                    <a:pt x="14" y="178"/>
                  </a:lnTo>
                  <a:lnTo>
                    <a:pt x="0" y="194"/>
                  </a:lnTo>
                  <a:lnTo>
                    <a:pt x="6" y="214"/>
                  </a:lnTo>
                  <a:lnTo>
                    <a:pt x="23" y="203"/>
                  </a:lnTo>
                  <a:lnTo>
                    <a:pt x="40" y="185"/>
                  </a:lnTo>
                  <a:lnTo>
                    <a:pt x="66" y="181"/>
                  </a:lnTo>
                  <a:lnTo>
                    <a:pt x="82" y="185"/>
                  </a:lnTo>
                  <a:lnTo>
                    <a:pt x="88" y="214"/>
                  </a:lnTo>
                  <a:lnTo>
                    <a:pt x="85" y="234"/>
                  </a:lnTo>
                  <a:lnTo>
                    <a:pt x="96" y="248"/>
                  </a:lnTo>
                  <a:lnTo>
                    <a:pt x="110" y="257"/>
                  </a:lnTo>
                  <a:lnTo>
                    <a:pt x="139" y="260"/>
                  </a:lnTo>
                  <a:lnTo>
                    <a:pt x="201" y="267"/>
                  </a:lnTo>
                  <a:lnTo>
                    <a:pt x="215" y="260"/>
                  </a:lnTo>
                  <a:lnTo>
                    <a:pt x="224" y="248"/>
                  </a:lnTo>
                  <a:lnTo>
                    <a:pt x="230" y="222"/>
                  </a:lnTo>
                  <a:lnTo>
                    <a:pt x="253" y="220"/>
                  </a:lnTo>
                  <a:lnTo>
                    <a:pt x="260" y="237"/>
                  </a:lnTo>
                  <a:lnTo>
                    <a:pt x="260" y="275"/>
                  </a:lnTo>
                  <a:lnTo>
                    <a:pt x="289" y="295"/>
                  </a:lnTo>
                  <a:lnTo>
                    <a:pt x="310" y="261"/>
                  </a:lnTo>
                  <a:lnTo>
                    <a:pt x="333" y="251"/>
                  </a:lnTo>
                  <a:lnTo>
                    <a:pt x="359" y="254"/>
                  </a:lnTo>
                  <a:lnTo>
                    <a:pt x="379" y="264"/>
                  </a:lnTo>
                  <a:lnTo>
                    <a:pt x="387" y="273"/>
                  </a:lnTo>
                  <a:lnTo>
                    <a:pt x="393" y="245"/>
                  </a:lnTo>
                  <a:lnTo>
                    <a:pt x="408" y="211"/>
                  </a:lnTo>
                  <a:lnTo>
                    <a:pt x="441" y="205"/>
                  </a:lnTo>
                  <a:lnTo>
                    <a:pt x="452" y="184"/>
                  </a:lnTo>
                  <a:lnTo>
                    <a:pt x="441" y="165"/>
                  </a:lnTo>
                  <a:lnTo>
                    <a:pt x="426" y="158"/>
                  </a:lnTo>
                  <a:lnTo>
                    <a:pt x="383" y="150"/>
                  </a:lnTo>
                  <a:lnTo>
                    <a:pt x="382" y="129"/>
                  </a:lnTo>
                  <a:lnTo>
                    <a:pt x="382" y="106"/>
                  </a:lnTo>
                  <a:lnTo>
                    <a:pt x="382" y="89"/>
                  </a:lnTo>
                  <a:lnTo>
                    <a:pt x="356" y="76"/>
                  </a:lnTo>
                  <a:lnTo>
                    <a:pt x="342" y="82"/>
                  </a:lnTo>
                  <a:lnTo>
                    <a:pt x="320" y="65"/>
                  </a:lnTo>
                  <a:lnTo>
                    <a:pt x="317" y="53"/>
                  </a:lnTo>
                  <a:lnTo>
                    <a:pt x="307" y="39"/>
                  </a:lnTo>
                  <a:lnTo>
                    <a:pt x="307" y="33"/>
                  </a:lnTo>
                  <a:lnTo>
                    <a:pt x="283" y="25"/>
                  </a:lnTo>
                  <a:lnTo>
                    <a:pt x="274" y="36"/>
                  </a:lnTo>
                  <a:lnTo>
                    <a:pt x="257" y="48"/>
                  </a:lnTo>
                  <a:lnTo>
                    <a:pt x="237" y="5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780400">
              <a:off x="6213240" y="4965120"/>
              <a:ext cx="492120" cy="228960"/>
            </a:xfrm>
            <a:custGeom>
              <a:avLst/>
              <a:gdLst/>
              <a:ahLst/>
              <a:rect l="l" t="t" r="r" b="b"/>
              <a:pathLst>
                <a:path w="688" h="313">
                  <a:moveTo>
                    <a:pt x="0" y="113"/>
                  </a:moveTo>
                  <a:lnTo>
                    <a:pt x="29" y="110"/>
                  </a:lnTo>
                  <a:lnTo>
                    <a:pt x="40" y="107"/>
                  </a:lnTo>
                  <a:lnTo>
                    <a:pt x="55" y="125"/>
                  </a:lnTo>
                  <a:lnTo>
                    <a:pt x="73" y="119"/>
                  </a:lnTo>
                  <a:lnTo>
                    <a:pt x="96" y="122"/>
                  </a:lnTo>
                  <a:lnTo>
                    <a:pt x="110" y="132"/>
                  </a:lnTo>
                  <a:lnTo>
                    <a:pt x="134" y="119"/>
                  </a:lnTo>
                  <a:lnTo>
                    <a:pt x="166" y="120"/>
                  </a:lnTo>
                  <a:lnTo>
                    <a:pt x="180" y="134"/>
                  </a:lnTo>
                  <a:lnTo>
                    <a:pt x="199" y="139"/>
                  </a:lnTo>
                  <a:lnTo>
                    <a:pt x="210" y="129"/>
                  </a:lnTo>
                  <a:lnTo>
                    <a:pt x="245" y="123"/>
                  </a:lnTo>
                  <a:lnTo>
                    <a:pt x="262" y="123"/>
                  </a:lnTo>
                  <a:lnTo>
                    <a:pt x="288" y="132"/>
                  </a:lnTo>
                  <a:lnTo>
                    <a:pt x="318" y="152"/>
                  </a:lnTo>
                  <a:lnTo>
                    <a:pt x="341" y="143"/>
                  </a:lnTo>
                  <a:lnTo>
                    <a:pt x="346" y="123"/>
                  </a:lnTo>
                  <a:lnTo>
                    <a:pt x="330" y="97"/>
                  </a:lnTo>
                  <a:lnTo>
                    <a:pt x="323" y="61"/>
                  </a:lnTo>
                  <a:lnTo>
                    <a:pt x="400" y="8"/>
                  </a:lnTo>
                  <a:lnTo>
                    <a:pt x="417" y="8"/>
                  </a:lnTo>
                  <a:lnTo>
                    <a:pt x="420" y="26"/>
                  </a:lnTo>
                  <a:lnTo>
                    <a:pt x="443" y="31"/>
                  </a:lnTo>
                  <a:lnTo>
                    <a:pt x="492" y="24"/>
                  </a:lnTo>
                  <a:lnTo>
                    <a:pt x="511" y="3"/>
                  </a:lnTo>
                  <a:lnTo>
                    <a:pt x="572" y="0"/>
                  </a:lnTo>
                  <a:lnTo>
                    <a:pt x="586" y="26"/>
                  </a:lnTo>
                  <a:lnTo>
                    <a:pt x="610" y="26"/>
                  </a:lnTo>
                  <a:lnTo>
                    <a:pt x="633" y="12"/>
                  </a:lnTo>
                  <a:lnTo>
                    <a:pt x="671" y="37"/>
                  </a:lnTo>
                  <a:lnTo>
                    <a:pt x="671" y="79"/>
                  </a:lnTo>
                  <a:lnTo>
                    <a:pt x="688" y="97"/>
                  </a:lnTo>
                  <a:lnTo>
                    <a:pt x="683" y="125"/>
                  </a:lnTo>
                  <a:lnTo>
                    <a:pt x="671" y="152"/>
                  </a:lnTo>
                  <a:lnTo>
                    <a:pt x="651" y="152"/>
                  </a:lnTo>
                  <a:lnTo>
                    <a:pt x="644" y="160"/>
                  </a:lnTo>
                  <a:lnTo>
                    <a:pt x="656" y="183"/>
                  </a:lnTo>
                  <a:lnTo>
                    <a:pt x="656" y="205"/>
                  </a:lnTo>
                  <a:lnTo>
                    <a:pt x="644" y="225"/>
                  </a:lnTo>
                  <a:lnTo>
                    <a:pt x="610" y="242"/>
                  </a:lnTo>
                  <a:lnTo>
                    <a:pt x="609" y="262"/>
                  </a:lnTo>
                  <a:lnTo>
                    <a:pt x="609" y="282"/>
                  </a:lnTo>
                  <a:lnTo>
                    <a:pt x="578" y="288"/>
                  </a:lnTo>
                  <a:lnTo>
                    <a:pt x="527" y="285"/>
                  </a:lnTo>
                  <a:lnTo>
                    <a:pt x="502" y="292"/>
                  </a:lnTo>
                  <a:lnTo>
                    <a:pt x="458" y="292"/>
                  </a:lnTo>
                  <a:lnTo>
                    <a:pt x="440" y="313"/>
                  </a:lnTo>
                  <a:lnTo>
                    <a:pt x="370" y="291"/>
                  </a:lnTo>
                  <a:lnTo>
                    <a:pt x="335" y="292"/>
                  </a:lnTo>
                  <a:lnTo>
                    <a:pt x="247" y="272"/>
                  </a:lnTo>
                  <a:lnTo>
                    <a:pt x="234" y="251"/>
                  </a:lnTo>
                  <a:lnTo>
                    <a:pt x="234" y="228"/>
                  </a:lnTo>
                  <a:lnTo>
                    <a:pt x="228" y="215"/>
                  </a:lnTo>
                  <a:lnTo>
                    <a:pt x="218" y="209"/>
                  </a:lnTo>
                  <a:lnTo>
                    <a:pt x="163" y="212"/>
                  </a:lnTo>
                  <a:lnTo>
                    <a:pt x="87" y="219"/>
                  </a:lnTo>
                  <a:lnTo>
                    <a:pt x="79" y="201"/>
                  </a:lnTo>
                  <a:lnTo>
                    <a:pt x="66" y="195"/>
                  </a:lnTo>
                  <a:lnTo>
                    <a:pt x="43" y="187"/>
                  </a:lnTo>
                  <a:lnTo>
                    <a:pt x="20" y="181"/>
                  </a:lnTo>
                  <a:lnTo>
                    <a:pt x="20" y="160"/>
                  </a:lnTo>
                  <a:lnTo>
                    <a:pt x="20" y="12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780400">
              <a:off x="6647040" y="4890960"/>
              <a:ext cx="458280" cy="285480"/>
            </a:xfrm>
            <a:custGeom>
              <a:avLst/>
              <a:gdLst/>
              <a:ahLst/>
              <a:rect l="l" t="t" r="r" b="b"/>
              <a:pathLst>
                <a:path w="639" h="386">
                  <a:moveTo>
                    <a:pt x="3" y="245"/>
                  </a:moveTo>
                  <a:lnTo>
                    <a:pt x="22" y="261"/>
                  </a:lnTo>
                  <a:lnTo>
                    <a:pt x="19" y="270"/>
                  </a:lnTo>
                  <a:lnTo>
                    <a:pt x="25" y="287"/>
                  </a:lnTo>
                  <a:lnTo>
                    <a:pt x="42" y="287"/>
                  </a:lnTo>
                  <a:lnTo>
                    <a:pt x="106" y="350"/>
                  </a:lnTo>
                  <a:lnTo>
                    <a:pt x="126" y="353"/>
                  </a:lnTo>
                  <a:lnTo>
                    <a:pt x="178" y="386"/>
                  </a:lnTo>
                  <a:lnTo>
                    <a:pt x="202" y="366"/>
                  </a:lnTo>
                  <a:lnTo>
                    <a:pt x="238" y="369"/>
                  </a:lnTo>
                  <a:lnTo>
                    <a:pt x="251" y="377"/>
                  </a:lnTo>
                  <a:lnTo>
                    <a:pt x="278" y="366"/>
                  </a:lnTo>
                  <a:lnTo>
                    <a:pt x="334" y="343"/>
                  </a:lnTo>
                  <a:lnTo>
                    <a:pt x="400" y="333"/>
                  </a:lnTo>
                  <a:lnTo>
                    <a:pt x="427" y="337"/>
                  </a:lnTo>
                  <a:lnTo>
                    <a:pt x="436" y="353"/>
                  </a:lnTo>
                  <a:lnTo>
                    <a:pt x="459" y="327"/>
                  </a:lnTo>
                  <a:lnTo>
                    <a:pt x="489" y="316"/>
                  </a:lnTo>
                  <a:lnTo>
                    <a:pt x="518" y="312"/>
                  </a:lnTo>
                  <a:lnTo>
                    <a:pt x="569" y="261"/>
                  </a:lnTo>
                  <a:lnTo>
                    <a:pt x="582" y="231"/>
                  </a:lnTo>
                  <a:lnTo>
                    <a:pt x="588" y="172"/>
                  </a:lnTo>
                  <a:lnTo>
                    <a:pt x="594" y="123"/>
                  </a:lnTo>
                  <a:lnTo>
                    <a:pt x="614" y="121"/>
                  </a:lnTo>
                  <a:lnTo>
                    <a:pt x="629" y="103"/>
                  </a:lnTo>
                  <a:lnTo>
                    <a:pt x="639" y="89"/>
                  </a:lnTo>
                  <a:lnTo>
                    <a:pt x="619" y="76"/>
                  </a:lnTo>
                  <a:lnTo>
                    <a:pt x="608" y="82"/>
                  </a:lnTo>
                  <a:lnTo>
                    <a:pt x="579" y="76"/>
                  </a:lnTo>
                  <a:lnTo>
                    <a:pt x="562" y="53"/>
                  </a:lnTo>
                  <a:lnTo>
                    <a:pt x="546" y="22"/>
                  </a:lnTo>
                  <a:lnTo>
                    <a:pt x="526" y="22"/>
                  </a:lnTo>
                  <a:lnTo>
                    <a:pt x="496" y="0"/>
                  </a:lnTo>
                  <a:lnTo>
                    <a:pt x="479" y="3"/>
                  </a:lnTo>
                  <a:lnTo>
                    <a:pt x="416" y="10"/>
                  </a:lnTo>
                  <a:lnTo>
                    <a:pt x="404" y="29"/>
                  </a:lnTo>
                  <a:lnTo>
                    <a:pt x="388" y="50"/>
                  </a:lnTo>
                  <a:lnTo>
                    <a:pt x="365" y="62"/>
                  </a:lnTo>
                  <a:lnTo>
                    <a:pt x="343" y="67"/>
                  </a:lnTo>
                  <a:lnTo>
                    <a:pt x="328" y="62"/>
                  </a:lnTo>
                  <a:lnTo>
                    <a:pt x="315" y="53"/>
                  </a:lnTo>
                  <a:lnTo>
                    <a:pt x="304" y="50"/>
                  </a:lnTo>
                  <a:lnTo>
                    <a:pt x="284" y="59"/>
                  </a:lnTo>
                  <a:lnTo>
                    <a:pt x="258" y="73"/>
                  </a:lnTo>
                  <a:lnTo>
                    <a:pt x="205" y="96"/>
                  </a:lnTo>
                  <a:lnTo>
                    <a:pt x="182" y="99"/>
                  </a:lnTo>
                  <a:lnTo>
                    <a:pt x="126" y="96"/>
                  </a:lnTo>
                  <a:lnTo>
                    <a:pt x="118" y="92"/>
                  </a:lnTo>
                  <a:lnTo>
                    <a:pt x="103" y="70"/>
                  </a:lnTo>
                  <a:lnTo>
                    <a:pt x="85" y="59"/>
                  </a:lnTo>
                  <a:lnTo>
                    <a:pt x="79" y="67"/>
                  </a:lnTo>
                  <a:lnTo>
                    <a:pt x="76" y="89"/>
                  </a:lnTo>
                  <a:lnTo>
                    <a:pt x="65" y="112"/>
                  </a:lnTo>
                  <a:lnTo>
                    <a:pt x="45" y="112"/>
                  </a:lnTo>
                  <a:lnTo>
                    <a:pt x="39" y="118"/>
                  </a:lnTo>
                  <a:lnTo>
                    <a:pt x="50" y="141"/>
                  </a:lnTo>
                  <a:lnTo>
                    <a:pt x="47" y="164"/>
                  </a:lnTo>
                  <a:lnTo>
                    <a:pt x="33" y="185"/>
                  </a:lnTo>
                  <a:lnTo>
                    <a:pt x="22" y="194"/>
                  </a:lnTo>
                  <a:lnTo>
                    <a:pt x="6" y="202"/>
                  </a:lnTo>
                  <a:lnTo>
                    <a:pt x="0" y="220"/>
                  </a:lnTo>
                  <a:lnTo>
                    <a:pt x="3" y="24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780400">
              <a:off x="6484320" y="5145480"/>
              <a:ext cx="215280" cy="127800"/>
            </a:xfrm>
            <a:custGeom>
              <a:avLst/>
              <a:gdLst/>
              <a:ahLst/>
              <a:rect l="l" t="t" r="r" b="b"/>
              <a:pathLst>
                <a:path w="301" h="175">
                  <a:moveTo>
                    <a:pt x="26" y="96"/>
                  </a:moveTo>
                  <a:lnTo>
                    <a:pt x="57" y="126"/>
                  </a:lnTo>
                  <a:lnTo>
                    <a:pt x="47" y="142"/>
                  </a:lnTo>
                  <a:lnTo>
                    <a:pt x="34" y="152"/>
                  </a:lnTo>
                  <a:lnTo>
                    <a:pt x="17" y="155"/>
                  </a:lnTo>
                  <a:lnTo>
                    <a:pt x="0" y="158"/>
                  </a:lnTo>
                  <a:lnTo>
                    <a:pt x="31" y="172"/>
                  </a:lnTo>
                  <a:lnTo>
                    <a:pt x="43" y="175"/>
                  </a:lnTo>
                  <a:lnTo>
                    <a:pt x="81" y="152"/>
                  </a:lnTo>
                  <a:lnTo>
                    <a:pt x="165" y="173"/>
                  </a:lnTo>
                  <a:lnTo>
                    <a:pt x="219" y="113"/>
                  </a:lnTo>
                  <a:lnTo>
                    <a:pt x="230" y="87"/>
                  </a:lnTo>
                  <a:lnTo>
                    <a:pt x="241" y="79"/>
                  </a:lnTo>
                  <a:lnTo>
                    <a:pt x="271" y="82"/>
                  </a:lnTo>
                  <a:lnTo>
                    <a:pt x="301" y="46"/>
                  </a:lnTo>
                  <a:lnTo>
                    <a:pt x="298" y="23"/>
                  </a:lnTo>
                  <a:lnTo>
                    <a:pt x="277" y="0"/>
                  </a:lnTo>
                  <a:lnTo>
                    <a:pt x="263" y="3"/>
                  </a:lnTo>
                  <a:lnTo>
                    <a:pt x="248" y="8"/>
                  </a:lnTo>
                  <a:lnTo>
                    <a:pt x="221" y="2"/>
                  </a:lnTo>
                  <a:lnTo>
                    <a:pt x="193" y="3"/>
                  </a:lnTo>
                  <a:lnTo>
                    <a:pt x="166" y="11"/>
                  </a:lnTo>
                  <a:lnTo>
                    <a:pt x="128" y="8"/>
                  </a:lnTo>
                  <a:lnTo>
                    <a:pt x="111" y="30"/>
                  </a:lnTo>
                  <a:lnTo>
                    <a:pt x="47" y="11"/>
                  </a:lnTo>
                  <a:lnTo>
                    <a:pt x="23" y="11"/>
                  </a:lnTo>
                  <a:lnTo>
                    <a:pt x="23" y="49"/>
                  </a:lnTo>
                  <a:lnTo>
                    <a:pt x="26" y="9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780400">
              <a:off x="7170480" y="5193000"/>
              <a:ext cx="419760" cy="312840"/>
            </a:xfrm>
            <a:custGeom>
              <a:avLst/>
              <a:gdLst/>
              <a:ahLst/>
              <a:rect l="l" t="t" r="r" b="b"/>
              <a:pathLst>
                <a:path w="582" h="425">
                  <a:moveTo>
                    <a:pt x="13" y="50"/>
                  </a:moveTo>
                  <a:lnTo>
                    <a:pt x="10" y="59"/>
                  </a:lnTo>
                  <a:lnTo>
                    <a:pt x="0" y="70"/>
                  </a:lnTo>
                  <a:lnTo>
                    <a:pt x="3" y="89"/>
                  </a:lnTo>
                  <a:lnTo>
                    <a:pt x="19" y="121"/>
                  </a:lnTo>
                  <a:lnTo>
                    <a:pt x="42" y="124"/>
                  </a:lnTo>
                  <a:lnTo>
                    <a:pt x="47" y="138"/>
                  </a:lnTo>
                  <a:lnTo>
                    <a:pt x="45" y="174"/>
                  </a:lnTo>
                  <a:lnTo>
                    <a:pt x="36" y="185"/>
                  </a:lnTo>
                  <a:lnTo>
                    <a:pt x="9" y="203"/>
                  </a:lnTo>
                  <a:lnTo>
                    <a:pt x="6" y="212"/>
                  </a:lnTo>
                  <a:lnTo>
                    <a:pt x="13" y="240"/>
                  </a:lnTo>
                  <a:lnTo>
                    <a:pt x="16" y="261"/>
                  </a:lnTo>
                  <a:lnTo>
                    <a:pt x="9" y="281"/>
                  </a:lnTo>
                  <a:lnTo>
                    <a:pt x="0" y="296"/>
                  </a:lnTo>
                  <a:lnTo>
                    <a:pt x="13" y="316"/>
                  </a:lnTo>
                  <a:lnTo>
                    <a:pt x="25" y="313"/>
                  </a:lnTo>
                  <a:lnTo>
                    <a:pt x="45" y="336"/>
                  </a:lnTo>
                  <a:lnTo>
                    <a:pt x="47" y="357"/>
                  </a:lnTo>
                  <a:lnTo>
                    <a:pt x="47" y="386"/>
                  </a:lnTo>
                  <a:lnTo>
                    <a:pt x="45" y="400"/>
                  </a:lnTo>
                  <a:lnTo>
                    <a:pt x="67" y="425"/>
                  </a:lnTo>
                  <a:lnTo>
                    <a:pt x="112" y="416"/>
                  </a:lnTo>
                  <a:lnTo>
                    <a:pt x="165" y="400"/>
                  </a:lnTo>
                  <a:lnTo>
                    <a:pt x="205" y="375"/>
                  </a:lnTo>
                  <a:lnTo>
                    <a:pt x="225" y="357"/>
                  </a:lnTo>
                  <a:lnTo>
                    <a:pt x="251" y="392"/>
                  </a:lnTo>
                  <a:lnTo>
                    <a:pt x="270" y="383"/>
                  </a:lnTo>
                  <a:lnTo>
                    <a:pt x="298" y="392"/>
                  </a:lnTo>
                  <a:lnTo>
                    <a:pt x="315" y="397"/>
                  </a:lnTo>
                  <a:lnTo>
                    <a:pt x="348" y="383"/>
                  </a:lnTo>
                  <a:lnTo>
                    <a:pt x="368" y="377"/>
                  </a:lnTo>
                  <a:lnTo>
                    <a:pt x="368" y="360"/>
                  </a:lnTo>
                  <a:lnTo>
                    <a:pt x="371" y="333"/>
                  </a:lnTo>
                  <a:lnTo>
                    <a:pt x="388" y="324"/>
                  </a:lnTo>
                  <a:lnTo>
                    <a:pt x="410" y="333"/>
                  </a:lnTo>
                  <a:lnTo>
                    <a:pt x="413" y="343"/>
                  </a:lnTo>
                  <a:lnTo>
                    <a:pt x="430" y="320"/>
                  </a:lnTo>
                  <a:lnTo>
                    <a:pt x="473" y="301"/>
                  </a:lnTo>
                  <a:lnTo>
                    <a:pt x="509" y="296"/>
                  </a:lnTo>
                  <a:lnTo>
                    <a:pt x="543" y="296"/>
                  </a:lnTo>
                  <a:lnTo>
                    <a:pt x="537" y="264"/>
                  </a:lnTo>
                  <a:lnTo>
                    <a:pt x="532" y="247"/>
                  </a:lnTo>
                  <a:lnTo>
                    <a:pt x="497" y="222"/>
                  </a:lnTo>
                  <a:lnTo>
                    <a:pt x="496" y="214"/>
                  </a:lnTo>
                  <a:lnTo>
                    <a:pt x="515" y="188"/>
                  </a:lnTo>
                  <a:lnTo>
                    <a:pt x="535" y="184"/>
                  </a:lnTo>
                  <a:lnTo>
                    <a:pt x="529" y="168"/>
                  </a:lnTo>
                  <a:lnTo>
                    <a:pt x="540" y="141"/>
                  </a:lnTo>
                  <a:lnTo>
                    <a:pt x="540" y="124"/>
                  </a:lnTo>
                  <a:lnTo>
                    <a:pt x="546" y="92"/>
                  </a:lnTo>
                  <a:lnTo>
                    <a:pt x="552" y="79"/>
                  </a:lnTo>
                  <a:lnTo>
                    <a:pt x="572" y="82"/>
                  </a:lnTo>
                  <a:lnTo>
                    <a:pt x="582" y="59"/>
                  </a:lnTo>
                  <a:lnTo>
                    <a:pt x="572" y="39"/>
                  </a:lnTo>
                  <a:lnTo>
                    <a:pt x="566" y="13"/>
                  </a:lnTo>
                  <a:lnTo>
                    <a:pt x="552" y="16"/>
                  </a:lnTo>
                  <a:lnTo>
                    <a:pt x="486" y="3"/>
                  </a:lnTo>
                  <a:lnTo>
                    <a:pt x="444" y="0"/>
                  </a:lnTo>
                  <a:lnTo>
                    <a:pt x="403" y="9"/>
                  </a:lnTo>
                  <a:lnTo>
                    <a:pt x="366" y="25"/>
                  </a:lnTo>
                  <a:lnTo>
                    <a:pt x="324" y="48"/>
                  </a:lnTo>
                  <a:lnTo>
                    <a:pt x="292" y="73"/>
                  </a:lnTo>
                  <a:lnTo>
                    <a:pt x="261" y="76"/>
                  </a:lnTo>
                  <a:lnTo>
                    <a:pt x="219" y="68"/>
                  </a:lnTo>
                  <a:lnTo>
                    <a:pt x="179" y="82"/>
                  </a:lnTo>
                  <a:lnTo>
                    <a:pt x="155" y="88"/>
                  </a:lnTo>
                  <a:lnTo>
                    <a:pt x="126" y="79"/>
                  </a:lnTo>
                  <a:lnTo>
                    <a:pt x="85" y="62"/>
                  </a:lnTo>
                  <a:lnTo>
                    <a:pt x="62" y="56"/>
                  </a:lnTo>
                  <a:lnTo>
                    <a:pt x="30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780400">
              <a:off x="6981120" y="5469480"/>
              <a:ext cx="161280" cy="277560"/>
            </a:xfrm>
            <a:custGeom>
              <a:avLst/>
              <a:gdLst/>
              <a:ahLst/>
              <a:rect l="l" t="t" r="r" b="b"/>
              <a:pathLst>
                <a:path w="226" h="377">
                  <a:moveTo>
                    <a:pt x="17" y="85"/>
                  </a:moveTo>
                  <a:lnTo>
                    <a:pt x="31" y="96"/>
                  </a:lnTo>
                  <a:lnTo>
                    <a:pt x="31" y="112"/>
                  </a:lnTo>
                  <a:lnTo>
                    <a:pt x="29" y="123"/>
                  </a:lnTo>
                  <a:lnTo>
                    <a:pt x="20" y="138"/>
                  </a:lnTo>
                  <a:lnTo>
                    <a:pt x="20" y="175"/>
                  </a:lnTo>
                  <a:lnTo>
                    <a:pt x="26" y="188"/>
                  </a:lnTo>
                  <a:lnTo>
                    <a:pt x="7" y="219"/>
                  </a:lnTo>
                  <a:lnTo>
                    <a:pt x="11" y="225"/>
                  </a:lnTo>
                  <a:lnTo>
                    <a:pt x="0" y="242"/>
                  </a:lnTo>
                  <a:lnTo>
                    <a:pt x="10" y="258"/>
                  </a:lnTo>
                  <a:lnTo>
                    <a:pt x="11" y="270"/>
                  </a:lnTo>
                  <a:lnTo>
                    <a:pt x="17" y="255"/>
                  </a:lnTo>
                  <a:lnTo>
                    <a:pt x="34" y="275"/>
                  </a:lnTo>
                  <a:lnTo>
                    <a:pt x="31" y="295"/>
                  </a:lnTo>
                  <a:lnTo>
                    <a:pt x="23" y="304"/>
                  </a:lnTo>
                  <a:lnTo>
                    <a:pt x="34" y="321"/>
                  </a:lnTo>
                  <a:lnTo>
                    <a:pt x="48" y="327"/>
                  </a:lnTo>
                  <a:lnTo>
                    <a:pt x="70" y="340"/>
                  </a:lnTo>
                  <a:lnTo>
                    <a:pt x="90" y="357"/>
                  </a:lnTo>
                  <a:lnTo>
                    <a:pt x="93" y="368"/>
                  </a:lnTo>
                  <a:lnTo>
                    <a:pt x="116" y="377"/>
                  </a:lnTo>
                  <a:lnTo>
                    <a:pt x="136" y="368"/>
                  </a:lnTo>
                  <a:lnTo>
                    <a:pt x="160" y="354"/>
                  </a:lnTo>
                  <a:lnTo>
                    <a:pt x="172" y="330"/>
                  </a:lnTo>
                  <a:lnTo>
                    <a:pt x="183" y="315"/>
                  </a:lnTo>
                  <a:lnTo>
                    <a:pt x="203" y="278"/>
                  </a:lnTo>
                  <a:lnTo>
                    <a:pt x="209" y="251"/>
                  </a:lnTo>
                  <a:lnTo>
                    <a:pt x="212" y="225"/>
                  </a:lnTo>
                  <a:lnTo>
                    <a:pt x="226" y="208"/>
                  </a:lnTo>
                  <a:lnTo>
                    <a:pt x="203" y="202"/>
                  </a:lnTo>
                  <a:lnTo>
                    <a:pt x="195" y="191"/>
                  </a:lnTo>
                  <a:lnTo>
                    <a:pt x="183" y="194"/>
                  </a:lnTo>
                  <a:lnTo>
                    <a:pt x="163" y="185"/>
                  </a:lnTo>
                  <a:lnTo>
                    <a:pt x="159" y="159"/>
                  </a:lnTo>
                  <a:lnTo>
                    <a:pt x="153" y="141"/>
                  </a:lnTo>
                  <a:lnTo>
                    <a:pt x="163" y="121"/>
                  </a:lnTo>
                  <a:lnTo>
                    <a:pt x="163" y="62"/>
                  </a:lnTo>
                  <a:lnTo>
                    <a:pt x="163" y="42"/>
                  </a:lnTo>
                  <a:lnTo>
                    <a:pt x="153" y="30"/>
                  </a:lnTo>
                  <a:lnTo>
                    <a:pt x="133" y="29"/>
                  </a:lnTo>
                  <a:lnTo>
                    <a:pt x="119" y="23"/>
                  </a:lnTo>
                  <a:lnTo>
                    <a:pt x="107" y="3"/>
                  </a:lnTo>
                  <a:lnTo>
                    <a:pt x="93" y="0"/>
                  </a:lnTo>
                  <a:lnTo>
                    <a:pt x="87" y="9"/>
                  </a:lnTo>
                  <a:lnTo>
                    <a:pt x="86" y="3"/>
                  </a:lnTo>
                  <a:lnTo>
                    <a:pt x="63" y="6"/>
                  </a:lnTo>
                  <a:lnTo>
                    <a:pt x="51" y="0"/>
                  </a:lnTo>
                  <a:lnTo>
                    <a:pt x="34" y="10"/>
                  </a:lnTo>
                  <a:lnTo>
                    <a:pt x="31" y="45"/>
                  </a:lnTo>
                  <a:lnTo>
                    <a:pt x="26" y="67"/>
                  </a:lnTo>
                  <a:lnTo>
                    <a:pt x="17" y="8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780400">
              <a:off x="6976440" y="4821480"/>
              <a:ext cx="599400" cy="446760"/>
            </a:xfrm>
            <a:custGeom>
              <a:avLst/>
              <a:gdLst/>
              <a:ahLst/>
              <a:rect l="l" t="t" r="r" b="b"/>
              <a:pathLst>
                <a:path w="835" h="612">
                  <a:moveTo>
                    <a:pt x="201" y="53"/>
                  </a:moveTo>
                  <a:lnTo>
                    <a:pt x="186" y="70"/>
                  </a:lnTo>
                  <a:lnTo>
                    <a:pt x="175" y="82"/>
                  </a:lnTo>
                  <a:lnTo>
                    <a:pt x="155" y="87"/>
                  </a:lnTo>
                  <a:lnTo>
                    <a:pt x="146" y="181"/>
                  </a:lnTo>
                  <a:lnTo>
                    <a:pt x="145" y="198"/>
                  </a:lnTo>
                  <a:lnTo>
                    <a:pt x="122" y="234"/>
                  </a:lnTo>
                  <a:lnTo>
                    <a:pt x="95" y="257"/>
                  </a:lnTo>
                  <a:lnTo>
                    <a:pt x="76" y="277"/>
                  </a:lnTo>
                  <a:lnTo>
                    <a:pt x="29" y="288"/>
                  </a:lnTo>
                  <a:lnTo>
                    <a:pt x="5" y="309"/>
                  </a:lnTo>
                  <a:lnTo>
                    <a:pt x="0" y="327"/>
                  </a:lnTo>
                  <a:lnTo>
                    <a:pt x="17" y="341"/>
                  </a:lnTo>
                  <a:lnTo>
                    <a:pt x="26" y="361"/>
                  </a:lnTo>
                  <a:lnTo>
                    <a:pt x="23" y="374"/>
                  </a:lnTo>
                  <a:lnTo>
                    <a:pt x="26" y="393"/>
                  </a:lnTo>
                  <a:lnTo>
                    <a:pt x="40" y="400"/>
                  </a:lnTo>
                  <a:lnTo>
                    <a:pt x="63" y="400"/>
                  </a:lnTo>
                  <a:lnTo>
                    <a:pt x="70" y="417"/>
                  </a:lnTo>
                  <a:lnTo>
                    <a:pt x="79" y="449"/>
                  </a:lnTo>
                  <a:lnTo>
                    <a:pt x="82" y="473"/>
                  </a:lnTo>
                  <a:lnTo>
                    <a:pt x="90" y="493"/>
                  </a:lnTo>
                  <a:lnTo>
                    <a:pt x="105" y="499"/>
                  </a:lnTo>
                  <a:lnTo>
                    <a:pt x="116" y="493"/>
                  </a:lnTo>
                  <a:lnTo>
                    <a:pt x="136" y="479"/>
                  </a:lnTo>
                  <a:lnTo>
                    <a:pt x="158" y="496"/>
                  </a:lnTo>
                  <a:lnTo>
                    <a:pt x="155" y="513"/>
                  </a:lnTo>
                  <a:lnTo>
                    <a:pt x="158" y="522"/>
                  </a:lnTo>
                  <a:lnTo>
                    <a:pt x="169" y="527"/>
                  </a:lnTo>
                  <a:lnTo>
                    <a:pt x="186" y="545"/>
                  </a:lnTo>
                  <a:lnTo>
                    <a:pt x="181" y="565"/>
                  </a:lnTo>
                  <a:lnTo>
                    <a:pt x="186" y="575"/>
                  </a:lnTo>
                  <a:lnTo>
                    <a:pt x="212" y="575"/>
                  </a:lnTo>
                  <a:lnTo>
                    <a:pt x="244" y="589"/>
                  </a:lnTo>
                  <a:lnTo>
                    <a:pt x="301" y="612"/>
                  </a:lnTo>
                  <a:lnTo>
                    <a:pt x="324" y="612"/>
                  </a:lnTo>
                  <a:lnTo>
                    <a:pt x="356" y="606"/>
                  </a:lnTo>
                  <a:lnTo>
                    <a:pt x="384" y="595"/>
                  </a:lnTo>
                  <a:lnTo>
                    <a:pt x="429" y="603"/>
                  </a:lnTo>
                  <a:lnTo>
                    <a:pt x="452" y="601"/>
                  </a:lnTo>
                  <a:lnTo>
                    <a:pt x="463" y="598"/>
                  </a:lnTo>
                  <a:lnTo>
                    <a:pt x="492" y="578"/>
                  </a:lnTo>
                  <a:lnTo>
                    <a:pt x="555" y="542"/>
                  </a:lnTo>
                  <a:lnTo>
                    <a:pt x="604" y="527"/>
                  </a:lnTo>
                  <a:lnTo>
                    <a:pt x="630" y="525"/>
                  </a:lnTo>
                  <a:lnTo>
                    <a:pt x="670" y="533"/>
                  </a:lnTo>
                  <a:lnTo>
                    <a:pt x="703" y="536"/>
                  </a:lnTo>
                  <a:lnTo>
                    <a:pt x="720" y="542"/>
                  </a:lnTo>
                  <a:lnTo>
                    <a:pt x="746" y="539"/>
                  </a:lnTo>
                  <a:lnTo>
                    <a:pt x="750" y="516"/>
                  </a:lnTo>
                  <a:lnTo>
                    <a:pt x="750" y="473"/>
                  </a:lnTo>
                  <a:lnTo>
                    <a:pt x="753" y="429"/>
                  </a:lnTo>
                  <a:lnTo>
                    <a:pt x="767" y="406"/>
                  </a:lnTo>
                  <a:lnTo>
                    <a:pt x="782" y="400"/>
                  </a:lnTo>
                  <a:lnTo>
                    <a:pt x="796" y="409"/>
                  </a:lnTo>
                  <a:lnTo>
                    <a:pt x="810" y="400"/>
                  </a:lnTo>
                  <a:lnTo>
                    <a:pt x="819" y="390"/>
                  </a:lnTo>
                  <a:lnTo>
                    <a:pt x="816" y="377"/>
                  </a:lnTo>
                  <a:lnTo>
                    <a:pt x="832" y="373"/>
                  </a:lnTo>
                  <a:lnTo>
                    <a:pt x="835" y="358"/>
                  </a:lnTo>
                  <a:lnTo>
                    <a:pt x="819" y="350"/>
                  </a:lnTo>
                  <a:lnTo>
                    <a:pt x="793" y="344"/>
                  </a:lnTo>
                  <a:lnTo>
                    <a:pt x="773" y="350"/>
                  </a:lnTo>
                  <a:lnTo>
                    <a:pt x="743" y="355"/>
                  </a:lnTo>
                  <a:lnTo>
                    <a:pt x="714" y="355"/>
                  </a:lnTo>
                  <a:lnTo>
                    <a:pt x="694" y="344"/>
                  </a:lnTo>
                  <a:lnTo>
                    <a:pt x="686" y="327"/>
                  </a:lnTo>
                  <a:lnTo>
                    <a:pt x="686" y="304"/>
                  </a:lnTo>
                  <a:lnTo>
                    <a:pt x="683" y="282"/>
                  </a:lnTo>
                  <a:lnTo>
                    <a:pt x="670" y="265"/>
                  </a:lnTo>
                  <a:lnTo>
                    <a:pt x="660" y="248"/>
                  </a:lnTo>
                  <a:lnTo>
                    <a:pt x="660" y="225"/>
                  </a:lnTo>
                  <a:lnTo>
                    <a:pt x="663" y="203"/>
                  </a:lnTo>
                  <a:lnTo>
                    <a:pt x="663" y="189"/>
                  </a:lnTo>
                  <a:lnTo>
                    <a:pt x="650" y="155"/>
                  </a:lnTo>
                  <a:lnTo>
                    <a:pt x="627" y="133"/>
                  </a:lnTo>
                  <a:lnTo>
                    <a:pt x="618" y="110"/>
                  </a:lnTo>
                  <a:lnTo>
                    <a:pt x="615" y="93"/>
                  </a:lnTo>
                  <a:lnTo>
                    <a:pt x="610" y="85"/>
                  </a:lnTo>
                  <a:lnTo>
                    <a:pt x="578" y="63"/>
                  </a:lnTo>
                  <a:lnTo>
                    <a:pt x="568" y="43"/>
                  </a:lnTo>
                  <a:lnTo>
                    <a:pt x="554" y="14"/>
                  </a:lnTo>
                  <a:lnTo>
                    <a:pt x="542" y="3"/>
                  </a:lnTo>
                  <a:lnTo>
                    <a:pt x="528" y="0"/>
                  </a:lnTo>
                  <a:lnTo>
                    <a:pt x="514" y="6"/>
                  </a:lnTo>
                  <a:lnTo>
                    <a:pt x="499" y="20"/>
                  </a:lnTo>
                  <a:lnTo>
                    <a:pt x="492" y="23"/>
                  </a:lnTo>
                  <a:lnTo>
                    <a:pt x="466" y="23"/>
                  </a:lnTo>
                  <a:lnTo>
                    <a:pt x="449" y="26"/>
                  </a:lnTo>
                  <a:lnTo>
                    <a:pt x="437" y="40"/>
                  </a:lnTo>
                  <a:lnTo>
                    <a:pt x="416" y="47"/>
                  </a:lnTo>
                  <a:lnTo>
                    <a:pt x="393" y="46"/>
                  </a:lnTo>
                  <a:lnTo>
                    <a:pt x="381" y="34"/>
                  </a:lnTo>
                  <a:lnTo>
                    <a:pt x="356" y="20"/>
                  </a:lnTo>
                  <a:lnTo>
                    <a:pt x="336" y="26"/>
                  </a:lnTo>
                  <a:lnTo>
                    <a:pt x="311" y="37"/>
                  </a:lnTo>
                  <a:lnTo>
                    <a:pt x="291" y="40"/>
                  </a:lnTo>
                  <a:lnTo>
                    <a:pt x="274" y="34"/>
                  </a:lnTo>
                  <a:lnTo>
                    <a:pt x="254" y="23"/>
                  </a:lnTo>
                  <a:lnTo>
                    <a:pt x="228" y="31"/>
                  </a:lnTo>
                  <a:lnTo>
                    <a:pt x="212" y="40"/>
                  </a:lnTo>
                  <a:lnTo>
                    <a:pt x="206" y="43"/>
                  </a:lnTo>
                  <a:lnTo>
                    <a:pt x="201" y="46"/>
                  </a:lnTo>
                  <a:lnTo>
                    <a:pt x="195" y="47"/>
                  </a:lnTo>
                  <a:lnTo>
                    <a:pt x="201" y="53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780400">
              <a:off x="5770440" y="4725000"/>
              <a:ext cx="228960" cy="205200"/>
            </a:xfrm>
            <a:custGeom>
              <a:avLst/>
              <a:gdLst/>
              <a:ahLst/>
              <a:rect l="l" t="t" r="r" b="b"/>
              <a:pathLst>
                <a:path w="319" h="281">
                  <a:moveTo>
                    <a:pt x="0" y="50"/>
                  </a:moveTo>
                  <a:lnTo>
                    <a:pt x="8" y="39"/>
                  </a:lnTo>
                  <a:lnTo>
                    <a:pt x="5" y="25"/>
                  </a:lnTo>
                  <a:lnTo>
                    <a:pt x="53" y="0"/>
                  </a:lnTo>
                  <a:lnTo>
                    <a:pt x="58" y="9"/>
                  </a:lnTo>
                  <a:lnTo>
                    <a:pt x="93" y="3"/>
                  </a:lnTo>
                  <a:lnTo>
                    <a:pt x="120" y="4"/>
                  </a:lnTo>
                  <a:lnTo>
                    <a:pt x="110" y="18"/>
                  </a:lnTo>
                  <a:lnTo>
                    <a:pt x="116" y="36"/>
                  </a:lnTo>
                  <a:lnTo>
                    <a:pt x="138" y="44"/>
                  </a:lnTo>
                  <a:lnTo>
                    <a:pt x="161" y="42"/>
                  </a:lnTo>
                  <a:lnTo>
                    <a:pt x="180" y="28"/>
                  </a:lnTo>
                  <a:lnTo>
                    <a:pt x="210" y="25"/>
                  </a:lnTo>
                  <a:lnTo>
                    <a:pt x="219" y="38"/>
                  </a:lnTo>
                  <a:lnTo>
                    <a:pt x="237" y="48"/>
                  </a:lnTo>
                  <a:lnTo>
                    <a:pt x="263" y="50"/>
                  </a:lnTo>
                  <a:lnTo>
                    <a:pt x="259" y="71"/>
                  </a:lnTo>
                  <a:lnTo>
                    <a:pt x="260" y="114"/>
                  </a:lnTo>
                  <a:lnTo>
                    <a:pt x="265" y="140"/>
                  </a:lnTo>
                  <a:lnTo>
                    <a:pt x="294" y="136"/>
                  </a:lnTo>
                  <a:lnTo>
                    <a:pt x="303" y="155"/>
                  </a:lnTo>
                  <a:lnTo>
                    <a:pt x="304" y="170"/>
                  </a:lnTo>
                  <a:lnTo>
                    <a:pt x="319" y="191"/>
                  </a:lnTo>
                  <a:lnTo>
                    <a:pt x="301" y="206"/>
                  </a:lnTo>
                  <a:lnTo>
                    <a:pt x="284" y="219"/>
                  </a:lnTo>
                  <a:lnTo>
                    <a:pt x="266" y="219"/>
                  </a:lnTo>
                  <a:lnTo>
                    <a:pt x="245" y="225"/>
                  </a:lnTo>
                  <a:lnTo>
                    <a:pt x="245" y="248"/>
                  </a:lnTo>
                  <a:lnTo>
                    <a:pt x="236" y="263"/>
                  </a:lnTo>
                  <a:lnTo>
                    <a:pt x="213" y="281"/>
                  </a:lnTo>
                  <a:lnTo>
                    <a:pt x="175" y="252"/>
                  </a:lnTo>
                  <a:lnTo>
                    <a:pt x="164" y="226"/>
                  </a:lnTo>
                  <a:lnTo>
                    <a:pt x="129" y="219"/>
                  </a:lnTo>
                  <a:lnTo>
                    <a:pt x="117" y="185"/>
                  </a:lnTo>
                  <a:lnTo>
                    <a:pt x="93" y="165"/>
                  </a:lnTo>
                  <a:lnTo>
                    <a:pt x="84" y="141"/>
                  </a:lnTo>
                  <a:lnTo>
                    <a:pt x="64" y="117"/>
                  </a:lnTo>
                  <a:lnTo>
                    <a:pt x="50" y="92"/>
                  </a:lnTo>
                  <a:lnTo>
                    <a:pt x="24" y="7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780400">
              <a:off x="5945760" y="4865760"/>
              <a:ext cx="64440" cy="7848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62" y="108"/>
                  </a:moveTo>
                  <a:lnTo>
                    <a:pt x="66" y="73"/>
                  </a:lnTo>
                  <a:lnTo>
                    <a:pt x="86" y="59"/>
                  </a:lnTo>
                  <a:lnTo>
                    <a:pt x="86" y="42"/>
                  </a:lnTo>
                  <a:lnTo>
                    <a:pt x="76" y="30"/>
                  </a:lnTo>
                  <a:lnTo>
                    <a:pt x="65" y="13"/>
                  </a:lnTo>
                  <a:lnTo>
                    <a:pt x="59" y="0"/>
                  </a:lnTo>
                  <a:lnTo>
                    <a:pt x="39" y="0"/>
                  </a:lnTo>
                  <a:lnTo>
                    <a:pt x="25" y="6"/>
                  </a:lnTo>
                  <a:lnTo>
                    <a:pt x="25" y="29"/>
                  </a:lnTo>
                  <a:lnTo>
                    <a:pt x="13" y="48"/>
                  </a:lnTo>
                  <a:lnTo>
                    <a:pt x="0" y="54"/>
                  </a:lnTo>
                  <a:lnTo>
                    <a:pt x="6" y="71"/>
                  </a:lnTo>
                  <a:lnTo>
                    <a:pt x="24" y="76"/>
                  </a:lnTo>
                  <a:lnTo>
                    <a:pt x="42" y="80"/>
                  </a:lnTo>
                  <a:lnTo>
                    <a:pt x="53" y="91"/>
                  </a:lnTo>
                  <a:lnTo>
                    <a:pt x="62" y="108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780400">
              <a:off x="5818320" y="4556520"/>
              <a:ext cx="233640" cy="254160"/>
            </a:xfrm>
            <a:custGeom>
              <a:avLst/>
              <a:gdLst/>
              <a:ahLst/>
              <a:rect l="l" t="t" r="r" b="b"/>
              <a:pathLst>
                <a:path w="326" h="346">
                  <a:moveTo>
                    <a:pt x="135" y="9"/>
                  </a:moveTo>
                  <a:lnTo>
                    <a:pt x="102" y="50"/>
                  </a:lnTo>
                  <a:lnTo>
                    <a:pt x="102" y="63"/>
                  </a:lnTo>
                  <a:lnTo>
                    <a:pt x="82" y="82"/>
                  </a:lnTo>
                  <a:lnTo>
                    <a:pt x="85" y="87"/>
                  </a:lnTo>
                  <a:lnTo>
                    <a:pt x="79" y="101"/>
                  </a:lnTo>
                  <a:lnTo>
                    <a:pt x="59" y="120"/>
                  </a:lnTo>
                  <a:lnTo>
                    <a:pt x="40" y="143"/>
                  </a:lnTo>
                  <a:lnTo>
                    <a:pt x="32" y="155"/>
                  </a:lnTo>
                  <a:lnTo>
                    <a:pt x="40" y="166"/>
                  </a:lnTo>
                  <a:lnTo>
                    <a:pt x="34" y="183"/>
                  </a:lnTo>
                  <a:lnTo>
                    <a:pt x="23" y="196"/>
                  </a:lnTo>
                  <a:lnTo>
                    <a:pt x="14" y="203"/>
                  </a:lnTo>
                  <a:lnTo>
                    <a:pt x="0" y="219"/>
                  </a:lnTo>
                  <a:lnTo>
                    <a:pt x="2" y="236"/>
                  </a:lnTo>
                  <a:lnTo>
                    <a:pt x="17" y="245"/>
                  </a:lnTo>
                  <a:lnTo>
                    <a:pt x="53" y="245"/>
                  </a:lnTo>
                  <a:lnTo>
                    <a:pt x="75" y="233"/>
                  </a:lnTo>
                  <a:lnTo>
                    <a:pt x="96" y="230"/>
                  </a:lnTo>
                  <a:lnTo>
                    <a:pt x="113" y="245"/>
                  </a:lnTo>
                  <a:lnTo>
                    <a:pt x="129" y="253"/>
                  </a:lnTo>
                  <a:lnTo>
                    <a:pt x="152" y="256"/>
                  </a:lnTo>
                  <a:lnTo>
                    <a:pt x="146" y="282"/>
                  </a:lnTo>
                  <a:lnTo>
                    <a:pt x="154" y="346"/>
                  </a:lnTo>
                  <a:lnTo>
                    <a:pt x="173" y="344"/>
                  </a:lnTo>
                  <a:lnTo>
                    <a:pt x="186" y="342"/>
                  </a:lnTo>
                  <a:lnTo>
                    <a:pt x="190" y="324"/>
                  </a:lnTo>
                  <a:lnTo>
                    <a:pt x="193" y="286"/>
                  </a:lnTo>
                  <a:lnTo>
                    <a:pt x="208" y="266"/>
                  </a:lnTo>
                  <a:lnTo>
                    <a:pt x="208" y="233"/>
                  </a:lnTo>
                  <a:lnTo>
                    <a:pt x="221" y="213"/>
                  </a:lnTo>
                  <a:lnTo>
                    <a:pt x="245" y="203"/>
                  </a:lnTo>
                  <a:lnTo>
                    <a:pt x="292" y="149"/>
                  </a:lnTo>
                  <a:lnTo>
                    <a:pt x="298" y="126"/>
                  </a:lnTo>
                  <a:lnTo>
                    <a:pt x="291" y="90"/>
                  </a:lnTo>
                  <a:lnTo>
                    <a:pt x="321" y="66"/>
                  </a:lnTo>
                  <a:lnTo>
                    <a:pt x="326" y="25"/>
                  </a:lnTo>
                  <a:lnTo>
                    <a:pt x="304" y="6"/>
                  </a:lnTo>
                  <a:lnTo>
                    <a:pt x="291" y="3"/>
                  </a:lnTo>
                  <a:lnTo>
                    <a:pt x="265" y="0"/>
                  </a:lnTo>
                  <a:lnTo>
                    <a:pt x="208" y="0"/>
                  </a:lnTo>
                  <a:lnTo>
                    <a:pt x="192" y="14"/>
                  </a:lnTo>
                  <a:lnTo>
                    <a:pt x="178" y="31"/>
                  </a:lnTo>
                  <a:lnTo>
                    <a:pt x="181" y="46"/>
                  </a:lnTo>
                  <a:lnTo>
                    <a:pt x="201" y="60"/>
                  </a:lnTo>
                  <a:lnTo>
                    <a:pt x="215" y="76"/>
                  </a:lnTo>
                  <a:lnTo>
                    <a:pt x="215" y="99"/>
                  </a:lnTo>
                  <a:lnTo>
                    <a:pt x="192" y="116"/>
                  </a:lnTo>
                  <a:lnTo>
                    <a:pt x="169" y="120"/>
                  </a:lnTo>
                  <a:lnTo>
                    <a:pt x="152" y="123"/>
                  </a:lnTo>
                  <a:lnTo>
                    <a:pt x="145" y="110"/>
                  </a:lnTo>
                  <a:lnTo>
                    <a:pt x="139" y="90"/>
                  </a:lnTo>
                  <a:lnTo>
                    <a:pt x="149" y="73"/>
                  </a:lnTo>
                  <a:lnTo>
                    <a:pt x="146" y="53"/>
                  </a:lnTo>
                  <a:lnTo>
                    <a:pt x="145" y="34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780400">
              <a:off x="4959720" y="4350960"/>
              <a:ext cx="329040" cy="307800"/>
            </a:xfrm>
            <a:custGeom>
              <a:avLst/>
              <a:gdLst/>
              <a:ahLst/>
              <a:rect l="l" t="t" r="r" b="b"/>
              <a:pathLst>
                <a:path w="461" h="420">
                  <a:moveTo>
                    <a:pt x="170" y="158"/>
                  </a:moveTo>
                  <a:lnTo>
                    <a:pt x="164" y="175"/>
                  </a:lnTo>
                  <a:lnTo>
                    <a:pt x="170" y="197"/>
                  </a:lnTo>
                  <a:lnTo>
                    <a:pt x="161" y="211"/>
                  </a:lnTo>
                  <a:lnTo>
                    <a:pt x="148" y="202"/>
                  </a:lnTo>
                  <a:lnTo>
                    <a:pt x="131" y="205"/>
                  </a:lnTo>
                  <a:lnTo>
                    <a:pt x="131" y="222"/>
                  </a:lnTo>
                  <a:lnTo>
                    <a:pt x="96" y="254"/>
                  </a:lnTo>
                  <a:lnTo>
                    <a:pt x="76" y="261"/>
                  </a:lnTo>
                  <a:lnTo>
                    <a:pt x="50" y="290"/>
                  </a:lnTo>
                  <a:lnTo>
                    <a:pt x="34" y="298"/>
                  </a:lnTo>
                  <a:lnTo>
                    <a:pt x="20" y="296"/>
                  </a:lnTo>
                  <a:lnTo>
                    <a:pt x="14" y="301"/>
                  </a:lnTo>
                  <a:lnTo>
                    <a:pt x="9" y="305"/>
                  </a:lnTo>
                  <a:lnTo>
                    <a:pt x="17" y="315"/>
                  </a:lnTo>
                  <a:lnTo>
                    <a:pt x="17" y="334"/>
                  </a:lnTo>
                  <a:lnTo>
                    <a:pt x="0" y="353"/>
                  </a:lnTo>
                  <a:lnTo>
                    <a:pt x="6" y="371"/>
                  </a:lnTo>
                  <a:lnTo>
                    <a:pt x="6" y="371"/>
                  </a:lnTo>
                  <a:lnTo>
                    <a:pt x="26" y="371"/>
                  </a:lnTo>
                  <a:lnTo>
                    <a:pt x="34" y="357"/>
                  </a:lnTo>
                  <a:lnTo>
                    <a:pt x="46" y="369"/>
                  </a:lnTo>
                  <a:lnTo>
                    <a:pt x="31" y="380"/>
                  </a:lnTo>
                  <a:lnTo>
                    <a:pt x="37" y="397"/>
                  </a:lnTo>
                  <a:lnTo>
                    <a:pt x="46" y="400"/>
                  </a:lnTo>
                  <a:lnTo>
                    <a:pt x="82" y="406"/>
                  </a:lnTo>
                  <a:lnTo>
                    <a:pt x="88" y="409"/>
                  </a:lnTo>
                  <a:lnTo>
                    <a:pt x="122" y="420"/>
                  </a:lnTo>
                  <a:lnTo>
                    <a:pt x="136" y="413"/>
                  </a:lnTo>
                  <a:lnTo>
                    <a:pt x="164" y="397"/>
                  </a:lnTo>
                  <a:lnTo>
                    <a:pt x="207" y="406"/>
                  </a:lnTo>
                  <a:lnTo>
                    <a:pt x="283" y="406"/>
                  </a:lnTo>
                  <a:lnTo>
                    <a:pt x="326" y="397"/>
                  </a:lnTo>
                  <a:lnTo>
                    <a:pt x="345" y="366"/>
                  </a:lnTo>
                  <a:lnTo>
                    <a:pt x="371" y="353"/>
                  </a:lnTo>
                  <a:lnTo>
                    <a:pt x="379" y="334"/>
                  </a:lnTo>
                  <a:lnTo>
                    <a:pt x="388" y="310"/>
                  </a:lnTo>
                  <a:lnTo>
                    <a:pt x="408" y="296"/>
                  </a:lnTo>
                  <a:lnTo>
                    <a:pt x="425" y="254"/>
                  </a:lnTo>
                  <a:lnTo>
                    <a:pt x="421" y="205"/>
                  </a:lnTo>
                  <a:lnTo>
                    <a:pt x="461" y="182"/>
                  </a:lnTo>
                  <a:lnTo>
                    <a:pt x="438" y="162"/>
                  </a:lnTo>
                  <a:lnTo>
                    <a:pt x="431" y="129"/>
                  </a:lnTo>
                  <a:lnTo>
                    <a:pt x="415" y="115"/>
                  </a:lnTo>
                  <a:lnTo>
                    <a:pt x="399" y="115"/>
                  </a:lnTo>
                  <a:lnTo>
                    <a:pt x="382" y="106"/>
                  </a:lnTo>
                  <a:lnTo>
                    <a:pt x="352" y="70"/>
                  </a:lnTo>
                  <a:lnTo>
                    <a:pt x="365" y="62"/>
                  </a:lnTo>
                  <a:lnTo>
                    <a:pt x="418" y="13"/>
                  </a:lnTo>
                  <a:lnTo>
                    <a:pt x="412" y="0"/>
                  </a:lnTo>
                  <a:lnTo>
                    <a:pt x="396" y="3"/>
                  </a:lnTo>
                  <a:lnTo>
                    <a:pt x="339" y="6"/>
                  </a:lnTo>
                  <a:lnTo>
                    <a:pt x="320" y="19"/>
                  </a:lnTo>
                  <a:lnTo>
                    <a:pt x="306" y="29"/>
                  </a:lnTo>
                  <a:lnTo>
                    <a:pt x="286" y="26"/>
                  </a:lnTo>
                  <a:lnTo>
                    <a:pt x="274" y="33"/>
                  </a:lnTo>
                  <a:lnTo>
                    <a:pt x="283" y="48"/>
                  </a:lnTo>
                  <a:lnTo>
                    <a:pt x="310" y="67"/>
                  </a:lnTo>
                  <a:lnTo>
                    <a:pt x="291" y="70"/>
                  </a:lnTo>
                  <a:lnTo>
                    <a:pt x="240" y="76"/>
                  </a:lnTo>
                  <a:lnTo>
                    <a:pt x="207" y="62"/>
                  </a:lnTo>
                  <a:lnTo>
                    <a:pt x="172" y="48"/>
                  </a:lnTo>
                  <a:lnTo>
                    <a:pt x="161" y="56"/>
                  </a:lnTo>
                  <a:lnTo>
                    <a:pt x="152" y="82"/>
                  </a:lnTo>
                  <a:lnTo>
                    <a:pt x="155" y="95"/>
                  </a:lnTo>
                  <a:lnTo>
                    <a:pt x="151" y="102"/>
                  </a:lnTo>
                  <a:lnTo>
                    <a:pt x="131" y="109"/>
                  </a:lnTo>
                  <a:lnTo>
                    <a:pt x="132" y="135"/>
                  </a:lnTo>
                  <a:lnTo>
                    <a:pt x="131" y="141"/>
                  </a:lnTo>
                  <a:lnTo>
                    <a:pt x="110" y="169"/>
                  </a:lnTo>
                  <a:lnTo>
                    <a:pt x="128" y="194"/>
                  </a:lnTo>
                  <a:lnTo>
                    <a:pt x="136" y="191"/>
                  </a:lnTo>
                  <a:lnTo>
                    <a:pt x="170" y="158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6036120" y="4107960"/>
              <a:ext cx="417240" cy="294840"/>
              <a:chOff x="6036120" y="4107960"/>
              <a:chExt cx="417240" cy="294840"/>
            </a:xfrm>
          </p:grpSpPr>
          <p:sp>
            <p:nvSpPr>
              <p:cNvPr id="557" name=""/>
              <p:cNvSpPr/>
              <p:nvPr/>
            </p:nvSpPr>
            <p:spPr>
              <a:xfrm rot="20780400">
                <a:off x="6057000" y="4182120"/>
                <a:ext cx="158760" cy="198360"/>
              </a:xfrm>
              <a:custGeom>
                <a:avLst/>
                <a:gdLst/>
                <a:ahLst/>
                <a:rect l="l" t="t" r="r" b="b"/>
                <a:pathLst>
                  <a:path w="221" h="271">
                    <a:moveTo>
                      <a:pt x="17" y="231"/>
                    </a:moveTo>
                    <a:lnTo>
                      <a:pt x="29" y="251"/>
                    </a:lnTo>
                    <a:lnTo>
                      <a:pt x="54" y="251"/>
                    </a:lnTo>
                    <a:lnTo>
                      <a:pt x="76" y="257"/>
                    </a:lnTo>
                    <a:lnTo>
                      <a:pt x="93" y="271"/>
                    </a:lnTo>
                    <a:lnTo>
                      <a:pt x="111" y="271"/>
                    </a:lnTo>
                    <a:lnTo>
                      <a:pt x="99" y="254"/>
                    </a:lnTo>
                    <a:lnTo>
                      <a:pt x="108" y="231"/>
                    </a:lnTo>
                    <a:lnTo>
                      <a:pt x="119" y="205"/>
                    </a:lnTo>
                    <a:lnTo>
                      <a:pt x="125" y="178"/>
                    </a:lnTo>
                    <a:lnTo>
                      <a:pt x="151" y="161"/>
                    </a:lnTo>
                    <a:lnTo>
                      <a:pt x="172" y="149"/>
                    </a:lnTo>
                    <a:lnTo>
                      <a:pt x="171" y="132"/>
                    </a:lnTo>
                    <a:lnTo>
                      <a:pt x="171" y="105"/>
                    </a:lnTo>
                    <a:lnTo>
                      <a:pt x="175" y="93"/>
                    </a:lnTo>
                    <a:lnTo>
                      <a:pt x="195" y="89"/>
                    </a:lnTo>
                    <a:lnTo>
                      <a:pt x="204" y="96"/>
                    </a:lnTo>
                    <a:lnTo>
                      <a:pt x="221" y="76"/>
                    </a:lnTo>
                    <a:lnTo>
                      <a:pt x="215" y="59"/>
                    </a:lnTo>
                    <a:lnTo>
                      <a:pt x="204" y="56"/>
                    </a:lnTo>
                    <a:lnTo>
                      <a:pt x="184" y="56"/>
                    </a:lnTo>
                    <a:lnTo>
                      <a:pt x="175" y="56"/>
                    </a:lnTo>
                    <a:lnTo>
                      <a:pt x="171" y="30"/>
                    </a:lnTo>
                    <a:lnTo>
                      <a:pt x="172" y="6"/>
                    </a:lnTo>
                    <a:lnTo>
                      <a:pt x="159" y="0"/>
                    </a:lnTo>
                    <a:lnTo>
                      <a:pt x="153" y="9"/>
                    </a:lnTo>
                    <a:lnTo>
                      <a:pt x="119" y="3"/>
                    </a:lnTo>
                    <a:lnTo>
                      <a:pt x="111" y="10"/>
                    </a:lnTo>
                    <a:lnTo>
                      <a:pt x="119" y="33"/>
                    </a:lnTo>
                    <a:lnTo>
                      <a:pt x="116" y="56"/>
                    </a:lnTo>
                    <a:lnTo>
                      <a:pt x="102" y="39"/>
                    </a:lnTo>
                    <a:lnTo>
                      <a:pt x="96" y="26"/>
                    </a:lnTo>
                    <a:lnTo>
                      <a:pt x="76" y="29"/>
                    </a:lnTo>
                    <a:lnTo>
                      <a:pt x="69" y="42"/>
                    </a:lnTo>
                    <a:lnTo>
                      <a:pt x="63" y="48"/>
                    </a:lnTo>
                    <a:lnTo>
                      <a:pt x="63" y="68"/>
                    </a:lnTo>
                    <a:lnTo>
                      <a:pt x="60" y="65"/>
                    </a:lnTo>
                    <a:lnTo>
                      <a:pt x="43" y="39"/>
                    </a:lnTo>
                    <a:lnTo>
                      <a:pt x="34" y="30"/>
                    </a:lnTo>
                    <a:lnTo>
                      <a:pt x="23" y="36"/>
                    </a:lnTo>
                    <a:lnTo>
                      <a:pt x="26" y="50"/>
                    </a:lnTo>
                    <a:lnTo>
                      <a:pt x="26" y="59"/>
                    </a:lnTo>
                    <a:lnTo>
                      <a:pt x="11" y="65"/>
                    </a:lnTo>
                    <a:lnTo>
                      <a:pt x="11" y="85"/>
                    </a:lnTo>
                    <a:lnTo>
                      <a:pt x="23" y="105"/>
                    </a:lnTo>
                    <a:lnTo>
                      <a:pt x="23" y="118"/>
                    </a:lnTo>
                    <a:lnTo>
                      <a:pt x="17" y="132"/>
                    </a:lnTo>
                    <a:lnTo>
                      <a:pt x="0" y="146"/>
                    </a:lnTo>
                    <a:lnTo>
                      <a:pt x="3" y="161"/>
                    </a:lnTo>
                    <a:lnTo>
                      <a:pt x="20" y="175"/>
                    </a:lnTo>
                    <a:lnTo>
                      <a:pt x="26" y="188"/>
                    </a:lnTo>
                    <a:lnTo>
                      <a:pt x="23" y="214"/>
                    </a:lnTo>
                    <a:lnTo>
                      <a:pt x="17" y="231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780400">
                <a:off x="6060600" y="4120920"/>
                <a:ext cx="118800" cy="75960"/>
              </a:xfrm>
              <a:custGeom>
                <a:avLst/>
                <a:gdLst/>
                <a:ahLst/>
                <a:rect l="l" t="t" r="r" b="b"/>
                <a:pathLst>
                  <a:path w="166" h="104">
                    <a:moveTo>
                      <a:pt x="0" y="100"/>
                    </a:moveTo>
                    <a:lnTo>
                      <a:pt x="14" y="104"/>
                    </a:lnTo>
                    <a:lnTo>
                      <a:pt x="30" y="91"/>
                    </a:lnTo>
                    <a:lnTo>
                      <a:pt x="47" y="72"/>
                    </a:lnTo>
                    <a:lnTo>
                      <a:pt x="93" y="72"/>
                    </a:lnTo>
                    <a:lnTo>
                      <a:pt x="132" y="64"/>
                    </a:lnTo>
                    <a:lnTo>
                      <a:pt x="155" y="46"/>
                    </a:lnTo>
                    <a:lnTo>
                      <a:pt x="163" y="23"/>
                    </a:lnTo>
                    <a:lnTo>
                      <a:pt x="166" y="0"/>
                    </a:lnTo>
                    <a:lnTo>
                      <a:pt x="135" y="14"/>
                    </a:lnTo>
                    <a:lnTo>
                      <a:pt x="79" y="40"/>
                    </a:lnTo>
                    <a:lnTo>
                      <a:pt x="64" y="43"/>
                    </a:lnTo>
                    <a:lnTo>
                      <a:pt x="47" y="55"/>
                    </a:lnTo>
                    <a:lnTo>
                      <a:pt x="14" y="61"/>
                    </a:lnTo>
                    <a:lnTo>
                      <a:pt x="0" y="69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780400">
                <a:off x="6163560" y="4295880"/>
                <a:ext cx="49680" cy="63000"/>
              </a:xfrm>
              <a:custGeom>
                <a:avLst/>
                <a:gdLst/>
                <a:ahLst/>
                <a:rect l="l" t="t" r="r" b="b"/>
                <a:pathLst>
                  <a:path w="72" h="85">
                    <a:moveTo>
                      <a:pt x="23" y="0"/>
                    </a:moveTo>
                    <a:lnTo>
                      <a:pt x="69" y="29"/>
                    </a:lnTo>
                    <a:lnTo>
                      <a:pt x="72" y="43"/>
                    </a:lnTo>
                    <a:lnTo>
                      <a:pt x="55" y="59"/>
                    </a:lnTo>
                    <a:lnTo>
                      <a:pt x="40" y="72"/>
                    </a:lnTo>
                    <a:lnTo>
                      <a:pt x="43" y="85"/>
                    </a:lnTo>
                    <a:lnTo>
                      <a:pt x="23" y="82"/>
                    </a:lnTo>
                    <a:lnTo>
                      <a:pt x="3" y="59"/>
                    </a:lnTo>
                    <a:lnTo>
                      <a:pt x="0" y="43"/>
                    </a:lnTo>
                    <a:lnTo>
                      <a:pt x="9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780400">
                <a:off x="6225120" y="4260240"/>
                <a:ext cx="74520" cy="91080"/>
              </a:xfrm>
              <a:custGeom>
                <a:avLst/>
                <a:gdLst/>
                <a:ahLst/>
                <a:rect l="l" t="t" r="r" b="b"/>
                <a:pathLst>
                  <a:path w="105" h="125">
                    <a:moveTo>
                      <a:pt x="99" y="0"/>
                    </a:moveTo>
                    <a:lnTo>
                      <a:pt x="105" y="6"/>
                    </a:lnTo>
                    <a:lnTo>
                      <a:pt x="99" y="13"/>
                    </a:lnTo>
                    <a:lnTo>
                      <a:pt x="105" y="27"/>
                    </a:lnTo>
                    <a:lnTo>
                      <a:pt x="97" y="44"/>
                    </a:lnTo>
                    <a:lnTo>
                      <a:pt x="82" y="55"/>
                    </a:lnTo>
                    <a:lnTo>
                      <a:pt x="88" y="68"/>
                    </a:lnTo>
                    <a:lnTo>
                      <a:pt x="82" y="80"/>
                    </a:lnTo>
                    <a:lnTo>
                      <a:pt x="88" y="94"/>
                    </a:lnTo>
                    <a:lnTo>
                      <a:pt x="68" y="125"/>
                    </a:lnTo>
                    <a:lnTo>
                      <a:pt x="24" y="94"/>
                    </a:lnTo>
                    <a:lnTo>
                      <a:pt x="0" y="77"/>
                    </a:lnTo>
                    <a:lnTo>
                      <a:pt x="14" y="68"/>
                    </a:lnTo>
                    <a:lnTo>
                      <a:pt x="14" y="48"/>
                    </a:lnTo>
                    <a:lnTo>
                      <a:pt x="41" y="33"/>
                    </a:lnTo>
                    <a:lnTo>
                      <a:pt x="55" y="39"/>
                    </a:lnTo>
                    <a:lnTo>
                      <a:pt x="68" y="33"/>
                    </a:lnTo>
                    <a:lnTo>
                      <a:pt x="91" y="1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780400">
                <a:off x="6232320" y="4361400"/>
                <a:ext cx="29880" cy="38160"/>
              </a:xfrm>
              <a:custGeom>
                <a:avLst/>
                <a:gdLst/>
                <a:ahLst/>
                <a:rect l="l" t="t" r="r" b="b"/>
                <a:pathLst>
                  <a:path w="43" h="53">
                    <a:moveTo>
                      <a:pt x="0" y="0"/>
                    </a:moveTo>
                    <a:lnTo>
                      <a:pt x="29" y="9"/>
                    </a:lnTo>
                    <a:lnTo>
                      <a:pt x="40" y="23"/>
                    </a:lnTo>
                    <a:lnTo>
                      <a:pt x="43" y="43"/>
                    </a:lnTo>
                    <a:lnTo>
                      <a:pt x="29" y="53"/>
                    </a:lnTo>
                    <a:lnTo>
                      <a:pt x="8" y="44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780400">
                <a:off x="6432480" y="4303440"/>
                <a:ext cx="16920" cy="320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8" y="0"/>
                    </a:moveTo>
                    <a:lnTo>
                      <a:pt x="0" y="8"/>
                    </a:lnTo>
                    <a:lnTo>
                      <a:pt x="0" y="31"/>
                    </a:lnTo>
                    <a:lnTo>
                      <a:pt x="17" y="45"/>
                    </a:lnTo>
                    <a:lnTo>
                      <a:pt x="25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5875560" y="4299840"/>
              <a:ext cx="721440" cy="873720"/>
              <a:chOff x="5875560" y="4299840"/>
              <a:chExt cx="721440" cy="873720"/>
            </a:xfrm>
          </p:grpSpPr>
          <p:sp>
            <p:nvSpPr>
              <p:cNvPr id="564" name=""/>
              <p:cNvSpPr/>
              <p:nvPr/>
            </p:nvSpPr>
            <p:spPr>
              <a:xfrm rot="20780400">
                <a:off x="6352920" y="4386240"/>
                <a:ext cx="27000" cy="248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" y="0"/>
                    </a:moveTo>
                    <a:lnTo>
                      <a:pt x="0" y="6"/>
                    </a:lnTo>
                    <a:lnTo>
                      <a:pt x="3" y="23"/>
                    </a:lnTo>
                    <a:lnTo>
                      <a:pt x="22" y="34"/>
                    </a:lnTo>
                    <a:lnTo>
                      <a:pt x="36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780400">
                <a:off x="5957640" y="4354560"/>
                <a:ext cx="556920" cy="763920"/>
              </a:xfrm>
              <a:custGeom>
                <a:avLst/>
                <a:gdLst/>
                <a:ahLst/>
                <a:rect l="l" t="t" r="r" b="b"/>
                <a:pathLst>
                  <a:path w="777" h="1039">
                    <a:moveTo>
                      <a:pt x="321" y="0"/>
                    </a:moveTo>
                    <a:lnTo>
                      <a:pt x="304" y="11"/>
                    </a:lnTo>
                    <a:lnTo>
                      <a:pt x="304" y="23"/>
                    </a:lnTo>
                    <a:lnTo>
                      <a:pt x="307" y="34"/>
                    </a:lnTo>
                    <a:lnTo>
                      <a:pt x="310" y="50"/>
                    </a:lnTo>
                    <a:lnTo>
                      <a:pt x="313" y="73"/>
                    </a:lnTo>
                    <a:lnTo>
                      <a:pt x="304" y="82"/>
                    </a:lnTo>
                    <a:lnTo>
                      <a:pt x="304" y="96"/>
                    </a:lnTo>
                    <a:lnTo>
                      <a:pt x="307" y="110"/>
                    </a:lnTo>
                    <a:lnTo>
                      <a:pt x="330" y="130"/>
                    </a:lnTo>
                    <a:lnTo>
                      <a:pt x="344" y="133"/>
                    </a:lnTo>
                    <a:lnTo>
                      <a:pt x="350" y="163"/>
                    </a:lnTo>
                    <a:lnTo>
                      <a:pt x="318" y="155"/>
                    </a:lnTo>
                    <a:lnTo>
                      <a:pt x="301" y="139"/>
                    </a:lnTo>
                    <a:lnTo>
                      <a:pt x="287" y="146"/>
                    </a:lnTo>
                    <a:lnTo>
                      <a:pt x="262" y="178"/>
                    </a:lnTo>
                    <a:lnTo>
                      <a:pt x="251" y="189"/>
                    </a:lnTo>
                    <a:lnTo>
                      <a:pt x="239" y="186"/>
                    </a:lnTo>
                    <a:lnTo>
                      <a:pt x="237" y="172"/>
                    </a:lnTo>
                    <a:lnTo>
                      <a:pt x="228" y="161"/>
                    </a:lnTo>
                    <a:lnTo>
                      <a:pt x="205" y="152"/>
                    </a:lnTo>
                    <a:lnTo>
                      <a:pt x="172" y="152"/>
                    </a:lnTo>
                    <a:lnTo>
                      <a:pt x="161" y="166"/>
                    </a:lnTo>
                    <a:lnTo>
                      <a:pt x="143" y="186"/>
                    </a:lnTo>
                    <a:lnTo>
                      <a:pt x="158" y="199"/>
                    </a:lnTo>
                    <a:lnTo>
                      <a:pt x="158" y="225"/>
                    </a:lnTo>
                    <a:lnTo>
                      <a:pt x="155" y="239"/>
                    </a:lnTo>
                    <a:lnTo>
                      <a:pt x="149" y="251"/>
                    </a:lnTo>
                    <a:lnTo>
                      <a:pt x="129" y="265"/>
                    </a:lnTo>
                    <a:lnTo>
                      <a:pt x="123" y="268"/>
                    </a:lnTo>
                    <a:lnTo>
                      <a:pt x="126" y="288"/>
                    </a:lnTo>
                    <a:lnTo>
                      <a:pt x="135" y="301"/>
                    </a:lnTo>
                    <a:lnTo>
                      <a:pt x="129" y="318"/>
                    </a:lnTo>
                    <a:lnTo>
                      <a:pt x="115" y="338"/>
                    </a:lnTo>
                    <a:lnTo>
                      <a:pt x="99" y="358"/>
                    </a:lnTo>
                    <a:lnTo>
                      <a:pt x="87" y="371"/>
                    </a:lnTo>
                    <a:lnTo>
                      <a:pt x="67" y="387"/>
                    </a:lnTo>
                    <a:lnTo>
                      <a:pt x="53" y="391"/>
                    </a:lnTo>
                    <a:lnTo>
                      <a:pt x="42" y="414"/>
                    </a:lnTo>
                    <a:lnTo>
                      <a:pt x="39" y="447"/>
                    </a:lnTo>
                    <a:lnTo>
                      <a:pt x="29" y="467"/>
                    </a:lnTo>
                    <a:lnTo>
                      <a:pt x="29" y="496"/>
                    </a:lnTo>
                    <a:lnTo>
                      <a:pt x="17" y="510"/>
                    </a:lnTo>
                    <a:lnTo>
                      <a:pt x="14" y="519"/>
                    </a:lnTo>
                    <a:lnTo>
                      <a:pt x="23" y="533"/>
                    </a:lnTo>
                    <a:lnTo>
                      <a:pt x="29" y="555"/>
                    </a:lnTo>
                    <a:lnTo>
                      <a:pt x="42" y="575"/>
                    </a:lnTo>
                    <a:lnTo>
                      <a:pt x="3" y="609"/>
                    </a:lnTo>
                    <a:lnTo>
                      <a:pt x="11" y="628"/>
                    </a:lnTo>
                    <a:lnTo>
                      <a:pt x="26" y="642"/>
                    </a:lnTo>
                    <a:lnTo>
                      <a:pt x="29" y="645"/>
                    </a:lnTo>
                    <a:lnTo>
                      <a:pt x="29" y="659"/>
                    </a:lnTo>
                    <a:lnTo>
                      <a:pt x="9" y="673"/>
                    </a:lnTo>
                    <a:lnTo>
                      <a:pt x="0" y="692"/>
                    </a:lnTo>
                    <a:lnTo>
                      <a:pt x="9" y="718"/>
                    </a:lnTo>
                    <a:lnTo>
                      <a:pt x="20" y="735"/>
                    </a:lnTo>
                    <a:lnTo>
                      <a:pt x="42" y="744"/>
                    </a:lnTo>
                    <a:lnTo>
                      <a:pt x="70" y="749"/>
                    </a:lnTo>
                    <a:lnTo>
                      <a:pt x="99" y="752"/>
                    </a:lnTo>
                    <a:lnTo>
                      <a:pt x="122" y="755"/>
                    </a:lnTo>
                    <a:lnTo>
                      <a:pt x="138" y="767"/>
                    </a:lnTo>
                    <a:lnTo>
                      <a:pt x="155" y="781"/>
                    </a:lnTo>
                    <a:lnTo>
                      <a:pt x="135" y="791"/>
                    </a:lnTo>
                    <a:lnTo>
                      <a:pt x="119" y="808"/>
                    </a:lnTo>
                    <a:lnTo>
                      <a:pt x="102" y="822"/>
                    </a:lnTo>
                    <a:lnTo>
                      <a:pt x="99" y="840"/>
                    </a:lnTo>
                    <a:lnTo>
                      <a:pt x="90" y="881"/>
                    </a:lnTo>
                    <a:lnTo>
                      <a:pt x="76" y="907"/>
                    </a:lnTo>
                    <a:lnTo>
                      <a:pt x="67" y="924"/>
                    </a:lnTo>
                    <a:lnTo>
                      <a:pt x="90" y="954"/>
                    </a:lnTo>
                    <a:lnTo>
                      <a:pt x="96" y="963"/>
                    </a:lnTo>
                    <a:lnTo>
                      <a:pt x="109" y="974"/>
                    </a:lnTo>
                    <a:lnTo>
                      <a:pt x="123" y="972"/>
                    </a:lnTo>
                    <a:lnTo>
                      <a:pt x="141" y="963"/>
                    </a:lnTo>
                    <a:lnTo>
                      <a:pt x="149" y="954"/>
                    </a:lnTo>
                    <a:lnTo>
                      <a:pt x="152" y="949"/>
                    </a:lnTo>
                    <a:lnTo>
                      <a:pt x="178" y="954"/>
                    </a:lnTo>
                    <a:lnTo>
                      <a:pt x="189" y="969"/>
                    </a:lnTo>
                    <a:lnTo>
                      <a:pt x="198" y="986"/>
                    </a:lnTo>
                    <a:lnTo>
                      <a:pt x="208" y="1000"/>
                    </a:lnTo>
                    <a:lnTo>
                      <a:pt x="225" y="1003"/>
                    </a:lnTo>
                    <a:lnTo>
                      <a:pt x="258" y="1000"/>
                    </a:lnTo>
                    <a:lnTo>
                      <a:pt x="275" y="997"/>
                    </a:lnTo>
                    <a:lnTo>
                      <a:pt x="298" y="1013"/>
                    </a:lnTo>
                    <a:lnTo>
                      <a:pt x="315" y="1006"/>
                    </a:lnTo>
                    <a:lnTo>
                      <a:pt x="332" y="1010"/>
                    </a:lnTo>
                    <a:lnTo>
                      <a:pt x="347" y="1022"/>
                    </a:lnTo>
                    <a:lnTo>
                      <a:pt x="374" y="1010"/>
                    </a:lnTo>
                    <a:lnTo>
                      <a:pt x="400" y="1010"/>
                    </a:lnTo>
                    <a:lnTo>
                      <a:pt x="420" y="1022"/>
                    </a:lnTo>
                    <a:lnTo>
                      <a:pt x="433" y="1029"/>
                    </a:lnTo>
                    <a:lnTo>
                      <a:pt x="450" y="1016"/>
                    </a:lnTo>
                    <a:lnTo>
                      <a:pt x="467" y="1016"/>
                    </a:lnTo>
                    <a:lnTo>
                      <a:pt x="496" y="1010"/>
                    </a:lnTo>
                    <a:lnTo>
                      <a:pt x="516" y="1022"/>
                    </a:lnTo>
                    <a:lnTo>
                      <a:pt x="519" y="1016"/>
                    </a:lnTo>
                    <a:lnTo>
                      <a:pt x="540" y="1030"/>
                    </a:lnTo>
                    <a:lnTo>
                      <a:pt x="558" y="1039"/>
                    </a:lnTo>
                    <a:lnTo>
                      <a:pt x="579" y="1030"/>
                    </a:lnTo>
                    <a:lnTo>
                      <a:pt x="583" y="1016"/>
                    </a:lnTo>
                    <a:lnTo>
                      <a:pt x="569" y="997"/>
                    </a:lnTo>
                    <a:lnTo>
                      <a:pt x="566" y="986"/>
                    </a:lnTo>
                    <a:lnTo>
                      <a:pt x="558" y="952"/>
                    </a:lnTo>
                    <a:lnTo>
                      <a:pt x="636" y="901"/>
                    </a:lnTo>
                    <a:lnTo>
                      <a:pt x="656" y="901"/>
                    </a:lnTo>
                    <a:lnTo>
                      <a:pt x="659" y="893"/>
                    </a:lnTo>
                    <a:lnTo>
                      <a:pt x="631" y="883"/>
                    </a:lnTo>
                    <a:lnTo>
                      <a:pt x="611" y="861"/>
                    </a:lnTo>
                    <a:lnTo>
                      <a:pt x="561" y="817"/>
                    </a:lnTo>
                    <a:lnTo>
                      <a:pt x="555" y="784"/>
                    </a:lnTo>
                    <a:lnTo>
                      <a:pt x="526" y="778"/>
                    </a:lnTo>
                    <a:lnTo>
                      <a:pt x="523" y="744"/>
                    </a:lnTo>
                    <a:lnTo>
                      <a:pt x="517" y="715"/>
                    </a:lnTo>
                    <a:lnTo>
                      <a:pt x="505" y="701"/>
                    </a:lnTo>
                    <a:lnTo>
                      <a:pt x="513" y="688"/>
                    </a:lnTo>
                    <a:lnTo>
                      <a:pt x="519" y="682"/>
                    </a:lnTo>
                    <a:lnTo>
                      <a:pt x="534" y="683"/>
                    </a:lnTo>
                    <a:lnTo>
                      <a:pt x="581" y="670"/>
                    </a:lnTo>
                    <a:lnTo>
                      <a:pt x="681" y="618"/>
                    </a:lnTo>
                    <a:lnTo>
                      <a:pt x="703" y="609"/>
                    </a:lnTo>
                    <a:lnTo>
                      <a:pt x="724" y="595"/>
                    </a:lnTo>
                    <a:lnTo>
                      <a:pt x="741" y="613"/>
                    </a:lnTo>
                    <a:lnTo>
                      <a:pt x="764" y="604"/>
                    </a:lnTo>
                    <a:lnTo>
                      <a:pt x="770" y="581"/>
                    </a:lnTo>
                    <a:lnTo>
                      <a:pt x="768" y="568"/>
                    </a:lnTo>
                    <a:lnTo>
                      <a:pt x="777" y="552"/>
                    </a:lnTo>
                    <a:lnTo>
                      <a:pt x="765" y="534"/>
                    </a:lnTo>
                    <a:lnTo>
                      <a:pt x="751" y="502"/>
                    </a:lnTo>
                    <a:lnTo>
                      <a:pt x="760" y="457"/>
                    </a:lnTo>
                    <a:lnTo>
                      <a:pt x="745" y="434"/>
                    </a:lnTo>
                    <a:lnTo>
                      <a:pt x="739" y="411"/>
                    </a:lnTo>
                    <a:lnTo>
                      <a:pt x="747" y="390"/>
                    </a:lnTo>
                    <a:lnTo>
                      <a:pt x="742" y="371"/>
                    </a:lnTo>
                    <a:lnTo>
                      <a:pt x="710" y="336"/>
                    </a:lnTo>
                    <a:lnTo>
                      <a:pt x="727" y="315"/>
                    </a:lnTo>
                    <a:lnTo>
                      <a:pt x="727" y="279"/>
                    </a:lnTo>
                    <a:lnTo>
                      <a:pt x="730" y="236"/>
                    </a:lnTo>
                    <a:lnTo>
                      <a:pt x="695" y="198"/>
                    </a:lnTo>
                    <a:lnTo>
                      <a:pt x="678" y="175"/>
                    </a:lnTo>
                    <a:lnTo>
                      <a:pt x="659" y="155"/>
                    </a:lnTo>
                    <a:lnTo>
                      <a:pt x="628" y="130"/>
                    </a:lnTo>
                    <a:lnTo>
                      <a:pt x="608" y="116"/>
                    </a:lnTo>
                    <a:lnTo>
                      <a:pt x="595" y="113"/>
                    </a:lnTo>
                    <a:lnTo>
                      <a:pt x="575" y="126"/>
                    </a:lnTo>
                    <a:lnTo>
                      <a:pt x="560" y="136"/>
                    </a:lnTo>
                    <a:lnTo>
                      <a:pt x="516" y="169"/>
                    </a:lnTo>
                    <a:lnTo>
                      <a:pt x="484" y="161"/>
                    </a:lnTo>
                    <a:lnTo>
                      <a:pt x="470" y="161"/>
                    </a:lnTo>
                    <a:lnTo>
                      <a:pt x="470" y="149"/>
                    </a:lnTo>
                    <a:lnTo>
                      <a:pt x="476" y="133"/>
                    </a:lnTo>
                    <a:lnTo>
                      <a:pt x="484" y="119"/>
                    </a:lnTo>
                    <a:lnTo>
                      <a:pt x="443" y="93"/>
                    </a:lnTo>
                    <a:lnTo>
                      <a:pt x="430" y="90"/>
                    </a:lnTo>
                    <a:lnTo>
                      <a:pt x="411" y="73"/>
                    </a:lnTo>
                    <a:lnTo>
                      <a:pt x="403" y="43"/>
                    </a:lnTo>
                    <a:lnTo>
                      <a:pt x="394" y="23"/>
                    </a:lnTo>
                    <a:lnTo>
                      <a:pt x="380" y="26"/>
                    </a:lnTo>
                    <a:lnTo>
                      <a:pt x="363" y="6"/>
                    </a:lnTo>
                    <a:lnTo>
                      <a:pt x="341" y="3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rot="20780400">
              <a:off x="6444360" y="4287960"/>
              <a:ext cx="599760" cy="579240"/>
            </a:xfrm>
            <a:custGeom>
              <a:avLst/>
              <a:gdLst/>
              <a:ahLst/>
              <a:rect l="l" t="t" r="r" b="b"/>
              <a:pathLst>
                <a:path w="837" h="786">
                  <a:moveTo>
                    <a:pt x="20" y="149"/>
                  </a:moveTo>
                  <a:lnTo>
                    <a:pt x="17" y="198"/>
                  </a:lnTo>
                  <a:lnTo>
                    <a:pt x="17" y="228"/>
                  </a:lnTo>
                  <a:lnTo>
                    <a:pt x="0" y="251"/>
                  </a:lnTo>
                  <a:lnTo>
                    <a:pt x="34" y="290"/>
                  </a:lnTo>
                  <a:lnTo>
                    <a:pt x="37" y="301"/>
                  </a:lnTo>
                  <a:lnTo>
                    <a:pt x="29" y="327"/>
                  </a:lnTo>
                  <a:lnTo>
                    <a:pt x="31" y="344"/>
                  </a:lnTo>
                  <a:lnTo>
                    <a:pt x="47" y="366"/>
                  </a:lnTo>
                  <a:lnTo>
                    <a:pt x="46" y="380"/>
                  </a:lnTo>
                  <a:lnTo>
                    <a:pt x="43" y="423"/>
                  </a:lnTo>
                  <a:lnTo>
                    <a:pt x="57" y="452"/>
                  </a:lnTo>
                  <a:lnTo>
                    <a:pt x="67" y="468"/>
                  </a:lnTo>
                  <a:lnTo>
                    <a:pt x="60" y="479"/>
                  </a:lnTo>
                  <a:lnTo>
                    <a:pt x="60" y="496"/>
                  </a:lnTo>
                  <a:lnTo>
                    <a:pt x="50" y="505"/>
                  </a:lnTo>
                  <a:lnTo>
                    <a:pt x="50" y="516"/>
                  </a:lnTo>
                  <a:lnTo>
                    <a:pt x="73" y="519"/>
                  </a:lnTo>
                  <a:lnTo>
                    <a:pt x="90" y="525"/>
                  </a:lnTo>
                  <a:lnTo>
                    <a:pt x="96" y="535"/>
                  </a:lnTo>
                  <a:lnTo>
                    <a:pt x="96" y="555"/>
                  </a:lnTo>
                  <a:lnTo>
                    <a:pt x="119" y="578"/>
                  </a:lnTo>
                  <a:lnTo>
                    <a:pt x="139" y="587"/>
                  </a:lnTo>
                  <a:lnTo>
                    <a:pt x="143" y="607"/>
                  </a:lnTo>
                  <a:lnTo>
                    <a:pt x="169" y="640"/>
                  </a:lnTo>
                  <a:lnTo>
                    <a:pt x="192" y="621"/>
                  </a:lnTo>
                  <a:lnTo>
                    <a:pt x="212" y="614"/>
                  </a:lnTo>
                  <a:lnTo>
                    <a:pt x="225" y="617"/>
                  </a:lnTo>
                  <a:lnTo>
                    <a:pt x="265" y="660"/>
                  </a:lnTo>
                  <a:lnTo>
                    <a:pt x="274" y="663"/>
                  </a:lnTo>
                  <a:lnTo>
                    <a:pt x="321" y="684"/>
                  </a:lnTo>
                  <a:lnTo>
                    <a:pt x="332" y="687"/>
                  </a:lnTo>
                  <a:lnTo>
                    <a:pt x="352" y="683"/>
                  </a:lnTo>
                  <a:lnTo>
                    <a:pt x="374" y="680"/>
                  </a:lnTo>
                  <a:lnTo>
                    <a:pt x="394" y="687"/>
                  </a:lnTo>
                  <a:lnTo>
                    <a:pt x="420" y="710"/>
                  </a:lnTo>
                  <a:lnTo>
                    <a:pt x="431" y="722"/>
                  </a:lnTo>
                  <a:lnTo>
                    <a:pt x="443" y="713"/>
                  </a:lnTo>
                  <a:lnTo>
                    <a:pt x="457" y="710"/>
                  </a:lnTo>
                  <a:lnTo>
                    <a:pt x="476" y="727"/>
                  </a:lnTo>
                  <a:lnTo>
                    <a:pt x="499" y="744"/>
                  </a:lnTo>
                  <a:lnTo>
                    <a:pt x="516" y="756"/>
                  </a:lnTo>
                  <a:lnTo>
                    <a:pt x="539" y="764"/>
                  </a:lnTo>
                  <a:lnTo>
                    <a:pt x="549" y="760"/>
                  </a:lnTo>
                  <a:lnTo>
                    <a:pt x="560" y="750"/>
                  </a:lnTo>
                  <a:lnTo>
                    <a:pt x="575" y="744"/>
                  </a:lnTo>
                  <a:lnTo>
                    <a:pt x="603" y="753"/>
                  </a:lnTo>
                  <a:lnTo>
                    <a:pt x="732" y="786"/>
                  </a:lnTo>
                  <a:lnTo>
                    <a:pt x="752" y="770"/>
                  </a:lnTo>
                  <a:lnTo>
                    <a:pt x="738" y="744"/>
                  </a:lnTo>
                  <a:lnTo>
                    <a:pt x="724" y="703"/>
                  </a:lnTo>
                  <a:lnTo>
                    <a:pt x="814" y="621"/>
                  </a:lnTo>
                  <a:lnTo>
                    <a:pt x="831" y="601"/>
                  </a:lnTo>
                  <a:lnTo>
                    <a:pt x="837" y="569"/>
                  </a:lnTo>
                  <a:lnTo>
                    <a:pt x="823" y="528"/>
                  </a:lnTo>
                  <a:lnTo>
                    <a:pt x="808" y="493"/>
                  </a:lnTo>
                  <a:lnTo>
                    <a:pt x="784" y="453"/>
                  </a:lnTo>
                  <a:lnTo>
                    <a:pt x="767" y="436"/>
                  </a:lnTo>
                  <a:lnTo>
                    <a:pt x="764" y="412"/>
                  </a:lnTo>
                  <a:lnTo>
                    <a:pt x="767" y="386"/>
                  </a:lnTo>
                  <a:lnTo>
                    <a:pt x="775" y="360"/>
                  </a:lnTo>
                  <a:lnTo>
                    <a:pt x="764" y="344"/>
                  </a:lnTo>
                  <a:lnTo>
                    <a:pt x="750" y="333"/>
                  </a:lnTo>
                  <a:lnTo>
                    <a:pt x="764" y="316"/>
                  </a:lnTo>
                  <a:lnTo>
                    <a:pt x="787" y="284"/>
                  </a:lnTo>
                  <a:lnTo>
                    <a:pt x="794" y="277"/>
                  </a:lnTo>
                  <a:lnTo>
                    <a:pt x="790" y="222"/>
                  </a:lnTo>
                  <a:lnTo>
                    <a:pt x="781" y="195"/>
                  </a:lnTo>
                  <a:lnTo>
                    <a:pt x="772" y="166"/>
                  </a:lnTo>
                  <a:lnTo>
                    <a:pt x="772" y="138"/>
                  </a:lnTo>
                  <a:lnTo>
                    <a:pt x="755" y="112"/>
                  </a:lnTo>
                  <a:lnTo>
                    <a:pt x="732" y="90"/>
                  </a:lnTo>
                  <a:lnTo>
                    <a:pt x="708" y="87"/>
                  </a:lnTo>
                  <a:lnTo>
                    <a:pt x="635" y="85"/>
                  </a:lnTo>
                  <a:lnTo>
                    <a:pt x="595" y="82"/>
                  </a:lnTo>
                  <a:lnTo>
                    <a:pt x="522" y="76"/>
                  </a:lnTo>
                  <a:lnTo>
                    <a:pt x="493" y="62"/>
                  </a:lnTo>
                  <a:lnTo>
                    <a:pt x="463" y="59"/>
                  </a:lnTo>
                  <a:lnTo>
                    <a:pt x="446" y="65"/>
                  </a:lnTo>
                  <a:lnTo>
                    <a:pt x="426" y="79"/>
                  </a:lnTo>
                  <a:lnTo>
                    <a:pt x="408" y="73"/>
                  </a:lnTo>
                  <a:lnTo>
                    <a:pt x="391" y="56"/>
                  </a:lnTo>
                  <a:lnTo>
                    <a:pt x="371" y="56"/>
                  </a:lnTo>
                  <a:lnTo>
                    <a:pt x="364" y="49"/>
                  </a:lnTo>
                  <a:lnTo>
                    <a:pt x="358" y="23"/>
                  </a:lnTo>
                  <a:lnTo>
                    <a:pt x="332" y="3"/>
                  </a:lnTo>
                  <a:lnTo>
                    <a:pt x="314" y="0"/>
                  </a:lnTo>
                  <a:lnTo>
                    <a:pt x="279" y="9"/>
                  </a:lnTo>
                  <a:lnTo>
                    <a:pt x="251" y="17"/>
                  </a:lnTo>
                  <a:lnTo>
                    <a:pt x="228" y="30"/>
                  </a:lnTo>
                  <a:lnTo>
                    <a:pt x="189" y="53"/>
                  </a:lnTo>
                  <a:lnTo>
                    <a:pt x="149" y="65"/>
                  </a:lnTo>
                  <a:lnTo>
                    <a:pt x="116" y="79"/>
                  </a:lnTo>
                  <a:lnTo>
                    <a:pt x="79" y="96"/>
                  </a:lnTo>
                  <a:lnTo>
                    <a:pt x="60" y="119"/>
                  </a:lnTo>
                  <a:lnTo>
                    <a:pt x="37" y="138"/>
                  </a:lnTo>
                  <a:lnTo>
                    <a:pt x="20" y="149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780400">
              <a:off x="6768720" y="4088880"/>
              <a:ext cx="312120" cy="250920"/>
            </a:xfrm>
            <a:custGeom>
              <a:avLst/>
              <a:gdLst/>
              <a:ahLst/>
              <a:rect l="l" t="t" r="r" b="b"/>
              <a:pathLst>
                <a:path w="436" h="340">
                  <a:moveTo>
                    <a:pt x="3" y="36"/>
                  </a:moveTo>
                  <a:lnTo>
                    <a:pt x="0" y="47"/>
                  </a:lnTo>
                  <a:lnTo>
                    <a:pt x="6" y="86"/>
                  </a:lnTo>
                  <a:lnTo>
                    <a:pt x="25" y="146"/>
                  </a:lnTo>
                  <a:lnTo>
                    <a:pt x="42" y="162"/>
                  </a:lnTo>
                  <a:lnTo>
                    <a:pt x="82" y="178"/>
                  </a:lnTo>
                  <a:lnTo>
                    <a:pt x="98" y="182"/>
                  </a:lnTo>
                  <a:lnTo>
                    <a:pt x="102" y="202"/>
                  </a:lnTo>
                  <a:lnTo>
                    <a:pt x="102" y="235"/>
                  </a:lnTo>
                  <a:lnTo>
                    <a:pt x="141" y="275"/>
                  </a:lnTo>
                  <a:lnTo>
                    <a:pt x="165" y="287"/>
                  </a:lnTo>
                  <a:lnTo>
                    <a:pt x="178" y="293"/>
                  </a:lnTo>
                  <a:lnTo>
                    <a:pt x="211" y="334"/>
                  </a:lnTo>
                  <a:lnTo>
                    <a:pt x="222" y="327"/>
                  </a:lnTo>
                  <a:lnTo>
                    <a:pt x="245" y="324"/>
                  </a:lnTo>
                  <a:lnTo>
                    <a:pt x="270" y="340"/>
                  </a:lnTo>
                  <a:lnTo>
                    <a:pt x="290" y="330"/>
                  </a:lnTo>
                  <a:lnTo>
                    <a:pt x="318" y="298"/>
                  </a:lnTo>
                  <a:lnTo>
                    <a:pt x="337" y="287"/>
                  </a:lnTo>
                  <a:lnTo>
                    <a:pt x="357" y="295"/>
                  </a:lnTo>
                  <a:lnTo>
                    <a:pt x="369" y="290"/>
                  </a:lnTo>
                  <a:lnTo>
                    <a:pt x="371" y="278"/>
                  </a:lnTo>
                  <a:lnTo>
                    <a:pt x="374" y="214"/>
                  </a:lnTo>
                  <a:lnTo>
                    <a:pt x="386" y="194"/>
                  </a:lnTo>
                  <a:lnTo>
                    <a:pt x="386" y="165"/>
                  </a:lnTo>
                  <a:lnTo>
                    <a:pt x="391" y="155"/>
                  </a:lnTo>
                  <a:lnTo>
                    <a:pt x="413" y="138"/>
                  </a:lnTo>
                  <a:lnTo>
                    <a:pt x="436" y="135"/>
                  </a:lnTo>
                  <a:lnTo>
                    <a:pt x="436" y="103"/>
                  </a:lnTo>
                  <a:lnTo>
                    <a:pt x="430" y="79"/>
                  </a:lnTo>
                  <a:lnTo>
                    <a:pt x="413" y="70"/>
                  </a:lnTo>
                  <a:lnTo>
                    <a:pt x="406" y="73"/>
                  </a:lnTo>
                  <a:lnTo>
                    <a:pt x="377" y="47"/>
                  </a:lnTo>
                  <a:lnTo>
                    <a:pt x="360" y="29"/>
                  </a:lnTo>
                  <a:lnTo>
                    <a:pt x="340" y="29"/>
                  </a:lnTo>
                  <a:lnTo>
                    <a:pt x="301" y="29"/>
                  </a:lnTo>
                  <a:lnTo>
                    <a:pt x="293" y="22"/>
                  </a:lnTo>
                  <a:lnTo>
                    <a:pt x="284" y="3"/>
                  </a:lnTo>
                  <a:lnTo>
                    <a:pt x="273" y="0"/>
                  </a:lnTo>
                  <a:lnTo>
                    <a:pt x="238" y="0"/>
                  </a:lnTo>
                  <a:lnTo>
                    <a:pt x="225" y="16"/>
                  </a:lnTo>
                  <a:lnTo>
                    <a:pt x="211" y="13"/>
                  </a:lnTo>
                  <a:lnTo>
                    <a:pt x="188" y="9"/>
                  </a:lnTo>
                  <a:lnTo>
                    <a:pt x="178" y="6"/>
                  </a:lnTo>
                  <a:lnTo>
                    <a:pt x="161" y="10"/>
                  </a:lnTo>
                  <a:lnTo>
                    <a:pt x="149" y="19"/>
                  </a:lnTo>
                  <a:lnTo>
                    <a:pt x="126" y="10"/>
                  </a:lnTo>
                  <a:lnTo>
                    <a:pt x="79" y="3"/>
                  </a:lnTo>
                  <a:lnTo>
                    <a:pt x="67" y="0"/>
                  </a:lnTo>
                  <a:lnTo>
                    <a:pt x="53" y="10"/>
                  </a:lnTo>
                  <a:lnTo>
                    <a:pt x="30" y="2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6716520" y="3720240"/>
              <a:ext cx="326520" cy="262080"/>
              <a:chOff x="6716520" y="3720240"/>
              <a:chExt cx="326520" cy="262080"/>
            </a:xfrm>
          </p:grpSpPr>
          <p:sp>
            <p:nvSpPr>
              <p:cNvPr id="569" name=""/>
              <p:cNvSpPr/>
              <p:nvPr/>
            </p:nvSpPr>
            <p:spPr>
              <a:xfrm rot="20780400">
                <a:off x="6721560" y="3852720"/>
                <a:ext cx="48600" cy="41040"/>
              </a:xfrm>
              <a:custGeom>
                <a:avLst/>
                <a:gdLst/>
                <a:ahLst/>
                <a:rect l="l" t="t" r="r" b="b"/>
                <a:pathLst>
                  <a:path w="67" h="56">
                    <a:moveTo>
                      <a:pt x="39" y="0"/>
                    </a:moveTo>
                    <a:lnTo>
                      <a:pt x="9" y="20"/>
                    </a:lnTo>
                    <a:lnTo>
                      <a:pt x="0" y="30"/>
                    </a:lnTo>
                    <a:lnTo>
                      <a:pt x="20" y="37"/>
                    </a:lnTo>
                    <a:lnTo>
                      <a:pt x="36" y="56"/>
                    </a:lnTo>
                    <a:lnTo>
                      <a:pt x="50" y="43"/>
                    </a:lnTo>
                    <a:lnTo>
                      <a:pt x="67" y="30"/>
                    </a:lnTo>
                    <a:lnTo>
                      <a:pt x="53" y="17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780400">
                <a:off x="6724080" y="3900240"/>
                <a:ext cx="70200" cy="748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82" y="0"/>
                    </a:moveTo>
                    <a:lnTo>
                      <a:pt x="49" y="7"/>
                    </a:lnTo>
                    <a:lnTo>
                      <a:pt x="37" y="0"/>
                    </a:lnTo>
                    <a:lnTo>
                      <a:pt x="17" y="26"/>
                    </a:lnTo>
                    <a:lnTo>
                      <a:pt x="9" y="20"/>
                    </a:lnTo>
                    <a:lnTo>
                      <a:pt x="0" y="37"/>
                    </a:lnTo>
                    <a:lnTo>
                      <a:pt x="11" y="46"/>
                    </a:lnTo>
                    <a:lnTo>
                      <a:pt x="11" y="89"/>
                    </a:lnTo>
                    <a:lnTo>
                      <a:pt x="20" y="102"/>
                    </a:lnTo>
                    <a:lnTo>
                      <a:pt x="70" y="46"/>
                    </a:lnTo>
                    <a:lnTo>
                      <a:pt x="90" y="46"/>
                    </a:lnTo>
                    <a:lnTo>
                      <a:pt x="99" y="31"/>
                    </a:lnTo>
                    <a:lnTo>
                      <a:pt x="96" y="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780400">
                <a:off x="6788880" y="3744360"/>
                <a:ext cx="232200" cy="212760"/>
              </a:xfrm>
              <a:custGeom>
                <a:avLst/>
                <a:gdLst/>
                <a:ahLst/>
                <a:rect l="l" t="t" r="r" b="b"/>
                <a:pathLst>
                  <a:path w="326" h="291">
                    <a:moveTo>
                      <a:pt x="315" y="274"/>
                    </a:moveTo>
                    <a:lnTo>
                      <a:pt x="312" y="257"/>
                    </a:lnTo>
                    <a:lnTo>
                      <a:pt x="323" y="242"/>
                    </a:lnTo>
                    <a:lnTo>
                      <a:pt x="323" y="221"/>
                    </a:lnTo>
                    <a:lnTo>
                      <a:pt x="300" y="204"/>
                    </a:lnTo>
                    <a:lnTo>
                      <a:pt x="292" y="195"/>
                    </a:lnTo>
                    <a:lnTo>
                      <a:pt x="286" y="166"/>
                    </a:lnTo>
                    <a:lnTo>
                      <a:pt x="272" y="142"/>
                    </a:lnTo>
                    <a:lnTo>
                      <a:pt x="257" y="122"/>
                    </a:lnTo>
                    <a:lnTo>
                      <a:pt x="257" y="105"/>
                    </a:lnTo>
                    <a:lnTo>
                      <a:pt x="266" y="93"/>
                    </a:lnTo>
                    <a:lnTo>
                      <a:pt x="303" y="96"/>
                    </a:lnTo>
                    <a:lnTo>
                      <a:pt x="317" y="79"/>
                    </a:lnTo>
                    <a:lnTo>
                      <a:pt x="326" y="37"/>
                    </a:lnTo>
                    <a:lnTo>
                      <a:pt x="323" y="23"/>
                    </a:lnTo>
                    <a:lnTo>
                      <a:pt x="306" y="20"/>
                    </a:lnTo>
                    <a:lnTo>
                      <a:pt x="275" y="23"/>
                    </a:lnTo>
                    <a:lnTo>
                      <a:pt x="233" y="23"/>
                    </a:lnTo>
                    <a:lnTo>
                      <a:pt x="201" y="9"/>
                    </a:lnTo>
                    <a:lnTo>
                      <a:pt x="178" y="3"/>
                    </a:lnTo>
                    <a:lnTo>
                      <a:pt x="158" y="0"/>
                    </a:lnTo>
                    <a:lnTo>
                      <a:pt x="139" y="26"/>
                    </a:lnTo>
                    <a:lnTo>
                      <a:pt x="116" y="43"/>
                    </a:lnTo>
                    <a:lnTo>
                      <a:pt x="82" y="40"/>
                    </a:lnTo>
                    <a:lnTo>
                      <a:pt x="63" y="53"/>
                    </a:lnTo>
                    <a:lnTo>
                      <a:pt x="31" y="85"/>
                    </a:lnTo>
                    <a:lnTo>
                      <a:pt x="6" y="105"/>
                    </a:lnTo>
                    <a:lnTo>
                      <a:pt x="0" y="119"/>
                    </a:lnTo>
                    <a:lnTo>
                      <a:pt x="14" y="145"/>
                    </a:lnTo>
                    <a:lnTo>
                      <a:pt x="29" y="178"/>
                    </a:lnTo>
                    <a:lnTo>
                      <a:pt x="46" y="198"/>
                    </a:lnTo>
                    <a:lnTo>
                      <a:pt x="63" y="192"/>
                    </a:lnTo>
                    <a:lnTo>
                      <a:pt x="91" y="181"/>
                    </a:lnTo>
                    <a:lnTo>
                      <a:pt x="88" y="209"/>
                    </a:lnTo>
                    <a:lnTo>
                      <a:pt x="79" y="242"/>
                    </a:lnTo>
                    <a:lnTo>
                      <a:pt x="82" y="248"/>
                    </a:lnTo>
                    <a:lnTo>
                      <a:pt x="96" y="248"/>
                    </a:lnTo>
                    <a:lnTo>
                      <a:pt x="116" y="242"/>
                    </a:lnTo>
                    <a:lnTo>
                      <a:pt x="158" y="247"/>
                    </a:lnTo>
                    <a:lnTo>
                      <a:pt x="171" y="262"/>
                    </a:lnTo>
                    <a:lnTo>
                      <a:pt x="195" y="271"/>
                    </a:lnTo>
                    <a:lnTo>
                      <a:pt x="215" y="291"/>
                    </a:lnTo>
                    <a:lnTo>
                      <a:pt x="228" y="288"/>
                    </a:lnTo>
                    <a:lnTo>
                      <a:pt x="254" y="274"/>
                    </a:lnTo>
                    <a:lnTo>
                      <a:pt x="280" y="271"/>
                    </a:lnTo>
                    <a:lnTo>
                      <a:pt x="315" y="274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389640" y="2713680"/>
              <a:ext cx="702000" cy="1093320"/>
              <a:chOff x="6389640" y="2713680"/>
              <a:chExt cx="702000" cy="1093320"/>
            </a:xfrm>
          </p:grpSpPr>
          <p:sp>
            <p:nvSpPr>
              <p:cNvPr id="573" name=""/>
              <p:cNvSpPr/>
              <p:nvPr/>
            </p:nvSpPr>
            <p:spPr>
              <a:xfrm rot="20780400">
                <a:off x="6586560" y="3749760"/>
                <a:ext cx="30240" cy="2916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36" y="0"/>
                    </a:moveTo>
                    <a:lnTo>
                      <a:pt x="19" y="10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40"/>
                    </a:lnTo>
                    <a:lnTo>
                      <a:pt x="42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20780400">
                <a:off x="6501960" y="2755440"/>
                <a:ext cx="477360" cy="1009080"/>
              </a:xfrm>
              <a:custGeom>
                <a:avLst/>
                <a:gdLst/>
                <a:ahLst/>
                <a:rect l="l" t="t" r="r" b="b"/>
                <a:pathLst>
                  <a:path w="665" h="1370">
                    <a:moveTo>
                      <a:pt x="186" y="1370"/>
                    </a:moveTo>
                    <a:lnTo>
                      <a:pt x="181" y="1325"/>
                    </a:lnTo>
                    <a:lnTo>
                      <a:pt x="158" y="1302"/>
                    </a:lnTo>
                    <a:lnTo>
                      <a:pt x="142" y="1291"/>
                    </a:lnTo>
                    <a:lnTo>
                      <a:pt x="113" y="1280"/>
                    </a:lnTo>
                    <a:lnTo>
                      <a:pt x="90" y="1280"/>
                    </a:lnTo>
                    <a:lnTo>
                      <a:pt x="79" y="1258"/>
                    </a:lnTo>
                    <a:lnTo>
                      <a:pt x="90" y="1172"/>
                    </a:lnTo>
                    <a:lnTo>
                      <a:pt x="85" y="1122"/>
                    </a:lnTo>
                    <a:lnTo>
                      <a:pt x="67" y="1099"/>
                    </a:lnTo>
                    <a:lnTo>
                      <a:pt x="57" y="1089"/>
                    </a:lnTo>
                    <a:lnTo>
                      <a:pt x="63" y="1043"/>
                    </a:lnTo>
                    <a:lnTo>
                      <a:pt x="57" y="1016"/>
                    </a:lnTo>
                    <a:lnTo>
                      <a:pt x="46" y="994"/>
                    </a:lnTo>
                    <a:lnTo>
                      <a:pt x="63" y="944"/>
                    </a:lnTo>
                    <a:lnTo>
                      <a:pt x="79" y="944"/>
                    </a:lnTo>
                    <a:lnTo>
                      <a:pt x="90" y="934"/>
                    </a:lnTo>
                    <a:lnTo>
                      <a:pt x="96" y="899"/>
                    </a:lnTo>
                    <a:lnTo>
                      <a:pt x="130" y="871"/>
                    </a:lnTo>
                    <a:lnTo>
                      <a:pt x="163" y="842"/>
                    </a:lnTo>
                    <a:lnTo>
                      <a:pt x="169" y="809"/>
                    </a:lnTo>
                    <a:lnTo>
                      <a:pt x="209" y="775"/>
                    </a:lnTo>
                    <a:lnTo>
                      <a:pt x="248" y="736"/>
                    </a:lnTo>
                    <a:lnTo>
                      <a:pt x="242" y="719"/>
                    </a:lnTo>
                    <a:lnTo>
                      <a:pt x="242" y="696"/>
                    </a:lnTo>
                    <a:lnTo>
                      <a:pt x="271" y="680"/>
                    </a:lnTo>
                    <a:lnTo>
                      <a:pt x="282" y="673"/>
                    </a:lnTo>
                    <a:lnTo>
                      <a:pt x="276" y="640"/>
                    </a:lnTo>
                    <a:lnTo>
                      <a:pt x="276" y="607"/>
                    </a:lnTo>
                    <a:lnTo>
                      <a:pt x="265" y="600"/>
                    </a:lnTo>
                    <a:lnTo>
                      <a:pt x="248" y="607"/>
                    </a:lnTo>
                    <a:lnTo>
                      <a:pt x="231" y="584"/>
                    </a:lnTo>
                    <a:lnTo>
                      <a:pt x="215" y="521"/>
                    </a:lnTo>
                    <a:lnTo>
                      <a:pt x="181" y="476"/>
                    </a:lnTo>
                    <a:lnTo>
                      <a:pt x="192" y="413"/>
                    </a:lnTo>
                    <a:lnTo>
                      <a:pt x="186" y="386"/>
                    </a:lnTo>
                    <a:lnTo>
                      <a:pt x="146" y="346"/>
                    </a:lnTo>
                    <a:lnTo>
                      <a:pt x="163" y="296"/>
                    </a:lnTo>
                    <a:lnTo>
                      <a:pt x="152" y="267"/>
                    </a:lnTo>
                    <a:lnTo>
                      <a:pt x="123" y="238"/>
                    </a:lnTo>
                    <a:lnTo>
                      <a:pt x="107" y="257"/>
                    </a:lnTo>
                    <a:lnTo>
                      <a:pt x="46" y="194"/>
                    </a:lnTo>
                    <a:lnTo>
                      <a:pt x="29" y="171"/>
                    </a:lnTo>
                    <a:lnTo>
                      <a:pt x="17" y="149"/>
                    </a:lnTo>
                    <a:lnTo>
                      <a:pt x="0" y="140"/>
                    </a:lnTo>
                    <a:lnTo>
                      <a:pt x="23" y="118"/>
                    </a:lnTo>
                    <a:lnTo>
                      <a:pt x="57" y="118"/>
                    </a:lnTo>
                    <a:lnTo>
                      <a:pt x="73" y="144"/>
                    </a:lnTo>
                    <a:lnTo>
                      <a:pt x="119" y="194"/>
                    </a:lnTo>
                    <a:lnTo>
                      <a:pt x="163" y="165"/>
                    </a:lnTo>
                    <a:lnTo>
                      <a:pt x="192" y="171"/>
                    </a:lnTo>
                    <a:lnTo>
                      <a:pt x="198" y="188"/>
                    </a:lnTo>
                    <a:lnTo>
                      <a:pt x="231" y="194"/>
                    </a:lnTo>
                    <a:lnTo>
                      <a:pt x="242" y="149"/>
                    </a:lnTo>
                    <a:lnTo>
                      <a:pt x="259" y="135"/>
                    </a:lnTo>
                    <a:lnTo>
                      <a:pt x="271" y="118"/>
                    </a:lnTo>
                    <a:lnTo>
                      <a:pt x="271" y="101"/>
                    </a:lnTo>
                    <a:lnTo>
                      <a:pt x="265" y="56"/>
                    </a:lnTo>
                    <a:lnTo>
                      <a:pt x="294" y="28"/>
                    </a:lnTo>
                    <a:lnTo>
                      <a:pt x="311" y="28"/>
                    </a:lnTo>
                    <a:lnTo>
                      <a:pt x="338" y="0"/>
                    </a:lnTo>
                    <a:lnTo>
                      <a:pt x="371" y="39"/>
                    </a:lnTo>
                    <a:lnTo>
                      <a:pt x="384" y="56"/>
                    </a:lnTo>
                    <a:lnTo>
                      <a:pt x="371" y="89"/>
                    </a:lnTo>
                    <a:lnTo>
                      <a:pt x="344" y="112"/>
                    </a:lnTo>
                    <a:lnTo>
                      <a:pt x="321" y="140"/>
                    </a:lnTo>
                    <a:lnTo>
                      <a:pt x="327" y="165"/>
                    </a:lnTo>
                    <a:lnTo>
                      <a:pt x="378" y="129"/>
                    </a:lnTo>
                    <a:lnTo>
                      <a:pt x="378" y="95"/>
                    </a:lnTo>
                    <a:lnTo>
                      <a:pt x="384" y="45"/>
                    </a:lnTo>
                    <a:lnTo>
                      <a:pt x="400" y="33"/>
                    </a:lnTo>
                    <a:lnTo>
                      <a:pt x="417" y="95"/>
                    </a:lnTo>
                    <a:lnTo>
                      <a:pt x="417" y="149"/>
                    </a:lnTo>
                    <a:lnTo>
                      <a:pt x="406" y="171"/>
                    </a:lnTo>
                    <a:lnTo>
                      <a:pt x="406" y="205"/>
                    </a:lnTo>
                    <a:lnTo>
                      <a:pt x="451" y="238"/>
                    </a:lnTo>
                    <a:lnTo>
                      <a:pt x="451" y="261"/>
                    </a:lnTo>
                    <a:lnTo>
                      <a:pt x="479" y="301"/>
                    </a:lnTo>
                    <a:lnTo>
                      <a:pt x="490" y="330"/>
                    </a:lnTo>
                    <a:lnTo>
                      <a:pt x="484" y="397"/>
                    </a:lnTo>
                    <a:lnTo>
                      <a:pt x="502" y="471"/>
                    </a:lnTo>
                    <a:lnTo>
                      <a:pt x="530" y="532"/>
                    </a:lnTo>
                    <a:lnTo>
                      <a:pt x="524" y="623"/>
                    </a:lnTo>
                    <a:lnTo>
                      <a:pt x="546" y="680"/>
                    </a:lnTo>
                    <a:lnTo>
                      <a:pt x="559" y="702"/>
                    </a:lnTo>
                    <a:lnTo>
                      <a:pt x="569" y="786"/>
                    </a:lnTo>
                    <a:lnTo>
                      <a:pt x="580" y="821"/>
                    </a:lnTo>
                    <a:lnTo>
                      <a:pt x="636" y="859"/>
                    </a:lnTo>
                    <a:lnTo>
                      <a:pt x="665" y="894"/>
                    </a:lnTo>
                    <a:lnTo>
                      <a:pt x="665" y="917"/>
                    </a:lnTo>
                    <a:lnTo>
                      <a:pt x="642" y="1020"/>
                    </a:lnTo>
                    <a:lnTo>
                      <a:pt x="632" y="1031"/>
                    </a:lnTo>
                    <a:lnTo>
                      <a:pt x="642" y="1054"/>
                    </a:lnTo>
                    <a:lnTo>
                      <a:pt x="615" y="1093"/>
                    </a:lnTo>
                    <a:lnTo>
                      <a:pt x="580" y="1110"/>
                    </a:lnTo>
                    <a:lnTo>
                      <a:pt x="580" y="1128"/>
                    </a:lnTo>
                    <a:lnTo>
                      <a:pt x="530" y="1195"/>
                    </a:lnTo>
                    <a:lnTo>
                      <a:pt x="496" y="1212"/>
                    </a:lnTo>
                    <a:lnTo>
                      <a:pt x="490" y="1252"/>
                    </a:lnTo>
                    <a:lnTo>
                      <a:pt x="457" y="1252"/>
                    </a:lnTo>
                    <a:lnTo>
                      <a:pt x="440" y="1264"/>
                    </a:lnTo>
                    <a:lnTo>
                      <a:pt x="406" y="1274"/>
                    </a:lnTo>
                    <a:lnTo>
                      <a:pt x="361" y="1268"/>
                    </a:lnTo>
                    <a:lnTo>
                      <a:pt x="327" y="1297"/>
                    </a:lnTo>
                    <a:lnTo>
                      <a:pt x="288" y="1320"/>
                    </a:lnTo>
                    <a:lnTo>
                      <a:pt x="248" y="1331"/>
                    </a:lnTo>
                    <a:lnTo>
                      <a:pt x="219" y="1353"/>
                    </a:lnTo>
                    <a:lnTo>
                      <a:pt x="186" y="137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20780400">
              <a:off x="6353640" y="4710600"/>
              <a:ext cx="438120" cy="244800"/>
            </a:xfrm>
            <a:custGeom>
              <a:avLst/>
              <a:gdLst/>
              <a:ahLst/>
              <a:rect l="l" t="t" r="r" b="b"/>
              <a:pathLst>
                <a:path w="612" h="334">
                  <a:moveTo>
                    <a:pt x="151" y="320"/>
                  </a:moveTo>
                  <a:lnTo>
                    <a:pt x="146" y="302"/>
                  </a:lnTo>
                  <a:lnTo>
                    <a:pt x="127" y="291"/>
                  </a:lnTo>
                  <a:lnTo>
                    <a:pt x="55" y="226"/>
                  </a:lnTo>
                  <a:lnTo>
                    <a:pt x="51" y="192"/>
                  </a:lnTo>
                  <a:lnTo>
                    <a:pt x="19" y="188"/>
                  </a:lnTo>
                  <a:lnTo>
                    <a:pt x="20" y="156"/>
                  </a:lnTo>
                  <a:lnTo>
                    <a:pt x="10" y="125"/>
                  </a:lnTo>
                  <a:lnTo>
                    <a:pt x="0" y="108"/>
                  </a:lnTo>
                  <a:lnTo>
                    <a:pt x="7" y="90"/>
                  </a:lnTo>
                  <a:lnTo>
                    <a:pt x="29" y="90"/>
                  </a:lnTo>
                  <a:lnTo>
                    <a:pt x="69" y="81"/>
                  </a:lnTo>
                  <a:lnTo>
                    <a:pt x="192" y="17"/>
                  </a:lnTo>
                  <a:lnTo>
                    <a:pt x="218" y="0"/>
                  </a:lnTo>
                  <a:lnTo>
                    <a:pt x="235" y="20"/>
                  </a:lnTo>
                  <a:lnTo>
                    <a:pt x="261" y="10"/>
                  </a:lnTo>
                  <a:lnTo>
                    <a:pt x="285" y="11"/>
                  </a:lnTo>
                  <a:lnTo>
                    <a:pt x="300" y="22"/>
                  </a:lnTo>
                  <a:lnTo>
                    <a:pt x="300" y="51"/>
                  </a:lnTo>
                  <a:lnTo>
                    <a:pt x="344" y="80"/>
                  </a:lnTo>
                  <a:lnTo>
                    <a:pt x="347" y="99"/>
                  </a:lnTo>
                  <a:lnTo>
                    <a:pt x="364" y="122"/>
                  </a:lnTo>
                  <a:lnTo>
                    <a:pt x="376" y="131"/>
                  </a:lnTo>
                  <a:lnTo>
                    <a:pt x="384" y="122"/>
                  </a:lnTo>
                  <a:lnTo>
                    <a:pt x="416" y="105"/>
                  </a:lnTo>
                  <a:lnTo>
                    <a:pt x="429" y="108"/>
                  </a:lnTo>
                  <a:lnTo>
                    <a:pt x="469" y="153"/>
                  </a:lnTo>
                  <a:lnTo>
                    <a:pt x="478" y="151"/>
                  </a:lnTo>
                  <a:lnTo>
                    <a:pt x="519" y="175"/>
                  </a:lnTo>
                  <a:lnTo>
                    <a:pt x="580" y="172"/>
                  </a:lnTo>
                  <a:lnTo>
                    <a:pt x="612" y="192"/>
                  </a:lnTo>
                  <a:lnTo>
                    <a:pt x="545" y="229"/>
                  </a:lnTo>
                  <a:lnTo>
                    <a:pt x="542" y="274"/>
                  </a:lnTo>
                  <a:lnTo>
                    <a:pt x="501" y="312"/>
                  </a:lnTo>
                  <a:lnTo>
                    <a:pt x="457" y="311"/>
                  </a:lnTo>
                  <a:lnTo>
                    <a:pt x="432" y="321"/>
                  </a:lnTo>
                  <a:lnTo>
                    <a:pt x="402" y="334"/>
                  </a:lnTo>
                  <a:lnTo>
                    <a:pt x="364" y="309"/>
                  </a:lnTo>
                  <a:lnTo>
                    <a:pt x="340" y="321"/>
                  </a:lnTo>
                  <a:lnTo>
                    <a:pt x="318" y="326"/>
                  </a:lnTo>
                  <a:lnTo>
                    <a:pt x="300" y="297"/>
                  </a:lnTo>
                  <a:lnTo>
                    <a:pt x="247" y="299"/>
                  </a:lnTo>
                  <a:lnTo>
                    <a:pt x="230" y="311"/>
                  </a:lnTo>
                  <a:lnTo>
                    <a:pt x="218" y="323"/>
                  </a:lnTo>
                  <a:lnTo>
                    <a:pt x="195" y="323"/>
                  </a:lnTo>
                  <a:lnTo>
                    <a:pt x="171" y="328"/>
                  </a:lnTo>
                  <a:lnTo>
                    <a:pt x="151" y="32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780400">
              <a:off x="6517800" y="5148720"/>
              <a:ext cx="396720" cy="397800"/>
            </a:xfrm>
            <a:custGeom>
              <a:avLst/>
              <a:gdLst/>
              <a:ahLst/>
              <a:rect l="l" t="t" r="r" b="b"/>
              <a:pathLst>
                <a:path w="552" h="542">
                  <a:moveTo>
                    <a:pt x="0" y="122"/>
                  </a:moveTo>
                  <a:lnTo>
                    <a:pt x="11" y="155"/>
                  </a:lnTo>
                  <a:lnTo>
                    <a:pt x="23" y="181"/>
                  </a:lnTo>
                  <a:lnTo>
                    <a:pt x="34" y="198"/>
                  </a:lnTo>
                  <a:lnTo>
                    <a:pt x="47" y="201"/>
                  </a:lnTo>
                  <a:lnTo>
                    <a:pt x="63" y="192"/>
                  </a:lnTo>
                  <a:lnTo>
                    <a:pt x="70" y="175"/>
                  </a:lnTo>
                  <a:lnTo>
                    <a:pt x="85" y="149"/>
                  </a:lnTo>
                  <a:lnTo>
                    <a:pt x="105" y="164"/>
                  </a:lnTo>
                  <a:lnTo>
                    <a:pt x="125" y="169"/>
                  </a:lnTo>
                  <a:lnTo>
                    <a:pt x="139" y="178"/>
                  </a:lnTo>
                  <a:lnTo>
                    <a:pt x="136" y="206"/>
                  </a:lnTo>
                  <a:lnTo>
                    <a:pt x="136" y="224"/>
                  </a:lnTo>
                  <a:lnTo>
                    <a:pt x="155" y="254"/>
                  </a:lnTo>
                  <a:lnTo>
                    <a:pt x="178" y="280"/>
                  </a:lnTo>
                  <a:lnTo>
                    <a:pt x="175" y="288"/>
                  </a:lnTo>
                  <a:lnTo>
                    <a:pt x="149" y="288"/>
                  </a:lnTo>
                  <a:lnTo>
                    <a:pt x="162" y="303"/>
                  </a:lnTo>
                  <a:lnTo>
                    <a:pt x="238" y="390"/>
                  </a:lnTo>
                  <a:lnTo>
                    <a:pt x="245" y="396"/>
                  </a:lnTo>
                  <a:lnTo>
                    <a:pt x="268" y="396"/>
                  </a:lnTo>
                  <a:lnTo>
                    <a:pt x="285" y="400"/>
                  </a:lnTo>
                  <a:lnTo>
                    <a:pt x="318" y="415"/>
                  </a:lnTo>
                  <a:lnTo>
                    <a:pt x="347" y="443"/>
                  </a:lnTo>
                  <a:lnTo>
                    <a:pt x="353" y="455"/>
                  </a:lnTo>
                  <a:lnTo>
                    <a:pt x="364" y="476"/>
                  </a:lnTo>
                  <a:lnTo>
                    <a:pt x="373" y="475"/>
                  </a:lnTo>
                  <a:lnTo>
                    <a:pt x="381" y="475"/>
                  </a:lnTo>
                  <a:lnTo>
                    <a:pt x="403" y="484"/>
                  </a:lnTo>
                  <a:lnTo>
                    <a:pt x="417" y="495"/>
                  </a:lnTo>
                  <a:lnTo>
                    <a:pt x="460" y="542"/>
                  </a:lnTo>
                  <a:lnTo>
                    <a:pt x="441" y="493"/>
                  </a:lnTo>
                  <a:lnTo>
                    <a:pt x="431" y="475"/>
                  </a:lnTo>
                  <a:lnTo>
                    <a:pt x="440" y="458"/>
                  </a:lnTo>
                  <a:lnTo>
                    <a:pt x="434" y="443"/>
                  </a:lnTo>
                  <a:lnTo>
                    <a:pt x="413" y="418"/>
                  </a:lnTo>
                  <a:lnTo>
                    <a:pt x="373" y="373"/>
                  </a:lnTo>
                  <a:lnTo>
                    <a:pt x="347" y="353"/>
                  </a:lnTo>
                  <a:lnTo>
                    <a:pt x="338" y="344"/>
                  </a:lnTo>
                  <a:lnTo>
                    <a:pt x="324" y="347"/>
                  </a:lnTo>
                  <a:lnTo>
                    <a:pt x="305" y="330"/>
                  </a:lnTo>
                  <a:lnTo>
                    <a:pt x="301" y="330"/>
                  </a:lnTo>
                  <a:lnTo>
                    <a:pt x="291" y="320"/>
                  </a:lnTo>
                  <a:lnTo>
                    <a:pt x="285" y="300"/>
                  </a:lnTo>
                  <a:lnTo>
                    <a:pt x="279" y="280"/>
                  </a:lnTo>
                  <a:lnTo>
                    <a:pt x="257" y="251"/>
                  </a:lnTo>
                  <a:lnTo>
                    <a:pt x="212" y="204"/>
                  </a:lnTo>
                  <a:lnTo>
                    <a:pt x="209" y="192"/>
                  </a:lnTo>
                  <a:lnTo>
                    <a:pt x="212" y="186"/>
                  </a:lnTo>
                  <a:lnTo>
                    <a:pt x="235" y="181"/>
                  </a:lnTo>
                  <a:lnTo>
                    <a:pt x="297" y="201"/>
                  </a:lnTo>
                  <a:lnTo>
                    <a:pt x="338" y="155"/>
                  </a:lnTo>
                  <a:lnTo>
                    <a:pt x="373" y="184"/>
                  </a:lnTo>
                  <a:lnTo>
                    <a:pt x="387" y="186"/>
                  </a:lnTo>
                  <a:lnTo>
                    <a:pt x="394" y="198"/>
                  </a:lnTo>
                  <a:lnTo>
                    <a:pt x="406" y="186"/>
                  </a:lnTo>
                  <a:lnTo>
                    <a:pt x="429" y="186"/>
                  </a:lnTo>
                  <a:lnTo>
                    <a:pt x="449" y="189"/>
                  </a:lnTo>
                  <a:lnTo>
                    <a:pt x="476" y="175"/>
                  </a:lnTo>
                  <a:lnTo>
                    <a:pt x="505" y="186"/>
                  </a:lnTo>
                  <a:lnTo>
                    <a:pt x="522" y="201"/>
                  </a:lnTo>
                  <a:lnTo>
                    <a:pt x="542" y="206"/>
                  </a:lnTo>
                  <a:lnTo>
                    <a:pt x="543" y="192"/>
                  </a:lnTo>
                  <a:lnTo>
                    <a:pt x="552" y="169"/>
                  </a:lnTo>
                  <a:lnTo>
                    <a:pt x="542" y="158"/>
                  </a:lnTo>
                  <a:lnTo>
                    <a:pt x="524" y="139"/>
                  </a:lnTo>
                  <a:lnTo>
                    <a:pt x="522" y="119"/>
                  </a:lnTo>
                  <a:lnTo>
                    <a:pt x="522" y="105"/>
                  </a:lnTo>
                  <a:lnTo>
                    <a:pt x="524" y="88"/>
                  </a:lnTo>
                  <a:lnTo>
                    <a:pt x="499" y="82"/>
                  </a:lnTo>
                  <a:lnTo>
                    <a:pt x="487" y="79"/>
                  </a:lnTo>
                  <a:lnTo>
                    <a:pt x="475" y="88"/>
                  </a:lnTo>
                  <a:lnTo>
                    <a:pt x="460" y="99"/>
                  </a:lnTo>
                  <a:lnTo>
                    <a:pt x="446" y="99"/>
                  </a:lnTo>
                  <a:lnTo>
                    <a:pt x="423" y="76"/>
                  </a:lnTo>
                  <a:lnTo>
                    <a:pt x="403" y="66"/>
                  </a:lnTo>
                  <a:lnTo>
                    <a:pt x="384" y="69"/>
                  </a:lnTo>
                  <a:lnTo>
                    <a:pt x="367" y="50"/>
                  </a:lnTo>
                  <a:lnTo>
                    <a:pt x="321" y="3"/>
                  </a:lnTo>
                  <a:lnTo>
                    <a:pt x="301" y="0"/>
                  </a:lnTo>
                  <a:lnTo>
                    <a:pt x="271" y="40"/>
                  </a:lnTo>
                  <a:lnTo>
                    <a:pt x="239" y="37"/>
                  </a:lnTo>
                  <a:lnTo>
                    <a:pt x="225" y="50"/>
                  </a:lnTo>
                  <a:lnTo>
                    <a:pt x="221" y="69"/>
                  </a:lnTo>
                  <a:lnTo>
                    <a:pt x="162" y="132"/>
                  </a:lnTo>
                  <a:lnTo>
                    <a:pt x="122" y="122"/>
                  </a:lnTo>
                  <a:lnTo>
                    <a:pt x="82" y="113"/>
                  </a:lnTo>
                  <a:lnTo>
                    <a:pt x="63" y="122"/>
                  </a:lnTo>
                  <a:lnTo>
                    <a:pt x="37" y="13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026480" y="5410800"/>
              <a:ext cx="755640" cy="709200"/>
              <a:chOff x="7026480" y="5410800"/>
              <a:chExt cx="755640" cy="709200"/>
            </a:xfrm>
          </p:grpSpPr>
          <p:sp>
            <p:nvSpPr>
              <p:cNvPr id="578" name=""/>
              <p:cNvSpPr/>
              <p:nvPr/>
            </p:nvSpPr>
            <p:spPr>
              <a:xfrm rot="20780400">
                <a:off x="7128000" y="5862960"/>
                <a:ext cx="25560" cy="2772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27" y="0"/>
                    </a:moveTo>
                    <a:lnTo>
                      <a:pt x="37" y="11"/>
                    </a:lnTo>
                    <a:lnTo>
                      <a:pt x="34" y="25"/>
                    </a:lnTo>
                    <a:lnTo>
                      <a:pt x="37" y="35"/>
                    </a:lnTo>
                    <a:lnTo>
                      <a:pt x="27" y="38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0780400">
                <a:off x="7197480" y="5837400"/>
                <a:ext cx="200880" cy="182160"/>
              </a:xfrm>
              <a:custGeom>
                <a:avLst/>
                <a:gdLst/>
                <a:ahLst/>
                <a:rect l="l" t="t" r="r" b="b"/>
                <a:pathLst>
                  <a:path w="279" h="246">
                    <a:moveTo>
                      <a:pt x="39" y="10"/>
                    </a:moveTo>
                    <a:lnTo>
                      <a:pt x="25" y="16"/>
                    </a:lnTo>
                    <a:lnTo>
                      <a:pt x="30" y="30"/>
                    </a:lnTo>
                    <a:lnTo>
                      <a:pt x="16" y="47"/>
                    </a:lnTo>
                    <a:lnTo>
                      <a:pt x="6" y="45"/>
                    </a:lnTo>
                    <a:lnTo>
                      <a:pt x="0" y="53"/>
                    </a:lnTo>
                    <a:lnTo>
                      <a:pt x="3" y="70"/>
                    </a:lnTo>
                    <a:lnTo>
                      <a:pt x="48" y="86"/>
                    </a:lnTo>
                    <a:lnTo>
                      <a:pt x="59" y="124"/>
                    </a:lnTo>
                    <a:lnTo>
                      <a:pt x="73" y="171"/>
                    </a:lnTo>
                    <a:lnTo>
                      <a:pt x="89" y="197"/>
                    </a:lnTo>
                    <a:lnTo>
                      <a:pt x="109" y="181"/>
                    </a:lnTo>
                    <a:lnTo>
                      <a:pt x="135" y="214"/>
                    </a:lnTo>
                    <a:lnTo>
                      <a:pt x="161" y="246"/>
                    </a:lnTo>
                    <a:lnTo>
                      <a:pt x="171" y="222"/>
                    </a:lnTo>
                    <a:lnTo>
                      <a:pt x="164" y="205"/>
                    </a:lnTo>
                    <a:lnTo>
                      <a:pt x="175" y="197"/>
                    </a:lnTo>
                    <a:lnTo>
                      <a:pt x="214" y="228"/>
                    </a:lnTo>
                    <a:lnTo>
                      <a:pt x="226" y="219"/>
                    </a:lnTo>
                    <a:lnTo>
                      <a:pt x="229" y="208"/>
                    </a:lnTo>
                    <a:lnTo>
                      <a:pt x="210" y="168"/>
                    </a:lnTo>
                    <a:lnTo>
                      <a:pt x="210" y="161"/>
                    </a:lnTo>
                    <a:lnTo>
                      <a:pt x="191" y="129"/>
                    </a:lnTo>
                    <a:lnTo>
                      <a:pt x="184" y="106"/>
                    </a:lnTo>
                    <a:lnTo>
                      <a:pt x="191" y="105"/>
                    </a:lnTo>
                    <a:lnTo>
                      <a:pt x="214" y="109"/>
                    </a:lnTo>
                    <a:lnTo>
                      <a:pt x="240" y="132"/>
                    </a:lnTo>
                    <a:lnTo>
                      <a:pt x="254" y="115"/>
                    </a:lnTo>
                    <a:lnTo>
                      <a:pt x="276" y="118"/>
                    </a:lnTo>
                    <a:lnTo>
                      <a:pt x="279" y="112"/>
                    </a:lnTo>
                    <a:lnTo>
                      <a:pt x="251" y="76"/>
                    </a:lnTo>
                    <a:lnTo>
                      <a:pt x="229" y="79"/>
                    </a:lnTo>
                    <a:lnTo>
                      <a:pt x="223" y="67"/>
                    </a:lnTo>
                    <a:lnTo>
                      <a:pt x="210" y="39"/>
                    </a:lnTo>
                    <a:lnTo>
                      <a:pt x="197" y="50"/>
                    </a:lnTo>
                    <a:lnTo>
                      <a:pt x="170" y="39"/>
                    </a:lnTo>
                    <a:lnTo>
                      <a:pt x="152" y="10"/>
                    </a:lnTo>
                    <a:lnTo>
                      <a:pt x="118" y="13"/>
                    </a:lnTo>
                    <a:lnTo>
                      <a:pt x="92" y="16"/>
                    </a:lnTo>
                    <a:lnTo>
                      <a:pt x="76" y="0"/>
                    </a:lnTo>
                    <a:lnTo>
                      <a:pt x="62" y="9"/>
                    </a:lnTo>
                    <a:lnTo>
                      <a:pt x="39" y="1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780400">
                <a:off x="7070760" y="5459760"/>
                <a:ext cx="468360" cy="432000"/>
              </a:xfrm>
              <a:custGeom>
                <a:avLst/>
                <a:gdLst/>
                <a:ahLst/>
                <a:rect l="l" t="t" r="r" b="b"/>
                <a:pathLst>
                  <a:path w="653" h="587">
                    <a:moveTo>
                      <a:pt x="133" y="144"/>
                    </a:moveTo>
                    <a:lnTo>
                      <a:pt x="119" y="155"/>
                    </a:lnTo>
                    <a:lnTo>
                      <a:pt x="104" y="205"/>
                    </a:lnTo>
                    <a:lnTo>
                      <a:pt x="84" y="254"/>
                    </a:lnTo>
                    <a:lnTo>
                      <a:pt x="76" y="260"/>
                    </a:lnTo>
                    <a:lnTo>
                      <a:pt x="67" y="276"/>
                    </a:lnTo>
                    <a:lnTo>
                      <a:pt x="57" y="293"/>
                    </a:lnTo>
                    <a:lnTo>
                      <a:pt x="37" y="304"/>
                    </a:lnTo>
                    <a:lnTo>
                      <a:pt x="20" y="310"/>
                    </a:lnTo>
                    <a:lnTo>
                      <a:pt x="0" y="310"/>
                    </a:lnTo>
                    <a:lnTo>
                      <a:pt x="26" y="366"/>
                    </a:lnTo>
                    <a:lnTo>
                      <a:pt x="47" y="395"/>
                    </a:lnTo>
                    <a:lnTo>
                      <a:pt x="67" y="395"/>
                    </a:lnTo>
                    <a:lnTo>
                      <a:pt x="87" y="395"/>
                    </a:lnTo>
                    <a:lnTo>
                      <a:pt x="93" y="409"/>
                    </a:lnTo>
                    <a:lnTo>
                      <a:pt x="73" y="422"/>
                    </a:lnTo>
                    <a:lnTo>
                      <a:pt x="73" y="441"/>
                    </a:lnTo>
                    <a:lnTo>
                      <a:pt x="87" y="468"/>
                    </a:lnTo>
                    <a:lnTo>
                      <a:pt x="104" y="491"/>
                    </a:lnTo>
                    <a:lnTo>
                      <a:pt x="116" y="502"/>
                    </a:lnTo>
                    <a:lnTo>
                      <a:pt x="122" y="485"/>
                    </a:lnTo>
                    <a:lnTo>
                      <a:pt x="139" y="482"/>
                    </a:lnTo>
                    <a:lnTo>
                      <a:pt x="158" y="499"/>
                    </a:lnTo>
                    <a:lnTo>
                      <a:pt x="163" y="485"/>
                    </a:lnTo>
                    <a:lnTo>
                      <a:pt x="195" y="488"/>
                    </a:lnTo>
                    <a:lnTo>
                      <a:pt x="242" y="494"/>
                    </a:lnTo>
                    <a:lnTo>
                      <a:pt x="276" y="505"/>
                    </a:lnTo>
                    <a:lnTo>
                      <a:pt x="289" y="518"/>
                    </a:lnTo>
                    <a:lnTo>
                      <a:pt x="305" y="538"/>
                    </a:lnTo>
                    <a:lnTo>
                      <a:pt x="315" y="550"/>
                    </a:lnTo>
                    <a:lnTo>
                      <a:pt x="329" y="538"/>
                    </a:lnTo>
                    <a:lnTo>
                      <a:pt x="349" y="537"/>
                    </a:lnTo>
                    <a:lnTo>
                      <a:pt x="378" y="556"/>
                    </a:lnTo>
                    <a:lnTo>
                      <a:pt x="411" y="587"/>
                    </a:lnTo>
                    <a:lnTo>
                      <a:pt x="420" y="581"/>
                    </a:lnTo>
                    <a:lnTo>
                      <a:pt x="422" y="558"/>
                    </a:lnTo>
                    <a:lnTo>
                      <a:pt x="422" y="534"/>
                    </a:lnTo>
                    <a:lnTo>
                      <a:pt x="420" y="511"/>
                    </a:lnTo>
                    <a:lnTo>
                      <a:pt x="405" y="485"/>
                    </a:lnTo>
                    <a:lnTo>
                      <a:pt x="394" y="491"/>
                    </a:lnTo>
                    <a:lnTo>
                      <a:pt x="368" y="479"/>
                    </a:lnTo>
                    <a:lnTo>
                      <a:pt x="327" y="448"/>
                    </a:lnTo>
                    <a:lnTo>
                      <a:pt x="315" y="438"/>
                    </a:lnTo>
                    <a:lnTo>
                      <a:pt x="288" y="435"/>
                    </a:lnTo>
                    <a:lnTo>
                      <a:pt x="273" y="426"/>
                    </a:lnTo>
                    <a:lnTo>
                      <a:pt x="273" y="415"/>
                    </a:lnTo>
                    <a:lnTo>
                      <a:pt x="289" y="398"/>
                    </a:lnTo>
                    <a:lnTo>
                      <a:pt x="295" y="392"/>
                    </a:lnTo>
                    <a:lnTo>
                      <a:pt x="285" y="378"/>
                    </a:lnTo>
                    <a:lnTo>
                      <a:pt x="279" y="359"/>
                    </a:lnTo>
                    <a:lnTo>
                      <a:pt x="285" y="349"/>
                    </a:lnTo>
                    <a:lnTo>
                      <a:pt x="308" y="372"/>
                    </a:lnTo>
                    <a:lnTo>
                      <a:pt x="327" y="381"/>
                    </a:lnTo>
                    <a:lnTo>
                      <a:pt x="327" y="362"/>
                    </a:lnTo>
                    <a:lnTo>
                      <a:pt x="315" y="339"/>
                    </a:lnTo>
                    <a:lnTo>
                      <a:pt x="289" y="307"/>
                    </a:lnTo>
                    <a:lnTo>
                      <a:pt x="262" y="264"/>
                    </a:lnTo>
                    <a:lnTo>
                      <a:pt x="259" y="243"/>
                    </a:lnTo>
                    <a:lnTo>
                      <a:pt x="256" y="223"/>
                    </a:lnTo>
                    <a:lnTo>
                      <a:pt x="251" y="203"/>
                    </a:lnTo>
                    <a:lnTo>
                      <a:pt x="248" y="184"/>
                    </a:lnTo>
                    <a:lnTo>
                      <a:pt x="268" y="178"/>
                    </a:lnTo>
                    <a:lnTo>
                      <a:pt x="265" y="191"/>
                    </a:lnTo>
                    <a:lnTo>
                      <a:pt x="282" y="211"/>
                    </a:lnTo>
                    <a:lnTo>
                      <a:pt x="292" y="211"/>
                    </a:lnTo>
                    <a:lnTo>
                      <a:pt x="289" y="223"/>
                    </a:lnTo>
                    <a:lnTo>
                      <a:pt x="344" y="276"/>
                    </a:lnTo>
                    <a:lnTo>
                      <a:pt x="346" y="267"/>
                    </a:lnTo>
                    <a:lnTo>
                      <a:pt x="335" y="243"/>
                    </a:lnTo>
                    <a:lnTo>
                      <a:pt x="352" y="237"/>
                    </a:lnTo>
                    <a:lnTo>
                      <a:pt x="378" y="248"/>
                    </a:lnTo>
                    <a:lnTo>
                      <a:pt x="391" y="267"/>
                    </a:lnTo>
                    <a:lnTo>
                      <a:pt x="394" y="254"/>
                    </a:lnTo>
                    <a:lnTo>
                      <a:pt x="374" y="231"/>
                    </a:lnTo>
                    <a:lnTo>
                      <a:pt x="378" y="220"/>
                    </a:lnTo>
                    <a:lnTo>
                      <a:pt x="391" y="214"/>
                    </a:lnTo>
                    <a:lnTo>
                      <a:pt x="428" y="231"/>
                    </a:lnTo>
                    <a:lnTo>
                      <a:pt x="437" y="225"/>
                    </a:lnTo>
                    <a:lnTo>
                      <a:pt x="434" y="208"/>
                    </a:lnTo>
                    <a:lnTo>
                      <a:pt x="417" y="197"/>
                    </a:lnTo>
                    <a:lnTo>
                      <a:pt x="391" y="185"/>
                    </a:lnTo>
                    <a:lnTo>
                      <a:pt x="374" y="171"/>
                    </a:lnTo>
                    <a:lnTo>
                      <a:pt x="371" y="161"/>
                    </a:lnTo>
                    <a:lnTo>
                      <a:pt x="378" y="149"/>
                    </a:lnTo>
                    <a:lnTo>
                      <a:pt x="414" y="144"/>
                    </a:lnTo>
                    <a:lnTo>
                      <a:pt x="454" y="132"/>
                    </a:lnTo>
                    <a:lnTo>
                      <a:pt x="481" y="135"/>
                    </a:lnTo>
                    <a:lnTo>
                      <a:pt x="531" y="124"/>
                    </a:lnTo>
                    <a:lnTo>
                      <a:pt x="540" y="118"/>
                    </a:lnTo>
                    <a:lnTo>
                      <a:pt x="574" y="132"/>
                    </a:lnTo>
                    <a:lnTo>
                      <a:pt x="603" y="147"/>
                    </a:lnTo>
                    <a:lnTo>
                      <a:pt x="616" y="115"/>
                    </a:lnTo>
                    <a:lnTo>
                      <a:pt x="642" y="82"/>
                    </a:lnTo>
                    <a:lnTo>
                      <a:pt x="650" y="73"/>
                    </a:lnTo>
                    <a:lnTo>
                      <a:pt x="653" y="13"/>
                    </a:lnTo>
                    <a:lnTo>
                      <a:pt x="650" y="9"/>
                    </a:lnTo>
                    <a:lnTo>
                      <a:pt x="636" y="0"/>
                    </a:lnTo>
                    <a:lnTo>
                      <a:pt x="619" y="0"/>
                    </a:lnTo>
                    <a:lnTo>
                      <a:pt x="610" y="9"/>
                    </a:lnTo>
                    <a:lnTo>
                      <a:pt x="610" y="30"/>
                    </a:lnTo>
                    <a:lnTo>
                      <a:pt x="613" y="48"/>
                    </a:lnTo>
                    <a:lnTo>
                      <a:pt x="591" y="53"/>
                    </a:lnTo>
                    <a:lnTo>
                      <a:pt x="574" y="65"/>
                    </a:lnTo>
                    <a:lnTo>
                      <a:pt x="563" y="68"/>
                    </a:lnTo>
                    <a:lnTo>
                      <a:pt x="527" y="59"/>
                    </a:lnTo>
                    <a:lnTo>
                      <a:pt x="513" y="50"/>
                    </a:lnTo>
                    <a:lnTo>
                      <a:pt x="493" y="62"/>
                    </a:lnTo>
                    <a:lnTo>
                      <a:pt x="464" y="30"/>
                    </a:lnTo>
                    <a:lnTo>
                      <a:pt x="434" y="53"/>
                    </a:lnTo>
                    <a:lnTo>
                      <a:pt x="411" y="68"/>
                    </a:lnTo>
                    <a:lnTo>
                      <a:pt x="388" y="79"/>
                    </a:lnTo>
                    <a:lnTo>
                      <a:pt x="352" y="85"/>
                    </a:lnTo>
                    <a:lnTo>
                      <a:pt x="327" y="92"/>
                    </a:lnTo>
                    <a:lnTo>
                      <a:pt x="308" y="92"/>
                    </a:lnTo>
                    <a:lnTo>
                      <a:pt x="298" y="95"/>
                    </a:lnTo>
                    <a:lnTo>
                      <a:pt x="279" y="118"/>
                    </a:lnTo>
                    <a:lnTo>
                      <a:pt x="262" y="118"/>
                    </a:lnTo>
                    <a:lnTo>
                      <a:pt x="233" y="124"/>
                    </a:lnTo>
                    <a:lnTo>
                      <a:pt x="206" y="121"/>
                    </a:lnTo>
                    <a:lnTo>
                      <a:pt x="192" y="147"/>
                    </a:lnTo>
                    <a:lnTo>
                      <a:pt x="169" y="149"/>
                    </a:lnTo>
                    <a:lnTo>
                      <a:pt x="149" y="147"/>
                    </a:lnTo>
                    <a:lnTo>
                      <a:pt x="133" y="144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780400">
                <a:off x="7333920" y="5739480"/>
                <a:ext cx="116640" cy="96840"/>
              </a:xfrm>
              <a:custGeom>
                <a:avLst/>
                <a:gdLst/>
                <a:ahLst/>
                <a:rect l="l" t="t" r="r" b="b"/>
                <a:pathLst>
                  <a:path w="161" h="132">
                    <a:moveTo>
                      <a:pt x="14" y="0"/>
                    </a:moveTo>
                    <a:lnTo>
                      <a:pt x="0" y="10"/>
                    </a:lnTo>
                    <a:lnTo>
                      <a:pt x="17" y="39"/>
                    </a:lnTo>
                    <a:lnTo>
                      <a:pt x="36" y="45"/>
                    </a:lnTo>
                    <a:lnTo>
                      <a:pt x="59" y="70"/>
                    </a:lnTo>
                    <a:lnTo>
                      <a:pt x="79" y="82"/>
                    </a:lnTo>
                    <a:lnTo>
                      <a:pt x="111" y="106"/>
                    </a:lnTo>
                    <a:lnTo>
                      <a:pt x="131" y="115"/>
                    </a:lnTo>
                    <a:lnTo>
                      <a:pt x="155" y="132"/>
                    </a:lnTo>
                    <a:lnTo>
                      <a:pt x="161" y="123"/>
                    </a:lnTo>
                    <a:lnTo>
                      <a:pt x="111" y="85"/>
                    </a:lnTo>
                    <a:lnTo>
                      <a:pt x="108" y="67"/>
                    </a:lnTo>
                    <a:lnTo>
                      <a:pt x="102" y="50"/>
                    </a:lnTo>
                    <a:lnTo>
                      <a:pt x="82" y="30"/>
                    </a:lnTo>
                    <a:lnTo>
                      <a:pt x="76" y="33"/>
                    </a:lnTo>
                    <a:lnTo>
                      <a:pt x="48" y="13"/>
                    </a:lnTo>
                    <a:lnTo>
                      <a:pt x="33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780400">
                <a:off x="7441200" y="6035040"/>
                <a:ext cx="218160" cy="60120"/>
              </a:xfrm>
              <a:custGeom>
                <a:avLst/>
                <a:gdLst/>
                <a:ahLst/>
                <a:rect l="l" t="t" r="r" b="b"/>
                <a:pathLst>
                  <a:path w="304" h="83">
                    <a:moveTo>
                      <a:pt x="62" y="17"/>
                    </a:moveTo>
                    <a:lnTo>
                      <a:pt x="85" y="6"/>
                    </a:lnTo>
                    <a:lnTo>
                      <a:pt x="95" y="17"/>
                    </a:lnTo>
                    <a:lnTo>
                      <a:pt x="104" y="20"/>
                    </a:lnTo>
                    <a:lnTo>
                      <a:pt x="121" y="11"/>
                    </a:lnTo>
                    <a:lnTo>
                      <a:pt x="132" y="6"/>
                    </a:lnTo>
                    <a:lnTo>
                      <a:pt x="181" y="11"/>
                    </a:lnTo>
                    <a:lnTo>
                      <a:pt x="228" y="10"/>
                    </a:lnTo>
                    <a:lnTo>
                      <a:pt x="241" y="23"/>
                    </a:lnTo>
                    <a:lnTo>
                      <a:pt x="241" y="31"/>
                    </a:lnTo>
                    <a:lnTo>
                      <a:pt x="275" y="26"/>
                    </a:lnTo>
                    <a:lnTo>
                      <a:pt x="293" y="29"/>
                    </a:lnTo>
                    <a:lnTo>
                      <a:pt x="304" y="40"/>
                    </a:lnTo>
                    <a:lnTo>
                      <a:pt x="293" y="54"/>
                    </a:lnTo>
                    <a:lnTo>
                      <a:pt x="264" y="52"/>
                    </a:lnTo>
                    <a:lnTo>
                      <a:pt x="244" y="63"/>
                    </a:lnTo>
                    <a:lnTo>
                      <a:pt x="211" y="63"/>
                    </a:lnTo>
                    <a:lnTo>
                      <a:pt x="178" y="76"/>
                    </a:lnTo>
                    <a:lnTo>
                      <a:pt x="149" y="83"/>
                    </a:lnTo>
                    <a:lnTo>
                      <a:pt x="126" y="69"/>
                    </a:lnTo>
                    <a:lnTo>
                      <a:pt x="95" y="52"/>
                    </a:lnTo>
                    <a:lnTo>
                      <a:pt x="65" y="52"/>
                    </a:lnTo>
                    <a:lnTo>
                      <a:pt x="25" y="43"/>
                    </a:lnTo>
                    <a:lnTo>
                      <a:pt x="10" y="31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39" y="6"/>
                    </a:lnTo>
                    <a:lnTo>
                      <a:pt x="62" y="17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780400">
                <a:off x="7425360" y="5608080"/>
                <a:ext cx="33120" cy="3060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45" y="0"/>
                    </a:moveTo>
                    <a:lnTo>
                      <a:pt x="17" y="0"/>
                    </a:lnTo>
                    <a:lnTo>
                      <a:pt x="3" y="9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14" y="43"/>
                    </a:lnTo>
                    <a:lnTo>
                      <a:pt x="39" y="2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0780400">
                <a:off x="7712280" y="5839560"/>
                <a:ext cx="44640" cy="2304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63" y="9"/>
                    </a:moveTo>
                    <a:lnTo>
                      <a:pt x="34" y="34"/>
                    </a:lnTo>
                    <a:lnTo>
                      <a:pt x="14" y="34"/>
                    </a:lnTo>
                    <a:lnTo>
                      <a:pt x="0" y="23"/>
                    </a:lnTo>
                    <a:lnTo>
                      <a:pt x="9" y="3"/>
                    </a:lnTo>
                    <a:lnTo>
                      <a:pt x="40" y="0"/>
                    </a:lnTo>
                    <a:lnTo>
                      <a:pt x="63" y="9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20780400">
                <a:off x="7732800" y="5892120"/>
                <a:ext cx="45720" cy="36720"/>
              </a:xfrm>
              <a:custGeom>
                <a:avLst/>
                <a:gdLst/>
                <a:ahLst/>
                <a:rect l="l" t="t" r="r" b="b"/>
                <a:pathLst>
                  <a:path w="64" h="50">
                    <a:moveTo>
                      <a:pt x="64" y="0"/>
                    </a:moveTo>
                    <a:lnTo>
                      <a:pt x="64" y="17"/>
                    </a:lnTo>
                    <a:lnTo>
                      <a:pt x="25" y="43"/>
                    </a:lnTo>
                    <a:lnTo>
                      <a:pt x="8" y="50"/>
                    </a:lnTo>
                    <a:lnTo>
                      <a:pt x="0" y="47"/>
                    </a:lnTo>
                    <a:lnTo>
                      <a:pt x="6" y="29"/>
                    </a:lnTo>
                    <a:lnTo>
                      <a:pt x="34" y="9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780400">
                <a:off x="7499520" y="564192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43" y="0"/>
                    </a:moveTo>
                    <a:lnTo>
                      <a:pt x="79" y="40"/>
                    </a:lnTo>
                    <a:lnTo>
                      <a:pt x="73" y="50"/>
                    </a:lnTo>
                    <a:lnTo>
                      <a:pt x="53" y="56"/>
                    </a:lnTo>
                    <a:lnTo>
                      <a:pt x="50" y="43"/>
                    </a:lnTo>
                    <a:lnTo>
                      <a:pt x="43" y="37"/>
                    </a:lnTo>
                    <a:lnTo>
                      <a:pt x="30" y="43"/>
                    </a:lnTo>
                    <a:lnTo>
                      <a:pt x="17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3" y="29"/>
                    </a:lnTo>
                    <a:lnTo>
                      <a:pt x="0" y="20"/>
                    </a:lnTo>
                    <a:lnTo>
                      <a:pt x="23" y="1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249160" y="4714200"/>
              <a:ext cx="1045800" cy="1006920"/>
              <a:chOff x="5249160" y="4714200"/>
              <a:chExt cx="1045800" cy="1006920"/>
            </a:xfrm>
          </p:grpSpPr>
          <p:sp>
            <p:nvSpPr>
              <p:cNvPr id="588" name=""/>
              <p:cNvSpPr/>
              <p:nvPr/>
            </p:nvSpPr>
            <p:spPr>
              <a:xfrm rot="20780400">
                <a:off x="6206760" y="5572440"/>
                <a:ext cx="73080" cy="135360"/>
              </a:xfrm>
              <a:custGeom>
                <a:avLst/>
                <a:gdLst/>
                <a:ahLst/>
                <a:rect l="l" t="t" r="r" b="b"/>
                <a:pathLst>
                  <a:path w="102" h="184">
                    <a:moveTo>
                      <a:pt x="102" y="0"/>
                    </a:moveTo>
                    <a:lnTo>
                      <a:pt x="69" y="40"/>
                    </a:lnTo>
                    <a:lnTo>
                      <a:pt x="29" y="40"/>
                    </a:lnTo>
                    <a:lnTo>
                      <a:pt x="0" y="63"/>
                    </a:lnTo>
                    <a:lnTo>
                      <a:pt x="6" y="93"/>
                    </a:lnTo>
                    <a:lnTo>
                      <a:pt x="6" y="145"/>
                    </a:lnTo>
                    <a:lnTo>
                      <a:pt x="29" y="184"/>
                    </a:lnTo>
                    <a:lnTo>
                      <a:pt x="56" y="174"/>
                    </a:lnTo>
                    <a:lnTo>
                      <a:pt x="62" y="151"/>
                    </a:lnTo>
                    <a:lnTo>
                      <a:pt x="91" y="99"/>
                    </a:lnTo>
                    <a:lnTo>
                      <a:pt x="91" y="72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780400">
                <a:off x="5335920" y="4800240"/>
                <a:ext cx="830520" cy="834480"/>
              </a:xfrm>
              <a:custGeom>
                <a:avLst/>
                <a:gdLst/>
                <a:ahLst/>
                <a:rect l="l" t="t" r="r" b="b"/>
                <a:pathLst>
                  <a:path w="1159" h="1134">
                    <a:moveTo>
                      <a:pt x="20" y="161"/>
                    </a:moveTo>
                    <a:lnTo>
                      <a:pt x="30" y="189"/>
                    </a:lnTo>
                    <a:lnTo>
                      <a:pt x="20" y="212"/>
                    </a:lnTo>
                    <a:lnTo>
                      <a:pt x="17" y="221"/>
                    </a:lnTo>
                    <a:lnTo>
                      <a:pt x="0" y="215"/>
                    </a:lnTo>
                    <a:lnTo>
                      <a:pt x="6" y="228"/>
                    </a:lnTo>
                    <a:lnTo>
                      <a:pt x="6" y="242"/>
                    </a:lnTo>
                    <a:lnTo>
                      <a:pt x="20" y="265"/>
                    </a:lnTo>
                    <a:lnTo>
                      <a:pt x="46" y="257"/>
                    </a:lnTo>
                    <a:lnTo>
                      <a:pt x="79" y="294"/>
                    </a:lnTo>
                    <a:lnTo>
                      <a:pt x="93" y="318"/>
                    </a:lnTo>
                    <a:lnTo>
                      <a:pt x="112" y="336"/>
                    </a:lnTo>
                    <a:lnTo>
                      <a:pt x="138" y="336"/>
                    </a:lnTo>
                    <a:lnTo>
                      <a:pt x="149" y="358"/>
                    </a:lnTo>
                    <a:lnTo>
                      <a:pt x="172" y="377"/>
                    </a:lnTo>
                    <a:lnTo>
                      <a:pt x="185" y="381"/>
                    </a:lnTo>
                    <a:lnTo>
                      <a:pt x="189" y="388"/>
                    </a:lnTo>
                    <a:lnTo>
                      <a:pt x="181" y="406"/>
                    </a:lnTo>
                    <a:lnTo>
                      <a:pt x="181" y="423"/>
                    </a:lnTo>
                    <a:lnTo>
                      <a:pt x="178" y="440"/>
                    </a:lnTo>
                    <a:lnTo>
                      <a:pt x="172" y="469"/>
                    </a:lnTo>
                    <a:lnTo>
                      <a:pt x="195" y="496"/>
                    </a:lnTo>
                    <a:lnTo>
                      <a:pt x="220" y="516"/>
                    </a:lnTo>
                    <a:lnTo>
                      <a:pt x="220" y="530"/>
                    </a:lnTo>
                    <a:lnTo>
                      <a:pt x="217" y="578"/>
                    </a:lnTo>
                    <a:lnTo>
                      <a:pt x="211" y="618"/>
                    </a:lnTo>
                    <a:lnTo>
                      <a:pt x="217" y="635"/>
                    </a:lnTo>
                    <a:lnTo>
                      <a:pt x="240" y="651"/>
                    </a:lnTo>
                    <a:lnTo>
                      <a:pt x="240" y="685"/>
                    </a:lnTo>
                    <a:lnTo>
                      <a:pt x="240" y="708"/>
                    </a:lnTo>
                    <a:lnTo>
                      <a:pt x="214" y="674"/>
                    </a:lnTo>
                    <a:lnTo>
                      <a:pt x="201" y="651"/>
                    </a:lnTo>
                    <a:lnTo>
                      <a:pt x="192" y="657"/>
                    </a:lnTo>
                    <a:lnTo>
                      <a:pt x="198" y="674"/>
                    </a:lnTo>
                    <a:lnTo>
                      <a:pt x="189" y="694"/>
                    </a:lnTo>
                    <a:lnTo>
                      <a:pt x="175" y="714"/>
                    </a:lnTo>
                    <a:lnTo>
                      <a:pt x="166" y="727"/>
                    </a:lnTo>
                    <a:lnTo>
                      <a:pt x="178" y="741"/>
                    </a:lnTo>
                    <a:lnTo>
                      <a:pt x="169" y="756"/>
                    </a:lnTo>
                    <a:lnTo>
                      <a:pt x="149" y="776"/>
                    </a:lnTo>
                    <a:lnTo>
                      <a:pt x="146" y="793"/>
                    </a:lnTo>
                    <a:lnTo>
                      <a:pt x="135" y="813"/>
                    </a:lnTo>
                    <a:lnTo>
                      <a:pt x="105" y="849"/>
                    </a:lnTo>
                    <a:lnTo>
                      <a:pt x="87" y="886"/>
                    </a:lnTo>
                    <a:lnTo>
                      <a:pt x="87" y="892"/>
                    </a:lnTo>
                    <a:lnTo>
                      <a:pt x="96" y="902"/>
                    </a:lnTo>
                    <a:lnTo>
                      <a:pt x="85" y="919"/>
                    </a:lnTo>
                    <a:lnTo>
                      <a:pt x="90" y="939"/>
                    </a:lnTo>
                    <a:lnTo>
                      <a:pt x="106" y="965"/>
                    </a:lnTo>
                    <a:lnTo>
                      <a:pt x="178" y="1004"/>
                    </a:lnTo>
                    <a:lnTo>
                      <a:pt x="228" y="1047"/>
                    </a:lnTo>
                    <a:lnTo>
                      <a:pt x="245" y="1041"/>
                    </a:lnTo>
                    <a:lnTo>
                      <a:pt x="271" y="1032"/>
                    </a:lnTo>
                    <a:lnTo>
                      <a:pt x="357" y="1068"/>
                    </a:lnTo>
                    <a:lnTo>
                      <a:pt x="370" y="1080"/>
                    </a:lnTo>
                    <a:lnTo>
                      <a:pt x="377" y="1103"/>
                    </a:lnTo>
                    <a:lnTo>
                      <a:pt x="392" y="1111"/>
                    </a:lnTo>
                    <a:lnTo>
                      <a:pt x="412" y="1114"/>
                    </a:lnTo>
                    <a:lnTo>
                      <a:pt x="443" y="1130"/>
                    </a:lnTo>
                    <a:lnTo>
                      <a:pt x="493" y="1134"/>
                    </a:lnTo>
                    <a:lnTo>
                      <a:pt x="508" y="1114"/>
                    </a:lnTo>
                    <a:lnTo>
                      <a:pt x="513" y="1091"/>
                    </a:lnTo>
                    <a:lnTo>
                      <a:pt x="513" y="1067"/>
                    </a:lnTo>
                    <a:lnTo>
                      <a:pt x="535" y="1047"/>
                    </a:lnTo>
                    <a:lnTo>
                      <a:pt x="578" y="1024"/>
                    </a:lnTo>
                    <a:lnTo>
                      <a:pt x="598" y="1021"/>
                    </a:lnTo>
                    <a:lnTo>
                      <a:pt x="621" y="1009"/>
                    </a:lnTo>
                    <a:lnTo>
                      <a:pt x="640" y="1009"/>
                    </a:lnTo>
                    <a:lnTo>
                      <a:pt x="663" y="1024"/>
                    </a:lnTo>
                    <a:lnTo>
                      <a:pt x="680" y="1044"/>
                    </a:lnTo>
                    <a:lnTo>
                      <a:pt x="700" y="1044"/>
                    </a:lnTo>
                    <a:lnTo>
                      <a:pt x="716" y="1048"/>
                    </a:lnTo>
                    <a:lnTo>
                      <a:pt x="750" y="1051"/>
                    </a:lnTo>
                    <a:lnTo>
                      <a:pt x="773" y="1080"/>
                    </a:lnTo>
                    <a:lnTo>
                      <a:pt x="792" y="1094"/>
                    </a:lnTo>
                    <a:lnTo>
                      <a:pt x="821" y="1103"/>
                    </a:lnTo>
                    <a:lnTo>
                      <a:pt x="846" y="1117"/>
                    </a:lnTo>
                    <a:lnTo>
                      <a:pt x="859" y="1120"/>
                    </a:lnTo>
                    <a:lnTo>
                      <a:pt x="894" y="1085"/>
                    </a:lnTo>
                    <a:lnTo>
                      <a:pt x="917" y="1080"/>
                    </a:lnTo>
                    <a:lnTo>
                      <a:pt x="934" y="1067"/>
                    </a:lnTo>
                    <a:lnTo>
                      <a:pt x="958" y="1048"/>
                    </a:lnTo>
                    <a:lnTo>
                      <a:pt x="990" y="1047"/>
                    </a:lnTo>
                    <a:lnTo>
                      <a:pt x="987" y="1007"/>
                    </a:lnTo>
                    <a:lnTo>
                      <a:pt x="981" y="995"/>
                    </a:lnTo>
                    <a:lnTo>
                      <a:pt x="967" y="975"/>
                    </a:lnTo>
                    <a:lnTo>
                      <a:pt x="957" y="978"/>
                    </a:lnTo>
                    <a:lnTo>
                      <a:pt x="945" y="975"/>
                    </a:lnTo>
                    <a:lnTo>
                      <a:pt x="934" y="959"/>
                    </a:lnTo>
                    <a:lnTo>
                      <a:pt x="931" y="919"/>
                    </a:lnTo>
                    <a:lnTo>
                      <a:pt x="954" y="893"/>
                    </a:lnTo>
                    <a:lnTo>
                      <a:pt x="937" y="872"/>
                    </a:lnTo>
                    <a:lnTo>
                      <a:pt x="937" y="863"/>
                    </a:lnTo>
                    <a:lnTo>
                      <a:pt x="970" y="829"/>
                    </a:lnTo>
                    <a:lnTo>
                      <a:pt x="970" y="817"/>
                    </a:lnTo>
                    <a:lnTo>
                      <a:pt x="964" y="776"/>
                    </a:lnTo>
                    <a:lnTo>
                      <a:pt x="984" y="756"/>
                    </a:lnTo>
                    <a:lnTo>
                      <a:pt x="967" y="733"/>
                    </a:lnTo>
                    <a:lnTo>
                      <a:pt x="967" y="717"/>
                    </a:lnTo>
                    <a:lnTo>
                      <a:pt x="964" y="688"/>
                    </a:lnTo>
                    <a:lnTo>
                      <a:pt x="957" y="680"/>
                    </a:lnTo>
                    <a:lnTo>
                      <a:pt x="937" y="680"/>
                    </a:lnTo>
                    <a:lnTo>
                      <a:pt x="919" y="685"/>
                    </a:lnTo>
                    <a:lnTo>
                      <a:pt x="914" y="691"/>
                    </a:lnTo>
                    <a:lnTo>
                      <a:pt x="902" y="701"/>
                    </a:lnTo>
                    <a:lnTo>
                      <a:pt x="885" y="708"/>
                    </a:lnTo>
                    <a:lnTo>
                      <a:pt x="879" y="691"/>
                    </a:lnTo>
                    <a:lnTo>
                      <a:pt x="891" y="677"/>
                    </a:lnTo>
                    <a:lnTo>
                      <a:pt x="897" y="665"/>
                    </a:lnTo>
                    <a:lnTo>
                      <a:pt x="897" y="651"/>
                    </a:lnTo>
                    <a:lnTo>
                      <a:pt x="928" y="621"/>
                    </a:lnTo>
                    <a:lnTo>
                      <a:pt x="945" y="615"/>
                    </a:lnTo>
                    <a:lnTo>
                      <a:pt x="948" y="592"/>
                    </a:lnTo>
                    <a:lnTo>
                      <a:pt x="964" y="572"/>
                    </a:lnTo>
                    <a:lnTo>
                      <a:pt x="1013" y="536"/>
                    </a:lnTo>
                    <a:lnTo>
                      <a:pt x="1027" y="536"/>
                    </a:lnTo>
                    <a:lnTo>
                      <a:pt x="1033" y="522"/>
                    </a:lnTo>
                    <a:lnTo>
                      <a:pt x="1050" y="505"/>
                    </a:lnTo>
                    <a:lnTo>
                      <a:pt x="1063" y="505"/>
                    </a:lnTo>
                    <a:lnTo>
                      <a:pt x="1069" y="496"/>
                    </a:lnTo>
                    <a:lnTo>
                      <a:pt x="1077" y="490"/>
                    </a:lnTo>
                    <a:lnTo>
                      <a:pt x="1089" y="470"/>
                    </a:lnTo>
                    <a:lnTo>
                      <a:pt x="1100" y="440"/>
                    </a:lnTo>
                    <a:lnTo>
                      <a:pt x="1103" y="420"/>
                    </a:lnTo>
                    <a:lnTo>
                      <a:pt x="1103" y="403"/>
                    </a:lnTo>
                    <a:lnTo>
                      <a:pt x="1119" y="384"/>
                    </a:lnTo>
                    <a:lnTo>
                      <a:pt x="1145" y="370"/>
                    </a:lnTo>
                    <a:lnTo>
                      <a:pt x="1159" y="356"/>
                    </a:lnTo>
                    <a:lnTo>
                      <a:pt x="1159" y="350"/>
                    </a:lnTo>
                    <a:lnTo>
                      <a:pt x="1136" y="333"/>
                    </a:lnTo>
                    <a:lnTo>
                      <a:pt x="1126" y="327"/>
                    </a:lnTo>
                    <a:lnTo>
                      <a:pt x="1092" y="324"/>
                    </a:lnTo>
                    <a:lnTo>
                      <a:pt x="1054" y="318"/>
                    </a:lnTo>
                    <a:lnTo>
                      <a:pt x="1040" y="317"/>
                    </a:lnTo>
                    <a:lnTo>
                      <a:pt x="1027" y="311"/>
                    </a:lnTo>
                    <a:lnTo>
                      <a:pt x="1013" y="297"/>
                    </a:lnTo>
                    <a:lnTo>
                      <a:pt x="1001" y="274"/>
                    </a:lnTo>
                    <a:lnTo>
                      <a:pt x="990" y="260"/>
                    </a:lnTo>
                    <a:lnTo>
                      <a:pt x="975" y="254"/>
                    </a:lnTo>
                    <a:lnTo>
                      <a:pt x="958" y="248"/>
                    </a:lnTo>
                    <a:lnTo>
                      <a:pt x="951" y="245"/>
                    </a:lnTo>
                    <a:lnTo>
                      <a:pt x="928" y="225"/>
                    </a:lnTo>
                    <a:lnTo>
                      <a:pt x="899" y="203"/>
                    </a:lnTo>
                    <a:lnTo>
                      <a:pt x="882" y="181"/>
                    </a:lnTo>
                    <a:lnTo>
                      <a:pt x="862" y="175"/>
                    </a:lnTo>
                    <a:lnTo>
                      <a:pt x="852" y="166"/>
                    </a:lnTo>
                    <a:lnTo>
                      <a:pt x="843" y="145"/>
                    </a:lnTo>
                    <a:lnTo>
                      <a:pt x="818" y="116"/>
                    </a:lnTo>
                    <a:lnTo>
                      <a:pt x="812" y="96"/>
                    </a:lnTo>
                    <a:lnTo>
                      <a:pt x="792" y="76"/>
                    </a:lnTo>
                    <a:lnTo>
                      <a:pt x="783" y="60"/>
                    </a:lnTo>
                    <a:lnTo>
                      <a:pt x="773" y="46"/>
                    </a:lnTo>
                    <a:lnTo>
                      <a:pt x="753" y="31"/>
                    </a:lnTo>
                    <a:lnTo>
                      <a:pt x="733" y="9"/>
                    </a:lnTo>
                    <a:lnTo>
                      <a:pt x="716" y="0"/>
                    </a:lnTo>
                    <a:lnTo>
                      <a:pt x="674" y="3"/>
                    </a:lnTo>
                    <a:lnTo>
                      <a:pt x="657" y="3"/>
                    </a:lnTo>
                    <a:lnTo>
                      <a:pt x="634" y="20"/>
                    </a:lnTo>
                    <a:lnTo>
                      <a:pt x="648" y="34"/>
                    </a:lnTo>
                    <a:lnTo>
                      <a:pt x="631" y="53"/>
                    </a:lnTo>
                    <a:lnTo>
                      <a:pt x="589" y="107"/>
                    </a:lnTo>
                    <a:lnTo>
                      <a:pt x="567" y="119"/>
                    </a:lnTo>
                    <a:lnTo>
                      <a:pt x="508" y="125"/>
                    </a:lnTo>
                    <a:lnTo>
                      <a:pt x="482" y="133"/>
                    </a:lnTo>
                    <a:lnTo>
                      <a:pt x="468" y="146"/>
                    </a:lnTo>
                    <a:lnTo>
                      <a:pt x="462" y="158"/>
                    </a:lnTo>
                    <a:lnTo>
                      <a:pt x="440" y="152"/>
                    </a:lnTo>
                    <a:lnTo>
                      <a:pt x="403" y="158"/>
                    </a:lnTo>
                    <a:lnTo>
                      <a:pt x="380" y="155"/>
                    </a:lnTo>
                    <a:lnTo>
                      <a:pt x="360" y="142"/>
                    </a:lnTo>
                    <a:lnTo>
                      <a:pt x="347" y="125"/>
                    </a:lnTo>
                    <a:lnTo>
                      <a:pt x="333" y="119"/>
                    </a:lnTo>
                    <a:lnTo>
                      <a:pt x="344" y="105"/>
                    </a:lnTo>
                    <a:lnTo>
                      <a:pt x="327" y="90"/>
                    </a:lnTo>
                    <a:lnTo>
                      <a:pt x="313" y="87"/>
                    </a:lnTo>
                    <a:lnTo>
                      <a:pt x="301" y="85"/>
                    </a:lnTo>
                    <a:lnTo>
                      <a:pt x="300" y="90"/>
                    </a:lnTo>
                    <a:lnTo>
                      <a:pt x="310" y="102"/>
                    </a:lnTo>
                    <a:lnTo>
                      <a:pt x="304" y="110"/>
                    </a:lnTo>
                    <a:lnTo>
                      <a:pt x="310" y="126"/>
                    </a:lnTo>
                    <a:lnTo>
                      <a:pt x="313" y="146"/>
                    </a:lnTo>
                    <a:lnTo>
                      <a:pt x="313" y="161"/>
                    </a:lnTo>
                    <a:lnTo>
                      <a:pt x="310" y="164"/>
                    </a:lnTo>
                    <a:lnTo>
                      <a:pt x="300" y="172"/>
                    </a:lnTo>
                    <a:lnTo>
                      <a:pt x="297" y="186"/>
                    </a:lnTo>
                    <a:lnTo>
                      <a:pt x="297" y="201"/>
                    </a:lnTo>
                    <a:lnTo>
                      <a:pt x="293" y="212"/>
                    </a:lnTo>
                    <a:lnTo>
                      <a:pt x="277" y="209"/>
                    </a:lnTo>
                    <a:lnTo>
                      <a:pt x="257" y="198"/>
                    </a:lnTo>
                    <a:lnTo>
                      <a:pt x="245" y="209"/>
                    </a:lnTo>
                    <a:lnTo>
                      <a:pt x="225" y="195"/>
                    </a:lnTo>
                    <a:lnTo>
                      <a:pt x="214" y="192"/>
                    </a:lnTo>
                    <a:lnTo>
                      <a:pt x="201" y="203"/>
                    </a:lnTo>
                    <a:lnTo>
                      <a:pt x="189" y="201"/>
                    </a:lnTo>
                    <a:lnTo>
                      <a:pt x="189" y="192"/>
                    </a:lnTo>
                    <a:lnTo>
                      <a:pt x="141" y="146"/>
                    </a:lnTo>
                    <a:lnTo>
                      <a:pt x="129" y="145"/>
                    </a:lnTo>
                    <a:lnTo>
                      <a:pt x="122" y="152"/>
                    </a:lnTo>
                    <a:lnTo>
                      <a:pt x="102" y="161"/>
                    </a:lnTo>
                    <a:lnTo>
                      <a:pt x="90" y="164"/>
                    </a:lnTo>
                    <a:lnTo>
                      <a:pt x="76" y="149"/>
                    </a:lnTo>
                    <a:lnTo>
                      <a:pt x="42" y="149"/>
                    </a:lnTo>
                    <a:lnTo>
                      <a:pt x="20" y="161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 rot="20780400">
              <a:off x="6713280" y="3924360"/>
              <a:ext cx="404280" cy="214560"/>
            </a:xfrm>
            <a:custGeom>
              <a:avLst/>
              <a:gdLst/>
              <a:ahLst/>
              <a:rect l="l" t="t" r="r" b="b"/>
              <a:pathLst>
                <a:path w="563" h="294">
                  <a:moveTo>
                    <a:pt x="166" y="116"/>
                  </a:moveTo>
                  <a:lnTo>
                    <a:pt x="138" y="99"/>
                  </a:lnTo>
                  <a:lnTo>
                    <a:pt x="132" y="79"/>
                  </a:lnTo>
                  <a:lnTo>
                    <a:pt x="126" y="59"/>
                  </a:lnTo>
                  <a:lnTo>
                    <a:pt x="112" y="40"/>
                  </a:lnTo>
                  <a:lnTo>
                    <a:pt x="90" y="40"/>
                  </a:lnTo>
                  <a:lnTo>
                    <a:pt x="73" y="49"/>
                  </a:lnTo>
                  <a:lnTo>
                    <a:pt x="50" y="70"/>
                  </a:lnTo>
                  <a:lnTo>
                    <a:pt x="23" y="122"/>
                  </a:lnTo>
                  <a:lnTo>
                    <a:pt x="26" y="135"/>
                  </a:lnTo>
                  <a:lnTo>
                    <a:pt x="26" y="149"/>
                  </a:lnTo>
                  <a:lnTo>
                    <a:pt x="20" y="158"/>
                  </a:lnTo>
                  <a:lnTo>
                    <a:pt x="9" y="169"/>
                  </a:lnTo>
                  <a:lnTo>
                    <a:pt x="0" y="181"/>
                  </a:lnTo>
                  <a:lnTo>
                    <a:pt x="6" y="195"/>
                  </a:lnTo>
                  <a:lnTo>
                    <a:pt x="6" y="227"/>
                  </a:lnTo>
                  <a:lnTo>
                    <a:pt x="11" y="251"/>
                  </a:lnTo>
                  <a:lnTo>
                    <a:pt x="23" y="257"/>
                  </a:lnTo>
                  <a:lnTo>
                    <a:pt x="46" y="248"/>
                  </a:lnTo>
                  <a:lnTo>
                    <a:pt x="73" y="231"/>
                  </a:lnTo>
                  <a:lnTo>
                    <a:pt x="85" y="221"/>
                  </a:lnTo>
                  <a:lnTo>
                    <a:pt x="106" y="227"/>
                  </a:lnTo>
                  <a:lnTo>
                    <a:pt x="129" y="231"/>
                  </a:lnTo>
                  <a:lnTo>
                    <a:pt x="149" y="237"/>
                  </a:lnTo>
                  <a:lnTo>
                    <a:pt x="163" y="243"/>
                  </a:lnTo>
                  <a:lnTo>
                    <a:pt x="192" y="227"/>
                  </a:lnTo>
                  <a:lnTo>
                    <a:pt x="205" y="227"/>
                  </a:lnTo>
                  <a:lnTo>
                    <a:pt x="219" y="234"/>
                  </a:lnTo>
                  <a:lnTo>
                    <a:pt x="239" y="240"/>
                  </a:lnTo>
                  <a:lnTo>
                    <a:pt x="255" y="227"/>
                  </a:lnTo>
                  <a:lnTo>
                    <a:pt x="281" y="221"/>
                  </a:lnTo>
                  <a:lnTo>
                    <a:pt x="298" y="224"/>
                  </a:lnTo>
                  <a:lnTo>
                    <a:pt x="312" y="248"/>
                  </a:lnTo>
                  <a:lnTo>
                    <a:pt x="341" y="251"/>
                  </a:lnTo>
                  <a:lnTo>
                    <a:pt x="374" y="248"/>
                  </a:lnTo>
                  <a:lnTo>
                    <a:pt x="397" y="275"/>
                  </a:lnTo>
                  <a:lnTo>
                    <a:pt x="414" y="291"/>
                  </a:lnTo>
                  <a:lnTo>
                    <a:pt x="430" y="294"/>
                  </a:lnTo>
                  <a:lnTo>
                    <a:pt x="456" y="283"/>
                  </a:lnTo>
                  <a:lnTo>
                    <a:pt x="481" y="280"/>
                  </a:lnTo>
                  <a:lnTo>
                    <a:pt x="497" y="268"/>
                  </a:lnTo>
                  <a:lnTo>
                    <a:pt x="506" y="254"/>
                  </a:lnTo>
                  <a:lnTo>
                    <a:pt x="537" y="221"/>
                  </a:lnTo>
                  <a:lnTo>
                    <a:pt x="554" y="204"/>
                  </a:lnTo>
                  <a:lnTo>
                    <a:pt x="563" y="178"/>
                  </a:lnTo>
                  <a:lnTo>
                    <a:pt x="557" y="139"/>
                  </a:lnTo>
                  <a:lnTo>
                    <a:pt x="543" y="129"/>
                  </a:lnTo>
                  <a:lnTo>
                    <a:pt x="517" y="105"/>
                  </a:lnTo>
                  <a:lnTo>
                    <a:pt x="506" y="79"/>
                  </a:lnTo>
                  <a:lnTo>
                    <a:pt x="496" y="50"/>
                  </a:lnTo>
                  <a:lnTo>
                    <a:pt x="473" y="30"/>
                  </a:lnTo>
                  <a:lnTo>
                    <a:pt x="459" y="29"/>
                  </a:lnTo>
                  <a:lnTo>
                    <a:pt x="414" y="30"/>
                  </a:lnTo>
                  <a:lnTo>
                    <a:pt x="394" y="46"/>
                  </a:lnTo>
                  <a:lnTo>
                    <a:pt x="380" y="50"/>
                  </a:lnTo>
                  <a:lnTo>
                    <a:pt x="357" y="29"/>
                  </a:lnTo>
                  <a:lnTo>
                    <a:pt x="338" y="20"/>
                  </a:lnTo>
                  <a:lnTo>
                    <a:pt x="324" y="6"/>
                  </a:lnTo>
                  <a:lnTo>
                    <a:pt x="315" y="3"/>
                  </a:lnTo>
                  <a:lnTo>
                    <a:pt x="290" y="0"/>
                  </a:lnTo>
                  <a:lnTo>
                    <a:pt x="271" y="6"/>
                  </a:lnTo>
                  <a:lnTo>
                    <a:pt x="254" y="6"/>
                  </a:lnTo>
                  <a:lnTo>
                    <a:pt x="245" y="14"/>
                  </a:lnTo>
                  <a:lnTo>
                    <a:pt x="236" y="29"/>
                  </a:lnTo>
                  <a:lnTo>
                    <a:pt x="236" y="59"/>
                  </a:lnTo>
                  <a:lnTo>
                    <a:pt x="242" y="93"/>
                  </a:lnTo>
                  <a:lnTo>
                    <a:pt x="242" y="108"/>
                  </a:lnTo>
                  <a:lnTo>
                    <a:pt x="219" y="129"/>
                  </a:lnTo>
                  <a:lnTo>
                    <a:pt x="205" y="142"/>
                  </a:lnTo>
                  <a:lnTo>
                    <a:pt x="195" y="128"/>
                  </a:lnTo>
                  <a:lnTo>
                    <a:pt x="166" y="11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063400" y="3975480"/>
              <a:ext cx="675000" cy="925560"/>
              <a:chOff x="5063400" y="3975480"/>
              <a:chExt cx="675000" cy="925560"/>
            </a:xfrm>
          </p:grpSpPr>
          <p:sp>
            <p:nvSpPr>
              <p:cNvPr id="592" name=""/>
              <p:cNvSpPr/>
              <p:nvPr/>
            </p:nvSpPr>
            <p:spPr>
              <a:xfrm rot="20780400">
                <a:off x="5154480" y="4021560"/>
                <a:ext cx="492120" cy="832680"/>
              </a:xfrm>
              <a:custGeom>
                <a:avLst/>
                <a:gdLst/>
                <a:ahLst/>
                <a:rect l="l" t="t" r="r" b="b"/>
                <a:pathLst>
                  <a:path w="686" h="1132">
                    <a:moveTo>
                      <a:pt x="205" y="725"/>
                    </a:moveTo>
                    <a:lnTo>
                      <a:pt x="237" y="754"/>
                    </a:lnTo>
                    <a:lnTo>
                      <a:pt x="224" y="782"/>
                    </a:lnTo>
                    <a:lnTo>
                      <a:pt x="204" y="804"/>
                    </a:lnTo>
                    <a:lnTo>
                      <a:pt x="172" y="820"/>
                    </a:lnTo>
                    <a:lnTo>
                      <a:pt x="148" y="833"/>
                    </a:lnTo>
                    <a:lnTo>
                      <a:pt x="122" y="836"/>
                    </a:lnTo>
                    <a:lnTo>
                      <a:pt x="108" y="847"/>
                    </a:lnTo>
                    <a:lnTo>
                      <a:pt x="128" y="881"/>
                    </a:lnTo>
                    <a:lnTo>
                      <a:pt x="158" y="881"/>
                    </a:lnTo>
                    <a:lnTo>
                      <a:pt x="172" y="884"/>
                    </a:lnTo>
                    <a:lnTo>
                      <a:pt x="172" y="906"/>
                    </a:lnTo>
                    <a:lnTo>
                      <a:pt x="189" y="906"/>
                    </a:lnTo>
                    <a:lnTo>
                      <a:pt x="201" y="900"/>
                    </a:lnTo>
                    <a:lnTo>
                      <a:pt x="208" y="923"/>
                    </a:lnTo>
                    <a:lnTo>
                      <a:pt x="225" y="943"/>
                    </a:lnTo>
                    <a:lnTo>
                      <a:pt x="254" y="943"/>
                    </a:lnTo>
                    <a:lnTo>
                      <a:pt x="274" y="937"/>
                    </a:lnTo>
                    <a:lnTo>
                      <a:pt x="291" y="943"/>
                    </a:lnTo>
                    <a:lnTo>
                      <a:pt x="248" y="979"/>
                    </a:lnTo>
                    <a:lnTo>
                      <a:pt x="231" y="989"/>
                    </a:lnTo>
                    <a:lnTo>
                      <a:pt x="208" y="979"/>
                    </a:lnTo>
                    <a:lnTo>
                      <a:pt x="158" y="960"/>
                    </a:lnTo>
                    <a:lnTo>
                      <a:pt x="132" y="960"/>
                    </a:lnTo>
                    <a:lnTo>
                      <a:pt x="110" y="979"/>
                    </a:lnTo>
                    <a:lnTo>
                      <a:pt x="79" y="1005"/>
                    </a:lnTo>
                    <a:lnTo>
                      <a:pt x="62" y="1019"/>
                    </a:lnTo>
                    <a:lnTo>
                      <a:pt x="43" y="1025"/>
                    </a:lnTo>
                    <a:lnTo>
                      <a:pt x="20" y="1036"/>
                    </a:lnTo>
                    <a:lnTo>
                      <a:pt x="3" y="1049"/>
                    </a:lnTo>
                    <a:lnTo>
                      <a:pt x="0" y="1059"/>
                    </a:lnTo>
                    <a:lnTo>
                      <a:pt x="20" y="1062"/>
                    </a:lnTo>
                    <a:lnTo>
                      <a:pt x="34" y="1075"/>
                    </a:lnTo>
                    <a:lnTo>
                      <a:pt x="53" y="1084"/>
                    </a:lnTo>
                    <a:lnTo>
                      <a:pt x="73" y="1075"/>
                    </a:lnTo>
                    <a:lnTo>
                      <a:pt x="90" y="1066"/>
                    </a:lnTo>
                    <a:lnTo>
                      <a:pt x="110" y="1069"/>
                    </a:lnTo>
                    <a:lnTo>
                      <a:pt x="138" y="1086"/>
                    </a:lnTo>
                    <a:lnTo>
                      <a:pt x="167" y="1098"/>
                    </a:lnTo>
                    <a:lnTo>
                      <a:pt x="186" y="1086"/>
                    </a:lnTo>
                    <a:lnTo>
                      <a:pt x="195" y="1065"/>
                    </a:lnTo>
                    <a:lnTo>
                      <a:pt x="225" y="1046"/>
                    </a:lnTo>
                    <a:lnTo>
                      <a:pt x="245" y="1046"/>
                    </a:lnTo>
                    <a:lnTo>
                      <a:pt x="263" y="1066"/>
                    </a:lnTo>
                    <a:lnTo>
                      <a:pt x="277" y="1078"/>
                    </a:lnTo>
                    <a:lnTo>
                      <a:pt x="300" y="1078"/>
                    </a:lnTo>
                    <a:lnTo>
                      <a:pt x="330" y="1081"/>
                    </a:lnTo>
                    <a:lnTo>
                      <a:pt x="350" y="1089"/>
                    </a:lnTo>
                    <a:lnTo>
                      <a:pt x="370" y="1075"/>
                    </a:lnTo>
                    <a:lnTo>
                      <a:pt x="386" y="1075"/>
                    </a:lnTo>
                    <a:lnTo>
                      <a:pt x="403" y="1084"/>
                    </a:lnTo>
                    <a:lnTo>
                      <a:pt x="423" y="1106"/>
                    </a:lnTo>
                    <a:lnTo>
                      <a:pt x="449" y="1109"/>
                    </a:lnTo>
                    <a:lnTo>
                      <a:pt x="478" y="1115"/>
                    </a:lnTo>
                    <a:lnTo>
                      <a:pt x="497" y="1125"/>
                    </a:lnTo>
                    <a:lnTo>
                      <a:pt x="522" y="1132"/>
                    </a:lnTo>
                    <a:lnTo>
                      <a:pt x="542" y="1121"/>
                    </a:lnTo>
                    <a:lnTo>
                      <a:pt x="567" y="1106"/>
                    </a:lnTo>
                    <a:lnTo>
                      <a:pt x="584" y="1103"/>
                    </a:lnTo>
                    <a:lnTo>
                      <a:pt x="604" y="1098"/>
                    </a:lnTo>
                    <a:lnTo>
                      <a:pt x="624" y="1081"/>
                    </a:lnTo>
                    <a:lnTo>
                      <a:pt x="610" y="1065"/>
                    </a:lnTo>
                    <a:lnTo>
                      <a:pt x="578" y="1046"/>
                    </a:lnTo>
                    <a:lnTo>
                      <a:pt x="567" y="1036"/>
                    </a:lnTo>
                    <a:lnTo>
                      <a:pt x="567" y="1025"/>
                    </a:lnTo>
                    <a:lnTo>
                      <a:pt x="581" y="1013"/>
                    </a:lnTo>
                    <a:lnTo>
                      <a:pt x="604" y="1010"/>
                    </a:lnTo>
                    <a:lnTo>
                      <a:pt x="627" y="999"/>
                    </a:lnTo>
                    <a:lnTo>
                      <a:pt x="663" y="960"/>
                    </a:lnTo>
                    <a:lnTo>
                      <a:pt x="680" y="940"/>
                    </a:lnTo>
                    <a:lnTo>
                      <a:pt x="686" y="906"/>
                    </a:lnTo>
                    <a:lnTo>
                      <a:pt x="686" y="887"/>
                    </a:lnTo>
                    <a:lnTo>
                      <a:pt x="669" y="873"/>
                    </a:lnTo>
                    <a:lnTo>
                      <a:pt x="647" y="856"/>
                    </a:lnTo>
                    <a:lnTo>
                      <a:pt x="627" y="847"/>
                    </a:lnTo>
                    <a:lnTo>
                      <a:pt x="604" y="850"/>
                    </a:lnTo>
                    <a:lnTo>
                      <a:pt x="590" y="858"/>
                    </a:lnTo>
                    <a:lnTo>
                      <a:pt x="584" y="844"/>
                    </a:lnTo>
                    <a:lnTo>
                      <a:pt x="596" y="821"/>
                    </a:lnTo>
                    <a:lnTo>
                      <a:pt x="601" y="804"/>
                    </a:lnTo>
                    <a:lnTo>
                      <a:pt x="598" y="774"/>
                    </a:lnTo>
                    <a:lnTo>
                      <a:pt x="596" y="731"/>
                    </a:lnTo>
                    <a:lnTo>
                      <a:pt x="604" y="698"/>
                    </a:lnTo>
                    <a:lnTo>
                      <a:pt x="598" y="678"/>
                    </a:lnTo>
                    <a:lnTo>
                      <a:pt x="584" y="655"/>
                    </a:lnTo>
                    <a:lnTo>
                      <a:pt x="551" y="596"/>
                    </a:lnTo>
                    <a:lnTo>
                      <a:pt x="537" y="569"/>
                    </a:lnTo>
                    <a:lnTo>
                      <a:pt x="531" y="535"/>
                    </a:lnTo>
                    <a:lnTo>
                      <a:pt x="528" y="515"/>
                    </a:lnTo>
                    <a:lnTo>
                      <a:pt x="537" y="482"/>
                    </a:lnTo>
                    <a:lnTo>
                      <a:pt x="537" y="456"/>
                    </a:lnTo>
                    <a:lnTo>
                      <a:pt x="531" y="427"/>
                    </a:lnTo>
                    <a:lnTo>
                      <a:pt x="517" y="414"/>
                    </a:lnTo>
                    <a:lnTo>
                      <a:pt x="491" y="388"/>
                    </a:lnTo>
                    <a:lnTo>
                      <a:pt x="472" y="380"/>
                    </a:lnTo>
                    <a:lnTo>
                      <a:pt x="452" y="377"/>
                    </a:lnTo>
                    <a:lnTo>
                      <a:pt x="438" y="374"/>
                    </a:lnTo>
                    <a:lnTo>
                      <a:pt x="438" y="360"/>
                    </a:lnTo>
                    <a:lnTo>
                      <a:pt x="446" y="350"/>
                    </a:lnTo>
                    <a:lnTo>
                      <a:pt x="469" y="347"/>
                    </a:lnTo>
                    <a:lnTo>
                      <a:pt x="488" y="354"/>
                    </a:lnTo>
                    <a:lnTo>
                      <a:pt x="502" y="357"/>
                    </a:lnTo>
                    <a:lnTo>
                      <a:pt x="511" y="344"/>
                    </a:lnTo>
                    <a:lnTo>
                      <a:pt x="508" y="327"/>
                    </a:lnTo>
                    <a:lnTo>
                      <a:pt x="590" y="251"/>
                    </a:lnTo>
                    <a:lnTo>
                      <a:pt x="604" y="234"/>
                    </a:lnTo>
                    <a:lnTo>
                      <a:pt x="604" y="199"/>
                    </a:lnTo>
                    <a:lnTo>
                      <a:pt x="584" y="182"/>
                    </a:lnTo>
                    <a:lnTo>
                      <a:pt x="561" y="179"/>
                    </a:lnTo>
                    <a:lnTo>
                      <a:pt x="542" y="149"/>
                    </a:lnTo>
                    <a:lnTo>
                      <a:pt x="502" y="149"/>
                    </a:lnTo>
                    <a:lnTo>
                      <a:pt x="502" y="149"/>
                    </a:lnTo>
                    <a:lnTo>
                      <a:pt x="466" y="155"/>
                    </a:lnTo>
                    <a:lnTo>
                      <a:pt x="458" y="152"/>
                    </a:lnTo>
                    <a:lnTo>
                      <a:pt x="449" y="138"/>
                    </a:lnTo>
                    <a:lnTo>
                      <a:pt x="466" y="126"/>
                    </a:lnTo>
                    <a:lnTo>
                      <a:pt x="482" y="109"/>
                    </a:lnTo>
                    <a:lnTo>
                      <a:pt x="517" y="79"/>
                    </a:lnTo>
                    <a:lnTo>
                      <a:pt x="545" y="76"/>
                    </a:lnTo>
                    <a:lnTo>
                      <a:pt x="571" y="56"/>
                    </a:lnTo>
                    <a:lnTo>
                      <a:pt x="596" y="36"/>
                    </a:lnTo>
                    <a:lnTo>
                      <a:pt x="539" y="23"/>
                    </a:lnTo>
                    <a:lnTo>
                      <a:pt x="514" y="20"/>
                    </a:lnTo>
                    <a:lnTo>
                      <a:pt x="485" y="17"/>
                    </a:lnTo>
                    <a:lnTo>
                      <a:pt x="452" y="0"/>
                    </a:lnTo>
                    <a:lnTo>
                      <a:pt x="421" y="33"/>
                    </a:lnTo>
                    <a:lnTo>
                      <a:pt x="423" y="50"/>
                    </a:lnTo>
                    <a:lnTo>
                      <a:pt x="406" y="56"/>
                    </a:lnTo>
                    <a:lnTo>
                      <a:pt x="379" y="73"/>
                    </a:lnTo>
                    <a:lnTo>
                      <a:pt x="353" y="82"/>
                    </a:lnTo>
                    <a:lnTo>
                      <a:pt x="353" y="106"/>
                    </a:lnTo>
                    <a:lnTo>
                      <a:pt x="350" y="126"/>
                    </a:lnTo>
                    <a:lnTo>
                      <a:pt x="327" y="158"/>
                    </a:lnTo>
                    <a:lnTo>
                      <a:pt x="291" y="198"/>
                    </a:lnTo>
                    <a:lnTo>
                      <a:pt x="277" y="217"/>
                    </a:lnTo>
                    <a:lnTo>
                      <a:pt x="285" y="231"/>
                    </a:lnTo>
                    <a:lnTo>
                      <a:pt x="323" y="228"/>
                    </a:lnTo>
                    <a:lnTo>
                      <a:pt x="324" y="236"/>
                    </a:lnTo>
                    <a:lnTo>
                      <a:pt x="324" y="251"/>
                    </a:lnTo>
                    <a:lnTo>
                      <a:pt x="274" y="315"/>
                    </a:lnTo>
                    <a:lnTo>
                      <a:pt x="257" y="350"/>
                    </a:lnTo>
                    <a:lnTo>
                      <a:pt x="245" y="380"/>
                    </a:lnTo>
                    <a:lnTo>
                      <a:pt x="257" y="394"/>
                    </a:lnTo>
                    <a:lnTo>
                      <a:pt x="280" y="366"/>
                    </a:lnTo>
                    <a:lnTo>
                      <a:pt x="303" y="334"/>
                    </a:lnTo>
                    <a:lnTo>
                      <a:pt x="320" y="344"/>
                    </a:lnTo>
                    <a:lnTo>
                      <a:pt x="323" y="391"/>
                    </a:lnTo>
                    <a:lnTo>
                      <a:pt x="324" y="423"/>
                    </a:lnTo>
                    <a:lnTo>
                      <a:pt x="294" y="439"/>
                    </a:lnTo>
                    <a:lnTo>
                      <a:pt x="274" y="459"/>
                    </a:lnTo>
                    <a:lnTo>
                      <a:pt x="268" y="476"/>
                    </a:lnTo>
                    <a:lnTo>
                      <a:pt x="307" y="509"/>
                    </a:lnTo>
                    <a:lnTo>
                      <a:pt x="342" y="503"/>
                    </a:lnTo>
                    <a:lnTo>
                      <a:pt x="350" y="523"/>
                    </a:lnTo>
                    <a:lnTo>
                      <a:pt x="386" y="500"/>
                    </a:lnTo>
                    <a:lnTo>
                      <a:pt x="383" y="519"/>
                    </a:lnTo>
                    <a:lnTo>
                      <a:pt x="353" y="555"/>
                    </a:lnTo>
                    <a:lnTo>
                      <a:pt x="367" y="595"/>
                    </a:lnTo>
                    <a:lnTo>
                      <a:pt x="370" y="616"/>
                    </a:lnTo>
                    <a:lnTo>
                      <a:pt x="402" y="619"/>
                    </a:lnTo>
                    <a:lnTo>
                      <a:pt x="403" y="639"/>
                    </a:lnTo>
                    <a:lnTo>
                      <a:pt x="367" y="681"/>
                    </a:lnTo>
                    <a:lnTo>
                      <a:pt x="353" y="675"/>
                    </a:lnTo>
                    <a:lnTo>
                      <a:pt x="339" y="689"/>
                    </a:lnTo>
                    <a:lnTo>
                      <a:pt x="336" y="712"/>
                    </a:lnTo>
                    <a:lnTo>
                      <a:pt x="300" y="692"/>
                    </a:lnTo>
                    <a:lnTo>
                      <a:pt x="205" y="72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0780400">
                <a:off x="5334480" y="4436280"/>
                <a:ext cx="39960" cy="3060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29" y="0"/>
                    </a:moveTo>
                    <a:lnTo>
                      <a:pt x="53" y="3"/>
                    </a:lnTo>
                    <a:lnTo>
                      <a:pt x="56" y="18"/>
                    </a:lnTo>
                    <a:lnTo>
                      <a:pt x="30" y="35"/>
                    </a:lnTo>
                    <a:lnTo>
                      <a:pt x="3" y="41"/>
                    </a:lnTo>
                    <a:lnTo>
                      <a:pt x="0" y="2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780400">
                <a:off x="5260320" y="4253040"/>
                <a:ext cx="39960" cy="30960"/>
              </a:xfrm>
              <a:custGeom>
                <a:avLst/>
                <a:gdLst/>
                <a:ahLst/>
                <a:rect l="l" t="t" r="r" b="b"/>
                <a:pathLst>
                  <a:path w="57" h="41">
                    <a:moveTo>
                      <a:pt x="48" y="0"/>
                    </a:moveTo>
                    <a:lnTo>
                      <a:pt x="57" y="19"/>
                    </a:lnTo>
                    <a:lnTo>
                      <a:pt x="29" y="35"/>
                    </a:lnTo>
                    <a:lnTo>
                      <a:pt x="7" y="41"/>
                    </a:lnTo>
                    <a:lnTo>
                      <a:pt x="0" y="21"/>
                    </a:lnTo>
                    <a:lnTo>
                      <a:pt x="11" y="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0780400">
                <a:off x="5285160" y="4093560"/>
                <a:ext cx="22680" cy="57240"/>
              </a:xfrm>
              <a:custGeom>
                <a:avLst/>
                <a:gdLst/>
                <a:ahLst/>
                <a:rect l="l" t="t" r="r" b="b"/>
                <a:pathLst>
                  <a:path w="30" h="79">
                    <a:moveTo>
                      <a:pt x="13" y="79"/>
                    </a:moveTo>
                    <a:lnTo>
                      <a:pt x="30" y="59"/>
                    </a:lnTo>
                    <a:lnTo>
                      <a:pt x="24" y="33"/>
                    </a:lnTo>
                    <a:lnTo>
                      <a:pt x="19" y="20"/>
                    </a:lnTo>
                    <a:lnTo>
                      <a:pt x="13" y="0"/>
                    </a:lnTo>
                    <a:lnTo>
                      <a:pt x="0" y="9"/>
                    </a:lnTo>
                    <a:lnTo>
                      <a:pt x="7" y="36"/>
                    </a:lnTo>
                    <a:lnTo>
                      <a:pt x="13" y="79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20780400">
                <a:off x="5189040" y="4340880"/>
                <a:ext cx="104400" cy="111600"/>
              </a:xfrm>
              <a:custGeom>
                <a:avLst/>
                <a:gdLst/>
                <a:ahLst/>
                <a:rect l="l" t="t" r="r" b="b"/>
                <a:pathLst>
                  <a:path w="148" h="150">
                    <a:moveTo>
                      <a:pt x="52" y="0"/>
                    </a:moveTo>
                    <a:lnTo>
                      <a:pt x="85" y="0"/>
                    </a:lnTo>
                    <a:lnTo>
                      <a:pt x="111" y="6"/>
                    </a:lnTo>
                    <a:lnTo>
                      <a:pt x="128" y="30"/>
                    </a:lnTo>
                    <a:lnTo>
                      <a:pt x="145" y="70"/>
                    </a:lnTo>
                    <a:lnTo>
                      <a:pt x="148" y="103"/>
                    </a:lnTo>
                    <a:lnTo>
                      <a:pt x="131" y="120"/>
                    </a:lnTo>
                    <a:lnTo>
                      <a:pt x="125" y="143"/>
                    </a:lnTo>
                    <a:lnTo>
                      <a:pt x="108" y="150"/>
                    </a:lnTo>
                    <a:lnTo>
                      <a:pt x="91" y="130"/>
                    </a:lnTo>
                    <a:lnTo>
                      <a:pt x="76" y="94"/>
                    </a:lnTo>
                    <a:lnTo>
                      <a:pt x="65" y="80"/>
                    </a:lnTo>
                    <a:lnTo>
                      <a:pt x="37" y="77"/>
                    </a:lnTo>
                    <a:lnTo>
                      <a:pt x="0" y="39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780400">
                <a:off x="5262840" y="4026600"/>
                <a:ext cx="54360" cy="41040"/>
              </a:xfrm>
              <a:custGeom>
                <a:avLst/>
                <a:gdLst/>
                <a:ahLst/>
                <a:rect l="l" t="t" r="r" b="b"/>
                <a:pathLst>
                  <a:path w="76" h="56">
                    <a:moveTo>
                      <a:pt x="66" y="0"/>
                    </a:moveTo>
                    <a:lnTo>
                      <a:pt x="76" y="14"/>
                    </a:lnTo>
                    <a:lnTo>
                      <a:pt x="47" y="31"/>
                    </a:lnTo>
                    <a:lnTo>
                      <a:pt x="19" y="56"/>
                    </a:lnTo>
                    <a:lnTo>
                      <a:pt x="3" y="50"/>
                    </a:lnTo>
                    <a:lnTo>
                      <a:pt x="0" y="20"/>
                    </a:lnTo>
                    <a:lnTo>
                      <a:pt x="0" y="9"/>
                    </a:lnTo>
                    <a:lnTo>
                      <a:pt x="4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 rot="20780400">
              <a:off x="4724280" y="3027960"/>
              <a:ext cx="404640" cy="361440"/>
            </a:xfrm>
            <a:custGeom>
              <a:avLst/>
              <a:gdLst/>
              <a:ahLst/>
              <a:rect l="l" t="t" r="r" b="b"/>
              <a:pathLst>
                <a:path w="564" h="490">
                  <a:moveTo>
                    <a:pt x="43" y="116"/>
                  </a:moveTo>
                  <a:lnTo>
                    <a:pt x="26" y="135"/>
                  </a:lnTo>
                  <a:lnTo>
                    <a:pt x="46" y="169"/>
                  </a:lnTo>
                  <a:lnTo>
                    <a:pt x="68" y="175"/>
                  </a:lnTo>
                  <a:lnTo>
                    <a:pt x="88" y="189"/>
                  </a:lnTo>
                  <a:lnTo>
                    <a:pt x="90" y="242"/>
                  </a:lnTo>
                  <a:lnTo>
                    <a:pt x="70" y="278"/>
                  </a:lnTo>
                  <a:lnTo>
                    <a:pt x="53" y="287"/>
                  </a:lnTo>
                  <a:lnTo>
                    <a:pt x="6" y="278"/>
                  </a:lnTo>
                  <a:lnTo>
                    <a:pt x="0" y="284"/>
                  </a:lnTo>
                  <a:lnTo>
                    <a:pt x="56" y="341"/>
                  </a:lnTo>
                  <a:lnTo>
                    <a:pt x="73" y="350"/>
                  </a:lnTo>
                  <a:lnTo>
                    <a:pt x="82" y="388"/>
                  </a:lnTo>
                  <a:lnTo>
                    <a:pt x="102" y="427"/>
                  </a:lnTo>
                  <a:lnTo>
                    <a:pt x="135" y="456"/>
                  </a:lnTo>
                  <a:lnTo>
                    <a:pt x="172" y="461"/>
                  </a:lnTo>
                  <a:lnTo>
                    <a:pt x="195" y="479"/>
                  </a:lnTo>
                  <a:lnTo>
                    <a:pt x="214" y="479"/>
                  </a:lnTo>
                  <a:lnTo>
                    <a:pt x="240" y="467"/>
                  </a:lnTo>
                  <a:lnTo>
                    <a:pt x="291" y="481"/>
                  </a:lnTo>
                  <a:lnTo>
                    <a:pt x="316" y="490"/>
                  </a:lnTo>
                  <a:lnTo>
                    <a:pt x="350" y="484"/>
                  </a:lnTo>
                  <a:lnTo>
                    <a:pt x="373" y="479"/>
                  </a:lnTo>
                  <a:lnTo>
                    <a:pt x="392" y="461"/>
                  </a:lnTo>
                  <a:lnTo>
                    <a:pt x="406" y="467"/>
                  </a:lnTo>
                  <a:lnTo>
                    <a:pt x="426" y="484"/>
                  </a:lnTo>
                  <a:lnTo>
                    <a:pt x="446" y="473"/>
                  </a:lnTo>
                  <a:lnTo>
                    <a:pt x="462" y="459"/>
                  </a:lnTo>
                  <a:lnTo>
                    <a:pt x="475" y="447"/>
                  </a:lnTo>
                  <a:lnTo>
                    <a:pt x="519" y="436"/>
                  </a:lnTo>
                  <a:lnTo>
                    <a:pt x="528" y="423"/>
                  </a:lnTo>
                  <a:lnTo>
                    <a:pt x="534" y="403"/>
                  </a:lnTo>
                  <a:lnTo>
                    <a:pt x="561" y="380"/>
                  </a:lnTo>
                  <a:lnTo>
                    <a:pt x="564" y="365"/>
                  </a:lnTo>
                  <a:lnTo>
                    <a:pt x="554" y="354"/>
                  </a:lnTo>
                  <a:lnTo>
                    <a:pt x="538" y="335"/>
                  </a:lnTo>
                  <a:lnTo>
                    <a:pt x="535" y="265"/>
                  </a:lnTo>
                  <a:lnTo>
                    <a:pt x="558" y="255"/>
                  </a:lnTo>
                  <a:lnTo>
                    <a:pt x="545" y="231"/>
                  </a:lnTo>
                  <a:lnTo>
                    <a:pt x="528" y="234"/>
                  </a:lnTo>
                  <a:lnTo>
                    <a:pt x="516" y="231"/>
                  </a:lnTo>
                  <a:lnTo>
                    <a:pt x="522" y="219"/>
                  </a:lnTo>
                  <a:lnTo>
                    <a:pt x="516" y="198"/>
                  </a:lnTo>
                  <a:lnTo>
                    <a:pt x="502" y="192"/>
                  </a:lnTo>
                  <a:lnTo>
                    <a:pt x="479" y="205"/>
                  </a:lnTo>
                  <a:lnTo>
                    <a:pt x="459" y="222"/>
                  </a:lnTo>
                  <a:lnTo>
                    <a:pt x="446" y="219"/>
                  </a:lnTo>
                  <a:lnTo>
                    <a:pt x="432" y="211"/>
                  </a:lnTo>
                  <a:lnTo>
                    <a:pt x="409" y="198"/>
                  </a:lnTo>
                  <a:lnTo>
                    <a:pt x="386" y="192"/>
                  </a:lnTo>
                  <a:lnTo>
                    <a:pt x="373" y="198"/>
                  </a:lnTo>
                  <a:lnTo>
                    <a:pt x="360" y="189"/>
                  </a:lnTo>
                  <a:lnTo>
                    <a:pt x="359" y="172"/>
                  </a:lnTo>
                  <a:lnTo>
                    <a:pt x="347" y="169"/>
                  </a:lnTo>
                  <a:lnTo>
                    <a:pt x="324" y="175"/>
                  </a:lnTo>
                  <a:lnTo>
                    <a:pt x="300" y="172"/>
                  </a:lnTo>
                  <a:lnTo>
                    <a:pt x="300" y="158"/>
                  </a:lnTo>
                  <a:lnTo>
                    <a:pt x="291" y="146"/>
                  </a:lnTo>
                  <a:lnTo>
                    <a:pt x="274" y="143"/>
                  </a:lnTo>
                  <a:lnTo>
                    <a:pt x="265" y="158"/>
                  </a:lnTo>
                  <a:lnTo>
                    <a:pt x="260" y="166"/>
                  </a:lnTo>
                  <a:lnTo>
                    <a:pt x="248" y="158"/>
                  </a:lnTo>
                  <a:lnTo>
                    <a:pt x="231" y="163"/>
                  </a:lnTo>
                  <a:lnTo>
                    <a:pt x="214" y="178"/>
                  </a:lnTo>
                  <a:lnTo>
                    <a:pt x="204" y="166"/>
                  </a:lnTo>
                  <a:lnTo>
                    <a:pt x="205" y="123"/>
                  </a:lnTo>
                  <a:lnTo>
                    <a:pt x="217" y="102"/>
                  </a:lnTo>
                  <a:lnTo>
                    <a:pt x="231" y="90"/>
                  </a:lnTo>
                  <a:lnTo>
                    <a:pt x="228" y="62"/>
                  </a:lnTo>
                  <a:lnTo>
                    <a:pt x="231" y="33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14"/>
                  </a:lnTo>
                  <a:lnTo>
                    <a:pt x="198" y="42"/>
                  </a:lnTo>
                  <a:lnTo>
                    <a:pt x="189" y="62"/>
                  </a:lnTo>
                  <a:lnTo>
                    <a:pt x="175" y="46"/>
                  </a:lnTo>
                  <a:lnTo>
                    <a:pt x="184" y="23"/>
                  </a:lnTo>
                  <a:lnTo>
                    <a:pt x="169" y="9"/>
                  </a:lnTo>
                  <a:lnTo>
                    <a:pt x="146" y="14"/>
                  </a:lnTo>
                  <a:lnTo>
                    <a:pt x="135" y="29"/>
                  </a:lnTo>
                  <a:lnTo>
                    <a:pt x="141" y="42"/>
                  </a:lnTo>
                  <a:lnTo>
                    <a:pt x="132" y="56"/>
                  </a:lnTo>
                  <a:lnTo>
                    <a:pt x="122" y="50"/>
                  </a:lnTo>
                  <a:lnTo>
                    <a:pt x="106" y="39"/>
                  </a:lnTo>
                  <a:lnTo>
                    <a:pt x="96" y="42"/>
                  </a:lnTo>
                  <a:lnTo>
                    <a:pt x="85" y="56"/>
                  </a:lnTo>
                  <a:lnTo>
                    <a:pt x="99" y="79"/>
                  </a:lnTo>
                  <a:lnTo>
                    <a:pt x="119" y="82"/>
                  </a:lnTo>
                  <a:lnTo>
                    <a:pt x="144" y="105"/>
                  </a:lnTo>
                  <a:lnTo>
                    <a:pt x="155" y="112"/>
                  </a:lnTo>
                  <a:lnTo>
                    <a:pt x="155" y="126"/>
                  </a:lnTo>
                  <a:lnTo>
                    <a:pt x="132" y="132"/>
                  </a:lnTo>
                  <a:lnTo>
                    <a:pt x="135" y="152"/>
                  </a:lnTo>
                  <a:lnTo>
                    <a:pt x="144" y="166"/>
                  </a:lnTo>
                  <a:lnTo>
                    <a:pt x="135" y="178"/>
                  </a:lnTo>
                  <a:lnTo>
                    <a:pt x="116" y="175"/>
                  </a:lnTo>
                  <a:lnTo>
                    <a:pt x="88" y="146"/>
                  </a:lnTo>
                  <a:lnTo>
                    <a:pt x="68" y="126"/>
                  </a:lnTo>
                  <a:lnTo>
                    <a:pt x="43" y="11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7431840" y="4864320"/>
              <a:ext cx="1587240" cy="1069920"/>
              <a:chOff x="7431840" y="4864320"/>
              <a:chExt cx="1587240" cy="1069920"/>
            </a:xfrm>
          </p:grpSpPr>
          <p:sp>
            <p:nvSpPr>
              <p:cNvPr id="600" name=""/>
              <p:cNvSpPr/>
              <p:nvPr/>
            </p:nvSpPr>
            <p:spPr>
              <a:xfrm rot="20780400">
                <a:off x="7462080" y="5361480"/>
                <a:ext cx="217440" cy="191160"/>
              </a:xfrm>
              <a:custGeom>
                <a:avLst/>
                <a:gdLst/>
                <a:ahLst/>
                <a:rect l="l" t="t" r="r" b="b"/>
                <a:pathLst>
                  <a:path w="302" h="260">
                    <a:moveTo>
                      <a:pt x="53" y="43"/>
                    </a:moveTo>
                    <a:lnTo>
                      <a:pt x="48" y="108"/>
                    </a:lnTo>
                    <a:lnTo>
                      <a:pt x="0" y="178"/>
                    </a:lnTo>
                    <a:lnTo>
                      <a:pt x="10" y="192"/>
                    </a:lnTo>
                    <a:lnTo>
                      <a:pt x="65" y="187"/>
                    </a:lnTo>
                    <a:lnTo>
                      <a:pt x="39" y="218"/>
                    </a:lnTo>
                    <a:lnTo>
                      <a:pt x="29" y="230"/>
                    </a:lnTo>
                    <a:lnTo>
                      <a:pt x="33" y="260"/>
                    </a:lnTo>
                    <a:lnTo>
                      <a:pt x="76" y="212"/>
                    </a:lnTo>
                    <a:lnTo>
                      <a:pt x="102" y="198"/>
                    </a:lnTo>
                    <a:lnTo>
                      <a:pt x="147" y="139"/>
                    </a:lnTo>
                    <a:lnTo>
                      <a:pt x="200" y="108"/>
                    </a:lnTo>
                    <a:lnTo>
                      <a:pt x="283" y="105"/>
                    </a:lnTo>
                    <a:lnTo>
                      <a:pt x="302" y="96"/>
                    </a:lnTo>
                    <a:lnTo>
                      <a:pt x="299" y="79"/>
                    </a:lnTo>
                    <a:lnTo>
                      <a:pt x="260" y="46"/>
                    </a:lnTo>
                    <a:lnTo>
                      <a:pt x="240" y="49"/>
                    </a:lnTo>
                    <a:lnTo>
                      <a:pt x="234" y="40"/>
                    </a:lnTo>
                    <a:lnTo>
                      <a:pt x="211" y="40"/>
                    </a:lnTo>
                    <a:lnTo>
                      <a:pt x="178" y="3"/>
                    </a:lnTo>
                    <a:lnTo>
                      <a:pt x="141" y="0"/>
                    </a:lnTo>
                    <a:lnTo>
                      <a:pt x="108" y="9"/>
                    </a:lnTo>
                    <a:lnTo>
                      <a:pt x="79" y="2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20780400">
                <a:off x="7499520" y="5024880"/>
                <a:ext cx="1451520" cy="748440"/>
              </a:xfrm>
              <a:custGeom>
                <a:avLst/>
                <a:gdLst/>
                <a:ahLst/>
                <a:rect l="l" t="t" r="r" b="b"/>
                <a:pathLst>
                  <a:path w="2027" h="1018">
                    <a:moveTo>
                      <a:pt x="271" y="431"/>
                    </a:moveTo>
                    <a:lnTo>
                      <a:pt x="277" y="393"/>
                    </a:lnTo>
                    <a:lnTo>
                      <a:pt x="333" y="387"/>
                    </a:lnTo>
                    <a:lnTo>
                      <a:pt x="349" y="387"/>
                    </a:lnTo>
                    <a:lnTo>
                      <a:pt x="321" y="364"/>
                    </a:lnTo>
                    <a:lnTo>
                      <a:pt x="282" y="353"/>
                    </a:lnTo>
                    <a:lnTo>
                      <a:pt x="282" y="330"/>
                    </a:lnTo>
                    <a:lnTo>
                      <a:pt x="364" y="307"/>
                    </a:lnTo>
                    <a:lnTo>
                      <a:pt x="431" y="301"/>
                    </a:lnTo>
                    <a:lnTo>
                      <a:pt x="476" y="279"/>
                    </a:lnTo>
                    <a:lnTo>
                      <a:pt x="505" y="291"/>
                    </a:lnTo>
                    <a:lnTo>
                      <a:pt x="527" y="257"/>
                    </a:lnTo>
                    <a:lnTo>
                      <a:pt x="578" y="212"/>
                    </a:lnTo>
                    <a:lnTo>
                      <a:pt x="612" y="183"/>
                    </a:lnTo>
                    <a:lnTo>
                      <a:pt x="639" y="166"/>
                    </a:lnTo>
                    <a:lnTo>
                      <a:pt x="691" y="166"/>
                    </a:lnTo>
                    <a:lnTo>
                      <a:pt x="741" y="151"/>
                    </a:lnTo>
                    <a:lnTo>
                      <a:pt x="820" y="125"/>
                    </a:lnTo>
                    <a:lnTo>
                      <a:pt x="837" y="125"/>
                    </a:lnTo>
                    <a:lnTo>
                      <a:pt x="860" y="146"/>
                    </a:lnTo>
                    <a:lnTo>
                      <a:pt x="883" y="163"/>
                    </a:lnTo>
                    <a:lnTo>
                      <a:pt x="916" y="146"/>
                    </a:lnTo>
                    <a:lnTo>
                      <a:pt x="950" y="163"/>
                    </a:lnTo>
                    <a:lnTo>
                      <a:pt x="972" y="178"/>
                    </a:lnTo>
                    <a:lnTo>
                      <a:pt x="1001" y="183"/>
                    </a:lnTo>
                    <a:lnTo>
                      <a:pt x="1018" y="195"/>
                    </a:lnTo>
                    <a:lnTo>
                      <a:pt x="1035" y="172"/>
                    </a:lnTo>
                    <a:lnTo>
                      <a:pt x="1085" y="189"/>
                    </a:lnTo>
                    <a:lnTo>
                      <a:pt x="1170" y="195"/>
                    </a:lnTo>
                    <a:lnTo>
                      <a:pt x="1243" y="183"/>
                    </a:lnTo>
                    <a:lnTo>
                      <a:pt x="1277" y="166"/>
                    </a:lnTo>
                    <a:lnTo>
                      <a:pt x="1293" y="157"/>
                    </a:lnTo>
                    <a:lnTo>
                      <a:pt x="1316" y="142"/>
                    </a:lnTo>
                    <a:lnTo>
                      <a:pt x="1356" y="151"/>
                    </a:lnTo>
                    <a:lnTo>
                      <a:pt x="1389" y="146"/>
                    </a:lnTo>
                    <a:lnTo>
                      <a:pt x="1424" y="119"/>
                    </a:lnTo>
                    <a:lnTo>
                      <a:pt x="1474" y="85"/>
                    </a:lnTo>
                    <a:lnTo>
                      <a:pt x="1480" y="63"/>
                    </a:lnTo>
                    <a:lnTo>
                      <a:pt x="1485" y="40"/>
                    </a:lnTo>
                    <a:lnTo>
                      <a:pt x="1514" y="34"/>
                    </a:lnTo>
                    <a:lnTo>
                      <a:pt x="1541" y="40"/>
                    </a:lnTo>
                    <a:lnTo>
                      <a:pt x="1587" y="40"/>
                    </a:lnTo>
                    <a:lnTo>
                      <a:pt x="1604" y="23"/>
                    </a:lnTo>
                    <a:lnTo>
                      <a:pt x="1626" y="0"/>
                    </a:lnTo>
                    <a:lnTo>
                      <a:pt x="1649" y="6"/>
                    </a:lnTo>
                    <a:lnTo>
                      <a:pt x="1660" y="29"/>
                    </a:lnTo>
                    <a:lnTo>
                      <a:pt x="1722" y="40"/>
                    </a:lnTo>
                    <a:lnTo>
                      <a:pt x="1762" y="130"/>
                    </a:lnTo>
                    <a:lnTo>
                      <a:pt x="1885" y="136"/>
                    </a:lnTo>
                    <a:lnTo>
                      <a:pt x="1925" y="183"/>
                    </a:lnTo>
                    <a:lnTo>
                      <a:pt x="1868" y="257"/>
                    </a:lnTo>
                    <a:lnTo>
                      <a:pt x="1897" y="279"/>
                    </a:lnTo>
                    <a:lnTo>
                      <a:pt x="1891" y="330"/>
                    </a:lnTo>
                    <a:lnTo>
                      <a:pt x="1937" y="347"/>
                    </a:lnTo>
                    <a:lnTo>
                      <a:pt x="1914" y="420"/>
                    </a:lnTo>
                    <a:lnTo>
                      <a:pt x="1947" y="420"/>
                    </a:lnTo>
                    <a:lnTo>
                      <a:pt x="1987" y="431"/>
                    </a:lnTo>
                    <a:lnTo>
                      <a:pt x="1981" y="454"/>
                    </a:lnTo>
                    <a:lnTo>
                      <a:pt x="1993" y="489"/>
                    </a:lnTo>
                    <a:lnTo>
                      <a:pt x="2027" y="522"/>
                    </a:lnTo>
                    <a:lnTo>
                      <a:pt x="2004" y="533"/>
                    </a:lnTo>
                    <a:lnTo>
                      <a:pt x="1976" y="539"/>
                    </a:lnTo>
                    <a:lnTo>
                      <a:pt x="1920" y="549"/>
                    </a:lnTo>
                    <a:lnTo>
                      <a:pt x="1897" y="562"/>
                    </a:lnTo>
                    <a:lnTo>
                      <a:pt x="1868" y="539"/>
                    </a:lnTo>
                    <a:lnTo>
                      <a:pt x="1868" y="555"/>
                    </a:lnTo>
                    <a:lnTo>
                      <a:pt x="1852" y="566"/>
                    </a:lnTo>
                    <a:lnTo>
                      <a:pt x="1824" y="572"/>
                    </a:lnTo>
                    <a:lnTo>
                      <a:pt x="1801" y="545"/>
                    </a:lnTo>
                    <a:lnTo>
                      <a:pt x="1768" y="562"/>
                    </a:lnTo>
                    <a:lnTo>
                      <a:pt x="1779" y="584"/>
                    </a:lnTo>
                    <a:lnTo>
                      <a:pt x="1750" y="584"/>
                    </a:lnTo>
                    <a:lnTo>
                      <a:pt x="1706" y="584"/>
                    </a:lnTo>
                    <a:lnTo>
                      <a:pt x="1689" y="606"/>
                    </a:lnTo>
                    <a:lnTo>
                      <a:pt x="1666" y="601"/>
                    </a:lnTo>
                    <a:lnTo>
                      <a:pt x="1643" y="606"/>
                    </a:lnTo>
                    <a:lnTo>
                      <a:pt x="1643" y="622"/>
                    </a:lnTo>
                    <a:lnTo>
                      <a:pt x="1610" y="657"/>
                    </a:lnTo>
                    <a:lnTo>
                      <a:pt x="1564" y="697"/>
                    </a:lnTo>
                    <a:lnTo>
                      <a:pt x="1491" y="701"/>
                    </a:lnTo>
                    <a:lnTo>
                      <a:pt x="1485" y="724"/>
                    </a:lnTo>
                    <a:lnTo>
                      <a:pt x="1480" y="736"/>
                    </a:lnTo>
                    <a:lnTo>
                      <a:pt x="1441" y="736"/>
                    </a:lnTo>
                    <a:lnTo>
                      <a:pt x="1401" y="747"/>
                    </a:lnTo>
                    <a:lnTo>
                      <a:pt x="1366" y="736"/>
                    </a:lnTo>
                    <a:lnTo>
                      <a:pt x="1350" y="724"/>
                    </a:lnTo>
                    <a:lnTo>
                      <a:pt x="1328" y="747"/>
                    </a:lnTo>
                    <a:lnTo>
                      <a:pt x="1277" y="770"/>
                    </a:lnTo>
                    <a:lnTo>
                      <a:pt x="1214" y="770"/>
                    </a:lnTo>
                    <a:lnTo>
                      <a:pt x="1181" y="758"/>
                    </a:lnTo>
                    <a:lnTo>
                      <a:pt x="1153" y="787"/>
                    </a:lnTo>
                    <a:lnTo>
                      <a:pt x="1158" y="832"/>
                    </a:lnTo>
                    <a:lnTo>
                      <a:pt x="1158" y="832"/>
                    </a:lnTo>
                    <a:lnTo>
                      <a:pt x="1124" y="893"/>
                    </a:lnTo>
                    <a:lnTo>
                      <a:pt x="1097" y="905"/>
                    </a:lnTo>
                    <a:lnTo>
                      <a:pt x="1074" y="866"/>
                    </a:lnTo>
                    <a:lnTo>
                      <a:pt x="1062" y="849"/>
                    </a:lnTo>
                    <a:lnTo>
                      <a:pt x="1074" y="820"/>
                    </a:lnTo>
                    <a:lnTo>
                      <a:pt x="1085" y="803"/>
                    </a:lnTo>
                    <a:lnTo>
                      <a:pt x="1074" y="793"/>
                    </a:lnTo>
                    <a:lnTo>
                      <a:pt x="1058" y="793"/>
                    </a:lnTo>
                    <a:lnTo>
                      <a:pt x="1041" y="820"/>
                    </a:lnTo>
                    <a:lnTo>
                      <a:pt x="1006" y="849"/>
                    </a:lnTo>
                    <a:lnTo>
                      <a:pt x="972" y="837"/>
                    </a:lnTo>
                    <a:lnTo>
                      <a:pt x="927" y="832"/>
                    </a:lnTo>
                    <a:lnTo>
                      <a:pt x="877" y="899"/>
                    </a:lnTo>
                    <a:lnTo>
                      <a:pt x="860" y="911"/>
                    </a:lnTo>
                    <a:lnTo>
                      <a:pt x="854" y="928"/>
                    </a:lnTo>
                    <a:lnTo>
                      <a:pt x="781" y="951"/>
                    </a:lnTo>
                    <a:lnTo>
                      <a:pt x="764" y="951"/>
                    </a:lnTo>
                    <a:lnTo>
                      <a:pt x="635" y="911"/>
                    </a:lnTo>
                    <a:lnTo>
                      <a:pt x="595" y="905"/>
                    </a:lnTo>
                    <a:lnTo>
                      <a:pt x="549" y="893"/>
                    </a:lnTo>
                    <a:lnTo>
                      <a:pt x="505" y="889"/>
                    </a:lnTo>
                    <a:lnTo>
                      <a:pt x="493" y="916"/>
                    </a:lnTo>
                    <a:lnTo>
                      <a:pt x="487" y="956"/>
                    </a:lnTo>
                    <a:lnTo>
                      <a:pt x="483" y="968"/>
                    </a:lnTo>
                    <a:lnTo>
                      <a:pt x="448" y="978"/>
                    </a:lnTo>
                    <a:lnTo>
                      <a:pt x="443" y="978"/>
                    </a:lnTo>
                    <a:lnTo>
                      <a:pt x="403" y="1018"/>
                    </a:lnTo>
                    <a:lnTo>
                      <a:pt x="381" y="1018"/>
                    </a:lnTo>
                    <a:lnTo>
                      <a:pt x="370" y="989"/>
                    </a:lnTo>
                    <a:lnTo>
                      <a:pt x="353" y="984"/>
                    </a:lnTo>
                    <a:lnTo>
                      <a:pt x="333" y="968"/>
                    </a:lnTo>
                    <a:lnTo>
                      <a:pt x="327" y="945"/>
                    </a:lnTo>
                    <a:lnTo>
                      <a:pt x="282" y="939"/>
                    </a:lnTo>
                    <a:lnTo>
                      <a:pt x="259" y="928"/>
                    </a:lnTo>
                    <a:lnTo>
                      <a:pt x="254" y="916"/>
                    </a:lnTo>
                    <a:lnTo>
                      <a:pt x="225" y="916"/>
                    </a:lnTo>
                    <a:lnTo>
                      <a:pt x="203" y="893"/>
                    </a:lnTo>
                    <a:lnTo>
                      <a:pt x="198" y="883"/>
                    </a:lnTo>
                    <a:lnTo>
                      <a:pt x="175" y="893"/>
                    </a:lnTo>
                    <a:lnTo>
                      <a:pt x="152" y="889"/>
                    </a:lnTo>
                    <a:lnTo>
                      <a:pt x="142" y="883"/>
                    </a:lnTo>
                    <a:lnTo>
                      <a:pt x="146" y="860"/>
                    </a:lnTo>
                    <a:lnTo>
                      <a:pt x="113" y="837"/>
                    </a:lnTo>
                    <a:lnTo>
                      <a:pt x="119" y="820"/>
                    </a:lnTo>
                    <a:lnTo>
                      <a:pt x="130" y="809"/>
                    </a:lnTo>
                    <a:lnTo>
                      <a:pt x="96" y="787"/>
                    </a:lnTo>
                    <a:lnTo>
                      <a:pt x="11" y="753"/>
                    </a:lnTo>
                    <a:lnTo>
                      <a:pt x="23" y="720"/>
                    </a:lnTo>
                    <a:lnTo>
                      <a:pt x="51" y="720"/>
                    </a:lnTo>
                    <a:lnTo>
                      <a:pt x="63" y="741"/>
                    </a:lnTo>
                    <a:lnTo>
                      <a:pt x="57" y="708"/>
                    </a:lnTo>
                    <a:lnTo>
                      <a:pt x="73" y="680"/>
                    </a:lnTo>
                    <a:lnTo>
                      <a:pt x="85" y="651"/>
                    </a:lnTo>
                    <a:lnTo>
                      <a:pt x="57" y="628"/>
                    </a:lnTo>
                    <a:lnTo>
                      <a:pt x="34" y="606"/>
                    </a:lnTo>
                    <a:lnTo>
                      <a:pt x="34" y="584"/>
                    </a:lnTo>
                    <a:lnTo>
                      <a:pt x="11" y="584"/>
                    </a:lnTo>
                    <a:lnTo>
                      <a:pt x="0" y="578"/>
                    </a:lnTo>
                    <a:lnTo>
                      <a:pt x="6" y="527"/>
                    </a:lnTo>
                    <a:lnTo>
                      <a:pt x="46" y="454"/>
                    </a:lnTo>
                    <a:lnTo>
                      <a:pt x="51" y="454"/>
                    </a:lnTo>
                    <a:lnTo>
                      <a:pt x="85" y="454"/>
                    </a:lnTo>
                    <a:lnTo>
                      <a:pt x="113" y="466"/>
                    </a:lnTo>
                    <a:lnTo>
                      <a:pt x="130" y="466"/>
                    </a:lnTo>
                    <a:lnTo>
                      <a:pt x="130" y="443"/>
                    </a:lnTo>
                    <a:lnTo>
                      <a:pt x="163" y="437"/>
                    </a:lnTo>
                    <a:lnTo>
                      <a:pt x="225" y="437"/>
                    </a:lnTo>
                    <a:lnTo>
                      <a:pt x="271" y="431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973120" y="2896200"/>
              <a:ext cx="902520" cy="1433520"/>
              <a:chOff x="5973120" y="2896200"/>
              <a:chExt cx="902520" cy="1433520"/>
            </a:xfrm>
          </p:grpSpPr>
          <p:sp>
            <p:nvSpPr>
              <p:cNvPr id="603" name=""/>
              <p:cNvSpPr/>
              <p:nvPr/>
            </p:nvSpPr>
            <p:spPr>
              <a:xfrm rot="20780400">
                <a:off x="6490080" y="4092480"/>
                <a:ext cx="40320" cy="102960"/>
              </a:xfrm>
              <a:custGeom>
                <a:avLst/>
                <a:gdLst/>
                <a:ahLst/>
                <a:rect l="l" t="t" r="r" b="b"/>
                <a:pathLst>
                  <a:path w="56" h="140">
                    <a:moveTo>
                      <a:pt x="56" y="0"/>
                    </a:moveTo>
                    <a:lnTo>
                      <a:pt x="53" y="48"/>
                    </a:lnTo>
                    <a:lnTo>
                      <a:pt x="36" y="84"/>
                    </a:lnTo>
                    <a:lnTo>
                      <a:pt x="10" y="107"/>
                    </a:lnTo>
                    <a:lnTo>
                      <a:pt x="16" y="131"/>
                    </a:lnTo>
                    <a:lnTo>
                      <a:pt x="6" y="140"/>
                    </a:lnTo>
                    <a:lnTo>
                      <a:pt x="0" y="110"/>
                    </a:lnTo>
                    <a:lnTo>
                      <a:pt x="9" y="87"/>
                    </a:lnTo>
                    <a:lnTo>
                      <a:pt x="16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20780400">
                <a:off x="6564240" y="4023000"/>
                <a:ext cx="54720" cy="80640"/>
              </a:xfrm>
              <a:custGeom>
                <a:avLst/>
                <a:gdLst/>
                <a:ahLst/>
                <a:rect l="l" t="t" r="r" b="b"/>
                <a:pathLst>
                  <a:path w="76" h="111">
                    <a:moveTo>
                      <a:pt x="60" y="0"/>
                    </a:moveTo>
                    <a:lnTo>
                      <a:pt x="76" y="0"/>
                    </a:lnTo>
                    <a:lnTo>
                      <a:pt x="57" y="23"/>
                    </a:lnTo>
                    <a:lnTo>
                      <a:pt x="54" y="39"/>
                    </a:lnTo>
                    <a:lnTo>
                      <a:pt x="60" y="62"/>
                    </a:lnTo>
                    <a:lnTo>
                      <a:pt x="40" y="85"/>
                    </a:lnTo>
                    <a:lnTo>
                      <a:pt x="14" y="111"/>
                    </a:lnTo>
                    <a:lnTo>
                      <a:pt x="10" y="85"/>
                    </a:lnTo>
                    <a:lnTo>
                      <a:pt x="0" y="74"/>
                    </a:lnTo>
                    <a:lnTo>
                      <a:pt x="0" y="55"/>
                    </a:lnTo>
                    <a:lnTo>
                      <a:pt x="23" y="3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5973120" y="2896200"/>
                <a:ext cx="902520" cy="1433520"/>
                <a:chOff x="5973120" y="2896200"/>
                <a:chExt cx="902520" cy="1433520"/>
              </a:xfrm>
            </p:grpSpPr>
            <p:sp>
              <p:nvSpPr>
                <p:cNvPr id="606" name=""/>
                <p:cNvSpPr/>
                <p:nvPr/>
              </p:nvSpPr>
              <p:spPr>
                <a:xfrm rot="20780400">
                  <a:off x="6121080" y="2948760"/>
                  <a:ext cx="605880" cy="1328040"/>
                </a:xfrm>
                <a:custGeom>
                  <a:avLst/>
                  <a:gdLst/>
                  <a:ahLst/>
                  <a:rect l="l" t="t" r="r" b="b"/>
                  <a:pathLst>
                    <a:path w="842" h="1802">
                      <a:moveTo>
                        <a:pt x="634" y="0"/>
                      </a:moveTo>
                      <a:lnTo>
                        <a:pt x="644" y="4"/>
                      </a:lnTo>
                      <a:lnTo>
                        <a:pt x="661" y="32"/>
                      </a:lnTo>
                      <a:lnTo>
                        <a:pt x="736" y="105"/>
                      </a:lnTo>
                      <a:lnTo>
                        <a:pt x="746" y="88"/>
                      </a:lnTo>
                      <a:lnTo>
                        <a:pt x="775" y="111"/>
                      </a:lnTo>
                      <a:lnTo>
                        <a:pt x="786" y="133"/>
                      </a:lnTo>
                      <a:lnTo>
                        <a:pt x="786" y="150"/>
                      </a:lnTo>
                      <a:lnTo>
                        <a:pt x="786" y="179"/>
                      </a:lnTo>
                      <a:lnTo>
                        <a:pt x="775" y="196"/>
                      </a:lnTo>
                      <a:lnTo>
                        <a:pt x="797" y="219"/>
                      </a:lnTo>
                      <a:lnTo>
                        <a:pt x="813" y="240"/>
                      </a:lnTo>
                      <a:lnTo>
                        <a:pt x="813" y="258"/>
                      </a:lnTo>
                      <a:lnTo>
                        <a:pt x="813" y="286"/>
                      </a:lnTo>
                      <a:lnTo>
                        <a:pt x="809" y="319"/>
                      </a:lnTo>
                      <a:lnTo>
                        <a:pt x="797" y="331"/>
                      </a:lnTo>
                      <a:lnTo>
                        <a:pt x="813" y="348"/>
                      </a:lnTo>
                      <a:lnTo>
                        <a:pt x="832" y="375"/>
                      </a:lnTo>
                      <a:lnTo>
                        <a:pt x="842" y="404"/>
                      </a:lnTo>
                      <a:lnTo>
                        <a:pt x="842" y="415"/>
                      </a:lnTo>
                      <a:lnTo>
                        <a:pt x="826" y="421"/>
                      </a:lnTo>
                      <a:lnTo>
                        <a:pt x="752" y="421"/>
                      </a:lnTo>
                      <a:lnTo>
                        <a:pt x="736" y="421"/>
                      </a:lnTo>
                      <a:lnTo>
                        <a:pt x="724" y="432"/>
                      </a:lnTo>
                      <a:lnTo>
                        <a:pt x="724" y="454"/>
                      </a:lnTo>
                      <a:lnTo>
                        <a:pt x="713" y="471"/>
                      </a:lnTo>
                      <a:lnTo>
                        <a:pt x="679" y="500"/>
                      </a:lnTo>
                      <a:lnTo>
                        <a:pt x="684" y="523"/>
                      </a:lnTo>
                      <a:lnTo>
                        <a:pt x="679" y="540"/>
                      </a:lnTo>
                      <a:lnTo>
                        <a:pt x="667" y="550"/>
                      </a:lnTo>
                      <a:lnTo>
                        <a:pt x="679" y="585"/>
                      </a:lnTo>
                      <a:lnTo>
                        <a:pt x="684" y="607"/>
                      </a:lnTo>
                      <a:lnTo>
                        <a:pt x="673" y="623"/>
                      </a:lnTo>
                      <a:lnTo>
                        <a:pt x="651" y="642"/>
                      </a:lnTo>
                      <a:lnTo>
                        <a:pt x="644" y="663"/>
                      </a:lnTo>
                      <a:lnTo>
                        <a:pt x="640" y="692"/>
                      </a:lnTo>
                      <a:lnTo>
                        <a:pt x="600" y="708"/>
                      </a:lnTo>
                      <a:lnTo>
                        <a:pt x="578" y="725"/>
                      </a:lnTo>
                      <a:lnTo>
                        <a:pt x="544" y="748"/>
                      </a:lnTo>
                      <a:lnTo>
                        <a:pt x="549" y="765"/>
                      </a:lnTo>
                      <a:lnTo>
                        <a:pt x="521" y="771"/>
                      </a:lnTo>
                      <a:lnTo>
                        <a:pt x="509" y="781"/>
                      </a:lnTo>
                      <a:lnTo>
                        <a:pt x="482" y="821"/>
                      </a:lnTo>
                      <a:lnTo>
                        <a:pt x="459" y="838"/>
                      </a:lnTo>
                      <a:lnTo>
                        <a:pt x="465" y="867"/>
                      </a:lnTo>
                      <a:lnTo>
                        <a:pt x="451" y="874"/>
                      </a:lnTo>
                      <a:lnTo>
                        <a:pt x="439" y="886"/>
                      </a:lnTo>
                      <a:lnTo>
                        <a:pt x="451" y="931"/>
                      </a:lnTo>
                      <a:lnTo>
                        <a:pt x="445" y="959"/>
                      </a:lnTo>
                      <a:lnTo>
                        <a:pt x="416" y="976"/>
                      </a:lnTo>
                      <a:lnTo>
                        <a:pt x="412" y="1022"/>
                      </a:lnTo>
                      <a:lnTo>
                        <a:pt x="416" y="1078"/>
                      </a:lnTo>
                      <a:lnTo>
                        <a:pt x="428" y="1106"/>
                      </a:lnTo>
                      <a:lnTo>
                        <a:pt x="470" y="1140"/>
                      </a:lnTo>
                      <a:lnTo>
                        <a:pt x="486" y="1174"/>
                      </a:lnTo>
                      <a:lnTo>
                        <a:pt x="505" y="1207"/>
                      </a:lnTo>
                      <a:lnTo>
                        <a:pt x="515" y="1230"/>
                      </a:lnTo>
                      <a:lnTo>
                        <a:pt x="505" y="1253"/>
                      </a:lnTo>
                      <a:lnTo>
                        <a:pt x="482" y="1270"/>
                      </a:lnTo>
                      <a:lnTo>
                        <a:pt x="465" y="1264"/>
                      </a:lnTo>
                      <a:lnTo>
                        <a:pt x="451" y="1247"/>
                      </a:lnTo>
                      <a:lnTo>
                        <a:pt x="428" y="1253"/>
                      </a:lnTo>
                      <a:lnTo>
                        <a:pt x="422" y="1270"/>
                      </a:lnTo>
                      <a:lnTo>
                        <a:pt x="389" y="1270"/>
                      </a:lnTo>
                      <a:lnTo>
                        <a:pt x="337" y="1264"/>
                      </a:lnTo>
                      <a:lnTo>
                        <a:pt x="327" y="1276"/>
                      </a:lnTo>
                      <a:lnTo>
                        <a:pt x="360" y="1293"/>
                      </a:lnTo>
                      <a:lnTo>
                        <a:pt x="406" y="1276"/>
                      </a:lnTo>
                      <a:lnTo>
                        <a:pt x="416" y="1297"/>
                      </a:lnTo>
                      <a:lnTo>
                        <a:pt x="451" y="1303"/>
                      </a:lnTo>
                      <a:lnTo>
                        <a:pt x="476" y="1314"/>
                      </a:lnTo>
                      <a:lnTo>
                        <a:pt x="465" y="1326"/>
                      </a:lnTo>
                      <a:lnTo>
                        <a:pt x="433" y="1320"/>
                      </a:lnTo>
                      <a:lnTo>
                        <a:pt x="428" y="1332"/>
                      </a:lnTo>
                      <a:lnTo>
                        <a:pt x="433" y="1349"/>
                      </a:lnTo>
                      <a:lnTo>
                        <a:pt x="416" y="1372"/>
                      </a:lnTo>
                      <a:lnTo>
                        <a:pt x="389" y="1393"/>
                      </a:lnTo>
                      <a:lnTo>
                        <a:pt x="377" y="1399"/>
                      </a:lnTo>
                      <a:lnTo>
                        <a:pt x="366" y="1405"/>
                      </a:lnTo>
                      <a:lnTo>
                        <a:pt x="372" y="1433"/>
                      </a:lnTo>
                      <a:lnTo>
                        <a:pt x="360" y="1449"/>
                      </a:lnTo>
                      <a:lnTo>
                        <a:pt x="343" y="1484"/>
                      </a:lnTo>
                      <a:lnTo>
                        <a:pt x="349" y="1518"/>
                      </a:lnTo>
                      <a:lnTo>
                        <a:pt x="337" y="1568"/>
                      </a:lnTo>
                      <a:lnTo>
                        <a:pt x="327" y="1591"/>
                      </a:lnTo>
                      <a:lnTo>
                        <a:pt x="327" y="1624"/>
                      </a:lnTo>
                      <a:lnTo>
                        <a:pt x="310" y="1647"/>
                      </a:lnTo>
                      <a:lnTo>
                        <a:pt x="287" y="1687"/>
                      </a:lnTo>
                      <a:lnTo>
                        <a:pt x="281" y="1716"/>
                      </a:lnTo>
                      <a:lnTo>
                        <a:pt x="241" y="1709"/>
                      </a:lnTo>
                      <a:lnTo>
                        <a:pt x="202" y="1709"/>
                      </a:lnTo>
                      <a:lnTo>
                        <a:pt x="197" y="1726"/>
                      </a:lnTo>
                      <a:lnTo>
                        <a:pt x="174" y="1732"/>
                      </a:lnTo>
                      <a:lnTo>
                        <a:pt x="162" y="1738"/>
                      </a:lnTo>
                      <a:lnTo>
                        <a:pt x="168" y="1757"/>
                      </a:lnTo>
                      <a:lnTo>
                        <a:pt x="162" y="1785"/>
                      </a:lnTo>
                      <a:lnTo>
                        <a:pt x="135" y="1802"/>
                      </a:lnTo>
                      <a:lnTo>
                        <a:pt x="118" y="1785"/>
                      </a:lnTo>
                      <a:lnTo>
                        <a:pt x="95" y="1802"/>
                      </a:lnTo>
                      <a:lnTo>
                        <a:pt x="66" y="1802"/>
                      </a:lnTo>
                      <a:lnTo>
                        <a:pt x="56" y="1785"/>
                      </a:lnTo>
                      <a:lnTo>
                        <a:pt x="66" y="1773"/>
                      </a:lnTo>
                      <a:lnTo>
                        <a:pt x="73" y="1743"/>
                      </a:lnTo>
                      <a:lnTo>
                        <a:pt x="50" y="1699"/>
                      </a:lnTo>
                      <a:lnTo>
                        <a:pt x="39" y="1676"/>
                      </a:lnTo>
                      <a:lnTo>
                        <a:pt x="45" y="1664"/>
                      </a:lnTo>
                      <a:lnTo>
                        <a:pt x="56" y="1664"/>
                      </a:lnTo>
                      <a:lnTo>
                        <a:pt x="62" y="1653"/>
                      </a:lnTo>
                      <a:lnTo>
                        <a:pt x="66" y="1641"/>
                      </a:lnTo>
                      <a:lnTo>
                        <a:pt x="73" y="1630"/>
                      </a:lnTo>
                      <a:lnTo>
                        <a:pt x="66" y="1620"/>
                      </a:lnTo>
                      <a:lnTo>
                        <a:pt x="56" y="1597"/>
                      </a:lnTo>
                      <a:lnTo>
                        <a:pt x="33" y="1563"/>
                      </a:lnTo>
                      <a:lnTo>
                        <a:pt x="39" y="1528"/>
                      </a:lnTo>
                      <a:lnTo>
                        <a:pt x="22" y="1501"/>
                      </a:lnTo>
                      <a:lnTo>
                        <a:pt x="6" y="1484"/>
                      </a:lnTo>
                      <a:lnTo>
                        <a:pt x="16" y="1455"/>
                      </a:lnTo>
                      <a:lnTo>
                        <a:pt x="28" y="1399"/>
                      </a:lnTo>
                      <a:lnTo>
                        <a:pt x="6" y="1372"/>
                      </a:lnTo>
                      <a:lnTo>
                        <a:pt x="0" y="1343"/>
                      </a:lnTo>
                      <a:lnTo>
                        <a:pt x="0" y="1326"/>
                      </a:lnTo>
                      <a:lnTo>
                        <a:pt x="10" y="1293"/>
                      </a:lnTo>
                      <a:lnTo>
                        <a:pt x="28" y="1297"/>
                      </a:lnTo>
                      <a:lnTo>
                        <a:pt x="45" y="1253"/>
                      </a:lnTo>
                      <a:lnTo>
                        <a:pt x="45" y="1201"/>
                      </a:lnTo>
                      <a:lnTo>
                        <a:pt x="50" y="1185"/>
                      </a:lnTo>
                      <a:lnTo>
                        <a:pt x="73" y="1168"/>
                      </a:lnTo>
                      <a:lnTo>
                        <a:pt x="106" y="1145"/>
                      </a:lnTo>
                      <a:lnTo>
                        <a:pt x="106" y="1118"/>
                      </a:lnTo>
                      <a:lnTo>
                        <a:pt x="101" y="1032"/>
                      </a:lnTo>
                      <a:lnTo>
                        <a:pt x="89" y="1022"/>
                      </a:lnTo>
                      <a:lnTo>
                        <a:pt x="89" y="999"/>
                      </a:lnTo>
                      <a:lnTo>
                        <a:pt x="118" y="987"/>
                      </a:lnTo>
                      <a:lnTo>
                        <a:pt x="129" y="976"/>
                      </a:lnTo>
                      <a:lnTo>
                        <a:pt x="112" y="943"/>
                      </a:lnTo>
                      <a:lnTo>
                        <a:pt x="89" y="909"/>
                      </a:lnTo>
                      <a:lnTo>
                        <a:pt x="95" y="871"/>
                      </a:lnTo>
                      <a:lnTo>
                        <a:pt x="101" y="844"/>
                      </a:lnTo>
                      <a:lnTo>
                        <a:pt x="124" y="794"/>
                      </a:lnTo>
                      <a:lnTo>
                        <a:pt x="124" y="771"/>
                      </a:lnTo>
                      <a:lnTo>
                        <a:pt x="124" y="725"/>
                      </a:lnTo>
                      <a:lnTo>
                        <a:pt x="141" y="686"/>
                      </a:lnTo>
                      <a:lnTo>
                        <a:pt x="168" y="663"/>
                      </a:lnTo>
                      <a:lnTo>
                        <a:pt x="197" y="646"/>
                      </a:lnTo>
                      <a:lnTo>
                        <a:pt x="225" y="652"/>
                      </a:lnTo>
                      <a:lnTo>
                        <a:pt x="254" y="663"/>
                      </a:lnTo>
                      <a:lnTo>
                        <a:pt x="264" y="623"/>
                      </a:lnTo>
                      <a:lnTo>
                        <a:pt x="254" y="590"/>
                      </a:lnTo>
                      <a:lnTo>
                        <a:pt x="241" y="567"/>
                      </a:lnTo>
                      <a:lnTo>
                        <a:pt x="237" y="550"/>
                      </a:lnTo>
                      <a:lnTo>
                        <a:pt x="241" y="534"/>
                      </a:lnTo>
                      <a:lnTo>
                        <a:pt x="260" y="527"/>
                      </a:lnTo>
                      <a:lnTo>
                        <a:pt x="264" y="489"/>
                      </a:lnTo>
                      <a:lnTo>
                        <a:pt x="276" y="454"/>
                      </a:lnTo>
                      <a:lnTo>
                        <a:pt x="281" y="427"/>
                      </a:lnTo>
                      <a:lnTo>
                        <a:pt x="281" y="398"/>
                      </a:lnTo>
                      <a:lnTo>
                        <a:pt x="298" y="371"/>
                      </a:lnTo>
                      <a:lnTo>
                        <a:pt x="333" y="348"/>
                      </a:lnTo>
                      <a:lnTo>
                        <a:pt x="355" y="342"/>
                      </a:lnTo>
                      <a:lnTo>
                        <a:pt x="355" y="314"/>
                      </a:lnTo>
                      <a:lnTo>
                        <a:pt x="366" y="296"/>
                      </a:lnTo>
                      <a:lnTo>
                        <a:pt x="389" y="269"/>
                      </a:lnTo>
                      <a:lnTo>
                        <a:pt x="412" y="252"/>
                      </a:lnTo>
                      <a:lnTo>
                        <a:pt x="400" y="203"/>
                      </a:lnTo>
                      <a:lnTo>
                        <a:pt x="442" y="156"/>
                      </a:lnTo>
                      <a:lnTo>
                        <a:pt x="451" y="136"/>
                      </a:lnTo>
                      <a:lnTo>
                        <a:pt x="482" y="130"/>
                      </a:lnTo>
                      <a:lnTo>
                        <a:pt x="501" y="105"/>
                      </a:lnTo>
                      <a:lnTo>
                        <a:pt x="501" y="88"/>
                      </a:lnTo>
                      <a:lnTo>
                        <a:pt x="521" y="68"/>
                      </a:lnTo>
                      <a:lnTo>
                        <a:pt x="558" y="63"/>
                      </a:lnTo>
                      <a:lnTo>
                        <a:pt x="600" y="63"/>
                      </a:lnTo>
                      <a:lnTo>
                        <a:pt x="634" y="32"/>
                      </a:lnTo>
                      <a:lnTo>
                        <a:pt x="628" y="0"/>
                      </a:lnTo>
                      <a:lnTo>
                        <a:pt x="634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20780400">
                  <a:off x="6121080" y="2948760"/>
                  <a:ext cx="605880" cy="1328040"/>
                </a:xfrm>
                <a:custGeom>
                  <a:avLst/>
                  <a:gdLst/>
                  <a:ahLst/>
                  <a:rect l="l" t="t" r="r" b="b"/>
                  <a:pathLst>
                    <a:path w="842" h="1802">
                      <a:moveTo>
                        <a:pt x="634" y="0"/>
                      </a:moveTo>
                      <a:lnTo>
                        <a:pt x="644" y="4"/>
                      </a:lnTo>
                      <a:lnTo>
                        <a:pt x="661" y="32"/>
                      </a:lnTo>
                      <a:lnTo>
                        <a:pt x="736" y="105"/>
                      </a:lnTo>
                      <a:lnTo>
                        <a:pt x="746" y="88"/>
                      </a:lnTo>
                      <a:lnTo>
                        <a:pt x="775" y="111"/>
                      </a:lnTo>
                      <a:lnTo>
                        <a:pt x="786" y="133"/>
                      </a:lnTo>
                      <a:lnTo>
                        <a:pt x="786" y="150"/>
                      </a:lnTo>
                      <a:lnTo>
                        <a:pt x="786" y="179"/>
                      </a:lnTo>
                      <a:lnTo>
                        <a:pt x="775" y="196"/>
                      </a:lnTo>
                      <a:lnTo>
                        <a:pt x="797" y="219"/>
                      </a:lnTo>
                      <a:lnTo>
                        <a:pt x="813" y="240"/>
                      </a:lnTo>
                      <a:lnTo>
                        <a:pt x="813" y="258"/>
                      </a:lnTo>
                      <a:lnTo>
                        <a:pt x="813" y="286"/>
                      </a:lnTo>
                      <a:lnTo>
                        <a:pt x="809" y="319"/>
                      </a:lnTo>
                      <a:lnTo>
                        <a:pt x="797" y="331"/>
                      </a:lnTo>
                      <a:lnTo>
                        <a:pt x="813" y="348"/>
                      </a:lnTo>
                      <a:lnTo>
                        <a:pt x="832" y="375"/>
                      </a:lnTo>
                      <a:lnTo>
                        <a:pt x="842" y="404"/>
                      </a:lnTo>
                      <a:lnTo>
                        <a:pt x="842" y="415"/>
                      </a:lnTo>
                      <a:lnTo>
                        <a:pt x="826" y="421"/>
                      </a:lnTo>
                      <a:lnTo>
                        <a:pt x="752" y="421"/>
                      </a:lnTo>
                      <a:lnTo>
                        <a:pt x="736" y="421"/>
                      </a:lnTo>
                      <a:lnTo>
                        <a:pt x="724" y="432"/>
                      </a:lnTo>
                      <a:lnTo>
                        <a:pt x="724" y="454"/>
                      </a:lnTo>
                      <a:lnTo>
                        <a:pt x="713" y="471"/>
                      </a:lnTo>
                      <a:lnTo>
                        <a:pt x="679" y="500"/>
                      </a:lnTo>
                      <a:lnTo>
                        <a:pt x="684" y="523"/>
                      </a:lnTo>
                      <a:lnTo>
                        <a:pt x="679" y="540"/>
                      </a:lnTo>
                      <a:lnTo>
                        <a:pt x="667" y="550"/>
                      </a:lnTo>
                      <a:lnTo>
                        <a:pt x="679" y="585"/>
                      </a:lnTo>
                      <a:lnTo>
                        <a:pt x="684" y="607"/>
                      </a:lnTo>
                      <a:lnTo>
                        <a:pt x="673" y="623"/>
                      </a:lnTo>
                      <a:lnTo>
                        <a:pt x="651" y="642"/>
                      </a:lnTo>
                      <a:lnTo>
                        <a:pt x="644" y="663"/>
                      </a:lnTo>
                      <a:lnTo>
                        <a:pt x="640" y="692"/>
                      </a:lnTo>
                      <a:lnTo>
                        <a:pt x="600" y="708"/>
                      </a:lnTo>
                      <a:lnTo>
                        <a:pt x="578" y="725"/>
                      </a:lnTo>
                      <a:lnTo>
                        <a:pt x="544" y="748"/>
                      </a:lnTo>
                      <a:lnTo>
                        <a:pt x="549" y="765"/>
                      </a:lnTo>
                      <a:lnTo>
                        <a:pt x="521" y="771"/>
                      </a:lnTo>
                      <a:lnTo>
                        <a:pt x="509" y="781"/>
                      </a:lnTo>
                      <a:lnTo>
                        <a:pt x="482" y="821"/>
                      </a:lnTo>
                      <a:lnTo>
                        <a:pt x="459" y="838"/>
                      </a:lnTo>
                      <a:lnTo>
                        <a:pt x="465" y="867"/>
                      </a:lnTo>
                      <a:lnTo>
                        <a:pt x="451" y="874"/>
                      </a:lnTo>
                      <a:lnTo>
                        <a:pt x="439" y="886"/>
                      </a:lnTo>
                      <a:lnTo>
                        <a:pt x="451" y="931"/>
                      </a:lnTo>
                      <a:lnTo>
                        <a:pt x="445" y="959"/>
                      </a:lnTo>
                      <a:lnTo>
                        <a:pt x="416" y="976"/>
                      </a:lnTo>
                      <a:lnTo>
                        <a:pt x="412" y="1022"/>
                      </a:lnTo>
                      <a:lnTo>
                        <a:pt x="416" y="1078"/>
                      </a:lnTo>
                      <a:lnTo>
                        <a:pt x="428" y="1106"/>
                      </a:lnTo>
                      <a:lnTo>
                        <a:pt x="470" y="1140"/>
                      </a:lnTo>
                      <a:lnTo>
                        <a:pt x="486" y="1174"/>
                      </a:lnTo>
                      <a:lnTo>
                        <a:pt x="505" y="1207"/>
                      </a:lnTo>
                      <a:lnTo>
                        <a:pt x="515" y="1230"/>
                      </a:lnTo>
                      <a:lnTo>
                        <a:pt x="505" y="1253"/>
                      </a:lnTo>
                      <a:lnTo>
                        <a:pt x="482" y="1270"/>
                      </a:lnTo>
                      <a:lnTo>
                        <a:pt x="465" y="1264"/>
                      </a:lnTo>
                      <a:lnTo>
                        <a:pt x="451" y="1247"/>
                      </a:lnTo>
                      <a:lnTo>
                        <a:pt x="428" y="1253"/>
                      </a:lnTo>
                      <a:lnTo>
                        <a:pt x="422" y="1270"/>
                      </a:lnTo>
                      <a:lnTo>
                        <a:pt x="389" y="1270"/>
                      </a:lnTo>
                      <a:lnTo>
                        <a:pt x="337" y="1264"/>
                      </a:lnTo>
                      <a:lnTo>
                        <a:pt x="327" y="1276"/>
                      </a:lnTo>
                      <a:lnTo>
                        <a:pt x="360" y="1293"/>
                      </a:lnTo>
                      <a:lnTo>
                        <a:pt x="406" y="1276"/>
                      </a:lnTo>
                      <a:lnTo>
                        <a:pt x="416" y="1297"/>
                      </a:lnTo>
                      <a:lnTo>
                        <a:pt x="451" y="1303"/>
                      </a:lnTo>
                      <a:lnTo>
                        <a:pt x="476" y="1314"/>
                      </a:lnTo>
                      <a:lnTo>
                        <a:pt x="465" y="1326"/>
                      </a:lnTo>
                      <a:lnTo>
                        <a:pt x="433" y="1320"/>
                      </a:lnTo>
                      <a:lnTo>
                        <a:pt x="428" y="1332"/>
                      </a:lnTo>
                      <a:lnTo>
                        <a:pt x="433" y="1349"/>
                      </a:lnTo>
                      <a:lnTo>
                        <a:pt x="416" y="1372"/>
                      </a:lnTo>
                      <a:lnTo>
                        <a:pt x="389" y="1393"/>
                      </a:lnTo>
                      <a:lnTo>
                        <a:pt x="377" y="1399"/>
                      </a:lnTo>
                      <a:lnTo>
                        <a:pt x="366" y="1405"/>
                      </a:lnTo>
                      <a:lnTo>
                        <a:pt x="372" y="1433"/>
                      </a:lnTo>
                      <a:lnTo>
                        <a:pt x="360" y="1449"/>
                      </a:lnTo>
                      <a:lnTo>
                        <a:pt x="343" y="1484"/>
                      </a:lnTo>
                      <a:lnTo>
                        <a:pt x="349" y="1518"/>
                      </a:lnTo>
                      <a:lnTo>
                        <a:pt x="337" y="1568"/>
                      </a:lnTo>
                      <a:lnTo>
                        <a:pt x="327" y="1591"/>
                      </a:lnTo>
                      <a:lnTo>
                        <a:pt x="327" y="1624"/>
                      </a:lnTo>
                      <a:lnTo>
                        <a:pt x="310" y="1647"/>
                      </a:lnTo>
                      <a:lnTo>
                        <a:pt x="287" y="1687"/>
                      </a:lnTo>
                      <a:lnTo>
                        <a:pt x="281" y="1716"/>
                      </a:lnTo>
                      <a:lnTo>
                        <a:pt x="241" y="1709"/>
                      </a:lnTo>
                      <a:lnTo>
                        <a:pt x="202" y="1709"/>
                      </a:lnTo>
                      <a:lnTo>
                        <a:pt x="197" y="1726"/>
                      </a:lnTo>
                      <a:lnTo>
                        <a:pt x="174" y="1732"/>
                      </a:lnTo>
                      <a:lnTo>
                        <a:pt x="162" y="1738"/>
                      </a:lnTo>
                      <a:lnTo>
                        <a:pt x="168" y="1757"/>
                      </a:lnTo>
                      <a:lnTo>
                        <a:pt x="162" y="1785"/>
                      </a:lnTo>
                      <a:lnTo>
                        <a:pt x="135" y="1802"/>
                      </a:lnTo>
                      <a:lnTo>
                        <a:pt x="118" y="1785"/>
                      </a:lnTo>
                      <a:lnTo>
                        <a:pt x="95" y="1802"/>
                      </a:lnTo>
                      <a:lnTo>
                        <a:pt x="66" y="1802"/>
                      </a:lnTo>
                      <a:lnTo>
                        <a:pt x="56" y="1785"/>
                      </a:lnTo>
                      <a:lnTo>
                        <a:pt x="66" y="1773"/>
                      </a:lnTo>
                      <a:lnTo>
                        <a:pt x="73" y="1743"/>
                      </a:lnTo>
                      <a:lnTo>
                        <a:pt x="50" y="1699"/>
                      </a:lnTo>
                      <a:lnTo>
                        <a:pt x="39" y="1676"/>
                      </a:lnTo>
                      <a:lnTo>
                        <a:pt x="45" y="1664"/>
                      </a:lnTo>
                      <a:lnTo>
                        <a:pt x="56" y="1664"/>
                      </a:lnTo>
                      <a:lnTo>
                        <a:pt x="62" y="1653"/>
                      </a:lnTo>
                      <a:lnTo>
                        <a:pt x="66" y="1641"/>
                      </a:lnTo>
                      <a:lnTo>
                        <a:pt x="73" y="1630"/>
                      </a:lnTo>
                      <a:lnTo>
                        <a:pt x="66" y="1620"/>
                      </a:lnTo>
                      <a:lnTo>
                        <a:pt x="56" y="1597"/>
                      </a:lnTo>
                      <a:lnTo>
                        <a:pt x="33" y="1563"/>
                      </a:lnTo>
                      <a:lnTo>
                        <a:pt x="39" y="1528"/>
                      </a:lnTo>
                      <a:lnTo>
                        <a:pt x="22" y="1501"/>
                      </a:lnTo>
                      <a:lnTo>
                        <a:pt x="6" y="1484"/>
                      </a:lnTo>
                      <a:lnTo>
                        <a:pt x="16" y="1455"/>
                      </a:lnTo>
                      <a:lnTo>
                        <a:pt x="28" y="1399"/>
                      </a:lnTo>
                      <a:lnTo>
                        <a:pt x="6" y="1372"/>
                      </a:lnTo>
                      <a:lnTo>
                        <a:pt x="0" y="1343"/>
                      </a:lnTo>
                      <a:lnTo>
                        <a:pt x="0" y="1326"/>
                      </a:lnTo>
                      <a:lnTo>
                        <a:pt x="10" y="1293"/>
                      </a:lnTo>
                      <a:lnTo>
                        <a:pt x="28" y="1297"/>
                      </a:lnTo>
                      <a:lnTo>
                        <a:pt x="45" y="1253"/>
                      </a:lnTo>
                      <a:lnTo>
                        <a:pt x="45" y="1201"/>
                      </a:lnTo>
                      <a:lnTo>
                        <a:pt x="50" y="1185"/>
                      </a:lnTo>
                      <a:lnTo>
                        <a:pt x="73" y="1168"/>
                      </a:lnTo>
                      <a:lnTo>
                        <a:pt x="106" y="1145"/>
                      </a:lnTo>
                      <a:lnTo>
                        <a:pt x="106" y="1118"/>
                      </a:lnTo>
                      <a:lnTo>
                        <a:pt x="101" y="1032"/>
                      </a:lnTo>
                      <a:lnTo>
                        <a:pt x="89" y="1022"/>
                      </a:lnTo>
                      <a:lnTo>
                        <a:pt x="89" y="999"/>
                      </a:lnTo>
                      <a:lnTo>
                        <a:pt x="118" y="987"/>
                      </a:lnTo>
                      <a:lnTo>
                        <a:pt x="129" y="976"/>
                      </a:lnTo>
                      <a:lnTo>
                        <a:pt x="112" y="943"/>
                      </a:lnTo>
                      <a:lnTo>
                        <a:pt x="89" y="909"/>
                      </a:lnTo>
                      <a:lnTo>
                        <a:pt x="95" y="871"/>
                      </a:lnTo>
                      <a:lnTo>
                        <a:pt x="101" y="844"/>
                      </a:lnTo>
                      <a:lnTo>
                        <a:pt x="124" y="794"/>
                      </a:lnTo>
                      <a:lnTo>
                        <a:pt x="124" y="771"/>
                      </a:lnTo>
                      <a:lnTo>
                        <a:pt x="124" y="725"/>
                      </a:lnTo>
                      <a:lnTo>
                        <a:pt x="141" y="686"/>
                      </a:lnTo>
                      <a:lnTo>
                        <a:pt x="168" y="663"/>
                      </a:lnTo>
                      <a:lnTo>
                        <a:pt x="197" y="646"/>
                      </a:lnTo>
                      <a:lnTo>
                        <a:pt x="225" y="652"/>
                      </a:lnTo>
                      <a:lnTo>
                        <a:pt x="254" y="663"/>
                      </a:lnTo>
                      <a:lnTo>
                        <a:pt x="264" y="623"/>
                      </a:lnTo>
                      <a:lnTo>
                        <a:pt x="254" y="590"/>
                      </a:lnTo>
                      <a:lnTo>
                        <a:pt x="241" y="567"/>
                      </a:lnTo>
                      <a:lnTo>
                        <a:pt x="237" y="550"/>
                      </a:lnTo>
                      <a:lnTo>
                        <a:pt x="241" y="534"/>
                      </a:lnTo>
                      <a:lnTo>
                        <a:pt x="260" y="527"/>
                      </a:lnTo>
                      <a:lnTo>
                        <a:pt x="264" y="489"/>
                      </a:lnTo>
                      <a:lnTo>
                        <a:pt x="276" y="454"/>
                      </a:lnTo>
                      <a:lnTo>
                        <a:pt x="281" y="427"/>
                      </a:lnTo>
                      <a:lnTo>
                        <a:pt x="281" y="398"/>
                      </a:lnTo>
                      <a:lnTo>
                        <a:pt x="298" y="371"/>
                      </a:lnTo>
                      <a:lnTo>
                        <a:pt x="333" y="348"/>
                      </a:lnTo>
                      <a:lnTo>
                        <a:pt x="355" y="342"/>
                      </a:lnTo>
                      <a:lnTo>
                        <a:pt x="355" y="314"/>
                      </a:lnTo>
                      <a:lnTo>
                        <a:pt x="366" y="296"/>
                      </a:lnTo>
                      <a:lnTo>
                        <a:pt x="389" y="269"/>
                      </a:lnTo>
                      <a:lnTo>
                        <a:pt x="412" y="252"/>
                      </a:lnTo>
                      <a:lnTo>
                        <a:pt x="400" y="203"/>
                      </a:lnTo>
                      <a:lnTo>
                        <a:pt x="442" y="156"/>
                      </a:lnTo>
                      <a:lnTo>
                        <a:pt x="451" y="136"/>
                      </a:lnTo>
                      <a:lnTo>
                        <a:pt x="482" y="130"/>
                      </a:lnTo>
                      <a:lnTo>
                        <a:pt x="501" y="105"/>
                      </a:lnTo>
                      <a:lnTo>
                        <a:pt x="501" y="88"/>
                      </a:lnTo>
                      <a:lnTo>
                        <a:pt x="521" y="68"/>
                      </a:lnTo>
                      <a:lnTo>
                        <a:pt x="558" y="63"/>
                      </a:lnTo>
                      <a:lnTo>
                        <a:pt x="600" y="63"/>
                      </a:lnTo>
                      <a:lnTo>
                        <a:pt x="634" y="32"/>
                      </a:lnTo>
                      <a:lnTo>
                        <a:pt x="628" y="0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8" name=""/>
            <p:cNvGrpSpPr/>
            <p:nvPr/>
          </p:nvGrpSpPr>
          <p:grpSpPr>
            <a:xfrm>
              <a:off x="5639400" y="2642040"/>
              <a:ext cx="1363680" cy="1466280"/>
              <a:chOff x="5639400" y="2642040"/>
              <a:chExt cx="1363680" cy="146628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5639400" y="2642040"/>
                <a:ext cx="1363680" cy="1466280"/>
                <a:chOff x="5639400" y="2642040"/>
                <a:chExt cx="1363680" cy="1466280"/>
              </a:xfrm>
            </p:grpSpPr>
            <p:sp>
              <p:nvSpPr>
                <p:cNvPr id="610" name=""/>
                <p:cNvSpPr/>
                <p:nvPr/>
              </p:nvSpPr>
              <p:spPr>
                <a:xfrm rot="20780400">
                  <a:off x="5770080" y="2754360"/>
                  <a:ext cx="1101600" cy="1241280"/>
                </a:xfrm>
                <a:custGeom>
                  <a:avLst/>
                  <a:gdLst/>
                  <a:ahLst/>
                  <a:rect l="l" t="t" r="r" b="b"/>
                  <a:pathLst>
                    <a:path w="1536" h="1686">
                      <a:moveTo>
                        <a:pt x="412" y="1587"/>
                      </a:moveTo>
                      <a:lnTo>
                        <a:pt x="417" y="1584"/>
                      </a:lnTo>
                      <a:lnTo>
                        <a:pt x="433" y="1579"/>
                      </a:lnTo>
                      <a:lnTo>
                        <a:pt x="445" y="1561"/>
                      </a:lnTo>
                      <a:lnTo>
                        <a:pt x="452" y="1539"/>
                      </a:lnTo>
                      <a:lnTo>
                        <a:pt x="456" y="1527"/>
                      </a:lnTo>
                      <a:lnTo>
                        <a:pt x="452" y="1494"/>
                      </a:lnTo>
                      <a:lnTo>
                        <a:pt x="456" y="1471"/>
                      </a:lnTo>
                      <a:lnTo>
                        <a:pt x="473" y="1460"/>
                      </a:lnTo>
                      <a:lnTo>
                        <a:pt x="512" y="1444"/>
                      </a:lnTo>
                      <a:lnTo>
                        <a:pt x="519" y="1425"/>
                      </a:lnTo>
                      <a:lnTo>
                        <a:pt x="512" y="1369"/>
                      </a:lnTo>
                      <a:lnTo>
                        <a:pt x="508" y="1358"/>
                      </a:lnTo>
                      <a:lnTo>
                        <a:pt x="508" y="1325"/>
                      </a:lnTo>
                      <a:lnTo>
                        <a:pt x="496" y="1313"/>
                      </a:lnTo>
                      <a:lnTo>
                        <a:pt x="502" y="1285"/>
                      </a:lnTo>
                      <a:lnTo>
                        <a:pt x="512" y="1285"/>
                      </a:lnTo>
                      <a:lnTo>
                        <a:pt x="541" y="1269"/>
                      </a:lnTo>
                      <a:lnTo>
                        <a:pt x="519" y="1217"/>
                      </a:lnTo>
                      <a:lnTo>
                        <a:pt x="508" y="1200"/>
                      </a:lnTo>
                      <a:lnTo>
                        <a:pt x="508" y="1196"/>
                      </a:lnTo>
                      <a:lnTo>
                        <a:pt x="508" y="1153"/>
                      </a:lnTo>
                      <a:lnTo>
                        <a:pt x="525" y="1120"/>
                      </a:lnTo>
                      <a:lnTo>
                        <a:pt x="529" y="1085"/>
                      </a:lnTo>
                      <a:lnTo>
                        <a:pt x="535" y="1045"/>
                      </a:lnTo>
                      <a:lnTo>
                        <a:pt x="529" y="1012"/>
                      </a:lnTo>
                      <a:lnTo>
                        <a:pt x="541" y="989"/>
                      </a:lnTo>
                      <a:lnTo>
                        <a:pt x="547" y="972"/>
                      </a:lnTo>
                      <a:lnTo>
                        <a:pt x="581" y="949"/>
                      </a:lnTo>
                      <a:lnTo>
                        <a:pt x="614" y="939"/>
                      </a:lnTo>
                      <a:lnTo>
                        <a:pt x="643" y="949"/>
                      </a:lnTo>
                      <a:lnTo>
                        <a:pt x="654" y="955"/>
                      </a:lnTo>
                      <a:lnTo>
                        <a:pt x="671" y="933"/>
                      </a:lnTo>
                      <a:lnTo>
                        <a:pt x="671" y="905"/>
                      </a:lnTo>
                      <a:lnTo>
                        <a:pt x="654" y="853"/>
                      </a:lnTo>
                      <a:lnTo>
                        <a:pt x="648" y="832"/>
                      </a:lnTo>
                      <a:lnTo>
                        <a:pt x="654" y="820"/>
                      </a:lnTo>
                      <a:lnTo>
                        <a:pt x="665" y="820"/>
                      </a:lnTo>
                      <a:lnTo>
                        <a:pt x="677" y="803"/>
                      </a:lnTo>
                      <a:lnTo>
                        <a:pt x="683" y="770"/>
                      </a:lnTo>
                      <a:lnTo>
                        <a:pt x="687" y="724"/>
                      </a:lnTo>
                      <a:lnTo>
                        <a:pt x="693" y="680"/>
                      </a:lnTo>
                      <a:lnTo>
                        <a:pt x="710" y="662"/>
                      </a:lnTo>
                      <a:lnTo>
                        <a:pt x="744" y="640"/>
                      </a:lnTo>
                      <a:lnTo>
                        <a:pt x="766" y="628"/>
                      </a:lnTo>
                      <a:lnTo>
                        <a:pt x="773" y="595"/>
                      </a:lnTo>
                      <a:lnTo>
                        <a:pt x="783" y="572"/>
                      </a:lnTo>
                      <a:lnTo>
                        <a:pt x="812" y="549"/>
                      </a:lnTo>
                      <a:lnTo>
                        <a:pt x="818" y="532"/>
                      </a:lnTo>
                      <a:lnTo>
                        <a:pt x="812" y="516"/>
                      </a:lnTo>
                      <a:lnTo>
                        <a:pt x="812" y="493"/>
                      </a:lnTo>
                      <a:lnTo>
                        <a:pt x="835" y="476"/>
                      </a:lnTo>
                      <a:lnTo>
                        <a:pt x="862" y="426"/>
                      </a:lnTo>
                      <a:lnTo>
                        <a:pt x="882" y="431"/>
                      </a:lnTo>
                      <a:lnTo>
                        <a:pt x="916" y="403"/>
                      </a:lnTo>
                      <a:lnTo>
                        <a:pt x="911" y="380"/>
                      </a:lnTo>
                      <a:lnTo>
                        <a:pt x="932" y="358"/>
                      </a:lnTo>
                      <a:lnTo>
                        <a:pt x="944" y="364"/>
                      </a:lnTo>
                      <a:lnTo>
                        <a:pt x="967" y="358"/>
                      </a:lnTo>
                      <a:lnTo>
                        <a:pt x="1001" y="364"/>
                      </a:lnTo>
                      <a:lnTo>
                        <a:pt x="1045" y="324"/>
                      </a:lnTo>
                      <a:lnTo>
                        <a:pt x="1040" y="301"/>
                      </a:lnTo>
                      <a:lnTo>
                        <a:pt x="1045" y="291"/>
                      </a:lnTo>
                      <a:lnTo>
                        <a:pt x="1034" y="286"/>
                      </a:lnTo>
                      <a:lnTo>
                        <a:pt x="1057" y="265"/>
                      </a:lnTo>
                      <a:lnTo>
                        <a:pt x="1090" y="260"/>
                      </a:lnTo>
                      <a:lnTo>
                        <a:pt x="1113" y="291"/>
                      </a:lnTo>
                      <a:lnTo>
                        <a:pt x="1153" y="335"/>
                      </a:lnTo>
                      <a:lnTo>
                        <a:pt x="1170" y="335"/>
                      </a:lnTo>
                      <a:lnTo>
                        <a:pt x="1192" y="318"/>
                      </a:lnTo>
                      <a:lnTo>
                        <a:pt x="1209" y="313"/>
                      </a:lnTo>
                      <a:lnTo>
                        <a:pt x="1220" y="318"/>
                      </a:lnTo>
                      <a:lnTo>
                        <a:pt x="1238" y="335"/>
                      </a:lnTo>
                      <a:lnTo>
                        <a:pt x="1259" y="341"/>
                      </a:lnTo>
                      <a:lnTo>
                        <a:pt x="1265" y="335"/>
                      </a:lnTo>
                      <a:lnTo>
                        <a:pt x="1276" y="313"/>
                      </a:lnTo>
                      <a:lnTo>
                        <a:pt x="1282" y="301"/>
                      </a:lnTo>
                      <a:lnTo>
                        <a:pt x="1305" y="265"/>
                      </a:lnTo>
                      <a:lnTo>
                        <a:pt x="1311" y="260"/>
                      </a:lnTo>
                      <a:lnTo>
                        <a:pt x="1305" y="202"/>
                      </a:lnTo>
                      <a:lnTo>
                        <a:pt x="1334" y="175"/>
                      </a:lnTo>
                      <a:lnTo>
                        <a:pt x="1345" y="181"/>
                      </a:lnTo>
                      <a:lnTo>
                        <a:pt x="1378" y="146"/>
                      </a:lnTo>
                      <a:lnTo>
                        <a:pt x="1407" y="181"/>
                      </a:lnTo>
                      <a:lnTo>
                        <a:pt x="1418" y="192"/>
                      </a:lnTo>
                      <a:lnTo>
                        <a:pt x="1434" y="186"/>
                      </a:lnTo>
                      <a:lnTo>
                        <a:pt x="1446" y="202"/>
                      </a:lnTo>
                      <a:lnTo>
                        <a:pt x="1446" y="215"/>
                      </a:lnTo>
                      <a:lnTo>
                        <a:pt x="1457" y="225"/>
                      </a:lnTo>
                      <a:lnTo>
                        <a:pt x="1457" y="242"/>
                      </a:lnTo>
                      <a:lnTo>
                        <a:pt x="1474" y="221"/>
                      </a:lnTo>
                      <a:lnTo>
                        <a:pt x="1503" y="198"/>
                      </a:lnTo>
                      <a:lnTo>
                        <a:pt x="1519" y="163"/>
                      </a:lnTo>
                      <a:lnTo>
                        <a:pt x="1507" y="158"/>
                      </a:lnTo>
                      <a:lnTo>
                        <a:pt x="1491" y="175"/>
                      </a:lnTo>
                      <a:lnTo>
                        <a:pt x="1486" y="146"/>
                      </a:lnTo>
                      <a:lnTo>
                        <a:pt x="1474" y="142"/>
                      </a:lnTo>
                      <a:lnTo>
                        <a:pt x="1469" y="125"/>
                      </a:lnTo>
                      <a:lnTo>
                        <a:pt x="1513" y="90"/>
                      </a:lnTo>
                      <a:lnTo>
                        <a:pt x="1530" y="96"/>
                      </a:lnTo>
                      <a:lnTo>
                        <a:pt x="1536" y="73"/>
                      </a:lnTo>
                      <a:lnTo>
                        <a:pt x="1526" y="67"/>
                      </a:lnTo>
                      <a:lnTo>
                        <a:pt x="1497" y="56"/>
                      </a:lnTo>
                      <a:lnTo>
                        <a:pt x="1480" y="50"/>
                      </a:lnTo>
                      <a:lnTo>
                        <a:pt x="1457" y="29"/>
                      </a:lnTo>
                      <a:lnTo>
                        <a:pt x="1434" y="23"/>
                      </a:lnTo>
                      <a:lnTo>
                        <a:pt x="1411" y="46"/>
                      </a:lnTo>
                      <a:lnTo>
                        <a:pt x="1401" y="62"/>
                      </a:lnTo>
                      <a:lnTo>
                        <a:pt x="1378" y="46"/>
                      </a:lnTo>
                      <a:lnTo>
                        <a:pt x="1390" y="34"/>
                      </a:lnTo>
                      <a:lnTo>
                        <a:pt x="1395" y="6"/>
                      </a:lnTo>
                      <a:lnTo>
                        <a:pt x="1390" y="0"/>
                      </a:lnTo>
                      <a:lnTo>
                        <a:pt x="1361" y="0"/>
                      </a:lnTo>
                      <a:lnTo>
                        <a:pt x="1355" y="11"/>
                      </a:lnTo>
                      <a:lnTo>
                        <a:pt x="1351" y="29"/>
                      </a:lnTo>
                      <a:lnTo>
                        <a:pt x="1355" y="46"/>
                      </a:lnTo>
                      <a:lnTo>
                        <a:pt x="1334" y="67"/>
                      </a:lnTo>
                      <a:lnTo>
                        <a:pt x="1316" y="34"/>
                      </a:lnTo>
                      <a:lnTo>
                        <a:pt x="1299" y="40"/>
                      </a:lnTo>
                      <a:lnTo>
                        <a:pt x="1294" y="67"/>
                      </a:lnTo>
                      <a:lnTo>
                        <a:pt x="1282" y="107"/>
                      </a:lnTo>
                      <a:lnTo>
                        <a:pt x="1255" y="135"/>
                      </a:lnTo>
                      <a:lnTo>
                        <a:pt x="1238" y="102"/>
                      </a:lnTo>
                      <a:lnTo>
                        <a:pt x="1265" y="79"/>
                      </a:lnTo>
                      <a:lnTo>
                        <a:pt x="1271" y="46"/>
                      </a:lnTo>
                      <a:lnTo>
                        <a:pt x="1255" y="46"/>
                      </a:lnTo>
                      <a:lnTo>
                        <a:pt x="1226" y="46"/>
                      </a:lnTo>
                      <a:lnTo>
                        <a:pt x="1203" y="79"/>
                      </a:lnTo>
                      <a:lnTo>
                        <a:pt x="1176" y="125"/>
                      </a:lnTo>
                      <a:lnTo>
                        <a:pt x="1186" y="146"/>
                      </a:lnTo>
                      <a:lnTo>
                        <a:pt x="1170" y="158"/>
                      </a:lnTo>
                      <a:lnTo>
                        <a:pt x="1147" y="142"/>
                      </a:lnTo>
                      <a:lnTo>
                        <a:pt x="1124" y="152"/>
                      </a:lnTo>
                      <a:lnTo>
                        <a:pt x="1130" y="175"/>
                      </a:lnTo>
                      <a:lnTo>
                        <a:pt x="1103" y="175"/>
                      </a:lnTo>
                      <a:lnTo>
                        <a:pt x="1084" y="181"/>
                      </a:lnTo>
                      <a:lnTo>
                        <a:pt x="1063" y="208"/>
                      </a:lnTo>
                      <a:lnTo>
                        <a:pt x="1034" y="202"/>
                      </a:lnTo>
                      <a:lnTo>
                        <a:pt x="1034" y="221"/>
                      </a:lnTo>
                      <a:lnTo>
                        <a:pt x="1011" y="202"/>
                      </a:lnTo>
                      <a:lnTo>
                        <a:pt x="984" y="215"/>
                      </a:lnTo>
                      <a:lnTo>
                        <a:pt x="978" y="237"/>
                      </a:lnTo>
                      <a:lnTo>
                        <a:pt x="955" y="242"/>
                      </a:lnTo>
                      <a:lnTo>
                        <a:pt x="938" y="221"/>
                      </a:lnTo>
                      <a:lnTo>
                        <a:pt x="905" y="225"/>
                      </a:lnTo>
                      <a:lnTo>
                        <a:pt x="871" y="237"/>
                      </a:lnTo>
                      <a:lnTo>
                        <a:pt x="871" y="271"/>
                      </a:lnTo>
                      <a:lnTo>
                        <a:pt x="893" y="277"/>
                      </a:lnTo>
                      <a:lnTo>
                        <a:pt x="893" y="286"/>
                      </a:lnTo>
                      <a:lnTo>
                        <a:pt x="893" y="307"/>
                      </a:lnTo>
                      <a:lnTo>
                        <a:pt x="876" y="301"/>
                      </a:lnTo>
                      <a:lnTo>
                        <a:pt x="856" y="313"/>
                      </a:lnTo>
                      <a:lnTo>
                        <a:pt x="862" y="335"/>
                      </a:lnTo>
                      <a:lnTo>
                        <a:pt x="882" y="353"/>
                      </a:lnTo>
                      <a:lnTo>
                        <a:pt x="882" y="380"/>
                      </a:lnTo>
                      <a:lnTo>
                        <a:pt x="862" y="370"/>
                      </a:lnTo>
                      <a:lnTo>
                        <a:pt x="846" y="374"/>
                      </a:lnTo>
                      <a:lnTo>
                        <a:pt x="846" y="397"/>
                      </a:lnTo>
                      <a:lnTo>
                        <a:pt x="818" y="397"/>
                      </a:lnTo>
                      <a:lnTo>
                        <a:pt x="795" y="397"/>
                      </a:lnTo>
                      <a:lnTo>
                        <a:pt x="789" y="414"/>
                      </a:lnTo>
                      <a:lnTo>
                        <a:pt x="783" y="426"/>
                      </a:lnTo>
                      <a:lnTo>
                        <a:pt x="766" y="431"/>
                      </a:lnTo>
                      <a:lnTo>
                        <a:pt x="760" y="443"/>
                      </a:lnTo>
                      <a:lnTo>
                        <a:pt x="766" y="459"/>
                      </a:lnTo>
                      <a:lnTo>
                        <a:pt x="733" y="470"/>
                      </a:lnTo>
                      <a:lnTo>
                        <a:pt x="756" y="493"/>
                      </a:lnTo>
                      <a:lnTo>
                        <a:pt x="760" y="505"/>
                      </a:lnTo>
                      <a:lnTo>
                        <a:pt x="739" y="522"/>
                      </a:lnTo>
                      <a:lnTo>
                        <a:pt x="700" y="549"/>
                      </a:lnTo>
                      <a:lnTo>
                        <a:pt x="671" y="572"/>
                      </a:lnTo>
                      <a:lnTo>
                        <a:pt x="654" y="605"/>
                      </a:lnTo>
                      <a:lnTo>
                        <a:pt x="625" y="628"/>
                      </a:lnTo>
                      <a:lnTo>
                        <a:pt x="625" y="645"/>
                      </a:lnTo>
                      <a:lnTo>
                        <a:pt x="631" y="662"/>
                      </a:lnTo>
                      <a:lnTo>
                        <a:pt x="608" y="680"/>
                      </a:lnTo>
                      <a:lnTo>
                        <a:pt x="614" y="701"/>
                      </a:lnTo>
                      <a:lnTo>
                        <a:pt x="592" y="741"/>
                      </a:lnTo>
                      <a:lnTo>
                        <a:pt x="575" y="747"/>
                      </a:lnTo>
                      <a:lnTo>
                        <a:pt x="575" y="776"/>
                      </a:lnTo>
                      <a:lnTo>
                        <a:pt x="587" y="793"/>
                      </a:lnTo>
                      <a:lnTo>
                        <a:pt x="569" y="809"/>
                      </a:lnTo>
                      <a:lnTo>
                        <a:pt x="558" y="797"/>
                      </a:lnTo>
                      <a:lnTo>
                        <a:pt x="535" y="809"/>
                      </a:lnTo>
                      <a:lnTo>
                        <a:pt x="541" y="843"/>
                      </a:lnTo>
                      <a:lnTo>
                        <a:pt x="519" y="853"/>
                      </a:lnTo>
                      <a:lnTo>
                        <a:pt x="485" y="860"/>
                      </a:lnTo>
                      <a:lnTo>
                        <a:pt x="462" y="888"/>
                      </a:lnTo>
                      <a:lnTo>
                        <a:pt x="456" y="916"/>
                      </a:lnTo>
                      <a:lnTo>
                        <a:pt x="433" y="939"/>
                      </a:lnTo>
                      <a:lnTo>
                        <a:pt x="433" y="955"/>
                      </a:lnTo>
                      <a:lnTo>
                        <a:pt x="462" y="933"/>
                      </a:lnTo>
                      <a:lnTo>
                        <a:pt x="496" y="910"/>
                      </a:lnTo>
                      <a:lnTo>
                        <a:pt x="508" y="916"/>
                      </a:lnTo>
                      <a:lnTo>
                        <a:pt x="496" y="949"/>
                      </a:lnTo>
                      <a:lnTo>
                        <a:pt x="468" y="968"/>
                      </a:lnTo>
                      <a:lnTo>
                        <a:pt x="439" y="961"/>
                      </a:lnTo>
                      <a:lnTo>
                        <a:pt x="445" y="984"/>
                      </a:lnTo>
                      <a:lnTo>
                        <a:pt x="406" y="1001"/>
                      </a:lnTo>
                      <a:lnTo>
                        <a:pt x="400" y="968"/>
                      </a:lnTo>
                      <a:lnTo>
                        <a:pt x="383" y="955"/>
                      </a:lnTo>
                      <a:lnTo>
                        <a:pt x="360" y="989"/>
                      </a:lnTo>
                      <a:lnTo>
                        <a:pt x="337" y="989"/>
                      </a:lnTo>
                      <a:lnTo>
                        <a:pt x="313" y="995"/>
                      </a:lnTo>
                      <a:lnTo>
                        <a:pt x="310" y="1024"/>
                      </a:lnTo>
                      <a:lnTo>
                        <a:pt x="298" y="1028"/>
                      </a:lnTo>
                      <a:lnTo>
                        <a:pt x="298" y="1044"/>
                      </a:lnTo>
                      <a:lnTo>
                        <a:pt x="284" y="1038"/>
                      </a:lnTo>
                      <a:lnTo>
                        <a:pt x="264" y="1025"/>
                      </a:lnTo>
                      <a:lnTo>
                        <a:pt x="234" y="1028"/>
                      </a:lnTo>
                      <a:lnTo>
                        <a:pt x="234" y="1045"/>
                      </a:lnTo>
                      <a:lnTo>
                        <a:pt x="237" y="1060"/>
                      </a:lnTo>
                      <a:lnTo>
                        <a:pt x="225" y="1065"/>
                      </a:lnTo>
                      <a:lnTo>
                        <a:pt x="198" y="1051"/>
                      </a:lnTo>
                      <a:lnTo>
                        <a:pt x="172" y="1071"/>
                      </a:lnTo>
                      <a:lnTo>
                        <a:pt x="178" y="1088"/>
                      </a:lnTo>
                      <a:lnTo>
                        <a:pt x="175" y="1100"/>
                      </a:lnTo>
                      <a:lnTo>
                        <a:pt x="149" y="1088"/>
                      </a:lnTo>
                      <a:lnTo>
                        <a:pt x="141" y="1103"/>
                      </a:lnTo>
                      <a:lnTo>
                        <a:pt x="132" y="1114"/>
                      </a:lnTo>
                      <a:lnTo>
                        <a:pt x="102" y="1107"/>
                      </a:lnTo>
                      <a:lnTo>
                        <a:pt x="85" y="1111"/>
                      </a:lnTo>
                      <a:lnTo>
                        <a:pt x="82" y="1133"/>
                      </a:lnTo>
                      <a:lnTo>
                        <a:pt x="70" y="1139"/>
                      </a:lnTo>
                      <a:lnTo>
                        <a:pt x="53" y="1164"/>
                      </a:lnTo>
                      <a:lnTo>
                        <a:pt x="56" y="1196"/>
                      </a:lnTo>
                      <a:lnTo>
                        <a:pt x="50" y="1240"/>
                      </a:lnTo>
                      <a:lnTo>
                        <a:pt x="42" y="1285"/>
                      </a:lnTo>
                      <a:lnTo>
                        <a:pt x="36" y="1328"/>
                      </a:lnTo>
                      <a:lnTo>
                        <a:pt x="30" y="1349"/>
                      </a:lnTo>
                      <a:lnTo>
                        <a:pt x="45" y="1369"/>
                      </a:lnTo>
                      <a:lnTo>
                        <a:pt x="70" y="1352"/>
                      </a:lnTo>
                      <a:lnTo>
                        <a:pt x="86" y="1362"/>
                      </a:lnTo>
                      <a:lnTo>
                        <a:pt x="86" y="1378"/>
                      </a:lnTo>
                      <a:lnTo>
                        <a:pt x="62" y="1392"/>
                      </a:lnTo>
                      <a:lnTo>
                        <a:pt x="59" y="1421"/>
                      </a:lnTo>
                      <a:lnTo>
                        <a:pt x="53" y="1435"/>
                      </a:lnTo>
                      <a:lnTo>
                        <a:pt x="29" y="1431"/>
                      </a:lnTo>
                      <a:lnTo>
                        <a:pt x="20" y="1465"/>
                      </a:lnTo>
                      <a:lnTo>
                        <a:pt x="30" y="1474"/>
                      </a:lnTo>
                      <a:lnTo>
                        <a:pt x="53" y="1468"/>
                      </a:lnTo>
                      <a:lnTo>
                        <a:pt x="65" y="1483"/>
                      </a:lnTo>
                      <a:lnTo>
                        <a:pt x="67" y="1491"/>
                      </a:lnTo>
                      <a:lnTo>
                        <a:pt x="48" y="1503"/>
                      </a:lnTo>
                      <a:lnTo>
                        <a:pt x="50" y="1523"/>
                      </a:lnTo>
                      <a:lnTo>
                        <a:pt x="29" y="1527"/>
                      </a:lnTo>
                      <a:lnTo>
                        <a:pt x="13" y="1517"/>
                      </a:lnTo>
                      <a:lnTo>
                        <a:pt x="17" y="1544"/>
                      </a:lnTo>
                      <a:lnTo>
                        <a:pt x="13" y="1564"/>
                      </a:lnTo>
                      <a:lnTo>
                        <a:pt x="0" y="1564"/>
                      </a:lnTo>
                      <a:lnTo>
                        <a:pt x="33" y="1599"/>
                      </a:lnTo>
                      <a:lnTo>
                        <a:pt x="50" y="1619"/>
                      </a:lnTo>
                      <a:lnTo>
                        <a:pt x="59" y="1646"/>
                      </a:lnTo>
                      <a:lnTo>
                        <a:pt x="93" y="1666"/>
                      </a:lnTo>
                      <a:lnTo>
                        <a:pt x="129" y="1686"/>
                      </a:lnTo>
                      <a:lnTo>
                        <a:pt x="164" y="1686"/>
                      </a:lnTo>
                      <a:lnTo>
                        <a:pt x="214" y="1652"/>
                      </a:lnTo>
                      <a:lnTo>
                        <a:pt x="264" y="1616"/>
                      </a:lnTo>
                      <a:lnTo>
                        <a:pt x="310" y="1553"/>
                      </a:lnTo>
                      <a:lnTo>
                        <a:pt x="318" y="1547"/>
                      </a:lnTo>
                      <a:lnTo>
                        <a:pt x="330" y="1567"/>
                      </a:lnTo>
                      <a:lnTo>
                        <a:pt x="353" y="1553"/>
                      </a:lnTo>
                      <a:lnTo>
                        <a:pt x="360" y="1530"/>
                      </a:lnTo>
                      <a:lnTo>
                        <a:pt x="363" y="1503"/>
                      </a:lnTo>
                      <a:lnTo>
                        <a:pt x="386" y="1468"/>
                      </a:lnTo>
                      <a:lnTo>
                        <a:pt x="377" y="1508"/>
                      </a:lnTo>
                      <a:lnTo>
                        <a:pt x="389" y="1514"/>
                      </a:lnTo>
                      <a:lnTo>
                        <a:pt x="383" y="1530"/>
                      </a:lnTo>
                      <a:lnTo>
                        <a:pt x="389" y="1561"/>
                      </a:lnTo>
                      <a:lnTo>
                        <a:pt x="400" y="1587"/>
                      </a:lnTo>
                      <a:lnTo>
                        <a:pt x="414" y="1579"/>
                      </a:lnTo>
                      <a:lnTo>
                        <a:pt x="412" y="15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20780400">
                  <a:off x="5770080" y="2754360"/>
                  <a:ext cx="1101600" cy="1241280"/>
                </a:xfrm>
                <a:custGeom>
                  <a:avLst/>
                  <a:gdLst/>
                  <a:ahLst/>
                  <a:rect l="l" t="t" r="r" b="b"/>
                  <a:pathLst>
                    <a:path w="1536" h="1686">
                      <a:moveTo>
                        <a:pt x="412" y="1587"/>
                      </a:moveTo>
                      <a:lnTo>
                        <a:pt x="417" y="1584"/>
                      </a:lnTo>
                      <a:lnTo>
                        <a:pt x="433" y="1579"/>
                      </a:lnTo>
                      <a:lnTo>
                        <a:pt x="445" y="1561"/>
                      </a:lnTo>
                      <a:lnTo>
                        <a:pt x="452" y="1539"/>
                      </a:lnTo>
                      <a:lnTo>
                        <a:pt x="456" y="1527"/>
                      </a:lnTo>
                      <a:lnTo>
                        <a:pt x="452" y="1494"/>
                      </a:lnTo>
                      <a:lnTo>
                        <a:pt x="456" y="1471"/>
                      </a:lnTo>
                      <a:lnTo>
                        <a:pt x="473" y="1460"/>
                      </a:lnTo>
                      <a:lnTo>
                        <a:pt x="512" y="1444"/>
                      </a:lnTo>
                      <a:lnTo>
                        <a:pt x="519" y="1425"/>
                      </a:lnTo>
                      <a:lnTo>
                        <a:pt x="512" y="1369"/>
                      </a:lnTo>
                      <a:lnTo>
                        <a:pt x="508" y="1358"/>
                      </a:lnTo>
                      <a:lnTo>
                        <a:pt x="508" y="1325"/>
                      </a:lnTo>
                      <a:lnTo>
                        <a:pt x="496" y="1313"/>
                      </a:lnTo>
                      <a:lnTo>
                        <a:pt x="502" y="1285"/>
                      </a:lnTo>
                      <a:lnTo>
                        <a:pt x="512" y="1285"/>
                      </a:lnTo>
                      <a:lnTo>
                        <a:pt x="541" y="1269"/>
                      </a:lnTo>
                      <a:lnTo>
                        <a:pt x="519" y="1217"/>
                      </a:lnTo>
                      <a:lnTo>
                        <a:pt x="508" y="1200"/>
                      </a:lnTo>
                      <a:lnTo>
                        <a:pt x="508" y="1196"/>
                      </a:lnTo>
                      <a:lnTo>
                        <a:pt x="508" y="1153"/>
                      </a:lnTo>
                      <a:lnTo>
                        <a:pt x="525" y="1120"/>
                      </a:lnTo>
                      <a:lnTo>
                        <a:pt x="529" y="1085"/>
                      </a:lnTo>
                      <a:lnTo>
                        <a:pt x="535" y="1045"/>
                      </a:lnTo>
                      <a:lnTo>
                        <a:pt x="529" y="1012"/>
                      </a:lnTo>
                      <a:lnTo>
                        <a:pt x="541" y="989"/>
                      </a:lnTo>
                      <a:lnTo>
                        <a:pt x="547" y="972"/>
                      </a:lnTo>
                      <a:lnTo>
                        <a:pt x="581" y="949"/>
                      </a:lnTo>
                      <a:lnTo>
                        <a:pt x="614" y="939"/>
                      </a:lnTo>
                      <a:lnTo>
                        <a:pt x="643" y="949"/>
                      </a:lnTo>
                      <a:lnTo>
                        <a:pt x="654" y="955"/>
                      </a:lnTo>
                      <a:lnTo>
                        <a:pt x="671" y="933"/>
                      </a:lnTo>
                      <a:lnTo>
                        <a:pt x="671" y="905"/>
                      </a:lnTo>
                      <a:lnTo>
                        <a:pt x="654" y="853"/>
                      </a:lnTo>
                      <a:lnTo>
                        <a:pt x="648" y="832"/>
                      </a:lnTo>
                      <a:lnTo>
                        <a:pt x="654" y="820"/>
                      </a:lnTo>
                      <a:lnTo>
                        <a:pt x="665" y="820"/>
                      </a:lnTo>
                      <a:lnTo>
                        <a:pt x="677" y="803"/>
                      </a:lnTo>
                      <a:lnTo>
                        <a:pt x="683" y="770"/>
                      </a:lnTo>
                      <a:lnTo>
                        <a:pt x="687" y="724"/>
                      </a:lnTo>
                      <a:lnTo>
                        <a:pt x="693" y="680"/>
                      </a:lnTo>
                      <a:lnTo>
                        <a:pt x="710" y="662"/>
                      </a:lnTo>
                      <a:lnTo>
                        <a:pt x="744" y="640"/>
                      </a:lnTo>
                      <a:lnTo>
                        <a:pt x="766" y="628"/>
                      </a:lnTo>
                      <a:lnTo>
                        <a:pt x="773" y="595"/>
                      </a:lnTo>
                      <a:lnTo>
                        <a:pt x="783" y="572"/>
                      </a:lnTo>
                      <a:lnTo>
                        <a:pt x="812" y="549"/>
                      </a:lnTo>
                      <a:lnTo>
                        <a:pt x="818" y="532"/>
                      </a:lnTo>
                      <a:lnTo>
                        <a:pt x="812" y="516"/>
                      </a:lnTo>
                      <a:lnTo>
                        <a:pt x="812" y="493"/>
                      </a:lnTo>
                      <a:lnTo>
                        <a:pt x="835" y="476"/>
                      </a:lnTo>
                      <a:lnTo>
                        <a:pt x="862" y="426"/>
                      </a:lnTo>
                      <a:lnTo>
                        <a:pt x="882" y="431"/>
                      </a:lnTo>
                      <a:lnTo>
                        <a:pt x="916" y="403"/>
                      </a:lnTo>
                      <a:lnTo>
                        <a:pt x="911" y="380"/>
                      </a:lnTo>
                      <a:lnTo>
                        <a:pt x="932" y="358"/>
                      </a:lnTo>
                      <a:lnTo>
                        <a:pt x="944" y="364"/>
                      </a:lnTo>
                      <a:lnTo>
                        <a:pt x="967" y="358"/>
                      </a:lnTo>
                      <a:lnTo>
                        <a:pt x="1001" y="364"/>
                      </a:lnTo>
                      <a:lnTo>
                        <a:pt x="1045" y="324"/>
                      </a:lnTo>
                      <a:lnTo>
                        <a:pt x="1040" y="301"/>
                      </a:lnTo>
                      <a:lnTo>
                        <a:pt x="1045" y="291"/>
                      </a:lnTo>
                      <a:lnTo>
                        <a:pt x="1034" y="286"/>
                      </a:lnTo>
                      <a:lnTo>
                        <a:pt x="1057" y="265"/>
                      </a:lnTo>
                      <a:lnTo>
                        <a:pt x="1090" y="260"/>
                      </a:lnTo>
                      <a:lnTo>
                        <a:pt x="1113" y="291"/>
                      </a:lnTo>
                      <a:lnTo>
                        <a:pt x="1153" y="335"/>
                      </a:lnTo>
                      <a:lnTo>
                        <a:pt x="1170" y="335"/>
                      </a:lnTo>
                      <a:lnTo>
                        <a:pt x="1192" y="318"/>
                      </a:lnTo>
                      <a:lnTo>
                        <a:pt x="1209" y="313"/>
                      </a:lnTo>
                      <a:lnTo>
                        <a:pt x="1220" y="318"/>
                      </a:lnTo>
                      <a:lnTo>
                        <a:pt x="1238" y="335"/>
                      </a:lnTo>
                      <a:lnTo>
                        <a:pt x="1259" y="341"/>
                      </a:lnTo>
                      <a:lnTo>
                        <a:pt x="1265" y="335"/>
                      </a:lnTo>
                      <a:lnTo>
                        <a:pt x="1276" y="313"/>
                      </a:lnTo>
                      <a:lnTo>
                        <a:pt x="1282" y="301"/>
                      </a:lnTo>
                      <a:lnTo>
                        <a:pt x="1305" y="265"/>
                      </a:lnTo>
                      <a:lnTo>
                        <a:pt x="1311" y="260"/>
                      </a:lnTo>
                      <a:lnTo>
                        <a:pt x="1305" y="202"/>
                      </a:lnTo>
                      <a:lnTo>
                        <a:pt x="1334" y="175"/>
                      </a:lnTo>
                      <a:lnTo>
                        <a:pt x="1345" y="181"/>
                      </a:lnTo>
                      <a:lnTo>
                        <a:pt x="1378" y="146"/>
                      </a:lnTo>
                      <a:lnTo>
                        <a:pt x="1407" y="181"/>
                      </a:lnTo>
                      <a:lnTo>
                        <a:pt x="1418" y="192"/>
                      </a:lnTo>
                      <a:lnTo>
                        <a:pt x="1434" y="186"/>
                      </a:lnTo>
                      <a:lnTo>
                        <a:pt x="1446" y="202"/>
                      </a:lnTo>
                      <a:lnTo>
                        <a:pt x="1446" y="215"/>
                      </a:lnTo>
                      <a:lnTo>
                        <a:pt x="1457" y="225"/>
                      </a:lnTo>
                      <a:lnTo>
                        <a:pt x="1457" y="242"/>
                      </a:lnTo>
                      <a:lnTo>
                        <a:pt x="1474" y="221"/>
                      </a:lnTo>
                      <a:lnTo>
                        <a:pt x="1503" y="198"/>
                      </a:lnTo>
                      <a:lnTo>
                        <a:pt x="1519" y="163"/>
                      </a:lnTo>
                      <a:lnTo>
                        <a:pt x="1507" y="158"/>
                      </a:lnTo>
                      <a:lnTo>
                        <a:pt x="1491" y="175"/>
                      </a:lnTo>
                      <a:lnTo>
                        <a:pt x="1486" y="146"/>
                      </a:lnTo>
                      <a:lnTo>
                        <a:pt x="1474" y="142"/>
                      </a:lnTo>
                      <a:lnTo>
                        <a:pt x="1469" y="125"/>
                      </a:lnTo>
                      <a:lnTo>
                        <a:pt x="1513" y="90"/>
                      </a:lnTo>
                      <a:lnTo>
                        <a:pt x="1530" y="96"/>
                      </a:lnTo>
                      <a:lnTo>
                        <a:pt x="1536" y="73"/>
                      </a:lnTo>
                      <a:lnTo>
                        <a:pt x="1526" y="67"/>
                      </a:lnTo>
                      <a:lnTo>
                        <a:pt x="1497" y="56"/>
                      </a:lnTo>
                      <a:lnTo>
                        <a:pt x="1480" y="50"/>
                      </a:lnTo>
                      <a:lnTo>
                        <a:pt x="1457" y="29"/>
                      </a:lnTo>
                      <a:lnTo>
                        <a:pt x="1434" y="23"/>
                      </a:lnTo>
                      <a:lnTo>
                        <a:pt x="1411" y="46"/>
                      </a:lnTo>
                      <a:lnTo>
                        <a:pt x="1401" y="62"/>
                      </a:lnTo>
                      <a:lnTo>
                        <a:pt x="1378" y="46"/>
                      </a:lnTo>
                      <a:lnTo>
                        <a:pt x="1390" y="34"/>
                      </a:lnTo>
                      <a:lnTo>
                        <a:pt x="1395" y="6"/>
                      </a:lnTo>
                      <a:lnTo>
                        <a:pt x="1390" y="0"/>
                      </a:lnTo>
                      <a:lnTo>
                        <a:pt x="1361" y="0"/>
                      </a:lnTo>
                      <a:lnTo>
                        <a:pt x="1355" y="11"/>
                      </a:lnTo>
                      <a:lnTo>
                        <a:pt x="1351" y="29"/>
                      </a:lnTo>
                      <a:lnTo>
                        <a:pt x="1355" y="46"/>
                      </a:lnTo>
                      <a:lnTo>
                        <a:pt x="1334" y="67"/>
                      </a:lnTo>
                      <a:lnTo>
                        <a:pt x="1316" y="34"/>
                      </a:lnTo>
                      <a:lnTo>
                        <a:pt x="1299" y="40"/>
                      </a:lnTo>
                      <a:lnTo>
                        <a:pt x="1294" y="67"/>
                      </a:lnTo>
                      <a:lnTo>
                        <a:pt x="1282" y="107"/>
                      </a:lnTo>
                      <a:lnTo>
                        <a:pt x="1255" y="135"/>
                      </a:lnTo>
                      <a:lnTo>
                        <a:pt x="1238" y="102"/>
                      </a:lnTo>
                      <a:lnTo>
                        <a:pt x="1265" y="79"/>
                      </a:lnTo>
                      <a:lnTo>
                        <a:pt x="1271" y="46"/>
                      </a:lnTo>
                      <a:lnTo>
                        <a:pt x="1255" y="46"/>
                      </a:lnTo>
                      <a:lnTo>
                        <a:pt x="1226" y="46"/>
                      </a:lnTo>
                      <a:lnTo>
                        <a:pt x="1203" y="79"/>
                      </a:lnTo>
                      <a:lnTo>
                        <a:pt x="1176" y="125"/>
                      </a:lnTo>
                      <a:lnTo>
                        <a:pt x="1186" y="146"/>
                      </a:lnTo>
                      <a:lnTo>
                        <a:pt x="1170" y="158"/>
                      </a:lnTo>
                      <a:lnTo>
                        <a:pt x="1147" y="142"/>
                      </a:lnTo>
                      <a:lnTo>
                        <a:pt x="1124" y="152"/>
                      </a:lnTo>
                      <a:lnTo>
                        <a:pt x="1130" y="175"/>
                      </a:lnTo>
                      <a:lnTo>
                        <a:pt x="1103" y="175"/>
                      </a:lnTo>
                      <a:lnTo>
                        <a:pt x="1084" y="181"/>
                      </a:lnTo>
                      <a:lnTo>
                        <a:pt x="1063" y="208"/>
                      </a:lnTo>
                      <a:lnTo>
                        <a:pt x="1034" y="202"/>
                      </a:lnTo>
                      <a:lnTo>
                        <a:pt x="1034" y="221"/>
                      </a:lnTo>
                      <a:lnTo>
                        <a:pt x="1011" y="202"/>
                      </a:lnTo>
                      <a:lnTo>
                        <a:pt x="984" y="215"/>
                      </a:lnTo>
                      <a:lnTo>
                        <a:pt x="978" y="237"/>
                      </a:lnTo>
                      <a:lnTo>
                        <a:pt x="955" y="242"/>
                      </a:lnTo>
                      <a:lnTo>
                        <a:pt x="938" y="221"/>
                      </a:lnTo>
                      <a:lnTo>
                        <a:pt x="905" y="225"/>
                      </a:lnTo>
                      <a:lnTo>
                        <a:pt x="871" y="237"/>
                      </a:lnTo>
                      <a:lnTo>
                        <a:pt x="871" y="271"/>
                      </a:lnTo>
                      <a:lnTo>
                        <a:pt x="893" y="277"/>
                      </a:lnTo>
                      <a:lnTo>
                        <a:pt x="893" y="286"/>
                      </a:lnTo>
                      <a:lnTo>
                        <a:pt x="893" y="307"/>
                      </a:lnTo>
                      <a:lnTo>
                        <a:pt x="876" y="301"/>
                      </a:lnTo>
                      <a:lnTo>
                        <a:pt x="856" y="313"/>
                      </a:lnTo>
                      <a:lnTo>
                        <a:pt x="862" y="335"/>
                      </a:lnTo>
                      <a:lnTo>
                        <a:pt x="882" y="353"/>
                      </a:lnTo>
                      <a:lnTo>
                        <a:pt x="882" y="380"/>
                      </a:lnTo>
                      <a:lnTo>
                        <a:pt x="862" y="370"/>
                      </a:lnTo>
                      <a:lnTo>
                        <a:pt x="846" y="374"/>
                      </a:lnTo>
                      <a:lnTo>
                        <a:pt x="846" y="397"/>
                      </a:lnTo>
                      <a:lnTo>
                        <a:pt x="818" y="397"/>
                      </a:lnTo>
                      <a:lnTo>
                        <a:pt x="795" y="397"/>
                      </a:lnTo>
                      <a:lnTo>
                        <a:pt x="789" y="414"/>
                      </a:lnTo>
                      <a:lnTo>
                        <a:pt x="783" y="426"/>
                      </a:lnTo>
                      <a:lnTo>
                        <a:pt x="766" y="431"/>
                      </a:lnTo>
                      <a:lnTo>
                        <a:pt x="760" y="443"/>
                      </a:lnTo>
                      <a:lnTo>
                        <a:pt x="766" y="459"/>
                      </a:lnTo>
                      <a:lnTo>
                        <a:pt x="733" y="470"/>
                      </a:lnTo>
                      <a:lnTo>
                        <a:pt x="756" y="493"/>
                      </a:lnTo>
                      <a:lnTo>
                        <a:pt x="760" y="505"/>
                      </a:lnTo>
                      <a:lnTo>
                        <a:pt x="739" y="522"/>
                      </a:lnTo>
                      <a:lnTo>
                        <a:pt x="700" y="549"/>
                      </a:lnTo>
                      <a:lnTo>
                        <a:pt x="671" y="572"/>
                      </a:lnTo>
                      <a:lnTo>
                        <a:pt x="654" y="605"/>
                      </a:lnTo>
                      <a:lnTo>
                        <a:pt x="625" y="628"/>
                      </a:lnTo>
                      <a:lnTo>
                        <a:pt x="625" y="645"/>
                      </a:lnTo>
                      <a:lnTo>
                        <a:pt x="631" y="662"/>
                      </a:lnTo>
                      <a:lnTo>
                        <a:pt x="608" y="680"/>
                      </a:lnTo>
                      <a:lnTo>
                        <a:pt x="614" y="701"/>
                      </a:lnTo>
                      <a:lnTo>
                        <a:pt x="592" y="741"/>
                      </a:lnTo>
                      <a:lnTo>
                        <a:pt x="575" y="747"/>
                      </a:lnTo>
                      <a:lnTo>
                        <a:pt x="575" y="776"/>
                      </a:lnTo>
                      <a:lnTo>
                        <a:pt x="587" y="793"/>
                      </a:lnTo>
                      <a:lnTo>
                        <a:pt x="569" y="809"/>
                      </a:lnTo>
                      <a:lnTo>
                        <a:pt x="558" y="797"/>
                      </a:lnTo>
                      <a:lnTo>
                        <a:pt x="535" y="809"/>
                      </a:lnTo>
                      <a:lnTo>
                        <a:pt x="541" y="843"/>
                      </a:lnTo>
                      <a:lnTo>
                        <a:pt x="519" y="853"/>
                      </a:lnTo>
                      <a:lnTo>
                        <a:pt x="485" y="860"/>
                      </a:lnTo>
                      <a:lnTo>
                        <a:pt x="462" y="888"/>
                      </a:lnTo>
                      <a:lnTo>
                        <a:pt x="456" y="916"/>
                      </a:lnTo>
                      <a:lnTo>
                        <a:pt x="433" y="939"/>
                      </a:lnTo>
                      <a:lnTo>
                        <a:pt x="433" y="955"/>
                      </a:lnTo>
                      <a:lnTo>
                        <a:pt x="462" y="933"/>
                      </a:lnTo>
                      <a:lnTo>
                        <a:pt x="496" y="910"/>
                      </a:lnTo>
                      <a:lnTo>
                        <a:pt x="508" y="916"/>
                      </a:lnTo>
                      <a:lnTo>
                        <a:pt x="496" y="949"/>
                      </a:lnTo>
                      <a:lnTo>
                        <a:pt x="468" y="968"/>
                      </a:lnTo>
                      <a:lnTo>
                        <a:pt x="439" y="961"/>
                      </a:lnTo>
                      <a:lnTo>
                        <a:pt x="445" y="984"/>
                      </a:lnTo>
                      <a:lnTo>
                        <a:pt x="406" y="1001"/>
                      </a:lnTo>
                      <a:lnTo>
                        <a:pt x="400" y="968"/>
                      </a:lnTo>
                      <a:lnTo>
                        <a:pt x="383" y="955"/>
                      </a:lnTo>
                      <a:lnTo>
                        <a:pt x="360" y="989"/>
                      </a:lnTo>
                      <a:lnTo>
                        <a:pt x="337" y="989"/>
                      </a:lnTo>
                      <a:lnTo>
                        <a:pt x="313" y="995"/>
                      </a:lnTo>
                      <a:lnTo>
                        <a:pt x="310" y="1024"/>
                      </a:lnTo>
                      <a:lnTo>
                        <a:pt x="298" y="1028"/>
                      </a:lnTo>
                      <a:lnTo>
                        <a:pt x="298" y="1044"/>
                      </a:lnTo>
                      <a:lnTo>
                        <a:pt x="284" y="1038"/>
                      </a:lnTo>
                      <a:lnTo>
                        <a:pt x="264" y="1025"/>
                      </a:lnTo>
                      <a:lnTo>
                        <a:pt x="234" y="1028"/>
                      </a:lnTo>
                      <a:lnTo>
                        <a:pt x="234" y="1045"/>
                      </a:lnTo>
                      <a:lnTo>
                        <a:pt x="237" y="1060"/>
                      </a:lnTo>
                      <a:lnTo>
                        <a:pt x="225" y="1065"/>
                      </a:lnTo>
                      <a:lnTo>
                        <a:pt x="198" y="1051"/>
                      </a:lnTo>
                      <a:lnTo>
                        <a:pt x="172" y="1071"/>
                      </a:lnTo>
                      <a:lnTo>
                        <a:pt x="178" y="1088"/>
                      </a:lnTo>
                      <a:lnTo>
                        <a:pt x="175" y="1100"/>
                      </a:lnTo>
                      <a:lnTo>
                        <a:pt x="149" y="1088"/>
                      </a:lnTo>
                      <a:lnTo>
                        <a:pt x="141" y="1103"/>
                      </a:lnTo>
                      <a:lnTo>
                        <a:pt x="132" y="1114"/>
                      </a:lnTo>
                      <a:lnTo>
                        <a:pt x="102" y="1107"/>
                      </a:lnTo>
                      <a:lnTo>
                        <a:pt x="85" y="1111"/>
                      </a:lnTo>
                      <a:lnTo>
                        <a:pt x="82" y="1133"/>
                      </a:lnTo>
                      <a:lnTo>
                        <a:pt x="70" y="1139"/>
                      </a:lnTo>
                      <a:lnTo>
                        <a:pt x="53" y="1164"/>
                      </a:lnTo>
                      <a:lnTo>
                        <a:pt x="56" y="1196"/>
                      </a:lnTo>
                      <a:lnTo>
                        <a:pt x="50" y="1240"/>
                      </a:lnTo>
                      <a:lnTo>
                        <a:pt x="42" y="1285"/>
                      </a:lnTo>
                      <a:lnTo>
                        <a:pt x="36" y="1328"/>
                      </a:lnTo>
                      <a:lnTo>
                        <a:pt x="30" y="1349"/>
                      </a:lnTo>
                      <a:lnTo>
                        <a:pt x="45" y="1369"/>
                      </a:lnTo>
                      <a:lnTo>
                        <a:pt x="70" y="1352"/>
                      </a:lnTo>
                      <a:lnTo>
                        <a:pt x="86" y="1362"/>
                      </a:lnTo>
                      <a:lnTo>
                        <a:pt x="86" y="1378"/>
                      </a:lnTo>
                      <a:lnTo>
                        <a:pt x="62" y="1392"/>
                      </a:lnTo>
                      <a:lnTo>
                        <a:pt x="59" y="1421"/>
                      </a:lnTo>
                      <a:lnTo>
                        <a:pt x="53" y="1435"/>
                      </a:lnTo>
                      <a:lnTo>
                        <a:pt x="29" y="1431"/>
                      </a:lnTo>
                      <a:lnTo>
                        <a:pt x="20" y="1465"/>
                      </a:lnTo>
                      <a:lnTo>
                        <a:pt x="30" y="1474"/>
                      </a:lnTo>
                      <a:lnTo>
                        <a:pt x="53" y="1468"/>
                      </a:lnTo>
                      <a:lnTo>
                        <a:pt x="65" y="1483"/>
                      </a:lnTo>
                      <a:lnTo>
                        <a:pt x="67" y="1491"/>
                      </a:lnTo>
                      <a:lnTo>
                        <a:pt x="48" y="1503"/>
                      </a:lnTo>
                      <a:lnTo>
                        <a:pt x="50" y="1523"/>
                      </a:lnTo>
                      <a:lnTo>
                        <a:pt x="29" y="1527"/>
                      </a:lnTo>
                      <a:lnTo>
                        <a:pt x="13" y="1517"/>
                      </a:lnTo>
                      <a:lnTo>
                        <a:pt x="17" y="1544"/>
                      </a:lnTo>
                      <a:lnTo>
                        <a:pt x="13" y="1564"/>
                      </a:lnTo>
                      <a:lnTo>
                        <a:pt x="0" y="1564"/>
                      </a:lnTo>
                      <a:lnTo>
                        <a:pt x="33" y="1599"/>
                      </a:lnTo>
                      <a:lnTo>
                        <a:pt x="50" y="1619"/>
                      </a:lnTo>
                      <a:lnTo>
                        <a:pt x="59" y="1646"/>
                      </a:lnTo>
                      <a:lnTo>
                        <a:pt x="93" y="1666"/>
                      </a:lnTo>
                      <a:lnTo>
                        <a:pt x="129" y="1686"/>
                      </a:lnTo>
                      <a:lnTo>
                        <a:pt x="164" y="1686"/>
                      </a:lnTo>
                      <a:lnTo>
                        <a:pt x="214" y="1652"/>
                      </a:lnTo>
                      <a:lnTo>
                        <a:pt x="264" y="1616"/>
                      </a:lnTo>
                      <a:lnTo>
                        <a:pt x="310" y="1553"/>
                      </a:lnTo>
                      <a:lnTo>
                        <a:pt x="318" y="1547"/>
                      </a:lnTo>
                      <a:lnTo>
                        <a:pt x="330" y="1567"/>
                      </a:lnTo>
                      <a:lnTo>
                        <a:pt x="353" y="1553"/>
                      </a:lnTo>
                      <a:lnTo>
                        <a:pt x="360" y="1530"/>
                      </a:lnTo>
                      <a:lnTo>
                        <a:pt x="363" y="1503"/>
                      </a:lnTo>
                      <a:lnTo>
                        <a:pt x="386" y="1468"/>
                      </a:lnTo>
                      <a:lnTo>
                        <a:pt x="377" y="1508"/>
                      </a:lnTo>
                      <a:lnTo>
                        <a:pt x="389" y="1514"/>
                      </a:lnTo>
                      <a:lnTo>
                        <a:pt x="383" y="1530"/>
                      </a:lnTo>
                      <a:lnTo>
                        <a:pt x="389" y="1561"/>
                      </a:lnTo>
                      <a:lnTo>
                        <a:pt x="400" y="1587"/>
                      </a:lnTo>
                      <a:lnTo>
                        <a:pt x="414" y="1579"/>
                      </a:lnTo>
                      <a:lnTo>
                        <a:pt x="412" y="15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20780400">
                  <a:off x="5770080" y="2754360"/>
                  <a:ext cx="1101600" cy="1241280"/>
                </a:xfrm>
                <a:custGeom>
                  <a:avLst/>
                  <a:gdLst/>
                  <a:ahLst/>
                  <a:rect l="l" t="t" r="r" b="b"/>
                  <a:pathLst>
                    <a:path w="1536" h="1686">
                      <a:moveTo>
                        <a:pt x="412" y="1587"/>
                      </a:moveTo>
                      <a:lnTo>
                        <a:pt x="417" y="1584"/>
                      </a:lnTo>
                      <a:lnTo>
                        <a:pt x="433" y="1579"/>
                      </a:lnTo>
                      <a:lnTo>
                        <a:pt x="445" y="1561"/>
                      </a:lnTo>
                      <a:lnTo>
                        <a:pt x="452" y="1539"/>
                      </a:lnTo>
                      <a:lnTo>
                        <a:pt x="456" y="1527"/>
                      </a:lnTo>
                      <a:lnTo>
                        <a:pt x="452" y="1494"/>
                      </a:lnTo>
                      <a:lnTo>
                        <a:pt x="456" y="1471"/>
                      </a:lnTo>
                      <a:lnTo>
                        <a:pt x="473" y="1460"/>
                      </a:lnTo>
                      <a:lnTo>
                        <a:pt x="512" y="1444"/>
                      </a:lnTo>
                      <a:lnTo>
                        <a:pt x="519" y="1425"/>
                      </a:lnTo>
                      <a:lnTo>
                        <a:pt x="512" y="1369"/>
                      </a:lnTo>
                      <a:lnTo>
                        <a:pt x="508" y="1358"/>
                      </a:lnTo>
                      <a:lnTo>
                        <a:pt x="508" y="1325"/>
                      </a:lnTo>
                      <a:lnTo>
                        <a:pt x="496" y="1313"/>
                      </a:lnTo>
                      <a:lnTo>
                        <a:pt x="502" y="1285"/>
                      </a:lnTo>
                      <a:lnTo>
                        <a:pt x="512" y="1285"/>
                      </a:lnTo>
                      <a:lnTo>
                        <a:pt x="541" y="1269"/>
                      </a:lnTo>
                      <a:lnTo>
                        <a:pt x="519" y="1217"/>
                      </a:lnTo>
                      <a:lnTo>
                        <a:pt x="508" y="1200"/>
                      </a:lnTo>
                      <a:lnTo>
                        <a:pt x="508" y="1196"/>
                      </a:lnTo>
                      <a:lnTo>
                        <a:pt x="508" y="1153"/>
                      </a:lnTo>
                      <a:lnTo>
                        <a:pt x="525" y="1120"/>
                      </a:lnTo>
                      <a:lnTo>
                        <a:pt x="529" y="1085"/>
                      </a:lnTo>
                      <a:lnTo>
                        <a:pt x="535" y="1045"/>
                      </a:lnTo>
                      <a:lnTo>
                        <a:pt x="529" y="1012"/>
                      </a:lnTo>
                      <a:lnTo>
                        <a:pt x="541" y="989"/>
                      </a:lnTo>
                      <a:lnTo>
                        <a:pt x="547" y="972"/>
                      </a:lnTo>
                      <a:lnTo>
                        <a:pt x="581" y="949"/>
                      </a:lnTo>
                      <a:lnTo>
                        <a:pt x="614" y="939"/>
                      </a:lnTo>
                      <a:lnTo>
                        <a:pt x="643" y="949"/>
                      </a:lnTo>
                      <a:lnTo>
                        <a:pt x="654" y="955"/>
                      </a:lnTo>
                      <a:lnTo>
                        <a:pt x="671" y="933"/>
                      </a:lnTo>
                      <a:lnTo>
                        <a:pt x="671" y="905"/>
                      </a:lnTo>
                      <a:lnTo>
                        <a:pt x="654" y="853"/>
                      </a:lnTo>
                      <a:lnTo>
                        <a:pt x="648" y="832"/>
                      </a:lnTo>
                      <a:lnTo>
                        <a:pt x="654" y="820"/>
                      </a:lnTo>
                      <a:lnTo>
                        <a:pt x="665" y="820"/>
                      </a:lnTo>
                      <a:lnTo>
                        <a:pt x="677" y="803"/>
                      </a:lnTo>
                      <a:lnTo>
                        <a:pt x="683" y="770"/>
                      </a:lnTo>
                      <a:lnTo>
                        <a:pt x="687" y="724"/>
                      </a:lnTo>
                      <a:lnTo>
                        <a:pt x="693" y="680"/>
                      </a:lnTo>
                      <a:lnTo>
                        <a:pt x="710" y="662"/>
                      </a:lnTo>
                      <a:lnTo>
                        <a:pt x="744" y="640"/>
                      </a:lnTo>
                      <a:lnTo>
                        <a:pt x="766" y="628"/>
                      </a:lnTo>
                      <a:lnTo>
                        <a:pt x="773" y="595"/>
                      </a:lnTo>
                      <a:lnTo>
                        <a:pt x="783" y="572"/>
                      </a:lnTo>
                      <a:lnTo>
                        <a:pt x="812" y="549"/>
                      </a:lnTo>
                      <a:lnTo>
                        <a:pt x="818" y="532"/>
                      </a:lnTo>
                      <a:lnTo>
                        <a:pt x="812" y="516"/>
                      </a:lnTo>
                      <a:lnTo>
                        <a:pt x="812" y="493"/>
                      </a:lnTo>
                      <a:lnTo>
                        <a:pt x="835" y="476"/>
                      </a:lnTo>
                      <a:lnTo>
                        <a:pt x="862" y="426"/>
                      </a:lnTo>
                      <a:lnTo>
                        <a:pt x="882" y="431"/>
                      </a:lnTo>
                      <a:lnTo>
                        <a:pt x="916" y="403"/>
                      </a:lnTo>
                      <a:lnTo>
                        <a:pt x="911" y="380"/>
                      </a:lnTo>
                      <a:lnTo>
                        <a:pt x="932" y="358"/>
                      </a:lnTo>
                      <a:lnTo>
                        <a:pt x="944" y="364"/>
                      </a:lnTo>
                      <a:lnTo>
                        <a:pt x="967" y="358"/>
                      </a:lnTo>
                      <a:lnTo>
                        <a:pt x="1001" y="364"/>
                      </a:lnTo>
                      <a:lnTo>
                        <a:pt x="1045" y="324"/>
                      </a:lnTo>
                      <a:lnTo>
                        <a:pt x="1040" y="301"/>
                      </a:lnTo>
                      <a:lnTo>
                        <a:pt x="1045" y="291"/>
                      </a:lnTo>
                      <a:lnTo>
                        <a:pt x="1034" y="286"/>
                      </a:lnTo>
                      <a:lnTo>
                        <a:pt x="1057" y="265"/>
                      </a:lnTo>
                      <a:lnTo>
                        <a:pt x="1090" y="260"/>
                      </a:lnTo>
                      <a:lnTo>
                        <a:pt x="1113" y="291"/>
                      </a:lnTo>
                      <a:lnTo>
                        <a:pt x="1153" y="335"/>
                      </a:lnTo>
                      <a:lnTo>
                        <a:pt x="1170" y="335"/>
                      </a:lnTo>
                      <a:lnTo>
                        <a:pt x="1192" y="318"/>
                      </a:lnTo>
                      <a:lnTo>
                        <a:pt x="1209" y="313"/>
                      </a:lnTo>
                      <a:lnTo>
                        <a:pt x="1220" y="318"/>
                      </a:lnTo>
                      <a:lnTo>
                        <a:pt x="1238" y="335"/>
                      </a:lnTo>
                      <a:lnTo>
                        <a:pt x="1259" y="341"/>
                      </a:lnTo>
                      <a:lnTo>
                        <a:pt x="1265" y="335"/>
                      </a:lnTo>
                      <a:lnTo>
                        <a:pt x="1276" y="313"/>
                      </a:lnTo>
                      <a:lnTo>
                        <a:pt x="1282" y="301"/>
                      </a:lnTo>
                      <a:lnTo>
                        <a:pt x="1305" y="265"/>
                      </a:lnTo>
                      <a:lnTo>
                        <a:pt x="1311" y="260"/>
                      </a:lnTo>
                      <a:lnTo>
                        <a:pt x="1305" y="202"/>
                      </a:lnTo>
                      <a:lnTo>
                        <a:pt x="1334" y="175"/>
                      </a:lnTo>
                      <a:lnTo>
                        <a:pt x="1345" y="181"/>
                      </a:lnTo>
                      <a:lnTo>
                        <a:pt x="1378" y="146"/>
                      </a:lnTo>
                      <a:lnTo>
                        <a:pt x="1407" y="181"/>
                      </a:lnTo>
                      <a:lnTo>
                        <a:pt x="1418" y="192"/>
                      </a:lnTo>
                      <a:lnTo>
                        <a:pt x="1434" y="186"/>
                      </a:lnTo>
                      <a:lnTo>
                        <a:pt x="1446" y="202"/>
                      </a:lnTo>
                      <a:lnTo>
                        <a:pt x="1446" y="215"/>
                      </a:lnTo>
                      <a:lnTo>
                        <a:pt x="1457" y="225"/>
                      </a:lnTo>
                      <a:lnTo>
                        <a:pt x="1457" y="242"/>
                      </a:lnTo>
                      <a:lnTo>
                        <a:pt x="1474" y="221"/>
                      </a:lnTo>
                      <a:lnTo>
                        <a:pt x="1503" y="198"/>
                      </a:lnTo>
                      <a:lnTo>
                        <a:pt x="1519" y="163"/>
                      </a:lnTo>
                      <a:lnTo>
                        <a:pt x="1507" y="158"/>
                      </a:lnTo>
                      <a:lnTo>
                        <a:pt x="1491" y="175"/>
                      </a:lnTo>
                      <a:lnTo>
                        <a:pt x="1486" y="146"/>
                      </a:lnTo>
                      <a:lnTo>
                        <a:pt x="1474" y="142"/>
                      </a:lnTo>
                      <a:lnTo>
                        <a:pt x="1469" y="125"/>
                      </a:lnTo>
                      <a:lnTo>
                        <a:pt x="1513" y="90"/>
                      </a:lnTo>
                      <a:lnTo>
                        <a:pt x="1530" y="96"/>
                      </a:lnTo>
                      <a:lnTo>
                        <a:pt x="1536" y="73"/>
                      </a:lnTo>
                      <a:lnTo>
                        <a:pt x="1526" y="67"/>
                      </a:lnTo>
                      <a:lnTo>
                        <a:pt x="1497" y="56"/>
                      </a:lnTo>
                      <a:lnTo>
                        <a:pt x="1480" y="50"/>
                      </a:lnTo>
                      <a:lnTo>
                        <a:pt x="1457" y="29"/>
                      </a:lnTo>
                      <a:lnTo>
                        <a:pt x="1434" y="23"/>
                      </a:lnTo>
                      <a:lnTo>
                        <a:pt x="1411" y="46"/>
                      </a:lnTo>
                      <a:lnTo>
                        <a:pt x="1401" y="62"/>
                      </a:lnTo>
                      <a:lnTo>
                        <a:pt x="1378" y="46"/>
                      </a:lnTo>
                      <a:lnTo>
                        <a:pt x="1390" y="34"/>
                      </a:lnTo>
                      <a:lnTo>
                        <a:pt x="1395" y="6"/>
                      </a:lnTo>
                      <a:lnTo>
                        <a:pt x="1390" y="0"/>
                      </a:lnTo>
                      <a:lnTo>
                        <a:pt x="1361" y="0"/>
                      </a:lnTo>
                      <a:lnTo>
                        <a:pt x="1355" y="11"/>
                      </a:lnTo>
                      <a:lnTo>
                        <a:pt x="1351" y="29"/>
                      </a:lnTo>
                      <a:lnTo>
                        <a:pt x="1355" y="46"/>
                      </a:lnTo>
                      <a:lnTo>
                        <a:pt x="1334" y="67"/>
                      </a:lnTo>
                      <a:lnTo>
                        <a:pt x="1316" y="34"/>
                      </a:lnTo>
                      <a:lnTo>
                        <a:pt x="1299" y="40"/>
                      </a:lnTo>
                      <a:lnTo>
                        <a:pt x="1294" y="67"/>
                      </a:lnTo>
                      <a:lnTo>
                        <a:pt x="1282" y="107"/>
                      </a:lnTo>
                      <a:lnTo>
                        <a:pt x="1255" y="135"/>
                      </a:lnTo>
                      <a:lnTo>
                        <a:pt x="1238" y="102"/>
                      </a:lnTo>
                      <a:lnTo>
                        <a:pt x="1265" y="79"/>
                      </a:lnTo>
                      <a:lnTo>
                        <a:pt x="1271" y="46"/>
                      </a:lnTo>
                      <a:lnTo>
                        <a:pt x="1255" y="46"/>
                      </a:lnTo>
                      <a:lnTo>
                        <a:pt x="1226" y="46"/>
                      </a:lnTo>
                      <a:lnTo>
                        <a:pt x="1203" y="79"/>
                      </a:lnTo>
                      <a:lnTo>
                        <a:pt x="1176" y="125"/>
                      </a:lnTo>
                      <a:lnTo>
                        <a:pt x="1186" y="146"/>
                      </a:lnTo>
                      <a:lnTo>
                        <a:pt x="1170" y="158"/>
                      </a:lnTo>
                      <a:lnTo>
                        <a:pt x="1147" y="142"/>
                      </a:lnTo>
                      <a:lnTo>
                        <a:pt x="1124" y="152"/>
                      </a:lnTo>
                      <a:lnTo>
                        <a:pt x="1130" y="175"/>
                      </a:lnTo>
                      <a:lnTo>
                        <a:pt x="1103" y="175"/>
                      </a:lnTo>
                      <a:lnTo>
                        <a:pt x="1084" y="181"/>
                      </a:lnTo>
                      <a:lnTo>
                        <a:pt x="1063" y="208"/>
                      </a:lnTo>
                      <a:lnTo>
                        <a:pt x="1034" y="202"/>
                      </a:lnTo>
                      <a:lnTo>
                        <a:pt x="1034" y="221"/>
                      </a:lnTo>
                      <a:lnTo>
                        <a:pt x="1011" y="202"/>
                      </a:lnTo>
                      <a:lnTo>
                        <a:pt x="984" y="215"/>
                      </a:lnTo>
                      <a:lnTo>
                        <a:pt x="978" y="237"/>
                      </a:lnTo>
                      <a:lnTo>
                        <a:pt x="955" y="242"/>
                      </a:lnTo>
                      <a:lnTo>
                        <a:pt x="938" y="221"/>
                      </a:lnTo>
                      <a:lnTo>
                        <a:pt x="905" y="225"/>
                      </a:lnTo>
                      <a:lnTo>
                        <a:pt x="871" y="237"/>
                      </a:lnTo>
                      <a:lnTo>
                        <a:pt x="871" y="271"/>
                      </a:lnTo>
                      <a:lnTo>
                        <a:pt x="893" y="277"/>
                      </a:lnTo>
                      <a:lnTo>
                        <a:pt x="893" y="286"/>
                      </a:lnTo>
                      <a:lnTo>
                        <a:pt x="893" y="307"/>
                      </a:lnTo>
                      <a:lnTo>
                        <a:pt x="876" y="301"/>
                      </a:lnTo>
                      <a:lnTo>
                        <a:pt x="856" y="313"/>
                      </a:lnTo>
                      <a:lnTo>
                        <a:pt x="862" y="335"/>
                      </a:lnTo>
                      <a:lnTo>
                        <a:pt x="882" y="353"/>
                      </a:lnTo>
                      <a:lnTo>
                        <a:pt x="882" y="380"/>
                      </a:lnTo>
                      <a:lnTo>
                        <a:pt x="862" y="370"/>
                      </a:lnTo>
                      <a:lnTo>
                        <a:pt x="846" y="374"/>
                      </a:lnTo>
                      <a:lnTo>
                        <a:pt x="846" y="397"/>
                      </a:lnTo>
                      <a:lnTo>
                        <a:pt x="818" y="397"/>
                      </a:lnTo>
                      <a:lnTo>
                        <a:pt x="795" y="397"/>
                      </a:lnTo>
                      <a:lnTo>
                        <a:pt x="789" y="414"/>
                      </a:lnTo>
                      <a:lnTo>
                        <a:pt x="783" y="426"/>
                      </a:lnTo>
                      <a:lnTo>
                        <a:pt x="766" y="431"/>
                      </a:lnTo>
                      <a:lnTo>
                        <a:pt x="760" y="443"/>
                      </a:lnTo>
                      <a:lnTo>
                        <a:pt x="766" y="459"/>
                      </a:lnTo>
                      <a:lnTo>
                        <a:pt x="733" y="470"/>
                      </a:lnTo>
                      <a:lnTo>
                        <a:pt x="756" y="493"/>
                      </a:lnTo>
                      <a:lnTo>
                        <a:pt x="760" y="505"/>
                      </a:lnTo>
                      <a:lnTo>
                        <a:pt x="739" y="522"/>
                      </a:lnTo>
                      <a:lnTo>
                        <a:pt x="700" y="549"/>
                      </a:lnTo>
                      <a:lnTo>
                        <a:pt x="671" y="572"/>
                      </a:lnTo>
                      <a:lnTo>
                        <a:pt x="654" y="605"/>
                      </a:lnTo>
                      <a:lnTo>
                        <a:pt x="625" y="628"/>
                      </a:lnTo>
                      <a:lnTo>
                        <a:pt x="625" y="645"/>
                      </a:lnTo>
                      <a:lnTo>
                        <a:pt x="631" y="662"/>
                      </a:lnTo>
                      <a:lnTo>
                        <a:pt x="608" y="680"/>
                      </a:lnTo>
                      <a:lnTo>
                        <a:pt x="614" y="701"/>
                      </a:lnTo>
                      <a:lnTo>
                        <a:pt x="592" y="741"/>
                      </a:lnTo>
                      <a:lnTo>
                        <a:pt x="575" y="747"/>
                      </a:lnTo>
                      <a:lnTo>
                        <a:pt x="575" y="776"/>
                      </a:lnTo>
                      <a:lnTo>
                        <a:pt x="587" y="793"/>
                      </a:lnTo>
                      <a:lnTo>
                        <a:pt x="569" y="809"/>
                      </a:lnTo>
                      <a:lnTo>
                        <a:pt x="558" y="797"/>
                      </a:lnTo>
                      <a:lnTo>
                        <a:pt x="535" y="809"/>
                      </a:lnTo>
                      <a:lnTo>
                        <a:pt x="541" y="843"/>
                      </a:lnTo>
                      <a:lnTo>
                        <a:pt x="519" y="853"/>
                      </a:lnTo>
                      <a:lnTo>
                        <a:pt x="485" y="860"/>
                      </a:lnTo>
                      <a:lnTo>
                        <a:pt x="462" y="888"/>
                      </a:lnTo>
                      <a:lnTo>
                        <a:pt x="456" y="916"/>
                      </a:lnTo>
                      <a:lnTo>
                        <a:pt x="433" y="939"/>
                      </a:lnTo>
                      <a:lnTo>
                        <a:pt x="433" y="955"/>
                      </a:lnTo>
                      <a:lnTo>
                        <a:pt x="462" y="933"/>
                      </a:lnTo>
                      <a:lnTo>
                        <a:pt x="496" y="910"/>
                      </a:lnTo>
                      <a:lnTo>
                        <a:pt x="508" y="916"/>
                      </a:lnTo>
                      <a:lnTo>
                        <a:pt x="496" y="949"/>
                      </a:lnTo>
                      <a:lnTo>
                        <a:pt x="468" y="968"/>
                      </a:lnTo>
                      <a:lnTo>
                        <a:pt x="439" y="961"/>
                      </a:lnTo>
                      <a:lnTo>
                        <a:pt x="445" y="984"/>
                      </a:lnTo>
                      <a:lnTo>
                        <a:pt x="406" y="1001"/>
                      </a:lnTo>
                      <a:lnTo>
                        <a:pt x="400" y="968"/>
                      </a:lnTo>
                      <a:lnTo>
                        <a:pt x="383" y="955"/>
                      </a:lnTo>
                      <a:lnTo>
                        <a:pt x="360" y="989"/>
                      </a:lnTo>
                      <a:lnTo>
                        <a:pt x="337" y="989"/>
                      </a:lnTo>
                      <a:lnTo>
                        <a:pt x="313" y="995"/>
                      </a:lnTo>
                      <a:lnTo>
                        <a:pt x="310" y="1024"/>
                      </a:lnTo>
                      <a:lnTo>
                        <a:pt x="298" y="1028"/>
                      </a:lnTo>
                      <a:lnTo>
                        <a:pt x="298" y="1044"/>
                      </a:lnTo>
                      <a:lnTo>
                        <a:pt x="284" y="1038"/>
                      </a:lnTo>
                      <a:lnTo>
                        <a:pt x="264" y="1025"/>
                      </a:lnTo>
                      <a:lnTo>
                        <a:pt x="234" y="1028"/>
                      </a:lnTo>
                      <a:lnTo>
                        <a:pt x="234" y="1045"/>
                      </a:lnTo>
                      <a:lnTo>
                        <a:pt x="237" y="1060"/>
                      </a:lnTo>
                      <a:lnTo>
                        <a:pt x="225" y="1065"/>
                      </a:lnTo>
                      <a:lnTo>
                        <a:pt x="198" y="1051"/>
                      </a:lnTo>
                      <a:lnTo>
                        <a:pt x="172" y="1071"/>
                      </a:lnTo>
                      <a:lnTo>
                        <a:pt x="178" y="1088"/>
                      </a:lnTo>
                      <a:lnTo>
                        <a:pt x="175" y="1100"/>
                      </a:lnTo>
                      <a:lnTo>
                        <a:pt x="149" y="1088"/>
                      </a:lnTo>
                      <a:lnTo>
                        <a:pt x="141" y="1103"/>
                      </a:lnTo>
                      <a:lnTo>
                        <a:pt x="132" y="1114"/>
                      </a:lnTo>
                      <a:lnTo>
                        <a:pt x="102" y="1107"/>
                      </a:lnTo>
                      <a:lnTo>
                        <a:pt x="85" y="1111"/>
                      </a:lnTo>
                      <a:lnTo>
                        <a:pt x="82" y="1133"/>
                      </a:lnTo>
                      <a:lnTo>
                        <a:pt x="70" y="1139"/>
                      </a:lnTo>
                      <a:lnTo>
                        <a:pt x="53" y="1164"/>
                      </a:lnTo>
                      <a:lnTo>
                        <a:pt x="56" y="1196"/>
                      </a:lnTo>
                      <a:lnTo>
                        <a:pt x="50" y="1240"/>
                      </a:lnTo>
                      <a:lnTo>
                        <a:pt x="42" y="1285"/>
                      </a:lnTo>
                      <a:lnTo>
                        <a:pt x="36" y="1328"/>
                      </a:lnTo>
                      <a:lnTo>
                        <a:pt x="30" y="1349"/>
                      </a:lnTo>
                      <a:lnTo>
                        <a:pt x="45" y="1369"/>
                      </a:lnTo>
                      <a:lnTo>
                        <a:pt x="70" y="1352"/>
                      </a:lnTo>
                      <a:lnTo>
                        <a:pt x="86" y="1362"/>
                      </a:lnTo>
                      <a:lnTo>
                        <a:pt x="86" y="1378"/>
                      </a:lnTo>
                      <a:lnTo>
                        <a:pt x="62" y="1392"/>
                      </a:lnTo>
                      <a:lnTo>
                        <a:pt x="59" y="1421"/>
                      </a:lnTo>
                      <a:lnTo>
                        <a:pt x="53" y="1435"/>
                      </a:lnTo>
                      <a:lnTo>
                        <a:pt x="29" y="1431"/>
                      </a:lnTo>
                      <a:lnTo>
                        <a:pt x="20" y="1465"/>
                      </a:lnTo>
                      <a:lnTo>
                        <a:pt x="30" y="1474"/>
                      </a:lnTo>
                      <a:lnTo>
                        <a:pt x="53" y="1468"/>
                      </a:lnTo>
                      <a:lnTo>
                        <a:pt x="65" y="1483"/>
                      </a:lnTo>
                      <a:lnTo>
                        <a:pt x="67" y="1491"/>
                      </a:lnTo>
                      <a:lnTo>
                        <a:pt x="48" y="1503"/>
                      </a:lnTo>
                      <a:lnTo>
                        <a:pt x="50" y="1523"/>
                      </a:lnTo>
                      <a:lnTo>
                        <a:pt x="29" y="1527"/>
                      </a:lnTo>
                      <a:lnTo>
                        <a:pt x="13" y="1517"/>
                      </a:lnTo>
                      <a:lnTo>
                        <a:pt x="17" y="1544"/>
                      </a:lnTo>
                      <a:lnTo>
                        <a:pt x="13" y="1564"/>
                      </a:lnTo>
                      <a:lnTo>
                        <a:pt x="0" y="1564"/>
                      </a:lnTo>
                      <a:lnTo>
                        <a:pt x="33" y="1599"/>
                      </a:lnTo>
                      <a:lnTo>
                        <a:pt x="50" y="1619"/>
                      </a:lnTo>
                      <a:lnTo>
                        <a:pt x="59" y="1646"/>
                      </a:lnTo>
                      <a:lnTo>
                        <a:pt x="93" y="1666"/>
                      </a:lnTo>
                      <a:lnTo>
                        <a:pt x="129" y="1686"/>
                      </a:lnTo>
                      <a:lnTo>
                        <a:pt x="164" y="1686"/>
                      </a:lnTo>
                      <a:lnTo>
                        <a:pt x="214" y="1652"/>
                      </a:lnTo>
                      <a:lnTo>
                        <a:pt x="264" y="1616"/>
                      </a:lnTo>
                      <a:lnTo>
                        <a:pt x="310" y="1553"/>
                      </a:lnTo>
                      <a:lnTo>
                        <a:pt x="318" y="1547"/>
                      </a:lnTo>
                      <a:lnTo>
                        <a:pt x="330" y="1567"/>
                      </a:lnTo>
                      <a:lnTo>
                        <a:pt x="353" y="1553"/>
                      </a:lnTo>
                      <a:lnTo>
                        <a:pt x="360" y="1530"/>
                      </a:lnTo>
                      <a:lnTo>
                        <a:pt x="363" y="1503"/>
                      </a:lnTo>
                      <a:lnTo>
                        <a:pt x="386" y="1468"/>
                      </a:lnTo>
                      <a:lnTo>
                        <a:pt x="377" y="1508"/>
                      </a:lnTo>
                      <a:lnTo>
                        <a:pt x="389" y="1514"/>
                      </a:lnTo>
                      <a:lnTo>
                        <a:pt x="383" y="1530"/>
                      </a:lnTo>
                      <a:lnTo>
                        <a:pt x="389" y="1561"/>
                      </a:lnTo>
                      <a:lnTo>
                        <a:pt x="400" y="1587"/>
                      </a:lnTo>
                      <a:lnTo>
                        <a:pt x="414" y="1579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6017400" y="2684880"/>
                <a:ext cx="521280" cy="853920"/>
                <a:chOff x="6017400" y="2684880"/>
                <a:chExt cx="521280" cy="853920"/>
              </a:xfrm>
            </p:grpSpPr>
            <p:sp>
              <p:nvSpPr>
                <p:cNvPr id="614" name=""/>
                <p:cNvSpPr/>
                <p:nvPr/>
              </p:nvSpPr>
              <p:spPr>
                <a:xfrm rot="20780400">
                  <a:off x="6232680" y="2977560"/>
                  <a:ext cx="31320" cy="42480"/>
                </a:xfrm>
                <a:custGeom>
                  <a:avLst/>
                  <a:gdLst/>
                  <a:ahLst/>
                  <a:rect l="l" t="t" r="r" b="b"/>
                  <a:pathLst>
                    <a:path w="46" h="59">
                      <a:moveTo>
                        <a:pt x="46" y="9"/>
                      </a:moveTo>
                      <a:lnTo>
                        <a:pt x="41" y="22"/>
                      </a:lnTo>
                      <a:lnTo>
                        <a:pt x="46" y="50"/>
                      </a:lnTo>
                      <a:lnTo>
                        <a:pt x="14" y="59"/>
                      </a:lnTo>
                      <a:lnTo>
                        <a:pt x="0" y="45"/>
                      </a:lnTo>
                      <a:lnTo>
                        <a:pt x="0" y="22"/>
                      </a:lnTo>
                      <a:lnTo>
                        <a:pt x="9" y="0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20780400">
                  <a:off x="6185880" y="3018960"/>
                  <a:ext cx="29880" cy="2340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37" y="0"/>
                      </a:moveTo>
                      <a:lnTo>
                        <a:pt x="41" y="23"/>
                      </a:lnTo>
                      <a:lnTo>
                        <a:pt x="9" y="32"/>
                      </a:lnTo>
                      <a:lnTo>
                        <a:pt x="0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20780400">
                  <a:off x="6184440" y="2970000"/>
                  <a:ext cx="36000" cy="2772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0" y="25"/>
                      </a:moveTo>
                      <a:lnTo>
                        <a:pt x="36" y="38"/>
                      </a:lnTo>
                      <a:lnTo>
                        <a:pt x="50" y="9"/>
                      </a:lnTo>
                      <a:lnTo>
                        <a:pt x="27" y="0"/>
                      </a:lnTo>
                      <a:lnTo>
                        <a:pt x="13" y="9"/>
                      </a:lnTo>
                      <a:lnTo>
                        <a:pt x="0" y="17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20780400">
                  <a:off x="6219360" y="2935440"/>
                  <a:ext cx="25560" cy="1728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0" y="25"/>
                      </a:moveTo>
                      <a:lnTo>
                        <a:pt x="27" y="0"/>
                      </a:lnTo>
                      <a:lnTo>
                        <a:pt x="37" y="9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rot="20780400">
                  <a:off x="6145920" y="30402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3" y="0"/>
                      </a:moveTo>
                      <a:lnTo>
                        <a:pt x="27" y="23"/>
                      </a:lnTo>
                      <a:lnTo>
                        <a:pt x="0" y="2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20780400">
                  <a:off x="6316560" y="2854440"/>
                  <a:ext cx="35640" cy="29520"/>
                </a:xfrm>
                <a:custGeom>
                  <a:avLst/>
                  <a:gdLst/>
                  <a:ahLst/>
                  <a:rect l="l" t="t" r="r" b="b"/>
                  <a:pathLst>
                    <a:path w="50" h="41">
                      <a:moveTo>
                        <a:pt x="23" y="0"/>
                      </a:moveTo>
                      <a:lnTo>
                        <a:pt x="0" y="18"/>
                      </a:lnTo>
                      <a:lnTo>
                        <a:pt x="32" y="41"/>
                      </a:lnTo>
                      <a:lnTo>
                        <a:pt x="50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20780400">
                  <a:off x="6342120" y="2821320"/>
                  <a:ext cx="35640" cy="29160"/>
                </a:xfrm>
                <a:custGeom>
                  <a:avLst/>
                  <a:gdLst/>
                  <a:ahLst/>
                  <a:rect l="l" t="t" r="r" b="b"/>
                  <a:pathLst>
                    <a:path w="51" h="41">
                      <a:moveTo>
                        <a:pt x="0" y="14"/>
                      </a:moveTo>
                      <a:lnTo>
                        <a:pt x="23" y="41"/>
                      </a:lnTo>
                      <a:lnTo>
                        <a:pt x="51" y="23"/>
                      </a:lnTo>
                      <a:lnTo>
                        <a:pt x="28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rot="20780400">
                  <a:off x="6421320" y="2740680"/>
                  <a:ext cx="51480" cy="36720"/>
                </a:xfrm>
                <a:custGeom>
                  <a:avLst/>
                  <a:gdLst/>
                  <a:ahLst/>
                  <a:rect l="l" t="t" r="r" b="b"/>
                  <a:pathLst>
                    <a:path w="73" h="50">
                      <a:moveTo>
                        <a:pt x="32" y="13"/>
                      </a:moveTo>
                      <a:lnTo>
                        <a:pt x="45" y="22"/>
                      </a:lnTo>
                      <a:lnTo>
                        <a:pt x="73" y="0"/>
                      </a:lnTo>
                      <a:lnTo>
                        <a:pt x="59" y="45"/>
                      </a:lnTo>
                      <a:lnTo>
                        <a:pt x="32" y="50"/>
                      </a:lnTo>
                      <a:lnTo>
                        <a:pt x="0" y="18"/>
                      </a:lnTo>
                      <a:lnTo>
                        <a:pt x="32" y="13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rot="20780400">
                  <a:off x="6510600" y="2687400"/>
                  <a:ext cx="25920" cy="20160"/>
                </a:xfrm>
                <a:custGeom>
                  <a:avLst/>
                  <a:gdLst/>
                  <a:ahLst/>
                  <a:rect l="l" t="t" r="r" b="b"/>
                  <a:pathLst>
                    <a:path w="37" h="27">
                      <a:moveTo>
                        <a:pt x="18" y="0"/>
                      </a:moveTo>
                      <a:lnTo>
                        <a:pt x="32" y="9"/>
                      </a:lnTo>
                      <a:lnTo>
                        <a:pt x="37" y="27"/>
                      </a:lnTo>
                      <a:lnTo>
                        <a:pt x="0" y="2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20780400">
                  <a:off x="6019560" y="3511440"/>
                  <a:ext cx="38520" cy="2304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55" y="18"/>
                      </a:move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5" y="31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4" name=""/>
            <p:cNvSpPr/>
            <p:nvPr/>
          </p:nvSpPr>
          <p:spPr>
            <a:xfrm rot="20780400">
              <a:off x="6658200" y="4790160"/>
              <a:ext cx="383040" cy="174960"/>
            </a:xfrm>
            <a:custGeom>
              <a:avLst/>
              <a:gdLst/>
              <a:ahLst/>
              <a:rect l="l" t="t" r="r" b="b"/>
              <a:pathLst>
                <a:path w="535" h="237">
                  <a:moveTo>
                    <a:pt x="182" y="12"/>
                  </a:moveTo>
                  <a:lnTo>
                    <a:pt x="200" y="0"/>
                  </a:lnTo>
                  <a:lnTo>
                    <a:pt x="222" y="0"/>
                  </a:lnTo>
                  <a:lnTo>
                    <a:pt x="231" y="16"/>
                  </a:lnTo>
                  <a:lnTo>
                    <a:pt x="251" y="3"/>
                  </a:lnTo>
                  <a:lnTo>
                    <a:pt x="270" y="9"/>
                  </a:lnTo>
                  <a:lnTo>
                    <a:pt x="301" y="39"/>
                  </a:lnTo>
                  <a:lnTo>
                    <a:pt x="334" y="53"/>
                  </a:lnTo>
                  <a:lnTo>
                    <a:pt x="346" y="56"/>
                  </a:lnTo>
                  <a:lnTo>
                    <a:pt x="363" y="42"/>
                  </a:lnTo>
                  <a:lnTo>
                    <a:pt x="380" y="36"/>
                  </a:lnTo>
                  <a:lnTo>
                    <a:pt x="425" y="48"/>
                  </a:lnTo>
                  <a:lnTo>
                    <a:pt x="486" y="62"/>
                  </a:lnTo>
                  <a:lnTo>
                    <a:pt x="535" y="76"/>
                  </a:lnTo>
                  <a:lnTo>
                    <a:pt x="518" y="96"/>
                  </a:lnTo>
                  <a:lnTo>
                    <a:pt x="486" y="128"/>
                  </a:lnTo>
                  <a:lnTo>
                    <a:pt x="479" y="138"/>
                  </a:lnTo>
                  <a:lnTo>
                    <a:pt x="482" y="161"/>
                  </a:lnTo>
                  <a:lnTo>
                    <a:pt x="459" y="161"/>
                  </a:lnTo>
                  <a:lnTo>
                    <a:pt x="436" y="144"/>
                  </a:lnTo>
                  <a:lnTo>
                    <a:pt x="413" y="138"/>
                  </a:lnTo>
                  <a:lnTo>
                    <a:pt x="354" y="152"/>
                  </a:lnTo>
                  <a:lnTo>
                    <a:pt x="339" y="166"/>
                  </a:lnTo>
                  <a:lnTo>
                    <a:pt x="322" y="187"/>
                  </a:lnTo>
                  <a:lnTo>
                    <a:pt x="290" y="207"/>
                  </a:lnTo>
                  <a:lnTo>
                    <a:pt x="272" y="207"/>
                  </a:lnTo>
                  <a:lnTo>
                    <a:pt x="252" y="190"/>
                  </a:lnTo>
                  <a:lnTo>
                    <a:pt x="235" y="190"/>
                  </a:lnTo>
                  <a:lnTo>
                    <a:pt x="174" y="219"/>
                  </a:lnTo>
                  <a:lnTo>
                    <a:pt x="146" y="234"/>
                  </a:lnTo>
                  <a:lnTo>
                    <a:pt x="124" y="237"/>
                  </a:lnTo>
                  <a:lnTo>
                    <a:pt x="76" y="234"/>
                  </a:lnTo>
                  <a:lnTo>
                    <a:pt x="56" y="234"/>
                  </a:lnTo>
                  <a:lnTo>
                    <a:pt x="41" y="211"/>
                  </a:lnTo>
                  <a:lnTo>
                    <a:pt x="33" y="204"/>
                  </a:lnTo>
                  <a:lnTo>
                    <a:pt x="16" y="194"/>
                  </a:lnTo>
                  <a:lnTo>
                    <a:pt x="7" y="184"/>
                  </a:lnTo>
                  <a:lnTo>
                    <a:pt x="0" y="161"/>
                  </a:lnTo>
                  <a:lnTo>
                    <a:pt x="0" y="135"/>
                  </a:lnTo>
                  <a:lnTo>
                    <a:pt x="51" y="114"/>
                  </a:lnTo>
                  <a:lnTo>
                    <a:pt x="109" y="114"/>
                  </a:lnTo>
                  <a:lnTo>
                    <a:pt x="144" y="82"/>
                  </a:lnTo>
                  <a:lnTo>
                    <a:pt x="149" y="27"/>
                  </a:lnTo>
                  <a:lnTo>
                    <a:pt x="182" y="12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0400">
              <a:off x="6673320" y="5241600"/>
              <a:ext cx="258480" cy="246240"/>
            </a:xfrm>
            <a:custGeom>
              <a:avLst/>
              <a:gdLst/>
              <a:ahLst/>
              <a:rect l="l" t="t" r="r" b="b"/>
              <a:pathLst>
                <a:path w="360" h="335">
                  <a:moveTo>
                    <a:pt x="333" y="47"/>
                  </a:moveTo>
                  <a:lnTo>
                    <a:pt x="315" y="47"/>
                  </a:lnTo>
                  <a:lnTo>
                    <a:pt x="295" y="34"/>
                  </a:lnTo>
                  <a:lnTo>
                    <a:pt x="269" y="20"/>
                  </a:lnTo>
                  <a:lnTo>
                    <a:pt x="237" y="37"/>
                  </a:lnTo>
                  <a:lnTo>
                    <a:pt x="208" y="29"/>
                  </a:lnTo>
                  <a:lnTo>
                    <a:pt x="182" y="41"/>
                  </a:lnTo>
                  <a:lnTo>
                    <a:pt x="181" y="29"/>
                  </a:lnTo>
                  <a:lnTo>
                    <a:pt x="158" y="28"/>
                  </a:lnTo>
                  <a:lnTo>
                    <a:pt x="131" y="0"/>
                  </a:lnTo>
                  <a:lnTo>
                    <a:pt x="89" y="46"/>
                  </a:lnTo>
                  <a:lnTo>
                    <a:pt x="26" y="25"/>
                  </a:lnTo>
                  <a:lnTo>
                    <a:pt x="0" y="32"/>
                  </a:lnTo>
                  <a:lnTo>
                    <a:pt x="0" y="47"/>
                  </a:lnTo>
                  <a:lnTo>
                    <a:pt x="68" y="119"/>
                  </a:lnTo>
                  <a:lnTo>
                    <a:pt x="85" y="166"/>
                  </a:lnTo>
                  <a:lnTo>
                    <a:pt x="121" y="194"/>
                  </a:lnTo>
                  <a:lnTo>
                    <a:pt x="137" y="189"/>
                  </a:lnTo>
                  <a:lnTo>
                    <a:pt x="226" y="285"/>
                  </a:lnTo>
                  <a:lnTo>
                    <a:pt x="232" y="306"/>
                  </a:lnTo>
                  <a:lnTo>
                    <a:pt x="226" y="320"/>
                  </a:lnTo>
                  <a:lnTo>
                    <a:pt x="232" y="335"/>
                  </a:lnTo>
                  <a:lnTo>
                    <a:pt x="258" y="321"/>
                  </a:lnTo>
                  <a:lnTo>
                    <a:pt x="278" y="315"/>
                  </a:lnTo>
                  <a:lnTo>
                    <a:pt x="278" y="283"/>
                  </a:lnTo>
                  <a:lnTo>
                    <a:pt x="304" y="262"/>
                  </a:lnTo>
                  <a:lnTo>
                    <a:pt x="315" y="239"/>
                  </a:lnTo>
                  <a:lnTo>
                    <a:pt x="342" y="228"/>
                  </a:lnTo>
                  <a:lnTo>
                    <a:pt x="347" y="201"/>
                  </a:lnTo>
                  <a:lnTo>
                    <a:pt x="342" y="175"/>
                  </a:lnTo>
                  <a:lnTo>
                    <a:pt x="356" y="165"/>
                  </a:lnTo>
                  <a:lnTo>
                    <a:pt x="331" y="130"/>
                  </a:lnTo>
                  <a:lnTo>
                    <a:pt x="360" y="79"/>
                  </a:lnTo>
                  <a:lnTo>
                    <a:pt x="333" y="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0400">
              <a:off x="7078320" y="5478840"/>
              <a:ext cx="176760" cy="123120"/>
            </a:xfrm>
            <a:custGeom>
              <a:avLst/>
              <a:gdLst/>
              <a:ahLst/>
              <a:rect l="l" t="t" r="r" b="b"/>
              <a:pathLst>
                <a:path w="246" h="168">
                  <a:moveTo>
                    <a:pt x="9" y="51"/>
                  </a:moveTo>
                  <a:lnTo>
                    <a:pt x="51" y="22"/>
                  </a:lnTo>
                  <a:lnTo>
                    <a:pt x="79" y="17"/>
                  </a:lnTo>
                  <a:lnTo>
                    <a:pt x="106" y="9"/>
                  </a:lnTo>
                  <a:lnTo>
                    <a:pt x="129" y="9"/>
                  </a:lnTo>
                  <a:lnTo>
                    <a:pt x="152" y="0"/>
                  </a:lnTo>
                  <a:lnTo>
                    <a:pt x="191" y="9"/>
                  </a:lnTo>
                  <a:lnTo>
                    <a:pt x="214" y="8"/>
                  </a:lnTo>
                  <a:lnTo>
                    <a:pt x="237" y="31"/>
                  </a:lnTo>
                  <a:lnTo>
                    <a:pt x="234" y="96"/>
                  </a:lnTo>
                  <a:lnTo>
                    <a:pt x="246" y="104"/>
                  </a:lnTo>
                  <a:lnTo>
                    <a:pt x="229" y="131"/>
                  </a:lnTo>
                  <a:lnTo>
                    <a:pt x="174" y="142"/>
                  </a:lnTo>
                  <a:lnTo>
                    <a:pt x="152" y="136"/>
                  </a:lnTo>
                  <a:lnTo>
                    <a:pt x="136" y="168"/>
                  </a:lnTo>
                  <a:lnTo>
                    <a:pt x="95" y="165"/>
                  </a:lnTo>
                  <a:lnTo>
                    <a:pt x="79" y="160"/>
                  </a:lnTo>
                  <a:lnTo>
                    <a:pt x="54" y="159"/>
                  </a:lnTo>
                  <a:lnTo>
                    <a:pt x="41" y="145"/>
                  </a:lnTo>
                  <a:lnTo>
                    <a:pt x="32" y="149"/>
                  </a:lnTo>
                  <a:lnTo>
                    <a:pt x="13" y="136"/>
                  </a:lnTo>
                  <a:lnTo>
                    <a:pt x="0" y="96"/>
                  </a:lnTo>
                  <a:lnTo>
                    <a:pt x="10" y="76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0400">
              <a:off x="6836400" y="5113800"/>
              <a:ext cx="355320" cy="43092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84" y="41"/>
                  </a:moveTo>
                  <a:lnTo>
                    <a:pt x="183" y="5"/>
                  </a:lnTo>
                  <a:lnTo>
                    <a:pt x="229" y="0"/>
                  </a:lnTo>
                  <a:lnTo>
                    <a:pt x="256" y="2"/>
                  </a:lnTo>
                  <a:lnTo>
                    <a:pt x="267" y="9"/>
                  </a:lnTo>
                  <a:lnTo>
                    <a:pt x="274" y="19"/>
                  </a:lnTo>
                  <a:lnTo>
                    <a:pt x="276" y="29"/>
                  </a:lnTo>
                  <a:lnTo>
                    <a:pt x="285" y="32"/>
                  </a:lnTo>
                  <a:lnTo>
                    <a:pt x="297" y="55"/>
                  </a:lnTo>
                  <a:lnTo>
                    <a:pt x="299" y="89"/>
                  </a:lnTo>
                  <a:lnTo>
                    <a:pt x="311" y="101"/>
                  </a:lnTo>
                  <a:lnTo>
                    <a:pt x="340" y="101"/>
                  </a:lnTo>
                  <a:lnTo>
                    <a:pt x="358" y="148"/>
                  </a:lnTo>
                  <a:lnTo>
                    <a:pt x="358" y="180"/>
                  </a:lnTo>
                  <a:lnTo>
                    <a:pt x="370" y="201"/>
                  </a:lnTo>
                  <a:lnTo>
                    <a:pt x="384" y="201"/>
                  </a:lnTo>
                  <a:lnTo>
                    <a:pt x="413" y="180"/>
                  </a:lnTo>
                  <a:lnTo>
                    <a:pt x="429" y="194"/>
                  </a:lnTo>
                  <a:lnTo>
                    <a:pt x="431" y="221"/>
                  </a:lnTo>
                  <a:lnTo>
                    <a:pt x="461" y="238"/>
                  </a:lnTo>
                  <a:lnTo>
                    <a:pt x="457" y="267"/>
                  </a:lnTo>
                  <a:lnTo>
                    <a:pt x="458" y="274"/>
                  </a:lnTo>
                  <a:lnTo>
                    <a:pt x="463" y="279"/>
                  </a:lnTo>
                  <a:lnTo>
                    <a:pt x="452" y="294"/>
                  </a:lnTo>
                  <a:lnTo>
                    <a:pt x="449" y="312"/>
                  </a:lnTo>
                  <a:lnTo>
                    <a:pt x="466" y="349"/>
                  </a:lnTo>
                  <a:lnTo>
                    <a:pt x="490" y="353"/>
                  </a:lnTo>
                  <a:lnTo>
                    <a:pt x="498" y="372"/>
                  </a:lnTo>
                  <a:lnTo>
                    <a:pt x="490" y="408"/>
                  </a:lnTo>
                  <a:lnTo>
                    <a:pt x="454" y="440"/>
                  </a:lnTo>
                  <a:lnTo>
                    <a:pt x="463" y="498"/>
                  </a:lnTo>
                  <a:lnTo>
                    <a:pt x="449" y="522"/>
                  </a:lnTo>
                  <a:lnTo>
                    <a:pt x="458" y="549"/>
                  </a:lnTo>
                  <a:lnTo>
                    <a:pt x="413" y="540"/>
                  </a:lnTo>
                  <a:lnTo>
                    <a:pt x="390" y="549"/>
                  </a:lnTo>
                  <a:lnTo>
                    <a:pt x="367" y="549"/>
                  </a:lnTo>
                  <a:lnTo>
                    <a:pt x="340" y="557"/>
                  </a:lnTo>
                  <a:lnTo>
                    <a:pt x="312" y="562"/>
                  </a:lnTo>
                  <a:lnTo>
                    <a:pt x="270" y="589"/>
                  </a:lnTo>
                  <a:lnTo>
                    <a:pt x="271" y="536"/>
                  </a:lnTo>
                  <a:lnTo>
                    <a:pt x="262" y="522"/>
                  </a:lnTo>
                  <a:lnTo>
                    <a:pt x="233" y="518"/>
                  </a:lnTo>
                  <a:lnTo>
                    <a:pt x="224" y="495"/>
                  </a:lnTo>
                  <a:lnTo>
                    <a:pt x="206" y="493"/>
                  </a:lnTo>
                  <a:lnTo>
                    <a:pt x="198" y="499"/>
                  </a:lnTo>
                  <a:lnTo>
                    <a:pt x="160" y="493"/>
                  </a:lnTo>
                  <a:lnTo>
                    <a:pt x="146" y="504"/>
                  </a:lnTo>
                  <a:lnTo>
                    <a:pt x="139" y="545"/>
                  </a:lnTo>
                  <a:lnTo>
                    <a:pt x="124" y="577"/>
                  </a:lnTo>
                  <a:lnTo>
                    <a:pt x="20" y="486"/>
                  </a:lnTo>
                  <a:lnTo>
                    <a:pt x="0" y="443"/>
                  </a:lnTo>
                  <a:lnTo>
                    <a:pt x="28" y="431"/>
                  </a:lnTo>
                  <a:lnTo>
                    <a:pt x="51" y="420"/>
                  </a:lnTo>
                  <a:lnTo>
                    <a:pt x="51" y="385"/>
                  </a:lnTo>
                  <a:lnTo>
                    <a:pt x="73" y="372"/>
                  </a:lnTo>
                  <a:lnTo>
                    <a:pt x="84" y="347"/>
                  </a:lnTo>
                  <a:lnTo>
                    <a:pt x="110" y="330"/>
                  </a:lnTo>
                  <a:lnTo>
                    <a:pt x="114" y="308"/>
                  </a:lnTo>
                  <a:lnTo>
                    <a:pt x="111" y="283"/>
                  </a:lnTo>
                  <a:lnTo>
                    <a:pt x="128" y="270"/>
                  </a:lnTo>
                  <a:lnTo>
                    <a:pt x="105" y="235"/>
                  </a:lnTo>
                  <a:lnTo>
                    <a:pt x="130" y="187"/>
                  </a:lnTo>
                  <a:lnTo>
                    <a:pt x="102" y="156"/>
                  </a:lnTo>
                  <a:lnTo>
                    <a:pt x="110" y="121"/>
                  </a:lnTo>
                  <a:lnTo>
                    <a:pt x="84" y="89"/>
                  </a:lnTo>
                  <a:lnTo>
                    <a:pt x="84" y="4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0400">
              <a:off x="7741080" y="4659120"/>
              <a:ext cx="293400" cy="270000"/>
            </a:xfrm>
            <a:custGeom>
              <a:avLst/>
              <a:gdLst/>
              <a:ahLst/>
              <a:rect l="l" t="t" r="r" b="b"/>
              <a:pathLst>
                <a:path w="408" h="367">
                  <a:moveTo>
                    <a:pt x="408" y="0"/>
                  </a:moveTo>
                  <a:lnTo>
                    <a:pt x="299" y="29"/>
                  </a:lnTo>
                  <a:lnTo>
                    <a:pt x="224" y="79"/>
                  </a:lnTo>
                  <a:lnTo>
                    <a:pt x="119" y="120"/>
                  </a:lnTo>
                  <a:lnTo>
                    <a:pt x="89" y="155"/>
                  </a:lnTo>
                  <a:lnTo>
                    <a:pt x="43" y="166"/>
                  </a:lnTo>
                  <a:lnTo>
                    <a:pt x="0" y="170"/>
                  </a:lnTo>
                  <a:lnTo>
                    <a:pt x="29" y="201"/>
                  </a:lnTo>
                  <a:lnTo>
                    <a:pt x="66" y="205"/>
                  </a:lnTo>
                  <a:lnTo>
                    <a:pt x="89" y="219"/>
                  </a:lnTo>
                  <a:lnTo>
                    <a:pt x="130" y="260"/>
                  </a:lnTo>
                  <a:lnTo>
                    <a:pt x="137" y="297"/>
                  </a:lnTo>
                  <a:lnTo>
                    <a:pt x="157" y="306"/>
                  </a:lnTo>
                  <a:lnTo>
                    <a:pt x="184" y="307"/>
                  </a:lnTo>
                  <a:lnTo>
                    <a:pt x="206" y="289"/>
                  </a:lnTo>
                  <a:lnTo>
                    <a:pt x="216" y="306"/>
                  </a:lnTo>
                  <a:lnTo>
                    <a:pt x="239" y="294"/>
                  </a:lnTo>
                  <a:lnTo>
                    <a:pt x="276" y="292"/>
                  </a:lnTo>
                  <a:lnTo>
                    <a:pt x="253" y="339"/>
                  </a:lnTo>
                  <a:lnTo>
                    <a:pt x="219" y="356"/>
                  </a:lnTo>
                  <a:lnTo>
                    <a:pt x="197" y="353"/>
                  </a:lnTo>
                  <a:lnTo>
                    <a:pt x="162" y="338"/>
                  </a:lnTo>
                  <a:lnTo>
                    <a:pt x="151" y="36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0400">
              <a:off x="7320600" y="4755240"/>
              <a:ext cx="244800" cy="279000"/>
            </a:xfrm>
            <a:custGeom>
              <a:avLst/>
              <a:gdLst/>
              <a:ahLst/>
              <a:rect l="l" t="t" r="r" b="b"/>
              <a:pathLst>
                <a:path w="342" h="379">
                  <a:moveTo>
                    <a:pt x="184" y="379"/>
                  </a:moveTo>
                  <a:lnTo>
                    <a:pt x="164" y="357"/>
                  </a:lnTo>
                  <a:lnTo>
                    <a:pt x="160" y="307"/>
                  </a:lnTo>
                  <a:lnTo>
                    <a:pt x="138" y="271"/>
                  </a:lnTo>
                  <a:lnTo>
                    <a:pt x="137" y="239"/>
                  </a:lnTo>
                  <a:lnTo>
                    <a:pt x="143" y="216"/>
                  </a:lnTo>
                  <a:lnTo>
                    <a:pt x="125" y="182"/>
                  </a:lnTo>
                  <a:lnTo>
                    <a:pt x="102" y="156"/>
                  </a:lnTo>
                  <a:lnTo>
                    <a:pt x="93" y="129"/>
                  </a:lnTo>
                  <a:lnTo>
                    <a:pt x="88" y="111"/>
                  </a:lnTo>
                  <a:lnTo>
                    <a:pt x="61" y="93"/>
                  </a:lnTo>
                  <a:lnTo>
                    <a:pt x="46" y="68"/>
                  </a:lnTo>
                  <a:lnTo>
                    <a:pt x="29" y="41"/>
                  </a:lnTo>
                  <a:lnTo>
                    <a:pt x="0" y="23"/>
                  </a:lnTo>
                  <a:lnTo>
                    <a:pt x="46" y="0"/>
                  </a:lnTo>
                  <a:lnTo>
                    <a:pt x="82" y="4"/>
                  </a:lnTo>
                  <a:lnTo>
                    <a:pt x="105" y="9"/>
                  </a:lnTo>
                  <a:lnTo>
                    <a:pt x="164" y="52"/>
                  </a:lnTo>
                  <a:lnTo>
                    <a:pt x="178" y="59"/>
                  </a:lnTo>
                  <a:lnTo>
                    <a:pt x="221" y="68"/>
                  </a:lnTo>
                  <a:lnTo>
                    <a:pt x="246" y="105"/>
                  </a:lnTo>
                  <a:lnTo>
                    <a:pt x="234" y="132"/>
                  </a:lnTo>
                  <a:lnTo>
                    <a:pt x="251" y="169"/>
                  </a:lnTo>
                  <a:lnTo>
                    <a:pt x="292" y="196"/>
                  </a:lnTo>
                  <a:lnTo>
                    <a:pt x="307" y="219"/>
                  </a:lnTo>
                  <a:lnTo>
                    <a:pt x="333" y="228"/>
                  </a:lnTo>
                  <a:lnTo>
                    <a:pt x="342" y="230"/>
                  </a:lnTo>
                  <a:lnTo>
                    <a:pt x="326" y="242"/>
                  </a:lnTo>
                  <a:lnTo>
                    <a:pt x="283" y="242"/>
                  </a:lnTo>
                  <a:lnTo>
                    <a:pt x="246" y="239"/>
                  </a:lnTo>
                  <a:lnTo>
                    <a:pt x="230" y="246"/>
                  </a:lnTo>
                  <a:lnTo>
                    <a:pt x="234" y="287"/>
                  </a:lnTo>
                  <a:lnTo>
                    <a:pt x="228" y="319"/>
                  </a:lnTo>
                  <a:lnTo>
                    <a:pt x="192" y="357"/>
                  </a:lnTo>
                  <a:lnTo>
                    <a:pt x="184" y="37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0400">
              <a:off x="6921360" y="4015080"/>
              <a:ext cx="581400" cy="487440"/>
            </a:xfrm>
            <a:custGeom>
              <a:avLst/>
              <a:gdLst/>
              <a:ahLst/>
              <a:rect l="l" t="t" r="r" b="b"/>
              <a:pathLst>
                <a:path w="813" h="663">
                  <a:moveTo>
                    <a:pt x="329" y="15"/>
                  </a:moveTo>
                  <a:lnTo>
                    <a:pt x="307" y="42"/>
                  </a:lnTo>
                  <a:lnTo>
                    <a:pt x="292" y="66"/>
                  </a:lnTo>
                  <a:lnTo>
                    <a:pt x="265" y="69"/>
                  </a:lnTo>
                  <a:lnTo>
                    <a:pt x="237" y="79"/>
                  </a:lnTo>
                  <a:lnTo>
                    <a:pt x="250" y="97"/>
                  </a:lnTo>
                  <a:lnTo>
                    <a:pt x="250" y="106"/>
                  </a:lnTo>
                  <a:lnTo>
                    <a:pt x="250" y="143"/>
                  </a:lnTo>
                  <a:lnTo>
                    <a:pt x="225" y="146"/>
                  </a:lnTo>
                  <a:lnTo>
                    <a:pt x="201" y="170"/>
                  </a:lnTo>
                  <a:lnTo>
                    <a:pt x="201" y="197"/>
                  </a:lnTo>
                  <a:lnTo>
                    <a:pt x="198" y="209"/>
                  </a:lnTo>
                  <a:lnTo>
                    <a:pt x="189" y="225"/>
                  </a:lnTo>
                  <a:lnTo>
                    <a:pt x="189" y="298"/>
                  </a:lnTo>
                  <a:lnTo>
                    <a:pt x="174" y="307"/>
                  </a:lnTo>
                  <a:lnTo>
                    <a:pt x="152" y="295"/>
                  </a:lnTo>
                  <a:lnTo>
                    <a:pt x="113" y="325"/>
                  </a:lnTo>
                  <a:lnTo>
                    <a:pt x="85" y="352"/>
                  </a:lnTo>
                  <a:lnTo>
                    <a:pt x="58" y="334"/>
                  </a:lnTo>
                  <a:lnTo>
                    <a:pt x="46" y="334"/>
                  </a:lnTo>
                  <a:lnTo>
                    <a:pt x="21" y="340"/>
                  </a:lnTo>
                  <a:lnTo>
                    <a:pt x="28" y="380"/>
                  </a:lnTo>
                  <a:lnTo>
                    <a:pt x="40" y="419"/>
                  </a:lnTo>
                  <a:lnTo>
                    <a:pt x="46" y="447"/>
                  </a:lnTo>
                  <a:lnTo>
                    <a:pt x="43" y="483"/>
                  </a:lnTo>
                  <a:lnTo>
                    <a:pt x="28" y="514"/>
                  </a:lnTo>
                  <a:lnTo>
                    <a:pt x="0" y="538"/>
                  </a:lnTo>
                  <a:lnTo>
                    <a:pt x="9" y="550"/>
                  </a:lnTo>
                  <a:lnTo>
                    <a:pt x="31" y="565"/>
                  </a:lnTo>
                  <a:lnTo>
                    <a:pt x="15" y="593"/>
                  </a:lnTo>
                  <a:lnTo>
                    <a:pt x="18" y="645"/>
                  </a:lnTo>
                  <a:lnTo>
                    <a:pt x="58" y="645"/>
                  </a:lnTo>
                  <a:lnTo>
                    <a:pt x="76" y="626"/>
                  </a:lnTo>
                  <a:lnTo>
                    <a:pt x="168" y="620"/>
                  </a:lnTo>
                  <a:lnTo>
                    <a:pt x="247" y="623"/>
                  </a:lnTo>
                  <a:lnTo>
                    <a:pt x="323" y="635"/>
                  </a:lnTo>
                  <a:lnTo>
                    <a:pt x="390" y="648"/>
                  </a:lnTo>
                  <a:lnTo>
                    <a:pt x="457" y="645"/>
                  </a:lnTo>
                  <a:lnTo>
                    <a:pt x="487" y="635"/>
                  </a:lnTo>
                  <a:lnTo>
                    <a:pt x="517" y="632"/>
                  </a:lnTo>
                  <a:lnTo>
                    <a:pt x="554" y="651"/>
                  </a:lnTo>
                  <a:lnTo>
                    <a:pt x="618" y="635"/>
                  </a:lnTo>
                  <a:lnTo>
                    <a:pt x="633" y="663"/>
                  </a:lnTo>
                  <a:lnTo>
                    <a:pt x="651" y="632"/>
                  </a:lnTo>
                  <a:lnTo>
                    <a:pt x="654" y="581"/>
                  </a:lnTo>
                  <a:lnTo>
                    <a:pt x="700" y="556"/>
                  </a:lnTo>
                  <a:lnTo>
                    <a:pt x="739" y="550"/>
                  </a:lnTo>
                  <a:lnTo>
                    <a:pt x="739" y="541"/>
                  </a:lnTo>
                  <a:lnTo>
                    <a:pt x="712" y="480"/>
                  </a:lnTo>
                  <a:lnTo>
                    <a:pt x="700" y="444"/>
                  </a:lnTo>
                  <a:lnTo>
                    <a:pt x="724" y="432"/>
                  </a:lnTo>
                  <a:lnTo>
                    <a:pt x="761" y="438"/>
                  </a:lnTo>
                  <a:lnTo>
                    <a:pt x="813" y="416"/>
                  </a:lnTo>
                  <a:lnTo>
                    <a:pt x="813" y="359"/>
                  </a:lnTo>
                  <a:lnTo>
                    <a:pt x="758" y="340"/>
                  </a:lnTo>
                  <a:lnTo>
                    <a:pt x="709" y="331"/>
                  </a:lnTo>
                  <a:lnTo>
                    <a:pt x="682" y="282"/>
                  </a:lnTo>
                  <a:lnTo>
                    <a:pt x="685" y="234"/>
                  </a:lnTo>
                  <a:lnTo>
                    <a:pt x="636" y="185"/>
                  </a:lnTo>
                  <a:lnTo>
                    <a:pt x="609" y="149"/>
                  </a:lnTo>
                  <a:lnTo>
                    <a:pt x="606" y="115"/>
                  </a:lnTo>
                  <a:lnTo>
                    <a:pt x="612" y="94"/>
                  </a:lnTo>
                  <a:lnTo>
                    <a:pt x="612" y="51"/>
                  </a:lnTo>
                  <a:lnTo>
                    <a:pt x="563" y="18"/>
                  </a:lnTo>
                  <a:lnTo>
                    <a:pt x="508" y="18"/>
                  </a:lnTo>
                  <a:lnTo>
                    <a:pt x="460" y="27"/>
                  </a:lnTo>
                  <a:lnTo>
                    <a:pt x="438" y="9"/>
                  </a:lnTo>
                  <a:lnTo>
                    <a:pt x="380" y="0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0400">
              <a:off x="6979680" y="4330440"/>
              <a:ext cx="1121400" cy="756360"/>
            </a:xfrm>
            <a:custGeom>
              <a:avLst/>
              <a:gdLst/>
              <a:ahLst/>
              <a:rect l="l" t="t" r="r" b="b"/>
              <a:pathLst>
                <a:path w="1567" h="1028">
                  <a:moveTo>
                    <a:pt x="815" y="30"/>
                  </a:moveTo>
                  <a:lnTo>
                    <a:pt x="855" y="24"/>
                  </a:lnTo>
                  <a:lnTo>
                    <a:pt x="907" y="9"/>
                  </a:lnTo>
                  <a:lnTo>
                    <a:pt x="958" y="0"/>
                  </a:lnTo>
                  <a:lnTo>
                    <a:pt x="1010" y="9"/>
                  </a:lnTo>
                  <a:lnTo>
                    <a:pt x="1035" y="55"/>
                  </a:lnTo>
                  <a:lnTo>
                    <a:pt x="1071" y="94"/>
                  </a:lnTo>
                  <a:lnTo>
                    <a:pt x="1141" y="131"/>
                  </a:lnTo>
                  <a:lnTo>
                    <a:pt x="1187" y="170"/>
                  </a:lnTo>
                  <a:lnTo>
                    <a:pt x="1226" y="213"/>
                  </a:lnTo>
                  <a:lnTo>
                    <a:pt x="1324" y="213"/>
                  </a:lnTo>
                  <a:lnTo>
                    <a:pt x="1354" y="234"/>
                  </a:lnTo>
                  <a:lnTo>
                    <a:pt x="1409" y="255"/>
                  </a:lnTo>
                  <a:lnTo>
                    <a:pt x="1470" y="258"/>
                  </a:lnTo>
                  <a:lnTo>
                    <a:pt x="1537" y="277"/>
                  </a:lnTo>
                  <a:lnTo>
                    <a:pt x="1567" y="356"/>
                  </a:lnTo>
                  <a:lnTo>
                    <a:pt x="1552" y="444"/>
                  </a:lnTo>
                  <a:lnTo>
                    <a:pt x="1518" y="487"/>
                  </a:lnTo>
                  <a:lnTo>
                    <a:pt x="1464" y="505"/>
                  </a:lnTo>
                  <a:lnTo>
                    <a:pt x="1445" y="529"/>
                  </a:lnTo>
                  <a:lnTo>
                    <a:pt x="1439" y="557"/>
                  </a:lnTo>
                  <a:lnTo>
                    <a:pt x="1314" y="593"/>
                  </a:lnTo>
                  <a:lnTo>
                    <a:pt x="1244" y="642"/>
                  </a:lnTo>
                  <a:lnTo>
                    <a:pt x="1138" y="684"/>
                  </a:lnTo>
                  <a:lnTo>
                    <a:pt x="1108" y="718"/>
                  </a:lnTo>
                  <a:lnTo>
                    <a:pt x="1025" y="730"/>
                  </a:lnTo>
                  <a:lnTo>
                    <a:pt x="1056" y="763"/>
                  </a:lnTo>
                  <a:lnTo>
                    <a:pt x="1095" y="763"/>
                  </a:lnTo>
                  <a:lnTo>
                    <a:pt x="1156" y="821"/>
                  </a:lnTo>
                  <a:lnTo>
                    <a:pt x="1162" y="861"/>
                  </a:lnTo>
                  <a:lnTo>
                    <a:pt x="1196" y="867"/>
                  </a:lnTo>
                  <a:lnTo>
                    <a:pt x="1214" y="867"/>
                  </a:lnTo>
                  <a:lnTo>
                    <a:pt x="1229" y="849"/>
                  </a:lnTo>
                  <a:lnTo>
                    <a:pt x="1251" y="867"/>
                  </a:lnTo>
                  <a:lnTo>
                    <a:pt x="1272" y="849"/>
                  </a:lnTo>
                  <a:lnTo>
                    <a:pt x="1299" y="852"/>
                  </a:lnTo>
                  <a:lnTo>
                    <a:pt x="1275" y="900"/>
                  </a:lnTo>
                  <a:lnTo>
                    <a:pt x="1244" y="919"/>
                  </a:lnTo>
                  <a:lnTo>
                    <a:pt x="1208" y="903"/>
                  </a:lnTo>
                  <a:lnTo>
                    <a:pt x="1190" y="894"/>
                  </a:lnTo>
                  <a:lnTo>
                    <a:pt x="1181" y="925"/>
                  </a:lnTo>
                  <a:lnTo>
                    <a:pt x="1120" y="967"/>
                  </a:lnTo>
                  <a:lnTo>
                    <a:pt x="1101" y="995"/>
                  </a:lnTo>
                  <a:lnTo>
                    <a:pt x="1083" y="1028"/>
                  </a:lnTo>
                  <a:lnTo>
                    <a:pt x="1038" y="1016"/>
                  </a:lnTo>
                  <a:lnTo>
                    <a:pt x="1038" y="998"/>
                  </a:lnTo>
                  <a:lnTo>
                    <a:pt x="1047" y="967"/>
                  </a:lnTo>
                  <a:lnTo>
                    <a:pt x="1028" y="913"/>
                  </a:lnTo>
                  <a:lnTo>
                    <a:pt x="1004" y="909"/>
                  </a:lnTo>
                  <a:lnTo>
                    <a:pt x="980" y="909"/>
                  </a:lnTo>
                  <a:lnTo>
                    <a:pt x="937" y="897"/>
                  </a:lnTo>
                  <a:lnTo>
                    <a:pt x="946" y="867"/>
                  </a:lnTo>
                  <a:lnTo>
                    <a:pt x="968" y="836"/>
                  </a:lnTo>
                  <a:lnTo>
                    <a:pt x="974" y="806"/>
                  </a:lnTo>
                  <a:lnTo>
                    <a:pt x="1013" y="779"/>
                  </a:lnTo>
                  <a:lnTo>
                    <a:pt x="1004" y="751"/>
                  </a:lnTo>
                  <a:lnTo>
                    <a:pt x="958" y="763"/>
                  </a:lnTo>
                  <a:lnTo>
                    <a:pt x="931" y="776"/>
                  </a:lnTo>
                  <a:lnTo>
                    <a:pt x="901" y="770"/>
                  </a:lnTo>
                  <a:lnTo>
                    <a:pt x="901" y="782"/>
                  </a:lnTo>
                  <a:lnTo>
                    <a:pt x="861" y="760"/>
                  </a:lnTo>
                  <a:lnTo>
                    <a:pt x="864" y="748"/>
                  </a:lnTo>
                  <a:lnTo>
                    <a:pt x="898" y="736"/>
                  </a:lnTo>
                  <a:lnTo>
                    <a:pt x="879" y="712"/>
                  </a:lnTo>
                  <a:lnTo>
                    <a:pt x="849" y="718"/>
                  </a:lnTo>
                  <a:lnTo>
                    <a:pt x="828" y="739"/>
                  </a:lnTo>
                  <a:lnTo>
                    <a:pt x="809" y="748"/>
                  </a:lnTo>
                  <a:lnTo>
                    <a:pt x="806" y="776"/>
                  </a:lnTo>
                  <a:lnTo>
                    <a:pt x="785" y="779"/>
                  </a:lnTo>
                  <a:lnTo>
                    <a:pt x="806" y="800"/>
                  </a:lnTo>
                  <a:lnTo>
                    <a:pt x="806" y="821"/>
                  </a:lnTo>
                  <a:lnTo>
                    <a:pt x="782" y="849"/>
                  </a:lnTo>
                  <a:lnTo>
                    <a:pt x="752" y="836"/>
                  </a:lnTo>
                  <a:lnTo>
                    <a:pt x="773" y="867"/>
                  </a:lnTo>
                  <a:lnTo>
                    <a:pt x="761" y="873"/>
                  </a:lnTo>
                  <a:lnTo>
                    <a:pt x="721" y="836"/>
                  </a:lnTo>
                  <a:lnTo>
                    <a:pt x="733" y="885"/>
                  </a:lnTo>
                  <a:lnTo>
                    <a:pt x="761" y="903"/>
                  </a:lnTo>
                  <a:lnTo>
                    <a:pt x="733" y="931"/>
                  </a:lnTo>
                  <a:lnTo>
                    <a:pt x="721" y="916"/>
                  </a:lnTo>
                  <a:lnTo>
                    <a:pt x="691" y="913"/>
                  </a:lnTo>
                  <a:lnTo>
                    <a:pt x="672" y="922"/>
                  </a:lnTo>
                  <a:lnTo>
                    <a:pt x="609" y="925"/>
                  </a:lnTo>
                  <a:lnTo>
                    <a:pt x="612" y="897"/>
                  </a:lnTo>
                  <a:lnTo>
                    <a:pt x="654" y="855"/>
                  </a:lnTo>
                  <a:lnTo>
                    <a:pt x="657" y="815"/>
                  </a:lnTo>
                  <a:lnTo>
                    <a:pt x="660" y="785"/>
                  </a:lnTo>
                  <a:lnTo>
                    <a:pt x="697" y="779"/>
                  </a:lnTo>
                  <a:lnTo>
                    <a:pt x="752" y="782"/>
                  </a:lnTo>
                  <a:lnTo>
                    <a:pt x="764" y="770"/>
                  </a:lnTo>
                  <a:lnTo>
                    <a:pt x="727" y="757"/>
                  </a:lnTo>
                  <a:lnTo>
                    <a:pt x="715" y="736"/>
                  </a:lnTo>
                  <a:lnTo>
                    <a:pt x="672" y="712"/>
                  </a:lnTo>
                  <a:lnTo>
                    <a:pt x="657" y="669"/>
                  </a:lnTo>
                  <a:lnTo>
                    <a:pt x="666" y="648"/>
                  </a:lnTo>
                  <a:lnTo>
                    <a:pt x="642" y="605"/>
                  </a:lnTo>
                  <a:lnTo>
                    <a:pt x="584" y="596"/>
                  </a:lnTo>
                  <a:lnTo>
                    <a:pt x="523" y="547"/>
                  </a:lnTo>
                  <a:lnTo>
                    <a:pt x="469" y="544"/>
                  </a:lnTo>
                  <a:lnTo>
                    <a:pt x="429" y="557"/>
                  </a:lnTo>
                  <a:lnTo>
                    <a:pt x="414" y="578"/>
                  </a:lnTo>
                  <a:lnTo>
                    <a:pt x="396" y="590"/>
                  </a:lnTo>
                  <a:lnTo>
                    <a:pt x="350" y="593"/>
                  </a:lnTo>
                  <a:lnTo>
                    <a:pt x="326" y="614"/>
                  </a:lnTo>
                  <a:lnTo>
                    <a:pt x="283" y="614"/>
                  </a:lnTo>
                  <a:lnTo>
                    <a:pt x="268" y="596"/>
                  </a:lnTo>
                  <a:lnTo>
                    <a:pt x="250" y="590"/>
                  </a:lnTo>
                  <a:lnTo>
                    <a:pt x="207" y="605"/>
                  </a:lnTo>
                  <a:lnTo>
                    <a:pt x="177" y="608"/>
                  </a:lnTo>
                  <a:lnTo>
                    <a:pt x="155" y="590"/>
                  </a:lnTo>
                  <a:lnTo>
                    <a:pt x="122" y="596"/>
                  </a:lnTo>
                  <a:lnTo>
                    <a:pt x="91" y="614"/>
                  </a:lnTo>
                  <a:lnTo>
                    <a:pt x="76" y="608"/>
                  </a:lnTo>
                  <a:lnTo>
                    <a:pt x="37" y="608"/>
                  </a:lnTo>
                  <a:lnTo>
                    <a:pt x="0" y="547"/>
                  </a:lnTo>
                  <a:lnTo>
                    <a:pt x="6" y="520"/>
                  </a:lnTo>
                  <a:lnTo>
                    <a:pt x="76" y="456"/>
                  </a:lnTo>
                  <a:lnTo>
                    <a:pt x="55" y="383"/>
                  </a:lnTo>
                  <a:lnTo>
                    <a:pt x="137" y="316"/>
                  </a:lnTo>
                  <a:lnTo>
                    <a:pt x="161" y="277"/>
                  </a:lnTo>
                  <a:lnTo>
                    <a:pt x="158" y="237"/>
                  </a:lnTo>
                  <a:lnTo>
                    <a:pt x="140" y="188"/>
                  </a:lnTo>
                  <a:lnTo>
                    <a:pt x="119" y="146"/>
                  </a:lnTo>
                  <a:lnTo>
                    <a:pt x="91" y="125"/>
                  </a:lnTo>
                  <a:lnTo>
                    <a:pt x="137" y="128"/>
                  </a:lnTo>
                  <a:lnTo>
                    <a:pt x="155" y="106"/>
                  </a:lnTo>
                  <a:lnTo>
                    <a:pt x="240" y="103"/>
                  </a:lnTo>
                  <a:lnTo>
                    <a:pt x="323" y="103"/>
                  </a:lnTo>
                  <a:lnTo>
                    <a:pt x="344" y="103"/>
                  </a:lnTo>
                  <a:lnTo>
                    <a:pt x="453" y="128"/>
                  </a:lnTo>
                  <a:lnTo>
                    <a:pt x="533" y="128"/>
                  </a:lnTo>
                  <a:lnTo>
                    <a:pt x="566" y="115"/>
                  </a:lnTo>
                  <a:lnTo>
                    <a:pt x="596" y="115"/>
                  </a:lnTo>
                  <a:lnTo>
                    <a:pt x="630" y="128"/>
                  </a:lnTo>
                  <a:lnTo>
                    <a:pt x="697" y="118"/>
                  </a:lnTo>
                  <a:lnTo>
                    <a:pt x="709" y="140"/>
                  </a:lnTo>
                  <a:lnTo>
                    <a:pt x="733" y="112"/>
                  </a:lnTo>
                  <a:lnTo>
                    <a:pt x="730" y="64"/>
                  </a:lnTo>
                  <a:lnTo>
                    <a:pt x="785" y="33"/>
                  </a:lnTo>
                  <a:lnTo>
                    <a:pt x="815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0400">
              <a:off x="8270280" y="4782240"/>
              <a:ext cx="652320" cy="176760"/>
            </a:xfrm>
            <a:custGeom>
              <a:avLst/>
              <a:gdLst/>
              <a:ahLst/>
              <a:rect l="l" t="t" r="r" b="b"/>
              <a:pathLst>
                <a:path w="911" h="240">
                  <a:moveTo>
                    <a:pt x="0" y="46"/>
                  </a:moveTo>
                  <a:lnTo>
                    <a:pt x="88" y="64"/>
                  </a:lnTo>
                  <a:lnTo>
                    <a:pt x="158" y="82"/>
                  </a:lnTo>
                  <a:lnTo>
                    <a:pt x="225" y="97"/>
                  </a:lnTo>
                  <a:lnTo>
                    <a:pt x="265" y="143"/>
                  </a:lnTo>
                  <a:lnTo>
                    <a:pt x="274" y="186"/>
                  </a:lnTo>
                  <a:lnTo>
                    <a:pt x="280" y="225"/>
                  </a:lnTo>
                  <a:lnTo>
                    <a:pt x="360" y="228"/>
                  </a:lnTo>
                  <a:lnTo>
                    <a:pt x="394" y="189"/>
                  </a:lnTo>
                  <a:lnTo>
                    <a:pt x="418" y="195"/>
                  </a:lnTo>
                  <a:lnTo>
                    <a:pt x="437" y="219"/>
                  </a:lnTo>
                  <a:lnTo>
                    <a:pt x="494" y="228"/>
                  </a:lnTo>
                  <a:lnTo>
                    <a:pt x="531" y="240"/>
                  </a:lnTo>
                  <a:lnTo>
                    <a:pt x="595" y="210"/>
                  </a:lnTo>
                  <a:lnTo>
                    <a:pt x="656" y="207"/>
                  </a:lnTo>
                  <a:lnTo>
                    <a:pt x="707" y="170"/>
                  </a:lnTo>
                  <a:lnTo>
                    <a:pt x="747" y="155"/>
                  </a:lnTo>
                  <a:lnTo>
                    <a:pt x="796" y="180"/>
                  </a:lnTo>
                  <a:lnTo>
                    <a:pt x="875" y="186"/>
                  </a:lnTo>
                  <a:lnTo>
                    <a:pt x="911" y="174"/>
                  </a:lnTo>
                  <a:lnTo>
                    <a:pt x="887" y="146"/>
                  </a:lnTo>
                  <a:lnTo>
                    <a:pt x="823" y="128"/>
                  </a:lnTo>
                  <a:lnTo>
                    <a:pt x="799" y="79"/>
                  </a:lnTo>
                  <a:lnTo>
                    <a:pt x="762" y="64"/>
                  </a:lnTo>
                  <a:lnTo>
                    <a:pt x="671" y="52"/>
                  </a:lnTo>
                  <a:lnTo>
                    <a:pt x="619" y="12"/>
                  </a:lnTo>
                  <a:lnTo>
                    <a:pt x="576" y="0"/>
                  </a:lnTo>
                  <a:lnTo>
                    <a:pt x="500" y="3"/>
                  </a:lnTo>
                  <a:lnTo>
                    <a:pt x="446" y="37"/>
                  </a:lnTo>
                  <a:lnTo>
                    <a:pt x="388" y="43"/>
                  </a:lnTo>
                  <a:lnTo>
                    <a:pt x="315" y="15"/>
                  </a:lnTo>
                  <a:lnTo>
                    <a:pt x="234" y="3"/>
                  </a:lnTo>
                  <a:lnTo>
                    <a:pt x="137" y="15"/>
                  </a:lnTo>
                  <a:lnTo>
                    <a:pt x="67" y="18"/>
                  </a:lnTo>
                  <a:lnTo>
                    <a:pt x="18" y="2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0400">
              <a:off x="8036640" y="5807160"/>
              <a:ext cx="232200" cy="111960"/>
            </a:xfrm>
            <a:custGeom>
              <a:avLst/>
              <a:gdLst/>
              <a:ahLst/>
              <a:rect l="l" t="t" r="r" b="b"/>
              <a:pathLst>
                <a:path w="218" h="137">
                  <a:moveTo>
                    <a:pt x="2" y="87"/>
                  </a:moveTo>
                  <a:lnTo>
                    <a:pt x="14" y="78"/>
                  </a:lnTo>
                  <a:lnTo>
                    <a:pt x="36" y="68"/>
                  </a:lnTo>
                  <a:lnTo>
                    <a:pt x="59" y="66"/>
                  </a:lnTo>
                  <a:lnTo>
                    <a:pt x="71" y="53"/>
                  </a:lnTo>
                  <a:lnTo>
                    <a:pt x="87" y="53"/>
                  </a:lnTo>
                  <a:lnTo>
                    <a:pt x="98" y="54"/>
                  </a:lnTo>
                  <a:lnTo>
                    <a:pt x="108" y="56"/>
                  </a:lnTo>
                  <a:lnTo>
                    <a:pt x="120" y="47"/>
                  </a:lnTo>
                  <a:lnTo>
                    <a:pt x="135" y="47"/>
                  </a:lnTo>
                  <a:lnTo>
                    <a:pt x="165" y="30"/>
                  </a:lnTo>
                  <a:lnTo>
                    <a:pt x="171" y="21"/>
                  </a:lnTo>
                  <a:lnTo>
                    <a:pt x="183" y="6"/>
                  </a:lnTo>
                  <a:lnTo>
                    <a:pt x="209" y="6"/>
                  </a:lnTo>
                  <a:lnTo>
                    <a:pt x="218" y="0"/>
                  </a:lnTo>
                  <a:lnTo>
                    <a:pt x="200" y="21"/>
                  </a:lnTo>
                  <a:lnTo>
                    <a:pt x="194" y="41"/>
                  </a:lnTo>
                  <a:lnTo>
                    <a:pt x="180" y="47"/>
                  </a:lnTo>
                  <a:lnTo>
                    <a:pt x="158" y="57"/>
                  </a:lnTo>
                  <a:lnTo>
                    <a:pt x="155" y="83"/>
                  </a:lnTo>
                  <a:lnTo>
                    <a:pt x="149" y="98"/>
                  </a:lnTo>
                  <a:lnTo>
                    <a:pt x="123" y="108"/>
                  </a:lnTo>
                  <a:lnTo>
                    <a:pt x="110" y="120"/>
                  </a:lnTo>
                  <a:lnTo>
                    <a:pt x="86" y="126"/>
                  </a:lnTo>
                  <a:lnTo>
                    <a:pt x="80" y="137"/>
                  </a:lnTo>
                  <a:lnTo>
                    <a:pt x="56" y="134"/>
                  </a:lnTo>
                  <a:lnTo>
                    <a:pt x="32" y="129"/>
                  </a:lnTo>
                  <a:lnTo>
                    <a:pt x="27" y="117"/>
                  </a:lnTo>
                  <a:cubicBezTo>
                    <a:pt x="7" y="114"/>
                    <a:pt x="8" y="120"/>
                    <a:pt x="8" y="110"/>
                  </a:cubicBezTo>
                  <a:lnTo>
                    <a:pt x="9" y="93"/>
                  </a:lnTo>
                  <a:lnTo>
                    <a:pt x="0" y="96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9775400">
              <a:off x="8409960" y="5930640"/>
              <a:ext cx="135360" cy="337680"/>
            </a:xfrm>
            <a:custGeom>
              <a:avLst/>
              <a:gdLst/>
              <a:ahLst/>
              <a:rect l="l" t="t" r="r" b="b"/>
              <a:pathLst>
                <a:path w="174" h="418">
                  <a:moveTo>
                    <a:pt x="0" y="192"/>
                  </a:moveTo>
                  <a:lnTo>
                    <a:pt x="41" y="418"/>
                  </a:lnTo>
                  <a:lnTo>
                    <a:pt x="51" y="417"/>
                  </a:lnTo>
                  <a:lnTo>
                    <a:pt x="92" y="283"/>
                  </a:lnTo>
                  <a:lnTo>
                    <a:pt x="128" y="223"/>
                  </a:lnTo>
                  <a:lnTo>
                    <a:pt x="123" y="210"/>
                  </a:lnTo>
                  <a:lnTo>
                    <a:pt x="132" y="196"/>
                  </a:lnTo>
                  <a:lnTo>
                    <a:pt x="123" y="183"/>
                  </a:lnTo>
                  <a:lnTo>
                    <a:pt x="81" y="201"/>
                  </a:lnTo>
                  <a:lnTo>
                    <a:pt x="77" y="192"/>
                  </a:lnTo>
                  <a:lnTo>
                    <a:pt x="108" y="157"/>
                  </a:lnTo>
                  <a:lnTo>
                    <a:pt x="108" y="145"/>
                  </a:lnTo>
                  <a:lnTo>
                    <a:pt x="93" y="142"/>
                  </a:lnTo>
                  <a:lnTo>
                    <a:pt x="89" y="105"/>
                  </a:lnTo>
                  <a:lnTo>
                    <a:pt x="107" y="97"/>
                  </a:lnTo>
                  <a:lnTo>
                    <a:pt x="110" y="75"/>
                  </a:lnTo>
                  <a:lnTo>
                    <a:pt x="138" y="75"/>
                  </a:lnTo>
                  <a:lnTo>
                    <a:pt x="140" y="91"/>
                  </a:lnTo>
                  <a:lnTo>
                    <a:pt x="149" y="100"/>
                  </a:lnTo>
                  <a:lnTo>
                    <a:pt x="156" y="58"/>
                  </a:lnTo>
                  <a:lnTo>
                    <a:pt x="167" y="45"/>
                  </a:lnTo>
                  <a:lnTo>
                    <a:pt x="167" y="25"/>
                  </a:lnTo>
                  <a:lnTo>
                    <a:pt x="174" y="0"/>
                  </a:lnTo>
                  <a:lnTo>
                    <a:pt x="158" y="18"/>
                  </a:lnTo>
                  <a:lnTo>
                    <a:pt x="147" y="19"/>
                  </a:lnTo>
                  <a:lnTo>
                    <a:pt x="117" y="4"/>
                  </a:lnTo>
                  <a:lnTo>
                    <a:pt x="110" y="30"/>
                  </a:lnTo>
                  <a:lnTo>
                    <a:pt x="93" y="52"/>
                  </a:lnTo>
                  <a:lnTo>
                    <a:pt x="50" y="156"/>
                  </a:lnTo>
                  <a:lnTo>
                    <a:pt x="30" y="175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780400">
              <a:off x="8650440" y="4878360"/>
              <a:ext cx="275400" cy="173520"/>
            </a:xfrm>
            <a:custGeom>
              <a:avLst/>
              <a:gdLst/>
              <a:ahLst/>
              <a:rect l="l" t="t" r="r" b="b"/>
              <a:pathLst>
                <a:path w="387" h="234">
                  <a:moveTo>
                    <a:pt x="0" y="39"/>
                  </a:moveTo>
                  <a:lnTo>
                    <a:pt x="37" y="128"/>
                  </a:lnTo>
                  <a:lnTo>
                    <a:pt x="165" y="128"/>
                  </a:lnTo>
                  <a:lnTo>
                    <a:pt x="210" y="188"/>
                  </a:lnTo>
                  <a:lnTo>
                    <a:pt x="225" y="194"/>
                  </a:lnTo>
                  <a:lnTo>
                    <a:pt x="265" y="176"/>
                  </a:lnTo>
                  <a:lnTo>
                    <a:pt x="298" y="182"/>
                  </a:lnTo>
                  <a:lnTo>
                    <a:pt x="335" y="194"/>
                  </a:lnTo>
                  <a:lnTo>
                    <a:pt x="356" y="234"/>
                  </a:lnTo>
                  <a:lnTo>
                    <a:pt x="387" y="225"/>
                  </a:lnTo>
                  <a:lnTo>
                    <a:pt x="381" y="185"/>
                  </a:lnTo>
                  <a:lnTo>
                    <a:pt x="368" y="134"/>
                  </a:lnTo>
                  <a:lnTo>
                    <a:pt x="298" y="112"/>
                  </a:lnTo>
                  <a:lnTo>
                    <a:pt x="274" y="100"/>
                  </a:lnTo>
                  <a:lnTo>
                    <a:pt x="292" y="79"/>
                  </a:lnTo>
                  <a:lnTo>
                    <a:pt x="277" y="51"/>
                  </a:lnTo>
                  <a:lnTo>
                    <a:pt x="244" y="51"/>
                  </a:lnTo>
                  <a:lnTo>
                    <a:pt x="244" y="24"/>
                  </a:lnTo>
                  <a:lnTo>
                    <a:pt x="225" y="9"/>
                  </a:lnTo>
                  <a:lnTo>
                    <a:pt x="189" y="0"/>
                  </a:lnTo>
                  <a:lnTo>
                    <a:pt x="159" y="18"/>
                  </a:lnTo>
                  <a:lnTo>
                    <a:pt x="107" y="18"/>
                  </a:lnTo>
                  <a:lnTo>
                    <a:pt x="34" y="5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98400" y="5235480"/>
              <a:ext cx="18360" cy="363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4" y="0"/>
                  </a:moveTo>
                  <a:lnTo>
                    <a:pt x="0" y="23"/>
                  </a:lnTo>
                  <a:lnTo>
                    <a:pt x="4" y="34"/>
                  </a:lnTo>
                  <a:lnTo>
                    <a:pt x="15" y="20"/>
                  </a:lnTo>
                  <a:lnTo>
                    <a:pt x="1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542080" y="3248640"/>
              <a:ext cx="659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TEIN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OR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824440" y="4692240"/>
              <a:ext cx="19800" cy="1040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6622560" y="4999680"/>
              <a:ext cx="189360" cy="45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6502680" y="4865760"/>
              <a:ext cx="223200" cy="802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473880" y="3814200"/>
              <a:ext cx="349200" cy="67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6482880" y="3877200"/>
              <a:ext cx="383040" cy="159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6473880" y="3886560"/>
              <a:ext cx="501120" cy="333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5216760" y="4523040"/>
              <a:ext cx="338400" cy="18468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81080" y="5834160"/>
              <a:ext cx="743040" cy="42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5824080" y="4780080"/>
              <a:ext cx="133560" cy="109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666040" y="4894560"/>
              <a:ext cx="310320" cy="16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25600" y="5041440"/>
              <a:ext cx="521280" cy="108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5684400" y="4802760"/>
              <a:ext cx="124560" cy="2462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716520" y="6084000"/>
              <a:ext cx="17215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84440" y="5331600"/>
              <a:ext cx="549000" cy="754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679720" y="5052600"/>
              <a:ext cx="34452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91960" y="4828320"/>
              <a:ext cx="449280" cy="220680"/>
            </a:xfrm>
            <a:custGeom>
              <a:avLst/>
              <a:gdLst/>
              <a:ahLst/>
              <a:rect l="l" t="t" r="r" b="b"/>
              <a:pathLst>
                <a:path w="350" h="197">
                  <a:moveTo>
                    <a:pt x="0" y="197"/>
                  </a:moveTo>
                  <a:lnTo>
                    <a:pt x="149" y="152"/>
                  </a:lnTo>
                  <a:lnTo>
                    <a:pt x="269" y="98"/>
                  </a:lnTo>
                  <a:lnTo>
                    <a:pt x="350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4819320" y="3264120"/>
              <a:ext cx="1436760" cy="1031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451200" y="3682800"/>
              <a:ext cx="332640" cy="1756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04360" y="3792240"/>
              <a:ext cx="579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39640" y="4018320"/>
              <a:ext cx="597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56640" y="4199760"/>
              <a:ext cx="597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92320" y="322848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36760" y="4870800"/>
              <a:ext cx="5796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6181560" y="5337720"/>
              <a:ext cx="506160" cy="892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64320" y="619272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1320" y="3815640"/>
              <a:ext cx="793800" cy="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5666040" y="3429000"/>
              <a:ext cx="602640" cy="1612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64280" y="3888360"/>
              <a:ext cx="87840" cy="4010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5229000" y="4530960"/>
              <a:ext cx="652320" cy="108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90480" y="4504320"/>
              <a:ext cx="5976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67440" y="4093560"/>
              <a:ext cx="663120" cy="2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21200" y="4095360"/>
              <a:ext cx="481320" cy="147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5392080" y="4249800"/>
              <a:ext cx="162720" cy="46260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264000" y="3429000"/>
              <a:ext cx="23043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45760" y="3815640"/>
              <a:ext cx="1392120" cy="43236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6479640" y="3896280"/>
              <a:ext cx="123120" cy="645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6164280" y="4695120"/>
              <a:ext cx="216720" cy="109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376680" y="4695480"/>
              <a:ext cx="2338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96760" y="4695480"/>
              <a:ext cx="384120" cy="208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07560" y="4695480"/>
              <a:ext cx="645840" cy="232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70440" y="489924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19800" y="447588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SIL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17040" y="347148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NeD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34880" y="4954680"/>
              <a:ext cx="67680" cy="7992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98160" y="4922640"/>
              <a:ext cx="615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387560" y="5426640"/>
              <a:ext cx="233640" cy="407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88800" y="4760280"/>
              <a:ext cx="5832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5899680" y="4540680"/>
              <a:ext cx="239760" cy="27936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1320" y="3876120"/>
              <a:ext cx="1870920" cy="945720"/>
            </a:xfrm>
            <a:custGeom>
              <a:avLst/>
              <a:gdLst/>
              <a:ahLst/>
              <a:rect l="l" t="t" r="r" b="b"/>
              <a:pathLst>
                <a:path w="1735" h="920">
                  <a:moveTo>
                    <a:pt x="1735" y="920"/>
                  </a:moveTo>
                  <a:lnTo>
                    <a:pt x="1304" y="203"/>
                  </a:lnTo>
                  <a:lnTo>
                    <a:pt x="68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b0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6144480" y="3886920"/>
              <a:ext cx="330480" cy="93636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29240" y="4240440"/>
              <a:ext cx="173520" cy="7376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508800" y="4556520"/>
              <a:ext cx="87480" cy="29520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08960" y="538416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7365960" y="4894560"/>
              <a:ext cx="69120" cy="2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18160" y="4848480"/>
              <a:ext cx="5832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61320" y="3943800"/>
              <a:ext cx="663120" cy="2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16880" y="3945600"/>
              <a:ext cx="524520" cy="16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445720" y="4120200"/>
              <a:ext cx="417960" cy="56844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482520" y="3867840"/>
              <a:ext cx="1168920" cy="64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5558400" y="4682880"/>
              <a:ext cx="290520" cy="3312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57000" y="6289200"/>
              <a:ext cx="11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EUMEDconn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75080" y="5903640"/>
              <a:ext cx="456840" cy="424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07480" y="5324040"/>
              <a:ext cx="561240" cy="707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6991920" y="5289120"/>
              <a:ext cx="256680" cy="99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22720" y="5053680"/>
              <a:ext cx="424440" cy="336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47520" y="5398560"/>
              <a:ext cx="132120" cy="424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024680" y="5205600"/>
              <a:ext cx="518760" cy="152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SEE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30680" y="5120640"/>
              <a:ext cx="579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5802840" y="6028200"/>
              <a:ext cx="973440" cy="299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168960" y="6028200"/>
              <a:ext cx="594000" cy="299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4896360" y="5886000"/>
              <a:ext cx="356760" cy="2844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44480" y="4828320"/>
              <a:ext cx="470520" cy="16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6690240" y="5045760"/>
              <a:ext cx="115200" cy="17676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590520" y="5009760"/>
              <a:ext cx="36720" cy="19080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6595200" y="5208840"/>
              <a:ext cx="78480" cy="576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55320" y="5193000"/>
              <a:ext cx="5832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54880" y="517896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6199920" y="5322600"/>
              <a:ext cx="495360" cy="5018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6685920" y="5816160"/>
              <a:ext cx="698400" cy="140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6625800" y="5641200"/>
              <a:ext cx="744480" cy="1940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6147720" y="4832640"/>
              <a:ext cx="490320" cy="8146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16800" y="3935880"/>
              <a:ext cx="641520" cy="1029600"/>
            </a:xfrm>
            <a:custGeom>
              <a:avLst/>
              <a:gdLst/>
              <a:ahLst/>
              <a:rect l="l" t="t" r="r" b="b"/>
              <a:pathLst>
                <a:path w="417" h="652">
                  <a:moveTo>
                    <a:pt x="0" y="652"/>
                  </a:moveTo>
                  <a:lnTo>
                    <a:pt x="417" y="0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52200" y="3939120"/>
              <a:ext cx="383040" cy="20160"/>
            </a:xfrm>
            <a:custGeom>
              <a:avLst/>
              <a:gdLst/>
              <a:ahLst/>
              <a:rect l="l" t="t" r="r" b="b"/>
              <a:pathLst>
                <a:path w="249" h="13">
                  <a:moveTo>
                    <a:pt x="249" y="13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6614640" y="4280400"/>
              <a:ext cx="558360" cy="274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51760" y="4253400"/>
              <a:ext cx="597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985640" y="5886000"/>
              <a:ext cx="278640" cy="284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19520" y="611028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AL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826160" y="4727160"/>
              <a:ext cx="702720" cy="767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584240" y="5484960"/>
              <a:ext cx="246240" cy="895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22000" y="6333120"/>
              <a:ext cx="93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South Af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6404040" y="3471480"/>
              <a:ext cx="21646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6256440" y="3465360"/>
              <a:ext cx="153720" cy="825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890240" y="4719240"/>
              <a:ext cx="661320" cy="118404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1440" y="5886000"/>
              <a:ext cx="5832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7121160" y="3708360"/>
              <a:ext cx="516960" cy="221040"/>
            </a:xfrm>
            <a:prstGeom prst="line">
              <a:avLst/>
            </a:prstGeom>
            <a:ln cap="rnd" w="38160">
              <a:solidFill>
                <a:srgbClr val="00b02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21200" y="391536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7320" y="3675240"/>
              <a:ext cx="5832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6765840" y="5898960"/>
              <a:ext cx="1332000" cy="131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42840" y="5893920"/>
              <a:ext cx="180000" cy="3207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8142840" y="5788080"/>
              <a:ext cx="262800" cy="89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99640" y="5850000"/>
              <a:ext cx="597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259680" y="3876120"/>
              <a:ext cx="204120" cy="413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488280" y="3721680"/>
              <a:ext cx="322560" cy="1756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27280" y="4270680"/>
              <a:ext cx="5832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84200" y="3675240"/>
              <a:ext cx="5832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7169040" y="5513760"/>
              <a:ext cx="182880" cy="299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27640" y="5477040"/>
              <a:ext cx="6120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7884360" y="3643560"/>
              <a:ext cx="1376640" cy="870840"/>
              <a:chOff x="7884360" y="3643560"/>
              <a:chExt cx="1376640" cy="870840"/>
            </a:xfrm>
          </p:grpSpPr>
          <p:sp>
            <p:nvSpPr>
              <p:cNvPr id="746" name=""/>
              <p:cNvSpPr/>
              <p:nvPr/>
            </p:nvSpPr>
            <p:spPr>
              <a:xfrm>
                <a:off x="7884360" y="3643560"/>
                <a:ext cx="1376640" cy="86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981200" y="3978360"/>
                <a:ext cx="350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981200" y="4180320"/>
                <a:ext cx="350640" cy="0"/>
              </a:xfrm>
              <a:prstGeom prst="line">
                <a:avLst/>
              </a:prstGeom>
              <a:ln w="38160">
                <a:solidFill>
                  <a:srgbClr val="00b0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981200" y="4365360"/>
                <a:ext cx="35064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291880" y="4237920"/>
                <a:ext cx="95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&lt;2,5 Gbit/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291520" y="4037400"/>
                <a:ext cx="86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,5 Gbit/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290800" y="3844440"/>
                <a:ext cx="82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 Gbit/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983000" y="3785400"/>
                <a:ext cx="350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291880" y="3651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ark Fib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 flipV="1">
              <a:off x="6132240" y="4547160"/>
              <a:ext cx="442800" cy="255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6161040" y="4586400"/>
              <a:ext cx="442800" cy="255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75400" y="4532760"/>
              <a:ext cx="6120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68920" y="5049360"/>
              <a:ext cx="218520" cy="1069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5882400" y="6113520"/>
              <a:ext cx="2302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34280" y="6229800"/>
              <a:ext cx="72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TEIN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Kor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Austral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5562720" y="4710960"/>
              <a:ext cx="102960" cy="111816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5662440" y="5821560"/>
              <a:ext cx="153720" cy="4024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5811480" y="6211440"/>
              <a:ext cx="1533960" cy="29340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59600" y="3874320"/>
              <a:ext cx="308880" cy="7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5581440" y="3891600"/>
              <a:ext cx="890640" cy="82872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33680" y="3849120"/>
              <a:ext cx="5832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42560" y="3855240"/>
              <a:ext cx="5832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0780400">
              <a:off x="8821080" y="4990320"/>
              <a:ext cx="95040" cy="50400"/>
            </a:xfrm>
            <a:custGeom>
              <a:avLst/>
              <a:gdLst/>
              <a:ahLst/>
              <a:rect l="l" t="t" r="r" b="b"/>
              <a:pathLst>
                <a:path w="134" h="70">
                  <a:moveTo>
                    <a:pt x="0" y="18"/>
                  </a:moveTo>
                  <a:lnTo>
                    <a:pt x="40" y="0"/>
                  </a:lnTo>
                  <a:lnTo>
                    <a:pt x="80" y="6"/>
                  </a:lnTo>
                  <a:lnTo>
                    <a:pt x="116" y="18"/>
                  </a:lnTo>
                  <a:lnTo>
                    <a:pt x="134" y="58"/>
                  </a:lnTo>
                  <a:lnTo>
                    <a:pt x="104" y="70"/>
                  </a:lnTo>
                  <a:lnTo>
                    <a:pt x="52" y="34"/>
                  </a:lnTo>
                  <a:lnTo>
                    <a:pt x="16" y="3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0780400">
              <a:off x="8772120" y="4755600"/>
              <a:ext cx="372240" cy="301320"/>
            </a:xfrm>
            <a:custGeom>
              <a:avLst/>
              <a:gdLst/>
              <a:ahLst/>
              <a:rect l="l" t="t" r="r" b="b"/>
              <a:pathLst>
                <a:path w="517" h="411">
                  <a:moveTo>
                    <a:pt x="122" y="0"/>
                  </a:moveTo>
                  <a:lnTo>
                    <a:pt x="186" y="12"/>
                  </a:lnTo>
                  <a:lnTo>
                    <a:pt x="243" y="28"/>
                  </a:lnTo>
                  <a:lnTo>
                    <a:pt x="280" y="55"/>
                  </a:lnTo>
                  <a:lnTo>
                    <a:pt x="310" y="46"/>
                  </a:lnTo>
                  <a:lnTo>
                    <a:pt x="313" y="6"/>
                  </a:lnTo>
                  <a:lnTo>
                    <a:pt x="392" y="79"/>
                  </a:lnTo>
                  <a:lnTo>
                    <a:pt x="444" y="73"/>
                  </a:lnTo>
                  <a:lnTo>
                    <a:pt x="517" y="92"/>
                  </a:lnTo>
                  <a:lnTo>
                    <a:pt x="468" y="128"/>
                  </a:lnTo>
                  <a:lnTo>
                    <a:pt x="450" y="149"/>
                  </a:lnTo>
                  <a:lnTo>
                    <a:pt x="426" y="207"/>
                  </a:lnTo>
                  <a:lnTo>
                    <a:pt x="444" y="329"/>
                  </a:lnTo>
                  <a:lnTo>
                    <a:pt x="414" y="286"/>
                  </a:lnTo>
                  <a:lnTo>
                    <a:pt x="392" y="304"/>
                  </a:lnTo>
                  <a:lnTo>
                    <a:pt x="395" y="411"/>
                  </a:lnTo>
                  <a:lnTo>
                    <a:pt x="304" y="350"/>
                  </a:lnTo>
                  <a:lnTo>
                    <a:pt x="322" y="292"/>
                  </a:lnTo>
                  <a:lnTo>
                    <a:pt x="298" y="265"/>
                  </a:lnTo>
                  <a:lnTo>
                    <a:pt x="246" y="262"/>
                  </a:lnTo>
                  <a:lnTo>
                    <a:pt x="204" y="332"/>
                  </a:lnTo>
                  <a:lnTo>
                    <a:pt x="204" y="323"/>
                  </a:lnTo>
                  <a:lnTo>
                    <a:pt x="179" y="244"/>
                  </a:lnTo>
                  <a:lnTo>
                    <a:pt x="106" y="222"/>
                  </a:lnTo>
                  <a:lnTo>
                    <a:pt x="82" y="210"/>
                  </a:lnTo>
                  <a:lnTo>
                    <a:pt x="103" y="195"/>
                  </a:lnTo>
                  <a:lnTo>
                    <a:pt x="88" y="161"/>
                  </a:lnTo>
                  <a:lnTo>
                    <a:pt x="52" y="161"/>
                  </a:lnTo>
                  <a:lnTo>
                    <a:pt x="52" y="134"/>
                  </a:lnTo>
                  <a:lnTo>
                    <a:pt x="30" y="116"/>
                  </a:lnTo>
                  <a:lnTo>
                    <a:pt x="0" y="113"/>
                  </a:lnTo>
                  <a:lnTo>
                    <a:pt x="27" y="92"/>
                  </a:lnTo>
                  <a:lnTo>
                    <a:pt x="67" y="76"/>
                  </a:lnTo>
                  <a:lnTo>
                    <a:pt x="112" y="98"/>
                  </a:lnTo>
                  <a:lnTo>
                    <a:pt x="158" y="104"/>
                  </a:lnTo>
                  <a:lnTo>
                    <a:pt x="195" y="107"/>
                  </a:lnTo>
                  <a:lnTo>
                    <a:pt x="228" y="88"/>
                  </a:lnTo>
                  <a:lnTo>
                    <a:pt x="198" y="61"/>
                  </a:lnTo>
                  <a:lnTo>
                    <a:pt x="143" y="4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118360" y="4697280"/>
              <a:ext cx="924480" cy="192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749080" y="4916880"/>
              <a:ext cx="579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021240" y="486756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53720" y="4722120"/>
              <a:ext cx="299520" cy="1414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847480" y="6139080"/>
              <a:ext cx="23025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52040" y="5310000"/>
              <a:ext cx="935280" cy="579240"/>
            </a:xfrm>
            <a:custGeom>
              <a:avLst/>
              <a:gdLst/>
              <a:ahLst/>
              <a:rect l="l" t="t" r="r" b="b"/>
              <a:pathLst>
                <a:path w="425" h="762">
                  <a:moveTo>
                    <a:pt x="425" y="0"/>
                  </a:moveTo>
                  <a:lnTo>
                    <a:pt x="0" y="762"/>
                  </a:lnTo>
                </a:path>
              </a:pathLst>
            </a:custGeom>
            <a:noFill/>
            <a:ln cap="sq"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73640" y="5051160"/>
              <a:ext cx="398160" cy="821160"/>
            </a:xfrm>
            <a:custGeom>
              <a:avLst/>
              <a:gdLst/>
              <a:ahLst/>
              <a:rect l="l" t="t" r="r" b="b"/>
              <a:pathLst>
                <a:path w="425" h="762">
                  <a:moveTo>
                    <a:pt x="425" y="0"/>
                  </a:moveTo>
                  <a:lnTo>
                    <a:pt x="0" y="762"/>
                  </a:lnTo>
                </a:path>
              </a:pathLst>
            </a:custGeom>
            <a:noFill/>
            <a:ln cap="sq"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53720" y="4727160"/>
              <a:ext cx="110520" cy="31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30800" y="5859360"/>
              <a:ext cx="5976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44440" y="502236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32120" y="4689360"/>
              <a:ext cx="579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55280" y="4839480"/>
              <a:ext cx="41400" cy="46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030360" y="4826520"/>
              <a:ext cx="110520" cy="40104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46200" y="5241960"/>
              <a:ext cx="133560" cy="6624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91840" y="5205600"/>
              <a:ext cx="615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08920" y="5011200"/>
              <a:ext cx="396720" cy="29844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98440" y="496872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62840" y="529416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5859360" y="4695120"/>
              <a:ext cx="253800" cy="11844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27680" y="465912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6170400" y="4829760"/>
              <a:ext cx="304560" cy="331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468840" y="4839480"/>
              <a:ext cx="5832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14960" y="479952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81080" y="5857920"/>
              <a:ext cx="72360" cy="194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446960" y="6057000"/>
              <a:ext cx="9874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419680" y="603936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19440" y="5368320"/>
              <a:ext cx="615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6830280" y="5076000"/>
              <a:ext cx="147240" cy="20808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892200" y="5290560"/>
              <a:ext cx="73800" cy="615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46120" y="5339880"/>
              <a:ext cx="6120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84200" y="5014440"/>
              <a:ext cx="6156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942960" y="5292360"/>
              <a:ext cx="47160" cy="157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41480" y="5805720"/>
              <a:ext cx="6120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55200" y="5256360"/>
              <a:ext cx="6120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921360" y="5421960"/>
              <a:ext cx="6120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364000" y="260280"/>
            <a:ext cx="3745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EANT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6F71-30BA-4B93-BE04-96CBF868C1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514440" y="644400"/>
          <a:ext cx="3652920" cy="326880"/>
        </p:xfrm>
        <a:graphic>
          <a:graphicData uri="http://schemas.openxmlformats.org/drawingml/2006/table">
            <a:tbl>
              <a:tblPr/>
              <a:tblGrid>
                <a:gridCol w="3652920"/>
              </a:tblGrid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Verdana"/>
                          <a:ea typeface="新細明體"/>
                        </a:rPr>
                        <a:t>Enabling Grids for E-sc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0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  <a:ea typeface="新細明體"/>
              </a:rPr>
              <a:t>EGEE-II INFSO-RI-031688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58104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0" y="582480"/>
            <a:ext cx="9144000" cy="6275520"/>
          </a:xfrm>
          <a:prstGeom prst="rect">
            <a:avLst/>
          </a:prstGeom>
          <a:ln w="0">
            <a:noFill/>
          </a:ln>
        </p:spPr>
      </p:pic>
      <p:grpSp>
        <p:nvGrpSpPr>
          <p:cNvPr id="813" name=""/>
          <p:cNvGrpSpPr/>
          <p:nvPr/>
        </p:nvGrpSpPr>
        <p:grpSpPr>
          <a:xfrm>
            <a:off x="396720" y="1468440"/>
            <a:ext cx="8124840" cy="2449440"/>
            <a:chOff x="396720" y="1468440"/>
            <a:chExt cx="8124840" cy="2449440"/>
          </a:xfrm>
        </p:grpSpPr>
        <p:sp>
          <p:nvSpPr>
            <p:cNvPr id="814" name=""/>
            <p:cNvSpPr/>
            <p:nvPr/>
          </p:nvSpPr>
          <p:spPr>
            <a:xfrm>
              <a:off x="5148360" y="154008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45080" y="1684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8360" y="2476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11760" y="208440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34080" y="19717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97440" y="169092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51360" y="217008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780000" y="21891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8040" y="19130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62400" y="194148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29080" y="208296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57800" y="175572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11640" y="1755720"/>
              <a:ext cx="730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06840" y="182736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16560" y="19033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645080" y="1828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00720" y="1468440"/>
              <a:ext cx="7272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62640" y="244800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16720" y="2979720"/>
              <a:ext cx="730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37400" y="2179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28000" y="279900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450280" y="23479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333440" y="211608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96720" y="175572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87400" y="3027600"/>
              <a:ext cx="6984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89920" y="22986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4360" y="3845160"/>
              <a:ext cx="7164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78520" y="240516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18080" y="19209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51280" y="1684440"/>
              <a:ext cx="730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551720" y="36482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743360" y="219564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5508720" y="2876400"/>
            <a:ext cx="212580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UIndia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386880" y="2286000"/>
            <a:ext cx="201636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UMed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44320" y="1857240"/>
            <a:ext cx="181764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EE-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793880" y="4486320"/>
            <a:ext cx="111708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458600" y="1352520"/>
            <a:ext cx="180036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Baltic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64560" y="2239920"/>
            <a:ext cx="226800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UChina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24680" y="2190600"/>
            <a:ext cx="974880" cy="520200"/>
          </a:xfrm>
          <a:prstGeom prst="ellipse">
            <a:avLst/>
          </a:prstGeom>
          <a:solidFill>
            <a:srgbClr val="ff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724880" y="1609200"/>
            <a:ext cx="1512000" cy="520200"/>
          </a:xfrm>
          <a:prstGeom prst="ellipse">
            <a:avLst/>
          </a:prstGeom>
          <a:solidFill>
            <a:srgbClr val="ff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R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-35280" y="1733400"/>
            <a:ext cx="1602000" cy="520200"/>
          </a:xfrm>
          <a:prstGeom prst="ellipse">
            <a:avLst/>
          </a:prstGeom>
          <a:solidFill>
            <a:srgbClr val="ff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a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44920" y="895320"/>
            <a:ext cx="183492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KnowA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50840" y="1733400"/>
            <a:ext cx="124236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DE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91920" y="1428840"/>
            <a:ext cx="115380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G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53680" y="5162400"/>
            <a:ext cx="235872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U co-f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52960" y="5695920"/>
            <a:ext cx="2397600" cy="520200"/>
          </a:xfrm>
          <a:prstGeom prst="ellipse">
            <a:avLst/>
          </a:prstGeom>
          <a:solidFill>
            <a:srgbClr val="ff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Other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295280" y="6248520"/>
            <a:ext cx="6324840" cy="459720"/>
          </a:xfrm>
          <a:prstGeom prst="rect">
            <a:avLst/>
          </a:prstGeom>
          <a:solidFill>
            <a:srgbClr val="f4c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Potential for linking ~80 countries b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4"/>
          <a:stretch/>
        </p:blipFill>
        <p:spPr>
          <a:xfrm>
            <a:off x="7772400" y="6203880"/>
            <a:ext cx="1143000" cy="65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2B87-3A3C-46B6-AB7E-F71252BB6A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operation on Grid Technologies – Call 3 and Call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"/>
          <p:cNvSpPr/>
          <p:nvPr/>
        </p:nvSpPr>
        <p:spPr>
          <a:xfrm>
            <a:off x="660240" y="141300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id@Asia selected in Call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upporting cooperation on Grids between EU and East A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l 5: 6 projects with East Asian partn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XtreemOS: Inst. of Computing Technology – CAS; Red Flag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einGrid: Beijing Hydraulic Research Instit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edia: Inst. of Computing Technology – CAS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idComp: Tsinghua Univers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rguGrid: Asian Inst. of Technology – Thai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orma: Sun Singap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CE5F-061E-499C-A9E1-D2BEF55276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60240" y="141300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dicated call on cooperation with Ch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8592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everage and integrate existing initi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8592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ocus on Grid research and industrial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8592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operation on Grid Technologies – Call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466560" y="3386160"/>
            <a:ext cx="1223640" cy="546120"/>
            <a:chOff x="466560" y="3386160"/>
            <a:chExt cx="1223640" cy="546120"/>
          </a:xfrm>
        </p:grpSpPr>
        <p:sp>
          <p:nvSpPr>
            <p:cNvPr id="868" name=""/>
            <p:cNvSpPr/>
            <p:nvPr/>
          </p:nvSpPr>
          <p:spPr>
            <a:xfrm>
              <a:off x="553680" y="3386160"/>
              <a:ext cx="1136520" cy="54612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6560" y="357192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61128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R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835280" y="3211560"/>
            <a:ext cx="71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uilds on IP SIMDAT and CNGRID to develop Grid-enabled simulation and design applications for aerospace, drug discovery and environmental disaster pre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466560" y="4179960"/>
            <a:ext cx="1223640" cy="546120"/>
            <a:chOff x="466560" y="4179960"/>
            <a:chExt cx="1223640" cy="546120"/>
          </a:xfrm>
        </p:grpSpPr>
        <p:sp>
          <p:nvSpPr>
            <p:cNvPr id="873" name=""/>
            <p:cNvSpPr/>
            <p:nvPr/>
          </p:nvSpPr>
          <p:spPr>
            <a:xfrm>
              <a:off x="553680" y="4179960"/>
              <a:ext cx="1136520" cy="54612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6560" y="436572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EC-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66560" y="5372280"/>
            <a:ext cx="1223640" cy="547560"/>
            <a:chOff x="466560" y="5372280"/>
            <a:chExt cx="1223640" cy="547560"/>
          </a:xfrm>
        </p:grpSpPr>
        <p:sp>
          <p:nvSpPr>
            <p:cNvPr id="876" name=""/>
            <p:cNvSpPr/>
            <p:nvPr/>
          </p:nvSpPr>
          <p:spPr>
            <a:xfrm>
              <a:off x="537840" y="5372280"/>
              <a:ext cx="1152360" cy="547560"/>
            </a:xfrm>
            <a:prstGeom prst="cube">
              <a:avLst>
                <a:gd name="adj" fmla="val 25000"/>
              </a:avLst>
            </a:prstGeom>
            <a:solidFill>
              <a:srgbClr val="e67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6560" y="560232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ECHOG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1835280" y="4076640"/>
            <a:ext cx="71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esign and implementation of new network protocols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for increasing the speed and performance of Grids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. Builds on Grid 5000, Austrian Grid, UKGrid and China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1280" y="494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833480" y="5227560"/>
            <a:ext cx="69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search visions and agendas, road-mapping, standardisation, exchange of researchers. Links CoreGrid NoE and NESSI ETP with the Chinese 863 High-Tech programme. Research and industrial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536B-8EF0-470F-9ECB-A0B7287612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419640" y="44280"/>
            <a:ext cx="5473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operation in IST – FP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"/>
          <p:cNvSpPr/>
          <p:nvPr/>
        </p:nvSpPr>
        <p:spPr>
          <a:xfrm>
            <a:off x="684360" y="1700280"/>
            <a:ext cx="80150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international cooperation 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36252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llaborative projects in a certain area addressing the participation of international cooperation partners countries (ICP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36252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inimum 4 participants of which 2 in different MS or AS and 2 in (different) INCO countr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ening of mainstream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36252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rticipation from third countries in addition to the required minimum number of part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36252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7AF3-AD65-4628-8CEC-6B8F2C89FA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arie Curie international fellow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"/>
          <p:cNvSpPr/>
          <p:nvPr/>
        </p:nvSpPr>
        <p:spPr>
          <a:xfrm>
            <a:off x="468360" y="1413000"/>
            <a:ext cx="813600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ational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outgoing fellow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ational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incoming fellow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Partnership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 support exchange of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port of common initiatives between European organizations and countries with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S&amp;T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asures t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counter the risk of ‘brain drain’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from developing countries/emerging ec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B649-28AB-4F8F-B42D-FD067C98AD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419640" y="44280"/>
            <a:ext cx="5473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ncluding rem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"/>
          <p:cNvSpPr/>
          <p:nvPr/>
        </p:nvSpPr>
        <p:spPr>
          <a:xfrm>
            <a:off x="684360" y="1557360"/>
            <a:ext cx="80150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P7 opens new opportunities for Grid related re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825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esearch Infrastructu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825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ational cooperation continues to be an important aspect of the program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825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U – East Asia: Building on existing FP6 initi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825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U – East Asia: exploring new opportunities for collabo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6670-2A14-4921-A0BB-7A3120BDF1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557360"/>
            <a:ext cx="85690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llaborative research projects: involving industry, research centers and universities from several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tial European Commission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ur types of instruments: Integrated Projects, STREP, Networks of Excellence, Suppor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bmission of proposals: On the initiative of the participants. EC just defines the content of th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aluation by external experts (1 out of 7 is fun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44280"/>
            <a:ext cx="6480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U funded research projects: some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AB41-A43B-4A6D-A6F7-89029CFAB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Overview of the ICT cooperation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esearch Infrastructures in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FABF-24BD-4CDC-9825-343AF2D20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CT – The largest priority theme of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685880"/>
            <a:ext cx="864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ICT Technology Pill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Verdana"/>
              </a:rPr>
              <a:t>pushing the performance and functionality of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9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Integration of Techn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Verdana"/>
              </a:rPr>
              <a:t>integrating multi-technology sets that underlie new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9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pplications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Verdana"/>
              </a:rPr>
              <a:t>providing the knowledge and the means to develop a wide range of innovative ICT applic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9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ture and Emerging Techn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Verdana"/>
              </a:rPr>
              <a:t>supporting research at the frontier of 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1B2A-1A42-44C5-BD30-81ED724240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6624360" y="4313160"/>
            <a:ext cx="2668680" cy="642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ture and Emerg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chnologies (F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9280" y="3303720"/>
            <a:ext cx="527040" cy="2668320"/>
          </a:xfrm>
          <a:custGeom>
            <a:avLst/>
            <a:gdLst>
              <a:gd name="textAreaLeft" fmla="*/ 360 w 527040"/>
              <a:gd name="textAreaRight" fmla="*/ 527760 w 527040"/>
              <a:gd name="textAreaTop" fmla="*/ 0 h 2668320"/>
              <a:gd name="textAreaBottom" fmla="*/ 2668680 h 266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3280" y="4080960"/>
            <a:ext cx="6784920" cy="10674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Cognitive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action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3280" y="3213000"/>
            <a:ext cx="6784920" cy="82404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Network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3280" y="5171040"/>
            <a:ext cx="6784920" cy="82404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Components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1989000"/>
            <a:ext cx="1049400" cy="406404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66768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Digital libraries and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5920" y="1989000"/>
            <a:ext cx="1090440" cy="406404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66768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. ICT for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1989000"/>
            <a:ext cx="1368360" cy="406404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66768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. ICT for mobility &amp; sustainable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5040" y="2028960"/>
            <a:ext cx="1452600" cy="406404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66768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. ICT for independent living and i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4680000" y="-776520"/>
            <a:ext cx="485640" cy="5007240"/>
          </a:xfrm>
          <a:custGeom>
            <a:avLst/>
            <a:gdLst>
              <a:gd name="textAreaLeft" fmla="*/ 0 w 485640"/>
              <a:gd name="textAreaRight" fmla="*/ 486000 w 485640"/>
              <a:gd name="textAreaTop" fmla="*/ 0 h 5007240"/>
              <a:gd name="textAreaBottom" fmla="*/ 5007600 h 500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0080" y="16048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o-economic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883440" y="44251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ustry/Tech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ork Programme 2007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22E8-D78F-44C7-BAE3-4F9ECFAC34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60800" y="2206800"/>
            <a:ext cx="1378080" cy="1436400"/>
          </a:xfrm>
          <a:custGeom>
            <a:avLst/>
            <a:gdLst/>
            <a:ahLst/>
            <a:rect l="l" t="t" r="r" b="b"/>
            <a:pathLst>
              <a:path w="868" h="870">
                <a:moveTo>
                  <a:pt x="846" y="870"/>
                </a:moveTo>
                <a:cubicBezTo>
                  <a:pt x="864" y="811"/>
                  <a:pt x="868" y="761"/>
                  <a:pt x="868" y="702"/>
                </a:cubicBezTo>
                <a:cubicBezTo>
                  <a:pt x="868" y="322"/>
                  <a:pt x="470" y="15"/>
                  <a:pt x="0" y="15"/>
                </a:cubicBezTo>
                <a:cubicBezTo>
                  <a:pt x="0" y="0"/>
                  <a:pt x="0" y="15"/>
                  <a:pt x="0" y="15"/>
                </a:cubicBezTo>
                <a:lnTo>
                  <a:pt x="0" y="702"/>
                </a:lnTo>
                <a:lnTo>
                  <a:pt x="846" y="87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16520" y="3608280"/>
            <a:ext cx="1349280" cy="835200"/>
          </a:xfrm>
          <a:custGeom>
            <a:avLst/>
            <a:gdLst/>
            <a:ahLst/>
            <a:rect l="l" t="t" r="r" b="b"/>
            <a:pathLst>
              <a:path w="46" h="36">
                <a:moveTo>
                  <a:pt x="31" y="36"/>
                </a:moveTo>
                <a:cubicBezTo>
                  <a:pt x="39" y="29"/>
                  <a:pt x="44" y="20"/>
                  <a:pt x="46" y="11"/>
                </a:cubicBezTo>
                <a:lnTo>
                  <a:pt x="0" y="0"/>
                </a:lnTo>
                <a:lnTo>
                  <a:pt x="31" y="36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94120" y="3808440"/>
            <a:ext cx="1685880" cy="1090440"/>
          </a:xfrm>
          <a:custGeom>
            <a:avLst/>
            <a:gdLst/>
            <a:ahLst/>
            <a:rect l="l" t="t" r="r" b="b"/>
            <a:pathLst>
              <a:path w="60" h="47">
                <a:moveTo>
                  <a:pt x="0" y="38"/>
                </a:moveTo>
                <a:cubicBezTo>
                  <a:pt x="9" y="44"/>
                  <a:pt x="19" y="47"/>
                  <a:pt x="29" y="47"/>
                </a:cubicBezTo>
                <a:cubicBezTo>
                  <a:pt x="41" y="47"/>
                  <a:pt x="52" y="43"/>
                  <a:pt x="60" y="36"/>
                </a:cubicBezTo>
                <a:lnTo>
                  <a:pt x="29" y="0"/>
                </a:lnTo>
                <a:lnTo>
                  <a:pt x="0" y="3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1429000">
            <a:off x="3219480" y="3807000"/>
            <a:ext cx="1365120" cy="8809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4"/>
                </a:moveTo>
                <a:cubicBezTo>
                  <a:pt x="3" y="24"/>
                  <a:pt x="8" y="32"/>
                  <a:pt x="16" y="38"/>
                </a:cubicBezTo>
                <a:lnTo>
                  <a:pt x="45" y="0"/>
                </a:lnTo>
                <a:lnTo>
                  <a:pt x="0" y="14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9966"/>
              </a:gs>
            </a:gsLst>
            <a:lin ang="5574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14640" y="3448080"/>
            <a:ext cx="1406520" cy="579240"/>
          </a:xfrm>
          <a:custGeom>
            <a:avLst/>
            <a:gdLst/>
            <a:ahLst/>
            <a:rect l="l" t="t" r="r" b="b"/>
            <a:pathLst>
              <a:path w="48" h="25">
                <a:moveTo>
                  <a:pt x="2" y="0"/>
                </a:moveTo>
                <a:cubicBezTo>
                  <a:pt x="1" y="3"/>
                  <a:pt x="1" y="7"/>
                  <a:pt x="1" y="11"/>
                </a:cubicBezTo>
                <a:cubicBezTo>
                  <a:pt x="0" y="16"/>
                  <a:pt x="1" y="21"/>
                  <a:pt x="3" y="25"/>
                </a:cubicBezTo>
                <a:lnTo>
                  <a:pt x="48" y="11"/>
                </a:lnTo>
                <a:lnTo>
                  <a:pt x="2" y="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ff66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54240" y="2795760"/>
            <a:ext cx="1322640" cy="771480"/>
          </a:xfrm>
          <a:custGeom>
            <a:avLst/>
            <a:gdLst/>
            <a:ahLst/>
            <a:rect l="l" t="t" r="r" b="b"/>
            <a:pathLst>
              <a:path w="46" h="32">
                <a:moveTo>
                  <a:pt x="10" y="0"/>
                </a:moveTo>
                <a:cubicBezTo>
                  <a:pt x="5" y="6"/>
                  <a:pt x="2" y="13"/>
                  <a:pt x="0" y="21"/>
                </a:cubicBezTo>
                <a:lnTo>
                  <a:pt x="46" y="32"/>
                </a:lnTo>
                <a:lnTo>
                  <a:pt x="10" y="0"/>
                </a:lnTo>
                <a:close/>
              </a:path>
            </a:pathLst>
          </a:custGeom>
          <a:solidFill>
            <a:srgbClr val="ff4f4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05240" y="2511360"/>
            <a:ext cx="1071360" cy="947880"/>
          </a:xfrm>
          <a:custGeom>
            <a:avLst/>
            <a:gdLst/>
            <a:ahLst/>
            <a:rect l="l" t="t" r="r" b="b"/>
            <a:pathLst>
              <a:path w="36" h="39">
                <a:moveTo>
                  <a:pt x="8" y="0"/>
                </a:moveTo>
                <a:cubicBezTo>
                  <a:pt x="5" y="2"/>
                  <a:pt x="3" y="5"/>
                  <a:pt x="0" y="7"/>
                </a:cubicBezTo>
                <a:lnTo>
                  <a:pt x="36" y="39"/>
                </a:lnTo>
                <a:lnTo>
                  <a:pt x="8" y="0"/>
                </a:lnTo>
                <a:close/>
              </a:path>
            </a:pathLst>
          </a:custGeom>
          <a:solidFill>
            <a:srgbClr val="0000fe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3760" y="2241720"/>
            <a:ext cx="803160" cy="1145880"/>
          </a:xfrm>
          <a:custGeom>
            <a:avLst/>
            <a:gdLst/>
            <a:ahLst/>
            <a:rect l="l" t="t" r="r" b="b"/>
            <a:pathLst>
              <a:path w="28" h="47">
                <a:moveTo>
                  <a:pt x="26" y="0"/>
                </a:moveTo>
                <a:cubicBezTo>
                  <a:pt x="16" y="0"/>
                  <a:pt x="8" y="3"/>
                  <a:pt x="0" y="8"/>
                </a:cubicBezTo>
                <a:lnTo>
                  <a:pt x="28" y="47"/>
                </a:lnTo>
                <a:lnTo>
                  <a:pt x="26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66ffcc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05200" y="2235240"/>
            <a:ext cx="57240" cy="1111320"/>
          </a:xfrm>
          <a:custGeom>
            <a:avLst/>
            <a:gdLst/>
            <a:ahLst/>
            <a:rect l="l" t="t" r="r" b="b"/>
            <a:pathLst>
              <a:path w="2" h="47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lnTo>
                  <a:pt x="2" y="47"/>
                </a:lnTo>
                <a:lnTo>
                  <a:pt x="2" y="0"/>
                </a:lnTo>
                <a:close/>
              </a:path>
            </a:pathLst>
          </a:custGeom>
          <a:solidFill>
            <a:srgbClr val="a5002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6120" y="5991120"/>
            <a:ext cx="3909960" cy="592200"/>
          </a:xfrm>
          <a:prstGeom prst="roundRect">
            <a:avLst>
              <a:gd name="adj" fmla="val 5801"/>
            </a:avLst>
          </a:prstGeom>
          <a:gradFill rotWithShape="0">
            <a:gsLst>
              <a:gs pos="0">
                <a:srgbClr val="ffab57"/>
              </a:gs>
              <a:gs pos="100000">
                <a:srgbClr val="fce1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Arial"/>
              </a:rPr>
              <a:t>Total budget : 2021 M€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59440" y="2203560"/>
            <a:ext cx="20718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. Network and service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585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48240" y="4964040"/>
            <a:ext cx="224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3. Components, systems, 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434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9600" y="4422600"/>
            <a:ext cx="16430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4. Digital libraries and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203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5280" y="3624120"/>
            <a:ext cx="1643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5.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74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6960" y="2725560"/>
            <a:ext cx="224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6. Mobility and sustainable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59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68440" y="1870200"/>
            <a:ext cx="2243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7. Independent living and i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73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0200" y="1685880"/>
            <a:ext cx="111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85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43560" y="1687680"/>
            <a:ext cx="928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5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CT WP 2007-08 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26120" y="4127400"/>
            <a:ext cx="21319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2. Cognitive Systems, interaction and robo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93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F2B4-2C4C-4101-809B-581371A353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and service infrastructures underpin economic progress and the development of our socie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51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2 billion mobile terminals in commercial operation, 1 billion Internet users, 400 million internet enabled de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growing and changing dem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51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increasing user control of content/services </a:t>
            </a:r>
            <a:br>
              <a:rPr sz="1800"/>
            </a:b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networking ‘things’ - TV/PC/phone/sensors/tags …</a:t>
            </a:r>
            <a:br>
              <a:rPr sz="1800"/>
            </a:b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convergence: networks|devices|services - video/audio/data/voice/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urrent technologies can be, and need to be improved significan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51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scaling up and more flexibility </a:t>
            </a:r>
            <a:br>
              <a:rPr sz="1800"/>
            </a:b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better security, dependability and robustness</a:t>
            </a:r>
            <a:br>
              <a:rPr sz="1800"/>
            </a:b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higher performance and more function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rope is well-positioned: industry, technology and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51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networks equipment and services, business software, middleware, security, home systems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Challen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1: Pervasive and trusted network &amp; service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0C94-D9F2-4581-B972-1FF6348EF2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ichael Arentoft</dc:creator>
  <dc:description/>
  <dc:language>en-US</dc:language>
  <cp:lastModifiedBy>gasosjo</cp:lastModifiedBy>
  <dcterms:modified xsi:type="dcterms:W3CDTF">2006-12-11T04:07:00Z</dcterms:modified>
  <cp:revision>103</cp:revision>
  <dc:subject/>
  <dc:title>FP7 ICT WP 2007</dc:title>
</cp:coreProperties>
</file>