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AE8C-BA4E-4241-A221-5700F018F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5843-7C33-41E3-A9FE-D54E04D73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DF49-13EA-4B13-A06B-DEE0CA626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9E75-B60B-4D58-BDB9-E02BBC0F2F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88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27EC-DB85-41AF-AEB2-685ECB9C34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F2AB-7B29-4A7B-814C-D289A3FCC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BC70-1D93-412D-BBCA-56A60DE69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EF85-E43B-4248-8CC3-9E2593036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88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AC5F-B2D4-429C-8833-4EED4E062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9D2F-AC9F-4604-AE29-E778840F0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C539-024A-4131-8E03-412C8DFF9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3DC82-E4E8-468C-A232-7D2BCC42D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88"/>
              </a:spcBef>
              <a:spcAft>
                <a:spcPts val="488"/>
              </a:spcAft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88"/>
              </a:spcBef>
              <a:spcAft>
                <a:spcPts val="488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3" marL="1600200" indent="-228600">
              <a:spcBef>
                <a:spcPts val="488"/>
              </a:spcBef>
              <a:spcAft>
                <a:spcPts val="488"/>
              </a:spcAft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4" marL="2057400" indent="-228600">
              <a:spcBef>
                <a:spcPts val="488"/>
              </a:spcBef>
              <a:spcAft>
                <a:spcPts val="488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5" marL="2057400" indent="-228600"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6" marL="2057400" indent="-228600">
              <a:spcBef>
                <a:spcPts val="488"/>
              </a:spcBef>
              <a:spcAft>
                <a:spcPts val="488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1509840" y="188640"/>
            <a:ext cx="6487920" cy="3474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86640" y="6073920"/>
            <a:ext cx="1557360" cy="69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3059280" y="60930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Arial"/>
              </a:rPr>
              <a:t>Slide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72B2D5FA-39D9-4D65-B22A-B4FC123EF74F}" type="slidenum">
              <a:rPr b="1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rcRect l="4214" t="9920" r="5229" b="9230"/>
          <a:stretch/>
        </p:blipFill>
        <p:spPr>
          <a:xfrm>
            <a:off x="50760" y="6010200"/>
            <a:ext cx="1336680" cy="817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62080" y="5979960"/>
            <a:ext cx="85550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200160" y="4340160"/>
            <a:ext cx="727200" cy="727200"/>
          </a:xfrm>
          <a:prstGeom prst="donut">
            <a:avLst>
              <a:gd name="adj" fmla="val 2118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997760" y="-287280"/>
            <a:ext cx="784440" cy="814320"/>
          </a:xfrm>
          <a:prstGeom prst="donut">
            <a:avLst>
              <a:gd name="adj" fmla="val 15425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34800" y="-258840"/>
            <a:ext cx="1175040" cy="1230480"/>
          </a:xfrm>
          <a:prstGeom prst="donut">
            <a:avLst>
              <a:gd name="adj" fmla="val 15425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217440" y="928800"/>
            <a:ext cx="450720" cy="34257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49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EC-GIN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Europe-China Grid InterNetworking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29400" y="1523880"/>
            <a:ext cx="16635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80880" y="1415880"/>
            <a:ext cx="7391520" cy="4527720"/>
            <a:chOff x="380880" y="1415880"/>
            <a:chExt cx="7391520" cy="4527720"/>
          </a:xfrm>
        </p:grpSpPr>
        <p:sp>
          <p:nvSpPr>
            <p:cNvPr id="50" name=""/>
            <p:cNvSpPr/>
            <p:nvPr/>
          </p:nvSpPr>
          <p:spPr>
            <a:xfrm>
              <a:off x="4190760" y="1523880"/>
              <a:ext cx="0" cy="4419720"/>
            </a:xfrm>
            <a:prstGeom prst="line">
              <a:avLst/>
            </a:prstGeom>
            <a:ln w="38160">
              <a:solidFill>
                <a:srgbClr val="cc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24280" y="1415880"/>
              <a:ext cx="30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cc6600"/>
                  </a:solidFill>
                  <a:latin typeface="Arial"/>
                </a:rPr>
                <a:t>Enriched with customised</a:t>
              </a:r>
              <a:br>
                <a:rPr sz="1800"/>
              </a:br>
              <a:r>
                <a:rPr b="1" lang="de-DE" sz="1800" spc="-1" strike="noStrike">
                  <a:solidFill>
                    <a:srgbClr val="cc6600"/>
                  </a:solidFill>
                  <a:latin typeface="Arial"/>
                </a:rPr>
                <a:t>network mechanism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0880" y="15238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cc6600"/>
                  </a:solidFill>
                  <a:latin typeface="Arial"/>
                </a:rPr>
                <a:t>Original Internet technolog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Overview of Project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4818240"/>
            <a:ext cx="3048120" cy="109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aditional Internet applications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web browser, ftp, .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809880" y="4818240"/>
            <a:ext cx="4191120" cy="1099440"/>
            <a:chOff x="3809880" y="4818240"/>
            <a:chExt cx="4191120" cy="1099440"/>
          </a:xfrm>
        </p:grpSpPr>
        <p:sp>
          <p:nvSpPr>
            <p:cNvPr id="56" name=""/>
            <p:cNvSpPr/>
            <p:nvPr/>
          </p:nvSpPr>
          <p:spPr>
            <a:xfrm>
              <a:off x="4952880" y="4818240"/>
              <a:ext cx="3048120" cy="1099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Real-time multimedia applications (VoIP, video conference, ..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09880" y="5181480"/>
              <a:ext cx="1066680" cy="381240"/>
            </a:xfrm>
            <a:prstGeom prst="rightArrow">
              <a:avLst>
                <a:gd name="adj1" fmla="val 50000"/>
                <a:gd name="adj2" fmla="val 69948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09480" y="2895480"/>
            <a:ext cx="3048120" cy="1828440"/>
            <a:chOff x="609480" y="2895480"/>
            <a:chExt cx="3048120" cy="1828440"/>
          </a:xfrm>
        </p:grpSpPr>
        <p:sp>
          <p:nvSpPr>
            <p:cNvPr id="59" name=""/>
            <p:cNvSpPr/>
            <p:nvPr/>
          </p:nvSpPr>
          <p:spPr>
            <a:xfrm>
              <a:off x="609480" y="2895480"/>
              <a:ext cx="3048120" cy="764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Today‘s Grid application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6200000">
              <a:off x="609480" y="4038120"/>
              <a:ext cx="990360" cy="380880"/>
            </a:xfrm>
            <a:prstGeom prst="rightArrow">
              <a:avLst>
                <a:gd name="adj1" fmla="val 50000"/>
                <a:gd name="adj2" fmla="val 65005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376280" y="3986280"/>
            <a:ext cx="207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66ff"/>
                </a:solidFill>
                <a:latin typeface="Arial"/>
              </a:rPr>
              <a:t>Driving a racing car</a:t>
            </a:r>
            <a:br>
              <a:rPr sz="1600"/>
            </a:br>
            <a:r>
              <a:rPr b="1" i="1" lang="de-DE" sz="1600" spc="-1" strike="noStrike">
                <a:solidFill>
                  <a:srgbClr val="0066ff"/>
                </a:solidFill>
                <a:latin typeface="Arial"/>
              </a:rPr>
              <a:t>on a public ro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60440" y="3832200"/>
            <a:ext cx="259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66ff"/>
                </a:solidFill>
                <a:latin typeface="Arial"/>
              </a:rPr>
              <a:t>Applications with special</a:t>
            </a:r>
            <a:br>
              <a:rPr sz="1600"/>
            </a:br>
            <a:r>
              <a:rPr b="1" i="1" lang="de-DE" sz="1600" spc="-1" strike="noStrike">
                <a:solidFill>
                  <a:srgbClr val="0066ff"/>
                </a:solidFill>
                <a:latin typeface="Arial"/>
              </a:rPr>
              <a:t>network properties and</a:t>
            </a:r>
            <a:br>
              <a:rPr sz="1600"/>
            </a:br>
            <a:r>
              <a:rPr b="1" i="1" lang="de-DE" sz="1600" spc="-1" strike="noStrike">
                <a:solidFill>
                  <a:srgbClr val="0066ff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236232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ff4568"/>
                </a:solidFill>
                <a:latin typeface="Arial"/>
              </a:rPr>
              <a:t>Bringing the Grid to its full potential 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733920" y="2743200"/>
            <a:ext cx="4343400" cy="1066680"/>
            <a:chOff x="3733920" y="2743200"/>
            <a:chExt cx="4343400" cy="1066680"/>
          </a:xfrm>
        </p:grpSpPr>
        <p:sp>
          <p:nvSpPr>
            <p:cNvPr id="65" name=""/>
            <p:cNvSpPr/>
            <p:nvPr/>
          </p:nvSpPr>
          <p:spPr>
            <a:xfrm>
              <a:off x="3733920" y="2743200"/>
              <a:ext cx="4343400" cy="106668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4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10240" y="2819520"/>
              <a:ext cx="12193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000" spc="-1" strike="noStrike">
                  <a:solidFill>
                    <a:srgbClr val="ff4568"/>
                  </a:solidFill>
                  <a:latin typeface="Arial"/>
                </a:rPr>
                <a:t>EC-G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809880" y="2895480"/>
            <a:ext cx="4191120" cy="764280"/>
            <a:chOff x="3809880" y="2895480"/>
            <a:chExt cx="4191120" cy="764280"/>
          </a:xfrm>
        </p:grpSpPr>
        <p:sp>
          <p:nvSpPr>
            <p:cNvPr id="68" name=""/>
            <p:cNvSpPr/>
            <p:nvPr/>
          </p:nvSpPr>
          <p:spPr>
            <a:xfrm>
              <a:off x="3809880" y="3200400"/>
              <a:ext cx="1066680" cy="380880"/>
            </a:xfrm>
            <a:prstGeom prst="rightArrow">
              <a:avLst>
                <a:gd name="adj1" fmla="val 50000"/>
                <a:gd name="adj2" fmla="val 70014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52880" y="2895480"/>
              <a:ext cx="3048120" cy="764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200" spc="-1" strike="noStrike">
                  <a:solidFill>
                    <a:srgbClr val="000000"/>
                  </a:solidFill>
                  <a:latin typeface="Arial"/>
                </a:rPr>
                <a:t>EC-GIN</a:t>
              </a: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 enabled</a:t>
              </a:r>
              <a:br>
                <a:rPr sz="2200"/>
              </a:b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Grid application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505720" y="0"/>
            <a:ext cx="638280" cy="1295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507520" y="1371600"/>
            <a:ext cx="636480" cy="636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507520" y="2362320"/>
            <a:ext cx="636480" cy="855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8507520" y="4154400"/>
            <a:ext cx="636480" cy="265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8491680" y="3276720"/>
            <a:ext cx="63648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8507520" y="3809880"/>
            <a:ext cx="636480" cy="206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8507520" y="4468680"/>
            <a:ext cx="636480" cy="636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8507520" y="5145120"/>
            <a:ext cx="636480" cy="264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8507520" y="5535720"/>
            <a:ext cx="636480" cy="255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8507520" y="5867280"/>
            <a:ext cx="636480" cy="7632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11" action="ppaction://hlinksldjump"/>
          </p:cNvPr>
          <p:cNvSpPr/>
          <p:nvPr/>
        </p:nvSpPr>
        <p:spPr>
          <a:xfrm>
            <a:off x="533520" y="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8507520" y="2122560"/>
            <a:ext cx="636480" cy="1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Objectives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4932360"/>
            <a:ext cx="8209080" cy="7300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Economic Grid service / network traffic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4202280"/>
            <a:ext cx="8209080" cy="7300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Encouragement of Internet-based distribution of high performance computing in China and Euro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3471840"/>
            <a:ext cx="8209080" cy="73044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Realistic and long-distance demonstrator c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2792520"/>
            <a:ext cx="8209080" cy="6793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Snowball effect” in European and Chinese research commun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2154240"/>
            <a:ext cx="8209080" cy="6382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Enhancement of communication capabilities of Grid 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052640"/>
            <a:ext cx="8209080" cy="11016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052640"/>
            <a:ext cx="8207640" cy="0"/>
          </a:xfrm>
          <a:prstGeom prst="line">
            <a:avLst/>
          </a:prstGeom>
          <a:ln cap="sq"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2154240"/>
            <a:ext cx="82076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792520"/>
            <a:ext cx="82076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3471840"/>
            <a:ext cx="82076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202280"/>
            <a:ext cx="82076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4932360"/>
            <a:ext cx="82076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662440"/>
            <a:ext cx="8207640" cy="0"/>
          </a:xfrm>
          <a:prstGeom prst="line">
            <a:avLst/>
          </a:prstGeom>
          <a:ln cap="sq"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052640"/>
            <a:ext cx="0" cy="4609800"/>
          </a:xfrm>
          <a:prstGeom prst="line">
            <a:avLst/>
          </a:prstGeom>
          <a:ln cap="sq"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747280" y="1052640"/>
            <a:ext cx="0" cy="4609800"/>
          </a:xfrm>
          <a:prstGeom prst="line">
            <a:avLst/>
          </a:prstGeom>
          <a:ln cap="sq"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99"/>
                </a:solidFill>
                <a:latin typeface="Arial"/>
              </a:rPr>
              <a:t>Research Challenges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8153280" cy="49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cc6600"/>
                </a:solidFill>
                <a:latin typeface="Arial"/>
              </a:rPr>
              <a:t>Research Challenges: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How to model Grid traffic?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0000"/>
                </a:solidFill>
                <a:latin typeface="Arial"/>
              </a:rPr>
              <a:t>Much is known about web traffic (e.g. self-similarity) - but the Grid is different!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How to simulate a Grid-network?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0000"/>
                </a:solidFill>
                <a:latin typeface="Arial"/>
              </a:rPr>
              <a:t>Necessary for checking various environment condition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0000"/>
                </a:solidFill>
                <a:latin typeface="Arial"/>
              </a:rPr>
              <a:t>May require traffic model (above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0000"/>
                </a:solidFill>
                <a:latin typeface="Arial"/>
              </a:rPr>
              <a:t>Currently, Grid-Sim / Net-Sim are two separate worlds</a:t>
            </a:r>
            <a:br>
              <a:rPr sz="1400"/>
            </a:br>
            <a:r>
              <a:rPr b="0" lang="de-DE" sz="1400" spc="-1" strike="noStrike">
                <a:solidFill>
                  <a:srgbClr val="010000"/>
                </a:solidFill>
                <a:latin typeface="Arial"/>
              </a:rPr>
              <a:t>(different goals, assumptions, tools, people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How to specify network requirements?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0000"/>
                </a:solidFill>
                <a:latin typeface="Arial"/>
              </a:rPr>
              <a:t>Explicit or implicit, guaranteed or “elastic“, various possible levels of granularity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99"/>
                </a:solidFill>
                <a:latin typeface="Arial"/>
              </a:rPr>
              <a:t>How to align network and Grid economics?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10000"/>
                </a:solidFill>
                <a:latin typeface="Arial"/>
              </a:rPr>
              <a:t>Grid service model, charging model for grid services, and network model for such Grid service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spcAft>
                <a:spcPts val="176"/>
              </a:spcAft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10000"/>
                </a:solidFill>
                <a:latin typeface="Arial"/>
              </a:rPr>
              <a:t>Network Mgmt mechanisms in support of those three areas in an integrated fashion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533520" y="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Key technology advancements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6600"/>
                </a:solidFill>
                <a:latin typeface="Arial"/>
              </a:rPr>
              <a:t>Key Technologies</a:t>
            </a: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aster Grid: network mechanisms based on Grid peculiaritie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Take special properties into accoun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spcAft>
                <a:spcPts val="201"/>
              </a:spcAft>
              <a:buClr>
                <a:srgbClr val="00339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Grid scheduler’s ability to specify future traffic occurrence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Satisfy special requirements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spcAft>
                <a:spcPts val="201"/>
              </a:spcAft>
              <a:buClr>
                <a:srgbClr val="00339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prediction of file transfer delay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conomic Grid traffic management and security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Securely balance conflicting demand of performance and economic use of resources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spcAft>
                <a:spcPts val="201"/>
              </a:spcAft>
              <a:buClr>
                <a:srgbClr val="00339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 u="sng">
                <a:solidFill>
                  <a:srgbClr val="003399"/>
                </a:solidFill>
                <a:uFillTx/>
                <a:latin typeface="Arial"/>
              </a:rPr>
              <a:t>Example:</a:t>
            </a:r>
            <a:r>
              <a:rPr b="0" lang="de-CH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A4C enhancements and security, application of network management method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Incentive-driven use-based pricin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spcAft>
                <a:spcPts val="201"/>
              </a:spcAft>
              <a:buClr>
                <a:srgbClr val="00339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Grid services and pricing models </a:t>
            </a: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for events/short-lived connection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533520" y="0"/>
            <a:ext cx="76176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Expected Results &amp; Impact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932360"/>
            <a:ext cx="8209080" cy="7300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Customised GINTONIC implement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99"/>
                </a:solidFill>
                <a:latin typeface="Arial"/>
              </a:rPr>
              <a:t>Performance improvement of partner Gri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2792520"/>
            <a:ext cx="8209080" cy="6793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s-2 code for Grid network simul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Fostering EC-GIN related rese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2154240"/>
            <a:ext cx="8209080" cy="63828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etwork level analysis of Grid 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Increased Grid knowledge in network commun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052640"/>
            <a:ext cx="8209080" cy="11016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6600"/>
                </a:solidFill>
                <a:latin typeface="Arial"/>
              </a:rPr>
              <a:t>Anticipated Results &amp; Impac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052640"/>
            <a:ext cx="8207640" cy="0"/>
          </a:xfrm>
          <a:prstGeom prst="line">
            <a:avLst/>
          </a:prstGeom>
          <a:ln cap="sq"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2154240"/>
            <a:ext cx="82076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2792520"/>
            <a:ext cx="82076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3471840"/>
            <a:ext cx="82076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4202280"/>
            <a:ext cx="82076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932360"/>
            <a:ext cx="820764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5662440"/>
            <a:ext cx="8207640" cy="0"/>
          </a:xfrm>
          <a:prstGeom prst="line">
            <a:avLst/>
          </a:prstGeom>
          <a:ln cap="sq"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052640"/>
            <a:ext cx="0" cy="4609800"/>
          </a:xfrm>
          <a:prstGeom prst="line">
            <a:avLst/>
          </a:prstGeom>
          <a:ln cap="sq"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7280" y="1052640"/>
            <a:ext cx="0" cy="4609800"/>
          </a:xfrm>
          <a:prstGeom prst="line">
            <a:avLst/>
          </a:prstGeom>
          <a:ln cap="sq"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206960"/>
            <a:ext cx="8209080" cy="72072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Economic Grid traffic management and security mechanis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99"/>
                </a:solidFill>
                <a:latin typeface="Arial"/>
              </a:rPr>
              <a:t>Reinforcing commercial use of Gri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3471840"/>
            <a:ext cx="8209080" cy="73044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Grid-specific network enhanc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99"/>
                </a:solidFill>
                <a:latin typeface="Arial"/>
              </a:rPr>
              <a:t>Snowball effect in research commun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99"/>
                </a:solidFill>
                <a:latin typeface="Arial"/>
              </a:rPr>
              <a:t>Added value of Europe-China cooperation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6600"/>
                </a:solidFill>
                <a:latin typeface="Arial"/>
              </a:rPr>
              <a:t>Highly qualified Chinese partners</a:t>
            </a: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Well distributed inputs to all WP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41,5% of MM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6600"/>
                </a:solidFill>
                <a:latin typeface="Arial"/>
              </a:rPr>
              <a:t>CNGrid, ChinaGrid</a:t>
            </a: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Large national Grid projects; ideal testbed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6600"/>
                </a:solidFill>
                <a:latin typeface="Arial"/>
              </a:rPr>
              <a:t>Increase global awareness of our project</a:t>
            </a: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Special focus on WPs for integration / testing and dissemination / standardisation / exploitation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6600"/>
                </a:solidFill>
                <a:latin typeface="Arial"/>
              </a:rPr>
              <a:t>Geographical distance enabling global-scale testing</a:t>
            </a: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0:01:34Z</dcterms:created>
  <dc:creator>dalbych</dc:creator>
  <dc:description/>
  <dc:language>en-US</dc:language>
  <cp:lastModifiedBy> ledantec</cp:lastModifiedBy>
  <cp:lastPrinted>2002-12-11T11:47:48Z</cp:lastPrinted>
  <dcterms:modified xsi:type="dcterms:W3CDTF">2006-12-12T06:49:58Z</dcterms:modified>
  <cp:revision>279</cp:revision>
  <dc:subject/>
  <dc:title>Impact Assessment </dc:title>
</cp:coreProperties>
</file>