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4.png" ContentType="image/png"/>
  <Override PartName="/ppt/media/image11.png" ContentType="image/png"/>
  <Override PartName="/ppt/media/image5.wmf" ContentType="image/x-wmf"/>
  <Override PartName="/ppt/media/image27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15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2.png" ContentType="image/pn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FA77-2A31-4329-9AD2-F1411300E5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C14-437C-4E85-A824-E7AC1A16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E94-34C7-4904-AC8D-6A1C4A84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6D4-EA01-43CB-B912-5277D4E7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27A-864A-4CD0-ABC0-0973976B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22D-496A-4D5C-8D8C-FFC3B19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267-43B4-437C-9D61-1E8723B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7B4-CC0A-426B-A13D-EB5BD6CE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083-236C-43D0-8AAA-CC3BFA7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CB8-DD90-45C5-A13E-6D9B244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6AB-3A54-4A1F-951E-86A604B7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58B-C0F6-4136-BD05-C808629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2D5-27CA-4175-8EA5-E0425098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3512f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D294-0610-4DB8-95B5-50E22A10F8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450200">
            <a:off x="6005160" y="18489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450200">
            <a:off x="4793760" y="13107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450200">
            <a:off x="3638160" y="79344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450200">
            <a:off x="2468160" y="288720"/>
            <a:ext cx="565200" cy="467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450200">
            <a:off x="1599840" y="36572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1450200">
            <a:off x="2542680" y="16394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rot="1450200">
            <a:off x="2057040" y="266652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rot="1450200">
            <a:off x="1145880" y="468288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rcRect l="9442" t="0" r="-4645" b="0"/>
          <a:stretch/>
        </p:blipFill>
        <p:spPr>
          <a:xfrm>
            <a:off x="7845480" y="6229440"/>
            <a:ext cx="12985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0" y="6367320"/>
          <a:ext cx="1440000" cy="4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367320"/>
                    <a:ext cx="1440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20.png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114800" cy="162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3657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lbert Ka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14800" y="990720"/>
          <a:ext cx="41148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990720"/>
                    <a:ext cx="4114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114800" y="2133720"/>
          <a:ext cx="41148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133720"/>
                    <a:ext cx="4114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2120" y="1135080"/>
            <a:ext cx="246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160680"/>
                </a:solidFill>
                <a:latin typeface="Arial"/>
              </a:rPr>
              <a:t>Br</a:t>
            </a:r>
            <a:r>
              <a:rPr b="1" lang="de-DE" sz="5400" spc="-1" strike="noStrike">
                <a:solidFill>
                  <a:srgbClr val="df4941"/>
                </a:solidFill>
                <a:latin typeface="Arial"/>
              </a:rPr>
              <a:t>i</a:t>
            </a:r>
            <a:r>
              <a:rPr b="1" lang="de-DE" sz="5400" spc="-1" strike="noStrike">
                <a:solidFill>
                  <a:srgbClr val="160680"/>
                </a:solidFill>
                <a:latin typeface="Arial"/>
              </a:rPr>
              <a:t>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5480" y="5516640"/>
            <a:ext cx="351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ird Grid@Asi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1 to 13 Decem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oul –The WestinCho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P1: GRID Infrastructur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Key areas of interoperability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47640" y="2533680"/>
            <a:ext cx="60487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P2: Aerospace Activity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512fe"/>
                </a:solidFill>
                <a:latin typeface="Arial"/>
              </a:rPr>
              <a:t>Workflow, optimization, GRID</a:t>
            </a: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498168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3: Meteo Activity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12fe"/>
                </a:solidFill>
                <a:latin typeface="Arial"/>
              </a:rPr>
              <a:t>THORPEX Interactive Grand Global Ensemble (TIGGE):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WMO programme THORPEX will provide appropriate risk management tools for decision makers of all nations.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First phase: building the TIGGE for daily output of global Ensemble Prediction System from around the world (~200GB per day)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2fe"/>
                </a:solidFill>
                <a:latin typeface="Arial"/>
              </a:rPr>
              <a:t>ECMWF and CMA will each host a copy of the database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512fe"/>
                </a:solidFill>
                <a:latin typeface="Arial"/>
              </a:rPr>
              <a:t>Meteo activity in BRIDGE:</a:t>
            </a: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Provide GRID enabled access to the TIGGE database, focussing on resource usage optimisation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Provide multi-language cataloguing and data discovery </a:t>
            </a:r>
            <a:endParaRPr b="0" lang="en-US" sz="1800" spc="-1" strike="noStrike">
              <a:solidFill>
                <a:srgbClr val="3512fe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512fe"/>
                </a:solidFill>
                <a:latin typeface="Arial"/>
              </a:rPr>
              <a:t>Analysis Services: Risk Assessment Modules on regional disasters and planning</a:t>
            </a:r>
            <a:r>
              <a:rPr b="0" lang="en-GB" sz="17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3512f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 4: Pharma DockFlow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71600" y="2209680"/>
            <a:ext cx="648180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ed790d"/>
                </a:solidFill>
                <a:latin typeface="Arial"/>
              </a:rPr>
              <a:t>WP4: Pharma Activity - Dockflow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580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Grid-based Virtual Screening and Molecular Docking Application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12fe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512fe"/>
                </a:solidFill>
                <a:latin typeface="Arial"/>
              </a:rPr>
              <a:t>Proof of concept” scientific experiment for identifying novel potential lead candidate drugs against Bird flu / Dengue fever / Malaria.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An integrated Virtual Screening Platform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 an integrated solution based on existing docking tools available to both the European and Chinese partners within a single platform.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ment of an algorithmic approach towards interoperability of docking results is a real challenge and will be one of the main contributions of this task.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Continued development of CombiScore to provide a unified score and visualization method to facilitate lead identification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512fe"/>
                </a:solidFill>
                <a:latin typeface="Arial"/>
              </a:rPr>
              <a:t>Workflow Execution Models for Virtual Screening:</a:t>
            </a: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Developing interoperability methods between Chinese and EU workflow tools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00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Enable interactivity within workflow execution</a:t>
            </a:r>
            <a:endParaRPr b="0" lang="en-US" sz="1600" spc="-1" strike="noStrike">
              <a:solidFill>
                <a:srgbClr val="3512fe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349"/>
              </a:spcBef>
              <a:buClr>
                <a:srgbClr val="3512f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12fe"/>
                </a:solidFill>
                <a:latin typeface="Arial"/>
              </a:rPr>
              <a:t>Production of reusable, validated “canned” virtual screening workflows authored by domain experts that can then be published for execution by a wider audience.</a:t>
            </a:r>
            <a:r>
              <a:rPr b="0" lang="en-GB" sz="1400" spc="-1" strike="noStrike">
                <a:solidFill>
                  <a:srgbClr val="3512f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512f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53341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mplementation of a multi language thesaurus for the meteorology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0640" y="5334120"/>
            <a:ext cx="2025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D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419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-ordination of meteorology application and databa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320" y="4419720"/>
            <a:ext cx="2025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ECM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2767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frastructure, distributed data access, semantics, security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4280" y="3274920"/>
            <a:ext cx="20462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T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20968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tegration and development of OPTIMUS software for the aerospac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286000"/>
            <a:ext cx="2025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1143000"/>
            <a:ext cx="5077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roject overall 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sponse surface models, d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92320"/>
            <a:ext cx="2025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FhG/S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3659040"/>
            <a:ext cx="6634440" cy="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2520" y="4419720"/>
            <a:ext cx="6558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914400"/>
            <a:ext cx="0" cy="504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410080"/>
            <a:ext cx="5076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erospace activity, aeroelasticity service, provider of the aerospa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410080"/>
            <a:ext cx="19814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AVI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419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-ordination of Chinese project part, Grid infrastructure and  optimiz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419720"/>
            <a:ext cx="198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Beihang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276720"/>
            <a:ext cx="50770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cientific data Grid, middleware for distributive data integration, risk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309840"/>
            <a:ext cx="198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CNIC, CA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5077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tension of grid-based workflow for protein docking applications and wf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166840"/>
            <a:ext cx="198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nfor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219320"/>
            <a:ext cx="5076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erospace activity, aero acoustics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1241280"/>
            <a:ext cx="1981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83880"/>
            <a:ext cx="85690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Bridge Partner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48000" y="4199040"/>
            <a:ext cx="5076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armaceutical activities, verification of results and system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191120"/>
            <a:ext cx="1584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Neo Tr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048120"/>
            <a:ext cx="50767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armaceutical activities, wf processes  for new drug discovery, dock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0240" y="3048120"/>
            <a:ext cx="1584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IMM,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1828800"/>
            <a:ext cx="5076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eteorological activities, distributed data retrieval and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30240" y="1828800"/>
            <a:ext cx="1584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12fe"/>
                </a:solidFill>
                <a:latin typeface="Arial"/>
              </a:rPr>
              <a:t>N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f4941"/>
                </a:solidFill>
                <a:latin typeface="Arial"/>
              </a:rPr>
              <a:t>Research Challenge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achieve </a:t>
            </a:r>
            <a:r>
              <a:rPr b="1" lang="en-US" sz="2000" spc="-1" strike="noStrike" u="sng">
                <a:solidFill>
                  <a:srgbClr val="3512fe"/>
                </a:solidFill>
                <a:uFillTx/>
                <a:latin typeface="Arial"/>
              </a:rPr>
              <a:t>interoperability</a:t>
            </a: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 between GRIA and CNGrid GOS </a:t>
            </a:r>
            <a:endParaRPr b="0" lang="en-US" sz="2000" spc="-1" strike="noStrike">
              <a:solidFill>
                <a:srgbClr val="3512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666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implement </a:t>
            </a:r>
            <a:r>
              <a:rPr b="1" lang="en-US" sz="2000" spc="-1" strike="noStrike" u="sng">
                <a:solidFill>
                  <a:srgbClr val="3512fe"/>
                </a:solidFill>
                <a:uFillTx/>
                <a:latin typeface="Arial"/>
              </a:rPr>
              <a:t>complex</a:t>
            </a: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 and interactive workflows from different domains using European and Chinese resources, and interoperability between individual workflow re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886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12fe"/>
                </a:solidFill>
                <a:latin typeface="Arial"/>
              </a:rPr>
              <a:t>To achieve functionality of Grid services based on heterogeneous infrastructures, through the three applicat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f4941"/>
                </a:solidFill>
                <a:latin typeface="Arial"/>
              </a:rPr>
              <a:t>Key technology advancement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Mechanism which achieves mapping between heterogeneous platforms</a:t>
            </a:r>
            <a:endParaRPr b="0" lang="en-US" sz="2800" spc="-1" strike="noStrike">
              <a:solidFill>
                <a:srgbClr val="3512f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5909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Cross-plat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Dynamic polic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Data processing an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Monitoring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Workflow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512fe"/>
                </a:solidFill>
                <a:latin typeface="Arial"/>
              </a:rPr>
              <a:t>Quality of Servi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70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1371600"/>
            <a:ext cx="81536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ndustri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4924440" y="198900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372360" y="1989000"/>
            <a:ext cx="1081080" cy="95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68580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ed790d"/>
                </a:solidFill>
                <a:latin typeface="Arial"/>
              </a:rPr>
              <a:t>EU Funded Project - Start: January 1st, 200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975280" cy="4630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09680" y="2944800"/>
            <a:ext cx="494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</a:rPr>
              <a:t>CNGrid&lt;-&gt;GR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Key technology advancements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57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914400" y="152280"/>
            <a:ext cx="6934320" cy="6123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23880" y="304920"/>
            <a:ext cx="561348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oject Start: January 1st, 2007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994680" y="5715000"/>
            <a:ext cx="68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f5b1"/>
                </a:solidFill>
                <a:latin typeface="Arial"/>
              </a:rPr>
              <a:t>Kick-off Meeting: January 22nd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52240" y="3962520"/>
            <a:ext cx="5693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1f5b1"/>
                </a:solidFill>
                <a:latin typeface="Arial"/>
              </a:rPr>
              <a:t>Thank You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2895480"/>
            <a:ext cx="2362320" cy="2743200"/>
          </a:xfrm>
          <a:prstGeom prst="can">
            <a:avLst>
              <a:gd name="adj" fmla="val 19620"/>
            </a:avLst>
          </a:prstGeom>
          <a:solidFill>
            <a:srgbClr val="f1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2895480"/>
            <a:ext cx="2362320" cy="2743200"/>
          </a:xfrm>
          <a:prstGeom prst="can">
            <a:avLst>
              <a:gd name="adj" fmla="val 19620"/>
            </a:avLst>
          </a:prstGeom>
          <a:solidFill>
            <a:srgbClr val="f1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宋体"/>
              </a:rPr>
              <a:t>CNGrid 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47920"/>
          <a:ext cx="70866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447920"/>
                    <a:ext cx="7086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0720" y="152280"/>
            <a:ext cx="5103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100" spc="-1" strike="noStrike">
                <a:solidFill>
                  <a:srgbClr val="ed790d"/>
                </a:solidFill>
                <a:latin typeface="Arial"/>
              </a:rPr>
              <a:t>Bridge Foundat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512fe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605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94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029200" y="632448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909880"/>
            <a:ext cx="457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Set up joint application showcases using distributed workflow and data access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1843200"/>
            <a:ext cx="457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Set up integrated Grid test bed using European and Chinese middleware components for application demon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06668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evelop, enhance and interconnect European and Chinese Grid middleware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isseminate the results of the project to industrial and academic commun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72428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Arial"/>
              </a:rPr>
              <a:t>Demonstrate the benefits of Grid technology for international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6480" y="103824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d790d"/>
                </a:solidFill>
                <a:latin typeface="Arial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d790d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66669.9981689453" y="66669.9981689453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14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1219320" y="1295280"/>
            <a:ext cx="6324480" cy="4297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1476360" y="15573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332000" y="4365720"/>
            <a:ext cx="108108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29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38280" y="914400"/>
            <a:ext cx="4267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cc6600"/>
                </a:solidFill>
                <a:latin typeface="Arial"/>
              </a:rPr>
              <a:t>Application showc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Aerosp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Meteor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62"/>
              </a:spcBef>
              <a:buClr>
                <a:srgbClr val="0033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Drug Des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7600" y="218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2743200" y="3048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5867280" y="297180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>
            <a:off x="152280" y="3056040"/>
            <a:ext cx="25146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0" b="22248"/>
          <a:stretch/>
        </p:blipFill>
        <p:spPr>
          <a:xfrm>
            <a:off x="2627280" y="6165720"/>
            <a:ext cx="762120" cy="189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04000" y="6103800"/>
            <a:ext cx="587160" cy="564840"/>
            <a:chOff x="6804000" y="6103800"/>
            <a:chExt cx="587160" cy="564840"/>
          </a:xfrm>
        </p:grpSpPr>
        <p:sp>
          <p:nvSpPr>
            <p:cNvPr id="148" name=""/>
            <p:cNvSpPr/>
            <p:nvPr/>
          </p:nvSpPr>
          <p:spPr>
            <a:xfrm>
              <a:off x="6804000" y="6103800"/>
              <a:ext cx="58716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Gesellschaft"/>
            <p:cNvPicPr/>
            <p:nvPr/>
          </p:nvPicPr>
          <p:blipFill>
            <a:blip r:embed="rId3"/>
            <a:srcRect l="0" t="0" r="57768" b="47146"/>
            <a:stretch/>
          </p:blipFill>
          <p:spPr>
            <a:xfrm>
              <a:off x="6879600" y="6148440"/>
              <a:ext cx="481320" cy="4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The IT Innovation Centre"/>
          <p:cNvPicPr/>
          <p:nvPr/>
        </p:nvPicPr>
        <p:blipFill>
          <a:blip r:embed="rId4"/>
          <a:stretch/>
        </p:blipFill>
        <p:spPr>
          <a:xfrm>
            <a:off x="6135840" y="6237360"/>
            <a:ext cx="380880" cy="37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1963" t="3484" r="86277" b="79112"/>
          <a:stretch/>
        </p:blipFill>
        <p:spPr>
          <a:xfrm>
            <a:off x="4478400" y="6014880"/>
            <a:ext cx="525240" cy="438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979640" y="6558120"/>
            <a:ext cx="863640" cy="183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258920" y="6093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5005440" y="6308640"/>
            <a:ext cx="1006560" cy="182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492360" y="623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995640" y="6381720"/>
            <a:ext cx="355680" cy="336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ilateral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search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an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dustrial </a:t>
            </a:r>
            <a:r>
              <a:rPr b="1" lang="en-GB" sz="15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evelopment enhancing and integrating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ri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nabled</a:t>
            </a:r>
            <a:r>
              <a:rPr b="1" lang="en-GB" sz="15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technolog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32200" y="4479840"/>
            <a:ext cx="1843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572000"/>
            <a:ext cx="7772400" cy="1007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Arial"/>
              </a:rPr>
              <a:t>Extended interoperability of Grid infra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523880"/>
            <a:ext cx="2361960" cy="249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Meteo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Seamless access to heterogeneous distribute data reposito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1523880"/>
            <a:ext cx="2210040" cy="249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Aero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Multi-disciplinary collaborative configuration desig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523880"/>
            <a:ext cx="2590560" cy="2496600"/>
          </a:xfrm>
          <a:prstGeom prst="rect">
            <a:avLst/>
          </a:prstGeom>
          <a:solidFill>
            <a:srgbClr val="e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399"/>
                </a:solidFill>
                <a:latin typeface="Arial"/>
              </a:rPr>
              <a:t>Pharma:</a:t>
            </a: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</a:rPr>
              <a:t>Algorithmic inter-operability between different protein dock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414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6705720" y="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7696080" y="0"/>
            <a:ext cx="1081080" cy="9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d790d"/>
                </a:solidFill>
                <a:latin typeface="Arial"/>
              </a:rPr>
              <a:t>Work Packages: Approach &amp; Structure</a:t>
            </a:r>
            <a:endParaRPr b="1" lang="en-US" sz="3500" spc="-1" strike="noStrike">
              <a:solidFill>
                <a:srgbClr val="ed790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4572000"/>
            <a:ext cx="4235400" cy="11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6600"/>
                </a:solidFill>
                <a:latin typeface="Frutiger 45 Light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6600"/>
                </a:solidFill>
                <a:latin typeface="Frutiger 45 Light"/>
              </a:rPr>
              <a:t>Grid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r>
              <a:rPr b="0" lang="de-DE" sz="1200" spc="-1" strike="noStrike">
                <a:solidFill>
                  <a:srgbClr val="cc6600"/>
                </a:solidFill>
                <a:latin typeface="Frutiger 45 Ligh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ff"/>
                </a:solidFill>
                <a:latin typeface="Frutiger 45 Light"/>
              </a:rPr>
              <a:t>IT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314360" cy="21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erospace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L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E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AVIC-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67160" y="2124000"/>
            <a:ext cx="1314360" cy="21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cc6600"/>
                </a:solidFill>
                <a:latin typeface="Frutiger 45 Light"/>
              </a:rPr>
              <a:t> </a:t>
            </a: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Meteo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ECMW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DW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N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C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133720"/>
            <a:ext cx="1314360" cy="21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Ph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ff"/>
                </a:solidFill>
                <a:latin typeface="Frutiger 45 Light"/>
              </a:rPr>
              <a:t>Inforse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 45 Light"/>
              </a:rPr>
              <a:t>SI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 45 Light"/>
              </a:rPr>
              <a:t>Neo-Tr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Frutiger 45 Light"/>
              </a:rPr>
              <a:t>-BiosolveIT (Su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2133720"/>
            <a:ext cx="106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6600"/>
                </a:solidFill>
                <a:latin typeface="Frutiger 45 Light"/>
              </a:rPr>
              <a:t>WP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6600"/>
                </a:solidFill>
                <a:latin typeface="Frutiger 45 Light"/>
              </a:rPr>
              <a:t>Infor-mation Dissemi-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Frutiger 45 Light"/>
              </a:rPr>
              <a:t>Beihang </a:t>
            </a:r>
            <a:r>
              <a:rPr b="1" lang="de-DE" sz="900" spc="-1" strike="noStrike">
                <a:solidFill>
                  <a:srgbClr val="ff0000"/>
                </a:solidFill>
                <a:latin typeface="Frutiger 45 Light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133720"/>
            <a:ext cx="101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WP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6600"/>
                </a:solidFill>
                <a:latin typeface="Frutiger 45 Light"/>
              </a:rPr>
              <a:t>Project Manage-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c6600"/>
                </a:solidFill>
                <a:latin typeface="Frutiger 45 Light"/>
              </a:rPr>
              <a:t>Partn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ff"/>
                </a:solidFill>
                <a:latin typeface="Frutiger 45 Light"/>
              </a:rPr>
              <a:t>FhG.SC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Frutiger 45 Light"/>
              </a:rPr>
              <a:t>Beiha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lbert Kalb</dc:creator>
  <dc:description/>
  <cp:keywords/>
  <dc:language>en-US</dc:language>
  <cp:lastModifiedBy> ledantec</cp:lastModifiedBy>
  <cp:lastPrinted>2006-12-01T12:55:17Z</cp:lastPrinted>
  <dcterms:modified xsi:type="dcterms:W3CDTF">2006-12-03T10:28:42Z</dcterms:modified>
  <cp:revision>18</cp:revision>
  <dc:subject>grid@asia</dc:subject>
  <dc:title>Bridge Seoul Presentation</dc:title>
</cp:coreProperties>
</file>