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563-A467-4133-AE3B-64FE5620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9F3-C212-4217-92E3-9F6FC8FE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189-4CB9-4FBC-A272-EECD42DE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170-F00D-49D6-9792-D8179104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C9C-8FB4-4AD5-A35A-32A9052F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7CD-940B-403B-B394-C00E3C64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419-B784-4511-B3BB-45913E92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A60-72D6-4A7F-8D35-AC268E1A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DD7-CE12-4862-876B-B7EBC9B7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988-9891-40C9-9D1C-2CCE69FE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C54-07DE-4A66-B392-5835E24A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2AE-4A51-4D2C-ACCC-3B7C2524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40080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dvanced Grid Research Workshops through European and Asian Co-op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162920" y="4572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8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ED63-A72D-40F7-B0A7-7773D5D07F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GRID: European Research Network on Foundations, Software Infrastructures and Applications for large scale distributed, GRID and Peer-to-Peer Technolog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GRID partn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ttp://www.coregrid.ne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184-5C61-4224-927B-A1C45D90D9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7:11:31Z</dcterms:created>
  <dc:creator>Thierry PRIOL</dc:creator>
  <dc:description/>
  <dc:language>en-US</dc:language>
  <cp:lastModifiedBy>Peter Kunz</cp:lastModifiedBy>
  <cp:lastPrinted>2002-03-06T16:04:30Z</cp:lastPrinted>
  <dcterms:modified xsi:type="dcterms:W3CDTF">2005-06-14T09:06:24Z</dcterms:modified>
  <cp:revision>153</cp:revision>
  <dc:subject/>
  <dc:title>CoreGRID: A network of excellence in Grid and P2P Technologies</dc:title>
</cp:coreProperties>
</file>