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B49-9269-4FBA-A131-DA4407A4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32C-F58D-4ADA-8EE9-248D69CA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91D-4163-4AA4-847B-8DA84CCB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50F-6E7E-4FC1-B25B-397243EE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807-CF5B-4225-8AA0-D2AE43AE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B44-FBFB-4F18-B97D-61B65AF8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C4F-1391-46E9-B32A-8029A5B6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F65-A69E-4EA9-857C-9FC20EF9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CB2-4780-40E1-8866-B9D26188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3E7-F405-48C0-864D-51FD13B3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327-E056-4ED9-81ED-AC40581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E7C-93F4-43A1-92C1-D6CF721D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162920" y="4572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F6C5-4D9B-4076-AA60-CE5FFAD39F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GRID: European Research Network on Foundations, Software Infrastructures and Applications for large scale distributed, GRID and Peer-to-Peer Technolog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GRID partn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ttp://www.coregrid.n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8C7-D580-4688-85B8-A037102B9C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Thierry PRIOL</dc:creator>
  <dc:description/>
  <dc:language>en-US</dc:language>
  <cp:lastModifiedBy>Peter Kunz</cp:lastModifiedBy>
  <cp:lastPrinted>2002-03-06T16:04:30Z</cp:lastPrinted>
  <dcterms:modified xsi:type="dcterms:W3CDTF">2005-06-14T09:06:24Z</dcterms:modified>
  <cp:revision>153</cp:revision>
  <dc:subject/>
  <dc:title>CoreGRID: A network of excellence in Grid and P2P Technologies</dc:title>
</cp:coreProperties>
</file>