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172D-95F3-4DFE-9632-0D9E7DD489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FAF4-3B0B-4134-BDFB-306BF13CFB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5000" cy="3206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every European country there should be one member institute, which serv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our 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ong belief that all participants will benefit from co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sharing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By developing a shared vision on technological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nd by utilizing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CIM fosters a shared view among its members which is based on the ambition to excel .... and to act as a bridg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mote Europea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435F-7E27-4BF3-8D40-0DB803CB6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1E71-C4CF-482C-9CAE-4983280FA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A1E1-E8EB-456B-8DC2-38EC75565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4392-1B73-43AE-ADFE-17FF3000B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FF7F7-1CAC-48D4-B052-C98D2E04BE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26E8D-8800-42B2-BC70-594152A7FF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40EF1-EB58-4F74-915A-710CD3DACF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52A64-96DD-45A9-9D1A-D78AB82B7E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AD3C0-5CB7-49FE-9E54-E243D5BD26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58FC8-B6BC-4FCA-AD42-7DC4DF6E75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EFD58-E6D4-48FC-9036-8F9EC7A73E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3FE7-40A5-4C5B-8C77-C7D31F241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05DF0-B7CF-4B49-B762-8DA7B972FE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BD8DE-6D85-4653-8216-F055A7F05F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E0018-5DB4-450C-B4B1-78315113E1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17B2B-559D-493C-98B7-C8F76D13E8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1E98D-6D6F-43BD-87A8-6511DAB64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6F6B-D945-49B9-9DC7-1ABCE9B24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7914-BE9D-4D86-9A61-1B48584E1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A1D8-0B6F-4873-8125-C68335210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FDDC-B62C-4B33-836B-B2BF0969E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2CFF-8FD7-4254-B764-9FC7412D0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D3EF-67A8-4E73-9FE5-48B395596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D007-F146-4124-A1CD-815F03D0B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640044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54344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4CE8-868C-4D00-BC05-670ABDFDA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858000" y="282600"/>
          <a:ext cx="2286000" cy="6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282600"/>
                    <a:ext cx="2286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5160" y="42840"/>
            <a:ext cx="895320" cy="9907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6330960"/>
            <a:ext cx="914400" cy="5256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8305920" y="6299280"/>
            <a:ext cx="836640" cy="5587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1218960" y="6400440"/>
            <a:ext cx="6172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76960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4C00-34E5-4062-966A-EC9E3F6A0BE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0" y="282600"/>
          <a:ext cx="2286000" cy="6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282600"/>
                    <a:ext cx="2286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5160" y="42840"/>
            <a:ext cx="89532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6286680"/>
            <a:ext cx="990720" cy="56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8305920" y="6297480"/>
            <a:ext cx="836640" cy="55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dvanced Grid Research Workshops through European and Asian Co-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238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GRID@As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gridatasia.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ie x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1B7D5-664D-49E7-B350-C0A77DEC4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onths, starting date 1 April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ed by Unit F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get 300 000 eu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IG ERCIM - INRIA, CNR, Fh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hang University (Chi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nghai Jiao Tong University (Chi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STI (Kore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locally the organisation adopted by the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mulate extensive participation of the local academic and industrial exp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se local political awareness and particip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38360" y="38088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fig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EC2F-3729-4B27-A150-73FB57CD89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67240" y="581040"/>
            <a:ext cx="2820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371600"/>
            <a:ext cx="784872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ster collaboration in Grid research and technologies between the European Union and at least two Asian countries: China and South Ko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ste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of Chinese and South Korea key Grid play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d focused workshops on Research and industrial age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semination and sustainability through participation in joint projects (FP6 and FP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e co-operation between European and Asian grid commun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304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e capabilities and extend sustainable co-operation with leading Grid actors in As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we wan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9DD1-1902-495A-9BFD-16BC3699C6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eijing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1 to 23 June 2005 - Beihang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90 participants, 17 from euro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fore EC call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inese, korean and European Grid Program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id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ols and programming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ssion on co-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nding opportun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C project mechanisms and IPR 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tworking s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5AB4-A175-4614-952D-5EDADD22D7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eijing Workshop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re than 90 participants (16 from Euro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2E47-A90B-4A57-8828-67F8BDC8A1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s of interest for Ch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Emergency response and disaster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National Geological Survey Grid, Earthquake Prediction, Digital Forestry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Meteorological application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Seis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o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Bioinformatics Application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New Drug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earch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Image Processing Grid, Computational Fluid Dynamics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Data Processing Grid, High-energy Physics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id and indus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Aviation Manufacturing Gri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Transportation Simulation, Intelligent Transportation, Equipment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ltural heritage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Grid for Digital Libra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??"/>
              </a:rPr>
              <a:t>University Digital Museum G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A5BF-F5C0-43E7-984A-0BFAEFE689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hanghai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0 to 22 February 2006 - Shanghai Jioa Tong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ong focus on Grid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ergency response and disaster prediction (Flooding, Climate, disea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vanced manufacturing Grid supporting extensive collaborative design and sim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oinformatics Application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w Drug Discove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ffic sim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int Research Institutes (assets and added valu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A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inese feedback from past and potential EC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3515-6D69-4010-BBC5-37C787BA2D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4953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ST Familiarization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ednesday 22 February from 1.00 to 5.3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rganised by the european Com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International Co-operation activities in DG INF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International Co-operation activities in The Shanghai Science and Technology Commi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 submission and evaluation. Instrument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of Call 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id Technologies targeted research action with Chi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gital Broadcasting / Mobile Convergence targeted research action with Ch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Proposers Forum”: Presentations of proposal id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for participants to discuss and meet other attend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AB2C-3B0F-4438-BD6B-741E63ECC3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on Grid programmes in China and Korea soon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ite to provide information on running joint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workshop will be organised in Korea in fall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5867280" cy="4589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828440" y="30456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gridatasia.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1194-9901-4955-8E42-CAC8B9DDF5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Bruno Le Dantec</dc:creator>
  <dc:description/>
  <dc:language>en-US</dc:language>
  <cp:lastModifiedBy> ledantec</cp:lastModifiedBy>
  <cp:lastPrinted>2006-01-25T17:04:32Z</cp:lastPrinted>
  <dcterms:modified xsi:type="dcterms:W3CDTF">2006-06-09T09:16:52Z</dcterms:modified>
  <cp:revision>198</cp:revision>
  <dc:subject/>
  <dc:title>Grid@Asia</dc:title>
</cp:coreProperties>
</file>