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415F-DFC1-4FCF-AF76-F2DBE714DB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1157-D155-4CCC-BFC2-F2151E2E28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very European country there should be one member institute, which serv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our 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ong belief that all participants will benefit from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sharing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developing a shared vision on technological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nd by utilizing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CIM fosters a shared view among its members which is based on the ambition to excel .... and to act as a bridg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mote Europea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BA60-35A3-4F91-BC88-5A581840D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ADC2-9D3B-40A6-9DB2-82799CB8F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45C1-B65A-49DE-9E37-83B06B918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40C7-C785-462D-9421-0E89A3B1B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3051B-EF59-4717-9338-1C21EF6283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2A379-1A36-4859-AA09-F2AE8FA2C6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0E0F5-EBDD-48F1-9386-3EAFC597A3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FBA9E-5B08-4C4E-ABE4-5523D11B3E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9F8E0-867A-4FE3-932D-636C7404A1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915E8-CE39-4992-8D81-BEA086730B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1BA1D-B8B2-4CF2-B406-D9D7F2D21C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8617-3212-4D94-A33D-F8B0BB526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DA319-2F48-4B4B-A42E-0DFDD3741A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1DBDE-B5EA-4FC4-B913-0FE8F12A3B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CC854-286D-42B7-BDBD-54D78A2EE4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504F9-74DB-42E9-ACA9-268730B5E4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6A585-74BB-4253-8FE8-1458D2D66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A7F6-4720-43AE-BFD4-BA0A46DE3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4B725-707C-48A1-9E28-362E75104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138E-5B9F-4162-9AC2-9D114FC4C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85A3-B443-4B47-AD31-9E31B5794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9DC69-373D-4D40-8A77-9483B8664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FD61-BCC5-4F82-BC4B-C5BF0F52F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8EE1-08A9-460E-983C-FC7A58E83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640044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4344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6086-9B4B-4CEC-B99A-4C9A99B61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858000" y="282600"/>
          <a:ext cx="2286000" cy="6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282600"/>
                    <a:ext cx="2286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5160" y="42840"/>
            <a:ext cx="895320" cy="9907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6330960"/>
            <a:ext cx="914400" cy="5256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8305920" y="6299280"/>
            <a:ext cx="836640" cy="5587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1218960" y="640044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76960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7470-F8F4-447C-B955-BBAEDAAEEFB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0" y="282600"/>
          <a:ext cx="2286000" cy="6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282600"/>
                    <a:ext cx="2286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5160" y="42840"/>
            <a:ext cx="89532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6286680"/>
            <a:ext cx="990720" cy="56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8305920" y="6297480"/>
            <a:ext cx="836640" cy="55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238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GRID@As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gridatasia.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ie x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631D-BB5E-4CDE-BCFB-480E333A48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onths, starting date 1 April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ed by Unit F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get 300 000 eu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IG ERCIM - INRIA, CNR, Fh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hang University (Chi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nghai Jiao Tong University (Chi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STI (Kore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locally the organisation adopted by the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mulate extensive participation of the local academic and industrial exp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se local political awareness and particip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38360" y="38088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fig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3007-3723-4616-A011-4CB4471C69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67240" y="581040"/>
            <a:ext cx="2820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371600"/>
            <a:ext cx="784872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ter collaboration in Grid research and technologies between the European Union and at least two Asian countries: China and South Ko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ste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of Chinese and South Korea key Grid play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d focused workshops on Research and industrial age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semination and sustainability through participation in joint projects (FP6 and FP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e co-operation between European and Asian grid commun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e capabilities and extend sustainable co-operation with leading Grid actors in As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we wan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EAEE-379A-4740-B696-C268469F41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eijing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1 to 23 June 2005 - Beihang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90 participants, 17 from euro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fore EC call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inese, korean and European Grid Program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id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ols and programming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ssion on co-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nding opportun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C project mechanisms and IPR 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tworking s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1720-F742-462B-AC92-D48CF094C6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eijing Workshop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re than 90 participants (16 from Euro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5DB6-139A-4873-A035-320B31FAD2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of interest for Ch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Emergency response and disaster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National Geological Survey Grid, Earthquake Prediction, Digital Forestry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Meteorological application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Seis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o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Bioinformatics Application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New Drug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arch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Image Processing Grid, Computational Fluid Dynamics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Data Processing Grid, High-energy Physics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 and indus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Aviation Manufacturing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Transportation Simulation, Intelligent Transportation, Equipment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ltural heritage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Grid for Digital Libra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University Digital Museum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251E-A7E8-4BDD-88DC-9BD1DB04FF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hanghai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0 to 22 February 2006 - Shanghai Jioa Tong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ong focus on Grid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ergency response and disaster prediction (Flooding, Climate, disea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vanced manufacturing Grid supporting extensive collaborative design and sim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oinformatics Application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w Drug Discove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ffic sim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int Research Institutes (assets and added valu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A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inese feedback from past and potential EC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3F7D-EC44-4952-9A67-979A3F6E36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4953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ST Familiarization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ednesday 22 February from 1.00 to 5.3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rganised by the european Com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International Co-operation activities in DG INF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International Co-operation activities in The Shanghai Science and Technology Commi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 submission and evaluation. Instrument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Call 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id Technologies targeted research action with Chi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gital Broadcasting / Mobile Convergence targeted research action with Ch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Proposers Forum”: Presentations of proposal id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for participants to discuss and meet other attend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E90A-EA4E-4710-9321-C951009656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on Grid programmes in China and Korea soon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ite to provide information on running joint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workshop will be organised in Korea in fall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5867280" cy="4589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828440" y="30456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gridatasia.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C190-8C91-4A61-89C5-D54752EB49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Bruno Le Dantec</dc:creator>
  <dc:description/>
  <dc:language>en-US</dc:language>
  <cp:lastModifiedBy> ledantec</cp:lastModifiedBy>
  <cp:lastPrinted>2006-01-25T17:04:32Z</cp:lastPrinted>
  <dcterms:modified xsi:type="dcterms:W3CDTF">2006-06-09T09:16:52Z</dcterms:modified>
  <cp:revision>198</cp:revision>
  <dc:subject/>
  <dc:title>Grid@Asia</dc:title>
</cp:coreProperties>
</file>