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15.wmf" ContentType="image/x-wmf"/>
  <Override PartName="/ppt/media/image18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lasmodium = parasite responsable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laria has a complex lifecycle involving multiple stages in mosquitoes and humans, leading to non-linear dynam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0" y="227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1040" y="3236400"/>
            <a:ext cx="78073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elopment of a new drug in pharmaceutical research is extremely time consuming and expens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average the complete research process from the early screening experiments to the clinical te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10 to 15 years and costs about 150-300 million dollars. Recent efforts to minimize development 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ost led to automatisation and miniaturization of modern drug testing systems. Through the rap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the fields of combinatorial chemistry and high-throughput screening (HTS) there is a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 for interpretation of large amounts of "noisy" da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it is possible to test the binding affinity of several ten thousands potential drug candidate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these experiments are analyzed with the help of special computer software (CAD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57E0-8F6C-44C5-900B-78C21FAA9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6167-2B42-4506-AF55-C9D192FA2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4279-653B-44A0-AFBF-0C0BA2070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899A-BB6B-400C-BE19-A907F4B74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4430-BEC7-4124-8DD3-76D270973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B811-F75E-4ADE-8CFA-96A7B4B92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FCA5-EB45-4887-AAF3-667B3D82B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19C4-F54A-4F5D-9824-DEA456A16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C831-104A-446E-99CE-6D191D09A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D17F-828E-4685-B4F5-DFDE2780B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2877-056C-403A-AF80-AFE5B0ECE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EC6C-74F1-4B50-AF78-A23B53960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547280" y="6559200"/>
            <a:ext cx="6891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b519a"/>
                </a:solidFill>
                <a:latin typeface="Arial"/>
                <a:ea typeface="宋体"/>
              </a:rPr>
              <a:t>The WISDOM application, 2nd Grid@Asia Workshop – Shanghai (PRC), February 22nd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45964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2b519a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9F31-E510-412C-8246-77B4646CD773}" type="slidenum">
              <a:rPr b="1" lang="zh-CN" sz="1200" spc="-1" strike="noStrike">
                <a:solidFill>
                  <a:srgbClr val="2b519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Verdana"/>
                <a:ea typeface="宋体"/>
              </a:rPr>
              <a:t>INFSO-RI-508833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Verdana"/>
                <a:ea typeface="宋体"/>
              </a:rPr>
              <a:t>INFSO-RI-508833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Enabling Grids for E-scienc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  <a:ea typeface="宋体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8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8.wmf"/><Relationship Id="rId5" Type="http://schemas.openxmlformats.org/officeDocument/2006/relationships/image" Target="../media/image13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2.wmf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isdom.eu-egee.fr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valencia2006.healthgrid.org/registration.php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5800" y="1628640"/>
            <a:ext cx="6767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19a"/>
                </a:solidFill>
                <a:latin typeface="Arial"/>
              </a:rPr>
              <a:t>The WISDOM initiative</a:t>
            </a:r>
            <a:br>
              <a:rPr sz="4000"/>
            </a:b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Wide </a:t>
            </a:r>
            <a:r>
              <a:rPr b="1" i="1" lang="en-US" sz="2800" spc="-1" strike="noStrike">
                <a:solidFill>
                  <a:srgbClr val="2b519a"/>
                </a:solidFill>
                <a:latin typeface="Arial"/>
              </a:rPr>
              <a:t>In Silico</a:t>
            </a: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 Docking On Malaria</a:t>
            </a:r>
            <a:br>
              <a:rPr sz="3200"/>
            </a:br>
            <a:br>
              <a:rPr sz="3200"/>
            </a:br>
            <a:r>
              <a:rPr b="1" i="1" lang="fr-FR" sz="2000" spc="-1" strike="noStrike">
                <a:solidFill>
                  <a:srgbClr val="2b519a"/>
                </a:solidFill>
                <a:latin typeface="Arial"/>
              </a:rPr>
              <a:t>Yannick Legré, CNRS/IN2P3</a:t>
            </a:r>
            <a:br>
              <a:rPr sz="2000"/>
            </a:br>
            <a:r>
              <a:rPr b="1" i="1" lang="fr-FR" sz="2000" spc="-1" strike="noStrike">
                <a:solidFill>
                  <a:srgbClr val="2b519a"/>
                </a:solidFill>
                <a:latin typeface="Arial"/>
              </a:rPr>
              <a:t>on behalf oh the WISDOM Consortium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5800" y="5157720"/>
            <a:ext cx="676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b519a"/>
                </a:solidFill>
                <a:latin typeface="Arial"/>
              </a:rPr>
              <a:t>Slides credit: Nicolas Jacq, CNRS-IN2P3</a:t>
            </a:r>
            <a:endParaRPr b="0" lang="en-US" sz="2000" spc="-1" strike="noStrike">
              <a:solidFill>
                <a:srgbClr val="2b51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High Throughput Virtual Doc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560" y="2419200"/>
            <a:ext cx="309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Chemical compounds (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ZINC</a:t>
            </a: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Chembridge – 500,000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Drug like – 500,000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2560" y="4162320"/>
            <a:ext cx="1152720" cy="779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8000" y="508464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Targets (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PDB</a:t>
            </a: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Plasmepsin II (1lee, 1lf2, 1lf3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Plasmepsin IV (1ls5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979560"/>
            <a:ext cx="23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Millions of chemical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compounds availabl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in laboratorie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1773360"/>
            <a:ext cx="0" cy="57600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2347920"/>
            <a:ext cx="574920" cy="3602160"/>
          </a:xfrm>
          <a:custGeom>
            <a:avLst/>
            <a:gdLst>
              <a:gd name="textAreaLeft" fmla="*/ 0 w 574920"/>
              <a:gd name="textAreaRight" fmla="*/ 207720 w 574920"/>
              <a:gd name="textAreaTop" fmla="*/ 93600 h 3602160"/>
              <a:gd name="textAreaBottom" fmla="*/ 3508560 h 360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16200" y="10805"/>
                  <a:pt x="21600" y="10805"/>
                </a:cubicBezTo>
                <a:cubicBezTo>
                  <a:pt x="162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357800" y="1195560"/>
            <a:ext cx="934920" cy="618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V="1">
            <a:off x="3492360" y="2776320"/>
            <a:ext cx="792360" cy="468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492360" y="1482840"/>
            <a:ext cx="792360" cy="144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92360" y="4146120"/>
            <a:ext cx="792360" cy="324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29080" y="1195560"/>
            <a:ext cx="3706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High Throughput Screen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1-10$/compound, nearly impossibl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29080" y="241776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Molecular docking (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FlexX, Autodock</a:t>
            </a: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~80 CPU years, 1 TB data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27640" y="3716280"/>
            <a:ext cx="37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Data challenge on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EGE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~6 weeks on ~1700 computer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356000" y="3776760"/>
            <a:ext cx="936720" cy="695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4356000" y="2344680"/>
            <a:ext cx="863640" cy="797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V="1">
            <a:off x="3492360" y="5372280"/>
            <a:ext cx="792360" cy="144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4869000"/>
            <a:ext cx="158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Hits screen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using assays 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performed 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living cell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4564080" y="4940280"/>
            <a:ext cx="584280" cy="1052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48360" y="5084640"/>
            <a:ext cx="574920" cy="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4869000"/>
            <a:ext cx="8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Lead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50160" y="5445000"/>
            <a:ext cx="574560" cy="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803920"/>
            <a:ext cx="574920" cy="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24720" y="522756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Clinical testing 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5587920"/>
            <a:ext cx="8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Dru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EE4D-D7B3-4DC9-AB83-C10F2FF524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cular docking and mod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052640"/>
            <a:ext cx="4392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  <a:ea typeface="宋体"/>
              </a:rPr>
              <a:t>Target scenarios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number of water molecules in the active sit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  <a:ea typeface="宋体"/>
              </a:rPr>
              <a:t>Software scenarios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Docking methods (Autodock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Water molecules place and max overlapping volume (Flexx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  <a:ea typeface="宋体"/>
              </a:rPr>
              <a:t>Compounds preparation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Yet drug lik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Hydrogens added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  <a:ea typeface="宋体"/>
              </a:rPr>
              <a:t>Target preparation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X-ray crystal structures of 5 plasmepsins (PDB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Active site created from native crystal ligand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427640" y="1484280"/>
            <a:ext cx="3840120" cy="4321080"/>
            <a:chOff x="4427640" y="1484280"/>
            <a:chExt cx="3840120" cy="43210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4427640" y="1484280"/>
              <a:ext cx="384012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427640" y="1484280"/>
              <a:ext cx="3840120" cy="4321080"/>
            </a:xfrm>
            <a:custGeom>
              <a:avLst/>
              <a:gdLst/>
              <a:ahLst/>
              <a:rect l="l" t="t" r="r" b="b"/>
              <a:pathLst>
                <a:path w="21600" h="24305">
                  <a:moveTo>
                    <a:pt x="6" y="0"/>
                  </a:moveTo>
                  <a:arcTo wR="6" hR="6" stAng="16200000" swAng="-5400000"/>
                  <a:lnTo>
                    <a:pt x="0" y="24299"/>
                  </a:lnTo>
                  <a:arcTo wR="6" hR="6" stAng="10800000" swAng="-5400000"/>
                  <a:lnTo>
                    <a:pt x="21594" y="24305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372360" y="3068640"/>
            <a:ext cx="20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96120" y="2709720"/>
            <a:ext cx="10461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ts val="2174"/>
              </a:lnSpc>
              <a:spcBef>
                <a:spcPts val="1363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Ligand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51640" y="2276640"/>
            <a:ext cx="10080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44000" y="1914480"/>
            <a:ext cx="90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ts val="2174"/>
              </a:lnSpc>
              <a:spcBef>
                <a:spcPts val="1363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Loops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3645000"/>
            <a:ext cx="23032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72360" y="3284640"/>
            <a:ext cx="1046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ts val="2174"/>
              </a:lnSpc>
              <a:spcBef>
                <a:spcPts val="1363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Active site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4AEA-981C-40CB-8F4C-A6E9A3E31F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GEE, international project of grid infra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4712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Started in 2004, &gt;70 partners in the worl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Project leader : CER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7 scientific domains with &gt;20 applications deploy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~200 grid nodes, ~20.000 CPUs, several PetaBytes of data, 10.000 concurrent job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00000" y="2924280"/>
            <a:ext cx="7345440" cy="3241440"/>
            <a:chOff x="900000" y="2924280"/>
            <a:chExt cx="7345440" cy="324144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rcRect l="12793" t="5362" r="11883" b="22985"/>
            <a:stretch/>
          </p:blipFill>
          <p:spPr>
            <a:xfrm>
              <a:off x="900000" y="2924280"/>
              <a:ext cx="7345440" cy="32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 flipV="1">
              <a:off x="4161960" y="3804120"/>
              <a:ext cx="1166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462080" y="4230720"/>
              <a:ext cx="114840" cy="106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238280" y="3423240"/>
              <a:ext cx="1166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456440" y="3575880"/>
              <a:ext cx="1166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289760" y="3575880"/>
              <a:ext cx="1148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124600" y="3344040"/>
              <a:ext cx="114840" cy="10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404960" y="3468600"/>
              <a:ext cx="116640" cy="106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906440" y="3621960"/>
              <a:ext cx="11520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573440" y="3727800"/>
              <a:ext cx="1148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906440" y="3727800"/>
              <a:ext cx="11520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809960" y="3817800"/>
              <a:ext cx="1148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124600" y="3926880"/>
              <a:ext cx="1148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719600" y="3487320"/>
              <a:ext cx="1148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897080" y="3910320"/>
              <a:ext cx="1166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719600" y="3629160"/>
              <a:ext cx="114840" cy="10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71640" y="616572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  <a:ea typeface="宋体"/>
              </a:rPr>
              <a:t>Countries with nodes contributing to the data challenge WISDOM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C38B-7E48-4759-90D0-7F1AA753E0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Simplified grid workflo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560" y="5300640"/>
            <a:ext cx="62420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  <a:ea typeface="宋体"/>
              </a:rPr>
              <a:t>FlexX license server :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3000 floating licenses offered by BioSolveIT to SCAI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Maximum number of concurrent used licenses was 1008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137200" y="1341360"/>
            <a:ext cx="1261800" cy="876960"/>
            <a:chOff x="5137200" y="1341360"/>
            <a:chExt cx="1261800" cy="876960"/>
          </a:xfrm>
        </p:grpSpPr>
        <p:grpSp>
          <p:nvGrpSpPr>
            <p:cNvPr id="229" name=""/>
            <p:cNvGrpSpPr/>
            <p:nvPr/>
          </p:nvGrpSpPr>
          <p:grpSpPr>
            <a:xfrm>
              <a:off x="5137200" y="1341360"/>
              <a:ext cx="431640" cy="499320"/>
              <a:chOff x="5137200" y="1341360"/>
              <a:chExt cx="431640" cy="49932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5137200" y="1341360"/>
                <a:ext cx="239760" cy="299520"/>
                <a:chOff x="5137200" y="1341360"/>
                <a:chExt cx="239760" cy="2995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137200" y="154116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37200" y="1391040"/>
                  <a:ext cx="239760" cy="199800"/>
                </a:xfrm>
                <a:prstGeom prst="rect">
                  <a:avLst/>
                </a:prstGeom>
                <a:solidFill>
                  <a:srgbClr val="325faf"/>
                </a:solidFill>
                <a:ln w="25560">
                  <a:solidFill>
                    <a:srgbClr val="325fa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137200" y="134136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137200" y="139104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376960" y="139104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232960" y="1441080"/>
                <a:ext cx="239760" cy="299520"/>
                <a:chOff x="5232960" y="1441080"/>
                <a:chExt cx="239760" cy="2995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232960" y="164088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232960" y="1490760"/>
                  <a:ext cx="239760" cy="199800"/>
                </a:xfrm>
                <a:prstGeom prst="rect">
                  <a:avLst/>
                </a:prstGeom>
                <a:solidFill>
                  <a:srgbClr val="325faf"/>
                </a:solidFill>
                <a:ln w="25560">
                  <a:solidFill>
                    <a:srgbClr val="325fa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32960" y="144108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232960" y="149076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472720" y="149076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329080" y="1541160"/>
                <a:ext cx="239760" cy="299520"/>
                <a:chOff x="5329080" y="1541160"/>
                <a:chExt cx="239760" cy="2995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329080" y="174096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329080" y="1590840"/>
                  <a:ext cx="239760" cy="199800"/>
                </a:xfrm>
                <a:prstGeom prst="rect">
                  <a:avLst/>
                </a:prstGeom>
                <a:solidFill>
                  <a:srgbClr val="325faf"/>
                </a:solidFill>
                <a:ln w="25560">
                  <a:solidFill>
                    <a:srgbClr val="325fa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329080" y="154116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329080" y="159084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68840" y="159084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" name=""/>
            <p:cNvSpPr/>
            <p:nvPr/>
          </p:nvSpPr>
          <p:spPr>
            <a:xfrm>
              <a:off x="5482080" y="1698120"/>
              <a:ext cx="91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Storage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Element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670800" y="2349360"/>
            <a:ext cx="1501200" cy="1277280"/>
            <a:chOff x="6670800" y="2349360"/>
            <a:chExt cx="1501200" cy="127728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670800" y="2349360"/>
              <a:ext cx="1302840" cy="7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082640" y="2893320"/>
              <a:ext cx="108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Computing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Element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123760" y="2481120"/>
            <a:ext cx="67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Comic Sans MS"/>
              </a:rPr>
              <a:t>Site1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23760" y="3932280"/>
            <a:ext cx="67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Comic Sans MS"/>
              </a:rPr>
              <a:t>Site2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075280" y="4410000"/>
            <a:ext cx="431640" cy="498240"/>
            <a:chOff x="5075280" y="4410000"/>
            <a:chExt cx="431640" cy="498240"/>
          </a:xfrm>
        </p:grpSpPr>
        <p:grpSp>
          <p:nvGrpSpPr>
            <p:cNvPr id="255" name=""/>
            <p:cNvGrpSpPr/>
            <p:nvPr/>
          </p:nvGrpSpPr>
          <p:grpSpPr>
            <a:xfrm>
              <a:off x="5075280" y="4410000"/>
              <a:ext cx="239760" cy="298800"/>
              <a:chOff x="5075280" y="4410000"/>
              <a:chExt cx="239760" cy="298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4609440"/>
                <a:ext cx="239760" cy="9936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75280" y="4459680"/>
                <a:ext cx="239760" cy="199440"/>
              </a:xfrm>
              <a:prstGeom prst="rect">
                <a:avLst/>
              </a:prstGeom>
              <a:solidFill>
                <a:srgbClr val="325faf"/>
              </a:solidFill>
              <a:ln w="25560">
                <a:solidFill>
                  <a:srgbClr val="325f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75280" y="4410000"/>
                <a:ext cx="239760" cy="9972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75280" y="445968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15040" y="445968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171040" y="4509360"/>
              <a:ext cx="239760" cy="298800"/>
              <a:chOff x="5171040" y="4509360"/>
              <a:chExt cx="239760" cy="298800"/>
            </a:xfrm>
          </p:grpSpPr>
          <p:sp>
            <p:nvSpPr>
              <p:cNvPr id="262" name=""/>
              <p:cNvSpPr/>
              <p:nvPr/>
            </p:nvSpPr>
            <p:spPr>
              <a:xfrm>
                <a:off x="5171040" y="4708800"/>
                <a:ext cx="239760" cy="9936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71040" y="4559040"/>
                <a:ext cx="239760" cy="199440"/>
              </a:xfrm>
              <a:prstGeom prst="rect">
                <a:avLst/>
              </a:prstGeom>
              <a:solidFill>
                <a:srgbClr val="325faf"/>
              </a:solidFill>
              <a:ln w="25560">
                <a:solidFill>
                  <a:srgbClr val="325f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71040" y="4509360"/>
                <a:ext cx="239760" cy="9972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71040" y="455904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10800" y="455904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267160" y="4609440"/>
              <a:ext cx="239760" cy="298800"/>
              <a:chOff x="5267160" y="4609440"/>
              <a:chExt cx="239760" cy="298800"/>
            </a:xfrm>
          </p:grpSpPr>
          <p:sp>
            <p:nvSpPr>
              <p:cNvPr id="268" name=""/>
              <p:cNvSpPr/>
              <p:nvPr/>
            </p:nvSpPr>
            <p:spPr>
              <a:xfrm>
                <a:off x="5267160" y="4808880"/>
                <a:ext cx="239760" cy="9936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267160" y="4659120"/>
                <a:ext cx="239760" cy="199440"/>
              </a:xfrm>
              <a:prstGeom prst="rect">
                <a:avLst/>
              </a:prstGeom>
              <a:solidFill>
                <a:srgbClr val="325faf"/>
              </a:solidFill>
              <a:ln w="25560">
                <a:solidFill>
                  <a:srgbClr val="325f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67160" y="4609440"/>
                <a:ext cx="239760" cy="9972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67160" y="465912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06920" y="465912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5482080" y="4653000"/>
            <a:ext cx="91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Comic Sans MS"/>
              </a:rPr>
              <a:t>Storage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Comic Sans MS"/>
              </a:rPr>
              <a:t>Element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556000" y="2852640"/>
            <a:ext cx="1100160" cy="1207800"/>
            <a:chOff x="2556000" y="2852640"/>
            <a:chExt cx="1100160" cy="1207800"/>
          </a:xfrm>
        </p:grpSpPr>
        <p:grpSp>
          <p:nvGrpSpPr>
            <p:cNvPr id="275" name=""/>
            <p:cNvGrpSpPr/>
            <p:nvPr/>
          </p:nvGrpSpPr>
          <p:grpSpPr>
            <a:xfrm>
              <a:off x="2697840" y="2852640"/>
              <a:ext cx="958320" cy="788400"/>
              <a:chOff x="2697840" y="2852640"/>
              <a:chExt cx="958320" cy="788400"/>
            </a:xfrm>
          </p:grpSpPr>
          <p:graphicFrame>
            <p:nvGraphicFramePr>
              <p:cNvPr id="276" name=""/>
              <p:cNvGraphicFramePr/>
              <p:nvPr/>
            </p:nvGraphicFramePr>
            <p:xfrm>
              <a:off x="2697840" y="2852640"/>
              <a:ext cx="958320" cy="788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7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97840" y="2852640"/>
                        <a:ext cx="958320" cy="78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8" name=""/>
              <p:cNvSpPr/>
              <p:nvPr/>
            </p:nvSpPr>
            <p:spPr>
              <a:xfrm>
                <a:off x="3191040" y="2947680"/>
                <a:ext cx="183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2556000" y="3603960"/>
              <a:ext cx="1839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419560" y="3716280"/>
            <a:ext cx="1620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Comic Sans MS"/>
              </a:rPr>
              <a:t>User interfac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742080" y="3591000"/>
            <a:ext cx="1501920" cy="1277280"/>
            <a:chOff x="6742080" y="3591000"/>
            <a:chExt cx="1501920" cy="1277280"/>
          </a:xfrm>
        </p:grpSpPr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6742080" y="3591000"/>
              <a:ext cx="1303200" cy="7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154280" y="4134960"/>
              <a:ext cx="1089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Computing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Element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cxnSp>
        <p:nvCxnSpPr>
          <p:cNvPr id="284" name=""/>
          <p:cNvCxnSpPr>
            <a:stCxn id="285" idx="4"/>
            <a:endCxn id="286" idx="3"/>
          </p:cNvCxnSpPr>
          <p:nvPr/>
        </p:nvCxnSpPr>
        <p:spPr>
          <a:xfrm flipV="1">
            <a:off x="2556000" y="1937520"/>
            <a:ext cx="2078640" cy="254700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87" name=""/>
          <p:cNvCxnSpPr>
            <a:stCxn id="285" idx="4"/>
            <a:endCxn id="288" idx="2"/>
          </p:cNvCxnSpPr>
          <p:nvPr/>
        </p:nvCxnSpPr>
        <p:spPr>
          <a:xfrm>
            <a:off x="2556000" y="4484160"/>
            <a:ext cx="1800720" cy="3279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89" name=""/>
          <p:cNvCxnSpPr>
            <a:endCxn id="250" idx="1"/>
          </p:cNvCxnSpPr>
          <p:nvPr/>
        </p:nvCxnSpPr>
        <p:spPr>
          <a:xfrm flipV="1">
            <a:off x="3656160" y="2711520"/>
            <a:ext cx="3015360" cy="53676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90" name=""/>
          <p:cNvCxnSpPr>
            <a:endCxn id="282" idx="1"/>
          </p:cNvCxnSpPr>
          <p:nvPr/>
        </p:nvCxnSpPr>
        <p:spPr>
          <a:xfrm>
            <a:off x="3656160" y="3247920"/>
            <a:ext cx="3086640" cy="7052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91" name=""/>
          <p:cNvCxnSpPr>
            <a:stCxn id="288" idx="1"/>
            <a:endCxn id="282" idx="1"/>
          </p:cNvCxnSpPr>
          <p:nvPr/>
        </p:nvCxnSpPr>
        <p:spPr>
          <a:xfrm flipH="1" flipV="1" rot="5400000">
            <a:off x="5430600" y="3164760"/>
            <a:ext cx="524160" cy="209952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92" name=""/>
          <p:cNvCxnSpPr>
            <a:stCxn id="286" idx="3"/>
            <a:endCxn id="250" idx="1"/>
          </p:cNvCxnSpPr>
          <p:nvPr/>
        </p:nvCxnSpPr>
        <p:spPr>
          <a:xfrm flipH="1" rot="16200000">
            <a:off x="5265720" y="1306080"/>
            <a:ext cx="774000" cy="203760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93" name=""/>
          <p:cNvCxnSpPr>
            <a:stCxn id="250" idx="1"/>
          </p:cNvCxnSpPr>
          <p:nvPr/>
        </p:nvCxnSpPr>
        <p:spPr>
          <a:xfrm flipV="1" rot="10800000">
            <a:off x="3655440" y="2711520"/>
            <a:ext cx="3015360" cy="53676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94" name=""/>
          <p:cNvCxnSpPr>
            <a:stCxn id="282" idx="1"/>
          </p:cNvCxnSpPr>
          <p:nvPr/>
        </p:nvCxnSpPr>
        <p:spPr>
          <a:xfrm rot="10800000">
            <a:off x="3655440" y="3247920"/>
            <a:ext cx="3086640" cy="7052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sp>
        <p:nvSpPr>
          <p:cNvPr id="285" name=""/>
          <p:cNvSpPr/>
          <p:nvPr/>
        </p:nvSpPr>
        <p:spPr>
          <a:xfrm>
            <a:off x="1981080" y="4149720"/>
            <a:ext cx="574920" cy="668520"/>
          </a:xfrm>
          <a:prstGeom prst="flowChartMagneticDisk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429264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ounds database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2052720" y="4376880"/>
            <a:ext cx="422280" cy="379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7164360" y="1774800"/>
            <a:ext cx="647640" cy="430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tretch/>
        </p:blipFill>
        <p:spPr>
          <a:xfrm>
            <a:off x="7307280" y="4797360"/>
            <a:ext cx="649440" cy="432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356000" y="4476600"/>
            <a:ext cx="574920" cy="668520"/>
          </a:xfrm>
          <a:prstGeom prst="flowChartMagneticDisk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4427640" y="4703760"/>
            <a:ext cx="422280" cy="379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346640" y="1270080"/>
            <a:ext cx="574560" cy="668160"/>
          </a:xfrm>
          <a:prstGeom prst="flowChartMagneticDisk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9"/>
          <a:stretch/>
        </p:blipFill>
        <p:spPr>
          <a:xfrm>
            <a:off x="4417920" y="1496880"/>
            <a:ext cx="422280" cy="3794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0"/>
          <a:stretch/>
        </p:blipFill>
        <p:spPr>
          <a:xfrm>
            <a:off x="1979640" y="29988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-36360" y="2886120"/>
            <a:ext cx="212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rameter setting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arget structure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ounds sub list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219280" y="3429000"/>
            <a:ext cx="3527640" cy="0"/>
          </a:xfrm>
          <a:prstGeom prst="line">
            <a:avLst/>
          </a:prstGeom>
          <a:ln w="9360">
            <a:solidFill>
              <a:srgbClr val="2b519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45" idx="7"/>
            <a:endCxn id="250" idx="1"/>
          </p:cNvCxnSpPr>
          <p:nvPr/>
        </p:nvCxnSpPr>
        <p:spPr>
          <a:xfrm flipH="1" rot="16200000">
            <a:off x="5518080" y="1558440"/>
            <a:ext cx="1169280" cy="1137600"/>
          </a:xfrm>
          <a:prstGeom prst="curvedConnector5">
            <a:avLst>
              <a:gd name="adj1" fmla="val -19679"/>
              <a:gd name="adj2" fmla="val 25672"/>
              <a:gd name="adj3" fmla="val -19679"/>
            </a:avLst>
          </a:prstGeom>
          <a:ln w="25560">
            <a:solidFill>
              <a:srgbClr val="2b519a"/>
            </a:solidFill>
            <a:miter/>
            <a:head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484992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8000" y="5157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282" idx="1"/>
            <a:endCxn id="268" idx="4"/>
          </p:cNvCxnSpPr>
          <p:nvPr/>
        </p:nvCxnSpPr>
        <p:spPr>
          <a:xfrm flipV="1" rot="10800000">
            <a:off x="5387400" y="3952440"/>
            <a:ext cx="1354680" cy="969120"/>
          </a:xfrm>
          <a:prstGeom prst="curvedConnector5">
            <a:avLst>
              <a:gd name="adj1" fmla="val 45587"/>
              <a:gd name="adj2" fmla="val 61055"/>
              <a:gd name="adj3" fmla="val 45587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sp>
        <p:nvSpPr>
          <p:cNvPr id="308" name=""/>
          <p:cNvSpPr/>
          <p:nvPr/>
        </p:nvSpPr>
        <p:spPr>
          <a:xfrm>
            <a:off x="3635280" y="29084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tistic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1446120"/>
            <a:ext cx="19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ounds list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98560" y="1806480"/>
            <a:ext cx="576000" cy="863640"/>
            <a:chOff x="898560" y="1806480"/>
            <a:chExt cx="576000" cy="863640"/>
          </a:xfrm>
        </p:grpSpPr>
        <p:sp>
          <p:nvSpPr>
            <p:cNvPr id="311" name=""/>
            <p:cNvSpPr/>
            <p:nvPr/>
          </p:nvSpPr>
          <p:spPr>
            <a:xfrm>
              <a:off x="1185840" y="180648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98560" y="1806480"/>
              <a:ext cx="28728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5840" y="1806480"/>
              <a:ext cx="28872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graphicFrame>
        <p:nvGraphicFramePr>
          <p:cNvPr id="314" name=""/>
          <p:cNvGraphicFramePr/>
          <p:nvPr/>
        </p:nvGraphicFramePr>
        <p:xfrm>
          <a:off x="4573440" y="2781360"/>
          <a:ext cx="711360" cy="72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3440" y="2781360"/>
                    <a:ext cx="711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4548600" y="3500280"/>
            <a:ext cx="99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b519a"/>
                </a:solidFill>
                <a:latin typeface="Comic Sans MS"/>
              </a:rPr>
              <a:t>Resource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b519a"/>
                </a:solidFill>
                <a:latin typeface="Comic Sans MS"/>
              </a:rPr>
              <a:t>Broker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5640" y="50148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3"/>
          <a:stretch/>
        </p:blipFill>
        <p:spPr>
          <a:xfrm>
            <a:off x="1908000" y="4943520"/>
            <a:ext cx="648000" cy="430200"/>
          </a:xfrm>
          <a:prstGeom prst="rect">
            <a:avLst/>
          </a:prstGeom>
          <a:ln w="0">
            <a:noFill/>
          </a:ln>
        </p:spPr>
      </p:pic>
      <p:cxnSp>
        <p:nvCxnSpPr>
          <p:cNvPr id="319" name=""/>
          <p:cNvCxnSpPr>
            <a:stCxn id="318" idx="3"/>
            <a:endCxn id="297" idx="1"/>
          </p:cNvCxnSpPr>
          <p:nvPr/>
        </p:nvCxnSpPr>
        <p:spPr>
          <a:xfrm flipV="1">
            <a:off x="2555640" y="1990440"/>
            <a:ext cx="4609080" cy="3169440"/>
          </a:xfrm>
          <a:prstGeom prst="curvedConnector5">
            <a:avLst>
              <a:gd name="adj1" fmla="val 36400"/>
              <a:gd name="adj2" fmla="val 49994"/>
              <a:gd name="adj3" fmla="val 36400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320" name=""/>
          <p:cNvCxnSpPr>
            <a:stCxn id="318" idx="3"/>
            <a:endCxn id="298" idx="1"/>
          </p:cNvCxnSpPr>
          <p:nvPr/>
        </p:nvCxnSpPr>
        <p:spPr>
          <a:xfrm flipV="1">
            <a:off x="2556000" y="5013000"/>
            <a:ext cx="4752000" cy="146880"/>
          </a:xfrm>
          <a:prstGeom prst="curvedConnector5">
            <a:avLst>
              <a:gd name="adj1" fmla="val 49981"/>
              <a:gd name="adj2" fmla="val 49877"/>
              <a:gd name="adj3" fmla="val 49981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D1B4-03A6-4396-9110-1A2B0272F78F}" type="slidenum">
              <a:t>13</a:t>
            </a:fld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bjective of the WISDOM develo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Objectiv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Producing a large amount of data in a limited time with a minimal human cost during the data challenge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Need an optimized environm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Limited tim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Performance go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Need a fault tolerant environm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Grid is heterogeneous and dynamic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Stress usage of the grid during the DC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Need an automatic production environm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Execution with the Biomedical Task Forc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Grid API are not fully adapted for a bulk use at a large scal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AC7C-9C3E-46C5-BDD4-9E698863EA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WISDOM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31840" y="2338560"/>
            <a:ext cx="2895480" cy="1450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GRID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LCG component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EGEE resource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Application component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6920" y="1347840"/>
            <a:ext cx="1676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install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5360" y="1805040"/>
            <a:ext cx="914400" cy="53352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08880" y="966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Times New Roman"/>
              </a:rPr>
              <a:t>Installer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6280" y="9669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Times New Roman"/>
              </a:rPr>
              <a:t>Tester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32040" y="1347840"/>
            <a:ext cx="1676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test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13120" y="2109960"/>
            <a:ext cx="1981440" cy="2057400"/>
          </a:xfrm>
          <a:prstGeom prst="rect">
            <a:avLst/>
          </a:prstGeom>
          <a:solidFill>
            <a:srgbClr val="ff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execution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Workload defini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Job submiss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Job monitor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Job bookkeep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Fault track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Fault fix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Job resubmiss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65760" y="1347840"/>
            <a:ext cx="1676160" cy="4572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Set of jobs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4360" y="9810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Times New Roman"/>
              </a:rPr>
              <a:t>User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026960" y="3176640"/>
            <a:ext cx="685800" cy="0"/>
          </a:xfrm>
          <a:prstGeom prst="line">
            <a:avLst/>
          </a:prstGeom>
          <a:ln w="28440">
            <a:solidFill>
              <a:srgbClr val="2b519a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94560" y="4014720"/>
            <a:ext cx="380880" cy="0"/>
          </a:xfrm>
          <a:prstGeom prst="line">
            <a:avLst/>
          </a:prstGeom>
          <a:ln w="2844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075440" y="3024000"/>
            <a:ext cx="0" cy="990360"/>
          </a:xfrm>
          <a:prstGeom prst="line">
            <a:avLst/>
          </a:prstGeom>
          <a:ln w="2844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694560" y="3024360"/>
            <a:ext cx="380880" cy="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65760" y="5234040"/>
            <a:ext cx="1676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collect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65760" y="4471920"/>
            <a:ext cx="1676160" cy="4572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Accounting data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76880" y="3328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Times New Roman"/>
              </a:rPr>
              <a:t>Superviser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23160" y="5996160"/>
            <a:ext cx="1676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site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579400" y="1805040"/>
            <a:ext cx="990360" cy="53352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65760" y="5996160"/>
            <a:ext cx="1676160" cy="457200"/>
          </a:xfrm>
          <a:prstGeom prst="flowChartMagneticDisk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db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41920" y="6224760"/>
            <a:ext cx="381240" cy="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03840" y="4167360"/>
            <a:ext cx="0" cy="30456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03840" y="4929120"/>
            <a:ext cx="0" cy="30492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03840" y="5691240"/>
            <a:ext cx="0" cy="30492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03840" y="1805040"/>
            <a:ext cx="0" cy="30492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4221000"/>
            <a:ext cx="279900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License server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56000" y="3789360"/>
            <a:ext cx="0" cy="43164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5540-5145-458D-BA0B-91EBC9BACC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ployment preparation on AuverGrid, a French regional pro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5960" y="974520"/>
            <a:ext cx="8547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Started in 2005 for 3 year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Interconnecting the main laboratories of the Auvergne region using EGEE middlewa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Share technologies, competences and resources</a:t>
            </a:r>
            <a:r>
              <a:rPr b="1" lang="fr-FR" sz="20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18920" y="2852640"/>
            <a:ext cx="6193080" cy="2881440"/>
            <a:chOff x="1618920" y="2852640"/>
            <a:chExt cx="6193080" cy="2881440"/>
          </a:xfrm>
        </p:grpSpPr>
        <p:sp>
          <p:nvSpPr>
            <p:cNvPr id="353" name=""/>
            <p:cNvSpPr/>
            <p:nvPr/>
          </p:nvSpPr>
          <p:spPr>
            <a:xfrm>
              <a:off x="4782960" y="5270400"/>
              <a:ext cx="301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2,5 minutes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22520" y="5270400"/>
              <a:ext cx="3092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Data transfer time for 1 job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82960" y="4867200"/>
              <a:ext cx="30196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30 minutes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22520" y="4867200"/>
              <a:ext cx="30924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Grid overhead time for 1 job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82960" y="4471920"/>
              <a:ext cx="301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9 hours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22520" y="4471920"/>
              <a:ext cx="3092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CPU time for 1 job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82960" y="4076640"/>
              <a:ext cx="301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150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22520" y="4076640"/>
              <a:ext cx="3092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Crunching factor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82960" y="3676680"/>
              <a:ext cx="3019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40 hours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22520" y="3676680"/>
              <a:ext cx="309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Duration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82960" y="3281400"/>
              <a:ext cx="301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188 days (6,3 months)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22520" y="3281400"/>
              <a:ext cx="3092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Total CPU time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82960" y="2862360"/>
              <a:ext cx="301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100,000 docking runs in 500 jobs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22520" y="2862360"/>
              <a:ext cx="30924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Metrics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9280" y="2852640"/>
              <a:ext cx="6183360" cy="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19280" y="5729400"/>
              <a:ext cx="6183360" cy="468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618920" y="2862360"/>
              <a:ext cx="3240" cy="287172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02640" y="2862360"/>
              <a:ext cx="9360" cy="287172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619280" y="3281040"/>
              <a:ext cx="6183360" cy="3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82960" y="2862360"/>
              <a:ext cx="5040" cy="2871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3716280"/>
              <a:ext cx="6192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4076640"/>
              <a:ext cx="6183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19280" y="4471920"/>
              <a:ext cx="6183360" cy="36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619280" y="4866840"/>
              <a:ext cx="6183360" cy="1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9280" y="5300640"/>
              <a:ext cx="6192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619280" y="3284640"/>
            <a:ext cx="6192720" cy="1224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19280" y="5300640"/>
            <a:ext cx="6192720" cy="432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19280" y="4508640"/>
            <a:ext cx="6192720" cy="792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470EA-D5A5-4A65-85D7-43896CFB4D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umber of docked ligands vs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3240" y="5013360"/>
            <a:ext cx="7466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1: Intensive submission of FlexX jobs with Chembridge ligands bas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2: Resubmiss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3: Intensive submission of FlexX jobs with drug like ligands bas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4: Resubmiss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5: Intensive submission of Autodock jobs with Chembridge ligands bas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6: Resubmiss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71640" y="981000"/>
            <a:ext cx="7272360" cy="3960720"/>
            <a:chOff x="971640" y="981000"/>
            <a:chExt cx="7272360" cy="396072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971640" y="981000"/>
              <a:ext cx="727236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615320" y="414612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06120" y="366660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33320" y="272484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24480" y="183528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97080" y="146916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33280" y="115524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6236-635F-41CA-A6C3-EDE4597AAC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umber of running and waiting jobs vs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640720" cy="4659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620720" y="3141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58880" y="4292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09800" y="134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44720" y="4437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25800" y="1413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13440" y="450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A322-AB6E-4851-830C-897551191C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7200720" cy="5016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Total amount of CPU provided by EGEE federa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-252720" y="1045800"/>
            <a:ext cx="381636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The following institutes contributed computing resources to the data challenge: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IPP-BAS, IMBM-BAS and IPP-ISTF (Bulgaria); CYFRONET (Poland); ICI (Romania); CEA-DAPNIA, CGG, IN2P3-CC, IN2P3-LAL, IN2P3-LAPP and IN2P3-LPC (France); SCAI (Germany); INFN (Italy); NIKHEF, SARA and Virtual Laboratory for e-Science (Netherlands); IMPB RAS (Russia); UCY (Cyprus); AUTH FORTH-ICS and HELLASGRID (Greece); RBI (Croatia); ASCC (Taiwan); TAU (Israel); CESGA, CIEMAT, CNB-UAM, IFCA, INTA, PIC and UPV-GryCAP (Spain); BHAM, University of Bristol, IC, Lancaster University, MANHEP, University of Oxford, RAL and University of Glasgow (United Kingdom).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172C-09CB-45FC-AF68-B6F31B88BC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5600" y="1319040"/>
            <a:ext cx="8589960" cy="46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Presentation of the WISDOM initiativ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Need for new drugs to fight malari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Challenges of the High Throughput Docking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Development of the grid environment for a large-scale deploymen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Achieved deployment on EGEE infra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DABF1-6A17-4617-BF7B-81CC24203C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xploitation metr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197000"/>
          <a:ext cx="7932600" cy="2803680"/>
        </p:xfrm>
        <a:graphic>
          <a:graphicData uri="http://schemas.openxmlformats.org/drawingml/2006/table">
            <a:tbl>
              <a:tblPr/>
              <a:tblGrid>
                <a:gridCol w="4986360"/>
                <a:gridCol w="2946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Metric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FlexX + Autodock phase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Total CPU ti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80 year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Number of job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72751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Number of grid node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Number of jobs running in parallel on the grid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1643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Volume of output dat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946 GB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Volume of transferred data (input+output)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6302 GB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>
            <a:off x="684360" y="1628640"/>
            <a:ext cx="7920000" cy="432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2060640"/>
            <a:ext cx="7920000" cy="115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3213000"/>
            <a:ext cx="7920000" cy="7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0573-6D62-4594-897D-FFD41D663B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formance metr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63560" y="1176480"/>
          <a:ext cx="7840800" cy="3578040"/>
        </p:xfrm>
        <a:graphic>
          <a:graphicData uri="http://schemas.openxmlformats.org/drawingml/2006/table">
            <a:tbl>
              <a:tblPr/>
              <a:tblGrid>
                <a:gridCol w="4894200"/>
                <a:gridCol w="2946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Metric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FlexX + Autodock phase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Cumulated millions number of docked ligand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41,27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Number of docked ligands / h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46475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Effective CPU ti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67,15 year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Effective dura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37 day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Crunching factor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662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Average transfer rat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0,8 MB/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Peak rat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62,1 MB/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755640" y="1557360"/>
            <a:ext cx="7848720" cy="792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5640" y="2781360"/>
            <a:ext cx="7848720" cy="115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5640" y="3933720"/>
            <a:ext cx="7848720" cy="79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48E9-D736-4640-BE3B-3542D4D312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fficiency metrics (1/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403280" y="1341360"/>
          <a:ext cx="6607080" cy="1917720"/>
        </p:xfrm>
        <a:graphic>
          <a:graphicData uri="http://schemas.openxmlformats.org/drawingml/2006/table">
            <a:tbl>
              <a:tblPr/>
              <a:tblGrid>
                <a:gridCol w="3660840"/>
                <a:gridCol w="2946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Metric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FlexX + Autodock phase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Success rat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77 %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Success rate after results checking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46,2%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Success rate after results checking without WISDOM failure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63 %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1258920" y="3835440"/>
            <a:ext cx="72007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Efficiency depends on :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Heterogeneous and dynamic nature of the grid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Stress usage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Automatic jobs (re)submission (“sink-hole” effect)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03280" y="1700280"/>
            <a:ext cx="6624720" cy="1584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E606-FFDF-47F1-83FA-3ABCCB61C2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core results Brow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974520"/>
            <a:ext cx="30592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b519a"/>
                </a:solidFill>
                <a:latin typeface="Arial"/>
              </a:rPr>
              <a:t>Quick overview on very large log-fil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b519a"/>
                </a:solidFill>
                <a:latin typeface="Arial"/>
              </a:rPr>
              <a:t>Sorting and merging of fil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b519a"/>
                </a:solidFill>
                <a:latin typeface="Arial"/>
              </a:rPr>
              <a:t>Storing and retrieval in databas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6084720" cy="551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D46D-E4C2-41F8-81AF-E008D9638D8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earching identified key intera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987640" y="763560"/>
            <a:ext cx="6481440" cy="5473440"/>
            <a:chOff x="2987640" y="763560"/>
            <a:chExt cx="6481440" cy="5473440"/>
          </a:xfrm>
        </p:grpSpPr>
        <p:sp>
          <p:nvSpPr>
            <p:cNvPr id="421" name=""/>
            <p:cNvSpPr/>
            <p:nvPr/>
          </p:nvSpPr>
          <p:spPr>
            <a:xfrm>
              <a:off x="4969440" y="4642200"/>
              <a:ext cx="1364760" cy="1383120"/>
            </a:xfrm>
            <a:prstGeom prst="ellipse">
              <a:avLst/>
            </a:prstGeom>
            <a:solidFill>
              <a:srgbClr val="ccff66"/>
            </a:solidFill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60640" y="3349800"/>
              <a:ext cx="1364760" cy="1383120"/>
            </a:xfrm>
            <a:prstGeom prst="ellipse">
              <a:avLst/>
            </a:prstGeom>
            <a:solidFill>
              <a:srgbClr val="00cc66"/>
            </a:solidFill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2987640" y="763560"/>
              <a:ext cx="6481440" cy="547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"/>
          <p:cNvSpPr/>
          <p:nvPr/>
        </p:nvSpPr>
        <p:spPr>
          <a:xfrm>
            <a:off x="7875000" y="6004080"/>
            <a:ext cx="1018800" cy="305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b519a"/>
                </a:solidFill>
                <a:latin typeface="Arial"/>
              </a:rPr>
              <a:t>ASP 214</a:t>
            </a:r>
            <a:endParaRPr b="0" lang="en-US" sz="20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75360" y="5502240"/>
            <a:ext cx="876960" cy="3052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b519a"/>
                </a:solidFill>
                <a:latin typeface="Arial"/>
              </a:rPr>
              <a:t>ASP 34</a:t>
            </a:r>
            <a:endParaRPr b="0" lang="en-US" sz="20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1181160"/>
            <a:ext cx="3529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Example : Ligand plot of 1lee (Plasmepsin II) with inhibitors R36 500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108000" y="3564000"/>
            <a:ext cx="3744720" cy="2960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556000" y="4221000"/>
            <a:ext cx="576000" cy="393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C4A52-E1CF-4D7D-A678-8AD486481926}" type="slidenum">
              <a:t>24</a:t>
            </a:fld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948360" y="1700280"/>
            <a:ext cx="719280" cy="647640"/>
          </a:xfrm>
          <a:prstGeom prst="ellipse">
            <a:avLst/>
          </a:prstGeom>
          <a:solidFill>
            <a:srgbClr val="ccff66"/>
          </a:solidFill>
          <a:ln w="1260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rcRect l="13571" t="9471" r="9502" b="0"/>
          <a:stretch/>
        </p:blipFill>
        <p:spPr>
          <a:xfrm>
            <a:off x="6588000" y="981000"/>
            <a:ext cx="2232000" cy="20988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659640" y="3933720"/>
            <a:ext cx="1447560" cy="1104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rcRect l="21016" t="13089" r="22124" b="14762"/>
          <a:stretch/>
        </p:blipFill>
        <p:spPr>
          <a:xfrm>
            <a:off x="6630840" y="3716280"/>
            <a:ext cx="1973520" cy="20876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Preliminary results of the first data challen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974520"/>
            <a:ext cx="621504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Score of an output is independent of the grid resource where the job runs (conditions controlled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10% compounds of Chembridge (ZINC) may are hi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Top scoring compounds possess basic chemical groups like thiourea, guanidino, andamino acroleinas core structure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Identified compounds are non peptidic and low molecular weight compound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But the identified compounds look like human thrombin inhibito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04000" y="2940120"/>
            <a:ext cx="17272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WISDOM-375228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04000" y="5962680"/>
            <a:ext cx="172872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WISDOM-113696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7C00-1374-4C7E-BD05-8D35D300E1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sp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WISDOM (Wide In-Silico Docking On Malaria) is the first large scale drug discovery initiative on an open grid infra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bout 80 CPU years to produce TB of dat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isdom.eu-egee.fr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Future works on the resul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Qualitative comparisons of docking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Ligand similarity based clustering of result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Future works on the hi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simulation on 1000 hits for reranking (EU BioinfoGrid FP6 project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338f"/>
                </a:solidFill>
                <a:latin typeface="Arial"/>
              </a:rPr>
              <a:t>100 CPU year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338f"/>
                </a:solidFill>
                <a:latin typeface="Arial"/>
              </a:rPr>
              <a:t>Docking well fitted for cluster grids, 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  <a:ea typeface="宋体"/>
              </a:rPr>
              <a:t>Molecular Dynamics</a:t>
            </a:r>
            <a:r>
              <a:rPr b="0" lang="fr-FR" sz="1700" spc="-1" strike="noStrike">
                <a:solidFill>
                  <a:srgbClr val="00338f"/>
                </a:solidFill>
                <a:latin typeface="Arial"/>
              </a:rPr>
              <a:t> well fitted for supercomputer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Finally in vitro testing and structure activity relationship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6758-9A6B-4CB3-B315-919D99B084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Perspecti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Extension of in silico workflow (Embrace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Virtual docking service at a large scale on gLite (EGEE) with Tavern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b519a"/>
                </a:solidFill>
                <a:latin typeface="Arial"/>
              </a:rPr>
              <a:t>Second large scale docking on EGEE in fall 2006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338f"/>
                </a:solidFill>
                <a:latin typeface="Arial"/>
              </a:rPr>
              <a:t>Several new foreseen targets on malaria, dengue and other neglected diseases.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338f"/>
                </a:solidFill>
                <a:latin typeface="Arial"/>
              </a:rPr>
              <a:t>Resources needed: up to 80 years CPU per targe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338f"/>
                </a:solidFill>
                <a:latin typeface="Arial"/>
              </a:rPr>
              <a:t>Supported by EGEE-II and EELA european projects, Swiss BioGrid initiative, Chinese DDG?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We will be pleased to welcome you in the WISDOM initiative!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Grid-enabled In Silico Drug Discovery Workshop June 6</a:t>
            </a:r>
            <a:r>
              <a:rPr b="1" lang="en-GB" sz="2000" spc="-1" strike="noStrike" baseline="30000">
                <a:solidFill>
                  <a:srgbClr val="2b519a"/>
                </a:solidFill>
                <a:latin typeface="Arial"/>
                <a:ea typeface="宋体"/>
              </a:rPr>
              <a:t>th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 2006 in Valencia (Spain) within the HealthGrid'06 conferen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 u="sng">
                <a:solidFill>
                  <a:srgbClr val="ac3b8b"/>
                </a:solidFill>
                <a:uFillTx/>
                <a:latin typeface="Arial"/>
                <a:ea typeface="宋体"/>
                <a:hlinkClick r:id="rId1"/>
              </a:rPr>
              <a:t>http://valencia2006.healthgrid.org/registration.php</a:t>
            </a: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411D-F565-4DEE-A9D4-9822EF9F51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red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39387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PC (CNRS/IN2P3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V. Bret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. Jacq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. Salzeman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Y. Legré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. Reichstad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. Jacq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GE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Biomed Task For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IS tea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RA2 tea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594560" y="5514840"/>
            <a:ext cx="1225440" cy="727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7308720" y="4191120"/>
            <a:ext cx="1656000" cy="9666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4140360" y="4170240"/>
            <a:ext cx="1079280" cy="6318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067280" y="5018040"/>
            <a:ext cx="1296720" cy="5446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5651640" y="40845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5651640" y="5018040"/>
            <a:ext cx="1584360" cy="5288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7"/>
          <a:stretch/>
        </p:blipFill>
        <p:spPr>
          <a:xfrm>
            <a:off x="5724360" y="5737320"/>
            <a:ext cx="1295640" cy="7239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5025960" y="981000"/>
            <a:ext cx="39387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raunhofer SCAI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. Hofmann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. Zimmermann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. Maa</a:t>
            </a: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ß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M. Sridhar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K. Vinod-Kusam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H. Schwichtenberg</a:t>
            </a:r>
            <a:r>
              <a:rPr b="1" lang="fr-FR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4067280" y="5697360"/>
            <a:ext cx="1368360" cy="746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61760" y="2971440"/>
            <a:ext cx="76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"The only thing necessary for the triumph of evil is for good men to do nothing!"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Edmund Burke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EFD0-AC02-43AA-A5E9-A2F343F473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519a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519a"/>
                </a:solidFill>
                <a:latin typeface="Arial"/>
                <a:ea typeface="宋体"/>
              </a:rPr>
              <a:t>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"The only thing necessary for the triumph of evil is for good men to do nothing!"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	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Edmund Burk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b519a"/>
                </a:solidFill>
                <a:latin typeface="Arial"/>
                <a:ea typeface="宋体"/>
              </a:rPr>
              <a:t>Questions ?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94EB-AB9D-4D0F-8E73-586AAF30BF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51640" y="2725560"/>
            <a:ext cx="2808000" cy="1998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8920" y="980640"/>
            <a:ext cx="5040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spcBef>
                <a:spcPts val="575"/>
              </a:spcBef>
              <a:buClr>
                <a:srgbClr val="f1a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iological goal</a:t>
            </a:r>
            <a:endParaRPr b="1" lang="en-US" sz="2300" spc="-1" strike="noStrike">
              <a:solidFill>
                <a:srgbClr val="2b519a"/>
              </a:solidFill>
              <a:latin typeface="Arial"/>
            </a:endParaRPr>
          </a:p>
          <a:p>
            <a:pPr marL="331920" indent="0"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Proposition of new inhibitors for a family of proteins produced by Plasmodium</a:t>
            </a:r>
            <a:r>
              <a:rPr b="1" i="1" lang="en-US" sz="2200" spc="-1" strike="noStrike">
                <a:solidFill>
                  <a:srgbClr val="2b519a"/>
                </a:solidFill>
                <a:latin typeface="Arial"/>
              </a:rPr>
              <a:t> falciparum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31920" indent="0"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31920" indent="-331920">
              <a:spcBef>
                <a:spcPts val="550"/>
              </a:spcBef>
              <a:buClr>
                <a:srgbClr val="f1a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iomedical informatics goal</a:t>
            </a:r>
            <a:r>
              <a:rPr b="1" lang="en-US" sz="23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Deployment of </a:t>
            </a:r>
            <a:r>
              <a:rPr b="1" i="1" lang="en-US" sz="2200" spc="-1" strike="noStrike">
                <a:solidFill>
                  <a:srgbClr val="2b519a"/>
                </a:solidFill>
                <a:latin typeface="Arial"/>
              </a:rPr>
              <a:t>in silico</a:t>
            </a: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 virtual docking on the grid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31920" indent="0"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31920" indent="-331920">
              <a:spcBef>
                <a:spcPts val="575"/>
              </a:spcBef>
              <a:buClr>
                <a:srgbClr val="f1a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Arial"/>
                <a:ea typeface="宋体"/>
              </a:rPr>
              <a:t>Grid goal</a:t>
            </a:r>
            <a:endParaRPr b="1" lang="en-US" sz="2300" spc="-1" strike="noStrike">
              <a:solidFill>
                <a:srgbClr val="2b519a"/>
              </a:solidFill>
              <a:latin typeface="Arial"/>
            </a:endParaRPr>
          </a:p>
          <a:p>
            <a:pPr marL="331920" indent="0"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2b519a"/>
                </a:solidFill>
                <a:latin typeface="Arial"/>
                <a:ea typeface="宋体"/>
              </a:rPr>
              <a:t>	</a:t>
            </a:r>
            <a:r>
              <a:rPr b="1" lang="en-GB" sz="2200" spc="-1" strike="noStrike">
                <a:solidFill>
                  <a:srgbClr val="2b519a"/>
                </a:solidFill>
                <a:latin typeface="Arial"/>
                <a:ea typeface="宋体"/>
              </a:rPr>
              <a:t>Deployment of a CPU consuming application generating large data flows to test the grid operation and services =&gt; “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宋体"/>
              </a:rPr>
              <a:t>data challenge</a:t>
            </a:r>
            <a:r>
              <a:rPr b="1" lang="en-GB" sz="2200" spc="-1" strike="noStrike">
                <a:solidFill>
                  <a:srgbClr val="2b519a"/>
                </a:solidFill>
                <a:latin typeface="Arial"/>
                <a:ea typeface="宋体"/>
              </a:rPr>
              <a:t>”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68360" y="-360"/>
            <a:ext cx="6842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宋体"/>
              </a:rPr>
              <a:t>WISDOM : Wide In Silico Docking On Malaria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35640" y="907920"/>
            <a:ext cx="3168720" cy="1893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940360" y="4797360"/>
            <a:ext cx="237672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6EF8-2CC0-447B-AE7D-09E9CA9531C4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425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Partner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raunhofer SCAI, Germany (Project PI: Martin Hofman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PC Clermont-Ferrand, France (CNRS/IN2P3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MBA, France (Center for Bio-Active Molecules screening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ealthGri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Representing different project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GEE (EU FP6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mdat (EU FP6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verGrid (French Regional Gri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ccamba project (French ACI project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68360" y="-360"/>
            <a:ext cx="6842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宋体"/>
              </a:rPr>
              <a:t>WISDOM : Wide </a:t>
            </a:r>
            <a:r>
              <a:rPr b="1" i="1" lang="en-GB" sz="2500" spc="-1" strike="noStrike">
                <a:solidFill>
                  <a:srgbClr val="ffffff"/>
                </a:solidFill>
                <a:latin typeface="Arial"/>
                <a:ea typeface="宋体"/>
              </a:rPr>
              <a:t>In Silico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宋体"/>
              </a:rPr>
              <a:t> Docking On Malaria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8788-AE61-4113-BFF3-1ED55FDE1710}" type="slidenum">
              <a:t>4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3640" y="1576440"/>
            <a:ext cx="5761080" cy="4056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roduction to the disease : mala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6000" y="836280"/>
            <a:ext cx="3132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~300 million people worldwide are affect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1-1.5 million people die every yea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Widely sprea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Caused by protozoan parasites of the genus </a:t>
            </a:r>
            <a:r>
              <a:rPr b="1" i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Plasmodium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5572080"/>
            <a:ext cx="50403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ts val="36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Complex life cycle with multiple stages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9694-A4E0-4F9B-8B5A-57D1418B25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236000" y="3429000"/>
            <a:ext cx="1728720" cy="158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ere is a real need for new drugs to fight malaria (WH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899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b519a"/>
                </a:solidFill>
                <a:latin typeface="Arial"/>
                <a:ea typeface="宋体"/>
              </a:rPr>
              <a:t>Drug resistance has emerged for all classes of antimalarials except artemisinins. 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Resistance to chloroquine, the cheapest and the most used drug, is spreading in almost all the endemic countries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Resistance to the combination of sulfadoxine-pyrimethamine which was already present in South America and in South-East Asia is now emerging in East Africa (65% in Western Tanzania)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All countries experiencing resistance to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conventional monotherapies should use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ACTs (artemisinin-based combination therapies)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b519a"/>
                </a:solidFill>
                <a:latin typeface="Arial"/>
                <a:ea typeface="宋体"/>
              </a:rPr>
              <a:t>But there is even the threat of resistance to artemisinin too, as it is already observed in murine Plasmodium </a:t>
            </a:r>
            <a:r>
              <a:rPr b="1" i="1" lang="en-GB" sz="2200" spc="-1" strike="noStrike">
                <a:solidFill>
                  <a:srgbClr val="2b519a"/>
                </a:solidFill>
                <a:latin typeface="Arial"/>
                <a:ea typeface="宋体"/>
              </a:rPr>
              <a:t>yoelii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8AE7-32EE-4F70-BBF6-9847C21CFB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dentification of new malarial targ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5600" y="1052640"/>
            <a:ext cx="85899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The available drugs focus on a limited number of biological targets =&gt; cross-resistance to antimalarial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There is a consensus that substantial scientific effort is needed to identify new targets for antimalarial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With the advent of the plasmodium genome, many targets came into ligh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The potential antimalarial drug targets are broadly classified into three categories, and each category has many individual targets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Targets involved in human hemoglobin degradation (proteases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Targets involved in parasite metabolism (Folate, phospholipid… )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Targets engaged in parasite membrane transport and signalling (choline carrier etc)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80AB-DD19-4973-BCFD-DB84C7A46B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asmepsins role in human hemoglobin degrad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16000" y="1267920"/>
            <a:ext cx="4248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Plasmepsins are involved in the hemoglobin degradation inside the food vacuole during the erythrocytic phase of the life cycle.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The sequence homology between the plasmepsins is high (65-70%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The sequence homology with its nearest human aspartic protease is fortunately low (35%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b519a"/>
                </a:solidFill>
                <a:latin typeface="Arial"/>
              </a:rPr>
              <a:t>Presence of X-crystallographic data in Protein Data Ba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44760" y="2049480"/>
            <a:ext cx="1982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800" spc="-1" strike="noStrike">
                <a:solidFill>
                  <a:srgbClr val="2b519a"/>
                </a:solidFill>
                <a:latin typeface="Times New Roman"/>
                <a:ea typeface="宋体"/>
              </a:rPr>
              <a:t>Plasmepsins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800" spc="-1" strike="noStrike">
                <a:solidFill>
                  <a:srgbClr val="2b519a"/>
                </a:solidFill>
                <a:latin typeface="Times New Roman"/>
                <a:ea typeface="宋体"/>
              </a:rPr>
              <a:t>(I, II, IV, and HAP)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62120" y="5433840"/>
            <a:ext cx="11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Times New Roman"/>
                <a:ea typeface="宋体"/>
              </a:rPr>
              <a:t>Amino acid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20760" y="1557360"/>
            <a:ext cx="21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HEMOGLOBIN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00400" y="3070080"/>
            <a:ext cx="15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Times New Roman"/>
                <a:ea typeface="宋体"/>
              </a:rPr>
              <a:t>Small Peptide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00400" y="4282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Times New Roman"/>
                <a:ea typeface="宋体"/>
              </a:rPr>
              <a:t>Smaller Peptide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300400" y="1905120"/>
            <a:ext cx="14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34178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725120" y="2625840"/>
            <a:ext cx="57492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52760" y="34178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81120" y="46418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65120" y="307008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Times New Roman"/>
                <a:ea typeface="宋体"/>
              </a:rPr>
              <a:t>Hem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9480" y="4282920"/>
            <a:ext cx="89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Times New Roman"/>
                <a:ea typeface="宋体"/>
              </a:rPr>
              <a:t>Hemati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4400" y="5386320"/>
            <a:ext cx="1782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Hemozoi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(malarial pigment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64040" y="3562200"/>
            <a:ext cx="1441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Falcipain and 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plasmepsi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3120" y="363384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oxid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4797360"/>
            <a:ext cx="136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polymeriz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92400" y="47973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Aminopepdidases 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92400" y="46418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00400" y="2625840"/>
            <a:ext cx="5760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1272960" cy="17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9C60-BA6C-4487-9903-BF26664079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00000" y="1846440"/>
            <a:ext cx="6840720" cy="1863720"/>
          </a:xfrm>
          <a:prstGeom prst="rightArrow">
            <a:avLst>
              <a:gd name="adj1" fmla="val 45972"/>
              <a:gd name="adj2" fmla="val 39135"/>
            </a:avLst>
          </a:prstGeom>
          <a:solidFill>
            <a:srgbClr val="0099cc"/>
          </a:solidFill>
          <a:ln w="9360">
            <a:solidFill>
              <a:srgbClr val="2b519a"/>
            </a:solidFill>
            <a:miter/>
          </a:ln>
          <a:effectLst>
            <a:outerShdw dist="17819" dir="2700000" blurRad="0" rotWithShape="0">
              <a:srgbClr val="f4c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4720" y="2492280"/>
            <a:ext cx="1301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53480" y="2492280"/>
            <a:ext cx="893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67640" y="2492280"/>
            <a:ext cx="1142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2508120"/>
            <a:ext cx="1248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d 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13080" y="2421000"/>
            <a:ext cx="1440" cy="682560"/>
          </a:xfrm>
          <a:prstGeom prst="line">
            <a:avLst/>
          </a:prstGeom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421000"/>
            <a:ext cx="1440" cy="682560"/>
          </a:xfrm>
          <a:prstGeom prst="line">
            <a:avLst/>
          </a:prstGeom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7080" y="2421000"/>
            <a:ext cx="1800" cy="682560"/>
          </a:xfrm>
          <a:prstGeom prst="line">
            <a:avLst/>
          </a:prstGeom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7600" y="1989000"/>
            <a:ext cx="168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arget discovery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92600" y="1989000"/>
            <a:ext cx="153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Lead discovery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5200" y="147600"/>
            <a:ext cx="68151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ases of a pharmaceutical development</a:t>
            </a:r>
            <a:endParaRPr b="0" lang="en-US" sz="2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85080" y="2420640"/>
            <a:ext cx="9349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lnSpc>
                <a:spcPct val="90000"/>
              </a:lnSpc>
              <a:spcAft>
                <a:spcPts val="1599"/>
              </a:spcAft>
              <a:tabLst>
                <a:tab algn="l" pos="0"/>
                <a:tab algn="l" pos="236520"/>
                <a:tab algn="l" pos="47304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Frutiger 55 Roman"/>
              </a:rPr>
              <a:t>Clinical Phases (I-III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977080"/>
            <a:ext cx="7772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>
              <a:lnSpc>
                <a:spcPct val="90000"/>
              </a:lnSpc>
              <a:spcAft>
                <a:spcPts val="2401"/>
              </a:spcAft>
              <a:tabLst>
                <a:tab algn="l" pos="0"/>
                <a:tab algn="l" pos="236520"/>
                <a:tab algn="l" pos="47304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Frutiger 55 Roman"/>
              </a:rPr>
              <a:t>Duration: 12 – 15 years, Costs: 500 - 800 million US $ 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3040" y="177336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105264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Molecular Docking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edict how small molecules, such as substrates or drug candidates, bind to a receptor of known 3D structure</a:t>
            </a:r>
            <a:endParaRPr b="0" lang="en-US" sz="20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16000" y="3546360"/>
            <a:ext cx="5761080" cy="197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651C-3EC1-422B-882C-B0F96E7A47B9}" type="slidenum">
              <a:t>9</a:t>
            </a:fld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2-21T07:50:52Z</dcterms:modified>
  <cp:revision>2178</cp:revision>
  <dc:subject/>
  <dc:title>BioMedical Applications</dc:title>
</cp:coreProperties>
</file>