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1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31E-18C3-4BEC-B164-DB75E6A1E2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96E-4487-41B5-A0D7-F9A586CA08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49320" y="78264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6480" y="4694400"/>
            <a:ext cx="4984560" cy="44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w project portfolio includes 3 IP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treemOS: addressing longer-term research on network-centric Grid Opera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rein: that brings together the areas of agents, semantics and Grids to advance in the deployment of Grid services for business and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einGrid: major take-up initiative supporting the exploitation of European Grid tools and services. Builds on vertical pilots involving all players in the value ch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tained STREP projects explore specific and highly innovative research areas, which are complementary to the IPs. These include: trust and security, Grid services and business models, Grid platforms and user environments, and data, knowledge and semantics issues in G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hree SSA proposals will support the NESSI ETP and the Grid comm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new proposals complement those of Call 2 providing a consistent and coherent project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8178-AD27-43A4-AB1D-2810FAE84B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new research topic Network-centric Opera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504B-27BA-462E-A189-C88AFEF927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1DCD-C474-44F4-996B-5878F3DBC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B771-364E-44C1-9A28-C7C8AAD9F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C48C-7CFE-437F-8BD9-919661C14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C3AF-E989-48BD-9C31-09BA20749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7606-9C5C-41B0-8815-4858968C98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602BD-8AB6-4ECD-8B5F-B44B8218EE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7192-A14B-47EF-AEBC-979F6409E0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19BA-4256-4738-9B78-1AB772FDF7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0B1D-7FE8-429C-811A-8EE3FDFB19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1886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3C05-016A-42F0-BFC7-AC9A624B17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9C28-6185-4C73-AAD1-7FB45BB3D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3377-8E14-4AD7-B12D-3FFBF3A66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43BF-9F23-469C-A966-32DF22B824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A00C-70EB-4695-AFBD-DD6CA49C9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DBEC-8255-4318-A3A4-3BA099FDC8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65D9-D067-4829-9AC5-FF76FE7A16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D187-9D2E-486B-BA14-C48D7EFBE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EA96-9828-4DB1-B726-191D0CE9A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6D8B-2BF1-44A6-8B56-540DC6152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F8FD-8F16-407D-BE8A-2D679910C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16000" y="1886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0CC9-90FC-4834-B377-A99683FD4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BA1C-80F4-4BDA-A2C7-48BCB371C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7666-A7A9-4114-B663-8BF56DBA8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3C93-56F9-41A5-9067-C955E42E7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0"/>
            <a:ext cx="117468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3" marL="1600200" indent="-22860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4" marL="2057400" indent="-228600">
              <a:spcBef>
                <a:spcPts val="561"/>
              </a:spcBef>
              <a:spcAft>
                <a:spcPts val="56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5" marL="2057400" indent="-22860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6" marL="2057400" indent="-22860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509840" y="333360"/>
            <a:ext cx="6518160" cy="20304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5B3E-A51F-41D1-BBB6-8BA6209A7BF5}" type="slidenum"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– European Commission</a:t>
            </a:r>
            <a:br>
              <a:rPr sz="1000"/>
            </a:b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Second Grid@Asia workshop – 20 February 2006 –  Shanghai,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3700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0"/>
            <a:ext cx="784080" cy="814320"/>
          </a:xfrm>
          <a:prstGeom prst="donut">
            <a:avLst>
              <a:gd name="adj" fmla="val 15425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394920" y="1197000"/>
            <a:ext cx="360360" cy="3240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-104472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0"/>
            <a:ext cx="117468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09840" y="333360"/>
            <a:ext cx="6518160" cy="20304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5BD8-96F0-4168-81CE-B16ABA053FB6}" type="slidenum"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– European Commission</a:t>
            </a:r>
            <a:br>
              <a:rPr sz="1000"/>
            </a:b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Second Grid@Asia workshop – 20 February 2006 –  Shanghai, 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3700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8000" y="0"/>
            <a:ext cx="784080" cy="814320"/>
          </a:xfrm>
          <a:prstGeom prst="donut">
            <a:avLst>
              <a:gd name="adj" fmla="val 15425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94920" y="1197000"/>
            <a:ext cx="360360" cy="3240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4472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0920" y="4005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olfgang B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ead of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olfgang.boch@cec.eu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644720" y="2341440"/>
            <a:ext cx="4173480" cy="3463560"/>
            <a:chOff x="4644720" y="2341440"/>
            <a:chExt cx="4173480" cy="3463560"/>
          </a:xfrm>
        </p:grpSpPr>
        <p:sp>
          <p:nvSpPr>
            <p:cNvPr id="65" name=""/>
            <p:cNvSpPr/>
            <p:nvPr/>
          </p:nvSpPr>
          <p:spPr>
            <a:xfrm>
              <a:off x="5520960" y="2341440"/>
              <a:ext cx="3297240" cy="2134800"/>
            </a:xfrm>
            <a:custGeom>
              <a:avLst/>
              <a:gdLst/>
              <a:ahLst/>
              <a:rect l="l" t="t" r="r" b="b"/>
              <a:pathLst>
                <a:path w="4155" h="2689">
                  <a:moveTo>
                    <a:pt x="4155" y="1198"/>
                  </a:moveTo>
                  <a:lnTo>
                    <a:pt x="4155" y="2689"/>
                  </a:lnTo>
                  <a:lnTo>
                    <a:pt x="3289" y="2689"/>
                  </a:lnTo>
                  <a:lnTo>
                    <a:pt x="3179" y="2680"/>
                  </a:lnTo>
                  <a:lnTo>
                    <a:pt x="3069" y="2661"/>
                  </a:lnTo>
                  <a:lnTo>
                    <a:pt x="2899" y="2621"/>
                  </a:lnTo>
                  <a:lnTo>
                    <a:pt x="2764" y="2570"/>
                  </a:lnTo>
                  <a:lnTo>
                    <a:pt x="2640" y="2519"/>
                  </a:lnTo>
                  <a:lnTo>
                    <a:pt x="2499" y="2439"/>
                  </a:lnTo>
                  <a:lnTo>
                    <a:pt x="2392" y="2364"/>
                  </a:lnTo>
                  <a:lnTo>
                    <a:pt x="2302" y="2286"/>
                  </a:lnTo>
                  <a:lnTo>
                    <a:pt x="2208" y="2184"/>
                  </a:lnTo>
                  <a:lnTo>
                    <a:pt x="2116" y="2064"/>
                  </a:lnTo>
                  <a:lnTo>
                    <a:pt x="2056" y="1930"/>
                  </a:lnTo>
                  <a:lnTo>
                    <a:pt x="2028" y="1847"/>
                  </a:lnTo>
                  <a:lnTo>
                    <a:pt x="1982" y="1729"/>
                  </a:lnTo>
                  <a:lnTo>
                    <a:pt x="1925" y="1650"/>
                  </a:lnTo>
                  <a:lnTo>
                    <a:pt x="1868" y="1591"/>
                  </a:lnTo>
                  <a:lnTo>
                    <a:pt x="1801" y="1540"/>
                  </a:lnTo>
                  <a:lnTo>
                    <a:pt x="1703" y="1495"/>
                  </a:lnTo>
                  <a:lnTo>
                    <a:pt x="1603" y="1481"/>
                  </a:lnTo>
                  <a:lnTo>
                    <a:pt x="1523" y="1481"/>
                  </a:lnTo>
                  <a:lnTo>
                    <a:pt x="1451" y="1495"/>
                  </a:lnTo>
                  <a:lnTo>
                    <a:pt x="1380" y="1521"/>
                  </a:lnTo>
                  <a:lnTo>
                    <a:pt x="1246" y="1591"/>
                  </a:lnTo>
                  <a:lnTo>
                    <a:pt x="1336" y="1817"/>
                  </a:lnTo>
                  <a:lnTo>
                    <a:pt x="0" y="1383"/>
                  </a:lnTo>
                  <a:lnTo>
                    <a:pt x="644" y="0"/>
                  </a:lnTo>
                  <a:lnTo>
                    <a:pt x="727" y="232"/>
                  </a:lnTo>
                  <a:lnTo>
                    <a:pt x="861" y="169"/>
                  </a:lnTo>
                  <a:lnTo>
                    <a:pt x="941" y="132"/>
                  </a:lnTo>
                  <a:lnTo>
                    <a:pt x="1011" y="102"/>
                  </a:lnTo>
                  <a:lnTo>
                    <a:pt x="1105" y="78"/>
                  </a:lnTo>
                  <a:lnTo>
                    <a:pt x="1211" y="49"/>
                  </a:lnTo>
                  <a:lnTo>
                    <a:pt x="1292" y="34"/>
                  </a:lnTo>
                  <a:lnTo>
                    <a:pt x="1406" y="19"/>
                  </a:lnTo>
                  <a:lnTo>
                    <a:pt x="1533" y="19"/>
                  </a:lnTo>
                  <a:lnTo>
                    <a:pt x="1658" y="23"/>
                  </a:lnTo>
                  <a:lnTo>
                    <a:pt x="1801" y="49"/>
                  </a:lnTo>
                  <a:lnTo>
                    <a:pt x="1921" y="73"/>
                  </a:lnTo>
                  <a:lnTo>
                    <a:pt x="2019" y="102"/>
                  </a:lnTo>
                  <a:lnTo>
                    <a:pt x="2138" y="149"/>
                  </a:lnTo>
                  <a:lnTo>
                    <a:pt x="2230" y="192"/>
                  </a:lnTo>
                  <a:lnTo>
                    <a:pt x="2320" y="238"/>
                  </a:lnTo>
                  <a:lnTo>
                    <a:pt x="2428" y="306"/>
                  </a:lnTo>
                  <a:lnTo>
                    <a:pt x="2517" y="365"/>
                  </a:lnTo>
                  <a:lnTo>
                    <a:pt x="2607" y="437"/>
                  </a:lnTo>
                  <a:lnTo>
                    <a:pt x="2675" y="504"/>
                  </a:lnTo>
                  <a:lnTo>
                    <a:pt x="2749" y="573"/>
                  </a:lnTo>
                  <a:lnTo>
                    <a:pt x="2825" y="661"/>
                  </a:lnTo>
                  <a:lnTo>
                    <a:pt x="2882" y="724"/>
                  </a:lnTo>
                  <a:lnTo>
                    <a:pt x="2944" y="820"/>
                  </a:lnTo>
                  <a:lnTo>
                    <a:pt x="2988" y="874"/>
                  </a:lnTo>
                  <a:lnTo>
                    <a:pt x="3041" y="932"/>
                  </a:lnTo>
                  <a:lnTo>
                    <a:pt x="3077" y="968"/>
                  </a:lnTo>
                  <a:lnTo>
                    <a:pt x="3118" y="1001"/>
                  </a:lnTo>
                  <a:lnTo>
                    <a:pt x="3175" y="1040"/>
                  </a:lnTo>
                  <a:lnTo>
                    <a:pt x="3227" y="1077"/>
                  </a:lnTo>
                  <a:lnTo>
                    <a:pt x="3278" y="1099"/>
                  </a:lnTo>
                  <a:lnTo>
                    <a:pt x="3324" y="1126"/>
                  </a:lnTo>
                  <a:lnTo>
                    <a:pt x="3396" y="1155"/>
                  </a:lnTo>
                  <a:lnTo>
                    <a:pt x="3472" y="1179"/>
                  </a:lnTo>
                  <a:lnTo>
                    <a:pt x="3544" y="1195"/>
                  </a:lnTo>
                  <a:lnTo>
                    <a:pt x="3606" y="1205"/>
                  </a:lnTo>
                  <a:lnTo>
                    <a:pt x="4155" y="1198"/>
                  </a:lnTo>
                  <a:close/>
                </a:path>
              </a:pathLst>
            </a:cu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4720" y="3671640"/>
              <a:ext cx="3297240" cy="2133360"/>
            </a:xfrm>
            <a:custGeom>
              <a:avLst/>
              <a:gdLst/>
              <a:ahLst/>
              <a:rect l="l" t="t" r="r" b="b"/>
              <a:pathLst>
                <a:path w="4155" h="2689">
                  <a:moveTo>
                    <a:pt x="0" y="1492"/>
                  </a:moveTo>
                  <a:lnTo>
                    <a:pt x="0" y="0"/>
                  </a:lnTo>
                  <a:lnTo>
                    <a:pt x="867" y="0"/>
                  </a:lnTo>
                  <a:lnTo>
                    <a:pt x="976" y="11"/>
                  </a:lnTo>
                  <a:lnTo>
                    <a:pt x="1089" y="30"/>
                  </a:lnTo>
                  <a:lnTo>
                    <a:pt x="1256" y="69"/>
                  </a:lnTo>
                  <a:lnTo>
                    <a:pt x="1391" y="118"/>
                  </a:lnTo>
                  <a:lnTo>
                    <a:pt x="1516" y="172"/>
                  </a:lnTo>
                  <a:lnTo>
                    <a:pt x="1658" y="250"/>
                  </a:lnTo>
                  <a:lnTo>
                    <a:pt x="1765" y="326"/>
                  </a:lnTo>
                  <a:lnTo>
                    <a:pt x="1853" y="405"/>
                  </a:lnTo>
                  <a:lnTo>
                    <a:pt x="1947" y="507"/>
                  </a:lnTo>
                  <a:lnTo>
                    <a:pt x="2039" y="626"/>
                  </a:lnTo>
                  <a:lnTo>
                    <a:pt x="2098" y="760"/>
                  </a:lnTo>
                  <a:lnTo>
                    <a:pt x="2127" y="842"/>
                  </a:lnTo>
                  <a:lnTo>
                    <a:pt x="2172" y="962"/>
                  </a:lnTo>
                  <a:lnTo>
                    <a:pt x="2230" y="1040"/>
                  </a:lnTo>
                  <a:lnTo>
                    <a:pt x="2287" y="1099"/>
                  </a:lnTo>
                  <a:lnTo>
                    <a:pt x="2354" y="1149"/>
                  </a:lnTo>
                  <a:lnTo>
                    <a:pt x="2453" y="1195"/>
                  </a:lnTo>
                  <a:lnTo>
                    <a:pt x="2553" y="1209"/>
                  </a:lnTo>
                  <a:lnTo>
                    <a:pt x="2633" y="1209"/>
                  </a:lnTo>
                  <a:lnTo>
                    <a:pt x="2703" y="1195"/>
                  </a:lnTo>
                  <a:lnTo>
                    <a:pt x="2775" y="1169"/>
                  </a:lnTo>
                  <a:lnTo>
                    <a:pt x="2907" y="1099"/>
                  </a:lnTo>
                  <a:lnTo>
                    <a:pt x="2818" y="873"/>
                  </a:lnTo>
                  <a:lnTo>
                    <a:pt x="4155" y="1308"/>
                  </a:lnTo>
                  <a:lnTo>
                    <a:pt x="3511" y="2689"/>
                  </a:lnTo>
                  <a:lnTo>
                    <a:pt x="3426" y="2459"/>
                  </a:lnTo>
                  <a:lnTo>
                    <a:pt x="3295" y="2522"/>
                  </a:lnTo>
                  <a:lnTo>
                    <a:pt x="3215" y="2558"/>
                  </a:lnTo>
                  <a:lnTo>
                    <a:pt x="3143" y="2589"/>
                  </a:lnTo>
                  <a:lnTo>
                    <a:pt x="3049" y="2610"/>
                  </a:lnTo>
                  <a:lnTo>
                    <a:pt x="2942" y="2640"/>
                  </a:lnTo>
                  <a:lnTo>
                    <a:pt x="2863" y="2657"/>
                  </a:lnTo>
                  <a:lnTo>
                    <a:pt x="2747" y="2669"/>
                  </a:lnTo>
                  <a:lnTo>
                    <a:pt x="2622" y="2669"/>
                  </a:lnTo>
                  <a:lnTo>
                    <a:pt x="2496" y="2668"/>
                  </a:lnTo>
                  <a:lnTo>
                    <a:pt x="2354" y="2640"/>
                  </a:lnTo>
                  <a:lnTo>
                    <a:pt x="2233" y="2616"/>
                  </a:lnTo>
                  <a:lnTo>
                    <a:pt x="2136" y="2589"/>
                  </a:lnTo>
                  <a:lnTo>
                    <a:pt x="2018" y="2542"/>
                  </a:lnTo>
                  <a:lnTo>
                    <a:pt x="1924" y="2499"/>
                  </a:lnTo>
                  <a:lnTo>
                    <a:pt x="1835" y="2453"/>
                  </a:lnTo>
                  <a:lnTo>
                    <a:pt x="1730" y="2383"/>
                  </a:lnTo>
                  <a:lnTo>
                    <a:pt x="1638" y="2324"/>
                  </a:lnTo>
                  <a:lnTo>
                    <a:pt x="1549" y="2251"/>
                  </a:lnTo>
                  <a:lnTo>
                    <a:pt x="1479" y="2187"/>
                  </a:lnTo>
                  <a:lnTo>
                    <a:pt x="1407" y="2116"/>
                  </a:lnTo>
                  <a:lnTo>
                    <a:pt x="1330" y="2028"/>
                  </a:lnTo>
                  <a:lnTo>
                    <a:pt x="1273" y="1965"/>
                  </a:lnTo>
                  <a:lnTo>
                    <a:pt x="1212" y="1871"/>
                  </a:lnTo>
                  <a:lnTo>
                    <a:pt x="1168" y="1817"/>
                  </a:lnTo>
                  <a:lnTo>
                    <a:pt x="1115" y="1758"/>
                  </a:lnTo>
                  <a:lnTo>
                    <a:pt x="1078" y="1722"/>
                  </a:lnTo>
                  <a:lnTo>
                    <a:pt x="1037" y="1690"/>
                  </a:lnTo>
                  <a:lnTo>
                    <a:pt x="981" y="1650"/>
                  </a:lnTo>
                  <a:lnTo>
                    <a:pt x="928" y="1613"/>
                  </a:lnTo>
                  <a:lnTo>
                    <a:pt x="877" y="1591"/>
                  </a:lnTo>
                  <a:lnTo>
                    <a:pt x="830" y="1564"/>
                  </a:lnTo>
                  <a:lnTo>
                    <a:pt x="760" y="1533"/>
                  </a:lnTo>
                  <a:lnTo>
                    <a:pt x="682" y="1512"/>
                  </a:lnTo>
                  <a:lnTo>
                    <a:pt x="612" y="1494"/>
                  </a:lnTo>
                  <a:lnTo>
                    <a:pt x="550" y="1484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53440" y="3884400"/>
              <a:ext cx="130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rchitecture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07680" y="4782960"/>
              <a:ext cx="102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of the n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0200" y="5022720"/>
              <a:ext cx="159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gene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12720" y="5260680"/>
              <a:ext cx="137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                 </a:t>
              </a: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Gr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50520" y="283644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Enab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48360" y="3185640"/>
              <a:ext cx="106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40480" y="3634920"/>
              <a:ext cx="124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technolog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9080" y="4179600"/>
              <a:ext cx="11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Design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14800" y="4479480"/>
              <a:ext cx="1328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Develop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20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rdis.lu/ist/grid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wmf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2040" y="1995480"/>
            <a:ext cx="5067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Grid Technologies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and International Co-operation </a:t>
            </a:r>
            <a:br>
              <a:rPr sz="2000"/>
            </a:b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881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  <a:ea typeface="Times New Roman (Hebrew)"/>
              </a:rPr>
              <a:t>Second Grid@Asia Workshop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CAE5-9A1B-4744-9CD9-5C008ADAD6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17680" y="279360"/>
            <a:ext cx="7548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Arial"/>
              </a:rPr>
              <a:t>FP6 Grid Technologies Projects – Calls 2, 3, 5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6360" y="1944720"/>
            <a:ext cx="8928000" cy="3868560"/>
            <a:chOff x="36360" y="1944720"/>
            <a:chExt cx="8928000" cy="3868560"/>
          </a:xfrm>
        </p:grpSpPr>
        <p:grpSp>
          <p:nvGrpSpPr>
            <p:cNvPr id="226" name=""/>
            <p:cNvGrpSpPr/>
            <p:nvPr/>
          </p:nvGrpSpPr>
          <p:grpSpPr>
            <a:xfrm>
              <a:off x="6948360" y="5092560"/>
              <a:ext cx="1008000" cy="500040"/>
              <a:chOff x="6948360" y="5092560"/>
              <a:chExt cx="1008000" cy="500040"/>
            </a:xfrm>
          </p:grpSpPr>
          <p:sp>
            <p:nvSpPr>
              <p:cNvPr id="227" name=""/>
              <p:cNvSpPr/>
              <p:nvPr/>
            </p:nvSpPr>
            <p:spPr>
              <a:xfrm>
                <a:off x="7019640" y="509256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48360" y="5163840"/>
                <a:ext cx="1008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Datamining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Gri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7813440" y="5097240"/>
              <a:ext cx="1006560" cy="473040"/>
              <a:chOff x="7813440" y="5097240"/>
              <a:chExt cx="1006560" cy="473040"/>
            </a:xfrm>
          </p:grpSpPr>
          <p:sp>
            <p:nvSpPr>
              <p:cNvPr id="230" name=""/>
              <p:cNvSpPr/>
              <p:nvPr/>
            </p:nvSpPr>
            <p:spPr>
              <a:xfrm>
                <a:off x="7885080" y="50972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13440" y="524016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OntoGr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957800" y="4695840"/>
              <a:ext cx="1006560" cy="473040"/>
              <a:chOff x="7957800" y="4695840"/>
              <a:chExt cx="1006560" cy="473040"/>
            </a:xfrm>
          </p:grpSpPr>
          <p:sp>
            <p:nvSpPr>
              <p:cNvPr id="233" name=""/>
              <p:cNvSpPr/>
              <p:nvPr/>
            </p:nvSpPr>
            <p:spPr>
              <a:xfrm>
                <a:off x="8029440" y="46958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57800" y="483876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InteliGr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948360" y="4697280"/>
              <a:ext cx="1008000" cy="473040"/>
              <a:chOff x="6948360" y="4697280"/>
              <a:chExt cx="1008000" cy="473040"/>
            </a:xfrm>
          </p:grpSpPr>
          <p:sp>
            <p:nvSpPr>
              <p:cNvPr id="236" name=""/>
              <p:cNvSpPr/>
              <p:nvPr/>
            </p:nvSpPr>
            <p:spPr>
              <a:xfrm>
                <a:off x="7019640" y="469728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48360" y="4840200"/>
                <a:ext cx="1008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K-WF Gri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052360" y="4616280"/>
              <a:ext cx="3889440" cy="836640"/>
              <a:chOff x="2052360" y="4616280"/>
              <a:chExt cx="3889440" cy="836640"/>
            </a:xfrm>
          </p:grpSpPr>
          <p:sp>
            <p:nvSpPr>
              <p:cNvPr id="239" name=""/>
              <p:cNvSpPr/>
              <p:nvPr/>
            </p:nvSpPr>
            <p:spPr>
              <a:xfrm>
                <a:off x="2052360" y="4616280"/>
                <a:ext cx="3889440" cy="836640"/>
              </a:xfrm>
              <a:prstGeom prst="cube">
                <a:avLst>
                  <a:gd name="adj" fmla="val 25000"/>
                </a:avLst>
              </a:prstGeom>
              <a:solidFill>
                <a:srgbClr val="cb3b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71640" y="4876560"/>
                <a:ext cx="216036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CoreGR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six virtual laboratori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6360" y="5340240"/>
              <a:ext cx="934920" cy="473040"/>
              <a:chOff x="36360" y="5340240"/>
              <a:chExt cx="934920" cy="473040"/>
            </a:xfrm>
          </p:grpSpPr>
          <p:sp>
            <p:nvSpPr>
              <p:cNvPr id="242" name=""/>
              <p:cNvSpPr/>
              <p:nvPr/>
            </p:nvSpPr>
            <p:spPr>
              <a:xfrm>
                <a:off x="36360" y="53402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360" y="5482800"/>
                <a:ext cx="863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UniGri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900000" y="5340240"/>
              <a:ext cx="934920" cy="473040"/>
              <a:chOff x="900000" y="5340240"/>
              <a:chExt cx="934920" cy="473040"/>
            </a:xfrm>
          </p:grpSpPr>
          <p:sp>
            <p:nvSpPr>
              <p:cNvPr id="245" name=""/>
              <p:cNvSpPr/>
              <p:nvPr/>
            </p:nvSpPr>
            <p:spPr>
              <a:xfrm>
                <a:off x="900000" y="534024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00000" y="5482800"/>
                <a:ext cx="863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HPC4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84000" y="2860560"/>
              <a:ext cx="1008000" cy="473040"/>
              <a:chOff x="684000" y="2860560"/>
              <a:chExt cx="1008000" cy="473040"/>
            </a:xfrm>
          </p:grpSpPr>
          <p:sp>
            <p:nvSpPr>
              <p:cNvPr id="248" name=""/>
              <p:cNvSpPr/>
              <p:nvPr/>
            </p:nvSpPr>
            <p:spPr>
              <a:xfrm>
                <a:off x="755280" y="2860560"/>
                <a:ext cx="934920" cy="473040"/>
              </a:xfrm>
              <a:prstGeom prst="cube">
                <a:avLst>
                  <a:gd name="adj" fmla="val 25000"/>
                </a:avLst>
              </a:prstGeom>
              <a:solidFill>
                <a:srgbClr val="00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4000" y="3003480"/>
                <a:ext cx="1008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100" spc="-1" strike="noStrike">
                    <a:solidFill>
                      <a:srgbClr val="ffffff"/>
                    </a:solidFill>
                    <a:latin typeface="Arial"/>
                  </a:rPr>
                  <a:t>Provena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917800" y="1944720"/>
              <a:ext cx="1008000" cy="447480"/>
              <a:chOff x="2917800" y="1944720"/>
              <a:chExt cx="1008000" cy="447480"/>
            </a:xfrm>
          </p:grpSpPr>
          <p:sp>
            <p:nvSpPr>
              <p:cNvPr id="251" name=""/>
              <p:cNvSpPr/>
              <p:nvPr/>
            </p:nvSpPr>
            <p:spPr>
              <a:xfrm>
                <a:off x="2989440" y="1944720"/>
                <a:ext cx="934920" cy="447480"/>
              </a:xfrm>
              <a:prstGeom prst="cube">
                <a:avLst>
                  <a:gd name="adj" fmla="val 25000"/>
                </a:avLst>
              </a:prstGeom>
              <a:solidFill>
                <a:srgbClr val="e6a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17800" y="2089080"/>
                <a:ext cx="100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GridCoo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995640" y="1944720"/>
              <a:ext cx="1008000" cy="447480"/>
              <a:chOff x="3995640" y="1944720"/>
              <a:chExt cx="1008000" cy="447480"/>
            </a:xfrm>
          </p:grpSpPr>
          <p:sp>
            <p:nvSpPr>
              <p:cNvPr id="254" name=""/>
              <p:cNvSpPr/>
              <p:nvPr/>
            </p:nvSpPr>
            <p:spPr>
              <a:xfrm>
                <a:off x="4067280" y="1944720"/>
                <a:ext cx="934920" cy="447480"/>
              </a:xfrm>
              <a:prstGeom prst="cube">
                <a:avLst>
                  <a:gd name="adj" fmla="val 25000"/>
                </a:avLst>
              </a:prstGeom>
              <a:solidFill>
                <a:srgbClr val="e6a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95640" y="2089080"/>
                <a:ext cx="100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fffff"/>
                    </a:solidFill>
                    <a:latin typeface="Arial"/>
                  </a:rPr>
                  <a:t>Grid@As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052360" y="3578040"/>
              <a:ext cx="1513080" cy="1219320"/>
              <a:chOff x="2052360" y="3578040"/>
              <a:chExt cx="1513080" cy="1219320"/>
            </a:xfrm>
          </p:grpSpPr>
          <p:sp>
            <p:nvSpPr>
              <p:cNvPr id="257" name=""/>
              <p:cNvSpPr/>
              <p:nvPr/>
            </p:nvSpPr>
            <p:spPr>
              <a:xfrm>
                <a:off x="2196720" y="3578040"/>
                <a:ext cx="1368720" cy="1219320"/>
              </a:xfrm>
              <a:prstGeom prst="cube">
                <a:avLst>
                  <a:gd name="adj" fmla="val 25000"/>
                </a:avLst>
              </a:prstGeom>
              <a:solidFill>
                <a:srgbClr val="4a8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2360" y="4013280"/>
                <a:ext cx="1368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NextGR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service architectur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276360" y="3652920"/>
              <a:ext cx="1513080" cy="1193760"/>
              <a:chOff x="3276360" y="3652920"/>
              <a:chExt cx="1513080" cy="11937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20720" y="3652920"/>
                <a:ext cx="1368720" cy="1193760"/>
              </a:xfrm>
              <a:prstGeom prst="cube">
                <a:avLst>
                  <a:gd name="adj" fmla="val 25000"/>
                </a:avLst>
              </a:prstGeom>
              <a:solidFill>
                <a:srgbClr val="4a8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76360" y="4013280"/>
                <a:ext cx="1368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Akogrim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mobile servic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816920" y="2598480"/>
              <a:ext cx="2612160" cy="1238040"/>
              <a:chOff x="1816920" y="2598480"/>
              <a:chExt cx="2612160" cy="1238040"/>
            </a:xfrm>
          </p:grpSpPr>
          <p:sp>
            <p:nvSpPr>
              <p:cNvPr id="263" name=""/>
              <p:cNvSpPr/>
              <p:nvPr/>
            </p:nvSpPr>
            <p:spPr>
              <a:xfrm rot="16078200">
                <a:off x="2522160" y="1956600"/>
                <a:ext cx="1149480" cy="2521080"/>
              </a:xfrm>
              <a:prstGeom prst="rtTriangle">
                <a:avLst/>
              </a:prstGeom>
              <a:solidFill>
                <a:srgbClr val="4a9c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60360" y="3029040"/>
                <a:ext cx="1368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400" spc="-1" strike="noStrike">
                    <a:solidFill>
                      <a:srgbClr val="ffffff"/>
                    </a:solidFill>
                    <a:latin typeface="Arial"/>
                  </a:rPr>
                  <a:t>SIMDA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BE" sz="1300" spc="-1" strike="noStrike">
                    <a:solidFill>
                      <a:srgbClr val="ffffff"/>
                    </a:solidFill>
                    <a:latin typeface="Arial"/>
                  </a:rPr>
                  <a:t>industrial simul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7021440" y="379728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ata, knowledge, semantics, 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093080" y="4305240"/>
            <a:ext cx="934920" cy="473040"/>
            <a:chOff x="7093080" y="4305240"/>
            <a:chExt cx="934920" cy="473040"/>
          </a:xfrm>
        </p:grpSpPr>
        <p:sp>
          <p:nvSpPr>
            <p:cNvPr id="267" name=""/>
            <p:cNvSpPr/>
            <p:nvPr/>
          </p:nvSpPr>
          <p:spPr>
            <a:xfrm>
              <a:off x="7093080" y="43052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3080" y="44478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KnowA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85080" y="4305240"/>
            <a:ext cx="1008000" cy="500040"/>
            <a:chOff x="7885080" y="4305240"/>
            <a:chExt cx="1008000" cy="500040"/>
          </a:xfrm>
        </p:grpSpPr>
        <p:sp>
          <p:nvSpPr>
            <p:cNvPr id="270" name=""/>
            <p:cNvSpPr/>
            <p:nvPr/>
          </p:nvSpPr>
          <p:spPr>
            <a:xfrm>
              <a:off x="7956360" y="43052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85080" y="4376520"/>
              <a:ext cx="1008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Chemomen tu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948360" y="3044880"/>
            <a:ext cx="934920" cy="473040"/>
            <a:chOff x="6948360" y="3044880"/>
            <a:chExt cx="934920" cy="473040"/>
          </a:xfrm>
        </p:grpSpPr>
        <p:sp>
          <p:nvSpPr>
            <p:cNvPr id="273" name=""/>
            <p:cNvSpPr/>
            <p:nvPr/>
          </p:nvSpPr>
          <p:spPr>
            <a:xfrm>
              <a:off x="6948360" y="30448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48360" y="31874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A-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3044880"/>
            <a:ext cx="934920" cy="473040"/>
            <a:chOff x="7956720" y="3044880"/>
            <a:chExt cx="934920" cy="473040"/>
          </a:xfrm>
        </p:grpSpPr>
        <p:sp>
          <p:nvSpPr>
            <p:cNvPr id="276" name=""/>
            <p:cNvSpPr/>
            <p:nvPr/>
          </p:nvSpPr>
          <p:spPr>
            <a:xfrm>
              <a:off x="7956720" y="30448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31874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Sor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08000" y="361800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latforms, user enviro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44760" y="5724360"/>
            <a:ext cx="304920" cy="2415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0000" y="5724360"/>
            <a:ext cx="304560" cy="2415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81600" y="573732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84840" y="5724360"/>
            <a:ext cx="304920" cy="24156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92000" y="570708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7480" y="570708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33240" y="570708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24240" y="570708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6360" y="4937040"/>
            <a:ext cx="934920" cy="473040"/>
            <a:chOff x="36360" y="4937040"/>
            <a:chExt cx="934920" cy="473040"/>
          </a:xfrm>
        </p:grpSpPr>
        <p:sp>
          <p:nvSpPr>
            <p:cNvPr id="288" name=""/>
            <p:cNvSpPr/>
            <p:nvPr/>
          </p:nvSpPr>
          <p:spPr>
            <a:xfrm>
              <a:off x="36360" y="49370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360" y="50796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-Ec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08000" y="4546440"/>
            <a:ext cx="934920" cy="473400"/>
            <a:chOff x="108000" y="4546440"/>
            <a:chExt cx="934920" cy="473400"/>
          </a:xfrm>
        </p:grpSpPr>
        <p:sp>
          <p:nvSpPr>
            <p:cNvPr id="291" name=""/>
            <p:cNvSpPr/>
            <p:nvPr/>
          </p:nvSpPr>
          <p:spPr>
            <a:xfrm>
              <a:off x="108000" y="4546440"/>
              <a:ext cx="934920" cy="47340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8000" y="468936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e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73080" y="4937040"/>
            <a:ext cx="1006560" cy="473040"/>
            <a:chOff x="973080" y="4937040"/>
            <a:chExt cx="1006560" cy="473040"/>
          </a:xfrm>
        </p:grpSpPr>
        <p:sp>
          <p:nvSpPr>
            <p:cNvPr id="294" name=""/>
            <p:cNvSpPr/>
            <p:nvPr/>
          </p:nvSpPr>
          <p:spPr>
            <a:xfrm>
              <a:off x="1044720" y="49370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73080" y="507996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Co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00000" y="4546440"/>
            <a:ext cx="1008000" cy="473040"/>
            <a:chOff x="900000" y="4546440"/>
            <a:chExt cx="1008000" cy="473040"/>
          </a:xfrm>
        </p:grpSpPr>
        <p:sp>
          <p:nvSpPr>
            <p:cNvPr id="297" name=""/>
            <p:cNvSpPr/>
            <p:nvPr/>
          </p:nvSpPr>
          <p:spPr>
            <a:xfrm>
              <a:off x="971280" y="45464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00000" y="4689360"/>
              <a:ext cx="100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QosCosGr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95280" y="4145040"/>
            <a:ext cx="934920" cy="473040"/>
            <a:chOff x="395280" y="4145040"/>
            <a:chExt cx="934920" cy="473040"/>
          </a:xfrm>
        </p:grpSpPr>
        <p:sp>
          <p:nvSpPr>
            <p:cNvPr id="300" name=""/>
            <p:cNvSpPr/>
            <p:nvPr/>
          </p:nvSpPr>
          <p:spPr>
            <a:xfrm>
              <a:off x="395280" y="414504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5280" y="42876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4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87280" y="2459160"/>
            <a:ext cx="1008000" cy="473040"/>
            <a:chOff x="1187280" y="2459160"/>
            <a:chExt cx="1008000" cy="473040"/>
          </a:xfrm>
        </p:grpSpPr>
        <p:sp>
          <p:nvSpPr>
            <p:cNvPr id="303" name=""/>
            <p:cNvSpPr/>
            <p:nvPr/>
          </p:nvSpPr>
          <p:spPr>
            <a:xfrm>
              <a:off x="1258560" y="245916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7280" y="2602080"/>
              <a:ext cx="100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AssessGr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52360" y="2428920"/>
            <a:ext cx="1006560" cy="473040"/>
            <a:chOff x="252360" y="2428920"/>
            <a:chExt cx="1006560" cy="473040"/>
          </a:xfrm>
        </p:grpSpPr>
        <p:sp>
          <p:nvSpPr>
            <p:cNvPr id="306" name=""/>
            <p:cNvSpPr/>
            <p:nvPr/>
          </p:nvSpPr>
          <p:spPr>
            <a:xfrm>
              <a:off x="324000" y="242892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2360" y="257184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Tr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84360" y="20685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rust,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1280" y="170496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Grid services, business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020000" y="2654280"/>
            <a:ext cx="934920" cy="473040"/>
            <a:chOff x="7020000" y="2654280"/>
            <a:chExt cx="934920" cy="473040"/>
          </a:xfrm>
        </p:grpSpPr>
        <p:sp>
          <p:nvSpPr>
            <p:cNvPr id="311" name=""/>
            <p:cNvSpPr/>
            <p:nvPr/>
          </p:nvSpPr>
          <p:spPr>
            <a:xfrm>
              <a:off x="7020000" y="26542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20000" y="279684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Argu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812000" y="2654280"/>
            <a:ext cx="1008000" cy="500040"/>
            <a:chOff x="7812000" y="2654280"/>
            <a:chExt cx="1008000" cy="500040"/>
          </a:xfrm>
        </p:grpSpPr>
        <p:sp>
          <p:nvSpPr>
            <p:cNvPr id="314" name=""/>
            <p:cNvSpPr/>
            <p:nvPr/>
          </p:nvSpPr>
          <p:spPr>
            <a:xfrm>
              <a:off x="7883280" y="2654280"/>
              <a:ext cx="93492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12000" y="2725560"/>
              <a:ext cx="1008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Edutain@ Gr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236000" y="2252520"/>
            <a:ext cx="1005840" cy="473040"/>
            <a:chOff x="7236000" y="2252520"/>
            <a:chExt cx="1005840" cy="473040"/>
          </a:xfrm>
        </p:grpSpPr>
        <p:sp>
          <p:nvSpPr>
            <p:cNvPr id="317" name=""/>
            <p:cNvSpPr/>
            <p:nvPr/>
          </p:nvSpPr>
          <p:spPr>
            <a:xfrm>
              <a:off x="7307280" y="2252520"/>
              <a:ext cx="934560" cy="47304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36000" y="239544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GridEc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637080" y="1512720"/>
            <a:ext cx="1008000" cy="447840"/>
            <a:chOff x="3637080" y="1512720"/>
            <a:chExt cx="1008000" cy="447840"/>
          </a:xfrm>
        </p:grpSpPr>
        <p:sp>
          <p:nvSpPr>
            <p:cNvPr id="320" name=""/>
            <p:cNvSpPr/>
            <p:nvPr/>
          </p:nvSpPr>
          <p:spPr>
            <a:xfrm>
              <a:off x="3708720" y="1512720"/>
              <a:ext cx="934920" cy="44784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37080" y="165744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Nessi-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629080" y="1569960"/>
            <a:ext cx="1008000" cy="447840"/>
            <a:chOff x="2629080" y="1569960"/>
            <a:chExt cx="1008000" cy="447840"/>
          </a:xfrm>
        </p:grpSpPr>
        <p:sp>
          <p:nvSpPr>
            <p:cNvPr id="323" name=""/>
            <p:cNvSpPr/>
            <p:nvPr/>
          </p:nvSpPr>
          <p:spPr>
            <a:xfrm>
              <a:off x="2700720" y="1569960"/>
              <a:ext cx="934920" cy="44784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29080" y="1714680"/>
              <a:ext cx="1008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100" spc="-1" strike="noStrike">
                  <a:solidFill>
                    <a:srgbClr val="ffffff"/>
                  </a:solidFill>
                  <a:latin typeface="Arial"/>
                </a:rPr>
                <a:t>Challeng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608360" y="1533600"/>
            <a:ext cx="1008000" cy="447480"/>
            <a:chOff x="4608360" y="1533600"/>
            <a:chExt cx="1008000" cy="447480"/>
          </a:xfrm>
        </p:grpSpPr>
        <p:sp>
          <p:nvSpPr>
            <p:cNvPr id="326" name=""/>
            <p:cNvSpPr/>
            <p:nvPr/>
          </p:nvSpPr>
          <p:spPr>
            <a:xfrm>
              <a:off x="4680000" y="1533600"/>
              <a:ext cx="934920" cy="44748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8360" y="16779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Degr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57800" y="3581280"/>
            <a:ext cx="1655640" cy="1219320"/>
            <a:chOff x="4357800" y="3581280"/>
            <a:chExt cx="1655640" cy="1219320"/>
          </a:xfrm>
        </p:grpSpPr>
        <p:sp>
          <p:nvSpPr>
            <p:cNvPr id="329" name=""/>
            <p:cNvSpPr/>
            <p:nvPr/>
          </p:nvSpPr>
          <p:spPr>
            <a:xfrm>
              <a:off x="4645080" y="3581280"/>
              <a:ext cx="1368360" cy="1219320"/>
            </a:xfrm>
            <a:prstGeom prst="cube">
              <a:avLst>
                <a:gd name="adj" fmla="val 25000"/>
              </a:avLst>
            </a:pr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7800" y="3941640"/>
              <a:ext cx="1655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BR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300" spc="-1" strike="noStrike">
                  <a:solidFill>
                    <a:srgbClr val="ffffff"/>
                  </a:solidFill>
                  <a:latin typeface="Arial"/>
                </a:rPr>
                <a:t>agents &amp; semantic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53080" y="3618000"/>
            <a:ext cx="1297080" cy="1844640"/>
            <a:chOff x="5653080" y="3618000"/>
            <a:chExt cx="1297080" cy="1844640"/>
          </a:xfrm>
        </p:grpSpPr>
        <p:sp>
          <p:nvSpPr>
            <p:cNvPr id="332" name=""/>
            <p:cNvSpPr/>
            <p:nvPr/>
          </p:nvSpPr>
          <p:spPr>
            <a:xfrm>
              <a:off x="5797800" y="3618000"/>
              <a:ext cx="1152360" cy="1844640"/>
            </a:xfrm>
            <a:prstGeom prst="cube">
              <a:avLst>
                <a:gd name="adj" fmla="val 25000"/>
              </a:avLst>
            </a:prstGeom>
            <a:solidFill>
              <a:srgbClr val="4a6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53080" y="4189320"/>
              <a:ext cx="129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Xtree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300" spc="-1" strike="noStrike">
                  <a:solidFill>
                    <a:srgbClr val="ffffff"/>
                  </a:solidFill>
                  <a:latin typeface="Arial"/>
                </a:rPr>
                <a:t>Linux based Grid operating syste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384280" y="1204920"/>
            <a:ext cx="38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upporting the NESSI ETP &amp; Grid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356000" y="2644920"/>
            <a:ext cx="2701800" cy="1187280"/>
            <a:chOff x="4356000" y="2644920"/>
            <a:chExt cx="2701800" cy="1187280"/>
          </a:xfrm>
        </p:grpSpPr>
        <p:sp>
          <p:nvSpPr>
            <p:cNvPr id="336" name=""/>
            <p:cNvSpPr/>
            <p:nvPr/>
          </p:nvSpPr>
          <p:spPr>
            <a:xfrm>
              <a:off x="4429080" y="2644920"/>
              <a:ext cx="2628720" cy="1187280"/>
            </a:xfrm>
            <a:prstGeom prst="rtTriangle">
              <a:avLst/>
            </a:prstGeom>
            <a:solidFill>
              <a:srgbClr val="4a69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56000" y="3044880"/>
              <a:ext cx="136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ffffff"/>
                  </a:solidFill>
                  <a:latin typeface="Arial"/>
                </a:rPr>
                <a:t>Bein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300" spc="-1" strike="noStrike">
                  <a:solidFill>
                    <a:srgbClr val="ffffff"/>
                  </a:solidFill>
                  <a:latin typeface="Arial"/>
                </a:rPr>
                <a:t>business experimen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6732720" y="925560"/>
            <a:ext cx="23050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2088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U Funding: 124 M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62600" y="90792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ll 5 start: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4E46-4302-4953-A9BA-971C3C6F1128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nternational Co-operation on Grid Technologies – Target Country: China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29720" y="1362240"/>
            <a:ext cx="8285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Objectives of Call 6 – SO 2.6.5 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Closing 25 April 2006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38592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develop strategic partnerships building on common priority areas and existing initiativ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38592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explore new collaboration opportunities for the take-up of Grid-enabled applications by end-us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38592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moting common developments of standards and building joint virtual laboratories involving research and industr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71F7-F2AA-4456-A2C3-3589C05077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047600" y="1285920"/>
            <a:ext cx="79171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Proposals shall leverage and integrat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existing initiatives</a:t>
            </a: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 in the focal areas in Europe and the target country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-363600">
              <a:spcBef>
                <a:spcPts val="414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struments: STREPs, SSAs, CA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19280" indent="-363600">
              <a:spcBef>
                <a:spcPts val="414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dicative budget: 5 M €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Call 6 SO 2.6.5 International Co-operation on Grid Technologies – Target Country: China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434280" y="2652840"/>
            <a:ext cx="1823760" cy="16030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122480" y="2320920"/>
            <a:ext cx="2035080" cy="2330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971800" y="2387520"/>
            <a:ext cx="4229280" cy="952560"/>
          </a:xfrm>
          <a:custGeom>
            <a:avLst/>
            <a:gdLst>
              <a:gd name="textAreaLeft" fmla="*/ 876960 w 4229280"/>
              <a:gd name="textAreaRight" fmla="*/ 2950920 w 422928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2450880" y="3645000"/>
            <a:ext cx="4228920" cy="952560"/>
          </a:xfrm>
          <a:custGeom>
            <a:avLst/>
            <a:gdLst>
              <a:gd name="textAreaLeft" fmla="*/ 876960 w 4228920"/>
              <a:gd name="textAreaRight" fmla="*/ 2950560 w 422892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45000" y="2895480"/>
            <a:ext cx="1344600" cy="4399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13000" y="3467160"/>
            <a:ext cx="1344600" cy="43956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76640" y="3327480"/>
            <a:ext cx="1344600" cy="43956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3213000"/>
            <a:ext cx="1344600" cy="4399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8640" y="3759120"/>
            <a:ext cx="1344600" cy="4399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629F-756E-4C9A-9A5D-19423D0E6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0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Participation from China / Asia on Call 5 Gri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Proposal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1480" y="1258560"/>
            <a:ext cx="79678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1720" indent="-446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0 proposals received involved Chinese partners (4 IPs, 5 STREPs, 1 SSA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3 proposals under negotiation involve Chinese partners: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XtreemOS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Institute of Computing Technology – CAS;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d Flag Softwar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einGrid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eijing Hydraulic Research Institu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GridComp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singhua Universit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 other proposals under negotiation also involve Asian partners: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ArguGrid: 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Asian Institute of Technology – Thailand;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22076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Sorma: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Sun Singapor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23E9-71FE-4E83-B997-F67CEB063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5200" y="1184400"/>
            <a:ext cx="850104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P6 Grid Project Fact Sheets, FP5 Grid Project Achievemen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74"/>
              </a:spcBef>
              <a:spcAft>
                <a:spcPts val="56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(s) – European Grid Research 2005 - 2010”, 2003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   Research 2005–2010 and beyond”, August 2004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s 3 – Grids and service oriented knowledge utilities: vision 2010 and beyond”, publication expected February 2006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624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Grid@Asia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http://www.gridatasia.ne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5041800"/>
            <a:ext cx="4686120" cy="81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44480" y="5121360"/>
            <a:ext cx="6863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rdis.lu/ist/g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54D3-8065-4BD9-A237-198F66092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4800" y="1220760"/>
            <a:ext cx="79675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80000"/>
              </a:lnSpc>
              <a:spcBef>
                <a:spcPts val="2276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U Grid Research Strategy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Objectives for International Co-operat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U Grid vision towards SOKU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ST Call 5 results on Grid Research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IST Call 6 on EU-China International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-operation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446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88920"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A5D9-F383-432A-8502-AF0758A9C3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6280" y="185760"/>
            <a:ext cx="871704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Grid Strategy towards the Lisbon Objectives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3375000">
            <a:off x="4526280" y="2624040"/>
            <a:ext cx="5259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Competi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Addressing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</a:rPr>
              <a:t>standardization, regulatio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Innovation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Leveraging additional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77920" y="4500720"/>
            <a:ext cx="5908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Developing new methods, tools, systems 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Advance excellence and know-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Long-term and business-driven R&amp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Integration – structuring - standard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150000">
            <a:off x="1054080" y="1699920"/>
            <a:ext cx="38512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Coordination of National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Opening-up of National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International cooperation (CHINA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 (Hebrew)"/>
              </a:rPr>
              <a:t>Build critical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Derive standardisation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5720" y="798840"/>
            <a:ext cx="4684680" cy="4336920"/>
            <a:chOff x="2205720" y="798840"/>
            <a:chExt cx="4684680" cy="4336920"/>
          </a:xfrm>
        </p:grpSpPr>
        <p:sp>
          <p:nvSpPr>
            <p:cNvPr id="131" name=""/>
            <p:cNvSpPr/>
            <p:nvPr/>
          </p:nvSpPr>
          <p:spPr>
            <a:xfrm rot="21579600">
              <a:off x="2268000" y="896400"/>
              <a:ext cx="4605480" cy="3610080"/>
            </a:xfrm>
            <a:prstGeom prst="triangle">
              <a:avLst>
                <a:gd name="adj" fmla="val 50199"/>
              </a:avLst>
            </a:prstGeom>
            <a:solidFill>
              <a:srgbClr val="0000ff">
                <a:alpha val="59000"/>
              </a:srgbClr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7760" y="3254400"/>
              <a:ext cx="2312640" cy="12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566240" y="894960"/>
              <a:ext cx="7920" cy="232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5200">
              <a:off x="3826080" y="3668760"/>
              <a:ext cx="161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Research &amp;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 (Hebrew)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Develo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3491400">
              <a:off x="4632840" y="257328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Technology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133800">
              <a:off x="1410480" y="2615040"/>
              <a:ext cx="468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Europea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  <a:ea typeface="Times New Roman (Hebrew)"/>
                </a:rPr>
                <a:t>Research Ar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275200" y="3226320"/>
              <a:ext cx="2287800" cy="130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8" name=""/>
          <p:cNvGraphicFramePr/>
          <p:nvPr/>
        </p:nvGraphicFramePr>
        <p:xfrm>
          <a:off x="6970680" y="1117440"/>
          <a:ext cx="18939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70680" y="1117440"/>
                    <a:ext cx="18939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82760" y="1469880"/>
          <a:ext cx="161892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1469880"/>
                    <a:ext cx="161892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167520" y="4840200"/>
            <a:ext cx="2057400" cy="10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11AB-2AB1-4D26-A34B-7F94B332F4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597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Networked European Software 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and Services Initiativ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932520" y="138240"/>
          <a:ext cx="188604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2520" y="138240"/>
                    <a:ext cx="188604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773360" y="5221440"/>
            <a:ext cx="535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unched in Brussels on 7 Sept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.nessi-europ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4200" y="1731960"/>
            <a:ext cx="4938840" cy="2045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Mission:</a:t>
            </a:r>
            <a:r>
              <a:rPr b="0" lang="de-DE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elop a visionary strategy for Software and Services driven by a common European Research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ere innovation and business strengths are reinforce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1724040"/>
            <a:ext cx="3813120" cy="2103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62240" y="4232160"/>
            <a:ext cx="662040" cy="46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249960" y="4346640"/>
            <a:ext cx="1089000" cy="303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7621560" y="4325760"/>
            <a:ext cx="111600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rcRect l="0" t="0" r="-2344" b="-3035"/>
          <a:stretch/>
        </p:blipFill>
        <p:spPr>
          <a:xfrm>
            <a:off x="219240" y="4756320"/>
            <a:ext cx="1047600" cy="517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2765520" y="4861080"/>
            <a:ext cx="1136520" cy="247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4284720" y="4873680"/>
            <a:ext cx="1116000" cy="206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5834160" y="4809960"/>
            <a:ext cx="1122120" cy="309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7431120" y="4878360"/>
            <a:ext cx="1219320" cy="235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230040" y="4178160"/>
            <a:ext cx="1074960" cy="524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1401840" y="4264200"/>
            <a:ext cx="1019160" cy="48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2603520" y="4349880"/>
            <a:ext cx="1095480" cy="28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4962600" y="4294080"/>
            <a:ext cx="998640" cy="379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6"/>
          <a:stretch/>
        </p:blipFill>
        <p:spPr>
          <a:xfrm>
            <a:off x="1287360" y="4919760"/>
            <a:ext cx="1082880" cy="176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21440" y="1154160"/>
            <a:ext cx="75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European Technology Platform for SW, </a:t>
            </a:r>
            <a:r>
              <a:rPr b="1" lang="de-DE" sz="2000" spc="-1" strike="noStrike">
                <a:solidFill>
                  <a:srgbClr val="009999"/>
                </a:solidFill>
                <a:latin typeface="Arial"/>
              </a:rPr>
              <a:t>Grid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amp; e-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15FD-1BF8-4A15-8755-802AC84462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302760"/>
            <a:ext cx="7289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bjectives for International Co-operation in IC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5200" y="1273320"/>
            <a:ext cx="850104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Support economic growth and promotion of European ICT industry through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Co-operation on technologies, addressing issues like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nteroperability &amp; standardisa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romotion of EU compatible regulatory approaches with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NCO countri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Enable European researchers and industrialists to share knowledge, technology, expertise and skills with INCO countries: 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ramework Programm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Address world-scale issues of an emerging global information and knowledge society: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As identified in the World Summit on Information Society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Prepare medium and long-term partnerships of mutual benefit in research and industry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CDD9-13F3-475C-9E67-BC0931977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027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formation Society Dialogues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5200" y="1273320"/>
            <a:ext cx="624024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Arial"/>
              </a:rPr>
              <a:t>Addressing policy, regulatory and research aspects between EU and: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dustrialized countries: USA , Japa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merging economies: Brazil, China, Indi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 future: Russia, South Afric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Arial"/>
              </a:rPr>
              <a:t>Neighbourhood </a:t>
            </a:r>
            <a:r>
              <a:rPr b="1" lang="en-GB" sz="2600" spc="-1" strike="noStrike">
                <a:solidFill>
                  <a:srgbClr val="cc6600"/>
                </a:solidFill>
                <a:latin typeface="Arial"/>
              </a:rPr>
              <a:t>dialogues and regional co-operation</a:t>
            </a: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uromed countries, Balkans, LAC, SE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CP countries (in future)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15240" y="2349360"/>
            <a:ext cx="2017800" cy="26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F56D-2ED9-4E62-B81A-AD47CC536C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90840" y="2184480"/>
            <a:ext cx="2219400" cy="2320920"/>
          </a:xfrm>
          <a:prstGeom prst="irregularSeal2">
            <a:avLst/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eneration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20920" y="1965240"/>
            <a:ext cx="4484520" cy="23194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643800">
            <a:off x="740160" y="2415240"/>
            <a:ext cx="42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d-user empower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ife-support to business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475776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Societal behaviour (millions of self-organising 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mputational semantics, ontologies, meta-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Pervasive virtual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3206400">
            <a:off x="4368600" y="3081240"/>
            <a:ext cx="48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inuously chang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Grid services development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9200" y="5259240"/>
            <a:ext cx="20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irt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2200" y="4262400"/>
            <a:ext cx="3786120" cy="4381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8607200">
            <a:off x="1676880" y="2684880"/>
            <a:ext cx="3357720" cy="4824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643800">
            <a:off x="2073600" y="2760480"/>
            <a:ext cx="243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d-User Vi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rot="3256800">
            <a:off x="4238280" y="2702880"/>
            <a:ext cx="3140280" cy="441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283800">
            <a:off x="4653360" y="26748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31560" y="431964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720" y="1936800"/>
            <a:ext cx="218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80520" y="1940040"/>
            <a:ext cx="187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840" y="8978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ext Generation Grid(s) - European Grid Research 2005 - 2010”, Jun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640" y="127080"/>
            <a:ext cx="80532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Next Generation Grids Report 2003: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2080" y="184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NG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2A51-5711-475A-9A9C-C35A62DD4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877000" y="3537000"/>
            <a:ext cx="3043080" cy="229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t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immediately useable services with established functionality, performance and dependability. Emphasis is on user needs and issues such as trust and secur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2360" y="3551400"/>
            <a:ext cx="2933640" cy="229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s are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assisted (‘semantic’) to facilitate automation and advanced functionality. Knowledge technologies enable the delivery of high level services to the 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9640" y="39600"/>
            <a:ext cx="80532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ervice-Oriented Knowledge Utility (SOK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8280" y="915840"/>
            <a:ext cx="3168360" cy="202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architecture comprises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ervi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ich may be instantiated and assembled dynamically. Hence, the structure, behaviour and location of software is changing at run-ti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4520" y="919080"/>
            <a:ext cx="2019240" cy="2301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546960" y="863640"/>
            <a:ext cx="20430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376440" y="3400560"/>
            <a:ext cx="2297160" cy="230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C518-89FD-4CC9-8142-BDB72E8CA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1200" y="22716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WP 2005-2006 (Call 4 + Call 5)</a:t>
            </a:r>
            <a:br>
              <a:rPr sz="2100"/>
            </a:b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Advanced Grid Technologies, Systems and Services</a:t>
            </a:r>
            <a:br>
              <a:rPr sz="1900"/>
            </a:b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EU funding: 71.3 M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  <a:ea typeface="Arial"/>
              </a:rPr>
              <a:t>€ (tentative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7834320" y="2584440"/>
            <a:ext cx="712800" cy="311472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72480" y="1138320"/>
            <a:ext cx="636480" cy="140472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2400" y="2835360"/>
            <a:ext cx="1535400" cy="2625840"/>
            <a:chOff x="212400" y="2835360"/>
            <a:chExt cx="1535400" cy="2625840"/>
          </a:xfrm>
        </p:grpSpPr>
        <p:sp>
          <p:nvSpPr>
            <p:cNvPr id="197" name=""/>
            <p:cNvSpPr/>
            <p:nvPr/>
          </p:nvSpPr>
          <p:spPr>
            <a:xfrm>
              <a:off x="228960" y="283536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" y="475740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094000">
              <a:off x="623880" y="3955320"/>
              <a:ext cx="823680" cy="36828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4552200">
              <a:off x="284040" y="3981600"/>
              <a:ext cx="865080" cy="38376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207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53960" y="2549520"/>
            <a:ext cx="8443800" cy="7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45440" y="1468440"/>
            <a:ext cx="1798560" cy="75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e-business, e-healt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e-gov, e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Times New Roman"/>
              </a:rPr>
              <a:t>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4400" y="3573360"/>
            <a:ext cx="1040040" cy="10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9552-B4AF-4DFE-95DD-07F8A44D6E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15:55:30Z</dcterms:created>
  <dc:creator>obozivi</dc:creator>
  <dc:description/>
  <dc:language>en-US</dc:language>
  <cp:lastModifiedBy>gasosjo</cp:lastModifiedBy>
  <dcterms:modified xsi:type="dcterms:W3CDTF">2006-02-19T11:03:12Z</dcterms:modified>
  <cp:revision>102</cp:revision>
  <dc:subject/>
  <dc:title>Slide 1</dc:title>
</cp:coreProperties>
</file>