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78F4-B2D3-4D88-9B90-AA020A9828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4D87-A491-4354-B056-F784577D22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5000" cy="3206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every European country there should be one member institute, which serv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our 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ong belief that all participants will benefit from co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sharing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developing a shared vision on technological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And by utilizing sy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CIM fosters a shared view among its members which is based on the ambition to excel .... and to act as a bridg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mote Europea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28D2-B1AC-4D7D-9D94-4D1CD816E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FBA2-BE91-4E25-B350-9429DA034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ECEA9-A4AD-4949-878C-26897ECA9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8CD00-C0ED-4A27-A38F-9AAF72E8E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AD459-4D90-4B34-B4D7-EE312B05D7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24953-8150-4FB8-9DFE-BBF5DB36AE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BCAB4-1AED-4012-8EF7-237871D78C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EF94C-8EB1-4EC8-8551-AAF95D0B3B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57E7D-D285-4F30-898B-45ADE919B2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7D6EF-CD71-4BBD-A22E-BF713E9479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589C7-835E-4325-A5D5-A4E2A83C4F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C925B-7022-4A31-BFCB-772E055FF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BAE80-2302-4BDE-9C95-794664341E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68571-F603-4E87-A8FB-A60AC517E3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4E1E6-0C8E-4362-946E-D675046508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E033C-5EB7-422B-9D76-46A7CEDF35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E4068-C652-47B1-8AA2-BA7777B76C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CDF7-B0A8-44BB-84D8-72FA8DD7B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424C-BA2B-44C0-88C5-F1B438E9D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92F36-258D-4A62-B966-2AD188070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EBEA-8735-4A82-ADBF-1F118A42A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7842-5503-45E7-93F1-228FDCEA6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C2E3C-FFD9-4490-92E5-FFA952CD5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ACC15-C6BE-4271-B410-A37DBDF5B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18960" y="640044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4344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29AF-9B3A-4B58-B7B1-739617E06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6858000" y="282600"/>
          <a:ext cx="2286000" cy="6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282600"/>
                    <a:ext cx="22860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65160" y="42840"/>
            <a:ext cx="895320" cy="9907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6330960"/>
            <a:ext cx="914400" cy="5256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8305920" y="6299280"/>
            <a:ext cx="836640" cy="5587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1218960" y="640044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76960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CE65-544C-435C-8492-68A26267E0F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0" y="282600"/>
          <a:ext cx="2286000" cy="6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282600"/>
                    <a:ext cx="22860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5160" y="42840"/>
            <a:ext cx="895320" cy="99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0" y="6286680"/>
            <a:ext cx="990720" cy="56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8305920" y="6297480"/>
            <a:ext cx="836640" cy="559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dvanced Grid Research Workshops through European and Asian Co-op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72388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The GRID@As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uno Le Dan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gridatasia.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-mail: bruno.le_dantec@ercim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64008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hanghai - 20-22 February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hope you will enjoy this ev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ill create long term partnership(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ie x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CAF7-324F-48A9-9158-CCF80A50D4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12952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 months, starting date 1 April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anced by Unit F2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dget 300 000 eur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EIG ERCIM - INRIA, CNR, Fh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ihang University (Chin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hanghai Jiao Tong University (Chin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STI (Kore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lement locally the organisation adopted by the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imulate extensive participation of the local academic and industrial expe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ise local political awareness and particip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38360" y="38088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fig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B0CD-BB31-4DEE-A1E6-F35B1DB2D5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67240" y="581040"/>
            <a:ext cx="2820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371600"/>
            <a:ext cx="784872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ster collaboration in Grid research and technologies between the European Union and at least two Asian countries: China and South Ko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ste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pping of Chinese and South Korea key Grid play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id focused workshops on Research and industrial agen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semination and sustainability through participation in joint projects (FP6 and FP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e co-operation between European and Asian grid commun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lidate capabilities and extend sustainable co-operation with leading Grid actors in As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457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we want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739C-8DDB-4161-89E0-43BDC6378A2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50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eijing Worksh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1 to 23 June 2005 - Beihang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90 participants, 17 from euro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efore EC call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inese, korean and European Grid Program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id middle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id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ols and programming enviro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ssion on co-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unding opportun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C project mechanisms and IPR iss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tworking s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25AC-99C8-461C-8FBA-D1BD365C03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eijing Workshop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re than 90 participants (16 from Euro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Group1-Grid@Asia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ADD7-3F84-4393-AD79-162CA3F4B7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s of interest for Ch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Emergency response and disaster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National Geological Survey Grid, Earthquake Prediction, Digital Forestry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Meteorological application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Seis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o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Bioinformatics Application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New Drug Dis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earch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Image Processing Grid, Computational Fluid Dynamics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Data Processing Grid, High-energy Physics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id and indus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Aviation Manufacturing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Transportation Simulation, Intelligent Transportation, Equipment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ltural heritage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Grid for Digital Libra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University Digital Museum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FD59F-D634-4276-A49F-9481F4E57F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hanghai worksh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0 to 22 February 2006 - Shanghai Jioa Tong Univers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ong focus on Grid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mergency response and disaster prediction (Flooding, Climate, diseas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vanced manufacturing Grid supporting extensive collaborative design and sim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ioinformatics Application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w Drug Discove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ffic sim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int Research Institutes (assets and added valu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A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S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inese feedback from past and potential EC Pro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E3F6-E66E-4648-9C91-B32D03A8E5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4953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ST Familiarization d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ednesday 22 February from 1.00 to 5.30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rganised by the european Commi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view of International Co-operation activities in DG INF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view of International Co-operation activities in The Shanghai Science and Technology Commi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al submission and evaluation. Instrument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view of Call 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id Technologies targeted research action with Chi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gital Broadcasting / Mobile Convergence targeted research action with Chi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Proposers Forum”: Presentations of proposal id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for participants to discuss and meet other attend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B11D-7DF2-4193-B81A-28DFC31BF5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on Grid programmes in China and Korea soon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ite to provide information on running joint pro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workshop will be organised in Korea in fall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5867280" cy="4589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828440" y="304560"/>
            <a:ext cx="4724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gridatasia.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FD487-C124-454E-AF3B-89A17C3940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7:11:31Z</dcterms:created>
  <dc:creator>Thierry PRIOL</dc:creator>
  <dc:description/>
  <dc:language>en-US</dc:language>
  <cp:lastModifiedBy>bledante</cp:lastModifiedBy>
  <cp:lastPrinted>2006-01-25T17:04:32Z</cp:lastPrinted>
  <dcterms:modified xsi:type="dcterms:W3CDTF">2006-02-19T14:23:19Z</dcterms:modified>
  <cp:revision>196</cp:revision>
  <dc:subject/>
  <dc:title>CoreGRID: A network of excellence in Grid and P2P Technologies</dc:title>
</cp:coreProperties>
</file>