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1E62-2F62-49EF-9E9D-12177E31B3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DE2B-FEE0-48A9-B26F-30EB271498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5000" cy="3206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every European country there should be one member institute, which serv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our 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ong belief that all participants will benefit from co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sharing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developing a shared vision on technological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And by utilizing sy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CIM fosters a shared view among its members which is based on the ambition to excel .... and to act as a bridg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mote Europea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E2855-94D1-43E9-A094-F892F337A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A92A-D623-4691-81D4-7E2F3E94A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1851-FF0C-4CE7-A3AE-041C6E41A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53A3D-0935-45B9-A071-5AE25613D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E1BE8-DF2C-4CBE-84AA-36968A176E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3682D-1F3C-4EAB-B20D-B612AC5313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264A4-A88E-4863-8F47-F7F131424F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23783-F515-4DDE-983A-A47166B652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97633-C143-44C4-9026-4681C6D793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51675-30B0-4A90-89F5-98FEC95F26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9BE07-556C-419A-A6C4-5D62F3E5A1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D93A1-5EAC-4B89-8DB8-12F6237D7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364DE-B572-4F01-831A-A73A2908BA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FB552-A44C-4264-81CC-935C577FDB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3FDA1-932C-4923-AAFF-A4B0928431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05F29-F855-4E22-9050-AE27BCC807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5F973-ED60-413B-B61B-54DEE0776C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972A3-39A5-44E9-97F4-CD39B5750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D35C9-6B7E-4EAA-96CE-0FA4C3174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A916F-F8EB-46B0-9F7F-D3F3A1086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DFF8-ECFB-48D0-B579-1051948FD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152D9-F269-43C1-A43A-AE5636B9F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008D-90EB-423F-9DD7-FA21E7CF0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C24A7-288A-4C33-AB88-05F258970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18960" y="640044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4344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9478-2B04-4BE4-8635-FFE4C0FE2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6858000" y="282600"/>
          <a:ext cx="2286000" cy="6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282600"/>
                    <a:ext cx="22860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65160" y="42840"/>
            <a:ext cx="895320" cy="9907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6330960"/>
            <a:ext cx="914400" cy="5256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8305920" y="6299280"/>
            <a:ext cx="836640" cy="5587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1218960" y="640044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76960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DFC8-E1EC-4F6D-AE82-D35EF1AEE0D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0" y="282600"/>
          <a:ext cx="2286000" cy="6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282600"/>
                    <a:ext cx="22860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5160" y="42840"/>
            <a:ext cx="895320" cy="99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0" y="6286680"/>
            <a:ext cx="990720" cy="56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8305920" y="6297480"/>
            <a:ext cx="836640" cy="559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dvanced Grid Research Workshops through European and Asian Co-op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72388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The GRID@As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uno Le Dan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gridatasia.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-mail: bruno.le_dantec@ercim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64008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hanghai - 20-22 February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hope you will enjoy this ev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ill create long term partnership(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ie x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CE23-13D5-405C-B50F-5E67AC0733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12952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 months, starting date 1 April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anced by Unit F2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dget 300 000 eur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EIG ERCIM - INRIA, CNR, Fh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ihang University (Chin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hanghai Jiao Tong University (Chin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STI (Kore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lement locally the organisation adopted by the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imulate extensive participation of the local academic and industrial expe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ise local political awareness and particip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38360" y="38088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fig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9CCFE-9186-4BB1-9B77-5B25409FE7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67240" y="581040"/>
            <a:ext cx="2820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371600"/>
            <a:ext cx="784872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ster collaboration in Grid research and technologies between the European Union and at least two Asian countries: China and South Ko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ste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pping of Chinese and South Korea key Grid play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id focused workshops on Research and industrial agen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semination and sustainability through participation in joint projects (FP6 and FP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e co-operation between European and Asian grid commun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lidate capabilities and extend sustainable co-operation with leading Grid actors in As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457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we want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3741-1644-43CF-BC7C-06ED621A2F6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50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eijing Worksh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1 to 23 June 2005 - Beihang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90 participants, 17 from euro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efore EC call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inese, korean and European Grid Program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id middle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id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ols and programming enviro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ssion on co-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unding opportun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C project mechanisms and IPR iss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tworking s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286E-B6EF-422A-B877-7816729242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eijing Workshop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re than 90 participants (16 from Euro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Group1-Grid@Asia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DF08-6092-439C-A55C-5EEC6CD169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s of interest for Ch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Emergency response and disaster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National Geological Survey Grid, Earthquake Prediction, Digital Forestry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Meteorological application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Seis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o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Bioinformatics Application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New Drug Dis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earch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Image Processing Grid, Computational Fluid Dynamics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Data Processing Grid, High-energy Physics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id and indus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Aviation Manufacturing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Transportation Simulation, Intelligent Transportation, Equipment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ltural heritage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Grid for Digital Libra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University Digital Museum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6D48C-9B75-4CDD-A9EF-452280C6EC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hanghai worksh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0 to 22 February 2006 - Shanghai Jioa Tong Univers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ong focus on Grid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mergency response and disaster prediction (Flooding, Climate, diseas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vanced manufacturing Grid supporting extensive collaborative design and sim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ioinformatics Application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w Drug Discove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ffic sim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int Research Institutes (assets and added valu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A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S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inese feedback from past and potential EC Pro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308DC-BF47-4B17-9F5A-47F7A4EDC8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4953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ST Familiarization d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ednesday 22 February from 1.00 to 5.30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rganised by the european Commi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view of International Co-operation activities in DG INF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view of International Co-operation activities in The Shanghai Science and Technology Commi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al submission and evaluation. Instrument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view of Call 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id Technologies targeted research action with Chi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gital Broadcasting / Mobile Convergence targeted research action with Chi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Proposers Forum”: Presentations of proposal id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for participants to discuss and meet other attend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A1296-A05B-4038-9FAE-893A7D112F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on Grid programmes in China and Korea soon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ite to provide information on running joint pro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workshop will be organised in Korea in fall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5867280" cy="4589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828440" y="304560"/>
            <a:ext cx="4724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gridatasia.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D8EB9-A154-45C1-BD78-C3EB9E0E1B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7:11:31Z</dcterms:created>
  <dc:creator>Thierry PRIOL</dc:creator>
  <dc:description/>
  <dc:language>en-US</dc:language>
  <cp:lastModifiedBy>bledante</cp:lastModifiedBy>
  <cp:lastPrinted>2006-01-25T17:04:32Z</cp:lastPrinted>
  <dcterms:modified xsi:type="dcterms:W3CDTF">2006-02-19T14:23:19Z</dcterms:modified>
  <cp:revision>196</cp:revision>
  <dc:subject/>
  <dc:title>CoreGRID: A network of excellence in Grid and P2P Technologies</dc:title>
</cp:coreProperties>
</file>