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5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5.png" ContentType="image/png"/>
  <Override PartName="/ppt/media/image31.png" ContentType="image/png"/>
  <Override PartName="/ppt/media/image54.jpeg" ContentType="image/jpeg"/>
  <Override PartName="/ppt/media/image53.wmf" ContentType="image/x-wmf"/>
  <Override PartName="/ppt/media/image96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33.jpeg" ContentType="image/jpeg"/>
  <Override PartName="/ppt/media/image60.png" ContentType="image/png"/>
  <Override PartName="/ppt/media/image104.png" ContentType="image/png"/>
  <Override PartName="/ppt/media/image97.png" ContentType="image/png"/>
  <Override PartName="/ppt/media/image64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68.wmf" ContentType="image/x-wmf"/>
  <Override PartName="/ppt/media/image71.jpeg" ContentType="image/jpeg"/>
  <Override PartName="/ppt/media/image72.png" ContentType="image/png"/>
  <Override PartName="/ppt/media/image65.png" ContentType="image/png"/>
  <Override PartName="/ppt/media/image73.jpeg" ContentType="image/jpeg"/>
  <Override PartName="/ppt/media/image74.png" ContentType="image/png"/>
  <Override PartName="/ppt/media/image14.png" ContentType="image/png"/>
  <Override PartName="/ppt/media/image106.jpeg" ContentType="image/jpeg"/>
  <Override PartName="/ppt/media/image10.jpeg" ContentType="image/jpeg"/>
  <Override PartName="/ppt/media/image107.png" ContentType="image/png"/>
  <Override PartName="/ppt/media/image63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5.png" ContentType="image/png"/>
  <Override PartName="/ppt/media/image98.png" ContentType="image/png"/>
  <Override PartName="/ppt/media/image90.png" ContentType="image/png"/>
  <Override PartName="/ppt/media/image79.png" ContentType="image/png"/>
  <Override PartName="/ppt/media/image78.png" ContentType="image/png"/>
  <Override PartName="/ppt/media/image103.png" ContentType="image/png"/>
  <Override PartName="/ppt/media/image89.png" ContentType="image/png"/>
  <Override PartName="/ppt/media/image77.png" ContentType="image/png"/>
  <Override PartName="/ppt/media/image62.png" ContentType="image/png"/>
  <Override PartName="/ppt/media/image87.jpeg" ContentType="image/jpeg"/>
  <Override PartName="/ppt/media/image76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24.jpeg" ContentType="image/jpeg"/>
  <Override PartName="/ppt/media/image95.png" ContentType="image/png"/>
  <Override PartName="/ppt/media/image58.png" ContentType="image/png"/>
  <Override PartName="/ppt/media/image88.wmf" ContentType="image/x-wmf"/>
  <Override PartName="/ppt/media/image20.png" ContentType="image/png"/>
  <Override PartName="/ppt/media/image17.png" ContentType="image/png"/>
  <Override PartName="/ppt/media/image82.png" ContentType="image/png"/>
  <Override PartName="/ppt/media/image102.jpeg" ContentType="image/jpeg"/>
  <Override PartName="/ppt/media/image85.png" ContentType="image/png"/>
  <Override PartName="/ppt/media/image23.jpeg" ContentType="image/jpeg"/>
  <Override PartName="/ppt/media/image100.png" ContentType="image/png"/>
  <Override PartName="/ppt/media/image49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94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99.jpeg" ContentType="image/jpe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67C0-060C-4C26-957B-A4398D8E6A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89640" cy="34416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939960" y="4352400"/>
            <a:ext cx="5014800" cy="4140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see step by step the capabilities and the corresponding value they prov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TIMUS offers capabilities to integrate and automate your disperse simulation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n easy to use Graphical User Interface you can “teach” OPTIMUS what the are the constituents of your simulation process. You describe it once; OPTIMUS is capable of running it multipl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matter if this is stress analysis, dynamic, acoustic, cras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matter if this are calculated using Virtual.Lab, ANSYS, NASTRAN, LS-DYNA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US is capable of integrating any simulation attribute coming from any commercial or for that matter internal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910-E774-4E4A-B877-940B4002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E1F-82C8-4632-80D2-081DD8F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1F3-2765-45E5-977B-3407D62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770-6715-4608-8667-683D6B8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D8C-467B-40F3-8FBD-4DEAAE78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504-B589-4D8C-B66E-A1C75699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CA3-3B72-4228-B5EB-07E80DF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A09-CF71-497C-9033-B968F3E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37E-4E3D-4714-89DE-2126F7C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9D3-2C2F-4D5C-9FEB-2186AE1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2F4-9FF8-4CD4-AB1F-9CF929C5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324-97A4-4FE3-84A0-0F84988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4BC19-03E8-4016-AD00-4A75FC86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3E66E-53E1-42D0-A1A5-9C3E40AC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E232B-6A6F-47C9-8AB7-B08C13AB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EF74D-C3C3-4C46-AABE-79555474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44CEF-51D2-4A81-BD21-D407442C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AF3A6-FF37-452F-8C41-3853778E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04D3F-7E00-4B07-9E24-E96125A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48E0E-3AD5-488D-9743-3B2D5EBC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B4B02-F36D-4D85-B3B7-AC966E5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E4BDD-8B23-4AD7-AB91-E2774E3C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092DB-E321-4835-9B10-6EBB8F2E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FB026-271E-408D-B034-FFF3D850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800" y="6583320"/>
            <a:ext cx="350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62120" y="762120"/>
            <a:ext cx="7619760" cy="75960"/>
          </a:xfrm>
          <a:prstGeom prst="rect">
            <a:avLst/>
          </a:prstGeom>
          <a:gradFill rotWithShape="0">
            <a:gsLst>
              <a:gs pos="0">
                <a:srgbClr val="fe1313">
                  <a:alpha val="38039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429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84E7-7865-4388-9A32-8061962737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80" y="611352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3720" y="879480"/>
            <a:ext cx="769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424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93720" y="1600200"/>
            <a:ext cx="76723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23"/>
              </a:lnSpc>
              <a:spcAft>
                <a:spcPts val="1599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24768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24624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5092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03280" y="5616720"/>
            <a:ext cx="858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page </a:t>
            </a:r>
            <a:fld id="{06544016-57A1-46F4-9721-04C0FCAC4566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3720" y="555156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589200">
            <a:off x="748800" y="5639400"/>
            <a:ext cx="1972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Frutiger 55 Roman"/>
              </a:rPr>
              <a:t>SCAI Trottenberg/Tho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Frutiger 55 Roman"/>
              </a:rPr>
              <a:t>Workshop „Grids for Complex Problem Solving“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720" y="81612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10000" y="5616720"/>
            <a:ext cx="1994040" cy="979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3400" y="6529320"/>
            <a:ext cx="12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219-7EC7-4B31-927E-63B2092A2D0A}" type="datetime3">
              <a:rPr b="0" lang="de-DE" sz="800" spc="-1" strike="noStrike">
                <a:solidFill>
                  <a:srgbClr val="000000"/>
                </a:solidFill>
                <a:latin typeface="Arial"/>
              </a:rPr>
              <a:t>30. Juli 20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/</a:t>
            </a:r>
            <a:fld id="{476148B7-7732-4C79-99C2-9519024693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3720" y="816120"/>
            <a:ext cx="769608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24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720" y="81612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450200">
            <a:off x="6005160" y="18489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450200">
            <a:off x="4793760" y="13107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450200">
            <a:off x="3638160" y="79344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450200">
            <a:off x="2468160" y="288720"/>
            <a:ext cx="565200" cy="467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50200">
            <a:off x="1658520" y="354456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450200">
            <a:off x="2542680" y="16394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450200">
            <a:off x="2087280" y="258552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50200">
            <a:off x="1145880" y="468288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9442" t="0" r="-4645" b="0"/>
          <a:stretch/>
        </p:blipFill>
        <p:spPr>
          <a:xfrm>
            <a:off x="3741840" y="6081840"/>
            <a:ext cx="1298520" cy="62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595008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6040" y="6031080"/>
            <a:ext cx="2522880" cy="69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977240" y="6075360"/>
            <a:ext cx="933480" cy="61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3400" y="6613560"/>
            <a:ext cx="43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Arial"/>
              </a:rPr>
              <a:t>© Fraunhofer Institute SCAI and other members of the SIMDAT consort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3400" y="6613560"/>
            <a:ext cx="43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Arial"/>
              </a:rPr>
              <a:t>© Fraunhofer Institute SCAI and other members of the SIMDAT consort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800" y="6583320"/>
            <a:ext cx="350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762120"/>
            <a:ext cx="7619760" cy="75960"/>
          </a:xfrm>
          <a:prstGeom prst="rect">
            <a:avLst/>
          </a:prstGeom>
          <a:gradFill rotWithShape="0">
            <a:gsLst>
              <a:gs pos="0">
                <a:srgbClr val="fe1313">
                  <a:alpha val="38039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7"/>
          </p:nvPr>
        </p:nvSpPr>
        <p:spPr>
          <a:xfrm>
            <a:off x="3429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B195-DFFD-4F0A-8C8F-586DBA28A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080" y="611352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hyperlink" Target="http://www.ibm.com/us/" TargetMode="External"/><Relationship Id="rId5" Type="http://schemas.openxmlformats.org/officeDocument/2006/relationships/image" Target="../media/image72.png"/><Relationship Id="rId6" Type="http://schemas.openxmlformats.org/officeDocument/2006/relationships/image" Target="../media/image73.jpe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wmf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hyperlink" Target="http://www.lionbioscience.com/index_eng.html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hyperlink" Target="http://www.lmsintl.com/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www.ontoprise.de/home_en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hyperlink" Target="http://www.intel.com/index.htm?iid=HPAGE+header_intellogo&amp;" TargetMode="External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hyperlink" Target="http://www.met-office.gov.uk/index.html" TargetMode="External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5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11.pn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image" Target="../media/image101.jpeg"/><Relationship Id="rId6" Type="http://schemas.openxmlformats.org/officeDocument/2006/relationships/image" Target="../media/image102.jpeg"/><Relationship Id="rId7" Type="http://schemas.openxmlformats.org/officeDocument/2006/relationships/image" Target="../media/image103.png"/><Relationship Id="rId8" Type="http://schemas.openxmlformats.org/officeDocument/2006/relationships/image" Target="../media/image35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jpeg"/><Relationship Id="rId12" Type="http://schemas.openxmlformats.org/officeDocument/2006/relationships/image" Target="../media/image98.png"/><Relationship Id="rId13" Type="http://schemas.openxmlformats.org/officeDocument/2006/relationships/image" Target="../media/image107.png"/><Relationship Id="rId14" Type="http://schemas.openxmlformats.org/officeDocument/2006/relationships/image" Target="../media/image108.png"/><Relationship Id="rId15" Type="http://schemas.openxmlformats.org/officeDocument/2006/relationships/image" Target="../media/image11.png"/><Relationship Id="rId16" Type="http://schemas.openxmlformats.org/officeDocument/2006/relationships/image" Target="../media/image108.png"/><Relationship Id="rId17" Type="http://schemas.openxmlformats.org/officeDocument/2006/relationships/image" Target="../media/image107.png"/><Relationship Id="rId18" Type="http://schemas.openxmlformats.org/officeDocument/2006/relationships/image" Target="../media/image107.png"/><Relationship Id="rId19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3.wmf"/><Relationship Id="rId11" Type="http://schemas.openxmlformats.org/officeDocument/2006/relationships/image" Target="../media/image54.jpeg"/><Relationship Id="rId12" Type="http://schemas.openxmlformats.org/officeDocument/2006/relationships/image" Target="../media/image55.png"/><Relationship Id="rId13" Type="http://schemas.openxmlformats.org/officeDocument/2006/relationships/image" Target="../media/image56.jpeg"/><Relationship Id="rId14" Type="http://schemas.openxmlformats.org/officeDocument/2006/relationships/image" Target="../media/image57.pn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SIMDAT</a:t>
            </a:r>
            <a:br>
              <a:rPr sz="3200"/>
            </a:b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ata Grids for Process and Product Development using Numerical Simulation and Knowledg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id@asia second workshop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anghai 20-22 Februa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Clemens-August Tho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raunhofer Institute SCAI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6" name=""/>
          <p:cNvGrpSpPr/>
          <p:nvPr/>
        </p:nvGrpSpPr>
        <p:grpSpPr>
          <a:xfrm>
            <a:off x="143640" y="1297080"/>
            <a:ext cx="5501160" cy="4544280"/>
            <a:chOff x="143640" y="1297080"/>
            <a:chExt cx="5501160" cy="4544280"/>
          </a:xfrm>
        </p:grpSpPr>
        <p:sp>
          <p:nvSpPr>
            <p:cNvPr id="2627" name=""/>
            <p:cNvSpPr/>
            <p:nvPr/>
          </p:nvSpPr>
          <p:spPr>
            <a:xfrm>
              <a:off x="1959840" y="2558160"/>
              <a:ext cx="1798560" cy="14860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1486080"/>
                <a:gd name="textAreaBottom" fmla="*/ 148644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 flipV="1">
              <a:off x="1976760" y="2916720"/>
              <a:ext cx="1798560" cy="1486080"/>
            </a:xfrm>
            <a:custGeom>
              <a:avLst/>
              <a:gdLst>
                <a:gd name="textAreaLeft" fmla="*/ 360 w 1798560"/>
                <a:gd name="textAreaRight" fmla="*/ 1799280 w 1798560"/>
                <a:gd name="textAreaTop" fmla="*/ 360 h 1486080"/>
                <a:gd name="textAreaBottom" fmla="*/ 148680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725840" y="4437000"/>
              <a:ext cx="2358720" cy="1404360"/>
              <a:chOff x="1725840" y="4437000"/>
              <a:chExt cx="2358720" cy="1404360"/>
            </a:xfrm>
          </p:grpSpPr>
          <p:sp>
            <p:nvSpPr>
              <p:cNvPr id="2630" name=""/>
              <p:cNvSpPr/>
              <p:nvPr/>
            </p:nvSpPr>
            <p:spPr>
              <a:xfrm>
                <a:off x="1725840" y="4437000"/>
                <a:ext cx="2358720" cy="375480"/>
              </a:xfrm>
              <a:prstGeom prst="rect">
                <a:avLst/>
              </a:prstGeom>
              <a:solidFill>
                <a:srgbClr val="cc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E-Integration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742400" y="4992120"/>
                <a:ext cx="1329840" cy="341280"/>
              </a:xfrm>
              <a:prstGeom prst="rect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759320" y="5500080"/>
                <a:ext cx="40968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904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7912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15576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62448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959840" y="5316480"/>
                <a:ext cx="0" cy="23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411640" y="532512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854800" y="530784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419920" y="478692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65280" y="4795560"/>
                <a:ext cx="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791520" y="4804200"/>
                <a:ext cx="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143640" y="1308240"/>
              <a:ext cx="2383200" cy="2713320"/>
              <a:chOff x="143640" y="1308240"/>
              <a:chExt cx="2383200" cy="2713320"/>
            </a:xfrm>
          </p:grpSpPr>
          <p:sp>
            <p:nvSpPr>
              <p:cNvPr id="2644" name=""/>
              <p:cNvSpPr/>
              <p:nvPr/>
            </p:nvSpPr>
            <p:spPr>
              <a:xfrm rot="18000000">
                <a:off x="595080" y="2718000"/>
                <a:ext cx="2358720" cy="37584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D-Integration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rot="18000000">
                <a:off x="389160" y="2912400"/>
                <a:ext cx="1329840" cy="3412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rot="18000000">
                <a:off x="188640" y="3043440"/>
                <a:ext cx="40968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rot="18000000">
                <a:off x="415800" y="2637360"/>
                <a:ext cx="410040" cy="341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18000000">
                <a:off x="645120" y="2232720"/>
                <a:ext cx="41004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rot="18000000">
                <a:off x="882000" y="1812960"/>
                <a:ext cx="41004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rot="18000000">
                <a:off x="1113480" y="1400400"/>
                <a:ext cx="40968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18760" y="3273480"/>
                <a:ext cx="19980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49880" y="2881080"/>
                <a:ext cx="19980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954720" y="2482200"/>
                <a:ext cx="19944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191240" y="3181680"/>
                <a:ext cx="19944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240560" y="2073960"/>
                <a:ext cx="606240" cy="34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472400" y="1662840"/>
                <a:ext cx="606240" cy="34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7" name=""/>
            <p:cNvSpPr/>
            <p:nvPr/>
          </p:nvSpPr>
          <p:spPr>
            <a:xfrm rot="3600000">
              <a:off x="2834280" y="2756880"/>
              <a:ext cx="2408400" cy="367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-Integration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3600000">
              <a:off x="3566160" y="2045880"/>
              <a:ext cx="1357560" cy="334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3600000">
              <a:off x="4250880" y="139464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3600000">
              <a:off x="4482360" y="180144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3600000">
              <a:off x="4710960" y="220860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3600000">
              <a:off x="4950000" y="2631240"/>
              <a:ext cx="418680" cy="3348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3600000">
              <a:off x="5185800" y="3043440"/>
              <a:ext cx="418320" cy="3348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>
              <a:off x="4152600" y="1646280"/>
              <a:ext cx="1954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4371120" y="2049120"/>
              <a:ext cx="1954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4608360" y="2431800"/>
              <a:ext cx="19548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3897360" y="2288160"/>
              <a:ext cx="19548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4411800" y="2897640"/>
              <a:ext cx="5936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4646160" y="3310560"/>
              <a:ext cx="5936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70" name=""/>
            <p:cNvCxnSpPr>
              <a:stCxn id="2644" idx="2"/>
              <a:endCxn id="2657" idx="2"/>
            </p:cNvCxnSpPr>
            <p:nvPr/>
          </p:nvCxnSpPr>
          <p:spPr>
            <a:xfrm>
              <a:off x="1929240" y="2998080"/>
              <a:ext cx="1949760" cy="36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1" name=""/>
            <p:cNvCxnSpPr>
              <a:stCxn id="2644" idx="2"/>
              <a:endCxn id="2630" idx="0"/>
            </p:cNvCxnSpPr>
            <p:nvPr/>
          </p:nvCxnSpPr>
          <p:spPr>
            <a:xfrm>
              <a:off x="1928880" y="2997720"/>
              <a:ext cx="976680" cy="1439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2" name=""/>
            <p:cNvCxnSpPr>
              <a:stCxn id="2657" idx="2"/>
              <a:endCxn id="2630" idx="0"/>
            </p:cNvCxnSpPr>
            <p:nvPr/>
          </p:nvCxnSpPr>
          <p:spPr>
            <a:xfrm flipH="1">
              <a:off x="2904480" y="3033360"/>
              <a:ext cx="973800" cy="1404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73" name=""/>
            <p:cNvSpPr/>
            <p:nvPr/>
          </p:nvSpPr>
          <p:spPr>
            <a:xfrm>
              <a:off x="2341800" y="3183120"/>
              <a:ext cx="1198800" cy="5814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4" name=""/>
          <p:cNvSpPr/>
          <p:nvPr/>
        </p:nvSpPr>
        <p:spPr>
          <a:xfrm>
            <a:off x="5491080" y="1600200"/>
            <a:ext cx="3497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The challenge of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tegrating different disciplines (CAD, CAE, CAT) as well as different locations and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5" name="" descr=""/>
          <p:cNvPicPr/>
          <p:nvPr/>
        </p:nvPicPr>
        <p:blipFill>
          <a:blip r:embed="rId1"/>
          <a:stretch/>
        </p:blipFill>
        <p:spPr>
          <a:xfrm>
            <a:off x="5475240" y="3971880"/>
            <a:ext cx="2979720" cy="1925640"/>
          </a:xfrm>
          <a:prstGeom prst="rect">
            <a:avLst/>
          </a:prstGeom>
          <a:ln w="0">
            <a:noFill/>
          </a:ln>
        </p:spPr>
      </p:pic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Grid challenges in automotive indust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hievement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34520" y="1390680"/>
            <a:ext cx="4762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 services infrastruct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ributed data ac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tologies implem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-1 = Ontology Proto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ysis Services infrastructure implem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wledge Services stand-alone to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79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419640" cy="1830600"/>
          </a:xfrm>
          <a:prstGeom prst="rect">
            <a:avLst/>
          </a:prstGeom>
          <a:ln w="0">
            <a:noFill/>
          </a:ln>
        </p:spPr>
      </p:pic>
      <p:pic>
        <p:nvPicPr>
          <p:cNvPr id="2680" name="" descr=""/>
          <p:cNvPicPr/>
          <p:nvPr/>
        </p:nvPicPr>
        <p:blipFill>
          <a:blip r:embed="rId2"/>
          <a:stretch/>
        </p:blipFill>
        <p:spPr>
          <a:xfrm>
            <a:off x="5076720" y="1671480"/>
            <a:ext cx="3929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5267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ring it all togeth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mote curve extraction servi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gration of knowledge services too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parison report CAE/C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ssons lear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ringing end-user and Grid technology requirements together is challeng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83" name="" descr=""/>
          <p:cNvPicPr/>
          <p:nvPr/>
        </p:nvPicPr>
        <p:blipFill>
          <a:blip r:embed="rId1"/>
          <a:stretch/>
        </p:blipFill>
        <p:spPr>
          <a:xfrm>
            <a:off x="6156360" y="1514520"/>
            <a:ext cx="2736720" cy="1914480"/>
          </a:xfrm>
          <a:prstGeom prst="rect">
            <a:avLst/>
          </a:prstGeom>
          <a:ln w="0">
            <a:noFill/>
          </a:ln>
        </p:spPr>
      </p:pic>
      <p:pic>
        <p:nvPicPr>
          <p:cNvPr id="2684" name="" descr=""/>
          <p:cNvPicPr/>
          <p:nvPr/>
        </p:nvPicPr>
        <p:blipFill>
          <a:blip r:embed="rId2"/>
          <a:stretch/>
        </p:blipFill>
        <p:spPr>
          <a:xfrm>
            <a:off x="6156360" y="3602160"/>
            <a:ext cx="2736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"/>
          <p:cNvSpPr/>
          <p:nvPr/>
        </p:nvSpPr>
        <p:spPr>
          <a:xfrm>
            <a:off x="7696080" y="6630840"/>
            <a:ext cx="312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39640" y="1773360"/>
            <a:ext cx="658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Broker™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ferenc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Edit™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Map™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ntology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612720" y="5337000"/>
            <a:ext cx="8207280" cy="642600"/>
            <a:chOff x="612720" y="5337000"/>
            <a:chExt cx="8207280" cy="642600"/>
          </a:xfrm>
        </p:grpSpPr>
        <p:sp>
          <p:nvSpPr>
            <p:cNvPr id="2688" name=""/>
            <p:cNvSpPr/>
            <p:nvPr/>
          </p:nvSpPr>
          <p:spPr>
            <a:xfrm rot="5400000">
              <a:off x="576000" y="5410080"/>
              <a:ext cx="576360" cy="50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26920" y="533700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presentation Language: F-Logi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tandards: RDF, 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Ontology Tool Infrastructu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chitecture for Auto-1-Demonstr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34960" y="1773360"/>
            <a:ext cx="8072640" cy="1800000"/>
          </a:xfrm>
          <a:prstGeom prst="rect">
            <a:avLst/>
          </a:prstGeom>
          <a:solidFill>
            <a:srgbClr val="6bb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684360" y="4292640"/>
            <a:ext cx="2016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SC.Sim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003320" y="3284640"/>
            <a:ext cx="1368360" cy="43164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im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564000" y="4292640"/>
            <a:ext cx="2016000" cy="15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gmt.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e.g. Falc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isVer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MS Tec.Man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87640" y="3284640"/>
            <a:ext cx="1368720" cy="43164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6453360" y="4292640"/>
            <a:ext cx="2016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th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e.g. P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659640" y="3284640"/>
            <a:ext cx="1368360" cy="43164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Other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24008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1403280" y="3719520"/>
            <a:ext cx="504720" cy="573120"/>
            <a:chOff x="1403280" y="3719520"/>
            <a:chExt cx="504720" cy="573120"/>
          </a:xfrm>
        </p:grpSpPr>
        <p:sp>
          <p:nvSpPr>
            <p:cNvPr id="2701" name=""/>
            <p:cNvSpPr/>
            <p:nvPr/>
          </p:nvSpPr>
          <p:spPr>
            <a:xfrm flipV="1">
              <a:off x="1403280" y="3720240"/>
              <a:ext cx="0" cy="57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908000" y="3719520"/>
              <a:ext cx="0" cy="57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4319640" y="3718080"/>
            <a:ext cx="504720" cy="574560"/>
            <a:chOff x="4319640" y="3718080"/>
            <a:chExt cx="504720" cy="574560"/>
          </a:xfrm>
        </p:grpSpPr>
        <p:sp>
          <p:nvSpPr>
            <p:cNvPr id="2704" name=""/>
            <p:cNvSpPr/>
            <p:nvPr/>
          </p:nvSpPr>
          <p:spPr>
            <a:xfrm flipV="1">
              <a:off x="4319640" y="3718800"/>
              <a:ext cx="0" cy="57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24360" y="3718080"/>
              <a:ext cx="0" cy="57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7093080" y="3716280"/>
            <a:ext cx="504720" cy="576360"/>
            <a:chOff x="7093080" y="3716280"/>
            <a:chExt cx="504720" cy="576360"/>
          </a:xfrm>
        </p:grpSpPr>
        <p:sp>
          <p:nvSpPr>
            <p:cNvPr id="2707" name=""/>
            <p:cNvSpPr/>
            <p:nvPr/>
          </p:nvSpPr>
          <p:spPr>
            <a:xfrm flipV="1">
              <a:off x="7093080" y="3716640"/>
              <a:ext cx="0" cy="57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597800" y="3716280"/>
              <a:ext cx="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9" name=""/>
          <p:cNvSpPr/>
          <p:nvPr/>
        </p:nvSpPr>
        <p:spPr>
          <a:xfrm>
            <a:off x="900000" y="2133720"/>
            <a:ext cx="7272360" cy="43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Semantic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(Search and Ontology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2556000" y="2708280"/>
            <a:ext cx="396072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Transport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(Usage of GRID-Frameworks, e.g. G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1403280" y="2565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908000" y="2565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7162920" y="2565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7667640" y="2565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-36360" y="2708280"/>
            <a:ext cx="15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comm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0" y="3716280"/>
            <a:ext cx="154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the  language of adapt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7667640" y="27558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comm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7704000" y="372600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the  language of adapt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2411280" y="3213000"/>
            <a:ext cx="57636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938920" y="3213000"/>
            <a:ext cx="649080" cy="325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2124000" y="299700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H="1" flipV="1">
            <a:off x="6588000" y="299700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PTIMUS Process Automation - Work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34520" y="1390680"/>
            <a:ext cx="31496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pture existing simulation proces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ameteriz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scribe once, execute many ti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351000" y="5105520"/>
            <a:ext cx="136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26" name="" descr=""/>
          <p:cNvPicPr/>
          <p:nvPr/>
        </p:nvPicPr>
        <p:blipFill>
          <a:blip r:embed="rId1"/>
          <a:stretch/>
        </p:blipFill>
        <p:spPr>
          <a:xfrm>
            <a:off x="3884760" y="1295280"/>
            <a:ext cx="5048280" cy="4016520"/>
          </a:xfrm>
          <a:prstGeom prst="rect">
            <a:avLst/>
          </a:prstGeom>
          <a:ln w="0">
            <a:noFill/>
          </a:ln>
        </p:spPr>
      </p:pic>
      <p:sp>
        <p:nvSpPr>
          <p:cNvPr id="2727" name=""/>
          <p:cNvSpPr/>
          <p:nvPr/>
        </p:nvSpPr>
        <p:spPr>
          <a:xfrm>
            <a:off x="2666880" y="5410080"/>
            <a:ext cx="647712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c” description of Si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/>
          <p:nvPr/>
        </p:nvSpPr>
        <p:spPr>
          <a:xfrm>
            <a:off x="557280" y="2200320"/>
            <a:ext cx="8059680" cy="37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715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ew on the implementation for the SIMDAT Auto-2 Proto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1832040" y="2286000"/>
            <a:ext cx="5508360" cy="3504960"/>
            <a:chOff x="1832040" y="2286000"/>
            <a:chExt cx="5508360" cy="3504960"/>
          </a:xfrm>
        </p:grpSpPr>
        <p:sp>
          <p:nvSpPr>
            <p:cNvPr id="2732" name=""/>
            <p:cNvSpPr/>
            <p:nvPr/>
          </p:nvSpPr>
          <p:spPr>
            <a:xfrm>
              <a:off x="1832040" y="2286000"/>
              <a:ext cx="1281600" cy="101700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984400" y="4773600"/>
              <a:ext cx="3011400" cy="1017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ffffff"/>
                  </a:solidFill>
                  <a:latin typeface="Tahoma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176640" y="5056560"/>
              <a:ext cx="2305800" cy="677520"/>
            </a:xfrm>
            <a:prstGeom prst="flowChartMultidocument">
              <a:avLst/>
            </a:prstGeom>
            <a:solidFill>
              <a:srgbClr val="00999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registration 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5" name=""/>
            <p:cNvGrpSpPr/>
            <p:nvPr/>
          </p:nvGrpSpPr>
          <p:grpSpPr>
            <a:xfrm>
              <a:off x="3113640" y="4433400"/>
              <a:ext cx="768240" cy="368280"/>
              <a:chOff x="3113640" y="4433400"/>
              <a:chExt cx="768240" cy="368280"/>
            </a:xfrm>
          </p:grpSpPr>
          <p:sp>
            <p:nvSpPr>
              <p:cNvPr id="2736" name=""/>
              <p:cNvSpPr/>
              <p:nvPr/>
            </p:nvSpPr>
            <p:spPr>
              <a:xfrm>
                <a:off x="3113640" y="4434120"/>
                <a:ext cx="768240" cy="339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113640" y="4433400"/>
                <a:ext cx="76824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Publish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terfa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034600" y="4433400"/>
              <a:ext cx="768600" cy="368280"/>
              <a:chOff x="5034600" y="4433400"/>
              <a:chExt cx="768600" cy="368280"/>
            </a:xfrm>
          </p:grpSpPr>
          <p:sp>
            <p:nvSpPr>
              <p:cNvPr id="2739" name=""/>
              <p:cNvSpPr/>
              <p:nvPr/>
            </p:nvSpPr>
            <p:spPr>
              <a:xfrm>
                <a:off x="5034600" y="4434120"/>
                <a:ext cx="768600" cy="339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034600" y="4433400"/>
                <a:ext cx="7686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quiry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terfa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1" name=""/>
            <p:cNvSpPr/>
            <p:nvPr/>
          </p:nvSpPr>
          <p:spPr>
            <a:xfrm>
              <a:off x="3113640" y="2568600"/>
              <a:ext cx="576000" cy="4514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GRIA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messag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handl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482800" y="2568600"/>
              <a:ext cx="576000" cy="4514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messag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handl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959840" y="2624760"/>
              <a:ext cx="1024200" cy="565560"/>
            </a:xfrm>
            <a:prstGeom prst="flowChartMultidocument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Web servic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4" name=""/>
            <p:cNvGrpSpPr/>
            <p:nvPr/>
          </p:nvGrpSpPr>
          <p:grpSpPr>
            <a:xfrm>
              <a:off x="2736000" y="3303000"/>
              <a:ext cx="760680" cy="1130040"/>
              <a:chOff x="2736000" y="3303000"/>
              <a:chExt cx="760680" cy="1130040"/>
            </a:xfrm>
          </p:grpSpPr>
          <p:sp>
            <p:nvSpPr>
              <p:cNvPr id="2745" name=""/>
              <p:cNvSpPr/>
              <p:nvPr/>
            </p:nvSpPr>
            <p:spPr>
              <a:xfrm>
                <a:off x="2736000" y="3834000"/>
                <a:ext cx="59976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publis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112560" y="3303000"/>
                <a:ext cx="384120" cy="11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7" name=""/>
            <p:cNvGrpSpPr/>
            <p:nvPr/>
          </p:nvGrpSpPr>
          <p:grpSpPr>
            <a:xfrm>
              <a:off x="5407200" y="3303000"/>
              <a:ext cx="640440" cy="1130040"/>
              <a:chOff x="5407200" y="3303000"/>
              <a:chExt cx="640440" cy="1130040"/>
            </a:xfrm>
          </p:grpSpPr>
          <p:sp>
            <p:nvSpPr>
              <p:cNvPr id="2748" name=""/>
              <p:cNvSpPr/>
              <p:nvPr/>
            </p:nvSpPr>
            <p:spPr>
              <a:xfrm flipH="1">
                <a:off x="5407200" y="3303000"/>
                <a:ext cx="640440" cy="11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425560" y="3394800"/>
                <a:ext cx="55872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searc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5675400" y="3302640"/>
              <a:ext cx="1037160" cy="1219680"/>
              <a:chOff x="5675400" y="3302640"/>
              <a:chExt cx="1037160" cy="1219680"/>
            </a:xfrm>
          </p:grpSpPr>
          <p:sp>
            <p:nvSpPr>
              <p:cNvPr id="2751" name=""/>
              <p:cNvSpPr/>
              <p:nvPr/>
            </p:nvSpPr>
            <p:spPr>
              <a:xfrm flipV="1">
                <a:off x="5675400" y="3302640"/>
                <a:ext cx="639720" cy="11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888880" y="4016880"/>
                <a:ext cx="823680" cy="50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description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and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defini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3" name=""/>
            <p:cNvGrpSpPr/>
            <p:nvPr/>
          </p:nvGrpSpPr>
          <p:grpSpPr>
            <a:xfrm>
              <a:off x="3689640" y="2907360"/>
              <a:ext cx="1792800" cy="266400"/>
              <a:chOff x="3689640" y="2907360"/>
              <a:chExt cx="1792800" cy="266400"/>
            </a:xfrm>
          </p:grpSpPr>
          <p:sp>
            <p:nvSpPr>
              <p:cNvPr id="2754" name=""/>
              <p:cNvSpPr/>
              <p:nvPr/>
            </p:nvSpPr>
            <p:spPr>
              <a:xfrm flipH="1">
                <a:off x="3689640" y="2907360"/>
                <a:ext cx="1792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907880" y="2942640"/>
                <a:ext cx="48708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pu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6" name=""/>
            <p:cNvGrpSpPr/>
            <p:nvPr/>
          </p:nvGrpSpPr>
          <p:grpSpPr>
            <a:xfrm>
              <a:off x="3689640" y="2433600"/>
              <a:ext cx="1792800" cy="231120"/>
              <a:chOff x="3689640" y="2433600"/>
              <a:chExt cx="1792800" cy="231120"/>
            </a:xfrm>
          </p:grpSpPr>
          <p:sp>
            <p:nvSpPr>
              <p:cNvPr id="2757" name=""/>
              <p:cNvSpPr/>
              <p:nvPr/>
            </p:nvSpPr>
            <p:spPr>
              <a:xfrm>
                <a:off x="3689640" y="2624400"/>
                <a:ext cx="1792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760560" y="2433600"/>
                <a:ext cx="57240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outpu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9" name=""/>
            <p:cNvGrpSpPr/>
            <p:nvPr/>
          </p:nvGrpSpPr>
          <p:grpSpPr>
            <a:xfrm>
              <a:off x="6058800" y="2286000"/>
              <a:ext cx="1281600" cy="1017000"/>
              <a:chOff x="6058800" y="2286000"/>
              <a:chExt cx="1281600" cy="1017000"/>
            </a:xfrm>
          </p:grpSpPr>
          <p:sp>
            <p:nvSpPr>
              <p:cNvPr id="2760" name=""/>
              <p:cNvSpPr/>
              <p:nvPr/>
            </p:nvSpPr>
            <p:spPr>
              <a:xfrm>
                <a:off x="6058800" y="2286000"/>
                <a:ext cx="1281600" cy="101700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200" spc="-1" strike="noStrike">
                    <a:solidFill>
                      <a:srgbClr val="ffffff"/>
                    </a:solidFill>
                    <a:latin typeface="Tahoma"/>
                  </a:rPr>
                  <a:t>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9360" y="2568240"/>
                <a:ext cx="1139760" cy="710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</p:grpSp>
      <p:sp>
        <p:nvSpPr>
          <p:cNvPr id="2762" name=""/>
          <p:cNvSpPr/>
          <p:nvPr/>
        </p:nvSpPr>
        <p:spPr>
          <a:xfrm>
            <a:off x="1042920" y="3357720"/>
            <a:ext cx="6985080" cy="2592360"/>
          </a:xfrm>
          <a:prstGeom prst="rect">
            <a:avLst/>
          </a:prstGeom>
          <a:blipFill rotWithShape="0">
            <a:blip r:embed="rId2">
              <a:alphaModFix amt="2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"/>
          <p:cNvSpPr/>
          <p:nvPr/>
        </p:nvSpPr>
        <p:spPr>
          <a:xfrm>
            <a:off x="6199200" y="1239840"/>
            <a:ext cx="2944800" cy="4557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68360" y="274680"/>
            <a:ext cx="8207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ation Timeline (until PM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5699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TIMUS Workflow definition via GRIA based Web-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st implementation delivered by 18 May 2005 (SIMDAT meeting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laboration with AUDI and MSC for demonstrator deployment - mid-July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type finalized - end-August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6" name="" descr=""/>
          <p:cNvPicPr/>
          <p:nvPr/>
        </p:nvPicPr>
        <p:blipFill>
          <a:blip r:embed="rId1"/>
          <a:srcRect l="52737" t="0" r="0" b="0"/>
          <a:stretch/>
        </p:blipFill>
        <p:spPr>
          <a:xfrm>
            <a:off x="6516720" y="1268280"/>
            <a:ext cx="2592360" cy="4567320"/>
          </a:xfrm>
          <a:prstGeom prst="rect">
            <a:avLst/>
          </a:prstGeom>
          <a:ln w="0">
            <a:noFill/>
          </a:ln>
        </p:spPr>
      </p:pic>
      <p:sp>
        <p:nvSpPr>
          <p:cNvPr id="2767" name=""/>
          <p:cNvSpPr/>
          <p:nvPr/>
        </p:nvSpPr>
        <p:spPr>
          <a:xfrm>
            <a:off x="6732720" y="1393920"/>
            <a:ext cx="934920" cy="2395440"/>
          </a:xfrm>
          <a:custGeom>
            <a:avLst/>
            <a:gdLst/>
            <a:ahLst/>
            <a:rect l="l" t="t" r="r" b="b"/>
            <a:pathLst>
              <a:path w="589" h="1509">
                <a:moveTo>
                  <a:pt x="589" y="1509"/>
                </a:moveTo>
                <a:lnTo>
                  <a:pt x="0" y="1509"/>
                </a:lnTo>
                <a:lnTo>
                  <a:pt x="1" y="0"/>
                </a:lnTo>
                <a:lnTo>
                  <a:pt x="23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to-3 prototype : architectu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5956200" y="1254240"/>
            <a:ext cx="1706760" cy="156528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1298520" y="1273320"/>
            <a:ext cx="1716120" cy="157140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z990"/>
          <p:cNvPicPr/>
          <p:nvPr/>
        </p:nvPicPr>
        <p:blipFill>
          <a:blip r:embed="rId3"/>
          <a:srcRect l="0" t="6570" r="0" b="2185"/>
          <a:stretch/>
        </p:blipFill>
        <p:spPr>
          <a:xfrm>
            <a:off x="4008600" y="4545000"/>
            <a:ext cx="1290600" cy="1362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772" name=""/>
          <p:cNvSpPr/>
          <p:nvPr/>
        </p:nvSpPr>
        <p:spPr>
          <a:xfrm>
            <a:off x="3990960" y="4229280"/>
            <a:ext cx="1878120" cy="284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139200" y="3941640"/>
            <a:ext cx="111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ust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rot="5400000">
            <a:off x="4428360" y="-869400"/>
            <a:ext cx="287280" cy="8785440"/>
          </a:xfrm>
          <a:prstGeom prst="can">
            <a:avLst>
              <a:gd name="adj" fmla="val 1643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835280" y="2784600"/>
            <a:ext cx="287280" cy="517320"/>
          </a:xfrm>
          <a:prstGeom prst="upDownArrow">
            <a:avLst>
              <a:gd name="adj1" fmla="val 50000"/>
              <a:gd name="adj2" fmla="val 35848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500720" y="3719520"/>
            <a:ext cx="287280" cy="500040"/>
          </a:xfrm>
          <a:prstGeom prst="upDownArrow">
            <a:avLst>
              <a:gd name="adj1" fmla="val 50000"/>
              <a:gd name="adj2" fmla="val 34651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432720" y="337176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VPN – ftp / http / ssh secured protoc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798720" y="5127480"/>
            <a:ext cx="773280" cy="72576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9" name="" descr="IBM®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02120" y="4557600"/>
            <a:ext cx="576360" cy="273240"/>
          </a:xfrm>
          <a:prstGeom prst="rect">
            <a:avLst/>
          </a:prstGeom>
          <a:ln w="0">
            <a:noFill/>
          </a:ln>
        </p:spPr>
      </p:pic>
      <p:grpSp>
        <p:nvGrpSpPr>
          <p:cNvPr id="2780" name=""/>
          <p:cNvGrpSpPr/>
          <p:nvPr/>
        </p:nvGrpSpPr>
        <p:grpSpPr>
          <a:xfrm>
            <a:off x="4890960" y="5057640"/>
            <a:ext cx="968400" cy="787680"/>
            <a:chOff x="4890960" y="5057640"/>
            <a:chExt cx="968400" cy="787680"/>
          </a:xfrm>
        </p:grpSpPr>
        <p:sp>
          <p:nvSpPr>
            <p:cNvPr id="2781" name=""/>
            <p:cNvSpPr/>
            <p:nvPr/>
          </p:nvSpPr>
          <p:spPr>
            <a:xfrm>
              <a:off x="4890960" y="5568840"/>
              <a:ext cx="9684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PAM-CR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2" name="" descr=""/>
            <p:cNvPicPr/>
            <p:nvPr/>
          </p:nvPicPr>
          <p:blipFill>
            <a:blip r:embed="rId6"/>
            <a:stretch/>
          </p:blipFill>
          <p:spPr>
            <a:xfrm>
              <a:off x="4902120" y="5057640"/>
              <a:ext cx="952560" cy="504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783" name=""/>
          <p:cNvSpPr/>
          <p:nvPr/>
        </p:nvSpPr>
        <p:spPr>
          <a:xfrm>
            <a:off x="7245720" y="1335240"/>
            <a:ext cx="686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916600" y="2476440"/>
            <a:ext cx="1576440" cy="2858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7170840" y="2190600"/>
            <a:ext cx="753840" cy="319320"/>
          </a:xfrm>
          <a:prstGeom prst="hexagon">
            <a:avLst>
              <a:gd name="adj" fmla="val 590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 Narrow"/>
              </a:rPr>
              <a:t>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7259760" y="2201760"/>
            <a:ext cx="577800" cy="16992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rcRect l="0" t="0" r="60522" b="-10138"/>
          <a:stretch/>
        </p:blipFill>
        <p:spPr>
          <a:xfrm>
            <a:off x="5964120" y="2508120"/>
            <a:ext cx="857520" cy="24444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rcRect l="0" t="0" r="60522" b="-10138"/>
          <a:stretch/>
        </p:blipFill>
        <p:spPr>
          <a:xfrm>
            <a:off x="4183200" y="4264200"/>
            <a:ext cx="857160" cy="244440"/>
          </a:xfrm>
          <a:prstGeom prst="rect">
            <a:avLst/>
          </a:prstGeom>
          <a:ln w="0">
            <a:noFill/>
          </a:ln>
        </p:spPr>
      </p:pic>
      <p:sp>
        <p:nvSpPr>
          <p:cNvPr id="2789" name=""/>
          <p:cNvSpPr/>
          <p:nvPr/>
        </p:nvSpPr>
        <p:spPr>
          <a:xfrm>
            <a:off x="600120" y="286236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itiateProject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2070000" y="2860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GetProjectResults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151600" y="288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GetProjectInput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826320" y="273204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Assemble&amp;SimulateCras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826320" y="3046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DeliverProjectResul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6792840" y="4118040"/>
            <a:ext cx="995400" cy="1301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865840" y="4127400"/>
            <a:ext cx="923760" cy="1738440"/>
          </a:xfrm>
          <a:custGeom>
            <a:avLst/>
            <a:gdLst/>
            <a:ahLst/>
            <a:rect l="l" t="t" r="r" b="b"/>
            <a:pathLst>
              <a:path w="582" h="1095">
                <a:moveTo>
                  <a:pt x="0" y="583"/>
                </a:moveTo>
                <a:lnTo>
                  <a:pt x="582" y="0"/>
                </a:lnTo>
                <a:lnTo>
                  <a:pt x="582" y="1095"/>
                </a:lnTo>
                <a:lnTo>
                  <a:pt x="0" y="890"/>
                </a:lnTo>
                <a:lnTo>
                  <a:pt x="0" y="583"/>
                </a:lnTo>
                <a:close/>
              </a:path>
            </a:pathLst>
          </a:custGeom>
          <a:solidFill>
            <a:srgbClr val="a5a8d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6792840" y="5016600"/>
            <a:ext cx="995400" cy="8841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792840" y="4746600"/>
            <a:ext cx="997200" cy="768240"/>
          </a:xfrm>
          <a:prstGeom prst="flowChartPunchedTape">
            <a:avLst/>
          </a:prstGeom>
          <a:solidFill>
            <a:srgbClr val="3333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-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916560" y="1335240"/>
            <a:ext cx="468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9" name="" descr=""/>
          <p:cNvPicPr/>
          <p:nvPr/>
        </p:nvPicPr>
        <p:blipFill>
          <a:blip r:embed="rId10"/>
          <a:stretch/>
        </p:blipFill>
        <p:spPr>
          <a:xfrm>
            <a:off x="2703600" y="1325520"/>
            <a:ext cx="1143000" cy="198360"/>
          </a:xfrm>
          <a:prstGeom prst="rect">
            <a:avLst/>
          </a:prstGeom>
          <a:ln w="0">
            <a:noFill/>
          </a:ln>
        </p:spPr>
      </p:pic>
      <p:sp>
        <p:nvSpPr>
          <p:cNvPr id="2800" name=""/>
          <p:cNvSpPr/>
          <p:nvPr/>
        </p:nvSpPr>
        <p:spPr>
          <a:xfrm>
            <a:off x="1219320" y="2495520"/>
            <a:ext cx="1576440" cy="2858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473200" y="2209680"/>
            <a:ext cx="754200" cy="319320"/>
          </a:xfrm>
          <a:prstGeom prst="hexagon">
            <a:avLst>
              <a:gd name="adj" fmla="val 5904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 Narrow"/>
              </a:rPr>
              <a:t>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2" name="" descr=""/>
          <p:cNvPicPr/>
          <p:nvPr/>
        </p:nvPicPr>
        <p:blipFill>
          <a:blip r:embed="rId11"/>
          <a:stretch/>
        </p:blipFill>
        <p:spPr>
          <a:xfrm>
            <a:off x="2562120" y="2220840"/>
            <a:ext cx="577800" cy="169920"/>
          </a:xfrm>
          <a:prstGeom prst="rect">
            <a:avLst/>
          </a:prstGeom>
          <a:ln w="0">
            <a:noFill/>
          </a:ln>
        </p:spPr>
      </p:pic>
      <p:pic>
        <p:nvPicPr>
          <p:cNvPr id="2803" name="" descr=""/>
          <p:cNvPicPr/>
          <p:nvPr/>
        </p:nvPicPr>
        <p:blipFill>
          <a:blip r:embed="rId12"/>
          <a:srcRect l="0" t="0" r="60522" b="-10138"/>
          <a:stretch/>
        </p:blipFill>
        <p:spPr>
          <a:xfrm>
            <a:off x="1266840" y="2527200"/>
            <a:ext cx="857160" cy="244440"/>
          </a:xfrm>
          <a:prstGeom prst="rect">
            <a:avLst/>
          </a:prstGeom>
          <a:ln w="0">
            <a:noFill/>
          </a:ln>
        </p:spPr>
      </p:pic>
      <p:pic>
        <p:nvPicPr>
          <p:cNvPr id="2804" name="" descr=""/>
          <p:cNvPicPr/>
          <p:nvPr/>
        </p:nvPicPr>
        <p:blipFill>
          <a:blip r:embed="rId13"/>
          <a:stretch/>
        </p:blipFill>
        <p:spPr>
          <a:xfrm>
            <a:off x="5311800" y="1285920"/>
            <a:ext cx="677880" cy="784080"/>
          </a:xfrm>
          <a:prstGeom prst="rect">
            <a:avLst/>
          </a:prstGeom>
          <a:ln w="0">
            <a:noFill/>
          </a:ln>
        </p:spPr>
      </p:pic>
      <p:pic>
        <p:nvPicPr>
          <p:cNvPr id="2805" name="" descr=""/>
          <p:cNvPicPr/>
          <p:nvPr/>
        </p:nvPicPr>
        <p:blipFill>
          <a:blip r:embed="rId14"/>
          <a:stretch/>
        </p:blipFill>
        <p:spPr>
          <a:xfrm>
            <a:off x="316080" y="3997440"/>
            <a:ext cx="2035080" cy="1508040"/>
          </a:xfrm>
          <a:prstGeom prst="rect">
            <a:avLst/>
          </a:prstGeom>
          <a:ln w="0">
            <a:noFill/>
          </a:ln>
        </p:spPr>
      </p:pic>
      <p:pic>
        <p:nvPicPr>
          <p:cNvPr id="2806" name="" descr=""/>
          <p:cNvPicPr/>
          <p:nvPr/>
        </p:nvPicPr>
        <p:blipFill>
          <a:blip r:embed="rId15"/>
          <a:stretch/>
        </p:blipFill>
        <p:spPr>
          <a:xfrm>
            <a:off x="700200" y="4245120"/>
            <a:ext cx="2119320" cy="1672920"/>
          </a:xfrm>
          <a:prstGeom prst="rect">
            <a:avLst/>
          </a:prstGeom>
          <a:ln w="0">
            <a:noFill/>
          </a:ln>
        </p:spPr>
      </p:pic>
      <p:sp>
        <p:nvSpPr>
          <p:cNvPr id="2807" name=""/>
          <p:cNvSpPr/>
          <p:nvPr/>
        </p:nvSpPr>
        <p:spPr>
          <a:xfrm>
            <a:off x="6568920" y="2784600"/>
            <a:ext cx="287640" cy="517320"/>
          </a:xfrm>
          <a:prstGeom prst="upDownArrow">
            <a:avLst>
              <a:gd name="adj1" fmla="val 50000"/>
              <a:gd name="adj2" fmla="val 35803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6"/>
          <a:stretch/>
        </p:blipFill>
        <p:spPr>
          <a:xfrm>
            <a:off x="2546280" y="1305000"/>
            <a:ext cx="20340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to 3 prototype : Supplier’s work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813120" y="530064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n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1" name=""/>
          <p:cNvCxnSpPr>
            <a:stCxn id="2812" idx="3"/>
            <a:endCxn id="2810" idx="0"/>
          </p:cNvCxnSpPr>
          <p:nvPr/>
        </p:nvCxnSpPr>
        <p:spPr>
          <a:xfrm>
            <a:off x="4248000" y="4307040"/>
            <a:ext cx="324720" cy="99396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13" name=""/>
          <p:cNvSpPr/>
          <p:nvPr/>
        </p:nvSpPr>
        <p:spPr>
          <a:xfrm>
            <a:off x="7162920" y="1871640"/>
            <a:ext cx="151740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4" name=""/>
          <p:cNvCxnSpPr>
            <a:stCxn id="2815" idx="3"/>
            <a:endCxn id="2813" idx="2"/>
          </p:cNvCxnSpPr>
          <p:nvPr/>
        </p:nvCxnSpPr>
        <p:spPr>
          <a:xfrm flipV="1">
            <a:off x="7570440" y="2474280"/>
            <a:ext cx="351360" cy="6865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16" name=""/>
          <p:cNvSpPr/>
          <p:nvPr/>
        </p:nvSpPr>
        <p:spPr>
          <a:xfrm>
            <a:off x="175896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t Projec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133640" y="331956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219240" y="2786040"/>
            <a:ext cx="1295280" cy="60948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2730600" y="4005360"/>
            <a:ext cx="1517400" cy="60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ig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9" name=""/>
          <p:cNvCxnSpPr>
            <a:stCxn id="2816" idx="3"/>
            <a:endCxn id="2812" idx="0"/>
          </p:cNvCxnSpPr>
          <p:nvPr/>
        </p:nvCxnSpPr>
        <p:spPr>
          <a:xfrm>
            <a:off x="3276360" y="3160800"/>
            <a:ext cx="213480" cy="845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0" name=""/>
          <p:cNvSpPr/>
          <p:nvPr/>
        </p:nvSpPr>
        <p:spPr>
          <a:xfrm rot="5400000">
            <a:off x="2757600" y="4813920"/>
            <a:ext cx="486000" cy="160200"/>
          </a:xfrm>
          <a:prstGeom prst="rightArrow">
            <a:avLst>
              <a:gd name="adj1" fmla="val 50000"/>
              <a:gd name="adj2" fmla="val 758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905120" y="5072040"/>
            <a:ext cx="887400" cy="63036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4941720" y="4005360"/>
            <a:ext cx="1517760" cy="60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3" name=""/>
          <p:cNvCxnSpPr>
            <a:stCxn id="2810" idx="3"/>
            <a:endCxn id="2822" idx="2"/>
          </p:cNvCxnSpPr>
          <p:nvPr/>
        </p:nvCxnSpPr>
        <p:spPr>
          <a:xfrm flipV="1">
            <a:off x="5330520" y="4607640"/>
            <a:ext cx="370440" cy="9946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4" name=""/>
          <p:cNvSpPr/>
          <p:nvPr/>
        </p:nvSpPr>
        <p:spPr>
          <a:xfrm flipH="1" flipV="1" rot="5400000">
            <a:off x="5976720" y="494676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867280" y="5300640"/>
            <a:ext cx="1327320" cy="415800"/>
          </a:xfrm>
          <a:prstGeom prst="flowChart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mcrash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0204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ort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7" name=""/>
          <p:cNvCxnSpPr>
            <a:stCxn id="2822" idx="0"/>
            <a:endCxn id="2826" idx="3"/>
          </p:cNvCxnSpPr>
          <p:nvPr/>
        </p:nvCxnSpPr>
        <p:spPr>
          <a:xfrm flipV="1" rot="16200000">
            <a:off x="5137560" y="3441960"/>
            <a:ext cx="845280" cy="28152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8" name=""/>
          <p:cNvSpPr/>
          <p:nvPr/>
        </p:nvSpPr>
        <p:spPr>
          <a:xfrm>
            <a:off x="5715000" y="35481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05304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H="1" flipV="1" rot="5400000">
            <a:off x="6999120" y="375768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0" name=""/>
          <p:cNvCxnSpPr>
            <a:stCxn id="2822" idx="3"/>
            <a:endCxn id="2815" idx="2"/>
          </p:cNvCxnSpPr>
          <p:nvPr/>
        </p:nvCxnSpPr>
        <p:spPr>
          <a:xfrm flipV="1">
            <a:off x="6459120" y="3462120"/>
            <a:ext cx="353160" cy="845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31" name=""/>
          <p:cNvSpPr/>
          <p:nvPr/>
        </p:nvSpPr>
        <p:spPr>
          <a:xfrm>
            <a:off x="6934320" y="4233960"/>
            <a:ext cx="887400" cy="63000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6249960" y="2328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3" name=""/>
          <p:cNvCxnSpPr>
            <a:stCxn id="2815" idx="0"/>
            <a:endCxn id="2812" idx="0"/>
          </p:cNvCxnSpPr>
          <p:nvPr/>
        </p:nvCxnSpPr>
        <p:spPr>
          <a:xfrm rot="5400000">
            <a:off x="4576680" y="1770840"/>
            <a:ext cx="1146960" cy="3323160"/>
          </a:xfrm>
          <a:prstGeom prst="bentConnector3">
            <a:avLst>
              <a:gd name="adj1" fmla="val -1993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4" name=""/>
          <p:cNvCxnSpPr>
            <a:stCxn id="2826" idx="1"/>
            <a:endCxn id="2812" idx="0"/>
          </p:cNvCxnSpPr>
          <p:nvPr/>
        </p:nvCxnSpPr>
        <p:spPr>
          <a:xfrm flipV="1" rot="10800000">
            <a:off x="3488760" y="3160440"/>
            <a:ext cx="413280" cy="84528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35" name=""/>
          <p:cNvSpPr/>
          <p:nvPr/>
        </p:nvSpPr>
        <p:spPr>
          <a:xfrm>
            <a:off x="2057400" y="1389240"/>
            <a:ext cx="0" cy="121896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7124760" y="1255680"/>
            <a:ext cx="0" cy="12193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62120" y="13129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ification from 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2119680" y="1712880"/>
            <a:ext cx="1909080" cy="3373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ject is up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7305840" y="13129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ification to 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467320" y="1579680"/>
            <a:ext cx="1600200" cy="5806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ject has been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46040" y="1393920"/>
            <a:ext cx="818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erospace Application Scenari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42" name="" descr=""/>
          <p:cNvPicPr/>
          <p:nvPr/>
        </p:nvPicPr>
        <p:blipFill>
          <a:blip r:embed="rId1"/>
          <a:stretch/>
        </p:blipFill>
        <p:spPr>
          <a:xfrm>
            <a:off x="1693800" y="2346480"/>
            <a:ext cx="5597640" cy="3278160"/>
          </a:xfrm>
          <a:prstGeom prst="rect">
            <a:avLst/>
          </a:prstGeom>
          <a:ln w="0">
            <a:noFill/>
          </a:ln>
        </p:spPr>
      </p:pic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34880" y="1282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ulti-disciplinary inter-enterprise collaborative design of a low-noise high-lift sy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ased on a BAE Systems Regional Jet test c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D Processes Captured as Distributed Workflow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45" name="" descr=""/>
          <p:cNvPicPr/>
          <p:nvPr/>
        </p:nvPicPr>
        <p:blipFill>
          <a:blip r:embed="rId1"/>
          <a:stretch/>
        </p:blipFill>
        <p:spPr>
          <a:xfrm>
            <a:off x="5913360" y="1336680"/>
            <a:ext cx="1125720" cy="1809720"/>
          </a:xfrm>
          <a:prstGeom prst="rect">
            <a:avLst/>
          </a:prstGeom>
          <a:ln w="0">
            <a:noFill/>
          </a:ln>
        </p:spPr>
      </p:pic>
      <p:pic>
        <p:nvPicPr>
          <p:cNvPr id="2846" name="" descr=""/>
          <p:cNvPicPr/>
          <p:nvPr/>
        </p:nvPicPr>
        <p:blipFill>
          <a:blip r:embed="rId2"/>
          <a:stretch/>
        </p:blipFill>
        <p:spPr>
          <a:xfrm>
            <a:off x="5886360" y="3444840"/>
            <a:ext cx="2244960" cy="1760400"/>
          </a:xfrm>
          <a:prstGeom prst="rect">
            <a:avLst/>
          </a:prstGeom>
          <a:ln w="0">
            <a:noFill/>
          </a:ln>
        </p:spPr>
      </p:pic>
      <p:sp>
        <p:nvSpPr>
          <p:cNvPr id="2847" name=""/>
          <p:cNvSpPr/>
          <p:nvPr/>
        </p:nvSpPr>
        <p:spPr>
          <a:xfrm>
            <a:off x="7061040" y="1352520"/>
            <a:ext cx="245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erodynamics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B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157880" y="502128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eroacoustics (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892080" y="294480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esign (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0" name="" descr=""/>
          <p:cNvPicPr/>
          <p:nvPr/>
        </p:nvPicPr>
        <p:blipFill>
          <a:blip r:embed="rId3"/>
          <a:stretch/>
        </p:blipFill>
        <p:spPr>
          <a:xfrm>
            <a:off x="3375000" y="2903400"/>
            <a:ext cx="1855800" cy="1419480"/>
          </a:xfrm>
          <a:prstGeom prst="rect">
            <a:avLst/>
          </a:prstGeom>
          <a:ln w="0">
            <a:noFill/>
          </a:ln>
        </p:spPr>
      </p:pic>
      <p:sp>
        <p:nvSpPr>
          <p:cNvPr id="2851" name=""/>
          <p:cNvSpPr/>
          <p:nvPr/>
        </p:nvSpPr>
        <p:spPr>
          <a:xfrm>
            <a:off x="3379680" y="417996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mpute (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2" name="" descr=""/>
          <p:cNvPicPr/>
          <p:nvPr/>
        </p:nvPicPr>
        <p:blipFill>
          <a:blip r:embed="rId4"/>
          <a:stretch/>
        </p:blipFill>
        <p:spPr>
          <a:xfrm>
            <a:off x="557280" y="1574640"/>
            <a:ext cx="2274840" cy="1578240"/>
          </a:xfrm>
          <a:prstGeom prst="rect">
            <a:avLst/>
          </a:prstGeom>
          <a:ln w="0">
            <a:noFill/>
          </a:ln>
        </p:spPr>
      </p:pic>
      <p:sp>
        <p:nvSpPr>
          <p:cNvPr id="2853" name=""/>
          <p:cNvSpPr/>
          <p:nvPr/>
        </p:nvSpPr>
        <p:spPr>
          <a:xfrm rot="2509200">
            <a:off x="2908440" y="259704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rot="19453200">
            <a:off x="5219640" y="25477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rot="1338000">
            <a:off x="5281200" y="37098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id Technology Deploy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7" name="" descr=""/>
          <p:cNvPicPr/>
          <p:nvPr/>
        </p:nvPicPr>
        <p:blipFill>
          <a:blip r:embed="rId1"/>
          <a:stretch/>
        </p:blipFill>
        <p:spPr>
          <a:xfrm>
            <a:off x="4794120" y="1284120"/>
            <a:ext cx="3886200" cy="4502160"/>
          </a:xfrm>
          <a:prstGeom prst="rect">
            <a:avLst/>
          </a:prstGeom>
          <a:ln w="0">
            <a:noFill/>
          </a:ln>
        </p:spPr>
      </p:pic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240840" y="1390680"/>
            <a:ext cx="442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rganisations operate as GRIA service provid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ngineer capabilities shared within well-defined business mode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 operated by prime contractor BAE Syste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ployment demonstrates how Grid technologies can support multi-national inter-Enterprise collaborative development of complex produc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grpSp>
          <p:nvGrpSpPr>
            <p:cNvPr id="2860" name=""/>
            <p:cNvGrpSpPr/>
            <p:nvPr/>
          </p:nvGrpSpPr>
          <p:grpSpPr>
            <a:xfrm>
              <a:off x="0" y="0"/>
              <a:ext cx="9144000" cy="6860520"/>
              <a:chOff x="0" y="0"/>
              <a:chExt cx="9144000" cy="6860520"/>
            </a:xfrm>
          </p:grpSpPr>
          <p:sp>
            <p:nvSpPr>
              <p:cNvPr id="2861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62" name="" descr=""/>
              <p:cNvPicPr/>
              <p:nvPr/>
            </p:nvPicPr>
            <p:blipFill>
              <a:blip r:embed="rId1"/>
              <a:srcRect l="0" t="40504" r="0" b="40861"/>
              <a:stretch/>
            </p:blipFill>
            <p:spPr>
              <a:xfrm>
                <a:off x="0" y="0"/>
                <a:ext cx="708660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3" name=""/>
              <p:cNvSpPr/>
              <p:nvPr/>
            </p:nvSpPr>
            <p:spPr>
              <a:xfrm>
                <a:off x="0" y="6629400"/>
                <a:ext cx="2209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6a"/>
                    </a:solidFill>
                    <a:latin typeface="Arial"/>
                  </a:rPr>
                  <a:t>Copyrights 2002 © LION bioscience 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9040" y="600120"/>
                <a:ext cx="14000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5" name=""/>
              <p:cNvSpPr/>
              <p:nvPr/>
            </p:nvSpPr>
            <p:spPr>
              <a:xfrm>
                <a:off x="0" y="685800"/>
                <a:ext cx="670572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a"/>
                    </a:solidFill>
                    <a:latin typeface="Arial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0" y="685800"/>
                <a:ext cx="83808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2544840" y="716040"/>
              <a:ext cx="40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00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rug design and integration requi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0" y="685800"/>
            <a:ext cx="838080" cy="304920"/>
          </a:xfrm>
          <a:prstGeom prst="rect">
            <a:avLst/>
          </a:prstGeom>
          <a:solidFill>
            <a:srgbClr val="000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719280" y="1066680"/>
            <a:ext cx="7738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Drug Discovery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606680" y="2901960"/>
            <a:ext cx="6987960" cy="63648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44600" y="361800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444600" y="4317840"/>
            <a:ext cx="1071360" cy="6382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44600" y="5756400"/>
            <a:ext cx="1071360" cy="63972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-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930480" y="3627360"/>
            <a:ext cx="2070360" cy="134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995640" y="4322880"/>
            <a:ext cx="1987560" cy="5950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623960" y="3627360"/>
            <a:ext cx="2228760" cy="134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44600" y="218772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2762280" y="3668760"/>
            <a:ext cx="1042920" cy="124920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98800" y="1528920"/>
            <a:ext cx="3218040" cy="585720"/>
          </a:xfrm>
          <a:custGeom>
            <a:avLst/>
            <a:gdLst>
              <a:gd name="textAreaLeft" fmla="*/ 0 w 3218040"/>
              <a:gd name="textAreaRight" fmla="*/ 3218400 w 321804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1" y="0"/>
                </a:lnTo>
                <a:lnTo>
                  <a:pt x="21600" y="10800"/>
                </a:lnTo>
                <a:lnTo>
                  <a:pt x="20831" y="21600"/>
                </a:lnTo>
                <a:lnTo>
                  <a:pt x="0" y="21600"/>
                </a:lnTo>
                <a:lnTo>
                  <a:pt x="769" y="108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206320" y="1539720"/>
            <a:ext cx="8665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480920" y="1833480"/>
            <a:ext cx="7171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505480" y="1833480"/>
            <a:ext cx="63036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1625760" y="1528920"/>
            <a:ext cx="2406600" cy="58572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2472840" y="1539720"/>
            <a:ext cx="68220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640520" y="1833480"/>
            <a:ext cx="8179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2787480" y="1833480"/>
            <a:ext cx="92916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2554200" y="1820880"/>
            <a:ext cx="1587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V="1">
            <a:off x="5445000" y="1820880"/>
            <a:ext cx="1288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6134040" y="1833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li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6024600" y="1821960"/>
            <a:ext cx="12852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6981840" y="1528920"/>
            <a:ext cx="1743120" cy="5857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9" y="0"/>
                </a:lnTo>
                <a:lnTo>
                  <a:pt x="21600" y="10800"/>
                </a:lnTo>
                <a:lnTo>
                  <a:pt x="20529" y="21600"/>
                </a:lnTo>
                <a:lnTo>
                  <a:pt x="0" y="21600"/>
                </a:lnTo>
                <a:lnTo>
                  <a:pt x="1071" y="108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7575840" y="1539720"/>
            <a:ext cx="67140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7067520" y="184140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7432920" y="1833480"/>
            <a:ext cx="30888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7833240" y="1833480"/>
            <a:ext cx="3517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7786800" y="1820880"/>
            <a:ext cx="8892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7375680" y="1820880"/>
            <a:ext cx="903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8230320" y="18223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8188200" y="1825200"/>
            <a:ext cx="9072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44600" y="290196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1781280" y="2944800"/>
            <a:ext cx="6729480" cy="557280"/>
          </a:xfrm>
          <a:prstGeom prst="hexagon">
            <a:avLst>
              <a:gd name="adj" fmla="val 45339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727440" y="2948040"/>
            <a:ext cx="327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gregation and standardization of availab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ientif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face to economic and legal (IP)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606680" y="5762520"/>
            <a:ext cx="6987960" cy="63828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995640" y="3668760"/>
            <a:ext cx="1987560" cy="601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660680" y="3668760"/>
            <a:ext cx="1047600" cy="124920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097760" y="3624120"/>
            <a:ext cx="1498680" cy="134784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1606680" y="2187720"/>
            <a:ext cx="6987960" cy="63648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44600" y="5040360"/>
            <a:ext cx="1071360" cy="6382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606680" y="5049720"/>
            <a:ext cx="6987960" cy="63972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6067440" y="3627360"/>
            <a:ext cx="954000" cy="1341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3989520" y="4305240"/>
            <a:ext cx="1995480" cy="612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ing compound to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quenc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660680" y="4317840"/>
            <a:ext cx="1047600" cy="60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ing targ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o 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ial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2763720" y="3665520"/>
            <a:ext cx="1047960" cy="60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ilico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897200" y="5830920"/>
            <a:ext cx="421920" cy="501120"/>
            <a:chOff x="1897200" y="5830920"/>
            <a:chExt cx="421920" cy="501120"/>
          </a:xfrm>
        </p:grpSpPr>
        <p:sp>
          <p:nvSpPr>
            <p:cNvPr id="2915" name=""/>
            <p:cNvSpPr/>
            <p:nvPr/>
          </p:nvSpPr>
          <p:spPr>
            <a:xfrm>
              <a:off x="189720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98612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8656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4183200" y="5884920"/>
            <a:ext cx="4651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79276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2658960" y="5830920"/>
            <a:ext cx="421920" cy="501120"/>
            <a:chOff x="2658960" y="5830920"/>
            <a:chExt cx="421920" cy="501120"/>
          </a:xfrm>
        </p:grpSpPr>
        <p:sp>
          <p:nvSpPr>
            <p:cNvPr id="2921" name=""/>
            <p:cNvSpPr/>
            <p:nvPr/>
          </p:nvSpPr>
          <p:spPr>
            <a:xfrm>
              <a:off x="265896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74788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84832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3421080" y="5830920"/>
            <a:ext cx="421920" cy="501120"/>
            <a:chOff x="3421080" y="5830920"/>
            <a:chExt cx="421920" cy="501120"/>
          </a:xfrm>
        </p:grpSpPr>
        <p:sp>
          <p:nvSpPr>
            <p:cNvPr id="2925" name=""/>
            <p:cNvSpPr/>
            <p:nvPr/>
          </p:nvSpPr>
          <p:spPr>
            <a:xfrm>
              <a:off x="342108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51000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1044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498780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6599160" y="5830920"/>
            <a:ext cx="421920" cy="501120"/>
            <a:chOff x="6599160" y="5830920"/>
            <a:chExt cx="421920" cy="501120"/>
          </a:xfrm>
        </p:grpSpPr>
        <p:sp>
          <p:nvSpPr>
            <p:cNvPr id="2930" name=""/>
            <p:cNvSpPr/>
            <p:nvPr/>
          </p:nvSpPr>
          <p:spPr>
            <a:xfrm>
              <a:off x="659916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68808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8852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361280" y="5830920"/>
            <a:ext cx="420120" cy="501120"/>
            <a:chOff x="7361280" y="5830920"/>
            <a:chExt cx="420120" cy="501120"/>
          </a:xfrm>
        </p:grpSpPr>
        <p:sp>
          <p:nvSpPr>
            <p:cNvPr id="2934" name=""/>
            <p:cNvSpPr/>
            <p:nvPr/>
          </p:nvSpPr>
          <p:spPr>
            <a:xfrm>
              <a:off x="7361280" y="5830920"/>
              <a:ext cx="23148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449840" y="5931360"/>
              <a:ext cx="23148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49920" y="6013440"/>
              <a:ext cx="23148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7" name=""/>
          <p:cNvSpPr/>
          <p:nvPr/>
        </p:nvSpPr>
        <p:spPr>
          <a:xfrm>
            <a:off x="804384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1779480" y="5084640"/>
            <a:ext cx="6745320" cy="569880"/>
          </a:xfrm>
          <a:prstGeom prst="hexagon">
            <a:avLst>
              <a:gd name="adj" fmla="val 44441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980520" y="504504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at file and relational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rd party softw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ividual internal 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4032360" y="3684600"/>
            <a:ext cx="2949480" cy="558720"/>
          </a:xfrm>
          <a:prstGeom prst="hexagon">
            <a:avLst>
              <a:gd name="adj" fmla="val 41523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190440" indent="-7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-Silico ADME-Tox predi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7596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d algorithms and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nsion of functio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7596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16000" y="6537240"/>
            <a:ext cx="48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a"/>
                </a:solidFill>
                <a:latin typeface="Arial"/>
              </a:rPr>
              <a:t>Source: Survey conducted by LION with The Boston Consulting Group, Spring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619280" y="1822320"/>
            <a:ext cx="712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grpSp>
          <p:nvGrpSpPr>
            <p:cNvPr id="2944" name=""/>
            <p:cNvGrpSpPr/>
            <p:nvPr/>
          </p:nvGrpSpPr>
          <p:grpSpPr>
            <a:xfrm>
              <a:off x="0" y="0"/>
              <a:ext cx="9144000" cy="6860520"/>
              <a:chOff x="0" y="0"/>
              <a:chExt cx="9144000" cy="6860520"/>
            </a:xfrm>
          </p:grpSpPr>
          <p:sp>
            <p:nvSpPr>
              <p:cNvPr id="294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6" name="" descr=""/>
              <p:cNvPicPr/>
              <p:nvPr/>
            </p:nvPicPr>
            <p:blipFill>
              <a:blip r:embed="rId1"/>
              <a:srcRect l="0" t="40504" r="0" b="40861"/>
              <a:stretch/>
            </p:blipFill>
            <p:spPr>
              <a:xfrm>
                <a:off x="0" y="0"/>
                <a:ext cx="708660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7" name=""/>
              <p:cNvSpPr/>
              <p:nvPr/>
            </p:nvSpPr>
            <p:spPr>
              <a:xfrm>
                <a:off x="0" y="6629400"/>
                <a:ext cx="2209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6a"/>
                    </a:solidFill>
                    <a:latin typeface="Arial"/>
                  </a:rPr>
                  <a:t>Copyrights 2002 © LION bioscience 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9040" y="600120"/>
                <a:ext cx="14000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9" name=""/>
              <p:cNvSpPr/>
              <p:nvPr/>
            </p:nvSpPr>
            <p:spPr>
              <a:xfrm>
                <a:off x="0" y="685800"/>
                <a:ext cx="670572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a"/>
                    </a:solidFill>
                    <a:latin typeface="Arial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0" y="685800"/>
                <a:ext cx="83808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1" name=""/>
            <p:cNvSpPr/>
            <p:nvPr/>
          </p:nvSpPr>
          <p:spPr>
            <a:xfrm>
              <a:off x="2544840" y="716040"/>
              <a:ext cx="40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00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rug design and integration requi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2" name=""/>
          <p:cNvSpPr/>
          <p:nvPr/>
        </p:nvSpPr>
        <p:spPr>
          <a:xfrm>
            <a:off x="719280" y="1258920"/>
            <a:ext cx="7738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ustomer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495600" y="4876920"/>
            <a:ext cx="865440" cy="906480"/>
          </a:xfrm>
          <a:custGeom>
            <a:avLst/>
            <a:gdLst/>
            <a:ahLst/>
            <a:rect l="l" t="t" r="r" b="b"/>
            <a:pathLst>
              <a:path w="142" h="141">
                <a:moveTo>
                  <a:pt x="88" y="127"/>
                </a:moveTo>
                <a:lnTo>
                  <a:pt x="102" y="111"/>
                </a:lnTo>
                <a:lnTo>
                  <a:pt x="115" y="91"/>
                </a:lnTo>
                <a:lnTo>
                  <a:pt x="123" y="71"/>
                </a:lnTo>
                <a:lnTo>
                  <a:pt x="126" y="55"/>
                </a:lnTo>
                <a:lnTo>
                  <a:pt x="131" y="42"/>
                </a:lnTo>
                <a:lnTo>
                  <a:pt x="137" y="29"/>
                </a:lnTo>
                <a:lnTo>
                  <a:pt x="142" y="16"/>
                </a:lnTo>
                <a:lnTo>
                  <a:pt x="134" y="5"/>
                </a:lnTo>
                <a:lnTo>
                  <a:pt x="121" y="0"/>
                </a:lnTo>
                <a:lnTo>
                  <a:pt x="115" y="2"/>
                </a:lnTo>
                <a:lnTo>
                  <a:pt x="112" y="10"/>
                </a:lnTo>
                <a:lnTo>
                  <a:pt x="108" y="21"/>
                </a:lnTo>
                <a:lnTo>
                  <a:pt x="104" y="37"/>
                </a:lnTo>
                <a:lnTo>
                  <a:pt x="94" y="55"/>
                </a:lnTo>
                <a:lnTo>
                  <a:pt x="84" y="71"/>
                </a:lnTo>
                <a:lnTo>
                  <a:pt x="75" y="85"/>
                </a:lnTo>
                <a:lnTo>
                  <a:pt x="68" y="91"/>
                </a:lnTo>
                <a:lnTo>
                  <a:pt x="57" y="98"/>
                </a:lnTo>
                <a:lnTo>
                  <a:pt x="46" y="104"/>
                </a:lnTo>
                <a:lnTo>
                  <a:pt x="33" y="111"/>
                </a:lnTo>
                <a:lnTo>
                  <a:pt x="20" y="115"/>
                </a:lnTo>
                <a:lnTo>
                  <a:pt x="9" y="120"/>
                </a:lnTo>
                <a:lnTo>
                  <a:pt x="3" y="122"/>
                </a:lnTo>
                <a:lnTo>
                  <a:pt x="0" y="123"/>
                </a:lnTo>
                <a:lnTo>
                  <a:pt x="8" y="131"/>
                </a:lnTo>
                <a:lnTo>
                  <a:pt x="19" y="136"/>
                </a:lnTo>
                <a:lnTo>
                  <a:pt x="30" y="141"/>
                </a:lnTo>
                <a:lnTo>
                  <a:pt x="41" y="141"/>
                </a:lnTo>
                <a:lnTo>
                  <a:pt x="54" y="141"/>
                </a:lnTo>
                <a:lnTo>
                  <a:pt x="65" y="138"/>
                </a:lnTo>
                <a:lnTo>
                  <a:pt x="78" y="133"/>
                </a:lnTo>
                <a:lnTo>
                  <a:pt x="88" y="1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4" name=""/>
          <p:cNvGrpSpPr/>
          <p:nvPr/>
        </p:nvGrpSpPr>
        <p:grpSpPr>
          <a:xfrm>
            <a:off x="5614920" y="1766880"/>
            <a:ext cx="2766960" cy="3300120"/>
            <a:chOff x="5614920" y="1766880"/>
            <a:chExt cx="2766960" cy="3300120"/>
          </a:xfrm>
        </p:grpSpPr>
        <p:grpSp>
          <p:nvGrpSpPr>
            <p:cNvPr id="2955" name=""/>
            <p:cNvGrpSpPr/>
            <p:nvPr/>
          </p:nvGrpSpPr>
          <p:grpSpPr>
            <a:xfrm>
              <a:off x="6215040" y="3583080"/>
              <a:ext cx="777240" cy="979200"/>
              <a:chOff x="6215040" y="3583080"/>
              <a:chExt cx="777240" cy="979200"/>
            </a:xfrm>
          </p:grpSpPr>
          <p:sp>
            <p:nvSpPr>
              <p:cNvPr id="2956" name=""/>
              <p:cNvSpPr/>
              <p:nvPr/>
            </p:nvSpPr>
            <p:spPr>
              <a:xfrm>
                <a:off x="6923160" y="4430520"/>
                <a:ext cx="69120" cy="13176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77" y="0"/>
                    </a:moveTo>
                    <a:lnTo>
                      <a:pt x="51" y="29"/>
                    </a:lnTo>
                    <a:lnTo>
                      <a:pt x="22" y="29"/>
                    </a:lnTo>
                    <a:lnTo>
                      <a:pt x="0" y="47"/>
                    </a:lnTo>
                    <a:lnTo>
                      <a:pt x="4" y="72"/>
                    </a:lnTo>
                    <a:lnTo>
                      <a:pt x="4" y="109"/>
                    </a:lnTo>
                    <a:lnTo>
                      <a:pt x="22" y="140"/>
                    </a:lnTo>
                    <a:lnTo>
                      <a:pt x="42" y="132"/>
                    </a:lnTo>
                    <a:lnTo>
                      <a:pt x="47" y="114"/>
                    </a:lnTo>
                    <a:lnTo>
                      <a:pt x="69" y="76"/>
                    </a:lnTo>
                    <a:lnTo>
                      <a:pt x="69" y="55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215040" y="3583080"/>
                <a:ext cx="777240" cy="806040"/>
              </a:xfrm>
              <a:custGeom>
                <a:avLst/>
                <a:gdLst/>
                <a:ahLst/>
                <a:rect l="l" t="t" r="r" b="b"/>
                <a:pathLst>
                  <a:path w="873" h="857">
                    <a:moveTo>
                      <a:pt x="15" y="122"/>
                    </a:moveTo>
                    <a:lnTo>
                      <a:pt x="23" y="143"/>
                    </a:lnTo>
                    <a:lnTo>
                      <a:pt x="15" y="160"/>
                    </a:lnTo>
                    <a:lnTo>
                      <a:pt x="12" y="166"/>
                    </a:lnTo>
                    <a:lnTo>
                      <a:pt x="0" y="161"/>
                    </a:lnTo>
                    <a:lnTo>
                      <a:pt x="5" y="172"/>
                    </a:lnTo>
                    <a:lnTo>
                      <a:pt x="5" y="182"/>
                    </a:lnTo>
                    <a:lnTo>
                      <a:pt x="15" y="199"/>
                    </a:lnTo>
                    <a:lnTo>
                      <a:pt x="35" y="195"/>
                    </a:lnTo>
                    <a:lnTo>
                      <a:pt x="59" y="222"/>
                    </a:lnTo>
                    <a:lnTo>
                      <a:pt x="70" y="240"/>
                    </a:lnTo>
                    <a:lnTo>
                      <a:pt x="85" y="254"/>
                    </a:lnTo>
                    <a:lnTo>
                      <a:pt x="105" y="254"/>
                    </a:lnTo>
                    <a:lnTo>
                      <a:pt x="112" y="270"/>
                    </a:lnTo>
                    <a:lnTo>
                      <a:pt x="129" y="286"/>
                    </a:lnTo>
                    <a:lnTo>
                      <a:pt x="139" y="287"/>
                    </a:lnTo>
                    <a:lnTo>
                      <a:pt x="142" y="295"/>
                    </a:lnTo>
                    <a:lnTo>
                      <a:pt x="136" y="308"/>
                    </a:lnTo>
                    <a:lnTo>
                      <a:pt x="136" y="320"/>
                    </a:lnTo>
                    <a:lnTo>
                      <a:pt x="133" y="333"/>
                    </a:lnTo>
                    <a:lnTo>
                      <a:pt x="129" y="355"/>
                    </a:lnTo>
                    <a:lnTo>
                      <a:pt x="147" y="375"/>
                    </a:lnTo>
                    <a:lnTo>
                      <a:pt x="167" y="390"/>
                    </a:lnTo>
                    <a:lnTo>
                      <a:pt x="167" y="401"/>
                    </a:lnTo>
                    <a:lnTo>
                      <a:pt x="164" y="437"/>
                    </a:lnTo>
                    <a:lnTo>
                      <a:pt x="159" y="468"/>
                    </a:lnTo>
                    <a:lnTo>
                      <a:pt x="164" y="480"/>
                    </a:lnTo>
                    <a:lnTo>
                      <a:pt x="180" y="493"/>
                    </a:lnTo>
                    <a:lnTo>
                      <a:pt x="180" y="518"/>
                    </a:lnTo>
                    <a:lnTo>
                      <a:pt x="180" y="536"/>
                    </a:lnTo>
                    <a:lnTo>
                      <a:pt x="162" y="510"/>
                    </a:lnTo>
                    <a:lnTo>
                      <a:pt x="152" y="493"/>
                    </a:lnTo>
                    <a:lnTo>
                      <a:pt x="144" y="498"/>
                    </a:lnTo>
                    <a:lnTo>
                      <a:pt x="149" y="510"/>
                    </a:lnTo>
                    <a:lnTo>
                      <a:pt x="142" y="525"/>
                    </a:lnTo>
                    <a:lnTo>
                      <a:pt x="132" y="540"/>
                    </a:lnTo>
                    <a:lnTo>
                      <a:pt x="124" y="551"/>
                    </a:lnTo>
                    <a:lnTo>
                      <a:pt x="133" y="560"/>
                    </a:lnTo>
                    <a:lnTo>
                      <a:pt x="127" y="572"/>
                    </a:lnTo>
                    <a:lnTo>
                      <a:pt x="112" y="587"/>
                    </a:lnTo>
                    <a:lnTo>
                      <a:pt x="111" y="599"/>
                    </a:lnTo>
                    <a:lnTo>
                      <a:pt x="102" y="615"/>
                    </a:lnTo>
                    <a:lnTo>
                      <a:pt x="79" y="642"/>
                    </a:lnTo>
                    <a:lnTo>
                      <a:pt x="65" y="669"/>
                    </a:lnTo>
                    <a:lnTo>
                      <a:pt x="65" y="674"/>
                    </a:lnTo>
                    <a:lnTo>
                      <a:pt x="73" y="683"/>
                    </a:lnTo>
                    <a:lnTo>
                      <a:pt x="64" y="695"/>
                    </a:lnTo>
                    <a:lnTo>
                      <a:pt x="67" y="710"/>
                    </a:lnTo>
                    <a:lnTo>
                      <a:pt x="80" y="730"/>
                    </a:lnTo>
                    <a:lnTo>
                      <a:pt x="133" y="759"/>
                    </a:lnTo>
                    <a:lnTo>
                      <a:pt x="171" y="792"/>
                    </a:lnTo>
                    <a:lnTo>
                      <a:pt x="185" y="788"/>
                    </a:lnTo>
                    <a:lnTo>
                      <a:pt x="205" y="780"/>
                    </a:lnTo>
                    <a:lnTo>
                      <a:pt x="270" y="807"/>
                    </a:lnTo>
                    <a:lnTo>
                      <a:pt x="279" y="816"/>
                    </a:lnTo>
                    <a:lnTo>
                      <a:pt x="285" y="835"/>
                    </a:lnTo>
                    <a:lnTo>
                      <a:pt x="296" y="841"/>
                    </a:lnTo>
                    <a:lnTo>
                      <a:pt x="311" y="842"/>
                    </a:lnTo>
                    <a:lnTo>
                      <a:pt x="333" y="854"/>
                    </a:lnTo>
                    <a:lnTo>
                      <a:pt x="371" y="857"/>
                    </a:lnTo>
                    <a:lnTo>
                      <a:pt x="383" y="842"/>
                    </a:lnTo>
                    <a:lnTo>
                      <a:pt x="386" y="825"/>
                    </a:lnTo>
                    <a:lnTo>
                      <a:pt x="386" y="807"/>
                    </a:lnTo>
                    <a:lnTo>
                      <a:pt x="403" y="792"/>
                    </a:lnTo>
                    <a:lnTo>
                      <a:pt x="436" y="774"/>
                    </a:lnTo>
                    <a:lnTo>
                      <a:pt x="450" y="772"/>
                    </a:lnTo>
                    <a:lnTo>
                      <a:pt x="468" y="763"/>
                    </a:lnTo>
                    <a:lnTo>
                      <a:pt x="483" y="763"/>
                    </a:lnTo>
                    <a:lnTo>
                      <a:pt x="500" y="774"/>
                    </a:lnTo>
                    <a:lnTo>
                      <a:pt x="512" y="789"/>
                    </a:lnTo>
                    <a:lnTo>
                      <a:pt x="527" y="789"/>
                    </a:lnTo>
                    <a:lnTo>
                      <a:pt x="541" y="792"/>
                    </a:lnTo>
                    <a:lnTo>
                      <a:pt x="565" y="795"/>
                    </a:lnTo>
                    <a:lnTo>
                      <a:pt x="584" y="816"/>
                    </a:lnTo>
                    <a:lnTo>
                      <a:pt x="597" y="827"/>
                    </a:lnTo>
                    <a:lnTo>
                      <a:pt x="620" y="835"/>
                    </a:lnTo>
                    <a:lnTo>
                      <a:pt x="638" y="845"/>
                    </a:lnTo>
                    <a:lnTo>
                      <a:pt x="649" y="847"/>
                    </a:lnTo>
                    <a:lnTo>
                      <a:pt x="673" y="821"/>
                    </a:lnTo>
                    <a:lnTo>
                      <a:pt x="691" y="816"/>
                    </a:lnTo>
                    <a:lnTo>
                      <a:pt x="703" y="807"/>
                    </a:lnTo>
                    <a:lnTo>
                      <a:pt x="721" y="792"/>
                    </a:lnTo>
                    <a:lnTo>
                      <a:pt x="746" y="792"/>
                    </a:lnTo>
                    <a:lnTo>
                      <a:pt x="744" y="762"/>
                    </a:lnTo>
                    <a:lnTo>
                      <a:pt x="740" y="753"/>
                    </a:lnTo>
                    <a:lnTo>
                      <a:pt x="729" y="737"/>
                    </a:lnTo>
                    <a:lnTo>
                      <a:pt x="720" y="741"/>
                    </a:lnTo>
                    <a:lnTo>
                      <a:pt x="711" y="737"/>
                    </a:lnTo>
                    <a:lnTo>
                      <a:pt x="703" y="725"/>
                    </a:lnTo>
                    <a:lnTo>
                      <a:pt x="702" y="695"/>
                    </a:lnTo>
                    <a:lnTo>
                      <a:pt x="718" y="675"/>
                    </a:lnTo>
                    <a:lnTo>
                      <a:pt x="706" y="660"/>
                    </a:lnTo>
                    <a:lnTo>
                      <a:pt x="706" y="653"/>
                    </a:lnTo>
                    <a:lnTo>
                      <a:pt x="731" y="627"/>
                    </a:lnTo>
                    <a:lnTo>
                      <a:pt x="731" y="618"/>
                    </a:lnTo>
                    <a:lnTo>
                      <a:pt x="726" y="587"/>
                    </a:lnTo>
                    <a:lnTo>
                      <a:pt x="741" y="572"/>
                    </a:lnTo>
                    <a:lnTo>
                      <a:pt x="729" y="555"/>
                    </a:lnTo>
                    <a:lnTo>
                      <a:pt x="729" y="542"/>
                    </a:lnTo>
                    <a:lnTo>
                      <a:pt x="726" y="521"/>
                    </a:lnTo>
                    <a:lnTo>
                      <a:pt x="720" y="515"/>
                    </a:lnTo>
                    <a:lnTo>
                      <a:pt x="706" y="515"/>
                    </a:lnTo>
                    <a:lnTo>
                      <a:pt x="691" y="518"/>
                    </a:lnTo>
                    <a:lnTo>
                      <a:pt x="688" y="522"/>
                    </a:lnTo>
                    <a:lnTo>
                      <a:pt x="679" y="531"/>
                    </a:lnTo>
                    <a:lnTo>
                      <a:pt x="667" y="536"/>
                    </a:lnTo>
                    <a:lnTo>
                      <a:pt x="662" y="522"/>
                    </a:lnTo>
                    <a:lnTo>
                      <a:pt x="671" y="513"/>
                    </a:lnTo>
                    <a:lnTo>
                      <a:pt x="676" y="504"/>
                    </a:lnTo>
                    <a:lnTo>
                      <a:pt x="676" y="493"/>
                    </a:lnTo>
                    <a:lnTo>
                      <a:pt x="699" y="471"/>
                    </a:lnTo>
                    <a:lnTo>
                      <a:pt x="711" y="466"/>
                    </a:lnTo>
                    <a:lnTo>
                      <a:pt x="714" y="448"/>
                    </a:lnTo>
                    <a:lnTo>
                      <a:pt x="726" y="433"/>
                    </a:lnTo>
                    <a:lnTo>
                      <a:pt x="762" y="405"/>
                    </a:lnTo>
                    <a:lnTo>
                      <a:pt x="773" y="405"/>
                    </a:lnTo>
                    <a:lnTo>
                      <a:pt x="778" y="395"/>
                    </a:lnTo>
                    <a:lnTo>
                      <a:pt x="791" y="383"/>
                    </a:lnTo>
                    <a:lnTo>
                      <a:pt x="800" y="383"/>
                    </a:lnTo>
                    <a:lnTo>
                      <a:pt x="805" y="375"/>
                    </a:lnTo>
                    <a:lnTo>
                      <a:pt x="811" y="370"/>
                    </a:lnTo>
                    <a:lnTo>
                      <a:pt x="820" y="357"/>
                    </a:lnTo>
                    <a:lnTo>
                      <a:pt x="829" y="333"/>
                    </a:lnTo>
                    <a:lnTo>
                      <a:pt x="831" y="319"/>
                    </a:lnTo>
                    <a:lnTo>
                      <a:pt x="831" y="305"/>
                    </a:lnTo>
                    <a:lnTo>
                      <a:pt x="843" y="290"/>
                    </a:lnTo>
                    <a:lnTo>
                      <a:pt x="862" y="279"/>
                    </a:lnTo>
                    <a:lnTo>
                      <a:pt x="873" y="269"/>
                    </a:lnTo>
                    <a:lnTo>
                      <a:pt x="873" y="264"/>
                    </a:lnTo>
                    <a:lnTo>
                      <a:pt x="856" y="252"/>
                    </a:lnTo>
                    <a:lnTo>
                      <a:pt x="847" y="248"/>
                    </a:lnTo>
                    <a:lnTo>
                      <a:pt x="823" y="245"/>
                    </a:lnTo>
                    <a:lnTo>
                      <a:pt x="794" y="240"/>
                    </a:lnTo>
                    <a:lnTo>
                      <a:pt x="784" y="239"/>
                    </a:lnTo>
                    <a:lnTo>
                      <a:pt x="773" y="234"/>
                    </a:lnTo>
                    <a:lnTo>
                      <a:pt x="762" y="223"/>
                    </a:lnTo>
                    <a:lnTo>
                      <a:pt x="753" y="207"/>
                    </a:lnTo>
                    <a:lnTo>
                      <a:pt x="746" y="196"/>
                    </a:lnTo>
                    <a:lnTo>
                      <a:pt x="735" y="191"/>
                    </a:lnTo>
                    <a:lnTo>
                      <a:pt x="721" y="187"/>
                    </a:lnTo>
                    <a:lnTo>
                      <a:pt x="715" y="185"/>
                    </a:lnTo>
                    <a:lnTo>
                      <a:pt x="699" y="170"/>
                    </a:lnTo>
                    <a:lnTo>
                      <a:pt x="677" y="152"/>
                    </a:lnTo>
                    <a:lnTo>
                      <a:pt x="664" y="137"/>
                    </a:lnTo>
                    <a:lnTo>
                      <a:pt x="650" y="132"/>
                    </a:lnTo>
                    <a:lnTo>
                      <a:pt x="643" y="125"/>
                    </a:lnTo>
                    <a:lnTo>
                      <a:pt x="635" y="110"/>
                    </a:lnTo>
                    <a:lnTo>
                      <a:pt x="617" y="87"/>
                    </a:lnTo>
                    <a:lnTo>
                      <a:pt x="612" y="72"/>
                    </a:lnTo>
                    <a:lnTo>
                      <a:pt x="597" y="58"/>
                    </a:lnTo>
                    <a:lnTo>
                      <a:pt x="591" y="44"/>
                    </a:lnTo>
                    <a:lnTo>
                      <a:pt x="584" y="34"/>
                    </a:lnTo>
                    <a:lnTo>
                      <a:pt x="568" y="23"/>
                    </a:lnTo>
                    <a:lnTo>
                      <a:pt x="553" y="6"/>
                    </a:lnTo>
                    <a:lnTo>
                      <a:pt x="541" y="0"/>
                    </a:lnTo>
                    <a:lnTo>
                      <a:pt x="508" y="2"/>
                    </a:lnTo>
                    <a:lnTo>
                      <a:pt x="496" y="2"/>
                    </a:lnTo>
                    <a:lnTo>
                      <a:pt x="479" y="14"/>
                    </a:lnTo>
                    <a:lnTo>
                      <a:pt x="488" y="25"/>
                    </a:lnTo>
                    <a:lnTo>
                      <a:pt x="476" y="40"/>
                    </a:lnTo>
                    <a:lnTo>
                      <a:pt x="444" y="81"/>
                    </a:lnTo>
                    <a:lnTo>
                      <a:pt x="427" y="90"/>
                    </a:lnTo>
                    <a:lnTo>
                      <a:pt x="383" y="94"/>
                    </a:lnTo>
                    <a:lnTo>
                      <a:pt x="364" y="100"/>
                    </a:lnTo>
                    <a:lnTo>
                      <a:pt x="353" y="110"/>
                    </a:lnTo>
                    <a:lnTo>
                      <a:pt x="349" y="119"/>
                    </a:lnTo>
                    <a:lnTo>
                      <a:pt x="332" y="114"/>
                    </a:lnTo>
                    <a:lnTo>
                      <a:pt x="305" y="119"/>
                    </a:lnTo>
                    <a:lnTo>
                      <a:pt x="286" y="117"/>
                    </a:lnTo>
                    <a:lnTo>
                      <a:pt x="271" y="107"/>
                    </a:lnTo>
                    <a:lnTo>
                      <a:pt x="261" y="94"/>
                    </a:lnTo>
                    <a:lnTo>
                      <a:pt x="252" y="90"/>
                    </a:lnTo>
                    <a:lnTo>
                      <a:pt x="259" y="79"/>
                    </a:lnTo>
                    <a:lnTo>
                      <a:pt x="247" y="67"/>
                    </a:lnTo>
                    <a:lnTo>
                      <a:pt x="236" y="66"/>
                    </a:lnTo>
                    <a:lnTo>
                      <a:pt x="227" y="64"/>
                    </a:lnTo>
                    <a:lnTo>
                      <a:pt x="226" y="67"/>
                    </a:lnTo>
                    <a:lnTo>
                      <a:pt x="233" y="76"/>
                    </a:lnTo>
                    <a:lnTo>
                      <a:pt x="229" y="82"/>
                    </a:lnTo>
                    <a:lnTo>
                      <a:pt x="233" y="96"/>
                    </a:lnTo>
                    <a:lnTo>
                      <a:pt x="236" y="110"/>
                    </a:lnTo>
                    <a:lnTo>
                      <a:pt x="236" y="122"/>
                    </a:lnTo>
                    <a:lnTo>
                      <a:pt x="233" y="123"/>
                    </a:lnTo>
                    <a:lnTo>
                      <a:pt x="226" y="129"/>
                    </a:lnTo>
                    <a:lnTo>
                      <a:pt x="223" y="140"/>
                    </a:lnTo>
                    <a:lnTo>
                      <a:pt x="223" y="152"/>
                    </a:lnTo>
                    <a:lnTo>
                      <a:pt x="221" y="160"/>
                    </a:lnTo>
                    <a:lnTo>
                      <a:pt x="209" y="157"/>
                    </a:lnTo>
                    <a:lnTo>
                      <a:pt x="194" y="149"/>
                    </a:lnTo>
                    <a:lnTo>
                      <a:pt x="185" y="157"/>
                    </a:lnTo>
                    <a:lnTo>
                      <a:pt x="170" y="148"/>
                    </a:lnTo>
                    <a:lnTo>
                      <a:pt x="162" y="144"/>
                    </a:lnTo>
                    <a:lnTo>
                      <a:pt x="152" y="152"/>
                    </a:lnTo>
                    <a:lnTo>
                      <a:pt x="142" y="152"/>
                    </a:lnTo>
                    <a:lnTo>
                      <a:pt x="142" y="144"/>
                    </a:lnTo>
                    <a:lnTo>
                      <a:pt x="106" y="110"/>
                    </a:lnTo>
                    <a:lnTo>
                      <a:pt x="97" y="110"/>
                    </a:lnTo>
                    <a:lnTo>
                      <a:pt x="91" y="114"/>
                    </a:lnTo>
                    <a:lnTo>
                      <a:pt x="77" y="122"/>
                    </a:lnTo>
                    <a:lnTo>
                      <a:pt x="67" y="123"/>
                    </a:lnTo>
                    <a:lnTo>
                      <a:pt x="58" y="113"/>
                    </a:lnTo>
                    <a:lnTo>
                      <a:pt x="32" y="113"/>
                    </a:lnTo>
                    <a:lnTo>
                      <a:pt x="15" y="12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7002360" y="1766880"/>
              <a:ext cx="1011240" cy="1209960"/>
              <a:chOff x="7002360" y="1766880"/>
              <a:chExt cx="1011240" cy="1209960"/>
            </a:xfrm>
          </p:grpSpPr>
          <p:grpSp>
            <p:nvGrpSpPr>
              <p:cNvPr id="2959" name=""/>
              <p:cNvGrpSpPr/>
              <p:nvPr/>
            </p:nvGrpSpPr>
            <p:grpSpPr>
              <a:xfrm>
                <a:off x="7002360" y="1766880"/>
                <a:ext cx="1011240" cy="1209960"/>
                <a:chOff x="7002360" y="1766880"/>
                <a:chExt cx="1011240" cy="1209960"/>
              </a:xfrm>
            </p:grpSpPr>
            <p:sp>
              <p:nvSpPr>
                <p:cNvPr id="2960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  <a:lnTo>
                        <a:pt x="271" y="104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  <a:lnTo>
                        <a:pt x="271" y="104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3" name=""/>
              <p:cNvGrpSpPr/>
              <p:nvPr/>
            </p:nvGrpSpPr>
            <p:grpSpPr>
              <a:xfrm>
                <a:off x="7206120" y="1766880"/>
                <a:ext cx="640080" cy="691920"/>
                <a:chOff x="7206120" y="1766880"/>
                <a:chExt cx="640080" cy="6919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7509960" y="197784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30" h="39">
                      <a:moveTo>
                        <a:pt x="30" y="6"/>
                      </a:moveTo>
                      <a:lnTo>
                        <a:pt x="27" y="15"/>
                      </a:lnTo>
                      <a:lnTo>
                        <a:pt x="30" y="33"/>
                      </a:lnTo>
                      <a:lnTo>
                        <a:pt x="9" y="39"/>
                      </a:lnTo>
                      <a:lnTo>
                        <a:pt x="0" y="30"/>
                      </a:lnTo>
                      <a:lnTo>
                        <a:pt x="0" y="15"/>
                      </a:lnTo>
                      <a:lnTo>
                        <a:pt x="6" y="0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61720" y="2007720"/>
                  <a:ext cx="26640" cy="226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4" y="0"/>
                      </a:moveTo>
                      <a:lnTo>
                        <a:pt x="27" y="15"/>
                      </a:lnTo>
                      <a:lnTo>
                        <a:pt x="6" y="21"/>
                      </a:lnTo>
                      <a:lnTo>
                        <a:pt x="0" y="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70720" y="1959480"/>
                  <a:ext cx="32760" cy="2808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17"/>
                      </a:moveTo>
                      <a:lnTo>
                        <a:pt x="24" y="26"/>
                      </a:lnTo>
                      <a:lnTo>
                        <a:pt x="33" y="6"/>
                      </a:lnTo>
                      <a:lnTo>
                        <a:pt x="18" y="0"/>
                      </a:lnTo>
                      <a:lnTo>
                        <a:pt x="9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509960" y="193464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21760" y="201744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5" y="0"/>
                      </a:moveTo>
                      <a:lnTo>
                        <a:pt x="18" y="15"/>
                      </a:lnTo>
                      <a:lnTo>
                        <a:pt x="0" y="1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612560" y="1881000"/>
                  <a:ext cx="32760" cy="2916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15" y="0"/>
                      </a:moveTo>
                      <a:lnTo>
                        <a:pt x="0" y="12"/>
                      </a:lnTo>
                      <a:lnTo>
                        <a:pt x="21" y="27"/>
                      </a:lnTo>
                      <a:lnTo>
                        <a:pt x="33" y="1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642440" y="1855080"/>
                  <a:ext cx="32760" cy="2916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9"/>
                      </a:moveTo>
                      <a:lnTo>
                        <a:pt x="15" y="27"/>
                      </a:lnTo>
                      <a:lnTo>
                        <a:pt x="33" y="15"/>
                      </a:lnTo>
                      <a:lnTo>
                        <a:pt x="18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729560" y="1799280"/>
                  <a:ext cx="47880" cy="3600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21" y="9"/>
                      </a:moveTo>
                      <a:lnTo>
                        <a:pt x="30" y="15"/>
                      </a:lnTo>
                      <a:lnTo>
                        <a:pt x="48" y="0"/>
                      </a:lnTo>
                      <a:lnTo>
                        <a:pt x="39" y="30"/>
                      </a:lnTo>
                      <a:lnTo>
                        <a:pt x="21" y="33"/>
                      </a:lnTo>
                      <a:lnTo>
                        <a:pt x="0" y="12"/>
                      </a:lnTo>
                      <a:lnTo>
                        <a:pt x="21" y="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822440" y="1766880"/>
                  <a:ext cx="23760" cy="1944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2" y="0"/>
                      </a:moveTo>
                      <a:lnTo>
                        <a:pt x="21" y="6"/>
                      </a:lnTo>
                      <a:lnTo>
                        <a:pt x="24" y="18"/>
                      </a:lnTo>
                      <a:lnTo>
                        <a:pt x="0" y="1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206120" y="2436120"/>
                  <a:ext cx="360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2"/>
                      </a:move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3" y="21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4" name=""/>
            <p:cNvSpPr/>
            <p:nvPr/>
          </p:nvSpPr>
          <p:spPr>
            <a:xfrm>
              <a:off x="5614920" y="4186440"/>
              <a:ext cx="314280" cy="471240"/>
            </a:xfrm>
            <a:custGeom>
              <a:avLst/>
              <a:gdLst/>
              <a:ahLst/>
              <a:rect l="l" t="t" r="r" b="b"/>
              <a:pathLst>
                <a:path w="352" h="502">
                  <a:moveTo>
                    <a:pt x="177" y="5"/>
                  </a:moveTo>
                  <a:lnTo>
                    <a:pt x="203" y="0"/>
                  </a:lnTo>
                  <a:lnTo>
                    <a:pt x="220" y="20"/>
                  </a:lnTo>
                  <a:lnTo>
                    <a:pt x="223" y="43"/>
                  </a:lnTo>
                  <a:lnTo>
                    <a:pt x="229" y="49"/>
                  </a:lnTo>
                  <a:lnTo>
                    <a:pt x="243" y="44"/>
                  </a:lnTo>
                  <a:lnTo>
                    <a:pt x="282" y="61"/>
                  </a:lnTo>
                  <a:lnTo>
                    <a:pt x="294" y="53"/>
                  </a:lnTo>
                  <a:lnTo>
                    <a:pt x="309" y="52"/>
                  </a:lnTo>
                  <a:lnTo>
                    <a:pt x="320" y="66"/>
                  </a:lnTo>
                  <a:lnTo>
                    <a:pt x="329" y="88"/>
                  </a:lnTo>
                  <a:lnTo>
                    <a:pt x="343" y="104"/>
                  </a:lnTo>
                  <a:lnTo>
                    <a:pt x="352" y="111"/>
                  </a:lnTo>
                  <a:lnTo>
                    <a:pt x="347" y="119"/>
                  </a:lnTo>
                  <a:lnTo>
                    <a:pt x="318" y="128"/>
                  </a:lnTo>
                  <a:lnTo>
                    <a:pt x="285" y="146"/>
                  </a:lnTo>
                  <a:lnTo>
                    <a:pt x="286" y="176"/>
                  </a:lnTo>
                  <a:lnTo>
                    <a:pt x="267" y="193"/>
                  </a:lnTo>
                  <a:lnTo>
                    <a:pt x="250" y="207"/>
                  </a:lnTo>
                  <a:lnTo>
                    <a:pt x="249" y="237"/>
                  </a:lnTo>
                  <a:lnTo>
                    <a:pt x="249" y="257"/>
                  </a:lnTo>
                  <a:lnTo>
                    <a:pt x="235" y="270"/>
                  </a:lnTo>
                  <a:lnTo>
                    <a:pt x="224" y="257"/>
                  </a:lnTo>
                  <a:lnTo>
                    <a:pt x="206" y="261"/>
                  </a:lnTo>
                  <a:lnTo>
                    <a:pt x="205" y="272"/>
                  </a:lnTo>
                  <a:lnTo>
                    <a:pt x="202" y="296"/>
                  </a:lnTo>
                  <a:lnTo>
                    <a:pt x="208" y="305"/>
                  </a:lnTo>
                  <a:lnTo>
                    <a:pt x="205" y="331"/>
                  </a:lnTo>
                  <a:lnTo>
                    <a:pt x="192" y="342"/>
                  </a:lnTo>
                  <a:lnTo>
                    <a:pt x="177" y="361"/>
                  </a:lnTo>
                  <a:lnTo>
                    <a:pt x="171" y="378"/>
                  </a:lnTo>
                  <a:lnTo>
                    <a:pt x="174" y="408"/>
                  </a:lnTo>
                  <a:lnTo>
                    <a:pt x="186" y="425"/>
                  </a:lnTo>
                  <a:lnTo>
                    <a:pt x="179" y="436"/>
                  </a:lnTo>
                  <a:lnTo>
                    <a:pt x="146" y="446"/>
                  </a:lnTo>
                  <a:lnTo>
                    <a:pt x="133" y="458"/>
                  </a:lnTo>
                  <a:lnTo>
                    <a:pt x="132" y="472"/>
                  </a:lnTo>
                  <a:lnTo>
                    <a:pt x="132" y="498"/>
                  </a:lnTo>
                  <a:lnTo>
                    <a:pt x="94" y="498"/>
                  </a:lnTo>
                  <a:lnTo>
                    <a:pt x="68" y="502"/>
                  </a:lnTo>
                  <a:lnTo>
                    <a:pt x="38" y="468"/>
                  </a:lnTo>
                  <a:lnTo>
                    <a:pt x="21" y="468"/>
                  </a:lnTo>
                  <a:lnTo>
                    <a:pt x="8" y="468"/>
                  </a:lnTo>
                  <a:lnTo>
                    <a:pt x="0" y="455"/>
                  </a:lnTo>
                  <a:lnTo>
                    <a:pt x="8" y="442"/>
                  </a:lnTo>
                  <a:lnTo>
                    <a:pt x="26" y="417"/>
                  </a:lnTo>
                  <a:lnTo>
                    <a:pt x="35" y="392"/>
                  </a:lnTo>
                  <a:lnTo>
                    <a:pt x="55" y="361"/>
                  </a:lnTo>
                  <a:lnTo>
                    <a:pt x="59" y="345"/>
                  </a:lnTo>
                  <a:lnTo>
                    <a:pt x="50" y="333"/>
                  </a:lnTo>
                  <a:lnTo>
                    <a:pt x="38" y="320"/>
                  </a:lnTo>
                  <a:lnTo>
                    <a:pt x="35" y="313"/>
                  </a:lnTo>
                  <a:lnTo>
                    <a:pt x="50" y="308"/>
                  </a:lnTo>
                  <a:lnTo>
                    <a:pt x="59" y="290"/>
                  </a:lnTo>
                  <a:lnTo>
                    <a:pt x="42" y="286"/>
                  </a:lnTo>
                  <a:lnTo>
                    <a:pt x="26" y="295"/>
                  </a:lnTo>
                  <a:lnTo>
                    <a:pt x="26" y="273"/>
                  </a:lnTo>
                  <a:lnTo>
                    <a:pt x="35" y="261"/>
                  </a:lnTo>
                  <a:lnTo>
                    <a:pt x="42" y="248"/>
                  </a:lnTo>
                  <a:lnTo>
                    <a:pt x="47" y="231"/>
                  </a:lnTo>
                  <a:lnTo>
                    <a:pt x="50" y="219"/>
                  </a:lnTo>
                  <a:lnTo>
                    <a:pt x="59" y="214"/>
                  </a:lnTo>
                  <a:lnTo>
                    <a:pt x="73" y="223"/>
                  </a:lnTo>
                  <a:lnTo>
                    <a:pt x="94" y="193"/>
                  </a:lnTo>
                  <a:lnTo>
                    <a:pt x="106" y="172"/>
                  </a:lnTo>
                  <a:lnTo>
                    <a:pt x="139" y="134"/>
                  </a:lnTo>
                  <a:lnTo>
                    <a:pt x="139" y="117"/>
                  </a:lnTo>
                  <a:lnTo>
                    <a:pt x="158" y="91"/>
                  </a:lnTo>
                  <a:lnTo>
                    <a:pt x="162" y="61"/>
                  </a:lnTo>
                  <a:lnTo>
                    <a:pt x="170" y="44"/>
                  </a:lnTo>
                  <a:lnTo>
                    <a:pt x="177" y="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732280" y="4038840"/>
              <a:ext cx="859680" cy="775800"/>
              <a:chOff x="5732280" y="4038840"/>
              <a:chExt cx="859680" cy="775800"/>
            </a:xfrm>
          </p:grpSpPr>
          <p:sp>
            <p:nvSpPr>
              <p:cNvPr id="2976" name=""/>
              <p:cNvSpPr/>
              <p:nvPr/>
            </p:nvSpPr>
            <p:spPr>
              <a:xfrm>
                <a:off x="5732280" y="4038840"/>
                <a:ext cx="828360" cy="775800"/>
              </a:xfrm>
              <a:custGeom>
                <a:avLst/>
                <a:gdLst/>
                <a:ahLst/>
                <a:rect l="l" t="t" r="r" b="b"/>
                <a:pathLst>
                  <a:path w="931" h="825">
                    <a:moveTo>
                      <a:pt x="47" y="161"/>
                    </a:moveTo>
                    <a:lnTo>
                      <a:pt x="42" y="149"/>
                    </a:lnTo>
                    <a:lnTo>
                      <a:pt x="47" y="132"/>
                    </a:lnTo>
                    <a:lnTo>
                      <a:pt x="73" y="90"/>
                    </a:lnTo>
                    <a:lnTo>
                      <a:pt x="59" y="81"/>
                    </a:lnTo>
                    <a:lnTo>
                      <a:pt x="65" y="67"/>
                    </a:lnTo>
                    <a:lnTo>
                      <a:pt x="50" y="64"/>
                    </a:lnTo>
                    <a:lnTo>
                      <a:pt x="50" y="47"/>
                    </a:lnTo>
                    <a:lnTo>
                      <a:pt x="59" y="34"/>
                    </a:lnTo>
                    <a:lnTo>
                      <a:pt x="103" y="21"/>
                    </a:lnTo>
                    <a:lnTo>
                      <a:pt x="136" y="24"/>
                    </a:lnTo>
                    <a:lnTo>
                      <a:pt x="139" y="12"/>
                    </a:lnTo>
                    <a:lnTo>
                      <a:pt x="165" y="0"/>
                    </a:lnTo>
                    <a:lnTo>
                      <a:pt x="179" y="5"/>
                    </a:lnTo>
                    <a:lnTo>
                      <a:pt x="208" y="43"/>
                    </a:lnTo>
                    <a:lnTo>
                      <a:pt x="255" y="64"/>
                    </a:lnTo>
                    <a:lnTo>
                      <a:pt x="297" y="64"/>
                    </a:lnTo>
                    <a:lnTo>
                      <a:pt x="309" y="67"/>
                    </a:lnTo>
                    <a:lnTo>
                      <a:pt x="424" y="132"/>
                    </a:lnTo>
                    <a:lnTo>
                      <a:pt x="458" y="137"/>
                    </a:lnTo>
                    <a:lnTo>
                      <a:pt x="483" y="161"/>
                    </a:lnTo>
                    <a:lnTo>
                      <a:pt x="521" y="152"/>
                    </a:lnTo>
                    <a:lnTo>
                      <a:pt x="542" y="166"/>
                    </a:lnTo>
                    <a:lnTo>
                      <a:pt x="565" y="187"/>
                    </a:lnTo>
                    <a:lnTo>
                      <a:pt x="589" y="187"/>
                    </a:lnTo>
                    <a:lnTo>
                      <a:pt x="608" y="191"/>
                    </a:lnTo>
                    <a:lnTo>
                      <a:pt x="615" y="199"/>
                    </a:lnTo>
                    <a:lnTo>
                      <a:pt x="608" y="213"/>
                    </a:lnTo>
                    <a:lnTo>
                      <a:pt x="608" y="229"/>
                    </a:lnTo>
                    <a:lnTo>
                      <a:pt x="674" y="276"/>
                    </a:lnTo>
                    <a:lnTo>
                      <a:pt x="712" y="307"/>
                    </a:lnTo>
                    <a:lnTo>
                      <a:pt x="730" y="302"/>
                    </a:lnTo>
                    <a:lnTo>
                      <a:pt x="750" y="297"/>
                    </a:lnTo>
                    <a:lnTo>
                      <a:pt x="815" y="328"/>
                    </a:lnTo>
                    <a:lnTo>
                      <a:pt x="823" y="349"/>
                    </a:lnTo>
                    <a:lnTo>
                      <a:pt x="832" y="357"/>
                    </a:lnTo>
                    <a:lnTo>
                      <a:pt x="853" y="361"/>
                    </a:lnTo>
                    <a:lnTo>
                      <a:pt x="865" y="370"/>
                    </a:lnTo>
                    <a:lnTo>
                      <a:pt x="884" y="370"/>
                    </a:lnTo>
                    <a:lnTo>
                      <a:pt x="900" y="370"/>
                    </a:lnTo>
                    <a:lnTo>
                      <a:pt x="917" y="375"/>
                    </a:lnTo>
                    <a:lnTo>
                      <a:pt x="921" y="370"/>
                    </a:lnTo>
                    <a:lnTo>
                      <a:pt x="931" y="387"/>
                    </a:lnTo>
                    <a:lnTo>
                      <a:pt x="931" y="408"/>
                    </a:lnTo>
                    <a:lnTo>
                      <a:pt x="917" y="422"/>
                    </a:lnTo>
                    <a:lnTo>
                      <a:pt x="850" y="472"/>
                    </a:lnTo>
                    <a:lnTo>
                      <a:pt x="820" y="472"/>
                    </a:lnTo>
                    <a:lnTo>
                      <a:pt x="735" y="493"/>
                    </a:lnTo>
                    <a:lnTo>
                      <a:pt x="705" y="498"/>
                    </a:lnTo>
                    <a:lnTo>
                      <a:pt x="705" y="522"/>
                    </a:lnTo>
                    <a:lnTo>
                      <a:pt x="688" y="522"/>
                    </a:lnTo>
                    <a:lnTo>
                      <a:pt x="670" y="536"/>
                    </a:lnTo>
                    <a:lnTo>
                      <a:pt x="653" y="557"/>
                    </a:lnTo>
                    <a:lnTo>
                      <a:pt x="636" y="573"/>
                    </a:lnTo>
                    <a:lnTo>
                      <a:pt x="615" y="578"/>
                    </a:lnTo>
                    <a:lnTo>
                      <a:pt x="599" y="599"/>
                    </a:lnTo>
                    <a:lnTo>
                      <a:pt x="599" y="630"/>
                    </a:lnTo>
                    <a:lnTo>
                      <a:pt x="611" y="645"/>
                    </a:lnTo>
                    <a:lnTo>
                      <a:pt x="615" y="658"/>
                    </a:lnTo>
                    <a:lnTo>
                      <a:pt x="615" y="680"/>
                    </a:lnTo>
                    <a:lnTo>
                      <a:pt x="611" y="689"/>
                    </a:lnTo>
                    <a:lnTo>
                      <a:pt x="594" y="693"/>
                    </a:lnTo>
                    <a:lnTo>
                      <a:pt x="568" y="715"/>
                    </a:lnTo>
                    <a:lnTo>
                      <a:pt x="535" y="745"/>
                    </a:lnTo>
                    <a:lnTo>
                      <a:pt x="521" y="757"/>
                    </a:lnTo>
                    <a:lnTo>
                      <a:pt x="514" y="765"/>
                    </a:lnTo>
                    <a:lnTo>
                      <a:pt x="514" y="778"/>
                    </a:lnTo>
                    <a:lnTo>
                      <a:pt x="476" y="778"/>
                    </a:lnTo>
                    <a:lnTo>
                      <a:pt x="453" y="783"/>
                    </a:lnTo>
                    <a:lnTo>
                      <a:pt x="436" y="787"/>
                    </a:lnTo>
                    <a:lnTo>
                      <a:pt x="429" y="795"/>
                    </a:lnTo>
                    <a:lnTo>
                      <a:pt x="415" y="812"/>
                    </a:lnTo>
                    <a:lnTo>
                      <a:pt x="394" y="821"/>
                    </a:lnTo>
                    <a:lnTo>
                      <a:pt x="382" y="821"/>
                    </a:lnTo>
                    <a:lnTo>
                      <a:pt x="356" y="816"/>
                    </a:lnTo>
                    <a:lnTo>
                      <a:pt x="314" y="812"/>
                    </a:lnTo>
                    <a:lnTo>
                      <a:pt x="238" y="783"/>
                    </a:lnTo>
                    <a:lnTo>
                      <a:pt x="208" y="778"/>
                    </a:lnTo>
                    <a:lnTo>
                      <a:pt x="179" y="787"/>
                    </a:lnTo>
                    <a:lnTo>
                      <a:pt x="157" y="799"/>
                    </a:lnTo>
                    <a:lnTo>
                      <a:pt x="132" y="802"/>
                    </a:lnTo>
                    <a:lnTo>
                      <a:pt x="111" y="816"/>
                    </a:lnTo>
                    <a:lnTo>
                      <a:pt x="97" y="825"/>
                    </a:lnTo>
                    <a:lnTo>
                      <a:pt x="50" y="774"/>
                    </a:lnTo>
                    <a:lnTo>
                      <a:pt x="50" y="702"/>
                    </a:lnTo>
                    <a:lnTo>
                      <a:pt x="30" y="675"/>
                    </a:lnTo>
                    <a:lnTo>
                      <a:pt x="4" y="655"/>
                    </a:lnTo>
                    <a:lnTo>
                      <a:pt x="0" y="642"/>
                    </a:lnTo>
                    <a:lnTo>
                      <a:pt x="0" y="616"/>
                    </a:lnTo>
                    <a:lnTo>
                      <a:pt x="12" y="602"/>
                    </a:lnTo>
                    <a:lnTo>
                      <a:pt x="47" y="590"/>
                    </a:lnTo>
                    <a:lnTo>
                      <a:pt x="54" y="583"/>
                    </a:lnTo>
                    <a:lnTo>
                      <a:pt x="42" y="564"/>
                    </a:lnTo>
                    <a:lnTo>
                      <a:pt x="38" y="536"/>
                    </a:lnTo>
                    <a:lnTo>
                      <a:pt x="50" y="510"/>
                    </a:lnTo>
                    <a:lnTo>
                      <a:pt x="77" y="484"/>
                    </a:lnTo>
                    <a:lnTo>
                      <a:pt x="77" y="464"/>
                    </a:lnTo>
                    <a:lnTo>
                      <a:pt x="68" y="446"/>
                    </a:lnTo>
                    <a:lnTo>
                      <a:pt x="77" y="417"/>
                    </a:lnTo>
                    <a:lnTo>
                      <a:pt x="80" y="413"/>
                    </a:lnTo>
                    <a:lnTo>
                      <a:pt x="92" y="413"/>
                    </a:lnTo>
                    <a:lnTo>
                      <a:pt x="103" y="426"/>
                    </a:lnTo>
                    <a:lnTo>
                      <a:pt x="115" y="408"/>
                    </a:lnTo>
                    <a:lnTo>
                      <a:pt x="120" y="361"/>
                    </a:lnTo>
                    <a:lnTo>
                      <a:pt x="153" y="332"/>
                    </a:lnTo>
                    <a:lnTo>
                      <a:pt x="153" y="314"/>
                    </a:lnTo>
                    <a:lnTo>
                      <a:pt x="153" y="302"/>
                    </a:lnTo>
                    <a:lnTo>
                      <a:pt x="188" y="281"/>
                    </a:lnTo>
                    <a:lnTo>
                      <a:pt x="212" y="276"/>
                    </a:lnTo>
                    <a:lnTo>
                      <a:pt x="221" y="267"/>
                    </a:lnTo>
                    <a:lnTo>
                      <a:pt x="200" y="247"/>
                    </a:lnTo>
                    <a:lnTo>
                      <a:pt x="183" y="213"/>
                    </a:lnTo>
                    <a:lnTo>
                      <a:pt x="174" y="205"/>
                    </a:lnTo>
                    <a:lnTo>
                      <a:pt x="150" y="217"/>
                    </a:lnTo>
                    <a:lnTo>
                      <a:pt x="132" y="209"/>
                    </a:lnTo>
                    <a:lnTo>
                      <a:pt x="107" y="199"/>
                    </a:lnTo>
                    <a:lnTo>
                      <a:pt x="97" y="205"/>
                    </a:lnTo>
                    <a:lnTo>
                      <a:pt x="89" y="194"/>
                    </a:lnTo>
                    <a:lnTo>
                      <a:pt x="89" y="179"/>
                    </a:lnTo>
                    <a:lnTo>
                      <a:pt x="77" y="161"/>
                    </a:lnTo>
                    <a:lnTo>
                      <a:pt x="68" y="156"/>
                    </a:lnTo>
                    <a:lnTo>
                      <a:pt x="47" y="16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363000" y="46828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6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6"/>
                    </a:lnTo>
                    <a:lnTo>
                      <a:pt x="27" y="26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455520" y="4622400"/>
                <a:ext cx="70920" cy="6012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59" y="0"/>
                    </a:moveTo>
                    <a:lnTo>
                      <a:pt x="52" y="8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25" y="52"/>
                    </a:lnTo>
                    <a:lnTo>
                      <a:pt x="38" y="64"/>
                    </a:lnTo>
                    <a:lnTo>
                      <a:pt x="64" y="60"/>
                    </a:lnTo>
                    <a:lnTo>
                      <a:pt x="81" y="52"/>
                    </a:lnTo>
                    <a:lnTo>
                      <a:pt x="76" y="35"/>
                    </a:lnTo>
                    <a:lnTo>
                      <a:pt x="64" y="22"/>
                    </a:lnTo>
                    <a:lnTo>
                      <a:pt x="5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569280" y="462636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6" y="0"/>
                    </a:moveTo>
                    <a:lnTo>
                      <a:pt x="0" y="8"/>
                    </a:lnTo>
                    <a:lnTo>
                      <a:pt x="13" y="20"/>
                    </a:lnTo>
                    <a:lnTo>
                      <a:pt x="25" y="33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6840360" y="4060800"/>
              <a:ext cx="752040" cy="1006200"/>
              <a:chOff x="6840360" y="4060800"/>
              <a:chExt cx="752040" cy="1006200"/>
            </a:xfrm>
          </p:grpSpPr>
          <p:sp>
            <p:nvSpPr>
              <p:cNvPr id="2981" name=""/>
              <p:cNvSpPr/>
              <p:nvPr/>
            </p:nvSpPr>
            <p:spPr>
              <a:xfrm>
                <a:off x="6867360" y="4594320"/>
                <a:ext cx="120600" cy="207360"/>
              </a:xfrm>
              <a:custGeom>
                <a:avLst/>
                <a:gdLst/>
                <a:ahLst/>
                <a:rect l="l" t="t" r="r" b="b"/>
                <a:pathLst>
                  <a:path w="134" h="222">
                    <a:moveTo>
                      <a:pt x="80" y="0"/>
                    </a:moveTo>
                    <a:lnTo>
                      <a:pt x="59" y="12"/>
                    </a:lnTo>
                    <a:lnTo>
                      <a:pt x="42" y="26"/>
                    </a:lnTo>
                    <a:lnTo>
                      <a:pt x="24" y="30"/>
                    </a:lnTo>
                    <a:lnTo>
                      <a:pt x="0" y="26"/>
                    </a:lnTo>
                    <a:lnTo>
                      <a:pt x="4" y="52"/>
                    </a:lnTo>
                    <a:lnTo>
                      <a:pt x="16" y="68"/>
                    </a:lnTo>
                    <a:lnTo>
                      <a:pt x="12" y="112"/>
                    </a:lnTo>
                    <a:lnTo>
                      <a:pt x="12" y="132"/>
                    </a:lnTo>
                    <a:lnTo>
                      <a:pt x="16" y="150"/>
                    </a:lnTo>
                    <a:lnTo>
                      <a:pt x="4" y="184"/>
                    </a:lnTo>
                    <a:lnTo>
                      <a:pt x="7" y="209"/>
                    </a:lnTo>
                    <a:lnTo>
                      <a:pt x="24" y="222"/>
                    </a:lnTo>
                    <a:lnTo>
                      <a:pt x="50" y="205"/>
                    </a:lnTo>
                    <a:lnTo>
                      <a:pt x="59" y="200"/>
                    </a:lnTo>
                    <a:lnTo>
                      <a:pt x="84" y="205"/>
                    </a:lnTo>
                    <a:lnTo>
                      <a:pt x="101" y="188"/>
                    </a:lnTo>
                    <a:lnTo>
                      <a:pt x="101" y="170"/>
                    </a:lnTo>
                    <a:lnTo>
                      <a:pt x="122" y="137"/>
                    </a:lnTo>
                    <a:lnTo>
                      <a:pt x="130" y="115"/>
                    </a:lnTo>
                    <a:lnTo>
                      <a:pt x="122" y="94"/>
                    </a:lnTo>
                    <a:lnTo>
                      <a:pt x="134" y="68"/>
                    </a:lnTo>
                    <a:lnTo>
                      <a:pt x="127" y="30"/>
                    </a:lnTo>
                    <a:lnTo>
                      <a:pt x="122" y="8"/>
                    </a:lnTo>
                    <a:lnTo>
                      <a:pt x="8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47080" y="4918320"/>
                <a:ext cx="221040" cy="148680"/>
              </a:xfrm>
              <a:custGeom>
                <a:avLst/>
                <a:gdLst/>
                <a:ahLst/>
                <a:rect l="l" t="t" r="r" b="b"/>
                <a:pathLst>
                  <a:path w="249" h="156">
                    <a:moveTo>
                      <a:pt x="237" y="0"/>
                    </a:moveTo>
                    <a:lnTo>
                      <a:pt x="249" y="14"/>
                    </a:lnTo>
                    <a:lnTo>
                      <a:pt x="241" y="26"/>
                    </a:lnTo>
                    <a:lnTo>
                      <a:pt x="232" y="45"/>
                    </a:lnTo>
                    <a:lnTo>
                      <a:pt x="219" y="59"/>
                    </a:lnTo>
                    <a:lnTo>
                      <a:pt x="223" y="99"/>
                    </a:lnTo>
                    <a:lnTo>
                      <a:pt x="232" y="127"/>
                    </a:lnTo>
                    <a:lnTo>
                      <a:pt x="209" y="139"/>
                    </a:lnTo>
                    <a:lnTo>
                      <a:pt x="206" y="152"/>
                    </a:lnTo>
                    <a:lnTo>
                      <a:pt x="188" y="156"/>
                    </a:lnTo>
                    <a:lnTo>
                      <a:pt x="164" y="132"/>
                    </a:lnTo>
                    <a:lnTo>
                      <a:pt x="146" y="132"/>
                    </a:lnTo>
                    <a:lnTo>
                      <a:pt x="132" y="111"/>
                    </a:lnTo>
                    <a:lnTo>
                      <a:pt x="108" y="99"/>
                    </a:lnTo>
                    <a:lnTo>
                      <a:pt x="90" y="94"/>
                    </a:lnTo>
                    <a:lnTo>
                      <a:pt x="73" y="85"/>
                    </a:lnTo>
                    <a:lnTo>
                      <a:pt x="56" y="71"/>
                    </a:lnTo>
                    <a:lnTo>
                      <a:pt x="26" y="52"/>
                    </a:lnTo>
                    <a:lnTo>
                      <a:pt x="14" y="45"/>
                    </a:lnTo>
                    <a:lnTo>
                      <a:pt x="0" y="33"/>
                    </a:lnTo>
                    <a:lnTo>
                      <a:pt x="0" y="18"/>
                    </a:lnTo>
                    <a:lnTo>
                      <a:pt x="5" y="4"/>
                    </a:lnTo>
                    <a:lnTo>
                      <a:pt x="31" y="8"/>
                    </a:lnTo>
                    <a:lnTo>
                      <a:pt x="70" y="8"/>
                    </a:lnTo>
                    <a:lnTo>
                      <a:pt x="78" y="21"/>
                    </a:lnTo>
                    <a:lnTo>
                      <a:pt x="120" y="21"/>
                    </a:lnTo>
                    <a:lnTo>
                      <a:pt x="150" y="21"/>
                    </a:lnTo>
                    <a:lnTo>
                      <a:pt x="188" y="14"/>
                    </a:lnTo>
                    <a:lnTo>
                      <a:pt x="23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840360" y="4060800"/>
                <a:ext cx="752040" cy="898920"/>
              </a:xfrm>
              <a:custGeom>
                <a:avLst/>
                <a:gdLst/>
                <a:ahLst/>
                <a:rect l="l" t="t" r="r" b="b"/>
                <a:pathLst>
                  <a:path w="845" h="954">
                    <a:moveTo>
                      <a:pt x="613" y="942"/>
                    </a:moveTo>
                    <a:lnTo>
                      <a:pt x="625" y="954"/>
                    </a:lnTo>
                    <a:lnTo>
                      <a:pt x="646" y="942"/>
                    </a:lnTo>
                    <a:lnTo>
                      <a:pt x="672" y="907"/>
                    </a:lnTo>
                    <a:lnTo>
                      <a:pt x="684" y="857"/>
                    </a:lnTo>
                    <a:lnTo>
                      <a:pt x="697" y="853"/>
                    </a:lnTo>
                    <a:lnTo>
                      <a:pt x="707" y="860"/>
                    </a:lnTo>
                    <a:lnTo>
                      <a:pt x="723" y="844"/>
                    </a:lnTo>
                    <a:lnTo>
                      <a:pt x="719" y="822"/>
                    </a:lnTo>
                    <a:lnTo>
                      <a:pt x="726" y="806"/>
                    </a:lnTo>
                    <a:lnTo>
                      <a:pt x="723" y="797"/>
                    </a:lnTo>
                    <a:lnTo>
                      <a:pt x="702" y="780"/>
                    </a:lnTo>
                    <a:lnTo>
                      <a:pt x="694" y="780"/>
                    </a:lnTo>
                    <a:lnTo>
                      <a:pt x="697" y="771"/>
                    </a:lnTo>
                    <a:lnTo>
                      <a:pt x="681" y="775"/>
                    </a:lnTo>
                    <a:lnTo>
                      <a:pt x="672" y="768"/>
                    </a:lnTo>
                    <a:lnTo>
                      <a:pt x="672" y="759"/>
                    </a:lnTo>
                    <a:lnTo>
                      <a:pt x="697" y="742"/>
                    </a:lnTo>
                    <a:lnTo>
                      <a:pt x="710" y="725"/>
                    </a:lnTo>
                    <a:lnTo>
                      <a:pt x="710" y="698"/>
                    </a:lnTo>
                    <a:lnTo>
                      <a:pt x="723" y="695"/>
                    </a:lnTo>
                    <a:lnTo>
                      <a:pt x="766" y="716"/>
                    </a:lnTo>
                    <a:lnTo>
                      <a:pt x="782" y="721"/>
                    </a:lnTo>
                    <a:lnTo>
                      <a:pt x="804" y="750"/>
                    </a:lnTo>
                    <a:lnTo>
                      <a:pt x="813" y="768"/>
                    </a:lnTo>
                    <a:lnTo>
                      <a:pt x="825" y="768"/>
                    </a:lnTo>
                    <a:lnTo>
                      <a:pt x="838" y="750"/>
                    </a:lnTo>
                    <a:lnTo>
                      <a:pt x="845" y="733"/>
                    </a:lnTo>
                    <a:lnTo>
                      <a:pt x="829" y="703"/>
                    </a:lnTo>
                    <a:lnTo>
                      <a:pt x="813" y="686"/>
                    </a:lnTo>
                    <a:lnTo>
                      <a:pt x="796" y="686"/>
                    </a:lnTo>
                    <a:lnTo>
                      <a:pt x="796" y="683"/>
                    </a:lnTo>
                    <a:lnTo>
                      <a:pt x="787" y="683"/>
                    </a:lnTo>
                    <a:lnTo>
                      <a:pt x="744" y="639"/>
                    </a:lnTo>
                    <a:lnTo>
                      <a:pt x="723" y="644"/>
                    </a:lnTo>
                    <a:lnTo>
                      <a:pt x="697" y="610"/>
                    </a:lnTo>
                    <a:lnTo>
                      <a:pt x="681" y="606"/>
                    </a:lnTo>
                    <a:lnTo>
                      <a:pt x="655" y="580"/>
                    </a:lnTo>
                    <a:lnTo>
                      <a:pt x="641" y="571"/>
                    </a:lnTo>
                    <a:lnTo>
                      <a:pt x="650" y="563"/>
                    </a:lnTo>
                    <a:lnTo>
                      <a:pt x="664" y="559"/>
                    </a:lnTo>
                    <a:lnTo>
                      <a:pt x="646" y="545"/>
                    </a:lnTo>
                    <a:lnTo>
                      <a:pt x="625" y="554"/>
                    </a:lnTo>
                    <a:lnTo>
                      <a:pt x="608" y="545"/>
                    </a:lnTo>
                    <a:lnTo>
                      <a:pt x="561" y="507"/>
                    </a:lnTo>
                    <a:lnTo>
                      <a:pt x="557" y="490"/>
                    </a:lnTo>
                    <a:lnTo>
                      <a:pt x="540" y="486"/>
                    </a:lnTo>
                    <a:lnTo>
                      <a:pt x="523" y="474"/>
                    </a:lnTo>
                    <a:lnTo>
                      <a:pt x="481" y="380"/>
                    </a:lnTo>
                    <a:lnTo>
                      <a:pt x="467" y="367"/>
                    </a:lnTo>
                    <a:lnTo>
                      <a:pt x="434" y="337"/>
                    </a:lnTo>
                    <a:lnTo>
                      <a:pt x="396" y="278"/>
                    </a:lnTo>
                    <a:lnTo>
                      <a:pt x="396" y="243"/>
                    </a:lnTo>
                    <a:lnTo>
                      <a:pt x="417" y="231"/>
                    </a:lnTo>
                    <a:lnTo>
                      <a:pt x="417" y="213"/>
                    </a:lnTo>
                    <a:lnTo>
                      <a:pt x="400" y="198"/>
                    </a:lnTo>
                    <a:lnTo>
                      <a:pt x="391" y="189"/>
                    </a:lnTo>
                    <a:lnTo>
                      <a:pt x="396" y="175"/>
                    </a:lnTo>
                    <a:lnTo>
                      <a:pt x="413" y="167"/>
                    </a:lnTo>
                    <a:lnTo>
                      <a:pt x="464" y="155"/>
                    </a:lnTo>
                    <a:lnTo>
                      <a:pt x="485" y="142"/>
                    </a:lnTo>
                    <a:lnTo>
                      <a:pt x="502" y="125"/>
                    </a:lnTo>
                    <a:lnTo>
                      <a:pt x="497" y="81"/>
                    </a:lnTo>
                    <a:lnTo>
                      <a:pt x="502" y="66"/>
                    </a:lnTo>
                    <a:lnTo>
                      <a:pt x="476" y="61"/>
                    </a:lnTo>
                    <a:lnTo>
                      <a:pt x="422" y="47"/>
                    </a:lnTo>
                    <a:lnTo>
                      <a:pt x="413" y="35"/>
                    </a:lnTo>
                    <a:lnTo>
                      <a:pt x="409" y="31"/>
                    </a:lnTo>
                    <a:lnTo>
                      <a:pt x="409" y="19"/>
                    </a:lnTo>
                    <a:lnTo>
                      <a:pt x="405" y="5"/>
                    </a:lnTo>
                    <a:lnTo>
                      <a:pt x="375" y="0"/>
                    </a:lnTo>
                    <a:lnTo>
                      <a:pt x="302" y="5"/>
                    </a:lnTo>
                    <a:lnTo>
                      <a:pt x="294" y="23"/>
                    </a:lnTo>
                    <a:lnTo>
                      <a:pt x="269" y="26"/>
                    </a:lnTo>
                    <a:lnTo>
                      <a:pt x="252" y="61"/>
                    </a:lnTo>
                    <a:lnTo>
                      <a:pt x="252" y="73"/>
                    </a:lnTo>
                    <a:lnTo>
                      <a:pt x="235" y="61"/>
                    </a:lnTo>
                    <a:lnTo>
                      <a:pt x="208" y="57"/>
                    </a:lnTo>
                    <a:lnTo>
                      <a:pt x="193" y="66"/>
                    </a:lnTo>
                    <a:lnTo>
                      <a:pt x="179" y="90"/>
                    </a:lnTo>
                    <a:lnTo>
                      <a:pt x="153" y="73"/>
                    </a:lnTo>
                    <a:lnTo>
                      <a:pt x="158" y="47"/>
                    </a:lnTo>
                    <a:lnTo>
                      <a:pt x="150" y="31"/>
                    </a:lnTo>
                    <a:lnTo>
                      <a:pt x="132" y="35"/>
                    </a:lnTo>
                    <a:lnTo>
                      <a:pt x="128" y="57"/>
                    </a:lnTo>
                    <a:lnTo>
                      <a:pt x="115" y="69"/>
                    </a:lnTo>
                    <a:lnTo>
                      <a:pt x="102" y="69"/>
                    </a:lnTo>
                    <a:lnTo>
                      <a:pt x="43" y="61"/>
                    </a:lnTo>
                    <a:lnTo>
                      <a:pt x="21" y="78"/>
                    </a:lnTo>
                    <a:lnTo>
                      <a:pt x="26" y="99"/>
                    </a:lnTo>
                    <a:lnTo>
                      <a:pt x="31" y="116"/>
                    </a:lnTo>
                    <a:lnTo>
                      <a:pt x="0" y="142"/>
                    </a:lnTo>
                    <a:lnTo>
                      <a:pt x="8" y="158"/>
                    </a:lnTo>
                    <a:lnTo>
                      <a:pt x="17" y="167"/>
                    </a:lnTo>
                    <a:lnTo>
                      <a:pt x="0" y="189"/>
                    </a:lnTo>
                    <a:lnTo>
                      <a:pt x="0" y="219"/>
                    </a:lnTo>
                    <a:lnTo>
                      <a:pt x="8" y="231"/>
                    </a:lnTo>
                    <a:lnTo>
                      <a:pt x="26" y="231"/>
                    </a:lnTo>
                    <a:lnTo>
                      <a:pt x="35" y="240"/>
                    </a:lnTo>
                    <a:lnTo>
                      <a:pt x="43" y="261"/>
                    </a:lnTo>
                    <a:lnTo>
                      <a:pt x="43" y="283"/>
                    </a:lnTo>
                    <a:lnTo>
                      <a:pt x="59" y="287"/>
                    </a:lnTo>
                    <a:lnTo>
                      <a:pt x="73" y="283"/>
                    </a:lnTo>
                    <a:lnTo>
                      <a:pt x="120" y="236"/>
                    </a:lnTo>
                    <a:lnTo>
                      <a:pt x="140" y="243"/>
                    </a:lnTo>
                    <a:lnTo>
                      <a:pt x="182" y="266"/>
                    </a:lnTo>
                    <a:lnTo>
                      <a:pt x="212" y="287"/>
                    </a:lnTo>
                    <a:lnTo>
                      <a:pt x="217" y="313"/>
                    </a:lnTo>
                    <a:lnTo>
                      <a:pt x="235" y="330"/>
                    </a:lnTo>
                    <a:lnTo>
                      <a:pt x="243" y="360"/>
                    </a:lnTo>
                    <a:lnTo>
                      <a:pt x="252" y="405"/>
                    </a:lnTo>
                    <a:lnTo>
                      <a:pt x="264" y="427"/>
                    </a:lnTo>
                    <a:lnTo>
                      <a:pt x="281" y="445"/>
                    </a:lnTo>
                    <a:lnTo>
                      <a:pt x="311" y="457"/>
                    </a:lnTo>
                    <a:lnTo>
                      <a:pt x="337" y="498"/>
                    </a:lnTo>
                    <a:lnTo>
                      <a:pt x="363" y="533"/>
                    </a:lnTo>
                    <a:lnTo>
                      <a:pt x="387" y="549"/>
                    </a:lnTo>
                    <a:lnTo>
                      <a:pt x="434" y="606"/>
                    </a:lnTo>
                    <a:lnTo>
                      <a:pt x="467" y="606"/>
                    </a:lnTo>
                    <a:lnTo>
                      <a:pt x="506" y="639"/>
                    </a:lnTo>
                    <a:lnTo>
                      <a:pt x="506" y="674"/>
                    </a:lnTo>
                    <a:lnTo>
                      <a:pt x="519" y="683"/>
                    </a:lnTo>
                    <a:lnTo>
                      <a:pt x="544" y="665"/>
                    </a:lnTo>
                    <a:lnTo>
                      <a:pt x="549" y="683"/>
                    </a:lnTo>
                    <a:lnTo>
                      <a:pt x="549" y="703"/>
                    </a:lnTo>
                    <a:lnTo>
                      <a:pt x="575" y="725"/>
                    </a:lnTo>
                    <a:lnTo>
                      <a:pt x="582" y="738"/>
                    </a:lnTo>
                    <a:lnTo>
                      <a:pt x="617" y="728"/>
                    </a:lnTo>
                    <a:lnTo>
                      <a:pt x="622" y="742"/>
                    </a:lnTo>
                    <a:lnTo>
                      <a:pt x="617" y="771"/>
                    </a:lnTo>
                    <a:lnTo>
                      <a:pt x="634" y="797"/>
                    </a:lnTo>
                    <a:lnTo>
                      <a:pt x="638" y="818"/>
                    </a:lnTo>
                    <a:lnTo>
                      <a:pt x="646" y="839"/>
                    </a:lnTo>
                    <a:lnTo>
                      <a:pt x="641" y="857"/>
                    </a:lnTo>
                    <a:lnTo>
                      <a:pt x="625" y="874"/>
                    </a:lnTo>
                    <a:lnTo>
                      <a:pt x="622" y="895"/>
                    </a:lnTo>
                    <a:lnTo>
                      <a:pt x="608" y="920"/>
                    </a:lnTo>
                    <a:lnTo>
                      <a:pt x="613" y="94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4" name=""/>
            <p:cNvSpPr/>
            <p:nvPr/>
          </p:nvSpPr>
          <p:spPr>
            <a:xfrm>
              <a:off x="6805440" y="3935520"/>
              <a:ext cx="303120" cy="208080"/>
            </a:xfrm>
            <a:custGeom>
              <a:avLst/>
              <a:gdLst/>
              <a:ahLst/>
              <a:rect l="l" t="t" r="r" b="b"/>
              <a:pathLst>
                <a:path w="341" h="223">
                  <a:moveTo>
                    <a:pt x="179" y="42"/>
                  </a:moveTo>
                  <a:lnTo>
                    <a:pt x="163" y="27"/>
                  </a:lnTo>
                  <a:lnTo>
                    <a:pt x="164" y="21"/>
                  </a:lnTo>
                  <a:lnTo>
                    <a:pt x="153" y="12"/>
                  </a:lnTo>
                  <a:lnTo>
                    <a:pt x="144" y="0"/>
                  </a:lnTo>
                  <a:lnTo>
                    <a:pt x="134" y="12"/>
                  </a:lnTo>
                  <a:lnTo>
                    <a:pt x="128" y="8"/>
                  </a:lnTo>
                  <a:lnTo>
                    <a:pt x="116" y="20"/>
                  </a:lnTo>
                  <a:lnTo>
                    <a:pt x="116" y="24"/>
                  </a:lnTo>
                  <a:lnTo>
                    <a:pt x="100" y="32"/>
                  </a:lnTo>
                  <a:lnTo>
                    <a:pt x="62" y="62"/>
                  </a:lnTo>
                  <a:lnTo>
                    <a:pt x="52" y="74"/>
                  </a:lnTo>
                  <a:lnTo>
                    <a:pt x="52" y="89"/>
                  </a:lnTo>
                  <a:lnTo>
                    <a:pt x="38" y="94"/>
                  </a:lnTo>
                  <a:lnTo>
                    <a:pt x="11" y="123"/>
                  </a:lnTo>
                  <a:lnTo>
                    <a:pt x="11" y="133"/>
                  </a:lnTo>
                  <a:lnTo>
                    <a:pt x="0" y="147"/>
                  </a:lnTo>
                  <a:lnTo>
                    <a:pt x="5" y="161"/>
                  </a:lnTo>
                  <a:lnTo>
                    <a:pt x="17" y="153"/>
                  </a:lnTo>
                  <a:lnTo>
                    <a:pt x="29" y="140"/>
                  </a:lnTo>
                  <a:lnTo>
                    <a:pt x="49" y="136"/>
                  </a:lnTo>
                  <a:lnTo>
                    <a:pt x="62" y="140"/>
                  </a:lnTo>
                  <a:lnTo>
                    <a:pt x="67" y="161"/>
                  </a:lnTo>
                  <a:lnTo>
                    <a:pt x="64" y="176"/>
                  </a:lnTo>
                  <a:lnTo>
                    <a:pt x="73" y="187"/>
                  </a:lnTo>
                  <a:lnTo>
                    <a:pt x="82" y="194"/>
                  </a:lnTo>
                  <a:lnTo>
                    <a:pt x="105" y="196"/>
                  </a:lnTo>
                  <a:lnTo>
                    <a:pt x="152" y="202"/>
                  </a:lnTo>
                  <a:lnTo>
                    <a:pt x="163" y="196"/>
                  </a:lnTo>
                  <a:lnTo>
                    <a:pt x="169" y="187"/>
                  </a:lnTo>
                  <a:lnTo>
                    <a:pt x="173" y="167"/>
                  </a:lnTo>
                  <a:lnTo>
                    <a:pt x="191" y="167"/>
                  </a:lnTo>
                  <a:lnTo>
                    <a:pt x="196" y="179"/>
                  </a:lnTo>
                  <a:lnTo>
                    <a:pt x="196" y="208"/>
                  </a:lnTo>
                  <a:lnTo>
                    <a:pt x="219" y="223"/>
                  </a:lnTo>
                  <a:lnTo>
                    <a:pt x="234" y="197"/>
                  </a:lnTo>
                  <a:lnTo>
                    <a:pt x="252" y="190"/>
                  </a:lnTo>
                  <a:lnTo>
                    <a:pt x="272" y="191"/>
                  </a:lnTo>
                  <a:lnTo>
                    <a:pt x="285" y="199"/>
                  </a:lnTo>
                  <a:lnTo>
                    <a:pt x="291" y="206"/>
                  </a:lnTo>
                  <a:lnTo>
                    <a:pt x="296" y="185"/>
                  </a:lnTo>
                  <a:lnTo>
                    <a:pt x="308" y="159"/>
                  </a:lnTo>
                  <a:lnTo>
                    <a:pt x="332" y="155"/>
                  </a:lnTo>
                  <a:lnTo>
                    <a:pt x="341" y="138"/>
                  </a:lnTo>
                  <a:lnTo>
                    <a:pt x="332" y="124"/>
                  </a:lnTo>
                  <a:lnTo>
                    <a:pt x="322" y="118"/>
                  </a:lnTo>
                  <a:lnTo>
                    <a:pt x="290" y="114"/>
                  </a:lnTo>
                  <a:lnTo>
                    <a:pt x="288" y="97"/>
                  </a:lnTo>
                  <a:lnTo>
                    <a:pt x="288" y="80"/>
                  </a:lnTo>
                  <a:lnTo>
                    <a:pt x="288" y="67"/>
                  </a:lnTo>
                  <a:lnTo>
                    <a:pt x="269" y="58"/>
                  </a:lnTo>
                  <a:lnTo>
                    <a:pt x="258" y="62"/>
                  </a:lnTo>
                  <a:lnTo>
                    <a:pt x="241" y="49"/>
                  </a:lnTo>
                  <a:lnTo>
                    <a:pt x="238" y="39"/>
                  </a:lnTo>
                  <a:lnTo>
                    <a:pt x="232" y="29"/>
                  </a:lnTo>
                  <a:lnTo>
                    <a:pt x="232" y="24"/>
                  </a:lnTo>
                  <a:lnTo>
                    <a:pt x="214" y="20"/>
                  </a:lnTo>
                  <a:lnTo>
                    <a:pt x="206" y="27"/>
                  </a:lnTo>
                  <a:lnTo>
                    <a:pt x="194" y="36"/>
                  </a:lnTo>
                  <a:lnTo>
                    <a:pt x="179" y="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048440" y="3909960"/>
              <a:ext cx="460440" cy="222480"/>
            </a:xfrm>
            <a:custGeom>
              <a:avLst/>
              <a:gdLst/>
              <a:ahLst/>
              <a:rect l="l" t="t" r="r" b="b"/>
              <a:pathLst>
                <a:path w="519" h="237">
                  <a:moveTo>
                    <a:pt x="0" y="85"/>
                  </a:moveTo>
                  <a:lnTo>
                    <a:pt x="21" y="84"/>
                  </a:lnTo>
                  <a:lnTo>
                    <a:pt x="30" y="81"/>
                  </a:lnTo>
                  <a:lnTo>
                    <a:pt x="41" y="94"/>
                  </a:lnTo>
                  <a:lnTo>
                    <a:pt x="55" y="90"/>
                  </a:lnTo>
                  <a:lnTo>
                    <a:pt x="73" y="93"/>
                  </a:lnTo>
                  <a:lnTo>
                    <a:pt x="84" y="100"/>
                  </a:lnTo>
                  <a:lnTo>
                    <a:pt x="102" y="90"/>
                  </a:lnTo>
                  <a:lnTo>
                    <a:pt x="126" y="91"/>
                  </a:lnTo>
                  <a:lnTo>
                    <a:pt x="135" y="102"/>
                  </a:lnTo>
                  <a:lnTo>
                    <a:pt x="150" y="105"/>
                  </a:lnTo>
                  <a:lnTo>
                    <a:pt x="159" y="97"/>
                  </a:lnTo>
                  <a:lnTo>
                    <a:pt x="185" y="93"/>
                  </a:lnTo>
                  <a:lnTo>
                    <a:pt x="197" y="93"/>
                  </a:lnTo>
                  <a:lnTo>
                    <a:pt x="217" y="100"/>
                  </a:lnTo>
                  <a:lnTo>
                    <a:pt x="240" y="115"/>
                  </a:lnTo>
                  <a:lnTo>
                    <a:pt x="258" y="108"/>
                  </a:lnTo>
                  <a:lnTo>
                    <a:pt x="261" y="93"/>
                  </a:lnTo>
                  <a:lnTo>
                    <a:pt x="249" y="73"/>
                  </a:lnTo>
                  <a:lnTo>
                    <a:pt x="244" y="46"/>
                  </a:lnTo>
                  <a:lnTo>
                    <a:pt x="302" y="6"/>
                  </a:lnTo>
                  <a:lnTo>
                    <a:pt x="315" y="6"/>
                  </a:lnTo>
                  <a:lnTo>
                    <a:pt x="317" y="20"/>
                  </a:lnTo>
                  <a:lnTo>
                    <a:pt x="334" y="23"/>
                  </a:lnTo>
                  <a:lnTo>
                    <a:pt x="372" y="18"/>
                  </a:lnTo>
                  <a:lnTo>
                    <a:pt x="387" y="2"/>
                  </a:lnTo>
                  <a:lnTo>
                    <a:pt x="432" y="0"/>
                  </a:lnTo>
                  <a:lnTo>
                    <a:pt x="443" y="20"/>
                  </a:lnTo>
                  <a:lnTo>
                    <a:pt x="461" y="20"/>
                  </a:lnTo>
                  <a:lnTo>
                    <a:pt x="478" y="9"/>
                  </a:lnTo>
                  <a:lnTo>
                    <a:pt x="506" y="28"/>
                  </a:lnTo>
                  <a:lnTo>
                    <a:pt x="506" y="59"/>
                  </a:lnTo>
                  <a:lnTo>
                    <a:pt x="519" y="73"/>
                  </a:lnTo>
                  <a:lnTo>
                    <a:pt x="515" y="94"/>
                  </a:lnTo>
                  <a:lnTo>
                    <a:pt x="506" y="115"/>
                  </a:lnTo>
                  <a:lnTo>
                    <a:pt x="491" y="115"/>
                  </a:lnTo>
                  <a:lnTo>
                    <a:pt x="485" y="122"/>
                  </a:lnTo>
                  <a:lnTo>
                    <a:pt x="494" y="138"/>
                  </a:lnTo>
                  <a:lnTo>
                    <a:pt x="494" y="155"/>
                  </a:lnTo>
                  <a:lnTo>
                    <a:pt x="485" y="170"/>
                  </a:lnTo>
                  <a:lnTo>
                    <a:pt x="461" y="182"/>
                  </a:lnTo>
                  <a:lnTo>
                    <a:pt x="459" y="197"/>
                  </a:lnTo>
                  <a:lnTo>
                    <a:pt x="459" y="213"/>
                  </a:lnTo>
                  <a:lnTo>
                    <a:pt x="437" y="217"/>
                  </a:lnTo>
                  <a:lnTo>
                    <a:pt x="397" y="216"/>
                  </a:lnTo>
                  <a:lnTo>
                    <a:pt x="379" y="220"/>
                  </a:lnTo>
                  <a:lnTo>
                    <a:pt x="346" y="220"/>
                  </a:lnTo>
                  <a:lnTo>
                    <a:pt x="332" y="237"/>
                  </a:lnTo>
                  <a:lnTo>
                    <a:pt x="279" y="220"/>
                  </a:lnTo>
                  <a:lnTo>
                    <a:pt x="253" y="220"/>
                  </a:lnTo>
                  <a:lnTo>
                    <a:pt x="187" y="206"/>
                  </a:lnTo>
                  <a:lnTo>
                    <a:pt x="177" y="190"/>
                  </a:lnTo>
                  <a:lnTo>
                    <a:pt x="177" y="173"/>
                  </a:lnTo>
                  <a:lnTo>
                    <a:pt x="173" y="162"/>
                  </a:lnTo>
                  <a:lnTo>
                    <a:pt x="164" y="158"/>
                  </a:lnTo>
                  <a:lnTo>
                    <a:pt x="123" y="159"/>
                  </a:lnTo>
                  <a:lnTo>
                    <a:pt x="65" y="166"/>
                  </a:lnTo>
                  <a:lnTo>
                    <a:pt x="59" y="152"/>
                  </a:lnTo>
                  <a:lnTo>
                    <a:pt x="50" y="147"/>
                  </a:lnTo>
                  <a:lnTo>
                    <a:pt x="32" y="141"/>
                  </a:lnTo>
                  <a:lnTo>
                    <a:pt x="15" y="137"/>
                  </a:lnTo>
                  <a:lnTo>
                    <a:pt x="15" y="122"/>
                  </a:lnTo>
                  <a:lnTo>
                    <a:pt x="15" y="97"/>
                  </a:lnTo>
                  <a:lnTo>
                    <a:pt x="0" y="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69120" y="4111560"/>
              <a:ext cx="203040" cy="125640"/>
            </a:xfrm>
            <a:custGeom>
              <a:avLst/>
              <a:gdLst/>
              <a:ahLst/>
              <a:rect l="l" t="t" r="r" b="b"/>
              <a:pathLst>
                <a:path w="227" h="132">
                  <a:moveTo>
                    <a:pt x="19" y="73"/>
                  </a:moveTo>
                  <a:lnTo>
                    <a:pt x="42" y="96"/>
                  </a:lnTo>
                  <a:lnTo>
                    <a:pt x="36" y="106"/>
                  </a:lnTo>
                  <a:lnTo>
                    <a:pt x="25" y="115"/>
                  </a:lnTo>
                  <a:lnTo>
                    <a:pt x="13" y="117"/>
                  </a:lnTo>
                  <a:lnTo>
                    <a:pt x="0" y="120"/>
                  </a:lnTo>
                  <a:lnTo>
                    <a:pt x="24" y="130"/>
                  </a:lnTo>
                  <a:lnTo>
                    <a:pt x="33" y="132"/>
                  </a:lnTo>
                  <a:lnTo>
                    <a:pt x="62" y="115"/>
                  </a:lnTo>
                  <a:lnTo>
                    <a:pt x="124" y="130"/>
                  </a:lnTo>
                  <a:lnTo>
                    <a:pt x="165" y="85"/>
                  </a:lnTo>
                  <a:lnTo>
                    <a:pt x="174" y="65"/>
                  </a:lnTo>
                  <a:lnTo>
                    <a:pt x="182" y="59"/>
                  </a:lnTo>
                  <a:lnTo>
                    <a:pt x="204" y="62"/>
                  </a:lnTo>
                  <a:lnTo>
                    <a:pt x="227" y="35"/>
                  </a:lnTo>
                  <a:lnTo>
                    <a:pt x="226" y="17"/>
                  </a:lnTo>
                  <a:lnTo>
                    <a:pt x="209" y="0"/>
                  </a:lnTo>
                  <a:lnTo>
                    <a:pt x="198" y="2"/>
                  </a:lnTo>
                  <a:lnTo>
                    <a:pt x="188" y="6"/>
                  </a:lnTo>
                  <a:lnTo>
                    <a:pt x="166" y="2"/>
                  </a:lnTo>
                  <a:lnTo>
                    <a:pt x="147" y="2"/>
                  </a:lnTo>
                  <a:lnTo>
                    <a:pt x="126" y="8"/>
                  </a:lnTo>
                  <a:lnTo>
                    <a:pt x="97" y="6"/>
                  </a:lnTo>
                  <a:lnTo>
                    <a:pt x="85" y="23"/>
                  </a:lnTo>
                  <a:lnTo>
                    <a:pt x="36" y="8"/>
                  </a:lnTo>
                  <a:lnTo>
                    <a:pt x="18" y="8"/>
                  </a:lnTo>
                  <a:lnTo>
                    <a:pt x="18" y="36"/>
                  </a:lnTo>
                  <a:lnTo>
                    <a:pt x="19" y="7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703920" y="3548160"/>
              <a:ext cx="212760" cy="200160"/>
            </a:xfrm>
            <a:custGeom>
              <a:avLst/>
              <a:gdLst/>
              <a:ahLst/>
              <a:rect l="l" t="t" r="r" b="b"/>
              <a:pathLst>
                <a:path w="239" h="212">
                  <a:moveTo>
                    <a:pt x="0" y="37"/>
                  </a:moveTo>
                  <a:lnTo>
                    <a:pt x="6" y="30"/>
                  </a:lnTo>
                  <a:lnTo>
                    <a:pt x="3" y="19"/>
                  </a:lnTo>
                  <a:lnTo>
                    <a:pt x="39" y="0"/>
                  </a:lnTo>
                  <a:lnTo>
                    <a:pt x="44" y="6"/>
                  </a:lnTo>
                  <a:lnTo>
                    <a:pt x="69" y="1"/>
                  </a:lnTo>
                  <a:lnTo>
                    <a:pt x="91" y="3"/>
                  </a:lnTo>
                  <a:lnTo>
                    <a:pt x="82" y="13"/>
                  </a:lnTo>
                  <a:lnTo>
                    <a:pt x="86" y="27"/>
                  </a:lnTo>
                  <a:lnTo>
                    <a:pt x="104" y="33"/>
                  </a:lnTo>
                  <a:lnTo>
                    <a:pt x="119" y="31"/>
                  </a:lnTo>
                  <a:lnTo>
                    <a:pt x="133" y="21"/>
                  </a:lnTo>
                  <a:lnTo>
                    <a:pt x="157" y="19"/>
                  </a:lnTo>
                  <a:lnTo>
                    <a:pt x="163" y="28"/>
                  </a:lnTo>
                  <a:lnTo>
                    <a:pt x="177" y="36"/>
                  </a:lnTo>
                  <a:lnTo>
                    <a:pt x="197" y="37"/>
                  </a:lnTo>
                  <a:lnTo>
                    <a:pt x="194" y="53"/>
                  </a:lnTo>
                  <a:lnTo>
                    <a:pt x="195" y="86"/>
                  </a:lnTo>
                  <a:lnTo>
                    <a:pt x="198" y="106"/>
                  </a:lnTo>
                  <a:lnTo>
                    <a:pt x="219" y="103"/>
                  </a:lnTo>
                  <a:lnTo>
                    <a:pt x="227" y="116"/>
                  </a:lnTo>
                  <a:lnTo>
                    <a:pt x="229" y="128"/>
                  </a:lnTo>
                  <a:lnTo>
                    <a:pt x="239" y="144"/>
                  </a:lnTo>
                  <a:lnTo>
                    <a:pt x="225" y="156"/>
                  </a:lnTo>
                  <a:lnTo>
                    <a:pt x="213" y="165"/>
                  </a:lnTo>
                  <a:lnTo>
                    <a:pt x="200" y="165"/>
                  </a:lnTo>
                  <a:lnTo>
                    <a:pt x="183" y="169"/>
                  </a:lnTo>
                  <a:lnTo>
                    <a:pt x="183" y="186"/>
                  </a:lnTo>
                  <a:lnTo>
                    <a:pt x="175" y="198"/>
                  </a:lnTo>
                  <a:lnTo>
                    <a:pt x="159" y="212"/>
                  </a:lnTo>
                  <a:lnTo>
                    <a:pt x="130" y="191"/>
                  </a:lnTo>
                  <a:lnTo>
                    <a:pt x="122" y="171"/>
                  </a:lnTo>
                  <a:lnTo>
                    <a:pt x="97" y="165"/>
                  </a:lnTo>
                  <a:lnTo>
                    <a:pt x="88" y="139"/>
                  </a:lnTo>
                  <a:lnTo>
                    <a:pt x="69" y="124"/>
                  </a:lnTo>
                  <a:lnTo>
                    <a:pt x="62" y="106"/>
                  </a:lnTo>
                  <a:lnTo>
                    <a:pt x="48" y="87"/>
                  </a:lnTo>
                  <a:lnTo>
                    <a:pt x="38" y="69"/>
                  </a:lnTo>
                  <a:lnTo>
                    <a:pt x="18" y="56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848280" y="3705480"/>
              <a:ext cx="58680" cy="777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47" y="82"/>
                  </a:moveTo>
                  <a:lnTo>
                    <a:pt x="51" y="54"/>
                  </a:lnTo>
                  <a:lnTo>
                    <a:pt x="67" y="45"/>
                  </a:lnTo>
                  <a:lnTo>
                    <a:pt x="67" y="32"/>
                  </a:lnTo>
                  <a:lnTo>
                    <a:pt x="57" y="23"/>
                  </a:lnTo>
                  <a:lnTo>
                    <a:pt x="50" y="1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20" y="21"/>
                  </a:lnTo>
                  <a:lnTo>
                    <a:pt x="10" y="36"/>
                  </a:lnTo>
                  <a:lnTo>
                    <a:pt x="0" y="41"/>
                  </a:lnTo>
                  <a:lnTo>
                    <a:pt x="4" y="54"/>
                  </a:lnTo>
                  <a:lnTo>
                    <a:pt x="18" y="57"/>
                  </a:lnTo>
                  <a:lnTo>
                    <a:pt x="33" y="60"/>
                  </a:lnTo>
                  <a:lnTo>
                    <a:pt x="41" y="68"/>
                  </a:lnTo>
                  <a:lnTo>
                    <a:pt x="47" y="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778440" y="3403800"/>
              <a:ext cx="219240" cy="244440"/>
            </a:xfrm>
            <a:custGeom>
              <a:avLst/>
              <a:gdLst/>
              <a:ahLst/>
              <a:rect l="l" t="t" r="r" b="b"/>
              <a:pathLst>
                <a:path w="244" h="261">
                  <a:moveTo>
                    <a:pt x="102" y="6"/>
                  </a:moveTo>
                  <a:lnTo>
                    <a:pt x="76" y="38"/>
                  </a:lnTo>
                  <a:lnTo>
                    <a:pt x="76" y="47"/>
                  </a:lnTo>
                  <a:lnTo>
                    <a:pt x="61" y="62"/>
                  </a:lnTo>
                  <a:lnTo>
                    <a:pt x="64" y="65"/>
                  </a:lnTo>
                  <a:lnTo>
                    <a:pt x="59" y="76"/>
                  </a:lnTo>
                  <a:lnTo>
                    <a:pt x="44" y="89"/>
                  </a:lnTo>
                  <a:lnTo>
                    <a:pt x="29" y="108"/>
                  </a:lnTo>
                  <a:lnTo>
                    <a:pt x="23" y="117"/>
                  </a:lnTo>
                  <a:lnTo>
                    <a:pt x="29" y="124"/>
                  </a:lnTo>
                  <a:lnTo>
                    <a:pt x="24" y="138"/>
                  </a:lnTo>
                  <a:lnTo>
                    <a:pt x="17" y="147"/>
                  </a:lnTo>
                  <a:lnTo>
                    <a:pt x="11" y="151"/>
                  </a:lnTo>
                  <a:lnTo>
                    <a:pt x="0" y="165"/>
                  </a:lnTo>
                  <a:lnTo>
                    <a:pt x="2" y="177"/>
                  </a:lnTo>
                  <a:lnTo>
                    <a:pt x="12" y="185"/>
                  </a:lnTo>
                  <a:lnTo>
                    <a:pt x="39" y="185"/>
                  </a:lnTo>
                  <a:lnTo>
                    <a:pt x="55" y="176"/>
                  </a:lnTo>
                  <a:lnTo>
                    <a:pt x="71" y="173"/>
                  </a:lnTo>
                  <a:lnTo>
                    <a:pt x="83" y="185"/>
                  </a:lnTo>
                  <a:lnTo>
                    <a:pt x="97" y="189"/>
                  </a:lnTo>
                  <a:lnTo>
                    <a:pt x="114" y="192"/>
                  </a:lnTo>
                  <a:lnTo>
                    <a:pt x="109" y="212"/>
                  </a:lnTo>
                  <a:lnTo>
                    <a:pt x="115" y="261"/>
                  </a:lnTo>
                  <a:lnTo>
                    <a:pt x="130" y="259"/>
                  </a:lnTo>
                  <a:lnTo>
                    <a:pt x="139" y="258"/>
                  </a:lnTo>
                  <a:lnTo>
                    <a:pt x="142" y="244"/>
                  </a:lnTo>
                  <a:lnTo>
                    <a:pt x="146" y="215"/>
                  </a:lnTo>
                  <a:lnTo>
                    <a:pt x="156" y="200"/>
                  </a:lnTo>
                  <a:lnTo>
                    <a:pt x="156" y="176"/>
                  </a:lnTo>
                  <a:lnTo>
                    <a:pt x="165" y="161"/>
                  </a:lnTo>
                  <a:lnTo>
                    <a:pt x="183" y="151"/>
                  </a:lnTo>
                  <a:lnTo>
                    <a:pt x="220" y="112"/>
                  </a:lnTo>
                  <a:lnTo>
                    <a:pt x="224" y="94"/>
                  </a:lnTo>
                  <a:lnTo>
                    <a:pt x="218" y="67"/>
                  </a:lnTo>
                  <a:lnTo>
                    <a:pt x="241" y="48"/>
                  </a:lnTo>
                  <a:lnTo>
                    <a:pt x="244" y="18"/>
                  </a:lnTo>
                  <a:lnTo>
                    <a:pt x="229" y="4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6" y="0"/>
                  </a:lnTo>
                  <a:lnTo>
                    <a:pt x="144" y="9"/>
                  </a:lnTo>
                  <a:lnTo>
                    <a:pt x="133" y="23"/>
                  </a:lnTo>
                  <a:lnTo>
                    <a:pt x="135" y="33"/>
                  </a:lnTo>
                  <a:lnTo>
                    <a:pt x="150" y="44"/>
                  </a:lnTo>
                  <a:lnTo>
                    <a:pt x="161" y="56"/>
                  </a:lnTo>
                  <a:lnTo>
                    <a:pt x="161" y="74"/>
                  </a:lnTo>
                  <a:lnTo>
                    <a:pt x="144" y="86"/>
                  </a:lnTo>
                  <a:lnTo>
                    <a:pt x="126" y="89"/>
                  </a:lnTo>
                  <a:lnTo>
                    <a:pt x="114" y="92"/>
                  </a:lnTo>
                  <a:lnTo>
                    <a:pt x="108" y="82"/>
                  </a:lnTo>
                  <a:lnTo>
                    <a:pt x="103" y="67"/>
                  </a:lnTo>
                  <a:lnTo>
                    <a:pt x="112" y="54"/>
                  </a:lnTo>
                  <a:lnTo>
                    <a:pt x="109" y="39"/>
                  </a:lnTo>
                  <a:lnTo>
                    <a:pt x="108" y="24"/>
                  </a:lnTo>
                  <a:lnTo>
                    <a:pt x="102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32520" y="3016440"/>
              <a:ext cx="309600" cy="299880"/>
            </a:xfrm>
            <a:custGeom>
              <a:avLst/>
              <a:gdLst/>
              <a:ahLst/>
              <a:rect l="l" t="t" r="r" b="b"/>
              <a:pathLst>
                <a:path w="347" h="318">
                  <a:moveTo>
                    <a:pt x="129" y="120"/>
                  </a:moveTo>
                  <a:lnTo>
                    <a:pt x="125" y="132"/>
                  </a:lnTo>
                  <a:lnTo>
                    <a:pt x="129" y="150"/>
                  </a:lnTo>
                  <a:lnTo>
                    <a:pt x="122" y="159"/>
                  </a:lnTo>
                  <a:lnTo>
                    <a:pt x="111" y="153"/>
                  </a:lnTo>
                  <a:lnTo>
                    <a:pt x="99" y="155"/>
                  </a:lnTo>
                  <a:lnTo>
                    <a:pt x="99" y="168"/>
                  </a:lnTo>
                  <a:lnTo>
                    <a:pt x="73" y="192"/>
                  </a:lnTo>
                  <a:lnTo>
                    <a:pt x="58" y="197"/>
                  </a:lnTo>
                  <a:lnTo>
                    <a:pt x="38" y="220"/>
                  </a:lnTo>
                  <a:lnTo>
                    <a:pt x="26" y="226"/>
                  </a:lnTo>
                  <a:lnTo>
                    <a:pt x="16" y="224"/>
                  </a:lnTo>
                  <a:lnTo>
                    <a:pt x="11" y="227"/>
                  </a:lnTo>
                  <a:lnTo>
                    <a:pt x="8" y="232"/>
                  </a:lnTo>
                  <a:lnTo>
                    <a:pt x="12" y="239"/>
                  </a:lnTo>
                  <a:lnTo>
                    <a:pt x="12" y="255"/>
                  </a:lnTo>
                  <a:lnTo>
                    <a:pt x="0" y="268"/>
                  </a:lnTo>
                  <a:lnTo>
                    <a:pt x="5" y="282"/>
                  </a:lnTo>
                  <a:lnTo>
                    <a:pt x="5" y="282"/>
                  </a:lnTo>
                  <a:lnTo>
                    <a:pt x="20" y="282"/>
                  </a:lnTo>
                  <a:lnTo>
                    <a:pt x="26" y="271"/>
                  </a:lnTo>
                  <a:lnTo>
                    <a:pt x="35" y="280"/>
                  </a:lnTo>
                  <a:lnTo>
                    <a:pt x="23" y="288"/>
                  </a:lnTo>
                  <a:lnTo>
                    <a:pt x="28" y="302"/>
                  </a:lnTo>
                  <a:lnTo>
                    <a:pt x="35" y="303"/>
                  </a:lnTo>
                  <a:lnTo>
                    <a:pt x="62" y="308"/>
                  </a:lnTo>
                  <a:lnTo>
                    <a:pt x="67" y="311"/>
                  </a:lnTo>
                  <a:lnTo>
                    <a:pt x="93" y="318"/>
                  </a:lnTo>
                  <a:lnTo>
                    <a:pt x="102" y="314"/>
                  </a:lnTo>
                  <a:lnTo>
                    <a:pt x="125" y="302"/>
                  </a:lnTo>
                  <a:lnTo>
                    <a:pt x="156" y="308"/>
                  </a:lnTo>
                  <a:lnTo>
                    <a:pt x="214" y="308"/>
                  </a:lnTo>
                  <a:lnTo>
                    <a:pt x="246" y="302"/>
                  </a:lnTo>
                  <a:lnTo>
                    <a:pt x="261" y="277"/>
                  </a:lnTo>
                  <a:lnTo>
                    <a:pt x="281" y="268"/>
                  </a:lnTo>
                  <a:lnTo>
                    <a:pt x="287" y="255"/>
                  </a:lnTo>
                  <a:lnTo>
                    <a:pt x="293" y="235"/>
                  </a:lnTo>
                  <a:lnTo>
                    <a:pt x="308" y="224"/>
                  </a:lnTo>
                  <a:lnTo>
                    <a:pt x="320" y="192"/>
                  </a:lnTo>
                  <a:lnTo>
                    <a:pt x="319" y="155"/>
                  </a:lnTo>
                  <a:lnTo>
                    <a:pt x="347" y="138"/>
                  </a:lnTo>
                  <a:lnTo>
                    <a:pt x="331" y="123"/>
                  </a:lnTo>
                  <a:lnTo>
                    <a:pt x="325" y="97"/>
                  </a:lnTo>
                  <a:lnTo>
                    <a:pt x="314" y="88"/>
                  </a:lnTo>
                  <a:lnTo>
                    <a:pt x="300" y="88"/>
                  </a:lnTo>
                  <a:lnTo>
                    <a:pt x="288" y="80"/>
                  </a:lnTo>
                  <a:lnTo>
                    <a:pt x="266" y="53"/>
                  </a:lnTo>
                  <a:lnTo>
                    <a:pt x="276" y="47"/>
                  </a:lnTo>
                  <a:lnTo>
                    <a:pt x="316" y="10"/>
                  </a:lnTo>
                  <a:lnTo>
                    <a:pt x="311" y="0"/>
                  </a:lnTo>
                  <a:lnTo>
                    <a:pt x="299" y="3"/>
                  </a:lnTo>
                  <a:lnTo>
                    <a:pt x="257" y="4"/>
                  </a:lnTo>
                  <a:lnTo>
                    <a:pt x="241" y="15"/>
                  </a:lnTo>
                  <a:lnTo>
                    <a:pt x="231" y="21"/>
                  </a:lnTo>
                  <a:lnTo>
                    <a:pt x="216" y="20"/>
                  </a:lnTo>
                  <a:lnTo>
                    <a:pt x="206" y="26"/>
                  </a:lnTo>
                  <a:lnTo>
                    <a:pt x="214" y="36"/>
                  </a:lnTo>
                  <a:lnTo>
                    <a:pt x="235" y="50"/>
                  </a:lnTo>
                  <a:lnTo>
                    <a:pt x="220" y="53"/>
                  </a:lnTo>
                  <a:lnTo>
                    <a:pt x="182" y="57"/>
                  </a:lnTo>
                  <a:lnTo>
                    <a:pt x="156" y="47"/>
                  </a:lnTo>
                  <a:lnTo>
                    <a:pt x="131" y="36"/>
                  </a:lnTo>
                  <a:lnTo>
                    <a:pt x="122" y="42"/>
                  </a:lnTo>
                  <a:lnTo>
                    <a:pt x="116" y="62"/>
                  </a:lnTo>
                  <a:lnTo>
                    <a:pt x="117" y="73"/>
                  </a:lnTo>
                  <a:lnTo>
                    <a:pt x="114" y="77"/>
                  </a:lnTo>
                  <a:lnTo>
                    <a:pt x="99" y="83"/>
                  </a:lnTo>
                  <a:lnTo>
                    <a:pt x="100" y="103"/>
                  </a:lnTo>
                  <a:lnTo>
                    <a:pt x="99" y="108"/>
                  </a:lnTo>
                  <a:lnTo>
                    <a:pt x="84" y="127"/>
                  </a:lnTo>
                  <a:lnTo>
                    <a:pt x="97" y="147"/>
                  </a:lnTo>
                  <a:lnTo>
                    <a:pt x="102" y="145"/>
                  </a:lnTo>
                  <a:lnTo>
                    <a:pt x="129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1" name=""/>
            <p:cNvGrpSpPr/>
            <p:nvPr/>
          </p:nvGrpSpPr>
          <p:grpSpPr>
            <a:xfrm>
              <a:off x="7084800" y="3038760"/>
              <a:ext cx="356760" cy="293040"/>
              <a:chOff x="7084800" y="3038760"/>
              <a:chExt cx="356760" cy="293040"/>
            </a:xfrm>
          </p:grpSpPr>
          <p:sp>
            <p:nvSpPr>
              <p:cNvPr id="2992" name=""/>
              <p:cNvSpPr/>
              <p:nvPr/>
            </p:nvSpPr>
            <p:spPr>
              <a:xfrm>
                <a:off x="7084800" y="3098520"/>
                <a:ext cx="145800" cy="193680"/>
              </a:xfrm>
              <a:custGeom>
                <a:avLst/>
                <a:gdLst/>
                <a:ahLst/>
                <a:rect l="l" t="t" r="r" b="b"/>
                <a:pathLst>
                  <a:path w="165" h="207">
                    <a:moveTo>
                      <a:pt x="12" y="176"/>
                    </a:moveTo>
                    <a:lnTo>
                      <a:pt x="21" y="191"/>
                    </a:lnTo>
                    <a:lnTo>
                      <a:pt x="39" y="191"/>
                    </a:lnTo>
                    <a:lnTo>
                      <a:pt x="56" y="196"/>
                    </a:lnTo>
                    <a:lnTo>
                      <a:pt x="70" y="207"/>
                    </a:lnTo>
                    <a:lnTo>
                      <a:pt x="83" y="207"/>
                    </a:lnTo>
                    <a:lnTo>
                      <a:pt x="74" y="193"/>
                    </a:lnTo>
                    <a:lnTo>
                      <a:pt x="80" y="176"/>
                    </a:lnTo>
                    <a:lnTo>
                      <a:pt x="90" y="156"/>
                    </a:lnTo>
                    <a:lnTo>
                      <a:pt x="94" y="135"/>
                    </a:lnTo>
                    <a:lnTo>
                      <a:pt x="114" y="122"/>
                    </a:lnTo>
                    <a:lnTo>
                      <a:pt x="129" y="113"/>
                    </a:lnTo>
                    <a:lnTo>
                      <a:pt x="127" y="100"/>
                    </a:lnTo>
                    <a:lnTo>
                      <a:pt x="127" y="79"/>
                    </a:lnTo>
                    <a:lnTo>
                      <a:pt x="132" y="70"/>
                    </a:lnTo>
                    <a:lnTo>
                      <a:pt x="147" y="69"/>
                    </a:lnTo>
                    <a:lnTo>
                      <a:pt x="153" y="73"/>
                    </a:lnTo>
                    <a:lnTo>
                      <a:pt x="165" y="58"/>
                    </a:lnTo>
                    <a:lnTo>
                      <a:pt x="161" y="44"/>
                    </a:lnTo>
                    <a:lnTo>
                      <a:pt x="153" y="43"/>
                    </a:lnTo>
                    <a:lnTo>
                      <a:pt x="138" y="43"/>
                    </a:lnTo>
                    <a:lnTo>
                      <a:pt x="132" y="43"/>
                    </a:lnTo>
                    <a:lnTo>
                      <a:pt x="127" y="23"/>
                    </a:lnTo>
                    <a:lnTo>
                      <a:pt x="129" y="5"/>
                    </a:lnTo>
                    <a:lnTo>
                      <a:pt x="118" y="0"/>
                    </a:lnTo>
                    <a:lnTo>
                      <a:pt x="114" y="6"/>
                    </a:lnTo>
                    <a:lnTo>
                      <a:pt x="90" y="2"/>
                    </a:lnTo>
                    <a:lnTo>
                      <a:pt x="83" y="8"/>
                    </a:lnTo>
                    <a:lnTo>
                      <a:pt x="90" y="26"/>
                    </a:lnTo>
                    <a:lnTo>
                      <a:pt x="86" y="43"/>
                    </a:lnTo>
                    <a:lnTo>
                      <a:pt x="76" y="31"/>
                    </a:lnTo>
                    <a:lnTo>
                      <a:pt x="71" y="20"/>
                    </a:lnTo>
                    <a:lnTo>
                      <a:pt x="56" y="22"/>
                    </a:lnTo>
                    <a:lnTo>
                      <a:pt x="52" y="32"/>
                    </a:lnTo>
                    <a:lnTo>
                      <a:pt x="47" y="37"/>
                    </a:lnTo>
                    <a:lnTo>
                      <a:pt x="47" y="52"/>
                    </a:lnTo>
                    <a:lnTo>
                      <a:pt x="44" y="49"/>
                    </a:lnTo>
                    <a:lnTo>
                      <a:pt x="32" y="31"/>
                    </a:lnTo>
                    <a:lnTo>
                      <a:pt x="24" y="23"/>
                    </a:lnTo>
                    <a:lnTo>
                      <a:pt x="17" y="28"/>
                    </a:lnTo>
                    <a:lnTo>
                      <a:pt x="18" y="38"/>
                    </a:lnTo>
                    <a:lnTo>
                      <a:pt x="18" y="44"/>
                    </a:lnTo>
                    <a:lnTo>
                      <a:pt x="8" y="49"/>
                    </a:lnTo>
                    <a:lnTo>
                      <a:pt x="8" y="64"/>
                    </a:lnTo>
                    <a:lnTo>
                      <a:pt x="17" y="79"/>
                    </a:lnTo>
                    <a:lnTo>
                      <a:pt x="17" y="90"/>
                    </a:lnTo>
                    <a:lnTo>
                      <a:pt x="12" y="100"/>
                    </a:lnTo>
                    <a:lnTo>
                      <a:pt x="0" y="111"/>
                    </a:lnTo>
                    <a:lnTo>
                      <a:pt x="2" y="122"/>
                    </a:lnTo>
                    <a:lnTo>
                      <a:pt x="14" y="132"/>
                    </a:lnTo>
                    <a:lnTo>
                      <a:pt x="18" y="143"/>
                    </a:lnTo>
                    <a:lnTo>
                      <a:pt x="17" y="164"/>
                    </a:lnTo>
                    <a:lnTo>
                      <a:pt x="12" y="17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112880" y="3038760"/>
                <a:ext cx="112320" cy="73080"/>
              </a:xfrm>
              <a:custGeom>
                <a:avLst/>
                <a:gdLst/>
                <a:ahLst/>
                <a:rect l="l" t="t" r="r" b="b"/>
                <a:pathLst>
                  <a:path w="126" h="78">
                    <a:moveTo>
                      <a:pt x="0" y="75"/>
                    </a:moveTo>
                    <a:lnTo>
                      <a:pt x="11" y="78"/>
                    </a:lnTo>
                    <a:lnTo>
                      <a:pt x="23" y="69"/>
                    </a:lnTo>
                    <a:lnTo>
                      <a:pt x="37" y="54"/>
                    </a:lnTo>
                    <a:lnTo>
                      <a:pt x="70" y="54"/>
                    </a:lnTo>
                    <a:lnTo>
                      <a:pt x="100" y="48"/>
                    </a:lnTo>
                    <a:lnTo>
                      <a:pt x="119" y="34"/>
                    </a:lnTo>
                    <a:lnTo>
                      <a:pt x="123" y="18"/>
                    </a:lnTo>
                    <a:lnTo>
                      <a:pt x="126" y="0"/>
                    </a:lnTo>
                    <a:lnTo>
                      <a:pt x="103" y="10"/>
                    </a:lnTo>
                    <a:lnTo>
                      <a:pt x="61" y="30"/>
                    </a:lnTo>
                    <a:lnTo>
                      <a:pt x="49" y="31"/>
                    </a:lnTo>
                    <a:lnTo>
                      <a:pt x="37" y="42"/>
                    </a:lnTo>
                    <a:lnTo>
                      <a:pt x="11" y="47"/>
                    </a:lnTo>
                    <a:lnTo>
                      <a:pt x="0" y="51"/>
                    </a:lnTo>
                    <a:lnTo>
                      <a:pt x="0" y="7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171920" y="3219480"/>
                <a:ext cx="46080" cy="6156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16" y="0"/>
                    </a:moveTo>
                    <a:lnTo>
                      <a:pt x="51" y="23"/>
                    </a:lnTo>
                    <a:lnTo>
                      <a:pt x="53" y="34"/>
                    </a:lnTo>
                    <a:lnTo>
                      <a:pt x="41" y="46"/>
                    </a:lnTo>
                    <a:lnTo>
                      <a:pt x="28" y="55"/>
                    </a:lnTo>
                    <a:lnTo>
                      <a:pt x="31" y="65"/>
                    </a:lnTo>
                    <a:lnTo>
                      <a:pt x="16" y="62"/>
                    </a:lnTo>
                    <a:lnTo>
                      <a:pt x="1" y="46"/>
                    </a:lnTo>
                    <a:lnTo>
                      <a:pt x="0" y="34"/>
                    </a:lnTo>
                    <a:lnTo>
                      <a:pt x="6" y="20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230600" y="320220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1" h="96">
                    <a:moveTo>
                      <a:pt x="76" y="0"/>
                    </a:moveTo>
                    <a:lnTo>
                      <a:pt x="81" y="5"/>
                    </a:lnTo>
                    <a:lnTo>
                      <a:pt x="76" y="9"/>
                    </a:lnTo>
                    <a:lnTo>
                      <a:pt x="81" y="20"/>
                    </a:lnTo>
                    <a:lnTo>
                      <a:pt x="75" y="33"/>
                    </a:lnTo>
                    <a:lnTo>
                      <a:pt x="62" y="42"/>
                    </a:lnTo>
                    <a:lnTo>
                      <a:pt x="67" y="53"/>
                    </a:lnTo>
                    <a:lnTo>
                      <a:pt x="62" y="62"/>
                    </a:lnTo>
                    <a:lnTo>
                      <a:pt x="67" y="71"/>
                    </a:lnTo>
                    <a:lnTo>
                      <a:pt x="52" y="96"/>
                    </a:lnTo>
                    <a:lnTo>
                      <a:pt x="18" y="71"/>
                    </a:lnTo>
                    <a:lnTo>
                      <a:pt x="0" y="59"/>
                    </a:lnTo>
                    <a:lnTo>
                      <a:pt x="11" y="53"/>
                    </a:lnTo>
                    <a:lnTo>
                      <a:pt x="11" y="38"/>
                    </a:lnTo>
                    <a:lnTo>
                      <a:pt x="32" y="24"/>
                    </a:lnTo>
                    <a:lnTo>
                      <a:pt x="43" y="29"/>
                    </a:lnTo>
                    <a:lnTo>
                      <a:pt x="52" y="24"/>
                    </a:lnTo>
                    <a:lnTo>
                      <a:pt x="70" y="12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223760" y="329436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0"/>
                    </a:moveTo>
                    <a:lnTo>
                      <a:pt x="21" y="6"/>
                    </a:lnTo>
                    <a:lnTo>
                      <a:pt x="29" y="16"/>
                    </a:lnTo>
                    <a:lnTo>
                      <a:pt x="32" y="31"/>
                    </a:lnTo>
                    <a:lnTo>
                      <a:pt x="21" y="39"/>
                    </a:lnTo>
                    <a:lnTo>
                      <a:pt x="5" y="33"/>
                    </a:lnTo>
                    <a:lnTo>
                      <a:pt x="2" y="2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418160" y="32850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8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17" y="33"/>
                    </a:lnTo>
                    <a:lnTo>
                      <a:pt x="24" y="18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8" name=""/>
            <p:cNvGrpSpPr/>
            <p:nvPr/>
          </p:nvGrpSpPr>
          <p:grpSpPr>
            <a:xfrm>
              <a:off x="6887880" y="3275280"/>
              <a:ext cx="523800" cy="740880"/>
              <a:chOff x="6887880" y="3275280"/>
              <a:chExt cx="523800" cy="740880"/>
            </a:xfrm>
          </p:grpSpPr>
          <p:sp>
            <p:nvSpPr>
              <p:cNvPr id="2999" name=""/>
              <p:cNvSpPr/>
              <p:nvPr/>
            </p:nvSpPr>
            <p:spPr>
              <a:xfrm>
                <a:off x="7331040" y="334656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" y="0"/>
                    </a:moveTo>
                    <a:lnTo>
                      <a:pt x="0" y="5"/>
                    </a:lnTo>
                    <a:lnTo>
                      <a:pt x="2" y="18"/>
                    </a:lnTo>
                    <a:lnTo>
                      <a:pt x="17" y="26"/>
                    </a:lnTo>
                    <a:lnTo>
                      <a:pt x="28" y="15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87880" y="3275280"/>
                <a:ext cx="523800" cy="740880"/>
              </a:xfrm>
              <a:custGeom>
                <a:avLst/>
                <a:gdLst/>
                <a:ahLst/>
                <a:rect l="l" t="t" r="r" b="b"/>
                <a:pathLst>
                  <a:path w="587" h="785">
                    <a:moveTo>
                      <a:pt x="243" y="0"/>
                    </a:moveTo>
                    <a:lnTo>
                      <a:pt x="229" y="7"/>
                    </a:lnTo>
                    <a:lnTo>
                      <a:pt x="229" y="17"/>
                    </a:lnTo>
                    <a:lnTo>
                      <a:pt x="232" y="26"/>
                    </a:lnTo>
                    <a:lnTo>
                      <a:pt x="234" y="38"/>
                    </a:lnTo>
                    <a:lnTo>
                      <a:pt x="237" y="54"/>
                    </a:lnTo>
                    <a:lnTo>
                      <a:pt x="229" y="62"/>
                    </a:lnTo>
                    <a:lnTo>
                      <a:pt x="229" y="73"/>
                    </a:lnTo>
                    <a:lnTo>
                      <a:pt x="232" y="82"/>
                    </a:lnTo>
                    <a:lnTo>
                      <a:pt x="249" y="97"/>
                    </a:lnTo>
                    <a:lnTo>
                      <a:pt x="259" y="100"/>
                    </a:lnTo>
                    <a:lnTo>
                      <a:pt x="264" y="123"/>
                    </a:lnTo>
                    <a:lnTo>
                      <a:pt x="240" y="117"/>
                    </a:lnTo>
                    <a:lnTo>
                      <a:pt x="228" y="104"/>
                    </a:lnTo>
                    <a:lnTo>
                      <a:pt x="217" y="111"/>
                    </a:lnTo>
                    <a:lnTo>
                      <a:pt x="197" y="135"/>
                    </a:lnTo>
                    <a:lnTo>
                      <a:pt x="190" y="142"/>
                    </a:lnTo>
                    <a:lnTo>
                      <a:pt x="181" y="139"/>
                    </a:lnTo>
                    <a:lnTo>
                      <a:pt x="179" y="130"/>
                    </a:lnTo>
                    <a:lnTo>
                      <a:pt x="173" y="121"/>
                    </a:lnTo>
                    <a:lnTo>
                      <a:pt x="155" y="115"/>
                    </a:lnTo>
                    <a:lnTo>
                      <a:pt x="129" y="115"/>
                    </a:lnTo>
                    <a:lnTo>
                      <a:pt x="122" y="126"/>
                    </a:lnTo>
                    <a:lnTo>
                      <a:pt x="108" y="139"/>
                    </a:lnTo>
                    <a:lnTo>
                      <a:pt x="120" y="150"/>
                    </a:lnTo>
                    <a:lnTo>
                      <a:pt x="120" y="170"/>
                    </a:lnTo>
                    <a:lnTo>
                      <a:pt x="117" y="180"/>
                    </a:lnTo>
                    <a:lnTo>
                      <a:pt x="112" y="189"/>
                    </a:lnTo>
                    <a:lnTo>
                      <a:pt x="97" y="200"/>
                    </a:lnTo>
                    <a:lnTo>
                      <a:pt x="93" y="202"/>
                    </a:lnTo>
                    <a:lnTo>
                      <a:pt x="96" y="217"/>
                    </a:lnTo>
                    <a:lnTo>
                      <a:pt x="102" y="227"/>
                    </a:lnTo>
                    <a:lnTo>
                      <a:pt x="97" y="239"/>
                    </a:lnTo>
                    <a:lnTo>
                      <a:pt x="87" y="255"/>
                    </a:lnTo>
                    <a:lnTo>
                      <a:pt x="75" y="270"/>
                    </a:lnTo>
                    <a:lnTo>
                      <a:pt x="65" y="280"/>
                    </a:lnTo>
                    <a:lnTo>
                      <a:pt x="50" y="291"/>
                    </a:lnTo>
                    <a:lnTo>
                      <a:pt x="40" y="296"/>
                    </a:lnTo>
                    <a:lnTo>
                      <a:pt x="32" y="312"/>
                    </a:lnTo>
                    <a:lnTo>
                      <a:pt x="31" y="338"/>
                    </a:lnTo>
                    <a:lnTo>
                      <a:pt x="22" y="353"/>
                    </a:lnTo>
                    <a:lnTo>
                      <a:pt x="22" y="374"/>
                    </a:lnTo>
                    <a:lnTo>
                      <a:pt x="12" y="385"/>
                    </a:lnTo>
                    <a:lnTo>
                      <a:pt x="11" y="391"/>
                    </a:lnTo>
                    <a:lnTo>
                      <a:pt x="17" y="402"/>
                    </a:lnTo>
                    <a:lnTo>
                      <a:pt x="22" y="420"/>
                    </a:lnTo>
                    <a:lnTo>
                      <a:pt x="32" y="434"/>
                    </a:lnTo>
                    <a:lnTo>
                      <a:pt x="2" y="459"/>
                    </a:lnTo>
                    <a:lnTo>
                      <a:pt x="8" y="475"/>
                    </a:lnTo>
                    <a:lnTo>
                      <a:pt x="20" y="485"/>
                    </a:lnTo>
                    <a:lnTo>
                      <a:pt x="22" y="487"/>
                    </a:lnTo>
                    <a:lnTo>
                      <a:pt x="22" y="497"/>
                    </a:lnTo>
                    <a:lnTo>
                      <a:pt x="6" y="508"/>
                    </a:lnTo>
                    <a:lnTo>
                      <a:pt x="0" y="523"/>
                    </a:lnTo>
                    <a:lnTo>
                      <a:pt x="6" y="543"/>
                    </a:lnTo>
                    <a:lnTo>
                      <a:pt x="15" y="555"/>
                    </a:lnTo>
                    <a:lnTo>
                      <a:pt x="32" y="561"/>
                    </a:lnTo>
                    <a:lnTo>
                      <a:pt x="53" y="566"/>
                    </a:lnTo>
                    <a:lnTo>
                      <a:pt x="75" y="567"/>
                    </a:lnTo>
                    <a:lnTo>
                      <a:pt x="91" y="570"/>
                    </a:lnTo>
                    <a:lnTo>
                      <a:pt x="105" y="579"/>
                    </a:lnTo>
                    <a:lnTo>
                      <a:pt x="117" y="590"/>
                    </a:lnTo>
                    <a:lnTo>
                      <a:pt x="102" y="597"/>
                    </a:lnTo>
                    <a:lnTo>
                      <a:pt x="90" y="610"/>
                    </a:lnTo>
                    <a:lnTo>
                      <a:pt x="78" y="622"/>
                    </a:lnTo>
                    <a:lnTo>
                      <a:pt x="75" y="635"/>
                    </a:lnTo>
                    <a:lnTo>
                      <a:pt x="69" y="666"/>
                    </a:lnTo>
                    <a:lnTo>
                      <a:pt x="58" y="685"/>
                    </a:lnTo>
                    <a:lnTo>
                      <a:pt x="50" y="699"/>
                    </a:lnTo>
                    <a:lnTo>
                      <a:pt x="69" y="722"/>
                    </a:lnTo>
                    <a:lnTo>
                      <a:pt x="73" y="728"/>
                    </a:lnTo>
                    <a:lnTo>
                      <a:pt x="82" y="737"/>
                    </a:lnTo>
                    <a:lnTo>
                      <a:pt x="93" y="735"/>
                    </a:lnTo>
                    <a:lnTo>
                      <a:pt x="106" y="728"/>
                    </a:lnTo>
                    <a:lnTo>
                      <a:pt x="112" y="722"/>
                    </a:lnTo>
                    <a:lnTo>
                      <a:pt x="115" y="719"/>
                    </a:lnTo>
                    <a:lnTo>
                      <a:pt x="135" y="722"/>
                    </a:lnTo>
                    <a:lnTo>
                      <a:pt x="143" y="732"/>
                    </a:lnTo>
                    <a:lnTo>
                      <a:pt x="149" y="746"/>
                    </a:lnTo>
                    <a:lnTo>
                      <a:pt x="158" y="757"/>
                    </a:lnTo>
                    <a:lnTo>
                      <a:pt x="170" y="758"/>
                    </a:lnTo>
                    <a:lnTo>
                      <a:pt x="196" y="757"/>
                    </a:lnTo>
                    <a:lnTo>
                      <a:pt x="208" y="754"/>
                    </a:lnTo>
                    <a:lnTo>
                      <a:pt x="225" y="766"/>
                    </a:lnTo>
                    <a:lnTo>
                      <a:pt x="238" y="761"/>
                    </a:lnTo>
                    <a:lnTo>
                      <a:pt x="250" y="764"/>
                    </a:lnTo>
                    <a:lnTo>
                      <a:pt x="263" y="773"/>
                    </a:lnTo>
                    <a:lnTo>
                      <a:pt x="282" y="764"/>
                    </a:lnTo>
                    <a:lnTo>
                      <a:pt x="302" y="764"/>
                    </a:lnTo>
                    <a:lnTo>
                      <a:pt x="317" y="773"/>
                    </a:lnTo>
                    <a:lnTo>
                      <a:pt x="328" y="778"/>
                    </a:lnTo>
                    <a:lnTo>
                      <a:pt x="340" y="769"/>
                    </a:lnTo>
                    <a:lnTo>
                      <a:pt x="352" y="769"/>
                    </a:lnTo>
                    <a:lnTo>
                      <a:pt x="375" y="764"/>
                    </a:lnTo>
                    <a:lnTo>
                      <a:pt x="390" y="773"/>
                    </a:lnTo>
                    <a:lnTo>
                      <a:pt x="391" y="769"/>
                    </a:lnTo>
                    <a:lnTo>
                      <a:pt x="408" y="779"/>
                    </a:lnTo>
                    <a:lnTo>
                      <a:pt x="422" y="785"/>
                    </a:lnTo>
                    <a:lnTo>
                      <a:pt x="437" y="779"/>
                    </a:lnTo>
                    <a:lnTo>
                      <a:pt x="440" y="769"/>
                    </a:lnTo>
                    <a:lnTo>
                      <a:pt x="429" y="754"/>
                    </a:lnTo>
                    <a:lnTo>
                      <a:pt x="428" y="746"/>
                    </a:lnTo>
                    <a:lnTo>
                      <a:pt x="422" y="720"/>
                    </a:lnTo>
                    <a:lnTo>
                      <a:pt x="479" y="681"/>
                    </a:lnTo>
                    <a:lnTo>
                      <a:pt x="494" y="681"/>
                    </a:lnTo>
                    <a:lnTo>
                      <a:pt x="497" y="675"/>
                    </a:lnTo>
                    <a:lnTo>
                      <a:pt x="476" y="667"/>
                    </a:lnTo>
                    <a:lnTo>
                      <a:pt x="461" y="652"/>
                    </a:lnTo>
                    <a:lnTo>
                      <a:pt x="423" y="619"/>
                    </a:lnTo>
                    <a:lnTo>
                      <a:pt x="419" y="591"/>
                    </a:lnTo>
                    <a:lnTo>
                      <a:pt x="397" y="587"/>
                    </a:lnTo>
                    <a:lnTo>
                      <a:pt x="394" y="561"/>
                    </a:lnTo>
                    <a:lnTo>
                      <a:pt x="390" y="540"/>
                    </a:lnTo>
                    <a:lnTo>
                      <a:pt x="381" y="529"/>
                    </a:lnTo>
                    <a:lnTo>
                      <a:pt x="387" y="519"/>
                    </a:lnTo>
                    <a:lnTo>
                      <a:pt x="391" y="514"/>
                    </a:lnTo>
                    <a:lnTo>
                      <a:pt x="403" y="515"/>
                    </a:lnTo>
                    <a:lnTo>
                      <a:pt x="438" y="505"/>
                    </a:lnTo>
                    <a:lnTo>
                      <a:pt x="514" y="467"/>
                    </a:lnTo>
                    <a:lnTo>
                      <a:pt x="531" y="459"/>
                    </a:lnTo>
                    <a:lnTo>
                      <a:pt x="546" y="449"/>
                    </a:lnTo>
                    <a:lnTo>
                      <a:pt x="560" y="462"/>
                    </a:lnTo>
                    <a:lnTo>
                      <a:pt x="576" y="456"/>
                    </a:lnTo>
                    <a:lnTo>
                      <a:pt x="581" y="438"/>
                    </a:lnTo>
                    <a:lnTo>
                      <a:pt x="579" y="429"/>
                    </a:lnTo>
                    <a:lnTo>
                      <a:pt x="587" y="417"/>
                    </a:lnTo>
                    <a:lnTo>
                      <a:pt x="578" y="403"/>
                    </a:lnTo>
                    <a:lnTo>
                      <a:pt x="567" y="379"/>
                    </a:lnTo>
                    <a:lnTo>
                      <a:pt x="575" y="344"/>
                    </a:lnTo>
                    <a:lnTo>
                      <a:pt x="563" y="327"/>
                    </a:lnTo>
                    <a:lnTo>
                      <a:pt x="558" y="311"/>
                    </a:lnTo>
                    <a:lnTo>
                      <a:pt x="564" y="294"/>
                    </a:lnTo>
                    <a:lnTo>
                      <a:pt x="560" y="280"/>
                    </a:lnTo>
                    <a:lnTo>
                      <a:pt x="537" y="253"/>
                    </a:lnTo>
                    <a:lnTo>
                      <a:pt x="549" y="238"/>
                    </a:lnTo>
                    <a:lnTo>
                      <a:pt x="549" y="211"/>
                    </a:lnTo>
                    <a:lnTo>
                      <a:pt x="551" y="177"/>
                    </a:lnTo>
                    <a:lnTo>
                      <a:pt x="525" y="148"/>
                    </a:lnTo>
                    <a:lnTo>
                      <a:pt x="513" y="132"/>
                    </a:lnTo>
                    <a:lnTo>
                      <a:pt x="497" y="117"/>
                    </a:lnTo>
                    <a:lnTo>
                      <a:pt x="475" y="97"/>
                    </a:lnTo>
                    <a:lnTo>
                      <a:pt x="460" y="88"/>
                    </a:lnTo>
                    <a:lnTo>
                      <a:pt x="449" y="85"/>
                    </a:lnTo>
                    <a:lnTo>
                      <a:pt x="434" y="95"/>
                    </a:lnTo>
                    <a:lnTo>
                      <a:pt x="423" y="101"/>
                    </a:lnTo>
                    <a:lnTo>
                      <a:pt x="390" y="127"/>
                    </a:lnTo>
                    <a:lnTo>
                      <a:pt x="366" y="121"/>
                    </a:lnTo>
                    <a:lnTo>
                      <a:pt x="355" y="121"/>
                    </a:lnTo>
                    <a:lnTo>
                      <a:pt x="355" y="112"/>
                    </a:lnTo>
                    <a:lnTo>
                      <a:pt x="360" y="100"/>
                    </a:lnTo>
                    <a:lnTo>
                      <a:pt x="366" y="89"/>
                    </a:lnTo>
                    <a:lnTo>
                      <a:pt x="334" y="70"/>
                    </a:lnTo>
                    <a:lnTo>
                      <a:pt x="325" y="68"/>
                    </a:lnTo>
                    <a:lnTo>
                      <a:pt x="310" y="54"/>
                    </a:lnTo>
                    <a:lnTo>
                      <a:pt x="305" y="32"/>
                    </a:lnTo>
                    <a:lnTo>
                      <a:pt x="297" y="17"/>
                    </a:lnTo>
                    <a:lnTo>
                      <a:pt x="287" y="20"/>
                    </a:lnTo>
                    <a:lnTo>
                      <a:pt x="275" y="4"/>
                    </a:lnTo>
                    <a:lnTo>
                      <a:pt x="258" y="1"/>
                    </a:lnTo>
                    <a:lnTo>
                      <a:pt x="24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6222960" y="2757600"/>
              <a:ext cx="460080" cy="815760"/>
              <a:chOff x="6222960" y="2757600"/>
              <a:chExt cx="460080" cy="815760"/>
            </a:xfrm>
          </p:grpSpPr>
          <p:sp>
            <p:nvSpPr>
              <p:cNvPr id="3002" name=""/>
              <p:cNvSpPr/>
              <p:nvPr/>
            </p:nvSpPr>
            <p:spPr>
              <a:xfrm>
                <a:off x="6222960" y="2766960"/>
                <a:ext cx="460080" cy="806400"/>
              </a:xfrm>
              <a:custGeom>
                <a:avLst/>
                <a:gdLst/>
                <a:ahLst/>
                <a:rect l="l" t="t" r="r" b="b"/>
                <a:pathLst>
                  <a:path w="517" h="855">
                    <a:moveTo>
                      <a:pt x="155" y="549"/>
                    </a:moveTo>
                    <a:lnTo>
                      <a:pt x="179" y="570"/>
                    </a:lnTo>
                    <a:lnTo>
                      <a:pt x="168" y="591"/>
                    </a:lnTo>
                    <a:lnTo>
                      <a:pt x="153" y="608"/>
                    </a:lnTo>
                    <a:lnTo>
                      <a:pt x="129" y="620"/>
                    </a:lnTo>
                    <a:lnTo>
                      <a:pt x="111" y="631"/>
                    </a:lnTo>
                    <a:lnTo>
                      <a:pt x="91" y="632"/>
                    </a:lnTo>
                    <a:lnTo>
                      <a:pt x="82" y="641"/>
                    </a:lnTo>
                    <a:lnTo>
                      <a:pt x="96" y="666"/>
                    </a:lnTo>
                    <a:lnTo>
                      <a:pt x="120" y="666"/>
                    </a:lnTo>
                    <a:lnTo>
                      <a:pt x="129" y="669"/>
                    </a:lnTo>
                    <a:lnTo>
                      <a:pt x="129" y="685"/>
                    </a:lnTo>
                    <a:lnTo>
                      <a:pt x="143" y="685"/>
                    </a:lnTo>
                    <a:lnTo>
                      <a:pt x="152" y="681"/>
                    </a:lnTo>
                    <a:lnTo>
                      <a:pt x="158" y="699"/>
                    </a:lnTo>
                    <a:lnTo>
                      <a:pt x="170" y="713"/>
                    </a:lnTo>
                    <a:lnTo>
                      <a:pt x="191" y="713"/>
                    </a:lnTo>
                    <a:lnTo>
                      <a:pt x="206" y="708"/>
                    </a:lnTo>
                    <a:lnTo>
                      <a:pt x="220" y="713"/>
                    </a:lnTo>
                    <a:lnTo>
                      <a:pt x="186" y="742"/>
                    </a:lnTo>
                    <a:lnTo>
                      <a:pt x="174" y="748"/>
                    </a:lnTo>
                    <a:lnTo>
                      <a:pt x="158" y="742"/>
                    </a:lnTo>
                    <a:lnTo>
                      <a:pt x="120" y="726"/>
                    </a:lnTo>
                    <a:lnTo>
                      <a:pt x="100" y="726"/>
                    </a:lnTo>
                    <a:lnTo>
                      <a:pt x="82" y="742"/>
                    </a:lnTo>
                    <a:lnTo>
                      <a:pt x="59" y="760"/>
                    </a:lnTo>
                    <a:lnTo>
                      <a:pt x="47" y="770"/>
                    </a:lnTo>
                    <a:lnTo>
                      <a:pt x="32" y="775"/>
                    </a:lnTo>
                    <a:lnTo>
                      <a:pt x="15" y="784"/>
                    </a:lnTo>
                    <a:lnTo>
                      <a:pt x="2" y="793"/>
                    </a:lnTo>
                    <a:lnTo>
                      <a:pt x="0" y="801"/>
                    </a:lnTo>
                    <a:lnTo>
                      <a:pt x="15" y="802"/>
                    </a:lnTo>
                    <a:lnTo>
                      <a:pt x="26" y="813"/>
                    </a:lnTo>
                    <a:lnTo>
                      <a:pt x="39" y="820"/>
                    </a:lnTo>
                    <a:lnTo>
                      <a:pt x="55" y="813"/>
                    </a:lnTo>
                    <a:lnTo>
                      <a:pt x="68" y="807"/>
                    </a:lnTo>
                    <a:lnTo>
                      <a:pt x="82" y="808"/>
                    </a:lnTo>
                    <a:lnTo>
                      <a:pt x="105" y="822"/>
                    </a:lnTo>
                    <a:lnTo>
                      <a:pt x="126" y="831"/>
                    </a:lnTo>
                    <a:lnTo>
                      <a:pt x="140" y="822"/>
                    </a:lnTo>
                    <a:lnTo>
                      <a:pt x="147" y="805"/>
                    </a:lnTo>
                    <a:lnTo>
                      <a:pt x="170" y="792"/>
                    </a:lnTo>
                    <a:lnTo>
                      <a:pt x="185" y="792"/>
                    </a:lnTo>
                    <a:lnTo>
                      <a:pt x="199" y="807"/>
                    </a:lnTo>
                    <a:lnTo>
                      <a:pt x="209" y="816"/>
                    </a:lnTo>
                    <a:lnTo>
                      <a:pt x="226" y="816"/>
                    </a:lnTo>
                    <a:lnTo>
                      <a:pt x="249" y="817"/>
                    </a:lnTo>
                    <a:lnTo>
                      <a:pt x="264" y="823"/>
                    </a:lnTo>
                    <a:lnTo>
                      <a:pt x="279" y="813"/>
                    </a:lnTo>
                    <a:lnTo>
                      <a:pt x="291" y="813"/>
                    </a:lnTo>
                    <a:lnTo>
                      <a:pt x="305" y="820"/>
                    </a:lnTo>
                    <a:lnTo>
                      <a:pt x="318" y="836"/>
                    </a:lnTo>
                    <a:lnTo>
                      <a:pt x="338" y="839"/>
                    </a:lnTo>
                    <a:lnTo>
                      <a:pt x="361" y="843"/>
                    </a:lnTo>
                    <a:lnTo>
                      <a:pt x="376" y="851"/>
                    </a:lnTo>
                    <a:lnTo>
                      <a:pt x="394" y="855"/>
                    </a:lnTo>
                    <a:lnTo>
                      <a:pt x="408" y="848"/>
                    </a:lnTo>
                    <a:lnTo>
                      <a:pt x="427" y="836"/>
                    </a:lnTo>
                    <a:lnTo>
                      <a:pt x="441" y="834"/>
                    </a:lnTo>
                    <a:lnTo>
                      <a:pt x="456" y="831"/>
                    </a:lnTo>
                    <a:lnTo>
                      <a:pt x="470" y="817"/>
                    </a:lnTo>
                    <a:lnTo>
                      <a:pt x="461" y="805"/>
                    </a:lnTo>
                    <a:lnTo>
                      <a:pt x="437" y="792"/>
                    </a:lnTo>
                    <a:lnTo>
                      <a:pt x="427" y="784"/>
                    </a:lnTo>
                    <a:lnTo>
                      <a:pt x="427" y="775"/>
                    </a:lnTo>
                    <a:lnTo>
                      <a:pt x="438" y="766"/>
                    </a:lnTo>
                    <a:lnTo>
                      <a:pt x="456" y="764"/>
                    </a:lnTo>
                    <a:lnTo>
                      <a:pt x="473" y="755"/>
                    </a:lnTo>
                    <a:lnTo>
                      <a:pt x="500" y="726"/>
                    </a:lnTo>
                    <a:lnTo>
                      <a:pt x="512" y="711"/>
                    </a:lnTo>
                    <a:lnTo>
                      <a:pt x="517" y="685"/>
                    </a:lnTo>
                    <a:lnTo>
                      <a:pt x="517" y="670"/>
                    </a:lnTo>
                    <a:lnTo>
                      <a:pt x="505" y="660"/>
                    </a:lnTo>
                    <a:lnTo>
                      <a:pt x="488" y="648"/>
                    </a:lnTo>
                    <a:lnTo>
                      <a:pt x="473" y="641"/>
                    </a:lnTo>
                    <a:lnTo>
                      <a:pt x="456" y="643"/>
                    </a:lnTo>
                    <a:lnTo>
                      <a:pt x="446" y="649"/>
                    </a:lnTo>
                    <a:lnTo>
                      <a:pt x="441" y="638"/>
                    </a:lnTo>
                    <a:lnTo>
                      <a:pt x="450" y="622"/>
                    </a:lnTo>
                    <a:lnTo>
                      <a:pt x="453" y="608"/>
                    </a:lnTo>
                    <a:lnTo>
                      <a:pt x="452" y="585"/>
                    </a:lnTo>
                    <a:lnTo>
                      <a:pt x="450" y="554"/>
                    </a:lnTo>
                    <a:lnTo>
                      <a:pt x="456" y="528"/>
                    </a:lnTo>
                    <a:lnTo>
                      <a:pt x="452" y="514"/>
                    </a:lnTo>
                    <a:lnTo>
                      <a:pt x="441" y="494"/>
                    </a:lnTo>
                    <a:lnTo>
                      <a:pt x="415" y="450"/>
                    </a:lnTo>
                    <a:lnTo>
                      <a:pt x="405" y="429"/>
                    </a:lnTo>
                    <a:lnTo>
                      <a:pt x="400" y="405"/>
                    </a:lnTo>
                    <a:lnTo>
                      <a:pt x="399" y="390"/>
                    </a:lnTo>
                    <a:lnTo>
                      <a:pt x="405" y="364"/>
                    </a:lnTo>
                    <a:lnTo>
                      <a:pt x="405" y="344"/>
                    </a:lnTo>
                    <a:lnTo>
                      <a:pt x="400" y="323"/>
                    </a:lnTo>
                    <a:lnTo>
                      <a:pt x="390" y="312"/>
                    </a:lnTo>
                    <a:lnTo>
                      <a:pt x="370" y="293"/>
                    </a:lnTo>
                    <a:lnTo>
                      <a:pt x="356" y="287"/>
                    </a:lnTo>
                    <a:lnTo>
                      <a:pt x="341" y="285"/>
                    </a:lnTo>
                    <a:lnTo>
                      <a:pt x="330" y="282"/>
                    </a:lnTo>
                    <a:lnTo>
                      <a:pt x="330" y="271"/>
                    </a:lnTo>
                    <a:lnTo>
                      <a:pt x="337" y="264"/>
                    </a:lnTo>
                    <a:lnTo>
                      <a:pt x="353" y="262"/>
                    </a:lnTo>
                    <a:lnTo>
                      <a:pt x="368" y="267"/>
                    </a:lnTo>
                    <a:lnTo>
                      <a:pt x="379" y="270"/>
                    </a:lnTo>
                    <a:lnTo>
                      <a:pt x="385" y="259"/>
                    </a:lnTo>
                    <a:lnTo>
                      <a:pt x="384" y="247"/>
                    </a:lnTo>
                    <a:lnTo>
                      <a:pt x="446" y="190"/>
                    </a:lnTo>
                    <a:lnTo>
                      <a:pt x="456" y="176"/>
                    </a:lnTo>
                    <a:lnTo>
                      <a:pt x="456" y="150"/>
                    </a:lnTo>
                    <a:lnTo>
                      <a:pt x="441" y="138"/>
                    </a:lnTo>
                    <a:lnTo>
                      <a:pt x="423" y="135"/>
                    </a:lnTo>
                    <a:lnTo>
                      <a:pt x="408" y="112"/>
                    </a:lnTo>
                    <a:lnTo>
                      <a:pt x="379" y="112"/>
                    </a:lnTo>
                    <a:lnTo>
                      <a:pt x="379" y="112"/>
                    </a:lnTo>
                    <a:lnTo>
                      <a:pt x="352" y="117"/>
                    </a:lnTo>
                    <a:lnTo>
                      <a:pt x="346" y="115"/>
                    </a:lnTo>
                    <a:lnTo>
                      <a:pt x="338" y="105"/>
                    </a:lnTo>
                    <a:lnTo>
                      <a:pt x="352" y="95"/>
                    </a:lnTo>
                    <a:lnTo>
                      <a:pt x="364" y="82"/>
                    </a:lnTo>
                    <a:lnTo>
                      <a:pt x="390" y="59"/>
                    </a:lnTo>
                    <a:lnTo>
                      <a:pt x="411" y="58"/>
                    </a:lnTo>
                    <a:lnTo>
                      <a:pt x="431" y="42"/>
                    </a:lnTo>
                    <a:lnTo>
                      <a:pt x="450" y="27"/>
                    </a:lnTo>
                    <a:lnTo>
                      <a:pt x="406" y="17"/>
                    </a:lnTo>
                    <a:lnTo>
                      <a:pt x="388" y="15"/>
                    </a:lnTo>
                    <a:lnTo>
                      <a:pt x="365" y="12"/>
                    </a:lnTo>
                    <a:lnTo>
                      <a:pt x="341" y="0"/>
                    </a:lnTo>
                    <a:lnTo>
                      <a:pt x="318" y="24"/>
                    </a:lnTo>
                    <a:lnTo>
                      <a:pt x="318" y="38"/>
                    </a:lnTo>
                    <a:lnTo>
                      <a:pt x="306" y="42"/>
                    </a:lnTo>
                    <a:lnTo>
                      <a:pt x="285" y="55"/>
                    </a:lnTo>
                    <a:lnTo>
                      <a:pt x="267" y="62"/>
                    </a:lnTo>
                    <a:lnTo>
                      <a:pt x="267" y="80"/>
                    </a:lnTo>
                    <a:lnTo>
                      <a:pt x="264" y="95"/>
                    </a:lnTo>
                    <a:lnTo>
                      <a:pt x="247" y="120"/>
                    </a:lnTo>
                    <a:lnTo>
                      <a:pt x="220" y="149"/>
                    </a:lnTo>
                    <a:lnTo>
                      <a:pt x="209" y="164"/>
                    </a:lnTo>
                    <a:lnTo>
                      <a:pt x="214" y="174"/>
                    </a:lnTo>
                    <a:lnTo>
                      <a:pt x="243" y="171"/>
                    </a:lnTo>
                    <a:lnTo>
                      <a:pt x="244" y="177"/>
                    </a:lnTo>
                    <a:lnTo>
                      <a:pt x="244" y="190"/>
                    </a:lnTo>
                    <a:lnTo>
                      <a:pt x="206" y="238"/>
                    </a:lnTo>
                    <a:lnTo>
                      <a:pt x="194" y="264"/>
                    </a:lnTo>
                    <a:lnTo>
                      <a:pt x="185" y="287"/>
                    </a:lnTo>
                    <a:lnTo>
                      <a:pt x="194" y="297"/>
                    </a:lnTo>
                    <a:lnTo>
                      <a:pt x="211" y="276"/>
                    </a:lnTo>
                    <a:lnTo>
                      <a:pt x="229" y="252"/>
                    </a:lnTo>
                    <a:lnTo>
                      <a:pt x="241" y="259"/>
                    </a:lnTo>
                    <a:lnTo>
                      <a:pt x="243" y="296"/>
                    </a:lnTo>
                    <a:lnTo>
                      <a:pt x="244" y="318"/>
                    </a:lnTo>
                    <a:lnTo>
                      <a:pt x="221" y="332"/>
                    </a:lnTo>
                    <a:lnTo>
                      <a:pt x="206" y="347"/>
                    </a:lnTo>
                    <a:lnTo>
                      <a:pt x="202" y="359"/>
                    </a:lnTo>
                    <a:lnTo>
                      <a:pt x="232" y="385"/>
                    </a:lnTo>
                    <a:lnTo>
                      <a:pt x="258" y="381"/>
                    </a:lnTo>
                    <a:lnTo>
                      <a:pt x="264" y="394"/>
                    </a:lnTo>
                    <a:lnTo>
                      <a:pt x="291" y="378"/>
                    </a:lnTo>
                    <a:lnTo>
                      <a:pt x="290" y="391"/>
                    </a:lnTo>
                    <a:lnTo>
                      <a:pt x="267" y="419"/>
                    </a:lnTo>
                    <a:lnTo>
                      <a:pt x="276" y="449"/>
                    </a:lnTo>
                    <a:lnTo>
                      <a:pt x="279" y="466"/>
                    </a:lnTo>
                    <a:lnTo>
                      <a:pt x="303" y="467"/>
                    </a:lnTo>
                    <a:lnTo>
                      <a:pt x="305" y="482"/>
                    </a:lnTo>
                    <a:lnTo>
                      <a:pt x="276" y="516"/>
                    </a:lnTo>
                    <a:lnTo>
                      <a:pt x="267" y="511"/>
                    </a:lnTo>
                    <a:lnTo>
                      <a:pt x="256" y="522"/>
                    </a:lnTo>
                    <a:lnTo>
                      <a:pt x="253" y="538"/>
                    </a:lnTo>
                    <a:lnTo>
                      <a:pt x="226" y="523"/>
                    </a:lnTo>
                    <a:lnTo>
                      <a:pt x="155" y="54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388560" y="3156840"/>
                <a:ext cx="37440" cy="3024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3" y="0"/>
                    </a:moveTo>
                    <a:lnTo>
                      <a:pt x="41" y="3"/>
                    </a:lnTo>
                    <a:lnTo>
                      <a:pt x="43" y="14"/>
                    </a:lnTo>
                    <a:lnTo>
                      <a:pt x="23" y="27"/>
                    </a:lnTo>
                    <a:lnTo>
                      <a:pt x="4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364080" y="2968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5" y="0"/>
                    </a:moveTo>
                    <a:lnTo>
                      <a:pt x="42" y="15"/>
                    </a:lnTo>
                    <a:lnTo>
                      <a:pt x="21" y="26"/>
                    </a:lnTo>
                    <a:lnTo>
                      <a:pt x="4" y="30"/>
                    </a:lnTo>
                    <a:lnTo>
                      <a:pt x="0" y="15"/>
                    </a:lnTo>
                    <a:lnTo>
                      <a:pt x="7" y="6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420960" y="2821680"/>
                <a:ext cx="21240" cy="5616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9" y="59"/>
                    </a:moveTo>
                    <a:lnTo>
                      <a:pt x="25" y="44"/>
                    </a:lnTo>
                    <a:lnTo>
                      <a:pt x="19" y="24"/>
                    </a:lnTo>
                    <a:lnTo>
                      <a:pt x="14" y="15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5" y="27"/>
                    </a:lnTo>
                    <a:lnTo>
                      <a:pt x="9" y="5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67600" y="3042000"/>
                <a:ext cx="99360" cy="106920"/>
              </a:xfrm>
              <a:custGeom>
                <a:avLst/>
                <a:gdLst/>
                <a:ahLst/>
                <a:rect l="l" t="t" r="r" b="b"/>
                <a:pathLst>
                  <a:path w="112" h="114">
                    <a:moveTo>
                      <a:pt x="39" y="0"/>
                    </a:moveTo>
                    <a:lnTo>
                      <a:pt x="65" y="0"/>
                    </a:lnTo>
                    <a:lnTo>
                      <a:pt x="83" y="5"/>
                    </a:lnTo>
                    <a:lnTo>
                      <a:pt x="97" y="23"/>
                    </a:lnTo>
                    <a:lnTo>
                      <a:pt x="109" y="52"/>
                    </a:lnTo>
                    <a:lnTo>
                      <a:pt x="112" y="77"/>
                    </a:lnTo>
                    <a:lnTo>
                      <a:pt x="99" y="90"/>
                    </a:lnTo>
                    <a:lnTo>
                      <a:pt x="94" y="108"/>
                    </a:lnTo>
                    <a:lnTo>
                      <a:pt x="82" y="114"/>
                    </a:lnTo>
                    <a:lnTo>
                      <a:pt x="70" y="99"/>
                    </a:lnTo>
                    <a:lnTo>
                      <a:pt x="58" y="70"/>
                    </a:lnTo>
                    <a:lnTo>
                      <a:pt x="50" y="61"/>
                    </a:lnTo>
                    <a:lnTo>
                      <a:pt x="27" y="58"/>
                    </a:lnTo>
                    <a:lnTo>
                      <a:pt x="0" y="29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413760" y="2757600"/>
                <a:ext cx="51480" cy="3960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1" y="0"/>
                    </a:moveTo>
                    <a:lnTo>
                      <a:pt x="57" y="11"/>
                    </a:lnTo>
                    <a:lnTo>
                      <a:pt x="36" y="23"/>
                    </a:lnTo>
                    <a:lnTo>
                      <a:pt x="15" y="43"/>
                    </a:lnTo>
                    <a:lnTo>
                      <a:pt x="3" y="3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5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6408720" y="3238560"/>
              <a:ext cx="2156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984720" y="3619440"/>
              <a:ext cx="2160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56240" y="3330720"/>
              <a:ext cx="550800" cy="565200"/>
            </a:xfrm>
            <a:custGeom>
              <a:avLst/>
              <a:gdLst/>
              <a:ahLst/>
              <a:rect l="l" t="t" r="r" b="b"/>
              <a:pathLst>
                <a:path w="551" h="518">
                  <a:moveTo>
                    <a:pt x="13" y="98"/>
                  </a:moveTo>
                  <a:lnTo>
                    <a:pt x="11" y="130"/>
                  </a:lnTo>
                  <a:lnTo>
                    <a:pt x="11" y="150"/>
                  </a:lnTo>
                  <a:lnTo>
                    <a:pt x="0" y="165"/>
                  </a:lnTo>
                  <a:lnTo>
                    <a:pt x="22" y="191"/>
                  </a:lnTo>
                  <a:lnTo>
                    <a:pt x="24" y="198"/>
                  </a:lnTo>
                  <a:lnTo>
                    <a:pt x="19" y="215"/>
                  </a:lnTo>
                  <a:lnTo>
                    <a:pt x="20" y="226"/>
                  </a:lnTo>
                  <a:lnTo>
                    <a:pt x="31" y="241"/>
                  </a:lnTo>
                  <a:lnTo>
                    <a:pt x="30" y="250"/>
                  </a:lnTo>
                  <a:lnTo>
                    <a:pt x="28" y="278"/>
                  </a:lnTo>
                  <a:lnTo>
                    <a:pt x="37" y="297"/>
                  </a:lnTo>
                  <a:lnTo>
                    <a:pt x="44" y="308"/>
                  </a:lnTo>
                  <a:lnTo>
                    <a:pt x="39" y="315"/>
                  </a:lnTo>
                  <a:lnTo>
                    <a:pt x="39" y="326"/>
                  </a:lnTo>
                  <a:lnTo>
                    <a:pt x="33" y="332"/>
                  </a:lnTo>
                  <a:lnTo>
                    <a:pt x="33" y="339"/>
                  </a:lnTo>
                  <a:lnTo>
                    <a:pt x="48" y="341"/>
                  </a:lnTo>
                  <a:lnTo>
                    <a:pt x="59" y="345"/>
                  </a:lnTo>
                  <a:lnTo>
                    <a:pt x="63" y="352"/>
                  </a:lnTo>
                  <a:lnTo>
                    <a:pt x="63" y="365"/>
                  </a:lnTo>
                  <a:lnTo>
                    <a:pt x="78" y="380"/>
                  </a:lnTo>
                  <a:lnTo>
                    <a:pt x="92" y="386"/>
                  </a:lnTo>
                  <a:lnTo>
                    <a:pt x="95" y="399"/>
                  </a:lnTo>
                  <a:lnTo>
                    <a:pt x="112" y="421"/>
                  </a:lnTo>
                  <a:lnTo>
                    <a:pt x="127" y="408"/>
                  </a:lnTo>
                  <a:lnTo>
                    <a:pt x="140" y="404"/>
                  </a:lnTo>
                  <a:lnTo>
                    <a:pt x="149" y="406"/>
                  </a:lnTo>
                  <a:lnTo>
                    <a:pt x="175" y="434"/>
                  </a:lnTo>
                  <a:lnTo>
                    <a:pt x="181" y="436"/>
                  </a:lnTo>
                  <a:lnTo>
                    <a:pt x="212" y="450"/>
                  </a:lnTo>
                  <a:lnTo>
                    <a:pt x="219" y="452"/>
                  </a:lnTo>
                  <a:lnTo>
                    <a:pt x="232" y="449"/>
                  </a:lnTo>
                  <a:lnTo>
                    <a:pt x="247" y="447"/>
                  </a:lnTo>
                  <a:lnTo>
                    <a:pt x="260" y="452"/>
                  </a:lnTo>
                  <a:lnTo>
                    <a:pt x="277" y="467"/>
                  </a:lnTo>
                  <a:lnTo>
                    <a:pt x="284" y="475"/>
                  </a:lnTo>
                  <a:lnTo>
                    <a:pt x="292" y="469"/>
                  </a:lnTo>
                  <a:lnTo>
                    <a:pt x="301" y="467"/>
                  </a:lnTo>
                  <a:lnTo>
                    <a:pt x="314" y="478"/>
                  </a:lnTo>
                  <a:lnTo>
                    <a:pt x="329" y="490"/>
                  </a:lnTo>
                  <a:lnTo>
                    <a:pt x="340" y="498"/>
                  </a:lnTo>
                  <a:lnTo>
                    <a:pt x="355" y="503"/>
                  </a:lnTo>
                  <a:lnTo>
                    <a:pt x="362" y="501"/>
                  </a:lnTo>
                  <a:lnTo>
                    <a:pt x="369" y="494"/>
                  </a:lnTo>
                  <a:lnTo>
                    <a:pt x="379" y="490"/>
                  </a:lnTo>
                  <a:lnTo>
                    <a:pt x="397" y="496"/>
                  </a:lnTo>
                  <a:lnTo>
                    <a:pt x="482" y="518"/>
                  </a:lnTo>
                  <a:lnTo>
                    <a:pt x="495" y="507"/>
                  </a:lnTo>
                  <a:lnTo>
                    <a:pt x="486" y="490"/>
                  </a:lnTo>
                  <a:lnTo>
                    <a:pt x="477" y="462"/>
                  </a:lnTo>
                  <a:lnTo>
                    <a:pt x="536" y="408"/>
                  </a:lnTo>
                  <a:lnTo>
                    <a:pt x="547" y="395"/>
                  </a:lnTo>
                  <a:lnTo>
                    <a:pt x="551" y="374"/>
                  </a:lnTo>
                  <a:lnTo>
                    <a:pt x="542" y="347"/>
                  </a:lnTo>
                  <a:lnTo>
                    <a:pt x="532" y="324"/>
                  </a:lnTo>
                  <a:lnTo>
                    <a:pt x="516" y="298"/>
                  </a:lnTo>
                  <a:lnTo>
                    <a:pt x="505" y="287"/>
                  </a:lnTo>
                  <a:lnTo>
                    <a:pt x="503" y="271"/>
                  </a:lnTo>
                  <a:lnTo>
                    <a:pt x="505" y="254"/>
                  </a:lnTo>
                  <a:lnTo>
                    <a:pt x="510" y="237"/>
                  </a:lnTo>
                  <a:lnTo>
                    <a:pt x="503" y="226"/>
                  </a:lnTo>
                  <a:lnTo>
                    <a:pt x="494" y="219"/>
                  </a:lnTo>
                  <a:lnTo>
                    <a:pt x="503" y="208"/>
                  </a:lnTo>
                  <a:lnTo>
                    <a:pt x="518" y="187"/>
                  </a:lnTo>
                  <a:lnTo>
                    <a:pt x="523" y="182"/>
                  </a:lnTo>
                  <a:lnTo>
                    <a:pt x="520" y="146"/>
                  </a:lnTo>
                  <a:lnTo>
                    <a:pt x="514" y="128"/>
                  </a:lnTo>
                  <a:lnTo>
                    <a:pt x="508" y="109"/>
                  </a:lnTo>
                  <a:lnTo>
                    <a:pt x="508" y="91"/>
                  </a:lnTo>
                  <a:lnTo>
                    <a:pt x="497" y="74"/>
                  </a:lnTo>
                  <a:lnTo>
                    <a:pt x="482" y="59"/>
                  </a:lnTo>
                  <a:lnTo>
                    <a:pt x="466" y="57"/>
                  </a:lnTo>
                  <a:lnTo>
                    <a:pt x="418" y="56"/>
                  </a:lnTo>
                  <a:lnTo>
                    <a:pt x="392" y="54"/>
                  </a:lnTo>
                  <a:lnTo>
                    <a:pt x="344" y="50"/>
                  </a:lnTo>
                  <a:lnTo>
                    <a:pt x="325" y="41"/>
                  </a:lnTo>
                  <a:lnTo>
                    <a:pt x="305" y="39"/>
                  </a:lnTo>
                  <a:lnTo>
                    <a:pt x="294" y="43"/>
                  </a:lnTo>
                  <a:lnTo>
                    <a:pt x="281" y="52"/>
                  </a:lnTo>
                  <a:lnTo>
                    <a:pt x="269" y="48"/>
                  </a:lnTo>
                  <a:lnTo>
                    <a:pt x="258" y="37"/>
                  </a:lnTo>
                  <a:lnTo>
                    <a:pt x="245" y="37"/>
                  </a:lnTo>
                  <a:lnTo>
                    <a:pt x="240" y="32"/>
                  </a:lnTo>
                  <a:lnTo>
                    <a:pt x="236" y="15"/>
                  </a:lnTo>
                  <a:lnTo>
                    <a:pt x="219" y="2"/>
                  </a:lnTo>
                  <a:lnTo>
                    <a:pt x="207" y="0"/>
                  </a:lnTo>
                  <a:lnTo>
                    <a:pt x="184" y="6"/>
                  </a:lnTo>
                  <a:lnTo>
                    <a:pt x="166" y="11"/>
                  </a:lnTo>
                  <a:lnTo>
                    <a:pt x="151" y="20"/>
                  </a:lnTo>
                  <a:lnTo>
                    <a:pt x="125" y="35"/>
                  </a:lnTo>
                  <a:lnTo>
                    <a:pt x="99" y="43"/>
                  </a:lnTo>
                  <a:lnTo>
                    <a:pt x="76" y="52"/>
                  </a:lnTo>
                  <a:lnTo>
                    <a:pt x="52" y="63"/>
                  </a:lnTo>
                  <a:lnTo>
                    <a:pt x="39" y="78"/>
                  </a:lnTo>
                  <a:lnTo>
                    <a:pt x="24" y="91"/>
                  </a:lnTo>
                  <a:lnTo>
                    <a:pt x="13" y="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724520" y="3189240"/>
              <a:ext cx="289080" cy="244800"/>
            </a:xfrm>
            <a:custGeom>
              <a:avLst/>
              <a:gdLst/>
              <a:ahLst/>
              <a:rect l="l" t="t" r="r" b="b"/>
              <a:pathLst>
                <a:path w="288" h="225">
                  <a:moveTo>
                    <a:pt x="2" y="24"/>
                  </a:moveTo>
                  <a:lnTo>
                    <a:pt x="0" y="31"/>
                  </a:lnTo>
                  <a:lnTo>
                    <a:pt x="4" y="58"/>
                  </a:lnTo>
                  <a:lnTo>
                    <a:pt x="17" y="97"/>
                  </a:lnTo>
                  <a:lnTo>
                    <a:pt x="28" y="108"/>
                  </a:lnTo>
                  <a:lnTo>
                    <a:pt x="54" y="118"/>
                  </a:lnTo>
                  <a:lnTo>
                    <a:pt x="65" y="121"/>
                  </a:lnTo>
                  <a:lnTo>
                    <a:pt x="67" y="134"/>
                  </a:lnTo>
                  <a:lnTo>
                    <a:pt x="67" y="156"/>
                  </a:lnTo>
                  <a:lnTo>
                    <a:pt x="93" y="182"/>
                  </a:lnTo>
                  <a:lnTo>
                    <a:pt x="109" y="190"/>
                  </a:lnTo>
                  <a:lnTo>
                    <a:pt x="117" y="194"/>
                  </a:lnTo>
                  <a:lnTo>
                    <a:pt x="139" y="221"/>
                  </a:lnTo>
                  <a:lnTo>
                    <a:pt x="146" y="216"/>
                  </a:lnTo>
                  <a:lnTo>
                    <a:pt x="161" y="214"/>
                  </a:lnTo>
                  <a:lnTo>
                    <a:pt x="178" y="225"/>
                  </a:lnTo>
                  <a:lnTo>
                    <a:pt x="191" y="218"/>
                  </a:lnTo>
                  <a:lnTo>
                    <a:pt x="209" y="197"/>
                  </a:lnTo>
                  <a:lnTo>
                    <a:pt x="222" y="190"/>
                  </a:lnTo>
                  <a:lnTo>
                    <a:pt x="236" y="195"/>
                  </a:lnTo>
                  <a:lnTo>
                    <a:pt x="244" y="192"/>
                  </a:lnTo>
                  <a:lnTo>
                    <a:pt x="245" y="184"/>
                  </a:lnTo>
                  <a:lnTo>
                    <a:pt x="247" y="142"/>
                  </a:lnTo>
                  <a:lnTo>
                    <a:pt x="255" y="129"/>
                  </a:lnTo>
                  <a:lnTo>
                    <a:pt x="255" y="110"/>
                  </a:lnTo>
                  <a:lnTo>
                    <a:pt x="258" y="103"/>
                  </a:lnTo>
                  <a:lnTo>
                    <a:pt x="273" y="92"/>
                  </a:lnTo>
                  <a:lnTo>
                    <a:pt x="288" y="90"/>
                  </a:lnTo>
                  <a:lnTo>
                    <a:pt x="288" y="69"/>
                  </a:lnTo>
                  <a:lnTo>
                    <a:pt x="284" y="53"/>
                  </a:lnTo>
                  <a:lnTo>
                    <a:pt x="273" y="47"/>
                  </a:lnTo>
                  <a:lnTo>
                    <a:pt x="268" y="49"/>
                  </a:lnTo>
                  <a:lnTo>
                    <a:pt x="249" y="31"/>
                  </a:lnTo>
                  <a:lnTo>
                    <a:pt x="238" y="19"/>
                  </a:lnTo>
                  <a:lnTo>
                    <a:pt x="224" y="19"/>
                  </a:lnTo>
                  <a:lnTo>
                    <a:pt x="198" y="19"/>
                  </a:lnTo>
                  <a:lnTo>
                    <a:pt x="193" y="15"/>
                  </a:lnTo>
                  <a:lnTo>
                    <a:pt x="187" y="2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48" y="11"/>
                  </a:lnTo>
                  <a:lnTo>
                    <a:pt x="139" y="9"/>
                  </a:lnTo>
                  <a:lnTo>
                    <a:pt x="124" y="6"/>
                  </a:lnTo>
                  <a:lnTo>
                    <a:pt x="117" y="4"/>
                  </a:lnTo>
                  <a:lnTo>
                    <a:pt x="106" y="7"/>
                  </a:lnTo>
                  <a:lnTo>
                    <a:pt x="98" y="13"/>
                  </a:lnTo>
                  <a:lnTo>
                    <a:pt x="83" y="7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5" y="7"/>
                  </a:lnTo>
                  <a:lnTo>
                    <a:pt x="20" y="17"/>
                  </a:lnTo>
                  <a:lnTo>
                    <a:pt x="2" y="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7748640" y="2857680"/>
              <a:ext cx="288360" cy="207720"/>
              <a:chOff x="7748640" y="2857680"/>
              <a:chExt cx="288360" cy="207720"/>
            </a:xfrm>
          </p:grpSpPr>
          <p:sp>
            <p:nvSpPr>
              <p:cNvPr id="3013" name=""/>
              <p:cNvSpPr/>
              <p:nvPr/>
            </p:nvSpPr>
            <p:spPr>
              <a:xfrm>
                <a:off x="7761600" y="292608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26" y="0"/>
                    </a:moveTo>
                    <a:lnTo>
                      <a:pt x="6" y="13"/>
                    </a:lnTo>
                    <a:lnTo>
                      <a:pt x="0" y="20"/>
                    </a:lnTo>
                    <a:lnTo>
                      <a:pt x="13" y="24"/>
                    </a:lnTo>
                    <a:lnTo>
                      <a:pt x="24" y="37"/>
                    </a:lnTo>
                    <a:lnTo>
                      <a:pt x="33" y="28"/>
                    </a:lnTo>
                    <a:lnTo>
                      <a:pt x="44" y="20"/>
                    </a:lnTo>
                    <a:lnTo>
                      <a:pt x="35" y="11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748640" y="297288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54" y="0"/>
                    </a:moveTo>
                    <a:lnTo>
                      <a:pt x="32" y="4"/>
                    </a:lnTo>
                    <a:lnTo>
                      <a:pt x="24" y="0"/>
                    </a:lnTo>
                    <a:lnTo>
                      <a:pt x="11" y="17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7" y="30"/>
                    </a:lnTo>
                    <a:lnTo>
                      <a:pt x="7" y="58"/>
                    </a:lnTo>
                    <a:lnTo>
                      <a:pt x="13" y="67"/>
                    </a:lnTo>
                    <a:lnTo>
                      <a:pt x="46" y="30"/>
                    </a:lnTo>
                    <a:lnTo>
                      <a:pt x="59" y="30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823160" y="2857680"/>
                <a:ext cx="213840" cy="207720"/>
              </a:xfrm>
              <a:custGeom>
                <a:avLst/>
                <a:gdLst/>
                <a:ahLst/>
                <a:rect l="l" t="t" r="r" b="b"/>
                <a:pathLst>
                  <a:path w="215" h="191">
                    <a:moveTo>
                      <a:pt x="208" y="180"/>
                    </a:moveTo>
                    <a:lnTo>
                      <a:pt x="206" y="169"/>
                    </a:lnTo>
                    <a:lnTo>
                      <a:pt x="213" y="159"/>
                    </a:lnTo>
                    <a:lnTo>
                      <a:pt x="213" y="145"/>
                    </a:lnTo>
                    <a:lnTo>
                      <a:pt x="198" y="134"/>
                    </a:lnTo>
                    <a:lnTo>
                      <a:pt x="193" y="128"/>
                    </a:lnTo>
                    <a:lnTo>
                      <a:pt x="189" y="109"/>
                    </a:lnTo>
                    <a:lnTo>
                      <a:pt x="180" y="93"/>
                    </a:lnTo>
                    <a:lnTo>
                      <a:pt x="170" y="80"/>
                    </a:lnTo>
                    <a:lnTo>
                      <a:pt x="170" y="69"/>
                    </a:lnTo>
                    <a:lnTo>
                      <a:pt x="176" y="61"/>
                    </a:lnTo>
                    <a:lnTo>
                      <a:pt x="200" y="63"/>
                    </a:lnTo>
                    <a:lnTo>
                      <a:pt x="209" y="52"/>
                    </a:lnTo>
                    <a:lnTo>
                      <a:pt x="215" y="24"/>
                    </a:lnTo>
                    <a:lnTo>
                      <a:pt x="213" y="15"/>
                    </a:lnTo>
                    <a:lnTo>
                      <a:pt x="202" y="13"/>
                    </a:lnTo>
                    <a:lnTo>
                      <a:pt x="182" y="15"/>
                    </a:lnTo>
                    <a:lnTo>
                      <a:pt x="154" y="15"/>
                    </a:lnTo>
                    <a:lnTo>
                      <a:pt x="132" y="6"/>
                    </a:lnTo>
                    <a:lnTo>
                      <a:pt x="117" y="2"/>
                    </a:lnTo>
                    <a:lnTo>
                      <a:pt x="104" y="0"/>
                    </a:lnTo>
                    <a:lnTo>
                      <a:pt x="91" y="17"/>
                    </a:lnTo>
                    <a:lnTo>
                      <a:pt x="76" y="28"/>
                    </a:lnTo>
                    <a:lnTo>
                      <a:pt x="54" y="26"/>
                    </a:lnTo>
                    <a:lnTo>
                      <a:pt x="41" y="35"/>
                    </a:lnTo>
                    <a:lnTo>
                      <a:pt x="20" y="56"/>
                    </a:lnTo>
                    <a:lnTo>
                      <a:pt x="4" y="69"/>
                    </a:lnTo>
                    <a:lnTo>
                      <a:pt x="0" y="78"/>
                    </a:lnTo>
                    <a:lnTo>
                      <a:pt x="9" y="95"/>
                    </a:lnTo>
                    <a:lnTo>
                      <a:pt x="19" y="117"/>
                    </a:lnTo>
                    <a:lnTo>
                      <a:pt x="30" y="130"/>
                    </a:lnTo>
                    <a:lnTo>
                      <a:pt x="41" y="126"/>
                    </a:lnTo>
                    <a:lnTo>
                      <a:pt x="60" y="119"/>
                    </a:lnTo>
                    <a:lnTo>
                      <a:pt x="58" y="137"/>
                    </a:lnTo>
                    <a:lnTo>
                      <a:pt x="52" y="159"/>
                    </a:lnTo>
                    <a:lnTo>
                      <a:pt x="54" y="163"/>
                    </a:lnTo>
                    <a:lnTo>
                      <a:pt x="63" y="163"/>
                    </a:lnTo>
                    <a:lnTo>
                      <a:pt x="76" y="159"/>
                    </a:lnTo>
                    <a:lnTo>
                      <a:pt x="104" y="162"/>
                    </a:lnTo>
                    <a:lnTo>
                      <a:pt x="112" y="172"/>
                    </a:lnTo>
                    <a:lnTo>
                      <a:pt x="128" y="178"/>
                    </a:lnTo>
                    <a:lnTo>
                      <a:pt x="142" y="191"/>
                    </a:lnTo>
                    <a:lnTo>
                      <a:pt x="151" y="189"/>
                    </a:lnTo>
                    <a:lnTo>
                      <a:pt x="168" y="180"/>
                    </a:lnTo>
                    <a:lnTo>
                      <a:pt x="185" y="178"/>
                    </a:lnTo>
                    <a:lnTo>
                      <a:pt x="208" y="18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7659720" y="1870200"/>
              <a:ext cx="463320" cy="984240"/>
              <a:chOff x="7659720" y="1870200"/>
              <a:chExt cx="463320" cy="984240"/>
            </a:xfrm>
          </p:grpSpPr>
          <p:grpSp>
            <p:nvGrpSpPr>
              <p:cNvPr id="3017" name=""/>
              <p:cNvGrpSpPr/>
              <p:nvPr/>
            </p:nvGrpSpPr>
            <p:grpSpPr>
              <a:xfrm>
                <a:off x="7659720" y="1870200"/>
                <a:ext cx="463320" cy="984240"/>
                <a:chOff x="7659720" y="1870200"/>
                <a:chExt cx="463320" cy="984240"/>
              </a:xfrm>
            </p:grpSpPr>
            <p:sp>
              <p:nvSpPr>
                <p:cNvPr id="3018" name=""/>
                <p:cNvSpPr/>
                <p:nvPr/>
              </p:nvSpPr>
              <p:spPr>
                <a:xfrm>
                  <a:off x="7659720" y="2794320"/>
                  <a:ext cx="2772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4" y="0"/>
                      </a:moveTo>
                      <a:lnTo>
                        <a:pt x="13" y="6"/>
                      </a:lnTo>
                      <a:lnTo>
                        <a:pt x="0" y="17"/>
                      </a:lnTo>
                      <a:lnTo>
                        <a:pt x="2" y="26"/>
                      </a:lnTo>
                      <a:lnTo>
                        <a:pt x="9" y="26"/>
                      </a:lnTo>
                      <a:lnTo>
                        <a:pt x="28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687440" y="1870200"/>
                  <a:ext cx="435600" cy="984240"/>
                </a:xfrm>
                <a:custGeom>
                  <a:avLst/>
                  <a:gdLst/>
                  <a:ahLst/>
                  <a:rect l="l" t="t" r="r" b="b"/>
                  <a:pathLst>
                    <a:path w="438" h="903">
                      <a:moveTo>
                        <a:pt x="122" y="903"/>
                      </a:moveTo>
                      <a:lnTo>
                        <a:pt x="119" y="873"/>
                      </a:lnTo>
                      <a:lnTo>
                        <a:pt x="104" y="858"/>
                      </a:lnTo>
                      <a:lnTo>
                        <a:pt x="93" y="851"/>
                      </a:lnTo>
                      <a:lnTo>
                        <a:pt x="74" y="844"/>
                      </a:lnTo>
                      <a:lnTo>
                        <a:pt x="59" y="844"/>
                      </a:lnTo>
                      <a:lnTo>
                        <a:pt x="52" y="829"/>
                      </a:lnTo>
                      <a:lnTo>
                        <a:pt x="59" y="773"/>
                      </a:lnTo>
                      <a:lnTo>
                        <a:pt x="56" y="740"/>
                      </a:lnTo>
                      <a:lnTo>
                        <a:pt x="44" y="725"/>
                      </a:lnTo>
                      <a:lnTo>
                        <a:pt x="37" y="718"/>
                      </a:lnTo>
                      <a:lnTo>
                        <a:pt x="41" y="688"/>
                      </a:lnTo>
                      <a:lnTo>
                        <a:pt x="37" y="669"/>
                      </a:lnTo>
                      <a:lnTo>
                        <a:pt x="30" y="655"/>
                      </a:lnTo>
                      <a:lnTo>
                        <a:pt x="41" y="622"/>
                      </a:lnTo>
                      <a:lnTo>
                        <a:pt x="52" y="622"/>
                      </a:lnTo>
                      <a:lnTo>
                        <a:pt x="59" y="615"/>
                      </a:lnTo>
                      <a:lnTo>
                        <a:pt x="63" y="592"/>
                      </a:lnTo>
                      <a:lnTo>
                        <a:pt x="85" y="574"/>
                      </a:lnTo>
                      <a:lnTo>
                        <a:pt x="107" y="555"/>
                      </a:lnTo>
                      <a:lnTo>
                        <a:pt x="111" y="533"/>
                      </a:lnTo>
                      <a:lnTo>
                        <a:pt x="137" y="511"/>
                      </a:lnTo>
                      <a:lnTo>
                        <a:pt x="163" y="485"/>
                      </a:lnTo>
                      <a:lnTo>
                        <a:pt x="159" y="474"/>
                      </a:lnTo>
                      <a:lnTo>
                        <a:pt x="159" y="459"/>
                      </a:lnTo>
                      <a:lnTo>
                        <a:pt x="178" y="448"/>
                      </a:lnTo>
                      <a:lnTo>
                        <a:pt x="185" y="444"/>
                      </a:lnTo>
                      <a:lnTo>
                        <a:pt x="181" y="422"/>
                      </a:lnTo>
                      <a:lnTo>
                        <a:pt x="181" y="400"/>
                      </a:lnTo>
                      <a:lnTo>
                        <a:pt x="174" y="396"/>
                      </a:lnTo>
                      <a:lnTo>
                        <a:pt x="163" y="400"/>
                      </a:lnTo>
                      <a:lnTo>
                        <a:pt x="152" y="385"/>
                      </a:lnTo>
                      <a:lnTo>
                        <a:pt x="141" y="344"/>
                      </a:lnTo>
                      <a:lnTo>
                        <a:pt x="119" y="314"/>
                      </a:lnTo>
                      <a:lnTo>
                        <a:pt x="126" y="273"/>
                      </a:lnTo>
                      <a:lnTo>
                        <a:pt x="122" y="255"/>
                      </a:lnTo>
                      <a:lnTo>
                        <a:pt x="96" y="229"/>
                      </a:lnTo>
                      <a:lnTo>
                        <a:pt x="107" y="196"/>
                      </a:lnTo>
                      <a:lnTo>
                        <a:pt x="100" y="177"/>
                      </a:lnTo>
                      <a:lnTo>
                        <a:pt x="81" y="158"/>
                      </a:lnTo>
                      <a:lnTo>
                        <a:pt x="70" y="170"/>
                      </a:lnTo>
                      <a:lnTo>
                        <a:pt x="30" y="129"/>
                      </a:lnTo>
                      <a:lnTo>
                        <a:pt x="19" y="114"/>
                      </a:lnTo>
                      <a:lnTo>
                        <a:pt x="11" y="99"/>
                      </a:lnTo>
                      <a:lnTo>
                        <a:pt x="0" y="92"/>
                      </a:lnTo>
                      <a:lnTo>
                        <a:pt x="15" y="78"/>
                      </a:lnTo>
                      <a:lnTo>
                        <a:pt x="37" y="78"/>
                      </a:lnTo>
                      <a:lnTo>
                        <a:pt x="48" y="95"/>
                      </a:lnTo>
                      <a:lnTo>
                        <a:pt x="78" y="129"/>
                      </a:lnTo>
                      <a:lnTo>
                        <a:pt x="107" y="110"/>
                      </a:lnTo>
                      <a:lnTo>
                        <a:pt x="126" y="114"/>
                      </a:lnTo>
                      <a:lnTo>
                        <a:pt x="130" y="125"/>
                      </a:lnTo>
                      <a:lnTo>
                        <a:pt x="152" y="129"/>
                      </a:lnTo>
                      <a:lnTo>
                        <a:pt x="159" y="99"/>
                      </a:lnTo>
                      <a:lnTo>
                        <a:pt x="170" y="89"/>
                      </a:lnTo>
                      <a:lnTo>
                        <a:pt x="178" y="78"/>
                      </a:lnTo>
                      <a:lnTo>
                        <a:pt x="178" y="67"/>
                      </a:lnTo>
                      <a:lnTo>
                        <a:pt x="174" y="37"/>
                      </a:lnTo>
                      <a:lnTo>
                        <a:pt x="193" y="19"/>
                      </a:lnTo>
                      <a:lnTo>
                        <a:pt x="204" y="19"/>
                      </a:lnTo>
                      <a:lnTo>
                        <a:pt x="222" y="0"/>
                      </a:lnTo>
                      <a:lnTo>
                        <a:pt x="244" y="26"/>
                      </a:lnTo>
                      <a:lnTo>
                        <a:pt x="252" y="37"/>
                      </a:lnTo>
                      <a:lnTo>
                        <a:pt x="244" y="59"/>
                      </a:lnTo>
                      <a:lnTo>
                        <a:pt x="226" y="74"/>
                      </a:lnTo>
                      <a:lnTo>
                        <a:pt x="211" y="92"/>
                      </a:lnTo>
                      <a:lnTo>
                        <a:pt x="215" y="110"/>
                      </a:lnTo>
                      <a:lnTo>
                        <a:pt x="248" y="85"/>
                      </a:lnTo>
                      <a:lnTo>
                        <a:pt x="248" y="63"/>
                      </a:lnTo>
                      <a:lnTo>
                        <a:pt x="252" y="30"/>
                      </a:lnTo>
                      <a:lnTo>
                        <a:pt x="263" y="22"/>
                      </a:lnTo>
                      <a:lnTo>
                        <a:pt x="275" y="63"/>
                      </a:lnTo>
                      <a:lnTo>
                        <a:pt x="275" y="99"/>
                      </a:lnTo>
                      <a:lnTo>
                        <a:pt x="267" y="114"/>
                      </a:lnTo>
                      <a:lnTo>
                        <a:pt x="267" y="136"/>
                      </a:lnTo>
                      <a:lnTo>
                        <a:pt x="297" y="158"/>
                      </a:lnTo>
                      <a:lnTo>
                        <a:pt x="297" y="173"/>
                      </a:lnTo>
                      <a:lnTo>
                        <a:pt x="316" y="199"/>
                      </a:lnTo>
                      <a:lnTo>
                        <a:pt x="323" y="218"/>
                      </a:lnTo>
                      <a:lnTo>
                        <a:pt x="319" y="262"/>
                      </a:lnTo>
                      <a:lnTo>
                        <a:pt x="331" y="311"/>
                      </a:lnTo>
                      <a:lnTo>
                        <a:pt x="349" y="351"/>
                      </a:lnTo>
                      <a:lnTo>
                        <a:pt x="345" y="411"/>
                      </a:lnTo>
                      <a:lnTo>
                        <a:pt x="360" y="448"/>
                      </a:lnTo>
                      <a:lnTo>
                        <a:pt x="368" y="463"/>
                      </a:lnTo>
                      <a:lnTo>
                        <a:pt x="375" y="518"/>
                      </a:lnTo>
                      <a:lnTo>
                        <a:pt x="382" y="541"/>
                      </a:lnTo>
                      <a:lnTo>
                        <a:pt x="419" y="566"/>
                      </a:lnTo>
                      <a:lnTo>
                        <a:pt x="438" y="589"/>
                      </a:lnTo>
                      <a:lnTo>
                        <a:pt x="438" y="604"/>
                      </a:lnTo>
                      <a:lnTo>
                        <a:pt x="423" y="673"/>
                      </a:lnTo>
                      <a:lnTo>
                        <a:pt x="416" y="680"/>
                      </a:lnTo>
                      <a:lnTo>
                        <a:pt x="423" y="695"/>
                      </a:lnTo>
                      <a:lnTo>
                        <a:pt x="405" y="721"/>
                      </a:lnTo>
                      <a:lnTo>
                        <a:pt x="382" y="732"/>
                      </a:lnTo>
                      <a:lnTo>
                        <a:pt x="382" y="744"/>
                      </a:lnTo>
                      <a:lnTo>
                        <a:pt x="349" y="788"/>
                      </a:lnTo>
                      <a:lnTo>
                        <a:pt x="327" y="799"/>
                      </a:lnTo>
                      <a:lnTo>
                        <a:pt x="323" y="825"/>
                      </a:lnTo>
                      <a:lnTo>
                        <a:pt x="301" y="825"/>
                      </a:lnTo>
                      <a:lnTo>
                        <a:pt x="290" y="833"/>
                      </a:lnTo>
                      <a:lnTo>
                        <a:pt x="267" y="840"/>
                      </a:lnTo>
                      <a:lnTo>
                        <a:pt x="237" y="836"/>
                      </a:lnTo>
                      <a:lnTo>
                        <a:pt x="215" y="855"/>
                      </a:lnTo>
                      <a:lnTo>
                        <a:pt x="189" y="870"/>
                      </a:lnTo>
                      <a:lnTo>
                        <a:pt x="163" y="877"/>
                      </a:lnTo>
                      <a:lnTo>
                        <a:pt x="144" y="892"/>
                      </a:lnTo>
                      <a:lnTo>
                        <a:pt x="122" y="90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0" name=""/>
              <p:cNvGrpSpPr/>
              <p:nvPr/>
            </p:nvGrpSpPr>
            <p:grpSpPr>
              <a:xfrm>
                <a:off x="7813440" y="2219760"/>
                <a:ext cx="280800" cy="501480"/>
                <a:chOff x="7813440" y="2219760"/>
                <a:chExt cx="280800" cy="501480"/>
              </a:xfrm>
            </p:grpSpPr>
            <p:sp>
              <p:nvSpPr>
                <p:cNvPr id="3021" name=""/>
                <p:cNvSpPr/>
                <p:nvPr/>
              </p:nvSpPr>
              <p:spPr>
                <a:xfrm>
                  <a:off x="7972560" y="221976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6" h="22">
                      <a:moveTo>
                        <a:pt x="10" y="2"/>
                      </a:moveTo>
                      <a:lnTo>
                        <a:pt x="0" y="0"/>
                      </a:lnTo>
                      <a:lnTo>
                        <a:pt x="8" y="22"/>
                      </a:lnTo>
                      <a:lnTo>
                        <a:pt x="16" y="17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8003160" y="2310120"/>
                  <a:ext cx="15480" cy="48960"/>
                </a:xfrm>
                <a:custGeom>
                  <a:avLst/>
                  <a:gdLst/>
                  <a:ahLst/>
                  <a:rect l="l" t="t" r="r" b="b"/>
                  <a:pathLst>
                    <a:path w="16" h="45">
                      <a:moveTo>
                        <a:pt x="16" y="0"/>
                      </a:moveTo>
                      <a:lnTo>
                        <a:pt x="0" y="9"/>
                      </a:lnTo>
                      <a:lnTo>
                        <a:pt x="0" y="45"/>
                      </a:lnTo>
                      <a:lnTo>
                        <a:pt x="8" y="28"/>
                      </a:lnTo>
                      <a:lnTo>
                        <a:pt x="11" y="9"/>
                      </a:lnTo>
                      <a:lnTo>
                        <a:pt x="5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8028000" y="2381040"/>
                  <a:ext cx="18720" cy="2808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6" y="26"/>
                      </a:lnTo>
                      <a:lnTo>
                        <a:pt x="17" y="20"/>
                      </a:lnTo>
                      <a:lnTo>
                        <a:pt x="19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923600" y="2376720"/>
                  <a:ext cx="41400" cy="4248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17"/>
                      </a:moveTo>
                      <a:lnTo>
                        <a:pt x="33" y="17"/>
                      </a:lnTo>
                      <a:lnTo>
                        <a:pt x="21" y="0"/>
                      </a:lnTo>
                      <a:lnTo>
                        <a:pt x="13" y="11"/>
                      </a:lnTo>
                      <a:lnTo>
                        <a:pt x="2" y="7"/>
                      </a:lnTo>
                      <a:lnTo>
                        <a:pt x="0" y="17"/>
                      </a:lnTo>
                      <a:lnTo>
                        <a:pt x="6" y="24"/>
                      </a:lnTo>
                      <a:lnTo>
                        <a:pt x="6" y="32"/>
                      </a:lnTo>
                      <a:lnTo>
                        <a:pt x="13" y="39"/>
                      </a:lnTo>
                      <a:lnTo>
                        <a:pt x="21" y="33"/>
                      </a:lnTo>
                      <a:lnTo>
                        <a:pt x="36" y="37"/>
                      </a:lnTo>
                      <a:lnTo>
                        <a:pt x="42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8019000" y="248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58" h="40">
                      <a:moveTo>
                        <a:pt x="7" y="0"/>
                      </a:moveTo>
                      <a:lnTo>
                        <a:pt x="0" y="4"/>
                      </a:lnTo>
                      <a:lnTo>
                        <a:pt x="21" y="24"/>
                      </a:lnTo>
                      <a:lnTo>
                        <a:pt x="28" y="24"/>
                      </a:lnTo>
                      <a:lnTo>
                        <a:pt x="51" y="40"/>
                      </a:lnTo>
                      <a:lnTo>
                        <a:pt x="58" y="33"/>
                      </a:lnTo>
                      <a:lnTo>
                        <a:pt x="52" y="16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2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896960" y="2508480"/>
                  <a:ext cx="36720" cy="6408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37" y="11"/>
                      </a:lnTo>
                      <a:lnTo>
                        <a:pt x="19" y="39"/>
                      </a:lnTo>
                      <a:lnTo>
                        <a:pt x="20" y="48"/>
                      </a:lnTo>
                      <a:lnTo>
                        <a:pt x="9" y="59"/>
                      </a:lnTo>
                      <a:lnTo>
                        <a:pt x="0" y="50"/>
                      </a:lnTo>
                      <a:lnTo>
                        <a:pt x="4" y="42"/>
                      </a:lnTo>
                      <a:lnTo>
                        <a:pt x="6" y="24"/>
                      </a:lnTo>
                      <a:lnTo>
                        <a:pt x="15" y="13"/>
                      </a:lnTo>
                      <a:lnTo>
                        <a:pt x="4" y="4"/>
                      </a:lnTo>
                      <a:lnTo>
                        <a:pt x="11" y="0"/>
                      </a:lnTo>
                      <a:lnTo>
                        <a:pt x="22" y="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914600" y="2548800"/>
                  <a:ext cx="31680" cy="5976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21" y="4"/>
                      </a:lnTo>
                      <a:lnTo>
                        <a:pt x="21" y="7"/>
                      </a:lnTo>
                      <a:lnTo>
                        <a:pt x="21" y="11"/>
                      </a:lnTo>
                      <a:lnTo>
                        <a:pt x="15" y="21"/>
                      </a:lnTo>
                      <a:lnTo>
                        <a:pt x="6" y="30"/>
                      </a:lnTo>
                      <a:lnTo>
                        <a:pt x="8" y="37"/>
                      </a:lnTo>
                      <a:lnTo>
                        <a:pt x="0" y="49"/>
                      </a:lnTo>
                      <a:lnTo>
                        <a:pt x="8" y="55"/>
                      </a:lnTo>
                      <a:lnTo>
                        <a:pt x="28" y="26"/>
                      </a:lnTo>
                      <a:lnTo>
                        <a:pt x="28" y="19"/>
                      </a:lnTo>
                      <a:lnTo>
                        <a:pt x="32" y="11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813440" y="2622960"/>
                  <a:ext cx="43560" cy="85680"/>
                </a:xfrm>
                <a:custGeom>
                  <a:avLst/>
                  <a:gdLst/>
                  <a:ahLst/>
                  <a:rect l="l" t="t" r="r" b="b"/>
                  <a:pathLst>
                    <a:path w="44" h="79">
                      <a:moveTo>
                        <a:pt x="29" y="2"/>
                      </a:moveTo>
                      <a:lnTo>
                        <a:pt x="25" y="4"/>
                      </a:lnTo>
                      <a:lnTo>
                        <a:pt x="17" y="0"/>
                      </a:lnTo>
                      <a:lnTo>
                        <a:pt x="4" y="2"/>
                      </a:lnTo>
                      <a:lnTo>
                        <a:pt x="4" y="20"/>
                      </a:lnTo>
                      <a:lnTo>
                        <a:pt x="11" y="22"/>
                      </a:lnTo>
                      <a:lnTo>
                        <a:pt x="11" y="15"/>
                      </a:lnTo>
                      <a:lnTo>
                        <a:pt x="23" y="28"/>
                      </a:lnTo>
                      <a:lnTo>
                        <a:pt x="19" y="39"/>
                      </a:lnTo>
                      <a:lnTo>
                        <a:pt x="10" y="46"/>
                      </a:lnTo>
                      <a:lnTo>
                        <a:pt x="6" y="62"/>
                      </a:lnTo>
                      <a:lnTo>
                        <a:pt x="0" y="70"/>
                      </a:lnTo>
                      <a:lnTo>
                        <a:pt x="8" y="79"/>
                      </a:lnTo>
                      <a:lnTo>
                        <a:pt x="31" y="64"/>
                      </a:lnTo>
                      <a:lnTo>
                        <a:pt x="23" y="53"/>
                      </a:lnTo>
                      <a:lnTo>
                        <a:pt x="29" y="35"/>
                      </a:lnTo>
                      <a:lnTo>
                        <a:pt x="42" y="26"/>
                      </a:lnTo>
                      <a:lnTo>
                        <a:pt x="44" y="13"/>
                      </a:lnTo>
                      <a:lnTo>
                        <a:pt x="29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839360" y="2670120"/>
                  <a:ext cx="26640" cy="511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0"/>
                      </a:moveTo>
                      <a:lnTo>
                        <a:pt x="27" y="11"/>
                      </a:lnTo>
                      <a:lnTo>
                        <a:pt x="21" y="23"/>
                      </a:lnTo>
                      <a:lnTo>
                        <a:pt x="19" y="34"/>
                      </a:lnTo>
                      <a:lnTo>
                        <a:pt x="6" y="47"/>
                      </a:lnTo>
                      <a:lnTo>
                        <a:pt x="0" y="38"/>
                      </a:lnTo>
                      <a:lnTo>
                        <a:pt x="6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886880" y="2622960"/>
                  <a:ext cx="27720" cy="76320"/>
                </a:xfrm>
                <a:custGeom>
                  <a:avLst/>
                  <a:gdLst/>
                  <a:ahLst/>
                  <a:rect l="l" t="t" r="r" b="b"/>
                  <a:pathLst>
                    <a:path w="28" h="70">
                      <a:moveTo>
                        <a:pt x="13" y="0"/>
                      </a:moveTo>
                      <a:lnTo>
                        <a:pt x="26" y="13"/>
                      </a:lnTo>
                      <a:lnTo>
                        <a:pt x="24" y="22"/>
                      </a:lnTo>
                      <a:lnTo>
                        <a:pt x="19" y="29"/>
                      </a:lnTo>
                      <a:lnTo>
                        <a:pt x="26" y="48"/>
                      </a:lnTo>
                      <a:lnTo>
                        <a:pt x="28" y="57"/>
                      </a:lnTo>
                      <a:lnTo>
                        <a:pt x="21" y="68"/>
                      </a:lnTo>
                      <a:lnTo>
                        <a:pt x="9" y="70"/>
                      </a:lnTo>
                      <a:lnTo>
                        <a:pt x="0" y="55"/>
                      </a:lnTo>
                      <a:lnTo>
                        <a:pt x="6" y="42"/>
                      </a:lnTo>
                      <a:lnTo>
                        <a:pt x="13" y="29"/>
                      </a:lnTo>
                      <a:lnTo>
                        <a:pt x="13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942680" y="2504160"/>
                  <a:ext cx="151560" cy="216720"/>
                </a:xfrm>
                <a:custGeom>
                  <a:avLst/>
                  <a:gdLst/>
                  <a:ahLst/>
                  <a:rect l="l" t="t" r="r" b="b"/>
                  <a:pathLst>
                    <a:path w="153" h="199">
                      <a:moveTo>
                        <a:pt x="45" y="2"/>
                      </a:moveTo>
                      <a:lnTo>
                        <a:pt x="29" y="19"/>
                      </a:lnTo>
                      <a:lnTo>
                        <a:pt x="21" y="7"/>
                      </a:lnTo>
                      <a:lnTo>
                        <a:pt x="20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lnTo>
                        <a:pt x="11" y="31"/>
                      </a:lnTo>
                      <a:lnTo>
                        <a:pt x="14" y="50"/>
                      </a:lnTo>
                      <a:lnTo>
                        <a:pt x="29" y="74"/>
                      </a:lnTo>
                      <a:lnTo>
                        <a:pt x="42" y="85"/>
                      </a:lnTo>
                      <a:lnTo>
                        <a:pt x="40" y="93"/>
                      </a:lnTo>
                      <a:lnTo>
                        <a:pt x="42" y="99"/>
                      </a:lnTo>
                      <a:lnTo>
                        <a:pt x="42" y="108"/>
                      </a:lnTo>
                      <a:lnTo>
                        <a:pt x="60" y="108"/>
                      </a:lnTo>
                      <a:lnTo>
                        <a:pt x="75" y="127"/>
                      </a:lnTo>
                      <a:lnTo>
                        <a:pt x="73" y="130"/>
                      </a:lnTo>
                      <a:lnTo>
                        <a:pt x="68" y="143"/>
                      </a:lnTo>
                      <a:lnTo>
                        <a:pt x="58" y="142"/>
                      </a:lnTo>
                      <a:lnTo>
                        <a:pt x="45" y="140"/>
                      </a:lnTo>
                      <a:lnTo>
                        <a:pt x="36" y="147"/>
                      </a:lnTo>
                      <a:lnTo>
                        <a:pt x="40" y="162"/>
                      </a:lnTo>
                      <a:lnTo>
                        <a:pt x="49" y="182"/>
                      </a:lnTo>
                      <a:lnTo>
                        <a:pt x="73" y="199"/>
                      </a:lnTo>
                      <a:lnTo>
                        <a:pt x="94" y="184"/>
                      </a:lnTo>
                      <a:lnTo>
                        <a:pt x="92" y="169"/>
                      </a:lnTo>
                      <a:lnTo>
                        <a:pt x="90" y="158"/>
                      </a:lnTo>
                      <a:lnTo>
                        <a:pt x="92" y="145"/>
                      </a:lnTo>
                      <a:lnTo>
                        <a:pt x="101" y="147"/>
                      </a:lnTo>
                      <a:lnTo>
                        <a:pt x="109" y="136"/>
                      </a:lnTo>
                      <a:lnTo>
                        <a:pt x="120" y="134"/>
                      </a:lnTo>
                      <a:lnTo>
                        <a:pt x="131" y="119"/>
                      </a:lnTo>
                      <a:lnTo>
                        <a:pt x="116" y="105"/>
                      </a:lnTo>
                      <a:lnTo>
                        <a:pt x="105" y="116"/>
                      </a:lnTo>
                      <a:lnTo>
                        <a:pt x="101" y="119"/>
                      </a:lnTo>
                      <a:lnTo>
                        <a:pt x="90" y="106"/>
                      </a:lnTo>
                      <a:lnTo>
                        <a:pt x="97" y="97"/>
                      </a:lnTo>
                      <a:lnTo>
                        <a:pt x="105" y="105"/>
                      </a:lnTo>
                      <a:lnTo>
                        <a:pt x="114" y="93"/>
                      </a:lnTo>
                      <a:lnTo>
                        <a:pt x="127" y="92"/>
                      </a:lnTo>
                      <a:lnTo>
                        <a:pt x="133" y="108"/>
                      </a:lnTo>
                      <a:lnTo>
                        <a:pt x="144" y="112"/>
                      </a:lnTo>
                      <a:lnTo>
                        <a:pt x="153" y="101"/>
                      </a:lnTo>
                      <a:lnTo>
                        <a:pt x="131" y="78"/>
                      </a:lnTo>
                      <a:lnTo>
                        <a:pt x="134" y="69"/>
                      </a:lnTo>
                      <a:lnTo>
                        <a:pt x="127" y="67"/>
                      </a:lnTo>
                      <a:lnTo>
                        <a:pt x="134" y="50"/>
                      </a:lnTo>
                      <a:lnTo>
                        <a:pt x="123" y="52"/>
                      </a:lnTo>
                      <a:lnTo>
                        <a:pt x="99" y="61"/>
                      </a:lnTo>
                      <a:lnTo>
                        <a:pt x="99" y="81"/>
                      </a:lnTo>
                      <a:lnTo>
                        <a:pt x="90" y="76"/>
                      </a:lnTo>
                      <a:lnTo>
                        <a:pt x="81" y="83"/>
                      </a:lnTo>
                      <a:lnTo>
                        <a:pt x="62" y="80"/>
                      </a:lnTo>
                      <a:lnTo>
                        <a:pt x="58" y="67"/>
                      </a:lnTo>
                      <a:lnTo>
                        <a:pt x="53" y="52"/>
                      </a:lnTo>
                      <a:lnTo>
                        <a:pt x="66" y="63"/>
                      </a:lnTo>
                      <a:lnTo>
                        <a:pt x="81" y="56"/>
                      </a:lnTo>
                      <a:lnTo>
                        <a:pt x="83" y="52"/>
                      </a:lnTo>
                      <a:lnTo>
                        <a:pt x="81" y="41"/>
                      </a:lnTo>
                      <a:lnTo>
                        <a:pt x="64" y="31"/>
                      </a:lnTo>
                      <a:lnTo>
                        <a:pt x="55" y="28"/>
                      </a:lnTo>
                      <a:lnTo>
                        <a:pt x="58" y="17"/>
                      </a:lnTo>
                      <a:lnTo>
                        <a:pt x="58" y="6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921800" y="261864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45" y="0"/>
                      </a:moveTo>
                      <a:lnTo>
                        <a:pt x="50" y="6"/>
                      </a:lnTo>
                      <a:lnTo>
                        <a:pt x="50" y="17"/>
                      </a:lnTo>
                      <a:lnTo>
                        <a:pt x="48" y="26"/>
                      </a:lnTo>
                      <a:lnTo>
                        <a:pt x="24" y="43"/>
                      </a:lnTo>
                      <a:lnTo>
                        <a:pt x="11" y="50"/>
                      </a:lnTo>
                      <a:lnTo>
                        <a:pt x="0" y="39"/>
                      </a:lnTo>
                      <a:lnTo>
                        <a:pt x="9" y="24"/>
                      </a:lnTo>
                      <a:lnTo>
                        <a:pt x="20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3" name=""/>
            <p:cNvSpPr/>
            <p:nvPr/>
          </p:nvSpPr>
          <p:spPr>
            <a:xfrm>
              <a:off x="7715160" y="3030480"/>
              <a:ext cx="371520" cy="211320"/>
            </a:xfrm>
            <a:custGeom>
              <a:avLst/>
              <a:gdLst/>
              <a:ahLst/>
              <a:rect l="l" t="t" r="r" b="b"/>
              <a:pathLst>
                <a:path w="371" h="194">
                  <a:moveTo>
                    <a:pt x="109" y="76"/>
                  </a:moveTo>
                  <a:lnTo>
                    <a:pt x="91" y="65"/>
                  </a:lnTo>
                  <a:lnTo>
                    <a:pt x="87" y="52"/>
                  </a:lnTo>
                  <a:lnTo>
                    <a:pt x="83" y="39"/>
                  </a:lnTo>
                  <a:lnTo>
                    <a:pt x="74" y="26"/>
                  </a:lnTo>
                  <a:lnTo>
                    <a:pt x="59" y="26"/>
                  </a:lnTo>
                  <a:lnTo>
                    <a:pt x="48" y="32"/>
                  </a:lnTo>
                  <a:lnTo>
                    <a:pt x="33" y="46"/>
                  </a:lnTo>
                  <a:lnTo>
                    <a:pt x="15" y="80"/>
                  </a:lnTo>
                  <a:lnTo>
                    <a:pt x="17" y="89"/>
                  </a:lnTo>
                  <a:lnTo>
                    <a:pt x="17" y="98"/>
                  </a:lnTo>
                  <a:lnTo>
                    <a:pt x="13" y="104"/>
                  </a:lnTo>
                  <a:lnTo>
                    <a:pt x="6" y="111"/>
                  </a:lnTo>
                  <a:lnTo>
                    <a:pt x="0" y="119"/>
                  </a:lnTo>
                  <a:lnTo>
                    <a:pt x="4" y="128"/>
                  </a:lnTo>
                  <a:lnTo>
                    <a:pt x="4" y="149"/>
                  </a:lnTo>
                  <a:lnTo>
                    <a:pt x="7" y="165"/>
                  </a:lnTo>
                  <a:lnTo>
                    <a:pt x="15" y="169"/>
                  </a:lnTo>
                  <a:lnTo>
                    <a:pt x="30" y="163"/>
                  </a:lnTo>
                  <a:lnTo>
                    <a:pt x="48" y="152"/>
                  </a:lnTo>
                  <a:lnTo>
                    <a:pt x="56" y="145"/>
                  </a:lnTo>
                  <a:lnTo>
                    <a:pt x="70" y="149"/>
                  </a:lnTo>
                  <a:lnTo>
                    <a:pt x="85" y="152"/>
                  </a:lnTo>
                  <a:lnTo>
                    <a:pt x="98" y="156"/>
                  </a:lnTo>
                  <a:lnTo>
                    <a:pt x="107" y="160"/>
                  </a:lnTo>
                  <a:lnTo>
                    <a:pt x="126" y="149"/>
                  </a:lnTo>
                  <a:lnTo>
                    <a:pt x="135" y="149"/>
                  </a:lnTo>
                  <a:lnTo>
                    <a:pt x="144" y="154"/>
                  </a:lnTo>
                  <a:lnTo>
                    <a:pt x="157" y="158"/>
                  </a:lnTo>
                  <a:lnTo>
                    <a:pt x="168" y="149"/>
                  </a:lnTo>
                  <a:lnTo>
                    <a:pt x="185" y="145"/>
                  </a:lnTo>
                  <a:lnTo>
                    <a:pt x="196" y="147"/>
                  </a:lnTo>
                  <a:lnTo>
                    <a:pt x="205" y="163"/>
                  </a:lnTo>
                  <a:lnTo>
                    <a:pt x="224" y="165"/>
                  </a:lnTo>
                  <a:lnTo>
                    <a:pt x="247" y="163"/>
                  </a:lnTo>
                  <a:lnTo>
                    <a:pt x="262" y="181"/>
                  </a:lnTo>
                  <a:lnTo>
                    <a:pt x="273" y="192"/>
                  </a:lnTo>
                  <a:lnTo>
                    <a:pt x="284" y="194"/>
                  </a:lnTo>
                  <a:lnTo>
                    <a:pt x="301" y="187"/>
                  </a:lnTo>
                  <a:lnTo>
                    <a:pt x="317" y="185"/>
                  </a:lnTo>
                  <a:lnTo>
                    <a:pt x="328" y="176"/>
                  </a:lnTo>
                  <a:lnTo>
                    <a:pt x="334" y="167"/>
                  </a:lnTo>
                  <a:lnTo>
                    <a:pt x="354" y="145"/>
                  </a:lnTo>
                  <a:lnTo>
                    <a:pt x="365" y="134"/>
                  </a:lnTo>
                  <a:lnTo>
                    <a:pt x="371" y="117"/>
                  </a:lnTo>
                  <a:lnTo>
                    <a:pt x="367" y="91"/>
                  </a:lnTo>
                  <a:lnTo>
                    <a:pt x="358" y="85"/>
                  </a:lnTo>
                  <a:lnTo>
                    <a:pt x="341" y="69"/>
                  </a:lnTo>
                  <a:lnTo>
                    <a:pt x="334" y="52"/>
                  </a:lnTo>
                  <a:lnTo>
                    <a:pt x="327" y="33"/>
                  </a:lnTo>
                  <a:lnTo>
                    <a:pt x="312" y="20"/>
                  </a:lnTo>
                  <a:lnTo>
                    <a:pt x="303" y="19"/>
                  </a:lnTo>
                  <a:lnTo>
                    <a:pt x="273" y="20"/>
                  </a:lnTo>
                  <a:lnTo>
                    <a:pt x="260" y="30"/>
                  </a:lnTo>
                  <a:lnTo>
                    <a:pt x="251" y="33"/>
                  </a:lnTo>
                  <a:lnTo>
                    <a:pt x="235" y="19"/>
                  </a:lnTo>
                  <a:lnTo>
                    <a:pt x="222" y="13"/>
                  </a:lnTo>
                  <a:lnTo>
                    <a:pt x="213" y="4"/>
                  </a:lnTo>
                  <a:lnTo>
                    <a:pt x="207" y="2"/>
                  </a:lnTo>
                  <a:lnTo>
                    <a:pt x="191" y="0"/>
                  </a:lnTo>
                  <a:lnTo>
                    <a:pt x="178" y="4"/>
                  </a:lnTo>
                  <a:lnTo>
                    <a:pt x="167" y="4"/>
                  </a:lnTo>
                  <a:lnTo>
                    <a:pt x="161" y="9"/>
                  </a:lnTo>
                  <a:lnTo>
                    <a:pt x="155" y="19"/>
                  </a:lnTo>
                  <a:lnTo>
                    <a:pt x="155" y="39"/>
                  </a:lnTo>
                  <a:lnTo>
                    <a:pt x="159" y="61"/>
                  </a:lnTo>
                  <a:lnTo>
                    <a:pt x="159" y="71"/>
                  </a:lnTo>
                  <a:lnTo>
                    <a:pt x="144" y="85"/>
                  </a:lnTo>
                  <a:lnTo>
                    <a:pt x="135" y="93"/>
                  </a:lnTo>
                  <a:lnTo>
                    <a:pt x="128" y="84"/>
                  </a:lnTo>
                  <a:lnTo>
                    <a:pt x="109" y="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4" name=""/>
            <p:cNvGrpSpPr/>
            <p:nvPr/>
          </p:nvGrpSpPr>
          <p:grpSpPr>
            <a:xfrm>
              <a:off x="7272360" y="1976400"/>
              <a:ext cx="554040" cy="1293840"/>
              <a:chOff x="7272360" y="1976400"/>
              <a:chExt cx="554040" cy="1293840"/>
            </a:xfrm>
          </p:grpSpPr>
          <p:grpSp>
            <p:nvGrpSpPr>
              <p:cNvPr id="3035" name=""/>
              <p:cNvGrpSpPr/>
              <p:nvPr/>
            </p:nvGrpSpPr>
            <p:grpSpPr>
              <a:xfrm>
                <a:off x="7272360" y="1976400"/>
                <a:ext cx="554040" cy="1293840"/>
                <a:chOff x="7272360" y="1976400"/>
                <a:chExt cx="554040" cy="1293840"/>
              </a:xfrm>
            </p:grpSpPr>
            <p:sp>
              <p:nvSpPr>
                <p:cNvPr id="3036" name=""/>
                <p:cNvSpPr/>
                <p:nvPr/>
              </p:nvSpPr>
              <p:spPr>
                <a:xfrm>
                  <a:off x="7493760" y="3095640"/>
                  <a:ext cx="36720" cy="100080"/>
                </a:xfrm>
                <a:custGeom>
                  <a:avLst/>
                  <a:gdLst/>
                  <a:ahLst/>
                  <a:rect l="l" t="t" r="r" b="b"/>
                  <a:pathLst>
                    <a:path w="37" h="92">
                      <a:moveTo>
                        <a:pt x="37" y="0"/>
                      </a:moveTo>
                      <a:lnTo>
                        <a:pt x="35" y="31"/>
                      </a:lnTo>
                      <a:lnTo>
                        <a:pt x="24" y="55"/>
                      </a:lnTo>
                      <a:lnTo>
                        <a:pt x="7" y="70"/>
                      </a:lnTo>
                      <a:lnTo>
                        <a:pt x="11" y="86"/>
                      </a:lnTo>
                      <a:lnTo>
                        <a:pt x="4" y="92"/>
                      </a:lnTo>
                      <a:lnTo>
                        <a:pt x="0" y="72"/>
                      </a:lnTo>
                      <a:lnTo>
                        <a:pt x="6" y="57"/>
                      </a:lnTo>
                      <a:lnTo>
                        <a:pt x="11" y="4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575840" y="304884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50" h="73">
                      <a:moveTo>
                        <a:pt x="39" y="0"/>
                      </a:moveTo>
                      <a:lnTo>
                        <a:pt x="50" y="0"/>
                      </a:lnTo>
                      <a:lnTo>
                        <a:pt x="37" y="15"/>
                      </a:lnTo>
                      <a:lnTo>
                        <a:pt x="35" y="26"/>
                      </a:lnTo>
                      <a:lnTo>
                        <a:pt x="39" y="41"/>
                      </a:lnTo>
                      <a:lnTo>
                        <a:pt x="26" y="56"/>
                      </a:lnTo>
                      <a:lnTo>
                        <a:pt x="9" y="73"/>
                      </a:lnTo>
                      <a:lnTo>
                        <a:pt x="6" y="56"/>
                      </a:lnTo>
                      <a:lnTo>
                        <a:pt x="0" y="49"/>
                      </a:lnTo>
                      <a:lnTo>
                        <a:pt x="0" y="36"/>
                      </a:lnTo>
                      <a:lnTo>
                        <a:pt x="15" y="2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8" name=""/>
                <p:cNvGrpSpPr/>
                <p:nvPr/>
              </p:nvGrpSpPr>
              <p:grpSpPr>
                <a:xfrm>
                  <a:off x="7272360" y="1976400"/>
                  <a:ext cx="554040" cy="1293840"/>
                  <a:chOff x="7272360" y="1976400"/>
                  <a:chExt cx="554040" cy="1293840"/>
                </a:xfrm>
              </p:grpSpPr>
              <p:sp>
                <p:nvSpPr>
                  <p:cNvPr id="3039" name=""/>
                  <p:cNvSpPr/>
                  <p:nvPr/>
                </p:nvSpPr>
                <p:spPr>
                  <a:xfrm>
                    <a:off x="7272360" y="1976400"/>
                    <a:ext cx="554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187">
                        <a:moveTo>
                          <a:pt x="418" y="0"/>
                        </a:moveTo>
                        <a:lnTo>
                          <a:pt x="425" y="3"/>
                        </a:lnTo>
                        <a:lnTo>
                          <a:pt x="436" y="21"/>
                        </a:lnTo>
                        <a:lnTo>
                          <a:pt x="485" y="69"/>
                        </a:lnTo>
                        <a:lnTo>
                          <a:pt x="492" y="58"/>
                        </a:lnTo>
                        <a:lnTo>
                          <a:pt x="511" y="73"/>
                        </a:lnTo>
                        <a:lnTo>
                          <a:pt x="518" y="88"/>
                        </a:lnTo>
                        <a:lnTo>
                          <a:pt x="518" y="99"/>
                        </a:lnTo>
                        <a:lnTo>
                          <a:pt x="518" y="118"/>
                        </a:lnTo>
                        <a:lnTo>
                          <a:pt x="511" y="129"/>
                        </a:lnTo>
                        <a:lnTo>
                          <a:pt x="525" y="144"/>
                        </a:lnTo>
                        <a:lnTo>
                          <a:pt x="536" y="158"/>
                        </a:lnTo>
                        <a:lnTo>
                          <a:pt x="536" y="170"/>
                        </a:lnTo>
                        <a:lnTo>
                          <a:pt x="536" y="188"/>
                        </a:lnTo>
                        <a:lnTo>
                          <a:pt x="533" y="210"/>
                        </a:lnTo>
                        <a:lnTo>
                          <a:pt x="525" y="218"/>
                        </a:lnTo>
                        <a:lnTo>
                          <a:pt x="536" y="229"/>
                        </a:lnTo>
                        <a:lnTo>
                          <a:pt x="548" y="247"/>
                        </a:lnTo>
                        <a:lnTo>
                          <a:pt x="555" y="266"/>
                        </a:lnTo>
                        <a:lnTo>
                          <a:pt x="555" y="273"/>
                        </a:lnTo>
                        <a:lnTo>
                          <a:pt x="544" y="277"/>
                        </a:lnTo>
                        <a:lnTo>
                          <a:pt x="496" y="277"/>
                        </a:lnTo>
                        <a:lnTo>
                          <a:pt x="485" y="277"/>
                        </a:lnTo>
                        <a:lnTo>
                          <a:pt x="477" y="284"/>
                        </a:lnTo>
                        <a:lnTo>
                          <a:pt x="477" y="299"/>
                        </a:lnTo>
                        <a:lnTo>
                          <a:pt x="470" y="310"/>
                        </a:lnTo>
                        <a:lnTo>
                          <a:pt x="448" y="329"/>
                        </a:lnTo>
                        <a:lnTo>
                          <a:pt x="451" y="344"/>
                        </a:lnTo>
                        <a:lnTo>
                          <a:pt x="448" y="355"/>
                        </a:lnTo>
                        <a:lnTo>
                          <a:pt x="440" y="362"/>
                        </a:lnTo>
                        <a:lnTo>
                          <a:pt x="448" y="385"/>
                        </a:lnTo>
                        <a:lnTo>
                          <a:pt x="451" y="399"/>
                        </a:lnTo>
                        <a:lnTo>
                          <a:pt x="444" y="410"/>
                        </a:lnTo>
                        <a:lnTo>
                          <a:pt x="429" y="422"/>
                        </a:lnTo>
                        <a:lnTo>
                          <a:pt x="425" y="436"/>
                        </a:lnTo>
                        <a:lnTo>
                          <a:pt x="422" y="455"/>
                        </a:lnTo>
                        <a:lnTo>
                          <a:pt x="396" y="466"/>
                        </a:lnTo>
                        <a:lnTo>
                          <a:pt x="381" y="477"/>
                        </a:lnTo>
                        <a:lnTo>
                          <a:pt x="359" y="492"/>
                        </a:lnTo>
                        <a:lnTo>
                          <a:pt x="362" y="503"/>
                        </a:lnTo>
                        <a:lnTo>
                          <a:pt x="344" y="507"/>
                        </a:lnTo>
                        <a:lnTo>
                          <a:pt x="336" y="514"/>
                        </a:lnTo>
                        <a:lnTo>
                          <a:pt x="318" y="540"/>
                        </a:lnTo>
                        <a:lnTo>
                          <a:pt x="303" y="551"/>
                        </a:lnTo>
                        <a:lnTo>
                          <a:pt x="307" y="570"/>
                        </a:lnTo>
                        <a:lnTo>
                          <a:pt x="298" y="576"/>
                        </a:lnTo>
                        <a:lnTo>
                          <a:pt x="290" y="584"/>
                        </a:lnTo>
                        <a:lnTo>
                          <a:pt x="298" y="613"/>
                        </a:lnTo>
                        <a:lnTo>
                          <a:pt x="294" y="632"/>
                        </a:lnTo>
                        <a:lnTo>
                          <a:pt x="275" y="643"/>
                        </a:lnTo>
                        <a:lnTo>
                          <a:pt x="272" y="673"/>
                        </a:lnTo>
                        <a:lnTo>
                          <a:pt x="275" y="710"/>
                        </a:lnTo>
                        <a:lnTo>
                          <a:pt x="283" y="728"/>
                        </a:lnTo>
                        <a:lnTo>
                          <a:pt x="310" y="751"/>
                        </a:lnTo>
                        <a:lnTo>
                          <a:pt x="321" y="773"/>
                        </a:lnTo>
                        <a:lnTo>
                          <a:pt x="333" y="795"/>
                        </a:lnTo>
                        <a:lnTo>
                          <a:pt x="340" y="810"/>
                        </a:lnTo>
                        <a:lnTo>
                          <a:pt x="333" y="825"/>
                        </a:lnTo>
                        <a:lnTo>
                          <a:pt x="318" y="836"/>
                        </a:lnTo>
                        <a:lnTo>
                          <a:pt x="307" y="832"/>
                        </a:lnTo>
                        <a:lnTo>
                          <a:pt x="298" y="821"/>
                        </a:lnTo>
                        <a:lnTo>
                          <a:pt x="283" y="825"/>
                        </a:lnTo>
                        <a:lnTo>
                          <a:pt x="279" y="836"/>
                        </a:lnTo>
                        <a:lnTo>
                          <a:pt x="257" y="836"/>
                        </a:lnTo>
                        <a:lnTo>
                          <a:pt x="223" y="832"/>
                        </a:lnTo>
                        <a:lnTo>
                          <a:pt x="216" y="840"/>
                        </a:lnTo>
                        <a:lnTo>
                          <a:pt x="238" y="851"/>
                        </a:lnTo>
                        <a:lnTo>
                          <a:pt x="268" y="840"/>
                        </a:lnTo>
                        <a:lnTo>
                          <a:pt x="275" y="854"/>
                        </a:lnTo>
                        <a:lnTo>
                          <a:pt x="298" y="858"/>
                        </a:lnTo>
                        <a:lnTo>
                          <a:pt x="314" y="865"/>
                        </a:lnTo>
                        <a:lnTo>
                          <a:pt x="307" y="873"/>
                        </a:lnTo>
                        <a:lnTo>
                          <a:pt x="286" y="869"/>
                        </a:lnTo>
                        <a:lnTo>
                          <a:pt x="283" y="877"/>
                        </a:lnTo>
                        <a:lnTo>
                          <a:pt x="286" y="888"/>
                        </a:lnTo>
                        <a:lnTo>
                          <a:pt x="275" y="903"/>
                        </a:lnTo>
                        <a:lnTo>
                          <a:pt x="257" y="917"/>
                        </a:lnTo>
                        <a:lnTo>
                          <a:pt x="249" y="921"/>
                        </a:lnTo>
                        <a:lnTo>
                          <a:pt x="242" y="925"/>
                        </a:lnTo>
                        <a:lnTo>
                          <a:pt x="246" y="943"/>
                        </a:lnTo>
                        <a:lnTo>
                          <a:pt x="238" y="954"/>
                        </a:lnTo>
                        <a:lnTo>
                          <a:pt x="227" y="977"/>
                        </a:lnTo>
                        <a:lnTo>
                          <a:pt x="231" y="999"/>
                        </a:lnTo>
                        <a:lnTo>
                          <a:pt x="223" y="1032"/>
                        </a:lnTo>
                        <a:lnTo>
                          <a:pt x="216" y="1047"/>
                        </a:lnTo>
                        <a:lnTo>
                          <a:pt x="216" y="1069"/>
                        </a:lnTo>
                        <a:lnTo>
                          <a:pt x="205" y="1084"/>
                        </a:lnTo>
                        <a:lnTo>
                          <a:pt x="190" y="1110"/>
                        </a:lnTo>
                        <a:lnTo>
                          <a:pt x="186" y="1129"/>
                        </a:lnTo>
                        <a:lnTo>
                          <a:pt x="159" y="1125"/>
                        </a:lnTo>
                        <a:lnTo>
                          <a:pt x="133" y="1125"/>
                        </a:lnTo>
                        <a:lnTo>
                          <a:pt x="130" y="1136"/>
                        </a:lnTo>
                        <a:lnTo>
                          <a:pt x="115" y="1140"/>
                        </a:lnTo>
                        <a:lnTo>
                          <a:pt x="107" y="1144"/>
                        </a:lnTo>
                        <a:lnTo>
                          <a:pt x="111" y="1157"/>
                        </a:lnTo>
                        <a:lnTo>
                          <a:pt x="107" y="1176"/>
                        </a:lnTo>
                        <a:lnTo>
                          <a:pt x="89" y="1187"/>
                        </a:lnTo>
                        <a:lnTo>
                          <a:pt x="78" y="1176"/>
                        </a:lnTo>
                        <a:lnTo>
                          <a:pt x="63" y="1187"/>
                        </a:lnTo>
                        <a:lnTo>
                          <a:pt x="44" y="1187"/>
                        </a:lnTo>
                        <a:lnTo>
                          <a:pt x="37" y="1176"/>
                        </a:lnTo>
                        <a:lnTo>
                          <a:pt x="44" y="1168"/>
                        </a:lnTo>
                        <a:lnTo>
                          <a:pt x="48" y="1147"/>
                        </a:lnTo>
                        <a:lnTo>
                          <a:pt x="33" y="1118"/>
                        </a:lnTo>
                        <a:lnTo>
                          <a:pt x="26" y="1103"/>
                        </a:lnTo>
                        <a:lnTo>
                          <a:pt x="30" y="1095"/>
                        </a:lnTo>
                        <a:lnTo>
                          <a:pt x="37" y="1095"/>
                        </a:lnTo>
                        <a:lnTo>
                          <a:pt x="41" y="1088"/>
                        </a:lnTo>
                        <a:lnTo>
                          <a:pt x="44" y="1080"/>
                        </a:lnTo>
                        <a:lnTo>
                          <a:pt x="48" y="1073"/>
                        </a:lnTo>
                        <a:lnTo>
                          <a:pt x="44" y="1066"/>
                        </a:lnTo>
                        <a:lnTo>
                          <a:pt x="37" y="1051"/>
                        </a:lnTo>
                        <a:lnTo>
                          <a:pt x="22" y="1029"/>
                        </a:lnTo>
                        <a:lnTo>
                          <a:pt x="26" y="1006"/>
                        </a:lnTo>
                        <a:lnTo>
                          <a:pt x="15" y="988"/>
                        </a:lnTo>
                        <a:lnTo>
                          <a:pt x="4" y="977"/>
                        </a:lnTo>
                        <a:lnTo>
                          <a:pt x="11" y="958"/>
                        </a:lnTo>
                        <a:lnTo>
                          <a:pt x="19" y="921"/>
                        </a:lnTo>
                        <a:lnTo>
                          <a:pt x="4" y="903"/>
                        </a:lnTo>
                        <a:lnTo>
                          <a:pt x="0" y="884"/>
                        </a:lnTo>
                        <a:lnTo>
                          <a:pt x="0" y="873"/>
                        </a:lnTo>
                        <a:lnTo>
                          <a:pt x="7" y="851"/>
                        </a:lnTo>
                        <a:lnTo>
                          <a:pt x="19" y="854"/>
                        </a:lnTo>
                        <a:lnTo>
                          <a:pt x="30" y="825"/>
                        </a:lnTo>
                        <a:lnTo>
                          <a:pt x="30" y="791"/>
                        </a:lnTo>
                        <a:lnTo>
                          <a:pt x="33" y="780"/>
                        </a:lnTo>
                        <a:lnTo>
                          <a:pt x="48" y="769"/>
                        </a:lnTo>
                        <a:lnTo>
                          <a:pt x="70" y="754"/>
                        </a:lnTo>
                        <a:lnTo>
                          <a:pt x="70" y="736"/>
                        </a:lnTo>
                        <a:lnTo>
                          <a:pt x="67" y="680"/>
                        </a:lnTo>
                        <a:lnTo>
                          <a:pt x="59" y="673"/>
                        </a:lnTo>
                        <a:lnTo>
                          <a:pt x="59" y="658"/>
                        </a:lnTo>
                        <a:lnTo>
                          <a:pt x="78" y="650"/>
                        </a:lnTo>
                        <a:lnTo>
                          <a:pt x="85" y="643"/>
                        </a:lnTo>
                        <a:lnTo>
                          <a:pt x="74" y="621"/>
                        </a:lnTo>
                        <a:lnTo>
                          <a:pt x="59" y="599"/>
                        </a:lnTo>
                        <a:lnTo>
                          <a:pt x="63" y="573"/>
                        </a:lnTo>
                        <a:lnTo>
                          <a:pt x="67" y="555"/>
                        </a:lnTo>
                        <a:lnTo>
                          <a:pt x="82" y="522"/>
                        </a:lnTo>
                        <a:lnTo>
                          <a:pt x="82" y="507"/>
                        </a:lnTo>
                        <a:lnTo>
                          <a:pt x="82" y="477"/>
                        </a:lnTo>
                        <a:lnTo>
                          <a:pt x="93" y="451"/>
                        </a:lnTo>
                        <a:lnTo>
                          <a:pt x="111" y="436"/>
                        </a:lnTo>
                        <a:lnTo>
                          <a:pt x="130" y="425"/>
                        </a:lnTo>
                        <a:lnTo>
                          <a:pt x="148" y="429"/>
                        </a:lnTo>
                        <a:lnTo>
                          <a:pt x="167" y="436"/>
                        </a:lnTo>
                        <a:lnTo>
                          <a:pt x="175" y="410"/>
                        </a:lnTo>
                        <a:lnTo>
                          <a:pt x="167" y="388"/>
                        </a:lnTo>
                        <a:lnTo>
                          <a:pt x="159" y="373"/>
                        </a:lnTo>
                        <a:lnTo>
                          <a:pt x="156" y="362"/>
                        </a:lnTo>
                        <a:lnTo>
                          <a:pt x="159" y="351"/>
                        </a:lnTo>
                        <a:lnTo>
                          <a:pt x="172" y="347"/>
                        </a:lnTo>
                        <a:lnTo>
                          <a:pt x="175" y="322"/>
                        </a:lnTo>
                        <a:lnTo>
                          <a:pt x="183" y="299"/>
                        </a:lnTo>
                        <a:lnTo>
                          <a:pt x="186" y="281"/>
                        </a:lnTo>
                        <a:lnTo>
                          <a:pt x="186" y="262"/>
                        </a:lnTo>
                        <a:lnTo>
                          <a:pt x="197" y="244"/>
                        </a:lnTo>
                        <a:lnTo>
                          <a:pt x="220" y="229"/>
                        </a:lnTo>
                        <a:lnTo>
                          <a:pt x="235" y="225"/>
                        </a:lnTo>
                        <a:lnTo>
                          <a:pt x="235" y="207"/>
                        </a:lnTo>
                        <a:lnTo>
                          <a:pt x="242" y="195"/>
                        </a:lnTo>
                        <a:lnTo>
                          <a:pt x="257" y="177"/>
                        </a:lnTo>
                        <a:lnTo>
                          <a:pt x="272" y="166"/>
                        </a:lnTo>
                        <a:lnTo>
                          <a:pt x="264" y="134"/>
                        </a:lnTo>
                        <a:lnTo>
                          <a:pt x="292" y="103"/>
                        </a:lnTo>
                        <a:lnTo>
                          <a:pt x="298" y="90"/>
                        </a:lnTo>
                        <a:lnTo>
                          <a:pt x="318" y="86"/>
                        </a:lnTo>
                        <a:lnTo>
                          <a:pt x="331" y="69"/>
                        </a:lnTo>
                        <a:lnTo>
                          <a:pt x="331" y="58"/>
                        </a:lnTo>
                        <a:lnTo>
                          <a:pt x="344" y="45"/>
                        </a:lnTo>
                        <a:lnTo>
                          <a:pt x="368" y="42"/>
                        </a:lnTo>
                        <a:lnTo>
                          <a:pt x="396" y="42"/>
                        </a:lnTo>
                        <a:lnTo>
                          <a:pt x="418" y="21"/>
                        </a:lnTo>
                        <a:lnTo>
                          <a:pt x="414" y="0"/>
                        </a:lnTo>
                        <a:lnTo>
                          <a:pt x="418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7272360" y="1976400"/>
                    <a:ext cx="554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187">
                        <a:moveTo>
                          <a:pt x="418" y="0"/>
                        </a:moveTo>
                        <a:lnTo>
                          <a:pt x="425" y="3"/>
                        </a:lnTo>
                        <a:lnTo>
                          <a:pt x="436" y="21"/>
                        </a:lnTo>
                        <a:lnTo>
                          <a:pt x="485" y="69"/>
                        </a:lnTo>
                        <a:lnTo>
                          <a:pt x="492" y="58"/>
                        </a:lnTo>
                        <a:lnTo>
                          <a:pt x="511" y="73"/>
                        </a:lnTo>
                        <a:lnTo>
                          <a:pt x="518" y="88"/>
                        </a:lnTo>
                        <a:lnTo>
                          <a:pt x="518" y="99"/>
                        </a:lnTo>
                        <a:lnTo>
                          <a:pt x="518" y="118"/>
                        </a:lnTo>
                        <a:lnTo>
                          <a:pt x="511" y="129"/>
                        </a:lnTo>
                        <a:lnTo>
                          <a:pt x="525" y="144"/>
                        </a:lnTo>
                        <a:lnTo>
                          <a:pt x="536" y="158"/>
                        </a:lnTo>
                        <a:lnTo>
                          <a:pt x="536" y="170"/>
                        </a:lnTo>
                        <a:lnTo>
                          <a:pt x="536" y="188"/>
                        </a:lnTo>
                        <a:lnTo>
                          <a:pt x="533" y="210"/>
                        </a:lnTo>
                        <a:lnTo>
                          <a:pt x="525" y="218"/>
                        </a:lnTo>
                        <a:lnTo>
                          <a:pt x="536" y="229"/>
                        </a:lnTo>
                        <a:lnTo>
                          <a:pt x="548" y="247"/>
                        </a:lnTo>
                        <a:lnTo>
                          <a:pt x="555" y="266"/>
                        </a:lnTo>
                        <a:lnTo>
                          <a:pt x="555" y="273"/>
                        </a:lnTo>
                        <a:lnTo>
                          <a:pt x="544" y="277"/>
                        </a:lnTo>
                        <a:lnTo>
                          <a:pt x="496" y="277"/>
                        </a:lnTo>
                        <a:lnTo>
                          <a:pt x="485" y="277"/>
                        </a:lnTo>
                        <a:lnTo>
                          <a:pt x="477" y="284"/>
                        </a:lnTo>
                        <a:lnTo>
                          <a:pt x="477" y="299"/>
                        </a:lnTo>
                        <a:lnTo>
                          <a:pt x="470" y="310"/>
                        </a:lnTo>
                        <a:lnTo>
                          <a:pt x="448" y="329"/>
                        </a:lnTo>
                        <a:lnTo>
                          <a:pt x="451" y="344"/>
                        </a:lnTo>
                        <a:lnTo>
                          <a:pt x="448" y="355"/>
                        </a:lnTo>
                        <a:lnTo>
                          <a:pt x="440" y="362"/>
                        </a:lnTo>
                        <a:lnTo>
                          <a:pt x="448" y="385"/>
                        </a:lnTo>
                        <a:lnTo>
                          <a:pt x="451" y="399"/>
                        </a:lnTo>
                        <a:lnTo>
                          <a:pt x="444" y="410"/>
                        </a:lnTo>
                        <a:lnTo>
                          <a:pt x="429" y="422"/>
                        </a:lnTo>
                        <a:lnTo>
                          <a:pt x="425" y="436"/>
                        </a:lnTo>
                        <a:lnTo>
                          <a:pt x="422" y="455"/>
                        </a:lnTo>
                        <a:lnTo>
                          <a:pt x="396" y="466"/>
                        </a:lnTo>
                        <a:lnTo>
                          <a:pt x="381" y="477"/>
                        </a:lnTo>
                        <a:lnTo>
                          <a:pt x="359" y="492"/>
                        </a:lnTo>
                        <a:lnTo>
                          <a:pt x="362" y="503"/>
                        </a:lnTo>
                        <a:lnTo>
                          <a:pt x="344" y="507"/>
                        </a:lnTo>
                        <a:lnTo>
                          <a:pt x="336" y="514"/>
                        </a:lnTo>
                        <a:lnTo>
                          <a:pt x="318" y="540"/>
                        </a:lnTo>
                        <a:lnTo>
                          <a:pt x="303" y="551"/>
                        </a:lnTo>
                        <a:lnTo>
                          <a:pt x="307" y="570"/>
                        </a:lnTo>
                        <a:lnTo>
                          <a:pt x="298" y="576"/>
                        </a:lnTo>
                        <a:lnTo>
                          <a:pt x="290" y="584"/>
                        </a:lnTo>
                        <a:lnTo>
                          <a:pt x="298" y="613"/>
                        </a:lnTo>
                        <a:lnTo>
                          <a:pt x="294" y="632"/>
                        </a:lnTo>
                        <a:lnTo>
                          <a:pt x="275" y="643"/>
                        </a:lnTo>
                        <a:lnTo>
                          <a:pt x="272" y="673"/>
                        </a:lnTo>
                        <a:lnTo>
                          <a:pt x="275" y="710"/>
                        </a:lnTo>
                        <a:lnTo>
                          <a:pt x="283" y="728"/>
                        </a:lnTo>
                        <a:lnTo>
                          <a:pt x="310" y="751"/>
                        </a:lnTo>
                        <a:lnTo>
                          <a:pt x="321" y="773"/>
                        </a:lnTo>
                        <a:lnTo>
                          <a:pt x="333" y="795"/>
                        </a:lnTo>
                        <a:lnTo>
                          <a:pt x="340" y="810"/>
                        </a:lnTo>
                        <a:lnTo>
                          <a:pt x="333" y="825"/>
                        </a:lnTo>
                        <a:lnTo>
                          <a:pt x="318" y="836"/>
                        </a:lnTo>
                        <a:lnTo>
                          <a:pt x="307" y="832"/>
                        </a:lnTo>
                        <a:lnTo>
                          <a:pt x="298" y="821"/>
                        </a:lnTo>
                        <a:lnTo>
                          <a:pt x="283" y="825"/>
                        </a:lnTo>
                        <a:lnTo>
                          <a:pt x="279" y="836"/>
                        </a:lnTo>
                        <a:lnTo>
                          <a:pt x="257" y="836"/>
                        </a:lnTo>
                        <a:lnTo>
                          <a:pt x="223" y="832"/>
                        </a:lnTo>
                        <a:lnTo>
                          <a:pt x="216" y="840"/>
                        </a:lnTo>
                        <a:lnTo>
                          <a:pt x="238" y="851"/>
                        </a:lnTo>
                        <a:lnTo>
                          <a:pt x="268" y="840"/>
                        </a:lnTo>
                        <a:lnTo>
                          <a:pt x="275" y="854"/>
                        </a:lnTo>
                        <a:lnTo>
                          <a:pt x="298" y="858"/>
                        </a:lnTo>
                        <a:lnTo>
                          <a:pt x="314" y="865"/>
                        </a:lnTo>
                        <a:lnTo>
                          <a:pt x="307" y="873"/>
                        </a:lnTo>
                        <a:lnTo>
                          <a:pt x="286" y="869"/>
                        </a:lnTo>
                        <a:lnTo>
                          <a:pt x="283" y="877"/>
                        </a:lnTo>
                        <a:lnTo>
                          <a:pt x="286" y="888"/>
                        </a:lnTo>
                        <a:lnTo>
                          <a:pt x="275" y="903"/>
                        </a:lnTo>
                        <a:lnTo>
                          <a:pt x="257" y="917"/>
                        </a:lnTo>
                        <a:lnTo>
                          <a:pt x="249" y="921"/>
                        </a:lnTo>
                        <a:lnTo>
                          <a:pt x="242" y="925"/>
                        </a:lnTo>
                        <a:lnTo>
                          <a:pt x="246" y="943"/>
                        </a:lnTo>
                        <a:lnTo>
                          <a:pt x="238" y="954"/>
                        </a:lnTo>
                        <a:lnTo>
                          <a:pt x="227" y="977"/>
                        </a:lnTo>
                        <a:lnTo>
                          <a:pt x="231" y="999"/>
                        </a:lnTo>
                        <a:lnTo>
                          <a:pt x="223" y="1032"/>
                        </a:lnTo>
                        <a:lnTo>
                          <a:pt x="216" y="1047"/>
                        </a:lnTo>
                        <a:lnTo>
                          <a:pt x="216" y="1069"/>
                        </a:lnTo>
                        <a:lnTo>
                          <a:pt x="205" y="1084"/>
                        </a:lnTo>
                        <a:lnTo>
                          <a:pt x="190" y="1110"/>
                        </a:lnTo>
                        <a:lnTo>
                          <a:pt x="186" y="1129"/>
                        </a:lnTo>
                        <a:lnTo>
                          <a:pt x="159" y="1125"/>
                        </a:lnTo>
                        <a:lnTo>
                          <a:pt x="133" y="1125"/>
                        </a:lnTo>
                        <a:lnTo>
                          <a:pt x="130" y="1136"/>
                        </a:lnTo>
                        <a:lnTo>
                          <a:pt x="115" y="1140"/>
                        </a:lnTo>
                        <a:lnTo>
                          <a:pt x="107" y="1144"/>
                        </a:lnTo>
                        <a:lnTo>
                          <a:pt x="111" y="1157"/>
                        </a:lnTo>
                        <a:lnTo>
                          <a:pt x="107" y="1176"/>
                        </a:lnTo>
                        <a:lnTo>
                          <a:pt x="89" y="1187"/>
                        </a:lnTo>
                        <a:lnTo>
                          <a:pt x="78" y="1176"/>
                        </a:lnTo>
                        <a:lnTo>
                          <a:pt x="63" y="1187"/>
                        </a:lnTo>
                        <a:lnTo>
                          <a:pt x="44" y="1187"/>
                        </a:lnTo>
                        <a:lnTo>
                          <a:pt x="37" y="1176"/>
                        </a:lnTo>
                        <a:lnTo>
                          <a:pt x="44" y="1168"/>
                        </a:lnTo>
                        <a:lnTo>
                          <a:pt x="48" y="1147"/>
                        </a:lnTo>
                        <a:lnTo>
                          <a:pt x="33" y="1118"/>
                        </a:lnTo>
                        <a:lnTo>
                          <a:pt x="26" y="1103"/>
                        </a:lnTo>
                        <a:lnTo>
                          <a:pt x="30" y="1095"/>
                        </a:lnTo>
                        <a:lnTo>
                          <a:pt x="37" y="1095"/>
                        </a:lnTo>
                        <a:lnTo>
                          <a:pt x="41" y="1088"/>
                        </a:lnTo>
                        <a:lnTo>
                          <a:pt x="44" y="1080"/>
                        </a:lnTo>
                        <a:lnTo>
                          <a:pt x="48" y="1073"/>
                        </a:lnTo>
                        <a:lnTo>
                          <a:pt x="44" y="1066"/>
                        </a:lnTo>
                        <a:lnTo>
                          <a:pt x="37" y="1051"/>
                        </a:lnTo>
                        <a:lnTo>
                          <a:pt x="22" y="1029"/>
                        </a:lnTo>
                        <a:lnTo>
                          <a:pt x="26" y="1006"/>
                        </a:lnTo>
                        <a:lnTo>
                          <a:pt x="15" y="988"/>
                        </a:lnTo>
                        <a:lnTo>
                          <a:pt x="4" y="977"/>
                        </a:lnTo>
                        <a:lnTo>
                          <a:pt x="11" y="958"/>
                        </a:lnTo>
                        <a:lnTo>
                          <a:pt x="19" y="921"/>
                        </a:lnTo>
                        <a:lnTo>
                          <a:pt x="4" y="903"/>
                        </a:lnTo>
                        <a:lnTo>
                          <a:pt x="0" y="884"/>
                        </a:lnTo>
                        <a:lnTo>
                          <a:pt x="0" y="873"/>
                        </a:lnTo>
                        <a:lnTo>
                          <a:pt x="7" y="851"/>
                        </a:lnTo>
                        <a:lnTo>
                          <a:pt x="19" y="854"/>
                        </a:lnTo>
                        <a:lnTo>
                          <a:pt x="30" y="825"/>
                        </a:lnTo>
                        <a:lnTo>
                          <a:pt x="30" y="791"/>
                        </a:lnTo>
                        <a:lnTo>
                          <a:pt x="33" y="780"/>
                        </a:lnTo>
                        <a:lnTo>
                          <a:pt x="48" y="769"/>
                        </a:lnTo>
                        <a:lnTo>
                          <a:pt x="70" y="754"/>
                        </a:lnTo>
                        <a:lnTo>
                          <a:pt x="70" y="736"/>
                        </a:lnTo>
                        <a:lnTo>
                          <a:pt x="67" y="680"/>
                        </a:lnTo>
                        <a:lnTo>
                          <a:pt x="59" y="673"/>
                        </a:lnTo>
                        <a:lnTo>
                          <a:pt x="59" y="658"/>
                        </a:lnTo>
                        <a:lnTo>
                          <a:pt x="78" y="650"/>
                        </a:lnTo>
                        <a:lnTo>
                          <a:pt x="85" y="643"/>
                        </a:lnTo>
                        <a:lnTo>
                          <a:pt x="74" y="621"/>
                        </a:lnTo>
                        <a:lnTo>
                          <a:pt x="59" y="599"/>
                        </a:lnTo>
                        <a:lnTo>
                          <a:pt x="63" y="573"/>
                        </a:lnTo>
                        <a:lnTo>
                          <a:pt x="67" y="555"/>
                        </a:lnTo>
                        <a:lnTo>
                          <a:pt x="82" y="522"/>
                        </a:lnTo>
                        <a:lnTo>
                          <a:pt x="82" y="507"/>
                        </a:lnTo>
                        <a:lnTo>
                          <a:pt x="82" y="477"/>
                        </a:lnTo>
                        <a:lnTo>
                          <a:pt x="93" y="451"/>
                        </a:lnTo>
                        <a:lnTo>
                          <a:pt x="111" y="436"/>
                        </a:lnTo>
                        <a:lnTo>
                          <a:pt x="130" y="425"/>
                        </a:lnTo>
                        <a:lnTo>
                          <a:pt x="148" y="429"/>
                        </a:lnTo>
                        <a:lnTo>
                          <a:pt x="167" y="436"/>
                        </a:lnTo>
                        <a:lnTo>
                          <a:pt x="175" y="410"/>
                        </a:lnTo>
                        <a:lnTo>
                          <a:pt x="167" y="388"/>
                        </a:lnTo>
                        <a:lnTo>
                          <a:pt x="159" y="373"/>
                        </a:lnTo>
                        <a:lnTo>
                          <a:pt x="156" y="362"/>
                        </a:lnTo>
                        <a:lnTo>
                          <a:pt x="159" y="351"/>
                        </a:lnTo>
                        <a:lnTo>
                          <a:pt x="172" y="347"/>
                        </a:lnTo>
                        <a:lnTo>
                          <a:pt x="175" y="322"/>
                        </a:lnTo>
                        <a:lnTo>
                          <a:pt x="183" y="299"/>
                        </a:lnTo>
                        <a:lnTo>
                          <a:pt x="186" y="281"/>
                        </a:lnTo>
                        <a:lnTo>
                          <a:pt x="186" y="262"/>
                        </a:lnTo>
                        <a:lnTo>
                          <a:pt x="197" y="244"/>
                        </a:lnTo>
                        <a:lnTo>
                          <a:pt x="220" y="229"/>
                        </a:lnTo>
                        <a:lnTo>
                          <a:pt x="235" y="225"/>
                        </a:lnTo>
                        <a:lnTo>
                          <a:pt x="235" y="207"/>
                        </a:lnTo>
                        <a:lnTo>
                          <a:pt x="242" y="195"/>
                        </a:lnTo>
                        <a:lnTo>
                          <a:pt x="257" y="177"/>
                        </a:lnTo>
                        <a:lnTo>
                          <a:pt x="272" y="166"/>
                        </a:lnTo>
                        <a:lnTo>
                          <a:pt x="264" y="134"/>
                        </a:lnTo>
                        <a:lnTo>
                          <a:pt x="292" y="103"/>
                        </a:lnTo>
                        <a:lnTo>
                          <a:pt x="298" y="90"/>
                        </a:lnTo>
                        <a:lnTo>
                          <a:pt x="318" y="86"/>
                        </a:lnTo>
                        <a:lnTo>
                          <a:pt x="331" y="69"/>
                        </a:lnTo>
                        <a:lnTo>
                          <a:pt x="331" y="58"/>
                        </a:lnTo>
                        <a:lnTo>
                          <a:pt x="344" y="45"/>
                        </a:lnTo>
                        <a:lnTo>
                          <a:pt x="368" y="42"/>
                        </a:lnTo>
                        <a:lnTo>
                          <a:pt x="396" y="42"/>
                        </a:lnTo>
                        <a:lnTo>
                          <a:pt x="418" y="21"/>
                        </a:lnTo>
                        <a:lnTo>
                          <a:pt x="41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1" name=""/>
              <p:cNvGrpSpPr/>
              <p:nvPr/>
            </p:nvGrpSpPr>
            <p:grpSpPr>
              <a:xfrm>
                <a:off x="7322040" y="2883240"/>
                <a:ext cx="127440" cy="149760"/>
                <a:chOff x="7322040" y="2883240"/>
                <a:chExt cx="127440" cy="149760"/>
              </a:xfrm>
            </p:grpSpPr>
            <p:grpSp>
              <p:nvGrpSpPr>
                <p:cNvPr id="3042" name=""/>
                <p:cNvGrpSpPr/>
                <p:nvPr/>
              </p:nvGrpSpPr>
              <p:grpSpPr>
                <a:xfrm>
                  <a:off x="7388640" y="2927520"/>
                  <a:ext cx="60840" cy="105480"/>
                  <a:chOff x="7388640" y="2927520"/>
                  <a:chExt cx="60840" cy="105480"/>
                </a:xfrm>
              </p:grpSpPr>
              <p:sp>
                <p:nvSpPr>
                  <p:cNvPr id="3043" name=""/>
                  <p:cNvSpPr/>
                  <p:nvPr/>
                </p:nvSpPr>
                <p:spPr>
                  <a:xfrm>
                    <a:off x="7388640" y="2927520"/>
                    <a:ext cx="60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7">
                        <a:moveTo>
                          <a:pt x="53" y="0"/>
                        </a:moveTo>
                        <a:lnTo>
                          <a:pt x="53" y="17"/>
                        </a:lnTo>
                        <a:lnTo>
                          <a:pt x="61" y="32"/>
                        </a:lnTo>
                        <a:lnTo>
                          <a:pt x="53" y="49"/>
                        </a:lnTo>
                        <a:lnTo>
                          <a:pt x="43" y="63"/>
                        </a:lnTo>
                        <a:lnTo>
                          <a:pt x="24" y="80"/>
                        </a:lnTo>
                        <a:lnTo>
                          <a:pt x="9" y="97"/>
                        </a:lnTo>
                        <a:lnTo>
                          <a:pt x="0" y="80"/>
                        </a:lnTo>
                        <a:lnTo>
                          <a:pt x="6" y="73"/>
                        </a:lnTo>
                        <a:lnTo>
                          <a:pt x="24" y="54"/>
                        </a:lnTo>
                        <a:lnTo>
                          <a:pt x="23" y="43"/>
                        </a:lnTo>
                        <a:lnTo>
                          <a:pt x="32" y="28"/>
                        </a:lnTo>
                        <a:lnTo>
                          <a:pt x="55" y="9"/>
                        </a:lnTo>
                        <a:lnTo>
                          <a:pt x="55" y="15"/>
                        </a:lnTo>
                        <a:lnTo>
                          <a:pt x="59" y="24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7388640" y="2927520"/>
                    <a:ext cx="60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7">
                        <a:moveTo>
                          <a:pt x="53" y="0"/>
                        </a:moveTo>
                        <a:lnTo>
                          <a:pt x="53" y="17"/>
                        </a:lnTo>
                        <a:lnTo>
                          <a:pt x="61" y="32"/>
                        </a:lnTo>
                        <a:lnTo>
                          <a:pt x="53" y="49"/>
                        </a:lnTo>
                        <a:lnTo>
                          <a:pt x="43" y="63"/>
                        </a:lnTo>
                        <a:lnTo>
                          <a:pt x="24" y="80"/>
                        </a:lnTo>
                        <a:lnTo>
                          <a:pt x="9" y="97"/>
                        </a:lnTo>
                        <a:lnTo>
                          <a:pt x="0" y="80"/>
                        </a:lnTo>
                        <a:lnTo>
                          <a:pt x="6" y="73"/>
                        </a:lnTo>
                        <a:lnTo>
                          <a:pt x="24" y="54"/>
                        </a:lnTo>
                        <a:lnTo>
                          <a:pt x="23" y="43"/>
                        </a:lnTo>
                        <a:lnTo>
                          <a:pt x="32" y="28"/>
                        </a:lnTo>
                        <a:lnTo>
                          <a:pt x="55" y="9"/>
                        </a:lnTo>
                        <a:lnTo>
                          <a:pt x="55" y="15"/>
                        </a:lnTo>
                        <a:lnTo>
                          <a:pt x="59" y="2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5" name=""/>
                <p:cNvSpPr/>
                <p:nvPr/>
              </p:nvSpPr>
              <p:spPr>
                <a:xfrm>
                  <a:off x="7322040" y="2883240"/>
                  <a:ext cx="75600" cy="84600"/>
                </a:xfrm>
                <a:custGeom>
                  <a:avLst/>
                  <a:gdLst/>
                  <a:ahLst/>
                  <a:rect l="l" t="t" r="r" b="b"/>
                  <a:pathLst>
                    <a:path w="76" h="78">
                      <a:moveTo>
                        <a:pt x="59" y="0"/>
                      </a:moveTo>
                      <a:lnTo>
                        <a:pt x="50" y="11"/>
                      </a:lnTo>
                      <a:lnTo>
                        <a:pt x="35" y="9"/>
                      </a:lnTo>
                      <a:lnTo>
                        <a:pt x="26" y="7"/>
                      </a:lnTo>
                      <a:lnTo>
                        <a:pt x="30" y="20"/>
                      </a:lnTo>
                      <a:lnTo>
                        <a:pt x="32" y="30"/>
                      </a:lnTo>
                      <a:lnTo>
                        <a:pt x="33" y="37"/>
                      </a:lnTo>
                      <a:lnTo>
                        <a:pt x="28" y="39"/>
                      </a:lnTo>
                      <a:lnTo>
                        <a:pt x="19" y="35"/>
                      </a:lnTo>
                      <a:lnTo>
                        <a:pt x="19" y="30"/>
                      </a:lnTo>
                      <a:lnTo>
                        <a:pt x="11" y="30"/>
                      </a:lnTo>
                      <a:lnTo>
                        <a:pt x="13" y="39"/>
                      </a:lnTo>
                      <a:lnTo>
                        <a:pt x="9" y="48"/>
                      </a:lnTo>
                      <a:lnTo>
                        <a:pt x="0" y="61"/>
                      </a:lnTo>
                      <a:lnTo>
                        <a:pt x="4" y="72"/>
                      </a:lnTo>
                      <a:lnTo>
                        <a:pt x="13" y="78"/>
                      </a:lnTo>
                      <a:lnTo>
                        <a:pt x="22" y="72"/>
                      </a:lnTo>
                      <a:lnTo>
                        <a:pt x="33" y="65"/>
                      </a:lnTo>
                      <a:lnTo>
                        <a:pt x="54" y="59"/>
                      </a:lnTo>
                      <a:lnTo>
                        <a:pt x="63" y="61"/>
                      </a:lnTo>
                      <a:lnTo>
                        <a:pt x="59" y="48"/>
                      </a:lnTo>
                      <a:lnTo>
                        <a:pt x="67" y="41"/>
                      </a:lnTo>
                      <a:lnTo>
                        <a:pt x="76" y="28"/>
                      </a:lnTo>
                      <a:lnTo>
                        <a:pt x="72" y="20"/>
                      </a:lnTo>
                      <a:lnTo>
                        <a:pt x="65" y="11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6" name=""/>
            <p:cNvSpPr/>
            <p:nvPr/>
          </p:nvSpPr>
          <p:spPr>
            <a:xfrm>
              <a:off x="7846920" y="3183120"/>
              <a:ext cx="534960" cy="476280"/>
            </a:xfrm>
            <a:custGeom>
              <a:avLst/>
              <a:gdLst/>
              <a:ahLst/>
              <a:rect l="l" t="t" r="r" b="b"/>
              <a:pathLst>
                <a:path w="535" h="437">
                  <a:moveTo>
                    <a:pt x="217" y="10"/>
                  </a:moveTo>
                  <a:lnTo>
                    <a:pt x="203" y="28"/>
                  </a:lnTo>
                  <a:lnTo>
                    <a:pt x="193" y="45"/>
                  </a:lnTo>
                  <a:lnTo>
                    <a:pt x="175" y="47"/>
                  </a:lnTo>
                  <a:lnTo>
                    <a:pt x="157" y="53"/>
                  </a:lnTo>
                  <a:lnTo>
                    <a:pt x="165" y="65"/>
                  </a:lnTo>
                  <a:lnTo>
                    <a:pt x="165" y="71"/>
                  </a:lnTo>
                  <a:lnTo>
                    <a:pt x="165" y="95"/>
                  </a:lnTo>
                  <a:lnTo>
                    <a:pt x="149" y="97"/>
                  </a:lnTo>
                  <a:lnTo>
                    <a:pt x="133" y="113"/>
                  </a:lnTo>
                  <a:lnTo>
                    <a:pt x="133" y="131"/>
                  </a:lnTo>
                  <a:lnTo>
                    <a:pt x="131" y="139"/>
                  </a:lnTo>
                  <a:lnTo>
                    <a:pt x="125" y="149"/>
                  </a:lnTo>
                  <a:lnTo>
                    <a:pt x="125" y="197"/>
                  </a:lnTo>
                  <a:lnTo>
                    <a:pt x="115" y="203"/>
                  </a:lnTo>
                  <a:lnTo>
                    <a:pt x="100" y="195"/>
                  </a:lnTo>
                  <a:lnTo>
                    <a:pt x="74" y="215"/>
                  </a:lnTo>
                  <a:lnTo>
                    <a:pt x="56" y="233"/>
                  </a:lnTo>
                  <a:lnTo>
                    <a:pt x="38" y="221"/>
                  </a:lnTo>
                  <a:lnTo>
                    <a:pt x="30" y="221"/>
                  </a:lnTo>
                  <a:lnTo>
                    <a:pt x="14" y="225"/>
                  </a:lnTo>
                  <a:lnTo>
                    <a:pt x="18" y="251"/>
                  </a:lnTo>
                  <a:lnTo>
                    <a:pt x="26" y="277"/>
                  </a:lnTo>
                  <a:lnTo>
                    <a:pt x="30" y="295"/>
                  </a:lnTo>
                  <a:lnTo>
                    <a:pt x="28" y="319"/>
                  </a:lnTo>
                  <a:lnTo>
                    <a:pt x="18" y="339"/>
                  </a:lnTo>
                  <a:lnTo>
                    <a:pt x="0" y="355"/>
                  </a:lnTo>
                  <a:lnTo>
                    <a:pt x="6" y="363"/>
                  </a:lnTo>
                  <a:lnTo>
                    <a:pt x="20" y="373"/>
                  </a:lnTo>
                  <a:lnTo>
                    <a:pt x="10" y="391"/>
                  </a:lnTo>
                  <a:lnTo>
                    <a:pt x="12" y="425"/>
                  </a:lnTo>
                  <a:lnTo>
                    <a:pt x="38" y="425"/>
                  </a:lnTo>
                  <a:lnTo>
                    <a:pt x="50" y="413"/>
                  </a:lnTo>
                  <a:lnTo>
                    <a:pt x="111" y="409"/>
                  </a:lnTo>
                  <a:lnTo>
                    <a:pt x="163" y="411"/>
                  </a:lnTo>
                  <a:lnTo>
                    <a:pt x="213" y="419"/>
                  </a:lnTo>
                  <a:lnTo>
                    <a:pt x="257" y="427"/>
                  </a:lnTo>
                  <a:lnTo>
                    <a:pt x="301" y="425"/>
                  </a:lnTo>
                  <a:lnTo>
                    <a:pt x="321" y="419"/>
                  </a:lnTo>
                  <a:lnTo>
                    <a:pt x="341" y="417"/>
                  </a:lnTo>
                  <a:lnTo>
                    <a:pt x="365" y="429"/>
                  </a:lnTo>
                  <a:lnTo>
                    <a:pt x="407" y="419"/>
                  </a:lnTo>
                  <a:lnTo>
                    <a:pt x="417" y="437"/>
                  </a:lnTo>
                  <a:lnTo>
                    <a:pt x="429" y="417"/>
                  </a:lnTo>
                  <a:lnTo>
                    <a:pt x="431" y="383"/>
                  </a:lnTo>
                  <a:lnTo>
                    <a:pt x="461" y="367"/>
                  </a:lnTo>
                  <a:lnTo>
                    <a:pt x="487" y="363"/>
                  </a:lnTo>
                  <a:lnTo>
                    <a:pt x="487" y="357"/>
                  </a:lnTo>
                  <a:lnTo>
                    <a:pt x="469" y="317"/>
                  </a:lnTo>
                  <a:lnTo>
                    <a:pt x="461" y="293"/>
                  </a:lnTo>
                  <a:lnTo>
                    <a:pt x="477" y="285"/>
                  </a:lnTo>
                  <a:lnTo>
                    <a:pt x="501" y="289"/>
                  </a:lnTo>
                  <a:lnTo>
                    <a:pt x="535" y="275"/>
                  </a:lnTo>
                  <a:lnTo>
                    <a:pt x="535" y="237"/>
                  </a:lnTo>
                  <a:lnTo>
                    <a:pt x="499" y="225"/>
                  </a:lnTo>
                  <a:lnTo>
                    <a:pt x="467" y="219"/>
                  </a:lnTo>
                  <a:lnTo>
                    <a:pt x="449" y="187"/>
                  </a:lnTo>
                  <a:lnTo>
                    <a:pt x="451" y="155"/>
                  </a:lnTo>
                  <a:lnTo>
                    <a:pt x="419" y="123"/>
                  </a:lnTo>
                  <a:lnTo>
                    <a:pt x="401" y="99"/>
                  </a:lnTo>
                  <a:lnTo>
                    <a:pt x="399" y="77"/>
                  </a:lnTo>
                  <a:lnTo>
                    <a:pt x="403" y="63"/>
                  </a:lnTo>
                  <a:lnTo>
                    <a:pt x="403" y="34"/>
                  </a:lnTo>
                  <a:lnTo>
                    <a:pt x="371" y="12"/>
                  </a:lnTo>
                  <a:lnTo>
                    <a:pt x="335" y="12"/>
                  </a:lnTo>
                  <a:lnTo>
                    <a:pt x="303" y="18"/>
                  </a:lnTo>
                  <a:lnTo>
                    <a:pt x="289" y="6"/>
                  </a:lnTo>
                  <a:lnTo>
                    <a:pt x="251" y="0"/>
                  </a:lnTo>
                  <a:lnTo>
                    <a:pt x="217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43040" y="1803240"/>
            <a:ext cx="3750840" cy="2587320"/>
            <a:chOff x="743040" y="1803240"/>
            <a:chExt cx="3750840" cy="2587320"/>
          </a:xfrm>
        </p:grpSpPr>
        <p:sp>
          <p:nvSpPr>
            <p:cNvPr id="3048" name=""/>
            <p:cNvSpPr/>
            <p:nvPr/>
          </p:nvSpPr>
          <p:spPr>
            <a:xfrm>
              <a:off x="3868920" y="2728800"/>
              <a:ext cx="362880" cy="168120"/>
            </a:xfrm>
            <a:custGeom>
              <a:avLst/>
              <a:gdLst/>
              <a:ahLst/>
              <a:rect l="l" t="t" r="r" b="b"/>
              <a:pathLst>
                <a:path w="270" h="111">
                  <a:moveTo>
                    <a:pt x="0" y="38"/>
                  </a:moveTo>
                  <a:lnTo>
                    <a:pt x="201" y="0"/>
                  </a:lnTo>
                  <a:lnTo>
                    <a:pt x="234" y="76"/>
                  </a:lnTo>
                  <a:lnTo>
                    <a:pt x="269" y="68"/>
                  </a:lnTo>
                  <a:lnTo>
                    <a:pt x="270" y="106"/>
                  </a:lnTo>
                  <a:lnTo>
                    <a:pt x="242" y="111"/>
                  </a:lnTo>
                  <a:lnTo>
                    <a:pt x="217" y="86"/>
                  </a:lnTo>
                  <a:lnTo>
                    <a:pt x="201" y="56"/>
                  </a:lnTo>
                  <a:lnTo>
                    <a:pt x="198" y="14"/>
                  </a:lnTo>
                  <a:lnTo>
                    <a:pt x="186" y="35"/>
                  </a:lnTo>
                  <a:lnTo>
                    <a:pt x="200" y="98"/>
                  </a:lnTo>
                  <a:lnTo>
                    <a:pt x="141" y="107"/>
                  </a:lnTo>
                  <a:lnTo>
                    <a:pt x="139" y="61"/>
                  </a:lnTo>
                  <a:lnTo>
                    <a:pt x="103" y="41"/>
                  </a:lnTo>
                  <a:lnTo>
                    <a:pt x="72" y="36"/>
                  </a:lnTo>
                  <a:lnTo>
                    <a:pt x="8" y="68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904320" y="1803240"/>
              <a:ext cx="478080" cy="396000"/>
            </a:xfrm>
            <a:custGeom>
              <a:avLst/>
              <a:gdLst/>
              <a:ahLst/>
              <a:rect l="l" t="t" r="r" b="b"/>
              <a:pathLst>
                <a:path w="356" h="261">
                  <a:moveTo>
                    <a:pt x="90" y="0"/>
                  </a:moveTo>
                  <a:lnTo>
                    <a:pt x="163" y="20"/>
                  </a:lnTo>
                  <a:lnTo>
                    <a:pt x="219" y="33"/>
                  </a:lnTo>
                  <a:lnTo>
                    <a:pt x="246" y="39"/>
                  </a:lnTo>
                  <a:lnTo>
                    <a:pt x="274" y="43"/>
                  </a:lnTo>
                  <a:lnTo>
                    <a:pt x="311" y="50"/>
                  </a:lnTo>
                  <a:lnTo>
                    <a:pt x="356" y="58"/>
                  </a:lnTo>
                  <a:lnTo>
                    <a:pt x="327" y="261"/>
                  </a:lnTo>
                  <a:lnTo>
                    <a:pt x="189" y="232"/>
                  </a:lnTo>
                  <a:lnTo>
                    <a:pt x="170" y="245"/>
                  </a:lnTo>
                  <a:lnTo>
                    <a:pt x="145" y="225"/>
                  </a:lnTo>
                  <a:lnTo>
                    <a:pt x="123" y="245"/>
                  </a:lnTo>
                  <a:lnTo>
                    <a:pt x="103" y="228"/>
                  </a:lnTo>
                  <a:lnTo>
                    <a:pt x="46" y="225"/>
                  </a:lnTo>
                  <a:lnTo>
                    <a:pt x="54" y="192"/>
                  </a:lnTo>
                  <a:lnTo>
                    <a:pt x="13" y="189"/>
                  </a:lnTo>
                  <a:lnTo>
                    <a:pt x="9" y="170"/>
                  </a:lnTo>
                  <a:lnTo>
                    <a:pt x="17" y="150"/>
                  </a:lnTo>
                  <a:lnTo>
                    <a:pt x="7" y="132"/>
                  </a:lnTo>
                  <a:lnTo>
                    <a:pt x="8" y="81"/>
                  </a:lnTo>
                  <a:lnTo>
                    <a:pt x="0" y="42"/>
                  </a:lnTo>
                  <a:lnTo>
                    <a:pt x="5" y="27"/>
                  </a:lnTo>
                  <a:lnTo>
                    <a:pt x="23" y="33"/>
                  </a:lnTo>
                  <a:lnTo>
                    <a:pt x="42" y="56"/>
                  </a:lnTo>
                  <a:lnTo>
                    <a:pt x="77" y="61"/>
                  </a:lnTo>
                  <a:lnTo>
                    <a:pt x="86" y="80"/>
                  </a:lnTo>
                  <a:lnTo>
                    <a:pt x="69" y="80"/>
                  </a:lnTo>
                  <a:lnTo>
                    <a:pt x="67" y="96"/>
                  </a:lnTo>
                  <a:lnTo>
                    <a:pt x="77" y="98"/>
                  </a:lnTo>
                  <a:lnTo>
                    <a:pt x="81" y="114"/>
                  </a:lnTo>
                  <a:lnTo>
                    <a:pt x="60" y="126"/>
                  </a:lnTo>
                  <a:lnTo>
                    <a:pt x="60" y="137"/>
                  </a:lnTo>
                  <a:lnTo>
                    <a:pt x="84" y="137"/>
                  </a:lnTo>
                  <a:lnTo>
                    <a:pt x="90" y="109"/>
                  </a:lnTo>
                  <a:lnTo>
                    <a:pt x="108" y="92"/>
                  </a:lnTo>
                  <a:lnTo>
                    <a:pt x="86" y="48"/>
                  </a:lnTo>
                  <a:lnTo>
                    <a:pt x="100" y="34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91280" y="2089800"/>
              <a:ext cx="596880" cy="51444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97" y="0"/>
                  </a:moveTo>
                  <a:lnTo>
                    <a:pt x="84" y="7"/>
                  </a:lnTo>
                  <a:lnTo>
                    <a:pt x="76" y="37"/>
                  </a:lnTo>
                  <a:lnTo>
                    <a:pt x="68" y="62"/>
                  </a:lnTo>
                  <a:lnTo>
                    <a:pt x="62" y="82"/>
                  </a:lnTo>
                  <a:lnTo>
                    <a:pt x="54" y="104"/>
                  </a:lnTo>
                  <a:lnTo>
                    <a:pt x="45" y="126"/>
                  </a:lnTo>
                  <a:lnTo>
                    <a:pt x="33" y="150"/>
                  </a:lnTo>
                  <a:lnTo>
                    <a:pt x="17" y="178"/>
                  </a:lnTo>
                  <a:lnTo>
                    <a:pt x="0" y="205"/>
                  </a:lnTo>
                  <a:lnTo>
                    <a:pt x="0" y="264"/>
                  </a:lnTo>
                  <a:lnTo>
                    <a:pt x="249" y="315"/>
                  </a:lnTo>
                  <a:lnTo>
                    <a:pt x="364" y="339"/>
                  </a:lnTo>
                  <a:lnTo>
                    <a:pt x="388" y="221"/>
                  </a:lnTo>
                  <a:lnTo>
                    <a:pt x="403" y="211"/>
                  </a:lnTo>
                  <a:lnTo>
                    <a:pt x="389" y="185"/>
                  </a:lnTo>
                  <a:lnTo>
                    <a:pt x="396" y="158"/>
                  </a:lnTo>
                  <a:lnTo>
                    <a:pt x="444" y="113"/>
                  </a:lnTo>
                  <a:lnTo>
                    <a:pt x="411" y="72"/>
                  </a:lnTo>
                  <a:lnTo>
                    <a:pt x="273" y="43"/>
                  </a:lnTo>
                  <a:lnTo>
                    <a:pt x="254" y="55"/>
                  </a:lnTo>
                  <a:lnTo>
                    <a:pt x="229" y="35"/>
                  </a:lnTo>
                  <a:lnTo>
                    <a:pt x="207" y="56"/>
                  </a:lnTo>
                  <a:lnTo>
                    <a:pt x="186" y="35"/>
                  </a:lnTo>
                  <a:lnTo>
                    <a:pt x="131" y="36"/>
                  </a:lnTo>
                  <a:lnTo>
                    <a:pt x="138" y="3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43040" y="2487600"/>
              <a:ext cx="629280" cy="1097280"/>
            </a:xfrm>
            <a:custGeom>
              <a:avLst/>
              <a:gdLst/>
              <a:ahLst/>
              <a:rect l="l" t="t" r="r" b="b"/>
              <a:pathLst>
                <a:path w="468" h="723">
                  <a:moveTo>
                    <a:pt x="36" y="0"/>
                  </a:moveTo>
                  <a:lnTo>
                    <a:pt x="251" y="43"/>
                  </a:lnTo>
                  <a:lnTo>
                    <a:pt x="204" y="256"/>
                  </a:lnTo>
                  <a:lnTo>
                    <a:pt x="446" y="580"/>
                  </a:lnTo>
                  <a:lnTo>
                    <a:pt x="468" y="621"/>
                  </a:lnTo>
                  <a:lnTo>
                    <a:pt x="445" y="641"/>
                  </a:lnTo>
                  <a:lnTo>
                    <a:pt x="430" y="677"/>
                  </a:lnTo>
                  <a:lnTo>
                    <a:pt x="416" y="698"/>
                  </a:lnTo>
                  <a:lnTo>
                    <a:pt x="431" y="717"/>
                  </a:lnTo>
                  <a:lnTo>
                    <a:pt x="406" y="723"/>
                  </a:lnTo>
                  <a:lnTo>
                    <a:pt x="264" y="718"/>
                  </a:lnTo>
                  <a:lnTo>
                    <a:pt x="255" y="676"/>
                  </a:lnTo>
                  <a:lnTo>
                    <a:pt x="230" y="645"/>
                  </a:lnTo>
                  <a:lnTo>
                    <a:pt x="212" y="634"/>
                  </a:lnTo>
                  <a:lnTo>
                    <a:pt x="207" y="612"/>
                  </a:lnTo>
                  <a:lnTo>
                    <a:pt x="192" y="600"/>
                  </a:lnTo>
                  <a:lnTo>
                    <a:pt x="177" y="585"/>
                  </a:lnTo>
                  <a:lnTo>
                    <a:pt x="172" y="568"/>
                  </a:lnTo>
                  <a:lnTo>
                    <a:pt x="158" y="557"/>
                  </a:lnTo>
                  <a:lnTo>
                    <a:pt x="136" y="563"/>
                  </a:lnTo>
                  <a:lnTo>
                    <a:pt x="111" y="554"/>
                  </a:lnTo>
                  <a:lnTo>
                    <a:pt x="111" y="545"/>
                  </a:lnTo>
                  <a:lnTo>
                    <a:pt x="110" y="525"/>
                  </a:lnTo>
                  <a:lnTo>
                    <a:pt x="100" y="503"/>
                  </a:lnTo>
                  <a:lnTo>
                    <a:pt x="99" y="485"/>
                  </a:lnTo>
                  <a:lnTo>
                    <a:pt x="88" y="469"/>
                  </a:lnTo>
                  <a:lnTo>
                    <a:pt x="91" y="454"/>
                  </a:lnTo>
                  <a:lnTo>
                    <a:pt x="60" y="417"/>
                  </a:lnTo>
                  <a:lnTo>
                    <a:pt x="60" y="396"/>
                  </a:lnTo>
                  <a:lnTo>
                    <a:pt x="76" y="388"/>
                  </a:lnTo>
                  <a:lnTo>
                    <a:pt x="76" y="375"/>
                  </a:lnTo>
                  <a:lnTo>
                    <a:pt x="60" y="371"/>
                  </a:lnTo>
                  <a:lnTo>
                    <a:pt x="53" y="351"/>
                  </a:lnTo>
                  <a:lnTo>
                    <a:pt x="45" y="316"/>
                  </a:lnTo>
                  <a:lnTo>
                    <a:pt x="68" y="335"/>
                  </a:lnTo>
                  <a:lnTo>
                    <a:pt x="59" y="310"/>
                  </a:lnTo>
                  <a:lnTo>
                    <a:pt x="76" y="310"/>
                  </a:lnTo>
                  <a:lnTo>
                    <a:pt x="76" y="292"/>
                  </a:lnTo>
                  <a:lnTo>
                    <a:pt x="59" y="280"/>
                  </a:lnTo>
                  <a:lnTo>
                    <a:pt x="51" y="297"/>
                  </a:lnTo>
                  <a:lnTo>
                    <a:pt x="36" y="291"/>
                  </a:lnTo>
                  <a:lnTo>
                    <a:pt x="6" y="210"/>
                  </a:lnTo>
                  <a:lnTo>
                    <a:pt x="14" y="152"/>
                  </a:lnTo>
                  <a:lnTo>
                    <a:pt x="0" y="119"/>
                  </a:lnTo>
                  <a:lnTo>
                    <a:pt x="7" y="94"/>
                  </a:lnTo>
                  <a:lnTo>
                    <a:pt x="22" y="89"/>
                  </a:lnTo>
                  <a:lnTo>
                    <a:pt x="36" y="49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1017360" y="2556000"/>
              <a:ext cx="475920" cy="811800"/>
            </a:xfrm>
            <a:custGeom>
              <a:avLst/>
              <a:gdLst/>
              <a:ahLst/>
              <a:rect l="l" t="t" r="r" b="b"/>
              <a:pathLst>
                <a:path w="354" h="535">
                  <a:moveTo>
                    <a:pt x="45" y="0"/>
                  </a:moveTo>
                  <a:lnTo>
                    <a:pt x="0" y="212"/>
                  </a:lnTo>
                  <a:lnTo>
                    <a:pt x="241" y="535"/>
                  </a:lnTo>
                  <a:lnTo>
                    <a:pt x="256" y="521"/>
                  </a:lnTo>
                  <a:lnTo>
                    <a:pt x="255" y="457"/>
                  </a:lnTo>
                  <a:lnTo>
                    <a:pt x="285" y="462"/>
                  </a:lnTo>
                  <a:lnTo>
                    <a:pt x="316" y="266"/>
                  </a:lnTo>
                  <a:lnTo>
                    <a:pt x="337" y="133"/>
                  </a:lnTo>
                  <a:lnTo>
                    <a:pt x="343" y="93"/>
                  </a:lnTo>
                  <a:lnTo>
                    <a:pt x="354" y="57"/>
                  </a:lnTo>
                  <a:lnTo>
                    <a:pt x="195" y="32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279440" y="1889280"/>
              <a:ext cx="428760" cy="784440"/>
            </a:xfrm>
            <a:custGeom>
              <a:avLst/>
              <a:gdLst/>
              <a:ahLst/>
              <a:rect l="l" t="t" r="r" b="b"/>
              <a:pathLst>
                <a:path w="319" h="517">
                  <a:moveTo>
                    <a:pt x="77" y="0"/>
                  </a:moveTo>
                  <a:lnTo>
                    <a:pt x="48" y="202"/>
                  </a:lnTo>
                  <a:lnTo>
                    <a:pt x="78" y="245"/>
                  </a:lnTo>
                  <a:lnTo>
                    <a:pt x="31" y="290"/>
                  </a:lnTo>
                  <a:lnTo>
                    <a:pt x="25" y="321"/>
                  </a:lnTo>
                  <a:lnTo>
                    <a:pt x="38" y="343"/>
                  </a:lnTo>
                  <a:lnTo>
                    <a:pt x="25" y="354"/>
                  </a:lnTo>
                  <a:lnTo>
                    <a:pt x="0" y="471"/>
                  </a:lnTo>
                  <a:lnTo>
                    <a:pt x="152" y="498"/>
                  </a:lnTo>
                  <a:lnTo>
                    <a:pt x="296" y="517"/>
                  </a:lnTo>
                  <a:lnTo>
                    <a:pt x="311" y="410"/>
                  </a:lnTo>
                  <a:lnTo>
                    <a:pt x="319" y="351"/>
                  </a:lnTo>
                  <a:lnTo>
                    <a:pt x="305" y="330"/>
                  </a:lnTo>
                  <a:lnTo>
                    <a:pt x="272" y="336"/>
                  </a:lnTo>
                  <a:lnTo>
                    <a:pt x="229" y="341"/>
                  </a:lnTo>
                  <a:lnTo>
                    <a:pt x="221" y="293"/>
                  </a:lnTo>
                  <a:lnTo>
                    <a:pt x="169" y="254"/>
                  </a:lnTo>
                  <a:lnTo>
                    <a:pt x="176" y="229"/>
                  </a:lnTo>
                  <a:lnTo>
                    <a:pt x="181" y="185"/>
                  </a:lnTo>
                  <a:lnTo>
                    <a:pt x="114" y="90"/>
                  </a:lnTo>
                  <a:lnTo>
                    <a:pt x="123" y="6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411200" y="2643840"/>
              <a:ext cx="397800" cy="579600"/>
            </a:xfrm>
            <a:custGeom>
              <a:avLst/>
              <a:gdLst/>
              <a:ahLst/>
              <a:rect l="l" t="t" r="r" b="b"/>
              <a:pathLst>
                <a:path w="296" h="382">
                  <a:moveTo>
                    <a:pt x="55" y="0"/>
                  </a:moveTo>
                  <a:lnTo>
                    <a:pt x="200" y="20"/>
                  </a:lnTo>
                  <a:lnTo>
                    <a:pt x="190" y="93"/>
                  </a:lnTo>
                  <a:lnTo>
                    <a:pt x="296" y="103"/>
                  </a:lnTo>
                  <a:lnTo>
                    <a:pt x="267" y="382"/>
                  </a:lnTo>
                  <a:lnTo>
                    <a:pt x="0" y="353"/>
                  </a:lnTo>
                  <a:lnTo>
                    <a:pt x="27" y="17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30280" y="1897200"/>
              <a:ext cx="745920" cy="525240"/>
            </a:xfrm>
            <a:custGeom>
              <a:avLst/>
              <a:gdLst/>
              <a:ahLst/>
              <a:rect l="l" t="t" r="r" b="b"/>
              <a:pathLst>
                <a:path w="555" h="346">
                  <a:moveTo>
                    <a:pt x="9" y="0"/>
                  </a:moveTo>
                  <a:lnTo>
                    <a:pt x="118" y="14"/>
                  </a:lnTo>
                  <a:lnTo>
                    <a:pt x="184" y="23"/>
                  </a:lnTo>
                  <a:lnTo>
                    <a:pt x="271" y="32"/>
                  </a:lnTo>
                  <a:lnTo>
                    <a:pt x="351" y="40"/>
                  </a:lnTo>
                  <a:lnTo>
                    <a:pt x="490" y="50"/>
                  </a:lnTo>
                  <a:lnTo>
                    <a:pt x="555" y="55"/>
                  </a:lnTo>
                  <a:lnTo>
                    <a:pt x="553" y="337"/>
                  </a:lnTo>
                  <a:lnTo>
                    <a:pt x="213" y="308"/>
                  </a:lnTo>
                  <a:lnTo>
                    <a:pt x="206" y="346"/>
                  </a:lnTo>
                  <a:lnTo>
                    <a:pt x="193" y="328"/>
                  </a:lnTo>
                  <a:lnTo>
                    <a:pt x="162" y="331"/>
                  </a:lnTo>
                  <a:lnTo>
                    <a:pt x="117" y="338"/>
                  </a:lnTo>
                  <a:lnTo>
                    <a:pt x="109" y="289"/>
                  </a:lnTo>
                  <a:lnTo>
                    <a:pt x="56" y="250"/>
                  </a:lnTo>
                  <a:lnTo>
                    <a:pt x="64" y="213"/>
                  </a:lnTo>
                  <a:lnTo>
                    <a:pt x="69" y="183"/>
                  </a:lnTo>
                  <a:lnTo>
                    <a:pt x="0" y="8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662840" y="2359800"/>
              <a:ext cx="510480" cy="47196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" y="0"/>
                  </a:moveTo>
                  <a:lnTo>
                    <a:pt x="23" y="116"/>
                  </a:lnTo>
                  <a:lnTo>
                    <a:pt x="0" y="282"/>
                  </a:lnTo>
                  <a:lnTo>
                    <a:pt x="110" y="291"/>
                  </a:lnTo>
                  <a:lnTo>
                    <a:pt x="367" y="311"/>
                  </a:lnTo>
                  <a:lnTo>
                    <a:pt x="380" y="32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1766160" y="2800080"/>
              <a:ext cx="532080" cy="447480"/>
            </a:xfrm>
            <a:custGeom>
              <a:avLst/>
              <a:gdLst/>
              <a:ahLst/>
              <a:rect l="l" t="t" r="r" b="b"/>
              <a:pathLst>
                <a:path w="396" h="295">
                  <a:moveTo>
                    <a:pt x="33" y="0"/>
                  </a:moveTo>
                  <a:lnTo>
                    <a:pt x="13" y="177"/>
                  </a:lnTo>
                  <a:lnTo>
                    <a:pt x="0" y="279"/>
                  </a:lnTo>
                  <a:lnTo>
                    <a:pt x="198" y="289"/>
                  </a:lnTo>
                  <a:lnTo>
                    <a:pt x="387" y="295"/>
                  </a:lnTo>
                  <a:lnTo>
                    <a:pt x="393" y="157"/>
                  </a:lnTo>
                  <a:lnTo>
                    <a:pt x="396" y="22"/>
                  </a:lnTo>
                  <a:lnTo>
                    <a:pt x="288" y="20"/>
                  </a:lnTo>
                  <a:lnTo>
                    <a:pt x="3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287360" y="3176640"/>
              <a:ext cx="482400" cy="605160"/>
            </a:xfrm>
            <a:custGeom>
              <a:avLst/>
              <a:gdLst/>
              <a:ahLst/>
              <a:rect l="l" t="t" r="r" b="b"/>
              <a:pathLst>
                <a:path w="359" h="399">
                  <a:moveTo>
                    <a:pt x="91" y="0"/>
                  </a:moveTo>
                  <a:lnTo>
                    <a:pt x="84" y="52"/>
                  </a:lnTo>
                  <a:lnTo>
                    <a:pt x="53" y="46"/>
                  </a:lnTo>
                  <a:lnTo>
                    <a:pt x="55" y="113"/>
                  </a:lnTo>
                  <a:lnTo>
                    <a:pt x="40" y="126"/>
                  </a:lnTo>
                  <a:lnTo>
                    <a:pt x="62" y="167"/>
                  </a:lnTo>
                  <a:lnTo>
                    <a:pt x="40" y="185"/>
                  </a:lnTo>
                  <a:lnTo>
                    <a:pt x="28" y="215"/>
                  </a:lnTo>
                  <a:lnTo>
                    <a:pt x="11" y="244"/>
                  </a:lnTo>
                  <a:lnTo>
                    <a:pt x="23" y="261"/>
                  </a:lnTo>
                  <a:lnTo>
                    <a:pt x="2" y="268"/>
                  </a:lnTo>
                  <a:lnTo>
                    <a:pt x="0" y="295"/>
                  </a:lnTo>
                  <a:lnTo>
                    <a:pt x="202" y="397"/>
                  </a:lnTo>
                  <a:lnTo>
                    <a:pt x="316" y="399"/>
                  </a:lnTo>
                  <a:lnTo>
                    <a:pt x="359" y="3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708560" y="3219120"/>
              <a:ext cx="511920" cy="573480"/>
            </a:xfrm>
            <a:custGeom>
              <a:avLst/>
              <a:gdLst/>
              <a:ahLst/>
              <a:rect l="l" t="t" r="r" b="b"/>
              <a:pathLst>
                <a:path w="381" h="378">
                  <a:moveTo>
                    <a:pt x="46" y="0"/>
                  </a:moveTo>
                  <a:lnTo>
                    <a:pt x="381" y="15"/>
                  </a:lnTo>
                  <a:lnTo>
                    <a:pt x="365" y="349"/>
                  </a:lnTo>
                  <a:lnTo>
                    <a:pt x="256" y="343"/>
                  </a:lnTo>
                  <a:lnTo>
                    <a:pt x="154" y="340"/>
                  </a:lnTo>
                  <a:lnTo>
                    <a:pt x="154" y="353"/>
                  </a:lnTo>
                  <a:lnTo>
                    <a:pt x="69" y="353"/>
                  </a:lnTo>
                  <a:lnTo>
                    <a:pt x="64" y="378"/>
                  </a:lnTo>
                  <a:lnTo>
                    <a:pt x="0" y="370"/>
                  </a:lnTo>
                  <a:lnTo>
                    <a:pt x="36" y="87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911240" y="3304080"/>
              <a:ext cx="1039320" cy="1086480"/>
            </a:xfrm>
            <a:custGeom>
              <a:avLst/>
              <a:gdLst/>
              <a:ahLst/>
              <a:rect l="l" t="t" r="r" b="b"/>
              <a:pathLst>
                <a:path w="773" h="716">
                  <a:moveTo>
                    <a:pt x="224" y="0"/>
                  </a:moveTo>
                  <a:lnTo>
                    <a:pt x="395" y="6"/>
                  </a:lnTo>
                  <a:lnTo>
                    <a:pt x="395" y="136"/>
                  </a:lnTo>
                  <a:lnTo>
                    <a:pt x="482" y="172"/>
                  </a:lnTo>
                  <a:lnTo>
                    <a:pt x="506" y="160"/>
                  </a:lnTo>
                  <a:lnTo>
                    <a:pt x="563" y="188"/>
                  </a:lnTo>
                  <a:lnTo>
                    <a:pt x="597" y="186"/>
                  </a:lnTo>
                  <a:lnTo>
                    <a:pt x="663" y="158"/>
                  </a:lnTo>
                  <a:lnTo>
                    <a:pt x="701" y="185"/>
                  </a:lnTo>
                  <a:lnTo>
                    <a:pt x="734" y="192"/>
                  </a:lnTo>
                  <a:lnTo>
                    <a:pt x="734" y="298"/>
                  </a:lnTo>
                  <a:lnTo>
                    <a:pt x="773" y="364"/>
                  </a:lnTo>
                  <a:lnTo>
                    <a:pt x="764" y="454"/>
                  </a:lnTo>
                  <a:lnTo>
                    <a:pt x="722" y="490"/>
                  </a:lnTo>
                  <a:lnTo>
                    <a:pt x="713" y="457"/>
                  </a:lnTo>
                  <a:lnTo>
                    <a:pt x="701" y="472"/>
                  </a:lnTo>
                  <a:lnTo>
                    <a:pt x="710" y="493"/>
                  </a:lnTo>
                  <a:lnTo>
                    <a:pt x="635" y="547"/>
                  </a:lnTo>
                  <a:lnTo>
                    <a:pt x="617" y="550"/>
                  </a:lnTo>
                  <a:lnTo>
                    <a:pt x="578" y="577"/>
                  </a:lnTo>
                  <a:lnTo>
                    <a:pt x="578" y="592"/>
                  </a:lnTo>
                  <a:lnTo>
                    <a:pt x="566" y="595"/>
                  </a:lnTo>
                  <a:lnTo>
                    <a:pt x="575" y="613"/>
                  </a:lnTo>
                  <a:lnTo>
                    <a:pt x="554" y="640"/>
                  </a:lnTo>
                  <a:lnTo>
                    <a:pt x="566" y="679"/>
                  </a:lnTo>
                  <a:lnTo>
                    <a:pt x="578" y="692"/>
                  </a:lnTo>
                  <a:lnTo>
                    <a:pt x="575" y="716"/>
                  </a:lnTo>
                  <a:lnTo>
                    <a:pt x="545" y="716"/>
                  </a:lnTo>
                  <a:lnTo>
                    <a:pt x="518" y="704"/>
                  </a:lnTo>
                  <a:lnTo>
                    <a:pt x="500" y="707"/>
                  </a:lnTo>
                  <a:lnTo>
                    <a:pt x="440" y="686"/>
                  </a:lnTo>
                  <a:lnTo>
                    <a:pt x="413" y="604"/>
                  </a:lnTo>
                  <a:lnTo>
                    <a:pt x="371" y="565"/>
                  </a:lnTo>
                  <a:lnTo>
                    <a:pt x="334" y="493"/>
                  </a:lnTo>
                  <a:lnTo>
                    <a:pt x="317" y="486"/>
                  </a:lnTo>
                  <a:lnTo>
                    <a:pt x="297" y="468"/>
                  </a:lnTo>
                  <a:lnTo>
                    <a:pt x="278" y="468"/>
                  </a:lnTo>
                  <a:lnTo>
                    <a:pt x="249" y="462"/>
                  </a:lnTo>
                  <a:lnTo>
                    <a:pt x="227" y="468"/>
                  </a:lnTo>
                  <a:lnTo>
                    <a:pt x="212" y="504"/>
                  </a:lnTo>
                  <a:lnTo>
                    <a:pt x="189" y="510"/>
                  </a:lnTo>
                  <a:lnTo>
                    <a:pt x="140" y="482"/>
                  </a:lnTo>
                  <a:lnTo>
                    <a:pt x="111" y="448"/>
                  </a:lnTo>
                  <a:lnTo>
                    <a:pt x="106" y="407"/>
                  </a:lnTo>
                  <a:lnTo>
                    <a:pt x="85" y="379"/>
                  </a:lnTo>
                  <a:lnTo>
                    <a:pt x="36" y="340"/>
                  </a:lnTo>
                  <a:lnTo>
                    <a:pt x="0" y="299"/>
                  </a:lnTo>
                  <a:lnTo>
                    <a:pt x="0" y="282"/>
                  </a:lnTo>
                  <a:lnTo>
                    <a:pt x="117" y="283"/>
                  </a:lnTo>
                  <a:lnTo>
                    <a:pt x="212" y="291"/>
                  </a:lnTo>
                  <a:lnTo>
                    <a:pt x="22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175120" y="1980720"/>
              <a:ext cx="500040" cy="330480"/>
            </a:xfrm>
            <a:custGeom>
              <a:avLst/>
              <a:gdLst/>
              <a:ahLst/>
              <a:rect l="l" t="t" r="r" b="b"/>
              <a:pathLst>
                <a:path w="372" h="218">
                  <a:moveTo>
                    <a:pt x="1" y="0"/>
                  </a:moveTo>
                  <a:lnTo>
                    <a:pt x="312" y="7"/>
                  </a:lnTo>
                  <a:lnTo>
                    <a:pt x="335" y="71"/>
                  </a:lnTo>
                  <a:lnTo>
                    <a:pt x="357" y="120"/>
                  </a:lnTo>
                  <a:lnTo>
                    <a:pt x="372" y="200"/>
                  </a:lnTo>
                  <a:lnTo>
                    <a:pt x="363" y="218"/>
                  </a:lnTo>
                  <a:lnTo>
                    <a:pt x="248" y="215"/>
                  </a:lnTo>
                  <a:lnTo>
                    <a:pt x="0" y="21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61440" y="2299320"/>
              <a:ext cx="525600" cy="386640"/>
            </a:xfrm>
            <a:custGeom>
              <a:avLst/>
              <a:gdLst/>
              <a:ahLst/>
              <a:rect l="l" t="t" r="r" b="b"/>
              <a:pathLst>
                <a:path w="391" h="255">
                  <a:moveTo>
                    <a:pt x="7" y="0"/>
                  </a:moveTo>
                  <a:lnTo>
                    <a:pt x="6" y="99"/>
                  </a:lnTo>
                  <a:lnTo>
                    <a:pt x="0" y="215"/>
                  </a:lnTo>
                  <a:lnTo>
                    <a:pt x="284" y="219"/>
                  </a:lnTo>
                  <a:lnTo>
                    <a:pt x="314" y="235"/>
                  </a:lnTo>
                  <a:lnTo>
                    <a:pt x="335" y="213"/>
                  </a:lnTo>
                  <a:lnTo>
                    <a:pt x="391" y="255"/>
                  </a:lnTo>
                  <a:lnTo>
                    <a:pt x="383" y="211"/>
                  </a:lnTo>
                  <a:lnTo>
                    <a:pt x="388" y="177"/>
                  </a:lnTo>
                  <a:lnTo>
                    <a:pt x="391" y="61"/>
                  </a:lnTo>
                  <a:lnTo>
                    <a:pt x="366" y="36"/>
                  </a:lnTo>
                  <a:lnTo>
                    <a:pt x="376" y="4"/>
                  </a:lnTo>
                  <a:lnTo>
                    <a:pt x="190" y="3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53520" y="2621160"/>
              <a:ext cx="626400" cy="318600"/>
            </a:xfrm>
            <a:custGeom>
              <a:avLst/>
              <a:gdLst/>
              <a:ahLst/>
              <a:rect l="l" t="t" r="r" b="b"/>
              <a:pathLst>
                <a:path w="466" h="210">
                  <a:moveTo>
                    <a:pt x="5" y="0"/>
                  </a:moveTo>
                  <a:lnTo>
                    <a:pt x="0" y="139"/>
                  </a:lnTo>
                  <a:lnTo>
                    <a:pt x="105" y="142"/>
                  </a:lnTo>
                  <a:lnTo>
                    <a:pt x="104" y="210"/>
                  </a:lnTo>
                  <a:lnTo>
                    <a:pt x="246" y="208"/>
                  </a:lnTo>
                  <a:lnTo>
                    <a:pt x="373" y="206"/>
                  </a:lnTo>
                  <a:lnTo>
                    <a:pt x="466" y="208"/>
                  </a:lnTo>
                  <a:lnTo>
                    <a:pt x="437" y="149"/>
                  </a:lnTo>
                  <a:lnTo>
                    <a:pt x="417" y="94"/>
                  </a:lnTo>
                  <a:lnTo>
                    <a:pt x="395" y="37"/>
                  </a:lnTo>
                  <a:lnTo>
                    <a:pt x="342" y="1"/>
                  </a:lnTo>
                  <a:lnTo>
                    <a:pt x="318" y="22"/>
                  </a:lnTo>
                  <a:lnTo>
                    <a:pt x="289" y="7"/>
                  </a:lnTo>
                  <a:lnTo>
                    <a:pt x="16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286720" y="2932560"/>
              <a:ext cx="551160" cy="316800"/>
            </a:xfrm>
            <a:custGeom>
              <a:avLst/>
              <a:gdLst/>
              <a:ahLst/>
              <a:rect l="l" t="t" r="r" b="b"/>
              <a:pathLst>
                <a:path w="410" h="209">
                  <a:moveTo>
                    <a:pt x="4" y="2"/>
                  </a:moveTo>
                  <a:lnTo>
                    <a:pt x="3" y="122"/>
                  </a:lnTo>
                  <a:lnTo>
                    <a:pt x="0" y="207"/>
                  </a:lnTo>
                  <a:lnTo>
                    <a:pt x="410" y="209"/>
                  </a:lnTo>
                  <a:lnTo>
                    <a:pt x="402" y="100"/>
                  </a:lnTo>
                  <a:lnTo>
                    <a:pt x="402" y="59"/>
                  </a:lnTo>
                  <a:lnTo>
                    <a:pt x="369" y="34"/>
                  </a:lnTo>
                  <a:lnTo>
                    <a:pt x="379" y="12"/>
                  </a:lnTo>
                  <a:lnTo>
                    <a:pt x="365" y="0"/>
                  </a:lnTo>
                  <a:lnTo>
                    <a:pt x="179" y="2"/>
                  </a:lnTo>
                  <a:lnTo>
                    <a:pt x="4" y="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12560" y="3241800"/>
              <a:ext cx="642600" cy="348840"/>
            </a:xfrm>
            <a:custGeom>
              <a:avLst/>
              <a:gdLst/>
              <a:ahLst/>
              <a:rect l="l" t="t" r="r" b="b"/>
              <a:pathLst>
                <a:path w="478" h="230">
                  <a:moveTo>
                    <a:pt x="3" y="0"/>
                  </a:moveTo>
                  <a:lnTo>
                    <a:pt x="0" y="41"/>
                  </a:lnTo>
                  <a:lnTo>
                    <a:pt x="170" y="47"/>
                  </a:lnTo>
                  <a:lnTo>
                    <a:pt x="171" y="178"/>
                  </a:lnTo>
                  <a:lnTo>
                    <a:pt x="258" y="214"/>
                  </a:lnTo>
                  <a:lnTo>
                    <a:pt x="282" y="201"/>
                  </a:lnTo>
                  <a:lnTo>
                    <a:pt x="337" y="230"/>
                  </a:lnTo>
                  <a:lnTo>
                    <a:pt x="373" y="229"/>
                  </a:lnTo>
                  <a:lnTo>
                    <a:pt x="439" y="201"/>
                  </a:lnTo>
                  <a:lnTo>
                    <a:pt x="478" y="228"/>
                  </a:lnTo>
                  <a:lnTo>
                    <a:pt x="478" y="86"/>
                  </a:lnTo>
                  <a:lnTo>
                    <a:pt x="466" y="3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842920" y="3258720"/>
              <a:ext cx="361800" cy="380880"/>
            </a:xfrm>
            <a:custGeom>
              <a:avLst/>
              <a:gdLst/>
              <a:ahLst/>
              <a:rect l="l" t="t" r="r" b="b"/>
              <a:pathLst>
                <a:path w="269" h="251">
                  <a:moveTo>
                    <a:pt x="0" y="23"/>
                  </a:moveTo>
                  <a:lnTo>
                    <a:pt x="106" y="10"/>
                  </a:lnTo>
                  <a:lnTo>
                    <a:pt x="237" y="0"/>
                  </a:lnTo>
                  <a:lnTo>
                    <a:pt x="230" y="33"/>
                  </a:lnTo>
                  <a:lnTo>
                    <a:pt x="259" y="26"/>
                  </a:lnTo>
                  <a:lnTo>
                    <a:pt x="269" y="48"/>
                  </a:lnTo>
                  <a:lnTo>
                    <a:pt x="239" y="68"/>
                  </a:lnTo>
                  <a:lnTo>
                    <a:pt x="246" y="103"/>
                  </a:lnTo>
                  <a:lnTo>
                    <a:pt x="215" y="161"/>
                  </a:lnTo>
                  <a:lnTo>
                    <a:pt x="192" y="197"/>
                  </a:lnTo>
                  <a:lnTo>
                    <a:pt x="205" y="243"/>
                  </a:lnTo>
                  <a:lnTo>
                    <a:pt x="39" y="251"/>
                  </a:lnTo>
                  <a:lnTo>
                    <a:pt x="38" y="223"/>
                  </a:lnTo>
                  <a:lnTo>
                    <a:pt x="5" y="217"/>
                  </a:lnTo>
                  <a:lnTo>
                    <a:pt x="5" y="6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895480" y="3625920"/>
              <a:ext cx="441000" cy="399240"/>
            </a:xfrm>
            <a:custGeom>
              <a:avLst/>
              <a:gdLst/>
              <a:ahLst/>
              <a:rect l="l" t="t" r="r" b="b"/>
              <a:pathLst>
                <a:path w="328" h="263">
                  <a:moveTo>
                    <a:pt x="0" y="6"/>
                  </a:moveTo>
                  <a:lnTo>
                    <a:pt x="164" y="0"/>
                  </a:lnTo>
                  <a:lnTo>
                    <a:pt x="193" y="54"/>
                  </a:lnTo>
                  <a:lnTo>
                    <a:pt x="168" y="118"/>
                  </a:lnTo>
                  <a:lnTo>
                    <a:pt x="160" y="147"/>
                  </a:lnTo>
                  <a:lnTo>
                    <a:pt x="270" y="135"/>
                  </a:lnTo>
                  <a:lnTo>
                    <a:pt x="277" y="177"/>
                  </a:lnTo>
                  <a:lnTo>
                    <a:pt x="244" y="173"/>
                  </a:lnTo>
                  <a:lnTo>
                    <a:pt x="229" y="191"/>
                  </a:lnTo>
                  <a:lnTo>
                    <a:pt x="246" y="203"/>
                  </a:lnTo>
                  <a:lnTo>
                    <a:pt x="276" y="189"/>
                  </a:lnTo>
                  <a:lnTo>
                    <a:pt x="277" y="209"/>
                  </a:lnTo>
                  <a:lnTo>
                    <a:pt x="295" y="192"/>
                  </a:lnTo>
                  <a:lnTo>
                    <a:pt x="307" y="192"/>
                  </a:lnTo>
                  <a:lnTo>
                    <a:pt x="293" y="227"/>
                  </a:lnTo>
                  <a:lnTo>
                    <a:pt x="320" y="233"/>
                  </a:lnTo>
                  <a:lnTo>
                    <a:pt x="328" y="252"/>
                  </a:lnTo>
                  <a:lnTo>
                    <a:pt x="316" y="258"/>
                  </a:lnTo>
                  <a:lnTo>
                    <a:pt x="299" y="246"/>
                  </a:lnTo>
                  <a:lnTo>
                    <a:pt x="267" y="237"/>
                  </a:lnTo>
                  <a:lnTo>
                    <a:pt x="274" y="260"/>
                  </a:lnTo>
                  <a:lnTo>
                    <a:pt x="258" y="263"/>
                  </a:lnTo>
                  <a:lnTo>
                    <a:pt x="245" y="242"/>
                  </a:lnTo>
                  <a:lnTo>
                    <a:pt x="237" y="255"/>
                  </a:lnTo>
                  <a:lnTo>
                    <a:pt x="189" y="255"/>
                  </a:lnTo>
                  <a:lnTo>
                    <a:pt x="189" y="242"/>
                  </a:lnTo>
                  <a:lnTo>
                    <a:pt x="171" y="227"/>
                  </a:lnTo>
                  <a:lnTo>
                    <a:pt x="135" y="225"/>
                  </a:lnTo>
                  <a:lnTo>
                    <a:pt x="165" y="242"/>
                  </a:lnTo>
                  <a:lnTo>
                    <a:pt x="123" y="251"/>
                  </a:lnTo>
                  <a:lnTo>
                    <a:pt x="57" y="239"/>
                  </a:lnTo>
                  <a:lnTo>
                    <a:pt x="32" y="242"/>
                  </a:lnTo>
                  <a:lnTo>
                    <a:pt x="41" y="154"/>
                  </a:lnTo>
                  <a:lnTo>
                    <a:pt x="1" y="8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93080" y="1941120"/>
              <a:ext cx="491760" cy="625320"/>
            </a:xfrm>
            <a:custGeom>
              <a:avLst/>
              <a:gdLst/>
              <a:ahLst/>
              <a:rect l="l" t="t" r="r" b="b"/>
              <a:pathLst>
                <a:path w="366" h="412">
                  <a:moveTo>
                    <a:pt x="0" y="32"/>
                  </a:moveTo>
                  <a:lnTo>
                    <a:pt x="96" y="32"/>
                  </a:lnTo>
                  <a:lnTo>
                    <a:pt x="95" y="0"/>
                  </a:lnTo>
                  <a:lnTo>
                    <a:pt x="116" y="9"/>
                  </a:lnTo>
                  <a:lnTo>
                    <a:pt x="120" y="34"/>
                  </a:lnTo>
                  <a:lnTo>
                    <a:pt x="166" y="61"/>
                  </a:lnTo>
                  <a:lnTo>
                    <a:pt x="180" y="49"/>
                  </a:lnTo>
                  <a:lnTo>
                    <a:pt x="207" y="49"/>
                  </a:lnTo>
                  <a:lnTo>
                    <a:pt x="228" y="73"/>
                  </a:lnTo>
                  <a:lnTo>
                    <a:pt x="242" y="64"/>
                  </a:lnTo>
                  <a:lnTo>
                    <a:pt x="282" y="74"/>
                  </a:lnTo>
                  <a:lnTo>
                    <a:pt x="296" y="56"/>
                  </a:lnTo>
                  <a:lnTo>
                    <a:pt x="321" y="70"/>
                  </a:lnTo>
                  <a:lnTo>
                    <a:pt x="366" y="68"/>
                  </a:lnTo>
                  <a:lnTo>
                    <a:pt x="293" y="119"/>
                  </a:lnTo>
                  <a:lnTo>
                    <a:pt x="257" y="164"/>
                  </a:lnTo>
                  <a:lnTo>
                    <a:pt x="264" y="229"/>
                  </a:lnTo>
                  <a:lnTo>
                    <a:pt x="239" y="256"/>
                  </a:lnTo>
                  <a:lnTo>
                    <a:pt x="249" y="275"/>
                  </a:lnTo>
                  <a:lnTo>
                    <a:pt x="249" y="323"/>
                  </a:lnTo>
                  <a:lnTo>
                    <a:pt x="274" y="323"/>
                  </a:lnTo>
                  <a:lnTo>
                    <a:pt x="311" y="358"/>
                  </a:lnTo>
                  <a:lnTo>
                    <a:pt x="326" y="400"/>
                  </a:lnTo>
                  <a:lnTo>
                    <a:pt x="67" y="412"/>
                  </a:lnTo>
                  <a:lnTo>
                    <a:pt x="68" y="298"/>
                  </a:lnTo>
                  <a:lnTo>
                    <a:pt x="45" y="273"/>
                  </a:lnTo>
                  <a:lnTo>
                    <a:pt x="53" y="243"/>
                  </a:lnTo>
                  <a:lnTo>
                    <a:pt x="61" y="226"/>
                  </a:lnTo>
                  <a:lnTo>
                    <a:pt x="45" y="147"/>
                  </a:lnTo>
                  <a:lnTo>
                    <a:pt x="23" y="9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911680" y="2156400"/>
              <a:ext cx="373680" cy="493200"/>
            </a:xfrm>
            <a:custGeom>
              <a:avLst/>
              <a:gdLst/>
              <a:ahLst/>
              <a:rect l="l" t="t" r="r" b="b"/>
              <a:pathLst>
                <a:path w="278" h="325">
                  <a:moveTo>
                    <a:pt x="20" y="22"/>
                  </a:moveTo>
                  <a:lnTo>
                    <a:pt x="41" y="19"/>
                  </a:lnTo>
                  <a:lnTo>
                    <a:pt x="60" y="19"/>
                  </a:lnTo>
                  <a:lnTo>
                    <a:pt x="72" y="0"/>
                  </a:lnTo>
                  <a:lnTo>
                    <a:pt x="81" y="24"/>
                  </a:lnTo>
                  <a:lnTo>
                    <a:pt x="111" y="24"/>
                  </a:lnTo>
                  <a:lnTo>
                    <a:pt x="127" y="46"/>
                  </a:lnTo>
                  <a:lnTo>
                    <a:pt x="158" y="40"/>
                  </a:lnTo>
                  <a:lnTo>
                    <a:pt x="179" y="54"/>
                  </a:lnTo>
                  <a:lnTo>
                    <a:pt x="218" y="64"/>
                  </a:lnTo>
                  <a:lnTo>
                    <a:pt x="225" y="81"/>
                  </a:lnTo>
                  <a:lnTo>
                    <a:pt x="245" y="82"/>
                  </a:lnTo>
                  <a:lnTo>
                    <a:pt x="239" y="99"/>
                  </a:lnTo>
                  <a:lnTo>
                    <a:pt x="246" y="118"/>
                  </a:lnTo>
                  <a:lnTo>
                    <a:pt x="233" y="142"/>
                  </a:lnTo>
                  <a:lnTo>
                    <a:pt x="242" y="147"/>
                  </a:lnTo>
                  <a:lnTo>
                    <a:pt x="264" y="121"/>
                  </a:lnTo>
                  <a:lnTo>
                    <a:pt x="263" y="112"/>
                  </a:lnTo>
                  <a:lnTo>
                    <a:pt x="272" y="108"/>
                  </a:lnTo>
                  <a:lnTo>
                    <a:pt x="278" y="121"/>
                  </a:lnTo>
                  <a:lnTo>
                    <a:pt x="261" y="139"/>
                  </a:lnTo>
                  <a:lnTo>
                    <a:pt x="254" y="180"/>
                  </a:lnTo>
                  <a:lnTo>
                    <a:pt x="254" y="249"/>
                  </a:lnTo>
                  <a:lnTo>
                    <a:pt x="264" y="261"/>
                  </a:lnTo>
                  <a:lnTo>
                    <a:pt x="260" y="304"/>
                  </a:lnTo>
                  <a:lnTo>
                    <a:pt x="128" y="325"/>
                  </a:lnTo>
                  <a:lnTo>
                    <a:pt x="95" y="305"/>
                  </a:lnTo>
                  <a:lnTo>
                    <a:pt x="102" y="279"/>
                  </a:lnTo>
                  <a:lnTo>
                    <a:pt x="86" y="251"/>
                  </a:lnTo>
                  <a:lnTo>
                    <a:pt x="72" y="216"/>
                  </a:lnTo>
                  <a:lnTo>
                    <a:pt x="35" y="181"/>
                  </a:lnTo>
                  <a:lnTo>
                    <a:pt x="12" y="181"/>
                  </a:lnTo>
                  <a:lnTo>
                    <a:pt x="12" y="133"/>
                  </a:lnTo>
                  <a:lnTo>
                    <a:pt x="0" y="115"/>
                  </a:lnTo>
                  <a:lnTo>
                    <a:pt x="26" y="87"/>
                  </a:lnTo>
                  <a:lnTo>
                    <a:pt x="20" y="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675160" y="2547000"/>
              <a:ext cx="434160" cy="318600"/>
            </a:xfrm>
            <a:custGeom>
              <a:avLst/>
              <a:gdLst/>
              <a:ahLst/>
              <a:rect l="l" t="t" r="r" b="b"/>
              <a:pathLst>
                <a:path w="323" h="210">
                  <a:moveTo>
                    <a:pt x="5" y="11"/>
                  </a:moveTo>
                  <a:lnTo>
                    <a:pt x="0" y="48"/>
                  </a:lnTo>
                  <a:lnTo>
                    <a:pt x="7" y="87"/>
                  </a:lnTo>
                  <a:lnTo>
                    <a:pt x="37" y="167"/>
                  </a:lnTo>
                  <a:lnTo>
                    <a:pt x="54" y="210"/>
                  </a:lnTo>
                  <a:lnTo>
                    <a:pt x="244" y="200"/>
                  </a:lnTo>
                  <a:lnTo>
                    <a:pt x="275" y="210"/>
                  </a:lnTo>
                  <a:lnTo>
                    <a:pt x="294" y="169"/>
                  </a:lnTo>
                  <a:lnTo>
                    <a:pt x="287" y="140"/>
                  </a:lnTo>
                  <a:lnTo>
                    <a:pt x="319" y="134"/>
                  </a:lnTo>
                  <a:lnTo>
                    <a:pt x="323" y="88"/>
                  </a:lnTo>
                  <a:lnTo>
                    <a:pt x="304" y="68"/>
                  </a:lnTo>
                  <a:lnTo>
                    <a:pt x="271" y="48"/>
                  </a:lnTo>
                  <a:lnTo>
                    <a:pt x="278" y="20"/>
                  </a:lnTo>
                  <a:lnTo>
                    <a:pt x="264" y="0"/>
                  </a:lnTo>
                  <a:lnTo>
                    <a:pt x="193" y="3"/>
                  </a:lnTo>
                  <a:lnTo>
                    <a:pt x="121" y="6"/>
                  </a:lnTo>
                  <a:lnTo>
                    <a:pt x="5" y="1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058200" y="2086560"/>
              <a:ext cx="401760" cy="195840"/>
            </a:xfrm>
            <a:custGeom>
              <a:avLst/>
              <a:gdLst/>
              <a:ahLst/>
              <a:rect l="l" t="t" r="r" b="b"/>
              <a:pathLst>
                <a:path w="299" h="129">
                  <a:moveTo>
                    <a:pt x="0" y="71"/>
                  </a:moveTo>
                  <a:lnTo>
                    <a:pt x="67" y="0"/>
                  </a:lnTo>
                  <a:lnTo>
                    <a:pt x="55" y="29"/>
                  </a:lnTo>
                  <a:lnTo>
                    <a:pt x="64" y="38"/>
                  </a:lnTo>
                  <a:lnTo>
                    <a:pt x="85" y="26"/>
                  </a:lnTo>
                  <a:lnTo>
                    <a:pt x="131" y="44"/>
                  </a:lnTo>
                  <a:lnTo>
                    <a:pt x="151" y="29"/>
                  </a:lnTo>
                  <a:lnTo>
                    <a:pt x="213" y="21"/>
                  </a:lnTo>
                  <a:lnTo>
                    <a:pt x="225" y="39"/>
                  </a:lnTo>
                  <a:lnTo>
                    <a:pt x="249" y="35"/>
                  </a:lnTo>
                  <a:lnTo>
                    <a:pt x="296" y="54"/>
                  </a:lnTo>
                  <a:lnTo>
                    <a:pt x="299" y="68"/>
                  </a:lnTo>
                  <a:lnTo>
                    <a:pt x="248" y="80"/>
                  </a:lnTo>
                  <a:lnTo>
                    <a:pt x="233" y="71"/>
                  </a:lnTo>
                  <a:lnTo>
                    <a:pt x="207" y="74"/>
                  </a:lnTo>
                  <a:lnTo>
                    <a:pt x="177" y="92"/>
                  </a:lnTo>
                  <a:lnTo>
                    <a:pt x="163" y="93"/>
                  </a:lnTo>
                  <a:lnTo>
                    <a:pt x="152" y="80"/>
                  </a:lnTo>
                  <a:lnTo>
                    <a:pt x="135" y="128"/>
                  </a:lnTo>
                  <a:lnTo>
                    <a:pt x="116" y="129"/>
                  </a:lnTo>
                  <a:lnTo>
                    <a:pt x="108" y="110"/>
                  </a:lnTo>
                  <a:lnTo>
                    <a:pt x="68" y="101"/>
                  </a:lnTo>
                  <a:lnTo>
                    <a:pt x="49" y="87"/>
                  </a:lnTo>
                  <a:lnTo>
                    <a:pt x="16" y="92"/>
                  </a:lnTo>
                  <a:lnTo>
                    <a:pt x="0" y="7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336840" y="2225160"/>
              <a:ext cx="287280" cy="439920"/>
            </a:xfrm>
            <a:custGeom>
              <a:avLst/>
              <a:gdLst/>
              <a:ahLst/>
              <a:rect l="l" t="t" r="r" b="b"/>
              <a:pathLst>
                <a:path w="214" h="290">
                  <a:moveTo>
                    <a:pt x="54" y="12"/>
                  </a:moveTo>
                  <a:lnTo>
                    <a:pt x="62" y="30"/>
                  </a:lnTo>
                  <a:lnTo>
                    <a:pt x="47" y="41"/>
                  </a:lnTo>
                  <a:lnTo>
                    <a:pt x="46" y="87"/>
                  </a:lnTo>
                  <a:lnTo>
                    <a:pt x="38" y="57"/>
                  </a:lnTo>
                  <a:lnTo>
                    <a:pt x="7" y="86"/>
                  </a:lnTo>
                  <a:lnTo>
                    <a:pt x="0" y="169"/>
                  </a:lnTo>
                  <a:lnTo>
                    <a:pt x="20" y="210"/>
                  </a:lnTo>
                  <a:lnTo>
                    <a:pt x="22" y="231"/>
                  </a:lnTo>
                  <a:lnTo>
                    <a:pt x="23" y="248"/>
                  </a:lnTo>
                  <a:lnTo>
                    <a:pt x="22" y="263"/>
                  </a:lnTo>
                  <a:lnTo>
                    <a:pt x="18" y="290"/>
                  </a:lnTo>
                  <a:lnTo>
                    <a:pt x="102" y="285"/>
                  </a:lnTo>
                  <a:lnTo>
                    <a:pt x="213" y="275"/>
                  </a:lnTo>
                  <a:lnTo>
                    <a:pt x="193" y="269"/>
                  </a:lnTo>
                  <a:lnTo>
                    <a:pt x="182" y="254"/>
                  </a:lnTo>
                  <a:lnTo>
                    <a:pt x="199" y="241"/>
                  </a:lnTo>
                  <a:lnTo>
                    <a:pt x="199" y="225"/>
                  </a:lnTo>
                  <a:lnTo>
                    <a:pt x="191" y="211"/>
                  </a:lnTo>
                  <a:lnTo>
                    <a:pt x="199" y="201"/>
                  </a:lnTo>
                  <a:lnTo>
                    <a:pt x="214" y="202"/>
                  </a:lnTo>
                  <a:lnTo>
                    <a:pt x="211" y="162"/>
                  </a:lnTo>
                  <a:lnTo>
                    <a:pt x="207" y="138"/>
                  </a:lnTo>
                  <a:lnTo>
                    <a:pt x="198" y="123"/>
                  </a:lnTo>
                  <a:lnTo>
                    <a:pt x="189" y="114"/>
                  </a:lnTo>
                  <a:lnTo>
                    <a:pt x="175" y="111"/>
                  </a:lnTo>
                  <a:lnTo>
                    <a:pt x="162" y="111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33" y="138"/>
                  </a:lnTo>
                  <a:lnTo>
                    <a:pt x="126" y="135"/>
                  </a:lnTo>
                  <a:lnTo>
                    <a:pt x="124" y="126"/>
                  </a:lnTo>
                  <a:lnTo>
                    <a:pt x="126" y="120"/>
                  </a:lnTo>
                  <a:lnTo>
                    <a:pt x="132" y="114"/>
                  </a:lnTo>
                  <a:lnTo>
                    <a:pt x="138" y="111"/>
                  </a:lnTo>
                  <a:lnTo>
                    <a:pt x="144" y="110"/>
                  </a:lnTo>
                  <a:lnTo>
                    <a:pt x="144" y="99"/>
                  </a:lnTo>
                  <a:lnTo>
                    <a:pt x="160" y="87"/>
                  </a:lnTo>
                  <a:lnTo>
                    <a:pt x="144" y="49"/>
                  </a:lnTo>
                  <a:lnTo>
                    <a:pt x="144" y="31"/>
                  </a:lnTo>
                  <a:lnTo>
                    <a:pt x="117" y="24"/>
                  </a:lnTo>
                  <a:lnTo>
                    <a:pt x="78" y="0"/>
                  </a:lnTo>
                  <a:lnTo>
                    <a:pt x="54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023280" y="2615040"/>
              <a:ext cx="311760" cy="581040"/>
            </a:xfrm>
            <a:custGeom>
              <a:avLst/>
              <a:gdLst/>
              <a:ahLst/>
              <a:rect l="l" t="t" r="r" b="b"/>
              <a:pathLst>
                <a:path w="232" h="383">
                  <a:moveTo>
                    <a:pt x="43" y="22"/>
                  </a:moveTo>
                  <a:lnTo>
                    <a:pt x="176" y="0"/>
                  </a:lnTo>
                  <a:lnTo>
                    <a:pt x="197" y="47"/>
                  </a:lnTo>
                  <a:lnTo>
                    <a:pt x="224" y="243"/>
                  </a:lnTo>
                  <a:lnTo>
                    <a:pt x="232" y="269"/>
                  </a:lnTo>
                  <a:lnTo>
                    <a:pt x="211" y="321"/>
                  </a:lnTo>
                  <a:lnTo>
                    <a:pt x="211" y="357"/>
                  </a:lnTo>
                  <a:lnTo>
                    <a:pt x="187" y="353"/>
                  </a:lnTo>
                  <a:lnTo>
                    <a:pt x="188" y="383"/>
                  </a:lnTo>
                  <a:lnTo>
                    <a:pt x="163" y="371"/>
                  </a:lnTo>
                  <a:lnTo>
                    <a:pt x="150" y="375"/>
                  </a:lnTo>
                  <a:lnTo>
                    <a:pt x="131" y="372"/>
                  </a:lnTo>
                  <a:lnTo>
                    <a:pt x="117" y="326"/>
                  </a:lnTo>
                  <a:lnTo>
                    <a:pt x="90" y="312"/>
                  </a:lnTo>
                  <a:lnTo>
                    <a:pt x="90" y="263"/>
                  </a:lnTo>
                  <a:lnTo>
                    <a:pt x="63" y="269"/>
                  </a:lnTo>
                  <a:lnTo>
                    <a:pt x="48" y="233"/>
                  </a:lnTo>
                  <a:lnTo>
                    <a:pt x="0" y="191"/>
                  </a:lnTo>
                  <a:lnTo>
                    <a:pt x="35" y="125"/>
                  </a:lnTo>
                  <a:lnTo>
                    <a:pt x="25" y="94"/>
                  </a:lnTo>
                  <a:lnTo>
                    <a:pt x="60" y="88"/>
                  </a:lnTo>
                  <a:lnTo>
                    <a:pt x="63" y="45"/>
                  </a:lnTo>
                  <a:lnTo>
                    <a:pt x="43" y="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746440" y="2850480"/>
              <a:ext cx="494640" cy="459720"/>
            </a:xfrm>
            <a:custGeom>
              <a:avLst/>
              <a:gdLst/>
              <a:ahLst/>
              <a:rect l="l" t="t" r="r" b="b"/>
              <a:pathLst>
                <a:path w="368" h="303">
                  <a:moveTo>
                    <a:pt x="0" y="10"/>
                  </a:moveTo>
                  <a:lnTo>
                    <a:pt x="161" y="0"/>
                  </a:lnTo>
                  <a:lnTo>
                    <a:pt x="195" y="0"/>
                  </a:lnTo>
                  <a:lnTo>
                    <a:pt x="221" y="9"/>
                  </a:lnTo>
                  <a:lnTo>
                    <a:pt x="207" y="35"/>
                  </a:lnTo>
                  <a:lnTo>
                    <a:pt x="254" y="78"/>
                  </a:lnTo>
                  <a:lnTo>
                    <a:pt x="269" y="114"/>
                  </a:lnTo>
                  <a:lnTo>
                    <a:pt x="297" y="105"/>
                  </a:lnTo>
                  <a:lnTo>
                    <a:pt x="296" y="156"/>
                  </a:lnTo>
                  <a:lnTo>
                    <a:pt x="324" y="171"/>
                  </a:lnTo>
                  <a:lnTo>
                    <a:pt x="337" y="216"/>
                  </a:lnTo>
                  <a:lnTo>
                    <a:pt x="357" y="220"/>
                  </a:lnTo>
                  <a:lnTo>
                    <a:pt x="368" y="239"/>
                  </a:lnTo>
                  <a:lnTo>
                    <a:pt x="343" y="265"/>
                  </a:lnTo>
                  <a:lnTo>
                    <a:pt x="335" y="295"/>
                  </a:lnTo>
                  <a:lnTo>
                    <a:pt x="300" y="303"/>
                  </a:lnTo>
                  <a:lnTo>
                    <a:pt x="309" y="270"/>
                  </a:lnTo>
                  <a:lnTo>
                    <a:pt x="171" y="282"/>
                  </a:lnTo>
                  <a:lnTo>
                    <a:pt x="72" y="294"/>
                  </a:lnTo>
                  <a:lnTo>
                    <a:pt x="66" y="262"/>
                  </a:lnTo>
                  <a:lnTo>
                    <a:pt x="59" y="165"/>
                  </a:lnTo>
                  <a:lnTo>
                    <a:pt x="58" y="112"/>
                  </a:lnTo>
                  <a:lnTo>
                    <a:pt x="25" y="88"/>
                  </a:lnTo>
                  <a:lnTo>
                    <a:pt x="37" y="66"/>
                  </a:lnTo>
                  <a:lnTo>
                    <a:pt x="21" y="54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288240" y="2656080"/>
              <a:ext cx="241920" cy="448920"/>
            </a:xfrm>
            <a:custGeom>
              <a:avLst/>
              <a:gdLst/>
              <a:ahLst/>
              <a:rect l="l" t="t" r="r" b="b"/>
              <a:pathLst>
                <a:path w="180" h="296">
                  <a:moveTo>
                    <a:pt x="0" y="21"/>
                  </a:moveTo>
                  <a:lnTo>
                    <a:pt x="21" y="32"/>
                  </a:lnTo>
                  <a:lnTo>
                    <a:pt x="41" y="30"/>
                  </a:lnTo>
                  <a:lnTo>
                    <a:pt x="48" y="24"/>
                  </a:lnTo>
                  <a:lnTo>
                    <a:pt x="53" y="6"/>
                  </a:lnTo>
                  <a:lnTo>
                    <a:pt x="140" y="0"/>
                  </a:lnTo>
                  <a:lnTo>
                    <a:pt x="180" y="209"/>
                  </a:lnTo>
                  <a:lnTo>
                    <a:pt x="177" y="207"/>
                  </a:lnTo>
                  <a:lnTo>
                    <a:pt x="147" y="219"/>
                  </a:lnTo>
                  <a:lnTo>
                    <a:pt x="126" y="275"/>
                  </a:lnTo>
                  <a:lnTo>
                    <a:pt x="95" y="267"/>
                  </a:lnTo>
                  <a:lnTo>
                    <a:pt x="59" y="288"/>
                  </a:lnTo>
                  <a:lnTo>
                    <a:pt x="12" y="296"/>
                  </a:lnTo>
                  <a:lnTo>
                    <a:pt x="33" y="241"/>
                  </a:lnTo>
                  <a:lnTo>
                    <a:pt x="24" y="21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476160" y="2564640"/>
              <a:ext cx="310680" cy="405360"/>
            </a:xfrm>
            <a:custGeom>
              <a:avLst/>
              <a:gdLst/>
              <a:ahLst/>
              <a:rect l="l" t="t" r="r" b="b"/>
              <a:pathLst>
                <a:path w="231" h="267">
                  <a:moveTo>
                    <a:pt x="0" y="60"/>
                  </a:moveTo>
                  <a:lnTo>
                    <a:pt x="104" y="50"/>
                  </a:lnTo>
                  <a:lnTo>
                    <a:pt x="126" y="54"/>
                  </a:lnTo>
                  <a:lnTo>
                    <a:pt x="175" y="31"/>
                  </a:lnTo>
                  <a:lnTo>
                    <a:pt x="186" y="10"/>
                  </a:lnTo>
                  <a:lnTo>
                    <a:pt x="215" y="0"/>
                  </a:lnTo>
                  <a:lnTo>
                    <a:pt x="231" y="101"/>
                  </a:lnTo>
                  <a:lnTo>
                    <a:pt x="219" y="112"/>
                  </a:lnTo>
                  <a:lnTo>
                    <a:pt x="222" y="182"/>
                  </a:lnTo>
                  <a:lnTo>
                    <a:pt x="199" y="188"/>
                  </a:lnTo>
                  <a:lnTo>
                    <a:pt x="186" y="227"/>
                  </a:lnTo>
                  <a:lnTo>
                    <a:pt x="168" y="222"/>
                  </a:lnTo>
                  <a:lnTo>
                    <a:pt x="162" y="267"/>
                  </a:lnTo>
                  <a:lnTo>
                    <a:pt x="136" y="248"/>
                  </a:lnTo>
                  <a:lnTo>
                    <a:pt x="85" y="260"/>
                  </a:lnTo>
                  <a:lnTo>
                    <a:pt x="63" y="243"/>
                  </a:lnTo>
                  <a:lnTo>
                    <a:pt x="34" y="242"/>
                  </a:lnTo>
                  <a:lnTo>
                    <a:pt x="19" y="16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199320" y="2930760"/>
              <a:ext cx="547200" cy="343080"/>
            </a:xfrm>
            <a:custGeom>
              <a:avLst/>
              <a:gdLst/>
              <a:ahLst/>
              <a:rect l="l" t="t" r="r" b="b"/>
              <a:pathLst>
                <a:path w="407" h="226">
                  <a:moveTo>
                    <a:pt x="0" y="226"/>
                  </a:moveTo>
                  <a:lnTo>
                    <a:pt x="99" y="212"/>
                  </a:lnTo>
                  <a:lnTo>
                    <a:pt x="99" y="202"/>
                  </a:lnTo>
                  <a:lnTo>
                    <a:pt x="338" y="169"/>
                  </a:lnTo>
                  <a:lnTo>
                    <a:pt x="342" y="152"/>
                  </a:lnTo>
                  <a:lnTo>
                    <a:pt x="377" y="139"/>
                  </a:lnTo>
                  <a:lnTo>
                    <a:pt x="381" y="121"/>
                  </a:lnTo>
                  <a:lnTo>
                    <a:pt x="396" y="115"/>
                  </a:lnTo>
                  <a:lnTo>
                    <a:pt x="407" y="88"/>
                  </a:lnTo>
                  <a:lnTo>
                    <a:pt x="374" y="61"/>
                  </a:lnTo>
                  <a:lnTo>
                    <a:pt x="368" y="25"/>
                  </a:lnTo>
                  <a:lnTo>
                    <a:pt x="342" y="7"/>
                  </a:lnTo>
                  <a:lnTo>
                    <a:pt x="289" y="17"/>
                  </a:lnTo>
                  <a:lnTo>
                    <a:pt x="264" y="1"/>
                  </a:lnTo>
                  <a:lnTo>
                    <a:pt x="240" y="0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90" y="94"/>
                  </a:lnTo>
                  <a:lnTo>
                    <a:pt x="160" y="85"/>
                  </a:lnTo>
                  <a:lnTo>
                    <a:pt x="124" y="106"/>
                  </a:lnTo>
                  <a:lnTo>
                    <a:pt x="78" y="114"/>
                  </a:lnTo>
                  <a:lnTo>
                    <a:pt x="78" y="146"/>
                  </a:lnTo>
                  <a:lnTo>
                    <a:pt x="55" y="145"/>
                  </a:lnTo>
                  <a:lnTo>
                    <a:pt x="56" y="173"/>
                  </a:lnTo>
                  <a:lnTo>
                    <a:pt x="32" y="162"/>
                  </a:lnTo>
                  <a:lnTo>
                    <a:pt x="18" y="167"/>
                  </a:lnTo>
                  <a:lnTo>
                    <a:pt x="30" y="186"/>
                  </a:lnTo>
                  <a:lnTo>
                    <a:pt x="5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163320" y="3152160"/>
              <a:ext cx="630360" cy="259200"/>
            </a:xfrm>
            <a:custGeom>
              <a:avLst/>
              <a:gdLst/>
              <a:ahLst/>
              <a:rect l="l" t="t" r="r" b="b"/>
              <a:pathLst>
                <a:path w="469" h="171">
                  <a:moveTo>
                    <a:pt x="28" y="78"/>
                  </a:moveTo>
                  <a:lnTo>
                    <a:pt x="28" y="81"/>
                  </a:lnTo>
                  <a:lnTo>
                    <a:pt x="20" y="97"/>
                  </a:lnTo>
                  <a:lnTo>
                    <a:pt x="29" y="119"/>
                  </a:lnTo>
                  <a:lnTo>
                    <a:pt x="0" y="138"/>
                  </a:lnTo>
                  <a:lnTo>
                    <a:pt x="6" y="171"/>
                  </a:lnTo>
                  <a:lnTo>
                    <a:pt x="129" y="161"/>
                  </a:lnTo>
                  <a:lnTo>
                    <a:pt x="275" y="144"/>
                  </a:lnTo>
                  <a:lnTo>
                    <a:pt x="348" y="131"/>
                  </a:lnTo>
                  <a:lnTo>
                    <a:pt x="363" y="87"/>
                  </a:lnTo>
                  <a:lnTo>
                    <a:pt x="389" y="85"/>
                  </a:lnTo>
                  <a:lnTo>
                    <a:pt x="469" y="0"/>
                  </a:lnTo>
                  <a:lnTo>
                    <a:pt x="365" y="21"/>
                  </a:lnTo>
                  <a:lnTo>
                    <a:pt x="123" y="56"/>
                  </a:lnTo>
                  <a:lnTo>
                    <a:pt x="125" y="66"/>
                  </a:lnTo>
                  <a:lnTo>
                    <a:pt x="28" y="7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01400" y="3392280"/>
              <a:ext cx="258120" cy="508320"/>
            </a:xfrm>
            <a:custGeom>
              <a:avLst/>
              <a:gdLst/>
              <a:ahLst/>
              <a:rect l="l" t="t" r="r" b="b"/>
              <a:pathLst>
                <a:path w="192" h="335">
                  <a:moveTo>
                    <a:pt x="54" y="11"/>
                  </a:moveTo>
                  <a:lnTo>
                    <a:pt x="25" y="68"/>
                  </a:lnTo>
                  <a:lnTo>
                    <a:pt x="0" y="105"/>
                  </a:lnTo>
                  <a:lnTo>
                    <a:pt x="8" y="149"/>
                  </a:lnTo>
                  <a:lnTo>
                    <a:pt x="38" y="209"/>
                  </a:lnTo>
                  <a:lnTo>
                    <a:pt x="15" y="270"/>
                  </a:lnTo>
                  <a:lnTo>
                    <a:pt x="5" y="302"/>
                  </a:lnTo>
                  <a:lnTo>
                    <a:pt x="117" y="289"/>
                  </a:lnTo>
                  <a:lnTo>
                    <a:pt x="122" y="330"/>
                  </a:lnTo>
                  <a:lnTo>
                    <a:pt x="145" y="335"/>
                  </a:lnTo>
                  <a:lnTo>
                    <a:pt x="151" y="314"/>
                  </a:lnTo>
                  <a:lnTo>
                    <a:pt x="192" y="308"/>
                  </a:lnTo>
                  <a:lnTo>
                    <a:pt x="183" y="240"/>
                  </a:lnTo>
                  <a:lnTo>
                    <a:pt x="181" y="0"/>
                  </a:lnTo>
                  <a:lnTo>
                    <a:pt x="54" y="1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343320" y="3367800"/>
              <a:ext cx="291600" cy="513000"/>
            </a:xfrm>
            <a:custGeom>
              <a:avLst/>
              <a:gdLst/>
              <a:ahLst/>
              <a:rect l="l" t="t" r="r" b="b"/>
              <a:pathLst>
                <a:path w="217" h="338">
                  <a:moveTo>
                    <a:pt x="0" y="17"/>
                  </a:moveTo>
                  <a:lnTo>
                    <a:pt x="141" y="0"/>
                  </a:lnTo>
                  <a:lnTo>
                    <a:pt x="186" y="156"/>
                  </a:lnTo>
                  <a:lnTo>
                    <a:pt x="217" y="181"/>
                  </a:lnTo>
                  <a:lnTo>
                    <a:pt x="192" y="227"/>
                  </a:lnTo>
                  <a:lnTo>
                    <a:pt x="216" y="271"/>
                  </a:lnTo>
                  <a:lnTo>
                    <a:pt x="72" y="287"/>
                  </a:lnTo>
                  <a:lnTo>
                    <a:pt x="78" y="325"/>
                  </a:lnTo>
                  <a:lnTo>
                    <a:pt x="57" y="338"/>
                  </a:lnTo>
                  <a:lnTo>
                    <a:pt x="40" y="290"/>
                  </a:lnTo>
                  <a:lnTo>
                    <a:pt x="30" y="329"/>
                  </a:lnTo>
                  <a:lnTo>
                    <a:pt x="12" y="325"/>
                  </a:lnTo>
                  <a:lnTo>
                    <a:pt x="6" y="286"/>
                  </a:lnTo>
                  <a:lnTo>
                    <a:pt x="1" y="252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533040" y="3341880"/>
              <a:ext cx="402840" cy="471960"/>
            </a:xfrm>
            <a:custGeom>
              <a:avLst/>
              <a:gdLst/>
              <a:ahLst/>
              <a:rect l="l" t="t" r="r" b="b"/>
              <a:pathLst>
                <a:path w="300" h="311">
                  <a:moveTo>
                    <a:pt x="0" y="19"/>
                  </a:moveTo>
                  <a:lnTo>
                    <a:pt x="3" y="19"/>
                  </a:lnTo>
                  <a:lnTo>
                    <a:pt x="73" y="6"/>
                  </a:lnTo>
                  <a:lnTo>
                    <a:pt x="135" y="0"/>
                  </a:lnTo>
                  <a:lnTo>
                    <a:pt x="126" y="16"/>
                  </a:lnTo>
                  <a:lnTo>
                    <a:pt x="145" y="16"/>
                  </a:lnTo>
                  <a:lnTo>
                    <a:pt x="252" y="112"/>
                  </a:lnTo>
                  <a:lnTo>
                    <a:pt x="294" y="174"/>
                  </a:lnTo>
                  <a:lnTo>
                    <a:pt x="300" y="216"/>
                  </a:lnTo>
                  <a:lnTo>
                    <a:pt x="286" y="226"/>
                  </a:lnTo>
                  <a:lnTo>
                    <a:pt x="294" y="268"/>
                  </a:lnTo>
                  <a:lnTo>
                    <a:pt x="264" y="270"/>
                  </a:lnTo>
                  <a:lnTo>
                    <a:pt x="264" y="306"/>
                  </a:lnTo>
                  <a:lnTo>
                    <a:pt x="240" y="288"/>
                  </a:lnTo>
                  <a:lnTo>
                    <a:pt x="86" y="311"/>
                  </a:lnTo>
                  <a:lnTo>
                    <a:pt x="51" y="244"/>
                  </a:lnTo>
                  <a:lnTo>
                    <a:pt x="76" y="198"/>
                  </a:lnTo>
                  <a:lnTo>
                    <a:pt x="43" y="175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702240" y="3278160"/>
              <a:ext cx="368280" cy="329040"/>
            </a:xfrm>
            <a:custGeom>
              <a:avLst/>
              <a:gdLst/>
              <a:ahLst/>
              <a:rect l="l" t="t" r="r" b="b"/>
              <a:pathLst>
                <a:path w="274" h="217">
                  <a:moveTo>
                    <a:pt x="10" y="39"/>
                  </a:moveTo>
                  <a:lnTo>
                    <a:pt x="32" y="18"/>
                  </a:lnTo>
                  <a:lnTo>
                    <a:pt x="114" y="0"/>
                  </a:lnTo>
                  <a:lnTo>
                    <a:pt x="139" y="12"/>
                  </a:lnTo>
                  <a:lnTo>
                    <a:pt x="192" y="3"/>
                  </a:lnTo>
                  <a:lnTo>
                    <a:pt x="235" y="34"/>
                  </a:lnTo>
                  <a:lnTo>
                    <a:pt x="274" y="58"/>
                  </a:lnTo>
                  <a:lnTo>
                    <a:pt x="252" y="123"/>
                  </a:lnTo>
                  <a:lnTo>
                    <a:pt x="219" y="156"/>
                  </a:lnTo>
                  <a:lnTo>
                    <a:pt x="183" y="166"/>
                  </a:lnTo>
                  <a:lnTo>
                    <a:pt x="190" y="192"/>
                  </a:lnTo>
                  <a:lnTo>
                    <a:pt x="168" y="217"/>
                  </a:lnTo>
                  <a:lnTo>
                    <a:pt x="126" y="156"/>
                  </a:lnTo>
                  <a:lnTo>
                    <a:pt x="18" y="58"/>
                  </a:lnTo>
                  <a:lnTo>
                    <a:pt x="0" y="58"/>
                  </a:lnTo>
                  <a:lnTo>
                    <a:pt x="10" y="3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440160" y="3748680"/>
              <a:ext cx="689400" cy="528120"/>
            </a:xfrm>
            <a:custGeom>
              <a:avLst/>
              <a:gdLst/>
              <a:ahLst/>
              <a:rect l="l" t="t" r="r" b="b"/>
              <a:pathLst>
                <a:path w="513" h="348">
                  <a:moveTo>
                    <a:pt x="0" y="34"/>
                  </a:moveTo>
                  <a:lnTo>
                    <a:pt x="141" y="20"/>
                  </a:lnTo>
                  <a:lnTo>
                    <a:pt x="156" y="43"/>
                  </a:lnTo>
                  <a:lnTo>
                    <a:pt x="307" y="20"/>
                  </a:lnTo>
                  <a:lnTo>
                    <a:pt x="333" y="39"/>
                  </a:lnTo>
                  <a:lnTo>
                    <a:pt x="333" y="3"/>
                  </a:lnTo>
                  <a:lnTo>
                    <a:pt x="331" y="0"/>
                  </a:lnTo>
                  <a:lnTo>
                    <a:pt x="361" y="2"/>
                  </a:lnTo>
                  <a:lnTo>
                    <a:pt x="393" y="56"/>
                  </a:lnTo>
                  <a:lnTo>
                    <a:pt x="444" y="129"/>
                  </a:lnTo>
                  <a:lnTo>
                    <a:pt x="469" y="192"/>
                  </a:lnTo>
                  <a:lnTo>
                    <a:pt x="507" y="236"/>
                  </a:lnTo>
                  <a:lnTo>
                    <a:pt x="513" y="300"/>
                  </a:lnTo>
                  <a:lnTo>
                    <a:pt x="501" y="338"/>
                  </a:lnTo>
                  <a:lnTo>
                    <a:pt x="447" y="348"/>
                  </a:lnTo>
                  <a:lnTo>
                    <a:pt x="438" y="332"/>
                  </a:lnTo>
                  <a:lnTo>
                    <a:pt x="400" y="309"/>
                  </a:lnTo>
                  <a:lnTo>
                    <a:pt x="388" y="285"/>
                  </a:lnTo>
                  <a:lnTo>
                    <a:pt x="378" y="276"/>
                  </a:lnTo>
                  <a:lnTo>
                    <a:pt x="372" y="254"/>
                  </a:lnTo>
                  <a:lnTo>
                    <a:pt x="363" y="260"/>
                  </a:lnTo>
                  <a:lnTo>
                    <a:pt x="333" y="231"/>
                  </a:lnTo>
                  <a:lnTo>
                    <a:pt x="340" y="204"/>
                  </a:lnTo>
                  <a:lnTo>
                    <a:pt x="333" y="189"/>
                  </a:lnTo>
                  <a:lnTo>
                    <a:pt x="324" y="194"/>
                  </a:lnTo>
                  <a:lnTo>
                    <a:pt x="325" y="210"/>
                  </a:lnTo>
                  <a:lnTo>
                    <a:pt x="315" y="189"/>
                  </a:lnTo>
                  <a:lnTo>
                    <a:pt x="316" y="140"/>
                  </a:lnTo>
                  <a:lnTo>
                    <a:pt x="297" y="111"/>
                  </a:lnTo>
                  <a:lnTo>
                    <a:pt x="249" y="87"/>
                  </a:lnTo>
                  <a:lnTo>
                    <a:pt x="225" y="60"/>
                  </a:lnTo>
                  <a:lnTo>
                    <a:pt x="198" y="57"/>
                  </a:lnTo>
                  <a:lnTo>
                    <a:pt x="187" y="74"/>
                  </a:lnTo>
                  <a:lnTo>
                    <a:pt x="147" y="86"/>
                  </a:lnTo>
                  <a:lnTo>
                    <a:pt x="124" y="74"/>
                  </a:lnTo>
                  <a:lnTo>
                    <a:pt x="112" y="56"/>
                  </a:lnTo>
                  <a:lnTo>
                    <a:pt x="37" y="72"/>
                  </a:lnTo>
                  <a:lnTo>
                    <a:pt x="21" y="59"/>
                  </a:lnTo>
                  <a:lnTo>
                    <a:pt x="4" y="73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629880" y="3052080"/>
              <a:ext cx="634320" cy="313920"/>
            </a:xfrm>
            <a:custGeom>
              <a:avLst/>
              <a:gdLst/>
              <a:ahLst/>
              <a:rect l="l" t="t" r="r" b="b"/>
              <a:pathLst>
                <a:path w="472" h="207">
                  <a:moveTo>
                    <a:pt x="16" y="153"/>
                  </a:moveTo>
                  <a:lnTo>
                    <a:pt x="0" y="197"/>
                  </a:lnTo>
                  <a:lnTo>
                    <a:pt x="61" y="191"/>
                  </a:lnTo>
                  <a:lnTo>
                    <a:pt x="85" y="171"/>
                  </a:lnTo>
                  <a:lnTo>
                    <a:pt x="168" y="149"/>
                  </a:lnTo>
                  <a:lnTo>
                    <a:pt x="191" y="161"/>
                  </a:lnTo>
                  <a:lnTo>
                    <a:pt x="246" y="153"/>
                  </a:lnTo>
                  <a:lnTo>
                    <a:pt x="246" y="156"/>
                  </a:lnTo>
                  <a:lnTo>
                    <a:pt x="328" y="207"/>
                  </a:lnTo>
                  <a:lnTo>
                    <a:pt x="376" y="192"/>
                  </a:lnTo>
                  <a:lnTo>
                    <a:pt x="403" y="135"/>
                  </a:lnTo>
                  <a:lnTo>
                    <a:pt x="450" y="119"/>
                  </a:lnTo>
                  <a:lnTo>
                    <a:pt x="472" y="77"/>
                  </a:lnTo>
                  <a:lnTo>
                    <a:pt x="471" y="26"/>
                  </a:lnTo>
                  <a:lnTo>
                    <a:pt x="465" y="68"/>
                  </a:lnTo>
                  <a:lnTo>
                    <a:pt x="439" y="104"/>
                  </a:lnTo>
                  <a:lnTo>
                    <a:pt x="429" y="101"/>
                  </a:lnTo>
                  <a:lnTo>
                    <a:pt x="394" y="111"/>
                  </a:lnTo>
                  <a:lnTo>
                    <a:pt x="394" y="99"/>
                  </a:lnTo>
                  <a:lnTo>
                    <a:pt x="429" y="87"/>
                  </a:lnTo>
                  <a:lnTo>
                    <a:pt x="397" y="83"/>
                  </a:lnTo>
                  <a:lnTo>
                    <a:pt x="433" y="72"/>
                  </a:lnTo>
                  <a:lnTo>
                    <a:pt x="447" y="78"/>
                  </a:lnTo>
                  <a:lnTo>
                    <a:pt x="454" y="38"/>
                  </a:lnTo>
                  <a:lnTo>
                    <a:pt x="445" y="29"/>
                  </a:lnTo>
                  <a:lnTo>
                    <a:pt x="402" y="45"/>
                  </a:lnTo>
                  <a:lnTo>
                    <a:pt x="403" y="21"/>
                  </a:lnTo>
                  <a:lnTo>
                    <a:pt x="421" y="27"/>
                  </a:lnTo>
                  <a:lnTo>
                    <a:pt x="445" y="9"/>
                  </a:lnTo>
                  <a:lnTo>
                    <a:pt x="432" y="0"/>
                  </a:lnTo>
                  <a:lnTo>
                    <a:pt x="291" y="32"/>
                  </a:lnTo>
                  <a:lnTo>
                    <a:pt x="118" y="67"/>
                  </a:lnTo>
                  <a:lnTo>
                    <a:pt x="39" y="152"/>
                  </a:lnTo>
                  <a:lnTo>
                    <a:pt x="16" y="15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655440" y="2792520"/>
              <a:ext cx="555120" cy="389880"/>
            </a:xfrm>
            <a:custGeom>
              <a:avLst/>
              <a:gdLst/>
              <a:ahLst/>
              <a:rect l="l" t="t" r="r" b="b"/>
              <a:pathLst>
                <a:path w="413" h="257">
                  <a:moveTo>
                    <a:pt x="68" y="180"/>
                  </a:moveTo>
                  <a:lnTo>
                    <a:pt x="56" y="206"/>
                  </a:lnTo>
                  <a:lnTo>
                    <a:pt x="39" y="213"/>
                  </a:lnTo>
                  <a:lnTo>
                    <a:pt x="38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98" y="240"/>
                  </a:lnTo>
                  <a:lnTo>
                    <a:pt x="276" y="203"/>
                  </a:lnTo>
                  <a:lnTo>
                    <a:pt x="413" y="170"/>
                  </a:lnTo>
                  <a:lnTo>
                    <a:pt x="413" y="144"/>
                  </a:lnTo>
                  <a:lnTo>
                    <a:pt x="398" y="136"/>
                  </a:lnTo>
                  <a:lnTo>
                    <a:pt x="386" y="149"/>
                  </a:lnTo>
                  <a:lnTo>
                    <a:pt x="379" y="114"/>
                  </a:lnTo>
                  <a:lnTo>
                    <a:pt x="386" y="83"/>
                  </a:lnTo>
                  <a:lnTo>
                    <a:pt x="335" y="60"/>
                  </a:lnTo>
                  <a:lnTo>
                    <a:pt x="300" y="66"/>
                  </a:lnTo>
                  <a:lnTo>
                    <a:pt x="299" y="18"/>
                  </a:lnTo>
                  <a:lnTo>
                    <a:pt x="263" y="0"/>
                  </a:lnTo>
                  <a:lnTo>
                    <a:pt x="236" y="11"/>
                  </a:lnTo>
                  <a:lnTo>
                    <a:pt x="218" y="56"/>
                  </a:lnTo>
                  <a:lnTo>
                    <a:pt x="186" y="74"/>
                  </a:lnTo>
                  <a:lnTo>
                    <a:pt x="173" y="145"/>
                  </a:lnTo>
                  <a:lnTo>
                    <a:pt x="121" y="180"/>
                  </a:lnTo>
                  <a:lnTo>
                    <a:pt x="79" y="194"/>
                  </a:lnTo>
                  <a:lnTo>
                    <a:pt x="68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694320" y="2715120"/>
              <a:ext cx="314640" cy="371520"/>
            </a:xfrm>
            <a:custGeom>
              <a:avLst/>
              <a:gdLst/>
              <a:ahLst/>
              <a:rect l="l" t="t" r="r" b="b"/>
              <a:pathLst>
                <a:path w="234" h="245">
                  <a:moveTo>
                    <a:pt x="24" y="128"/>
                  </a:moveTo>
                  <a:lnTo>
                    <a:pt x="6" y="123"/>
                  </a:lnTo>
                  <a:lnTo>
                    <a:pt x="0" y="162"/>
                  </a:lnTo>
                  <a:lnTo>
                    <a:pt x="6" y="203"/>
                  </a:lnTo>
                  <a:lnTo>
                    <a:pt x="40" y="231"/>
                  </a:lnTo>
                  <a:lnTo>
                    <a:pt x="48" y="245"/>
                  </a:lnTo>
                  <a:lnTo>
                    <a:pt x="91" y="231"/>
                  </a:lnTo>
                  <a:lnTo>
                    <a:pt x="142" y="198"/>
                  </a:lnTo>
                  <a:lnTo>
                    <a:pt x="157" y="126"/>
                  </a:lnTo>
                  <a:lnTo>
                    <a:pt x="190" y="107"/>
                  </a:lnTo>
                  <a:lnTo>
                    <a:pt x="208" y="63"/>
                  </a:lnTo>
                  <a:lnTo>
                    <a:pt x="234" y="51"/>
                  </a:lnTo>
                  <a:lnTo>
                    <a:pt x="200" y="45"/>
                  </a:lnTo>
                  <a:lnTo>
                    <a:pt x="141" y="77"/>
                  </a:lnTo>
                  <a:lnTo>
                    <a:pt x="132" y="46"/>
                  </a:lnTo>
                  <a:lnTo>
                    <a:pt x="81" y="49"/>
                  </a:lnTo>
                  <a:lnTo>
                    <a:pt x="69" y="0"/>
                  </a:lnTo>
                  <a:lnTo>
                    <a:pt x="56" y="13"/>
                  </a:lnTo>
                  <a:lnTo>
                    <a:pt x="60" y="83"/>
                  </a:lnTo>
                  <a:lnTo>
                    <a:pt x="37" y="89"/>
                  </a:lnTo>
                  <a:lnTo>
                    <a:pt x="24" y="1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141800" y="2721240"/>
              <a:ext cx="88560" cy="12420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5"/>
                  </a:moveTo>
                  <a:lnTo>
                    <a:pt x="14" y="0"/>
                  </a:lnTo>
                  <a:lnTo>
                    <a:pt x="44" y="18"/>
                  </a:lnTo>
                  <a:lnTo>
                    <a:pt x="44" y="36"/>
                  </a:lnTo>
                  <a:lnTo>
                    <a:pt x="65" y="49"/>
                  </a:lnTo>
                  <a:lnTo>
                    <a:pt x="66" y="73"/>
                  </a:lnTo>
                  <a:lnTo>
                    <a:pt x="32" y="82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764160" y="2477160"/>
              <a:ext cx="426240" cy="315360"/>
            </a:xfrm>
            <a:custGeom>
              <a:avLst/>
              <a:gdLst/>
              <a:ahLst/>
              <a:rect l="l" t="t" r="r" b="b"/>
              <a:pathLst>
                <a:path w="317" h="208">
                  <a:moveTo>
                    <a:pt x="29" y="30"/>
                  </a:moveTo>
                  <a:lnTo>
                    <a:pt x="0" y="58"/>
                  </a:lnTo>
                  <a:lnTo>
                    <a:pt x="16" y="159"/>
                  </a:lnTo>
                  <a:lnTo>
                    <a:pt x="29" y="208"/>
                  </a:lnTo>
                  <a:lnTo>
                    <a:pt x="83" y="204"/>
                  </a:lnTo>
                  <a:lnTo>
                    <a:pt x="283" y="166"/>
                  </a:lnTo>
                  <a:lnTo>
                    <a:pt x="297" y="160"/>
                  </a:lnTo>
                  <a:lnTo>
                    <a:pt x="317" y="113"/>
                  </a:lnTo>
                  <a:lnTo>
                    <a:pt x="287" y="87"/>
                  </a:lnTo>
                  <a:lnTo>
                    <a:pt x="303" y="27"/>
                  </a:lnTo>
                  <a:lnTo>
                    <a:pt x="280" y="21"/>
                  </a:lnTo>
                  <a:lnTo>
                    <a:pt x="280" y="6"/>
                  </a:lnTo>
                  <a:lnTo>
                    <a:pt x="270" y="0"/>
                  </a:lnTo>
                  <a:lnTo>
                    <a:pt x="38" y="43"/>
                  </a:lnTo>
                  <a:lnTo>
                    <a:pt x="29" y="3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150080" y="2513520"/>
              <a:ext cx="112680" cy="251640"/>
            </a:xfrm>
            <a:custGeom>
              <a:avLst/>
              <a:gdLst/>
              <a:ahLst/>
              <a:rect l="l" t="t" r="r" b="b"/>
              <a:pathLst>
                <a:path w="84" h="166">
                  <a:moveTo>
                    <a:pt x="15" y="1"/>
                  </a:moveTo>
                  <a:lnTo>
                    <a:pt x="35" y="0"/>
                  </a:lnTo>
                  <a:lnTo>
                    <a:pt x="75" y="25"/>
                  </a:lnTo>
                  <a:lnTo>
                    <a:pt x="69" y="45"/>
                  </a:lnTo>
                  <a:lnTo>
                    <a:pt x="83" y="58"/>
                  </a:lnTo>
                  <a:lnTo>
                    <a:pt x="84" y="136"/>
                  </a:lnTo>
                  <a:lnTo>
                    <a:pt x="70" y="166"/>
                  </a:lnTo>
                  <a:lnTo>
                    <a:pt x="54" y="155"/>
                  </a:lnTo>
                  <a:lnTo>
                    <a:pt x="37" y="154"/>
                  </a:lnTo>
                  <a:lnTo>
                    <a:pt x="8" y="138"/>
                  </a:lnTo>
                  <a:lnTo>
                    <a:pt x="30" y="89"/>
                  </a:lnTo>
                  <a:lnTo>
                    <a:pt x="0" y="63"/>
                  </a:lnTo>
                  <a:lnTo>
                    <a:pt x="15" y="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800520" y="2120040"/>
              <a:ext cx="471960" cy="434160"/>
            </a:xfrm>
            <a:custGeom>
              <a:avLst/>
              <a:gdLst/>
              <a:ahLst/>
              <a:rect l="l" t="t" r="r" b="b"/>
              <a:pathLst>
                <a:path w="351" h="286">
                  <a:moveTo>
                    <a:pt x="27" y="192"/>
                  </a:moveTo>
                  <a:lnTo>
                    <a:pt x="60" y="175"/>
                  </a:lnTo>
                  <a:lnTo>
                    <a:pt x="105" y="171"/>
                  </a:lnTo>
                  <a:lnTo>
                    <a:pt x="116" y="156"/>
                  </a:lnTo>
                  <a:lnTo>
                    <a:pt x="132" y="154"/>
                  </a:lnTo>
                  <a:lnTo>
                    <a:pt x="141" y="138"/>
                  </a:lnTo>
                  <a:lnTo>
                    <a:pt x="156" y="132"/>
                  </a:lnTo>
                  <a:lnTo>
                    <a:pt x="149" y="102"/>
                  </a:lnTo>
                  <a:lnTo>
                    <a:pt x="140" y="94"/>
                  </a:lnTo>
                  <a:lnTo>
                    <a:pt x="159" y="70"/>
                  </a:lnTo>
                  <a:lnTo>
                    <a:pt x="171" y="70"/>
                  </a:lnTo>
                  <a:lnTo>
                    <a:pt x="212" y="19"/>
                  </a:lnTo>
                  <a:lnTo>
                    <a:pt x="275" y="0"/>
                  </a:lnTo>
                  <a:lnTo>
                    <a:pt x="282" y="48"/>
                  </a:lnTo>
                  <a:lnTo>
                    <a:pt x="285" y="46"/>
                  </a:lnTo>
                  <a:lnTo>
                    <a:pt x="300" y="63"/>
                  </a:lnTo>
                  <a:lnTo>
                    <a:pt x="301" y="112"/>
                  </a:lnTo>
                  <a:lnTo>
                    <a:pt x="320" y="152"/>
                  </a:lnTo>
                  <a:lnTo>
                    <a:pt x="327" y="204"/>
                  </a:lnTo>
                  <a:lnTo>
                    <a:pt x="329" y="249"/>
                  </a:lnTo>
                  <a:lnTo>
                    <a:pt x="351" y="264"/>
                  </a:lnTo>
                  <a:lnTo>
                    <a:pt x="335" y="286"/>
                  </a:lnTo>
                  <a:lnTo>
                    <a:pt x="294" y="260"/>
                  </a:lnTo>
                  <a:lnTo>
                    <a:pt x="273" y="262"/>
                  </a:lnTo>
                  <a:lnTo>
                    <a:pt x="252" y="256"/>
                  </a:lnTo>
                  <a:lnTo>
                    <a:pt x="253" y="241"/>
                  </a:lnTo>
                  <a:lnTo>
                    <a:pt x="240" y="236"/>
                  </a:lnTo>
                  <a:lnTo>
                    <a:pt x="10" y="280"/>
                  </a:lnTo>
                  <a:lnTo>
                    <a:pt x="0" y="267"/>
                  </a:lnTo>
                  <a:lnTo>
                    <a:pt x="35" y="216"/>
                  </a:lnTo>
                  <a:lnTo>
                    <a:pt x="27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167720" y="2095920"/>
              <a:ext cx="124920" cy="260640"/>
            </a:xfrm>
            <a:custGeom>
              <a:avLst/>
              <a:gdLst/>
              <a:ahLst/>
              <a:rect l="l" t="t" r="r" b="b"/>
              <a:pathLst>
                <a:path w="93" h="172">
                  <a:moveTo>
                    <a:pt x="0" y="18"/>
                  </a:moveTo>
                  <a:lnTo>
                    <a:pt x="68" y="0"/>
                  </a:lnTo>
                  <a:lnTo>
                    <a:pt x="93" y="47"/>
                  </a:lnTo>
                  <a:lnTo>
                    <a:pt x="80" y="59"/>
                  </a:lnTo>
                  <a:lnTo>
                    <a:pt x="85" y="163"/>
                  </a:lnTo>
                  <a:lnTo>
                    <a:pt x="46" y="172"/>
                  </a:lnTo>
                  <a:lnTo>
                    <a:pt x="27" y="129"/>
                  </a:lnTo>
                  <a:lnTo>
                    <a:pt x="26" y="78"/>
                  </a:lnTo>
                  <a:lnTo>
                    <a:pt x="9" y="63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227840" y="2299320"/>
              <a:ext cx="266040" cy="13644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0" y="36"/>
                  </a:moveTo>
                  <a:lnTo>
                    <a:pt x="101" y="11"/>
                  </a:lnTo>
                  <a:lnTo>
                    <a:pt x="113" y="12"/>
                  </a:lnTo>
                  <a:lnTo>
                    <a:pt x="125" y="0"/>
                  </a:lnTo>
                  <a:lnTo>
                    <a:pt x="135" y="6"/>
                  </a:lnTo>
                  <a:lnTo>
                    <a:pt x="123" y="32"/>
                  </a:lnTo>
                  <a:lnTo>
                    <a:pt x="144" y="30"/>
                  </a:lnTo>
                  <a:lnTo>
                    <a:pt x="156" y="50"/>
                  </a:lnTo>
                  <a:lnTo>
                    <a:pt x="170" y="52"/>
                  </a:lnTo>
                  <a:lnTo>
                    <a:pt x="180" y="49"/>
                  </a:lnTo>
                  <a:lnTo>
                    <a:pt x="180" y="38"/>
                  </a:lnTo>
                  <a:lnTo>
                    <a:pt x="163" y="24"/>
                  </a:lnTo>
                  <a:lnTo>
                    <a:pt x="176" y="23"/>
                  </a:lnTo>
                  <a:lnTo>
                    <a:pt x="198" y="53"/>
                  </a:lnTo>
                  <a:lnTo>
                    <a:pt x="177" y="71"/>
                  </a:lnTo>
                  <a:lnTo>
                    <a:pt x="153" y="62"/>
                  </a:lnTo>
                  <a:lnTo>
                    <a:pt x="138" y="84"/>
                  </a:lnTo>
                  <a:lnTo>
                    <a:pt x="108" y="62"/>
                  </a:lnTo>
                  <a:lnTo>
                    <a:pt x="8" y="90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237560" y="2402640"/>
              <a:ext cx="138240" cy="11952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20"/>
                  </a:moveTo>
                  <a:lnTo>
                    <a:pt x="79" y="0"/>
                  </a:lnTo>
                  <a:lnTo>
                    <a:pt x="103" y="36"/>
                  </a:lnTo>
                  <a:lnTo>
                    <a:pt x="89" y="52"/>
                  </a:lnTo>
                  <a:lnTo>
                    <a:pt x="64" y="46"/>
                  </a:lnTo>
                  <a:lnTo>
                    <a:pt x="25" y="79"/>
                  </a:lnTo>
                  <a:lnTo>
                    <a:pt x="4" y="62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260240" y="2484720"/>
              <a:ext cx="137160" cy="9252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0" y="45"/>
                  </a:moveTo>
                  <a:lnTo>
                    <a:pt x="42" y="25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102" y="2"/>
                  </a:lnTo>
                  <a:lnTo>
                    <a:pt x="62" y="34"/>
                  </a:lnTo>
                  <a:lnTo>
                    <a:pt x="12" y="61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259160" y="2045880"/>
              <a:ext cx="146160" cy="294480"/>
            </a:xfrm>
            <a:custGeom>
              <a:avLst/>
              <a:gdLst/>
              <a:ahLst/>
              <a:rect l="l" t="t" r="r" b="b"/>
              <a:pathLst>
                <a:path w="109" h="194">
                  <a:moveTo>
                    <a:pt x="23" y="0"/>
                  </a:moveTo>
                  <a:lnTo>
                    <a:pt x="0" y="34"/>
                  </a:lnTo>
                  <a:lnTo>
                    <a:pt x="25" y="79"/>
                  </a:lnTo>
                  <a:lnTo>
                    <a:pt x="10" y="91"/>
                  </a:lnTo>
                  <a:lnTo>
                    <a:pt x="16" y="194"/>
                  </a:lnTo>
                  <a:lnTo>
                    <a:pt x="77" y="179"/>
                  </a:lnTo>
                  <a:lnTo>
                    <a:pt x="93" y="179"/>
                  </a:lnTo>
                  <a:lnTo>
                    <a:pt x="102" y="168"/>
                  </a:lnTo>
                  <a:lnTo>
                    <a:pt x="102" y="149"/>
                  </a:lnTo>
                  <a:lnTo>
                    <a:pt x="109" y="137"/>
                  </a:lnTo>
                  <a:lnTo>
                    <a:pt x="75" y="122"/>
                  </a:lnTo>
                  <a:lnTo>
                    <a:pt x="31" y="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343760" y="2391840"/>
              <a:ext cx="6948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0" y="7"/>
                  </a:moveTo>
                  <a:lnTo>
                    <a:pt x="22" y="0"/>
                  </a:lnTo>
                  <a:lnTo>
                    <a:pt x="52" y="22"/>
                  </a:lnTo>
                  <a:lnTo>
                    <a:pt x="46" y="28"/>
                  </a:lnTo>
                  <a:lnTo>
                    <a:pt x="31" y="28"/>
                  </a:lnTo>
                  <a:lnTo>
                    <a:pt x="24" y="43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94360" y="2889720"/>
              <a:ext cx="37800" cy="727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4"/>
                  </a:moveTo>
                  <a:lnTo>
                    <a:pt x="28" y="0"/>
                  </a:lnTo>
                  <a:lnTo>
                    <a:pt x="12" y="48"/>
                  </a:lnTo>
                  <a:lnTo>
                    <a:pt x="1" y="47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8" name="" descr=""/>
          <p:cNvPicPr/>
          <p:nvPr/>
        </p:nvPicPr>
        <p:blipFill>
          <a:blip r:embed="rId3"/>
          <a:srcRect l="39732" t="55157" r="28742" b="15771"/>
          <a:stretch/>
        </p:blipFill>
        <p:spPr>
          <a:xfrm>
            <a:off x="6359400" y="2576520"/>
            <a:ext cx="339840" cy="247680"/>
          </a:xfrm>
          <a:prstGeom prst="rect">
            <a:avLst/>
          </a:prstGeom>
          <a:ln w="0">
            <a:noFill/>
          </a:ln>
        </p:spPr>
      </p:pic>
      <p:pic>
        <p:nvPicPr>
          <p:cNvPr id="3099" name="" descr=""/>
          <p:cNvPicPr/>
          <p:nvPr/>
        </p:nvPicPr>
        <p:blipFill>
          <a:blip r:embed="rId4"/>
          <a:srcRect l="39732" t="55157" r="28742" b="15771"/>
          <a:stretch/>
        </p:blipFill>
        <p:spPr>
          <a:xfrm>
            <a:off x="6388200" y="5014800"/>
            <a:ext cx="339480" cy="247680"/>
          </a:xfrm>
          <a:prstGeom prst="rect">
            <a:avLst/>
          </a:prstGeom>
          <a:ln w="0">
            <a:noFill/>
          </a:ln>
        </p:spPr>
      </p:pic>
      <p:pic>
        <p:nvPicPr>
          <p:cNvPr id="3100" name="" descr=""/>
          <p:cNvPicPr/>
          <p:nvPr/>
        </p:nvPicPr>
        <p:blipFill>
          <a:blip r:embed="rId5"/>
          <a:srcRect l="39732" t="55157" r="28742" b="15771"/>
          <a:stretch/>
        </p:blipFill>
        <p:spPr>
          <a:xfrm>
            <a:off x="8101080" y="4152960"/>
            <a:ext cx="339480" cy="247680"/>
          </a:xfrm>
          <a:prstGeom prst="rect">
            <a:avLst/>
          </a:prstGeom>
          <a:ln w="0">
            <a:noFill/>
          </a:ln>
        </p:spPr>
      </p:pic>
      <p:pic>
        <p:nvPicPr>
          <p:cNvPr id="3101" name="" descr=""/>
          <p:cNvPicPr/>
          <p:nvPr/>
        </p:nvPicPr>
        <p:blipFill>
          <a:blip r:embed="rId6"/>
          <a:srcRect l="37011" t="32370" r="39828" b="47582"/>
          <a:stretch/>
        </p:blipFill>
        <p:spPr>
          <a:xfrm>
            <a:off x="2590920" y="2495520"/>
            <a:ext cx="333360" cy="227160"/>
          </a:xfrm>
          <a:prstGeom prst="rect">
            <a:avLst/>
          </a:prstGeom>
          <a:ln w="0">
            <a:noFill/>
          </a:ln>
        </p:spPr>
      </p:pic>
      <p:pic>
        <p:nvPicPr>
          <p:cNvPr id="3102" name="" descr=""/>
          <p:cNvPicPr/>
          <p:nvPr/>
        </p:nvPicPr>
        <p:blipFill>
          <a:blip r:embed="rId7"/>
          <a:srcRect l="37011" t="32370" r="39828" b="47582"/>
          <a:stretch/>
        </p:blipFill>
        <p:spPr>
          <a:xfrm>
            <a:off x="4267080" y="3933720"/>
            <a:ext cx="333360" cy="227160"/>
          </a:xfrm>
          <a:prstGeom prst="rect">
            <a:avLst/>
          </a:prstGeom>
          <a:ln w="0">
            <a:noFill/>
          </a:ln>
        </p:spPr>
      </p:pic>
      <p:sp>
        <p:nvSpPr>
          <p:cNvPr id="3103" name=""/>
          <p:cNvSpPr/>
          <p:nvPr/>
        </p:nvSpPr>
        <p:spPr>
          <a:xfrm>
            <a:off x="5334120" y="6254640"/>
            <a:ext cx="3581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4" name="" descr=""/>
          <p:cNvPicPr/>
          <p:nvPr/>
        </p:nvPicPr>
        <p:blipFill>
          <a:blip r:embed="rId8"/>
          <a:srcRect l="43752" t="69226" r="38868" b="15298"/>
          <a:stretch/>
        </p:blipFill>
        <p:spPr>
          <a:xfrm>
            <a:off x="3657600" y="5562720"/>
            <a:ext cx="363600" cy="234720"/>
          </a:xfrm>
          <a:prstGeom prst="rect">
            <a:avLst/>
          </a:prstGeom>
          <a:ln w="0">
            <a:noFill/>
          </a:ln>
        </p:spPr>
      </p:pic>
      <p:sp>
        <p:nvSpPr>
          <p:cNvPr id="3105" name=""/>
          <p:cNvSpPr/>
          <p:nvPr/>
        </p:nvSpPr>
        <p:spPr>
          <a:xfrm>
            <a:off x="380880" y="3048120"/>
            <a:ext cx="1660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299880" y="2343240"/>
            <a:ext cx="7905960" cy="2762280"/>
            <a:chOff x="299880" y="2343240"/>
            <a:chExt cx="7905960" cy="2762280"/>
          </a:xfrm>
        </p:grpSpPr>
        <p:sp>
          <p:nvSpPr>
            <p:cNvPr id="3107" name=""/>
            <p:cNvSpPr/>
            <p:nvPr/>
          </p:nvSpPr>
          <p:spPr>
            <a:xfrm>
              <a:off x="762120" y="2895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086600" y="3505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038480" y="2666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29400" y="38098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191120" y="49528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99880" y="3063960"/>
              <a:ext cx="137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Gene Exp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881520" y="2343240"/>
              <a:ext cx="134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Target</a:t>
              </a:r>
              <a:r>
                <a:rPr b="0" lang="en-US" sz="1400" spc="-1" strike="noStrike">
                  <a:solidFill>
                    <a:srgbClr val="618ffd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311960" y="34290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Proteo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17040" y="3943440"/>
              <a:ext cx="13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DNA Seque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500280" y="4724280"/>
              <a:ext cx="137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Gene Exp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7" name=""/>
          <p:cNvGrpSpPr/>
          <p:nvPr/>
        </p:nvGrpSpPr>
        <p:grpSpPr>
          <a:xfrm>
            <a:off x="450720" y="2495520"/>
            <a:ext cx="6774480" cy="1009800"/>
            <a:chOff x="450720" y="2495520"/>
            <a:chExt cx="6774480" cy="1009800"/>
          </a:xfrm>
        </p:grpSpPr>
        <p:sp>
          <p:nvSpPr>
            <p:cNvPr id="3118" name=""/>
            <p:cNvSpPr/>
            <p:nvPr/>
          </p:nvSpPr>
          <p:spPr>
            <a:xfrm>
              <a:off x="6477120" y="3352680"/>
              <a:ext cx="152280" cy="152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62120" y="2819520"/>
              <a:ext cx="152280" cy="152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50720" y="2495520"/>
              <a:ext cx="14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Ident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423960" y="3139920"/>
              <a:ext cx="143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Opti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5920" y="3048120"/>
              <a:ext cx="143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Opti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62520" y="2971800"/>
              <a:ext cx="152280" cy="152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914400" y="2438280"/>
            <a:ext cx="7129800" cy="2499480"/>
            <a:chOff x="914400" y="2438280"/>
            <a:chExt cx="7129800" cy="2499480"/>
          </a:xfrm>
        </p:grpSpPr>
        <p:sp>
          <p:nvSpPr>
            <p:cNvPr id="3125" name=""/>
            <p:cNvSpPr/>
            <p:nvPr/>
          </p:nvSpPr>
          <p:spPr>
            <a:xfrm>
              <a:off x="4038480" y="2819520"/>
              <a:ext cx="15264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914400" y="2895480"/>
              <a:ext cx="152280" cy="152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943600" y="457200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276720" y="274320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124080" y="243828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C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867280" y="472428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C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159680" y="373392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Public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137240" y="2895480"/>
              <a:ext cx="127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Third Party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934320" y="373392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263840" y="281952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Public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Pharmaceutical activity – technical achiev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tabase federation at the level of SR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ecification of complex bioinformatics workflow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y require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cenarios for research collaboration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Mediation in heterogeneous data and computing environ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service discovery and broker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roperability with standard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workflow brokering and enact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ynamic Access Control for remote data sets and re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entity, Attribute, and Authorisation Services in V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er to Peer techn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centralised storage, pre-processing data and usage patter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de disjoint redundant retrieval paths for P2P network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arma Demonstrator  - Key Compon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entered around Lion’s SRS softwa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chitecture is Web Service bas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er access via Federated Por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b portal on top of J2EE application ser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de Broker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ublishing / Annotating services of an SRS no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Brok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servic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dvanced Secur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thentication, Integrity and Confidentiality from one VO endpoint to anoth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"/>
          <p:cNvSpPr/>
          <p:nvPr/>
        </p:nvSpPr>
        <p:spPr>
          <a:xfrm>
            <a:off x="433440" y="1069920"/>
            <a:ext cx="8261280" cy="4865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arma Architecture (project month 12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707760" y="1181160"/>
            <a:ext cx="7625880" cy="4738320"/>
            <a:chOff x="707760" y="1181160"/>
            <a:chExt cx="7625880" cy="4738320"/>
          </a:xfrm>
        </p:grpSpPr>
        <p:sp>
          <p:nvSpPr>
            <p:cNvPr id="3142" name=""/>
            <p:cNvSpPr/>
            <p:nvPr/>
          </p:nvSpPr>
          <p:spPr>
            <a:xfrm>
              <a:off x="2714040" y="552060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Federated Por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819800" y="1181160"/>
              <a:ext cx="5951520" cy="1692360"/>
              <a:chOff x="1819800" y="1181160"/>
              <a:chExt cx="5951520" cy="1692360"/>
            </a:xfrm>
          </p:grpSpPr>
          <p:sp>
            <p:nvSpPr>
              <p:cNvPr id="3144" name=""/>
              <p:cNvSpPr/>
              <p:nvPr/>
            </p:nvSpPr>
            <p:spPr>
              <a:xfrm>
                <a:off x="1839600" y="1181160"/>
                <a:ext cx="5931720" cy="1692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003200" y="1376280"/>
                <a:ext cx="3558960" cy="390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ntology Repository (OntoBroke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18960" y="2092320"/>
                <a:ext cx="4745160" cy="715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Semantic Brok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608080" y="2157120"/>
                <a:ext cx="1186200" cy="58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188440" y="2157120"/>
                <a:ext cx="1186560" cy="58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398560" y="1766880"/>
                <a:ext cx="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819800" y="1376280"/>
                <a:ext cx="212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00"/>
                    </a:solidFill>
                    <a:latin typeface="Arial"/>
                  </a:rPr>
                  <a:t>Directory Serv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07760" y="3133800"/>
              <a:ext cx="4414320" cy="2408400"/>
              <a:chOff x="707760" y="3133800"/>
              <a:chExt cx="4414320" cy="2408400"/>
            </a:xfrm>
          </p:grpSpPr>
          <p:grpSp>
            <p:nvGrpSpPr>
              <p:cNvPr id="3152" name=""/>
              <p:cNvGrpSpPr/>
              <p:nvPr/>
            </p:nvGrpSpPr>
            <p:grpSpPr>
              <a:xfrm>
                <a:off x="1214640" y="3133800"/>
                <a:ext cx="3907440" cy="2408400"/>
                <a:chOff x="1214640" y="3133800"/>
                <a:chExt cx="3907440" cy="240840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1214640" y="3133800"/>
                  <a:ext cx="3907440" cy="2408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1493640" y="3198960"/>
                  <a:ext cx="118728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manti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ro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atewa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1444680" y="4044960"/>
                  <a:ext cx="1331280" cy="580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LB IX-odu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Workflow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1444320" y="4695840"/>
                  <a:ext cx="136476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anag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2856600" y="3264120"/>
                  <a:ext cx="941040" cy="642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uer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2838960" y="3979800"/>
                  <a:ext cx="136476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WsSess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anag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2851560" y="4826160"/>
                  <a:ext cx="1029600" cy="642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748680" y="5086440"/>
                  <a:ext cx="128556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sObj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3610800" y="3394080"/>
                  <a:ext cx="128556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sObj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2" name=""/>
              <p:cNvSpPr/>
              <p:nvPr/>
            </p:nvSpPr>
            <p:spPr>
              <a:xfrm rot="16200000">
                <a:off x="-235800" y="4077720"/>
                <a:ext cx="2408400" cy="520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Web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Interfac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"/>
            <p:cNvGrpSpPr/>
            <p:nvPr/>
          </p:nvGrpSpPr>
          <p:grpSpPr>
            <a:xfrm>
              <a:off x="5331960" y="3328920"/>
              <a:ext cx="1323000" cy="2017800"/>
              <a:chOff x="5331960" y="3328920"/>
              <a:chExt cx="1323000" cy="2017800"/>
            </a:xfrm>
          </p:grpSpPr>
          <p:sp>
            <p:nvSpPr>
              <p:cNvPr id="3164" name=""/>
              <p:cNvSpPr/>
              <p:nvPr/>
            </p:nvSpPr>
            <p:spPr>
              <a:xfrm>
                <a:off x="5646960" y="3458880"/>
                <a:ext cx="756000" cy="6508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92160" y="4240080"/>
                <a:ext cx="1095120" cy="368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RS-W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461560" y="4565520"/>
                <a:ext cx="114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N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Broker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331960" y="3328920"/>
                <a:ext cx="1323000" cy="20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"/>
            <p:cNvSpPr/>
            <p:nvPr/>
          </p:nvSpPr>
          <p:spPr>
            <a:xfrm>
              <a:off x="6015240" y="2841120"/>
              <a:ext cx="0" cy="585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397960" y="2873520"/>
              <a:ext cx="0" cy="390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215240" y="3719520"/>
              <a:ext cx="1113480" cy="52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4354920" y="4565880"/>
              <a:ext cx="973800" cy="520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"/>
            <p:cNvGrpSpPr/>
            <p:nvPr/>
          </p:nvGrpSpPr>
          <p:grpSpPr>
            <a:xfrm>
              <a:off x="7073640" y="3328920"/>
              <a:ext cx="1260000" cy="2017800"/>
              <a:chOff x="7073640" y="3328920"/>
              <a:chExt cx="1260000" cy="2017800"/>
            </a:xfrm>
          </p:grpSpPr>
          <p:sp>
            <p:nvSpPr>
              <p:cNvPr id="3173" name=""/>
              <p:cNvSpPr/>
              <p:nvPr/>
            </p:nvSpPr>
            <p:spPr>
              <a:xfrm>
                <a:off x="7372800" y="3458880"/>
                <a:ext cx="717840" cy="6508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198560" y="4240080"/>
                <a:ext cx="1095120" cy="368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RS-W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147080" y="4565520"/>
                <a:ext cx="11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N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Broker 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073640" y="3328920"/>
                <a:ext cx="1256400" cy="20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7" name=""/>
            <p:cNvSpPr/>
            <p:nvPr/>
          </p:nvSpPr>
          <p:spPr>
            <a:xfrm>
              <a:off x="6306120" y="2873520"/>
              <a:ext cx="1395360" cy="585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8" name=""/>
            <p:cNvCxnSpPr>
              <a:stCxn id="3160" idx="2"/>
            </p:cNvCxnSpPr>
            <p:nvPr/>
          </p:nvCxnSpPr>
          <p:spPr>
            <a:xfrm flipH="1" flipV="1" rot="5400000">
              <a:off x="5261400" y="3565080"/>
              <a:ext cx="972720" cy="2713680"/>
            </a:xfrm>
            <a:prstGeom prst="bentConnector4">
              <a:avLst>
                <a:gd name="adj1" fmla="val -19918"/>
                <a:gd name="adj2" fmla="val 91906"/>
              </a:avLst>
            </a:prstGeom>
            <a:ln w="12600">
              <a:solidFill>
                <a:srgbClr val="ff33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179" name=""/>
            <p:cNvCxnSpPr>
              <a:stCxn id="3161" idx="0"/>
              <a:endCxn id="3176" idx="1"/>
            </p:cNvCxnSpPr>
            <p:nvPr/>
          </p:nvCxnSpPr>
          <p:spPr>
            <a:xfrm flipH="1" rot="16200000">
              <a:off x="5190840" y="2454120"/>
              <a:ext cx="944280" cy="2822400"/>
            </a:xfrm>
            <a:prstGeom prst="bentConnector4">
              <a:avLst>
                <a:gd name="adj1" fmla="val -20671"/>
                <a:gd name="adj2" fmla="val 92626"/>
              </a:avLst>
            </a:prstGeom>
            <a:ln w="12600">
              <a:solidFill>
                <a:srgbClr val="ff3300"/>
              </a:solidFill>
              <a:prstDash val="sysDot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mantic Brok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mantic enabled service pub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in objectiv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lection of services by their semantic classif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action with Node Brokers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rvice registr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action with Federated Portal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rvic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ed as standard Axis based W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erations supported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tology Browsing (Query construct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rvice Discovery and Matchmak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mantic and Non-semantic enabl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mantic Broker Intera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1219320" y="1295280"/>
            <a:ext cx="6628680" cy="4342680"/>
            <a:chOff x="1219320" y="1295280"/>
            <a:chExt cx="6628680" cy="4342680"/>
          </a:xfrm>
        </p:grpSpPr>
        <p:sp>
          <p:nvSpPr>
            <p:cNvPr id="3184" name=""/>
            <p:cNvSpPr/>
            <p:nvPr/>
          </p:nvSpPr>
          <p:spPr>
            <a:xfrm>
              <a:off x="4852800" y="4562640"/>
              <a:ext cx="314640" cy="743760"/>
            </a:xfrm>
            <a:prstGeom prst="flowChartMultidocumen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5150880" y="4067280"/>
              <a:ext cx="133380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46920" y="3785760"/>
              <a:ext cx="2251080" cy="1383120"/>
            </a:xfrm>
            <a:prstGeom prst="cube">
              <a:avLst>
                <a:gd name="adj" fmla="val 100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409480" y="4769280"/>
              <a:ext cx="299880" cy="4719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504800" y="4008960"/>
              <a:ext cx="22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WL-DLP/F-Logic  based ontology repository and F-Logic/LP reasoning servi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219320" y="1491480"/>
              <a:ext cx="3122640" cy="1380240"/>
            </a:xfrm>
            <a:prstGeom prst="cube">
              <a:avLst>
                <a:gd name="adj" fmla="val 588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263240" y="1569960"/>
              <a:ext cx="124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emantic bro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258920" y="2189880"/>
              <a:ext cx="17845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mantics enabled service discovery and matchmak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384520" y="1295280"/>
              <a:ext cx="1600560" cy="897840"/>
            </a:xfrm>
            <a:prstGeom prst="cube">
              <a:avLst>
                <a:gd name="adj" fmla="val 1012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319720" y="1534320"/>
              <a:ext cx="140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ederated SRS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616120" y="3055320"/>
              <a:ext cx="10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-Logic query/resul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 flipV="1">
              <a:off x="2663640" y="3058200"/>
              <a:ext cx="8280" cy="67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674880" y="4913280"/>
              <a:ext cx="12942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L-S based service pub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7" name="1" descr=""/>
            <p:cNvPicPr/>
            <p:nvPr/>
          </p:nvPicPr>
          <p:blipFill>
            <a:blip r:embed="rId1"/>
            <a:stretch/>
          </p:blipFill>
          <p:spPr>
            <a:xfrm>
              <a:off x="2832480" y="4703760"/>
              <a:ext cx="350280" cy="5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8" name=""/>
            <p:cNvSpPr/>
            <p:nvPr/>
          </p:nvSpPr>
          <p:spPr>
            <a:xfrm>
              <a:off x="4560840" y="3422520"/>
              <a:ext cx="318960" cy="34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502880" y="2812320"/>
              <a:ext cx="1214640" cy="1108080"/>
            </a:xfrm>
            <a:prstGeom prst="cube">
              <a:avLst>
                <a:gd name="adj" fmla="val 7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446000" y="287820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RS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803120" y="3320640"/>
              <a:ext cx="318600" cy="34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740120" y="3638520"/>
              <a:ext cx="99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74040" y="2959920"/>
              <a:ext cx="4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03960" y="3435120"/>
              <a:ext cx="318600" cy="34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245280" y="2825640"/>
              <a:ext cx="1225800" cy="1108080"/>
            </a:xfrm>
            <a:prstGeom prst="cube">
              <a:avLst>
                <a:gd name="adj" fmla="val 7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189120" y="288792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RS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545520" y="3330360"/>
              <a:ext cx="318960" cy="34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480720" y="3648240"/>
              <a:ext cx="99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553360" y="4294080"/>
              <a:ext cx="14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L-S based SRS service anno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750120" y="4848120"/>
              <a:ext cx="10918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095640" y="2173680"/>
              <a:ext cx="113400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nowledge model brow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>
              <a:off x="4314600" y="1940400"/>
              <a:ext cx="105444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5042520" y="40384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5162760" y="2281320"/>
              <a:ext cx="68148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843160" y="2297880"/>
              <a:ext cx="71892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6" name="1" descr=""/>
            <p:cNvPicPr/>
            <p:nvPr/>
          </p:nvPicPr>
          <p:blipFill>
            <a:blip r:embed="rId2"/>
            <a:stretch/>
          </p:blipFill>
          <p:spPr>
            <a:xfrm>
              <a:off x="7483320" y="1497960"/>
              <a:ext cx="36468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7" name=""/>
            <p:cNvSpPr/>
            <p:nvPr/>
          </p:nvSpPr>
          <p:spPr>
            <a:xfrm flipH="1">
              <a:off x="6971040" y="1770120"/>
              <a:ext cx="5148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193440" y="2288160"/>
              <a:ext cx="154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 invo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Fa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IST Grid IP projec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4 yea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art date: September 1st, 200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26 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www.simdat.or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692760" y="1446120"/>
            <a:ext cx="1981080" cy="4267080"/>
            <a:chOff x="6692760" y="1446120"/>
            <a:chExt cx="1981080" cy="4267080"/>
          </a:xfrm>
        </p:grpSpPr>
        <p:grpSp>
          <p:nvGrpSpPr>
            <p:cNvPr id="315" name=""/>
            <p:cNvGrpSpPr/>
            <p:nvPr/>
          </p:nvGrpSpPr>
          <p:grpSpPr>
            <a:xfrm>
              <a:off x="6692760" y="2894040"/>
              <a:ext cx="1981080" cy="1371600"/>
              <a:chOff x="6692760" y="2894040"/>
              <a:chExt cx="1981080" cy="1371600"/>
            </a:xfrm>
          </p:grpSpPr>
          <p:sp>
            <p:nvSpPr>
              <p:cNvPr id="316" name=""/>
              <p:cNvSpPr/>
              <p:nvPr/>
            </p:nvSpPr>
            <p:spPr>
              <a:xfrm>
                <a:off x="6692760" y="289404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Capability Provid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7" name="" descr="Home page"/>
              <p:cNvPicPr/>
              <p:nvPr/>
            </p:nvPicPr>
            <p:blipFill>
              <a:blip r:embed="rId1"/>
              <a:srcRect l="0" t="0" r="71456" b="0"/>
              <a:stretch/>
            </p:blipFill>
            <p:spPr>
              <a:xfrm>
                <a:off x="6768720" y="3655800"/>
                <a:ext cx="304920" cy="2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2"/>
              <a:srcRect l="0" t="0" r="71673" b="15017"/>
              <a:stretch/>
            </p:blipFill>
            <p:spPr>
              <a:xfrm>
                <a:off x="6845040" y="3274920"/>
                <a:ext cx="838080" cy="2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3"/>
              <a:srcRect l="0" t="30772" r="0" b="0"/>
              <a:stretch/>
            </p:blipFill>
            <p:spPr>
              <a:xfrm>
                <a:off x="7835760" y="3503520"/>
                <a:ext cx="7617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back to LION bioscience home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7835760" y="3884400"/>
                <a:ext cx="68580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6"/>
              <a:srcRect l="0" t="0" r="0" b="22248"/>
              <a:stretch/>
            </p:blipFill>
            <p:spPr>
              <a:xfrm>
                <a:off x="7759440" y="3274920"/>
                <a:ext cx="76212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>
                <a:hlinkClick r:id="rId7"/>
              </p:cNvPr>
              <p:cNvPicPr/>
              <p:nvPr/>
            </p:nvPicPr>
            <p:blipFill>
              <a:blip r:embed="rId8"/>
              <a:srcRect l="0" t="0" r="79026" b="33917"/>
              <a:stretch/>
            </p:blipFill>
            <p:spPr>
              <a:xfrm>
                <a:off x="7225920" y="3655800"/>
                <a:ext cx="4413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>
                <a:hlinkClick r:id="rId9"/>
              </p:cNvPr>
              <p:cNvPicPr/>
              <p:nvPr/>
            </p:nvPicPr>
            <p:blipFill>
              <a:blip r:embed="rId10"/>
              <a:srcRect l="12975" t="0" r="16670" b="37209"/>
              <a:stretch/>
            </p:blipFill>
            <p:spPr>
              <a:xfrm>
                <a:off x="6768720" y="3978360"/>
                <a:ext cx="990720" cy="25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6692760" y="4341600"/>
              <a:ext cx="1981080" cy="1371600"/>
              <a:chOff x="6692760" y="4341600"/>
              <a:chExt cx="1981080" cy="137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6692760" y="434160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rid Technologi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768720" y="4722840"/>
                <a:ext cx="371520" cy="357120"/>
                <a:chOff x="6768720" y="4722840"/>
                <a:chExt cx="371520" cy="357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768720" y="4722840"/>
                  <a:ext cx="37152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8" name="" descr="Gesellschaft"/>
                <p:cNvPicPr/>
                <p:nvPr/>
              </p:nvPicPr>
              <p:blipFill>
                <a:blip r:embed="rId11"/>
                <a:srcRect l="0" t="0" r="57768" b="47146"/>
                <a:stretch/>
              </p:blipFill>
              <p:spPr>
                <a:xfrm>
                  <a:off x="6816600" y="4751280"/>
                  <a:ext cx="304560" cy="30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9" name="" descr=""/>
              <p:cNvPicPr/>
              <p:nvPr/>
            </p:nvPicPr>
            <p:blipFill>
              <a:blip r:embed="rId12"/>
              <a:srcRect l="4905" t="31773" r="60789" b="0"/>
              <a:stretch/>
            </p:blipFill>
            <p:spPr>
              <a:xfrm>
                <a:off x="7302240" y="4722840"/>
                <a:ext cx="6858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Intel(R)">
                <a:hlinkClick r:id="rId13"/>
              </p:cNvPr>
              <p:cNvPicPr/>
              <p:nvPr/>
            </p:nvPicPr>
            <p:blipFill>
              <a:blip r:embed="rId14"/>
              <a:srcRect l="22614" t="0" r="32180" b="20522"/>
              <a:stretch/>
            </p:blipFill>
            <p:spPr>
              <a:xfrm>
                <a:off x="7454520" y="4951440"/>
                <a:ext cx="53352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15"/>
              <a:srcRect l="1798" t="17956" r="87213" b="75415"/>
              <a:stretch/>
            </p:blipFill>
            <p:spPr>
              <a:xfrm>
                <a:off x="6768720" y="5092560"/>
                <a:ext cx="68580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Oracle Corporation Home Page"/>
              <p:cNvPicPr/>
              <p:nvPr/>
            </p:nvPicPr>
            <p:blipFill>
              <a:blip r:embed="rId16"/>
              <a:stretch/>
            </p:blipFill>
            <p:spPr>
              <a:xfrm>
                <a:off x="7530840" y="5292720"/>
                <a:ext cx="108576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" descr="Universität Karlsruhe"/>
              <p:cNvPicPr/>
              <p:nvPr/>
            </p:nvPicPr>
            <p:blipFill>
              <a:blip r:embed="rId17"/>
              <a:stretch/>
            </p:blipFill>
            <p:spPr>
              <a:xfrm>
                <a:off x="6997320" y="5484600"/>
                <a:ext cx="15242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The IT Innovation Centre"/>
              <p:cNvPicPr/>
              <p:nvPr/>
            </p:nvPicPr>
            <p:blipFill>
              <a:blip r:embed="rId18"/>
              <a:stretch/>
            </p:blipFill>
            <p:spPr>
              <a:xfrm>
                <a:off x="8140320" y="4725720"/>
                <a:ext cx="381240" cy="37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"/>
            <p:cNvSpPr/>
            <p:nvPr/>
          </p:nvSpPr>
          <p:spPr>
            <a:xfrm>
              <a:off x="6692760" y="144612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d 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9"/>
            <a:srcRect l="1963" t="3484" r="86277" b="79112"/>
            <a:stretch/>
          </p:blipFill>
          <p:spPr>
            <a:xfrm>
              <a:off x="7791120" y="2055600"/>
              <a:ext cx="38124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20"/>
            <a:stretch/>
          </p:blipFill>
          <p:spPr>
            <a:xfrm>
              <a:off x="6724440" y="2617560"/>
              <a:ext cx="1035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"/>
            <p:cNvGrpSpPr/>
            <p:nvPr/>
          </p:nvGrpSpPr>
          <p:grpSpPr>
            <a:xfrm>
              <a:off x="6717960" y="2222280"/>
              <a:ext cx="457200" cy="304920"/>
              <a:chOff x="6717960" y="2222280"/>
              <a:chExt cx="457200" cy="304920"/>
            </a:xfrm>
          </p:grpSpPr>
          <p:pic>
            <p:nvPicPr>
              <p:cNvPr id="339" name="" descr=""/>
              <p:cNvPicPr/>
              <p:nvPr/>
            </p:nvPicPr>
            <p:blipFill>
              <a:blip r:embed="rId21"/>
              <a:srcRect l="0" t="0" r="59708" b="0"/>
              <a:stretch/>
            </p:blipFill>
            <p:spPr>
              <a:xfrm>
                <a:off x="6717960" y="2222280"/>
                <a:ext cx="45720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22"/>
              <a:srcRect l="0" t="0" r="59775" b="55595"/>
              <a:stretch/>
            </p:blipFill>
            <p:spPr>
              <a:xfrm>
                <a:off x="6718320" y="2347200"/>
                <a:ext cx="456480" cy="18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1" name="" descr=""/>
            <p:cNvPicPr/>
            <p:nvPr/>
          </p:nvPicPr>
          <p:blipFill>
            <a:blip r:embed="rId23"/>
            <a:srcRect l="8694" t="0" r="64519" b="0"/>
            <a:stretch/>
          </p:blipFill>
          <p:spPr>
            <a:xfrm>
              <a:off x="6733800" y="1824120"/>
              <a:ext cx="384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Audi logo"/>
            <p:cNvPicPr/>
            <p:nvPr/>
          </p:nvPicPr>
          <p:blipFill>
            <a:blip r:embed="rId24"/>
            <a:srcRect l="0" t="33307" r="44472" b="9685"/>
            <a:stretch/>
          </p:blipFill>
          <p:spPr>
            <a:xfrm>
              <a:off x="7213320" y="1807920"/>
              <a:ext cx="469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5"/>
            <a:srcRect l="49983" t="24949" r="34014" b="14181"/>
            <a:stretch/>
          </p:blipFill>
          <p:spPr>
            <a:xfrm>
              <a:off x="8175240" y="2436840"/>
              <a:ext cx="3225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Met Office logo">
              <a:hlinkClick r:id="rId26"/>
            </p:cNvPr>
            <p:cNvPicPr/>
            <p:nvPr/>
          </p:nvPicPr>
          <p:blipFill>
            <a:blip r:embed="rId27"/>
            <a:srcRect l="71172" t="0" r="0" b="0"/>
            <a:stretch/>
          </p:blipFill>
          <p:spPr>
            <a:xfrm>
              <a:off x="8251560" y="2036520"/>
              <a:ext cx="3618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Logo Météo France"/>
            <p:cNvPicPr/>
            <p:nvPr/>
          </p:nvPicPr>
          <p:blipFill>
            <a:blip r:embed="rId28"/>
            <a:stretch/>
          </p:blipFill>
          <p:spPr>
            <a:xfrm>
              <a:off x="7200720" y="2394000"/>
              <a:ext cx="6858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Eumetsat"/>
            <p:cNvPicPr/>
            <p:nvPr/>
          </p:nvPicPr>
          <p:blipFill>
            <a:blip r:embed="rId29"/>
            <a:stretch/>
          </p:blipFill>
          <p:spPr>
            <a:xfrm>
              <a:off x="7202160" y="2246400"/>
              <a:ext cx="555840" cy="1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Conceptual 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5049720" y="1234800"/>
            <a:ext cx="373392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project will develop an infrastructure based on a Virtual Database Service that provides a single view of distributed meteorological databas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 visibility and access to data through a comprehensive discovery service based on metadata developmen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d value to existing data sets by enabling diverse databases to be used as a unique virtual resourc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fer a subscription services and a variety of reliable delivery servi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vide a global access control policy managed by the partners and integrated into their existing security infrastructur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3" name="" descr=""/>
          <p:cNvPicPr/>
          <p:nvPr/>
        </p:nvPicPr>
        <p:blipFill>
          <a:blip r:embed="rId1"/>
          <a:stretch/>
        </p:blipFill>
        <p:spPr>
          <a:xfrm>
            <a:off x="0" y="892080"/>
            <a:ext cx="5530680" cy="4975200"/>
          </a:xfrm>
          <a:prstGeom prst="rect">
            <a:avLst/>
          </a:prstGeom>
          <a:ln w="0">
            <a:noFill/>
          </a:ln>
        </p:spPr>
      </p:pic>
      <p:pic>
        <p:nvPicPr>
          <p:cNvPr id="3224" name="" descr=""/>
          <p:cNvPicPr/>
          <p:nvPr/>
        </p:nvPicPr>
        <p:blipFill>
          <a:blip r:embed="rId2"/>
          <a:stretch/>
        </p:blipFill>
        <p:spPr>
          <a:xfrm>
            <a:off x="7145280" y="388800"/>
            <a:ext cx="148608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demonstrato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5405400" y="1535040"/>
            <a:ext cx="35942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im of the demonstrator is to validate that the Virtual GISC can be built on a distributed and loosely coupled Grid architectu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GSA-DAI and WSI will be used to offer external interfaces to the V-GISC and to federate the partner’s data repositor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Virtual Database Service provides a single view of partners data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7" name="" descr=""/>
          <p:cNvPicPr/>
          <p:nvPr/>
        </p:nvPicPr>
        <p:blipFill>
          <a:blip r:embed="rId1"/>
          <a:stretch/>
        </p:blipFill>
        <p:spPr>
          <a:xfrm>
            <a:off x="7156440" y="304920"/>
            <a:ext cx="1486080" cy="531720"/>
          </a:xfrm>
          <a:prstGeom prst="rect">
            <a:avLst/>
          </a:prstGeom>
          <a:ln w="0">
            <a:noFill/>
          </a:ln>
        </p:spPr>
      </p:pic>
      <p:pic>
        <p:nvPicPr>
          <p:cNvPr id="3228" name="" descr=""/>
          <p:cNvPicPr/>
          <p:nvPr/>
        </p:nvPicPr>
        <p:blipFill>
          <a:blip r:embed="rId2"/>
          <a:stretch/>
        </p:blipFill>
        <p:spPr>
          <a:xfrm>
            <a:off x="347760" y="1309680"/>
            <a:ext cx="5022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Demonstr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14360" y="1223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-GISC node is installed on 3 partner sites and the nodes are interconnected through a dedicated secure communication channel: The Database Communication Lay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31" name="" descr=""/>
          <p:cNvPicPr/>
          <p:nvPr/>
        </p:nvPicPr>
        <p:blipFill>
          <a:blip r:embed="rId1"/>
          <a:stretch/>
        </p:blipFill>
        <p:spPr>
          <a:xfrm>
            <a:off x="933480" y="2403360"/>
            <a:ext cx="7272360" cy="2962440"/>
          </a:xfrm>
          <a:prstGeom prst="rect">
            <a:avLst/>
          </a:prstGeom>
          <a:ln w="0">
            <a:noFill/>
          </a:ln>
        </p:spPr>
      </p:pic>
      <p:pic>
        <p:nvPicPr>
          <p:cNvPr id="3232" name="" descr=""/>
          <p:cNvPicPr/>
          <p:nvPr/>
        </p:nvPicPr>
        <p:blipFill>
          <a:blip r:embed="rId2"/>
          <a:stretch/>
        </p:blipFill>
        <p:spPr>
          <a:xfrm>
            <a:off x="7145280" y="368280"/>
            <a:ext cx="14860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34" name="" descr=""/>
          <p:cNvPicPr/>
          <p:nvPr/>
        </p:nvPicPr>
        <p:blipFill>
          <a:blip r:embed="rId1"/>
          <a:stretch/>
        </p:blipFill>
        <p:spPr>
          <a:xfrm>
            <a:off x="185760" y="992160"/>
            <a:ext cx="86216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7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238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243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248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2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261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2546280" y="687240"/>
            <a:ext cx="3960360" cy="1944360"/>
            <a:chOff x="2546280" y="687240"/>
            <a:chExt cx="3960360" cy="1944360"/>
          </a:xfrm>
        </p:grpSpPr>
        <p:sp>
          <p:nvSpPr>
            <p:cNvPr id="3266" name=""/>
            <p:cNvSpPr/>
            <p:nvPr/>
          </p:nvSpPr>
          <p:spPr>
            <a:xfrm>
              <a:off x="2546280" y="68724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628000" y="119556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628000" y="170208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628000" y="220896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271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2228760" y="5543640"/>
            <a:ext cx="2414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RF/WS-I (G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543040" y="5000760"/>
            <a:ext cx="211464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2E/DAC/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7472520" y="4057560"/>
            <a:ext cx="114300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6515280" y="4514760"/>
            <a:ext cx="10141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-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7615080" y="491508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6500880" y="330048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5500800" y="270036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6657840" y="2685960"/>
            <a:ext cx="1271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8143920" y="267192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442800" y="3271680"/>
            <a:ext cx="11001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SA-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700280" y="3257640"/>
            <a:ext cx="1100160" cy="107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P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471600" y="272880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to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2657520" y="1614600"/>
            <a:ext cx="110016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643120" y="21286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efl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914640" y="1614600"/>
            <a:ext cx="110016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914640" y="21430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5172120" y="162864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5172120" y="210024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243240" y="10000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529160" y="10144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5343480" y="4071960"/>
            <a:ext cx="114300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5443560" y="21420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6872400" y="24300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7772400" y="24300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6286680" y="800280"/>
            <a:ext cx="10141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7358040" y="81432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8186760" y="80028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901960" y="3273480"/>
            <a:ext cx="1100160" cy="107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licatio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312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317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322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2" name="" descr=""/>
          <p:cNvPicPr/>
          <p:nvPr/>
        </p:nvPicPr>
        <p:blipFill>
          <a:blip r:embed="rId1"/>
          <a:stretch/>
        </p:blipFill>
        <p:spPr>
          <a:xfrm>
            <a:off x="6683400" y="0"/>
            <a:ext cx="936720" cy="434880"/>
          </a:xfrm>
          <a:prstGeom prst="rect">
            <a:avLst/>
          </a:prstGeom>
          <a:ln w="0">
            <a:noFill/>
          </a:ln>
        </p:spPr>
      </p:pic>
      <p:pic>
        <p:nvPicPr>
          <p:cNvPr id="3333" name="" descr=""/>
          <p:cNvPicPr/>
          <p:nvPr/>
        </p:nvPicPr>
        <p:blipFill>
          <a:blip r:embed="rId2"/>
          <a:stretch/>
        </p:blipFill>
        <p:spPr>
          <a:xfrm>
            <a:off x="7790040" y="169920"/>
            <a:ext cx="1012680" cy="322200"/>
          </a:xfrm>
          <a:prstGeom prst="rect">
            <a:avLst/>
          </a:prstGeom>
          <a:ln w="0">
            <a:noFill/>
          </a:ln>
        </p:spPr>
      </p:pic>
      <p:pic>
        <p:nvPicPr>
          <p:cNvPr id="3334" name="" descr=""/>
          <p:cNvPicPr/>
          <p:nvPr/>
        </p:nvPicPr>
        <p:blipFill>
          <a:blip r:embed="rId3"/>
          <a:stretch/>
        </p:blipFill>
        <p:spPr>
          <a:xfrm>
            <a:off x="7032600" y="5079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335" name="" descr=""/>
          <p:cNvPicPr/>
          <p:nvPr/>
        </p:nvPicPr>
        <p:blipFill>
          <a:blip r:embed="rId4"/>
          <a:stretch/>
        </p:blipFill>
        <p:spPr>
          <a:xfrm>
            <a:off x="3438360" y="1863720"/>
            <a:ext cx="1014480" cy="420840"/>
          </a:xfrm>
          <a:prstGeom prst="rect">
            <a:avLst/>
          </a:prstGeom>
          <a:ln w="0">
            <a:noFill/>
          </a:ln>
        </p:spPr>
      </p:pic>
      <p:pic>
        <p:nvPicPr>
          <p:cNvPr id="3336" name="" descr=""/>
          <p:cNvPicPr/>
          <p:nvPr/>
        </p:nvPicPr>
        <p:blipFill>
          <a:blip r:embed="rId5"/>
          <a:stretch/>
        </p:blipFill>
        <p:spPr>
          <a:xfrm>
            <a:off x="3228840" y="1344600"/>
            <a:ext cx="1214640" cy="449280"/>
          </a:xfrm>
          <a:prstGeom prst="rect">
            <a:avLst/>
          </a:prstGeom>
          <a:ln w="0">
            <a:noFill/>
          </a:ln>
        </p:spPr>
      </p:pic>
      <p:pic>
        <p:nvPicPr>
          <p:cNvPr id="3337" name="" descr=""/>
          <p:cNvPicPr/>
          <p:nvPr/>
        </p:nvPicPr>
        <p:blipFill>
          <a:blip r:embed="rId6"/>
          <a:stretch/>
        </p:blipFill>
        <p:spPr>
          <a:xfrm>
            <a:off x="4608360" y="987480"/>
            <a:ext cx="990720" cy="1038240"/>
          </a:xfrm>
          <a:prstGeom prst="rect">
            <a:avLst/>
          </a:prstGeom>
          <a:ln w="0">
            <a:noFill/>
          </a:ln>
        </p:spPr>
      </p:pic>
      <p:pic>
        <p:nvPicPr>
          <p:cNvPr id="3338" name="" descr=""/>
          <p:cNvPicPr/>
          <p:nvPr/>
        </p:nvPicPr>
        <p:blipFill>
          <a:blip r:embed="rId7"/>
          <a:stretch/>
        </p:blipFill>
        <p:spPr>
          <a:xfrm>
            <a:off x="6224760" y="4098960"/>
            <a:ext cx="860400" cy="601560"/>
          </a:xfrm>
          <a:prstGeom prst="rect">
            <a:avLst/>
          </a:prstGeom>
          <a:ln w="0">
            <a:noFill/>
          </a:ln>
        </p:spPr>
      </p:pic>
      <p:pic>
        <p:nvPicPr>
          <p:cNvPr id="3339" name="" descr=""/>
          <p:cNvPicPr/>
          <p:nvPr/>
        </p:nvPicPr>
        <p:blipFill>
          <a:blip r:embed="rId8"/>
          <a:stretch/>
        </p:blipFill>
        <p:spPr>
          <a:xfrm>
            <a:off x="7145280" y="4218120"/>
            <a:ext cx="884160" cy="341280"/>
          </a:xfrm>
          <a:prstGeom prst="rect">
            <a:avLst/>
          </a:prstGeom>
          <a:ln w="0">
            <a:noFill/>
          </a:ln>
        </p:spPr>
      </p:pic>
      <p:sp>
        <p:nvSpPr>
          <p:cNvPr id="3340" name=""/>
          <p:cNvSpPr/>
          <p:nvPr/>
        </p:nvSpPr>
        <p:spPr>
          <a:xfrm>
            <a:off x="6100920" y="4672080"/>
            <a:ext cx="1022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U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7216920" y="4627440"/>
            <a:ext cx="1022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1371600" y="2884320"/>
            <a:ext cx="725400" cy="812880"/>
            <a:chOff x="1371600" y="2884320"/>
            <a:chExt cx="725400" cy="812880"/>
          </a:xfrm>
        </p:grpSpPr>
        <p:sp>
          <p:nvSpPr>
            <p:cNvPr id="3343" name=""/>
            <p:cNvSpPr/>
            <p:nvPr/>
          </p:nvSpPr>
          <p:spPr>
            <a:xfrm>
              <a:off x="1371600" y="2884320"/>
              <a:ext cx="725400" cy="81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4" name="" descr=""/>
            <p:cNvPicPr/>
            <p:nvPr/>
          </p:nvPicPr>
          <p:blipFill>
            <a:blip r:embed="rId9"/>
            <a:stretch/>
          </p:blipFill>
          <p:spPr>
            <a:xfrm>
              <a:off x="1443240" y="2934720"/>
              <a:ext cx="6300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5" name=""/>
            <p:cNvSpPr/>
            <p:nvPr/>
          </p:nvSpPr>
          <p:spPr>
            <a:xfrm>
              <a:off x="1427760" y="2944080"/>
              <a:ext cx="4906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6" name=""/>
          <p:cNvSpPr/>
          <p:nvPr/>
        </p:nvSpPr>
        <p:spPr>
          <a:xfrm>
            <a:off x="2374920" y="3603600"/>
            <a:ext cx="10224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G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10"/>
          <a:stretch/>
        </p:blipFill>
        <p:spPr>
          <a:xfrm>
            <a:off x="1298520" y="3710160"/>
            <a:ext cx="1027080" cy="360360"/>
          </a:xfrm>
          <a:prstGeom prst="rect">
            <a:avLst/>
          </a:prstGeom>
          <a:ln w="0">
            <a:noFill/>
          </a:ln>
        </p:spPr>
      </p:pic>
      <p:pic>
        <p:nvPicPr>
          <p:cNvPr id="3348" name="" descr=""/>
          <p:cNvPicPr/>
          <p:nvPr/>
        </p:nvPicPr>
        <p:blipFill>
          <a:blip r:embed="rId11"/>
          <a:stretch/>
        </p:blipFill>
        <p:spPr>
          <a:xfrm>
            <a:off x="2284560" y="2975040"/>
            <a:ext cx="1104840" cy="507960"/>
          </a:xfrm>
          <a:prstGeom prst="rect">
            <a:avLst/>
          </a:prstGeom>
          <a:ln w="0">
            <a:noFill/>
          </a:ln>
        </p:spPr>
      </p:pic>
      <p:pic>
        <p:nvPicPr>
          <p:cNvPr id="3349" name="" descr=""/>
          <p:cNvPicPr/>
          <p:nvPr/>
        </p:nvPicPr>
        <p:blipFill>
          <a:blip r:embed="rId12"/>
          <a:stretch/>
        </p:blipFill>
        <p:spPr>
          <a:xfrm>
            <a:off x="5783400" y="2878200"/>
            <a:ext cx="936360" cy="434880"/>
          </a:xfrm>
          <a:prstGeom prst="rect">
            <a:avLst/>
          </a:prstGeom>
          <a:ln w="0">
            <a:noFill/>
          </a:ln>
        </p:spPr>
      </p:pic>
      <p:pic>
        <p:nvPicPr>
          <p:cNvPr id="3350" name="" descr=""/>
          <p:cNvPicPr/>
          <p:nvPr/>
        </p:nvPicPr>
        <p:blipFill>
          <a:blip r:embed="rId13"/>
          <a:stretch/>
        </p:blipFill>
        <p:spPr>
          <a:xfrm>
            <a:off x="7194600" y="2443320"/>
            <a:ext cx="1008000" cy="326880"/>
          </a:xfrm>
          <a:prstGeom prst="rect">
            <a:avLst/>
          </a:prstGeom>
          <a:ln w="0">
            <a:noFill/>
          </a:ln>
        </p:spPr>
      </p:pic>
      <p:pic>
        <p:nvPicPr>
          <p:cNvPr id="3351" name="" descr=""/>
          <p:cNvPicPr/>
          <p:nvPr/>
        </p:nvPicPr>
        <p:blipFill>
          <a:blip r:embed="rId14"/>
          <a:stretch/>
        </p:blipFill>
        <p:spPr>
          <a:xfrm>
            <a:off x="6910560" y="2932200"/>
            <a:ext cx="1118880" cy="372960"/>
          </a:xfrm>
          <a:prstGeom prst="rect">
            <a:avLst/>
          </a:prstGeom>
          <a:ln w="0">
            <a:noFill/>
          </a:ln>
        </p:spPr>
      </p:pic>
      <p:pic>
        <p:nvPicPr>
          <p:cNvPr id="3352" name="" descr=""/>
          <p:cNvPicPr/>
          <p:nvPr/>
        </p:nvPicPr>
        <p:blipFill>
          <a:blip r:embed="rId15"/>
          <a:stretch/>
        </p:blipFill>
        <p:spPr>
          <a:xfrm>
            <a:off x="5727600" y="2379600"/>
            <a:ext cx="1013040" cy="322200"/>
          </a:xfrm>
          <a:prstGeom prst="rect">
            <a:avLst/>
          </a:prstGeom>
          <a:ln w="0">
            <a:noFill/>
          </a:ln>
        </p:spPr>
      </p:pic>
      <p:pic>
        <p:nvPicPr>
          <p:cNvPr id="3353" name="" descr=""/>
          <p:cNvPicPr/>
          <p:nvPr/>
        </p:nvPicPr>
        <p:blipFill>
          <a:blip r:embed="rId16"/>
          <a:stretch/>
        </p:blipFill>
        <p:spPr>
          <a:xfrm>
            <a:off x="7824960" y="650880"/>
            <a:ext cx="1118880" cy="372960"/>
          </a:xfrm>
          <a:prstGeom prst="rect">
            <a:avLst/>
          </a:prstGeom>
          <a:ln w="0">
            <a:noFill/>
          </a:ln>
        </p:spPr>
      </p:pic>
      <p:pic>
        <p:nvPicPr>
          <p:cNvPr id="3354" name="" descr=""/>
          <p:cNvPicPr/>
          <p:nvPr/>
        </p:nvPicPr>
        <p:blipFill>
          <a:blip r:embed="rId17"/>
          <a:stretch/>
        </p:blipFill>
        <p:spPr>
          <a:xfrm>
            <a:off x="3648240" y="4894200"/>
            <a:ext cx="1008000" cy="327240"/>
          </a:xfrm>
          <a:prstGeom prst="rect">
            <a:avLst/>
          </a:prstGeom>
          <a:ln w="0">
            <a:noFill/>
          </a:ln>
        </p:spPr>
      </p:pic>
      <p:sp>
        <p:nvSpPr>
          <p:cNvPr id="3355" name=""/>
          <p:cNvSpPr/>
          <p:nvPr/>
        </p:nvSpPr>
        <p:spPr>
          <a:xfrm>
            <a:off x="3651120" y="5276880"/>
            <a:ext cx="10224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2E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6" name="" descr=""/>
          <p:cNvPicPr/>
          <p:nvPr/>
        </p:nvPicPr>
        <p:blipFill>
          <a:blip r:embed="rId18"/>
          <a:stretch/>
        </p:blipFill>
        <p:spPr>
          <a:xfrm>
            <a:off x="6505560" y="3544920"/>
            <a:ext cx="10080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360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4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365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9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370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4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479880" y="23328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DAT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718440" y="498600"/>
            <a:ext cx="25689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PEL/DMPL/SCU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796680" y="2154240"/>
            <a:ext cx="14547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GSA-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5961960" y="5208480"/>
            <a:ext cx="29070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UDDI / ebXML / OWL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6572160" y="2525760"/>
            <a:ext cx="17640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SDL / U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5628960" y="3689280"/>
            <a:ext cx="35154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DM / WS –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2119320" y="4729320"/>
            <a:ext cx="241488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-TRUST, WS-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847800" y="5286240"/>
            <a:ext cx="17064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RF / WS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Project 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33440" y="137772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ederated versions of existing commercial Problem Solving Environme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 MSC.SímManager,  ESI Composer, ESI SDM, LMS Tec.Manager, LION SR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rid enabled versions of (commercial) analysis servi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 ESI PAM-CRASH, MSC.Nastran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rid technology servi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ommercial products for Grid support of Workflow, Ontolog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rid enabled version of the WEKA data mining too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ommercial product for Grid enabled model development (LMS.OPTIMU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Contributions to standardisation activit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ndustrial showcases solving complex problem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monstration of the industrial relavance of the project resul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: Distributed knowledge discovery for the NVH behaviour of multiple cars based on the same platform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Objectiv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0040" y="11714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evelop federated versions of problem solving environ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upport of distributed product and process develop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est and enhance grid technology for access to distributed data 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ools for semantic transformation between these data 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rid support for knowledg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romote defacto standard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aise awareness in important industrial secto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MDAT - Over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1828800"/>
            <a:ext cx="266688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r sectors of international economic import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ero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1752480"/>
            <a:ext cx="2895480" cy="2639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ven Grid-technology development are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ributed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87692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solution of industrially relevant complex problems </a:t>
            </a:r>
            <a:br>
              <a:rPr sz="2400"/>
            </a:b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using data-centric Gri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193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manding Application Driv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162160" y="2451240"/>
            <a:ext cx="650232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ulti-disciplinary collaborative configuration design of complex aerospace product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7382" t="4973" r="7382" b="4973"/>
          <a:stretch/>
        </p:blipFill>
        <p:spPr>
          <a:xfrm>
            <a:off x="474840" y="2282760"/>
            <a:ext cx="1415880" cy="1150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rcRect l="6911" t="0" r="7748" b="0"/>
          <a:stretch/>
        </p:blipFill>
        <p:spPr>
          <a:xfrm>
            <a:off x="468360" y="1324080"/>
            <a:ext cx="1511280" cy="749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8200" y="4672080"/>
            <a:ext cx="1347840" cy="520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527040" y="351792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62160" y="1246320"/>
            <a:ext cx="69818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tegration of the product design process chain (CAE/CAD/CAT) including external engineering companies, developers and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3497400"/>
            <a:ext cx="6502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rug discovery environment managing the distribution of both public and commercial bioinformatics data and analysis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4614840"/>
            <a:ext cx="6502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irtual Global Information System Centre supporting the distribution and integration of large scale meteorology data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17600" y="1866960"/>
            <a:ext cx="7007400" cy="406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 rot="5400000">
            <a:off x="-174600" y="2536920"/>
            <a:ext cx="2108160" cy="790560"/>
          </a:xfrm>
          <a:custGeom>
            <a:avLst/>
            <a:gdLst>
              <a:gd name="textAreaLeft" fmla="*/ 0 w 2108160"/>
              <a:gd name="textAreaRight" fmla="*/ 2108520 w 210816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9" y="0"/>
                </a:lnTo>
                <a:lnTo>
                  <a:pt x="21600" y="10800"/>
                </a:lnTo>
                <a:lnTo>
                  <a:pt x="17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313000" y="1836720"/>
            <a:ext cx="4198680" cy="4171680"/>
            <a:chOff x="2313000" y="1836720"/>
            <a:chExt cx="4198680" cy="417168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2313000" y="1836720"/>
              <a:ext cx="4198680" cy="41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3079440" y="4796640"/>
              <a:ext cx="5277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3560400" y="2988720"/>
              <a:ext cx="56880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5"/>
            <a:stretch/>
          </p:blipFill>
          <p:spPr>
            <a:xfrm>
              <a:off x="5515560" y="3563280"/>
              <a:ext cx="32760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4961880" y="4330440"/>
              <a:ext cx="3787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7"/>
            <a:stretch/>
          </p:blipFill>
          <p:spPr>
            <a:xfrm>
              <a:off x="3963240" y="2728800"/>
              <a:ext cx="50868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8"/>
            <a:stretch/>
          </p:blipFill>
          <p:spPr>
            <a:xfrm>
              <a:off x="5170320" y="3180600"/>
              <a:ext cx="323280" cy="3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9"/>
            <a:stretch/>
          </p:blipFill>
          <p:spPr>
            <a:xfrm>
              <a:off x="4863600" y="3670200"/>
              <a:ext cx="604800" cy="37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 flipH="1" rot="16200000">
            <a:off x="-138960" y="4663800"/>
            <a:ext cx="2044800" cy="762120"/>
          </a:xfrm>
          <a:custGeom>
            <a:avLst/>
            <a:gdLst>
              <a:gd name="textAreaLeft" fmla="*/ 360 w 2044800"/>
              <a:gd name="textAreaRight" fmla="*/ 2045520 w 2044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3" y="0"/>
                </a:lnTo>
                <a:lnTo>
                  <a:pt x="21600" y="10800"/>
                </a:lnTo>
                <a:lnTo>
                  <a:pt x="191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4840" y="1197000"/>
            <a:ext cx="8216280" cy="650880"/>
            <a:chOff x="474840" y="1197000"/>
            <a:chExt cx="8216280" cy="650880"/>
          </a:xfrm>
        </p:grpSpPr>
        <p:sp>
          <p:nvSpPr>
            <p:cNvPr id="376" name=""/>
            <p:cNvSpPr/>
            <p:nvPr/>
          </p:nvSpPr>
          <p:spPr>
            <a:xfrm>
              <a:off x="4556160" y="1197000"/>
              <a:ext cx="1727280" cy="65088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10" y="0"/>
                  </a:lnTo>
                  <a:lnTo>
                    <a:pt x="21600" y="10800"/>
                  </a:lnTo>
                  <a:lnTo>
                    <a:pt x="17010" y="21600"/>
                  </a:lnTo>
                  <a:lnTo>
                    <a:pt x="0" y="21600"/>
                  </a:lnTo>
                  <a:lnTo>
                    <a:pt x="459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v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58360" y="1197000"/>
              <a:ext cx="2732760" cy="650880"/>
            </a:xfrm>
            <a:custGeom>
              <a:avLst/>
              <a:gdLst>
                <a:gd name="textAreaLeft" fmla="*/ 0 w 2732760"/>
                <a:gd name="textAreaRight" fmla="*/ 2733120 w 27327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7" y="0"/>
                  </a:lnTo>
                  <a:lnTo>
                    <a:pt x="21600" y="10800"/>
                  </a:lnTo>
                  <a:lnTo>
                    <a:pt x="18607" y="21600"/>
                  </a:lnTo>
                  <a:lnTo>
                    <a:pt x="0" y="21600"/>
                  </a:lnTo>
                  <a:lnTo>
                    <a:pt x="2993" y="10800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st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4840" y="1197000"/>
              <a:ext cx="2185200" cy="650880"/>
            </a:xfrm>
            <a:custGeom>
              <a:avLst/>
              <a:gdLst>
                <a:gd name="textAreaLeft" fmla="*/ 0 w 2185200"/>
                <a:gd name="textAreaRight" fmla="*/ 2185560 w 21852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59" y="0"/>
                  </a:lnTo>
                  <a:lnTo>
                    <a:pt x="21600" y="10800"/>
                  </a:lnTo>
                  <a:lnTo>
                    <a:pt x="1785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M/C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36760" y="1197000"/>
              <a:ext cx="2541960" cy="650880"/>
            </a:xfrm>
            <a:custGeom>
              <a:avLst/>
              <a:gdLst>
                <a:gd name="textAreaLeft" fmla="*/ 0 w 2541960"/>
                <a:gd name="textAreaRight" fmla="*/ 2542320 w 2541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338120" y="1860480"/>
            <a:ext cx="7026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D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rnal Engineering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W Group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rnal System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ystem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quir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E Process Chain expands CAE Networ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57200" y="1255680"/>
            <a:ext cx="6264360" cy="3009600"/>
            <a:chOff x="457200" y="1255680"/>
            <a:chExt cx="6264360" cy="3009600"/>
          </a:xfrm>
        </p:grpSpPr>
        <p:sp>
          <p:nvSpPr>
            <p:cNvPr id="384" name=""/>
            <p:cNvSpPr/>
            <p:nvPr/>
          </p:nvSpPr>
          <p:spPr>
            <a:xfrm>
              <a:off x="457200" y="1255680"/>
              <a:ext cx="6216840" cy="2954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rcRect l="0" t="21174" r="0" b="25911"/>
            <a:stretch/>
          </p:blipFill>
          <p:spPr>
            <a:xfrm>
              <a:off x="4235760" y="1307880"/>
              <a:ext cx="233424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rcRect l="9921" t="0" r="16661" b="0"/>
            <a:stretch/>
          </p:blipFill>
          <p:spPr>
            <a:xfrm>
              <a:off x="536760" y="2314800"/>
              <a:ext cx="1683000" cy="159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"/>
            <a:srcRect l="10709" t="0" r="27780" b="0"/>
            <a:stretch/>
          </p:blipFill>
          <p:spPr>
            <a:xfrm>
              <a:off x="2323440" y="1675080"/>
              <a:ext cx="1504800" cy="170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662040" y="1340280"/>
              <a:ext cx="1111320" cy="473400"/>
              <a:chOff x="662040" y="1340280"/>
              <a:chExt cx="1111320" cy="4734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690840" y="1341720"/>
                <a:ext cx="864360" cy="469440"/>
                <a:chOff x="690840" y="1341720"/>
                <a:chExt cx="864360" cy="469440"/>
              </a:xfrm>
            </p:grpSpPr>
            <p:sp>
              <p:nvSpPr>
                <p:cNvPr id="390" name=""/>
                <p:cNvSpPr/>
                <p:nvPr/>
              </p:nvSpPr>
              <p:spPr>
                <a:xfrm flipH="1" flipV="1">
                  <a:off x="703800" y="1648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704880" y="1648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710640" y="1650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200" y="1617480"/>
                  <a:ext cx="1368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96960" y="1619280"/>
                  <a:ext cx="1368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90840" y="1617120"/>
                  <a:ext cx="1296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914760" y="1787040"/>
                  <a:ext cx="11556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72920" y="162252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440" y="1619640"/>
                  <a:ext cx="360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9760" y="1617840"/>
                  <a:ext cx="4320" cy="10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40600" y="1624680"/>
                  <a:ext cx="720" cy="432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4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43120" y="162504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4680" y="1587960"/>
                  <a:ext cx="26280" cy="36360"/>
                </a:xfrm>
                <a:custGeom>
                  <a:avLst/>
                  <a:gdLst/>
                  <a:ahLst/>
                  <a:rect l="l" t="t" r="r" b="b"/>
                  <a:pathLst>
                    <a:path w="102" h="203">
                      <a:moveTo>
                        <a:pt x="18" y="0"/>
                      </a:moveTo>
                      <a:lnTo>
                        <a:pt x="5" y="33"/>
                      </a:lnTo>
                      <a:lnTo>
                        <a:pt x="0" y="68"/>
                      </a:lnTo>
                      <a:lnTo>
                        <a:pt x="3" y="100"/>
                      </a:lnTo>
                      <a:lnTo>
                        <a:pt x="17" y="133"/>
                      </a:lnTo>
                      <a:lnTo>
                        <a:pt x="38" y="161"/>
                      </a:lnTo>
                      <a:lnTo>
                        <a:pt x="66" y="185"/>
                      </a:lnTo>
                      <a:lnTo>
                        <a:pt x="102" y="2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819000" y="15876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38440" y="1568160"/>
                  <a:ext cx="27720" cy="39240"/>
                </a:xfrm>
                <a:custGeom>
                  <a:avLst/>
                  <a:gdLst/>
                  <a:ahLst/>
                  <a:rect l="l" t="t" r="r" b="b"/>
                  <a:pathLst>
                    <a:path w="107" h="219">
                      <a:moveTo>
                        <a:pt x="22" y="0"/>
                      </a:moveTo>
                      <a:lnTo>
                        <a:pt x="7" y="36"/>
                      </a:lnTo>
                      <a:lnTo>
                        <a:pt x="0" y="72"/>
                      </a:lnTo>
                      <a:lnTo>
                        <a:pt x="5" y="108"/>
                      </a:lnTo>
                      <a:lnTo>
                        <a:pt x="18" y="143"/>
                      </a:lnTo>
                      <a:lnTo>
                        <a:pt x="40" y="173"/>
                      </a:lnTo>
                      <a:lnTo>
                        <a:pt x="71" y="197"/>
                      </a:lnTo>
                      <a:lnTo>
                        <a:pt x="107" y="2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5280" y="1568160"/>
                  <a:ext cx="24120" cy="33120"/>
                </a:xfrm>
                <a:custGeom>
                  <a:avLst/>
                  <a:gdLst/>
                  <a:ahLst/>
                  <a:rect l="l" t="t" r="r" b="b"/>
                  <a:pathLst>
                    <a:path w="93" h="184">
                      <a:moveTo>
                        <a:pt x="21" y="0"/>
                      </a:moveTo>
                      <a:lnTo>
                        <a:pt x="6" y="29"/>
                      </a:lnTo>
                      <a:lnTo>
                        <a:pt x="0" y="62"/>
                      </a:lnTo>
                      <a:lnTo>
                        <a:pt x="3" y="93"/>
                      </a:lnTo>
                      <a:lnTo>
                        <a:pt x="14" y="125"/>
                      </a:lnTo>
                      <a:lnTo>
                        <a:pt x="34" y="150"/>
                      </a:lnTo>
                      <a:lnTo>
                        <a:pt x="62" y="169"/>
                      </a:lnTo>
                      <a:lnTo>
                        <a:pt x="93" y="18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9720" y="158652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20800" y="158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23480" y="13590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1" y="3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24560" y="13590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022400" y="1360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024200" y="13590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957600" y="176832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915840" y="1754640"/>
                  <a:ext cx="385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992520" y="177120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958680" y="176004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14320" y="161172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106" h="97">
                      <a:moveTo>
                        <a:pt x="0" y="0"/>
                      </a:moveTo>
                      <a:lnTo>
                        <a:pt x="12" y="28"/>
                      </a:lnTo>
                      <a:lnTo>
                        <a:pt x="35" y="57"/>
                      </a:lnTo>
                      <a:lnTo>
                        <a:pt x="66" y="81"/>
                      </a:lnTo>
                      <a:lnTo>
                        <a:pt x="106" y="9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1680" y="1629360"/>
                  <a:ext cx="90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89920" y="166500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0" y="28"/>
                      </a:moveTo>
                      <a:lnTo>
                        <a:pt x="4" y="1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66160" y="16016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3" y="0"/>
                      </a:move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820800" y="1360080"/>
                  <a:ext cx="20232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844200" y="1364040"/>
                  <a:ext cx="18216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850680" y="1364040"/>
                  <a:ext cx="18252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96200" y="134568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7"/>
                      </a:moveTo>
                      <a:lnTo>
                        <a:pt x="5" y="9"/>
                      </a:lnTo>
                      <a:lnTo>
                        <a:pt x="11" y="4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0800" y="1568160"/>
                  <a:ext cx="2304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820440" y="158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996120" y="1763280"/>
                  <a:ext cx="3852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flipV="1">
                  <a:off x="919440" y="1746720"/>
                  <a:ext cx="3780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18720" y="16635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4560" y="1526760"/>
                  <a:ext cx="18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51400" y="1519200"/>
                  <a:ext cx="9720" cy="21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57160" y="1517040"/>
                  <a:ext cx="864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70840" y="1517760"/>
                  <a:ext cx="360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72280" y="1517760"/>
                  <a:ext cx="288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85240" y="1595520"/>
                  <a:ext cx="2880" cy="936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3" y="53"/>
                      </a:moveTo>
                      <a:lnTo>
                        <a:pt x="0" y="40"/>
                      </a:lnTo>
                      <a:lnTo>
                        <a:pt x="2" y="27"/>
                      </a:lnTo>
                      <a:lnTo>
                        <a:pt x="3" y="13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87040" y="159624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2" y="52"/>
                      </a:moveTo>
                      <a:lnTo>
                        <a:pt x="0" y="38"/>
                      </a:lnTo>
                      <a:lnTo>
                        <a:pt x="0" y="25"/>
                      </a:lnTo>
                      <a:lnTo>
                        <a:pt x="3" y="1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889560" y="1669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936000" y="16981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918720" y="1655640"/>
                  <a:ext cx="360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930960" y="160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928800" y="160128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88480" y="158688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68" h="79">
                      <a:moveTo>
                        <a:pt x="0" y="48"/>
                      </a:moveTo>
                      <a:lnTo>
                        <a:pt x="14" y="32"/>
                      </a:lnTo>
                      <a:lnTo>
                        <a:pt x="32" y="17"/>
                      </a:lnTo>
                      <a:lnTo>
                        <a:pt x="53" y="7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122" y="4"/>
                      </a:lnTo>
                      <a:lnTo>
                        <a:pt x="140" y="14"/>
                      </a:lnTo>
                      <a:lnTo>
                        <a:pt x="155" y="27"/>
                      </a:lnTo>
                      <a:lnTo>
                        <a:pt x="165" y="42"/>
                      </a:lnTo>
                      <a:lnTo>
                        <a:pt x="168" y="60"/>
                      </a:lnTo>
                      <a:lnTo>
                        <a:pt x="167" y="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89560" y="1587960"/>
                  <a:ext cx="41400" cy="12960"/>
                </a:xfrm>
                <a:custGeom>
                  <a:avLst/>
                  <a:gdLst/>
                  <a:ahLst/>
                  <a:rect l="l" t="t" r="r" b="b"/>
                  <a:pathLst>
                    <a:path w="161" h="74">
                      <a:moveTo>
                        <a:pt x="0" y="46"/>
                      </a:moveTo>
                      <a:lnTo>
                        <a:pt x="13" y="30"/>
                      </a:lnTo>
                      <a:lnTo>
                        <a:pt x="29" y="17"/>
                      </a:lnTo>
                      <a:lnTo>
                        <a:pt x="51" y="7"/>
                      </a:lnTo>
                      <a:lnTo>
                        <a:pt x="72" y="2"/>
                      </a:lnTo>
                      <a:lnTo>
                        <a:pt x="95" y="0"/>
                      </a:lnTo>
                      <a:lnTo>
                        <a:pt x="117" y="4"/>
                      </a:lnTo>
                      <a:lnTo>
                        <a:pt x="135" y="12"/>
                      </a:lnTo>
                      <a:lnTo>
                        <a:pt x="148" y="25"/>
                      </a:lnTo>
                      <a:lnTo>
                        <a:pt x="158" y="40"/>
                      </a:lnTo>
                      <a:lnTo>
                        <a:pt x="161" y="56"/>
                      </a:lnTo>
                      <a:lnTo>
                        <a:pt x="159" y="7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843480" y="1607760"/>
                  <a:ext cx="2232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819000" y="1587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936000" y="1699920"/>
                  <a:ext cx="13896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935640" y="169776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90640" y="1674000"/>
                  <a:ext cx="45000" cy="2556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174" y="145"/>
                      </a:moveTo>
                      <a:lnTo>
                        <a:pt x="141" y="132"/>
                      </a:lnTo>
                      <a:lnTo>
                        <a:pt x="108" y="116"/>
                      </a:lnTo>
                      <a:lnTo>
                        <a:pt x="79" y="96"/>
                      </a:lnTo>
                      <a:lnTo>
                        <a:pt x="51" y="73"/>
                      </a:lnTo>
                      <a:lnTo>
                        <a:pt x="28" y="48"/>
                      </a:lnTo>
                      <a:lnTo>
                        <a:pt x="1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92440" y="1665720"/>
                  <a:ext cx="43200" cy="32040"/>
                </a:xfrm>
                <a:custGeom>
                  <a:avLst/>
                  <a:gdLst/>
                  <a:ahLst/>
                  <a:rect l="l" t="t" r="r" b="b"/>
                  <a:pathLst>
                    <a:path w="168" h="180">
                      <a:moveTo>
                        <a:pt x="168" y="180"/>
                      </a:moveTo>
                      <a:lnTo>
                        <a:pt x="137" y="168"/>
                      </a:lnTo>
                      <a:lnTo>
                        <a:pt x="107" y="152"/>
                      </a:lnTo>
                      <a:lnTo>
                        <a:pt x="77" y="132"/>
                      </a:lnTo>
                      <a:lnTo>
                        <a:pt x="53" y="110"/>
                      </a:lnTo>
                      <a:lnTo>
                        <a:pt x="30" y="87"/>
                      </a:lnTo>
                      <a:lnTo>
                        <a:pt x="15" y="64"/>
                      </a:lnTo>
                      <a:lnTo>
                        <a:pt x="3" y="41"/>
                      </a:lnTo>
                      <a:lnTo>
                        <a:pt x="0" y="22"/>
                      </a:lnTo>
                      <a:lnTo>
                        <a:pt x="3" y="5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890640" y="1609560"/>
                  <a:ext cx="28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87400" y="1605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19" y="26"/>
                      </a:moveTo>
                      <a:lnTo>
                        <a:pt x="16" y="21"/>
                      </a:lnTo>
                      <a:lnTo>
                        <a:pt x="6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86320" y="160488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5" y="25"/>
                      </a:moveTo>
                      <a:lnTo>
                        <a:pt x="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>
                  <a:off x="915840" y="161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921960" y="1474200"/>
                  <a:ext cx="161640" cy="18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926280" y="160416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893160" y="1663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286280" y="1679040"/>
                  <a:ext cx="74160" cy="19080"/>
                </a:xfrm>
                <a:custGeom>
                  <a:avLst/>
                  <a:gdLst/>
                  <a:ahLst/>
                  <a:rect l="l" t="t" r="r" b="b"/>
                  <a:pathLst>
                    <a:path w="288" h="107">
                      <a:moveTo>
                        <a:pt x="0" y="104"/>
                      </a:moveTo>
                      <a:lnTo>
                        <a:pt x="45" y="107"/>
                      </a:lnTo>
                      <a:lnTo>
                        <a:pt x="89" y="106"/>
                      </a:lnTo>
                      <a:lnTo>
                        <a:pt x="137" y="96"/>
                      </a:lnTo>
                      <a:lnTo>
                        <a:pt x="181" y="79"/>
                      </a:lnTo>
                      <a:lnTo>
                        <a:pt x="222" y="58"/>
                      </a:lnTo>
                      <a:lnTo>
                        <a:pt x="259" y="30"/>
                      </a:lnTo>
                      <a:lnTo>
                        <a:pt x="28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02120" y="1705680"/>
                  <a:ext cx="69480" cy="18360"/>
                </a:xfrm>
                <a:custGeom>
                  <a:avLst/>
                  <a:gdLst/>
                  <a:ahLst/>
                  <a:rect l="l" t="t" r="r" b="b"/>
                  <a:pathLst>
                    <a:path w="272" h="103">
                      <a:moveTo>
                        <a:pt x="0" y="97"/>
                      </a:moveTo>
                      <a:lnTo>
                        <a:pt x="43" y="103"/>
                      </a:lnTo>
                      <a:lnTo>
                        <a:pt x="87" y="102"/>
                      </a:lnTo>
                      <a:lnTo>
                        <a:pt x="130" y="95"/>
                      </a:lnTo>
                      <a:lnTo>
                        <a:pt x="171" y="79"/>
                      </a:lnTo>
                      <a:lnTo>
                        <a:pt x="211" y="57"/>
                      </a:lnTo>
                      <a:lnTo>
                        <a:pt x="244" y="31"/>
                      </a:lnTo>
                      <a:lnTo>
                        <a:pt x="27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302120" y="1708560"/>
                  <a:ext cx="73440" cy="20520"/>
                </a:xfrm>
                <a:custGeom>
                  <a:avLst/>
                  <a:gdLst/>
                  <a:ahLst/>
                  <a:rect l="l" t="t" r="r" b="b"/>
                  <a:pathLst>
                    <a:path w="286" h="115">
                      <a:moveTo>
                        <a:pt x="0" y="104"/>
                      </a:moveTo>
                      <a:lnTo>
                        <a:pt x="44" y="115"/>
                      </a:lnTo>
                      <a:lnTo>
                        <a:pt x="91" y="115"/>
                      </a:lnTo>
                      <a:lnTo>
                        <a:pt x="138" y="107"/>
                      </a:lnTo>
                      <a:lnTo>
                        <a:pt x="184" y="90"/>
                      </a:lnTo>
                      <a:lnTo>
                        <a:pt x="225" y="67"/>
                      </a:lnTo>
                      <a:lnTo>
                        <a:pt x="260" y="36"/>
                      </a:lnTo>
                      <a:lnTo>
                        <a:pt x="28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9600" y="172260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0" y="2"/>
                      </a:move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41680" y="162936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2"/>
                      </a:move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18720" y="166356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1144080" y="1693800"/>
                  <a:ext cx="15552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843480" y="1629360"/>
                  <a:ext cx="59040" cy="12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1135080" y="1687320"/>
                  <a:ext cx="16416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843120" y="1625040"/>
                  <a:ext cx="637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99600" y="172692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0" y="2"/>
                      </a:move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059120" y="1693440"/>
                  <a:ext cx="45000" cy="29160"/>
                </a:xfrm>
                <a:custGeom>
                  <a:avLst/>
                  <a:gdLst/>
                  <a:ahLst/>
                  <a:rect l="l" t="t" r="r" b="b"/>
                  <a:pathLst>
                    <a:path w="176" h="165">
                      <a:moveTo>
                        <a:pt x="0" y="0"/>
                      </a:moveTo>
                      <a:lnTo>
                        <a:pt x="31" y="12"/>
                      </a:lnTo>
                      <a:lnTo>
                        <a:pt x="64" y="28"/>
                      </a:lnTo>
                      <a:lnTo>
                        <a:pt x="95" y="48"/>
                      </a:lnTo>
                      <a:lnTo>
                        <a:pt x="122" y="71"/>
                      </a:lnTo>
                      <a:lnTo>
                        <a:pt x="147" y="96"/>
                      </a:lnTo>
                      <a:lnTo>
                        <a:pt x="163" y="120"/>
                      </a:lnTo>
                      <a:lnTo>
                        <a:pt x="174" y="145"/>
                      </a:lnTo>
                      <a:lnTo>
                        <a:pt x="176" y="16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40960" y="162468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059120" y="1693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936000" y="1697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1133280" y="1467720"/>
                  <a:ext cx="10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936000" y="1672200"/>
                  <a:ext cx="2304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916560" y="160668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40" h="28">
                      <a:moveTo>
                        <a:pt x="40" y="0"/>
                      </a:moveTo>
                      <a:lnTo>
                        <a:pt x="28" y="12"/>
                      </a:lnTo>
                      <a:lnTo>
                        <a:pt x="15" y="2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89880" y="1675440"/>
                  <a:ext cx="62280" cy="17280"/>
                </a:xfrm>
                <a:custGeom>
                  <a:avLst/>
                  <a:gdLst/>
                  <a:ahLst/>
                  <a:rect l="l" t="t" r="r" b="b"/>
                  <a:pathLst>
                    <a:path w="244" h="96">
                      <a:moveTo>
                        <a:pt x="0" y="89"/>
                      </a:moveTo>
                      <a:lnTo>
                        <a:pt x="37" y="96"/>
                      </a:lnTo>
                      <a:lnTo>
                        <a:pt x="76" y="96"/>
                      </a:lnTo>
                      <a:lnTo>
                        <a:pt x="116" y="89"/>
                      </a:lnTo>
                      <a:lnTo>
                        <a:pt x="157" y="75"/>
                      </a:lnTo>
                      <a:lnTo>
                        <a:pt x="191" y="55"/>
                      </a:lnTo>
                      <a:lnTo>
                        <a:pt x="221" y="28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66160" y="1607760"/>
                  <a:ext cx="586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131120" y="1664280"/>
                  <a:ext cx="154800" cy="33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916560" y="1611720"/>
                  <a:ext cx="144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131120" y="1657440"/>
                  <a:ext cx="158400" cy="33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69400" y="1601640"/>
                  <a:ext cx="169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>
                  <a:off x="1112040" y="1724760"/>
                  <a:ext cx="50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74960" y="172764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1058400" y="1685160"/>
                  <a:ext cx="36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1141200" y="1469880"/>
                  <a:ext cx="972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1169640" y="1471680"/>
                  <a:ext cx="111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1178640" y="1472760"/>
                  <a:ext cx="104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93520" y="1611720"/>
                  <a:ext cx="23040" cy="1800"/>
                </a:xfrm>
                <a:custGeom>
                  <a:avLst/>
                  <a:gdLst/>
                  <a:ahLst/>
                  <a:rect l="l" t="t" r="r" b="b"/>
                  <a:pathLst>
                    <a:path w="89" h="13">
                      <a:moveTo>
                        <a:pt x="89" y="0"/>
                      </a:moveTo>
                      <a:lnTo>
                        <a:pt x="74" y="7"/>
                      </a:lnTo>
                      <a:lnTo>
                        <a:pt x="56" y="10"/>
                      </a:lnTo>
                      <a:lnTo>
                        <a:pt x="38" y="13"/>
                      </a:lnTo>
                      <a:lnTo>
                        <a:pt x="18" y="1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526040" y="1440000"/>
                  <a:ext cx="9000" cy="10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0" y="5"/>
                      </a:moveTo>
                      <a:lnTo>
                        <a:pt x="9" y="1"/>
                      </a:lnTo>
                      <a:lnTo>
                        <a:pt x="23" y="0"/>
                      </a:lnTo>
                      <a:lnTo>
                        <a:pt x="3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526760" y="1441440"/>
                  <a:ext cx="7920" cy="360"/>
                </a:xfrm>
                <a:custGeom>
                  <a:avLst/>
                  <a:gdLst/>
                  <a:ahLst/>
                  <a:rect l="l" t="t" r="r" b="b"/>
                  <a:pathLst>
                    <a:path w="33" h="4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33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406520" y="147312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352160" y="16754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1" y="12"/>
                      </a:lnTo>
                      <a:lnTo>
                        <a:pt x="31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00880" y="1722600"/>
                  <a:ext cx="3600" cy="576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15" y="0"/>
                      </a:moveTo>
                      <a:lnTo>
                        <a:pt x="12" y="2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75320" y="17276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1062000" y="1591560"/>
                  <a:ext cx="83880" cy="9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93520" y="1662120"/>
                  <a:ext cx="25200" cy="1440"/>
                </a:xfrm>
                <a:custGeom>
                  <a:avLst/>
                  <a:gdLst/>
                  <a:ahLst/>
                  <a:rect l="l" t="t" r="r" b="b"/>
                  <a:pathLst>
                    <a:path w="99" h="12">
                      <a:moveTo>
                        <a:pt x="0" y="12"/>
                      </a:moveTo>
                      <a:lnTo>
                        <a:pt x="18" y="4"/>
                      </a:lnTo>
                      <a:lnTo>
                        <a:pt x="41" y="0"/>
                      </a:lnTo>
                      <a:lnTo>
                        <a:pt x="68" y="2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1189440" y="1588320"/>
                  <a:ext cx="37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44200" y="1567800"/>
                  <a:ext cx="6480" cy="360"/>
                </a:xfrm>
                <a:custGeom>
                  <a:avLst/>
                  <a:gdLst/>
                  <a:ahLst/>
                  <a:rect l="l" t="t" r="r" b="b"/>
                  <a:pathLst>
                    <a:path w="26" h="2">
                      <a:moveTo>
                        <a:pt x="26" y="2"/>
                      </a:moveTo>
                      <a:lnTo>
                        <a:pt x="16" y="0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352160" y="1628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8"/>
                      </a:moveTo>
                      <a:lnTo>
                        <a:pt x="5" y="7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327320" y="1620000"/>
                  <a:ext cx="8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328400" y="1617840"/>
                  <a:ext cx="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187280" y="1584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89440" y="1586520"/>
                  <a:ext cx="360" cy="216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2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1186920" y="1584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1075680" y="1708200"/>
                  <a:ext cx="1692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1187280" y="1492920"/>
                  <a:ext cx="97560" cy="9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1206360" y="1592640"/>
                  <a:ext cx="1476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1208880" y="1592640"/>
                  <a:ext cx="158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1199880" y="15908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186200" y="15840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6320" y="16048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41360" y="1609920"/>
                  <a:ext cx="1800" cy="10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5" y="3"/>
                      </a:lnTo>
                      <a:lnTo>
                        <a:pt x="8" y="5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324800" y="16189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5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325880" y="161676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226880" y="1591560"/>
                  <a:ext cx="67680" cy="15120"/>
                </a:xfrm>
                <a:custGeom>
                  <a:avLst/>
                  <a:gdLst/>
                  <a:ahLst/>
                  <a:rect l="l" t="t" r="r" b="b"/>
                  <a:pathLst>
                    <a:path w="265" h="85">
                      <a:moveTo>
                        <a:pt x="265" y="85"/>
                      </a:moveTo>
                      <a:lnTo>
                        <a:pt x="138" y="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189440" y="1586520"/>
                  <a:ext cx="106920" cy="18000"/>
                </a:xfrm>
                <a:custGeom>
                  <a:avLst/>
                  <a:gdLst/>
                  <a:ahLst/>
                  <a:rect l="l" t="t" r="r" b="b"/>
                  <a:pathLst>
                    <a:path w="415" h="102">
                      <a:moveTo>
                        <a:pt x="415" y="102"/>
                      </a:moveTo>
                      <a:lnTo>
                        <a:pt x="286" y="51"/>
                      </a:lnTo>
                      <a:lnTo>
                        <a:pt x="14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1294560" y="1606680"/>
                  <a:ext cx="298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1296000" y="1604880"/>
                  <a:ext cx="291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371600" y="170568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3" y="13"/>
                      </a:lnTo>
                      <a:lnTo>
                        <a:pt x="14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373760" y="1704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0" y="14"/>
                      </a:lnTo>
                      <a:lnTo>
                        <a:pt x="13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1023480" y="1359720"/>
                  <a:ext cx="28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85120" y="158688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9" y="9"/>
                      </a:lnTo>
                      <a:lnTo>
                        <a:pt x="17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7280" y="158544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1285920" y="1697400"/>
                  <a:ext cx="13320" cy="24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>
                  <a:off x="1185120" y="1599840"/>
                  <a:ext cx="2880" cy="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1188360" y="1600560"/>
                  <a:ext cx="288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1189440" y="1588320"/>
                  <a:ext cx="504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076040" y="1725120"/>
                  <a:ext cx="26280" cy="3600"/>
                </a:xfrm>
                <a:custGeom>
                  <a:avLst/>
                  <a:gdLst/>
                  <a:ahLst/>
                  <a:rect l="l" t="t" r="r" b="b"/>
                  <a:pathLst>
                    <a:path w="102" h="22">
                      <a:moveTo>
                        <a:pt x="102" y="0"/>
                      </a:moveTo>
                      <a:lnTo>
                        <a:pt x="94" y="10"/>
                      </a:lnTo>
                      <a:lnTo>
                        <a:pt x="77" y="18"/>
                      </a:lnTo>
                      <a:lnTo>
                        <a:pt x="56" y="22"/>
                      </a:lnTo>
                      <a:lnTo>
                        <a:pt x="29" y="2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547640" y="1460880"/>
                  <a:ext cx="5400" cy="216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3" y="7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1544400" y="146340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1546920" y="1463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541520" y="146340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1538640" y="14637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5000" y="1558080"/>
                  <a:ext cx="244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397520" y="1552680"/>
                  <a:ext cx="23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95360" y="15512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7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393920" y="15541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392480" y="155700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1301760" y="1727280"/>
                  <a:ext cx="24120" cy="55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324800" y="1616760"/>
                  <a:ext cx="720" cy="21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83040" y="1485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298880" y="172260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1" h="25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515960" y="143496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14"/>
                      </a:moveTo>
                      <a:lnTo>
                        <a:pt x="7" y="8"/>
                      </a:lnTo>
                      <a:lnTo>
                        <a:pt x="13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1554840" y="1459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1553400" y="14601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074960" y="1728720"/>
                  <a:ext cx="25560" cy="216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98" y="0"/>
                      </a:moveTo>
                      <a:lnTo>
                        <a:pt x="82" y="8"/>
                      </a:lnTo>
                      <a:lnTo>
                        <a:pt x="59" y="13"/>
                      </a:lnTo>
                      <a:lnTo>
                        <a:pt x="31" y="11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26760" y="1464480"/>
                  <a:ext cx="12240" cy="720"/>
                </a:xfrm>
                <a:custGeom>
                  <a:avLst/>
                  <a:gdLst/>
                  <a:ahLst/>
                  <a:rect l="l" t="t" r="r" b="b"/>
                  <a:pathLst>
                    <a:path w="50" h="3">
                      <a:moveTo>
                        <a:pt x="50" y="0"/>
                      </a:moveTo>
                      <a:lnTo>
                        <a:pt x="23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407240" y="1530720"/>
                  <a:ext cx="223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409760" y="1525320"/>
                  <a:ext cx="223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56960" y="1474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06160" y="15271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407240" y="152424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6" y="7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83400" y="1493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097640" y="1341720"/>
                  <a:ext cx="28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74400" y="1476720"/>
                  <a:ext cx="8640" cy="10080"/>
                </a:xfrm>
                <a:custGeom>
                  <a:avLst/>
                  <a:gdLst/>
                  <a:ahLst/>
                  <a:rect l="l" t="t" r="r" b="b"/>
                  <a:pathLst>
                    <a:path w="35" h="58">
                      <a:moveTo>
                        <a:pt x="0" y="0"/>
                      </a:moveTo>
                      <a:lnTo>
                        <a:pt x="12" y="27"/>
                      </a:lnTo>
                      <a:lnTo>
                        <a:pt x="35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275480" y="1473480"/>
                  <a:ext cx="9000" cy="1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0" y="0"/>
                      </a:moveTo>
                      <a:lnTo>
                        <a:pt x="13" y="34"/>
                      </a:lnTo>
                      <a:lnTo>
                        <a:pt x="35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360440" y="1679040"/>
                  <a:ext cx="1332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343520" y="1611360"/>
                  <a:ext cx="86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375920" y="1708560"/>
                  <a:ext cx="24480" cy="55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>
                  <a:off x="1324440" y="1618560"/>
                  <a:ext cx="828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>
                  <a:off x="1326960" y="1620000"/>
                  <a:ext cx="828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283040" y="148716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27320" y="1617840"/>
                  <a:ext cx="720" cy="180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301760" y="172260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409760" y="1477080"/>
                  <a:ext cx="2880" cy="16920"/>
                </a:xfrm>
                <a:custGeom>
                  <a:avLst/>
                  <a:gdLst/>
                  <a:ahLst/>
                  <a:rect l="l" t="t" r="r" b="b"/>
                  <a:pathLst>
                    <a:path w="11" h="95">
                      <a:moveTo>
                        <a:pt x="0" y="95"/>
                      </a:moveTo>
                      <a:lnTo>
                        <a:pt x="8" y="66"/>
                      </a:lnTo>
                      <a:lnTo>
                        <a:pt x="11" y="36"/>
                      </a:lnTo>
                      <a:lnTo>
                        <a:pt x="6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416600" y="1491120"/>
                  <a:ext cx="2520" cy="17280"/>
                </a:xfrm>
                <a:custGeom>
                  <a:avLst/>
                  <a:gdLst/>
                  <a:ahLst/>
                  <a:rect l="l" t="t" r="r" b="b"/>
                  <a:pathLst>
                    <a:path w="12" h="96">
                      <a:moveTo>
                        <a:pt x="0" y="96"/>
                      </a:moveTo>
                      <a:lnTo>
                        <a:pt x="10" y="66"/>
                      </a:lnTo>
                      <a:lnTo>
                        <a:pt x="12" y="35"/>
                      </a:lnTo>
                      <a:lnTo>
                        <a:pt x="7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407240" y="1477800"/>
                  <a:ext cx="2520" cy="15480"/>
                </a:xfrm>
                <a:custGeom>
                  <a:avLst/>
                  <a:gdLst/>
                  <a:ahLst/>
                  <a:rect l="l" t="t" r="r" b="b"/>
                  <a:pathLst>
                    <a:path w="10" h="86">
                      <a:moveTo>
                        <a:pt x="0" y="86"/>
                      </a:moveTo>
                      <a:lnTo>
                        <a:pt x="8" y="58"/>
                      </a:lnTo>
                      <a:lnTo>
                        <a:pt x="10" y="28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1395360" y="1530000"/>
                  <a:ext cx="9000" cy="2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1397520" y="1530720"/>
                  <a:ext cx="9720" cy="21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96440" y="1552680"/>
                  <a:ext cx="720" cy="216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15"/>
                      </a:move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393920" y="155124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0" y="14"/>
                      </a:moveTo>
                      <a:lnTo>
                        <a:pt x="2" y="11"/>
                      </a:lnTo>
                      <a:lnTo>
                        <a:pt x="3" y="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04720" y="1527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4" y="5"/>
                      </a:lnTo>
                      <a:lnTo>
                        <a:pt x="2" y="12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407240" y="15278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392480" y="155412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17"/>
                      </a:move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395000" y="15552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0" y="17"/>
                      </a:moveTo>
                      <a:lnTo>
                        <a:pt x="2" y="12"/>
                      </a:lnTo>
                      <a:lnTo>
                        <a:pt x="5" y="5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406160" y="152424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6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08680" y="152532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5" y="0"/>
                      </a:moveTo>
                      <a:lnTo>
                        <a:pt x="3" y="5"/>
                      </a:lnTo>
                      <a:lnTo>
                        <a:pt x="1" y="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1341000" y="1535760"/>
                  <a:ext cx="42120" cy="73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396800" y="1493280"/>
                  <a:ext cx="1008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343160" y="1537200"/>
                  <a:ext cx="42120" cy="73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1399320" y="1494360"/>
                  <a:ext cx="1008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1329480" y="1634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1406880" y="1508400"/>
                  <a:ext cx="9000" cy="15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1409400" y="1509120"/>
                  <a:ext cx="900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1351800" y="1557000"/>
                  <a:ext cx="39960" cy="71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1353600" y="1558080"/>
                  <a:ext cx="406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1383480" y="1511640"/>
                  <a:ext cx="12960" cy="2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1385640" y="1513080"/>
                  <a:ext cx="13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34880" y="160992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25" h="51">
                      <a:moveTo>
                        <a:pt x="25" y="0"/>
                      </a:moveTo>
                      <a:lnTo>
                        <a:pt x="14" y="26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335960" y="161136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0"/>
                      </a:moveTo>
                      <a:lnTo>
                        <a:pt x="17" y="29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344240" y="16286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29" y="0"/>
                      </a:moveTo>
                      <a:lnTo>
                        <a:pt x="16" y="3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662040" y="1340280"/>
                <a:ext cx="1100880" cy="473400"/>
                <a:chOff x="662040" y="1340280"/>
                <a:chExt cx="1100880" cy="4734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346400" y="16304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29" y="0"/>
                      </a:moveTo>
                      <a:lnTo>
                        <a:pt x="16" y="28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286280" y="1691640"/>
                  <a:ext cx="3600" cy="64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3" y="0"/>
                      </a:moveTo>
                      <a:lnTo>
                        <a:pt x="7" y="10"/>
                      </a:lnTo>
                      <a:lnTo>
                        <a:pt x="3" y="2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14880" y="144144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43" h="36">
                      <a:moveTo>
                        <a:pt x="0" y="36"/>
                      </a:moveTo>
                      <a:lnTo>
                        <a:pt x="8" y="26"/>
                      </a:lnTo>
                      <a:lnTo>
                        <a:pt x="18" y="16"/>
                      </a:lnTo>
                      <a:lnTo>
                        <a:pt x="29" y="6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516320" y="1442160"/>
                  <a:ext cx="10080" cy="6480"/>
                </a:xfrm>
                <a:custGeom>
                  <a:avLst/>
                  <a:gdLst/>
                  <a:ahLst/>
                  <a:rect l="l" t="t" r="r" b="b"/>
                  <a:pathLst>
                    <a:path w="39" h="34">
                      <a:moveTo>
                        <a:pt x="0" y="34"/>
                      </a:moveTo>
                      <a:lnTo>
                        <a:pt x="8" y="24"/>
                      </a:lnTo>
                      <a:lnTo>
                        <a:pt x="16" y="14"/>
                      </a:lnTo>
                      <a:lnTo>
                        <a:pt x="28" y="6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143720" y="1468080"/>
                  <a:ext cx="19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283040" y="1487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284840" y="1485720"/>
                  <a:ext cx="2520" cy="7560"/>
                </a:xfrm>
                <a:custGeom>
                  <a:avLst/>
                  <a:gdLst/>
                  <a:ahLst/>
                  <a:rect l="l" t="t" r="r" b="b"/>
                  <a:pathLst>
                    <a:path w="9" h="45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9" y="22"/>
                      </a:lnTo>
                      <a:lnTo>
                        <a:pt x="8" y="33"/>
                      </a:lnTo>
                      <a:lnTo>
                        <a:pt x="1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455120" y="1455480"/>
                  <a:ext cx="5400" cy="37080"/>
                </a:xfrm>
                <a:custGeom>
                  <a:avLst/>
                  <a:gdLst/>
                  <a:ahLst/>
                  <a:rect l="l" t="t" r="r" b="b"/>
                  <a:pathLst>
                    <a:path w="23" h="209">
                      <a:moveTo>
                        <a:pt x="0" y="209"/>
                      </a:moveTo>
                      <a:lnTo>
                        <a:pt x="18" y="143"/>
                      </a:lnTo>
                      <a:lnTo>
                        <a:pt x="23" y="78"/>
                      </a:lnTo>
                      <a:lnTo>
                        <a:pt x="13" y="1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458000" y="1458720"/>
                  <a:ext cx="5400" cy="34920"/>
                </a:xfrm>
                <a:custGeom>
                  <a:avLst/>
                  <a:gdLst/>
                  <a:ahLst/>
                  <a:rect l="l" t="t" r="r" b="b"/>
                  <a:pathLst>
                    <a:path w="23" h="198">
                      <a:moveTo>
                        <a:pt x="0" y="198"/>
                      </a:moveTo>
                      <a:lnTo>
                        <a:pt x="18" y="130"/>
                      </a:lnTo>
                      <a:lnTo>
                        <a:pt x="23" y="6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17680" y="1488240"/>
                  <a:ext cx="3960" cy="20880"/>
                </a:xfrm>
                <a:custGeom>
                  <a:avLst/>
                  <a:gdLst/>
                  <a:ahLst/>
                  <a:rect l="l" t="t" r="r" b="b"/>
                  <a:pathLst>
                    <a:path w="17" h="119">
                      <a:moveTo>
                        <a:pt x="5" y="119"/>
                      </a:moveTo>
                      <a:lnTo>
                        <a:pt x="13" y="89"/>
                      </a:lnTo>
                      <a:lnTo>
                        <a:pt x="17" y="58"/>
                      </a:lnTo>
                      <a:lnTo>
                        <a:pt x="12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1422000" y="1492920"/>
                  <a:ext cx="32760" cy="56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419480" y="1494000"/>
                  <a:ext cx="38160" cy="6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535040" y="1464840"/>
                  <a:ext cx="3960" cy="684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0" y="38"/>
                      </a:moveTo>
                      <a:lnTo>
                        <a:pt x="10" y="2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1352160" y="1471680"/>
                  <a:ext cx="18252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1360440" y="1474560"/>
                  <a:ext cx="182880" cy="20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579320" y="14806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5" y="0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555560" y="14400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55304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1543320" y="1474560"/>
                  <a:ext cx="32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416600" y="14882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404720" y="153036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543320" y="1463400"/>
                  <a:ext cx="4320" cy="11160"/>
                </a:xfrm>
                <a:custGeom>
                  <a:avLst/>
                  <a:gdLst/>
                  <a:ahLst/>
                  <a:rect l="l" t="t" r="r" b="b"/>
                  <a:pathLst>
                    <a:path w="19" h="64">
                      <a:moveTo>
                        <a:pt x="0" y="64"/>
                      </a:moveTo>
                      <a:lnTo>
                        <a:pt x="12" y="33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1557000" y="1456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1555560" y="1458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580400" y="1458720"/>
                  <a:ext cx="6120" cy="21600"/>
                </a:xfrm>
                <a:custGeom>
                  <a:avLst/>
                  <a:gdLst/>
                  <a:ahLst/>
                  <a:rect l="l" t="t" r="r" b="b"/>
                  <a:pathLst>
                    <a:path w="25" h="120">
                      <a:moveTo>
                        <a:pt x="0" y="120"/>
                      </a:moveTo>
                      <a:lnTo>
                        <a:pt x="18" y="86"/>
                      </a:lnTo>
                      <a:lnTo>
                        <a:pt x="25" y="48"/>
                      </a:lnTo>
                      <a:lnTo>
                        <a:pt x="23" y="1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575720" y="147672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0"/>
                      </a:move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75920" y="17082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0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1373760" y="1478160"/>
                  <a:ext cx="20196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1377000" y="1481760"/>
                  <a:ext cx="20232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71600" y="17046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521000" y="1435320"/>
                  <a:ext cx="3168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026720" y="1363680"/>
                  <a:ext cx="6840" cy="7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3"/>
                      </a:move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096200" y="1348920"/>
                  <a:ext cx="419760" cy="8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00880" y="1346040"/>
                  <a:ext cx="420120" cy="8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1520640" y="1463760"/>
                  <a:ext cx="5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535040" y="1471680"/>
                  <a:ext cx="8280" cy="324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0"/>
                      </a:moveTo>
                      <a:lnTo>
                        <a:pt x="10" y="3"/>
                      </a:lnTo>
                      <a:lnTo>
                        <a:pt x="22" y="10"/>
                      </a:lnTo>
                      <a:lnTo>
                        <a:pt x="31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385640" y="144684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0">
                      <a:moveTo>
                        <a:pt x="10" y="0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274760" y="1431000"/>
                  <a:ext cx="110520" cy="42480"/>
                </a:xfrm>
                <a:custGeom>
                  <a:avLst/>
                  <a:gdLst/>
                  <a:ahLst/>
                  <a:rect l="l" t="t" r="r" b="b"/>
                  <a:pathLst>
                    <a:path w="431" h="239">
                      <a:moveTo>
                        <a:pt x="431" y="89"/>
                      </a:moveTo>
                      <a:lnTo>
                        <a:pt x="409" y="59"/>
                      </a:lnTo>
                      <a:lnTo>
                        <a:pt x="380" y="33"/>
                      </a:lnTo>
                      <a:lnTo>
                        <a:pt x="344" y="15"/>
                      </a:lnTo>
                      <a:lnTo>
                        <a:pt x="301" y="3"/>
                      </a:lnTo>
                      <a:lnTo>
                        <a:pt x="256" y="0"/>
                      </a:lnTo>
                      <a:lnTo>
                        <a:pt x="209" y="5"/>
                      </a:lnTo>
                      <a:lnTo>
                        <a:pt x="163" y="16"/>
                      </a:lnTo>
                      <a:lnTo>
                        <a:pt x="118" y="36"/>
                      </a:lnTo>
                      <a:lnTo>
                        <a:pt x="80" y="61"/>
                      </a:lnTo>
                      <a:lnTo>
                        <a:pt x="47" y="92"/>
                      </a:lnTo>
                      <a:lnTo>
                        <a:pt x="23" y="127"/>
                      </a:lnTo>
                      <a:lnTo>
                        <a:pt x="6" y="165"/>
                      </a:lnTo>
                      <a:lnTo>
                        <a:pt x="0" y="201"/>
                      </a:lnTo>
                      <a:lnTo>
                        <a:pt x="3" y="2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416600" y="150876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407240" y="149364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385640" y="1446840"/>
                  <a:ext cx="20880" cy="26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413360" y="1482120"/>
                  <a:ext cx="396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1406520" y="1473840"/>
                  <a:ext cx="25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09760" y="1494720"/>
                  <a:ext cx="64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495440" y="1610640"/>
                  <a:ext cx="1404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535040" y="144108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555560" y="1440000"/>
                  <a:ext cx="25920" cy="36360"/>
                </a:xfrm>
                <a:custGeom>
                  <a:avLst/>
                  <a:gdLst/>
                  <a:ahLst/>
                  <a:rect l="l" t="t" r="r" b="b"/>
                  <a:pathLst>
                    <a:path w="100" h="205">
                      <a:moveTo>
                        <a:pt x="80" y="205"/>
                      </a:moveTo>
                      <a:lnTo>
                        <a:pt x="95" y="170"/>
                      </a:lnTo>
                      <a:lnTo>
                        <a:pt x="100" y="134"/>
                      </a:lnTo>
                      <a:lnTo>
                        <a:pt x="97" y="101"/>
                      </a:lnTo>
                      <a:lnTo>
                        <a:pt x="84" y="68"/>
                      </a:lnTo>
                      <a:lnTo>
                        <a:pt x="64" y="40"/>
                      </a:lnTo>
                      <a:lnTo>
                        <a:pt x="3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094760" y="1341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97640" y="13417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072440" y="1340280"/>
                  <a:ext cx="21960" cy="720"/>
                </a:xfrm>
                <a:custGeom>
                  <a:avLst/>
                  <a:gdLst/>
                  <a:ahLst/>
                  <a:rect l="l" t="t" r="r" b="b"/>
                  <a:pathLst>
                    <a:path w="85" h="7">
                      <a:moveTo>
                        <a:pt x="85" y="7"/>
                      </a:moveTo>
                      <a:lnTo>
                        <a:pt x="4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026720" y="1344600"/>
                  <a:ext cx="74160" cy="19800"/>
                </a:xfrm>
                <a:custGeom>
                  <a:avLst/>
                  <a:gdLst/>
                  <a:ahLst/>
                  <a:rect l="l" t="t" r="r" b="b"/>
                  <a:pathLst>
                    <a:path w="288" h="110">
                      <a:moveTo>
                        <a:pt x="288" y="6"/>
                      </a:moveTo>
                      <a:lnTo>
                        <a:pt x="244" y="0"/>
                      </a:lnTo>
                      <a:lnTo>
                        <a:pt x="196" y="0"/>
                      </a:lnTo>
                      <a:lnTo>
                        <a:pt x="150" y="8"/>
                      </a:lnTo>
                      <a:lnTo>
                        <a:pt x="105" y="24"/>
                      </a:lnTo>
                      <a:lnTo>
                        <a:pt x="64" y="48"/>
                      </a:lnTo>
                      <a:lnTo>
                        <a:pt x="28" y="77"/>
                      </a:lnTo>
                      <a:lnTo>
                        <a:pt x="0" y="1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033560" y="1347120"/>
                  <a:ext cx="62280" cy="17280"/>
                </a:xfrm>
                <a:custGeom>
                  <a:avLst/>
                  <a:gdLst/>
                  <a:ahLst/>
                  <a:rect l="l" t="t" r="r" b="b"/>
                  <a:pathLst>
                    <a:path w="244" h="95">
                      <a:moveTo>
                        <a:pt x="244" y="8"/>
                      </a:moveTo>
                      <a:lnTo>
                        <a:pt x="208" y="0"/>
                      </a:lnTo>
                      <a:lnTo>
                        <a:pt x="168" y="0"/>
                      </a:lnTo>
                      <a:lnTo>
                        <a:pt x="127" y="8"/>
                      </a:lnTo>
                      <a:lnTo>
                        <a:pt x="88" y="21"/>
                      </a:lnTo>
                      <a:lnTo>
                        <a:pt x="51" y="41"/>
                      </a:lnTo>
                      <a:lnTo>
                        <a:pt x="23" y="67"/>
                      </a:lnTo>
                      <a:lnTo>
                        <a:pt x="0" y="9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094760" y="1341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095480" y="134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096560" y="134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097640" y="1341720"/>
                  <a:ext cx="455400" cy="9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55304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55412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555200" y="1439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535760" y="144108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85" h="89">
                      <a:moveTo>
                        <a:pt x="0" y="0"/>
                      </a:moveTo>
                      <a:lnTo>
                        <a:pt x="25" y="10"/>
                      </a:lnTo>
                      <a:lnTo>
                        <a:pt x="48" y="23"/>
                      </a:lnTo>
                      <a:lnTo>
                        <a:pt x="67" y="38"/>
                      </a:lnTo>
                      <a:lnTo>
                        <a:pt x="79" y="54"/>
                      </a:lnTo>
                      <a:lnTo>
                        <a:pt x="85" y="72"/>
                      </a:lnTo>
                      <a:lnTo>
                        <a:pt x="85" y="8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535040" y="144216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82" h="77">
                      <a:moveTo>
                        <a:pt x="0" y="0"/>
                      </a:moveTo>
                      <a:lnTo>
                        <a:pt x="27" y="11"/>
                      </a:lnTo>
                      <a:lnTo>
                        <a:pt x="48" y="24"/>
                      </a:lnTo>
                      <a:lnTo>
                        <a:pt x="64" y="37"/>
                      </a:lnTo>
                      <a:lnTo>
                        <a:pt x="76" y="52"/>
                      </a:lnTo>
                      <a:lnTo>
                        <a:pt x="82" y="69"/>
                      </a:lnTo>
                      <a:lnTo>
                        <a:pt x="81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515960" y="1438200"/>
                  <a:ext cx="10080" cy="3240"/>
                </a:xfrm>
                <a:custGeom>
                  <a:avLst/>
                  <a:gdLst/>
                  <a:ahLst/>
                  <a:rect l="l" t="t" r="r" b="b"/>
                  <a:pathLst>
                    <a:path w="40" h="19">
                      <a:moveTo>
                        <a:pt x="40" y="19"/>
                      </a:moveTo>
                      <a:lnTo>
                        <a:pt x="2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512360" y="1447920"/>
                  <a:ext cx="8640" cy="15480"/>
                </a:xfrm>
                <a:custGeom>
                  <a:avLst/>
                  <a:gdLst/>
                  <a:ahLst/>
                  <a:rect l="l" t="t" r="r" b="b"/>
                  <a:pathLst>
                    <a:path w="33" h="87">
                      <a:moveTo>
                        <a:pt x="33" y="87"/>
                      </a:moveTo>
                      <a:lnTo>
                        <a:pt x="16" y="74"/>
                      </a:lnTo>
                      <a:lnTo>
                        <a:pt x="5" y="59"/>
                      </a:lnTo>
                      <a:lnTo>
                        <a:pt x="0" y="39"/>
                      </a:lnTo>
                      <a:lnTo>
                        <a:pt x="2" y="2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440720" y="143496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54" h="69">
                      <a:moveTo>
                        <a:pt x="54" y="69"/>
                      </a:moveTo>
                      <a:lnTo>
                        <a:pt x="16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455120" y="14929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>
                  <a:off x="1545840" y="16365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1454760" y="1447560"/>
                  <a:ext cx="540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1568880" y="1639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23160" y="1579680"/>
                  <a:ext cx="68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1453680" y="1490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24600" y="1603440"/>
                  <a:ext cx="1404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>
                  <a:off x="1532160" y="1604880"/>
                  <a:ext cx="1368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>
                  <a:off x="1555200" y="1607040"/>
                  <a:ext cx="1368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555560" y="1456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4920" y="1340280"/>
                  <a:ext cx="47160" cy="18720"/>
                </a:xfrm>
                <a:custGeom>
                  <a:avLst/>
                  <a:gdLst/>
                  <a:ahLst/>
                  <a:rect l="l" t="t" r="r" b="b"/>
                  <a:pathLst>
                    <a:path w="185" h="103">
                      <a:moveTo>
                        <a:pt x="185" y="0"/>
                      </a:moveTo>
                      <a:lnTo>
                        <a:pt x="140" y="8"/>
                      </a:lnTo>
                      <a:lnTo>
                        <a:pt x="99" y="23"/>
                      </a:lnTo>
                      <a:lnTo>
                        <a:pt x="61" y="44"/>
                      </a:lnTo>
                      <a:lnTo>
                        <a:pt x="27" y="71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21000" y="1435320"/>
                  <a:ext cx="14400" cy="5400"/>
                </a:xfrm>
                <a:custGeom>
                  <a:avLst/>
                  <a:gdLst/>
                  <a:ahLst/>
                  <a:rect l="l" t="t" r="r" b="b"/>
                  <a:pathLst>
                    <a:path w="56" h="31">
                      <a:moveTo>
                        <a:pt x="56" y="31"/>
                      </a:moveTo>
                      <a:lnTo>
                        <a:pt x="2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13800" y="1448640"/>
                  <a:ext cx="4320" cy="12960"/>
                </a:xfrm>
                <a:custGeom>
                  <a:avLst/>
                  <a:gdLst/>
                  <a:ahLst/>
                  <a:rect l="l" t="t" r="r" b="b"/>
                  <a:pathLst>
                    <a:path w="18" h="74">
                      <a:moveTo>
                        <a:pt x="18" y="74"/>
                      </a:moveTo>
                      <a:lnTo>
                        <a:pt x="15" y="71"/>
                      </a:lnTo>
                      <a:lnTo>
                        <a:pt x="5" y="56"/>
                      </a:lnTo>
                      <a:lnTo>
                        <a:pt x="0" y="38"/>
                      </a:lnTo>
                      <a:lnTo>
                        <a:pt x="2" y="18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75720" y="1478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10" y="13"/>
                      </a:lnTo>
                      <a:lnTo>
                        <a:pt x="13" y="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76800" y="147672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12" y="15"/>
                      </a:lnTo>
                      <a:lnTo>
                        <a:pt x="15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546920" y="1463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26400" y="1441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 flipV="1">
                  <a:off x="1643760" y="1642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75720" y="15865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39000" y="1464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 flipV="1">
                  <a:off x="1580400" y="1480680"/>
                  <a:ext cx="108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29360" y="1611000"/>
                  <a:ext cx="1476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99480" y="1494000"/>
                  <a:ext cx="7200" cy="15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629360" y="1486440"/>
                  <a:ext cx="54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644840" y="1489680"/>
                  <a:ext cx="144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749600" y="1564560"/>
                  <a:ext cx="12600" cy="26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732680" y="1576440"/>
                  <a:ext cx="1440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 flipV="1">
                  <a:off x="1747080" y="16081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>
                  <a:off x="1762200" y="15908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62040" y="1557000"/>
                  <a:ext cx="10440" cy="36360"/>
                </a:xfrm>
                <a:custGeom>
                  <a:avLst/>
                  <a:gdLst/>
                  <a:ahLst/>
                  <a:rect l="l" t="t" r="r" b="b"/>
                  <a:pathLst>
                    <a:path w="41" h="205">
                      <a:moveTo>
                        <a:pt x="41" y="0"/>
                      </a:moveTo>
                      <a:lnTo>
                        <a:pt x="15" y="53"/>
                      </a:lnTo>
                      <a:lnTo>
                        <a:pt x="2" y="107"/>
                      </a:lnTo>
                      <a:lnTo>
                        <a:pt x="0" y="160"/>
                      </a:lnTo>
                      <a:lnTo>
                        <a:pt x="8" y="20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79680" y="1631160"/>
                  <a:ext cx="24120" cy="18000"/>
                </a:xfrm>
                <a:custGeom>
                  <a:avLst/>
                  <a:gdLst/>
                  <a:ahLst/>
                  <a:rect l="l" t="t" r="r" b="b"/>
                  <a:pathLst>
                    <a:path w="94" h="101">
                      <a:moveTo>
                        <a:pt x="0" y="0"/>
                      </a:moveTo>
                      <a:lnTo>
                        <a:pt x="15" y="25"/>
                      </a:lnTo>
                      <a:lnTo>
                        <a:pt x="49" y="66"/>
                      </a:lnTo>
                      <a:lnTo>
                        <a:pt x="94" y="10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79680" y="163116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63840" y="1593720"/>
                  <a:ext cx="26640" cy="23400"/>
                </a:xfrm>
                <a:custGeom>
                  <a:avLst/>
                  <a:gdLst/>
                  <a:ahLst/>
                  <a:rect l="l" t="t" r="r" b="b"/>
                  <a:pathLst>
                    <a:path w="104" h="131">
                      <a:moveTo>
                        <a:pt x="0" y="0"/>
                      </a:moveTo>
                      <a:lnTo>
                        <a:pt x="2" y="8"/>
                      </a:lnTo>
                      <a:lnTo>
                        <a:pt x="25" y="56"/>
                      </a:lnTo>
                      <a:lnTo>
                        <a:pt x="59" y="97"/>
                      </a:lnTo>
                      <a:lnTo>
                        <a:pt x="104" y="1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77160" y="162540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12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663480" y="1593360"/>
                  <a:ext cx="1332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672480" y="1540080"/>
                  <a:ext cx="14760" cy="16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81840" y="163332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8" h="67">
                      <a:moveTo>
                        <a:pt x="48" y="67"/>
                      </a:moveTo>
                      <a:lnTo>
                        <a:pt x="1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31520" y="1562760"/>
                  <a:ext cx="3600" cy="1188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3" y="69"/>
                      </a:moveTo>
                      <a:lnTo>
                        <a:pt x="0" y="54"/>
                      </a:lnTo>
                      <a:lnTo>
                        <a:pt x="2" y="26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72560" y="1622880"/>
                  <a:ext cx="360" cy="252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13"/>
                      </a:move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739800" y="1579320"/>
                  <a:ext cx="18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29360" y="1545480"/>
                  <a:ext cx="68400" cy="27720"/>
                </a:xfrm>
                <a:custGeom>
                  <a:avLst/>
                  <a:gdLst/>
                  <a:ahLst/>
                  <a:rect l="l" t="t" r="r" b="b"/>
                  <a:pathLst>
                    <a:path w="266" h="153">
                      <a:moveTo>
                        <a:pt x="0" y="76"/>
                      </a:moveTo>
                      <a:lnTo>
                        <a:pt x="24" y="48"/>
                      </a:lnTo>
                      <a:lnTo>
                        <a:pt x="56" y="23"/>
                      </a:lnTo>
                      <a:lnTo>
                        <a:pt x="93" y="8"/>
                      </a:lnTo>
                      <a:lnTo>
                        <a:pt x="135" y="0"/>
                      </a:lnTo>
                      <a:lnTo>
                        <a:pt x="174" y="2"/>
                      </a:lnTo>
                      <a:lnTo>
                        <a:pt x="209" y="13"/>
                      </a:lnTo>
                      <a:lnTo>
                        <a:pt x="238" y="33"/>
                      </a:lnTo>
                      <a:lnTo>
                        <a:pt x="258" y="58"/>
                      </a:lnTo>
                      <a:lnTo>
                        <a:pt x="266" y="87"/>
                      </a:lnTo>
                      <a:lnTo>
                        <a:pt x="265" y="120"/>
                      </a:lnTo>
                      <a:lnTo>
                        <a:pt x="250" y="1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35120" y="1551240"/>
                  <a:ext cx="57600" cy="11160"/>
                </a:xfrm>
                <a:custGeom>
                  <a:avLst/>
                  <a:gdLst/>
                  <a:ahLst/>
                  <a:rect l="l" t="t" r="r" b="b"/>
                  <a:pathLst>
                    <a:path w="224" h="65">
                      <a:moveTo>
                        <a:pt x="0" y="65"/>
                      </a:moveTo>
                      <a:lnTo>
                        <a:pt x="19" y="40"/>
                      </a:lnTo>
                      <a:lnTo>
                        <a:pt x="47" y="18"/>
                      </a:lnTo>
                      <a:lnTo>
                        <a:pt x="79" y="5"/>
                      </a:lnTo>
                      <a:lnTo>
                        <a:pt x="113" y="0"/>
                      </a:lnTo>
                      <a:lnTo>
                        <a:pt x="148" y="2"/>
                      </a:lnTo>
                      <a:lnTo>
                        <a:pt x="177" y="10"/>
                      </a:lnTo>
                      <a:lnTo>
                        <a:pt x="202" y="27"/>
                      </a:lnTo>
                      <a:lnTo>
                        <a:pt x="219" y="48"/>
                      </a:lnTo>
                      <a:lnTo>
                        <a:pt x="224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916200" y="1789200"/>
                  <a:ext cx="115200" cy="24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>
                  <a:off x="693720" y="1645560"/>
                  <a:ext cx="1116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23680" y="16347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0" y="0"/>
                      </a:moveTo>
                      <a:lnTo>
                        <a:pt x="3" y="12"/>
                      </a:lnTo>
                      <a:lnTo>
                        <a:pt x="26" y="49"/>
                      </a:lnTo>
                      <a:lnTo>
                        <a:pt x="61" y="79"/>
                      </a:lnTo>
                      <a:lnTo>
                        <a:pt x="105" y="9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14320" y="1612080"/>
                  <a:ext cx="90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90200" y="1561680"/>
                  <a:ext cx="3600" cy="12600"/>
                </a:xfrm>
                <a:custGeom>
                  <a:avLst/>
                  <a:gdLst/>
                  <a:ahLst/>
                  <a:rect l="l" t="t" r="r" b="b"/>
                  <a:pathLst>
                    <a:path w="15" h="71">
                      <a:moveTo>
                        <a:pt x="12" y="0"/>
                      </a:moveTo>
                      <a:lnTo>
                        <a:pt x="15" y="16"/>
                      </a:lnTo>
                      <a:lnTo>
                        <a:pt x="13" y="45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12880" y="1588320"/>
                  <a:ext cx="6120" cy="23400"/>
                </a:xfrm>
                <a:custGeom>
                  <a:avLst/>
                  <a:gdLst/>
                  <a:ahLst/>
                  <a:rect l="l" t="t" r="r" b="b"/>
                  <a:pathLst>
                    <a:path w="25" h="132">
                      <a:moveTo>
                        <a:pt x="25" y="0"/>
                      </a:moveTo>
                      <a:lnTo>
                        <a:pt x="11" y="30"/>
                      </a:lnTo>
                      <a:lnTo>
                        <a:pt x="2" y="66"/>
                      </a:lnTo>
                      <a:lnTo>
                        <a:pt x="0" y="102"/>
                      </a:lnTo>
                      <a:lnTo>
                        <a:pt x="6" y="13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818640" y="15883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844560" y="151956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772560" y="162000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1023840" y="13593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2320" y="1567440"/>
                  <a:ext cx="49680" cy="11520"/>
                </a:xfrm>
                <a:custGeom>
                  <a:avLst/>
                  <a:gdLst/>
                  <a:ahLst/>
                  <a:rect l="l" t="t" r="r" b="b"/>
                  <a:pathLst>
                    <a:path w="192" h="66">
                      <a:moveTo>
                        <a:pt x="0" y="66"/>
                      </a:moveTo>
                      <a:lnTo>
                        <a:pt x="18" y="43"/>
                      </a:lnTo>
                      <a:lnTo>
                        <a:pt x="42" y="23"/>
                      </a:lnTo>
                      <a:lnTo>
                        <a:pt x="72" y="10"/>
                      </a:lnTo>
                      <a:lnTo>
                        <a:pt x="103" y="2"/>
                      </a:lnTo>
                      <a:lnTo>
                        <a:pt x="136" y="0"/>
                      </a:lnTo>
                      <a:lnTo>
                        <a:pt x="164" y="5"/>
                      </a:lnTo>
                      <a:lnTo>
                        <a:pt x="191" y="18"/>
                      </a:lnTo>
                      <a:lnTo>
                        <a:pt x="192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1024200" y="1354320"/>
                  <a:ext cx="540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32600" y="1574280"/>
                  <a:ext cx="57600" cy="11160"/>
                </a:xfrm>
                <a:custGeom>
                  <a:avLst/>
                  <a:gdLst/>
                  <a:ahLst/>
                  <a:rect l="l" t="t" r="r" b="b"/>
                  <a:pathLst>
                    <a:path w="224" h="64">
                      <a:moveTo>
                        <a:pt x="224" y="0"/>
                      </a:moveTo>
                      <a:lnTo>
                        <a:pt x="204" y="25"/>
                      </a:lnTo>
                      <a:lnTo>
                        <a:pt x="176" y="46"/>
                      </a:lnTo>
                      <a:lnTo>
                        <a:pt x="145" y="59"/>
                      </a:lnTo>
                      <a:lnTo>
                        <a:pt x="110" y="64"/>
                      </a:lnTo>
                      <a:lnTo>
                        <a:pt x="76" y="62"/>
                      </a:lnTo>
                      <a:lnTo>
                        <a:pt x="45" y="54"/>
                      </a:lnTo>
                      <a:lnTo>
                        <a:pt x="22" y="38"/>
                      </a:lnTo>
                      <a:lnTo>
                        <a:pt x="5" y="16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25040" y="1559160"/>
                  <a:ext cx="68400" cy="27360"/>
                </a:xfrm>
                <a:custGeom>
                  <a:avLst/>
                  <a:gdLst/>
                  <a:ahLst/>
                  <a:rect l="l" t="t" r="r" b="b"/>
                  <a:pathLst>
                    <a:path w="267" h="153">
                      <a:moveTo>
                        <a:pt x="267" y="77"/>
                      </a:moveTo>
                      <a:lnTo>
                        <a:pt x="244" y="105"/>
                      </a:lnTo>
                      <a:lnTo>
                        <a:pt x="211" y="130"/>
                      </a:lnTo>
                      <a:lnTo>
                        <a:pt x="173" y="145"/>
                      </a:lnTo>
                      <a:lnTo>
                        <a:pt x="132" y="153"/>
                      </a:lnTo>
                      <a:lnTo>
                        <a:pt x="92" y="151"/>
                      </a:lnTo>
                      <a:lnTo>
                        <a:pt x="58" y="140"/>
                      </a:lnTo>
                      <a:lnTo>
                        <a:pt x="28" y="120"/>
                      </a:lnTo>
                      <a:lnTo>
                        <a:pt x="8" y="95"/>
                      </a:lnTo>
                      <a:lnTo>
                        <a:pt x="0" y="64"/>
                      </a:lnTo>
                      <a:lnTo>
                        <a:pt x="2" y="3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51400" y="1517400"/>
                  <a:ext cx="5400" cy="180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0" y="12"/>
                      </a:moveTo>
                      <a:lnTo>
                        <a:pt x="3" y="7"/>
                      </a:lnTo>
                      <a:lnTo>
                        <a:pt x="10" y="4"/>
                      </a:lnTo>
                      <a:lnTo>
                        <a:pt x="16" y="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1047240" y="1370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1085760" y="1380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1084320" y="13820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1085760" y="1384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031760" y="181296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5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flipV="1">
                  <a:off x="954000" y="178128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>
                  <a:off x="957600" y="177768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>
                  <a:off x="957600" y="176904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flipV="1">
                  <a:off x="705960" y="165204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5240" y="164952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05600" y="16516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704160" y="1649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854640" y="168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915120" y="178776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888120" y="1664280"/>
                  <a:ext cx="360" cy="6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88840" y="16660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0" y="2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88480" y="1658880"/>
                  <a:ext cx="1800" cy="504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29"/>
                      </a:moveTo>
                      <a:lnTo>
                        <a:pt x="0" y="23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915120" y="1755000"/>
                  <a:ext cx="72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819360" y="158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821160" y="1361160"/>
                  <a:ext cx="201240" cy="225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1012320" y="139572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996840" y="1428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1014840" y="1399320"/>
                  <a:ext cx="1008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999360" y="1428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1015920" y="140580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1000440" y="14313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1001880" y="1437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1027080" y="1401840"/>
                  <a:ext cx="1008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1005120" y="1437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1029240" y="1398960"/>
                  <a:ext cx="1296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1005480" y="1440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1005120" y="1428480"/>
                  <a:ext cx="122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1022400" y="1359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5800" y="1618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10"/>
                      </a:moveTo>
                      <a:lnTo>
                        <a:pt x="3" y="5"/>
                      </a:lnTo>
                      <a:lnTo>
                        <a:pt x="8" y="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1051920" y="14097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998280" y="1427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1036440" y="1410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1037880" y="1413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1053000" y="14108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1054440" y="1413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1022040" y="1398600"/>
                  <a:ext cx="1728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1086840" y="1379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1089000" y="1380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090440" y="13827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1103760" y="1383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1105920" y="1384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1098360" y="13896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1022040" y="1401840"/>
                  <a:ext cx="151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1023480" y="1409760"/>
                  <a:ext cx="648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999720" y="1428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1000800" y="1430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1039320" y="14058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1040400" y="1406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035720" y="14097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042920" y="1413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1041480" y="14144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1053000" y="14094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1056600" y="14173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066320" y="14126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1068480" y="14137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1002960" y="1438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1003320" y="14410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1055520" y="1412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1054440" y="1410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1057320" y="1416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000800" y="1438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1086840" y="13813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1087920" y="13834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1103760" y="1384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1104840" y="1387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1098360" y="13914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1098720" y="1393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040400" y="1405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1038960" y="1412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1040760" y="1413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1037520" y="1409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1037880" y="1410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1053360" y="1408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1068840" y="14119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90480" y="1372680"/>
                <a:ext cx="635400" cy="440640"/>
                <a:chOff x="690480" y="1372680"/>
                <a:chExt cx="635400" cy="440640"/>
              </a:xfrm>
            </p:grpSpPr>
            <p:sp>
              <p:nvSpPr>
                <p:cNvPr id="792" name=""/>
                <p:cNvSpPr/>
                <p:nvPr/>
              </p:nvSpPr>
              <p:spPr>
                <a:xfrm flipV="1">
                  <a:off x="1055520" y="1417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069200" y="14133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1070640" y="1420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07244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1102680" y="13838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1096920" y="13906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999000" y="14259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999720" y="143964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1000800" y="144180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095480" y="1392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1096560" y="13942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1055520" y="14079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39680" y="1415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040760" y="14176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1069920" y="1411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1055160" y="1416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1069920" y="14198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1176840" y="13957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1177920" y="1398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1001160" y="14274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002240" y="1429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998280" y="1438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flipV="1">
                  <a:off x="967320" y="174420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07760" y="16506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709200" y="16524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88840" y="1670400"/>
                  <a:ext cx="37080" cy="27000"/>
                </a:xfrm>
                <a:custGeom>
                  <a:avLst/>
                  <a:gdLst/>
                  <a:ahLst/>
                  <a:rect l="l" t="t" r="r" b="b"/>
                  <a:pathLst>
                    <a:path w="143" h="152">
                      <a:moveTo>
                        <a:pt x="143" y="152"/>
                      </a:moveTo>
                      <a:lnTo>
                        <a:pt x="104" y="132"/>
                      </a:lnTo>
                      <a:lnTo>
                        <a:pt x="69" y="106"/>
                      </a:lnTo>
                      <a:lnTo>
                        <a:pt x="40" y="76"/>
                      </a:lnTo>
                      <a:lnTo>
                        <a:pt x="17" y="47"/>
                      </a:lnTo>
                      <a:lnTo>
                        <a:pt x="3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91200" y="1617480"/>
                  <a:ext cx="5400" cy="144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4" y="7"/>
                      </a:lnTo>
                      <a:lnTo>
                        <a:pt x="23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690480" y="1617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96040" y="1610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44560" y="1530000"/>
                  <a:ext cx="11880" cy="14040"/>
                </a:xfrm>
                <a:custGeom>
                  <a:avLst/>
                  <a:gdLst/>
                  <a:ahLst/>
                  <a:rect l="l" t="t" r="r" b="b"/>
                  <a:pathLst>
                    <a:path w="46" h="79">
                      <a:moveTo>
                        <a:pt x="46" y="79"/>
                      </a:moveTo>
                      <a:lnTo>
                        <a:pt x="28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904320" y="16419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957600" y="17686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902880" y="16423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43480" y="152676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902880" y="16419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4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856080" y="1544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956880" y="176040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7" h="46">
                      <a:moveTo>
                        <a:pt x="2" y="46"/>
                      </a:moveTo>
                      <a:lnTo>
                        <a:pt x="0" y="36"/>
                      </a:lnTo>
                      <a:lnTo>
                        <a:pt x="0" y="25"/>
                      </a:lnTo>
                      <a:lnTo>
                        <a:pt x="4" y="13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954360" y="1762920"/>
                  <a:ext cx="36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964800" y="1770480"/>
                  <a:ext cx="36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99180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99360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998640" y="1429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V="1">
                  <a:off x="1010160" y="1429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1010880" y="143172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1018800" y="1399320"/>
                  <a:ext cx="54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1021680" y="1396080"/>
                  <a:ext cx="720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1025640" y="1398600"/>
                  <a:ext cx="396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041480" y="1414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98928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995400" y="1429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033560" y="14115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1048680" y="1413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95680" y="16041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7" y="0"/>
                      </a:moveTo>
                      <a:lnTo>
                        <a:pt x="0" y="15"/>
                      </a:lnTo>
                      <a:lnTo>
                        <a:pt x="0" y="31"/>
                      </a:lnTo>
                      <a:lnTo>
                        <a:pt x="2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928440" y="160128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928800" y="16041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1043640" y="14137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1045080" y="1416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1063080" y="14151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67760" y="1414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1030680" y="1411560"/>
                  <a:ext cx="36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1035720" y="1406160"/>
                  <a:ext cx="28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1039320" y="140112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1038600" y="14065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034640" y="14108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006920" y="142812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1036440" y="14112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1008000" y="1431360"/>
                  <a:ext cx="133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1010160" y="1429560"/>
                  <a:ext cx="129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1014480" y="143748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1020240" y="1431720"/>
                  <a:ext cx="360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043640" y="14108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046520" y="1409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1017360" y="143964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1022760" y="14338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066680" y="137268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V="1">
                  <a:off x="1045080" y="140868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1077120" y="137484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V="1">
                  <a:off x="1069920" y="1380960"/>
                  <a:ext cx="5400" cy="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1046160" y="1411200"/>
                  <a:ext cx="432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1049400" y="141084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1070640" y="1383840"/>
                  <a:ext cx="612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1079640" y="1377360"/>
                  <a:ext cx="25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105192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1029240" y="14382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1036440" y="1432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1024560" y="14450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1052640" y="1414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1030320" y="1440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1087920" y="1378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1025640" y="144756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036800" y="143460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1027800" y="143316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1090440" y="1379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1062000" y="140472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1058760" y="1412640"/>
                  <a:ext cx="25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1055160" y="141768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1030320" y="1436400"/>
                  <a:ext cx="1008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1057320" y="1404360"/>
                  <a:ext cx="129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1091520" y="13813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1083960" y="137592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1031760" y="1442880"/>
                  <a:ext cx="648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1058400" y="1406880"/>
                  <a:ext cx="1332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1088280" y="138420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1094040" y="1378080"/>
                  <a:ext cx="39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1065600" y="1415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1090800" y="13870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1096560" y="138132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1067040" y="1417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1074960" y="1415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1104840" y="1382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1099080" y="1388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1045080" y="1440000"/>
                  <a:ext cx="1008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1076040" y="1416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1101240" y="1388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1107360" y="1382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1047240" y="143676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1077120" y="14180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V="1">
                  <a:off x="1107720" y="1385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V="1">
                  <a:off x="1102320" y="139104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1113120" y="1380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1048320" y="143928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1050840" y="1438200"/>
                  <a:ext cx="1224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1054440" y="144648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1059840" y="1440360"/>
                  <a:ext cx="39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1107000" y="1382760"/>
                  <a:ext cx="1116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1057320" y="14482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V="1">
                  <a:off x="1063080" y="144252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064160" y="141336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1280" y="1623600"/>
                  <a:ext cx="27720" cy="6840"/>
                </a:xfrm>
                <a:custGeom>
                  <a:avLst/>
                  <a:gdLst/>
                  <a:ahLst/>
                  <a:rect l="l" t="t" r="r" b="b"/>
                  <a:pathLst>
                    <a:path w="109" h="40">
                      <a:moveTo>
                        <a:pt x="109" y="0"/>
                      </a:moveTo>
                      <a:lnTo>
                        <a:pt x="100" y="10"/>
                      </a:lnTo>
                      <a:lnTo>
                        <a:pt x="84" y="23"/>
                      </a:lnTo>
                      <a:lnTo>
                        <a:pt x="64" y="33"/>
                      </a:lnTo>
                      <a:lnTo>
                        <a:pt x="41" y="38"/>
                      </a:lnTo>
                      <a:lnTo>
                        <a:pt x="20" y="40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1072800" y="1419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1073880" y="1421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1071360" y="1419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1100160" y="13906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1107000" y="1386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1100880" y="1392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1038960" y="1436400"/>
                  <a:ext cx="172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1038960" y="1440000"/>
                  <a:ext cx="1620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1040400" y="1447200"/>
                  <a:ext cx="75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1134720" y="14216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1173240" y="13957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1138320" y="1425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13724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1175040" y="13968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176480" y="13993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104840" y="14230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1139400" y="14371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104840" y="14194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1103760" y="1420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136880" y="14212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150200" y="14292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1137600" y="14346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1150560" y="14299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1174680" y="1394280"/>
                  <a:ext cx="25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1176480" y="140832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1177560" y="14108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208520" y="1401480"/>
                  <a:ext cx="25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214640" y="1407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226520" y="14058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209240" y="1414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099800" y="14475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21464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216080" y="1411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105560" y="14187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1105200" y="1419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1105920" y="14223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138680" y="1422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1139760" y="1424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1151280" y="1428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1136880" y="1433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1165320" y="14320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1151280" y="14371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1175040" y="14072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1211040" y="14025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211760" y="1405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1228320" y="1406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229400" y="14090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208880" y="1415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1210320" y="1417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1223640" y="1418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1103400" y="1451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101600" y="1449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712080" y="1653480"/>
                  <a:ext cx="143640" cy="30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935640" y="170028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10640" y="1651320"/>
                  <a:ext cx="212400" cy="4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167480" y="1748520"/>
                  <a:ext cx="15840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096920" y="1731240"/>
                  <a:ext cx="687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934920" y="1700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925560" y="1697400"/>
                  <a:ext cx="90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07720" y="172764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34" y="42"/>
                      </a:moveTo>
                      <a:lnTo>
                        <a:pt x="31" y="42"/>
                      </a:lnTo>
                      <a:lnTo>
                        <a:pt x="30" y="41"/>
                      </a:lnTo>
                      <a:lnTo>
                        <a:pt x="28" y="39"/>
                      </a:lnTo>
                      <a:lnTo>
                        <a:pt x="26" y="37"/>
                      </a:lnTo>
                      <a:lnTo>
                        <a:pt x="23" y="36"/>
                      </a:lnTo>
                      <a:lnTo>
                        <a:pt x="23" y="32"/>
                      </a:lnTo>
                      <a:lnTo>
                        <a:pt x="21" y="31"/>
                      </a:lnTo>
                      <a:lnTo>
                        <a:pt x="18" y="28"/>
                      </a:lnTo>
                      <a:lnTo>
                        <a:pt x="16" y="26"/>
                      </a:lnTo>
                      <a:lnTo>
                        <a:pt x="15" y="24"/>
                      </a:lnTo>
                      <a:lnTo>
                        <a:pt x="13" y="21"/>
                      </a:lnTo>
                      <a:lnTo>
                        <a:pt x="10" y="18"/>
                      </a:lnTo>
                      <a:lnTo>
                        <a:pt x="8" y="13"/>
                      </a:lnTo>
                      <a:lnTo>
                        <a:pt x="7" y="11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72560" y="16250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9"/>
                      </a:move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843480" y="1529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928080" y="1603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031040" y="181188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4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1010520" y="14277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1011240" y="1430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00296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002960" y="14364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992520" y="1771560"/>
                  <a:ext cx="36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988560" y="1436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964080" y="17776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96600" y="1375920"/>
                <a:ext cx="582840" cy="435600"/>
                <a:chOff x="696600" y="1375920"/>
                <a:chExt cx="582840" cy="43560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100548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10058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1007280" y="14295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1006920" y="14382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1036440" y="1411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104112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1047240" y="1407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048680" y="1414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V="1">
                  <a:off x="1062360" y="1410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063080" y="14169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1065240" y="1416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066680" y="1419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1036080" y="1436760"/>
                  <a:ext cx="3960" cy="12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1038960" y="1433880"/>
                  <a:ext cx="540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1041480" y="1436400"/>
                  <a:ext cx="43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1050840" y="1413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52640" y="14158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1088280" y="1377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1091520" y="1377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091520" y="13780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1092600" y="1380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1099800" y="1387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1102680" y="13870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1105560" y="1381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104364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1044360" y="1418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1049040" y="1407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1050840" y="14104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1050840" y="1410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1065240" y="1416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1066680" y="1418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1077120" y="1414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1078200" y="14173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1108800" y="1421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1110600" y="1422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56600" y="1474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1100160" y="1450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1109520" y="1382760"/>
                  <a:ext cx="1116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1110600" y="1385280"/>
                  <a:ext cx="1152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856080" y="16826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1069200" y="14464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1127160" y="13827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1065240" y="145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1076400" y="1441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>
                  <a:off x="1102680" y="141228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H="1">
                  <a:off x="1091520" y="1416600"/>
                  <a:ext cx="86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1070280" y="14490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1127880" y="13852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1092960" y="1417320"/>
                  <a:ext cx="864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110448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V="1">
                  <a:off x="1077120" y="14432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1065600" y="1456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1067400" y="1441800"/>
                  <a:ext cx="133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1105920" y="14144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1093320" y="142776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>
                  <a:off x="1095840" y="1418040"/>
                  <a:ext cx="828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1070280" y="1443960"/>
                  <a:ext cx="1116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890640" y="1625040"/>
                  <a:ext cx="29160" cy="33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1104840" y="14180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1097640" y="142056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931320" y="1474200"/>
                  <a:ext cx="125640" cy="140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1071720" y="1447920"/>
                  <a:ext cx="9720" cy="10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V="1">
                  <a:off x="1098720" y="142272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1103760" y="142344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1105920" y="1423440"/>
                  <a:ext cx="432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1083600" y="144468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1107000" y="1425960"/>
                  <a:ext cx="504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1084320" y="144468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>
                  <a:off x="1141560" y="1395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1085040" y="1447200"/>
                  <a:ext cx="1296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1097280" y="14497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1146600" y="1396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1147680" y="1398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100880" y="14529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1129680" y="142452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1103040" y="1458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1132200" y="1424160"/>
                  <a:ext cx="360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1105200" y="1458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1132560" y="142740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1106280" y="1460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924840" y="161496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25" y="0"/>
                      </a:moveTo>
                      <a:lnTo>
                        <a:pt x="18" y="9"/>
                      </a:lnTo>
                      <a:lnTo>
                        <a:pt x="10" y="18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920160" y="1620000"/>
                  <a:ext cx="43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94600" y="1662120"/>
                  <a:ext cx="24120" cy="3240"/>
                </a:xfrm>
                <a:custGeom>
                  <a:avLst/>
                  <a:gdLst/>
                  <a:ahLst/>
                  <a:rect l="l" t="t" r="r" b="b"/>
                  <a:pathLst>
                    <a:path w="94" h="18">
                      <a:moveTo>
                        <a:pt x="0" y="18"/>
                      </a:moveTo>
                      <a:lnTo>
                        <a:pt x="4" y="13"/>
                      </a:lnTo>
                      <a:lnTo>
                        <a:pt x="19" y="5"/>
                      </a:lnTo>
                      <a:lnTo>
                        <a:pt x="40" y="0"/>
                      </a:lnTo>
                      <a:lnTo>
                        <a:pt x="68" y="2"/>
                      </a:lnTo>
                      <a:lnTo>
                        <a:pt x="94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1146600" y="1430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916200" y="1604520"/>
                  <a:ext cx="12240" cy="6480"/>
                </a:xfrm>
                <a:custGeom>
                  <a:avLst/>
                  <a:gdLst/>
                  <a:ahLst/>
                  <a:rect l="l" t="t" r="r" b="b"/>
                  <a:pathLst>
                    <a:path w="48" h="38">
                      <a:moveTo>
                        <a:pt x="48" y="0"/>
                      </a:moveTo>
                      <a:lnTo>
                        <a:pt x="37" y="14"/>
                      </a:lnTo>
                      <a:lnTo>
                        <a:pt x="20" y="28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1134000" y="1423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1171800" y="1396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97480" y="159804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119" h="35">
                      <a:moveTo>
                        <a:pt x="0" y="35"/>
                      </a:moveTo>
                      <a:lnTo>
                        <a:pt x="12" y="20"/>
                      </a:lnTo>
                      <a:lnTo>
                        <a:pt x="30" y="9"/>
                      </a:lnTo>
                      <a:lnTo>
                        <a:pt x="48" y="2"/>
                      </a:lnTo>
                      <a:lnTo>
                        <a:pt x="67" y="0"/>
                      </a:lnTo>
                      <a:lnTo>
                        <a:pt x="87" y="4"/>
                      </a:lnTo>
                      <a:lnTo>
                        <a:pt x="102" y="10"/>
                      </a:lnTo>
                      <a:lnTo>
                        <a:pt x="114" y="22"/>
                      </a:lnTo>
                      <a:lnTo>
                        <a:pt x="119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1135800" y="14230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136880" y="14259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1140480" y="143280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1141560" y="14360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1154160" y="14367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1155240" y="14389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117900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1173960" y="1397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1175040" y="13993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1180080" y="14094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1098720" y="14482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1139400" y="14328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1152720" y="14364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1177560" y="1406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1100880" y="1449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1101600" y="1451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1147680" y="1429560"/>
                  <a:ext cx="1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149840" y="14310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179000" y="1436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1180080" y="1438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1187640" y="1437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1189440" y="1437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>
                  <a:off x="1184040" y="14410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1215720" y="140652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>
                  <a:off x="1211040" y="14137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>
                  <a:off x="1224000" y="14061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1227960" y="1417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1103400" y="14601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V="1">
                  <a:off x="1104480" y="1462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V="1">
                  <a:off x="1209240" y="14032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V="1">
                  <a:off x="1210320" y="1405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V="1">
                  <a:off x="1216800" y="1408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1218240" y="1410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1225440" y="1406880"/>
                  <a:ext cx="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1211040" y="14151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1226520" y="1409040"/>
                  <a:ext cx="2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212120" y="14176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1225800" y="1416240"/>
                  <a:ext cx="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V="1">
                  <a:off x="1163160" y="14335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1163880" y="1436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1100880" y="1459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1164600" y="14324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1173240" y="1434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V="1">
                  <a:off x="1186200" y="1441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1187280" y="14439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118908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203840" y="1443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1152360" y="14378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V="1">
                  <a:off x="1153800" y="14403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1175040" y="14331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1180080" y="1434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175040" y="14371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1180080" y="14353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1181160" y="1437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1188720" y="14367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185840" y="14403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1203840" y="14403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202760" y="14414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1225800" y="14187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226880" y="1421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1100880" y="14612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1101600" y="14634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1205280" y="14400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203840" y="14414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188360" y="14464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1205280" y="1443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189440" y="1449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056960" y="14752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1099800" y="1460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272240" y="1453680"/>
                  <a:ext cx="7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075320" y="1730160"/>
                  <a:ext cx="23040" cy="1080"/>
                </a:xfrm>
                <a:custGeom>
                  <a:avLst/>
                  <a:gdLst/>
                  <a:ahLst/>
                  <a:rect l="l" t="t" r="r" b="b"/>
                  <a:pathLst>
                    <a:path w="89" h="9">
                      <a:moveTo>
                        <a:pt x="89" y="4"/>
                      </a:moveTo>
                      <a:lnTo>
                        <a:pt x="69" y="9"/>
                      </a:lnTo>
                      <a:lnTo>
                        <a:pt x="36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918720" y="1663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918720" y="1663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696600" y="1618920"/>
                  <a:ext cx="15372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919440" y="166392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8720" y="166320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5440" y="1626480"/>
                  <a:ext cx="154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922320" y="165564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flipV="1">
                  <a:off x="902880" y="1641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1135080" y="1691640"/>
                  <a:ext cx="8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059480" y="1693800"/>
                  <a:ext cx="43560" cy="30960"/>
                </a:xfrm>
                <a:custGeom>
                  <a:avLst/>
                  <a:gdLst/>
                  <a:ahLst/>
                  <a:rect l="l" t="t" r="r" b="b"/>
                  <a:pathLst>
                    <a:path w="169" h="174">
                      <a:moveTo>
                        <a:pt x="0" y="0"/>
                      </a:moveTo>
                      <a:lnTo>
                        <a:pt x="33" y="13"/>
                      </a:lnTo>
                      <a:lnTo>
                        <a:pt x="67" y="29"/>
                      </a:lnTo>
                      <a:lnTo>
                        <a:pt x="97" y="51"/>
                      </a:lnTo>
                      <a:lnTo>
                        <a:pt x="125" y="75"/>
                      </a:lnTo>
                      <a:lnTo>
                        <a:pt x="146" y="100"/>
                      </a:lnTo>
                      <a:lnTo>
                        <a:pt x="161" y="125"/>
                      </a:lnTo>
                      <a:lnTo>
                        <a:pt x="169" y="148"/>
                      </a:lnTo>
                      <a:lnTo>
                        <a:pt x="169" y="166"/>
                      </a:lnTo>
                      <a:lnTo>
                        <a:pt x="166" y="17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058400" y="1692720"/>
                  <a:ext cx="47160" cy="37800"/>
                </a:xfrm>
                <a:custGeom>
                  <a:avLst/>
                  <a:gdLst/>
                  <a:ahLst/>
                  <a:rect l="l" t="t" r="r" b="b"/>
                  <a:pathLst>
                    <a:path w="183" h="211">
                      <a:moveTo>
                        <a:pt x="0" y="0"/>
                      </a:moveTo>
                      <a:lnTo>
                        <a:pt x="40" y="15"/>
                      </a:lnTo>
                      <a:lnTo>
                        <a:pt x="78" y="36"/>
                      </a:lnTo>
                      <a:lnTo>
                        <a:pt x="114" y="62"/>
                      </a:lnTo>
                      <a:lnTo>
                        <a:pt x="144" y="90"/>
                      </a:lnTo>
                      <a:lnTo>
                        <a:pt x="165" y="120"/>
                      </a:lnTo>
                      <a:lnTo>
                        <a:pt x="178" y="148"/>
                      </a:lnTo>
                      <a:lnTo>
                        <a:pt x="183" y="174"/>
                      </a:lnTo>
                      <a:lnTo>
                        <a:pt x="176" y="194"/>
                      </a:lnTo>
                      <a:lnTo>
                        <a:pt x="160" y="209"/>
                      </a:lnTo>
                      <a:lnTo>
                        <a:pt x="155" y="2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062000" y="1685520"/>
                  <a:ext cx="52920" cy="38880"/>
                </a:xfrm>
                <a:custGeom>
                  <a:avLst/>
                  <a:gdLst/>
                  <a:ahLst/>
                  <a:rect l="l" t="t" r="r" b="b"/>
                  <a:pathLst>
                    <a:path w="205" h="220">
                      <a:moveTo>
                        <a:pt x="0" y="0"/>
                      </a:moveTo>
                      <a:lnTo>
                        <a:pt x="44" y="17"/>
                      </a:lnTo>
                      <a:lnTo>
                        <a:pt x="87" y="42"/>
                      </a:lnTo>
                      <a:lnTo>
                        <a:pt x="126" y="71"/>
                      </a:lnTo>
                      <a:lnTo>
                        <a:pt x="161" y="103"/>
                      </a:lnTo>
                      <a:lnTo>
                        <a:pt x="187" y="136"/>
                      </a:lnTo>
                      <a:lnTo>
                        <a:pt x="202" y="169"/>
                      </a:lnTo>
                      <a:lnTo>
                        <a:pt x="205" y="197"/>
                      </a:lnTo>
                      <a:lnTo>
                        <a:pt x="199" y="2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1030680" y="1779840"/>
                  <a:ext cx="36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1040760" y="1781280"/>
                  <a:ext cx="36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1077480" y="14133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1079280" y="1415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1042560" y="1375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1080720" y="1444320"/>
                  <a:ext cx="7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061640" y="1411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076040" y="1414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041480" y="1773360"/>
                  <a:ext cx="3600" cy="82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0" y="46"/>
                      </a:moveTo>
                      <a:lnTo>
                        <a:pt x="1" y="33"/>
                      </a:lnTo>
                      <a:lnTo>
                        <a:pt x="4" y="21"/>
                      </a:lnTo>
                      <a:lnTo>
                        <a:pt x="8" y="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1092960" y="14565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094040" y="1459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1099800" y="1451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1110600" y="1451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1112040" y="14533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1103760" y="1389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1107720" y="1381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107720" y="1382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1109520" y="13834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V="1">
                  <a:off x="1112040" y="1421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1113120" y="14230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1090080" y="1456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1096200" y="1450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1131120" y="14292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1132200" y="1431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V="1">
                  <a:off x="958680" y="1744200"/>
                  <a:ext cx="9000" cy="15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>
                  <a:off x="1166040" y="14025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1112040" y="14245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1128600" y="14288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1148760" y="14241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779760" y="1376280"/>
                <a:ext cx="965880" cy="386280"/>
                <a:chOff x="779760" y="1376280"/>
                <a:chExt cx="965880" cy="386280"/>
              </a:xfrm>
            </p:grpSpPr>
            <p:sp>
              <p:nvSpPr>
                <p:cNvPr id="1194" name=""/>
                <p:cNvSpPr/>
                <p:nvPr/>
              </p:nvSpPr>
              <p:spPr>
                <a:xfrm flipV="1">
                  <a:off x="1149480" y="14266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1144080" y="14324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16200" y="1746720"/>
                  <a:ext cx="3600" cy="792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15" y="0"/>
                      </a:moveTo>
                      <a:lnTo>
                        <a:pt x="9" y="10"/>
                      </a:lnTo>
                      <a:lnTo>
                        <a:pt x="4" y="23"/>
                      </a:lnTo>
                      <a:lnTo>
                        <a:pt x="2" y="35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114840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1139040" y="14277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1139760" y="142992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167120" y="139752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1141920" y="14288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1169640" y="13982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1143000" y="143100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1170720" y="140076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1147320" y="1432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114912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1177560" y="14011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H="1">
                  <a:off x="1178280" y="1404000"/>
                  <a:ext cx="25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H="1">
                  <a:off x="115632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1180440" y="140256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115740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1181880" y="1404720"/>
                  <a:ext cx="36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>
                  <a:off x="1180080" y="1396800"/>
                  <a:ext cx="133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H="1">
                  <a:off x="1155960" y="1430640"/>
                  <a:ext cx="864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V="1">
                  <a:off x="1182600" y="140436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1190880" y="1398960"/>
                  <a:ext cx="3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V="1">
                  <a:off x="1157760" y="143460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1164960" y="1431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V="1">
                  <a:off x="1184040" y="1406880"/>
                  <a:ext cx="54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1193400" y="140148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1158480" y="1437120"/>
                  <a:ext cx="54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1169640" y="1432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1164960" y="1432440"/>
                  <a:ext cx="86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117468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1166400" y="143460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1199160" y="1405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1205640" y="1398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1167480" y="1437120"/>
                  <a:ext cx="720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1199520" y="14076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1170000" y="1436400"/>
                  <a:ext cx="72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1206360" y="14014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1172160" y="143604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1173240" y="143856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175760" y="143748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>
                  <a:off x="1208880" y="14079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1177920" y="143748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1179000" y="14432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1184040" y="1440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118692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1182960" y="14418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1222920" y="140868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224360" y="14112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1228680" y="14144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1221120" y="14079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1230480" y="1415160"/>
                  <a:ext cx="1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1231920" y="14176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1207440" y="14025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1218240" y="14065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1218960" y="14094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1185120" y="1442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V="1">
                  <a:off x="1186200" y="14443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1212480" y="14144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122292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1213560" y="14166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1230120" y="1416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1230480" y="1418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1205280" y="1451520"/>
                  <a:ext cx="79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1207440" y="1443960"/>
                  <a:ext cx="198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1208160" y="1446480"/>
                  <a:ext cx="198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1215720" y="1443600"/>
                  <a:ext cx="90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90280" y="1653840"/>
                  <a:ext cx="31680" cy="4320"/>
                </a:xfrm>
                <a:custGeom>
                  <a:avLst/>
                  <a:gdLst/>
                  <a:ahLst/>
                  <a:rect l="l" t="t" r="r" b="b"/>
                  <a:pathLst>
                    <a:path w="125" h="27">
                      <a:moveTo>
                        <a:pt x="0" y="27"/>
                      </a:moveTo>
                      <a:lnTo>
                        <a:pt x="20" y="10"/>
                      </a:lnTo>
                      <a:lnTo>
                        <a:pt x="48" y="0"/>
                      </a:lnTo>
                      <a:lnTo>
                        <a:pt x="84" y="2"/>
                      </a:lnTo>
                      <a:lnTo>
                        <a:pt x="125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90280" y="1661400"/>
                  <a:ext cx="28080" cy="4320"/>
                </a:xfrm>
                <a:custGeom>
                  <a:avLst/>
                  <a:gdLst/>
                  <a:ahLst/>
                  <a:rect l="l" t="t" r="r" b="b"/>
                  <a:pathLst>
                    <a:path w="110" h="23">
                      <a:moveTo>
                        <a:pt x="0" y="23"/>
                      </a:moveTo>
                      <a:lnTo>
                        <a:pt x="16" y="8"/>
                      </a:lnTo>
                      <a:lnTo>
                        <a:pt x="41" y="0"/>
                      </a:lnTo>
                      <a:lnTo>
                        <a:pt x="74" y="0"/>
                      </a:lnTo>
                      <a:lnTo>
                        <a:pt x="110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1191600" y="1444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1189800" y="1445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1229040" y="14198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1259280" y="14220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1260360" y="1424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240200" y="1455120"/>
                  <a:ext cx="31680" cy="13320"/>
                </a:xfrm>
                <a:custGeom>
                  <a:avLst/>
                  <a:gdLst/>
                  <a:ahLst/>
                  <a:rect l="l" t="t" r="r" b="b"/>
                  <a:pathLst>
                    <a:path w="124" h="76">
                      <a:moveTo>
                        <a:pt x="124" y="0"/>
                      </a:moveTo>
                      <a:lnTo>
                        <a:pt x="89" y="11"/>
                      </a:lnTo>
                      <a:lnTo>
                        <a:pt x="55" y="29"/>
                      </a:lnTo>
                      <a:lnTo>
                        <a:pt x="25" y="51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 flipV="1">
                  <a:off x="988920" y="14382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 flipV="1">
                  <a:off x="990360" y="14392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H="1" flipV="1">
                  <a:off x="991800" y="14396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 flipV="1">
                  <a:off x="992520" y="1434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 flipV="1">
                  <a:off x="99504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 flipV="1">
                  <a:off x="99756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 flipV="1">
                  <a:off x="99972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 flipV="1">
                  <a:off x="996120" y="1431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H="1" flipV="1">
                  <a:off x="997200" y="14328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 flipV="1">
                  <a:off x="99864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 flipV="1">
                  <a:off x="1002240" y="14392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 flipV="1">
                  <a:off x="1004400" y="14425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 flipV="1">
                  <a:off x="1001160" y="1433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 flipV="1">
                  <a:off x="9914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95400" y="1430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 flipV="1">
                  <a:off x="1005120" y="14338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>
                  <a:off x="1006560" y="1436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007280" y="1428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03356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V="1">
                  <a:off x="1110960" y="14497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1112400" y="14515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1091160" y="13762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1092960" y="1378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1103040" y="13856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 flipV="1">
                  <a:off x="1103400" y="13881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V="1">
                  <a:off x="1108440" y="1379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1109880" y="13820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10376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V="1">
                  <a:off x="1083600" y="1442520"/>
                  <a:ext cx="3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1084680" y="1445040"/>
                  <a:ext cx="7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1089360" y="1457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1131120" y="1430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110628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108440" y="1451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1107720" y="1459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1164960" y="1404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1127520" y="14306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14444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V="1">
                  <a:off x="1146600" y="1434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148040" y="1436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185120" y="1398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1199160" y="1411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1146240" y="1424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V="1">
                  <a:off x="114660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>
                  <a:off x="1148040" y="1436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>
                  <a:off x="1168560" y="1402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1170000" y="1405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V="1">
                  <a:off x="1215000" y="14115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1220760" y="1405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1216080" y="14137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115920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V="1">
                  <a:off x="1158480" y="1432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1181880" y="14432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1187280" y="13978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1188000" y="14004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>
                  <a:off x="1218240" y="14126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1192320" y="14450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V="1">
                  <a:off x="1193400" y="1447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1207800" y="14432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1209960" y="1443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121968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1220760" y="1414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1232640" y="14104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151640" y="1506240"/>
                  <a:ext cx="59760" cy="28440"/>
                </a:xfrm>
                <a:custGeom>
                  <a:avLst/>
                  <a:gdLst/>
                  <a:ahLst/>
                  <a:rect l="l" t="t" r="r" b="b"/>
                  <a:pathLst>
                    <a:path w="232" h="160">
                      <a:moveTo>
                        <a:pt x="19" y="0"/>
                      </a:moveTo>
                      <a:lnTo>
                        <a:pt x="5" y="28"/>
                      </a:lnTo>
                      <a:lnTo>
                        <a:pt x="0" y="56"/>
                      </a:lnTo>
                      <a:lnTo>
                        <a:pt x="4" y="84"/>
                      </a:lnTo>
                      <a:lnTo>
                        <a:pt x="17" y="111"/>
                      </a:lnTo>
                      <a:lnTo>
                        <a:pt x="37" y="132"/>
                      </a:lnTo>
                      <a:lnTo>
                        <a:pt x="63" y="147"/>
                      </a:lnTo>
                      <a:lnTo>
                        <a:pt x="94" y="157"/>
                      </a:lnTo>
                      <a:lnTo>
                        <a:pt x="129" y="160"/>
                      </a:lnTo>
                      <a:lnTo>
                        <a:pt x="165" y="157"/>
                      </a:lnTo>
                      <a:lnTo>
                        <a:pt x="200" y="145"/>
                      </a:lnTo>
                      <a:lnTo>
                        <a:pt x="232" y="12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954720" y="1755000"/>
                  <a:ext cx="2880" cy="7560"/>
                </a:xfrm>
                <a:custGeom>
                  <a:avLst/>
                  <a:gdLst/>
                  <a:ahLst/>
                  <a:rect l="l" t="t" r="r" b="b"/>
                  <a:pathLst>
                    <a:path w="13" h="45">
                      <a:moveTo>
                        <a:pt x="13" y="0"/>
                      </a:moveTo>
                      <a:lnTo>
                        <a:pt x="8" y="10"/>
                      </a:lnTo>
                      <a:lnTo>
                        <a:pt x="3" y="22"/>
                      </a:lnTo>
                      <a:lnTo>
                        <a:pt x="2" y="35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1184760" y="14432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1217880" y="140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1211760" y="14126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1219680" y="1406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V="1">
                  <a:off x="1213560" y="141264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V="1">
                  <a:off x="1220760" y="14083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V="1">
                  <a:off x="1215000" y="14151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1218600" y="140940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V="1">
                  <a:off x="919800" y="170496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1191960" y="144252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1195200" y="1440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V="1">
                  <a:off x="1221120" y="14101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1080000" y="1529280"/>
                  <a:ext cx="3816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V="1">
                  <a:off x="1193400" y="144072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V="1">
                  <a:off x="1222200" y="14130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1194480" y="144324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1194120" y="1438920"/>
                  <a:ext cx="900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>
                  <a:off x="1203840" y="14392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1196280" y="1441800"/>
                  <a:ext cx="612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1197360" y="144396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>
                  <a:off x="123084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V="1">
                  <a:off x="1232640" y="14122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1202400" y="1444680"/>
                  <a:ext cx="540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V="1">
                  <a:off x="1233360" y="1414800"/>
                  <a:ext cx="25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1204920" y="144504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1094040" y="1541880"/>
                  <a:ext cx="3024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1205640" y="1447200"/>
                  <a:ext cx="504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957960" y="171288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1215720" y="1445400"/>
                  <a:ext cx="2844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1234080" y="1468800"/>
                  <a:ext cx="61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186560" y="1513440"/>
                  <a:ext cx="9720" cy="360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10"/>
                      </a:moveTo>
                      <a:lnTo>
                        <a:pt x="5" y="5"/>
                      </a:lnTo>
                      <a:lnTo>
                        <a:pt x="12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5" y="3"/>
                      </a:lnTo>
                      <a:lnTo>
                        <a:pt x="38" y="8"/>
                      </a:lnTo>
                      <a:lnTo>
                        <a:pt x="40" y="15"/>
                      </a:lnTo>
                      <a:lnTo>
                        <a:pt x="37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185480" y="151524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40" h="23">
                      <a:moveTo>
                        <a:pt x="40" y="11"/>
                      </a:moveTo>
                      <a:lnTo>
                        <a:pt x="35" y="18"/>
                      </a:lnTo>
                      <a:lnTo>
                        <a:pt x="28" y="21"/>
                      </a:lnTo>
                      <a:lnTo>
                        <a:pt x="20" y="23"/>
                      </a:lnTo>
                      <a:lnTo>
                        <a:pt x="12" y="23"/>
                      </a:lnTo>
                      <a:lnTo>
                        <a:pt x="5" y="18"/>
                      </a:lnTo>
                      <a:lnTo>
                        <a:pt x="2" y="13"/>
                      </a:lnTo>
                      <a:lnTo>
                        <a:pt x="0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172160" y="1473480"/>
                  <a:ext cx="61560" cy="15120"/>
                </a:xfrm>
                <a:custGeom>
                  <a:avLst/>
                  <a:gdLst/>
                  <a:ahLst/>
                  <a:rect l="l" t="t" r="r" b="b"/>
                  <a:pathLst>
                    <a:path w="241" h="84">
                      <a:moveTo>
                        <a:pt x="241" y="0"/>
                      </a:moveTo>
                      <a:lnTo>
                        <a:pt x="211" y="30"/>
                      </a:lnTo>
                      <a:lnTo>
                        <a:pt x="173" y="53"/>
                      </a:lnTo>
                      <a:lnTo>
                        <a:pt x="130" y="71"/>
                      </a:lnTo>
                      <a:lnTo>
                        <a:pt x="88" y="81"/>
                      </a:lnTo>
                      <a:lnTo>
                        <a:pt x="43" y="84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>
                  <a:off x="913680" y="1611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79760" y="1607400"/>
                  <a:ext cx="33480" cy="10080"/>
                </a:xfrm>
                <a:custGeom>
                  <a:avLst/>
                  <a:gdLst/>
                  <a:ahLst/>
                  <a:rect l="l" t="t" r="r" b="b"/>
                  <a:pathLst>
                    <a:path w="130" h="58">
                      <a:moveTo>
                        <a:pt x="0" y="58"/>
                      </a:moveTo>
                      <a:lnTo>
                        <a:pt x="55" y="38"/>
                      </a:lnTo>
                      <a:lnTo>
                        <a:pt x="110" y="12"/>
                      </a:lnTo>
                      <a:lnTo>
                        <a:pt x="13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1545840" y="1462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644120" y="1609200"/>
                  <a:ext cx="101520" cy="33120"/>
                </a:xfrm>
                <a:custGeom>
                  <a:avLst/>
                  <a:gdLst/>
                  <a:ahLst/>
                  <a:rect l="l" t="t" r="r" b="b"/>
                  <a:pathLst>
                    <a:path w="395" h="186">
                      <a:moveTo>
                        <a:pt x="0" y="186"/>
                      </a:moveTo>
                      <a:lnTo>
                        <a:pt x="66" y="185"/>
                      </a:lnTo>
                      <a:lnTo>
                        <a:pt x="133" y="175"/>
                      </a:lnTo>
                      <a:lnTo>
                        <a:pt x="199" y="153"/>
                      </a:lnTo>
                      <a:lnTo>
                        <a:pt x="260" y="125"/>
                      </a:lnTo>
                      <a:lnTo>
                        <a:pt x="316" y="87"/>
                      </a:lnTo>
                      <a:lnTo>
                        <a:pt x="362" y="43"/>
                      </a:lnTo>
                      <a:lnTo>
                        <a:pt x="39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569960" y="1641240"/>
                  <a:ext cx="745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 flipV="1">
                  <a:off x="1568520" y="1638720"/>
                  <a:ext cx="75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990360" y="1440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100260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998640" y="1430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flipV="1">
                  <a:off x="1009800" y="14266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flipV="1">
                  <a:off x="999000" y="14295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100260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 flipV="1">
                  <a:off x="999720" y="1428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 flipV="1">
                  <a:off x="1004400" y="1438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 flipV="1">
                  <a:off x="1006920" y="1442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 flipV="1">
                  <a:off x="100116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 flipV="1">
                  <a:off x="1005480" y="14367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 flipV="1">
                  <a:off x="1005840" y="14353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 flipV="1">
                  <a:off x="10058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 flipV="1">
                  <a:off x="1002600" y="1427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>
                  <a:off x="1010160" y="1443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 flipV="1">
                  <a:off x="1004400" y="1427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 flipV="1">
                  <a:off x="1006560" y="14277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 flipV="1">
                  <a:off x="1007280" y="1429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 flipV="1">
                  <a:off x="1010160" y="1430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 flipV="1">
                  <a:off x="1010520" y="1429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 flipV="1">
                  <a:off x="101052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872280" y="1371240"/>
                <a:ext cx="860400" cy="438480"/>
                <a:chOff x="872280" y="1371240"/>
                <a:chExt cx="860400" cy="438480"/>
              </a:xfrm>
            </p:grpSpPr>
            <p:sp>
              <p:nvSpPr>
                <p:cNvPr id="1395" name=""/>
                <p:cNvSpPr/>
                <p:nvPr/>
              </p:nvSpPr>
              <p:spPr>
                <a:xfrm flipH="1" flipV="1">
                  <a:off x="1018440" y="1437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 flipV="1">
                  <a:off x="102456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 flipV="1">
                  <a:off x="10267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 flipV="1">
                  <a:off x="1028160" y="1447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 flipV="1">
                  <a:off x="1019880" y="1428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 flipV="1">
                  <a:off x="101268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H="1" flipV="1">
                  <a:off x="1030320" y="14479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>
                  <a:off x="1023840" y="1431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>
                  <a:off x="1014480" y="1409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 flipV="1">
                  <a:off x="1029240" y="1440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 flipV="1">
                  <a:off x="1030680" y="14382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 flipV="1">
                  <a:off x="1036080" y="14490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 flipV="1">
                  <a:off x="1019160" y="14115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 flipV="1">
                  <a:off x="1038960" y="1449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 flipV="1">
                  <a:off x="1022040" y="14115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 flipV="1">
                  <a:off x="1036080" y="14346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 flipV="1">
                  <a:off x="1027080" y="14130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 flipV="1">
                  <a:off x="1045080" y="14515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 flipV="1">
                  <a:off x="1037880" y="1432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 flipV="1">
                  <a:off x="1029240" y="1413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 flipV="1">
                  <a:off x="1047240" y="1451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 flipV="1">
                  <a:off x="1050480" y="14522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 flipV="1">
                  <a:off x="1034280" y="14144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>
                  <a:off x="1034280" y="1413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 flipV="1">
                  <a:off x="1035360" y="14144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 flipV="1">
                  <a:off x="1044720" y="14335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 flipV="1">
                  <a:off x="1028880" y="139608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1036080" y="14119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H="1" flipV="1">
                  <a:off x="103788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 flipV="1">
                  <a:off x="1036440" y="14115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104004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 flipV="1">
                  <a:off x="1037880" y="1410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 flipV="1">
                  <a:off x="1041480" y="1416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H="1" flipV="1">
                  <a:off x="1038960" y="14094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1041480" y="14144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H="1" flipV="1">
                  <a:off x="104004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 flipV="1">
                  <a:off x="1038600" y="140652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 flipV="1">
                  <a:off x="1043640" y="14158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flipV="1">
                  <a:off x="1043640" y="1415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 flipV="1">
                  <a:off x="104184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H="1" flipV="1">
                  <a:off x="1040040" y="1406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1059120" y="1446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1041480" y="1405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 flipV="1">
                  <a:off x="1045080" y="1413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1144080" y="1694160"/>
                  <a:ext cx="23400" cy="54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1144080" y="169344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131120" y="1664280"/>
                  <a:ext cx="3960" cy="23040"/>
                </a:xfrm>
                <a:custGeom>
                  <a:avLst/>
                  <a:gdLst/>
                  <a:ahLst/>
                  <a:rect l="l" t="t" r="r" b="b"/>
                  <a:pathLst>
                    <a:path w="16" h="131">
                      <a:moveTo>
                        <a:pt x="0" y="0"/>
                      </a:moveTo>
                      <a:lnTo>
                        <a:pt x="11" y="40"/>
                      </a:lnTo>
                      <a:lnTo>
                        <a:pt x="16" y="85"/>
                      </a:lnTo>
                      <a:lnTo>
                        <a:pt x="16" y="1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1135800" y="169164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6" h="43">
                      <a:moveTo>
                        <a:pt x="5" y="0"/>
                      </a:moveTo>
                      <a:lnTo>
                        <a:pt x="6" y="17"/>
                      </a:lnTo>
                      <a:lnTo>
                        <a:pt x="3" y="36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104868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104976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V="1">
                  <a:off x="1050840" y="1409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063080" y="1418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1063080" y="14090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V="1">
                  <a:off x="1065240" y="1418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1134720" y="1687680"/>
                  <a:ext cx="360" cy="3960"/>
                </a:xfrm>
                <a:custGeom>
                  <a:avLst/>
                  <a:gdLst/>
                  <a:ahLst/>
                  <a:rect l="l" t="t" r="r" b="b"/>
                  <a:pathLst>
                    <a:path w="1" h="21">
                      <a:moveTo>
                        <a:pt x="1" y="21"/>
                      </a:moveTo>
                      <a:lnTo>
                        <a:pt x="1" y="15"/>
                      </a:lnTo>
                      <a:lnTo>
                        <a:pt x="0" y="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1158840" y="1431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1160280" y="1432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1168560" y="1404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157400" y="14313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>
                  <a:off x="1216800" y="1415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1201680" y="1411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>
                  <a:off x="1212480" y="14115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17756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182600" y="14367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V="1">
                  <a:off x="1184760" y="1443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1189440" y="1446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>
                  <a:off x="1195560" y="14396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>
                  <a:off x="1213200" y="1441440"/>
                  <a:ext cx="252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038960" y="179388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lnTo>
                        <a:pt x="5" y="35"/>
                      </a:lnTo>
                      <a:lnTo>
                        <a:pt x="8" y="1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1184760" y="14360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1185120" y="14382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>
                  <a:off x="1217160" y="1414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V="1">
                  <a:off x="1236240" y="14097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123732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1035720" y="1802880"/>
                  <a:ext cx="28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H="1">
                  <a:off x="1189800" y="1446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V="1">
                  <a:off x="1191960" y="1447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V="1">
                  <a:off x="1193040" y="1449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V="1">
                  <a:off x="1198080" y="1439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V="1">
                  <a:off x="1199160" y="14418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V="1">
                  <a:off x="1211040" y="1442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1212120" y="1445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130040" y="1657440"/>
                  <a:ext cx="720" cy="6840"/>
                </a:xfrm>
                <a:custGeom>
                  <a:avLst/>
                  <a:gdLst/>
                  <a:ahLst/>
                  <a:rect l="l" t="t" r="r" b="b"/>
                  <a:pathLst>
                    <a:path w="3" h="37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0" y="23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1221120" y="14072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V="1">
                  <a:off x="1235160" y="14112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V="1">
                  <a:off x="1236240" y="1413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V="1">
                  <a:off x="1211040" y="14457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992880" y="1763280"/>
                  <a:ext cx="3600" cy="792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0"/>
                      </a:moveTo>
                      <a:lnTo>
                        <a:pt x="8" y="9"/>
                      </a:lnTo>
                      <a:lnTo>
                        <a:pt x="3" y="21"/>
                      </a:lnTo>
                      <a:lnTo>
                        <a:pt x="2" y="34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031760" y="1771560"/>
                  <a:ext cx="3600" cy="828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0"/>
                      </a:moveTo>
                      <a:lnTo>
                        <a:pt x="8" y="10"/>
                      </a:lnTo>
                      <a:lnTo>
                        <a:pt x="3" y="21"/>
                      </a:lnTo>
                      <a:lnTo>
                        <a:pt x="1" y="33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H="1">
                  <a:off x="977400" y="1715400"/>
                  <a:ext cx="27720" cy="3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1127880" y="1539360"/>
                  <a:ext cx="38520" cy="4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954360" y="1777320"/>
                  <a:ext cx="28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H="1">
                  <a:off x="996480" y="172152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1218240" y="1520640"/>
                  <a:ext cx="54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1211400" y="152496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>
                  <a:off x="1546560" y="1462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>
                  <a:off x="1546920" y="14616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92440" y="1609920"/>
                  <a:ext cx="21600" cy="2880"/>
                </a:xfrm>
                <a:custGeom>
                  <a:avLst/>
                  <a:gdLst/>
                  <a:ahLst/>
                  <a:rect l="l" t="t" r="r" b="b"/>
                  <a:pathLst>
                    <a:path w="86" h="16">
                      <a:moveTo>
                        <a:pt x="86" y="8"/>
                      </a:moveTo>
                      <a:lnTo>
                        <a:pt x="71" y="13"/>
                      </a:lnTo>
                      <a:lnTo>
                        <a:pt x="56" y="16"/>
                      </a:lnTo>
                      <a:lnTo>
                        <a:pt x="40" y="16"/>
                      </a:lnTo>
                      <a:lnTo>
                        <a:pt x="25" y="13"/>
                      </a:lnTo>
                      <a:lnTo>
                        <a:pt x="12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629360" y="1576080"/>
                  <a:ext cx="103320" cy="34560"/>
                </a:xfrm>
                <a:custGeom>
                  <a:avLst/>
                  <a:gdLst/>
                  <a:ahLst/>
                  <a:rect l="l" t="t" r="r" b="b"/>
                  <a:pathLst>
                    <a:path w="401" h="193">
                      <a:moveTo>
                        <a:pt x="0" y="193"/>
                      </a:moveTo>
                      <a:lnTo>
                        <a:pt x="67" y="193"/>
                      </a:lnTo>
                      <a:lnTo>
                        <a:pt x="134" y="182"/>
                      </a:lnTo>
                      <a:lnTo>
                        <a:pt x="200" y="160"/>
                      </a:lnTo>
                      <a:lnTo>
                        <a:pt x="261" y="131"/>
                      </a:lnTo>
                      <a:lnTo>
                        <a:pt x="317" y="94"/>
                      </a:lnTo>
                      <a:lnTo>
                        <a:pt x="363" y="50"/>
                      </a:lnTo>
                      <a:lnTo>
                        <a:pt x="40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188360" y="1600560"/>
                  <a:ext cx="6120" cy="360"/>
                </a:xfrm>
                <a:custGeom>
                  <a:avLst/>
                  <a:gdLst/>
                  <a:ahLst/>
                  <a:rect l="l" t="t" r="r" b="b"/>
                  <a:pathLst>
                    <a:path w="25" h="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6" y="2"/>
                      </a:lnTo>
                      <a:lnTo>
                        <a:pt x="25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H="1" flipV="1">
                  <a:off x="1555200" y="1607040"/>
                  <a:ext cx="741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191240" y="1606680"/>
                  <a:ext cx="17280" cy="720"/>
                </a:xfrm>
                <a:custGeom>
                  <a:avLst/>
                  <a:gdLst/>
                  <a:ahLst/>
                  <a:rect l="l" t="t" r="r" b="b"/>
                  <a:pathLst>
                    <a:path w="70" h="5">
                      <a:moveTo>
                        <a:pt x="70" y="5"/>
                      </a:moveTo>
                      <a:lnTo>
                        <a:pt x="47" y="3"/>
                      </a:lnTo>
                      <a:lnTo>
                        <a:pt x="24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547280" y="1638720"/>
                  <a:ext cx="22320" cy="252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87" y="15"/>
                      </a:moveTo>
                      <a:lnTo>
                        <a:pt x="57" y="12"/>
                      </a:lnTo>
                      <a:lnTo>
                        <a:pt x="28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509840" y="1634400"/>
                  <a:ext cx="29160" cy="7560"/>
                </a:xfrm>
                <a:custGeom>
                  <a:avLst/>
                  <a:gdLst/>
                  <a:ahLst/>
                  <a:rect l="l" t="t" r="r" b="b"/>
                  <a:pathLst>
                    <a:path w="116" h="45">
                      <a:moveTo>
                        <a:pt x="116" y="2"/>
                      </a:move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1" y="5"/>
                      </a:lnTo>
                      <a:lnTo>
                        <a:pt x="32" y="15"/>
                      </a:lnTo>
                      <a:lnTo>
                        <a:pt x="14" y="28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206360" y="160668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2" y="7"/>
                      </a:moveTo>
                      <a:lnTo>
                        <a:pt x="7" y="5"/>
                      </a:lnTo>
                      <a:lnTo>
                        <a:pt x="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188360" y="1606680"/>
                  <a:ext cx="2880" cy="360"/>
                </a:xfrm>
                <a:custGeom>
                  <a:avLst/>
                  <a:gdLst/>
                  <a:ahLst/>
                  <a:rect l="l" t="t" r="r" b="b"/>
                  <a:pathLst>
                    <a:path w="11" h="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185120" y="1600200"/>
                  <a:ext cx="2880" cy="360"/>
                </a:xfrm>
                <a:custGeom>
                  <a:avLst/>
                  <a:gdLst/>
                  <a:ahLst/>
                  <a:rect l="l" t="t" r="r" b="b"/>
                  <a:pathLst>
                    <a:path w="12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9" y="1"/>
                      </a:lnTo>
                      <a:lnTo>
                        <a:pt x="12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H="1" flipV="1">
                  <a:off x="1178640" y="1604160"/>
                  <a:ext cx="9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 flipV="1">
                  <a:off x="1335240" y="1637640"/>
                  <a:ext cx="10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145880" y="1591560"/>
                  <a:ext cx="38880" cy="8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080000" y="1572480"/>
                  <a:ext cx="4788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H="1" flipV="1">
                  <a:off x="872280" y="1517760"/>
                  <a:ext cx="82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333080" y="163692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145880" y="159156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27" h="71">
                      <a:moveTo>
                        <a:pt x="0" y="0"/>
                      </a:moveTo>
                      <a:lnTo>
                        <a:pt x="33" y="13"/>
                      </a:lnTo>
                      <a:lnTo>
                        <a:pt x="66" y="28"/>
                      </a:lnTo>
                      <a:lnTo>
                        <a:pt x="99" y="49"/>
                      </a:lnTo>
                      <a:lnTo>
                        <a:pt x="127" y="7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344600" y="1639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99756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996120" y="14320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 flipV="1">
                  <a:off x="1004400" y="1433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988920" y="1438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104868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 flipV="1">
                  <a:off x="1050480" y="1415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 flipV="1">
                  <a:off x="1048680" y="1406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063080" y="14191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060920" y="1410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flipV="1">
                  <a:off x="1042560" y="1405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flipV="1">
                  <a:off x="1064880" y="1455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 flipV="1">
                  <a:off x="1044000" y="14058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flipV="1">
                  <a:off x="1048680" y="14169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1049040" y="1416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flipV="1">
                  <a:off x="1066320" y="14533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flipV="1">
                  <a:off x="1050480" y="1418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 flipV="1">
                  <a:off x="1067760" y="14558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flipV="1">
                  <a:off x="104256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 flipV="1">
                  <a:off x="1046160" y="1406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flipV="1">
                  <a:off x="1059840" y="1436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V="1">
                  <a:off x="104760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 flipV="1">
                  <a:off x="1052640" y="1418040"/>
                  <a:ext cx="3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 flipV="1">
                  <a:off x="1070280" y="1456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 flipV="1">
                  <a:off x="1049040" y="14083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flipV="1">
                  <a:off x="1051920" y="1413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1054440" y="1417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 flipV="1">
                  <a:off x="106416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flipV="1">
                  <a:off x="1049760" y="14076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 flipV="1">
                  <a:off x="1049760" y="1407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1055520" y="1417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 flipV="1">
                  <a:off x="1055520" y="14187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H="1" flipV="1">
                  <a:off x="1069200" y="1447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flipV="1">
                  <a:off x="1053000" y="1411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1056600" y="1417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flipV="1">
                  <a:off x="105732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flipV="1">
                  <a:off x="1054440" y="1410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1071000" y="1446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105588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flipV="1">
                  <a:off x="1042920" y="1376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flipV="1">
                  <a:off x="105804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1080720" y="14587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flipV="1">
                  <a:off x="1063080" y="14198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flipV="1">
                  <a:off x="106344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flipV="1">
                  <a:off x="1064160" y="1420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1059840" y="1409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1066320" y="1420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1076040" y="14425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 flipV="1">
                  <a:off x="1065240" y="14187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flipV="1">
                  <a:off x="1084320" y="14594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flipV="1">
                  <a:off x="1065240" y="1416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1063080" y="1410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flipV="1">
                  <a:off x="1065600" y="1416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flipV="1">
                  <a:off x="1068840" y="14209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 flipV="1">
                  <a:off x="1077480" y="1440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 flipV="1">
                  <a:off x="1066320" y="1415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flipV="1">
                  <a:off x="1047240" y="1371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118160" y="1529280"/>
                  <a:ext cx="6120" cy="12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flipV="1">
                  <a:off x="1071000" y="14209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068120" y="1414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flipV="1">
                  <a:off x="1068840" y="1413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 flipV="1">
                  <a:off x="1089720" y="14594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H="1" flipV="1">
                  <a:off x="1072800" y="1420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 flipV="1">
                  <a:off x="1091520" y="1460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 flipV="1">
                  <a:off x="1053000" y="1375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 flipV="1">
                  <a:off x="1071000" y="14126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 flipV="1">
                  <a:off x="1092600" y="146124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1084320" y="1442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 flipV="1">
                  <a:off x="107460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flipV="1">
                  <a:off x="1072080" y="14126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1092960" y="1456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 flipV="1">
                  <a:off x="1073520" y="1412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 flipV="1">
                  <a:off x="1076040" y="14173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>
                  <a:off x="1096200" y="1461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 flipV="1">
                  <a:off x="1070280" y="14043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 flipV="1">
                  <a:off x="1077120" y="1416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 flipV="1">
                  <a:off x="1098720" y="1461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 flipV="1">
                  <a:off x="1077480" y="1414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 flipV="1">
                  <a:off x="1077480" y="1413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 flipV="1">
                  <a:off x="1100880" y="1461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 flipV="1">
                  <a:off x="1097280" y="1453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1067040" y="13870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 flipV="1">
                  <a:off x="1098000" y="1454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1099800" y="14551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1069920" y="1387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 flipV="1">
                  <a:off x="1103400" y="1461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865440" y="1374480"/>
                <a:ext cx="775080" cy="437040"/>
                <a:chOff x="865440" y="1374480"/>
                <a:chExt cx="775080" cy="437040"/>
              </a:xfrm>
            </p:grpSpPr>
            <p:sp>
              <p:nvSpPr>
                <p:cNvPr id="1596" name=""/>
                <p:cNvSpPr/>
                <p:nvPr/>
              </p:nvSpPr>
              <p:spPr>
                <a:xfrm flipH="1" flipV="1">
                  <a:off x="10969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 flipV="1">
                  <a:off x="1101600" y="1455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flipV="1">
                  <a:off x="1099800" y="14508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10376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 flipV="1">
                  <a:off x="1100520" y="1449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 flipV="1">
                  <a:off x="1105200" y="1459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H="1" flipV="1">
                  <a:off x="1091160" y="1426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 flipV="1">
                  <a:off x="1101600" y="1449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 flipV="1">
                  <a:off x="1106280" y="1458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 flipV="1">
                  <a:off x="1092600" y="1427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 flipV="1">
                  <a:off x="1107000" y="1456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1107360" y="1456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 flipV="1">
                  <a:off x="1103400" y="14490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flipV="1">
                  <a:off x="1104840" y="14490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 flipV="1">
                  <a:off x="1095480" y="142776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 flipV="1">
                  <a:off x="1075320" y="1380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109764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 flipV="1">
                  <a:off x="1107360" y="14497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1108440" y="1451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1110600" y="14518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 flipV="1">
                  <a:off x="1110960" y="14508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 flipV="1">
                  <a:off x="1084320" y="13906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 flipV="1">
                  <a:off x="1110960" y="14497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flipV="1">
                  <a:off x="108216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1103760" y="14295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flipV="1">
                  <a:off x="1105920" y="1429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flipV="1">
                  <a:off x="108432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>
                  <a:off x="1092600" y="1458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096560" y="1451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 flipV="1">
                  <a:off x="1105920" y="1455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1107000" y="1458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107720" y="1450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1089360" y="1376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100520" y="1386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1105920" y="1380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1109880" y="142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1111680" y="1420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1112760" y="1423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1127880" y="14320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11444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1200240" y="1591560"/>
                  <a:ext cx="360" cy="1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119952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1215360" y="1410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1218240" y="14047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122076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1233720" y="140832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V="1">
                  <a:off x="1216440" y="1413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V="1">
                  <a:off x="1219680" y="14144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V="1">
                  <a:off x="1236600" y="1408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V="1">
                  <a:off x="1237320" y="1411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1216080" y="1441440"/>
                  <a:ext cx="180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1218240" y="144396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156320" y="1492200"/>
                  <a:ext cx="72000" cy="28080"/>
                </a:xfrm>
                <a:custGeom>
                  <a:avLst/>
                  <a:gdLst/>
                  <a:ahLst/>
                  <a:rect l="l" t="t" r="r" b="b"/>
                  <a:pathLst>
                    <a:path w="279" h="158">
                      <a:moveTo>
                        <a:pt x="261" y="158"/>
                      </a:moveTo>
                      <a:lnTo>
                        <a:pt x="274" y="132"/>
                      </a:lnTo>
                      <a:lnTo>
                        <a:pt x="279" y="102"/>
                      </a:lnTo>
                      <a:lnTo>
                        <a:pt x="274" y="74"/>
                      </a:lnTo>
                      <a:lnTo>
                        <a:pt x="263" y="49"/>
                      </a:lnTo>
                      <a:lnTo>
                        <a:pt x="243" y="28"/>
                      </a:lnTo>
                      <a:lnTo>
                        <a:pt x="215" y="12"/>
                      </a:lnTo>
                      <a:lnTo>
                        <a:pt x="184" y="2"/>
                      </a:lnTo>
                      <a:lnTo>
                        <a:pt x="149" y="0"/>
                      </a:lnTo>
                      <a:lnTo>
                        <a:pt x="113" y="3"/>
                      </a:lnTo>
                      <a:lnTo>
                        <a:pt x="79" y="13"/>
                      </a:lnTo>
                      <a:lnTo>
                        <a:pt x="46" y="31"/>
                      </a:lnTo>
                      <a:lnTo>
                        <a:pt x="19" y="53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85120" y="158400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34640" y="18100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8"/>
                      </a:moveTo>
                      <a:lnTo>
                        <a:pt x="2" y="7"/>
                      </a:lnTo>
                      <a:lnTo>
                        <a:pt x="4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1131120" y="1604520"/>
                  <a:ext cx="47160" cy="52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1035360" y="172944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1045080" y="1730880"/>
                  <a:ext cx="37800" cy="42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1283040" y="1492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86200" y="1493280"/>
                  <a:ext cx="97200" cy="9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200600" y="1590840"/>
                  <a:ext cx="3960" cy="7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599480" y="1498320"/>
                  <a:ext cx="41040" cy="13680"/>
                </a:xfrm>
                <a:custGeom>
                  <a:avLst/>
                  <a:gdLst/>
                  <a:ahLst/>
                  <a:rect l="l" t="t" r="r" b="b"/>
                  <a:pathLst>
                    <a:path w="160" h="77">
                      <a:moveTo>
                        <a:pt x="160" y="0"/>
                      </a:moveTo>
                      <a:lnTo>
                        <a:pt x="102" y="19"/>
                      </a:lnTo>
                      <a:lnTo>
                        <a:pt x="50" y="44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548720" y="1598400"/>
                  <a:ext cx="136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547640" y="15984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65440" y="1508760"/>
                  <a:ext cx="22320" cy="2520"/>
                </a:xfrm>
                <a:custGeom>
                  <a:avLst/>
                  <a:gdLst/>
                  <a:ahLst/>
                  <a:rect l="l" t="t" r="r" b="b"/>
                  <a:pathLst>
                    <a:path w="87" h="17">
                      <a:moveTo>
                        <a:pt x="87" y="17"/>
                      </a:moveTo>
                      <a:lnTo>
                        <a:pt x="59" y="10"/>
                      </a:lnTo>
                      <a:lnTo>
                        <a:pt x="3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1548360" y="1636920"/>
                  <a:ext cx="20520" cy="2160"/>
                </a:xfrm>
                <a:custGeom>
                  <a:avLst/>
                  <a:gdLst/>
                  <a:ahLst/>
                  <a:rect l="l" t="t" r="r" b="b"/>
                  <a:pathLst>
                    <a:path w="81" h="13">
                      <a:moveTo>
                        <a:pt x="0" y="0"/>
                      </a:moveTo>
                      <a:lnTo>
                        <a:pt x="20" y="5"/>
                      </a:lnTo>
                      <a:lnTo>
                        <a:pt x="50" y="10"/>
                      </a:lnTo>
                      <a:lnTo>
                        <a:pt x="81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545840" y="16365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528200" y="1634400"/>
                  <a:ext cx="18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 flipV="1">
                  <a:off x="1539000" y="1634760"/>
                  <a:ext cx="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H="1" flipV="1">
                  <a:off x="1124280" y="1541520"/>
                  <a:ext cx="3384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 flipV="1">
                  <a:off x="1329480" y="16354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204920" y="1590840"/>
                  <a:ext cx="114840" cy="26280"/>
                </a:xfrm>
                <a:custGeom>
                  <a:avLst/>
                  <a:gdLst/>
                  <a:ahLst/>
                  <a:rect l="l" t="t" r="r" b="b"/>
                  <a:pathLst>
                    <a:path w="446" h="148">
                      <a:moveTo>
                        <a:pt x="446" y="148"/>
                      </a:moveTo>
                      <a:lnTo>
                        <a:pt x="347" y="95"/>
                      </a:lnTo>
                      <a:lnTo>
                        <a:pt x="239" y="51"/>
                      </a:lnTo>
                      <a:lnTo>
                        <a:pt x="124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H="1" flipV="1">
                  <a:off x="1329840" y="1635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330920" y="163620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319760" y="161748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3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 flipV="1">
                  <a:off x="99936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098000" y="1456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035360" y="1416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flipV="1">
                  <a:off x="1064520" y="14187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033560" y="1413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flipV="1">
                  <a:off x="103608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104760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1062000" y="14090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1091160" y="1461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1089720" y="14594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1190160" y="15987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10"/>
                      </a:lnTo>
                      <a:lnTo>
                        <a:pt x="17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1099800" y="1451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1103400" y="1456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 flipV="1">
                  <a:off x="107676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 flipV="1">
                  <a:off x="1110240" y="14479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075320" y="1413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 flipV="1">
                  <a:off x="1110960" y="1419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 flipV="1">
                  <a:off x="1130760" y="1431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>
                  <a:off x="1090800" y="1375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>
                  <a:off x="1107360" y="1379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>
                  <a:off x="1081440" y="13744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>
                  <a:off x="1101600" y="1416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>
                  <a:off x="1103760" y="14205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>
                  <a:off x="1086840" y="13820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 flipV="1">
                  <a:off x="1104840" y="1420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 flipV="1">
                  <a:off x="1102680" y="1413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1093320" y="1392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088640" y="13809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 flipV="1">
                  <a:off x="1107000" y="1419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>
                  <a:off x="1105920" y="14176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>
                  <a:off x="1104480" y="1413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>
                  <a:off x="1095480" y="1392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 flipV="1">
                  <a:off x="1090440" y="1379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 flipV="1">
                  <a:off x="1088280" y="1375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 flipV="1">
                  <a:off x="1092240" y="1384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 flipV="1">
                  <a:off x="110772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>
                  <a:off x="1110600" y="1423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1109520" y="142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 flipV="1">
                  <a:off x="1105920" y="1412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 flipV="1">
                  <a:off x="1091160" y="13788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 flipV="1">
                  <a:off x="1097640" y="13917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 flipV="1">
                  <a:off x="1091160" y="13773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H="1" flipV="1">
                  <a:off x="1112040" y="1422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 flipV="1">
                  <a:off x="1091160" y="13759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 flipV="1">
                  <a:off x="1112400" y="14209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1112040" y="1421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 flipV="1">
                  <a:off x="1099800" y="1391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 flipV="1">
                  <a:off x="1101240" y="1389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1099800" y="1386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1097640" y="13780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 flipV="1">
                  <a:off x="1102680" y="1388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 flipV="1">
                  <a:off x="1103400" y="1387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 flipV="1">
                  <a:off x="1107000" y="13953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 flipV="1">
                  <a:off x="1103040" y="13856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 flipV="1">
                  <a:off x="1103760" y="1385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 flipV="1">
                  <a:off x="1109520" y="13960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 flipV="1">
                  <a:off x="1105920" y="1384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>
                  <a:off x="112860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 flipV="1">
                  <a:off x="1199880" y="1593000"/>
                  <a:ext cx="61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 flipV="1">
                  <a:off x="1129680" y="14346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 flipV="1">
                  <a:off x="1104840" y="1379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 flipV="1">
                  <a:off x="1107000" y="13838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 flipV="1">
                  <a:off x="1131120" y="14349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>
                  <a:off x="110772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 flipV="1">
                  <a:off x="1108440" y="13816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H="1" flipV="1">
                  <a:off x="1131120" y="1430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1108440" y="13795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H="1" flipV="1">
                  <a:off x="1133640" y="14353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1131840" y="142956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flipV="1">
                  <a:off x="1135800" y="1435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 flipV="1">
                  <a:off x="1113120" y="13816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flipV="1">
                  <a:off x="1137600" y="14349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flipV="1">
                  <a:off x="1135800" y="1424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 flipV="1">
                  <a:off x="114012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1139400" y="1429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 flipV="1">
                  <a:off x="1137240" y="1423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 flipV="1">
                  <a:off x="1141920" y="1432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>
                  <a:off x="1144440" y="1437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 flipV="1">
                  <a:off x="1144800" y="1437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 flipV="1">
                  <a:off x="1138680" y="14230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 flipV="1">
                  <a:off x="1120680" y="13824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>
                  <a:off x="114588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>
                  <a:off x="1147680" y="1438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>
                  <a:off x="1140120" y="14223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 flipV="1">
                  <a:off x="1146600" y="14360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 flipV="1">
                  <a:off x="1146600" y="14346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1141920" y="14223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 flipV="1">
                  <a:off x="114768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1150200" y="14385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 flipV="1">
                  <a:off x="1147680" y="14324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>
                  <a:off x="1145880" y="1428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H="1" flipV="1">
                  <a:off x="1126800" y="13838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 flipV="1">
                  <a:off x="1145520" y="1422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>
                  <a:off x="1146600" y="1425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>
                  <a:off x="1152360" y="1438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V="1">
                  <a:off x="114948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1128600" y="1382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 flipV="1">
                  <a:off x="1150200" y="1431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 flipV="1">
                  <a:off x="1148760" y="1425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 flipV="1">
                  <a:off x="1154160" y="1437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 flipV="1">
                  <a:off x="115596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 flipV="1">
                  <a:off x="1149480" y="14241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 flipV="1">
                  <a:off x="1152360" y="14295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 flipV="1">
                  <a:off x="1149120" y="14230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 flipV="1">
                  <a:off x="115740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 flipV="1">
                  <a:off x="1155960" y="1436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 flipV="1">
                  <a:off x="1153440" y="14295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 flipV="1">
                  <a:off x="1154880" y="1429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115740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 flipV="1">
                  <a:off x="1141200" y="1396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 flipV="1">
                  <a:off x="115848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 flipV="1">
                  <a:off x="1158840" y="1432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 flipV="1">
                  <a:off x="1159200" y="1431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185120" y="1586880"/>
                  <a:ext cx="504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165680" y="14054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1146600" y="1434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 flipV="1">
                  <a:off x="1148760" y="14230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1150560" y="14248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77560" y="1434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>
                  <a:off x="1179000" y="1434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181880" y="1444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182600" y="14364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118512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18620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1266120" y="1419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6" name=""/>
              <p:cNvGrpSpPr/>
              <p:nvPr/>
            </p:nvGrpSpPr>
            <p:grpSpPr>
              <a:xfrm>
                <a:off x="687600" y="1370520"/>
                <a:ext cx="867240" cy="442080"/>
                <a:chOff x="687600" y="1370520"/>
                <a:chExt cx="867240" cy="442080"/>
              </a:xfrm>
            </p:grpSpPr>
            <p:sp>
              <p:nvSpPr>
                <p:cNvPr id="1797" name=""/>
                <p:cNvSpPr/>
                <p:nvPr/>
              </p:nvSpPr>
              <p:spPr>
                <a:xfrm flipV="1">
                  <a:off x="126468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V="1">
                  <a:off x="1033560" y="1811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1113120" y="1698840"/>
                  <a:ext cx="2232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40080" y="1463040"/>
                  <a:ext cx="5400" cy="36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21" y="0"/>
                      </a:moveTo>
                      <a:lnTo>
                        <a:pt x="11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>
                  <a:off x="1539000" y="1463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 flipV="1">
                  <a:off x="856800" y="1517040"/>
                  <a:ext cx="136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90920" y="15055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870840" y="15177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531800" y="1604520"/>
                  <a:ext cx="23040" cy="2160"/>
                </a:xfrm>
                <a:custGeom>
                  <a:avLst/>
                  <a:gdLst/>
                  <a:ahLst/>
                  <a:rect l="l" t="t" r="r" b="b"/>
                  <a:pathLst>
                    <a:path w="89" h="14">
                      <a:moveTo>
                        <a:pt x="0" y="0"/>
                      </a:moveTo>
                      <a:lnTo>
                        <a:pt x="28" y="6"/>
                      </a:lnTo>
                      <a:lnTo>
                        <a:pt x="57" y="11"/>
                      </a:lnTo>
                      <a:lnTo>
                        <a:pt x="89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 flipV="1">
                  <a:off x="1118160" y="1528920"/>
                  <a:ext cx="482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 flipV="1">
                  <a:off x="1524600" y="1603080"/>
                  <a:ext cx="7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531800" y="1594800"/>
                  <a:ext cx="1584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991440" y="1441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990360" y="1439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H="1" flipV="1">
                  <a:off x="1002240" y="1432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 flipV="1">
                  <a:off x="992160" y="1437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992520" y="14382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997920" y="1435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022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997560" y="1433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001160" y="1434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flipV="1">
                  <a:off x="1093320" y="1459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006920" y="1428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1100160" y="1452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107360" y="1449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064880" y="1422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063440" y="14198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096920" y="14536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 flipV="1">
                  <a:off x="1105200" y="14547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323000" y="16196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1047960" y="1374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046880" y="1371600"/>
                  <a:ext cx="3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 flipV="1">
                  <a:off x="1048320" y="137052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109520" y="1420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129320" y="14360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12824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 flipV="1">
                  <a:off x="1146240" y="1436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 flipV="1">
                  <a:off x="1158480" y="14295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145520" y="14389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1444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146240" y="1423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156680" y="1430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1197360" y="1438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 flipV="1">
                  <a:off x="1164600" y="1442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 flipV="1">
                  <a:off x="1166400" y="14425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 flipV="1">
                  <a:off x="116280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H="1" flipV="1">
                  <a:off x="1146240" y="1397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 flipV="1">
                  <a:off x="1147680" y="13957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 flipV="1">
                  <a:off x="116496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 flipV="1">
                  <a:off x="1170000" y="14432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1167120" y="14331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flipV="1">
                  <a:off x="1166040" y="14310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 flipV="1">
                  <a:off x="1172160" y="1443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 flipV="1">
                  <a:off x="1169280" y="1433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 flipV="1">
                  <a:off x="1175760" y="14450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 flipV="1">
                  <a:off x="1170720" y="1431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 flipV="1">
                  <a:off x="11779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 flipV="1">
                  <a:off x="1173240" y="14349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H="1" flipV="1">
                  <a:off x="117468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H="1" flipV="1">
                  <a:off x="117576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1175400" y="1433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177200" y="1434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 flipV="1">
                  <a:off x="1182600" y="14461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 flipV="1">
                  <a:off x="1182960" y="14461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 flipV="1">
                  <a:off x="1179000" y="1436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 flipV="1">
                  <a:off x="1166040" y="1407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 flipV="1">
                  <a:off x="1184400" y="1446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 flipV="1">
                  <a:off x="1180080" y="1435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 flipV="1">
                  <a:off x="1167120" y="14076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V="1">
                  <a:off x="1180080" y="1434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 flipV="1">
                  <a:off x="1180440" y="1435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H="1" flipV="1">
                  <a:off x="1184400" y="14436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1168560" y="14086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 flipV="1">
                  <a:off x="118620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 flipV="1">
                  <a:off x="1181160" y="143568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 flipV="1">
                  <a:off x="1185120" y="1442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1182600" y="14360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 flipV="1">
                  <a:off x="1168560" y="14047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 flipV="1">
                  <a:off x="118800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 flipV="1">
                  <a:off x="1186200" y="1441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 flipV="1">
                  <a:off x="1184400" y="14374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H="1" flipV="1">
                  <a:off x="117216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H="1" flipV="1">
                  <a:off x="1169640" y="1402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H="1" flipV="1">
                  <a:off x="1189800" y="14479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H="1" flipV="1">
                  <a:off x="118764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H="1" flipV="1">
                  <a:off x="1185120" y="1435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1189800" y="1446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1185120" y="1436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 flipV="1">
                  <a:off x="1188360" y="14410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1187280" y="14382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1174320" y="14090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 flipV="1">
                  <a:off x="1191600" y="14479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 flipV="1">
                  <a:off x="1192320" y="1447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 flipV="1">
                  <a:off x="1190160" y="1441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 flipV="1">
                  <a:off x="1188720" y="1438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H="1" flipV="1">
                  <a:off x="1176120" y="14094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 flipV="1">
                  <a:off x="118980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H="1" flipV="1">
                  <a:off x="1194120" y="14482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flipH="1" flipV="1">
                  <a:off x="1193400" y="1445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 flipV="1">
                  <a:off x="119052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H="1" flipV="1">
                  <a:off x="1196280" y="1449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H="1" flipV="1">
                  <a:off x="1173600" y="1398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H="1" flipV="1">
                  <a:off x="1179000" y="1407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H="1" flipV="1">
                  <a:off x="1192320" y="14382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H="1" flipV="1">
                  <a:off x="1180440" y="14112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H="1" flipV="1">
                  <a:off x="1177200" y="1403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H="1" flipV="1">
                  <a:off x="1174680" y="13971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flipH="1" flipV="1">
                  <a:off x="1180440" y="14068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flipH="1" flipV="1">
                  <a:off x="1194120" y="1438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H="1" flipV="1">
                  <a:off x="1182600" y="1411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V="1">
                  <a:off x="1195920" y="1438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flipH="1" flipV="1">
                  <a:off x="1176840" y="1396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H="1" flipV="1">
                  <a:off x="1205280" y="1456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 flipV="1">
                  <a:off x="1198080" y="1440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 flipV="1">
                  <a:off x="1202760" y="1450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 flipV="1">
                  <a:off x="1178280" y="1395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H="1" flipV="1">
                  <a:off x="1198080" y="14392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 flipV="1">
                  <a:off x="1198080" y="1439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flipH="1" flipV="1">
                  <a:off x="1207080" y="1456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 flipV="1">
                  <a:off x="1204560" y="14508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 flipV="1">
                  <a:off x="1180080" y="1395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H="1" flipV="1">
                  <a:off x="1184760" y="14025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H="1" flipV="1">
                  <a:off x="120276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flipH="1" flipV="1">
                  <a:off x="1183680" y="1396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flipH="1" flipV="1">
                  <a:off x="118512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H="1" flipV="1">
                  <a:off x="1203480" y="14410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H="1" flipV="1">
                  <a:off x="1188720" y="1404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H="1" flipV="1">
                  <a:off x="1205640" y="1441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H="1" flipV="1">
                  <a:off x="1187280" y="1399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 flipV="1">
                  <a:off x="1204920" y="1439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 flipV="1">
                  <a:off x="1207080" y="1441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 flipV="1">
                  <a:off x="1188000" y="1397880"/>
                  <a:ext cx="7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V="1">
                  <a:off x="1188720" y="13975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 flipV="1">
                  <a:off x="120996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 flipV="1">
                  <a:off x="1207800" y="1442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H="1" flipV="1">
                  <a:off x="1210680" y="14428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 flipV="1">
                  <a:off x="1210680" y="1442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 flipV="1">
                  <a:off x="1211400" y="14421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 flipV="1">
                  <a:off x="1199880" y="14144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1199880" y="1414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120096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 flipV="1">
                  <a:off x="119412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flipH="1" flipV="1">
                  <a:off x="1202040" y="1415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flipH="1" flipV="1">
                  <a:off x="1198440" y="14072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 flipV="1">
                  <a:off x="120204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 flipV="1">
                  <a:off x="1205280" y="14158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H="1" flipV="1">
                  <a:off x="1200240" y="14054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 flipV="1">
                  <a:off x="1187280" y="1396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 flipV="1">
                  <a:off x="1188720" y="13993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 flipV="1">
                  <a:off x="120132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216800" y="14162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H="1" flipV="1">
                  <a:off x="1220040" y="1403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flipH="1" flipV="1">
                  <a:off x="1221120" y="1405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V="1">
                  <a:off x="1198440" y="1438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1198800" y="14414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208880" y="1442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1210680" y="1441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V="1">
                  <a:off x="1212480" y="1443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31280" y="1635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524600" y="145008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119" h="35">
                      <a:moveTo>
                        <a:pt x="0" y="35"/>
                      </a:moveTo>
                      <a:lnTo>
                        <a:pt x="12" y="20"/>
                      </a:lnTo>
                      <a:lnTo>
                        <a:pt x="28" y="8"/>
                      </a:lnTo>
                      <a:lnTo>
                        <a:pt x="48" y="2"/>
                      </a:lnTo>
                      <a:lnTo>
                        <a:pt x="68" y="0"/>
                      </a:lnTo>
                      <a:lnTo>
                        <a:pt x="86" y="3"/>
                      </a:lnTo>
                      <a:lnTo>
                        <a:pt x="102" y="10"/>
                      </a:lnTo>
                      <a:lnTo>
                        <a:pt x="114" y="21"/>
                      </a:lnTo>
                      <a:lnTo>
                        <a:pt x="119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107360" y="1724400"/>
                  <a:ext cx="5400" cy="3240"/>
                </a:xfrm>
                <a:custGeom>
                  <a:avLst/>
                  <a:gdLst/>
                  <a:ahLst/>
                  <a:rect l="l" t="t" r="r" b="b"/>
                  <a:pathLst>
                    <a:path w="23" h="18">
                      <a:moveTo>
                        <a:pt x="23" y="0"/>
                      </a:moveTo>
                      <a:lnTo>
                        <a:pt x="3" y="16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330200" y="16358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8480" y="1461600"/>
                  <a:ext cx="20520" cy="324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81" y="15"/>
                      </a:moveTo>
                      <a:lnTo>
                        <a:pt x="56" y="18"/>
                      </a:lnTo>
                      <a:lnTo>
                        <a:pt x="35" y="17"/>
                      </a:lnTo>
                      <a:lnTo>
                        <a:pt x="13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87600" y="1505520"/>
                  <a:ext cx="103320" cy="34200"/>
                </a:xfrm>
                <a:custGeom>
                  <a:avLst/>
                  <a:gdLst/>
                  <a:ahLst/>
                  <a:rect l="l" t="t" r="r" b="b"/>
                  <a:pathLst>
                    <a:path w="402" h="193">
                      <a:moveTo>
                        <a:pt x="402" y="0"/>
                      </a:moveTo>
                      <a:lnTo>
                        <a:pt x="334" y="0"/>
                      </a:lnTo>
                      <a:lnTo>
                        <a:pt x="267" y="12"/>
                      </a:lnTo>
                      <a:lnTo>
                        <a:pt x="201" y="32"/>
                      </a:lnTo>
                      <a:lnTo>
                        <a:pt x="139" y="61"/>
                      </a:lnTo>
                      <a:lnTo>
                        <a:pt x="84" y="99"/>
                      </a:lnTo>
                      <a:lnTo>
                        <a:pt x="37" y="144"/>
                      </a:lnTo>
                      <a:lnTo>
                        <a:pt x="0" y="19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057680" y="1473120"/>
                  <a:ext cx="26280" cy="1800"/>
                </a:xfrm>
                <a:custGeom>
                  <a:avLst/>
                  <a:gdLst/>
                  <a:ahLst/>
                  <a:rect l="l" t="t" r="r" b="b"/>
                  <a:pathLst>
                    <a:path w="104" h="11">
                      <a:moveTo>
                        <a:pt x="104" y="6"/>
                      </a:moveTo>
                      <a:lnTo>
                        <a:pt x="74" y="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131120" y="1481400"/>
                  <a:ext cx="396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083960" y="1474200"/>
                  <a:ext cx="468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170720" y="1487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1150560" y="14698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1383480" y="15357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8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1143360" y="146772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29" y="11"/>
                      </a:moveTo>
                      <a:lnTo>
                        <a:pt x="19" y="8"/>
                      </a:lnTo>
                      <a:lnTo>
                        <a:pt x="9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992880" y="144252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1036800" y="1451520"/>
                  <a:ext cx="36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100512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1081440" y="146124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1011600" y="1446480"/>
                  <a:ext cx="136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051200" y="1455120"/>
                  <a:ext cx="144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093320" y="1463760"/>
                  <a:ext cx="36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069200" y="14583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1028880" y="14500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045800" y="14536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027800" y="1447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1045080" y="14515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1067760" y="14562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1050480" y="1452600"/>
                  <a:ext cx="140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1009800" y="1443960"/>
                  <a:ext cx="140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092960" y="14616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1080360" y="145872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1036080" y="14493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991800" y="144000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004760" y="1442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H="1" flipV="1">
                  <a:off x="1094400" y="14598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H="1" flipV="1">
                  <a:off x="1014120" y="1442160"/>
                  <a:ext cx="118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flipV="1">
                  <a:off x="1054080" y="145080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993240" y="143820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1090440" y="145620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 flipV="1">
                  <a:off x="990000" y="14346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999720" y="1436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100520" y="14576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059840" y="1448640"/>
                  <a:ext cx="100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995760" y="1385640"/>
                <a:ext cx="603360" cy="344520"/>
                <a:chOff x="995760" y="1385640"/>
                <a:chExt cx="603360" cy="34452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1019160" y="1440000"/>
                  <a:ext cx="10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1099800" y="1455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998640" y="14338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059120" y="1446840"/>
                  <a:ext cx="10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018800" y="1437480"/>
                  <a:ext cx="100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521360" y="1588320"/>
                  <a:ext cx="10080" cy="6480"/>
                </a:xfrm>
                <a:custGeom>
                  <a:avLst/>
                  <a:gdLst/>
                  <a:ahLst/>
                  <a:rect l="l" t="t" r="r" b="b"/>
                  <a:pathLst>
                    <a:path w="41" h="36">
                      <a:moveTo>
                        <a:pt x="41" y="36"/>
                      </a:moveTo>
                      <a:lnTo>
                        <a:pt x="23" y="30"/>
                      </a:lnTo>
                      <a:lnTo>
                        <a:pt x="9" y="16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065240" y="1423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1064520" y="14209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1092240" y="14637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>
                  <a:off x="1007640" y="14266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091520" y="1461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 flipV="1">
                  <a:off x="1103040" y="1454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 flipV="1">
                  <a:off x="1108080" y="1447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130760" y="1437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129680" y="14349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099080" y="14572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103400" y="1458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098000" y="1455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101600" y="1455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035720" y="1416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034280" y="1414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050840" y="1419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049040" y="1417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>
                  <a:off x="1051200" y="1416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1065600" y="1419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046160" y="1406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060920" y="1413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059840" y="14104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1061640" y="1409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 flipV="1">
                  <a:off x="113112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107720" y="1419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H="1" flipV="1">
                  <a:off x="1147680" y="1436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H="1">
                  <a:off x="1110600" y="14194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146600" y="1440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144800" y="14374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 flipV="1">
                  <a:off x="1102320" y="1385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167480" y="1409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16604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182600" y="1445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 flipV="1">
                  <a:off x="1148400" y="1422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183680" y="1447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H="1" flipV="1">
                  <a:off x="1184400" y="1444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176840" y="14349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181880" y="14364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195920" y="14392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208160" y="1441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218600" y="14198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324080" y="1620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212840" y="1410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 flipV="1">
                  <a:off x="1168200" y="1405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184760" y="13978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201320" y="1416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199520" y="1413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H="1" flipV="1">
                  <a:off x="1219320" y="1416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218240" y="1404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 flipV="1">
                  <a:off x="1279440" y="1488600"/>
                  <a:ext cx="252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 flipV="1">
                  <a:off x="1210320" y="1441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34880" y="161928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5" y="13"/>
                      </a:move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35960" y="1621800"/>
                  <a:ext cx="828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H="1" flipV="1">
                  <a:off x="121824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H="1" flipV="1">
                  <a:off x="1207440" y="1416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H="1" flipV="1">
                  <a:off x="1208880" y="14166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 flipV="1">
                  <a:off x="1210680" y="1415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 flipV="1">
                  <a:off x="1205280" y="1401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 flipV="1">
                  <a:off x="1208880" y="14094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 flipV="1">
                  <a:off x="1212480" y="1415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1207440" y="14036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 flipV="1">
                  <a:off x="121068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1207440" y="1399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1213560" y="14148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 flipV="1">
                  <a:off x="1209240" y="1404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 flipV="1">
                  <a:off x="1227600" y="1443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1215000" y="1413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1210680" y="1403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1217520" y="1417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121860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 flipV="1">
                  <a:off x="1215360" y="1411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 flipV="1">
                  <a:off x="1215360" y="1411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 flipV="1">
                  <a:off x="1212480" y="1402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1220760" y="1419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 flipV="1">
                  <a:off x="1216440" y="14094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 flipV="1">
                  <a:off x="1219680" y="14148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1214640" y="14029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 flipV="1">
                  <a:off x="122292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flipV="1">
                  <a:off x="1218240" y="1408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1216080" y="14036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1221120" y="1413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1219680" y="1407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1225800" y="14194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1220400" y="1406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1222920" y="1410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1220760" y="14054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1220760" y="1405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1227960" y="1418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flipV="1">
                  <a:off x="1225440" y="1408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flipV="1">
                  <a:off x="1229760" y="1417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flipV="1">
                  <a:off x="1230480" y="1416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1228320" y="1407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flipV="1">
                  <a:off x="1324800" y="1621800"/>
                  <a:ext cx="64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flipV="1">
                  <a:off x="1232640" y="1415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 flipV="1">
                  <a:off x="1230120" y="1406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flipV="1">
                  <a:off x="1232280" y="14065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 flipV="1">
                  <a:off x="1235160" y="1413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 flipV="1">
                  <a:off x="123624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 flipV="1">
                  <a:off x="1236240" y="14097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 flipV="1">
                  <a:off x="1236600" y="1408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 flipV="1">
                  <a:off x="1236600" y="1409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 flipV="1">
                  <a:off x="1254600" y="1418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 flipV="1">
                  <a:off x="1259280" y="1423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 flipV="1">
                  <a:off x="1260720" y="1422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274400" y="1477080"/>
                  <a:ext cx="54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284120" y="1489320"/>
                  <a:ext cx="720" cy="324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3" y="9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273320" y="1430280"/>
                  <a:ext cx="108360" cy="46440"/>
                </a:xfrm>
                <a:custGeom>
                  <a:avLst/>
                  <a:gdLst/>
                  <a:ahLst/>
                  <a:rect l="l" t="t" r="r" b="b"/>
                  <a:pathLst>
                    <a:path w="423" h="258">
                      <a:moveTo>
                        <a:pt x="5" y="258"/>
                      </a:moveTo>
                      <a:lnTo>
                        <a:pt x="3" y="245"/>
                      </a:lnTo>
                      <a:lnTo>
                        <a:pt x="0" y="202"/>
                      </a:lnTo>
                      <a:lnTo>
                        <a:pt x="10" y="159"/>
                      </a:lnTo>
                      <a:lnTo>
                        <a:pt x="30" y="120"/>
                      </a:lnTo>
                      <a:lnTo>
                        <a:pt x="61" y="82"/>
                      </a:lnTo>
                      <a:lnTo>
                        <a:pt x="101" y="51"/>
                      </a:lnTo>
                      <a:lnTo>
                        <a:pt x="147" y="26"/>
                      </a:lnTo>
                      <a:lnTo>
                        <a:pt x="198" y="8"/>
                      </a:lnTo>
                      <a:lnTo>
                        <a:pt x="249" y="0"/>
                      </a:lnTo>
                      <a:lnTo>
                        <a:pt x="300" y="1"/>
                      </a:lnTo>
                      <a:lnTo>
                        <a:pt x="347" y="13"/>
                      </a:lnTo>
                      <a:lnTo>
                        <a:pt x="389" y="33"/>
                      </a:lnTo>
                      <a:lnTo>
                        <a:pt x="423" y="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1236600" y="14076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 flipV="1">
                  <a:off x="1236600" y="14101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549800" y="14594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6" y="0"/>
                      </a:moveTo>
                      <a:lnTo>
                        <a:pt x="11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597680" y="151272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1098720" y="1727640"/>
                  <a:ext cx="86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188720" y="14443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187640" y="14418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>
                  <a:off x="1186920" y="14400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1189800" y="14382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1181520" y="14385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1189800" y="1436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151280" y="14414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1180440" y="1435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150560" y="1438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1166040" y="14353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1099800" y="1464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V="1">
                  <a:off x="1098720" y="14616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>
                  <a:off x="1102320" y="1447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1186920" y="14454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104840" y="14515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103400" y="1449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189080" y="14443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206720" y="1443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188720" y="1441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205640" y="1441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191960" y="1440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1206720" y="14400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1097280" y="1460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1104480" y="1447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>
                  <a:off x="997200" y="1439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187280" y="1449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1134720" y="14385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1186200" y="1447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096920" y="14652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1096200" y="14626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996120" y="14436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995760" y="14410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flipV="1">
                  <a:off x="1188720" y="14396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1192680" y="1468800"/>
                  <a:ext cx="23040" cy="5040"/>
                </a:xfrm>
                <a:custGeom>
                  <a:avLst/>
                  <a:gdLst/>
                  <a:ahLst/>
                  <a:rect l="l" t="t" r="r" b="b"/>
                  <a:pathLst>
                    <a:path w="91" h="32">
                      <a:moveTo>
                        <a:pt x="0" y="30"/>
                      </a:moveTo>
                      <a:lnTo>
                        <a:pt x="20" y="32"/>
                      </a:lnTo>
                      <a:lnTo>
                        <a:pt x="40" y="30"/>
                      </a:lnTo>
                      <a:lnTo>
                        <a:pt x="59" y="23"/>
                      </a:lnTo>
                      <a:lnTo>
                        <a:pt x="76" y="13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 flipV="1">
                  <a:off x="1157760" y="1470600"/>
                  <a:ext cx="23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148760" y="14414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1147680" y="143892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>
                  <a:off x="1148400" y="14374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151280" y="1469880"/>
                  <a:ext cx="6480" cy="360"/>
                </a:xfrm>
                <a:custGeom>
                  <a:avLst/>
                  <a:gdLst/>
                  <a:ahLst/>
                  <a:rect l="l" t="t" r="r" b="b"/>
                  <a:pathLst>
                    <a:path w="24" h="4">
                      <a:moveTo>
                        <a:pt x="24" y="4"/>
                      </a:moveTo>
                      <a:lnTo>
                        <a:pt x="15" y="4"/>
                      </a:lnTo>
                      <a:lnTo>
                        <a:pt x="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1181160" y="1472400"/>
                  <a:ext cx="7920" cy="7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3" y="5"/>
                      </a:move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>
                  <a:off x="1189080" y="1473480"/>
                  <a:ext cx="3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1396800" y="151200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6" y="3"/>
                      </a:lnTo>
                      <a:lnTo>
                        <a:pt x="8" y="5"/>
                      </a:lnTo>
                      <a:lnTo>
                        <a:pt x="10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999720" y="14320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1100160" y="14529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flipV="1">
                  <a:off x="1059840" y="1444680"/>
                  <a:ext cx="10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flipV="1">
                  <a:off x="1019880" y="1435320"/>
                  <a:ext cx="10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008360" y="14328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109520" y="14540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024920" y="1434600"/>
                  <a:ext cx="11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005480" y="1430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105920" y="14515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065240" y="1443240"/>
                  <a:ext cx="11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108440" y="14515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007640" y="14302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004400" y="14277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023840" y="143208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064160" y="144072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105200" y="1449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 flipV="1">
                  <a:off x="1040760" y="143316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>
                  <a:off x="1107000" y="1447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 flipV="1">
                  <a:off x="1056240" y="143676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H="1">
                  <a:off x="109404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 flipV="1">
                  <a:off x="1023480" y="1429560"/>
                  <a:ext cx="144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 flipV="1">
                  <a:off x="1062720" y="1438560"/>
                  <a:ext cx="140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 flipV="1">
                  <a:off x="1081080" y="14418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1017000" y="1428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H="1" flipV="1">
                  <a:off x="1005480" y="14259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206360" y="1459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205280" y="1456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096560" y="1430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104840" y="14320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013760" y="14126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028520" y="14155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051200" y="1420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1185120" y="1449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1132200" y="14374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191240" y="1450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1195920" y="1451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03840" y="14533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092240" y="14295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177560" y="1447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171800" y="1446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998280" y="1376280"/>
                <a:ext cx="630720" cy="183960"/>
                <a:chOff x="998280" y="1376280"/>
                <a:chExt cx="630720" cy="18396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1165320" y="1445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156680" y="1443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056960" y="1421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042920" y="14187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020600" y="141372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1036440" y="14176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1019160" y="14115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03572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155960" y="1440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027080" y="1413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1131120" y="143532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194480" y="14486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1175760" y="1445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1170000" y="14436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202760" y="14504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1103760" y="14295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05516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164960" y="1442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189800" y="14479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184760" y="1446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095840" y="1427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091160" y="1426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041480" y="1416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050840" y="1418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012680" y="1410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1184760" y="1445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 flipV="1">
                  <a:off x="1036440" y="14137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 flipV="1">
                  <a:off x="1052640" y="14158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 flipV="1">
                  <a:off x="1132200" y="143316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>
                  <a:off x="107208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 flipV="1">
                  <a:off x="1153440" y="1436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067040" y="1418040"/>
                  <a:ext cx="50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074240" y="1419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148400" y="1435320"/>
                  <a:ext cx="50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155960" y="143712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042920" y="14126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191240" y="14439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1066680" y="1415520"/>
                  <a:ext cx="9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148040" y="1432800"/>
                  <a:ext cx="9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1041840" y="1410120"/>
                  <a:ext cx="39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1190160" y="1441440"/>
                  <a:ext cx="39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1139040" y="142956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flipV="1">
                  <a:off x="1148760" y="14317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flipV="1">
                  <a:off x="1067400" y="141444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flipV="1">
                  <a:off x="1191600" y="144072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1042920" y="140868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1059120" y="1411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1045440" y="1409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1193760" y="1440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1038960" y="1406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1187280" y="1438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1140840" y="1427400"/>
                  <a:ext cx="5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1058040" y="14094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181520" y="1435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175760" y="1434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1192320" y="1438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1044000" y="1406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1147320" y="1428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H="1" flipV="1">
                  <a:off x="1046520" y="14058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1074240" y="1415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1073160" y="14126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1074600" y="1411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1146960" y="14407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1145880" y="1438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1155960" y="1432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1154880" y="14302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1155960" y="14288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 flipV="1">
                  <a:off x="1195920" y="1437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 flipV="1">
                  <a:off x="1146960" y="1421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 flipV="1">
                  <a:off x="1168920" y="1406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1184040" y="1448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182960" y="1446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145520" y="1423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1194480" y="14389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207440" y="14414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105200" y="1380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1099440" y="1386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1088280" y="1376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 flipV="1">
                  <a:off x="117828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 flipV="1">
                  <a:off x="118440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 flipV="1">
                  <a:off x="1209960" y="14400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 flipV="1">
                  <a:off x="1214280" y="14094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200960" y="14169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1199880" y="14144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H="1">
                  <a:off x="1201680" y="14137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 flipV="1">
                  <a:off x="1186920" y="1396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H="1" flipV="1">
                  <a:off x="1219680" y="1403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1256040" y="142056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1254600" y="1418040"/>
                  <a:ext cx="43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1217520" y="1418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 flipV="1">
                  <a:off x="1235520" y="1406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1233360" y="14076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 flipV="1">
                  <a:off x="1265040" y="14180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 flipV="1">
                  <a:off x="1265040" y="1416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1419480" y="1554480"/>
                  <a:ext cx="720" cy="5760"/>
                </a:xfrm>
                <a:custGeom>
                  <a:avLst/>
                  <a:gdLst/>
                  <a:ahLst/>
                  <a:rect l="l" t="t" r="r" b="b"/>
                  <a:pathLst>
                    <a:path w="3" h="33">
                      <a:moveTo>
                        <a:pt x="3" y="0"/>
                      </a:moveTo>
                      <a:lnTo>
                        <a:pt x="1" y="11"/>
                      </a:lnTo>
                      <a:lnTo>
                        <a:pt x="1" y="21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453320" y="1452600"/>
                  <a:ext cx="6120" cy="37080"/>
                </a:xfrm>
                <a:custGeom>
                  <a:avLst/>
                  <a:gdLst/>
                  <a:ahLst/>
                  <a:rect l="l" t="t" r="r" b="b"/>
                  <a:pathLst>
                    <a:path w="23" h="208">
                      <a:moveTo>
                        <a:pt x="0" y="208"/>
                      </a:moveTo>
                      <a:lnTo>
                        <a:pt x="20" y="138"/>
                      </a:lnTo>
                      <a:lnTo>
                        <a:pt x="23" y="69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420560" y="154980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6" h="27">
                      <a:moveTo>
                        <a:pt x="6" y="0"/>
                      </a:moveTo>
                      <a:lnTo>
                        <a:pt x="5" y="9"/>
                      </a:lnTo>
                      <a:lnTo>
                        <a:pt x="1" y="19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1422000" y="1532880"/>
                  <a:ext cx="7560" cy="16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1429920" y="152748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2" y="2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V="1">
                  <a:off x="1432440" y="1490040"/>
                  <a:ext cx="208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1522080" y="145620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36">
                      <a:moveTo>
                        <a:pt x="8" y="0"/>
                      </a:moveTo>
                      <a:lnTo>
                        <a:pt x="1" y="14"/>
                      </a:lnTo>
                      <a:lnTo>
                        <a:pt x="0" y="31"/>
                      </a:lnTo>
                      <a:lnTo>
                        <a:pt x="1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1553760" y="145800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1599120" y="1485360"/>
                  <a:ext cx="29880" cy="7920"/>
                </a:xfrm>
                <a:custGeom>
                  <a:avLst/>
                  <a:gdLst/>
                  <a:ahLst/>
                  <a:rect l="l" t="t" r="r" b="b"/>
                  <a:pathLst>
                    <a:path w="116" h="46">
                      <a:moveTo>
                        <a:pt x="0" y="46"/>
                      </a:moveTo>
                      <a:lnTo>
                        <a:pt x="13" y="29"/>
                      </a:lnTo>
                      <a:lnTo>
                        <a:pt x="30" y="16"/>
                      </a:lnTo>
                      <a:lnTo>
                        <a:pt x="51" y="6"/>
                      </a:lnTo>
                      <a:lnTo>
                        <a:pt x="73" y="0"/>
                      </a:lnTo>
                      <a:lnTo>
                        <a:pt x="96" y="0"/>
                      </a:lnTo>
                      <a:lnTo>
                        <a:pt x="11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V="1">
                  <a:off x="1224360" y="14216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1222560" y="141948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>
                  <a:off x="1227960" y="140544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V="1">
                  <a:off x="1136520" y="14378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1164960" y="1433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V="1">
                  <a:off x="1136160" y="1435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1153800" y="14328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1152000" y="1430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H="1">
                  <a:off x="1139760" y="14205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V="1">
                  <a:off x="1069560" y="14230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069200" y="1421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055160" y="14205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1054440" y="1418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1072440" y="1415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>
                  <a:off x="1254600" y="1416960"/>
                  <a:ext cx="10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V="1">
                  <a:off x="1259640" y="1420560"/>
                  <a:ext cx="61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V="1">
                  <a:off x="1257840" y="1418040"/>
                  <a:ext cx="68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1208160" y="14187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V="1">
                  <a:off x="1207440" y="14158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>
                  <a:off x="1208160" y="1415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1175400" y="14119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V="1">
                  <a:off x="1174680" y="1409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H="1">
                  <a:off x="1211040" y="1401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998640" y="14432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998280" y="1440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>
                  <a:off x="1001520" y="14256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1175760" y="1437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H="1">
                  <a:off x="1181520" y="1434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V="1">
                  <a:off x="1174680" y="14342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>
                  <a:off x="1175760" y="1433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>
                  <a:off x="1167480" y="143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>
                  <a:off x="1152720" y="14284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H="1">
                  <a:off x="1071360" y="1411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1211400" y="14083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1003680" y="1430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1002600" y="1427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1190880" y="1438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>
                  <a:off x="1135800" y="14338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1154160" y="1432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1153800" y="1430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141200" y="14248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114012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1107720" y="14223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V="1">
                  <a:off x="1053360" y="1420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1107000" y="14198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1107720" y="1418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1052640" y="1418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>
                  <a:off x="1053720" y="1416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1072800" y="1415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1072440" y="14126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1040760" y="14126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1039680" y="1410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104328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>
                  <a:off x="1058040" y="14083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1042200" y="1406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1206360" y="14187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1205640" y="1416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>
                  <a:off x="1174320" y="1407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H="1">
                  <a:off x="1004400" y="14256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H="1">
                  <a:off x="1168200" y="1431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1140840" y="14205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103788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1134000" y="1435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1038960" y="1418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>
                  <a:off x="1222200" y="1418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120600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1173240" y="14119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1172160" y="140940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123084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1230120" y="14065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1213200" y="140580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1168200" y="1435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1167120" y="143352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153800" y="14281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H="1">
                  <a:off x="1072440" y="1411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H="1" flipV="1">
                  <a:off x="1040040" y="14079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221480" y="14223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22076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190880" y="14360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1067040" y="14241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1065960" y="142128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066680" y="14194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042200" y="140436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059120" y="14083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 flipV="1">
                  <a:off x="1173600" y="14328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1045440" y="1405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>
                  <a:off x="1177560" y="14335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182240" y="1434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>
                  <a:off x="1193400" y="1437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H="1">
                  <a:off x="1215720" y="14414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 flipV="1">
                  <a:off x="1225080" y="1443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>
                  <a:off x="1203840" y="1438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1164600" y="1431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208160" y="14396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 flipV="1">
                  <a:off x="1103760" y="1417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 flipV="1">
                  <a:off x="1100160" y="14169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109520" y="14184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9" name=""/>
              <p:cNvSpPr/>
              <p:nvPr/>
            </p:nvSpPr>
            <p:spPr>
              <a:xfrm>
                <a:off x="1146600" y="14259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143360" y="142524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103760" y="141660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141920" y="1423080"/>
                <a:ext cx="3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102680" y="141408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1025640" y="139536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1144080" y="142092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flipV="1">
                <a:off x="1039320" y="139860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1103400" y="141264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1068840" y="14047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068840" y="13896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107720" y="139824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170360" y="141156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181880" y="141372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085040" y="1393200"/>
                <a:ext cx="9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203840" y="1418400"/>
                <a:ext cx="25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084320" y="139104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202040" y="1416240"/>
                <a:ext cx="3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180440" y="14115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168560" y="140904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107360" y="13960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067040" y="1387440"/>
                <a:ext cx="2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 flipV="1">
                <a:off x="1203840" y="14144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 flipV="1">
                <a:off x="1088280" y="138960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1170720" y="140688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>
                <a:off x="1199880" y="14115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142280" y="139932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178640" y="140616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093320" y="13874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077120" y="13838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210320" y="14119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189800" y="140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141200" y="139680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177560" y="140364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075320" y="138132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092600" y="13849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208880" y="14097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189080" y="1405080"/>
                <a:ext cx="97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 flipV="1">
                <a:off x="1143000" y="139536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 flipV="1">
                <a:off x="1178640" y="1401480"/>
                <a:ext cx="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1210320" y="14083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 flipV="1">
                <a:off x="1094040" y="138276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flipV="1">
                <a:off x="1077120" y="13795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flipV="1">
                <a:off x="1190520" y="1403280"/>
                <a:ext cx="97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186200" y="14018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208160" y="140652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185120" y="13996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195560" y="1401840"/>
                <a:ext cx="108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098720" y="13813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181520" y="139896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207440" y="14040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215360" y="14058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122480" y="1385640"/>
                <a:ext cx="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082160" y="1377360"/>
                <a:ext cx="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114200" y="138420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flipV="1">
                <a:off x="1217160" y="140184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219680" y="14216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218600" y="14194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211760" y="14122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211040" y="1409760"/>
                <a:ext cx="1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 flipV="1">
                <a:off x="1233000" y="14054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68200" y="14108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1089000" y="1374120"/>
                <a:ext cx="1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167480" y="140832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 flipV="1">
                <a:off x="1202760" y="14140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flipV="1">
                <a:off x="1184760" y="139500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216080" y="14036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232640" y="140688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flipV="1">
                <a:off x="1106280" y="1377720"/>
                <a:ext cx="1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1219680" y="141804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217520" y="140616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233000" y="140940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202040" y="141804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201320" y="141552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184760" y="139968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183680" y="139716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1257840" y="1418760"/>
                <a:ext cx="2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1385280" y="1537560"/>
                <a:ext cx="828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flipV="1">
                <a:off x="1399320" y="1513440"/>
                <a:ext cx="64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1495440" y="1579320"/>
                <a:ext cx="27720" cy="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1591200" y="149400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1561680" y="1513440"/>
                <a:ext cx="360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95440" y="1602360"/>
                <a:ext cx="29160" cy="7920"/>
              </a:xfrm>
              <a:custGeom>
                <a:avLst/>
                <a:gdLst/>
                <a:ahLst/>
                <a:rect l="l" t="t" r="r" b="b"/>
                <a:pathLst>
                  <a:path w="116" h="47">
                    <a:moveTo>
                      <a:pt x="0" y="47"/>
                    </a:moveTo>
                    <a:lnTo>
                      <a:pt x="14" y="30"/>
                    </a:lnTo>
                    <a:lnTo>
                      <a:pt x="32" y="17"/>
                    </a:lnTo>
                    <a:lnTo>
                      <a:pt x="51" y="7"/>
                    </a:lnTo>
                    <a:lnTo>
                      <a:pt x="73" y="2"/>
                    </a:lnTo>
                    <a:lnTo>
                      <a:pt x="96" y="0"/>
                    </a:lnTo>
                    <a:lnTo>
                      <a:pt x="116" y="5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640520" y="1496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0"/>
                    </a:moveTo>
                    <a:lnTo>
                      <a:pt x="11" y="3"/>
                    </a:lnTo>
                    <a:lnTo>
                      <a:pt x="5" y="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1070640" y="14126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1056960" y="141192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1055880" y="140940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040400" y="141264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38960" y="141012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1038960" y="140868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041480" y="140652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1041480" y="140508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1177200" y="139464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03760" y="138816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102680" y="13860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1038600" y="141408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1095480" y="13910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1101240" y="138456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1084320" y="138096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179360" y="13989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178640" y="13964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212480" y="140328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094400" y="13953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093320" y="13928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1179720" y="13946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083600" y="13852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082160" y="13827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1230480" y="1405440"/>
                <a:ext cx="2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1213560" y="140184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098000" y="1378800"/>
                <a:ext cx="6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180080" y="1396440"/>
                <a:ext cx="3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194480" y="1399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215000" y="140328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113120" y="1381680"/>
                <a:ext cx="5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120680" y="138312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81800" y="1374840"/>
                <a:ext cx="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1181880" y="139428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 flipV="1">
                <a:off x="1079640" y="137268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 flipV="1">
                <a:off x="1114200" y="1379880"/>
                <a:ext cx="144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H="1" flipV="1">
                <a:off x="1193400" y="1396800"/>
                <a:ext cx="133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 flipV="1">
                <a:off x="1096560" y="137628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1216440" y="140184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 flipV="1">
                <a:off x="1629000" y="1486440"/>
                <a:ext cx="15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590120" y="1468800"/>
                <a:ext cx="1328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382040" y="1441080"/>
                <a:ext cx="61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flipV="1">
                <a:off x="1387800" y="1446840"/>
                <a:ext cx="20520" cy="2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1408320" y="1473840"/>
                <a:ext cx="180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1410840" y="1477440"/>
                <a:ext cx="64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555560" y="14572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591200" y="1481040"/>
                <a:ext cx="6480" cy="21960"/>
              </a:xfrm>
              <a:custGeom>
                <a:avLst/>
                <a:gdLst/>
                <a:ahLst/>
                <a:rect l="l" t="t" r="r" b="b"/>
                <a:pathLst>
                  <a:path w="27" h="124">
                    <a:moveTo>
                      <a:pt x="0" y="124"/>
                    </a:moveTo>
                    <a:lnTo>
                      <a:pt x="22" y="81"/>
                    </a:lnTo>
                    <a:lnTo>
                      <a:pt x="27" y="37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560600" y="1554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1400400" y="1642680"/>
                <a:ext cx="109080" cy="12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>
                <a:off x="1551960" y="1581480"/>
                <a:ext cx="147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1644120" y="1494000"/>
                <a:ext cx="2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1568880" y="1589760"/>
                <a:ext cx="648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326240" y="1764360"/>
                <a:ext cx="74160" cy="20520"/>
              </a:xfrm>
              <a:custGeom>
                <a:avLst/>
                <a:gdLst/>
                <a:ahLst/>
                <a:rect l="l" t="t" r="r" b="b"/>
                <a:pathLst>
                  <a:path w="288" h="114">
                    <a:moveTo>
                      <a:pt x="288" y="0"/>
                    </a:moveTo>
                    <a:lnTo>
                      <a:pt x="265" y="30"/>
                    </a:lnTo>
                    <a:lnTo>
                      <a:pt x="236" y="58"/>
                    </a:lnTo>
                    <a:lnTo>
                      <a:pt x="201" y="79"/>
                    </a:lnTo>
                    <a:lnTo>
                      <a:pt x="163" y="97"/>
                    </a:lnTo>
                    <a:lnTo>
                      <a:pt x="122" y="109"/>
                    </a:lnTo>
                    <a:lnTo>
                      <a:pt x="81" y="114"/>
                    </a:lnTo>
                    <a:lnTo>
                      <a:pt x="38" y="112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39440" y="1551960"/>
                <a:ext cx="49680" cy="11880"/>
              </a:xfrm>
              <a:custGeom>
                <a:avLst/>
                <a:gdLst/>
                <a:ahLst/>
                <a:rect l="l" t="t" r="r" b="b"/>
                <a:pathLst>
                  <a:path w="194" h="66">
                    <a:moveTo>
                      <a:pt x="0" y="66"/>
                    </a:moveTo>
                    <a:lnTo>
                      <a:pt x="20" y="43"/>
                    </a:lnTo>
                    <a:lnTo>
                      <a:pt x="44" y="23"/>
                    </a:lnTo>
                    <a:lnTo>
                      <a:pt x="72" y="10"/>
                    </a:lnTo>
                    <a:lnTo>
                      <a:pt x="105" y="2"/>
                    </a:lnTo>
                    <a:lnTo>
                      <a:pt x="137" y="0"/>
                    </a:lnTo>
                    <a:lnTo>
                      <a:pt x="166" y="5"/>
                    </a:lnTo>
                    <a:lnTo>
                      <a:pt x="193" y="17"/>
                    </a:lnTo>
                    <a:lnTo>
                      <a:pt x="194" y="1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26480" y="153000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266" h="154">
                    <a:moveTo>
                      <a:pt x="0" y="76"/>
                    </a:moveTo>
                    <a:lnTo>
                      <a:pt x="23" y="46"/>
                    </a:lnTo>
                    <a:lnTo>
                      <a:pt x="56" y="23"/>
                    </a:lnTo>
                    <a:lnTo>
                      <a:pt x="93" y="7"/>
                    </a:lnTo>
                    <a:lnTo>
                      <a:pt x="135" y="0"/>
                    </a:lnTo>
                    <a:lnTo>
                      <a:pt x="174" y="2"/>
                    </a:lnTo>
                    <a:lnTo>
                      <a:pt x="209" y="14"/>
                    </a:lnTo>
                    <a:lnTo>
                      <a:pt x="238" y="32"/>
                    </a:lnTo>
                    <a:lnTo>
                      <a:pt x="256" y="58"/>
                    </a:lnTo>
                    <a:lnTo>
                      <a:pt x="266" y="88"/>
                    </a:lnTo>
                    <a:lnTo>
                      <a:pt x="263" y="121"/>
                    </a:lnTo>
                    <a:lnTo>
                      <a:pt x="250" y="15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32240" y="1535400"/>
                <a:ext cx="57240" cy="11520"/>
              </a:xfrm>
              <a:custGeom>
                <a:avLst/>
                <a:gdLst/>
                <a:ahLst/>
                <a:rect l="l" t="t" r="r" b="b"/>
                <a:pathLst>
                  <a:path w="226" h="64">
                    <a:moveTo>
                      <a:pt x="0" y="64"/>
                    </a:moveTo>
                    <a:lnTo>
                      <a:pt x="21" y="40"/>
                    </a:lnTo>
                    <a:lnTo>
                      <a:pt x="48" y="20"/>
                    </a:lnTo>
                    <a:lnTo>
                      <a:pt x="81" y="7"/>
                    </a:lnTo>
                    <a:lnTo>
                      <a:pt x="115" y="0"/>
                    </a:lnTo>
                    <a:lnTo>
                      <a:pt x="150" y="2"/>
                    </a:lnTo>
                    <a:lnTo>
                      <a:pt x="179" y="12"/>
                    </a:lnTo>
                    <a:lnTo>
                      <a:pt x="204" y="28"/>
                    </a:lnTo>
                    <a:lnTo>
                      <a:pt x="221" y="49"/>
                    </a:lnTo>
                    <a:lnTo>
                      <a:pt x="226" y="5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562760" y="15969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0"/>
                    </a:moveTo>
                    <a:lnTo>
                      <a:pt x="18" y="5"/>
                    </a:lnTo>
                    <a:lnTo>
                      <a:pt x="13" y="10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044000" y="13777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1042920" y="1375560"/>
                <a:ext cx="97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1043640" y="1374840"/>
                <a:ext cx="72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H="1">
                <a:off x="1094400" y="13410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030320" y="134028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250" h="79">
                    <a:moveTo>
                      <a:pt x="250" y="7"/>
                    </a:moveTo>
                    <a:lnTo>
                      <a:pt x="216" y="0"/>
                    </a:lnTo>
                    <a:lnTo>
                      <a:pt x="170" y="0"/>
                    </a:lnTo>
                    <a:lnTo>
                      <a:pt x="122" y="8"/>
                    </a:lnTo>
                    <a:lnTo>
                      <a:pt x="76" y="26"/>
                    </a:lnTo>
                    <a:lnTo>
                      <a:pt x="36" y="4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>
                <a:off x="1095120" y="134100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flipV="1">
                <a:off x="1095840" y="134100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098000" y="1341720"/>
                <a:ext cx="455760" cy="9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 flipV="1">
                <a:off x="1553400" y="143928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1555560" y="144000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44480" y="14896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7" y="4"/>
                    </a:lnTo>
                    <a:lnTo>
                      <a:pt x="10" y="10"/>
                    </a:lnTo>
                    <a:lnTo>
                      <a:pt x="12" y="1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575720" y="158652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244880" y="1411560"/>
                <a:ext cx="210960" cy="41040"/>
              </a:xfrm>
              <a:custGeom>
                <a:avLst/>
                <a:gdLst/>
                <a:ahLst/>
                <a:rect l="l" t="t" r="r" b="b"/>
                <a:pathLst>
                  <a:path w="819" h="229">
                    <a:moveTo>
                      <a:pt x="819" y="229"/>
                    </a:moveTo>
                    <a:lnTo>
                      <a:pt x="791" y="170"/>
                    </a:lnTo>
                    <a:lnTo>
                      <a:pt x="748" y="115"/>
                    </a:lnTo>
                    <a:lnTo>
                      <a:pt x="692" y="69"/>
                    </a:lnTo>
                    <a:lnTo>
                      <a:pt x="625" y="34"/>
                    </a:lnTo>
                    <a:lnTo>
                      <a:pt x="548" y="11"/>
                    </a:lnTo>
                    <a:lnTo>
                      <a:pt x="467" y="0"/>
                    </a:lnTo>
                    <a:lnTo>
                      <a:pt x="380" y="1"/>
                    </a:lnTo>
                    <a:lnTo>
                      <a:pt x="294" y="16"/>
                    </a:lnTo>
                    <a:lnTo>
                      <a:pt x="209" y="44"/>
                    </a:lnTo>
                    <a:lnTo>
                      <a:pt x="131" y="84"/>
                    </a:lnTo>
                    <a:lnTo>
                      <a:pt x="59" y="132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520640" y="157968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10" h="49">
                    <a:moveTo>
                      <a:pt x="4" y="49"/>
                    </a:moveTo>
                    <a:lnTo>
                      <a:pt x="0" y="34"/>
                    </a:lnTo>
                    <a:lnTo>
                      <a:pt x="2" y="1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576080" y="158724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60600" y="1555200"/>
                <a:ext cx="1800" cy="1548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0"/>
                    </a:moveTo>
                    <a:lnTo>
                      <a:pt x="1" y="47"/>
                    </a:lnTo>
                    <a:lnTo>
                      <a:pt x="8" y="8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54840" y="145728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>
                <a:off x="1575720" y="1588320"/>
                <a:ext cx="7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629000" y="1558800"/>
                <a:ext cx="57600" cy="11880"/>
              </a:xfrm>
              <a:custGeom>
                <a:avLst/>
                <a:gdLst/>
                <a:ahLst/>
                <a:rect l="l" t="t" r="r" b="b"/>
                <a:pathLst>
                  <a:path w="225" h="66">
                    <a:moveTo>
                      <a:pt x="225" y="0"/>
                    </a:moveTo>
                    <a:lnTo>
                      <a:pt x="204" y="25"/>
                    </a:lnTo>
                    <a:lnTo>
                      <a:pt x="177" y="45"/>
                    </a:lnTo>
                    <a:lnTo>
                      <a:pt x="144" y="58"/>
                    </a:lnTo>
                    <a:lnTo>
                      <a:pt x="110" y="66"/>
                    </a:lnTo>
                    <a:lnTo>
                      <a:pt x="77" y="64"/>
                    </a:lnTo>
                    <a:lnTo>
                      <a:pt x="46" y="55"/>
                    </a:lnTo>
                    <a:lnTo>
                      <a:pt x="21" y="38"/>
                    </a:lnTo>
                    <a:lnTo>
                      <a:pt x="4" y="1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1688040" y="1557720"/>
                <a:ext cx="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621800" y="154368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258" y="87"/>
                    </a:moveTo>
                    <a:lnTo>
                      <a:pt x="243" y="106"/>
                    </a:lnTo>
                    <a:lnTo>
                      <a:pt x="210" y="129"/>
                    </a:lnTo>
                    <a:lnTo>
                      <a:pt x="172" y="145"/>
                    </a:lnTo>
                    <a:lnTo>
                      <a:pt x="133" y="152"/>
                    </a:lnTo>
                    <a:lnTo>
                      <a:pt x="93" y="150"/>
                    </a:lnTo>
                    <a:lnTo>
                      <a:pt x="57" y="140"/>
                    </a:lnTo>
                    <a:lnTo>
                      <a:pt x="29" y="120"/>
                    </a:lnTo>
                    <a:lnTo>
                      <a:pt x="9" y="96"/>
                    </a:lnTo>
                    <a:lnTo>
                      <a:pt x="0" y="64"/>
                    </a:lnTo>
                    <a:lnTo>
                      <a:pt x="3" y="3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722960" y="14972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15" y="5"/>
                    </a:lnTo>
                    <a:lnTo>
                      <a:pt x="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729080" y="149904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22440" y="146304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62760" y="1571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49" h="85">
                    <a:moveTo>
                      <a:pt x="0" y="0"/>
                    </a:moveTo>
                    <a:lnTo>
                      <a:pt x="3" y="5"/>
                    </a:lnTo>
                    <a:lnTo>
                      <a:pt x="21" y="48"/>
                    </a:lnTo>
                    <a:lnTo>
                      <a:pt x="49" y="85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H="1" flipV="1">
                <a:off x="1562400" y="1571040"/>
                <a:ext cx="972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H="1">
                <a:off x="1686960" y="155664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>
                <a:off x="1636920" y="1563840"/>
                <a:ext cx="18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56640" y="144000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12" h="106">
                    <a:moveTo>
                      <a:pt x="112" y="106"/>
                    </a:moveTo>
                    <a:lnTo>
                      <a:pt x="97" y="73"/>
                    </a:lnTo>
                    <a:lnTo>
                      <a:pt x="71" y="42"/>
                    </a:lnTo>
                    <a:lnTo>
                      <a:pt x="3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 flipV="1">
                <a:off x="1585440" y="1458720"/>
                <a:ext cx="10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54840" y="14558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628640" y="1546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2" y="69"/>
                    </a:moveTo>
                    <a:lnTo>
                      <a:pt x="0" y="56"/>
                    </a:lnTo>
                    <a:lnTo>
                      <a:pt x="2" y="28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646640" y="149184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0"/>
                    </a:moveTo>
                    <a:lnTo>
                      <a:pt x="3" y="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747080" y="15217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2" h="211">
                    <a:moveTo>
                      <a:pt x="0" y="211"/>
                    </a:moveTo>
                    <a:lnTo>
                      <a:pt x="26" y="158"/>
                    </a:lnTo>
                    <a:lnTo>
                      <a:pt x="41" y="104"/>
                    </a:lnTo>
                    <a:lnTo>
                      <a:pt x="42" y="5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1732680" y="1559880"/>
                <a:ext cx="144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H="1">
                <a:off x="1746720" y="1591200"/>
                <a:ext cx="147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1747080" y="1593360"/>
                <a:ext cx="1584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1745640" y="16084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644480" y="1610640"/>
                <a:ext cx="102240" cy="34200"/>
              </a:xfrm>
              <a:custGeom>
                <a:avLst/>
                <a:gdLst/>
                <a:ahLst/>
                <a:rect l="l" t="t" r="r" b="b"/>
                <a:pathLst>
                  <a:path w="399" h="191">
                    <a:moveTo>
                      <a:pt x="399" y="0"/>
                    </a:moveTo>
                    <a:lnTo>
                      <a:pt x="362" y="47"/>
                    </a:lnTo>
                    <a:lnTo>
                      <a:pt x="316" y="92"/>
                    </a:lnTo>
                    <a:lnTo>
                      <a:pt x="260" y="130"/>
                    </a:lnTo>
                    <a:lnTo>
                      <a:pt x="200" y="158"/>
                    </a:lnTo>
                    <a:lnTo>
                      <a:pt x="134" y="179"/>
                    </a:lnTo>
                    <a:lnTo>
                      <a:pt x="66" y="189"/>
                    </a:lnTo>
                    <a:lnTo>
                      <a:pt x="0" y="19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1753200" y="16038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1753920" y="16027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1762920" y="159192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762200" y="15620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43" h="162">
                    <a:moveTo>
                      <a:pt x="0" y="162"/>
                    </a:moveTo>
                    <a:lnTo>
                      <a:pt x="27" y="109"/>
                    </a:lnTo>
                    <a:lnTo>
                      <a:pt x="41" y="55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688400" y="15462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60">
                    <a:moveTo>
                      <a:pt x="7" y="0"/>
                    </a:moveTo>
                    <a:lnTo>
                      <a:pt x="10" y="17"/>
                    </a:lnTo>
                    <a:lnTo>
                      <a:pt x="7" y="45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729440" y="149904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02" h="125">
                    <a:moveTo>
                      <a:pt x="102" y="125"/>
                    </a:moveTo>
                    <a:lnTo>
                      <a:pt x="77" y="76"/>
                    </a:lnTo>
                    <a:lnTo>
                      <a:pt x="4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 flipV="1">
                <a:off x="1755720" y="1521720"/>
                <a:ext cx="1476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1770480" y="1552680"/>
                <a:ext cx="18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1772640" y="1558440"/>
                <a:ext cx="36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1772640" y="1558440"/>
                <a:ext cx="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763640" y="156132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38" h="170">
                    <a:moveTo>
                      <a:pt x="36" y="0"/>
                    </a:moveTo>
                    <a:lnTo>
                      <a:pt x="38" y="18"/>
                    </a:lnTo>
                    <a:lnTo>
                      <a:pt x="38" y="73"/>
                    </a:lnTo>
                    <a:lnTo>
                      <a:pt x="23" y="127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89" name="" descr=""/>
            <p:cNvPicPr/>
            <p:nvPr/>
          </p:nvPicPr>
          <p:blipFill>
            <a:blip r:embed="rId4"/>
            <a:srcRect l="9921" t="0" r="20630" b="0"/>
            <a:stretch/>
          </p:blipFill>
          <p:spPr>
            <a:xfrm>
              <a:off x="4602600" y="2484720"/>
              <a:ext cx="14418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0" name=""/>
            <p:cNvSpPr/>
            <p:nvPr/>
          </p:nvSpPr>
          <p:spPr>
            <a:xfrm rot="18000000">
              <a:off x="2029320" y="1568160"/>
              <a:ext cx="233640" cy="824400"/>
            </a:xfrm>
            <a:prstGeom prst="upDownArrow">
              <a:avLst>
                <a:gd name="adj1" fmla="val 50000"/>
                <a:gd name="adj2" fmla="val 70243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rot="14400000">
              <a:off x="4018680" y="1726200"/>
              <a:ext cx="250920" cy="857160"/>
            </a:xfrm>
            <a:prstGeom prst="upDownArrow">
              <a:avLst>
                <a:gd name="adj1" fmla="val 50000"/>
                <a:gd name="adj2" fmla="val 68005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rot="18000000">
              <a:off x="3992760" y="2613960"/>
              <a:ext cx="234720" cy="821880"/>
            </a:xfrm>
            <a:prstGeom prst="upDownArrow">
              <a:avLst>
                <a:gd name="adj1" fmla="val 50000"/>
                <a:gd name="adj2" fmla="val 69706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8720" y="188460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nso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36840" y="3897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36720" y="3897000"/>
              <a:ext cx="21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afety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51640" y="21693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14400000">
              <a:off x="2039040" y="3042360"/>
              <a:ext cx="209520" cy="757080"/>
            </a:xfrm>
            <a:prstGeom prst="upDownArrow">
              <a:avLst>
                <a:gd name="adj1" fmla="val 50000"/>
                <a:gd name="adj2" fmla="val 71933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8" name="" descr=""/>
          <p:cNvPicPr/>
          <p:nvPr/>
        </p:nvPicPr>
        <p:blipFill>
          <a:blip r:embed="rId5"/>
          <a:stretch/>
        </p:blipFill>
        <p:spPr>
          <a:xfrm>
            <a:off x="5487840" y="361152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599" name=""/>
          <p:cNvSpPr/>
          <p:nvPr/>
        </p:nvSpPr>
        <p:spPr>
          <a:xfrm>
            <a:off x="581400" y="4737240"/>
            <a:ext cx="42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Only the optimal interaction of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components leads to reduced veloc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if huge vehicles are imp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0" name="" descr=""/>
          <p:cNvPicPr/>
          <p:nvPr/>
        </p:nvPicPr>
        <p:blipFill>
          <a:blip r:embed="rId6"/>
          <a:stretch/>
        </p:blipFill>
        <p:spPr>
          <a:xfrm>
            <a:off x="7542360" y="1908000"/>
            <a:ext cx="9014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Problem Solving Environm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471600" y="5200560"/>
            <a:ext cx="2303280" cy="7336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sult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Variant Com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3" name="" descr=""/>
          <p:cNvPicPr/>
          <p:nvPr/>
        </p:nvPicPr>
        <p:blipFill>
          <a:blip r:embed="rId1"/>
          <a:stretch/>
        </p:blipFill>
        <p:spPr>
          <a:xfrm>
            <a:off x="3382920" y="2595600"/>
            <a:ext cx="4433760" cy="3324240"/>
          </a:xfrm>
          <a:prstGeom prst="rect">
            <a:avLst/>
          </a:prstGeom>
          <a:ln w="0">
            <a:noFill/>
          </a:ln>
        </p:spPr>
      </p:pic>
      <p:sp>
        <p:nvSpPr>
          <p:cNvPr id="2604" name=""/>
          <p:cNvSpPr/>
          <p:nvPr/>
        </p:nvSpPr>
        <p:spPr>
          <a:xfrm>
            <a:off x="471600" y="442440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tandard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Knowledge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71600" y="356868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AE/CAD/CA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71600" y="272268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ully Web-integ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erver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311720" y="1187280"/>
            <a:ext cx="1628640" cy="65088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0" y="0"/>
                </a:lnTo>
                <a:lnTo>
                  <a:pt x="21600" y="10800"/>
                </a:lnTo>
                <a:lnTo>
                  <a:pt x="17010" y="21600"/>
                </a:lnTo>
                <a:lnTo>
                  <a:pt x="0" y="21600"/>
                </a:lnTo>
                <a:lnTo>
                  <a:pt x="459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5634000" y="1187280"/>
            <a:ext cx="2576520" cy="650880"/>
          </a:xfrm>
          <a:custGeom>
            <a:avLst/>
            <a:gdLst>
              <a:gd name="textAreaLeft" fmla="*/ 0 w 2576520"/>
              <a:gd name="textAreaRight" fmla="*/ 2576880 w 25765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7" y="0"/>
                </a:lnTo>
                <a:lnTo>
                  <a:pt x="21600" y="10800"/>
                </a:lnTo>
                <a:lnTo>
                  <a:pt x="18607" y="21600"/>
                </a:lnTo>
                <a:lnTo>
                  <a:pt x="0" y="21600"/>
                </a:lnTo>
                <a:lnTo>
                  <a:pt x="2993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463680" y="1187280"/>
            <a:ext cx="2060280" cy="650880"/>
          </a:xfrm>
          <a:custGeom>
            <a:avLst/>
            <a:gdLst>
              <a:gd name="textAreaLeft" fmla="*/ 0 w 2060280"/>
              <a:gd name="textAreaRight" fmla="*/ 2060640 w 20602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9" y="0"/>
                </a:lnTo>
                <a:lnTo>
                  <a:pt x="21600" y="10800"/>
                </a:lnTo>
                <a:lnTo>
                  <a:pt x="17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M/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219400" y="1187280"/>
            <a:ext cx="2396880" cy="650880"/>
          </a:xfrm>
          <a:custGeom>
            <a:avLst/>
            <a:gdLst>
              <a:gd name="textAreaLeft" fmla="*/ 0 w 2396880"/>
              <a:gd name="textAreaRight" fmla="*/ 2397240 w 2396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00" y="0"/>
                </a:lnTo>
                <a:lnTo>
                  <a:pt x="21600" y="10800"/>
                </a:lnTo>
                <a:lnTo>
                  <a:pt x="18400" y="21600"/>
                </a:lnTo>
                <a:lnTo>
                  <a:pt x="0" y="21600"/>
                </a:lnTo>
                <a:lnTo>
                  <a:pt x="3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1" name="" descr=""/>
          <p:cNvPicPr/>
          <p:nvPr/>
        </p:nvPicPr>
        <p:blipFill>
          <a:blip r:embed="rId2"/>
          <a:srcRect l="0" t="6672" r="0" b="0"/>
          <a:stretch/>
        </p:blipFill>
        <p:spPr>
          <a:xfrm>
            <a:off x="542880" y="1913040"/>
            <a:ext cx="1354320" cy="942840"/>
          </a:xfrm>
          <a:prstGeom prst="rect">
            <a:avLst/>
          </a:prstGeom>
          <a:ln w="0">
            <a:noFill/>
          </a:ln>
        </p:spPr>
      </p:pic>
      <p:grpSp>
        <p:nvGrpSpPr>
          <p:cNvPr id="2612" name=""/>
          <p:cNvGrpSpPr/>
          <p:nvPr/>
        </p:nvGrpSpPr>
        <p:grpSpPr>
          <a:xfrm>
            <a:off x="4484520" y="1900080"/>
            <a:ext cx="1030320" cy="860760"/>
            <a:chOff x="4484520" y="1900080"/>
            <a:chExt cx="1030320" cy="860760"/>
          </a:xfrm>
        </p:grpSpPr>
        <p:graphicFrame>
          <p:nvGraphicFramePr>
            <p:cNvPr id="2613" name=""/>
            <p:cNvGraphicFramePr/>
            <p:nvPr/>
          </p:nvGraphicFramePr>
          <p:xfrm>
            <a:off x="4484520" y="1900080"/>
            <a:ext cx="281880" cy="8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4520" y="1900080"/>
                      <a:ext cx="28188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5" name=""/>
            <p:cNvGraphicFramePr/>
            <p:nvPr/>
          </p:nvGraphicFramePr>
          <p:xfrm>
            <a:off x="4733640" y="1900080"/>
            <a:ext cx="282240" cy="860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33640" y="1900080"/>
                      <a:ext cx="28224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7" name=""/>
            <p:cNvGraphicFramePr/>
            <p:nvPr/>
          </p:nvGraphicFramePr>
          <p:xfrm>
            <a:off x="4983120" y="1900080"/>
            <a:ext cx="281880" cy="86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83120" y="1900080"/>
                      <a:ext cx="28188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9" name=""/>
            <p:cNvGraphicFramePr/>
            <p:nvPr/>
          </p:nvGraphicFramePr>
          <p:xfrm>
            <a:off x="5232600" y="1900080"/>
            <a:ext cx="282240" cy="86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2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2600" y="1900080"/>
                      <a:ext cx="28224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21" name="" descr=""/>
          <p:cNvPicPr/>
          <p:nvPr/>
        </p:nvPicPr>
        <p:blipFill>
          <a:blip r:embed="rId11"/>
          <a:stretch/>
        </p:blipFill>
        <p:spPr>
          <a:xfrm>
            <a:off x="5875200" y="1806480"/>
            <a:ext cx="770040" cy="635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2622" name="" descr=""/>
          <p:cNvPicPr/>
          <p:nvPr/>
        </p:nvPicPr>
        <p:blipFill>
          <a:blip r:embed="rId12"/>
          <a:stretch/>
        </p:blipFill>
        <p:spPr>
          <a:xfrm>
            <a:off x="6657840" y="1886040"/>
            <a:ext cx="1386000" cy="941400"/>
          </a:xfrm>
          <a:prstGeom prst="rect">
            <a:avLst/>
          </a:prstGeom>
          <a:ln w="0">
            <a:noFill/>
          </a:ln>
        </p:spPr>
      </p:pic>
      <p:pic>
        <p:nvPicPr>
          <p:cNvPr id="2623" name="" descr=""/>
          <p:cNvPicPr/>
          <p:nvPr/>
        </p:nvPicPr>
        <p:blipFill>
          <a:blip r:embed="rId13"/>
          <a:stretch/>
        </p:blipFill>
        <p:spPr>
          <a:xfrm>
            <a:off x="6418440" y="2163600"/>
            <a:ext cx="790560" cy="649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2624" name="" descr=""/>
          <p:cNvPicPr/>
          <p:nvPr/>
        </p:nvPicPr>
        <p:blipFill>
          <a:blip r:embed="rId14"/>
          <a:stretch/>
        </p:blipFill>
        <p:spPr>
          <a:xfrm>
            <a:off x="2409840" y="1990800"/>
            <a:ext cx="1616040" cy="834840"/>
          </a:xfrm>
          <a:prstGeom prst="rect">
            <a:avLst/>
          </a:prstGeom>
          <a:ln w="0">
            <a:noFill/>
          </a:ln>
        </p:spPr>
      </p:pic>
      <p:pic>
        <p:nvPicPr>
          <p:cNvPr id="2625" name="" descr=""/>
          <p:cNvPicPr/>
          <p:nvPr/>
        </p:nvPicPr>
        <p:blipFill>
          <a:blip r:embed="rId15"/>
          <a:srcRect l="0" t="30772" r="0" b="0"/>
          <a:stretch/>
        </p:blipFill>
        <p:spPr>
          <a:xfrm>
            <a:off x="6986520" y="320760"/>
            <a:ext cx="17146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3:07:34Z</dcterms:created>
  <dc:creator>Geldof</dc:creator>
  <dc:description/>
  <dc:language>en-US</dc:language>
  <cp:lastModifiedBy>Clemens-August Thole</cp:lastModifiedBy>
  <dcterms:modified xsi:type="dcterms:W3CDTF">2006-02-21T01:05:24Z</dcterms:modified>
  <cp:revision>21</cp:revision>
  <dc:subject/>
  <dc:title>SIMDAT Data Grids for Process and Product Development using Numerical Simulation and Knowledge Discovery</dc:title>
</cp:coreProperties>
</file>