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6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7"/>
          </p:nvPr>
        </p:nvSpPr>
        <p:spPr>
          <a:xfrm>
            <a:off x="0" y="94089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8"/>
          </p:nvPr>
        </p:nvSpPr>
        <p:spPr>
          <a:xfrm>
            <a:off x="3819600" y="94089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01C1-F77A-4049-861E-D04D23E47E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xtGrid Partne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xtGrid Partners”. A slide after this breaking down the partners into IT industry, academic and end-users would be good if there’s time and sp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D49C-668E-4FEA-84A1-6068B80C9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7504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C6AF-7963-4ACE-9770-7A59A8D0E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7504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49CC-DD54-4410-A3C6-322098C58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26792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26792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7504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7504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7504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D7AEC-C9AF-4CAA-AE0A-403E645E6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69D43-2144-4AD9-A629-7C763731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DC24A-7CB9-4562-BEF2-726EDE9B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A07A7-7E9E-466F-BF91-D96DFE79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BD3C4-2374-4A9B-B06D-0C4A2278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3FE86-ED3B-4711-8A17-C4C619C5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04280"/>
            <a:ext cx="822960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BF4B0-E8E6-49F5-8CB1-99D8CAD4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53107-C95E-44E3-86E2-8289F9DF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5B89-676D-45D5-89F7-827FDF6BE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04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101EC-8315-45BB-992F-ECFE62B6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32737-DD4D-4328-A4D8-B6933430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04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05FF5-540F-4113-ACD7-7DEE2370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04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18854-ECBA-4D7A-BFDF-04146391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26792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26792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04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04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04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EFF58-9693-4C42-A7DA-901E81DC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BA24-F906-45CF-AEAB-C4B7D94D5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2664-29FA-49BF-83A1-EA8FCFE11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2E65-4B7B-4371-A2A5-9C1465DE0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04280"/>
            <a:ext cx="822960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4B10-D86B-4ED9-B77D-600500818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6097-6500-426E-B62F-251AB005B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7504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4A14-F94F-43CA-BB80-2C9569E03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4F38-2C80-49D3-9453-413FD2E3F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028000" y="624852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1B10-6022-4B86-876A-BA5EE08BFA47}" type="slidenum">
              <a:rPr b="0" lang="en-US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468360" y="6060960"/>
            <a:ext cx="1079280" cy="6764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1547280" y="6165720"/>
            <a:ext cx="61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d Grid@Asia, Shanghai, 19/02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109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ldNum" idx="4"/>
          </p:nvPr>
        </p:nvSpPr>
        <p:spPr>
          <a:xfrm>
            <a:off x="7884720" y="6211800"/>
            <a:ext cx="80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9C52-F060-49DF-B0C7-B509776A47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91280" y="260280"/>
            <a:ext cx="1873440" cy="1173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1692000" y="6248520"/>
            <a:ext cx="604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id@Asia, Shanghai, 19/02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extgrid.org/" TargetMode="External"/><Relationship Id="rId2" Type="http://schemas.openxmlformats.org/officeDocument/2006/relationships/hyperlink" Target="http://www.nextgrid.org/white_paper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Architecture for Next Generation Grids</a:t>
            </a:r>
            <a:br>
              <a:rPr sz="4200"/>
            </a:b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ostas Tserpes, NTU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anghai, 20th of February 200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E3280-68AD-4DC9-9875-8FC67B7349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xtGRID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ary Architectural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ynamic Service Lif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ynamic Conten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Sourc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D23C-1CC1-4D96-AAAB-33C0B85B3D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ected Achiev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chitectural designs for Next Generation Gr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tion of ‘community strength’  components for the next generation Grid, which is free to use by the comm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going commercialisation of components by  NextGRID partn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despread take-up of the components by industry and researc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e-up of software development tools and methods  by develo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ificant  and ongoing  impact on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CE9B-53B5-4AAE-9CA3-D43A085BDC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oitable 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GRID will generate many exploitable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 strength software which can be productised outside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IP which can be incorporated into work done by th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ignificant and ongoing effort int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and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7697-A904-478E-81AE-0F1344152E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issemination and Tra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GRID is undertaking a programme of publicity and dissemination activities. These include a press campaign, workshops and seminars and fact-shee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GRID will provide training for the skills necessary to develop and deploy NGGs. These will be available to those within and outside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6E07-72BF-4779-854B-5FEF37371C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 Concerted EC eff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GRID is one of many projects supported by the EC which are working together to push forward the frontiers of Grid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GRID is taking a leading role in the area of standards, and is contributing to technical working groups and other collaborative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7C94-E972-4619-9584-C90F918530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ngoing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ceptu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siness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Modelling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A re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A for service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ified Resourc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oS Information Pro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ynamic service 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aptive work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-to-End Q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ied Volat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 Pri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08B8-73A4-40EF-931B-8BBA34A2D7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582560"/>
            <a:ext cx="327672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And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Description (WS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ss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82560"/>
            <a:ext cx="358164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Descrip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mant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78320" y="981000"/>
            <a:ext cx="216036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xperiments will be conducted in near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981000"/>
            <a:ext cx="208728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mature specs exist that will be adop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981000"/>
            <a:ext cx="266688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xperiments are not needed, or are not possible right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1582560"/>
            <a:ext cx="358128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tablish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ied Resourc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 For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cens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2240" y="6107040"/>
            <a:ext cx="52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Note: All facilities are subject to evolution throughout the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D1C1F-B71D-4E7E-8501-775425C25F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atest Project Ne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latest information on progress within NextGRID, visit the project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nextgrid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xtGRID Vision and Architecture White Pap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nextgrid.org/white_paper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stas Tser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erpes@telecom.ntua.g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373E-DC50-4CC2-A844-500BFAA1BF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NextGRID Vi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 architecture for Next Generation Grids which will enable its widespread use by research, industry and the ordinary citizen thus creating a dynamic market place for new services and produc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38AA5-C14E-4125-AB5F-98053C9E50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xtGRID’s Go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 architectural components that will lead to the emergence of the Next Generation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the way for the broader use of Grid technologies and their widespread adoption by organisations and individuals from the business and public dom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rove the technology in key areas such as security, development of applications, interoperability, quality of service and robust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the standards which are essential if NGGs are to succ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B3FC-B7F5-48E1-8C25-30816B4180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xtGRID Part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GRID brings together the elite of Europe’s Grid research community, together with leading lights from large and small industries. The 22 partners are drawn from across the European U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 half the partners are commercial organisations, giving NextGRID a vital insight into the needs of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11C9-9B02-4B19-80DC-3366C44515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xtGRID Partners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ademi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artn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6000" y="2997360"/>
            <a:ext cx="2286000" cy="869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867280" y="4076640"/>
            <a:ext cx="2210040" cy="619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651640" y="4797360"/>
            <a:ext cx="2361960" cy="1255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2971800" y="1828800"/>
            <a:ext cx="236232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267080" y="3276720"/>
            <a:ext cx="1143000" cy="1130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04920" y="3276720"/>
            <a:ext cx="2371680" cy="904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2895480" y="3124080"/>
            <a:ext cx="1265400" cy="1524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04920" y="4800600"/>
            <a:ext cx="2286000" cy="936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380880" y="2209680"/>
            <a:ext cx="2133720" cy="633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3352680" y="4800600"/>
            <a:ext cx="1676520" cy="1076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5724360" y="1916280"/>
            <a:ext cx="2160720" cy="89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D4B0-F42F-4C9D-B219-EEF78DF263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xtGRID Partners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rci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1752840" cy="825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88840" y="3021120"/>
            <a:ext cx="2819520" cy="623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886200" y="1808280"/>
            <a:ext cx="1981080" cy="133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705720" y="3048120"/>
            <a:ext cx="1676160" cy="147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962520" y="3048120"/>
            <a:ext cx="2133360" cy="658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629400" y="1905120"/>
            <a:ext cx="1981080" cy="1004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457200" y="5562720"/>
            <a:ext cx="6324480" cy="366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4114800" y="3962520"/>
            <a:ext cx="2209680" cy="852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457200" y="4952880"/>
            <a:ext cx="9144000" cy="463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7086600" y="4800600"/>
            <a:ext cx="1600200" cy="1133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611280" y="3933720"/>
            <a:ext cx="3429000" cy="7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C75E-7D14-4681-884E-0543703689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xtGRID Proces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GRID is an architecture centred project. It operates a development cycle which comprises analysis, conceptualisation and design phases. Development activities focussing on foundations, the dynamics of grids, grid interactions and applications feed into this development cy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hole process is driven by the needs of business and will contribute to the standards effort of th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A17E-5E19-49FA-80BD-745863E1E0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1584360" cy="9921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NextGRID Pro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320" y="1143000"/>
            <a:ext cx="327168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ing Busines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ing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ience wit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id in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247920"/>
            <a:ext cx="23623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id Business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616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back for next 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182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13413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334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6481800">
            <a:off x="3312000" y="2928240"/>
            <a:ext cx="2919240" cy="1981080"/>
          </a:xfrm>
          <a:custGeom>
            <a:avLst/>
            <a:gdLst>
              <a:gd name="textAreaLeft" fmla="*/ 0 w 2919240"/>
              <a:gd name="textAreaRight" fmla="*/ 2919600 w 291924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2596" y="10658"/>
                </a:moveTo>
                <a:arcTo wR="-8205" hR="-8205" stAng="-10740504" swAng="-5519273"/>
                <a:lnTo>
                  <a:pt x="10612" y="2"/>
                </a:lnTo>
                <a:arcTo wR="10800" hR="10800" stAng="-5459777" swAng="5519273"/>
                <a:lnTo>
                  <a:pt x="24298" y="11034"/>
                </a:lnTo>
                <a:lnTo>
                  <a:pt x="20232" y="14961"/>
                </a:lnTo>
                <a:lnTo>
                  <a:pt x="16304" y="10895"/>
                </a:lnTo>
                <a:close/>
              </a:path>
            </a:pathLst>
          </a:custGeom>
          <a:solidFill>
            <a:srgbClr val="cccce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211400">
            <a:off x="3287880" y="2149560"/>
            <a:ext cx="2708280" cy="213336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2596" y="10658"/>
                </a:moveTo>
                <a:arcTo wR="-8205" hR="-8205" stAng="-10740504" swAng="-5519273"/>
                <a:lnTo>
                  <a:pt x="10612" y="2"/>
                </a:lnTo>
                <a:arcTo wR="10800" hR="10800" stAng="-5459777" swAng="5519273"/>
                <a:lnTo>
                  <a:pt x="24298" y="11034"/>
                </a:lnTo>
                <a:lnTo>
                  <a:pt x="20232" y="14961"/>
                </a:lnTo>
                <a:lnTo>
                  <a:pt x="16304" y="10895"/>
                </a:lnTo>
                <a:close/>
              </a:path>
            </a:pathLst>
          </a:custGeom>
          <a:solidFill>
            <a:srgbClr val="cccce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7337000">
            <a:off x="2610720" y="2394360"/>
            <a:ext cx="2917800" cy="197964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21600" h="21600">
                <a:moveTo>
                  <a:pt x="2596" y="10658"/>
                </a:moveTo>
                <a:arcTo wR="-8205" hR="-8205" stAng="-10740504" swAng="-5519273"/>
                <a:lnTo>
                  <a:pt x="10612" y="2"/>
                </a:lnTo>
                <a:arcTo wR="10800" hR="10800" stAng="-5459777" swAng="5519273"/>
                <a:lnTo>
                  <a:pt x="24298" y="11034"/>
                </a:lnTo>
                <a:lnTo>
                  <a:pt x="20232" y="14961"/>
                </a:lnTo>
                <a:lnTo>
                  <a:pt x="16304" y="10895"/>
                </a:lnTo>
                <a:close/>
              </a:path>
            </a:pathLst>
          </a:custGeom>
          <a:solidFill>
            <a:srgbClr val="cccce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1977800">
            <a:off x="2869920" y="3047760"/>
            <a:ext cx="2709720" cy="2133360"/>
          </a:xfrm>
          <a:custGeom>
            <a:avLst/>
            <a:gdLst>
              <a:gd name="textAreaLeft" fmla="*/ 0 w 2709720"/>
              <a:gd name="textAreaRight" fmla="*/ 2710080 w 270972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2596" y="10658"/>
                </a:moveTo>
                <a:arcTo wR="-8205" hR="-8205" stAng="-10740504" swAng="-5519273"/>
                <a:lnTo>
                  <a:pt x="10612" y="2"/>
                </a:lnTo>
                <a:arcTo wR="10800" hR="10800" stAng="-5459777" swAng="5519273"/>
                <a:lnTo>
                  <a:pt x="24298" y="11034"/>
                </a:lnTo>
                <a:lnTo>
                  <a:pt x="20232" y="14961"/>
                </a:lnTo>
                <a:lnTo>
                  <a:pt x="16304" y="10895"/>
                </a:lnTo>
                <a:close/>
              </a:path>
            </a:pathLst>
          </a:custGeom>
          <a:solidFill>
            <a:srgbClr val="cccce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rot="16437000">
            <a:off x="5379120" y="1761120"/>
            <a:ext cx="1873080" cy="4199040"/>
          </a:xfrm>
          <a:custGeom>
            <a:avLst/>
            <a:gdLst>
              <a:gd name="textAreaLeft" fmla="*/ -360 w 1873080"/>
              <a:gd name="textAreaRight" fmla="*/ 1873080 w 1873080"/>
              <a:gd name="textAreaTop" fmla="*/ 0 h 4199040"/>
              <a:gd name="textAreaBottom" fmla="*/ 4199400 h 4199040"/>
            </a:gdLst>
            <a:ahLst/>
            <a:rect l="textAreaLeft" t="textAreaTop" r="textAreaRight" b="textAreaBottom"/>
            <a:pathLst>
              <a:path w="21600" h="21600">
                <a:moveTo>
                  <a:pt x="2498" y="11787"/>
                </a:moveTo>
                <a:arcTo wR="-8360" hR="-8360" stAng="10393206" swAng="-4509262"/>
                <a:lnTo>
                  <a:pt x="12315" y="107"/>
                </a:lnTo>
                <a:arcTo wR="10800" hR="10800" stAng="-4916057" swAng="4509262"/>
                <a:lnTo>
                  <a:pt x="24206" y="9206"/>
                </a:lnTo>
                <a:lnTo>
                  <a:pt x="20776" y="13562"/>
                </a:lnTo>
                <a:lnTo>
                  <a:pt x="16420" y="10132"/>
                </a:lnTo>
                <a:close/>
              </a:path>
            </a:pathLst>
          </a:cu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rot="17256000">
            <a:off x="1818360" y="876960"/>
            <a:ext cx="2257560" cy="2541600"/>
          </a:xfrm>
          <a:custGeom>
            <a:avLst/>
            <a:gdLst>
              <a:gd name="textAreaLeft" fmla="*/ -360 w 2257560"/>
              <a:gd name="textAreaRight" fmla="*/ 2257560 w 2257560"/>
              <a:gd name="textAreaTop" fmla="*/ 0 h 2541600"/>
              <a:gd name="textAreaBottom" fmla="*/ 2541960 h 2541600"/>
            </a:gdLst>
            <a:ahLst/>
            <a:rect l="textAreaLeft" t="textAreaTop" r="textAreaRight" b="textAreaBottom"/>
            <a:pathLst>
              <a:path w="21600" h="21600">
                <a:moveTo>
                  <a:pt x="2596" y="10658"/>
                </a:moveTo>
                <a:arcTo wR="-8205" hR="-8205" stAng="-10740504" swAng="-1607058"/>
                <a:lnTo>
                  <a:pt x="20524" y="6101"/>
                </a:lnTo>
                <a:arcTo wR="10800" hR="10800" stAng="-1547562" swAng="1607058"/>
                <a:lnTo>
                  <a:pt x="24298" y="11034"/>
                </a:lnTo>
                <a:lnTo>
                  <a:pt x="20232" y="14961"/>
                </a:lnTo>
                <a:lnTo>
                  <a:pt x="16304" y="10895"/>
                </a:lnTo>
                <a:close/>
              </a:path>
            </a:pathLst>
          </a:cu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1320" y="25146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5715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BD0F-D0DF-43B9-9A4B-098F72379E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xtGRID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xtGRID publishes a Vision and Architecture White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Architectural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A Drive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sitional 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um infra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99F6-5386-4CC1-BAF4-811AFF435B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4:12:28Z</dcterms:created>
  <dc:creator>Mark Sawyer</dc:creator>
  <dc:description>For comment.</dc:description>
  <cp:keywords>NextGRID Grids</cp:keywords>
  <dc:language>en-US</dc:language>
  <cp:lastModifiedBy>Konstantinos T. Tserpes</cp:lastModifiedBy>
  <dcterms:modified xsi:type="dcterms:W3CDTF">2006-02-20T02:51:01Z</dcterms:modified>
  <cp:revision>57</cp:revision>
  <dc:subject/>
  <dc:title>NextGRID Presentations for Website</dc:title>
</cp:coreProperties>
</file>