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9.png" ContentType="image/png"/>
  <Override PartName="/ppt/media/image8.jpeg" ContentType="image/jpeg"/>
  <Override PartName="/ppt/media/image11.png" ContentType="image/png"/>
  <Override PartName="/ppt/media/image7.jpeg" ContentType="image/jpeg"/>
  <Override PartName="/ppt/media/image6.png" ContentType="image/png"/>
  <Override PartName="/ppt/media/image5.jpeg" ContentType="image/jpeg"/>
  <Override PartName="/ppt/media/image18.wmf" ContentType="image/x-wmf"/>
  <Override PartName="/ppt/media/image21.jpeg" ContentType="image/jpeg"/>
  <Override PartName="/ppt/media/image20.jpeg" ContentType="image/jpeg"/>
  <Override PartName="/ppt/media/image15.jpeg" ContentType="image/jpeg"/>
  <Override PartName="/ppt/media/image19.wmf" ContentType="image/x-wmf"/>
  <Override PartName="/ppt/media/image17.png" ContentType="image/png"/>
  <Override PartName="/ppt/media/image16.wmf" ContentType="image/x-wmf"/>
  <Override PartName="/ppt/media/image4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71360" y="4235400"/>
            <a:ext cx="7089480" cy="11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71360" y="4235400"/>
            <a:ext cx="7089480" cy="11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71360" y="4235400"/>
            <a:ext cx="7089480" cy="11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71360" y="4235400"/>
            <a:ext cx="7089480" cy="11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71360" y="4235400"/>
            <a:ext cx="7089480" cy="11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71360" y="4235400"/>
            <a:ext cx="7089480" cy="11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71360" y="4235400"/>
            <a:ext cx="7089480" cy="11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71360" y="4235400"/>
            <a:ext cx="7089480" cy="55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71360" y="4235400"/>
            <a:ext cx="7089480" cy="11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71360" y="4235400"/>
            <a:ext cx="7089480" cy="11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71360" y="4235400"/>
            <a:ext cx="7089480" cy="11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71360" y="4235400"/>
            <a:ext cx="7089480" cy="11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71360" y="4235400"/>
            <a:ext cx="7089480" cy="11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71360" y="4235400"/>
            <a:ext cx="7089480" cy="11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71360" y="4235400"/>
            <a:ext cx="7089480" cy="11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71360" y="4235400"/>
            <a:ext cx="7089480" cy="11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71360" y="4235400"/>
            <a:ext cx="7089480" cy="11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71360" y="4235400"/>
            <a:ext cx="7089480" cy="11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71360" y="4235400"/>
            <a:ext cx="7089480" cy="55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71360" y="4235400"/>
            <a:ext cx="7089480" cy="11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71360" y="4235400"/>
            <a:ext cx="7089480" cy="11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71360" y="4235400"/>
            <a:ext cx="7089480" cy="11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0720" y="130320"/>
            <a:ext cx="77454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68040" y="1085760"/>
            <a:ext cx="78246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79440" indent="-378000">
              <a:spcBef>
                <a:spcPts val="60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671400" indent="-290520">
              <a:spcBef>
                <a:spcPts val="601"/>
              </a:spcBef>
              <a:buClr>
                <a:srgbClr val="8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950760" indent="-27756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1243080" indent="-290520">
              <a:spcBef>
                <a:spcPts val="601"/>
              </a:spcBef>
              <a:buClr>
                <a:srgbClr val="800000"/>
              </a:buClr>
              <a:buSzPct val="5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1243080" indent="-29052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1243080" indent="-29052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14360" y="496800"/>
            <a:ext cx="21600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08000" y="6478560"/>
            <a:ext cx="3222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22C36-53EC-4615-86FA-81EC633A78A1}" type="slidenum">
              <a:rPr b="0" lang="en-US" sz="8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5520" y="6491160"/>
            <a:ext cx="228600" cy="209520"/>
          </a:xfrm>
          <a:prstGeom prst="ellipse">
            <a:avLst/>
          </a:prstGeom>
          <a:noFill/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0801200">
            <a:off x="88560" y="4317120"/>
            <a:ext cx="179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66"/>
                </a:solidFill>
                <a:latin typeface="Arial"/>
                <a:ea typeface="Arial"/>
              </a:rPr>
              <a:t>19/02/2006/</a:t>
            </a:r>
            <a:r>
              <a:rPr b="0" lang="de-DE" sz="1000" spc="-1" strike="noStrike">
                <a:solidFill>
                  <a:srgbClr val="003366"/>
                </a:solidFill>
                <a:latin typeface="Arial"/>
              </a:rPr>
              <a:t>© Nessi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8577360" y="135000"/>
            <a:ext cx="414360" cy="41436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7710480" y="6246720"/>
            <a:ext cx="1112760" cy="425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71360" y="4235400"/>
            <a:ext cx="7089480" cy="11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184800"/>
            <a:ext cx="9131400" cy="317520"/>
          </a:xfrm>
          <a:custGeom>
            <a:avLst/>
            <a:gdLst/>
            <a:ahLst/>
            <a:rect l="l" t="t" r="r" b="b"/>
            <a:pathLst>
              <a:path w="5752" h="200">
                <a:moveTo>
                  <a:pt x="0" y="0"/>
                </a:moveTo>
                <a:lnTo>
                  <a:pt x="4376" y="0"/>
                </a:lnTo>
                <a:lnTo>
                  <a:pt x="4576" y="200"/>
                </a:lnTo>
                <a:lnTo>
                  <a:pt x="5752" y="200"/>
                </a:lnTo>
              </a:path>
            </a:pathLst>
          </a:custGeom>
          <a:noFill/>
          <a:ln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1200">
            <a:off x="88560" y="4317120"/>
            <a:ext cx="179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66"/>
                </a:solidFill>
                <a:latin typeface="Arial"/>
                <a:ea typeface="Arial"/>
              </a:rPr>
              <a:t>19/02/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35040" y="4300560"/>
            <a:ext cx="344520" cy="344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1425600" y="1190520"/>
            <a:ext cx="6022800" cy="2936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127080" y="6232680"/>
            <a:ext cx="1319040" cy="5047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1440" algn="ctr">
              <a:spcBef>
                <a:spcPts val="825"/>
              </a:spcBef>
              <a:buClr>
                <a:srgbClr val="8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969696"/>
              </a:solidFill>
              <a:latin typeface="Arial"/>
            </a:endParaRPr>
          </a:p>
          <a:p>
            <a:pPr lvl="2" marL="380880" algn="ctr">
              <a:spcBef>
                <a:spcPts val="751"/>
              </a:spcBef>
              <a:buClr>
                <a:srgbClr val="8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lvl="3" marL="673200" algn="ctr"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  <a:p>
            <a:pPr lvl="4" marL="952560" algn="ctr">
              <a:spcBef>
                <a:spcPts val="400"/>
              </a:spcBef>
              <a:buClr>
                <a:srgbClr val="800000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777777"/>
              </a:solidFill>
              <a:latin typeface="Arial"/>
            </a:endParaRPr>
          </a:p>
          <a:p>
            <a:pPr lvl="5" marL="95256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777777"/>
              </a:solidFill>
              <a:latin typeface="Arial"/>
            </a:endParaRPr>
          </a:p>
          <a:p>
            <a:pPr lvl="6" marL="95256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jpeg"/><Relationship Id="rId10" Type="http://schemas.openxmlformats.org/officeDocument/2006/relationships/image" Target="../media/image16.wmf"/><Relationship Id="rId11" Type="http://schemas.openxmlformats.org/officeDocument/2006/relationships/image" Target="../media/image17.png"/><Relationship Id="rId12" Type="http://schemas.openxmlformats.org/officeDocument/2006/relationships/package" Target="../embeddings/oleObject1.docx"/><Relationship Id="rId13" Type="http://schemas.openxmlformats.org/officeDocument/2006/relationships/image" Target="../media/image18.wmf"/><Relationship Id="rId14" Type="http://schemas.openxmlformats.org/officeDocument/2006/relationships/package" Target="../embeddings/oleObject2.docx"/><Relationship Id="rId15" Type="http://schemas.openxmlformats.org/officeDocument/2006/relationships/image" Target="../media/image19.wmf"/><Relationship Id="rId1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87200" y="4235400"/>
            <a:ext cx="6970680" cy="11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800000"/>
                </a:solidFill>
                <a:latin typeface="Arial"/>
              </a:rPr>
              <a:t>The NESSI European Technology Platform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2nd Grid@Asia Workshop – Shanghai - 20-22 Feb 2006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57280" y="6245280"/>
            <a:ext cx="714852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59080" y="222120"/>
            <a:ext cx="584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0000"/>
                </a:solidFill>
                <a:latin typeface="Arial"/>
              </a:rPr>
              <a:t>Stefano De Panfilis</a:t>
            </a:r>
            <a:br>
              <a:rPr sz="1800"/>
            </a:br>
            <a:r>
              <a:rPr b="1" lang="en-GB" sz="1800" spc="-1" strike="noStrike">
                <a:solidFill>
                  <a:srgbClr val="800000"/>
                </a:solidFill>
                <a:latin typeface="Arial"/>
              </a:rPr>
              <a:t>R&amp;D Laboratories</a:t>
            </a:r>
            <a:br>
              <a:rPr sz="1800"/>
            </a:br>
            <a:r>
              <a:rPr b="1" lang="en-GB" sz="1800" spc="-1" strike="noStrike">
                <a:solidFill>
                  <a:srgbClr val="800000"/>
                </a:solidFill>
                <a:latin typeface="Arial"/>
              </a:rPr>
              <a:t>Engineering Ingegneria Informatica S.p.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031160" y="301680"/>
            <a:ext cx="1904760" cy="495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10720" y="130320"/>
            <a:ext cx="77454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3366"/>
                </a:solidFill>
                <a:latin typeface="Arial"/>
              </a:rPr>
              <a:t>NESSI and GRID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96440" y="828720"/>
            <a:ext cx="82962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8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Arial"/>
              </a:rPr>
              <a:t>Main Goal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979560" indent="-352440">
              <a:lnSpc>
                <a:spcPct val="90000"/>
              </a:lnSpc>
              <a:spcBef>
                <a:spcPts val="675"/>
              </a:spcBef>
              <a:buClr>
                <a:srgbClr val="800000"/>
              </a:buClr>
              <a:buFont typeface="Wingdings" charset="2"/>
              <a:buChar char=""/>
              <a:tabLst>
                <a:tab algn="l" pos="0"/>
                <a:tab algn="l" pos="98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To fully adopt the </a:t>
            </a:r>
            <a:r>
              <a:rPr b="1" lang="en-US" sz="1800" spc="-1" strike="noStrike">
                <a:solidFill>
                  <a:srgbClr val="969696"/>
                </a:solidFill>
                <a:latin typeface="Arial"/>
              </a:rPr>
              <a:t>NGG</a:t>
            </a: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 group vision « Grid: from a tool to solve compute- and data-intensive problems towards a general-purpose infrastructure enabling complex business processes and workflows across virtual organisations (VOs) spanning multiple administrative domains ».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lvl="1" marL="979560" indent="-352440">
              <a:lnSpc>
                <a:spcPct val="90000"/>
              </a:lnSpc>
              <a:spcBef>
                <a:spcPts val="675"/>
              </a:spcBef>
              <a:buClr>
                <a:srgbClr val="800000"/>
              </a:buClr>
              <a:buFont typeface="Wingdings" charset="2"/>
              <a:buChar char=""/>
              <a:tabLst>
                <a:tab algn="l" pos="0"/>
                <a:tab algn="l" pos="98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69696"/>
                </a:solidFill>
                <a:latin typeface="Arial"/>
              </a:rPr>
              <a:t>To fully implement the concept of </a:t>
            </a:r>
            <a:r>
              <a:rPr b="1" lang="fr-FR" sz="1800" spc="-1" strike="noStrike">
                <a:solidFill>
                  <a:srgbClr val="969696"/>
                </a:solidFill>
                <a:latin typeface="Arial"/>
              </a:rPr>
              <a:t>resources virtualisation</a:t>
            </a:r>
            <a:r>
              <a:rPr b="0" lang="fr-FR" sz="1800" spc="-1" strike="noStrike">
                <a:solidFill>
                  <a:srgbClr val="969696"/>
                </a:solidFill>
                <a:latin typeface="Arial"/>
              </a:rPr>
              <a:t> (middleware OSS reference implementation)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lvl="1" marL="979560" indent="-352440">
              <a:lnSpc>
                <a:spcPct val="90000"/>
              </a:lnSpc>
              <a:spcBef>
                <a:spcPts val="675"/>
              </a:spcBef>
              <a:buClr>
                <a:srgbClr val="800000"/>
              </a:buClr>
              <a:buFont typeface="Wingdings" charset="2"/>
              <a:buChar char=""/>
              <a:tabLst>
                <a:tab algn="l" pos="0"/>
                <a:tab algn="l" pos="98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69696"/>
                </a:solidFill>
                <a:latin typeface="Arial"/>
              </a:rPr>
              <a:t>To fully implement </a:t>
            </a:r>
            <a:r>
              <a:rPr b="1" lang="fr-FR" sz="1800" spc="-1" strike="noStrike">
                <a:solidFill>
                  <a:srgbClr val="969696"/>
                </a:solidFill>
                <a:latin typeface="Arial"/>
              </a:rPr>
              <a:t>dynamicity</a:t>
            </a:r>
            <a:r>
              <a:rPr b="0" lang="fr-FR" sz="1800" spc="-1" strike="noStrike">
                <a:solidFill>
                  <a:srgbClr val="969696"/>
                </a:solidFill>
                <a:latin typeface="Arial"/>
              </a:rPr>
              <a:t> (dinamic interoperability) with any kind of devices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lvl="1" marL="979560" indent="-352440">
              <a:lnSpc>
                <a:spcPct val="90000"/>
              </a:lnSpc>
              <a:spcBef>
                <a:spcPts val="675"/>
              </a:spcBef>
              <a:buClr>
                <a:srgbClr val="800000"/>
              </a:buClr>
              <a:buFont typeface="Wingdings" charset="2"/>
              <a:buChar char=""/>
              <a:tabLst>
                <a:tab algn="l" pos="0"/>
                <a:tab algn="l" pos="98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69696"/>
                </a:solidFill>
                <a:latin typeface="Arial"/>
              </a:rPr>
              <a:t>To let the Grid be perceived as a </a:t>
            </a:r>
            <a:r>
              <a:rPr b="1" lang="fr-FR" sz="1800" spc="-1" strike="noStrike">
                <a:solidFill>
                  <a:srgbClr val="969696"/>
                </a:solidFill>
                <a:latin typeface="Arial"/>
              </a:rPr>
              <a:t>utility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8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8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Arial"/>
              </a:rPr>
              <a:t>NESSI already met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979560" indent="-352440">
              <a:lnSpc>
                <a:spcPct val="90000"/>
              </a:lnSpc>
              <a:spcBef>
                <a:spcPts val="675"/>
              </a:spcBef>
              <a:buClr>
                <a:srgbClr val="800000"/>
              </a:buClr>
              <a:buFont typeface="Wingdings" charset="2"/>
              <a:buChar char=""/>
              <a:tabLst>
                <a:tab algn="l" pos="0"/>
                <a:tab algn="l" pos="98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69696"/>
                </a:solidFill>
                <a:latin typeface="Arial"/>
              </a:rPr>
              <a:t>CoreGRID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lvl="1" marL="979560" indent="-352440">
              <a:lnSpc>
                <a:spcPct val="90000"/>
              </a:lnSpc>
              <a:spcBef>
                <a:spcPts val="675"/>
              </a:spcBef>
              <a:buClr>
                <a:srgbClr val="800000"/>
              </a:buClr>
              <a:buFont typeface="Wingdings" charset="2"/>
              <a:buChar char=""/>
              <a:tabLst>
                <a:tab algn="l" pos="0"/>
                <a:tab algn="l" pos="98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69696"/>
                </a:solidFill>
                <a:latin typeface="Arial"/>
              </a:rPr>
              <a:t>EGEE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lvl="1" marL="979560" indent="-352440">
              <a:lnSpc>
                <a:spcPct val="90000"/>
              </a:lnSpc>
              <a:spcBef>
                <a:spcPts val="675"/>
              </a:spcBef>
              <a:buClr>
                <a:srgbClr val="800000"/>
              </a:buClr>
              <a:buFont typeface="Wingdings" charset="2"/>
              <a:buChar char=""/>
              <a:tabLst>
                <a:tab algn="l" pos="0"/>
                <a:tab algn="l" pos="98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69696"/>
                </a:solidFill>
                <a:latin typeface="Arial"/>
              </a:rPr>
              <a:t>BEinGRID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lvl="1" marL="979560" indent="-352440">
              <a:lnSpc>
                <a:spcPct val="90000"/>
              </a:lnSpc>
              <a:spcBef>
                <a:spcPts val="675"/>
              </a:spcBef>
              <a:buClr>
                <a:srgbClr val="800000"/>
              </a:buClr>
              <a:buFont typeface="Wingdings" charset="2"/>
              <a:buChar char=""/>
              <a:tabLst>
                <a:tab algn="l" pos="0"/>
                <a:tab algn="l" pos="98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69696"/>
                </a:solidFill>
                <a:latin typeface="Arial"/>
              </a:rPr>
              <a:t>NESSI-Grid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3627360" y="4327560"/>
            <a:ext cx="5140440" cy="1720800"/>
            <a:chOff x="3627360" y="4327560"/>
            <a:chExt cx="5140440" cy="1720800"/>
          </a:xfrm>
        </p:grpSpPr>
        <p:grpSp>
          <p:nvGrpSpPr>
            <p:cNvPr id="231" name=""/>
            <p:cNvGrpSpPr/>
            <p:nvPr/>
          </p:nvGrpSpPr>
          <p:grpSpPr>
            <a:xfrm>
              <a:off x="3627360" y="4327560"/>
              <a:ext cx="5140440" cy="1720800"/>
              <a:chOff x="3627360" y="4327560"/>
              <a:chExt cx="5140440" cy="1720800"/>
            </a:xfrm>
          </p:grpSpPr>
          <p:sp>
            <p:nvSpPr>
              <p:cNvPr id="232" name=""/>
              <p:cNvSpPr/>
              <p:nvPr/>
            </p:nvSpPr>
            <p:spPr>
              <a:xfrm>
                <a:off x="3627360" y="4327560"/>
                <a:ext cx="5140440" cy="1720800"/>
              </a:xfrm>
              <a:prstGeom prst="ellipse">
                <a:avLst/>
              </a:prstGeom>
              <a:solidFill>
                <a:srgbClr val="ccffcc">
                  <a:alpha val="50000"/>
                </a:srgbClr>
              </a:solidFill>
              <a:ln w="9360">
                <a:solidFill>
                  <a:srgbClr val="a7c1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519320" y="4994640"/>
                <a:ext cx="996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be6600"/>
                    </a:solidFill>
                    <a:latin typeface="Arial"/>
                  </a:rPr>
                  <a:t>NESS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be6600"/>
                    </a:solidFill>
                    <a:latin typeface="Arial"/>
                  </a:rPr>
                  <a:t>Framewor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5031000" y="4770360"/>
              <a:ext cx="2213280" cy="1054440"/>
              <a:chOff x="5031000" y="4770360"/>
              <a:chExt cx="2213280" cy="1054440"/>
            </a:xfrm>
          </p:grpSpPr>
          <p:sp>
            <p:nvSpPr>
              <p:cNvPr id="235" name=""/>
              <p:cNvSpPr/>
              <p:nvPr/>
            </p:nvSpPr>
            <p:spPr>
              <a:xfrm>
                <a:off x="5222160" y="4800240"/>
                <a:ext cx="524880" cy="430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a7c1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670720" y="4800240"/>
                <a:ext cx="524880" cy="430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a7c1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117840" y="4800240"/>
                <a:ext cx="527760" cy="430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a7c1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567840" y="4800240"/>
                <a:ext cx="526320" cy="430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a7c1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031000" y="5490720"/>
                <a:ext cx="2213280" cy="334080"/>
              </a:xfrm>
              <a:prstGeom prst="rect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59760" rIns="5976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Infrastructure Lay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031000" y="5130360"/>
                <a:ext cx="2213280" cy="334080"/>
              </a:xfrm>
              <a:prstGeom prst="rect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59760" rIns="5976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Service Integration Lay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031000" y="4770360"/>
                <a:ext cx="2213280" cy="334080"/>
              </a:xfrm>
              <a:prstGeom prst="rect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59760" rIns="5976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Semantic Lay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620400" y="4793400"/>
                <a:ext cx="169560" cy="1010880"/>
              </a:xfrm>
              <a:custGeom>
                <a:avLst/>
                <a:gdLst>
                  <a:gd name="textAreaLeft" fmla="*/ 8280 w 169560"/>
                  <a:gd name="textAreaRight" fmla="*/ 161280 w 169560"/>
                  <a:gd name="textAreaTop" fmla="*/ 8280 h 1010880"/>
                  <a:gd name="textAreaBottom" fmla="*/ 1002600 h 1010880"/>
                </a:gdLst>
                <a:ahLst/>
                <a:rect l="textAreaLeft" t="textAreaTop" r="textAreaRight" b="textAreaBottom"/>
                <a:pathLst>
                  <a:path w="21600" h="128547">
                    <a:moveTo>
                      <a:pt x="3600" y="0"/>
                    </a:moveTo>
                    <a:arcTo wR="3600" hR="3600" stAng="16200000" swAng="-5400000"/>
                    <a:lnTo>
                      <a:pt x="0" y="124947"/>
                    </a:lnTo>
                    <a:arcTo wR="3600" hR="3600" stAng="10800000" swAng="-5400000"/>
                    <a:lnTo>
                      <a:pt x="18000" y="12854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59760" rIns="59760" tIns="30960" bIns="30960" anchor="t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Securit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838560" y="4797720"/>
                <a:ext cx="168120" cy="1010880"/>
              </a:xfrm>
              <a:custGeom>
                <a:avLst/>
                <a:gdLst>
                  <a:gd name="textAreaLeft" fmla="*/ 7920 w 168120"/>
                  <a:gd name="textAreaRight" fmla="*/ 160200 w 168120"/>
                  <a:gd name="textAreaTop" fmla="*/ 7920 h 1010880"/>
                  <a:gd name="textAreaBottom" fmla="*/ 1002960 h 1010880"/>
                </a:gdLst>
                <a:ahLst/>
                <a:rect l="textAreaLeft" t="textAreaTop" r="textAreaRight" b="textAreaBottom"/>
                <a:pathLst>
                  <a:path w="21600" h="129646">
                    <a:moveTo>
                      <a:pt x="3600" y="0"/>
                    </a:moveTo>
                    <a:arcTo wR="3600" hR="3600" stAng="16200000" swAng="-5400000"/>
                    <a:lnTo>
                      <a:pt x="0" y="126046"/>
                    </a:lnTo>
                    <a:arcTo wR="3600" hR="3600" stAng="10800000" swAng="-5400000"/>
                    <a:lnTo>
                      <a:pt x="18000" y="12964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59760" rIns="59760" tIns="30960" bIns="30960" anchor="t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Interoperabilit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047720" y="4797720"/>
                <a:ext cx="168480" cy="1010880"/>
              </a:xfrm>
              <a:custGeom>
                <a:avLst/>
                <a:gdLst>
                  <a:gd name="textAreaLeft" fmla="*/ 7920 w 168480"/>
                  <a:gd name="textAreaRight" fmla="*/ 160560 w 168480"/>
                  <a:gd name="textAreaTop" fmla="*/ 7920 h 1010880"/>
                  <a:gd name="textAreaBottom" fmla="*/ 1002960 h 1010880"/>
                </a:gdLst>
                <a:ahLst/>
                <a:rect l="textAreaLeft" t="textAreaTop" r="textAreaRight" b="textAreaBottom"/>
                <a:pathLst>
                  <a:path w="21600" h="129370">
                    <a:moveTo>
                      <a:pt x="3600" y="0"/>
                    </a:moveTo>
                    <a:arcTo wR="3600" hR="3600" stAng="16200000" swAng="-5400000"/>
                    <a:lnTo>
                      <a:pt x="0" y="125770"/>
                    </a:lnTo>
                    <a:arcTo wR="3600" hR="3600" stAng="10800000" swAng="-5400000"/>
                    <a:lnTo>
                      <a:pt x="18000" y="12937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59760" rIns="59760" tIns="30960" bIns="30960" anchor="t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Management Service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833120" y="4217760"/>
            <a:ext cx="559908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Xie Xie</a:t>
            </a:r>
            <a:br>
              <a:rPr sz="2200"/>
            </a:br>
            <a:br>
              <a:rPr sz="2200"/>
            </a:br>
            <a:r>
              <a:rPr b="1" lang="en-US" sz="2200" spc="-1" strike="noStrike">
                <a:solidFill>
                  <a:srgbClr val="800000"/>
                </a:solidFill>
                <a:latin typeface="Arial"/>
              </a:rPr>
              <a:t>www.nessi-europe.com</a:t>
            </a:r>
            <a:br>
              <a:rPr sz="2200"/>
            </a:br>
            <a:r>
              <a:rPr b="1" lang="en-US" sz="2200" spc="-1" strike="noStrike">
                <a:solidFill>
                  <a:srgbClr val="800000"/>
                </a:solidFill>
                <a:latin typeface="Arial"/>
              </a:rPr>
              <a:t>stefano.depanfilis@eng.it</a:t>
            </a:r>
            <a:endParaRPr b="1" lang="en-US" sz="2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10720" y="130320"/>
            <a:ext cx="77454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3366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68040" y="1085760"/>
            <a:ext cx="78246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1872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d4d4d"/>
                </a:solidFill>
                <a:latin typeface="Arial"/>
              </a:rPr>
              <a:t>Why, Who, What is NESSI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271440" indent="-1872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d4d4d"/>
                </a:solidFill>
                <a:latin typeface="Arial"/>
              </a:rPr>
              <a:t>NESSI Holistic Mod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271440" indent="-1872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d4d4d"/>
                </a:solidFill>
                <a:latin typeface="Arial"/>
              </a:rPr>
              <a:t>NESSI Work Mod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10720" y="130320"/>
            <a:ext cx="77454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Services in IT - Market Expectations</a:t>
            </a: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34920" y="1723680"/>
            <a:ext cx="7824960" cy="28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3754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Service is something used but not owned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lvl="1" marL="375480" indent="-374040">
              <a:lnSpc>
                <a:spcPct val="90000"/>
              </a:lnSpc>
              <a:spcBef>
                <a:spcPts val="1500"/>
              </a:spcBef>
              <a:buClr>
                <a:srgbClr val="8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ower the risk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or customers and improve value and reliability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lvl="1" marL="375480" indent="-374040">
              <a:lnSpc>
                <a:spcPct val="90000"/>
              </a:lnSpc>
              <a:spcBef>
                <a:spcPts val="1500"/>
              </a:spcBef>
              <a:buClr>
                <a:srgbClr val="8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Increase process flexibili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or businesses as well as public institutions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lvl="1" marL="375480" indent="-374040">
              <a:lnSpc>
                <a:spcPct val="90000"/>
              </a:lnSpc>
              <a:spcBef>
                <a:spcPts val="1500"/>
              </a:spcBef>
              <a:buClr>
                <a:srgbClr val="8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ccept complex world environ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and co-operate on standards, so the end-user value can be created for a huge number of people in Europe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01720" y="4917960"/>
            <a:ext cx="754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 Black"/>
              </a:rPr>
              <a:t>The IT Industry is transforming and NESSI is a research initiative to foster this change!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633240"/>
            <a:ext cx="5983200" cy="809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10720" y="130320"/>
            <a:ext cx="77454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NESSI Partners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68040" y="1085400"/>
            <a:ext cx="782460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0000"/>
                </a:solidFill>
                <a:latin typeface="Arial Black"/>
              </a:rPr>
              <a:t>The promoters:</a:t>
            </a:r>
            <a:r>
              <a:rPr b="1" lang="en-US" sz="2200" spc="-1" strike="noStrike">
                <a:solidFill>
                  <a:srgbClr val="f0a000"/>
                </a:solidFill>
                <a:latin typeface="Arial Black"/>
              </a:rPr>
              <a:t> </a:t>
            </a:r>
            <a:br>
              <a:rPr sz="2200"/>
            </a:b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13 key European stakeholders in Software and Services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63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63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63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63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63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463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463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0000"/>
                </a:solidFill>
                <a:latin typeface="Arial Black"/>
              </a:rPr>
              <a:t>But also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463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More than 60 European companies and academic organizations in this field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63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411120" y="2124000"/>
            <a:ext cx="8358120" cy="1127160"/>
            <a:chOff x="411120" y="2124000"/>
            <a:chExt cx="8358120" cy="112716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411120" y="2124000"/>
              <a:ext cx="1162080" cy="50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2816280" y="2241720"/>
              <a:ext cx="1133280" cy="29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6219720" y="2365560"/>
              <a:ext cx="111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7454880" y="2289240"/>
              <a:ext cx="1314360" cy="42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5"/>
            <a:stretch/>
          </p:blipFill>
          <p:spPr>
            <a:xfrm>
              <a:off x="1463760" y="2859120"/>
              <a:ext cx="1162080" cy="2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6"/>
            <a:stretch/>
          </p:blipFill>
          <p:spPr>
            <a:xfrm>
              <a:off x="2739960" y="2859120"/>
              <a:ext cx="114300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7"/>
            <a:stretch/>
          </p:blipFill>
          <p:spPr>
            <a:xfrm>
              <a:off x="3954600" y="2887920"/>
              <a:ext cx="1123920" cy="23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8"/>
            <a:stretch/>
          </p:blipFill>
          <p:spPr>
            <a:xfrm>
              <a:off x="5165640" y="2813040"/>
              <a:ext cx="121932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9"/>
            <a:stretch/>
          </p:blipFill>
          <p:spPr>
            <a:xfrm>
              <a:off x="6515280" y="2881440"/>
              <a:ext cx="1400040" cy="2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/>
            <p:cNvPicPr/>
            <p:nvPr/>
          </p:nvPicPr>
          <p:blipFill>
            <a:blip r:embed="rId10"/>
            <a:stretch/>
          </p:blipFill>
          <p:spPr>
            <a:xfrm>
              <a:off x="1630440" y="2171880"/>
              <a:ext cx="995400" cy="46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hp logo" descr=""/>
            <p:cNvPicPr/>
            <p:nvPr/>
          </p:nvPicPr>
          <p:blipFill>
            <a:blip r:embed="rId11"/>
            <a:stretch/>
          </p:blipFill>
          <p:spPr>
            <a:xfrm>
              <a:off x="4145040" y="2255760"/>
              <a:ext cx="639720" cy="4334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12" name=""/>
            <p:cNvGraphicFramePr/>
            <p:nvPr/>
          </p:nvGraphicFramePr>
          <p:xfrm>
            <a:off x="5068800" y="2309760"/>
            <a:ext cx="882720" cy="343080"/>
          </p:xfrm>
          <a:graphic>
            <a:graphicData uri="http://schemas.openxmlformats.org/presentationml/2006/ole">
              <p:oleObj progId="Word.Document.12" r:id="rId12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5068800" y="2309760"/>
                      <a:ext cx="88272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431640" y="2751120"/>
            <a:ext cx="963720" cy="482760"/>
          </p:xfrm>
          <a:graphic>
            <a:graphicData uri="http://schemas.openxmlformats.org/presentationml/2006/ole">
              <p:oleObj progId="Word.Document.12" r:id="rId14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431640" y="2751120"/>
                      <a:ext cx="963720" cy="48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84040" y="695160"/>
            <a:ext cx="1459080" cy="14637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7543800" y="6583320"/>
            <a:ext cx="1600200" cy="2764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eng.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933480" y="2897280"/>
            <a:ext cx="2946240" cy="33336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178600" y="1147680"/>
            <a:ext cx="3844800" cy="3858840"/>
          </a:xfrm>
          <a:custGeom>
            <a:avLst/>
            <a:gdLst>
              <a:gd name="textAreaLeft" fmla="*/ 0 w 3844800"/>
              <a:gd name="textAreaRight" fmla="*/ 3845160 w 3844800"/>
              <a:gd name="textAreaTop" fmla="*/ 0 h 3858840"/>
              <a:gd name="textAreaBottom" fmla="*/ 3859200 h 3858840"/>
            </a:gdLst>
            <a:ahLst/>
            <a:rect l="textAreaLeft" t="textAreaTop" r="textAreaRight" b="textAreaBottom"/>
            <a:pathLst>
              <a:path w="21600" h="21679">
                <a:moveTo>
                  <a:pt x="0" y="0"/>
                </a:moveTo>
                <a:arcTo wR="0" hR="0" stAng="16200000" swAng="-5400000"/>
                <a:lnTo>
                  <a:pt x="0" y="21679"/>
                </a:lnTo>
                <a:arcTo wR="0" hR="0" stAng="10800000" swAng="-5400000"/>
                <a:lnTo>
                  <a:pt x="21600" y="21679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7800" indent="-2858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Largest Italian system integr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858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858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(</a:t>
            </a:r>
            <a:r>
              <a:rPr b="1" lang="it-IT" sz="1400" spc="-1" strike="noStrike">
                <a:solidFill>
                  <a:srgbClr val="000066"/>
                </a:solidFill>
                <a:latin typeface="Arial"/>
                <a:ea typeface="Arial"/>
              </a:rPr>
              <a:t>draft dat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85840">
              <a:lnSpc>
                <a:spcPct val="110000"/>
              </a:lnSpc>
              <a:buClr>
                <a:srgbClr val="993366"/>
              </a:buClr>
              <a:buSzPct val="15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85840">
              <a:lnSpc>
                <a:spcPct val="110000"/>
              </a:lnSpc>
              <a:buClr>
                <a:srgbClr val="993366"/>
              </a:buClr>
              <a:buSzPct val="15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3</a:t>
            </a:r>
            <a:r>
              <a:rPr b="1" lang="it-IT" sz="1400" spc="-1" strike="noStrike">
                <a:solidFill>
                  <a:srgbClr val="000066"/>
                </a:solidFill>
                <a:latin typeface="Arial"/>
                <a:ea typeface="Arial"/>
              </a:rPr>
              <a:t>5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 branch off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858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85840">
              <a:lnSpc>
                <a:spcPct val="110000"/>
              </a:lnSpc>
              <a:buClr>
                <a:srgbClr val="993366"/>
              </a:buClr>
              <a:buSzPct val="15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4.500 employees (200 researchers</a:t>
            </a:r>
            <a:r>
              <a:rPr b="1" lang="it-IT" sz="1400" spc="-1" strike="noStrike">
                <a:solidFill>
                  <a:srgbClr val="000066"/>
                </a:solidFill>
                <a:latin typeface="Arial"/>
                <a:ea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85840">
              <a:lnSpc>
                <a:spcPct val="110000"/>
              </a:lnSpc>
              <a:buClr>
                <a:srgbClr val="993366"/>
              </a:buClr>
              <a:buSzPct val="15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85840">
              <a:lnSpc>
                <a:spcPct val="110000"/>
              </a:lnSpc>
              <a:buClr>
                <a:srgbClr val="993366"/>
              </a:buClr>
              <a:buSzPct val="15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450 MEUR turn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858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85840">
              <a:lnSpc>
                <a:spcPct val="110000"/>
              </a:lnSpc>
              <a:buClr>
                <a:srgbClr val="993366"/>
              </a:buClr>
              <a:buSzPct val="15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66"/>
                </a:solidFill>
                <a:latin typeface="Arial"/>
                <a:ea typeface="Arial"/>
              </a:rPr>
              <a:t>7% R&amp;D invest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858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85840">
              <a:lnSpc>
                <a:spcPct val="110000"/>
              </a:lnSpc>
              <a:buClr>
                <a:srgbClr val="993366"/>
              </a:buClr>
              <a:buSzPct val="15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66"/>
                </a:solidFill>
                <a:latin typeface="Arial"/>
                <a:ea typeface="Arial"/>
              </a:rPr>
              <a:t>more than 500 clients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858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858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858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147760" y="573840"/>
            <a:ext cx="3067200" cy="211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328" y="21491"/>
                </a:moveTo>
                <a:arcTo wR="10800" hR="10800" stAng="4911836" swAng="7889521"/>
                <a:lnTo>
                  <a:pt x="10800" y="10800"/>
                </a:lnTo>
                <a:close/>
              </a:path>
              <a:path fill="none" w="21600" h="21600">
                <a:moveTo>
                  <a:pt x="12328" y="21491"/>
                </a:moveTo>
                <a:arcTo wR="10800" hR="10800" stAng="4911836" swAng="7889521"/>
              </a:path>
            </a:pathLst>
          </a:cu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30440" y="936720"/>
            <a:ext cx="1600200" cy="1531800"/>
          </a:xfrm>
          <a:custGeom>
            <a:avLst/>
            <a:gdLst/>
            <a:ahLst/>
            <a:rect l="l" t="t" r="r" b="b"/>
            <a:pathLst>
              <a:path w="1951" h="1594">
                <a:moveTo>
                  <a:pt x="397" y="113"/>
                </a:moveTo>
                <a:cubicBezTo>
                  <a:pt x="379" y="118"/>
                  <a:pt x="360" y="119"/>
                  <a:pt x="344" y="128"/>
                </a:cubicBezTo>
                <a:cubicBezTo>
                  <a:pt x="335" y="133"/>
                  <a:pt x="331" y="145"/>
                  <a:pt x="322" y="150"/>
                </a:cubicBezTo>
                <a:cubicBezTo>
                  <a:pt x="306" y="159"/>
                  <a:pt x="287" y="160"/>
                  <a:pt x="269" y="165"/>
                </a:cubicBezTo>
                <a:cubicBezTo>
                  <a:pt x="235" y="188"/>
                  <a:pt x="196" y="197"/>
                  <a:pt x="157" y="210"/>
                </a:cubicBezTo>
                <a:cubicBezTo>
                  <a:pt x="136" y="217"/>
                  <a:pt x="130" y="235"/>
                  <a:pt x="112" y="247"/>
                </a:cubicBezTo>
                <a:cubicBezTo>
                  <a:pt x="106" y="251"/>
                  <a:pt x="97" y="251"/>
                  <a:pt x="90" y="255"/>
                </a:cubicBezTo>
                <a:cubicBezTo>
                  <a:pt x="79" y="261"/>
                  <a:pt x="40" y="289"/>
                  <a:pt x="23" y="300"/>
                </a:cubicBezTo>
                <a:cubicBezTo>
                  <a:pt x="15" y="305"/>
                  <a:pt x="0" y="315"/>
                  <a:pt x="0" y="315"/>
                </a:cubicBezTo>
                <a:cubicBezTo>
                  <a:pt x="6" y="362"/>
                  <a:pt x="23" y="403"/>
                  <a:pt x="30" y="449"/>
                </a:cubicBezTo>
                <a:cubicBezTo>
                  <a:pt x="33" y="469"/>
                  <a:pt x="29" y="491"/>
                  <a:pt x="37" y="509"/>
                </a:cubicBezTo>
                <a:cubicBezTo>
                  <a:pt x="65" y="574"/>
                  <a:pt x="122" y="615"/>
                  <a:pt x="187" y="636"/>
                </a:cubicBezTo>
                <a:cubicBezTo>
                  <a:pt x="241" y="623"/>
                  <a:pt x="277" y="580"/>
                  <a:pt x="329" y="561"/>
                </a:cubicBezTo>
                <a:cubicBezTo>
                  <a:pt x="375" y="591"/>
                  <a:pt x="344" y="561"/>
                  <a:pt x="344" y="644"/>
                </a:cubicBezTo>
                <a:cubicBezTo>
                  <a:pt x="344" y="684"/>
                  <a:pt x="362" y="725"/>
                  <a:pt x="374" y="763"/>
                </a:cubicBezTo>
                <a:cubicBezTo>
                  <a:pt x="408" y="753"/>
                  <a:pt x="411" y="763"/>
                  <a:pt x="441" y="778"/>
                </a:cubicBezTo>
                <a:cubicBezTo>
                  <a:pt x="463" y="789"/>
                  <a:pt x="493" y="790"/>
                  <a:pt x="516" y="793"/>
                </a:cubicBezTo>
                <a:cubicBezTo>
                  <a:pt x="569" y="828"/>
                  <a:pt x="544" y="887"/>
                  <a:pt x="591" y="936"/>
                </a:cubicBezTo>
                <a:cubicBezTo>
                  <a:pt x="593" y="943"/>
                  <a:pt x="602" y="981"/>
                  <a:pt x="621" y="973"/>
                </a:cubicBezTo>
                <a:cubicBezTo>
                  <a:pt x="631" y="969"/>
                  <a:pt x="629" y="952"/>
                  <a:pt x="636" y="943"/>
                </a:cubicBezTo>
                <a:cubicBezTo>
                  <a:pt x="650" y="926"/>
                  <a:pt x="669" y="926"/>
                  <a:pt x="688" y="921"/>
                </a:cubicBezTo>
                <a:cubicBezTo>
                  <a:pt x="706" y="924"/>
                  <a:pt x="738" y="926"/>
                  <a:pt x="756" y="936"/>
                </a:cubicBezTo>
                <a:cubicBezTo>
                  <a:pt x="772" y="945"/>
                  <a:pt x="801" y="965"/>
                  <a:pt x="801" y="965"/>
                </a:cubicBezTo>
                <a:cubicBezTo>
                  <a:pt x="822" y="999"/>
                  <a:pt x="831" y="998"/>
                  <a:pt x="808" y="1033"/>
                </a:cubicBezTo>
                <a:cubicBezTo>
                  <a:pt x="816" y="1078"/>
                  <a:pt x="808" y="1107"/>
                  <a:pt x="853" y="1123"/>
                </a:cubicBezTo>
                <a:cubicBezTo>
                  <a:pt x="850" y="1133"/>
                  <a:pt x="852" y="1144"/>
                  <a:pt x="845" y="1152"/>
                </a:cubicBezTo>
                <a:cubicBezTo>
                  <a:pt x="833" y="1165"/>
                  <a:pt x="801" y="1182"/>
                  <a:pt x="801" y="1182"/>
                </a:cubicBezTo>
                <a:cubicBezTo>
                  <a:pt x="814" y="1253"/>
                  <a:pt x="824" y="1236"/>
                  <a:pt x="898" y="1227"/>
                </a:cubicBezTo>
                <a:cubicBezTo>
                  <a:pt x="932" y="1216"/>
                  <a:pt x="932" y="1232"/>
                  <a:pt x="965" y="1242"/>
                </a:cubicBezTo>
                <a:cubicBezTo>
                  <a:pt x="1025" y="1225"/>
                  <a:pt x="1000" y="1232"/>
                  <a:pt x="1040" y="1220"/>
                </a:cubicBezTo>
                <a:cubicBezTo>
                  <a:pt x="1089" y="1186"/>
                  <a:pt x="1058" y="1150"/>
                  <a:pt x="1085" y="1123"/>
                </a:cubicBezTo>
                <a:cubicBezTo>
                  <a:pt x="1094" y="1114"/>
                  <a:pt x="1159" y="1101"/>
                  <a:pt x="1182" y="1085"/>
                </a:cubicBezTo>
                <a:cubicBezTo>
                  <a:pt x="1196" y="1173"/>
                  <a:pt x="1176" y="1180"/>
                  <a:pt x="1152" y="1250"/>
                </a:cubicBezTo>
                <a:cubicBezTo>
                  <a:pt x="1162" y="1304"/>
                  <a:pt x="1152" y="1343"/>
                  <a:pt x="1204" y="1362"/>
                </a:cubicBezTo>
                <a:cubicBezTo>
                  <a:pt x="1218" y="1402"/>
                  <a:pt x="1237" y="1396"/>
                  <a:pt x="1272" y="1384"/>
                </a:cubicBezTo>
                <a:cubicBezTo>
                  <a:pt x="1287" y="1387"/>
                  <a:pt x="1303" y="1387"/>
                  <a:pt x="1317" y="1392"/>
                </a:cubicBezTo>
                <a:cubicBezTo>
                  <a:pt x="1343" y="1401"/>
                  <a:pt x="1338" y="1411"/>
                  <a:pt x="1354" y="1429"/>
                </a:cubicBezTo>
                <a:cubicBezTo>
                  <a:pt x="1392" y="1471"/>
                  <a:pt x="1387" y="1466"/>
                  <a:pt x="1421" y="1489"/>
                </a:cubicBezTo>
                <a:cubicBezTo>
                  <a:pt x="1424" y="1497"/>
                  <a:pt x="1423" y="1506"/>
                  <a:pt x="1429" y="1512"/>
                </a:cubicBezTo>
                <a:cubicBezTo>
                  <a:pt x="1442" y="1524"/>
                  <a:pt x="1474" y="1541"/>
                  <a:pt x="1474" y="1541"/>
                </a:cubicBezTo>
                <a:cubicBezTo>
                  <a:pt x="1479" y="1549"/>
                  <a:pt x="1482" y="1558"/>
                  <a:pt x="1489" y="1564"/>
                </a:cubicBezTo>
                <a:cubicBezTo>
                  <a:pt x="1503" y="1576"/>
                  <a:pt x="1534" y="1594"/>
                  <a:pt x="1534" y="1594"/>
                </a:cubicBezTo>
                <a:cubicBezTo>
                  <a:pt x="1578" y="1582"/>
                  <a:pt x="1608" y="1548"/>
                  <a:pt x="1653" y="1534"/>
                </a:cubicBezTo>
                <a:cubicBezTo>
                  <a:pt x="1671" y="1508"/>
                  <a:pt x="1679" y="1498"/>
                  <a:pt x="1668" y="1467"/>
                </a:cubicBezTo>
                <a:cubicBezTo>
                  <a:pt x="1664" y="1414"/>
                  <a:pt x="1668" y="1369"/>
                  <a:pt x="1638" y="1325"/>
                </a:cubicBezTo>
                <a:cubicBezTo>
                  <a:pt x="1624" y="1280"/>
                  <a:pt x="1609" y="1265"/>
                  <a:pt x="1653" y="1235"/>
                </a:cubicBezTo>
                <a:cubicBezTo>
                  <a:pt x="1679" y="1196"/>
                  <a:pt x="1702" y="1154"/>
                  <a:pt x="1728" y="1115"/>
                </a:cubicBezTo>
                <a:cubicBezTo>
                  <a:pt x="1731" y="1090"/>
                  <a:pt x="1715" y="1054"/>
                  <a:pt x="1736" y="1040"/>
                </a:cubicBezTo>
                <a:cubicBezTo>
                  <a:pt x="1769" y="1018"/>
                  <a:pt x="1816" y="1039"/>
                  <a:pt x="1855" y="1033"/>
                </a:cubicBezTo>
                <a:cubicBezTo>
                  <a:pt x="1864" y="1032"/>
                  <a:pt x="1870" y="1023"/>
                  <a:pt x="1878" y="1018"/>
                </a:cubicBezTo>
                <a:cubicBezTo>
                  <a:pt x="1913" y="949"/>
                  <a:pt x="1892" y="974"/>
                  <a:pt x="1930" y="936"/>
                </a:cubicBezTo>
                <a:cubicBezTo>
                  <a:pt x="1951" y="876"/>
                  <a:pt x="1949" y="810"/>
                  <a:pt x="1885" y="793"/>
                </a:cubicBezTo>
                <a:cubicBezTo>
                  <a:pt x="1843" y="762"/>
                  <a:pt x="1850" y="750"/>
                  <a:pt x="1833" y="704"/>
                </a:cubicBezTo>
                <a:cubicBezTo>
                  <a:pt x="1823" y="678"/>
                  <a:pt x="1785" y="654"/>
                  <a:pt x="1773" y="636"/>
                </a:cubicBezTo>
                <a:cubicBezTo>
                  <a:pt x="1737" y="584"/>
                  <a:pt x="1682" y="585"/>
                  <a:pt x="1623" y="576"/>
                </a:cubicBezTo>
                <a:cubicBezTo>
                  <a:pt x="1586" y="564"/>
                  <a:pt x="1581" y="528"/>
                  <a:pt x="1571" y="494"/>
                </a:cubicBezTo>
                <a:cubicBezTo>
                  <a:pt x="1584" y="436"/>
                  <a:pt x="1611" y="386"/>
                  <a:pt x="1631" y="330"/>
                </a:cubicBezTo>
                <a:cubicBezTo>
                  <a:pt x="1628" y="307"/>
                  <a:pt x="1632" y="283"/>
                  <a:pt x="1623" y="262"/>
                </a:cubicBezTo>
                <a:cubicBezTo>
                  <a:pt x="1614" y="240"/>
                  <a:pt x="1569" y="231"/>
                  <a:pt x="1549" y="225"/>
                </a:cubicBezTo>
                <a:cubicBezTo>
                  <a:pt x="1507" y="183"/>
                  <a:pt x="1474" y="184"/>
                  <a:pt x="1421" y="165"/>
                </a:cubicBezTo>
                <a:cubicBezTo>
                  <a:pt x="1389" y="177"/>
                  <a:pt x="1356" y="184"/>
                  <a:pt x="1324" y="195"/>
                </a:cubicBezTo>
                <a:cubicBezTo>
                  <a:pt x="1315" y="156"/>
                  <a:pt x="1308" y="126"/>
                  <a:pt x="1279" y="98"/>
                </a:cubicBezTo>
                <a:cubicBezTo>
                  <a:pt x="1265" y="52"/>
                  <a:pt x="1279" y="56"/>
                  <a:pt x="1227" y="45"/>
                </a:cubicBezTo>
                <a:cubicBezTo>
                  <a:pt x="1198" y="53"/>
                  <a:pt x="1177" y="58"/>
                  <a:pt x="1152" y="75"/>
                </a:cubicBezTo>
                <a:cubicBezTo>
                  <a:pt x="1114" y="49"/>
                  <a:pt x="1137" y="75"/>
                  <a:pt x="1137" y="30"/>
                </a:cubicBezTo>
                <a:cubicBezTo>
                  <a:pt x="1137" y="20"/>
                  <a:pt x="1132" y="10"/>
                  <a:pt x="1130" y="0"/>
                </a:cubicBezTo>
                <a:cubicBezTo>
                  <a:pt x="1112" y="3"/>
                  <a:pt x="1094" y="3"/>
                  <a:pt x="1077" y="8"/>
                </a:cubicBezTo>
                <a:cubicBezTo>
                  <a:pt x="1047" y="17"/>
                  <a:pt x="1051" y="41"/>
                  <a:pt x="1017" y="53"/>
                </a:cubicBezTo>
                <a:cubicBezTo>
                  <a:pt x="1004" y="11"/>
                  <a:pt x="984" y="24"/>
                  <a:pt x="943" y="30"/>
                </a:cubicBezTo>
                <a:cubicBezTo>
                  <a:pt x="935" y="33"/>
                  <a:pt x="924" y="31"/>
                  <a:pt x="920" y="38"/>
                </a:cubicBezTo>
                <a:cubicBezTo>
                  <a:pt x="917" y="45"/>
                  <a:pt x="924" y="53"/>
                  <a:pt x="928" y="60"/>
                </a:cubicBezTo>
                <a:cubicBezTo>
                  <a:pt x="937" y="76"/>
                  <a:pt x="958" y="105"/>
                  <a:pt x="958" y="105"/>
                </a:cubicBezTo>
                <a:cubicBezTo>
                  <a:pt x="936" y="113"/>
                  <a:pt x="840" y="112"/>
                  <a:pt x="830" y="113"/>
                </a:cubicBezTo>
                <a:cubicBezTo>
                  <a:pt x="809" y="144"/>
                  <a:pt x="783" y="161"/>
                  <a:pt x="748" y="173"/>
                </a:cubicBezTo>
                <a:cubicBezTo>
                  <a:pt x="698" y="223"/>
                  <a:pt x="753" y="175"/>
                  <a:pt x="703" y="202"/>
                </a:cubicBezTo>
                <a:cubicBezTo>
                  <a:pt x="687" y="211"/>
                  <a:pt x="658" y="232"/>
                  <a:pt x="658" y="232"/>
                </a:cubicBezTo>
                <a:cubicBezTo>
                  <a:pt x="646" y="230"/>
                  <a:pt x="632" y="232"/>
                  <a:pt x="621" y="225"/>
                </a:cubicBezTo>
                <a:cubicBezTo>
                  <a:pt x="603" y="214"/>
                  <a:pt x="597" y="185"/>
                  <a:pt x="576" y="180"/>
                </a:cubicBezTo>
                <a:cubicBezTo>
                  <a:pt x="538" y="171"/>
                  <a:pt x="556" y="177"/>
                  <a:pt x="524" y="165"/>
                </a:cubicBezTo>
                <a:cubicBezTo>
                  <a:pt x="493" y="173"/>
                  <a:pt x="475" y="184"/>
                  <a:pt x="449" y="202"/>
                </a:cubicBezTo>
                <a:cubicBezTo>
                  <a:pt x="412" y="167"/>
                  <a:pt x="423" y="128"/>
                  <a:pt x="374" y="113"/>
                </a:cubicBezTo>
                <a:cubicBezTo>
                  <a:pt x="345" y="122"/>
                  <a:pt x="357" y="115"/>
                  <a:pt x="337" y="135"/>
                </a:cubicBezTo>
              </a:path>
            </a:pathLst>
          </a:custGeom>
          <a:noFill/>
          <a:ln w="158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16240" y="1400040"/>
            <a:ext cx="95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a50021"/>
                </a:solidFill>
                <a:latin typeface="Arial"/>
              </a:rPr>
              <a:t>BRUSS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78160" y="1222200"/>
            <a:ext cx="260280" cy="225720"/>
          </a:xfrm>
          <a:custGeom>
            <a:avLst/>
            <a:gdLst>
              <a:gd name="textAreaLeft" fmla="*/ 107280 w 260280"/>
              <a:gd name="textAreaRight" fmla="*/ 153000 w 260280"/>
              <a:gd name="textAreaTop" fmla="*/ 92880 h 225720"/>
              <a:gd name="textAreaBottom" fmla="*/ 132840 h 225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74800" y="1706400"/>
            <a:ext cx="95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a50021"/>
                </a:solidFill>
                <a:latin typeface="Arial"/>
              </a:rPr>
              <a:t>DUB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50920" y="1515960"/>
            <a:ext cx="260280" cy="225360"/>
          </a:xfrm>
          <a:custGeom>
            <a:avLst/>
            <a:gdLst>
              <a:gd name="textAreaLeft" fmla="*/ 107280 w 260280"/>
              <a:gd name="textAreaRight" fmla="*/ 153000 w 260280"/>
              <a:gd name="textAreaTop" fmla="*/ 92880 h 225360"/>
              <a:gd name="textAreaBottom" fmla="*/ 132480 h 225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36760" y="4502160"/>
            <a:ext cx="201600" cy="154080"/>
          </a:xfrm>
          <a:custGeom>
            <a:avLst/>
            <a:gdLst>
              <a:gd name="textAreaLeft" fmla="*/ 83160 w 201600"/>
              <a:gd name="textAreaRight" fmla="*/ 118440 w 201600"/>
              <a:gd name="textAreaTop" fmla="*/ 63360 h 154080"/>
              <a:gd name="textAreaBottom" fmla="*/ 90720 h 15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679840" y="4664160"/>
            <a:ext cx="201600" cy="154080"/>
          </a:xfrm>
          <a:custGeom>
            <a:avLst/>
            <a:gdLst>
              <a:gd name="textAreaLeft" fmla="*/ 83160 w 201600"/>
              <a:gd name="textAreaRight" fmla="*/ 118440 w 201600"/>
              <a:gd name="textAreaTop" fmla="*/ 63360 h 154080"/>
              <a:gd name="textAreaBottom" fmla="*/ 90720 h 15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35120" y="5611680"/>
            <a:ext cx="201600" cy="154080"/>
          </a:xfrm>
          <a:custGeom>
            <a:avLst/>
            <a:gdLst>
              <a:gd name="textAreaLeft" fmla="*/ 83160 w 201600"/>
              <a:gd name="textAreaRight" fmla="*/ 118440 w 201600"/>
              <a:gd name="textAreaTop" fmla="*/ 63360 h 154080"/>
              <a:gd name="textAreaBottom" fmla="*/ 90720 h 15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28720" y="3341520"/>
            <a:ext cx="201600" cy="154080"/>
          </a:xfrm>
          <a:custGeom>
            <a:avLst/>
            <a:gdLst>
              <a:gd name="textAreaLeft" fmla="*/ 83160 w 201600"/>
              <a:gd name="textAreaRight" fmla="*/ 118440 w 201600"/>
              <a:gd name="textAreaTop" fmla="*/ 63360 h 154080"/>
              <a:gd name="textAreaBottom" fmla="*/ 90720 h 15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77800" y="3473280"/>
            <a:ext cx="201600" cy="154080"/>
          </a:xfrm>
          <a:custGeom>
            <a:avLst/>
            <a:gdLst>
              <a:gd name="textAreaLeft" fmla="*/ 83160 w 201600"/>
              <a:gd name="textAreaRight" fmla="*/ 118440 w 201600"/>
              <a:gd name="textAreaTop" fmla="*/ 63360 h 154080"/>
              <a:gd name="textAreaBottom" fmla="*/ 90720 h 15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193840" y="3524400"/>
            <a:ext cx="201600" cy="153720"/>
          </a:xfrm>
          <a:custGeom>
            <a:avLst/>
            <a:gdLst>
              <a:gd name="textAreaLeft" fmla="*/ 83160 w 201600"/>
              <a:gd name="textAreaRight" fmla="*/ 118440 w 201600"/>
              <a:gd name="textAreaTop" fmla="*/ 63360 h 153720"/>
              <a:gd name="textAreaBottom" fmla="*/ 90360 h 15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90800" y="3666960"/>
            <a:ext cx="201600" cy="154080"/>
          </a:xfrm>
          <a:custGeom>
            <a:avLst/>
            <a:gdLst>
              <a:gd name="textAreaLeft" fmla="*/ 83160 w 201600"/>
              <a:gd name="textAreaRight" fmla="*/ 118440 w 201600"/>
              <a:gd name="textAreaTop" fmla="*/ 63360 h 154080"/>
              <a:gd name="textAreaBottom" fmla="*/ 90720 h 15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32120" y="3927600"/>
            <a:ext cx="201600" cy="153720"/>
          </a:xfrm>
          <a:custGeom>
            <a:avLst/>
            <a:gdLst>
              <a:gd name="textAreaLeft" fmla="*/ 83160 w 201600"/>
              <a:gd name="textAreaRight" fmla="*/ 118440 w 201600"/>
              <a:gd name="textAreaTop" fmla="*/ 63360 h 153720"/>
              <a:gd name="textAreaBottom" fmla="*/ 90360 h 15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05000" y="4084560"/>
            <a:ext cx="201600" cy="154080"/>
          </a:xfrm>
          <a:custGeom>
            <a:avLst/>
            <a:gdLst>
              <a:gd name="textAreaLeft" fmla="*/ 83160 w 201600"/>
              <a:gd name="textAreaRight" fmla="*/ 118440 w 201600"/>
              <a:gd name="textAreaTop" fmla="*/ 63360 h 154080"/>
              <a:gd name="textAreaBottom" fmla="*/ 90720 h 15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11440" y="4950000"/>
            <a:ext cx="201600" cy="153720"/>
          </a:xfrm>
          <a:custGeom>
            <a:avLst/>
            <a:gdLst>
              <a:gd name="textAreaLeft" fmla="*/ 83160 w 201600"/>
              <a:gd name="textAreaRight" fmla="*/ 118440 w 201600"/>
              <a:gd name="textAreaTop" fmla="*/ 63360 h 153720"/>
              <a:gd name="textAreaBottom" fmla="*/ 90360 h 15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3760" y="3720960"/>
            <a:ext cx="201600" cy="154080"/>
          </a:xfrm>
          <a:custGeom>
            <a:avLst/>
            <a:gdLst>
              <a:gd name="textAreaLeft" fmla="*/ 83160 w 201600"/>
              <a:gd name="textAreaRight" fmla="*/ 118440 w 201600"/>
              <a:gd name="textAreaTop" fmla="*/ 63360 h 154080"/>
              <a:gd name="textAreaBottom" fmla="*/ 90720 h 15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13160" y="4189320"/>
            <a:ext cx="201600" cy="154080"/>
          </a:xfrm>
          <a:custGeom>
            <a:avLst/>
            <a:gdLst>
              <a:gd name="textAreaLeft" fmla="*/ 83160 w 201600"/>
              <a:gd name="textAreaRight" fmla="*/ 118440 w 201600"/>
              <a:gd name="textAreaTop" fmla="*/ 63360 h 154080"/>
              <a:gd name="textAreaBottom" fmla="*/ 90720 h 15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95640" y="5008680"/>
            <a:ext cx="201600" cy="153720"/>
          </a:xfrm>
          <a:custGeom>
            <a:avLst/>
            <a:gdLst>
              <a:gd name="textAreaLeft" fmla="*/ 83160 w 201600"/>
              <a:gd name="textAreaRight" fmla="*/ 118440 w 201600"/>
              <a:gd name="textAreaTop" fmla="*/ 63360 h 153720"/>
              <a:gd name="textAreaBottom" fmla="*/ 90360 h 15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133720" y="3143160"/>
            <a:ext cx="201600" cy="154080"/>
          </a:xfrm>
          <a:custGeom>
            <a:avLst/>
            <a:gdLst>
              <a:gd name="textAreaLeft" fmla="*/ 83160 w 201600"/>
              <a:gd name="textAreaRight" fmla="*/ 118440 w 201600"/>
              <a:gd name="textAreaTop" fmla="*/ 63360 h 154080"/>
              <a:gd name="textAreaBottom" fmla="*/ 90720 h 15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81040" y="5257800"/>
            <a:ext cx="201600" cy="154080"/>
          </a:xfrm>
          <a:custGeom>
            <a:avLst/>
            <a:gdLst>
              <a:gd name="textAreaLeft" fmla="*/ 83160 w 201600"/>
              <a:gd name="textAreaRight" fmla="*/ 118440 w 201600"/>
              <a:gd name="textAreaTop" fmla="*/ 63360 h 154080"/>
              <a:gd name="textAreaBottom" fmla="*/ 90720 h 15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11080" y="130320"/>
            <a:ext cx="77454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3366"/>
                </a:solidFill>
                <a:latin typeface="Arial"/>
                <a:ea typeface="Arial"/>
              </a:rPr>
              <a:t>Engineering Ingegneria Informatica S.p.A-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733400" y="4530600"/>
            <a:ext cx="57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a50021"/>
                </a:solidFill>
                <a:latin typeface="Arial"/>
              </a:rPr>
              <a:t>RO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10720" y="130320"/>
            <a:ext cx="77454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NESSI Vision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7440" y="750960"/>
            <a:ext cx="8636040" cy="54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44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NESSI initiative aims to provide a </a:t>
            </a:r>
            <a:r>
              <a:rPr b="1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common basi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for European research in </a:t>
            </a:r>
            <a:r>
              <a:rPr b="1" lang="fr-FR" sz="2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ervices and </a:t>
            </a:r>
            <a:r>
              <a:rPr b="1" lang="fr-FR" sz="2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oftwar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and their provision as a service oriented </a:t>
            </a:r>
            <a:r>
              <a:rPr b="1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utility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in order to establish the technological basis and the strategies that will </a:t>
            </a:r>
            <a:r>
              <a:rPr b="1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speed up services ecosystem dynamic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, by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444960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883800" indent="-329040">
              <a:buClr>
                <a:srgbClr val="96969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69696"/>
                </a:solidFill>
                <a:latin typeface="Arial"/>
              </a:rPr>
              <a:t>providing European industry (notably SMEs) and public sector with technology to master complex software systems for innovation and growth;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lvl="1" marL="883800" indent="-329040">
              <a:buClr>
                <a:srgbClr val="96969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69696"/>
                </a:solidFill>
                <a:latin typeface="Arial"/>
              </a:rPr>
              <a:t>transforming Software and Services Industry in Europe to achieve a leadership position;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lvl="1" marL="883800" indent="-329040">
              <a:buClr>
                <a:srgbClr val="96969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69696"/>
                </a:solidFill>
                <a:latin typeface="Arial"/>
              </a:rPr>
              <a:t>fostering the well-being of citizens through new societal applications, enhanced efficiency of industry and public sector, and competitive labour market;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444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444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 this way driving the transformation of the European economy toward a knowledge based economy based on service-oriented business models. 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10720" y="130320"/>
            <a:ext cx="77454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NESSI Holistic View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620640" y="811080"/>
            <a:ext cx="8337600" cy="5407200"/>
            <a:chOff x="620640" y="811080"/>
            <a:chExt cx="8337600" cy="5407200"/>
          </a:xfrm>
        </p:grpSpPr>
        <p:sp>
          <p:nvSpPr>
            <p:cNvPr id="147" name=""/>
            <p:cNvSpPr/>
            <p:nvPr/>
          </p:nvSpPr>
          <p:spPr>
            <a:xfrm>
              <a:off x="620640" y="811080"/>
              <a:ext cx="8337600" cy="5407200"/>
            </a:xfrm>
            <a:prstGeom prst="ellipse">
              <a:avLst/>
            </a:prstGeom>
            <a:solidFill>
              <a:srgbClr val="3366ff">
                <a:alpha val="3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217040" y="860400"/>
              <a:ext cx="1122480" cy="2764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00"/>
                  </a:solidFill>
                  <a:latin typeface="Arial"/>
                </a:rPr>
                <a:t>EU Econom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1933560" y="1714680"/>
            <a:ext cx="5765760" cy="2060280"/>
            <a:chOff x="1933560" y="1714680"/>
            <a:chExt cx="5765760" cy="2060280"/>
          </a:xfrm>
        </p:grpSpPr>
        <p:grpSp>
          <p:nvGrpSpPr>
            <p:cNvPr id="150" name=""/>
            <p:cNvGrpSpPr/>
            <p:nvPr/>
          </p:nvGrpSpPr>
          <p:grpSpPr>
            <a:xfrm>
              <a:off x="1933560" y="1714680"/>
              <a:ext cx="5765760" cy="2009520"/>
              <a:chOff x="1933560" y="1714680"/>
              <a:chExt cx="5765760" cy="2009520"/>
            </a:xfrm>
          </p:grpSpPr>
          <p:sp>
            <p:nvSpPr>
              <p:cNvPr id="151" name=""/>
              <p:cNvSpPr/>
              <p:nvPr/>
            </p:nvSpPr>
            <p:spPr>
              <a:xfrm>
                <a:off x="1933560" y="1714680"/>
                <a:ext cx="5765760" cy="2009520"/>
              </a:xfrm>
              <a:prstGeom prst="ellipse">
                <a:avLst/>
              </a:prstGeom>
              <a:solidFill>
                <a:srgbClr val="cc99ff">
                  <a:alpha val="50000"/>
                </a:srgbClr>
              </a:solidFill>
              <a:ln w="9360">
                <a:solidFill>
                  <a:srgbClr val="a7c1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450840" y="2332080"/>
                <a:ext cx="9792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be6600"/>
                    </a:solidFill>
                    <a:latin typeface="Arial"/>
                  </a:rPr>
                  <a:t>NESSI</a:t>
                </a:r>
                <a:br>
                  <a:rPr sz="1200"/>
                </a:br>
                <a:r>
                  <a:rPr b="1" lang="en-GB" sz="1200" spc="-1" strike="noStrike">
                    <a:solidFill>
                      <a:srgbClr val="be6600"/>
                    </a:solidFill>
                    <a:latin typeface="Arial"/>
                  </a:rPr>
                  <a:t>Landsca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370560" y="2701800"/>
                <a:ext cx="11304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3366"/>
                    </a:solidFill>
                    <a:latin typeface="Arial"/>
                  </a:rPr>
                  <a:t>(Business leve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3366"/>
                    </a:solidFill>
                    <a:latin typeface="Arial"/>
                  </a:rPr>
                  <a:t>Services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3100320" y="2077920"/>
              <a:ext cx="3409920" cy="1697040"/>
              <a:chOff x="3100320" y="2077920"/>
              <a:chExt cx="3409920" cy="1697040"/>
            </a:xfrm>
          </p:grpSpPr>
          <p:sp>
            <p:nvSpPr>
              <p:cNvPr id="155" name=""/>
              <p:cNvSpPr/>
              <p:nvPr/>
            </p:nvSpPr>
            <p:spPr>
              <a:xfrm>
                <a:off x="3799080" y="2077920"/>
                <a:ext cx="796680" cy="1697040"/>
              </a:xfrm>
              <a:prstGeom prst="ellipse">
                <a:avLst/>
              </a:prstGeom>
              <a:noFill/>
              <a:ln w="9360">
                <a:solidFill>
                  <a:srgbClr val="a7c1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021280" y="2077920"/>
                <a:ext cx="795240" cy="1697040"/>
              </a:xfrm>
              <a:prstGeom prst="ellipse">
                <a:avLst/>
              </a:prstGeom>
              <a:noFill/>
              <a:ln w="9360">
                <a:solidFill>
                  <a:srgbClr val="a7c1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200400" y="2077920"/>
                <a:ext cx="795240" cy="1697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a7c1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384800" y="2077920"/>
                <a:ext cx="796680" cy="1697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a7c1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608800" y="2077920"/>
                <a:ext cx="793440" cy="1697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a7c1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100320" y="2523960"/>
                <a:ext cx="3394080" cy="214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a7c1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102120" y="2962440"/>
                <a:ext cx="3394080" cy="2188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a7c1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116160" y="2739960"/>
                <a:ext cx="3394080" cy="217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a7c1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852720" y="2701800"/>
                <a:ext cx="1889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3366"/>
                    </a:solidFill>
                    <a:latin typeface="Arial"/>
                  </a:rPr>
                  <a:t>Cross business Collaboration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282120" y="2179800"/>
                <a:ext cx="671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900" spc="-1" strike="noStrike">
                    <a:solidFill>
                      <a:srgbClr val="003366"/>
                    </a:solidFill>
                    <a:latin typeface="Arial"/>
                  </a:rPr>
                  <a:t>Busines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900" spc="-1" strike="noStrike">
                    <a:solidFill>
                      <a:srgbClr val="003366"/>
                    </a:solidFill>
                    <a:latin typeface="Arial"/>
                  </a:rPr>
                  <a:t>Domain 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458600" y="2179800"/>
                <a:ext cx="671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900" spc="-1" strike="noStrike">
                    <a:solidFill>
                      <a:srgbClr val="003366"/>
                    </a:solidFill>
                    <a:latin typeface="Arial"/>
                  </a:rPr>
                  <a:t>Busines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900" spc="-1" strike="noStrike">
                    <a:solidFill>
                      <a:srgbClr val="003366"/>
                    </a:solidFill>
                    <a:latin typeface="Arial"/>
                  </a:rPr>
                  <a:t>Domain 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666400" y="2179800"/>
                <a:ext cx="671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900" spc="-1" strike="noStrike">
                    <a:solidFill>
                      <a:srgbClr val="003366"/>
                    </a:solidFill>
                    <a:latin typeface="Arial"/>
                  </a:rPr>
                  <a:t>Busines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900" spc="-1" strike="noStrike">
                    <a:solidFill>
                      <a:srgbClr val="003366"/>
                    </a:solidFill>
                    <a:latin typeface="Arial"/>
                  </a:rPr>
                  <a:t>Domain 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7" name=""/>
          <p:cNvGrpSpPr/>
          <p:nvPr/>
        </p:nvGrpSpPr>
        <p:grpSpPr>
          <a:xfrm>
            <a:off x="1662120" y="1429560"/>
            <a:ext cx="6303600" cy="4653360"/>
            <a:chOff x="1662120" y="1429560"/>
            <a:chExt cx="6303600" cy="4653360"/>
          </a:xfrm>
        </p:grpSpPr>
        <p:sp>
          <p:nvSpPr>
            <p:cNvPr id="168" name=""/>
            <p:cNvSpPr/>
            <p:nvPr/>
          </p:nvSpPr>
          <p:spPr>
            <a:xfrm rot="16200000">
              <a:off x="4255200" y="2661120"/>
              <a:ext cx="1128600" cy="5715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458" y="954"/>
                    <a:pt x="5316" y="5080"/>
                    <a:pt x="5316" y="10800"/>
                  </a:cubicBezTo>
                  <a:cubicBezTo>
                    <a:pt x="5316" y="16520"/>
                    <a:pt x="13458" y="206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 txBox="1"/>
            <p:nvPr/>
          </p:nvSpPr>
          <p:spPr>
            <a:xfrm>
              <a:off x="2890800" y="5132520"/>
              <a:ext cx="3895920" cy="814320"/>
            </a:xfrm>
            <a:prstGeom prst="rect">
              <a:avLst/>
            </a:prstGeom>
          </p:spPr>
          <p:txBody>
            <a:bodyPr wrap="none" fromWordArt="1" lIns="90000" rIns="90000" tIns="46800" bIns="46800" anchor="ctr" anchorCtr="1">
              <a:prstTxWarp prst="textArchDown">
                <a:avLst>
                  <a:gd name="adj" fmla="val 15011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0">
                    <a:noFill/>
                  </a:ln>
                  <a:solidFill>
                    <a:srgbClr val="000000"/>
                  </a:solidFill>
                  <a:latin typeface="Arial"/>
                </a:rPr>
                <a:t>Open Standards - Open Source - Quality - Connectivity - Federation</a:t>
              </a:r>
              <a:endParaRPr b="0" lang="en-US" sz="1000" spc="1" strike="noStrike">
                <a:ln w="0">
                  <a:noFill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 rot="5400000">
              <a:off x="4249080" y="-864000"/>
              <a:ext cx="1128600" cy="5715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458" y="954"/>
                    <a:pt x="5316" y="5080"/>
                    <a:pt x="5316" y="10800"/>
                  </a:cubicBezTo>
                  <a:cubicBezTo>
                    <a:pt x="5316" y="16520"/>
                    <a:pt x="13458" y="206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 txBox="1"/>
            <p:nvPr/>
          </p:nvSpPr>
          <p:spPr>
            <a:xfrm rot="532200">
              <a:off x="4852800" y="1661760"/>
              <a:ext cx="1801800" cy="314280"/>
            </a:xfrm>
            <a:prstGeom prst="rect">
              <a:avLst/>
            </a:prstGeom>
          </p:spPr>
          <p:txBody>
            <a:bodyPr wrap="none" fromWordArt="1" lIns="90000" rIns="90000" tIns="46800" bIns="46800" anchor="ctr" anchorCtr="1">
              <a:prstTxWarp prst="textArchUp">
                <a:avLst>
                  <a:gd name="adj" fmla="val 14007079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0">
                    <a:noFill/>
                  </a:ln>
                  <a:solidFill>
                    <a:srgbClr val="000000"/>
                  </a:solidFill>
                  <a:latin typeface="Arial"/>
                </a:rPr>
                <a:t>Comprehensive View</a:t>
              </a:r>
              <a:endParaRPr b="0" lang="en-US" sz="1000" spc="1" strike="noStrike">
                <a:ln w="0">
                  <a:noFill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72" name=""/>
            <p:cNvSpPr txBox="1"/>
            <p:nvPr/>
          </p:nvSpPr>
          <p:spPr>
            <a:xfrm rot="21088800">
              <a:off x="3151080" y="1665360"/>
              <a:ext cx="1295640" cy="152280"/>
            </a:xfrm>
            <a:prstGeom prst="rect">
              <a:avLst/>
            </a:prstGeom>
          </p:spPr>
          <p:txBody>
            <a:bodyPr wrap="none" fromWordArt="1" lIns="90000" rIns="90000" tIns="46800" bIns="46800" anchor="ctr" anchorCtr="1">
              <a:prstTxWarp prst="textArchUp">
                <a:avLst>
                  <a:gd name="adj" fmla="val 1277338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0">
                    <a:noFill/>
                  </a:ln>
                  <a:solidFill>
                    <a:srgbClr val="000000"/>
                  </a:solidFill>
                  <a:latin typeface="Arial"/>
                </a:rPr>
                <a:t>Trust - Dependability</a:t>
              </a:r>
              <a:endParaRPr b="0" lang="en-US" sz="1000" spc="1" strike="noStrike">
                <a:ln w="0">
                  <a:noFill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662120" y="2443320"/>
              <a:ext cx="328680" cy="2614320"/>
            </a:xfrm>
            <a:custGeom>
              <a:avLst/>
              <a:gdLst/>
              <a:ahLst/>
              <a:rect l="l" t="t" r="r" b="b"/>
              <a:pathLst>
                <a:path w="207" h="1647">
                  <a:moveTo>
                    <a:pt x="207" y="0"/>
                  </a:moveTo>
                  <a:cubicBezTo>
                    <a:pt x="180" y="72"/>
                    <a:pt x="79" y="296"/>
                    <a:pt x="45" y="434"/>
                  </a:cubicBezTo>
                  <a:cubicBezTo>
                    <a:pt x="11" y="572"/>
                    <a:pt x="4" y="699"/>
                    <a:pt x="2" y="827"/>
                  </a:cubicBezTo>
                  <a:cubicBezTo>
                    <a:pt x="0" y="955"/>
                    <a:pt x="1" y="1065"/>
                    <a:pt x="35" y="1202"/>
                  </a:cubicBezTo>
                  <a:cubicBezTo>
                    <a:pt x="69" y="1339"/>
                    <a:pt x="171" y="1554"/>
                    <a:pt x="207" y="1647"/>
                  </a:cubicBezTo>
                </a:path>
              </a:pathLst>
            </a:custGeom>
            <a:noFill/>
            <a:ln w="88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7636680" y="2446200"/>
              <a:ext cx="328680" cy="2614680"/>
            </a:xfrm>
            <a:custGeom>
              <a:avLst/>
              <a:gdLst/>
              <a:ahLst/>
              <a:rect l="l" t="t" r="r" b="b"/>
              <a:pathLst>
                <a:path w="207" h="1647">
                  <a:moveTo>
                    <a:pt x="207" y="0"/>
                  </a:moveTo>
                  <a:cubicBezTo>
                    <a:pt x="180" y="72"/>
                    <a:pt x="79" y="296"/>
                    <a:pt x="45" y="434"/>
                  </a:cubicBezTo>
                  <a:cubicBezTo>
                    <a:pt x="11" y="572"/>
                    <a:pt x="4" y="699"/>
                    <a:pt x="2" y="827"/>
                  </a:cubicBezTo>
                  <a:cubicBezTo>
                    <a:pt x="0" y="955"/>
                    <a:pt x="1" y="1065"/>
                    <a:pt x="35" y="1202"/>
                  </a:cubicBezTo>
                  <a:cubicBezTo>
                    <a:pt x="69" y="1339"/>
                    <a:pt x="171" y="1554"/>
                    <a:pt x="207" y="1647"/>
                  </a:cubicBezTo>
                </a:path>
              </a:pathLst>
            </a:custGeom>
            <a:noFill/>
            <a:ln w="88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4116240" y="1254240"/>
            <a:ext cx="1311480" cy="571320"/>
          </a:xfrm>
          <a:prstGeom prst="upArrow">
            <a:avLst>
              <a:gd name="adj1" fmla="val 53704"/>
              <a:gd name="adj2" fmla="val 40569"/>
            </a:avLst>
          </a:prstGeom>
          <a:solidFill>
            <a:srgbClr val="b2b2b2">
              <a:alpha val="50000"/>
            </a:srgbClr>
          </a:solidFill>
          <a:ln w="9360">
            <a:solidFill>
              <a:srgbClr val="be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3366"/>
                </a:solidFill>
                <a:latin typeface="Arial"/>
              </a:rPr>
              <a:t>Business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1933560" y="3800520"/>
            <a:ext cx="5765760" cy="2009880"/>
            <a:chOff x="1933560" y="3800520"/>
            <a:chExt cx="5765760" cy="2009880"/>
          </a:xfrm>
        </p:grpSpPr>
        <p:grpSp>
          <p:nvGrpSpPr>
            <p:cNvPr id="177" name=""/>
            <p:cNvGrpSpPr/>
            <p:nvPr/>
          </p:nvGrpSpPr>
          <p:grpSpPr>
            <a:xfrm>
              <a:off x="1933560" y="3800520"/>
              <a:ext cx="5765760" cy="2009880"/>
              <a:chOff x="1933560" y="3800520"/>
              <a:chExt cx="5765760" cy="2009880"/>
            </a:xfrm>
          </p:grpSpPr>
          <p:sp>
            <p:nvSpPr>
              <p:cNvPr id="178" name=""/>
              <p:cNvSpPr/>
              <p:nvPr/>
            </p:nvSpPr>
            <p:spPr>
              <a:xfrm>
                <a:off x="1933560" y="3800520"/>
                <a:ext cx="5765760" cy="2009880"/>
              </a:xfrm>
              <a:prstGeom prst="ellipse">
                <a:avLst/>
              </a:prstGeom>
              <a:solidFill>
                <a:srgbClr val="ccffcc">
                  <a:alpha val="50000"/>
                </a:srgbClr>
              </a:solidFill>
              <a:ln w="9360">
                <a:solidFill>
                  <a:srgbClr val="a7c1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359040" y="4578480"/>
                <a:ext cx="996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be6600"/>
                    </a:solidFill>
                    <a:latin typeface="Arial"/>
                  </a:rPr>
                  <a:t>NESS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be6600"/>
                    </a:solidFill>
                    <a:latin typeface="Arial"/>
                  </a:rPr>
                  <a:t>Framewor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3508200" y="4317840"/>
              <a:ext cx="2482920" cy="1231920"/>
              <a:chOff x="3508200" y="4317840"/>
              <a:chExt cx="2482920" cy="1231920"/>
            </a:xfrm>
          </p:grpSpPr>
          <p:sp>
            <p:nvSpPr>
              <p:cNvPr id="181" name=""/>
              <p:cNvSpPr/>
              <p:nvPr/>
            </p:nvSpPr>
            <p:spPr>
              <a:xfrm>
                <a:off x="3722760" y="4352760"/>
                <a:ext cx="588960" cy="5032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a7c1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226040" y="4352760"/>
                <a:ext cx="588960" cy="5032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a7c1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727520" y="4352760"/>
                <a:ext cx="592200" cy="5032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a7c1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232240" y="4352760"/>
                <a:ext cx="590760" cy="5032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a7c1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508200" y="5159520"/>
                <a:ext cx="2482920" cy="390240"/>
              </a:xfrm>
              <a:prstGeom prst="rect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59760" rIns="5976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Infrastructure Lay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508200" y="4738680"/>
                <a:ext cx="2482920" cy="390600"/>
              </a:xfrm>
              <a:prstGeom prst="rect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59760" rIns="5976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Service Integration Lay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508200" y="4317840"/>
                <a:ext cx="2482920" cy="390600"/>
              </a:xfrm>
              <a:prstGeom prst="rect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59760" rIns="5976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Semantic Lay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291280" y="4344840"/>
                <a:ext cx="190440" cy="1181160"/>
              </a:xfrm>
              <a:custGeom>
                <a:avLst/>
                <a:gdLst>
                  <a:gd name="textAreaLeft" fmla="*/ 9000 w 190440"/>
                  <a:gd name="textAreaRight" fmla="*/ 181440 w 190440"/>
                  <a:gd name="textAreaTop" fmla="*/ 9000 h 1181160"/>
                  <a:gd name="textAreaBottom" fmla="*/ 1172160 h 1181160"/>
                </a:gdLst>
                <a:ahLst/>
                <a:rect l="textAreaLeft" t="textAreaTop" r="textAreaRight" b="textAreaBottom"/>
                <a:pathLst>
                  <a:path w="21600" h="133757">
                    <a:moveTo>
                      <a:pt x="3600" y="0"/>
                    </a:moveTo>
                    <a:arcTo wR="3600" hR="3600" stAng="16200000" swAng="-5400000"/>
                    <a:lnTo>
                      <a:pt x="0" y="130157"/>
                    </a:lnTo>
                    <a:arcTo wR="3600" hR="3600" stAng="10800000" swAng="-5400000"/>
                    <a:lnTo>
                      <a:pt x="18000" y="13375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59760" rIns="59760" tIns="30960" bIns="30960" anchor="t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Securit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535720" y="4349880"/>
                <a:ext cx="188640" cy="1180800"/>
              </a:xfrm>
              <a:custGeom>
                <a:avLst/>
                <a:gdLst>
                  <a:gd name="textAreaLeft" fmla="*/ 9000 w 188640"/>
                  <a:gd name="textAreaRight" fmla="*/ 179640 w 188640"/>
                  <a:gd name="textAreaTop" fmla="*/ 9000 h 1180800"/>
                  <a:gd name="textAreaBottom" fmla="*/ 1171800 h 1180800"/>
                </a:gdLst>
                <a:ahLst/>
                <a:rect l="textAreaLeft" t="textAreaTop" r="textAreaRight" b="textAreaBottom"/>
                <a:pathLst>
                  <a:path w="21600" h="134990">
                    <a:moveTo>
                      <a:pt x="3600" y="0"/>
                    </a:moveTo>
                    <a:arcTo wR="3600" hR="3600" stAng="16200000" swAng="-5400000"/>
                    <a:lnTo>
                      <a:pt x="0" y="131390"/>
                    </a:lnTo>
                    <a:arcTo wR="3600" hR="3600" stAng="10800000" swAng="-5400000"/>
                    <a:lnTo>
                      <a:pt x="18000" y="134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59760" rIns="59760" tIns="30960" bIns="30960" anchor="t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Interoperabilit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770440" y="4349880"/>
                <a:ext cx="189000" cy="1180800"/>
              </a:xfrm>
              <a:custGeom>
                <a:avLst/>
                <a:gdLst>
                  <a:gd name="textAreaLeft" fmla="*/ 9000 w 189000"/>
                  <a:gd name="textAreaRight" fmla="*/ 180000 w 189000"/>
                  <a:gd name="textAreaTop" fmla="*/ 9000 h 1180800"/>
                  <a:gd name="textAreaBottom" fmla="*/ 1171800 h 1180800"/>
                </a:gdLst>
                <a:ahLst/>
                <a:rect l="textAreaLeft" t="textAreaTop" r="textAreaRight" b="textAreaBottom"/>
                <a:pathLst>
                  <a:path w="21600" h="134733">
                    <a:moveTo>
                      <a:pt x="3600" y="0"/>
                    </a:moveTo>
                    <a:arcTo wR="3600" hR="3600" stAng="16200000" swAng="-5400000"/>
                    <a:lnTo>
                      <a:pt x="0" y="131133"/>
                    </a:lnTo>
                    <a:arcTo wR="3600" hR="3600" stAng="10800000" swAng="-5400000"/>
                    <a:lnTo>
                      <a:pt x="18000" y="13473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59760" rIns="59760" tIns="30960" bIns="30960" anchor="t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Management Service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1" name=""/>
          <p:cNvSpPr/>
          <p:nvPr/>
        </p:nvSpPr>
        <p:spPr>
          <a:xfrm>
            <a:off x="196920" y="6283440"/>
            <a:ext cx="8937720" cy="626760"/>
          </a:xfrm>
          <a:prstGeom prst="flowChartAlternateProcess">
            <a:avLst/>
          </a:prstGeom>
          <a:solidFill>
            <a:srgbClr val="ffffff"/>
          </a:solidFill>
          <a:ln w="28440">
            <a:solidFill>
              <a:srgbClr val="be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ESSI is about transforming the EU economy through Service Oriented business models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494360" y="2701800"/>
            <a:ext cx="6440040" cy="2109960"/>
            <a:chOff x="1494360" y="2701800"/>
            <a:chExt cx="6440040" cy="2109960"/>
          </a:xfrm>
        </p:grpSpPr>
        <p:grpSp>
          <p:nvGrpSpPr>
            <p:cNvPr id="193" name=""/>
            <p:cNvGrpSpPr/>
            <p:nvPr/>
          </p:nvGrpSpPr>
          <p:grpSpPr>
            <a:xfrm>
              <a:off x="1695600" y="2701800"/>
              <a:ext cx="1657080" cy="2106720"/>
              <a:chOff x="1695600" y="2701800"/>
              <a:chExt cx="1657080" cy="2106720"/>
            </a:xfrm>
          </p:grpSpPr>
          <p:sp>
            <p:nvSpPr>
              <p:cNvPr id="194" name=""/>
              <p:cNvSpPr/>
              <p:nvPr/>
            </p:nvSpPr>
            <p:spPr>
              <a:xfrm>
                <a:off x="1695600" y="2701800"/>
                <a:ext cx="1657080" cy="2106720"/>
              </a:xfrm>
              <a:custGeom>
                <a:avLst/>
                <a:gdLst/>
                <a:ahLst/>
                <a:rect l="l" t="t" r="r" b="b"/>
                <a:pathLst>
                  <a:path w="1044" h="1327">
                    <a:moveTo>
                      <a:pt x="981" y="659"/>
                    </a:moveTo>
                    <a:cubicBezTo>
                      <a:pt x="974" y="621"/>
                      <a:pt x="975" y="608"/>
                      <a:pt x="1002" y="551"/>
                    </a:cubicBezTo>
                    <a:cubicBezTo>
                      <a:pt x="942" y="539"/>
                      <a:pt x="852" y="518"/>
                      <a:pt x="765" y="488"/>
                    </a:cubicBezTo>
                    <a:cubicBezTo>
                      <a:pt x="678" y="458"/>
                      <a:pt x="555" y="406"/>
                      <a:pt x="477" y="368"/>
                    </a:cubicBezTo>
                    <a:cubicBezTo>
                      <a:pt x="399" y="330"/>
                      <a:pt x="353" y="324"/>
                      <a:pt x="297" y="263"/>
                    </a:cubicBezTo>
                    <a:cubicBezTo>
                      <a:pt x="241" y="202"/>
                      <a:pt x="161" y="124"/>
                      <a:pt x="142" y="0"/>
                    </a:cubicBezTo>
                    <a:cubicBezTo>
                      <a:pt x="94" y="117"/>
                      <a:pt x="62" y="227"/>
                      <a:pt x="38" y="338"/>
                    </a:cubicBezTo>
                    <a:cubicBezTo>
                      <a:pt x="15" y="448"/>
                      <a:pt x="4" y="559"/>
                      <a:pt x="2" y="662"/>
                    </a:cubicBezTo>
                    <a:cubicBezTo>
                      <a:pt x="0" y="765"/>
                      <a:pt x="0" y="844"/>
                      <a:pt x="24" y="955"/>
                    </a:cubicBezTo>
                    <a:cubicBezTo>
                      <a:pt x="41" y="1065"/>
                      <a:pt x="84" y="1200"/>
                      <a:pt x="144" y="1327"/>
                    </a:cubicBezTo>
                    <a:cubicBezTo>
                      <a:pt x="158" y="1171"/>
                      <a:pt x="236" y="1141"/>
                      <a:pt x="294" y="1079"/>
                    </a:cubicBezTo>
                    <a:cubicBezTo>
                      <a:pt x="352" y="1017"/>
                      <a:pt x="409" y="993"/>
                      <a:pt x="492" y="953"/>
                    </a:cubicBezTo>
                    <a:cubicBezTo>
                      <a:pt x="575" y="913"/>
                      <a:pt x="700" y="868"/>
                      <a:pt x="792" y="839"/>
                    </a:cubicBezTo>
                    <a:cubicBezTo>
                      <a:pt x="884" y="810"/>
                      <a:pt x="984" y="794"/>
                      <a:pt x="1044" y="779"/>
                    </a:cubicBezTo>
                    <a:cubicBezTo>
                      <a:pt x="996" y="743"/>
                      <a:pt x="988" y="697"/>
                      <a:pt x="981" y="659"/>
                    </a:cubicBez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a7c1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993680" y="3560760"/>
                <a:ext cx="10022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3366"/>
                    </a:solidFill>
                    <a:latin typeface="Arial"/>
                  </a:rPr>
                  <a:t>Practices an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3366"/>
                    </a:solidFill>
                    <a:latin typeface="Arial"/>
                  </a:rPr>
                  <a:t>Usag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3052800" y="3433680"/>
              <a:ext cx="3449520" cy="579600"/>
              <a:chOff x="3052800" y="3433680"/>
              <a:chExt cx="3449520" cy="579600"/>
            </a:xfrm>
          </p:grpSpPr>
          <p:sp>
            <p:nvSpPr>
              <p:cNvPr id="197" name=""/>
              <p:cNvSpPr/>
              <p:nvPr/>
            </p:nvSpPr>
            <p:spPr>
              <a:xfrm>
                <a:off x="5703840" y="3433680"/>
                <a:ext cx="676440" cy="5796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a7c1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081760" y="3433680"/>
                <a:ext cx="676080" cy="5796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a7c1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448160" y="3433680"/>
                <a:ext cx="676440" cy="5796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a7c1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848040" y="3433680"/>
                <a:ext cx="676440" cy="5796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a7c1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247920" y="3433680"/>
                <a:ext cx="676440" cy="5796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a7c1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052800" y="3581280"/>
                <a:ext cx="344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3366"/>
                    </a:solidFill>
                    <a:latin typeface="Arial"/>
                  </a:rPr>
                  <a:t>Architecture and Engineerin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6276960" y="2705040"/>
              <a:ext cx="1657440" cy="2106720"/>
              <a:chOff x="6276960" y="2705040"/>
              <a:chExt cx="1657440" cy="2106720"/>
            </a:xfrm>
          </p:grpSpPr>
          <p:sp>
            <p:nvSpPr>
              <p:cNvPr id="204" name=""/>
              <p:cNvSpPr/>
              <p:nvPr/>
            </p:nvSpPr>
            <p:spPr>
              <a:xfrm>
                <a:off x="6276960" y="2705040"/>
                <a:ext cx="1657440" cy="2106720"/>
              </a:xfrm>
              <a:custGeom>
                <a:avLst/>
                <a:gdLst/>
                <a:ahLst/>
                <a:rect l="l" t="t" r="r" b="b"/>
                <a:pathLst>
                  <a:path w="1044" h="1327">
                    <a:moveTo>
                      <a:pt x="63" y="659"/>
                    </a:moveTo>
                    <a:cubicBezTo>
                      <a:pt x="68" y="612"/>
                      <a:pt x="69" y="608"/>
                      <a:pt x="42" y="551"/>
                    </a:cubicBezTo>
                    <a:cubicBezTo>
                      <a:pt x="102" y="539"/>
                      <a:pt x="192" y="518"/>
                      <a:pt x="279" y="488"/>
                    </a:cubicBezTo>
                    <a:cubicBezTo>
                      <a:pt x="366" y="458"/>
                      <a:pt x="489" y="406"/>
                      <a:pt x="567" y="368"/>
                    </a:cubicBezTo>
                    <a:cubicBezTo>
                      <a:pt x="645" y="330"/>
                      <a:pt x="681" y="318"/>
                      <a:pt x="747" y="263"/>
                    </a:cubicBezTo>
                    <a:cubicBezTo>
                      <a:pt x="813" y="208"/>
                      <a:pt x="883" y="124"/>
                      <a:pt x="902" y="0"/>
                    </a:cubicBezTo>
                    <a:cubicBezTo>
                      <a:pt x="950" y="117"/>
                      <a:pt x="982" y="227"/>
                      <a:pt x="1006" y="338"/>
                    </a:cubicBezTo>
                    <a:cubicBezTo>
                      <a:pt x="1029" y="448"/>
                      <a:pt x="1040" y="559"/>
                      <a:pt x="1042" y="662"/>
                    </a:cubicBezTo>
                    <a:cubicBezTo>
                      <a:pt x="1044" y="765"/>
                      <a:pt x="1044" y="844"/>
                      <a:pt x="1020" y="955"/>
                    </a:cubicBezTo>
                    <a:cubicBezTo>
                      <a:pt x="1003" y="1065"/>
                      <a:pt x="960" y="1200"/>
                      <a:pt x="900" y="1327"/>
                    </a:cubicBezTo>
                    <a:cubicBezTo>
                      <a:pt x="886" y="1171"/>
                      <a:pt x="808" y="1141"/>
                      <a:pt x="750" y="1079"/>
                    </a:cubicBezTo>
                    <a:cubicBezTo>
                      <a:pt x="692" y="1017"/>
                      <a:pt x="635" y="993"/>
                      <a:pt x="552" y="953"/>
                    </a:cubicBezTo>
                    <a:cubicBezTo>
                      <a:pt x="469" y="913"/>
                      <a:pt x="344" y="868"/>
                      <a:pt x="252" y="839"/>
                    </a:cubicBezTo>
                    <a:cubicBezTo>
                      <a:pt x="160" y="810"/>
                      <a:pt x="60" y="794"/>
                      <a:pt x="0" y="779"/>
                    </a:cubicBezTo>
                    <a:cubicBezTo>
                      <a:pt x="48" y="743"/>
                      <a:pt x="58" y="706"/>
                      <a:pt x="63" y="659"/>
                    </a:cubicBez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a7c1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739200" y="3560760"/>
                <a:ext cx="9122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3366"/>
                    </a:solidFill>
                    <a:latin typeface="Arial"/>
                  </a:rPr>
                  <a:t>Regulator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3366"/>
                    </a:solidFill>
                    <a:latin typeface="Arial"/>
                  </a:rPr>
                  <a:t>Governanc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494360" y="3044880"/>
              <a:ext cx="848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be6600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be6600"/>
                  </a:solidFill>
                  <a:latin typeface="Arial"/>
                </a:rPr>
                <a:t>NESS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be6600"/>
                  </a:solidFill>
                  <a:latin typeface="Arial"/>
                </a:rPr>
                <a:t>Adop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4116240" y="3803760"/>
            <a:ext cx="1311480" cy="474480"/>
          </a:xfrm>
          <a:prstGeom prst="upArrow">
            <a:avLst>
              <a:gd name="adj1" fmla="val 53750"/>
              <a:gd name="adj2" fmla="val 47921"/>
            </a:avLst>
          </a:prstGeom>
          <a:solidFill>
            <a:srgbClr val="b2b2b2">
              <a:alpha val="50000"/>
            </a:srgbClr>
          </a:solidFill>
          <a:ln w="9360">
            <a:solidFill>
              <a:srgbClr val="be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3366"/>
                </a:solidFill>
                <a:latin typeface="Arial"/>
              </a:rPr>
              <a:t>Core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10720" y="130320"/>
            <a:ext cx="77454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3366"/>
                </a:solidFill>
                <a:latin typeface="Arial"/>
              </a:rPr>
              <a:t>NESSI’s Roadmap – phasing the SRA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68040" y="839520"/>
            <a:ext cx="78246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79440" indent="-378000">
              <a:spcBef>
                <a:spcPts val="825"/>
              </a:spcBef>
              <a:buClr>
                <a:srgbClr val="8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90000"/>
                </a:solidFill>
                <a:latin typeface="Arial"/>
              </a:rPr>
              <a:t>SRA – Volume 1 – Framing the future of the service oriented economy</a:t>
            </a:r>
            <a:endParaRPr b="0" lang="en-US" sz="2200" spc="-1" strike="noStrike">
              <a:solidFill>
                <a:srgbClr val="969696"/>
              </a:solidFill>
              <a:latin typeface="Arial"/>
            </a:endParaRPr>
          </a:p>
          <a:p>
            <a:pPr lvl="2" marL="671400" indent="-290520">
              <a:spcBef>
                <a:spcPts val="751"/>
              </a:spcBef>
              <a:buClr>
                <a:srgbClr val="8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77777"/>
                </a:solidFill>
                <a:latin typeface="Arial"/>
              </a:rPr>
              <a:t>26/1/2006 - Draft version – discussed at Forum 26/1/2006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lvl="2" marL="671400" indent="-290520">
              <a:spcBef>
                <a:spcPts val="751"/>
              </a:spcBef>
              <a:buClr>
                <a:srgbClr val="8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77777"/>
                </a:solidFill>
                <a:latin typeface="Arial"/>
              </a:rPr>
              <a:t>03/2006 - Public comment period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lvl="2" marL="671400" indent="-290520">
              <a:spcBef>
                <a:spcPts val="751"/>
              </a:spcBef>
              <a:buClr>
                <a:srgbClr val="8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77777"/>
                </a:solidFill>
                <a:latin typeface="Arial"/>
              </a:rPr>
              <a:t>5/2006 – Version 1.0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lvl="1" marL="379440" indent="-378000">
              <a:spcBef>
                <a:spcPts val="825"/>
              </a:spcBef>
              <a:buClr>
                <a:srgbClr val="8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90000"/>
                </a:solidFill>
                <a:latin typeface="Arial"/>
              </a:rPr>
              <a:t>SRA – Volume 2 – Strategy to build NESSI</a:t>
            </a:r>
            <a:endParaRPr b="0" lang="en-US" sz="2200" spc="-1" strike="noStrike">
              <a:solidFill>
                <a:srgbClr val="969696"/>
              </a:solidFill>
              <a:latin typeface="Arial"/>
            </a:endParaRPr>
          </a:p>
          <a:p>
            <a:pPr lvl="2" marL="671400" indent="-290520">
              <a:spcBef>
                <a:spcPts val="751"/>
              </a:spcBef>
              <a:buClr>
                <a:srgbClr val="8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77777"/>
                </a:solidFill>
                <a:latin typeface="Arial"/>
              </a:rPr>
              <a:t>5/2006 – Draft version – to be delivered at General Assembly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lvl="2" marL="671400" indent="-290520">
              <a:spcBef>
                <a:spcPts val="751"/>
              </a:spcBef>
              <a:buClr>
                <a:srgbClr val="8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77777"/>
                </a:solidFill>
                <a:latin typeface="Arial"/>
              </a:rPr>
              <a:t>6/2006 - Public comment period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lvl="2" marL="671400" indent="-290520">
              <a:spcBef>
                <a:spcPts val="751"/>
              </a:spcBef>
              <a:buClr>
                <a:srgbClr val="8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77777"/>
                </a:solidFill>
                <a:latin typeface="Arial"/>
              </a:rPr>
              <a:t>9/2006 – Version 1.0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lvl="1" marL="379440" indent="-378000">
              <a:spcBef>
                <a:spcPts val="825"/>
              </a:spcBef>
              <a:buClr>
                <a:srgbClr val="8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90000"/>
                </a:solidFill>
                <a:latin typeface="Arial"/>
              </a:rPr>
              <a:t>SRA – Volume 3.x – Roadmaps (phased in short, mid and long term)</a:t>
            </a:r>
            <a:endParaRPr b="0" lang="en-US" sz="2200" spc="-1" strike="noStrike">
              <a:solidFill>
                <a:srgbClr val="969696"/>
              </a:solidFill>
              <a:latin typeface="Arial"/>
            </a:endParaRPr>
          </a:p>
          <a:p>
            <a:pPr lvl="2" marL="671400" indent="-290520">
              <a:spcBef>
                <a:spcPts val="751"/>
              </a:spcBef>
              <a:buClr>
                <a:srgbClr val="8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77777"/>
                </a:solidFill>
                <a:latin typeface="Arial"/>
              </a:rPr>
              <a:t>7/2006 - Short term roadmap draft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lvl="2" marL="671400" indent="-290520">
              <a:spcBef>
                <a:spcPts val="751"/>
              </a:spcBef>
              <a:buClr>
                <a:srgbClr val="8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77777"/>
                </a:solidFill>
                <a:latin typeface="Arial"/>
              </a:rPr>
              <a:t>11/2006 – Short term roadmap version 1.0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lvl="2" marL="671400" indent="-290520">
              <a:spcBef>
                <a:spcPts val="751"/>
              </a:spcBef>
              <a:buClr>
                <a:srgbClr val="8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77777"/>
                </a:solidFill>
                <a:latin typeface="Arial"/>
              </a:rPr>
              <a:t>Mid and long term roadmaps to be defined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lvl="2" marL="6714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"/>
          <p:cNvGrpSpPr/>
          <p:nvPr/>
        </p:nvGrpSpPr>
        <p:grpSpPr>
          <a:xfrm>
            <a:off x="831960" y="1111320"/>
            <a:ext cx="7394040" cy="5835240"/>
            <a:chOff x="831960" y="1111320"/>
            <a:chExt cx="7394040" cy="5835240"/>
          </a:xfrm>
        </p:grpSpPr>
        <p:grpSp>
          <p:nvGrpSpPr>
            <p:cNvPr id="211" name=""/>
            <p:cNvGrpSpPr/>
            <p:nvPr/>
          </p:nvGrpSpPr>
          <p:grpSpPr>
            <a:xfrm>
              <a:off x="831960" y="1111320"/>
              <a:ext cx="7394040" cy="5835240"/>
              <a:chOff x="831960" y="1111320"/>
              <a:chExt cx="7394040" cy="5835240"/>
            </a:xfrm>
          </p:grpSpPr>
          <p:pic>
            <p:nvPicPr>
              <p:cNvPr id="212" name="NESSI Structure v0 13" descr=""/>
              <p:cNvPicPr/>
              <p:nvPr/>
            </p:nvPicPr>
            <p:blipFill>
              <a:blip r:embed="rId1"/>
              <a:srcRect l="-1189" t="10667" r="0" b="0"/>
              <a:stretch/>
            </p:blipFill>
            <p:spPr>
              <a:xfrm>
                <a:off x="831960" y="1111320"/>
                <a:ext cx="7085160" cy="583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3" name=""/>
              <p:cNvSpPr/>
              <p:nvPr/>
            </p:nvSpPr>
            <p:spPr>
              <a:xfrm>
                <a:off x="7837560" y="1501200"/>
                <a:ext cx="388440" cy="448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3366"/>
                    </a:solidFill>
                    <a:latin typeface="Arial"/>
                  </a:rPr>
                  <a:t>NESS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3366"/>
                    </a:solidFill>
                    <a:latin typeface="Arial"/>
                  </a:rPr>
                  <a:t> </a:t>
                </a:r>
                <a:r>
                  <a:rPr b="1" lang="en-GB" sz="1800" spc="-1" strike="noStrike">
                    <a:solidFill>
                      <a:srgbClr val="003366"/>
                    </a:solidFill>
                    <a:latin typeface="Arial"/>
                  </a:rPr>
                  <a:t>GOVERNANC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>
              <a:off x="1104840" y="1295640"/>
              <a:ext cx="1066320" cy="1930320"/>
            </a:xfrm>
            <a:prstGeom prst="rect">
              <a:avLst/>
            </a:prstGeom>
            <a:solidFill>
              <a:srgbClr val="7de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10720" y="130320"/>
            <a:ext cx="77454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3366"/>
                </a:solidFill>
                <a:latin typeface="Arial"/>
              </a:rPr>
              <a:t>How to join NESSI: Working Groups</a:t>
            </a:r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573120"/>
            <a:ext cx="2454120" cy="6188040"/>
          </a:xfrm>
          <a:prstGeom prst="upArrow">
            <a:avLst>
              <a:gd name="adj1" fmla="val 50000"/>
              <a:gd name="adj2" fmla="val 31238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426960" y="1953720"/>
            <a:ext cx="1725480" cy="4518000"/>
            <a:chOff x="426960" y="1953720"/>
            <a:chExt cx="1725480" cy="4518000"/>
          </a:xfrm>
        </p:grpSpPr>
        <p:sp>
          <p:nvSpPr>
            <p:cNvPr id="218" name=""/>
            <p:cNvSpPr/>
            <p:nvPr/>
          </p:nvSpPr>
          <p:spPr>
            <a:xfrm>
              <a:off x="457200" y="5342400"/>
              <a:ext cx="1681200" cy="1129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a7c1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 Black"/>
                </a:rPr>
                <a:t>participative awareness</a:t>
              </a:r>
              <a:br>
                <a:rPr sz="1800"/>
              </a:b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8400" y="3822480"/>
              <a:ext cx="1703520" cy="8859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a7c1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 Black"/>
                </a:rPr>
                <a:t>contribution</a:t>
              </a:r>
              <a:br>
                <a:rPr sz="1800"/>
              </a:b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960" y="1953720"/>
              <a:ext cx="1725480" cy="8550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a7c1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 Black"/>
                </a:rPr>
                <a:t>coordin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2011320" y="3654360"/>
            <a:ext cx="5100480" cy="1635120"/>
            <a:chOff x="2011320" y="3654360"/>
            <a:chExt cx="5100480" cy="1635120"/>
          </a:xfrm>
        </p:grpSpPr>
        <p:sp>
          <p:nvSpPr>
            <p:cNvPr id="222" name=""/>
            <p:cNvSpPr/>
            <p:nvPr/>
          </p:nvSpPr>
          <p:spPr>
            <a:xfrm>
              <a:off x="2011320" y="3786120"/>
              <a:ext cx="5100480" cy="13716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SSI Membe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727000" y="4046760"/>
              <a:ext cx="1116000" cy="50796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989080" y="4243320"/>
              <a:ext cx="1114560" cy="50652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84200" y="4438800"/>
              <a:ext cx="1116000" cy="50796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Working</a:t>
              </a:r>
              <a:br>
                <a:rPr sz="1200"/>
              </a:b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roup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3773160" y="4962600"/>
              <a:ext cx="0" cy="32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3057480" y="3654360"/>
              <a:ext cx="0" cy="392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1000" fill="hold"/>
                                        <p:tgtEl>
                                          <p:spTgt spid="221"/>
                                        </p:tgtEl>
                                      </p:cBhvr>
                                      <p:to x="175000" y="17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3T11:30:09Z</dcterms:created>
  <dc:creator>coat</dc:creator>
  <dc:description/>
  <dc:language>en-US</dc:language>
  <cp:lastModifiedBy> </cp:lastModifiedBy>
  <cp:lastPrinted>2004-11-26T13:01:56Z</cp:lastPrinted>
  <dcterms:modified xsi:type="dcterms:W3CDTF">2006-02-20T03:48:36Z</dcterms:modified>
  <cp:revision>52</cp:revision>
  <dc:subject/>
  <dc:title>Title of the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