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3.jpeg" ContentType="image/jpeg"/>
  <Override PartName="/ppt/media/image11.pct" ContentType="image/x-pict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825560" y="0"/>
            <a:ext cx="731844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6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u-egee.org/" TargetMode="External"/><Relationship Id="rId2" Type="http://schemas.openxmlformats.org/officeDocument/2006/relationships/hyperlink" Target="http://cern.ch/lcg" TargetMode="External"/><Relationship Id="rId3" Type="http://schemas.openxmlformats.org/officeDocument/2006/relationships/hyperlink" Target="http://www.glite.org/" TargetMode="External"/><Relationship Id="rId4" Type="http://schemas.openxmlformats.org/officeDocument/2006/relationships/hyperlink" Target="http://www.cs.wisc.edu/condor" TargetMode="External"/><Relationship Id="rId5" Type="http://schemas.openxmlformats.org/officeDocument/2006/relationships/hyperlink" Target="http://www.globus.org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http://www.wise-women.org/images/illus/bug.gif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1.pct"/><Relationship Id="rId12" Type="http://schemas.openxmlformats.org/officeDocument/2006/relationships/image" Target="../media/image11.pct"/><Relationship Id="rId13" Type="http://schemas.openxmlformats.org/officeDocument/2006/relationships/image" Target="../media/image11.pct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343400" y="2286000"/>
            <a:ext cx="327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209680"/>
            <a:ext cx="70387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b519a"/>
                </a:solidFill>
                <a:latin typeface="Arial"/>
              </a:rPr>
              <a:t>EGEE and gLite</a:t>
            </a:r>
            <a:endParaRPr b="0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982880" y="3676680"/>
            <a:ext cx="65181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Slides by: Erwin Laure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EGEE Deputy Middleware Manager</a:t>
            </a:r>
            <a:br>
              <a:rPr sz="2000"/>
            </a:b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ity: Basic Concep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 security is based on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X.509 PKI infra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Certificate Authorities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(CA) issue (long lived) </a:t>
            </a: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certificates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identifying individuals (much like a passport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rust between CAs and sites is established (offline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ser identification is done by using (short lived) </a:t>
            </a: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proxies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of their certificat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roxies ca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Be </a:t>
            </a: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delegated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to a service such that it can act on the user’s behal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clude </a:t>
            </a: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additional attributes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(like VO information via the VO Membership Service VOM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Be stored in an </a:t>
            </a: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external proxy store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(myProxy)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Be </a:t>
            </a: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renewed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(in case they are about to expire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andard TLS (like ssh) and MLS (like WS-Sec) is us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LS has performance and support issues!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ddleware Challenges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5064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Heterogeneit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ata is stored on different storage systems using different access technologi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Distribu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ata is stored in different locations – in most cases there is no shared file system or common namespac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ata needs to be moved between different location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Different Administrative Domain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ata is stored at places you would normally have no access t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ecurity and auditing implication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914400"/>
            <a:ext cx="396252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05600" indent="-2714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eed common interface to storage resources</a:t>
            </a:r>
            <a:endParaRPr b="0" lang="en-US" sz="1900" spc="-1" strike="noStrike">
              <a:solidFill>
                <a:srgbClr val="2b519a"/>
              </a:solidFill>
              <a:latin typeface="Arial"/>
            </a:endParaRPr>
          </a:p>
          <a:p>
            <a:pPr lvl="2" marL="1085760" indent="-21708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1af00"/>
                </a:solidFill>
                <a:latin typeface="Arial"/>
              </a:rPr>
              <a:t>Storage Resource Manager (SRM)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05600" indent="-2714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eed to keep track where data is stored</a:t>
            </a:r>
            <a:endParaRPr b="0" lang="en-US" sz="1900" spc="-1" strike="noStrike">
              <a:solidFill>
                <a:srgbClr val="2b519a"/>
              </a:solidFill>
              <a:latin typeface="Arial"/>
            </a:endParaRPr>
          </a:p>
          <a:p>
            <a:pPr lvl="2" marL="1085760" indent="-21708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1af00"/>
                </a:solidFill>
                <a:latin typeface="Arial"/>
              </a:rPr>
              <a:t>File and Replica Catalogs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 lvl="1" marL="705600" indent="-2714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eed scheduled, reliable file transfer</a:t>
            </a:r>
            <a:endParaRPr b="0" lang="en-US" sz="1900" spc="-1" strike="noStrike">
              <a:solidFill>
                <a:srgbClr val="2b519a"/>
              </a:solidFill>
              <a:latin typeface="Arial"/>
            </a:endParaRPr>
          </a:p>
          <a:p>
            <a:pPr lvl="2" marL="1085760" indent="-21708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1af00"/>
                </a:solidFill>
                <a:latin typeface="Arial"/>
              </a:rPr>
              <a:t>File transfer and placement services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 lvl="2" marL="1085760" indent="-21708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 lvl="1" marL="705600" indent="-2714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eed a common security model</a:t>
            </a:r>
            <a:endParaRPr b="0" lang="en-US" sz="1900" spc="-1" strike="noStrike">
              <a:solidFill>
                <a:srgbClr val="2b519a"/>
              </a:solidFill>
              <a:latin typeface="Arial"/>
            </a:endParaRPr>
          </a:p>
          <a:p>
            <a:pPr lvl="2" marL="1085760" indent="-21708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1af00"/>
                </a:solidFill>
                <a:latin typeface="Arial"/>
              </a:rPr>
              <a:t>ACLs enforcement based on Grid identities – DNs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Management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378480" y="3427920"/>
            <a:ext cx="2232000" cy="1644120"/>
            <a:chOff x="6378480" y="3427920"/>
            <a:chExt cx="2232000" cy="1644120"/>
          </a:xfrm>
        </p:grpSpPr>
        <p:sp>
          <p:nvSpPr>
            <p:cNvPr id="206" name=""/>
            <p:cNvSpPr/>
            <p:nvPr/>
          </p:nvSpPr>
          <p:spPr>
            <a:xfrm>
              <a:off x="6378480" y="3429000"/>
              <a:ext cx="2232000" cy="1643040"/>
            </a:xfrm>
            <a:prstGeom prst="rect">
              <a:avLst/>
            </a:prstGeom>
            <a:noFill/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600"/>
              </a:br>
              <a:r>
                <a:rPr b="0" lang="en-US" sz="1400" spc="-1" strike="noStrike">
                  <a:solidFill>
                    <a:srgbClr val="325faf"/>
                  </a:solidFill>
                  <a:latin typeface="Arial"/>
                </a:rPr>
                <a:t>File and</a:t>
              </a:r>
              <a:br>
                <a:rPr sz="1400"/>
              </a:br>
              <a:r>
                <a:rPr b="0" lang="en-US" sz="1400" spc="-1" strike="noStrike">
                  <a:solidFill>
                    <a:srgbClr val="325faf"/>
                  </a:solidFill>
                  <a:latin typeface="Arial"/>
                </a:rPr>
                <a:t>Replica Catalog</a:t>
              </a:r>
              <a:endParaRPr b="0" lang="en-US" sz="14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16560" y="4735800"/>
              <a:ext cx="1393920" cy="307080"/>
            </a:xfrm>
            <a:prstGeom prst="rect">
              <a:avLst/>
            </a:prstGeom>
            <a:gradFill rotWithShape="0">
              <a:gsLst>
                <a:gs pos="0">
                  <a:srgbClr val="325faf">
                    <a:alpha val="70196"/>
                  </a:srgbClr>
                </a:gs>
                <a:gs pos="100000">
                  <a:srgbClr val="172b50">
                    <a:alpha val="70196"/>
                  </a:srgbClr>
                </a:gs>
              </a:gsLst>
              <a:lin ang="5400000"/>
            </a:gra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orageIndex</a:t>
              </a:r>
              <a:endParaRPr b="0" lang="en-US" sz="14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0440" y="3427920"/>
              <a:ext cx="1044720" cy="307080"/>
            </a:xfrm>
            <a:prstGeom prst="rect">
              <a:avLst/>
            </a:prstGeom>
            <a:gradFill rotWithShape="0">
              <a:gsLst>
                <a:gs pos="0">
                  <a:srgbClr val="325faf">
                    <a:alpha val="70196"/>
                  </a:srgbClr>
                </a:gs>
                <a:gs pos="100000">
                  <a:srgbClr val="172b50">
                    <a:alpha val="70196"/>
                  </a:srgbClr>
                </a:gs>
              </a:gsLst>
              <a:lin ang="5400000"/>
            </a:gra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reman</a:t>
              </a:r>
              <a:endParaRPr b="0" lang="en-US" sz="14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41920" y="4175280"/>
              <a:ext cx="944640" cy="49068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25faf"/>
                  </a:solidFill>
                  <a:latin typeface="Arial"/>
                </a:rPr>
                <a:t>Database</a:t>
              </a:r>
              <a:endParaRPr b="0" lang="en-US" sz="14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124400" y="5715720"/>
            <a:ext cx="740160" cy="3682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M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12" idx="0"/>
            <a:endCxn id="208" idx="1"/>
          </p:cNvCxnSpPr>
          <p:nvPr/>
        </p:nvCxnSpPr>
        <p:spPr>
          <a:xfrm flipH="1" flipV="1" rot="5400000">
            <a:off x="4862160" y="3197880"/>
            <a:ext cx="1143720" cy="190908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cxnSp>
        <p:nvCxnSpPr>
          <p:cNvPr id="213" name=""/>
          <p:cNvCxnSpPr>
            <a:stCxn id="210" idx="0"/>
            <a:endCxn id="206" idx="2"/>
          </p:cNvCxnSpPr>
          <p:nvPr/>
        </p:nvCxnSpPr>
        <p:spPr>
          <a:xfrm flipV="1">
            <a:off x="7494120" y="5083920"/>
            <a:ext cx="1080" cy="607320"/>
          </a:xfrm>
          <a:prstGeom prst="straightConnector1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sp>
        <p:nvSpPr>
          <p:cNvPr id="214" name=""/>
          <p:cNvSpPr/>
          <p:nvPr/>
        </p:nvSpPr>
        <p:spPr>
          <a:xfrm>
            <a:off x="3124080" y="1066680"/>
            <a:ext cx="2590920" cy="164304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Arial"/>
              </a:rPr>
              <a:t>Storage Element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03640" y="2373840"/>
            <a:ext cx="708120" cy="307080"/>
          </a:xfrm>
          <a:prstGeom prst="rect">
            <a:avLst/>
          </a:prstGeom>
          <a:gradFill rotWithShape="0">
            <a:gsLst>
              <a:gs pos="0">
                <a:srgbClr val="325faf">
                  <a:alpha val="70196"/>
                </a:srgbClr>
              </a:gs>
              <a:gs pos="100000">
                <a:srgbClr val="172b50">
                  <a:alpha val="70196"/>
                </a:srgbClr>
              </a:gs>
            </a:gsLst>
            <a:lin ang="5400000"/>
          </a:gra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RM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1432080"/>
            <a:ext cx="1219320" cy="49068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Arial"/>
              </a:rPr>
              <a:t>Storage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373840"/>
            <a:ext cx="990720" cy="307080"/>
          </a:xfrm>
          <a:prstGeom prst="rect">
            <a:avLst/>
          </a:prstGeom>
          <a:solidFill>
            <a:srgbClr val="f1af00">
              <a:alpha val="70000"/>
            </a:srgbClr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gLite I/O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373840"/>
            <a:ext cx="914400" cy="307080"/>
          </a:xfrm>
          <a:prstGeom prst="rect">
            <a:avLst/>
          </a:prstGeom>
          <a:solidFill>
            <a:srgbClr val="f1af00">
              <a:alpha val="70000"/>
            </a:srgbClr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gridFTP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7" idx="0"/>
            <a:endCxn id="216" idx="2"/>
          </p:cNvCxnSpPr>
          <p:nvPr/>
        </p:nvCxnSpPr>
        <p:spPr>
          <a:xfrm flipH="1" flipV="1" rot="5400000">
            <a:off x="3372480" y="1924200"/>
            <a:ext cx="672120" cy="17820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cxnSp>
        <p:nvCxnSpPr>
          <p:cNvPr id="220" name=""/>
          <p:cNvCxnSpPr>
            <a:stCxn id="217" idx="0"/>
            <a:endCxn id="215" idx="0"/>
          </p:cNvCxnSpPr>
          <p:nvPr/>
        </p:nvCxnSpPr>
        <p:spPr>
          <a:xfrm flipH="1" rot="16200000">
            <a:off x="4037400" y="1929960"/>
            <a:ext cx="2520" cy="839160"/>
          </a:xfrm>
          <a:prstGeom prst="curvedConnector5">
            <a:avLst>
              <a:gd name="adj1" fmla="val -13600000"/>
              <a:gd name="adj2" fmla="val 50000"/>
              <a:gd name="adj3" fmla="val -13600000"/>
            </a:avLst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cxnSp>
        <p:nvCxnSpPr>
          <p:cNvPr id="221" name=""/>
          <p:cNvCxnSpPr>
            <a:stCxn id="215" idx="0"/>
            <a:endCxn id="218" idx="0"/>
          </p:cNvCxnSpPr>
          <p:nvPr/>
        </p:nvCxnSpPr>
        <p:spPr>
          <a:xfrm flipH="1" rot="16200000">
            <a:off x="4856760" y="1949040"/>
            <a:ext cx="2520" cy="800640"/>
          </a:xfrm>
          <a:prstGeom prst="curvedConnector5">
            <a:avLst>
              <a:gd name="adj1" fmla="val -13600000"/>
              <a:gd name="adj2" fmla="val 49977"/>
              <a:gd name="adj3" fmla="val -13600000"/>
            </a:avLst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cxnSp>
        <p:nvCxnSpPr>
          <p:cNvPr id="222" name=""/>
          <p:cNvCxnSpPr>
            <a:stCxn id="218" idx="0"/>
            <a:endCxn id="216" idx="4"/>
          </p:cNvCxnSpPr>
          <p:nvPr/>
        </p:nvCxnSpPr>
        <p:spPr>
          <a:xfrm flipV="1" rot="16200000">
            <a:off x="4813560" y="1904760"/>
            <a:ext cx="672120" cy="21672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grpSp>
        <p:nvGrpSpPr>
          <p:cNvPr id="223" name=""/>
          <p:cNvGrpSpPr/>
          <p:nvPr/>
        </p:nvGrpSpPr>
        <p:grpSpPr>
          <a:xfrm>
            <a:off x="3048120" y="4724280"/>
            <a:ext cx="2232000" cy="1643040"/>
            <a:chOff x="3048120" y="4724280"/>
            <a:chExt cx="2232000" cy="1643040"/>
          </a:xfrm>
        </p:grpSpPr>
        <p:sp>
          <p:nvSpPr>
            <p:cNvPr id="224" name=""/>
            <p:cNvSpPr/>
            <p:nvPr/>
          </p:nvSpPr>
          <p:spPr>
            <a:xfrm>
              <a:off x="3048120" y="4724280"/>
              <a:ext cx="2232000" cy="1643040"/>
            </a:xfrm>
            <a:prstGeom prst="rect">
              <a:avLst/>
            </a:prstGeom>
            <a:noFill/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25faf"/>
                  </a:solidFill>
                  <a:latin typeface="Arial"/>
                </a:rPr>
                <a:t>File Transfer and</a:t>
              </a:r>
              <a:br>
                <a:rPr sz="1400"/>
              </a:br>
              <a:r>
                <a:rPr b="0" lang="en-US" sz="1400" spc="-1" strike="noStrike">
                  <a:solidFill>
                    <a:srgbClr val="325faf"/>
                  </a:solidFill>
                  <a:latin typeface="Arial"/>
                </a:rPr>
                <a:t>Placement Service</a:t>
              </a:r>
              <a:endParaRPr b="0" lang="en-US" sz="14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640" y="6031440"/>
              <a:ext cx="555480" cy="307080"/>
            </a:xfrm>
            <a:prstGeom prst="rect">
              <a:avLst/>
            </a:prstGeom>
            <a:gradFill rotWithShape="0">
              <a:gsLst>
                <a:gs pos="0">
                  <a:srgbClr val="325faf">
                    <a:alpha val="70196"/>
                  </a:srgbClr>
                </a:gs>
                <a:gs pos="100000">
                  <a:srgbClr val="172b50">
                    <a:alpha val="70196"/>
                  </a:srgbClr>
                </a:gs>
              </a:gsLst>
              <a:lin ang="5400000"/>
            </a:gra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TS</a:t>
              </a:r>
              <a:endParaRPr b="0" lang="en-US" sz="14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70440" y="4761360"/>
              <a:ext cx="555480" cy="307080"/>
            </a:xfrm>
            <a:prstGeom prst="rect">
              <a:avLst/>
            </a:prstGeom>
            <a:gradFill rotWithShape="0">
              <a:gsLst>
                <a:gs pos="0">
                  <a:srgbClr val="325faf">
                    <a:alpha val="70196"/>
                  </a:srgbClr>
                </a:gs>
                <a:gs pos="100000">
                  <a:srgbClr val="172b50">
                    <a:alpha val="70196"/>
                  </a:srgbClr>
                </a:gs>
              </a:gsLst>
              <a:lin ang="5400000"/>
            </a:gra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PS</a:t>
              </a:r>
              <a:endParaRPr b="0" lang="en-US" sz="14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56240" y="4744800"/>
              <a:ext cx="1447560" cy="3402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25faf"/>
                  </a:solidFill>
                  <a:latin typeface="Arial"/>
                </a:rPr>
                <a:t>Transfer Agent</a:t>
              </a:r>
              <a:endParaRPr b="0" lang="en-US" sz="14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87880" y="5241960"/>
              <a:ext cx="944640" cy="49068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25faf"/>
                  </a:solidFill>
                  <a:latin typeface="Arial"/>
                </a:rPr>
                <a:t>Database</a:t>
              </a:r>
              <a:endParaRPr b="0" lang="en-US" sz="1400" spc="-1" strike="noStrike">
                <a:solidFill>
                  <a:srgbClr val="2b519a"/>
                </a:solidFill>
                <a:latin typeface="Arial"/>
              </a:endParaRPr>
            </a:p>
          </p:txBody>
        </p:sp>
        <p:cxnSp>
          <p:nvCxnSpPr>
            <p:cNvPr id="228" name=""/>
            <p:cNvCxnSpPr>
              <a:stCxn id="212" idx="2"/>
              <a:endCxn id="227" idx="4"/>
            </p:cNvCxnSpPr>
            <p:nvPr/>
          </p:nvCxnSpPr>
          <p:spPr>
            <a:xfrm rot="5400000">
              <a:off x="4175280" y="5183640"/>
              <a:ext cx="383040" cy="226440"/>
            </a:xfrm>
            <a:prstGeom prst="curvedConnector2">
              <a:avLst/>
            </a:prstGeom>
            <a:ln w="25560">
              <a:solidFill>
                <a:srgbClr val="2b519a"/>
              </a:solidFill>
              <a:miter/>
              <a:tailEnd len="lg" type="triangle" w="lg"/>
            </a:ln>
          </p:spPr>
        </p:cxnSp>
      </p:grpSp>
      <p:cxnSp>
        <p:nvCxnSpPr>
          <p:cNvPr id="229" name=""/>
          <p:cNvCxnSpPr>
            <a:stCxn id="217" idx="2"/>
            <a:endCxn id="208" idx="1"/>
          </p:cNvCxnSpPr>
          <p:nvPr/>
        </p:nvCxnSpPr>
        <p:spPr>
          <a:xfrm flipH="1" rot="16200000">
            <a:off x="4564800" y="1758600"/>
            <a:ext cx="876960" cy="276948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504720" y="1383480"/>
            <a:ext cx="854280" cy="3682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VOM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400" y="5361840"/>
            <a:ext cx="1069200" cy="3682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yProx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33" idx="0"/>
            <a:endCxn id="230" idx="2"/>
          </p:cNvCxnSpPr>
          <p:nvPr/>
        </p:nvCxnSpPr>
        <p:spPr>
          <a:xfrm flipV="1">
            <a:off x="914040" y="1775520"/>
            <a:ext cx="18360" cy="1335960"/>
          </a:xfrm>
          <a:prstGeom prst="straightConnector1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cxnSp>
        <p:nvCxnSpPr>
          <p:cNvPr id="234" name=""/>
          <p:cNvCxnSpPr>
            <a:stCxn id="233" idx="4"/>
            <a:endCxn id="231" idx="0"/>
          </p:cNvCxnSpPr>
          <p:nvPr/>
        </p:nvCxnSpPr>
        <p:spPr>
          <a:xfrm flipH="1">
            <a:off x="899640" y="4051080"/>
            <a:ext cx="15120" cy="1286280"/>
          </a:xfrm>
          <a:prstGeom prst="straightConnector1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sp>
        <p:nvSpPr>
          <p:cNvPr id="235" name=""/>
          <p:cNvSpPr/>
          <p:nvPr/>
        </p:nvSpPr>
        <p:spPr>
          <a:xfrm>
            <a:off x="-2520" y="220968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Get</a:t>
            </a:r>
            <a:br>
              <a:rPr sz="1200"/>
            </a:b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credential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520" y="41911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Store</a:t>
            </a:r>
            <a:br>
              <a:rPr sz="1200"/>
            </a:b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credential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124080"/>
            <a:ext cx="914400" cy="914400"/>
          </a:xfrm>
          <a:prstGeom prst="smileyFace">
            <a:avLst>
              <a:gd name="adj" fmla="val 9282"/>
            </a:avLst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3" idx="7"/>
            <a:endCxn id="217" idx="1"/>
          </p:cNvCxnSpPr>
          <p:nvPr/>
        </p:nvCxnSpPr>
        <p:spPr>
          <a:xfrm flipH="1" flipV="1" rot="5400000">
            <a:off x="1815840" y="1948680"/>
            <a:ext cx="717840" cy="1873800"/>
          </a:xfrm>
          <a:prstGeom prst="bentConnector2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cxnSp>
        <p:nvCxnSpPr>
          <p:cNvPr id="238" name=""/>
          <p:cNvCxnSpPr>
            <a:stCxn id="233" idx="5"/>
            <a:endCxn id="226" idx="1"/>
          </p:cNvCxnSpPr>
          <p:nvPr/>
        </p:nvCxnSpPr>
        <p:spPr>
          <a:xfrm flipH="1" rot="16200000">
            <a:off x="1648440" y="3506760"/>
            <a:ext cx="997920" cy="1819800"/>
          </a:xfrm>
          <a:prstGeom prst="bentConnector2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cxnSp>
        <p:nvCxnSpPr>
          <p:cNvPr id="239" name=""/>
          <p:cNvCxnSpPr>
            <a:stCxn id="212" idx="0"/>
            <a:endCxn id="215" idx="2"/>
          </p:cNvCxnSpPr>
          <p:nvPr/>
        </p:nvCxnSpPr>
        <p:spPr>
          <a:xfrm flipV="1" rot="16200000">
            <a:off x="3458520" y="3702960"/>
            <a:ext cx="2019960" cy="2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cxnSp>
        <p:nvCxnSpPr>
          <p:cNvPr id="240" name=""/>
          <p:cNvCxnSpPr>
            <a:stCxn id="233" idx="6"/>
            <a:endCxn id="208" idx="1"/>
          </p:cNvCxnSpPr>
          <p:nvPr/>
        </p:nvCxnSpPr>
        <p:spPr>
          <a:xfrm>
            <a:off x="1384200" y="3580920"/>
            <a:ext cx="5004720" cy="1080"/>
          </a:xfrm>
          <a:prstGeom prst="straightConnector1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sp>
        <p:nvSpPr>
          <p:cNvPr id="241" name=""/>
          <p:cNvSpPr/>
          <p:nvPr/>
        </p:nvSpPr>
        <p:spPr>
          <a:xfrm>
            <a:off x="1829880" y="220968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File I/O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0280" y="3316320"/>
            <a:ext cx="1541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File namespac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and Metadata mgm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61520" y="464832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File replication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24" idx="1"/>
            <a:endCxn id="231" idx="3"/>
          </p:cNvCxnSpPr>
          <p:nvPr/>
        </p:nvCxnSpPr>
        <p:spPr>
          <a:xfrm rot="10800000">
            <a:off x="1459800" y="5546160"/>
            <a:ext cx="1575360" cy="108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lg" type="triangle" w="lg"/>
          </a:ln>
        </p:spPr>
      </p:cxnSp>
      <p:sp>
        <p:nvSpPr>
          <p:cNvPr id="245" name=""/>
          <p:cNvSpPr/>
          <p:nvPr/>
        </p:nvSpPr>
        <p:spPr>
          <a:xfrm>
            <a:off x="1764360" y="525780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Proxy renewal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17240" y="5257800"/>
            <a:ext cx="75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Replica</a:t>
            </a:r>
            <a:br>
              <a:rPr sz="1200"/>
            </a:b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1154520"/>
            <a:ext cx="1066680" cy="307080"/>
          </a:xfrm>
          <a:prstGeom prst="rect">
            <a:avLst/>
          </a:prstGeom>
          <a:gradFill rotWithShape="0">
            <a:gsLst>
              <a:gs pos="0">
                <a:srgbClr val="325faf">
                  <a:alpha val="70196"/>
                </a:srgbClr>
              </a:gs>
              <a:gs pos="100000">
                <a:srgbClr val="172b50">
                  <a:alpha val="70196"/>
                </a:srgbClr>
              </a:gs>
            </a:gsLst>
            <a:lin ang="5400000"/>
          </a:gra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1688040"/>
            <a:ext cx="1066680" cy="307080"/>
          </a:xfrm>
          <a:prstGeom prst="rect">
            <a:avLst/>
          </a:prstGeom>
          <a:solidFill>
            <a:srgbClr val="f1af00">
              <a:alpha val="70000"/>
            </a:srgbClr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API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ite Transfer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52167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ile Transfer/Placement Service (FTS,FP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ransfer Job Databas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xposes the Transfer Web Service Interface to which user clients talk (submit, cancel, status capability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Has a Web Interfa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anages Catalog updates if necessary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ransfer Ag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Basic Ac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8f"/>
                </a:solidFill>
                <a:latin typeface="Arial"/>
              </a:rPr>
              <a:t>Get transfer jobs from Transfer Job Database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8f"/>
                </a:solidFill>
                <a:latin typeface="Arial"/>
              </a:rPr>
              <a:t>Manages transfer over many channels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8f"/>
                </a:solidFill>
                <a:latin typeface="Arial"/>
              </a:rPr>
              <a:t>Monitors transfer status and updates Transfer Job Database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xtensible with user-defined custom action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8f"/>
                </a:solidFill>
                <a:latin typeface="Arial"/>
              </a:rPr>
              <a:t>Retry Policy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ransfer Service (glite-url-cop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ctually performs transfer: SRM – SRM, gsiftp – SRM, gsiftp – gsiftp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onitor capability, including gsiftp performance marker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67640" y="2480760"/>
            <a:ext cx="1143000" cy="588960"/>
          </a:xfrm>
          <a:prstGeom prst="can">
            <a:avLst>
              <a:gd name="adj" fmla="val 25000"/>
            </a:avLst>
          </a:prstGeom>
          <a:solidFill>
            <a:srgbClr val="99ff99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Job D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33720" y="1688400"/>
            <a:ext cx="1410480" cy="642600"/>
          </a:xfrm>
          <a:prstGeom prst="rect">
            <a:avLst/>
          </a:prstGeom>
          <a:solidFill>
            <a:srgbClr val="ccecff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FTS/FPS</a:t>
            </a:r>
            <a:br>
              <a:rPr sz="1800"/>
            </a:b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Web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52" idx="2"/>
            <a:endCxn id="251" idx="1"/>
          </p:cNvCxnSpPr>
          <p:nvPr/>
        </p:nvCxnSpPr>
        <p:spPr>
          <a:xfrm>
            <a:off x="7338600" y="2355480"/>
            <a:ext cx="1080" cy="127800"/>
          </a:xfrm>
          <a:prstGeom prst="straightConnector1">
            <a:avLst/>
          </a:prstGeom>
          <a:ln w="25560">
            <a:solidFill>
              <a:srgbClr val="2b519a"/>
            </a:solidFill>
            <a:miter/>
          </a:ln>
        </p:spPr>
      </p:cxnSp>
      <p:grpSp>
        <p:nvGrpSpPr>
          <p:cNvPr id="254" name=""/>
          <p:cNvGrpSpPr/>
          <p:nvPr/>
        </p:nvGrpSpPr>
        <p:grpSpPr>
          <a:xfrm>
            <a:off x="6324480" y="3341520"/>
            <a:ext cx="2028960" cy="1509840"/>
            <a:chOff x="6324480" y="3341520"/>
            <a:chExt cx="2028960" cy="1509840"/>
          </a:xfrm>
        </p:grpSpPr>
        <p:sp>
          <p:nvSpPr>
            <p:cNvPr id="255" name=""/>
            <p:cNvSpPr/>
            <p:nvPr/>
          </p:nvSpPr>
          <p:spPr>
            <a:xfrm>
              <a:off x="6324480" y="3341520"/>
              <a:ext cx="2028960" cy="150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Arial"/>
                </a:rPr>
                <a:t>Transfer Agent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77120" y="394344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34320" y="394344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91520" y="394344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8720" y="394344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48720" y="424800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424800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34320" y="424800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424800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05720" y="455292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62920" y="455292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0120" y="4552920"/>
              <a:ext cx="380880" cy="228600"/>
            </a:xfrm>
            <a:prstGeom prst="rect">
              <a:avLst/>
            </a:prstGeom>
            <a:solidFill>
              <a:srgbClr val="f4ce00"/>
            </a:solidFill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4019400"/>
              <a:ext cx="1018800" cy="368280"/>
            </a:xfrm>
            <a:prstGeom prst="rect">
              <a:avLst/>
            </a:prstGeom>
            <a:solidFill>
              <a:srgbClr val="99ff9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Arial"/>
                </a:rPr>
                <a:t>Action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stCxn id="251" idx="3"/>
            <a:endCxn id="255" idx="0"/>
          </p:cNvCxnSpPr>
          <p:nvPr/>
        </p:nvCxnSpPr>
        <p:spPr>
          <a:xfrm>
            <a:off x="7338600" y="3067200"/>
            <a:ext cx="1080" cy="255960"/>
          </a:xfrm>
          <a:prstGeom prst="straightConnector1">
            <a:avLst/>
          </a:prstGeom>
          <a:ln w="25560">
            <a:solidFill>
              <a:srgbClr val="2b519a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7467480" y="5105520"/>
            <a:ext cx="1067040" cy="137160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5105520"/>
            <a:ext cx="1066680" cy="137160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4000" y="51055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69280" y="51055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55" idx="2"/>
            <a:endCxn id="271" idx="0"/>
          </p:cNvCxnSpPr>
          <p:nvPr/>
        </p:nvCxnSpPr>
        <p:spPr>
          <a:xfrm flipH="1">
            <a:off x="6687720" y="4870080"/>
            <a:ext cx="651600" cy="235800"/>
          </a:xfrm>
          <a:prstGeom prst="straightConnector1">
            <a:avLst/>
          </a:prstGeom>
          <a:ln w="25560">
            <a:solidFill>
              <a:srgbClr val="2b519a"/>
            </a:solidFill>
            <a:miter/>
          </a:ln>
        </p:spPr>
      </p:cxnSp>
      <p:cxnSp>
        <p:nvCxnSpPr>
          <p:cNvPr id="274" name=""/>
          <p:cNvCxnSpPr>
            <a:stCxn id="255" idx="2"/>
            <a:endCxn id="272" idx="0"/>
          </p:cNvCxnSpPr>
          <p:nvPr/>
        </p:nvCxnSpPr>
        <p:spPr>
          <a:xfrm>
            <a:off x="7338960" y="4870080"/>
            <a:ext cx="645120" cy="235800"/>
          </a:xfrm>
          <a:prstGeom prst="straightConnector1">
            <a:avLst/>
          </a:prstGeom>
          <a:ln w="25560">
            <a:solidFill>
              <a:srgbClr val="2b519a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6172200" y="5450040"/>
            <a:ext cx="1066680" cy="264960"/>
          </a:xfrm>
          <a:prstGeom prst="rect">
            <a:avLst/>
          </a:prstGeom>
          <a:solidFill>
            <a:srgbClr val="99ff99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glite-url-copy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5715000"/>
            <a:ext cx="1066680" cy="264960"/>
          </a:xfrm>
          <a:prstGeom prst="rect">
            <a:avLst/>
          </a:prstGeom>
          <a:solidFill>
            <a:srgbClr val="99ff99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glite-url-copy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5983200"/>
            <a:ext cx="1066680" cy="265320"/>
          </a:xfrm>
          <a:prstGeom prst="rect">
            <a:avLst/>
          </a:prstGeom>
          <a:solidFill>
            <a:srgbClr val="99ff99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glite-url-copy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67480" y="5450040"/>
            <a:ext cx="1067040" cy="264960"/>
          </a:xfrm>
          <a:prstGeom prst="rect">
            <a:avLst/>
          </a:prstGeom>
          <a:solidFill>
            <a:srgbClr val="99ff99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glite-url-copy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5715000"/>
            <a:ext cx="1067040" cy="264960"/>
          </a:xfrm>
          <a:prstGeom prst="rect">
            <a:avLst/>
          </a:prstGeom>
          <a:solidFill>
            <a:srgbClr val="99ff99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glite-url-copy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5983200"/>
            <a:ext cx="1067040" cy="265320"/>
          </a:xfrm>
          <a:prstGeom prst="rect">
            <a:avLst/>
          </a:prstGeom>
          <a:solidFill>
            <a:srgbClr val="99ff99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5faf"/>
                </a:solidFill>
                <a:latin typeface="Arial"/>
              </a:rPr>
              <a:t>glite-url-copy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63200" y="983880"/>
            <a:ext cx="2085120" cy="52020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Web Monit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81" idx="4"/>
            <a:endCxn id="252" idx="0"/>
          </p:cNvCxnSpPr>
          <p:nvPr/>
        </p:nvCxnSpPr>
        <p:spPr>
          <a:xfrm flipH="1">
            <a:off x="7338600" y="1509480"/>
            <a:ext cx="767520" cy="154440"/>
          </a:xfrm>
          <a:prstGeom prst="straightConnector1">
            <a:avLst/>
          </a:prstGeom>
          <a:ln w="25560">
            <a:solidFill>
              <a:srgbClr val="2b519a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ddleware Challenges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load 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Computational tasks of thousands of users need to be scheduled on the available Grid resourc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3" marL="1338120" indent="0">
              <a:spcBef>
                <a:spcPts val="400"/>
              </a:spcBef>
              <a:buNone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189000" indent="-1890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rid (Meta)Scheduling consists of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569880" indent="-1890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Resource </a:t>
            </a:r>
            <a:r>
              <a:rPr b="1" lang="en-US" sz="1900" spc="-1" strike="noStrike">
                <a:solidFill>
                  <a:srgbClr val="f1af00"/>
                </a:solidFill>
                <a:latin typeface="Arial"/>
              </a:rPr>
              <a:t>Discovery/Brokering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950760" indent="-18576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Find suitable resour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569880" indent="-1890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1" lang="en-US" sz="1900" spc="-1" strike="noStrike">
                <a:solidFill>
                  <a:srgbClr val="f1af00"/>
                </a:solidFill>
                <a:latin typeface="Arial"/>
              </a:rPr>
              <a:t>Matchmaking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950760" indent="-18576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ssign a job to a resource that satisfies job requirement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569880" indent="-1890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1" lang="en-US" sz="1900" spc="-1" strike="noStrike">
                <a:solidFill>
                  <a:srgbClr val="f1af00"/>
                </a:solidFill>
                <a:latin typeface="Arial"/>
              </a:rPr>
              <a:t>Job execu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950760" indent="-18576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0" lang="en-US" sz="1700" spc="-1" strike="noStrike">
                <a:solidFill>
                  <a:srgbClr val="f1af00"/>
                </a:solidFill>
                <a:latin typeface="Arial"/>
              </a:rPr>
              <a:t>Reliably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execute the jobs and retrieve outpu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950760" indent="-18576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al with error managemen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950760" indent="0">
              <a:spcBef>
                <a:spcPts val="425"/>
              </a:spcBef>
              <a:buNone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189000" indent="-1890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Job execution requires to find the “right” Computing Element (computing resource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569880" indent="-1890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066680"/>
                <a:tab algn="l" pos="2136600"/>
                <a:tab algn="l" pos="3205080"/>
                <a:tab algn="l" pos="4276800"/>
                <a:tab algn="l" pos="5346720"/>
                <a:tab algn="l" pos="6416640"/>
                <a:tab algn="l" pos="7486560"/>
                <a:tab algn="l" pos="8556480"/>
                <a:tab algn="l" pos="9626760"/>
                <a:tab algn="l" pos="1069488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ith maybe boundary conditions (architecture, software installed, data accessible, etc.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orkload Management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2720" y="1257480"/>
            <a:ext cx="7994520" cy="5015880"/>
            <a:chOff x="612720" y="1257480"/>
            <a:chExt cx="7994520" cy="501588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612720" y="1257480"/>
              <a:ext cx="7994520" cy="50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592000" y="1343160"/>
              <a:ext cx="124560" cy="248436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36360" y="3692880"/>
              <a:ext cx="1593360" cy="1368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5120" y="5093280"/>
              <a:ext cx="984960" cy="13716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9880" y="5894640"/>
              <a:ext cx="577800" cy="27576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13240" y="4951440"/>
              <a:ext cx="131400" cy="89676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06400" y="3746520"/>
              <a:ext cx="131400" cy="89604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06400" y="2541240"/>
              <a:ext cx="131400" cy="89604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13240" y="1328760"/>
              <a:ext cx="131400" cy="89604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s &amp; Managed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CEs provide also a framework for deploying VO specific servic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VO services need to be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Managed Servic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Ensure they don’t consume more resources as allocat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Provide persistency and management functions (start, stop, suspend, resume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Adhere to site security, auditing, and accounting polici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All that could be done by site admins but it would be favorable to have </a:t>
            </a:r>
            <a:r>
              <a:rPr b="0" lang="en-US" sz="2400" spc="-1" strike="noStrike">
                <a:solidFill>
                  <a:srgbClr val="f1af00"/>
                </a:solidFill>
                <a:latin typeface="Arial"/>
              </a:rPr>
              <a:t>infrastructure services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 taking care of th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d Services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572000"/>
            <a:ext cx="1328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1828800"/>
            <a:ext cx="533376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4419720"/>
            <a:ext cx="1676520" cy="920520"/>
          </a:xfrm>
          <a:prstGeom prst="foldedCorner">
            <a:avLst>
              <a:gd name="adj" fmla="val 12500"/>
            </a:avLst>
          </a:prstGeom>
          <a:solidFill>
            <a:srgbClr val="2b51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Arial"/>
              </a:rPr>
              <a:t>Authorization &amp; configuration polic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2133720"/>
            <a:ext cx="1752480" cy="1296720"/>
          </a:xfrm>
          <a:prstGeom prst="roundRect">
            <a:avLst>
              <a:gd name="adj" fmla="val 16667"/>
            </a:avLst>
          </a:prstGeom>
          <a:solidFill>
            <a:srgbClr val="2b51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af00"/>
                </a:solidFill>
                <a:latin typeface="Arial"/>
              </a:rPr>
              <a:t>Managed Service Facto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2438280"/>
            <a:ext cx="1490760" cy="762120"/>
          </a:xfrm>
          <a:prstGeom prst="roundRect">
            <a:avLst>
              <a:gd name="adj" fmla="val 16667"/>
            </a:avLst>
          </a:prstGeom>
          <a:solidFill>
            <a:srgbClr val="2b51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af00"/>
                </a:solidFill>
                <a:latin typeface="Arial"/>
              </a:rPr>
              <a:t>Resource Manag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302" idx="2"/>
            <a:endCxn id="301" idx="0"/>
          </p:cNvCxnSpPr>
          <p:nvPr/>
        </p:nvCxnSpPr>
        <p:spPr>
          <a:xfrm flipH="1">
            <a:off x="3276000" y="3430440"/>
            <a:ext cx="114840" cy="99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5" name=""/>
          <p:cNvCxnSpPr>
            <a:stCxn id="302" idx="3"/>
            <a:endCxn id="303" idx="1"/>
          </p:cNvCxnSpPr>
          <p:nvPr/>
        </p:nvCxnSpPr>
        <p:spPr>
          <a:xfrm>
            <a:off x="4267080" y="2782800"/>
            <a:ext cx="144864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 rot="16200000">
            <a:off x="-151920" y="2362320"/>
            <a:ext cx="167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 Cli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2"/>
            <a:endCxn id="302" idx="1"/>
          </p:cNvCxnSpPr>
          <p:nvPr/>
        </p:nvCxnSpPr>
        <p:spPr>
          <a:xfrm>
            <a:off x="1065240" y="2743200"/>
            <a:ext cx="145008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762120" y="1752480"/>
            <a:ext cx="1904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naged servic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factory function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1981080"/>
            <a:ext cx="1371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ource manager command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4648320"/>
            <a:ext cx="309600" cy="43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4648320"/>
            <a:ext cx="307800" cy="43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5181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naged services)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303" idx="2"/>
            <a:endCxn id="299" idx="0"/>
          </p:cNvCxnSpPr>
          <p:nvPr/>
        </p:nvCxnSpPr>
        <p:spPr>
          <a:xfrm flipH="1">
            <a:off x="6455880" y="3200400"/>
            <a:ext cx="5760" cy="1372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5029200" y="3581280"/>
            <a:ext cx="15764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nitoring &amp;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7287840" y="1550880"/>
            <a:ext cx="1366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388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d Service Cli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5" idx="3"/>
            <a:endCxn id="299" idx="3"/>
          </p:cNvCxnSpPr>
          <p:nvPr/>
        </p:nvCxnSpPr>
        <p:spPr>
          <a:xfrm rot="5400000">
            <a:off x="6516000" y="3419640"/>
            <a:ext cx="2061360" cy="854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324480" y="4648320"/>
            <a:ext cx="309600" cy="43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1" idx="3"/>
            <a:endCxn id="299" idx="1"/>
          </p:cNvCxnSpPr>
          <p:nvPr/>
        </p:nvCxnSpPr>
        <p:spPr>
          <a:xfrm flipV="1">
            <a:off x="4114440" y="4876560"/>
            <a:ext cx="167724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EGEE Projec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eu-egee.org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LCG Projec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2"/>
              </a:rPr>
              <a:t>http://cern.ch/lcg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gLite middlewa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3"/>
              </a:rPr>
              <a:t>http://www.glite.or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Condor Projec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4"/>
              </a:rPr>
              <a:t>http://www.cs.wisc.edu/condor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Globus Projec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5"/>
              </a:rPr>
              <a:t>http://www.globus.org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E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50594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Objectiv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consistent, robust and secure service grid </a:t>
            </a:r>
            <a:r>
              <a:rPr b="0" lang="en-GB" sz="1800" spc="-1" strike="noStrike">
                <a:solidFill>
                  <a:srgbClr val="f1af00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improving and maintaining the </a:t>
            </a:r>
            <a:r>
              <a:rPr b="0" lang="en-GB" sz="1800" spc="-1" strike="noStrike">
                <a:solidFill>
                  <a:srgbClr val="f1af00"/>
                </a:solidFill>
                <a:latin typeface="Arial"/>
              </a:rPr>
              <a:t>middlewa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ttracting </a:t>
            </a:r>
            <a:r>
              <a:rPr b="0" lang="en-GB" sz="1800" spc="-1" strike="noStrike">
                <a:solidFill>
                  <a:srgbClr val="f1af00"/>
                </a:solidFill>
                <a:latin typeface="Arial"/>
              </a:rPr>
              <a:t>new resources and user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from industry as well as scien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70 leading institutions in 27 countries, federated in regional Gri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leveraging national and regional grid activities worldwi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unded by the EU with ~32 M Euros for first 2 years starting 1st April 2004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roposal for 2</a:t>
            </a:r>
            <a:r>
              <a:rPr b="0" lang="en-US" sz="1800" spc="-1" strike="noStrike" baseline="30000">
                <a:solidFill>
                  <a:srgbClr val="2b519a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phase (April 2006-March 2008) currently being negotiat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9040" y="1579680"/>
            <a:ext cx="356688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id Middle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Key success factors for production quality softwar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Strict software proces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Use industry standard software engineering metho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oftware configuration management, version control, defect tracking, automatic build system, …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in what software to u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void “cutting-edge” softwa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ployment on over 100 sites cannot assume a homogenous environment – middleware needs to work with many underlying software flavor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void evolving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volving standards change quickly (and sometime significantly cf. OGSI vs. WSRF) – impossible to keep pace on over 100 sit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9320" y="5334120"/>
            <a:ext cx="7983720" cy="107208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ou will not develop and deploy your PhD project on a </a:t>
            </a:r>
            <a:br>
              <a:rPr sz="2000"/>
            </a:b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roduction Grid infrastructur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here is a long (and tedious) path from prototypes to production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EE Middleware: gLite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990720"/>
            <a:ext cx="85438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19a"/>
                </a:solidFill>
                <a:latin typeface="Arial"/>
              </a:rPr>
              <a:t>gLite</a:t>
            </a:r>
            <a:endParaRPr b="0" lang="en-US" sz="2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8f"/>
                </a:solidFill>
                <a:latin typeface="Arial"/>
              </a:rPr>
              <a:t>Exploit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xperience and existing 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ponents</a:t>
            </a:r>
            <a:r>
              <a:rPr b="0" lang="en-US" sz="2400" spc="-1" strike="noStrike">
                <a:solidFill>
                  <a:srgbClr val="00338f"/>
                </a:solidFill>
                <a:latin typeface="Arial"/>
              </a:rPr>
              <a:t> from VDT (Condor, </a:t>
            </a:r>
            <a:br>
              <a:rPr sz="2400"/>
            </a:br>
            <a:r>
              <a:rPr b="0" lang="en-US" sz="2400" spc="-1" strike="noStrike">
                <a:solidFill>
                  <a:srgbClr val="00338f"/>
                </a:solidFill>
                <a:latin typeface="Arial"/>
              </a:rPr>
              <a:t>Globus), EDG/LCG, AliEn, </a:t>
            </a:r>
            <a:br>
              <a:rPr sz="2400"/>
            </a:br>
            <a:r>
              <a:rPr b="0" lang="en-US" sz="2400" spc="-1" strike="noStrike">
                <a:solidFill>
                  <a:srgbClr val="00338f"/>
                </a:solidFill>
                <a:latin typeface="Arial"/>
              </a:rPr>
              <a:t>and others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Develop a </a:t>
            </a:r>
            <a:r>
              <a:rPr b="0" lang="en-US" sz="2500" spc="-1" strike="noStrike">
                <a:solidFill>
                  <a:srgbClr val="ff9933"/>
                </a:solidFill>
                <a:latin typeface="Arial"/>
              </a:rPr>
              <a:t>lightweight stack</a:t>
            </a: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 of </a:t>
            </a:r>
            <a:br>
              <a:rPr sz="2500"/>
            </a:br>
            <a:r>
              <a:rPr b="0" lang="en-US" sz="2500" spc="-1" strike="noStrike">
                <a:solidFill>
                  <a:srgbClr val="ff9933"/>
                </a:solidFill>
                <a:latin typeface="Arial"/>
              </a:rPr>
              <a:t>generic middleware</a:t>
            </a: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 useful to EGEE  applications (HEP and Biomedics are pilot applications). </a:t>
            </a:r>
            <a:endParaRPr b="0" lang="en-US" sz="25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hould eventually deploy dynamically (e.g. as a globus job)</a:t>
            </a:r>
            <a:endParaRPr b="0" lang="en-US" sz="21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luggable components – cater for different implementations</a:t>
            </a:r>
            <a:endParaRPr b="0" lang="en-US" sz="21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Focus is on </a:t>
            </a:r>
            <a:r>
              <a:rPr b="0" lang="en-US" sz="2500" spc="-1" strike="noStrike">
                <a:solidFill>
                  <a:srgbClr val="ff9933"/>
                </a:solidFill>
                <a:latin typeface="Arial"/>
              </a:rPr>
              <a:t>re-engineering and hardening</a:t>
            </a:r>
            <a:endParaRPr b="0" lang="en-US" sz="25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293364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ite Software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219320"/>
            <a:ext cx="1828800" cy="4038480"/>
          </a:xfrm>
          <a:prstGeom prst="rect">
            <a:avLst/>
          </a:prstGeom>
          <a:solidFill>
            <a:srgbClr val="f1af00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1219320"/>
            <a:ext cx="1828800" cy="5029200"/>
          </a:xfrm>
          <a:prstGeom prst="rect">
            <a:avLst/>
          </a:prstGeom>
          <a:solidFill>
            <a:srgbClr val="2b519a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219320"/>
            <a:ext cx="1828800" cy="5029200"/>
          </a:xfrm>
          <a:prstGeom prst="rect">
            <a:avLst/>
          </a:prstGeom>
          <a:solidFill>
            <a:srgbClr val="904490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1143000" cy="83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666880" y="160020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685800" cy="49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62520" y="1523880"/>
            <a:ext cx="685800" cy="49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114800" y="1676520"/>
            <a:ext cx="685800" cy="49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267080" y="26668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286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ftware Cod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14800" y="3276720"/>
            <a:ext cx="914400" cy="761760"/>
            <a:chOff x="4114800" y="3276720"/>
            <a:chExt cx="914400" cy="761760"/>
          </a:xfrm>
        </p:grpSpPr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4114800" y="3276720"/>
              <a:ext cx="685800" cy="498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7" name="" descr="Magnifying Lens 2x Lens Size: 3 1/4 inches"/>
            <p:cNvPicPr/>
            <p:nvPr/>
          </p:nvPicPr>
          <p:blipFill>
            <a:blip r:embed="rId6"/>
            <a:stretch/>
          </p:blipFill>
          <p:spPr>
            <a:xfrm>
              <a:off x="4343400" y="33526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3886200" y="22096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ployment Packages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962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gration Tests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3352680"/>
            <a:ext cx="990720" cy="381240"/>
          </a:xfrm>
          <a:prstGeom prst="lef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3124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42900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31240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ss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743200"/>
            <a:ext cx="381240" cy="838080"/>
          </a:xfrm>
          <a:prstGeom prst="upArrow">
            <a:avLst>
              <a:gd name="adj1" fmla="val 50000"/>
              <a:gd name="adj2" fmla="val 54958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3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76520" y="3886200"/>
            <a:ext cx="533160" cy="509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716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x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77120" y="4876920"/>
            <a:ext cx="1143000" cy="1144800"/>
            <a:chOff x="6477120" y="4876920"/>
            <a:chExt cx="1143000" cy="1144800"/>
          </a:xfrm>
        </p:grpSpPr>
        <p:grpSp>
          <p:nvGrpSpPr>
            <p:cNvPr id="138" name=""/>
            <p:cNvGrpSpPr/>
            <p:nvPr/>
          </p:nvGrpSpPr>
          <p:grpSpPr>
            <a:xfrm>
              <a:off x="6629400" y="4876920"/>
              <a:ext cx="914400" cy="761760"/>
              <a:chOff x="6629400" y="4876920"/>
              <a:chExt cx="914400" cy="761760"/>
            </a:xfrm>
          </p:grpSpPr>
          <p:pic>
            <p:nvPicPr>
              <p:cNvPr id="1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629400" y="4876920"/>
                <a:ext cx="685800" cy="498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40" name="" descr="Magnifying Lens 2x Lens Size: 3 1/4 inches"/>
              <p:cNvPicPr/>
              <p:nvPr/>
            </p:nvPicPr>
            <p:blipFill>
              <a:blip r:embed="rId10"/>
              <a:stretch/>
            </p:blipFill>
            <p:spPr>
              <a:xfrm>
                <a:off x="6858000" y="4952880"/>
                <a:ext cx="68580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"/>
            <p:cNvSpPr/>
            <p:nvPr/>
          </p:nvSpPr>
          <p:spPr>
            <a:xfrm>
              <a:off x="6477120" y="556272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unctional Tests</a:t>
              </a:r>
              <a:endParaRPr b="0" lang="en-US" sz="12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77120" y="2590920"/>
            <a:ext cx="1295280" cy="1171440"/>
            <a:chOff x="6477120" y="2590920"/>
            <a:chExt cx="1295280" cy="1171440"/>
          </a:xfrm>
        </p:grpSpPr>
        <p:pic>
          <p:nvPicPr>
            <p:cNvPr id="143" name="" descr=""/>
            <p:cNvPicPr/>
            <p:nvPr/>
          </p:nvPicPr>
          <p:blipFill>
            <a:blip r:embed="rId11"/>
            <a:stretch/>
          </p:blipFill>
          <p:spPr>
            <a:xfrm>
              <a:off x="6477120" y="2590920"/>
              <a:ext cx="91440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2"/>
            <a:stretch/>
          </p:blipFill>
          <p:spPr>
            <a:xfrm>
              <a:off x="6858000" y="2819520"/>
              <a:ext cx="91440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3"/>
            <a:stretch/>
          </p:blipFill>
          <p:spPr>
            <a:xfrm>
              <a:off x="6553080" y="3200400"/>
              <a:ext cx="91440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6781680" y="434340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8098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stbed Deploymen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00600"/>
            <a:ext cx="3505320" cy="380880"/>
          </a:xfrm>
          <a:prstGeom prst="leftArrow">
            <a:avLst>
              <a:gd name="adj1" fmla="val 46667"/>
              <a:gd name="adj2" fmla="val 87942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52578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0594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ss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Documents"/>
          <p:cNvSpPr/>
          <p:nvPr/>
        </p:nvSpPr>
        <p:spPr>
          <a:xfrm>
            <a:off x="4267080" y="5181480"/>
            <a:ext cx="447840" cy="52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57150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stallation Guide, Release Notes, etc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579132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5" name="" descr="gLite Logo"/>
          <p:cNvPicPr/>
          <p:nvPr/>
        </p:nvPicPr>
        <p:blipFill>
          <a:blip r:embed="rId14"/>
          <a:stretch/>
        </p:blipFill>
        <p:spPr>
          <a:xfrm>
            <a:off x="685800" y="5562720"/>
            <a:ext cx="1905120" cy="87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280" y="160020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ite Grid Middlewar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263600"/>
            <a:ext cx="87156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API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17880" y="1017720"/>
            <a:ext cx="3335400" cy="1203120"/>
          </a:xfrm>
          <a:prstGeom prst="rect">
            <a:avLst/>
          </a:prstGeom>
          <a:noFill/>
          <a:ln w="12600">
            <a:solidFill>
              <a:srgbClr val="020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06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20306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67200" y="4497480"/>
            <a:ext cx="4010040" cy="1962000"/>
          </a:xfrm>
          <a:prstGeom prst="rect">
            <a:avLst/>
          </a:prstGeom>
          <a:noFill/>
          <a:ln w="12600">
            <a:solidFill>
              <a:srgbClr val="020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0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20306"/>
                </a:solidFill>
                <a:latin typeface="Arial"/>
              </a:rPr>
              <a:t>Workload Mgmt Services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45000" y="5367240"/>
            <a:ext cx="1425600" cy="6541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Computing</a:t>
            </a:r>
            <a:br>
              <a:rPr sz="1800"/>
            </a:b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26200" y="5359320"/>
            <a:ext cx="1425600" cy="6541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Workload</a:t>
            </a:r>
            <a:br>
              <a:rPr sz="1800"/>
            </a:b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040" y="4581360"/>
            <a:ext cx="1425600" cy="654120"/>
          </a:xfrm>
          <a:prstGeom prst="rect">
            <a:avLst/>
          </a:prstGeom>
          <a:solidFill>
            <a:srgbClr val="ac3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dat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00" y="4489560"/>
            <a:ext cx="4010040" cy="1962000"/>
          </a:xfrm>
          <a:prstGeom prst="rect">
            <a:avLst/>
          </a:prstGeom>
          <a:noFill/>
          <a:ln w="12600">
            <a:solidFill>
              <a:srgbClr val="020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06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6880" y="5332320"/>
            <a:ext cx="1425600" cy="654120"/>
          </a:xfrm>
          <a:prstGeom prst="rect">
            <a:avLst/>
          </a:prstGeom>
          <a:solidFill>
            <a:srgbClr val="ac3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49640" y="5351400"/>
            <a:ext cx="1481040" cy="654120"/>
          </a:xfrm>
          <a:prstGeom prst="rect">
            <a:avLst/>
          </a:prstGeom>
          <a:solidFill>
            <a:srgbClr val="ac3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38480" y="4610160"/>
            <a:ext cx="1481040" cy="654120"/>
          </a:xfrm>
          <a:prstGeom prst="rect">
            <a:avLst/>
          </a:prstGeom>
          <a:solidFill>
            <a:srgbClr val="ac3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&amp; Replic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6480" y="2470320"/>
            <a:ext cx="1425600" cy="653760"/>
          </a:xfrm>
          <a:prstGeom prst="rect">
            <a:avLst/>
          </a:prstGeom>
          <a:solidFill>
            <a:srgbClr val="f4c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4440" y="2378160"/>
            <a:ext cx="4010040" cy="1962000"/>
          </a:xfrm>
          <a:prstGeom prst="rect">
            <a:avLst/>
          </a:prstGeom>
          <a:noFill/>
          <a:ln w="12600">
            <a:solidFill>
              <a:srgbClr val="020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06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20306"/>
                </a:solidFill>
                <a:latin typeface="Arial"/>
              </a:rPr>
              <a:t>Security Services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5320" y="3220920"/>
            <a:ext cx="1425600" cy="654120"/>
          </a:xfrm>
          <a:prstGeom prst="rect">
            <a:avLst/>
          </a:prstGeom>
          <a:solidFill>
            <a:srgbClr val="f4c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29360" y="2706840"/>
            <a:ext cx="1425600" cy="65376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&amp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91120" y="2556000"/>
            <a:ext cx="3335400" cy="1568160"/>
          </a:xfrm>
          <a:prstGeom prst="rect">
            <a:avLst/>
          </a:prstGeom>
          <a:noFill/>
          <a:ln w="12600">
            <a:solidFill>
              <a:srgbClr val="020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06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20306"/>
                </a:solidFill>
                <a:latin typeface="Arial"/>
              </a:rPr>
              <a:t>Information &amp;</a:t>
            </a:r>
            <a:br>
              <a:rPr sz="2000"/>
            </a:br>
            <a:r>
              <a:rPr b="1" lang="en-US" sz="2000" spc="-1" strike="noStrike">
                <a:solidFill>
                  <a:srgbClr val="020306"/>
                </a:solidFill>
                <a:latin typeface="Arial"/>
              </a:rPr>
              <a:t>      Monitoring Services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07320" y="2697120"/>
            <a:ext cx="1425600" cy="65412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90880" y="5443560"/>
            <a:ext cx="1425600" cy="654120"/>
          </a:xfrm>
          <a:prstGeom prst="rect">
            <a:avLst/>
          </a:prstGeom>
          <a:noFill/>
          <a:ln w="12600">
            <a:solidFill>
              <a:srgbClr val="020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1520" y="4675320"/>
            <a:ext cx="1425600" cy="653760"/>
          </a:xfrm>
          <a:prstGeom prst="rect">
            <a:avLst/>
          </a:prstGeom>
          <a:noFill/>
          <a:ln w="12600">
            <a:solidFill>
              <a:srgbClr val="0203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2895480"/>
            <a:ext cx="1425600" cy="654120"/>
          </a:xfrm>
          <a:prstGeom prst="rect">
            <a:avLst/>
          </a:prstGeom>
          <a:solidFill>
            <a:srgbClr val="f4c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Audit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4572000"/>
            <a:ext cx="1425600" cy="6541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Job</a:t>
            </a:r>
            <a:br>
              <a:rPr sz="1800"/>
            </a:b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Provena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2920" y="4572000"/>
            <a:ext cx="1425600" cy="6541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Package</a:t>
            </a:r>
            <a:br>
              <a:rPr sz="1800"/>
            </a:b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24120" y="1295280"/>
            <a:ext cx="87156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0306"/>
                </a:solidFill>
                <a:latin typeface="Arial"/>
              </a:rPr>
              <a:t>CLI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ite Key Concep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entered around VO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t’s ultimately the VO who gets resources allocated and need to decide how to best use them (share them among the VO user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istinguish between </a:t>
            </a:r>
            <a:r>
              <a:rPr b="1" i="1" lang="en-US" sz="2400" spc="-1" strike="noStrike">
                <a:solidFill>
                  <a:srgbClr val="f1af00"/>
                </a:solidFill>
                <a:latin typeface="Arial"/>
              </a:rPr>
              <a:t>infrastructure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f1af00"/>
                </a:solidFill>
                <a:latin typeface="Arial"/>
              </a:rPr>
              <a:t>VO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servic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frastructure servic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perated and trusted by the resource administrator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mplement </a:t>
            </a: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site policies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cluding what share of the resources are allocated to a V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rovide the required security, auditing, and accounting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rid and standard servi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.g. batch system, gatekeeper, gridFTP, …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ite Key Concep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VO services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Implement </a:t>
            </a:r>
            <a:r>
              <a:rPr b="0" lang="en-US" sz="2500" spc="-1" strike="noStrike">
                <a:solidFill>
                  <a:srgbClr val="f1af00"/>
                </a:solidFill>
                <a:latin typeface="Arial"/>
              </a:rPr>
              <a:t>intra-VO policies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cheduling, priorities, etc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Managed and operated by a VO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ypically by sites on behalf of VO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 service instance may serve multiple VO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Currently mostly higher level services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source brokers, catalogs, …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There is the need of deploying VO services closer to the resource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Better information about the resource and better control about the resour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ownside: more and more services to be deployed at the sites – see discussion later on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1676520"/>
            <a:ext cx="8096040" cy="383040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</a:t>
            </a:r>
            <a:r>
              <a:rPr b="1" lang="pl-PL" sz="1800" spc="-1" strike="noStrike">
                <a:solidFill>
                  <a:srgbClr val="2b519a"/>
                </a:solidFill>
                <a:latin typeface="Arial"/>
              </a:rPr>
              <a:t> Oriented Architectur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uiding Princi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>
            <a:alphaModFix amt="26000"/>
          </a:blip>
          <a:stretch/>
        </p:blipFill>
        <p:spPr>
          <a:xfrm>
            <a:off x="7010280" y="1676520"/>
            <a:ext cx="1568520" cy="973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53920" y="1889280"/>
            <a:ext cx="1935360" cy="65376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eroper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53920" y="2760840"/>
            <a:ext cx="1935360" cy="65376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ort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53920" y="3660840"/>
            <a:ext cx="1935360" cy="65412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odular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920" y="4545000"/>
            <a:ext cx="1935360" cy="65412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49520" y="3257640"/>
            <a:ext cx="1935360" cy="654120"/>
          </a:xfrm>
          <a:prstGeom prst="rect">
            <a:avLst/>
          </a:prstGeom>
          <a:solidFill>
            <a:srgbClr val="ffcc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3060720"/>
            <a:ext cx="2235240" cy="968400"/>
          </a:xfrm>
          <a:prstGeom prst="rect">
            <a:avLst/>
          </a:prstGeom>
          <a:solidFill>
            <a:srgbClr val="ccff66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uilding on existing</a:t>
            </a:r>
            <a:br>
              <a:rPr sz="18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mponents in a</a:t>
            </a:r>
            <a:br>
              <a:rPr sz="18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ightweight mann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15160" y="4154400"/>
            <a:ext cx="641160" cy="35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2b519a"/>
                </a:solidFill>
                <a:latin typeface="Arial"/>
              </a:rPr>
              <a:t>AliE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95920" y="4154400"/>
            <a:ext cx="641520" cy="35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2b519a"/>
                </a:solidFill>
                <a:latin typeface="Arial"/>
              </a:rPr>
              <a:t>LC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86760" y="4154400"/>
            <a:ext cx="641160" cy="35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2b519a"/>
                </a:solidFill>
                <a:latin typeface="Arial"/>
              </a:rPr>
              <a:t>Cond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4573440"/>
            <a:ext cx="641160" cy="35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2b519a"/>
                </a:solidFill>
                <a:latin typeface="Arial"/>
              </a:rPr>
              <a:t>Globu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05640" y="4573440"/>
            <a:ext cx="641160" cy="35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2b519a"/>
                </a:solidFill>
                <a:latin typeface="Arial"/>
              </a:rPr>
              <a:t>SRM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86760" y="4573440"/>
            <a:ext cx="641160" cy="35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2b519a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6:09:26Z</dcterms:created>
  <dc:creator>erwin</dc:creator>
  <dc:description/>
  <dc:language>en-US</dc:language>
  <cp:lastModifiedBy>Jarek Nabrzyski</cp:lastModifiedBy>
  <dcterms:modified xsi:type="dcterms:W3CDTF">2006-02-20T07:38:41Z</dcterms:modified>
  <cp:revision>274</cp:revision>
  <dc:subject/>
  <dc:title>Performance monitoring and analysis on the EGEE Grid infrastructure - status and plans  </dc:title>
</cp:coreProperties>
</file>