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20.jpeg" ContentType="image/jpeg"/>
  <Override PartName="/ppt/media/image12.png" ContentType="image/png"/>
  <Override PartName="/ppt/media/image31.jpeg" ContentType="image/jpeg"/>
  <Override PartName="/ppt/media/image33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6.png" ContentType="image/png"/>
  <Override PartName="/ppt/media/image19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30.jpeg" ContentType="image/jpeg"/>
  <Override PartName="/ppt/media/image42.wmf" ContentType="image/x-wmf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media/image11.png" ContentType="image/png"/>
  <Override PartName="/ppt/media/image9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695-0AD9-4AF2-931F-14966848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8EC-6C22-4812-AAC9-0CF0FB55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528-D717-4481-A9EF-DE837A98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030-E8C7-4B64-94C2-B3DDCC79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E831-D5A4-4375-85A8-F88D0266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9DE4-C340-4E1A-8C98-BDEDAC3B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2D18-6C75-4749-AA42-43916A33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AC9-0A44-4BF9-8EAF-616B482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0E58-3931-4A7A-A5A7-C870102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F410-FC3A-412B-BD35-00C12606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86C-F9B1-4639-93C7-4721BF5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961-B2D1-44EA-871F-4013803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2F3-BFA8-4FB0-9687-05F25D28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CE5-7356-4C27-8DFB-4AB112B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974-2B03-4920-9C09-E497DDD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959-030A-4FC4-BB7D-201ED2D5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AC90-D6C6-4472-87C6-1E3FA1AB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975-575A-424A-A53D-FAEF67E8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729-5DD1-46E2-B841-B30A2991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DEB-27EF-490A-9D5C-768D7D3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1D5-4BEA-4700-A2D7-561A71D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0E0-2F15-42DA-B31F-0B05934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1EF-478C-4912-91CC-8CC9545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6FA-9886-4E41-A338-1727921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C101-FC94-45D5-8775-C2181D63B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05520" y="189000"/>
            <a:ext cx="205920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827-A704-44FD-AF2D-2B70738012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05520" y="189000"/>
            <a:ext cx="205920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5520" y="155520"/>
            <a:ext cx="2616120" cy="67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image" Target="../media/image42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-enabled Research Activities in 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560" y="4076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i 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 Information Center (CNI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Academy of Science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ghai, 21 Feb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vLabs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Virtual La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kinds of resources could be integrated into a single access poin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ed and flexible services would be provided according to the specific requirements of different domains in an easier way than ever befo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, multi-site and multi-organization collaboration could be carried out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 Middle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fic Database (SDB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 Scientific Data Grid (SD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970080" cy="504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827520" cy="496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4581360"/>
            <a:ext cx="3456000" cy="1295640"/>
          </a:xfrm>
          <a:prstGeom prst="wedgeRoundRectCallout">
            <a:avLst>
              <a:gd name="adj1" fmla="val -7236"/>
              <a:gd name="adj2" fmla="val -661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institutes particip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3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6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4797360"/>
            <a:ext cx="3600360" cy="1441440"/>
          </a:xfrm>
          <a:prstGeom prst="wedgeRoundRectCallout">
            <a:avLst>
              <a:gd name="adj1" fmla="val 5601"/>
              <a:gd name="adj2" fmla="val -6773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36-CPU Superserver (1T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TB Disk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TB Tap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izWall &amp; Access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and SD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FIND the data I want from hundreds or thousands of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ACCESS large-scale, distributed and heterogeneous scientific data uniformly and convenie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make sure all this goes always in a SECURE and proper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G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696000" cy="36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ccess Service (D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Access Interface (read-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publish on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configuration and 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24000" y="1916280"/>
            <a:ext cx="5230800" cy="4049280"/>
            <a:chOff x="2124000" y="1916280"/>
            <a:chExt cx="5230800" cy="4049280"/>
          </a:xfrm>
        </p:grpSpPr>
        <p:sp>
          <p:nvSpPr>
            <p:cNvPr id="130" name=""/>
            <p:cNvSpPr/>
            <p:nvPr/>
          </p:nvSpPr>
          <p:spPr>
            <a:xfrm>
              <a:off x="3307320" y="1916280"/>
              <a:ext cx="644400" cy="586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124000" y="1916280"/>
              <a:ext cx="5230800" cy="4049280"/>
              <a:chOff x="2124000" y="1916280"/>
              <a:chExt cx="5230800" cy="404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2124000" y="3052800"/>
                <a:ext cx="2970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Beijing"/>
                  </a:rPr>
                  <a:t>Data Access Interfa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24000" y="4056840"/>
                <a:ext cx="2970720" cy="73548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Virtual Databas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24000" y="5230800"/>
                <a:ext cx="2970720" cy="7347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Physical Databas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39280" y="1916280"/>
                <a:ext cx="643680" cy="58644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76440" y="1916280"/>
                <a:ext cx="643680" cy="58644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79040" y="3682800"/>
                <a:ext cx="322560" cy="438480"/>
              </a:xfrm>
              <a:prstGeom prst="downArrow">
                <a:avLst>
                  <a:gd name="adj1" fmla="val 50000"/>
                  <a:gd name="adj2" fmla="val 3398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79040" y="2578680"/>
                <a:ext cx="322560" cy="440280"/>
              </a:xfrm>
              <a:prstGeom prst="downArrow">
                <a:avLst>
                  <a:gd name="adj1" fmla="val 50000"/>
                  <a:gd name="adj2" fmla="val 341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79040" y="4850640"/>
                <a:ext cx="322560" cy="440280"/>
              </a:xfrm>
              <a:prstGeom prst="downArrow">
                <a:avLst>
                  <a:gd name="adj1" fmla="val 50000"/>
                  <a:gd name="adj2" fmla="val 341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77480" y="4413600"/>
                <a:ext cx="1777320" cy="878760"/>
              </a:xfrm>
              <a:prstGeom prst="wedgeRoundRectCallout">
                <a:avLst>
                  <a:gd name="adj1" fmla="val -155101"/>
                  <a:gd name="adj2" fmla="val 20939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MappingBuil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62520" y="2000520"/>
                <a:ext cx="1126080" cy="43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ataVie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38040" y="1758960"/>
            <a:ext cx="5889240" cy="4322520"/>
            <a:chOff x="338040" y="1758960"/>
            <a:chExt cx="5889240" cy="4322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338040" y="1758960"/>
              <a:ext cx="588924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94520" y="4613400"/>
              <a:ext cx="1447920" cy="694080"/>
            </a:xfrm>
            <a:prstGeom prst="wedgeRoundRectCallout">
              <a:avLst>
                <a:gd name="adj1" fmla="val 36425"/>
                <a:gd name="adj2" fmla="val -106615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检索词：</a:t>
              </a:r>
              <a:br>
                <a:rPr sz="1800"/>
              </a:b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日食 天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042920" y="966960"/>
            <a:ext cx="5832360" cy="4120920"/>
            <a:chOff x="1042920" y="966960"/>
            <a:chExt cx="5832360" cy="4120920"/>
          </a:xfrm>
        </p:grpSpPr>
        <p:grpSp>
          <p:nvGrpSpPr>
            <p:cNvPr id="146" name=""/>
            <p:cNvGrpSpPr/>
            <p:nvPr/>
          </p:nvGrpSpPr>
          <p:grpSpPr>
            <a:xfrm>
              <a:off x="1042920" y="966960"/>
              <a:ext cx="5832360" cy="4120920"/>
              <a:chOff x="1042920" y="966960"/>
              <a:chExt cx="5832360" cy="412092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966960"/>
                <a:ext cx="5688000" cy="41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042920" y="2911680"/>
                <a:ext cx="3673440" cy="9363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195640" y="2047680"/>
              <a:ext cx="3384360" cy="720360"/>
            </a:xfrm>
            <a:prstGeom prst="wedgeRoundRectCallout">
              <a:avLst>
                <a:gd name="adj1" fmla="val 2953"/>
                <a:gd name="adj2" fmla="val 7599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中国古代天象记录（日食）数据库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ataView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195640" y="2624040"/>
            <a:ext cx="5904720" cy="4253760"/>
            <a:chOff x="2195640" y="2624040"/>
            <a:chExt cx="5904720" cy="4253760"/>
          </a:xfrm>
        </p:grpSpPr>
        <p:grpSp>
          <p:nvGrpSpPr>
            <p:cNvPr id="151" name=""/>
            <p:cNvGrpSpPr/>
            <p:nvPr/>
          </p:nvGrpSpPr>
          <p:grpSpPr>
            <a:xfrm>
              <a:off x="2195640" y="2624040"/>
              <a:ext cx="5904720" cy="4253760"/>
              <a:chOff x="2195640" y="2624040"/>
              <a:chExt cx="5904720" cy="4253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95640" y="2624040"/>
                <a:ext cx="5904720" cy="425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4449240" y="4167720"/>
                <a:ext cx="2251800" cy="3099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216680" y="6098400"/>
              <a:ext cx="2407680" cy="541080"/>
            </a:xfrm>
            <a:prstGeom prst="wedgeRoundRectCallout">
              <a:avLst>
                <a:gd name="adj1" fmla="val 7893"/>
                <a:gd name="adj2" fmla="val -99055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年号年代：康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911160"/>
            <a:ext cx="8209080" cy="594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D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-enable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nergy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nformatization Program 2001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e-Science Initiative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Grid-enabled Resea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. Collaborations with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BJ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O/AS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,Japan-China cosmic ray observatories in Ti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TB raw data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red to IHEP and processed with 400 C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. data accessible by collabora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64328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BJ-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stablished a 8Mb/s link from Tibet to Beijing, by CNIC of CAS. To be upgraded to 155Mb/s soon. </a:t>
            </a:r>
            <a:br>
              <a:rPr sz="3200"/>
            </a:br>
            <a:r>
              <a:rPr b="0" lang="zh-CN" sz="3200" spc="-1" strike="noStrike">
                <a:solidFill>
                  <a:srgbClr val="c00632"/>
                </a:solidFill>
                <a:latin typeface="Arial"/>
              </a:rPr>
              <a:t>Stopped bringing tapes half year ag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ilding a computing system based on LCG,</a:t>
            </a:r>
            <a:br>
              <a:rPr sz="3200"/>
            </a:br>
            <a:r>
              <a:rPr b="0" lang="zh-CN" sz="3200" spc="-1" strike="noStrike">
                <a:solidFill>
                  <a:srgbClr val="c00632"/>
                </a:solidFill>
                <a:latin typeface="Arial"/>
              </a:rPr>
              <a:t>collaboration of IHEP of CAS, CNIC of CAS, INFN of Italia , EU-China Grid application under EU FP6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54160" y="1052640"/>
            <a:ext cx="8494200" cy="5400360"/>
            <a:chOff x="254160" y="1052640"/>
            <a:chExt cx="8494200" cy="54003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54160" y="1052640"/>
              <a:ext cx="8494200" cy="54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 txBox="1"/>
            <p:nvPr/>
          </p:nvSpPr>
          <p:spPr>
            <a:xfrm>
              <a:off x="6192360" y="3128760"/>
              <a:ext cx="1210320" cy="404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be0e3"/>
                  </a:solidFill>
                  <a:latin typeface="Vrinda"/>
                </a:rPr>
                <a:t>GLORIAD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Vrinda"/>
                <a:ea typeface="Vrinda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6551640" cy="491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CG Tier-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59640" y="1915920"/>
            <a:ext cx="201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uild a LCG Tier-1/2 node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High Energy Physics of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IC providing  support and working together with IH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572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G2 production site @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224400" cy="4510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4360" y="2060640"/>
            <a:ext cx="655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http://goc.grid.sinica.edu.tw/gstat/BEIJING-CNIC-LCG2-IA6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5224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2700360" y="3141720"/>
            <a:ext cx="165564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5229360"/>
            <a:ext cx="4464000" cy="865080"/>
          </a:xfrm>
          <a:prstGeom prst="wedgeEllipseCallout">
            <a:avLst>
              <a:gd name="adj1" fmla="val 30300"/>
              <a:gd name="adj2" fmla="val -115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ing Info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IJING-CNIC-LCG2-IA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84360" y="2360520"/>
            <a:ext cx="8027640" cy="4224600"/>
            <a:chOff x="684360" y="2360520"/>
            <a:chExt cx="8027640" cy="42246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604760" y="4374720"/>
              <a:ext cx="115632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1431000" y="5534280"/>
              <a:ext cx="149328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6969600" y="2360520"/>
              <a:ext cx="1742400" cy="10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6907680" y="4252320"/>
              <a:ext cx="161784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3297960" y="5553000"/>
              <a:ext cx="10731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032960" y="2419920"/>
              <a:ext cx="111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hand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78440" y="5106960"/>
              <a:ext cx="13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bbe0e3"/>
                  </a:solidFill>
                  <a:latin typeface="Times New Roman"/>
                </a:rPr>
                <a:t>Hub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9600" y="4619880"/>
              <a:ext cx="80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M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35680" y="6216840"/>
              <a:ext cx="13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Smm 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2200" y="547344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9000" y="4896000"/>
              <a:ext cx="1839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729320" y="5546880"/>
              <a:ext cx="14922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6658560" y="5351040"/>
              <a:ext cx="1431000" cy="11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5725080" y="2787480"/>
              <a:ext cx="136908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667040" y="6216840"/>
              <a:ext cx="180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Antartica sub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1920" y="6216840"/>
              <a:ext cx="161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agellan 6.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8440" y="2849760"/>
              <a:ext cx="14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ip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3111120" y="4374720"/>
              <a:ext cx="13068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733560" y="4739400"/>
              <a:ext cx="7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IRT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0"/>
            <a:stretch/>
          </p:blipFill>
          <p:spPr>
            <a:xfrm>
              <a:off x="5787360" y="4374720"/>
              <a:ext cx="103428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1"/>
            <a:stretch/>
          </p:blipFill>
          <p:spPr>
            <a:xfrm>
              <a:off x="7094160" y="3398040"/>
              <a:ext cx="140004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658560" y="3568320"/>
              <a:ext cx="205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3000" indent="-2286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Oak Ri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1431000" y="4374720"/>
              <a:ext cx="14234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4360" y="4313520"/>
              <a:ext cx="161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3000" indent="-228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2m 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华文行楷"/>
              </a:rPr>
              <a:t>VO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＝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华文行楷"/>
              </a:rPr>
              <a:t>World Wide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755640" y="1341360"/>
            <a:ext cx="4419720" cy="2616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604880" cy="7197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738600" y="765000"/>
            <a:ext cx="3044880" cy="657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3105000" cy="7197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2852640"/>
            <a:ext cx="266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2852640"/>
            <a:ext cx="266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2781360"/>
            <a:ext cx="12236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 Servi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11592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a Virtual Observatory at SDG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an  Bird Flu Alarming &amp; Predicating Syste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Institute of Microbiology, C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Institute of Zoology, C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Institute of Virology, C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CNIC,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9640" y="909720"/>
            <a:ext cx="7939080" cy="5832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4360" y="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vian Bird Flu in Gangcha, Qinghai Province, May 2005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58960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上千支鱼鸥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棕鸥、斑头雁死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427640" y="3213000"/>
            <a:ext cx="4518000" cy="3389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 of CAS Informa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Science + ARP →Digital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Science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tization of Research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P (Academia Resource Planning) repres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tization of Administrative Activities f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08720" y="5300640"/>
            <a:ext cx="280512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bird-flu basic databases from multiple instit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survey on bird-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bioinformatics comprehensive analysis system for bird-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bird-flu alarming and predic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ternational cooperativ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information publishing system (w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-flu bas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basic database’s model and data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specification and description language of bird-flu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virus resourc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virus inherent resourc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history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dynamic monitoring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host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international DN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-flu international research progres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06600" y="2128680"/>
            <a:ext cx="685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06600" y="2722680"/>
            <a:ext cx="685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763640" y="1341360"/>
            <a:ext cx="5683320" cy="5149800"/>
            <a:chOff x="1763640" y="1341360"/>
            <a:chExt cx="5683320" cy="5149800"/>
          </a:xfrm>
        </p:grpSpPr>
        <p:sp>
          <p:nvSpPr>
            <p:cNvPr id="226" name=""/>
            <p:cNvSpPr/>
            <p:nvPr/>
          </p:nvSpPr>
          <p:spPr>
            <a:xfrm rot="18492600">
              <a:off x="3273480" y="5049720"/>
              <a:ext cx="892080" cy="806400"/>
            </a:xfrm>
            <a:custGeom>
              <a:avLst/>
              <a:gdLst>
                <a:gd name="textAreaLeft" fmla="*/ 119520 w 892080"/>
                <a:gd name="textAreaRight" fmla="*/ 772560 w 892080"/>
                <a:gd name="textAreaTop" fmla="*/ 141120 h 806400"/>
                <a:gd name="textAreaBottom" fmla="*/ 584640 h 80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791528"/>
                  <a:lnTo>
                    <a:pt x="6803" y="21215"/>
                  </a:lnTo>
                  <a:lnTo>
                    <a:pt x="0" y="17280"/>
                  </a:lnTo>
                  <a:lnTo>
                    <a:pt x="6803" y="12575"/>
                  </a:lnTo>
                  <a:lnTo>
                    <a:pt x="6803" y="14735"/>
                  </a:lnTo>
                  <a:arcTo wR="21600" hR="7560" stAng="2791528" swAng="-243409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48000" y="4591080"/>
              <a:ext cx="2227320" cy="396720"/>
            </a:xfrm>
            <a:prstGeom prst="flowChartInputOutpu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Distribute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24480" y="5229360"/>
              <a:ext cx="1527120" cy="496800"/>
            </a:xfrm>
            <a:prstGeom prst="rec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Survey on 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15000" y="5897520"/>
              <a:ext cx="1143000" cy="593640"/>
            </a:xfrm>
            <a:prstGeom prst="flowChartMagneticDisk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63640" y="5230800"/>
              <a:ext cx="1371600" cy="495360"/>
            </a:xfrm>
            <a:prstGeom prst="rec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inter Survey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"/>
            <p:cNvCxnSpPr/>
            <p:nvPr/>
          </p:nvCxnSpPr>
          <p:spPr>
            <a:xfrm flipH="1" flipV="1">
              <a:off x="3132000" y="5446080"/>
              <a:ext cx="2264400" cy="30600"/>
            </a:xfrm>
            <a:prstGeom prst="straightConnector1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3062520" y="5950080"/>
              <a:ext cx="1371600" cy="496800"/>
            </a:xfrm>
            <a:prstGeom prst="rect">
              <a:avLst/>
            </a:prstGeom>
            <a:noFill/>
            <a:ln w="22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Predic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18480" y="2349360"/>
              <a:ext cx="528480" cy="3837240"/>
            </a:xfrm>
            <a:custGeom>
              <a:avLst/>
              <a:gdLst/>
              <a:ahLst/>
              <a:rect l="l" t="t" r="r" b="b"/>
              <a:pathLst>
                <a:path w="720" h="5928">
                  <a:moveTo>
                    <a:pt x="0" y="5928"/>
                  </a:moveTo>
                  <a:lnTo>
                    <a:pt x="720" y="5928"/>
                  </a:lnTo>
                  <a:lnTo>
                    <a:pt x="720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872400" y="2781360"/>
              <a:ext cx="358560" cy="2708280"/>
              <a:chOff x="6872400" y="2781360"/>
              <a:chExt cx="358560" cy="270828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872400" y="2781360"/>
                <a:ext cx="344520" cy="2708280"/>
                <a:chOff x="6872400" y="2781360"/>
                <a:chExt cx="344520" cy="2708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875280" y="3798720"/>
                  <a:ext cx="341640" cy="1690920"/>
                </a:xfrm>
                <a:custGeom>
                  <a:avLst/>
                  <a:gdLst/>
                  <a:ahLst/>
                  <a:rect l="l" t="t" r="r" b="b"/>
                  <a:pathLst>
                    <a:path w="540" h="2496">
                      <a:moveTo>
                        <a:pt x="180" y="2496"/>
                      </a:moveTo>
                      <a:lnTo>
                        <a:pt x="540" y="2496"/>
                      </a:lnTo>
                      <a:lnTo>
                        <a:pt x="54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2320">
                  <a:solidFill>
                    <a:srgbClr val="bbe0e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872400" y="2781360"/>
                  <a:ext cx="342720" cy="1025280"/>
                </a:xfrm>
                <a:custGeom>
                  <a:avLst/>
                  <a:gdLst/>
                  <a:ahLst/>
                  <a:rect l="l" t="t" r="r" b="b"/>
                  <a:pathLst>
                    <a:path w="540" h="1560">
                      <a:moveTo>
                        <a:pt x="540" y="1560"/>
                      </a:moveTo>
                      <a:lnTo>
                        <a:pt x="54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2320">
                  <a:solidFill>
                    <a:srgbClr val="bbe0e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 flipH="1">
                <a:off x="6889320" y="3344760"/>
                <a:ext cx="341640" cy="0"/>
              </a:xfrm>
              <a:prstGeom prst="line">
                <a:avLst/>
              </a:prstGeom>
              <a:ln w="2232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84560" y="1341360"/>
              <a:ext cx="4591080" cy="3203640"/>
              <a:chOff x="2284560" y="1341360"/>
              <a:chExt cx="4591080" cy="320364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4205520" y="1870920"/>
                <a:ext cx="114120" cy="297000"/>
              </a:xfrm>
              <a:prstGeom prst="upArrow">
                <a:avLst>
                  <a:gd name="adj1" fmla="val 50000"/>
                  <a:gd name="adj2" fmla="val 65063"/>
                </a:avLst>
              </a:prstGeom>
              <a:solidFill>
                <a:srgbClr val="bbe0e3"/>
              </a:solidFill>
              <a:ln w="223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2284560" y="1341360"/>
                <a:ext cx="4591080" cy="3203640"/>
                <a:chOff x="2284560" y="1341360"/>
                <a:chExt cx="4591080" cy="32036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3519720" y="1341360"/>
                  <a:ext cx="3355920" cy="3203640"/>
                  <a:chOff x="3519720" y="1341360"/>
                  <a:chExt cx="3355920" cy="3203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321440" y="1841400"/>
                    <a:ext cx="306360" cy="2703600"/>
                  </a:xfrm>
                  <a:prstGeom prst="downArrow">
                    <a:avLst>
                      <a:gd name="adj1" fmla="val 60000"/>
                      <a:gd name="adj2" fmla="val 157051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762880" y="213840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Host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762880" y="263376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Survey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761080" y="312912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Virus dat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761080" y="3624480"/>
                    <a:ext cx="1112760" cy="396720"/>
                  </a:xfrm>
                  <a:prstGeom prst="flowChartOnlineStorage">
                    <a:avLst/>
                  </a:prstGeom>
                  <a:noFill/>
                  <a:ln w="22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avian trade rou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224600" y="2195640"/>
                    <a:ext cx="500040" cy="1738080"/>
                  </a:xfrm>
                  <a:prstGeom prst="rect">
                    <a:avLst/>
                  </a:prstGeom>
                  <a:solidFill>
                    <a:srgbClr val="ff0000"/>
                  </a:solidFill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Model Evaluation Syste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849840" y="1341360"/>
                    <a:ext cx="1371600" cy="500040"/>
                  </a:xfrm>
                  <a:prstGeom prst="flowChartMagneticDisk">
                    <a:avLst/>
                  </a:prstGeom>
                  <a:noFill/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odel Databas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776840" y="2148120"/>
                    <a:ext cx="914400" cy="164880"/>
                  </a:xfrm>
                  <a:prstGeom prst="leftArrow">
                    <a:avLst>
                      <a:gd name="adj1" fmla="val 50000"/>
                      <a:gd name="adj2" fmla="val 138646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776840" y="2643120"/>
                    <a:ext cx="914400" cy="165240"/>
                  </a:xfrm>
                  <a:prstGeom prst="leftArrow">
                    <a:avLst>
                      <a:gd name="adj1" fmla="val 50000"/>
                      <a:gd name="adj2" fmla="val 138344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76840" y="3189240"/>
                    <a:ext cx="914400" cy="165240"/>
                  </a:xfrm>
                  <a:prstGeom prst="leftArrow">
                    <a:avLst>
                      <a:gd name="adj1" fmla="val 50000"/>
                      <a:gd name="adj2" fmla="val 138344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776840" y="3722760"/>
                    <a:ext cx="914400" cy="165240"/>
                  </a:xfrm>
                  <a:prstGeom prst="leftArrow">
                    <a:avLst>
                      <a:gd name="adj1" fmla="val 50000"/>
                      <a:gd name="adj2" fmla="val 138344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62720" y="1841400"/>
                    <a:ext cx="114120" cy="297000"/>
                  </a:xfrm>
                  <a:prstGeom prst="upArrow">
                    <a:avLst>
                      <a:gd name="adj1" fmla="val 50000"/>
                      <a:gd name="adj2" fmla="val 65063"/>
                    </a:avLst>
                  </a:prstGeom>
                  <a:solidFill>
                    <a:srgbClr val="bbe0e3"/>
                  </a:solidFill>
                  <a:ln w="2232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891320" y="1841400"/>
                    <a:ext cx="685800" cy="19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Model Stora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519720" y="1841400"/>
                    <a:ext cx="685800" cy="19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Model verificatio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 flipH="1">
                  <a:off x="2947320" y="213840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2947320" y="263376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2947320" y="318924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947320" y="3708360"/>
                  <a:ext cx="1257480" cy="165240"/>
                </a:xfrm>
                <a:prstGeom prst="leftArrow">
                  <a:avLst>
                    <a:gd name="adj1" fmla="val 50000"/>
                    <a:gd name="adj2" fmla="val 190251"/>
                  </a:avLst>
                </a:prstGeom>
                <a:solidFill>
                  <a:srgbClr val="bbe0e3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0" y="1989360"/>
                  <a:ext cx="486000" cy="48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86000" y="2533680"/>
                  <a:ext cx="486000" cy="48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4560" y="3073320"/>
                  <a:ext cx="485640" cy="48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84560" y="3621240"/>
                  <a:ext cx="485640" cy="48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839320" y="2971800"/>
            <a:ext cx="346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IAP</a:t>
            </a:r>
            <a:r>
              <a:rPr b="0" i="1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Program    “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Global Natural</a:t>
            </a:r>
            <a:br>
              <a:rPr sz="1800"/>
            </a:b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Hazards 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and Disaster 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Reduction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sia Resource Environment Collaborative Research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work connecting a dozen of institutes and stations from China, Russia and Mong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data products which integrate many relevant databases in this area and support applica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tform for int’l collaborativ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33720" y="1700280"/>
            <a:ext cx="52102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lobal Natural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azards and Disaster Re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sues in disaster re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evelopment of mechanism of major natural dis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diction of major natural disas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ssessment of major natural disas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-warning and emergency response of major natural dis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gional integrated research on major natural dis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tabase Construction &amp; Application on “Natural  Disaster Mitig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isaster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ons with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UChinaGrid: 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Interconnection and Interoperability of Grids between Europe &amp;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frastructure is being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urther more on MIDDLEWARE &amp;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92360" y="263700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66"/>
                </a:solidFill>
                <a:latin typeface="Script MT Bold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 Informatization Progra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1-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Upgrade of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56880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74960"/>
                <a:gridCol w="2468520"/>
                <a:gridCol w="1811160"/>
                <a:gridCol w="19749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t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5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ckb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*155M+2.5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versea 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0M+12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TFL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pack TFL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cientific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ember instit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gt;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ata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ata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25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TB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3151080" cy="3932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novo 680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uper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iz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cientific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ata (S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cience Digital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b (C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3927600" cy="156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96000" y="4788000"/>
            <a:ext cx="3348000" cy="207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796160" y="1052640"/>
            <a:ext cx="1347840" cy="179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877080" y="285264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 e-Science Initia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6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-Science would be applications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ocus on implementation of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-Science Virtual Labs, the way for scientist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frastructure may need re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1480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Virtua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Lab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meanings in the e-Scienc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position in our e-Scienc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component to make e-Science a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4859280" y="2421000"/>
            <a:ext cx="3780000" cy="2529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88000" y="3429000"/>
            <a:ext cx="3887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vLab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may be (almost) ready, but e-Science is not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any existing resources in place, but just a few could be brought into full play even now, with an advanced infrastructure rea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leneck may be the gap between products by computer experts and end users of domain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effort than expected to bridge this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ab is propos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sic unit of research activity in the e-Science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user interface between scientists and their e-Scienc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3:30:19Z</dcterms:created>
  <dc:creator>Kai Nan</dc:creator>
  <dc:description/>
  <dc:language>en-US</dc:language>
  <cp:lastModifiedBy>Kai Nan</cp:lastModifiedBy>
  <dcterms:modified xsi:type="dcterms:W3CDTF">2006-02-21T01:35:15Z</dcterms:modified>
  <cp:revision>368</cp:revision>
  <dc:subject/>
  <dc:title>e-Science</dc:title>
</cp:coreProperties>
</file>