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5.jpeg" ContentType="image/jpeg"/>
  <Override PartName="/ppt/media/image2.png" ContentType="image/png"/>
  <Override PartName="/ppt/media/image20.jpeg" ContentType="image/jpeg"/>
  <Override PartName="/ppt/media/image12.png" ContentType="image/png"/>
  <Override PartName="/ppt/media/image31.jpeg" ContentType="image/jpeg"/>
  <Override PartName="/ppt/media/image33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36.png" ContentType="image/png"/>
  <Override PartName="/ppt/media/image19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30.jpeg" ContentType="image/jpeg"/>
  <Override PartName="/ppt/media/image42.wmf" ContentType="image/x-wmf"/>
  <Override PartName="/ppt/media/image43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9.jpeg" ContentType="image/jpeg"/>
  <Override PartName="/ppt/media/image8.jpeg" ContentType="image/jpeg"/>
  <Override PartName="/ppt/media/image38.png" ContentType="image/png"/>
  <Override PartName="/ppt/media/image11.png" ContentType="image/png"/>
  <Override PartName="/ppt/media/image9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AE2-6E2C-409D-928B-8B1F2823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974-60A9-4EFD-9889-BA7A07B4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4FA3-0217-4238-901E-7651FC25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9D2-1BC0-44E4-B8E1-D8E3B629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C9CD-B980-4CC1-9901-9CF880CE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02E2-99CC-417C-A50D-E70C4DCF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EC0E-3CB8-4BAF-9AD5-D20DCB6D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6469-FBE7-47D2-81E2-EB8C2EB9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115B-9514-48BF-8DCE-3253F092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F223-CBBB-4D62-ADA5-9A68FA77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2C63-5B5B-42DC-B43E-EC50FD90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529-7EBA-448A-A9B7-2ACEA736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B67D-FD2F-4F4B-9478-7D3DBB63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035B-135A-4A4F-B301-4F9C0A74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03DD-10A4-45BF-9B33-7D6CC612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A5F8-308C-4D23-BEB6-3B8997C4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12B1-4464-45DD-9856-5DB2D3E6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2B6-C1A4-44BD-BDCA-06981F53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670-7FB4-4D9B-90E4-BAA7FAA8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4FE-9151-4075-AE4F-BBA4F5F5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4966-005B-4143-ACCD-2F86EAF1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865-D8B7-455A-9FE6-D82EE87C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5F7-9B97-442B-B659-4B62BA02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726-2D17-4CA3-8701-6D730910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574F-FB1D-4E47-AE18-E20EC21EDB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05520" y="189000"/>
            <a:ext cx="205920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8F0F-FDFB-4575-92E6-AC994404DF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05520" y="189000"/>
            <a:ext cx="205920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55520" y="155520"/>
            <a:ext cx="2616120" cy="67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35.png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2.wmf"/><Relationship Id="rId3" Type="http://schemas.openxmlformats.org/officeDocument/2006/relationships/image" Target="../media/image42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d-enabled Research Activities in 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42560" y="407628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i 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Network Information Center (CNIC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Academy of Sciences (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nghai, 21 Feb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vLabs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Virtual Lab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kinds of resources could be integrated into a single access poin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zed and flexible services would be provided according to the specific requirements of different domains in an easier way than ever befor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disciplinary, multi-site and multi-organization collaboration could be carried out on a routine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d Middle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tific Database (SDB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&amp; Scientific Data Grid (SD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970080" cy="5040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3827520" cy="4969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4581360"/>
            <a:ext cx="3456000" cy="1295640"/>
          </a:xfrm>
          <a:prstGeom prst="wedgeRoundRectCallout">
            <a:avLst>
              <a:gd name="adj1" fmla="val -7236"/>
              <a:gd name="adj2" fmla="val -661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 institutes particip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3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6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4797360"/>
            <a:ext cx="3600360" cy="1441440"/>
          </a:xfrm>
          <a:prstGeom prst="wedgeRoundRectCallout">
            <a:avLst>
              <a:gd name="adj1" fmla="val 5601"/>
              <a:gd name="adj2" fmla="val -6773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36-CPU Superserver (1T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TB Disk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0TB Tap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izWall &amp; Access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and SD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FIND the data I want from hundreds or thousands of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ACCESS large-scale, distributed and heterogeneous scientific data uniformly and convenient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make sure all this goes always in a SECURE and proper 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G Softwar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696000" cy="36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ccess Service (D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Access Interface (read-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publish on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configuration and exte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24000" y="1916280"/>
            <a:ext cx="5230800" cy="4049280"/>
            <a:chOff x="2124000" y="1916280"/>
            <a:chExt cx="5230800" cy="4049280"/>
          </a:xfrm>
        </p:grpSpPr>
        <p:sp>
          <p:nvSpPr>
            <p:cNvPr id="130" name=""/>
            <p:cNvSpPr/>
            <p:nvPr/>
          </p:nvSpPr>
          <p:spPr>
            <a:xfrm>
              <a:off x="3307320" y="1916280"/>
              <a:ext cx="644400" cy="5864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124000" y="1916280"/>
              <a:ext cx="5230800" cy="4049280"/>
              <a:chOff x="2124000" y="1916280"/>
              <a:chExt cx="5230800" cy="4049280"/>
            </a:xfrm>
          </p:grpSpPr>
          <p:sp>
            <p:nvSpPr>
              <p:cNvPr id="132" name=""/>
              <p:cNvSpPr/>
              <p:nvPr/>
            </p:nvSpPr>
            <p:spPr>
              <a:xfrm>
                <a:off x="2124000" y="3052800"/>
                <a:ext cx="2970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Beijing"/>
                  </a:rPr>
                  <a:t>Data Access Interfa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24000" y="4056840"/>
                <a:ext cx="2970720" cy="73548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Times New Roman"/>
                  </a:rPr>
                  <a:t>Virtual Databas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24000" y="5230800"/>
                <a:ext cx="2970720" cy="73476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Times New Roman"/>
                  </a:rPr>
                  <a:t>Physical Databas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39280" y="1916280"/>
                <a:ext cx="643680" cy="58644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76440" y="1916280"/>
                <a:ext cx="643680" cy="58644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479040" y="3682800"/>
                <a:ext cx="322560" cy="438480"/>
              </a:xfrm>
              <a:prstGeom prst="downArrow">
                <a:avLst>
                  <a:gd name="adj1" fmla="val 50000"/>
                  <a:gd name="adj2" fmla="val 3398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79040" y="2578680"/>
                <a:ext cx="322560" cy="440280"/>
              </a:xfrm>
              <a:prstGeom prst="downArrow">
                <a:avLst>
                  <a:gd name="adj1" fmla="val 50000"/>
                  <a:gd name="adj2" fmla="val 3412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479040" y="4850640"/>
                <a:ext cx="322560" cy="440280"/>
              </a:xfrm>
              <a:prstGeom prst="downArrow">
                <a:avLst>
                  <a:gd name="adj1" fmla="val 50000"/>
                  <a:gd name="adj2" fmla="val 3412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577480" y="4413600"/>
                <a:ext cx="1777320" cy="878760"/>
              </a:xfrm>
              <a:prstGeom prst="wedgeRoundRectCallout">
                <a:avLst>
                  <a:gd name="adj1" fmla="val -155101"/>
                  <a:gd name="adj2" fmla="val 20939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MappingBuild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62520" y="2000520"/>
                <a:ext cx="1126080" cy="43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DataVie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38040" y="1758960"/>
            <a:ext cx="5889240" cy="4322520"/>
            <a:chOff x="338040" y="1758960"/>
            <a:chExt cx="5889240" cy="432252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338040" y="1758960"/>
              <a:ext cx="588924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94520" y="4613400"/>
              <a:ext cx="1447920" cy="694080"/>
            </a:xfrm>
            <a:prstGeom prst="wedgeRoundRectCallout">
              <a:avLst>
                <a:gd name="adj1" fmla="val 36425"/>
                <a:gd name="adj2" fmla="val -106615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检索词：</a:t>
              </a:r>
              <a:br>
                <a:rPr sz="1800"/>
              </a:b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日食 天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042920" y="966960"/>
            <a:ext cx="5832360" cy="4120920"/>
            <a:chOff x="1042920" y="966960"/>
            <a:chExt cx="5832360" cy="4120920"/>
          </a:xfrm>
        </p:grpSpPr>
        <p:grpSp>
          <p:nvGrpSpPr>
            <p:cNvPr id="146" name=""/>
            <p:cNvGrpSpPr/>
            <p:nvPr/>
          </p:nvGrpSpPr>
          <p:grpSpPr>
            <a:xfrm>
              <a:off x="1042920" y="966960"/>
              <a:ext cx="5832360" cy="4120920"/>
              <a:chOff x="1042920" y="966960"/>
              <a:chExt cx="5832360" cy="4120920"/>
            </a:xfrm>
          </p:grpSpPr>
          <p:pic>
            <p:nvPicPr>
              <p:cNvPr id="1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87280" y="966960"/>
                <a:ext cx="5688000" cy="412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1042920" y="2911680"/>
                <a:ext cx="3673440" cy="93636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195640" y="2047680"/>
              <a:ext cx="3384360" cy="720360"/>
            </a:xfrm>
            <a:prstGeom prst="wedgeRoundRectCallout">
              <a:avLst>
                <a:gd name="adj1" fmla="val 2953"/>
                <a:gd name="adj2" fmla="val 75990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中国古代天象记录（日食）数据库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DataView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195640" y="2624040"/>
            <a:ext cx="5904720" cy="4253760"/>
            <a:chOff x="2195640" y="2624040"/>
            <a:chExt cx="5904720" cy="4253760"/>
          </a:xfrm>
        </p:grpSpPr>
        <p:grpSp>
          <p:nvGrpSpPr>
            <p:cNvPr id="151" name=""/>
            <p:cNvGrpSpPr/>
            <p:nvPr/>
          </p:nvGrpSpPr>
          <p:grpSpPr>
            <a:xfrm>
              <a:off x="2195640" y="2624040"/>
              <a:ext cx="5904720" cy="4253760"/>
              <a:chOff x="2195640" y="2624040"/>
              <a:chExt cx="5904720" cy="4253760"/>
            </a:xfrm>
          </p:grpSpPr>
          <p:pic>
            <p:nvPicPr>
              <p:cNvPr id="15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195640" y="2624040"/>
                <a:ext cx="5904720" cy="425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4449240" y="4167720"/>
                <a:ext cx="2251800" cy="3099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4216680" y="6098400"/>
              <a:ext cx="2407680" cy="541080"/>
            </a:xfrm>
            <a:prstGeom prst="wedgeRoundRectCallout">
              <a:avLst>
                <a:gd name="adj1" fmla="val 7893"/>
                <a:gd name="adj2" fmla="val -99055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年号年代：康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68360" y="911160"/>
            <a:ext cx="8209080" cy="5946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0"/>
            <a:ext cx="60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DG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d-enabled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Scienc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ster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 Informatization Program 2001-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 e-Science Initiative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Grid-enabled Research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. Collaborations with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BJ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O/AS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y,Japan-China cosmic ray observatories in Ti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TB raw data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red to IHEP and processed with 400 CP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. data accessible by collabora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643280" cy="29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BJ-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stablished a 8Mb/s link from Tibet to Beijing, by CNIC of CAS. To be upgraded to 155Mb/s soon. </a:t>
            </a:r>
            <a:br>
              <a:rPr sz="3200"/>
            </a:br>
            <a:r>
              <a:rPr b="0" lang="zh-CN" sz="3200" spc="-1" strike="noStrike">
                <a:solidFill>
                  <a:srgbClr val="c00632"/>
                </a:solidFill>
                <a:latin typeface="Arial"/>
              </a:rPr>
              <a:t>Stopped bringing tapes half year aga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uilding a computing system based on LCG,</a:t>
            </a:r>
            <a:br>
              <a:rPr sz="3200"/>
            </a:br>
            <a:r>
              <a:rPr b="0" lang="zh-CN" sz="3200" spc="-1" strike="noStrike">
                <a:solidFill>
                  <a:srgbClr val="c00632"/>
                </a:solidFill>
                <a:latin typeface="Arial"/>
              </a:rPr>
              <a:t>collaboration of IHEP of CAS, CNIC of CAS, INFN of Italia , EU-China Grid application under EU FP6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54160" y="1052640"/>
            <a:ext cx="8494200" cy="5400360"/>
            <a:chOff x="254160" y="1052640"/>
            <a:chExt cx="8494200" cy="540036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254160" y="1052640"/>
              <a:ext cx="8494200" cy="54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 txBox="1"/>
            <p:nvPr/>
          </p:nvSpPr>
          <p:spPr>
            <a:xfrm>
              <a:off x="6192360" y="3128760"/>
              <a:ext cx="1210320" cy="404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be0e3"/>
                  </a:solidFill>
                  <a:latin typeface="Vrinda"/>
                </a:rPr>
                <a:t>GLORIAD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Vrinda"/>
                <a:ea typeface="Vrinda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943280"/>
            <a:ext cx="6551640" cy="4914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LCG Tier-1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659640" y="1915920"/>
            <a:ext cx="2016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uild a LCG Tier-1/2 node i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High Energy Physics of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IC providing  support and working together with IH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5724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G2 production site @C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6224400" cy="4510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84360" y="2060640"/>
            <a:ext cx="655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http://goc.grid.sinica.edu.tw/gstat/BEIJING-CNIC-LCG2-IA6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451640" y="0"/>
            <a:ext cx="152244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2700360" y="3141720"/>
            <a:ext cx="1655640" cy="431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5229360"/>
            <a:ext cx="4464000" cy="865080"/>
          </a:xfrm>
          <a:prstGeom prst="wedgeEllipseCallout">
            <a:avLst>
              <a:gd name="adj1" fmla="val 30300"/>
              <a:gd name="adj2" fmla="val -115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itoring Info 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IJING-CNIC-LCG2-IA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684360" y="2360520"/>
            <a:ext cx="8027640" cy="4224600"/>
            <a:chOff x="684360" y="2360520"/>
            <a:chExt cx="8027640" cy="42246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4604760" y="4374720"/>
              <a:ext cx="1156320" cy="115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1431000" y="5534280"/>
              <a:ext cx="149328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6969600" y="2360520"/>
              <a:ext cx="1742400" cy="104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4"/>
            <a:stretch/>
          </p:blipFill>
          <p:spPr>
            <a:xfrm>
              <a:off x="6907680" y="4252320"/>
              <a:ext cx="1617840" cy="12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5"/>
            <a:stretch/>
          </p:blipFill>
          <p:spPr>
            <a:xfrm>
              <a:off x="3297960" y="5553000"/>
              <a:ext cx="1073160" cy="9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032960" y="2419920"/>
              <a:ext cx="111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hand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78440" y="5106960"/>
              <a:ext cx="13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bbe0e3"/>
                  </a:solidFill>
                  <a:latin typeface="Times New Roman"/>
                </a:rPr>
                <a:t>Hub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69600" y="4619880"/>
              <a:ext cx="80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M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35680" y="6216840"/>
              <a:ext cx="13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Smm ar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02200" y="5473440"/>
              <a:ext cx="68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99000" y="4896000"/>
              <a:ext cx="18396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729320" y="5546880"/>
              <a:ext cx="1492200" cy="9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6658560" y="5351040"/>
              <a:ext cx="1431000" cy="11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8"/>
            <a:stretch/>
          </p:blipFill>
          <p:spPr>
            <a:xfrm>
              <a:off x="5725080" y="2787480"/>
              <a:ext cx="1369080" cy="12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667040" y="6216840"/>
              <a:ext cx="180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Antartica sub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21920" y="6216840"/>
              <a:ext cx="161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Magellan 6.5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88440" y="2849760"/>
              <a:ext cx="14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ippl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9"/>
            <a:stretch/>
          </p:blipFill>
          <p:spPr>
            <a:xfrm>
              <a:off x="3111120" y="4374720"/>
              <a:ext cx="13068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733560" y="4739400"/>
              <a:ext cx="7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IRT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10"/>
            <a:stretch/>
          </p:blipFill>
          <p:spPr>
            <a:xfrm>
              <a:off x="5787360" y="4374720"/>
              <a:ext cx="1034280" cy="115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1"/>
            <a:stretch/>
          </p:blipFill>
          <p:spPr>
            <a:xfrm>
              <a:off x="7094160" y="3398040"/>
              <a:ext cx="1400040" cy="91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658560" y="3568320"/>
              <a:ext cx="205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3000" indent="-2286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Oak Ri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1431000" y="4374720"/>
              <a:ext cx="14234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84360" y="4313520"/>
              <a:ext cx="1617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3000" indent="-228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2m 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华文行楷"/>
              </a:rPr>
              <a:t>VO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＝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华文行楷"/>
              </a:rPr>
              <a:t>World Wide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3"/>
          <a:stretch/>
        </p:blipFill>
        <p:spPr>
          <a:xfrm>
            <a:off x="755640" y="1341360"/>
            <a:ext cx="4419720" cy="26161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093080" y="765000"/>
            <a:ext cx="1604880" cy="7197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738600" y="765000"/>
            <a:ext cx="3044880" cy="6570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3105000" cy="7197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9640" y="2852640"/>
            <a:ext cx="266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95640" y="2852640"/>
            <a:ext cx="266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2781360"/>
            <a:ext cx="12236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id Servic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8000" y="11592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na Virtual Observatory at SDG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920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ian  Bird Flu Alarming &amp; Predicating System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Institute of Microbiology, C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Institute of Zoology, C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Institute of Virology, C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CNIC,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9640" y="909720"/>
            <a:ext cx="7939080" cy="5832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84360" y="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vian Bird Flu in Gangcha, Qinghai Province, May 2005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58960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上千支鱼鸥、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棕鸥、斑头雁死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427640" y="3213000"/>
            <a:ext cx="4518000" cy="3389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543564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on of CAS Informat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Science + ARP →Digital 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Science repres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formatization of Research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P (Academia Resource Planning) repres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formatization of Administrative Activities fo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08720" y="5300640"/>
            <a:ext cx="2805120" cy="10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bird-flu basic databases from multiple instit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survey on bird-f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bioinformatics comprehensive analysis system for bird-f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bird-flu alarming and predic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international cooperative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information publishing system (we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d-flu basic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basic database’s model and data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specification and description language of bird-flu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virus resourc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virus inherent resourc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history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dynamic monitoring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host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international DN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international research progress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06600" y="2128680"/>
            <a:ext cx="685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06600" y="2722680"/>
            <a:ext cx="685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763640" y="1341360"/>
            <a:ext cx="5683320" cy="5149800"/>
            <a:chOff x="1763640" y="1341360"/>
            <a:chExt cx="5683320" cy="5149800"/>
          </a:xfrm>
        </p:grpSpPr>
        <p:sp>
          <p:nvSpPr>
            <p:cNvPr id="226" name=""/>
            <p:cNvSpPr/>
            <p:nvPr/>
          </p:nvSpPr>
          <p:spPr>
            <a:xfrm rot="18492600">
              <a:off x="3273480" y="5049720"/>
              <a:ext cx="892080" cy="806400"/>
            </a:xfrm>
            <a:custGeom>
              <a:avLst/>
              <a:gdLst>
                <a:gd name="textAreaLeft" fmla="*/ 119520 w 892080"/>
                <a:gd name="textAreaRight" fmla="*/ 772560 w 892080"/>
                <a:gd name="textAreaTop" fmla="*/ 141120 h 806400"/>
                <a:gd name="textAreaBottom" fmla="*/ 584640 h 80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791528"/>
                  <a:lnTo>
                    <a:pt x="6803" y="21215"/>
                  </a:lnTo>
                  <a:lnTo>
                    <a:pt x="0" y="17280"/>
                  </a:lnTo>
                  <a:lnTo>
                    <a:pt x="6803" y="12575"/>
                  </a:lnTo>
                  <a:lnTo>
                    <a:pt x="6803" y="14735"/>
                  </a:lnTo>
                  <a:arcTo wR="21600" hR="7560" stAng="2791528" swAng="-243409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48000" y="4591080"/>
              <a:ext cx="2227320" cy="396720"/>
            </a:xfrm>
            <a:prstGeom prst="flowChartInputOutput">
              <a:avLst/>
            </a:prstGeom>
            <a:noFill/>
            <a:ln w="22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Distribute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24480" y="5229360"/>
              <a:ext cx="1527120" cy="496800"/>
            </a:xfrm>
            <a:prstGeom prst="rect">
              <a:avLst/>
            </a:prstGeom>
            <a:noFill/>
            <a:ln w="22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Survey on 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15000" y="5897520"/>
              <a:ext cx="1143000" cy="593640"/>
            </a:xfrm>
            <a:prstGeom prst="flowChartMagneticDisk">
              <a:avLst/>
            </a:prstGeom>
            <a:noFill/>
            <a:ln w="22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63640" y="5230800"/>
              <a:ext cx="1371600" cy="495360"/>
            </a:xfrm>
            <a:prstGeom prst="rect">
              <a:avLst/>
            </a:prstGeom>
            <a:noFill/>
            <a:ln w="22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inter Survey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1" name=""/>
            <p:cNvCxnSpPr/>
            <p:nvPr/>
          </p:nvCxnSpPr>
          <p:spPr>
            <a:xfrm flipH="1" flipV="1">
              <a:off x="3132000" y="5446080"/>
              <a:ext cx="2264400" cy="30600"/>
            </a:xfrm>
            <a:prstGeom prst="straightConnector1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232" name=""/>
            <p:cNvSpPr/>
            <p:nvPr/>
          </p:nvSpPr>
          <p:spPr>
            <a:xfrm>
              <a:off x="3062520" y="5950080"/>
              <a:ext cx="1371600" cy="496800"/>
            </a:xfrm>
            <a:prstGeom prst="rect">
              <a:avLst/>
            </a:prstGeom>
            <a:noFill/>
            <a:ln w="22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Predic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18480" y="2349360"/>
              <a:ext cx="528480" cy="3837240"/>
            </a:xfrm>
            <a:custGeom>
              <a:avLst/>
              <a:gdLst/>
              <a:ahLst/>
              <a:rect l="l" t="t" r="r" b="b"/>
              <a:pathLst>
                <a:path w="720" h="5928">
                  <a:moveTo>
                    <a:pt x="0" y="5928"/>
                  </a:moveTo>
                  <a:lnTo>
                    <a:pt x="720" y="5928"/>
                  </a:lnTo>
                  <a:lnTo>
                    <a:pt x="720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bbe0e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6872400" y="2781360"/>
              <a:ext cx="358560" cy="2708280"/>
              <a:chOff x="6872400" y="2781360"/>
              <a:chExt cx="358560" cy="270828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6872400" y="2781360"/>
                <a:ext cx="344520" cy="2708280"/>
                <a:chOff x="6872400" y="2781360"/>
                <a:chExt cx="344520" cy="27082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875280" y="3798720"/>
                  <a:ext cx="341640" cy="1690920"/>
                </a:xfrm>
                <a:custGeom>
                  <a:avLst/>
                  <a:gdLst/>
                  <a:ahLst/>
                  <a:rect l="l" t="t" r="r" b="b"/>
                  <a:pathLst>
                    <a:path w="540" h="2496">
                      <a:moveTo>
                        <a:pt x="180" y="2496"/>
                      </a:moveTo>
                      <a:lnTo>
                        <a:pt x="540" y="2496"/>
                      </a:lnTo>
                      <a:lnTo>
                        <a:pt x="54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2320">
                  <a:solidFill>
                    <a:srgbClr val="bbe0e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872400" y="2781360"/>
                  <a:ext cx="342720" cy="1025280"/>
                </a:xfrm>
                <a:custGeom>
                  <a:avLst/>
                  <a:gdLst/>
                  <a:ahLst/>
                  <a:rect l="l" t="t" r="r" b="b"/>
                  <a:pathLst>
                    <a:path w="540" h="1560">
                      <a:moveTo>
                        <a:pt x="540" y="1560"/>
                      </a:moveTo>
                      <a:lnTo>
                        <a:pt x="54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2320">
                  <a:solidFill>
                    <a:srgbClr val="bbe0e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 flipH="1">
                <a:off x="6889320" y="3344760"/>
                <a:ext cx="341640" cy="0"/>
              </a:xfrm>
              <a:prstGeom prst="line">
                <a:avLst/>
              </a:prstGeom>
              <a:ln w="22320">
                <a:solidFill>
                  <a:srgbClr val="bbe0e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284560" y="1341360"/>
              <a:ext cx="4591080" cy="3203640"/>
              <a:chOff x="2284560" y="1341360"/>
              <a:chExt cx="4591080" cy="3203640"/>
            </a:xfrm>
          </p:grpSpPr>
          <p:sp>
            <p:nvSpPr>
              <p:cNvPr id="240" name=""/>
              <p:cNvSpPr/>
              <p:nvPr/>
            </p:nvSpPr>
            <p:spPr>
              <a:xfrm flipV="1">
                <a:off x="4205520" y="1870920"/>
                <a:ext cx="114120" cy="297000"/>
              </a:xfrm>
              <a:prstGeom prst="upArrow">
                <a:avLst>
                  <a:gd name="adj1" fmla="val 50000"/>
                  <a:gd name="adj2" fmla="val 65063"/>
                </a:avLst>
              </a:prstGeom>
              <a:solidFill>
                <a:srgbClr val="bbe0e3"/>
              </a:solidFill>
              <a:ln w="2232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2284560" y="1341360"/>
                <a:ext cx="4591080" cy="3203640"/>
                <a:chOff x="2284560" y="1341360"/>
                <a:chExt cx="4591080" cy="320364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3519720" y="1341360"/>
                  <a:ext cx="3355920" cy="3203640"/>
                  <a:chOff x="3519720" y="1341360"/>
                  <a:chExt cx="3355920" cy="3203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4321440" y="1841400"/>
                    <a:ext cx="306360" cy="2703600"/>
                  </a:xfrm>
                  <a:prstGeom prst="downArrow">
                    <a:avLst>
                      <a:gd name="adj1" fmla="val 60000"/>
                      <a:gd name="adj2" fmla="val 157051"/>
                    </a:avLst>
                  </a:prstGeom>
                  <a:solidFill>
                    <a:srgbClr val="bbe0e3"/>
                  </a:solidFill>
                  <a:ln w="2232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5762880" y="2138400"/>
                    <a:ext cx="1112760" cy="396720"/>
                  </a:xfrm>
                  <a:prstGeom prst="flowChartOnlineStorage">
                    <a:avLst/>
                  </a:prstGeom>
                  <a:noFill/>
                  <a:ln w="2232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Host dat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5762880" y="2633760"/>
                    <a:ext cx="1112760" cy="396720"/>
                  </a:xfrm>
                  <a:prstGeom prst="flowChartOnlineStorage">
                    <a:avLst/>
                  </a:prstGeom>
                  <a:noFill/>
                  <a:ln w="223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Survey dat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5761080" y="3129120"/>
                    <a:ext cx="1112760" cy="396720"/>
                  </a:xfrm>
                  <a:prstGeom prst="flowChartOnlineStorage">
                    <a:avLst/>
                  </a:prstGeom>
                  <a:noFill/>
                  <a:ln w="2232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Virus dat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761080" y="3624480"/>
                    <a:ext cx="1112760" cy="396720"/>
                  </a:xfrm>
                  <a:prstGeom prst="flowChartOnlineStorage">
                    <a:avLst/>
                  </a:prstGeom>
                  <a:noFill/>
                  <a:ln w="22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avian trade rout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4224600" y="2195640"/>
                    <a:ext cx="500040" cy="1738080"/>
                  </a:xfrm>
                  <a:prstGeom prst="rect">
                    <a:avLst/>
                  </a:prstGeom>
                  <a:solidFill>
                    <a:srgbClr val="ff0000"/>
                  </a:solidFill>
                  <a:ln w="2232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Model Evaluation Syste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849840" y="1341360"/>
                    <a:ext cx="1371600" cy="500040"/>
                  </a:xfrm>
                  <a:prstGeom prst="flowChartMagneticDisk">
                    <a:avLst/>
                  </a:prstGeom>
                  <a:noFill/>
                  <a:ln w="2232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Model Databas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776840" y="2148120"/>
                    <a:ext cx="914400" cy="164880"/>
                  </a:xfrm>
                  <a:prstGeom prst="leftArrow">
                    <a:avLst>
                      <a:gd name="adj1" fmla="val 50000"/>
                      <a:gd name="adj2" fmla="val 138646"/>
                    </a:avLst>
                  </a:prstGeom>
                  <a:solidFill>
                    <a:srgbClr val="bbe0e3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776840" y="2643120"/>
                    <a:ext cx="914400" cy="165240"/>
                  </a:xfrm>
                  <a:prstGeom prst="leftArrow">
                    <a:avLst>
                      <a:gd name="adj1" fmla="val 50000"/>
                      <a:gd name="adj2" fmla="val 138344"/>
                    </a:avLst>
                  </a:prstGeom>
                  <a:solidFill>
                    <a:srgbClr val="bbe0e3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776840" y="3189240"/>
                    <a:ext cx="914400" cy="165240"/>
                  </a:xfrm>
                  <a:prstGeom prst="leftArrow">
                    <a:avLst>
                      <a:gd name="adj1" fmla="val 50000"/>
                      <a:gd name="adj2" fmla="val 138344"/>
                    </a:avLst>
                  </a:prstGeom>
                  <a:solidFill>
                    <a:srgbClr val="bbe0e3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776840" y="3722760"/>
                    <a:ext cx="914400" cy="165240"/>
                  </a:xfrm>
                  <a:prstGeom prst="leftArrow">
                    <a:avLst>
                      <a:gd name="adj1" fmla="val 50000"/>
                      <a:gd name="adj2" fmla="val 138344"/>
                    </a:avLst>
                  </a:prstGeom>
                  <a:solidFill>
                    <a:srgbClr val="bbe0e3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662720" y="1841400"/>
                    <a:ext cx="114120" cy="297000"/>
                  </a:xfrm>
                  <a:prstGeom prst="upArrow">
                    <a:avLst>
                      <a:gd name="adj1" fmla="val 50000"/>
                      <a:gd name="adj2" fmla="val 65063"/>
                    </a:avLst>
                  </a:prstGeom>
                  <a:solidFill>
                    <a:srgbClr val="bbe0e3"/>
                  </a:solidFill>
                  <a:ln w="2232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4891320" y="1841400"/>
                    <a:ext cx="685800" cy="19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Model Storag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519720" y="1841400"/>
                    <a:ext cx="685800" cy="19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Model verification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 flipH="1">
                  <a:off x="2947320" y="2138400"/>
                  <a:ext cx="1257480" cy="165240"/>
                </a:xfrm>
                <a:prstGeom prst="leftArrow">
                  <a:avLst>
                    <a:gd name="adj1" fmla="val 50000"/>
                    <a:gd name="adj2" fmla="val 190251"/>
                  </a:avLst>
                </a:prstGeom>
                <a:solidFill>
                  <a:srgbClr val="bbe0e3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2947320" y="2633760"/>
                  <a:ext cx="1257480" cy="165240"/>
                </a:xfrm>
                <a:prstGeom prst="leftArrow">
                  <a:avLst>
                    <a:gd name="adj1" fmla="val 50000"/>
                    <a:gd name="adj2" fmla="val 190251"/>
                  </a:avLst>
                </a:prstGeom>
                <a:solidFill>
                  <a:srgbClr val="bbe0e3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>
                  <a:off x="2947320" y="3189240"/>
                  <a:ext cx="1257480" cy="165240"/>
                </a:xfrm>
                <a:prstGeom prst="leftArrow">
                  <a:avLst>
                    <a:gd name="adj1" fmla="val 50000"/>
                    <a:gd name="adj2" fmla="val 190251"/>
                  </a:avLst>
                </a:prstGeom>
                <a:solidFill>
                  <a:srgbClr val="bbe0e3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>
                  <a:off x="2947320" y="3708360"/>
                  <a:ext cx="1257480" cy="165240"/>
                </a:xfrm>
                <a:prstGeom prst="leftArrow">
                  <a:avLst>
                    <a:gd name="adj1" fmla="val 50000"/>
                    <a:gd name="adj2" fmla="val 190251"/>
                  </a:avLst>
                </a:prstGeom>
                <a:solidFill>
                  <a:srgbClr val="bbe0e3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0" y="1989360"/>
                  <a:ext cx="486000" cy="48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86000" y="2533680"/>
                  <a:ext cx="486000" cy="48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284560" y="3073320"/>
                  <a:ext cx="485640" cy="48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84560" y="3621240"/>
                  <a:ext cx="485640" cy="48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39320" y="2971800"/>
            <a:ext cx="346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IAP</a:t>
            </a:r>
            <a:r>
              <a:rPr b="0" i="1" lang="zh-CN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Program    “</a:t>
            </a: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Global Natural</a:t>
            </a:r>
            <a:br>
              <a:rPr sz="1800"/>
            </a:b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Hazards </a:t>
            </a:r>
            <a:r>
              <a:rPr b="1" lang="en-GB" sz="1800" spc="-1" strike="noStrike">
                <a:solidFill>
                  <a:srgbClr val="ff00ff"/>
                </a:solidFill>
                <a:latin typeface="Times New Roman"/>
              </a:rPr>
              <a:t>and Disaster </a:t>
            </a: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Reduction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t Asia Resource Environment Collaborative Research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twork connecting a dozen of institutes and stations from China, Russia and Mongo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data products which integrate many relevant databases in this area and support applicati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tform for int’l collaborative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933720" y="1700280"/>
            <a:ext cx="521028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Global Natural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azards and Disaster Re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ssues in disaster re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evelopment of mechanism of major natural dis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ediction of major natural disas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ssessment of major natural disas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e-warning and emergency response of major natural dis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gional integrated research on major natural disa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atabase Construction &amp; Application on “Natural  Disaster Mitig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isaster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aborations with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UChinaGrid: 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Interconnection and Interoperability of Grids between Europe &amp;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frastructure is being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ook forwar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urther more on MIDDLEWARE &amp;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692360" y="2637000"/>
            <a:ext cx="57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66"/>
                </a:solidFill>
                <a:latin typeface="Script MT Bold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 Informatization Program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1-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s on Upgrade of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5688000" cy="39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974960"/>
                <a:gridCol w="2468520"/>
                <a:gridCol w="1811160"/>
                <a:gridCol w="197496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two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G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5G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ckb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*155M+2.5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versea l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0M+12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TFL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pack TFL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T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T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cientific 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ember instit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gt;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ata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0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ata 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25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TB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780000" y="2924280"/>
            <a:ext cx="3151080" cy="3932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enovo 6800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uper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iz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cientific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ata (S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cience Digital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b (CSD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08360" y="1413000"/>
            <a:ext cx="3927600" cy="1560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96000" y="4788000"/>
            <a:ext cx="3348000" cy="207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796160" y="1052640"/>
            <a:ext cx="1347840" cy="1798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877080" y="2852640"/>
            <a:ext cx="251928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 e-Science Initia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6-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-Science would be applications-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ocus on implementation of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-Science Virtual Labs, the way for scientists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frastructure may need refac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514800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Science Virtual 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Lab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meanings in the e-Scienc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position in our e-Scienc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component to make e-Science a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4859280" y="2421000"/>
            <a:ext cx="3780000" cy="2529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88000" y="3429000"/>
            <a:ext cx="388764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vLabs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may be (almost) ready, but e-Science is not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many existing resources in place, but just a few could be brought into full play even now, with an advanced infrastructure rea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leneck may be the gap between products by computer experts and end users of domain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more effort than expected to bridge this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Lab is proposed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asic unit of research activity in the e-Science enviro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user interface between scientists and their e-Scienc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3:30:19Z</dcterms:created>
  <dc:creator>Kai Nan</dc:creator>
  <dc:description/>
  <dc:language>en-US</dc:language>
  <cp:lastModifiedBy>Kai Nan</cp:lastModifiedBy>
  <dcterms:modified xsi:type="dcterms:W3CDTF">2006-02-21T01:35:15Z</dcterms:modified>
  <cp:revision>368</cp:revision>
  <dc:subject/>
  <dc:title>e-Science</dc:title>
</cp:coreProperties>
</file>