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5BD-3C1F-424B-9350-D5DC34FA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A50-BF19-4D58-BC04-CC4E6ECA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374-51F8-46BF-A5F6-C857E92C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707-54E6-4A6B-9864-0C98BF46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3FDF-24BB-4D43-8D65-58162F9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162-B557-47AB-A8C8-69AFBB6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680B-3512-4145-9816-A3DDAB04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502F-6966-4799-A09F-23F05198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47A3-AB87-4DA6-BB1F-A5DD9059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20D4-C3A3-46D3-91E2-A0D46AF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3AA7-FB46-4B34-A085-4DF42D5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EB1-3F54-46B8-9A99-B4D653F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8B86-0117-4625-80A9-4A2A777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BD70-9FBB-4825-9C2C-6F9EA56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0FC9-6413-4A19-A3E5-00F4B72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6ED-502D-44A1-A965-A0F0B45C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ED99-1D66-4CFC-937F-5A21C8FF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794-301A-44A5-ABB3-D5AC69CC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43A-7E27-4BA2-A9C6-F4750CC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1A6-EAEB-46CC-8CBF-4FE4899D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571-E519-406F-90F0-1C33B3C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83A-1DD9-46E2-AB33-0ED6BED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CF5-E605-42D6-9BEA-217085F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B8-F070-4D82-8AB9-F5544CA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0F2-0310-4722-9E26-D9B00BE33D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6880320" y="6391440"/>
            <a:ext cx="2263680" cy="4665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5724360" y="637848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E76-0614-489F-9734-4F72C8AD14C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80320" y="6391440"/>
            <a:ext cx="2263680" cy="46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24360" y="6378480"/>
            <a:ext cx="1143000" cy="479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9362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楷体_GB2312"/>
              </a:rPr>
              <a:t>Inetrconnection of CNGrid and European Grid Infrastructure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Depei Q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Beihan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Feb. 20,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880" y="1125360"/>
            <a:ext cx="8686800" cy="5438520"/>
            <a:chOff x="2880" y="1125360"/>
            <a:chExt cx="8686800" cy="5438520"/>
          </a:xfrm>
        </p:grpSpPr>
        <p:sp>
          <p:nvSpPr>
            <p:cNvPr id="147" name=""/>
            <p:cNvSpPr/>
            <p:nvPr/>
          </p:nvSpPr>
          <p:spPr>
            <a:xfrm>
              <a:off x="2173680" y="4581000"/>
              <a:ext cx="6516000" cy="1144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basic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mm., resource desc., locating, discovery, config., fi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5640" y="2651400"/>
              <a:ext cx="39348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1560" y="5726160"/>
              <a:ext cx="7818120" cy="837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sic resources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mputer, softwares, instruments, devices, database, file systems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1560" y="2140560"/>
              <a:ext cx="1302120" cy="358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ecurit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ingle sign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ccess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ecurity poli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nd-en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3680" y="2140560"/>
              <a:ext cx="1303920" cy="24404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Jo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PI  G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Job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tch job</a:t>
              </a: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oad bal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orkflow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3640" y="2140560"/>
              <a:ext cx="1302120" cy="24404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ata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lobal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niform ac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ile 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77960" y="2140560"/>
              <a:ext cx="1302120" cy="2440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Info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ublish discovery</a:t>
              </a: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rg. 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 de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Information ac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80080" y="2140560"/>
              <a:ext cx="1303560" cy="244044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ser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Sys.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Sys. 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coun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5760" y="2140560"/>
              <a:ext cx="1303920" cy="24404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ev. &amp; use en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S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 a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Ag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ppl. Edi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xception hand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4480" y="1125360"/>
              <a:ext cx="1467720" cy="532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Portal mode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4880" y="1125360"/>
              <a:ext cx="1464480" cy="532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Commercial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.g. Mat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3200" y="1185840"/>
              <a:ext cx="3934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0" y="5726160"/>
              <a:ext cx="60660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34400" y="1125360"/>
              <a:ext cx="1464120" cy="532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GS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29320" y="1125360"/>
              <a:ext cx="1464480" cy="532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pecial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.g.  Java pr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68360" y="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NGrid GOS Functio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5904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NGrid GOS orga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1079640"/>
            <a:ext cx="7129440" cy="573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62680" y="3333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自主开发的源代码约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版安装包共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0 M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001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ployment of CNGrid G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136520"/>
            <a:ext cx="77774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spects of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Grid will be connected to CNGI-a IPv6 network in Ch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-protoc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cation and upgrade of CNGrid 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parent to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Grid will become the basis of the network computing environment of Ch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is very possible that CNGrid will be continually supported by 863 pro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terconnection of CNGrid and EU Grid Infra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issues has to be addressed for effective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sonable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operability and inter-operation of European and Chinese Grid infra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rmonization of the security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tual interests i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teroperability of CNGrid GOS and EU Grid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achieve interoperability of different Gri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t software installation to the same infra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it viewed by the applic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source management and moni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NGrid has a resource monitoring system for management and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change monitoring information between different systems or using the same monitoring to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will the scheduling issue be handl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ata access and Integ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e and database level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GSA-DA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data grid softwa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aring data is crucial for research an oth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uilding and managing 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uthent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uthor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ucial for inter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monization of security polices and CA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urrent status of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Eight nodes across the cou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CAS Network Center (Beijing, major n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Shanghai Supercomputer Center (Shanghai, major nod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Tsinghua University (Beij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Institute of Applied Physics and computational Mathematics (Beij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University of Science and Technology of China (Hefei, Anhu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Xi’an Jiaotong University (Xi’an, Shaanx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NUDT (Changsh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Hong Kong University (Hongko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8TFlops of aggregated computing power, 200TB disk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CNGrid operation and supporting center (CAS Network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tting up Grid busines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 issues to be addr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paring for future Grid service 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 and development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rtal b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ed Grid programming and application development environment is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lication development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kfl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8278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ployment of Applic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loy the current applications to other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ointly developing and deploying new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sting and train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tting up an environment for training and testing in parallel with operation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oper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pgrading to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ing  and testing new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ing training fac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disturbance to the operation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utorial on Grid software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ining and tutorial on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ining technical support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we need to do for interconn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Grid software interoperability study, deploy different software in th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ploying current applications and developing an deploying new applications on extended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harmonized security mechanis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testing and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6160" y="456840"/>
            <a:ext cx="511380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id nodes across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7920" y="4038480"/>
            <a:ext cx="885960" cy="1373040"/>
            <a:chOff x="6037920" y="4038480"/>
            <a:chExt cx="885960" cy="1373040"/>
          </a:xfrm>
        </p:grpSpPr>
        <p:sp>
          <p:nvSpPr>
            <p:cNvPr id="110" name=""/>
            <p:cNvSpPr/>
            <p:nvPr/>
          </p:nvSpPr>
          <p:spPr>
            <a:xfrm>
              <a:off x="6037920" y="4951800"/>
              <a:ext cx="85896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Hefe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2700200">
              <a:off x="6172200" y="426672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4038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76240" y="2970720"/>
            <a:ext cx="1529280" cy="1060200"/>
            <a:chOff x="3576240" y="2970720"/>
            <a:chExt cx="1529280" cy="1060200"/>
          </a:xfrm>
        </p:grpSpPr>
        <p:sp>
          <p:nvSpPr>
            <p:cNvPr id="114" name=""/>
            <p:cNvSpPr/>
            <p:nvPr/>
          </p:nvSpPr>
          <p:spPr>
            <a:xfrm>
              <a:off x="3576240" y="2970720"/>
              <a:ext cx="87552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Xi’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518200">
              <a:off x="4266720" y="3276720"/>
              <a:ext cx="62100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733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67280" y="1522800"/>
            <a:ext cx="1384920" cy="1144080"/>
            <a:chOff x="5867280" y="1522800"/>
            <a:chExt cx="1384920" cy="1144080"/>
          </a:xfrm>
        </p:grpSpPr>
        <p:sp>
          <p:nvSpPr>
            <p:cNvPr id="118" name=""/>
            <p:cNvSpPr/>
            <p:nvPr/>
          </p:nvSpPr>
          <p:spPr>
            <a:xfrm rot="5094000">
              <a:off x="6122880" y="178884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2200" y="1522800"/>
              <a:ext cx="108000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ij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2286000"/>
              <a:ext cx="381240" cy="38088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68520" y="4724280"/>
            <a:ext cx="1522800" cy="992160"/>
            <a:chOff x="4268520" y="4724280"/>
            <a:chExt cx="1522800" cy="992160"/>
          </a:xfrm>
        </p:grpSpPr>
        <p:sp>
          <p:nvSpPr>
            <p:cNvPr id="122" name=""/>
            <p:cNvSpPr/>
            <p:nvPr/>
          </p:nvSpPr>
          <p:spPr>
            <a:xfrm rot="16285200">
              <a:off x="4979880" y="477360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2720" y="4724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8520" y="5256720"/>
              <a:ext cx="138312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hangs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34320" y="4038480"/>
            <a:ext cx="1546920" cy="1068480"/>
            <a:chOff x="6934320" y="4038480"/>
            <a:chExt cx="1546920" cy="1068480"/>
          </a:xfrm>
        </p:grpSpPr>
        <p:sp>
          <p:nvSpPr>
            <p:cNvPr id="126" name=""/>
            <p:cNvSpPr/>
            <p:nvPr/>
          </p:nvSpPr>
          <p:spPr>
            <a:xfrm rot="10316400">
              <a:off x="7086600" y="411480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4320" y="4038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5080" y="4647240"/>
              <a:ext cx="131616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hangha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62120" y="5931000"/>
            <a:ext cx="1610280" cy="928440"/>
            <a:chOff x="5262120" y="5931000"/>
            <a:chExt cx="1610280" cy="928440"/>
          </a:xfrm>
        </p:grpSpPr>
        <p:sp>
          <p:nvSpPr>
            <p:cNvPr id="130" name=""/>
            <p:cNvSpPr/>
            <p:nvPr/>
          </p:nvSpPr>
          <p:spPr>
            <a:xfrm>
              <a:off x="5262120" y="6399720"/>
              <a:ext cx="161028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ong Ko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2700200">
              <a:off x="5808240" y="6070320"/>
              <a:ext cx="550080" cy="4118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5931000"/>
              <a:ext cx="202680" cy="139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867280" y="579132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40" y="40"/>
                  <a:pt x="80" y="80"/>
                  <a:pt x="96" y="96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pplications supported by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 applications from four selected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source and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GSG, DFG, Seis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DG, BAGrid, DDG, Chin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MAG, IT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viGrid, Sim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eological Surve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taken by China National Geological Survey Bur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ion-wide productive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exchange and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ource evalu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en the evaluation time from 3 years to 3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ivering achievements 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h China ground water resources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eral resources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ew drug discover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ndertaken by Shanghai Institute of Materia Medica 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ompound screening for new drug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peed up the process by computer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Higher 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sing HPC in P2P m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ew drug for diabetes is under development and will enter clinic testing by the end of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ina Meteorological Application Gri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dertaken by China National Meteorological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ple sites to form the research platform for new weather prediction model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vide new weather forecast services (time and location-specific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Avi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dertaken by AVIC II of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ort distributed design, simulation, and manufa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D softwar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exchange and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ing resourc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NGrid G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system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ing to heterogeneous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application development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al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user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7:33:33Z</dcterms:created>
  <dc:creator>dpq</dc:creator>
  <dc:description/>
  <dc:language>en-US</dc:language>
  <cp:lastModifiedBy>QDP</cp:lastModifiedBy>
  <dcterms:modified xsi:type="dcterms:W3CDTF">2006-02-20T07:36:41Z</dcterms:modified>
  <cp:revision>103</cp:revision>
  <dc:subject/>
  <dc:title>应用对于新技术的需求</dc:title>
</cp:coreProperties>
</file>