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630-E2EA-4955-A692-9E6DE317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313-558F-485A-A59D-499E0833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9D9-7758-4235-9DBF-040637B6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4B2-4CF7-425B-949F-461607C7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5C0F-5282-49EF-960B-D101B9E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9C9-FA69-4D07-89D4-9AD485CF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77D2-CFA5-4D17-9064-25BCC938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6B1-3E43-482A-A921-39174464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780-79B5-48AD-96DA-0F4D4A28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A2E-D345-415C-84BC-B897081D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EA9-A608-43D6-AB2B-7BFD12F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A03-82B3-4674-A0CA-669E297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AC3F-D08C-4B9B-A55F-58D8B75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615-AC90-4E70-A969-C4C19C4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FCA5-1437-45BF-B23A-7F6B7C8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9693-5C75-4D27-8FFD-CCE38D28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A29B-43CC-41A0-854C-0EA5054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3B1-56AA-491A-944C-C972DD4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5EE-A89B-4D3D-979E-D50756A3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846-DC56-417F-ABAB-494A9B5D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5E2-F78C-465F-92EB-9C31446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932-FF8A-4414-BB64-A088688C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329-C5EB-45BE-8EDF-31F19EC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43F-6155-4CDB-A3FF-E633975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C2B-22F6-40A0-BC85-98E0EA9C73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6880320" y="6391440"/>
            <a:ext cx="2263680" cy="4665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5724360" y="637848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FC6-7C04-43C5-A1CF-A6459574E50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80320" y="6391440"/>
            <a:ext cx="2263680" cy="46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724360" y="6378480"/>
            <a:ext cx="1143000" cy="479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052640"/>
            <a:ext cx="793620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楷体_GB2312"/>
              </a:rPr>
              <a:t>Inetrconnection of CNGrid and European Grid Infrastructure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  <a:ea typeface="楷体_GB2312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Depei Q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Beihan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Feb. 20,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880" y="1125360"/>
            <a:ext cx="8686800" cy="5438520"/>
            <a:chOff x="2880" y="1125360"/>
            <a:chExt cx="8686800" cy="5438520"/>
          </a:xfrm>
        </p:grpSpPr>
        <p:sp>
          <p:nvSpPr>
            <p:cNvPr id="147" name=""/>
            <p:cNvSpPr/>
            <p:nvPr/>
          </p:nvSpPr>
          <p:spPr>
            <a:xfrm>
              <a:off x="2173680" y="4581000"/>
              <a:ext cx="6516000" cy="1144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basic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mm., resource desc., locating, discovery, config., fi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5640" y="2651400"/>
              <a:ext cx="39348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1560" y="5726160"/>
              <a:ext cx="7818120" cy="837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sic resources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mputer, softwares, instruments, devices, database, file systems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1560" y="2140560"/>
              <a:ext cx="1302120" cy="358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ecurit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uthent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ingle sign 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Access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ecurity polic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nd-en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3680" y="2140560"/>
              <a:ext cx="1303920" cy="24404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Jo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PI  G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Job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atch job</a:t>
              </a: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oad bala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orkflow sup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3640" y="2140560"/>
              <a:ext cx="1302120" cy="24404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ata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lobal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niform ac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ile 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77960" y="2140560"/>
              <a:ext cx="1302120" cy="2440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Info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ublish discovery</a:t>
              </a: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rg. 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 de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Information ac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80080" y="2140560"/>
              <a:ext cx="1303560" cy="244044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ser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Sys.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Sys. monit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coun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5760" y="2140560"/>
              <a:ext cx="1303920" cy="24404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ev. &amp; use en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S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 ac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rid Ag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ppl. Edi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xception hand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4480" y="1125360"/>
              <a:ext cx="1467720" cy="532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Portal mode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4880" y="1125360"/>
              <a:ext cx="1464480" cy="532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Commercial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.g. Mat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3200" y="1185840"/>
              <a:ext cx="3934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0" y="5726160"/>
              <a:ext cx="60660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34400" y="1125360"/>
              <a:ext cx="1464120" cy="532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GS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29320" y="1125360"/>
              <a:ext cx="1464480" cy="532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Special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e.g.  Java pr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68360" y="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CNGrid GOS Functio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5904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NGrid GOS orga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1079640"/>
            <a:ext cx="7129440" cy="573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62680" y="3333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自主开发的源代码约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35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版安装包共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0 M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001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ployment of CNGrid G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1136520"/>
            <a:ext cx="77774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spects of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Grid will be connected to CNGI-a IPv6 network in Ch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-protoc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cation and upgrade of CNGrid 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parent to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NGrid will become the basis of the network computing environment of Ch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gular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is very possible that CNGrid will be continually supported by 863 pro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terconnection of CNGrid and EU Grid Infra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me issues has to be addressed for effective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sonable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operability and inter-operation of European and Chinese Grid infra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rmonization of the security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tual interests i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teroperability of CNGrid GOS and EU Grid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achieve interoperability of different Gri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t software installation to the same infra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it viewed by the applic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source management and moni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NGrid has a resource monitoring system for management and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change monitoring information between different systems or using the same monitoring to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will the scheduling issue be handl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ata access and Integ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e and database level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GSA-DA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data grid softwa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haring data is crucial for research an oth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Building and managing 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uthent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uthor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ucial for inter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monization of security polices and CA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urrent status of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Eight nodes across the cou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CAS Network Center (Beijing, major n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Shanghai Supercomputer Center (Shanghai, major nod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Tsinghua University (Beij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Institute of Applied Physics and computational Mathematics (Beij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University of Science and Technology of China (Hefei, Anhu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Xi’an Jiaotong University (Xi’an, Shaanx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NUDT (Changsh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Hong Kong University (Hongko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18TFlops of aggregated computing power, 200TB disk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CNGrid operation and supporting center (CAS Network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ccoun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tting up Grid busines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 issues to be addr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paring for future Grid service 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 and development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rtal ba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ed Grid programming and application development environment is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lication development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ic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kflo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82784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ployment of Applic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loy the current applications to other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ointly developing and deploying new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sting and train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tting up an environment for training and testing in parallel with operation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oper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pgrading to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ing  and testing new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ing training fac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ss disturbance to the operation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ser 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utorial on Grid software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ining and tutorial on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ining technical support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we need to do for interconn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Grid software interoperability study, deploy different software in th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ploying current applications and developing an deploying new applications on extended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harmonized security mechanis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ing testing and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2923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6160" y="456840"/>
            <a:ext cx="511380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id nodes across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7920" y="4038480"/>
            <a:ext cx="885960" cy="1373040"/>
            <a:chOff x="6037920" y="4038480"/>
            <a:chExt cx="885960" cy="1373040"/>
          </a:xfrm>
        </p:grpSpPr>
        <p:sp>
          <p:nvSpPr>
            <p:cNvPr id="110" name=""/>
            <p:cNvSpPr/>
            <p:nvPr/>
          </p:nvSpPr>
          <p:spPr>
            <a:xfrm>
              <a:off x="6037920" y="4951800"/>
              <a:ext cx="85896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Hefe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2700200">
              <a:off x="6172200" y="426672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4038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76240" y="2970720"/>
            <a:ext cx="1529280" cy="1060200"/>
            <a:chOff x="3576240" y="2970720"/>
            <a:chExt cx="1529280" cy="1060200"/>
          </a:xfrm>
        </p:grpSpPr>
        <p:sp>
          <p:nvSpPr>
            <p:cNvPr id="114" name=""/>
            <p:cNvSpPr/>
            <p:nvPr/>
          </p:nvSpPr>
          <p:spPr>
            <a:xfrm>
              <a:off x="3576240" y="2970720"/>
              <a:ext cx="87552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Xi’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518200">
              <a:off x="4266720" y="3276720"/>
              <a:ext cx="62100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733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67280" y="1522800"/>
            <a:ext cx="1384920" cy="1144080"/>
            <a:chOff x="5867280" y="1522800"/>
            <a:chExt cx="1384920" cy="1144080"/>
          </a:xfrm>
        </p:grpSpPr>
        <p:sp>
          <p:nvSpPr>
            <p:cNvPr id="118" name=""/>
            <p:cNvSpPr/>
            <p:nvPr/>
          </p:nvSpPr>
          <p:spPr>
            <a:xfrm rot="5094000">
              <a:off x="6122880" y="178884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2200" y="1522800"/>
              <a:ext cx="108000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ij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2286000"/>
              <a:ext cx="381240" cy="38088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268520" y="4724280"/>
            <a:ext cx="1522800" cy="992160"/>
            <a:chOff x="4268520" y="4724280"/>
            <a:chExt cx="1522800" cy="992160"/>
          </a:xfrm>
        </p:grpSpPr>
        <p:sp>
          <p:nvSpPr>
            <p:cNvPr id="122" name=""/>
            <p:cNvSpPr/>
            <p:nvPr/>
          </p:nvSpPr>
          <p:spPr>
            <a:xfrm rot="16285200">
              <a:off x="4979880" y="477360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62720" y="4724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8520" y="5256720"/>
              <a:ext cx="138312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hangsh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34320" y="4038480"/>
            <a:ext cx="1546920" cy="1068480"/>
            <a:chOff x="6934320" y="4038480"/>
            <a:chExt cx="1546920" cy="1068480"/>
          </a:xfrm>
        </p:grpSpPr>
        <p:sp>
          <p:nvSpPr>
            <p:cNvPr id="126" name=""/>
            <p:cNvSpPr/>
            <p:nvPr/>
          </p:nvSpPr>
          <p:spPr>
            <a:xfrm rot="10316400">
              <a:off x="7086600" y="4114800"/>
              <a:ext cx="620640" cy="6746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4320" y="4038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5080" y="4647240"/>
              <a:ext cx="131616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hangha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62120" y="5931000"/>
            <a:ext cx="1610280" cy="928440"/>
            <a:chOff x="5262120" y="5931000"/>
            <a:chExt cx="1610280" cy="928440"/>
          </a:xfrm>
        </p:grpSpPr>
        <p:sp>
          <p:nvSpPr>
            <p:cNvPr id="130" name=""/>
            <p:cNvSpPr/>
            <p:nvPr/>
          </p:nvSpPr>
          <p:spPr>
            <a:xfrm>
              <a:off x="5262120" y="6399720"/>
              <a:ext cx="1610280" cy="4597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ong Ko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2700200">
              <a:off x="5808240" y="6070320"/>
              <a:ext cx="550080" cy="411840"/>
            </a:xfrm>
            <a:prstGeom prst="lightningBol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5931000"/>
              <a:ext cx="202680" cy="139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867280" y="5791320"/>
            <a:ext cx="152640" cy="15228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0"/>
                </a:moveTo>
                <a:cubicBezTo>
                  <a:pt x="40" y="40"/>
                  <a:pt x="80" y="80"/>
                  <a:pt x="96" y="96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pplications supported by CN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1 applications from four selected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source and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GSG, DFG, Seis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DG, BAGrid, DDG, China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MAG, IT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viGrid, Sim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eological Surve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taken by China National Geological Survey Bur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ion-wide productive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exchange and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ource evalu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rten the evaluation time from 3 years to 3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ivering achievements 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h China ground water resources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eral resources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ew drug discover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ndertaken by Shanghai Institute of Materia Medica 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ompound screening for new drug 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peed up the process by computer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Higher 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Using HPC in P2P m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ew drug for diabetes is under development and will enter clinic testing by the end of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ina Meteorological Application Gri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dertaken by China National Meteorological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ple sites to form the research platform for new weather prediction model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vide new weather forecast services (time and location-specific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Avi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dertaken by AVIC II of C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ort distributed design, simulation, and manufa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D softwar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exchange and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ing resource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NGrid G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system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ing to heterogeneous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application development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al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d user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7:33:33Z</dcterms:created>
  <dc:creator>dpq</dc:creator>
  <dc:description/>
  <dc:language>en-US</dc:language>
  <cp:lastModifiedBy>QDP</cp:lastModifiedBy>
  <dcterms:modified xsi:type="dcterms:W3CDTF">2006-02-20T07:36:41Z</dcterms:modified>
  <cp:revision>103</cp:revision>
  <dc:subject/>
  <dc:title>应用对于新技术的需求</dc:title>
</cp:coreProperties>
</file>