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ct" ContentType="image/x-pict"/>
  <Override PartName="/ppt/media/image13.jpeg" ContentType="image/jpeg"/>
  <Override PartName="/ppt/media/image7.jpeg" ContentType="image/jpeg"/>
  <Override PartName="/ppt/media/image10.pct" ContentType="image/x-pict"/>
  <Override PartName="/ppt/media/image8.png" ContentType="image/png"/>
  <Override PartName="/ppt/media/image21.pct" ContentType="image/x-pict"/>
  <Override PartName="/ppt/media/image6.jpeg" ContentType="image/jpeg"/>
  <Override PartName="/ppt/media/image4.png" ContentType="image/png"/>
  <Override PartName="/ppt/media/image15.pct" ContentType="image/x-pict"/>
  <Override PartName="/ppt/media/image3.jpeg" ContentType="image/jpeg"/>
  <Override PartName="/ppt/media/image9.jpeg" ContentType="image/jpeg"/>
  <Override PartName="/ppt/media/image25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19.png" ContentType="image/png"/>
  <Override PartName="/ppt/media/image17.pct" ContentType="image/x-pict"/>
  <Override PartName="/ppt/media/image2.png" ContentType="image/png"/>
  <Override PartName="/ppt/media/image14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16.pct" ContentType="image/x-pict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80D9-EF68-47B1-882A-0D3E68D4757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generic value chain proposed by Porter considers one single participant in a value chain. Each participant has its own special focus considering the value ch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wever, Porter‘s value chain helps to describe internal value added and in a certain way it can be used to consider inter-organisational value-adding activities, but it does not seem to be very suffic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mad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ocation – more static and involves more resources not only people, negot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the mo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009-F92E-477A-913C-E1BA10B4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110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8080" y="3766680"/>
            <a:ext cx="8110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00B-3C12-4961-BBF1-80CAE54E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38080" y="376668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94280" y="376668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39B-1E3C-4B2E-BED3-DD37785F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80560" y="121932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23040" y="121932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38080" y="376668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80560" y="376668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23040" y="376668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DE8-8676-4945-BA1D-80AD9BDC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B276-AC27-4560-9D2B-F0EA4AF0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8110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83E0-FABD-4ED3-AB1A-A4EFD838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11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ED07-D650-4349-A1C8-FC605EB0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1647-93C9-4AEF-ABA2-E3C5C362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8837-6955-4F2C-B655-4C1D6743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61722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A029-B175-4393-A821-DAEE3680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76668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C3D5-60D3-4561-A509-E7991159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38080" y="1219320"/>
            <a:ext cx="8110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542-7151-433C-88F7-6100C224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94280" y="376668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C7A5-F0E2-4F5D-B96E-97490479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766680"/>
            <a:ext cx="8110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8676-C3FA-4420-9929-9F35E7DD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110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8080" y="3766680"/>
            <a:ext cx="8110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E39C-C151-4A55-A5C8-9266B045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76668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94280" y="376668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483B-72F6-41CD-BCE6-5AD47D22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80560" y="121932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3040" y="121932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8080" y="376668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80560" y="376668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3040" y="3766680"/>
            <a:ext cx="261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19F5-B9FB-48F8-9A71-B9DDA610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11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84D-9DD5-4022-A33E-300E39EE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D91-E130-49C5-B15C-280FFA56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AB8-65F0-47CF-8ECC-4042F000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61722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6022-3B1B-45C9-B400-F3DFF014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376668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9E3-215C-4CFC-B525-A1E70AA5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94280" y="376668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7C2-F264-40A7-85CE-0C69C1AD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4280" y="1219320"/>
            <a:ext cx="3957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3766680"/>
            <a:ext cx="8110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A69-07F3-4C37-BBDE-2A30AD2E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66680"/>
              <a:ext cx="6950160" cy="7488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19320"/>
            <a:ext cx="811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895120" y="640080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5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BDC0-6D59-4AA2-B901-E5BCF329270A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429000" y="227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7105680" y="0"/>
            <a:ext cx="2038320" cy="11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73240"/>
            <a:ext cx="6950160" cy="748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57600" y="685440"/>
            <a:ext cx="4952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1E2E-DF16-4143-AD18-37F462AA8CEF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3200400" cy="186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bilegrids.org/" TargetMode="External"/><Relationship Id="rId2" Type="http://schemas.openxmlformats.org/officeDocument/2006/relationships/hyperlink" Target="http://www.mobilegrids.org/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1.pct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4.pct"/><Relationship Id="rId9" Type="http://schemas.openxmlformats.org/officeDocument/2006/relationships/image" Target="../media/image15.pct"/><Relationship Id="rId10" Type="http://schemas.openxmlformats.org/officeDocument/2006/relationships/image" Target="../media/image16.pct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17.pct"/><Relationship Id="rId14" Type="http://schemas.openxmlformats.org/officeDocument/2006/relationships/image" Target="../media/image13.jpeg"/><Relationship Id="rId15" Type="http://schemas.openxmlformats.org/officeDocument/2006/relationships/image" Target="../media/image18.pct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85840" y="68544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E-Health@Grid: </a:t>
            </a:r>
            <a:br>
              <a:rPr sz="2800"/>
            </a:b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The Akogrimo Approach, &amp; (first) lessons learned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040" y="3637080"/>
            <a:ext cx="754524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f. Dr. Stefan Ki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iversität Hohenhe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- GridAsia, Shanghai, Feb 21, 2006 -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63244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Heart Monitoring and Emergency Service – Short Specification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811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dical Emergency Scenario extended towards permanent monitoring and introduction of services offered by the pol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06560" y="2039760"/>
            <a:ext cx="6121440" cy="459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7B0-281D-4E27-B52F-684CCB5FD4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Verdana"/>
              </a:rPr>
              <a:t>How it works ... 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410080" cy="505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67D-F995-4118-AD98-20567925B1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4560"/>
            <a:ext cx="61722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(First) Lessons Learned: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Value Chain Analysi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7280" y="5389560"/>
            <a:ext cx="7761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gle participan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a value chain onl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enough analytical significan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rebuild the consolidated value chain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826920" y="1461960"/>
            <a:ext cx="6035760" cy="38386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6346080" y="463716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Port1985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3200400"/>
            <a:ext cx="472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C2F-581B-4FFF-8C31-A338AB7DDF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61722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Verdana"/>
              </a:rPr>
              <a:t>New Methodology: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Disaggregation &amp; Re-Configuration of Value Network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24000" y="1281240"/>
            <a:ext cx="6408720" cy="50338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135840" y="2514600"/>
            <a:ext cx="3008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complex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siness Collaboration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ve independence from process logic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2819520"/>
            <a:ext cx="2590920" cy="685800"/>
          </a:xfrm>
          <a:prstGeom prst="ellipse">
            <a:avLst/>
          </a:prstGeom>
          <a:noFill/>
          <a:ln w="381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6F9-7E11-496C-ACFD-AEC82F5AE9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4560"/>
            <a:ext cx="61722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Dis-Aggregation of Value Chains and Value Network Consolidation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4000" y="1211400"/>
            <a:ext cx="8712000" cy="5241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55640" y="616428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57E-C21A-41EE-9187-2D18BFB8E9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4560"/>
            <a:ext cx="61722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Mobile Grid-based </a:t>
            </a:r>
            <a:br>
              <a:rPr sz="2800"/>
            </a:b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Supply Chain Architecture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rcRect l="0" t="0" r="0" b="56601"/>
          <a:stretch/>
        </p:blipFill>
        <p:spPr>
          <a:xfrm>
            <a:off x="1187280" y="1197000"/>
            <a:ext cx="5832720" cy="55976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rcRect l="0" t="366150" r="203841" b="-4124"/>
          <a:stretch/>
        </p:blipFill>
        <p:spPr>
          <a:xfrm>
            <a:off x="5867280" y="5587920"/>
            <a:ext cx="302436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2A6-69B1-4584-B185-8F2A07E2C8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1722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de-DE" sz="2500" spc="-1" strike="noStrike">
                <a:solidFill>
                  <a:srgbClr val="003366"/>
                </a:solidFill>
                <a:latin typeface="Verdana"/>
              </a:rPr>
              <a:t>Customer (Patient) Orientation</a:t>
            </a:r>
            <a:endParaRPr b="0" lang="en-US" sz="25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rcRect l="0" t="32607" r="0" b="0"/>
          <a:stretch/>
        </p:blipFill>
        <p:spPr>
          <a:xfrm>
            <a:off x="760320" y="1125360"/>
            <a:ext cx="6691320" cy="57135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rcRect l="0" t="136335" r="93652" b="130771"/>
          <a:stretch/>
        </p:blipFill>
        <p:spPr>
          <a:xfrm>
            <a:off x="379440" y="2779560"/>
            <a:ext cx="8461440" cy="401004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  <p:sp>
        <p:nvSpPr>
          <p:cNvPr id="402" name=""/>
          <p:cNvSpPr/>
          <p:nvPr/>
        </p:nvSpPr>
        <p:spPr>
          <a:xfrm>
            <a:off x="7607880" y="5259240"/>
            <a:ext cx="1055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Verdana"/>
              </a:rPr>
              <a:t>Zo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7945920" y="5223240"/>
            <a:ext cx="2109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[Partly on Heinrich 2002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2743200"/>
            <a:ext cx="2743200" cy="3962520"/>
          </a:xfrm>
          <a:prstGeom prst="ellipse">
            <a:avLst/>
          </a:prstGeom>
          <a:noFill/>
          <a:ln w="2844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F67-D8E9-4B94-8926-0BB6966845E3}" type="slidenum">
              <a:t>1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466560"/>
            <a:ext cx="61722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Summary: Business Implication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81108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bile Grid technologies implicate changes in current value chains and netwo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tend the user base through the integration of mobile technical resources and human 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re efficient resource usage across applications and organiz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conomics of scale and sc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ifting of transactions and production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w quality lev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nging market entry barri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cept of Virtual Organization is aimed at B2B collaboration sc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p up traditional intra-enterprise value chains and succeeding reconfiguration to inter-enterprise value netwo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B1D-E2B4-4799-BEB5-14A8BDC255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470160"/>
            <a:ext cx="6172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ontac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3522240"/>
            <a:ext cx="81108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f. Dr. Stefan Ki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irn@uni-hohenheim.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r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versität Hohenhei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ormation Systems II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-70593 Stuttga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rman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1763640" y="241848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Verdana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B48-DFD4-4CC4-ACF2-12AC2C0D53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2356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Presentation Outline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11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kogrimo Over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-Health Supply Ch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levance of Mo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alidation Scenario: Emergency Services Manag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ssons Learned: From Validation Scenarios to Value Chai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807-B1ED-49ED-B031-2F0838C394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63244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Access to Knowledge through the Grid in a mobile World - Fact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11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European Research Project with a duration of ~3 years and an overall effort of ~1200 PM and an overall budget of 10,5 M€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3 Partners from industry and academia including 3 Telecom Operators and large IT service provi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elCos: Telefónica I+D, Telenor, Portugal Telecom through IT-Avei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T Industry: ATOSOrigin, Data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MEs: CRMPA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O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earch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US and HLRS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PM, UniZh,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CLRC, NTUA, UHO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ject Start: July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mobilegrids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164360" y="5229360"/>
          <a:ext cx="146376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5229360"/>
                    <a:ext cx="14637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7B8-23A3-45EC-A4B8-AFE4B84D9F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00000" y="1700280"/>
            <a:ext cx="7993080" cy="3889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2356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The Akogrimo Vision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81108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336699"/>
                </a:solidFill>
                <a:latin typeface="Verdana"/>
              </a:rPr>
              <a:t>To produce a breakthrough in current practices for Grids with the creation of a distributed, mobile and pervasive environment to make it a business proposition for Telecom Operators and Service Provi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C97F-7C06-42D0-B30A-B9685D1CA5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-132120"/>
            <a:ext cx="61722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Akogrimo Approach: Validation Scenario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1187280" y="1556640"/>
            <a:ext cx="7056720" cy="4608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99"/>
              </a:gs>
              <a:gs pos="100000">
                <a:srgbClr val="eaeaea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3520" y="1701720"/>
            <a:ext cx="24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isionary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5553000"/>
            <a:ext cx="80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lidation Scenarios: E-Health, E-Learning, Disaster M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2638440"/>
            <a:ext cx="201600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en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U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Functional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uq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2638440"/>
            <a:ext cx="201600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bility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ri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2638440"/>
            <a:ext cx="201636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Knowledge-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as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- Semantic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2278080"/>
            <a:ext cx="4102200" cy="501480"/>
          </a:xfrm>
          <a:prstGeom prst="rect">
            <a:avLst/>
          </a:prstGeom>
          <a:solidFill>
            <a:srgbClr val="9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3F7A-109E-4710-ADC9-052CED6995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2356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E-Health Supply Chain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811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ts val="2200"/>
              </a:lnSpc>
              <a:spcBef>
                <a:spcPts val="2401"/>
              </a:spcBef>
              <a:buNone/>
              <a:tabLst>
                <a:tab algn="l" pos="0"/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levance of “mobility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ts val="1599"/>
              </a:lnSpc>
              <a:spcBef>
                <a:spcPts val="24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dividualisation of health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ts val="1599"/>
              </a:lnSpc>
              <a:spcBef>
                <a:spcPts val="24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bility of health service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e. g. medical knowledg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ts val="1599"/>
              </a:lnSpc>
              <a:spcBef>
                <a:spcPts val="24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niaturisation of medical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ts val="1599"/>
              </a:lnSpc>
              <a:spcBef>
                <a:spcPts val="24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ifting of the notion of “health”: decoupling from “illness” and “disease” extension to “wellnes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ts val="1599"/>
              </a:lnSpc>
              <a:spcBef>
                <a:spcPts val="24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dustrialisation of the health sector / the processes in the health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ts val="1599"/>
              </a:lnSpc>
              <a:spcBef>
                <a:spcPts val="24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alth services as a location fa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lnSpc>
                <a:spcPts val="1599"/>
              </a:lnSpc>
              <a:spcBef>
                <a:spcPts val="24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t also: Patients’ increasing privacy conc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32258" r="0" b="0"/>
          <a:stretch/>
        </p:blipFill>
        <p:spPr>
          <a:xfrm>
            <a:off x="5715000" y="1295280"/>
            <a:ext cx="320040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6DE-BAC9-4E07-84F0-8E1C8646A8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111240"/>
            <a:ext cx="61722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Verdana"/>
              </a:rPr>
              <a:t>Healthcare  Supply Chain Simulation System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97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249"/>
              </a:spcBef>
              <a:buNone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spcBef>
                <a:spcPts val="249"/>
              </a:spcBef>
              <a:buNone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4219560" y="4346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2141640"/>
            <a:ext cx="1152720" cy="56664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(Referr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5516640"/>
            <a:ext cx="1079640" cy="50472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5920" y="5586480"/>
            <a:ext cx="715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Geneva"/>
              </a:rPr>
              <a:t>Ambu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5640" y="2133720"/>
            <a:ext cx="1081080" cy="57456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Reception W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71880" y="1413000"/>
            <a:ext cx="4551480" cy="23148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linics and W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71880" y="1660680"/>
            <a:ext cx="4551480" cy="1263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2389320"/>
            <a:ext cx="1008000" cy="3920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Gastro-Enter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94360" y="2389320"/>
            <a:ext cx="917640" cy="3920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an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06920" y="1784520"/>
            <a:ext cx="988920" cy="4204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Internal Medic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07240" y="1784520"/>
            <a:ext cx="1439640" cy="4204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Surgery W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4800" y="1784520"/>
            <a:ext cx="604800" cy="4204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70720" y="5516640"/>
            <a:ext cx="1278000" cy="50472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Intensive Care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58920" y="3876840"/>
            <a:ext cx="1393920" cy="56016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ardiological Labor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40360" y="3875040"/>
            <a:ext cx="930240" cy="56196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Transport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5084640"/>
            <a:ext cx="2519280" cy="23040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Operating Thea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08360" y="5330880"/>
            <a:ext cx="2519280" cy="1068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5408640"/>
            <a:ext cx="928800" cy="39672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Surgery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5408640"/>
            <a:ext cx="863640" cy="39672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62440" y="5919840"/>
            <a:ext cx="1423800" cy="38880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Surgery Depar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74760" y="5516640"/>
            <a:ext cx="1084320" cy="50472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Emergency Depar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4040" y="3429000"/>
            <a:ext cx="2508120" cy="21420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Radiology &amp; Radiothera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04040" y="3659040"/>
            <a:ext cx="2508120" cy="1065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3735360"/>
            <a:ext cx="1224000" cy="41436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onv, CT, M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97600" y="3735360"/>
            <a:ext cx="1036800" cy="41436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Radio-diagno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89440" y="4230720"/>
            <a:ext cx="1006560" cy="4222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Radio-thera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53240" y="4268880"/>
            <a:ext cx="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15040" y="4230720"/>
            <a:ext cx="617760" cy="4222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2360" y="227160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480000" y="2927520"/>
            <a:ext cx="379440" cy="69840"/>
            <a:chOff x="6480000" y="2927520"/>
            <a:chExt cx="379440" cy="69840"/>
          </a:xfrm>
        </p:grpSpPr>
        <p:sp>
          <p:nvSpPr>
            <p:cNvPr id="161" name=""/>
            <p:cNvSpPr/>
            <p:nvPr/>
          </p:nvSpPr>
          <p:spPr>
            <a:xfrm>
              <a:off x="6486480" y="293544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80000" y="292752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629240" y="3016080"/>
            <a:ext cx="1440" cy="773280"/>
          </a:xfrm>
          <a:custGeom>
            <a:avLst/>
            <a:gdLst/>
            <a:ahLst/>
            <a:rect l="l" t="t" r="r" b="b"/>
            <a:pathLst>
              <a:path w="0" h="487">
                <a:moveTo>
                  <a:pt x="0" y="478"/>
                </a:moveTo>
                <a:lnTo>
                  <a:pt x="0" y="478"/>
                </a:lnTo>
                <a:lnTo>
                  <a:pt x="0" y="487"/>
                </a:lnTo>
                <a:lnTo>
                  <a:pt x="0" y="487"/>
                </a:lnTo>
                <a:lnTo>
                  <a:pt x="0" y="487"/>
                </a:lnTo>
                <a:lnTo>
                  <a:pt x="0" y="487"/>
                </a:lnTo>
                <a:lnTo>
                  <a:pt x="0" y="478"/>
                </a:lnTo>
                <a:lnTo>
                  <a:pt x="0" y="478"/>
                </a:lnTo>
                <a:lnTo>
                  <a:pt x="0" y="47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478"/>
                </a:lnTo>
                <a:lnTo>
                  <a:pt x="0" y="4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51920" y="3030480"/>
            <a:ext cx="1440" cy="2462400"/>
          </a:xfrm>
          <a:custGeom>
            <a:avLst/>
            <a:gdLst/>
            <a:ahLst/>
            <a:rect l="l" t="t" r="r" b="b"/>
            <a:pathLst>
              <a:path w="0" h="1551">
                <a:moveTo>
                  <a:pt x="0" y="1542"/>
                </a:moveTo>
                <a:lnTo>
                  <a:pt x="0" y="1542"/>
                </a:lnTo>
                <a:lnTo>
                  <a:pt x="0" y="1542"/>
                </a:lnTo>
                <a:lnTo>
                  <a:pt x="0" y="1551"/>
                </a:lnTo>
                <a:lnTo>
                  <a:pt x="0" y="1551"/>
                </a:lnTo>
                <a:lnTo>
                  <a:pt x="0" y="1551"/>
                </a:lnTo>
                <a:lnTo>
                  <a:pt x="0" y="1551"/>
                </a:lnTo>
                <a:lnTo>
                  <a:pt x="0" y="1542"/>
                </a:lnTo>
                <a:lnTo>
                  <a:pt x="0" y="1542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0" y="10"/>
                </a:lnTo>
                <a:lnTo>
                  <a:pt x="0" y="1542"/>
                </a:lnTo>
                <a:lnTo>
                  <a:pt x="0" y="15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08560" y="5788080"/>
            <a:ext cx="1160640" cy="1440"/>
          </a:xfrm>
          <a:custGeom>
            <a:avLst/>
            <a:gdLst/>
            <a:ahLst/>
            <a:rect l="l" t="t" r="r" b="b"/>
            <a:pathLst>
              <a:path w="731" h="0">
                <a:moveTo>
                  <a:pt x="10" y="0"/>
                </a:moveTo>
                <a:lnTo>
                  <a:pt x="10" y="0"/>
                </a:lnTo>
                <a:lnTo>
                  <a:pt x="1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0" y="0"/>
                </a:lnTo>
                <a:lnTo>
                  <a:pt x="10" y="0"/>
                </a:lnTo>
                <a:lnTo>
                  <a:pt x="722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7800" y="3046320"/>
            <a:ext cx="1440" cy="1967040"/>
          </a:xfrm>
          <a:custGeom>
            <a:avLst/>
            <a:gdLst/>
            <a:ahLst/>
            <a:rect l="l" t="t" r="r" b="b"/>
            <a:pathLst>
              <a:path w="0" h="1239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47800" y="3789360"/>
            <a:ext cx="371520" cy="93600"/>
          </a:xfrm>
          <a:custGeom>
            <a:avLst/>
            <a:gdLst/>
            <a:ahLst/>
            <a:rect l="l" t="t" r="r" b="b"/>
            <a:pathLst>
              <a:path w="234" h="49">
                <a:moveTo>
                  <a:pt x="0" y="0"/>
                </a:moveTo>
                <a:lnTo>
                  <a:pt x="234" y="0"/>
                </a:lnTo>
                <a:lnTo>
                  <a:pt x="234" y="49"/>
                </a:lnTo>
                <a:lnTo>
                  <a:pt x="0" y="4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949960" y="6389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227664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08160" y="227664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227664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24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843280" y="2491920"/>
            <a:ext cx="1081080" cy="129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2421000"/>
            <a:ext cx="1152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27664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242100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13600" y="242100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516880" y="191628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885080" y="206064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604360" y="2060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00720" y="2565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5964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04000" y="242100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97960" y="242100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067280" y="2927520"/>
            <a:ext cx="648360" cy="69840"/>
            <a:chOff x="4067280" y="2927520"/>
            <a:chExt cx="648360" cy="69840"/>
          </a:xfrm>
        </p:grpSpPr>
        <p:sp>
          <p:nvSpPr>
            <p:cNvPr id="188" name=""/>
            <p:cNvSpPr/>
            <p:nvPr/>
          </p:nvSpPr>
          <p:spPr>
            <a:xfrm>
              <a:off x="4078080" y="2935440"/>
              <a:ext cx="6375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67280" y="2927520"/>
              <a:ext cx="63504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8028000" y="2927520"/>
            <a:ext cx="379440" cy="69840"/>
            <a:chOff x="8028000" y="2927520"/>
            <a:chExt cx="379440" cy="69840"/>
          </a:xfrm>
        </p:grpSpPr>
        <p:sp>
          <p:nvSpPr>
            <p:cNvPr id="191" name=""/>
            <p:cNvSpPr/>
            <p:nvPr/>
          </p:nvSpPr>
          <p:spPr>
            <a:xfrm>
              <a:off x="8034480" y="293544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28000" y="292752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480000" y="3357720"/>
            <a:ext cx="379440" cy="69840"/>
            <a:chOff x="6480000" y="3357720"/>
            <a:chExt cx="379440" cy="69840"/>
          </a:xfrm>
        </p:grpSpPr>
        <p:sp>
          <p:nvSpPr>
            <p:cNvPr id="194" name=""/>
            <p:cNvSpPr/>
            <p:nvPr/>
          </p:nvSpPr>
          <p:spPr>
            <a:xfrm>
              <a:off x="6486480" y="336564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80000" y="335772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548160" y="400536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52880" y="400536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76720" y="400536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16480" y="3789360"/>
            <a:ext cx="371520" cy="93600"/>
          </a:xfrm>
          <a:custGeom>
            <a:avLst/>
            <a:gdLst/>
            <a:ahLst/>
            <a:rect l="l" t="t" r="r" b="b"/>
            <a:pathLst>
              <a:path w="234" h="49">
                <a:moveTo>
                  <a:pt x="0" y="0"/>
                </a:moveTo>
                <a:lnTo>
                  <a:pt x="234" y="0"/>
                </a:lnTo>
                <a:lnTo>
                  <a:pt x="234" y="49"/>
                </a:lnTo>
                <a:lnTo>
                  <a:pt x="0" y="4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35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572000" y="2997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21240" y="400536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48360" y="414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00720" y="4724280"/>
            <a:ext cx="934560" cy="72720"/>
            <a:chOff x="6300720" y="4724280"/>
            <a:chExt cx="934560" cy="72720"/>
          </a:xfrm>
        </p:grpSpPr>
        <p:sp>
          <p:nvSpPr>
            <p:cNvPr id="205" name=""/>
            <p:cNvSpPr/>
            <p:nvPr/>
          </p:nvSpPr>
          <p:spPr>
            <a:xfrm>
              <a:off x="6316560" y="4732560"/>
              <a:ext cx="918720" cy="6444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00720" y="4724280"/>
              <a:ext cx="915120" cy="644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8008920" y="5445000"/>
            <a:ext cx="379440" cy="69840"/>
            <a:chOff x="8008920" y="5445000"/>
            <a:chExt cx="379440" cy="69840"/>
          </a:xfrm>
        </p:grpSpPr>
        <p:sp>
          <p:nvSpPr>
            <p:cNvPr id="208" name=""/>
            <p:cNvSpPr/>
            <p:nvPr/>
          </p:nvSpPr>
          <p:spPr>
            <a:xfrm>
              <a:off x="8015400" y="545292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08920" y="544500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8244000" y="299736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20000" y="4797360"/>
            <a:ext cx="108108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940360" y="479736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724360" y="5013360"/>
            <a:ext cx="379440" cy="69840"/>
            <a:chOff x="5724360" y="5013360"/>
            <a:chExt cx="379440" cy="69840"/>
          </a:xfrm>
        </p:grpSpPr>
        <p:sp>
          <p:nvSpPr>
            <p:cNvPr id="214" name=""/>
            <p:cNvSpPr/>
            <p:nvPr/>
          </p:nvSpPr>
          <p:spPr>
            <a:xfrm>
              <a:off x="5730840" y="502128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24360" y="501336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5252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08160" y="558972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6088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2124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27640" y="558972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8036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00720" y="57340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427640" y="5013360"/>
            <a:ext cx="379440" cy="69840"/>
            <a:chOff x="4427640" y="5013360"/>
            <a:chExt cx="379440" cy="69840"/>
          </a:xfrm>
        </p:grpSpPr>
        <p:sp>
          <p:nvSpPr>
            <p:cNvPr id="225" name=""/>
            <p:cNvSpPr/>
            <p:nvPr/>
          </p:nvSpPr>
          <p:spPr>
            <a:xfrm>
              <a:off x="4434120" y="502128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27640" y="501336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64328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700360" y="4221000"/>
            <a:ext cx="136692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36920" y="5446800"/>
            <a:ext cx="379440" cy="69840"/>
            <a:chOff x="2536920" y="5446800"/>
            <a:chExt cx="379440" cy="69840"/>
          </a:xfrm>
        </p:grpSpPr>
        <p:sp>
          <p:nvSpPr>
            <p:cNvPr id="230" name=""/>
            <p:cNvSpPr/>
            <p:nvPr/>
          </p:nvSpPr>
          <p:spPr>
            <a:xfrm>
              <a:off x="2543400" y="545472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36920" y="544680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692360" y="5734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48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108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038-F064-469B-8E8F-BD5EA218F84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111240"/>
            <a:ext cx="632448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Verdana"/>
              </a:rPr>
              <a:t>Mobile Grid Resources as Service </a:t>
            </a:r>
            <a:br>
              <a:rPr sz="2800"/>
            </a:br>
            <a:r>
              <a:rPr b="0" lang="de-DE" sz="2800" spc="-1" strike="noStrike">
                <a:solidFill>
                  <a:srgbClr val="003366"/>
                </a:solidFill>
                <a:latin typeface="Verdana"/>
              </a:rPr>
              <a:t>Providers and Service Customer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978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249"/>
              </a:spcBef>
              <a:buNone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6760" indent="0">
              <a:spcBef>
                <a:spcPts val="249"/>
              </a:spcBef>
              <a:buNone/>
              <a:tabLst>
                <a:tab algn="l" pos="143820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4219560" y="43466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9640" y="2141640"/>
            <a:ext cx="1152720" cy="56664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(Referr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5516640"/>
            <a:ext cx="1079640" cy="50472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5920" y="5586480"/>
            <a:ext cx="715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Geneva"/>
              </a:rPr>
              <a:t>Ambu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133720"/>
            <a:ext cx="1081080" cy="57456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Reception W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71880" y="1413000"/>
            <a:ext cx="4551480" cy="23148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linics and W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71880" y="1660680"/>
            <a:ext cx="4551480" cy="12636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19640" y="2389320"/>
            <a:ext cx="1008000" cy="3920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Gastro-Enter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94360" y="2389320"/>
            <a:ext cx="917640" cy="39204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an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6920" y="1784520"/>
            <a:ext cx="988920" cy="4204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Internal Medic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07240" y="1784520"/>
            <a:ext cx="1439640" cy="4204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Surgery W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4800" y="1784520"/>
            <a:ext cx="604800" cy="4204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70720" y="5516640"/>
            <a:ext cx="1278000" cy="50472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Intensive Care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58920" y="3876840"/>
            <a:ext cx="1393920" cy="56016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ardiological Labor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40360" y="3875040"/>
            <a:ext cx="930240" cy="56196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Transport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08360" y="5084640"/>
            <a:ext cx="2519280" cy="23040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Operating Thea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8360" y="5330880"/>
            <a:ext cx="2519280" cy="1068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24360" y="5408640"/>
            <a:ext cx="928800" cy="39672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Surgery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5408640"/>
            <a:ext cx="863640" cy="39672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62440" y="5919840"/>
            <a:ext cx="1423800" cy="38880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Surgery Depar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74760" y="5516640"/>
            <a:ext cx="1084320" cy="50472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Emergency Depar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04040" y="3429000"/>
            <a:ext cx="2508120" cy="214200"/>
          </a:xfrm>
          <a:prstGeom prst="rect">
            <a:avLst/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Radiology &amp; Radiothera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04040" y="3659040"/>
            <a:ext cx="2508120" cy="1065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80000" y="3735360"/>
            <a:ext cx="1224000" cy="41436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Conv, CT, M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97600" y="3735360"/>
            <a:ext cx="1036800" cy="41436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Radio-diagno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89440" y="4230720"/>
            <a:ext cx="1006560" cy="4222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Radio-thera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853240" y="4268880"/>
            <a:ext cx="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15040" y="4230720"/>
            <a:ext cx="617760" cy="422280"/>
          </a:xfrm>
          <a:prstGeom prst="rect">
            <a:avLst/>
          </a:prstGeom>
          <a:solidFill>
            <a:srgbClr val="ffcc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92360" y="227160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480000" y="2927520"/>
            <a:ext cx="379440" cy="69840"/>
            <a:chOff x="6480000" y="2927520"/>
            <a:chExt cx="379440" cy="69840"/>
          </a:xfrm>
        </p:grpSpPr>
        <p:sp>
          <p:nvSpPr>
            <p:cNvPr id="267" name=""/>
            <p:cNvSpPr/>
            <p:nvPr/>
          </p:nvSpPr>
          <p:spPr>
            <a:xfrm>
              <a:off x="6486480" y="293544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0000" y="292752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629240" y="3016080"/>
            <a:ext cx="1440" cy="773280"/>
          </a:xfrm>
          <a:custGeom>
            <a:avLst/>
            <a:gdLst/>
            <a:ahLst/>
            <a:rect l="l" t="t" r="r" b="b"/>
            <a:pathLst>
              <a:path w="0" h="487">
                <a:moveTo>
                  <a:pt x="0" y="478"/>
                </a:moveTo>
                <a:lnTo>
                  <a:pt x="0" y="478"/>
                </a:lnTo>
                <a:lnTo>
                  <a:pt x="0" y="487"/>
                </a:lnTo>
                <a:lnTo>
                  <a:pt x="0" y="487"/>
                </a:lnTo>
                <a:lnTo>
                  <a:pt x="0" y="487"/>
                </a:lnTo>
                <a:lnTo>
                  <a:pt x="0" y="487"/>
                </a:lnTo>
                <a:lnTo>
                  <a:pt x="0" y="478"/>
                </a:lnTo>
                <a:lnTo>
                  <a:pt x="0" y="478"/>
                </a:lnTo>
                <a:lnTo>
                  <a:pt x="0" y="47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478"/>
                </a:lnTo>
                <a:lnTo>
                  <a:pt x="0" y="4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51920" y="3030480"/>
            <a:ext cx="1440" cy="2462400"/>
          </a:xfrm>
          <a:custGeom>
            <a:avLst/>
            <a:gdLst/>
            <a:ahLst/>
            <a:rect l="l" t="t" r="r" b="b"/>
            <a:pathLst>
              <a:path w="0" h="1551">
                <a:moveTo>
                  <a:pt x="0" y="1542"/>
                </a:moveTo>
                <a:lnTo>
                  <a:pt x="0" y="1542"/>
                </a:lnTo>
                <a:lnTo>
                  <a:pt x="0" y="1542"/>
                </a:lnTo>
                <a:lnTo>
                  <a:pt x="0" y="1551"/>
                </a:lnTo>
                <a:lnTo>
                  <a:pt x="0" y="1551"/>
                </a:lnTo>
                <a:lnTo>
                  <a:pt x="0" y="1551"/>
                </a:lnTo>
                <a:lnTo>
                  <a:pt x="0" y="1551"/>
                </a:lnTo>
                <a:lnTo>
                  <a:pt x="0" y="1542"/>
                </a:lnTo>
                <a:lnTo>
                  <a:pt x="0" y="1542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0" y="10"/>
                </a:lnTo>
                <a:lnTo>
                  <a:pt x="0" y="1542"/>
                </a:lnTo>
                <a:lnTo>
                  <a:pt x="0" y="15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08560" y="5788080"/>
            <a:ext cx="1160640" cy="1440"/>
          </a:xfrm>
          <a:custGeom>
            <a:avLst/>
            <a:gdLst/>
            <a:ahLst/>
            <a:rect l="l" t="t" r="r" b="b"/>
            <a:pathLst>
              <a:path w="731" h="0">
                <a:moveTo>
                  <a:pt x="10" y="0"/>
                </a:moveTo>
                <a:lnTo>
                  <a:pt x="10" y="0"/>
                </a:lnTo>
                <a:lnTo>
                  <a:pt x="1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0" y="0"/>
                </a:lnTo>
                <a:lnTo>
                  <a:pt x="10" y="0"/>
                </a:lnTo>
                <a:lnTo>
                  <a:pt x="722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731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87800" y="3046320"/>
            <a:ext cx="1440" cy="1967040"/>
          </a:xfrm>
          <a:custGeom>
            <a:avLst/>
            <a:gdLst/>
            <a:ahLst/>
            <a:rect l="l" t="t" r="r" b="b"/>
            <a:pathLst>
              <a:path w="0" h="1239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123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47800" y="3789360"/>
            <a:ext cx="371520" cy="93600"/>
          </a:xfrm>
          <a:custGeom>
            <a:avLst/>
            <a:gdLst/>
            <a:ahLst/>
            <a:rect l="l" t="t" r="r" b="b"/>
            <a:pathLst>
              <a:path w="234" h="49">
                <a:moveTo>
                  <a:pt x="0" y="0"/>
                </a:moveTo>
                <a:lnTo>
                  <a:pt x="234" y="0"/>
                </a:lnTo>
                <a:lnTo>
                  <a:pt x="234" y="49"/>
                </a:lnTo>
                <a:lnTo>
                  <a:pt x="0" y="4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949960" y="6389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227664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9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08160" y="227664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227664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48000" y="24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3280" y="2491920"/>
            <a:ext cx="1081080" cy="129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95640" y="2421000"/>
            <a:ext cx="1152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24360" y="227664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48360" y="242100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13600" y="242100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516880" y="191628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7885080" y="206064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604360" y="2060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00720" y="2565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65964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04000" y="242100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797960" y="242100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067280" y="2927520"/>
            <a:ext cx="648360" cy="69840"/>
            <a:chOff x="4067280" y="2927520"/>
            <a:chExt cx="648360" cy="69840"/>
          </a:xfrm>
        </p:grpSpPr>
        <p:sp>
          <p:nvSpPr>
            <p:cNvPr id="294" name=""/>
            <p:cNvSpPr/>
            <p:nvPr/>
          </p:nvSpPr>
          <p:spPr>
            <a:xfrm>
              <a:off x="4078080" y="2935440"/>
              <a:ext cx="6375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67280" y="2927520"/>
              <a:ext cx="63504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8028000" y="2927520"/>
            <a:ext cx="379440" cy="69840"/>
            <a:chOff x="8028000" y="2927520"/>
            <a:chExt cx="379440" cy="69840"/>
          </a:xfrm>
        </p:grpSpPr>
        <p:sp>
          <p:nvSpPr>
            <p:cNvPr id="297" name=""/>
            <p:cNvSpPr/>
            <p:nvPr/>
          </p:nvSpPr>
          <p:spPr>
            <a:xfrm>
              <a:off x="8034480" y="293544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28000" y="292752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480000" y="3357720"/>
            <a:ext cx="379440" cy="69840"/>
            <a:chOff x="6480000" y="3357720"/>
            <a:chExt cx="379440" cy="69840"/>
          </a:xfrm>
        </p:grpSpPr>
        <p:sp>
          <p:nvSpPr>
            <p:cNvPr id="300" name=""/>
            <p:cNvSpPr/>
            <p:nvPr/>
          </p:nvSpPr>
          <p:spPr>
            <a:xfrm>
              <a:off x="6486480" y="336564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80000" y="335772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548160" y="400536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52880" y="400536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76720" y="400536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16480" y="3789360"/>
            <a:ext cx="371520" cy="93600"/>
          </a:xfrm>
          <a:custGeom>
            <a:avLst/>
            <a:gdLst/>
            <a:ahLst/>
            <a:rect l="l" t="t" r="r" b="b"/>
            <a:pathLst>
              <a:path w="234" h="49">
                <a:moveTo>
                  <a:pt x="0" y="0"/>
                </a:moveTo>
                <a:lnTo>
                  <a:pt x="234" y="0"/>
                </a:lnTo>
                <a:lnTo>
                  <a:pt x="234" y="49"/>
                </a:lnTo>
                <a:lnTo>
                  <a:pt x="0" y="4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35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572000" y="2997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21240" y="400536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48360" y="414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300720" y="4724280"/>
            <a:ext cx="934560" cy="72720"/>
            <a:chOff x="6300720" y="4724280"/>
            <a:chExt cx="934560" cy="72720"/>
          </a:xfrm>
        </p:grpSpPr>
        <p:sp>
          <p:nvSpPr>
            <p:cNvPr id="311" name=""/>
            <p:cNvSpPr/>
            <p:nvPr/>
          </p:nvSpPr>
          <p:spPr>
            <a:xfrm>
              <a:off x="6316560" y="4732560"/>
              <a:ext cx="918720" cy="6444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00720" y="4724280"/>
              <a:ext cx="915120" cy="644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8008920" y="5445000"/>
            <a:ext cx="379440" cy="69840"/>
            <a:chOff x="8008920" y="5445000"/>
            <a:chExt cx="379440" cy="69840"/>
          </a:xfrm>
        </p:grpSpPr>
        <p:sp>
          <p:nvSpPr>
            <p:cNvPr id="314" name=""/>
            <p:cNvSpPr/>
            <p:nvPr/>
          </p:nvSpPr>
          <p:spPr>
            <a:xfrm>
              <a:off x="8015400" y="545292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08920" y="544500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8244000" y="299736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20000" y="4797360"/>
            <a:ext cx="108108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940360" y="479736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724360" y="5013360"/>
            <a:ext cx="379440" cy="69840"/>
            <a:chOff x="5724360" y="5013360"/>
            <a:chExt cx="379440" cy="69840"/>
          </a:xfrm>
        </p:grpSpPr>
        <p:sp>
          <p:nvSpPr>
            <p:cNvPr id="320" name=""/>
            <p:cNvSpPr/>
            <p:nvPr/>
          </p:nvSpPr>
          <p:spPr>
            <a:xfrm>
              <a:off x="5730840" y="502128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24360" y="501336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5252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1928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108160" y="558972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6088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2124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227640" y="5589720"/>
            <a:ext cx="8748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80360" y="5589720"/>
            <a:ext cx="87120" cy="325440"/>
          </a:xfrm>
          <a:custGeom>
            <a:avLst/>
            <a:gdLst/>
            <a:ahLst/>
            <a:rect l="l" t="t" r="r" b="b"/>
            <a:pathLst>
              <a:path w="29" h="205">
                <a:moveTo>
                  <a:pt x="0" y="0"/>
                </a:moveTo>
                <a:lnTo>
                  <a:pt x="29" y="0"/>
                </a:lnTo>
                <a:lnTo>
                  <a:pt x="29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300720" y="57340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427640" y="5013360"/>
            <a:ext cx="379440" cy="69840"/>
            <a:chOff x="4427640" y="5013360"/>
            <a:chExt cx="379440" cy="69840"/>
          </a:xfrm>
        </p:grpSpPr>
        <p:sp>
          <p:nvSpPr>
            <p:cNvPr id="331" name=""/>
            <p:cNvSpPr/>
            <p:nvPr/>
          </p:nvSpPr>
          <p:spPr>
            <a:xfrm>
              <a:off x="4434120" y="502128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27640" y="501336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64328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700360" y="4221000"/>
            <a:ext cx="136692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536920" y="5446800"/>
            <a:ext cx="379440" cy="69840"/>
            <a:chOff x="2536920" y="5446800"/>
            <a:chExt cx="379440" cy="69840"/>
          </a:xfrm>
        </p:grpSpPr>
        <p:sp>
          <p:nvSpPr>
            <p:cNvPr id="336" name=""/>
            <p:cNvSpPr/>
            <p:nvPr/>
          </p:nvSpPr>
          <p:spPr>
            <a:xfrm>
              <a:off x="2543400" y="5454720"/>
              <a:ext cx="372960" cy="61920"/>
            </a:xfrm>
            <a:custGeom>
              <a:avLst/>
              <a:gdLst/>
              <a:ahLst/>
              <a:rect l="l" t="t" r="r" b="b"/>
              <a:pathLst>
                <a:path w="235" h="39">
                  <a:moveTo>
                    <a:pt x="0" y="0"/>
                  </a:moveTo>
                  <a:lnTo>
                    <a:pt x="235" y="0"/>
                  </a:lnTo>
                  <a:lnTo>
                    <a:pt x="235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36920" y="5446800"/>
              <a:ext cx="371520" cy="6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692360" y="5734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8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108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1197000"/>
            <a:ext cx="8964720" cy="5400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990720" cy="10033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6443640" y="4869000"/>
            <a:ext cx="851040" cy="10792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1908000" y="1197000"/>
            <a:ext cx="1151280" cy="7999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1193760" cy="8953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547280" y="4437000"/>
            <a:ext cx="28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le Int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e Unit / Ambu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32360" y="29480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6875640" y="2509920"/>
            <a:ext cx="747360" cy="919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68720" y="1197000"/>
            <a:ext cx="149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09800" y="479736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66200" y="260028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tending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hys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3132000" y="1197000"/>
            <a:ext cx="719280" cy="792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419640" y="301464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rs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po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DA7-2CDD-46C1-9556-646EF584042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1722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E-Health Validation Scenario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1928880" y="2560680"/>
            <a:ext cx="5905440" cy="3240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rt Monitoring and Eme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858080" y="4361040"/>
            <a:ext cx="766800" cy="914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1017720" y="2930400"/>
            <a:ext cx="990360" cy="10033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6935760" y="4433760"/>
            <a:ext cx="851040" cy="10796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7786800" y="4721400"/>
            <a:ext cx="488880" cy="738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5541840" y="5079960"/>
            <a:ext cx="895320" cy="1008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4475160" y="2057400"/>
            <a:ext cx="2016000" cy="10652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rcRect l="75908" t="0" r="2880" b="48291"/>
          <a:stretch/>
        </p:blipFill>
        <p:spPr>
          <a:xfrm>
            <a:off x="2217600" y="278136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2000160" y="3070080"/>
            <a:ext cx="488880" cy="8035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1711440" y="4454640"/>
            <a:ext cx="988920" cy="9144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430360" y="4649760"/>
            <a:ext cx="793800" cy="10908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1"/>
          <a:stretch/>
        </p:blipFill>
        <p:spPr>
          <a:xfrm>
            <a:off x="3467160" y="2416320"/>
            <a:ext cx="1193760" cy="8301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2"/>
          <a:stretch/>
        </p:blipFill>
        <p:spPr>
          <a:xfrm>
            <a:off x="3467160" y="1481040"/>
            <a:ext cx="1193760" cy="8953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065960" y="5119560"/>
            <a:ext cx="17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ment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lution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99280" y="6087960"/>
            <a:ext cx="12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mergenc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37480" y="553716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dical Exp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11520" y="162396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mbu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30920" y="256536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3"/>
          <a:stretch/>
        </p:blipFill>
        <p:spPr>
          <a:xfrm>
            <a:off x="7256520" y="2921040"/>
            <a:ext cx="458640" cy="10796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7691400" y="3132000"/>
            <a:ext cx="97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11760" y="6084720"/>
            <a:ext cx="167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MES /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4"/>
          <a:srcRect l="75908" t="0" r="2880" b="48291"/>
          <a:stretch/>
        </p:blipFill>
        <p:spPr>
          <a:xfrm>
            <a:off x="4233960" y="5297400"/>
            <a:ext cx="503280" cy="6476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5"/>
          <a:stretch/>
        </p:blipFill>
        <p:spPr>
          <a:xfrm>
            <a:off x="3946680" y="5442120"/>
            <a:ext cx="582480" cy="9507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6"/>
          <a:stretch/>
        </p:blipFill>
        <p:spPr>
          <a:xfrm>
            <a:off x="4691160" y="1768320"/>
            <a:ext cx="747720" cy="9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429-25E0-453B-9080-B93F278C4C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6:27:16Z</dcterms:created>
  <dc:creator>Christian Loos</dc:creator>
  <dc:description/>
  <dc:language>en-US</dc:language>
  <cp:lastModifiedBy>Stefan Kirn</cp:lastModifiedBy>
  <cp:lastPrinted>2009-04-22T19:24:48Z</cp:lastPrinted>
  <dcterms:modified xsi:type="dcterms:W3CDTF">2006-02-21T07:11:32Z</dcterms:modified>
  <cp:revision>62</cp:revision>
  <dc:subject/>
  <dc:title>Testbed Definition (WP 2.3)</dc:title>
</cp:coreProperties>
</file>