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wmf" ContentType="image/x-wmf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wmf" ContentType="image/x-wmf"/>
  <Override PartName="/ppt/media/image18.jpeg" ContentType="image/jpeg"/>
  <Override PartName="/ppt/media/image15.jpeg" ContentType="image/jpeg"/>
  <Override PartName="/ppt/media/image1.wmf" ContentType="image/x-wmf"/>
  <Override PartName="/ppt/media/image3.png" ContentType="image/png"/>
  <Override PartName="/ppt/media/image2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9680" y="6091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8520" y="2286000"/>
            <a:ext cx="8364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8520" y="4435560"/>
            <a:ext cx="8364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9680" y="6091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8520" y="2286000"/>
            <a:ext cx="4081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4680" y="2286000"/>
            <a:ext cx="4081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8520" y="4435560"/>
            <a:ext cx="4081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4680" y="4435560"/>
            <a:ext cx="4081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9680" y="6091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8520" y="2286000"/>
            <a:ext cx="2693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6680" y="2286000"/>
            <a:ext cx="2693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4840" y="2286000"/>
            <a:ext cx="2693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8520" y="4435560"/>
            <a:ext cx="2693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6680" y="4435560"/>
            <a:ext cx="2693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4840" y="4435560"/>
            <a:ext cx="2693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9680" y="6091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8520" y="2286000"/>
            <a:ext cx="8364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9680" y="6091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8520" y="2286000"/>
            <a:ext cx="8364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9680" y="6091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8520" y="2286000"/>
            <a:ext cx="40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4680" y="2286000"/>
            <a:ext cx="40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9680" y="6091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9680" y="609120"/>
            <a:ext cx="83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9680" y="6091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8520" y="2286000"/>
            <a:ext cx="4081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4680" y="2286000"/>
            <a:ext cx="40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8520" y="4435560"/>
            <a:ext cx="4081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9680" y="6091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8520" y="2286000"/>
            <a:ext cx="40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4680" y="2286000"/>
            <a:ext cx="4081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4680" y="4435560"/>
            <a:ext cx="4081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9680" y="6091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8520" y="2286000"/>
            <a:ext cx="4081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4680" y="2286000"/>
            <a:ext cx="4081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8520" y="4435560"/>
            <a:ext cx="8364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17440" y="127080"/>
            <a:ext cx="9563040" cy="75960"/>
          </a:xfrm>
          <a:prstGeom prst="rect">
            <a:avLst/>
          </a:prstGeom>
          <a:gradFill rotWithShape="0">
            <a:gsLst>
              <a:gs pos="0">
                <a:srgbClr val="636395"/>
              </a:gs>
              <a:gs pos="50000">
                <a:srgbClr val="fefefe"/>
              </a:gs>
              <a:gs pos="100000">
                <a:srgbClr val="6363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2920" y="6554880"/>
            <a:ext cx="9563040" cy="82440"/>
          </a:xfrm>
          <a:prstGeom prst="rect">
            <a:avLst/>
          </a:prstGeom>
          <a:gradFill rotWithShape="0">
            <a:gsLst>
              <a:gs pos="0">
                <a:srgbClr val="636395"/>
              </a:gs>
              <a:gs pos="50000">
                <a:srgbClr val="fefefe"/>
              </a:gs>
              <a:gs pos="100000">
                <a:srgbClr val="6363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9680" y="60912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58520" y="2286000"/>
            <a:ext cx="8364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285840" indent="-285840">
              <a:lnSpc>
                <a:spcPct val="88000"/>
              </a:lnSpc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4"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5"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6"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665600" y="6350040"/>
            <a:ext cx="54144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C:\All\OPERA\Airbus_EADS-M_Toulouse16Dec2003\EfaHelicity.mov" TargetMode="External"/><Relationship Id="rId2" Type="http://schemas.openxmlformats.org/officeDocument/2006/relationships/image" Target="../media/image2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960" y="930240"/>
            <a:ext cx="912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ERONAUTICS MULTIDISCIPLINARY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15680" y="5208480"/>
            <a:ext cx="1866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nghai (C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19320" y="5735520"/>
            <a:ext cx="2461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ebruary 21st,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7320" y="1847880"/>
            <a:ext cx="8638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ON GRID COMPUTING INFRA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54680" y="2874960"/>
            <a:ext cx="22618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oan NGUY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33480" y="3838680"/>
            <a:ext cx="2688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ww-opale.inrialpes.f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09960" y="3637080"/>
            <a:ext cx="60483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8510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24880" y="428760"/>
            <a:ext cx="71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Arial"/>
              </a:rPr>
              <a:t>Aeroelastic Simulation: M=0.8, Nz=1, Z=11277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21597" r="0" b="26996"/>
          <a:stretch/>
        </p:blipFill>
        <p:spPr>
          <a:xfrm>
            <a:off x="2590920" y="1308240"/>
            <a:ext cx="4232160" cy="169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987720" y="29336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M=0.8 , Cl=0.4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5727600"/>
            <a:ext cx="10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Jig Sha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57276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Deformed Sha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371600" y="3208320"/>
            <a:ext cx="3238560" cy="251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34120" y="3208320"/>
            <a:ext cx="3238560" cy="2519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36920" y="870120"/>
            <a:ext cx="41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lenia Aeronautica SMJ  Configu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075520" y="5784840"/>
            <a:ext cx="1562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962000" y="484200"/>
            <a:ext cx="7751880" cy="5838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4540320" cy="2541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88960" y="477720"/>
            <a:ext cx="74646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BODY, WING, NACELLE DES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5715000" cy="274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304920" y="3886200"/>
          <a:ext cx="4408200" cy="2038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886200"/>
                    <a:ext cx="44082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029200" y="3890880"/>
            <a:ext cx="3727440" cy="2295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41520" y="392040"/>
            <a:ext cx="86612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ULTIDISCIPLINARY APPLIC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8720" y="6033960"/>
            <a:ext cx="40388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ERODYNAMICS &amp; ACOUS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01880" y="706320"/>
            <a:ext cx="857556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ULTIDISCIPLINE APPLIC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31960" y="1262160"/>
            <a:ext cx="494820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RO-ACOU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77880" y="3027240"/>
            <a:ext cx="6751800" cy="3140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54120" y="2541600"/>
            <a:ext cx="41767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 SOCIETAL IMP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54120" y="1998720"/>
            <a:ext cx="58755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WIND MILL DESIGN: noise re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03280" y="762120"/>
            <a:ext cx="857556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ULTIDISCIPLINE APPLIC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44880" y="2941560"/>
            <a:ext cx="70484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IRTUAL (FLIGHT) TE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44880" y="2398680"/>
            <a:ext cx="75834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GITAL MOCK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44880" y="3486240"/>
            <a:ext cx="56005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TENSIVE USE OF SI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44880" y="4030560"/>
            <a:ext cx="6186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TIMIZED EARLY DESIGN DECI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2600" y="1511280"/>
            <a:ext cx="962352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RONAUTICS, ENERGY, TELECOMMUNIC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44880" y="4573440"/>
            <a:ext cx="68086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ASING USE OPTIM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4880" y="5118120"/>
            <a:ext cx="7761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RACY MULTIDISCIPLINE OPTIM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44880" y="5662440"/>
            <a:ext cx="76086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RACY, CONVERENCE, VERIF. &amp; VAL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34920" y="762120"/>
            <a:ext cx="85759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ULTIDISCIPLINE APPLIC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35080" y="2733840"/>
            <a:ext cx="85708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AERO-ELASTICITY (CSM, weigth redu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35080" y="2201760"/>
            <a:ext cx="77025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AERODYNAMICS (CFD, L/D efficiency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35080" y="3267000"/>
            <a:ext cx="9055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VIBRO-ACOUSTICS (Sonic boom &amp; cabin noise redu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35080" y="3800520"/>
            <a:ext cx="77277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ELECTROMAGNETICS (RCS redu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3080" y="1511280"/>
            <a:ext cx="853776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RONAU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35080" y="4332240"/>
            <a:ext cx="8101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AERO-COMBUSTION (SFC, engine NOx emiss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35080" y="4865760"/>
            <a:ext cx="72104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FLOW-CONTROL (vortex genera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35080" y="5398920"/>
            <a:ext cx="8101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FLIGHT MECHANICS COUPLING (flight dynamic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765520" y="762120"/>
            <a:ext cx="43084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HALLEN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81120" y="3716280"/>
            <a:ext cx="56502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ULTIDISCIPLINARY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81120" y="3094200"/>
            <a:ext cx="55674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IRTUAL FLIGHT TE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81120" y="2471760"/>
            <a:ext cx="55674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D SIMULATION &amp; OPTIM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1120" y="4338720"/>
            <a:ext cx="62769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ERIFICATION &amp; VALI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03280" y="762120"/>
            <a:ext cx="857556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HE CHALLE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440" y="1511280"/>
            <a:ext cx="853740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DOM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81160" y="3452760"/>
            <a:ext cx="8308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ULTIDISCIPLINE SIMULATION &amp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84160" y="5467320"/>
            <a:ext cx="853776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RONAUTICS, ENERGY, TELECOMMUNICATIONS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106720" y="743040"/>
            <a:ext cx="60926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FACING THE CHALLE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4000" y="1511280"/>
            <a:ext cx="534492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RONAUTICS, TELECOM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90600" y="3652920"/>
            <a:ext cx="73645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INNOVATIVE COMPUTATIONAL METHODS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828800" y="762120"/>
            <a:ext cx="64562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FACING THE CHALLE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7680" y="1906560"/>
            <a:ext cx="84949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SED ON EVOLUTIONARY &amp; HYBRID APPROA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24160" y="2922480"/>
            <a:ext cx="790092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E THEORY, GRADIENT-BASED, ADJ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24160" y="3375000"/>
            <a:ext cx="855504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FORM DEFORMATION, ROBUST DESIG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24160" y="3827520"/>
            <a:ext cx="821844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SCALE, HIERARCHIC OPTIMIZATION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24160" y="4280040"/>
            <a:ext cx="529272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AIN DECOMPOSITION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23920" y="5114880"/>
            <a:ext cx="6861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ERY WELL SUITED TO RUN ON THE GRID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5707080"/>
            <a:ext cx="706608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UST, INHERENTLY PARALLEL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76200" y="1171440"/>
            <a:ext cx="7353360" cy="71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738600" y="3487680"/>
            <a:ext cx="2428920" cy="704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55680" y="5208480"/>
            <a:ext cx="1276200" cy="1249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719840" y="4971960"/>
            <a:ext cx="1668600" cy="1486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1957320" y="5276880"/>
            <a:ext cx="2772000" cy="8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5116680" y="5094360"/>
            <a:ext cx="2101680" cy="1190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57480" y="480960"/>
            <a:ext cx="36194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OP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70800" y="1886040"/>
            <a:ext cx="73533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MOTING SCIENTIFIC COOPERATION BETWEEN EUROPE AND CH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47880" y="2182680"/>
            <a:ext cx="79736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 THE FIELD OF MULTIPHYSICS MODELING, SIMULATION, EXPERI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8240" y="2479680"/>
            <a:ext cx="43250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D DESIGN METHODS IN AERONAU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6960" y="4192560"/>
            <a:ext cx="76888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ROSPECTIVE STUDY ON THE STATE OF THE ART OF MULTIDISCIPLINARY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ODELING, SIMULATION AND VALIDATION IN AERONAU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016000" y="1171440"/>
            <a:ext cx="5796000" cy="5023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45960" y="484200"/>
            <a:ext cx="92044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ULTI-PLAYER AIRFOIL OPTIM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739960" y="1984320"/>
            <a:ext cx="4338720" cy="4253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22640" y="608040"/>
            <a:ext cx="57290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PPLICATION EXA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35440" y="1230480"/>
            <a:ext cx="41256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SATION STRATE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9573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43920" bIns="-439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22640" y="608040"/>
            <a:ext cx="57290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PPLICATION EXA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64480" y="1436760"/>
            <a:ext cx="34945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ORMANC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25720" y="2847960"/>
            <a:ext cx="4724280" cy="2808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25720" y="2847960"/>
            <a:ext cx="4724280" cy="2808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90880" y="5500800"/>
            <a:ext cx="393840" cy="155520"/>
          </a:xfrm>
          <a:prstGeom prst="rect">
            <a:avLst/>
          </a:prstGeom>
          <a:solidFill>
            <a:srgbClr val="ff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16480" y="5342040"/>
            <a:ext cx="393480" cy="314280"/>
          </a:xfrm>
          <a:prstGeom prst="rect">
            <a:avLst/>
          </a:prstGeom>
          <a:solidFill>
            <a:srgbClr val="ff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41720" y="4905360"/>
            <a:ext cx="393840" cy="750960"/>
          </a:xfrm>
          <a:prstGeom prst="rect">
            <a:avLst/>
          </a:prstGeom>
          <a:solidFill>
            <a:srgbClr val="ff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65520" y="4308480"/>
            <a:ext cx="393840" cy="1347840"/>
          </a:xfrm>
          <a:prstGeom prst="rect">
            <a:avLst/>
          </a:prstGeom>
          <a:solidFill>
            <a:srgbClr val="ff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91120" y="3530520"/>
            <a:ext cx="393840" cy="2125800"/>
          </a:xfrm>
          <a:prstGeom prst="rect">
            <a:avLst/>
          </a:prstGeom>
          <a:solidFill>
            <a:srgbClr val="ff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16720" y="3090960"/>
            <a:ext cx="393480" cy="2565360"/>
          </a:xfrm>
          <a:prstGeom prst="rect">
            <a:avLst/>
          </a:prstGeom>
          <a:solidFill>
            <a:srgbClr val="ff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40520" y="3067200"/>
            <a:ext cx="393480" cy="2589120"/>
          </a:xfrm>
          <a:prstGeom prst="rect">
            <a:avLst/>
          </a:prstGeom>
          <a:solidFill>
            <a:srgbClr val="ff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65760" y="3203640"/>
            <a:ext cx="393840" cy="2452680"/>
          </a:xfrm>
          <a:prstGeom prst="rect">
            <a:avLst/>
          </a:prstGeom>
          <a:solidFill>
            <a:srgbClr val="ff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25720" y="5656320"/>
            <a:ext cx="47242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925720" y="5587920"/>
            <a:ext cx="180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451320" y="5587920"/>
            <a:ext cx="144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975120" y="5587920"/>
            <a:ext cx="144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500720" y="5587920"/>
            <a:ext cx="144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025960" y="5587920"/>
            <a:ext cx="180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549760" y="5587920"/>
            <a:ext cx="180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075360" y="5587920"/>
            <a:ext cx="144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600960" y="5587920"/>
            <a:ext cx="144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124760" y="5587920"/>
            <a:ext cx="144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650000" y="5587920"/>
            <a:ext cx="180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79520" y="57340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04760" y="57340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28920" y="57340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Times New Roman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12760" y="573408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Times New Roman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38360" y="573408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Times New Roman"/>
              </a:rPr>
              <a:t>2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62160" y="573408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Times New Roman"/>
              </a:rPr>
              <a:t>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87760" y="573408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Times New Roman"/>
              </a:rPr>
              <a:t>9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71600" y="5734080"/>
            <a:ext cx="21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Times New Roman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08960" y="5937120"/>
            <a:ext cx="64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afd00"/>
                </a:solidFill>
                <a:latin typeface="Times New Roman"/>
              </a:rPr>
              <a:t>Processo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25720" y="5345280"/>
            <a:ext cx="472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25720" y="5032440"/>
            <a:ext cx="472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25720" y="4719600"/>
            <a:ext cx="472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25720" y="4408560"/>
            <a:ext cx="472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25720" y="4095720"/>
            <a:ext cx="472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25720" y="3784680"/>
            <a:ext cx="472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25720" y="3471840"/>
            <a:ext cx="472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25720" y="3159000"/>
            <a:ext cx="472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925720" y="2847600"/>
            <a:ext cx="1800" cy="2808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25720" y="56563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25720" y="53452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25720" y="503244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25720" y="4719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25720" y="44085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25720" y="40957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25720" y="37846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25720" y="347184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25720" y="31590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25720" y="2847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85680" y="5576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85680" y="5264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85680" y="49514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85680" y="46404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Times New Roman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85680" y="43275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Times New Roman"/>
              </a:rPr>
              <a:t>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04680" y="401652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Times New Roman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04680" y="370368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Times New Roman"/>
              </a:rPr>
              <a:t>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04680" y="339084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Times New Roman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04680" y="307980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Times New Roman"/>
              </a:rPr>
              <a:t>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4680" y="276696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Times New Roman"/>
              </a:rPr>
              <a:t>1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5400000">
            <a:off x="1446120" y="4313520"/>
            <a:ext cx="1889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fd00"/>
                </a:solidFill>
                <a:latin typeface="Times New Roman"/>
              </a:rPr>
              <a:t>Speed U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43440" y="2403360"/>
            <a:ext cx="248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PHN-GA on PC-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79560" y="2616120"/>
            <a:ext cx="8637480" cy="3895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46320" y="3224160"/>
            <a:ext cx="817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30200" y="5172120"/>
            <a:ext cx="8169480" cy="852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GRID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0200" y="5537160"/>
            <a:ext cx="816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32680" y="3346560"/>
            <a:ext cx="1633320" cy="730080"/>
          </a:xfrm>
          <a:prstGeom prst="leftRightArrow">
            <a:avLst>
              <a:gd name="adj1" fmla="val 50000"/>
              <a:gd name="adj2" fmla="val 4453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96920" y="3103560"/>
            <a:ext cx="1050840" cy="170352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030040" y="3954600"/>
            <a:ext cx="817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14920" y="3346560"/>
            <a:ext cx="1400040" cy="9745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GENE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OPTIMIZ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47960" y="3224160"/>
            <a:ext cx="1284480" cy="14623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MULT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DISCIPLINE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SOFT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14720" y="2981160"/>
            <a:ext cx="1400400" cy="608040"/>
          </a:xfrm>
          <a:custGeom>
            <a:avLst/>
            <a:gdLst/>
            <a:ahLst/>
            <a:rect l="l" t="t" r="r" b="b"/>
            <a:pathLst>
              <a:path w="1728" h="1032">
                <a:moveTo>
                  <a:pt x="0" y="1032"/>
                </a:moveTo>
                <a:cubicBezTo>
                  <a:pt x="360" y="540"/>
                  <a:pt x="720" y="48"/>
                  <a:pt x="1008" y="24"/>
                </a:cubicBezTo>
                <a:cubicBezTo>
                  <a:pt x="1296" y="0"/>
                  <a:pt x="1512" y="444"/>
                  <a:pt x="1728" y="8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32240" y="4686480"/>
            <a:ext cx="0" cy="607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41960" y="432108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15200" y="4686480"/>
            <a:ext cx="0" cy="607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032760" y="3711600"/>
            <a:ext cx="0" cy="1582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2981160"/>
            <a:ext cx="1282680" cy="73044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Times New Roman"/>
              </a:rPr>
              <a:t>CFD Sol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32720" y="3954600"/>
            <a:ext cx="1282680" cy="73188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Times New Roman"/>
              </a:rPr>
              <a:t>CFD Sol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72720" y="1092240"/>
            <a:ext cx="8206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DISTRIBUTED INTEGRATION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30800" y="1836720"/>
            <a:ext cx="29764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 COMPUT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480960" y="1252440"/>
            <a:ext cx="7164360" cy="3160800"/>
            <a:chOff x="480960" y="1252440"/>
            <a:chExt cx="7164360" cy="3160800"/>
          </a:xfrm>
        </p:grpSpPr>
        <p:sp>
          <p:nvSpPr>
            <p:cNvPr id="281" name=""/>
            <p:cNvSpPr/>
            <p:nvPr/>
          </p:nvSpPr>
          <p:spPr>
            <a:xfrm>
              <a:off x="480960" y="1252440"/>
              <a:ext cx="7164360" cy="31608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573840" y="1414440"/>
              <a:ext cx="6884640" cy="2836440"/>
              <a:chOff x="573840" y="1414440"/>
              <a:chExt cx="6884640" cy="2836440"/>
            </a:xfrm>
          </p:grpSpPr>
          <p:sp>
            <p:nvSpPr>
              <p:cNvPr id="283" name=""/>
              <p:cNvSpPr/>
              <p:nvPr/>
            </p:nvSpPr>
            <p:spPr>
              <a:xfrm>
                <a:off x="1969560" y="2386800"/>
                <a:ext cx="1940760" cy="977760"/>
              </a:xfrm>
              <a:prstGeom prst="leftRightArrow">
                <a:avLst>
                  <a:gd name="adj1" fmla="val 50000"/>
                  <a:gd name="adj2" fmla="val 39514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NDIDATE SOLUTION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61960" y="1610280"/>
                <a:ext cx="873360" cy="586440"/>
              </a:xfrm>
              <a:prstGeom prst="rect">
                <a:avLst/>
              </a:prstGeom>
              <a:solidFill>
                <a:srgbClr val="ff99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CFD Solv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5518080" y="1414440"/>
                <a:ext cx="1940400" cy="879840"/>
                <a:chOff x="5518080" y="1414440"/>
                <a:chExt cx="1940400" cy="8798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518080" y="1414440"/>
                  <a:ext cx="970200" cy="4399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cessor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0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488280" y="1414440"/>
                  <a:ext cx="970200" cy="4399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cessor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1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488280" y="1854360"/>
                  <a:ext cx="970200" cy="4399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cessor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518080" y="1854360"/>
                  <a:ext cx="970200" cy="4399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cessor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2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5033520" y="1610280"/>
                <a:ext cx="484560" cy="390960"/>
              </a:xfrm>
              <a:prstGeom prst="rightArrow">
                <a:avLst>
                  <a:gd name="adj1" fmla="val 50000"/>
                  <a:gd name="adj2" fmla="val 30985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161960" y="2685960"/>
                <a:ext cx="873360" cy="488880"/>
              </a:xfrm>
              <a:prstGeom prst="rect">
                <a:avLst/>
              </a:prstGeom>
              <a:solidFill>
                <a:srgbClr val="ff99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CFD Solv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5518080" y="2392560"/>
                <a:ext cx="1940400" cy="879840"/>
                <a:chOff x="5518080" y="2392560"/>
                <a:chExt cx="1940400" cy="87984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18080" y="2392560"/>
                  <a:ext cx="970200" cy="4399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cessor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0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488280" y="2392560"/>
                  <a:ext cx="970200" cy="4399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cessor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1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488280" y="2832480"/>
                  <a:ext cx="970200" cy="4399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cessor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518080" y="2832480"/>
                  <a:ext cx="970200" cy="4399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cessor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2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5033520" y="2685960"/>
                <a:ext cx="484560" cy="390960"/>
              </a:xfrm>
              <a:prstGeom prst="rightArrow">
                <a:avLst>
                  <a:gd name="adj1" fmla="val 50000"/>
                  <a:gd name="adj2" fmla="val 30985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61960" y="3662280"/>
                <a:ext cx="873360" cy="488880"/>
              </a:xfrm>
              <a:prstGeom prst="rect">
                <a:avLst/>
              </a:prstGeom>
              <a:solidFill>
                <a:srgbClr val="ff99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CF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Solv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5518080" y="3371040"/>
                <a:ext cx="1940400" cy="879840"/>
                <a:chOff x="5518080" y="3371040"/>
                <a:chExt cx="1940400" cy="879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5518080" y="3371040"/>
                  <a:ext cx="970200" cy="4399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cessor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0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8280" y="3371040"/>
                  <a:ext cx="970200" cy="4399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cessor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1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488280" y="3810960"/>
                  <a:ext cx="970200" cy="4399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cessor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810960"/>
                  <a:ext cx="970200" cy="4399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cessor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P2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5033520" y="3664080"/>
                <a:ext cx="484560" cy="390960"/>
              </a:xfrm>
              <a:prstGeom prst="rightArrow">
                <a:avLst>
                  <a:gd name="adj1" fmla="val 50000"/>
                  <a:gd name="adj2" fmla="val 30985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73840" y="2062800"/>
                <a:ext cx="1302480" cy="1621080"/>
              </a:xfrm>
              <a:prstGeom prst="rect">
                <a:avLst/>
              </a:prstGeom>
              <a:solidFill>
                <a:srgbClr val="ff99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Genetic Algorith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923280" y="1738440"/>
                <a:ext cx="185760" cy="2350440"/>
              </a:xfrm>
              <a:custGeom>
                <a:avLst/>
                <a:gdLst>
                  <a:gd name="textAreaLeft" fmla="*/ 118800 w 185760"/>
                  <a:gd name="textAreaRight" fmla="*/ 186120 w 185760"/>
                  <a:gd name="textAreaTop" fmla="*/ 61200 h 2350440"/>
                  <a:gd name="textAreaBottom" fmla="*/ 2289240 h 235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7" name=""/>
          <p:cNvSpPr/>
          <p:nvPr/>
        </p:nvSpPr>
        <p:spPr>
          <a:xfrm flipH="1">
            <a:off x="7392600" y="1644480"/>
            <a:ext cx="74124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21680" y="1116000"/>
            <a:ext cx="158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afd00"/>
                </a:solidFill>
                <a:latin typeface="Arial"/>
              </a:rPr>
              <a:t>Parallelized with p process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80960" y="4389480"/>
            <a:ext cx="2292480" cy="2046240"/>
            <a:chOff x="480960" y="4389480"/>
            <a:chExt cx="2292480" cy="2046240"/>
          </a:xfrm>
        </p:grpSpPr>
        <p:sp>
          <p:nvSpPr>
            <p:cNvPr id="310" name=""/>
            <p:cNvSpPr/>
            <p:nvPr/>
          </p:nvSpPr>
          <p:spPr>
            <a:xfrm>
              <a:off x="480960" y="4389480"/>
              <a:ext cx="2292480" cy="2046240"/>
            </a:xfrm>
            <a:prstGeom prst="triangle">
              <a:avLst>
                <a:gd name="adj" fmla="val 52287"/>
              </a:avLst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623880" y="4699080"/>
              <a:ext cx="2044800" cy="1735200"/>
              <a:chOff x="623880" y="4699080"/>
              <a:chExt cx="2044800" cy="1735200"/>
            </a:xfrm>
          </p:grpSpPr>
          <p:sp>
            <p:nvSpPr>
              <p:cNvPr id="312" name=""/>
              <p:cNvSpPr/>
              <p:nvPr/>
            </p:nvSpPr>
            <p:spPr>
              <a:xfrm>
                <a:off x="623880" y="6066000"/>
                <a:ext cx="335160" cy="3524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074960" y="6040440"/>
                <a:ext cx="334800" cy="3524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08160" y="5734080"/>
                <a:ext cx="335160" cy="3524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333880" y="6081840"/>
                <a:ext cx="334800" cy="3524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901880" y="6066000"/>
                <a:ext cx="335160" cy="3524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495440" y="6062760"/>
                <a:ext cx="335160" cy="3524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17920" y="5711760"/>
                <a:ext cx="334800" cy="3524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074960" y="5370480"/>
                <a:ext cx="334800" cy="3524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57520" y="5735520"/>
                <a:ext cx="334800" cy="3524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274760" y="5710320"/>
                <a:ext cx="335160" cy="3524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909800" y="5375160"/>
                <a:ext cx="335160" cy="3524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16320" y="5353200"/>
                <a:ext cx="334800" cy="3524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316160" y="5046840"/>
                <a:ext cx="334800" cy="3520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697040" y="5040360"/>
                <a:ext cx="335160" cy="3524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16320" y="4699080"/>
                <a:ext cx="334800" cy="3524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2790720" y="6068880"/>
            <a:ext cx="63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afd00"/>
                </a:solidFill>
                <a:latin typeface="Arial"/>
              </a:rPr>
              <a:t>Genetic algorithm based on selection, mutation, crosso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07840" y="577800"/>
            <a:ext cx="702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NESTED LEVELS of PARALLEL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184480" y="2104920"/>
            <a:ext cx="5567400" cy="42213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22320" y="293760"/>
            <a:ext cx="80438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VERIFICATION &amp; VALID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36840" y="971640"/>
            <a:ext cx="75517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LLENGE INNOVATIVE NUMERICAL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890880" y="1371600"/>
            <a:ext cx="24289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>
            <a:hlinkClick r:id="rId1"/>
          </p:cNvPr>
          <p:cNvPicPr/>
          <p:nvPr/>
        </p:nvPicPr>
        <p:blipFill>
          <a:blip r:embed="rId2"/>
          <a:srcRect l="14017" t="26019" r="19252" b="26019"/>
          <a:stretch/>
        </p:blipFill>
        <p:spPr>
          <a:xfrm>
            <a:off x="3592440" y="2109960"/>
            <a:ext cx="2971800" cy="13334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20840" y="3724200"/>
            <a:ext cx="9320040" cy="20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10000"/>
              </a:lnSpc>
              <a:spcBef>
                <a:spcPts val="112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ntegration of existing (verified and validated) tools/software must be supported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ifferent programming languages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lexible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spcBef>
                <a:spcPts val="112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b-based support of an experts knowledge data b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by forums, newsgroups, experts data base, V&amp;V data base,…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‘attractive room’ to bring single discipline parties close toget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22520" y="495360"/>
            <a:ext cx="52498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V&amp;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3921120" y="1050840"/>
            <a:ext cx="24289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420840" y="1800360"/>
            <a:ext cx="948528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20000"/>
              </a:lnSpc>
              <a:spcBef>
                <a:spcPts val="112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efinition of effective and flexible interface structures in an early project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strong impact on success of a GRID integration platfor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12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General: High speed LAN and WAN for process communication data transfer required</a:t>
            </a:r>
            <a:br>
              <a:rPr sz="1800"/>
            </a:b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t CFD simulations for complex configurations also require efficient libraries </a:t>
            </a:r>
            <a:br>
              <a:rPr sz="1800"/>
            </a:b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e.g. MPI) for distributed parallel systems (e.g. PC-cluster, grids), als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12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omplexity and flexibility of the GRID integration platform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great flexibility in linkage of a lot of different tools and software required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to reduce the development risk a step by step approached could be helpfu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12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high level of data security must be ensured in an early stage of the project otherwise only trivial tasks will be tested and worked out on such a platform by industrial partners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22520" y="495360"/>
            <a:ext cx="52498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V&amp;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022640" y="1095480"/>
            <a:ext cx="24289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674800" y="762120"/>
            <a:ext cx="43084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GRID COMPU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78000" y="3389400"/>
            <a:ext cx="5961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 THROUGHPUT 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78000" y="2779560"/>
            <a:ext cx="58737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 PERFORMANCE 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78000" y="3998880"/>
            <a:ext cx="51008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TA-DATA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78000" y="4519440"/>
            <a:ext cx="60818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NG DURATION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74800" y="1687680"/>
            <a:ext cx="435312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ONLY UTILITIES FOR…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08600" y="5772240"/>
            <a:ext cx="20048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USUAL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674800" y="762120"/>
            <a:ext cx="43084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GO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09800" y="3467160"/>
            <a:ext cx="7545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CED COMPUTATIONAL METHODS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09800" y="2855880"/>
            <a:ext cx="65865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GRID COMPUTING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09800" y="4078440"/>
            <a:ext cx="84535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ULTIDISCIPLINARY SIMULATION &amp; OPTIM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09800" y="2246400"/>
            <a:ext cx="65865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CROSS-FERTILIZATION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9800" y="4629240"/>
            <a:ext cx="77803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SOLVE MULTIDISCIPLINARY DESIG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19400" y="1487520"/>
            <a:ext cx="20163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ALSO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65480" y="5334120"/>
            <a:ext cx="5300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CROSS-DOMAIN IMPACT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09800" y="5934240"/>
            <a:ext cx="581004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ERONAUTICS, ENERGY, TELECOM…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19680" y="3033720"/>
            <a:ext cx="2292120" cy="110016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GB" sz="1100" spc="-1" strike="noStrike">
                <a:solidFill>
                  <a:srgbClr val="244a95"/>
                </a:solidFill>
                <a:latin typeface="Arial"/>
              </a:rPr>
              <a:t>AEROCHINA Data Bas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GB" sz="1100" spc="-1" strike="noStrike">
                <a:solidFill>
                  <a:srgbClr val="244a95"/>
                </a:solidFill>
                <a:latin typeface="Arial"/>
              </a:rPr>
              <a:t>Worksho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GB" sz="1100" spc="-1" strike="noStrike">
                <a:solidFill>
                  <a:srgbClr val="244a95"/>
                </a:solidFill>
                <a:latin typeface="Arial"/>
              </a:rPr>
              <a:t>Road map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2600280"/>
            <a:ext cx="2309760" cy="6922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GB" sz="1100" spc="-1" strike="noStrike">
                <a:solidFill>
                  <a:srgbClr val="244a95"/>
                </a:solidFill>
                <a:latin typeface="Arial"/>
              </a:rPr>
              <a:t>Simulation</a:t>
            </a:r>
            <a:r>
              <a:rPr b="0" lang="fr-FR" sz="1100" spc="-1" strike="noStrike">
                <a:solidFill>
                  <a:srgbClr val="244a95"/>
                </a:solidFill>
                <a:latin typeface="Arial"/>
              </a:rPr>
              <a:t>, Experimentation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fr-FR" sz="1100" spc="-1" strike="noStrike">
                <a:solidFill>
                  <a:srgbClr val="244a95"/>
                </a:solidFill>
                <a:latin typeface="Arial"/>
              </a:rPr>
              <a:t>and Design</a:t>
            </a:r>
            <a:r>
              <a:rPr b="0" lang="en-GB" sz="1100" spc="-1" strike="noStrike">
                <a:solidFill>
                  <a:srgbClr val="244a95"/>
                </a:solidFill>
                <a:latin typeface="Arial"/>
              </a:rPr>
              <a:t> method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89840" y="2816280"/>
            <a:ext cx="1139760" cy="36180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GB" sz="1100" spc="-1" strike="noStrike">
                <a:solidFill>
                  <a:srgbClr val="244a95"/>
                </a:solidFill>
                <a:latin typeface="Arial"/>
              </a:rPr>
              <a:t>Aeroelastici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13520" y="3308400"/>
            <a:ext cx="1140120" cy="3841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GB" sz="1100" spc="-1" strike="noStrike">
                <a:solidFill>
                  <a:srgbClr val="244a95"/>
                </a:solidFill>
                <a:latin typeface="Arial"/>
              </a:rPr>
              <a:t>Aero/vibr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GB" sz="1100" spc="-1" strike="noStrike">
                <a:solidFill>
                  <a:srgbClr val="244a95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244a95"/>
                </a:solidFill>
                <a:latin typeface="Arial"/>
              </a:rPr>
              <a:t>acous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24680" y="2749680"/>
            <a:ext cx="1785960" cy="715680"/>
          </a:xfrm>
          <a:prstGeom prst="line">
            <a:avLst/>
          </a:prstGeom>
          <a:ln w="5076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68880" y="2776680"/>
            <a:ext cx="1773360" cy="1050840"/>
          </a:xfrm>
          <a:prstGeom prst="line">
            <a:avLst/>
          </a:prstGeom>
          <a:ln w="5076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622920" y="5321160"/>
            <a:ext cx="1946160" cy="590400"/>
            <a:chOff x="6622920" y="5321160"/>
            <a:chExt cx="1946160" cy="590400"/>
          </a:xfrm>
        </p:grpSpPr>
        <p:sp>
          <p:nvSpPr>
            <p:cNvPr id="66" name=""/>
            <p:cNvSpPr/>
            <p:nvPr/>
          </p:nvSpPr>
          <p:spPr>
            <a:xfrm>
              <a:off x="6622920" y="5321160"/>
              <a:ext cx="1946160" cy="5904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2480" bIns="42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32960" y="5432040"/>
              <a:ext cx="1162440" cy="42012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2480" bIns="42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100" spc="-1" strike="noStrike">
                  <a:solidFill>
                    <a:srgbClr val="244a95"/>
                  </a:solidFill>
                  <a:latin typeface="Arial"/>
                </a:rPr>
                <a:t>Drag prediction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100" spc="-1" strike="noStrike">
                  <a:solidFill>
                    <a:srgbClr val="244a95"/>
                  </a:solidFill>
                  <a:latin typeface="Arial"/>
                </a:rPr>
                <a:t>and reductio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081840" y="3971880"/>
            <a:ext cx="812520" cy="577800"/>
          </a:xfrm>
          <a:prstGeom prst="line">
            <a:avLst/>
          </a:prstGeom>
          <a:ln w="507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43440" y="4187880"/>
            <a:ext cx="919440" cy="1227240"/>
          </a:xfrm>
          <a:prstGeom prst="line">
            <a:avLst/>
          </a:prstGeom>
          <a:ln w="507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46640" y="1498680"/>
            <a:ext cx="3171600" cy="3381120"/>
          </a:xfrm>
          <a:prstGeom prst="ellipse">
            <a:avLst/>
          </a:prstGeom>
          <a:noFill/>
          <a:ln w="38160">
            <a:solidFill>
              <a:srgbClr val="d60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43200" y="1084320"/>
            <a:ext cx="2585880" cy="511560"/>
          </a:xfrm>
          <a:prstGeom prst="rect">
            <a:avLst/>
          </a:prstGeom>
          <a:solidFill>
            <a:srgbClr val="ffff00"/>
          </a:solidFill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GB" sz="1400" spc="-1" strike="noStrike">
                <a:solidFill>
                  <a:srgbClr val="0063a3"/>
                </a:solidFill>
                <a:latin typeface="Arial"/>
              </a:rPr>
              <a:t>RESEARCH CENT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GB" sz="1400" spc="-1" strike="noStrike">
                <a:solidFill>
                  <a:srgbClr val="0063a3"/>
                </a:solidFill>
                <a:latin typeface="Arial"/>
              </a:rPr>
              <a:t>AND UNIVERS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43440" y="1101600"/>
            <a:ext cx="1611360" cy="678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GB" sz="1400" spc="-1" strike="noStrike">
                <a:solidFill>
                  <a:srgbClr val="0063a3"/>
                </a:solidFill>
                <a:latin typeface="Arial"/>
              </a:rPr>
              <a:t>INDUSTR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59280" y="1662120"/>
            <a:ext cx="1527480" cy="587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GB" sz="1100" spc="-1" strike="noStrike">
                <a:solidFill>
                  <a:srgbClr val="333399"/>
                </a:solidFill>
                <a:latin typeface="Arial"/>
              </a:rPr>
              <a:t>Critical industrial multi physics  problems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44760" y="2195640"/>
            <a:ext cx="569880" cy="323640"/>
          </a:xfrm>
          <a:prstGeom prst="line">
            <a:avLst/>
          </a:prstGeom>
          <a:ln w="5076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81400" y="2796840"/>
            <a:ext cx="682560" cy="181080"/>
          </a:xfrm>
          <a:prstGeom prst="line">
            <a:avLst/>
          </a:prstGeom>
          <a:ln w="5076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0920" y="3622680"/>
            <a:ext cx="2273400" cy="63828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GB" sz="1100" spc="-1" strike="noStrike">
                <a:solidFill>
                  <a:srgbClr val="244a95"/>
                </a:solidFill>
                <a:latin typeface="Arial"/>
              </a:rPr>
              <a:t>Databas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168720" y="3754080"/>
            <a:ext cx="814320" cy="144360"/>
          </a:xfrm>
          <a:prstGeom prst="line">
            <a:avLst/>
          </a:prstGeom>
          <a:ln w="507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4549680"/>
            <a:ext cx="2476440" cy="1471320"/>
          </a:xfrm>
          <a:prstGeom prst="rect">
            <a:avLst/>
          </a:prstGeom>
          <a:solidFill>
            <a:srgbClr val="66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GB" sz="1300" spc="-1" strike="noStrike">
                <a:solidFill>
                  <a:srgbClr val="244a95"/>
                </a:solidFill>
                <a:latin typeface="Arial"/>
              </a:rPr>
              <a:t>Other Network connection: PIVnet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GB" sz="1300" spc="-1" strike="noStrike">
                <a:solidFill>
                  <a:srgbClr val="244a95"/>
                </a:solidFill>
                <a:latin typeface="Arial"/>
              </a:rPr>
              <a:t>FLOWnet, Qnet, ERCOFTAC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fr-FR" sz="1300" spc="-1" strike="noStrike">
                <a:solidFill>
                  <a:srgbClr val="244a95"/>
                </a:solidFill>
                <a:latin typeface="Arial"/>
              </a:rPr>
              <a:t>PROMUVAL, EUROSHOCK, AEROMEMS, AEROLIFT, HISAC, TAURUS, EUROPIV, ENABLE, JEAN,</a:t>
            </a:r>
            <a:r>
              <a:rPr b="1" lang="en-GB" sz="1300" spc="-1" strike="noStrike">
                <a:solidFill>
                  <a:srgbClr val="244a95"/>
                </a:solidFill>
                <a:latin typeface="Arial"/>
              </a:rPr>
              <a:t>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73240" y="3971880"/>
            <a:ext cx="1009800" cy="587520"/>
          </a:xfrm>
          <a:prstGeom prst="line">
            <a:avLst/>
          </a:prstGeom>
          <a:ln w="76320">
            <a:solidFill>
              <a:srgbClr val="081d5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78800" y="4341960"/>
            <a:ext cx="1682640" cy="43632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fr-FR" sz="1200" spc="-1" strike="noStrike">
                <a:solidFill>
                  <a:srgbClr val="244a95"/>
                </a:solidFill>
                <a:latin typeface="Arial"/>
              </a:rPr>
              <a:t>Noise predic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fr-FR" sz="1200" spc="-1" strike="noStrike">
                <a:solidFill>
                  <a:srgbClr val="244a95"/>
                </a:solidFill>
                <a:latin typeface="Arial"/>
              </a:rPr>
              <a:t>and re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29160" y="1266840"/>
            <a:ext cx="1144440" cy="724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GB" sz="1400" spc="-1" strike="noStrike">
                <a:solidFill>
                  <a:srgbClr val="244a95"/>
                </a:solidFill>
                <a:latin typeface="Arial"/>
              </a:rPr>
              <a:t>Web based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98520" y="1625760"/>
            <a:ext cx="1892520" cy="75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GB" sz="1100" spc="-1" strike="noStrike">
                <a:solidFill>
                  <a:srgbClr val="244a95"/>
                </a:solidFill>
                <a:latin typeface="Arial"/>
              </a:rPr>
              <a:t>Multi-Physics Modelling ,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GB" sz="1100" spc="-1" strike="noStrike">
                <a:solidFill>
                  <a:srgbClr val="244a95"/>
                </a:solidFill>
                <a:latin typeface="Arial"/>
              </a:rPr>
              <a:t>Numerical Analysis,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GB" sz="1100" spc="-1" strike="noStrike">
                <a:solidFill>
                  <a:srgbClr val="244a95"/>
                </a:solidFill>
                <a:latin typeface="Arial"/>
              </a:rPr>
              <a:t>Experimentation, Desig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3840" y="3754440"/>
            <a:ext cx="1141560" cy="385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fr-FR" sz="1100" spc="-1" strike="noStrike">
                <a:solidFill>
                  <a:srgbClr val="244a95"/>
                </a:solidFill>
                <a:latin typeface="Arial"/>
              </a:rPr>
              <a:t>Thermal flow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33720" y="4981680"/>
            <a:ext cx="1441440" cy="57780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fr-FR" sz="1900" spc="-1" strike="noStrike">
                <a:solidFill>
                  <a:srgbClr val="244a95"/>
                </a:solidFill>
                <a:latin typeface="Arial"/>
              </a:rPr>
              <a:t>Aeronautic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56080" y="5199120"/>
            <a:ext cx="1287360" cy="60156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900" spc="-1" strike="noStrike">
                <a:solidFill>
                  <a:srgbClr val="244a95"/>
                </a:solidFill>
                <a:latin typeface="Arial"/>
              </a:rPr>
              <a:t>Propuls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05760" y="1420920"/>
            <a:ext cx="1574640" cy="846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GB" sz="1400" spc="-1" strike="noStrike">
                <a:solidFill>
                  <a:srgbClr val="0063a3"/>
                </a:solidFill>
                <a:latin typeface="Arial"/>
              </a:rPr>
              <a:t>GOVERMENTAL INSTITU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GB" sz="1100" spc="-1" strike="noStrike">
                <a:solidFill>
                  <a:srgbClr val="333399"/>
                </a:solidFill>
                <a:latin typeface="Arial"/>
              </a:rPr>
              <a:t>Generic multi physic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GB" sz="11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216480" y="2166480"/>
            <a:ext cx="677880" cy="360360"/>
          </a:xfrm>
          <a:prstGeom prst="line">
            <a:avLst/>
          </a:prstGeom>
          <a:ln w="50760">
            <a:solidFill>
              <a:srgbClr val="99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59200" y="2076480"/>
            <a:ext cx="2351160" cy="1017720"/>
          </a:xfrm>
          <a:prstGeom prst="ellipse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100" spc="-1" strike="noStrike">
                <a:solidFill>
                  <a:srgbClr val="ffff9f"/>
                </a:solidFill>
                <a:latin typeface="Arial"/>
              </a:rPr>
              <a:t>AEROCHINA  Communication Syste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51160" y="3036960"/>
            <a:ext cx="682560" cy="350640"/>
          </a:xfrm>
          <a:prstGeom prst="line">
            <a:avLst/>
          </a:prstGeom>
          <a:ln w="507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049640" y="4187520"/>
            <a:ext cx="406440" cy="793800"/>
          </a:xfrm>
          <a:prstGeom prst="line">
            <a:avLst/>
          </a:prstGeom>
          <a:ln w="76320">
            <a:solidFill>
              <a:srgbClr val="ff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082840" y="4264200"/>
            <a:ext cx="4680" cy="892080"/>
          </a:xfrm>
          <a:prstGeom prst="line">
            <a:avLst/>
          </a:prstGeom>
          <a:ln w="76320">
            <a:solidFill>
              <a:srgbClr val="ff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62760" y="4846680"/>
            <a:ext cx="1641600" cy="42372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GB" sz="1100" spc="-1" strike="noStrike">
                <a:solidFill>
                  <a:srgbClr val="244a95"/>
                </a:solidFill>
                <a:latin typeface="Arial"/>
              </a:rPr>
              <a:t>Pollution prediction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GB" sz="1100" spc="-1" strike="noStrike">
                <a:solidFill>
                  <a:srgbClr val="244a95"/>
                </a:solidFill>
                <a:latin typeface="Arial"/>
              </a:rPr>
              <a:t>and reduction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78440" y="4116240"/>
            <a:ext cx="1081080" cy="893880"/>
          </a:xfrm>
          <a:prstGeom prst="line">
            <a:avLst/>
          </a:prstGeom>
          <a:ln w="507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37280" y="2717640"/>
            <a:ext cx="1841400" cy="316080"/>
          </a:xfrm>
          <a:prstGeom prst="line">
            <a:avLst/>
          </a:prstGeom>
          <a:ln w="5076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35720" y="3940200"/>
            <a:ext cx="1446120" cy="3841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fr-FR" sz="1100" spc="-1" strike="noStrike">
                <a:solidFill>
                  <a:srgbClr val="244a95"/>
                </a:solidFill>
                <a:latin typeface="Arial"/>
              </a:rPr>
              <a:t>Fluid atmospher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fr-FR" sz="1100" spc="-1" strike="noStrike">
                <a:solidFill>
                  <a:srgbClr val="244a95"/>
                </a:solidFill>
                <a:latin typeface="Arial"/>
              </a:rPr>
              <a:t>environ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46920" y="2806560"/>
            <a:ext cx="1012680" cy="1143000"/>
          </a:xfrm>
          <a:prstGeom prst="line">
            <a:avLst/>
          </a:prstGeom>
          <a:ln w="5076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472000" y="5854680"/>
            <a:ext cx="1836360" cy="518760"/>
            <a:chOff x="5472000" y="5854680"/>
            <a:chExt cx="1836360" cy="518760"/>
          </a:xfrm>
        </p:grpSpPr>
        <p:sp>
          <p:nvSpPr>
            <p:cNvPr id="98" name=""/>
            <p:cNvSpPr/>
            <p:nvPr/>
          </p:nvSpPr>
          <p:spPr>
            <a:xfrm>
              <a:off x="5472000" y="5854680"/>
              <a:ext cx="1836360" cy="51876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2480" bIns="42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31720" y="5951880"/>
              <a:ext cx="959760" cy="25272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2480" bIns="42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8640"/>
                  <a:tab algn="l" pos="1457280"/>
                  <a:tab algn="l" pos="2185920"/>
                  <a:tab algn="l" pos="2914560"/>
                  <a:tab algn="l" pos="3643200"/>
                  <a:tab algn="l" pos="4371840"/>
                  <a:tab algn="l" pos="5100480"/>
                  <a:tab algn="l" pos="5829480"/>
                  <a:tab algn="l" pos="6558120"/>
                  <a:tab algn="l" pos="7286760"/>
                  <a:tab algn="l" pos="8015400"/>
                  <a:tab algn="l" pos="8744040"/>
                  <a:tab algn="l" pos="9472680"/>
                  <a:tab algn="l" pos="10201320"/>
                  <a:tab algn="l" pos="10929960"/>
                </a:tabLst>
              </a:pPr>
              <a:r>
                <a:rPr b="0" lang="en-GB" sz="1100" spc="-1" strike="noStrike">
                  <a:solidFill>
                    <a:srgbClr val="244a95"/>
                  </a:solidFill>
                  <a:latin typeface="Arial"/>
                </a:rPr>
                <a:t>Safe</a:t>
              </a:r>
              <a:r>
                <a:rPr b="0" lang="fr-FR" sz="1100" spc="-1" strike="noStrike">
                  <a:solidFill>
                    <a:srgbClr val="244a95"/>
                  </a:solidFill>
                  <a:latin typeface="Arial"/>
                </a:rPr>
                <a:t>r desig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545080" y="4414680"/>
            <a:ext cx="755640" cy="1332000"/>
          </a:xfrm>
          <a:prstGeom prst="line">
            <a:avLst/>
          </a:prstGeom>
          <a:ln w="507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32000" y="279360"/>
            <a:ext cx="73533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598840" y="762120"/>
            <a:ext cx="52498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ROSS-LEVER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33480" y="3452760"/>
            <a:ext cx="66834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MAIN DECOMPOSITION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33480" y="2827440"/>
            <a:ext cx="79963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OLUTIONARY METHODS (GAME THEORY, 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33480" y="4078440"/>
            <a:ext cx="84535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ULTIPLE CODE INSTANCES ON PC-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33480" y="4703760"/>
            <a:ext cx="79963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ALLEL EXECUTION MULTIDISCIPLINE CO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33480" y="2201760"/>
            <a:ext cx="77677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STING SEVERAL LEVELS PARALLEL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2000" y="1459080"/>
            <a:ext cx="78440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IDS &amp; INNOVATIVE COMPUTATIONAL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33480" y="5319720"/>
            <a:ext cx="79963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ALLEL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096920" y="2214720"/>
            <a:ext cx="7641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Performance monitoring : dynamic load balan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92240" y="3936960"/>
            <a:ext cx="85233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Integrating applications with grid computing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01600" y="3362400"/>
            <a:ext cx="47437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Service oriented archite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94040" y="2787480"/>
            <a:ext cx="87289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Virtual organisations : security, authentication, authori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01600" y="846000"/>
            <a:ext cx="80726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UPLING w ONGOING EFFOR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097280" y="4508640"/>
            <a:ext cx="54874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Enabling applications techn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97640" y="5041800"/>
            <a:ext cx="56948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s : OGSA, Services, GT4,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19400" y="1487520"/>
            <a:ext cx="2340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FREE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55440" y="5857920"/>
            <a:ext cx="44715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act: NGG OS, Services,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057480" y="615960"/>
            <a:ext cx="36194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2041560" y="1603440"/>
            <a:ext cx="5621400" cy="37465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785520" y="2673360"/>
            <a:ext cx="8290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e.g. « VIRTUAL FLIGHT TESTS FOR DIGITAL DYNAMIC AIRCRAFT 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84240" y="1760400"/>
            <a:ext cx="8031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EMPOWERING END-USERS OF GRID-ENABLED APP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-64440" y="1157400"/>
            <a:ext cx="10047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-FERTILIZING INNOVATIVE NUMERICAL METHODS &amp; GRID TECHN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5520" y="3741840"/>
            <a:ext cx="8475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e.g. « OPTIMAL CELL PHONE ACOUSTICS &amp; ELECTROMAGNETICS 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5520" y="4809960"/>
            <a:ext cx="8517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e.g. « RELIABLE POWER DELIVERY FOR NATIONWIDE NETWORKS 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98480" y="1471680"/>
            <a:ext cx="8199360" cy="47354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137040" y="541440"/>
            <a:ext cx="35906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77120" y="5811840"/>
            <a:ext cx="41378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Toan.Nguyen@inrialpes.f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01960" y="5294160"/>
            <a:ext cx="39351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one : +33 476 61 52 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76600" y="3408480"/>
            <a:ext cx="68166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ttp://www-opale.inrialpes.fr/cscwd2006.p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75520" y="4044960"/>
            <a:ext cx="68518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ttp://www-opale.inrialpes.fr/ewhsff2005.p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77680" y="2133720"/>
            <a:ext cx="53078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•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http://www.cimne.com/aerochin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76960" y="2770200"/>
            <a:ext cx="52408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•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http://www.cimne.com/promuva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76240" y="1496880"/>
            <a:ext cx="45644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ttp://www-opale.inrialpes.f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4648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77480" y="2959200"/>
            <a:ext cx="8388360" cy="28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Foster the 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cooperation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between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industry, university and research 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organizations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in the 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aeronautics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sector in 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urope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China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in the field of mathematical modelling, computer simulation and code validation, experimental testing and development of design guidelines methods</a:t>
            </a:r>
            <a:r>
              <a:rPr b="0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for the solution of multiphysics problems of interest to the aeronautic sector.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32000" y="546120"/>
            <a:ext cx="7353360" cy="714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78200" y="5440320"/>
            <a:ext cx="8630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2 Chinese partners: BUAA, AVIC 1, NUAA, HUST, ACTRI,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78200" y="5877000"/>
            <a:ext cx="8819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2 European partners: EADS, Airbus, DLR, ONERA, CIMNE,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5280" y="14526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Roadma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2289240"/>
            <a:ext cx="914400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To identify and collect state of the art information on existing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hematical models and computational methods</a:t>
            </a: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 in Europe and China for analysis of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ultidisciplinary problems</a:t>
            </a: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 in aeronautic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To collect state of the art information on </a:t>
            </a:r>
            <a:r>
              <a:rPr b="0" lang="en-GB" sz="1800" spc="-1" strike="noStrike">
                <a:solidFill>
                  <a:srgbClr val="cccc00"/>
                </a:solidFill>
                <a:latin typeface="Arial"/>
              </a:rPr>
              <a:t>test case problems</a:t>
            </a: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cccc00"/>
                </a:solidFill>
                <a:latin typeface="Arial"/>
              </a:rPr>
              <a:t>experimental data</a:t>
            </a: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 available in Europe and China for validation of computational methods for </a:t>
            </a:r>
            <a:r>
              <a:rPr b="0" lang="en-GB" sz="1800" spc="-1" strike="noStrike">
                <a:solidFill>
                  <a:srgbClr val="cccc00"/>
                </a:solidFill>
                <a:latin typeface="Arial"/>
              </a:rPr>
              <a:t>analysis and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ptimization of multidisciplinary problems</a:t>
            </a: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 in aeronautic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To </a:t>
            </a:r>
            <a:r>
              <a:rPr b="0" lang="en-GB" sz="1800" spc="-1" strike="noStrike">
                <a:solidFill>
                  <a:srgbClr val="cccc00"/>
                </a:solidFill>
                <a:latin typeface="Arial"/>
              </a:rPr>
              <a:t>identify critical future joint RTD areas</a:t>
            </a: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 in Europe and China for </a:t>
            </a:r>
            <a:r>
              <a:rPr b="0" lang="en-GB" sz="1800" spc="-1" strike="noStrike">
                <a:solidFill>
                  <a:srgbClr val="cccc00"/>
                </a:solidFill>
                <a:latin typeface="Arial"/>
              </a:rPr>
              <a:t>analysis and optimization</a:t>
            </a: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 of multidisciplinary problems in aeronautics using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novative computational methods</a:t>
            </a: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 and experimental tes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To </a:t>
            </a:r>
            <a:r>
              <a:rPr b="0" lang="en-GB" sz="1800" spc="-1" strike="noStrike">
                <a:solidFill>
                  <a:srgbClr val="cccc00"/>
                </a:solidFill>
                <a:latin typeface="Arial"/>
              </a:rPr>
              <a:t>disseminate</a:t>
            </a: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 within Europe and China </a:t>
            </a:r>
            <a:r>
              <a:rPr b="0" lang="en-GB" sz="1800" spc="-1" strike="noStrike">
                <a:solidFill>
                  <a:srgbClr val="cccc00"/>
                </a:solidFill>
                <a:latin typeface="Arial"/>
              </a:rPr>
              <a:t>numerical and experimental data collec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8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To </a:t>
            </a:r>
            <a:r>
              <a:rPr b="0" lang="en-GB" sz="1800" spc="-1" strike="noStrike">
                <a:solidFill>
                  <a:srgbClr val="cccc00"/>
                </a:solidFill>
                <a:latin typeface="Arial"/>
              </a:rPr>
              <a:t>define a strategy for analysis </a:t>
            </a:r>
            <a:r>
              <a:rPr b="0" lang="en-GB" sz="1800" spc="-1" strike="noStrike" u="sng">
                <a:solidFill>
                  <a:srgbClr val="cccc00"/>
                </a:solidFill>
                <a:uFillTx/>
                <a:latin typeface="Arial"/>
              </a:rPr>
              <a:t>and design </a:t>
            </a:r>
            <a:r>
              <a:rPr b="0" lang="en-GB" sz="1800" spc="-1" strike="noStrike">
                <a:solidFill>
                  <a:srgbClr val="cccc00"/>
                </a:solidFill>
                <a:latin typeface="Arial"/>
              </a:rPr>
              <a:t>of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ultidisciplinary problems</a:t>
            </a: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 in aeronautics of interest to European and Chinese industr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32000" y="546120"/>
            <a:ext cx="73533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03280" y="762120"/>
            <a:ext cx="857556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ULTIDISCIPLINE APPLIC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97160" y="2712960"/>
            <a:ext cx="58291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7160" y="2170080"/>
            <a:ext cx="52387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LLABORATIV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97160" y="3257640"/>
            <a:ext cx="56005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I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97160" y="3801960"/>
            <a:ext cx="5256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EL EFFIC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8160" y="1511280"/>
            <a:ext cx="853776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RONAU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97160" y="4344840"/>
            <a:ext cx="49039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VIRONMENT FRIEND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97160" y="4889520"/>
            <a:ext cx="66945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DESIGN TO MARKET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97160" y="5433840"/>
            <a:ext cx="7037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LIFECYCL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52640" y="1905120"/>
            <a:ext cx="7802280" cy="4076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30560" y="500040"/>
            <a:ext cx="59468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‘‘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TANDARD’’ TEST CA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78400" y="1239840"/>
            <a:ext cx="47048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G PROFILE OPTIM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262080" y="2567160"/>
            <a:ext cx="9453600" cy="2904840"/>
            <a:chOff x="262080" y="2567160"/>
            <a:chExt cx="9453600" cy="290484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915080" y="2567160"/>
              <a:ext cx="4800600" cy="29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262080" y="2567160"/>
              <a:ext cx="4962240" cy="29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3738600" y="5526000"/>
            <a:ext cx="4041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RA M6 SUPERSONIC W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7520" y="5830920"/>
            <a:ext cx="261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OA = 3°, MACH 1.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78040" y="639720"/>
            <a:ext cx="4837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IRFOIL OPTIM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66360" y="1239840"/>
            <a:ext cx="51786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D WING PROFILE OPTIM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a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3880" y="1185840"/>
            <a:ext cx="8469360" cy="5100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74680" y="457200"/>
            <a:ext cx="91519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UPERSONIC 3D OPTIM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9T15:36:12Z</dcterms:created>
  <dc:creator>CAST</dc:creator>
  <dc:description/>
  <cp:keywords/>
  <dc:language>en-US</dc:language>
  <cp:lastModifiedBy>opale</cp:lastModifiedBy>
  <cp:lastPrinted>2001-11-19T16:22:20Z</cp:lastPrinted>
  <dcterms:modified xsi:type="dcterms:W3CDTF">2006-02-21T00:28:06Z</dcterms:modified>
  <cp:revision>863</cp:revision>
  <dc:subject/>
  <dc:title>Aucun titre de diapositive</dc:title>
</cp:coreProperties>
</file>