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7DC-E8F3-4E93-9ED6-CC916F93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C1C-3933-4AE6-A174-23E3BF8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8F7-88B3-4CB9-A1B0-63550CA1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343-8D0C-4BEB-969E-DB3C09CF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493A-6274-4624-8AD2-2C58B695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9DB-3315-4B9B-B181-F93CE228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B11-B21E-46E1-B0FB-BB0A869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D253-FA3F-4CA2-82B5-255B9AA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041-EB6E-42AF-9A46-51217FF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49CB-CA66-4D31-B9F4-4E2D9F04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0858-4061-4502-900E-E1D9AB1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7AE-F0D7-4BD6-A12D-97478F17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F2D-01B6-4FCD-B4E6-7828F9C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0DD-34FA-4681-A594-F39359C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DE28-5FC5-476F-A528-5ED99E8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3B94-6B22-4914-932B-B6E4FA74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0922-8C51-4FE0-9E6E-D1A18A17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2D9-A95B-459B-935F-6CDD55BA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5EC-7C7F-48B1-8EEB-8B31F9D1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562-C494-4ECF-96FD-0882F1E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B8D-0DE7-4594-B48E-7C07B1FF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ECE-5C8F-412E-BEBB-357C791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6F6-077C-4CD0-9ED9-DD4A63F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E80-C653-4AA9-8302-B9063B0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23F8-833B-49CC-8A35-1F521EE40DA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3E0-9193-4B81-BA3E-BF8E802D77F9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Tahoma"/>
              </a:rPr>
              <a:t>Grid Technology Transfer through </a:t>
            </a:r>
            <a:br>
              <a:rPr sz="4800"/>
            </a:br>
            <a:r>
              <a:rPr b="1" lang="pl-PL" sz="4800" spc="-1" strike="noStrike">
                <a:solidFill>
                  <a:srgbClr val="ffffff"/>
                </a:solidFill>
                <a:latin typeface="Tahoma"/>
              </a:rPr>
              <a:t>The Matrix Project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5345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IP Proposal for the Call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arek Nabrzyski et 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ber@man.poznan.p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The Miss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is a grid application enabling and deployment proj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is driven by industry and commerce needs and is very much influenced and motivated by GAT and SA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builds on top of the past grid projects such as GridLab, CrossGrid, GRIA, Progress, etc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e will use available Grid tools in order to Grid enable  both, commercial/industrial and scientific applica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develop additional application-level standard tools and will strongly participate in standardization bodies, such as GG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AGA development is a primary tar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Research and Development Foc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trix will work mainly in three are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id application tools and toolkit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ew dynamic grid application scenari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tegrated environments for grid applications and for virtual organization manag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trix will not develop much new middleware. It will just adjust and deploy the existing middleware in order to satisfy applications’ needs. Focus will be on applications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Matrix Applica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work with around 10 commercial application companies and service providers to Grid-enable their application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each case a strong business model for the application is a mus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also work with around 2-3 scientific applications that have great impact for a broad user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ach application will work with Matrix in well defined cycles (8-16 months each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grid enabling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lot deployment and testing with advanced grid scenario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mprov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inal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Project organization and summa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orldwide alliances in both Americas, Europe, Asia-Pacific are being made to promote SA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Vendors takeup SAGA and develop adaptors for their grid middleware/OS and queueing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Application vendors use SAGA for grid enabling their ap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e are looking for application communities/ companies/ service providers to join th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trix will move Grid environments further into the trully collaborative environments for e-science, business and indus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2:48:06Z</dcterms:created>
  <dc:creator>Jarek Nabrzyski</dc:creator>
  <dc:description/>
  <dc:language>en-US</dc:language>
  <cp:lastModifiedBy>Jarek Nabrzyski</cp:lastModifiedBy>
  <dcterms:modified xsi:type="dcterms:W3CDTF">2005-06-22T05:57:43Z</dcterms:modified>
  <cp:revision>11</cp:revision>
  <dc:subject/>
  <dc:title>The Matrix Project</dc:title>
</cp:coreProperties>
</file>