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5B7-233A-4367-BD67-54C90CB3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F01-B2D1-41EA-B876-9B16E749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7AC-1E22-4BD5-8128-2E1FD2C9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F9C-EB40-4F8F-A79C-70C41B07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2026-071D-4256-A957-ACFA21C8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B93D-396B-4C70-B4B3-20A17F7F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13B8-34E0-4610-8D91-7C3C511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2ED-B0F8-44CE-A13B-CB4F7F7D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54AA-D08E-4AAA-942B-5A0CC25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BB3-16F1-4B23-887E-82289CF0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D6D-D87C-4C3C-B3DE-D3C16E0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5BB-093D-4607-B1E7-23B3203D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F56-1454-4C2E-8BB4-D2D3FDE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49D-3C5A-47A3-8CAE-A066465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608-BDBF-4732-8E85-88A2025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914-BE07-43DD-AB1F-4CFD68AB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2F8-90F6-4FC4-8EE4-25DD78B0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3B5-B1F6-4947-A675-1ADEF877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50B-57FC-429D-9846-2668D3C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182-8D2E-4495-9A37-4EF0A24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537-8314-496A-B044-2D24C10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FF7-66CA-4E58-8D96-78859A4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7B9-DA9B-4B7E-B44C-E009382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02E-A6E5-49EC-8279-3A4C631C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5274-3BDB-45E1-9631-77200B1AE476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8D3-73C4-4A27-929C-55B8ECD26E0E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ff"/>
                </a:solidFill>
                <a:latin typeface="Tahoma"/>
              </a:rPr>
              <a:t>Grid Technology Transfer through </a:t>
            </a:r>
            <a:br>
              <a:rPr sz="4800"/>
            </a:br>
            <a:r>
              <a:rPr b="1" lang="pl-PL" sz="4800" spc="-1" strike="noStrike">
                <a:solidFill>
                  <a:srgbClr val="ffffff"/>
                </a:solidFill>
                <a:latin typeface="Tahoma"/>
              </a:rPr>
              <a:t>The Matrix Project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5345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IP Proposal for the Call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Jarek Nabrzyski et 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ber@man.poznan.p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The Miss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is a grid application enabling and deployment proj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is driven by industry and commerce needs and is very much influenced and motivated by GAT and SA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builds on top of the past grid projects such as GridLab, CrossGrid, GRIA, Progress, etc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e will use available Grid tools in order to Grid enable  both, commercial/industrial and scientific applica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develop additional application-level standard tools and will strongly participate in standardization bodies, such as GGF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AGA development is a primary tar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Research and Development Foc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trix will work mainly in three are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id application tools and toolkit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ew dynamic grid application scenari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tegrated environments for grid applications and for virtual organization manag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atrix will not develop much new middleware. It will just adjust and deploy the existing middleware in order to satisfy applications’ needs. Focus will be on applications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Matrix Applicat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work with around 10 commercial application companies and service providers to Grid-enable their application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 each case a strong business model for the application is a mus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atrix will also work with around 2-3 scientific applications that have great impact for a broad user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Each application will work with Matrix in well defined cycles (8-16 months each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grid enabling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lot deployment and testing with advanced grid scenario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mprov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inal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ahoma"/>
              </a:rPr>
              <a:t>Project organization and summa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orldwide alliances in both Americas, Europe, Asia-Pacific are being made to promote SA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Vendors takeup SAGA and develop adaptors for their grid middleware/OS and queueing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Application vendors use SAGA for grid enabling their ap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e are looking for application communities/ companies/ service providers to join the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trix will move Grid environments further into the trully collaborative environments for e-science, business and indus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2:48:06Z</dcterms:created>
  <dc:creator>Jarek Nabrzyski</dc:creator>
  <dc:description/>
  <dc:language>en-US</dc:language>
  <cp:lastModifiedBy>Jarek Nabrzyski</cp:lastModifiedBy>
  <dcterms:modified xsi:type="dcterms:W3CDTF">2005-06-22T05:57:43Z</dcterms:modified>
  <cp:revision>11</cp:revision>
  <dc:subject/>
  <dc:title>The Matrix Project</dc:title>
</cp:coreProperties>
</file>