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5.wmf" ContentType="image/x-wmf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4400" y="459108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3"/>
          </p:nvPr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4"/>
          </p:nvPr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A8637D1-6537-4B40-9E7C-27BA1B49C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F674B49-CE1B-4527-92A5-F6D6C94DD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589280"/>
            <a:ext cx="5029200" cy="43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B69A795-5396-4909-87FB-A0C1EF601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627200" y="297000"/>
            <a:ext cx="3519360" cy="2639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53720" y="3041640"/>
            <a:ext cx="6484680" cy="6354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544B319-1C68-41B4-971E-D25F53627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4480" y="7272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59108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P 2005-06 structure is an evolution of the WP 2003-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level conceptual structure consisting of 3 layers to abstract from details and build the invisible knowledge G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A667-D4E0-430F-A4A7-B6B87BC7D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5F8F-3361-46D9-A3D8-D2674B2EB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212D-CD7D-426F-A5B6-2B6997CF8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084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8508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60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084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8508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0085-4928-42B8-9B40-F3BE9E557B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265F-3472-4738-A0D7-9C8205E033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0D06-B3A6-4874-AB0F-917ED5B32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A264-A41A-4D90-9D7C-C774C15FA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6240-2AE8-4BD7-B711-C7300C659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55760" y="1807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2C40-4623-4905-B6A1-3BB6B9BBB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9E8F-CDFF-43BA-BB42-52E7B02E0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A073-2DC5-4FED-B3D7-87781D757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3BEA-60A7-4CD4-A4F8-E9201C861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1509840" y="188640"/>
            <a:ext cx="6487920" cy="3474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900000" indent="-37764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2" marL="130824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3" marL="1803240" indent="-27936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4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5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6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586320" y="662004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EEAA-8E60-4BD6-95C6-E43FA2C8EF4A}" type="slidenum">
              <a:rPr b="1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809720" y="6097680"/>
            <a:ext cx="57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Information Society and Media Directorate-General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Unit Grid Technologie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Grid@Asia Workshop - Beijing, 21-23 June 2005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2080" y="5979960"/>
            <a:ext cx="85550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200160" y="4340160"/>
            <a:ext cx="727200" cy="727200"/>
          </a:xfrm>
          <a:prstGeom prst="donut">
            <a:avLst>
              <a:gd name="adj" fmla="val 2118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997760" y="-287280"/>
            <a:ext cx="784440" cy="81432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34800" y="-258840"/>
            <a:ext cx="1175040" cy="123048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217440" y="928800"/>
            <a:ext cx="450720" cy="34257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" name="" descr="European Emblem"/>
          <p:cNvPicPr/>
          <p:nvPr/>
        </p:nvPicPr>
        <p:blipFill>
          <a:blip r:embed="rId2"/>
          <a:stretch/>
        </p:blipFill>
        <p:spPr>
          <a:xfrm>
            <a:off x="343080" y="6134040"/>
            <a:ext cx="804600" cy="53496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7677000" y="6010200"/>
          <a:ext cx="12384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6010200"/>
                    <a:ext cx="12384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ordis.lu/ist" TargetMode="External"/><Relationship Id="rId2" Type="http://schemas.openxmlformats.org/officeDocument/2006/relationships/hyperlink" Target="http://www.cordis.lu/ist" TargetMode="External"/><Relationship Id="rId3" Type="http://schemas.openxmlformats.org/officeDocument/2006/relationships/hyperlink" Target="http://www.cordis.lu/ist/grids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8760" y="1014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EU Grid Research – Priorities for Call 5 </a:t>
            </a:r>
            <a:br>
              <a:rPr sz="3000"/>
            </a:b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12560" y="3152880"/>
            <a:ext cx="42195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12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Jorge Gasós</a:t>
            </a: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cc"/>
                </a:solidFill>
                <a:latin typeface="Arial"/>
              </a:rPr>
              <a:t>Grid Technologies Unit</a:t>
            </a: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cc"/>
                </a:solidFill>
                <a:latin typeface="Arial"/>
              </a:rPr>
              <a:t>European Commission</a:t>
            </a: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cc"/>
                </a:solidFill>
                <a:latin typeface="Arial"/>
              </a:rPr>
              <a:t>jorge.gasos@cec.eu.int</a:t>
            </a: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cc"/>
                </a:solidFill>
                <a:latin typeface="Arial"/>
              </a:rPr>
              <a:t>http://www.cordis.lu/ist/grids</a:t>
            </a: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14800" y="2179800"/>
            <a:ext cx="3876840" cy="3220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16040" y="228600"/>
            <a:ext cx="78897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E550-A044-4185-A3BD-2412DBE327C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74520" y="1246320"/>
            <a:ext cx="786132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45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ordination of research activities within Europe (ERA) and beyond (international collaboration)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paring future research agenda and building research community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reating EU-wide stakeholder initiatives supporting early and wide adoption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tions supporting the collaboration of running and future IST Grid projects on horizontal and strategic issue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50800" y="281160"/>
            <a:ext cx="651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Focus 4 – Horizontal Issue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504E-B7D8-495E-B6DC-F53BF57389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7240" y="23760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Main Message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5560" y="1387440"/>
            <a:ext cx="837432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Continuation and consolidation of main Grid research topics; new area: network-centric operating system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Grids as enabler for Service Oriented Architectur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Industrial involvement along the value chai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Grid “Business Pilots” with cross-sectoral technology Take-Up phase call for central role of service provide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Increased contribution to global developments and standardis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59A0-6ADB-46AF-A37D-66F41FBAAD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79640" y="2006640"/>
            <a:ext cx="838656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Jan 2005:</a:t>
            </a: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Preparatory workshop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May 2005: 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Opening Call 5 « Advanced Grid 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Technologies, Systems and 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Services »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~ 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70 M€)</a:t>
            </a: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0 May 2005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Information Day Call 5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Sept 2005: 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Closing Call 5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Oct/Nov 2005:</a:t>
            </a: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Q1-Q2 2006:</a:t>
            </a: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Project launch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4040" y="233280"/>
            <a:ext cx="8220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99"/>
                </a:solidFill>
                <a:latin typeface="Arial"/>
              </a:rPr>
              <a:t>Tentative Timetable </a:t>
            </a:r>
            <a:br>
              <a:rPr sz="2800"/>
            </a:br>
            <a:r>
              <a:rPr b="1" lang="fr-BE" sz="2800" spc="-1" strike="noStrike">
                <a:solidFill>
                  <a:srgbClr val="000099"/>
                </a:solidFill>
                <a:latin typeface="Arial"/>
              </a:rPr>
              <a:t>WP 2005-06 IST Call 5</a:t>
            </a:r>
            <a:br>
              <a:rPr sz="2800"/>
            </a:br>
            <a:r>
              <a:rPr b="1" lang="fr-BE" sz="2600" spc="-1" strike="noStrike">
                <a:solidFill>
                  <a:srgbClr val="000099"/>
                </a:solidFill>
                <a:latin typeface="Arial"/>
              </a:rPr>
              <a:t>Advanced Grid Technologies, Systems &amp; Service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59AF-B023-4B59-BB4D-6E1FF440E7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43160" y="225360"/>
            <a:ext cx="753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Impact"/>
                <a:ea typeface="Arial"/>
              </a:rPr>
              <a:t>2005 calls on </a:t>
            </a:r>
            <a:r>
              <a:rPr b="0" i="1" lang="en-GB" sz="2800" spc="-1" strike="noStrike">
                <a:solidFill>
                  <a:srgbClr val="cc0066"/>
                </a:solidFill>
                <a:latin typeface="Impact"/>
                <a:ea typeface="Arial"/>
              </a:rPr>
              <a:t>e</a:t>
            </a:r>
            <a:r>
              <a:rPr b="0" lang="en-GB" sz="2800" spc="-1" strike="noStrike">
                <a:solidFill>
                  <a:srgbClr val="cc0066"/>
                </a:solidFill>
                <a:latin typeface="Impact"/>
                <a:ea typeface="Arial"/>
              </a:rPr>
              <a:t> Infrastructure and RN Testbed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976320" y="1182600"/>
            <a:ext cx="7399800" cy="706680"/>
            <a:chOff x="976320" y="1182600"/>
            <a:chExt cx="7399800" cy="706680"/>
          </a:xfrm>
        </p:grpSpPr>
        <p:grpSp>
          <p:nvGrpSpPr>
            <p:cNvPr id="163" name=""/>
            <p:cNvGrpSpPr/>
            <p:nvPr/>
          </p:nvGrpSpPr>
          <p:grpSpPr>
            <a:xfrm>
              <a:off x="7820280" y="1182600"/>
              <a:ext cx="555840" cy="304920"/>
              <a:chOff x="7820280" y="1182600"/>
              <a:chExt cx="555840" cy="304920"/>
            </a:xfrm>
          </p:grpSpPr>
          <p:sp>
            <p:nvSpPr>
              <p:cNvPr id="164" name=""/>
              <p:cNvSpPr/>
              <p:nvPr/>
            </p:nvSpPr>
            <p:spPr>
              <a:xfrm>
                <a:off x="7820280" y="1182600"/>
                <a:ext cx="111240" cy="304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042400" y="1182600"/>
                <a:ext cx="111240" cy="304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65240" y="1182600"/>
                <a:ext cx="110880" cy="304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5317920" y="1182600"/>
              <a:ext cx="229140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  <a:effectLst>
              <a:outerShdw dist="71785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Year 2006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76320" y="1182600"/>
              <a:ext cx="420696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  <a:effectLst>
              <a:outerShdw dist="71785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Year 2005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4120" y="1582920"/>
              <a:ext cx="463680" cy="3063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18200" y="1581120"/>
              <a:ext cx="463680" cy="306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81000" y="2193840"/>
            <a:ext cx="8003880" cy="3651480"/>
            <a:chOff x="981000" y="2193840"/>
            <a:chExt cx="8003880" cy="3651480"/>
          </a:xfrm>
        </p:grpSpPr>
        <p:sp>
          <p:nvSpPr>
            <p:cNvPr id="172" name=""/>
            <p:cNvSpPr/>
            <p:nvPr/>
          </p:nvSpPr>
          <p:spPr>
            <a:xfrm>
              <a:off x="981000" y="4164120"/>
              <a:ext cx="5683320" cy="1681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69920" y="4183200"/>
              <a:ext cx="544536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66"/>
                  </a:solidFill>
                  <a:latin typeface="Arial"/>
                  <a:ea typeface="Arial"/>
                </a:rPr>
                <a:t>Research Networking Test-beds 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Optical, Wireless, Security, Grids, other technologies.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al world settings / user involvement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Technology &amp; services interoperability / open sourc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‘</a:t>
              </a:r>
              <a:r>
                <a:rPr b="0" lang="en-US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Open’ test-bed infrastructure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Roadmaps, strategic guidance for eInfrastructur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73480" y="4272120"/>
              <a:ext cx="731160" cy="717480"/>
              <a:chOff x="6873480" y="4272120"/>
              <a:chExt cx="731160" cy="717480"/>
            </a:xfrm>
          </p:grpSpPr>
          <p:sp>
            <p:nvSpPr>
              <p:cNvPr id="175" name=""/>
              <p:cNvSpPr/>
              <p:nvPr/>
            </p:nvSpPr>
            <p:spPr>
              <a:xfrm rot="20461200">
                <a:off x="6948360" y="4351320"/>
                <a:ext cx="581040" cy="558720"/>
              </a:xfrm>
              <a:prstGeom prst="rect">
                <a:avLst/>
              </a:prstGeom>
              <a:gradFill rotWithShape="0">
                <a:gsLst>
                  <a:gs pos="0">
                    <a:srgbClr val="669900">
                      <a:alpha val="50196"/>
                    </a:srgbClr>
                  </a:gs>
                  <a:gs pos="50000">
                    <a:srgbClr val="2f4600"/>
                  </a:gs>
                  <a:gs pos="100000">
                    <a:srgbClr val="669900">
                      <a:alpha val="50196"/>
                    </a:srgbClr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9c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 rot="20461200">
                <a:off x="6961320" y="4409280"/>
                <a:ext cx="476280" cy="2109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ccff66"/>
                    </a:solidFill>
                    <a:effectLst>
                      <a:outerShdw dist="17819" dir="2700000" blurRad="0" rotWithShape="0">
                        <a:srgbClr val="003300"/>
                      </a:outerShdw>
                    </a:effectLst>
                    <a:latin typeface="Arial Black"/>
                  </a:rPr>
                  <a:t>FP6</a:t>
                </a:r>
                <a:endParaRPr b="0" lang="en-US" sz="2400" spc="1" strike="noStrike">
                  <a:ln w="0">
                    <a:noFill/>
                  </a:ln>
                  <a:solidFill>
                    <a:srgbClr val="ccff66"/>
                  </a:solidFill>
                  <a:effectLst>
                    <a:outerShdw dist="17819" dir="2700000" blurRad="0" rotWithShape="0">
                      <a:srgbClr val="00330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 rot="20461200">
                <a:off x="7040880" y="4634640"/>
                <a:ext cx="476280" cy="220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ccff66"/>
                    </a:solidFill>
                    <a:effectLst>
                      <a:outerShdw dist="17819" dir="2700000" blurRad="0" rotWithShape="0">
                        <a:srgbClr val="003300"/>
                      </a:outerShdw>
                    </a:effectLst>
                    <a:latin typeface="Arial Black"/>
                  </a:rPr>
                  <a:t>IST</a:t>
                </a:r>
                <a:endParaRPr b="0" lang="en-US" sz="2400" spc="1" strike="noStrike">
                  <a:ln w="0">
                    <a:noFill/>
                  </a:ln>
                  <a:solidFill>
                    <a:srgbClr val="ccff66"/>
                  </a:solidFill>
                  <a:effectLst>
                    <a:outerShdw dist="17819" dir="2700000" blurRad="0" rotWithShape="0">
                      <a:srgbClr val="003300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sp>
          <p:nvSpPr>
            <p:cNvPr id="178" name=""/>
            <p:cNvSpPr txBox="1"/>
            <p:nvPr/>
          </p:nvSpPr>
          <p:spPr>
            <a:xfrm>
              <a:off x="6835680" y="5149800"/>
              <a:ext cx="1047960" cy="26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9ff"/>
                  </a:solidFill>
                  <a:latin typeface="Arial Black"/>
                </a:rPr>
                <a:t>18 M€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87480" y="2216160"/>
              <a:ext cx="5683320" cy="1873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36800" y="2193840"/>
              <a:ext cx="5709960" cy="18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cc0066"/>
                  </a:solidFill>
                  <a:latin typeface="Arial"/>
                  <a:ea typeface="Arial"/>
                </a:rPr>
                <a:t>e</a:t>
              </a:r>
              <a:r>
                <a:rPr b="1" lang="en-GB" sz="2000" spc="-1" strike="noStrike">
                  <a:solidFill>
                    <a:srgbClr val="cc0066"/>
                  </a:solidFill>
                  <a:latin typeface="Arial"/>
                  <a:ea typeface="Arial"/>
                </a:rPr>
                <a:t>Infrastructure – Grids initiatives</a:t>
              </a:r>
              <a:r>
                <a:rPr b="0" lang="en-GB" sz="1600" spc="-1" strike="noStrike">
                  <a:solidFill>
                    <a:srgbClr val="cc0066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Continue building advanced Grid-empowered infrastructure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990000"/>
                  </a:solidFill>
                  <a:latin typeface="Arial"/>
                  <a:ea typeface="Arial"/>
                </a:rPr>
                <a:t>Emphasis on: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Production quality &amp; ready-to-use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SW-infrastructure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Address industry requirement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Environments dynamically adaptable to user need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835680" y="3321000"/>
              <a:ext cx="1047960" cy="26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55 M€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6873480" y="2481480"/>
              <a:ext cx="731160" cy="717480"/>
              <a:chOff x="6873480" y="2481480"/>
              <a:chExt cx="731160" cy="717480"/>
            </a:xfrm>
          </p:grpSpPr>
          <p:sp>
            <p:nvSpPr>
              <p:cNvPr id="183" name=""/>
              <p:cNvSpPr/>
              <p:nvPr/>
            </p:nvSpPr>
            <p:spPr>
              <a:xfrm rot="20461200">
                <a:off x="6948360" y="2560680"/>
                <a:ext cx="581040" cy="558720"/>
              </a:xfrm>
              <a:prstGeom prst="rect">
                <a:avLst/>
              </a:prstGeom>
              <a:gradFill rotWithShape="0">
                <a:gsLst>
                  <a:gs pos="0">
                    <a:srgbClr val="669900">
                      <a:alpha val="50196"/>
                    </a:srgbClr>
                  </a:gs>
                  <a:gs pos="50000">
                    <a:srgbClr val="2f4600"/>
                  </a:gs>
                  <a:gs pos="100000">
                    <a:srgbClr val="669900">
                      <a:alpha val="50196"/>
                    </a:srgbClr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9c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 rot="20461200">
                <a:off x="6961320" y="2618640"/>
                <a:ext cx="476280" cy="2109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ccff66"/>
                    </a:solidFill>
                    <a:effectLst>
                      <a:outerShdw dist="17819" dir="2700000" blurRad="0" rotWithShape="0">
                        <a:srgbClr val="003300"/>
                      </a:outerShdw>
                    </a:effectLst>
                    <a:latin typeface="Arial Black"/>
                  </a:rPr>
                  <a:t>FP6</a:t>
                </a:r>
                <a:endParaRPr b="0" lang="en-US" sz="2400" spc="1" strike="noStrike">
                  <a:ln w="0">
                    <a:noFill/>
                  </a:ln>
                  <a:solidFill>
                    <a:srgbClr val="ccff66"/>
                  </a:solidFill>
                  <a:effectLst>
                    <a:outerShdw dist="17819" dir="2700000" blurRad="0" rotWithShape="0">
                      <a:srgbClr val="00330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 rot="20461200">
                <a:off x="7142760" y="2844360"/>
                <a:ext cx="255600" cy="220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ccff66"/>
                    </a:solidFill>
                    <a:effectLst>
                      <a:outerShdw dist="17819" dir="2700000" blurRad="0" rotWithShape="0">
                        <a:srgbClr val="003300"/>
                      </a:outerShdw>
                    </a:effectLst>
                    <a:latin typeface="Arial Black"/>
                  </a:rPr>
                  <a:t>RI</a:t>
                </a:r>
                <a:endParaRPr b="0" lang="en-US" sz="2400" spc="1" strike="noStrike">
                  <a:ln w="0">
                    <a:noFill/>
                  </a:ln>
                  <a:solidFill>
                    <a:srgbClr val="ccff66"/>
                  </a:solidFill>
                  <a:effectLst>
                    <a:outerShdw dist="17819" dir="2700000" blurRad="0" rotWithShape="0">
                      <a:srgbClr val="003300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986960" y="2544120"/>
              <a:ext cx="997920" cy="2603520"/>
              <a:chOff x="7986960" y="2544120"/>
              <a:chExt cx="997920" cy="26035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7996680" y="2544120"/>
                <a:ext cx="988200" cy="909360"/>
                <a:chOff x="7996680" y="2544120"/>
                <a:chExt cx="988200" cy="909360"/>
              </a:xfrm>
            </p:grpSpPr>
            <p:sp>
              <p:nvSpPr>
                <p:cNvPr id="188" name=""/>
                <p:cNvSpPr/>
                <p:nvPr/>
              </p:nvSpPr>
              <p:spPr>
                <a:xfrm rot="663600">
                  <a:off x="8061120" y="2619360"/>
                  <a:ext cx="858600" cy="758880"/>
                </a:xfrm>
                <a:prstGeom prst="ellipse">
                  <a:avLst/>
                </a:prstGeom>
                <a:solidFill>
                  <a:srgbClr val="33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 txBox="1"/>
                <p:nvPr/>
              </p:nvSpPr>
              <p:spPr>
                <a:xfrm rot="663600">
                  <a:off x="8142120" y="2795040"/>
                  <a:ext cx="647280" cy="366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call</a:t>
                  </a:r>
                  <a:endParaRPr b="0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7986960" y="4237920"/>
                <a:ext cx="988560" cy="909720"/>
                <a:chOff x="7986960" y="4237920"/>
                <a:chExt cx="988560" cy="909720"/>
              </a:xfrm>
            </p:grpSpPr>
            <p:sp>
              <p:nvSpPr>
                <p:cNvPr id="191" name=""/>
                <p:cNvSpPr/>
                <p:nvPr/>
              </p:nvSpPr>
              <p:spPr>
                <a:xfrm rot="663600">
                  <a:off x="8051400" y="4313160"/>
                  <a:ext cx="858960" cy="758880"/>
                </a:xfrm>
                <a:prstGeom prst="ellipse">
                  <a:avLst/>
                </a:prstGeom>
                <a:solidFill>
                  <a:srgbClr val="33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 txBox="1"/>
                <p:nvPr/>
              </p:nvSpPr>
              <p:spPr>
                <a:xfrm rot="663600">
                  <a:off x="8132760" y="4489200"/>
                  <a:ext cx="647640" cy="366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ffffff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call</a:t>
                  </a:r>
                  <a:endParaRPr b="0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C550-C31E-4EFF-AFE5-CBD950202BB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44560" y="1100160"/>
            <a:ext cx="7920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ublication: 11 May 2005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ubmission: 7 September 20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C Budget: € 55 Million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tial Projects Start: Early 2006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struments:  Integrated Infrastructure Initiative (I3), SSA, 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5720" y="182520"/>
            <a:ext cx="85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66"/>
                </a:solidFill>
                <a:latin typeface="Impact"/>
                <a:ea typeface="Arial"/>
              </a:rPr>
              <a:t>Call b4: Grid initiatives (RI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55720" y="2522520"/>
            <a:ext cx="776916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Infrastructures exhibiting production-level performance capabiliti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Distributed facilities at gigabit/terabit scales for use by a broad range of different research disciplines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Emphasis on initiatives to lead to production-quality and ready-to-use software for both science and engineer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Complement and add value to national Grid-initiativ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Favor interconnection to major Grid-based experimental infrastructures in other parts of the worl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02B3-3658-404C-9439-F4EFFB7D02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41400" y="189000"/>
            <a:ext cx="7569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Impact"/>
              </a:rPr>
              <a:t>Call “Research Networking Testbeds” IST SO2.5.6</a:t>
            </a:r>
            <a:endParaRPr b="0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79560" y="1003320"/>
            <a:ext cx="7684920" cy="494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4E01-5F8A-40F4-92E1-B25FC8A25BC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85720" y="182520"/>
            <a:ext cx="85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66"/>
                </a:solidFill>
                <a:latin typeface="Impact"/>
                <a:ea typeface="Arial"/>
              </a:rPr>
              <a:t>Call IST SO 2.5.6. – Research Networking Testbed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44560" y="1042920"/>
            <a:ext cx="79200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ublication: 17 May 2005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ubmission: 21 September 20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C Budget: € 18 Million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tial Projects Start: 2006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struments:  IP, NoE, STREP, SSA, 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44560" y="2424240"/>
            <a:ext cx="7769160" cy="34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Integrate, test, validate and demonstrate new fixed and wireless networking technologies and services in real-world settings and production environments. (IPs, NoEs, STREPs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Provide open test infrastructures for third party researchers. (IPs, NoEs, STREPs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Foster interoperability of solutions to achieve broader-scale up-take of new state-of-the-art infrastructure technology and promote open-source. (IPs, NoEs, STREPs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Arial"/>
              </a:rPr>
              <a:t>Develop roadmaps and strategic guidance for infrastructure development in Europe… (SSAs, CAs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1DB9-0877-45CC-AAAB-8DD9FAA26B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7040" y="174240"/>
            <a:ext cx="68551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Further Info on Grid Researc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4200" y="946080"/>
            <a:ext cx="885672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25092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Brochure: Building Grids for Europe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110592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P6 Grid Project Fact Sheets, FP5 Grid Project Result Sheet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603360" indent="-250920">
              <a:lnSpc>
                <a:spcPct val="95000"/>
              </a:lnSpc>
              <a:spcBef>
                <a:spcPts val="1199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Expert Group Report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1105920" indent="-312480">
              <a:lnSpc>
                <a:spcPct val="9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xt Generation Grid(s) – European Grid Research 2005-2010”, 2003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05920" indent="-312480">
              <a:lnSpc>
                <a:spcPct val="95000"/>
              </a:lnSpc>
              <a:spcBef>
                <a:spcPts val="337"/>
              </a:spcBef>
              <a:spcAft>
                <a:spcPts val="1125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xt Generation Grids 2 – Requirements and Options for European Grids Research 2005–2010 and beyond”, August 200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603360" indent="-250920">
              <a:lnSpc>
                <a:spcPct val="95000"/>
              </a:lnSpc>
              <a:spcBef>
                <a:spcPts val="1199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FP5 Gridstart “IST Grid Projects Inventory and Roadmap”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603360" indent="-250920">
              <a:lnSpc>
                <a:spcPct val="95000"/>
              </a:lnSpc>
              <a:spcBef>
                <a:spcPts val="1199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Brochure: “Achievements of EU Grid Projects”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603360" indent="0">
              <a:lnSpc>
                <a:spcPct val="95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603360" indent="-250920">
              <a:lnSpc>
                <a:spcPct val="95000"/>
              </a:lnSpc>
              <a:spcBef>
                <a:spcPts val="1100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IST Work Programme 2005/2006          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cordis.lu/ist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 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marL="603360" indent="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8120" y="4844880"/>
            <a:ext cx="42703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5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nd more: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cordis.lu/ist/grid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FBDD-A56A-4B0D-9CA8-3A7EE8580CF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190680" y="1023840"/>
            <a:ext cx="2666520" cy="1486080"/>
            <a:chOff x="3190680" y="1023840"/>
            <a:chExt cx="2666520" cy="1486080"/>
          </a:xfrm>
        </p:grpSpPr>
        <p:sp>
          <p:nvSpPr>
            <p:cNvPr id="205" name=""/>
            <p:cNvSpPr/>
            <p:nvPr/>
          </p:nvSpPr>
          <p:spPr>
            <a:xfrm flipH="1">
              <a:off x="3190320" y="1023840"/>
              <a:ext cx="266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Web page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www.cordis.lu/ist/rn/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rot="5400000">
              <a:off x="4321080" y="1908720"/>
              <a:ext cx="642960" cy="559080"/>
            </a:xfrm>
            <a:prstGeom prst="leftRightArrow">
              <a:avLst>
                <a:gd name="adj1" fmla="val 50000"/>
                <a:gd name="adj2" fmla="val 22894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887640" y="4697280"/>
            <a:ext cx="1567440" cy="1054800"/>
            <a:chOff x="3887640" y="4697280"/>
            <a:chExt cx="1567440" cy="1054800"/>
          </a:xfrm>
        </p:grpSpPr>
        <p:sp>
          <p:nvSpPr>
            <p:cNvPr id="208" name=""/>
            <p:cNvSpPr/>
            <p:nvPr/>
          </p:nvSpPr>
          <p:spPr>
            <a:xfrm flipH="1" rot="5400000">
              <a:off x="4321080" y="4739040"/>
              <a:ext cx="642960" cy="559080"/>
            </a:xfrm>
            <a:prstGeom prst="leftRightArrow">
              <a:avLst>
                <a:gd name="adj1" fmla="val 50000"/>
                <a:gd name="adj2" fmla="val 22894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887640" y="5353200"/>
              <a:ext cx="15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Workshop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793800" y="268200"/>
            <a:ext cx="80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66"/>
                </a:solidFill>
                <a:latin typeface="Arial"/>
                <a:ea typeface="Arial"/>
              </a:rPr>
              <a:t>Further information on eInfrastructur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52600" y="2862360"/>
            <a:ext cx="2358360" cy="1469880"/>
            <a:chOff x="552600" y="2862360"/>
            <a:chExt cx="2358360" cy="1469880"/>
          </a:xfrm>
        </p:grpSpPr>
        <p:sp>
          <p:nvSpPr>
            <p:cNvPr id="212" name=""/>
            <p:cNvSpPr/>
            <p:nvPr/>
          </p:nvSpPr>
          <p:spPr>
            <a:xfrm flipH="1">
              <a:off x="2211120" y="3262320"/>
              <a:ext cx="699840" cy="513000"/>
            </a:xfrm>
            <a:prstGeom prst="leftRightArrow">
              <a:avLst>
                <a:gd name="adj1" fmla="val 50000"/>
                <a:gd name="adj2" fmla="val 27158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rot="16200000">
              <a:off x="1113480" y="3397680"/>
              <a:ext cx="146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Newslett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aphicFrame>
          <p:nvGraphicFramePr>
            <p:cNvPr id="214" name=""/>
            <p:cNvGraphicFramePr/>
            <p:nvPr/>
          </p:nvGraphicFramePr>
          <p:xfrm>
            <a:off x="552600" y="3318120"/>
            <a:ext cx="1050480" cy="465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2600" y="3318120"/>
                      <a:ext cx="105048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6" name=""/>
          <p:cNvGrpSpPr/>
          <p:nvPr/>
        </p:nvGrpSpPr>
        <p:grpSpPr>
          <a:xfrm>
            <a:off x="3405240" y="2690640"/>
            <a:ext cx="2601000" cy="1495080"/>
            <a:chOff x="3405240" y="2690640"/>
            <a:chExt cx="2601000" cy="1495080"/>
          </a:xfrm>
        </p:grpSpPr>
        <p:grpSp>
          <p:nvGrpSpPr>
            <p:cNvPr id="217" name=""/>
            <p:cNvGrpSpPr/>
            <p:nvPr/>
          </p:nvGrpSpPr>
          <p:grpSpPr>
            <a:xfrm>
              <a:off x="4964760" y="2690640"/>
              <a:ext cx="1041480" cy="674280"/>
              <a:chOff x="4964760" y="2690640"/>
              <a:chExt cx="1041480" cy="674280"/>
            </a:xfrm>
          </p:grpSpPr>
          <p:sp>
            <p:nvSpPr>
              <p:cNvPr id="218" name=""/>
              <p:cNvSpPr/>
              <p:nvPr/>
            </p:nvSpPr>
            <p:spPr>
              <a:xfrm>
                <a:off x="4965120" y="3232080"/>
                <a:ext cx="252720" cy="132840"/>
              </a:xfrm>
              <a:custGeom>
                <a:avLst/>
                <a:gdLst/>
                <a:ahLst/>
                <a:rect l="l" t="t" r="r" b="b"/>
                <a:pathLst>
                  <a:path w="517" h="272">
                    <a:moveTo>
                      <a:pt x="0" y="137"/>
                    </a:moveTo>
                    <a:cubicBezTo>
                      <a:pt x="1" y="140"/>
                      <a:pt x="4" y="146"/>
                      <a:pt x="4" y="146"/>
                    </a:cubicBezTo>
                    <a:lnTo>
                      <a:pt x="66" y="237"/>
                    </a:lnTo>
                    <a:lnTo>
                      <a:pt x="250" y="272"/>
                    </a:lnTo>
                    <a:lnTo>
                      <a:pt x="184" y="239"/>
                    </a:lnTo>
                    <a:lnTo>
                      <a:pt x="450" y="95"/>
                    </a:lnTo>
                    <a:lnTo>
                      <a:pt x="517" y="129"/>
                    </a:lnTo>
                    <a:lnTo>
                      <a:pt x="442" y="36"/>
                    </a:lnTo>
                    <a:lnTo>
                      <a:pt x="258" y="0"/>
                    </a:lnTo>
                    <a:lnTo>
                      <a:pt x="330" y="35"/>
                    </a:lnTo>
                    <a:lnTo>
                      <a:pt x="63" y="170"/>
                    </a:lnTo>
                    <a:lnTo>
                      <a:pt x="0" y="1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4964760" y="2690640"/>
                <a:ext cx="1041480" cy="584280"/>
                <a:chOff x="4964760" y="2690640"/>
                <a:chExt cx="1041480" cy="58428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4964760" y="2745000"/>
                  <a:ext cx="461520" cy="307080"/>
                  <a:chOff x="4964760" y="2745000"/>
                  <a:chExt cx="461520" cy="30708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012640" y="2745000"/>
                    <a:ext cx="413640" cy="307080"/>
                    <a:chOff x="5012640" y="2745000"/>
                    <a:chExt cx="413640" cy="307080"/>
                  </a:xfrm>
                </p:grpSpPr>
                <p:pic>
                  <p:nvPicPr>
                    <p:cNvPr id="2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13360" y="2748240"/>
                      <a:ext cx="409320" cy="30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012640" y="2745000"/>
                      <a:ext cx="413640" cy="30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6" h="628">
                          <a:moveTo>
                            <a:pt x="0" y="130"/>
                          </a:moveTo>
                          <a:lnTo>
                            <a:pt x="236" y="612"/>
                          </a:lnTo>
                          <a:lnTo>
                            <a:pt x="836" y="424"/>
                          </a:lnTo>
                          <a:lnTo>
                            <a:pt x="572" y="8"/>
                          </a:lnTo>
                          <a:lnTo>
                            <a:pt x="2" y="126"/>
                          </a:lnTo>
                          <a:lnTo>
                            <a:pt x="0" y="0"/>
                          </a:lnTo>
                          <a:lnTo>
                            <a:pt x="846" y="2"/>
                          </a:lnTo>
                          <a:lnTo>
                            <a:pt x="842" y="628"/>
                          </a:lnTo>
                          <a:lnTo>
                            <a:pt x="0" y="626"/>
                          </a:lnTo>
                          <a:lnTo>
                            <a:pt x="0" y="1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4" name=""/>
                  <p:cNvSpPr/>
                  <p:nvPr/>
                </p:nvSpPr>
                <p:spPr>
                  <a:xfrm>
                    <a:off x="4964760" y="2927160"/>
                    <a:ext cx="163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4" h="237">
                        <a:moveTo>
                          <a:pt x="334" y="237"/>
                        </a:moveTo>
                        <a:lnTo>
                          <a:pt x="219" y="0"/>
                        </a:lnTo>
                        <a:lnTo>
                          <a:pt x="0" y="53"/>
                        </a:lnTo>
                        <a:lnTo>
                          <a:pt x="334" y="2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efef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5599440" y="2690640"/>
                  <a:ext cx="406800" cy="492120"/>
                  <a:chOff x="5599440" y="2690640"/>
                  <a:chExt cx="406800" cy="492120"/>
                </a:xfrm>
              </p:grpSpPr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5599440" y="2690640"/>
                    <a:ext cx="376920" cy="492120"/>
                    <a:chOff x="5599440" y="2690640"/>
                    <a:chExt cx="376920" cy="492120"/>
                  </a:xfrm>
                </p:grpSpPr>
                <p:pic>
                  <p:nvPicPr>
                    <p:cNvPr id="2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05560" y="2696400"/>
                      <a:ext cx="367920" cy="48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599440" y="2690640"/>
                      <a:ext cx="376920" cy="49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1" h="1006">
                          <a:moveTo>
                            <a:pt x="147" y="142"/>
                          </a:moveTo>
                          <a:lnTo>
                            <a:pt x="15" y="879"/>
                          </a:lnTo>
                          <a:lnTo>
                            <a:pt x="600" y="996"/>
                          </a:lnTo>
                          <a:lnTo>
                            <a:pt x="768" y="157"/>
                          </a:lnTo>
                          <a:lnTo>
                            <a:pt x="771" y="1006"/>
                          </a:lnTo>
                          <a:lnTo>
                            <a:pt x="5" y="1006"/>
                          </a:lnTo>
                          <a:lnTo>
                            <a:pt x="0" y="5"/>
                          </a:lnTo>
                          <a:lnTo>
                            <a:pt x="768" y="0"/>
                          </a:lnTo>
                          <a:lnTo>
                            <a:pt x="766" y="155"/>
                          </a:lnTo>
                          <a:lnTo>
                            <a:pt x="147" y="14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9" name=""/>
                  <p:cNvSpPr/>
                  <p:nvPr/>
                </p:nvSpPr>
                <p:spPr>
                  <a:xfrm>
                    <a:off x="5892120" y="3073680"/>
                    <a:ext cx="1141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209">
                        <a:moveTo>
                          <a:pt x="0" y="209"/>
                        </a:moveTo>
                        <a:lnTo>
                          <a:pt x="43" y="0"/>
                        </a:lnTo>
                        <a:lnTo>
                          <a:pt x="234" y="13"/>
                        </a:lnTo>
                        <a:lnTo>
                          <a:pt x="0" y="20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5232600" y="3018240"/>
                  <a:ext cx="378720" cy="256680"/>
                  <a:chOff x="5232600" y="3018240"/>
                  <a:chExt cx="378720" cy="256680"/>
                </a:xfrm>
              </p:grpSpPr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5232600" y="3018240"/>
                    <a:ext cx="375480" cy="256680"/>
                    <a:chOff x="5232600" y="3018240"/>
                    <a:chExt cx="375480" cy="256680"/>
                  </a:xfrm>
                </p:grpSpPr>
                <p:pic>
                  <p:nvPicPr>
                    <p:cNvPr id="23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36200" y="3025800"/>
                      <a:ext cx="367560" cy="24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5232600" y="3018240"/>
                      <a:ext cx="375480" cy="25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525">
                          <a:moveTo>
                            <a:pt x="53" y="458"/>
                          </a:moveTo>
                          <a:lnTo>
                            <a:pt x="102" y="14"/>
                          </a:lnTo>
                          <a:lnTo>
                            <a:pt x="714" y="39"/>
                          </a:lnTo>
                          <a:lnTo>
                            <a:pt x="657" y="522"/>
                          </a:lnTo>
                          <a:lnTo>
                            <a:pt x="768" y="525"/>
                          </a:lnTo>
                          <a:lnTo>
                            <a:pt x="768" y="6"/>
                          </a:lnTo>
                          <a:lnTo>
                            <a:pt x="0" y="0"/>
                          </a:lnTo>
                          <a:lnTo>
                            <a:pt x="6" y="522"/>
                          </a:lnTo>
                          <a:lnTo>
                            <a:pt x="768" y="519"/>
                          </a:lnTo>
                          <a:lnTo>
                            <a:pt x="660" y="516"/>
                          </a:lnTo>
                          <a:lnTo>
                            <a:pt x="53" y="45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4" name=""/>
                  <p:cNvSpPr/>
                  <p:nvPr/>
                </p:nvSpPr>
                <p:spPr>
                  <a:xfrm>
                    <a:off x="5553360" y="3197160"/>
                    <a:ext cx="5796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51">
                        <a:moveTo>
                          <a:pt x="0" y="151"/>
                        </a:moveTo>
                        <a:lnTo>
                          <a:pt x="19" y="1"/>
                        </a:lnTo>
                        <a:lnTo>
                          <a:pt x="119" y="0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000" bIns="270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5" name=""/>
              <p:cNvSpPr/>
              <p:nvPr/>
            </p:nvSpPr>
            <p:spPr>
              <a:xfrm>
                <a:off x="4965120" y="3159360"/>
                <a:ext cx="252720" cy="132840"/>
              </a:xfrm>
              <a:custGeom>
                <a:avLst/>
                <a:gdLst/>
                <a:ahLst/>
                <a:rect l="l" t="t" r="r" b="b"/>
                <a:pathLst>
                  <a:path w="517" h="272">
                    <a:moveTo>
                      <a:pt x="0" y="137"/>
                    </a:moveTo>
                    <a:cubicBezTo>
                      <a:pt x="1" y="140"/>
                      <a:pt x="4" y="146"/>
                      <a:pt x="4" y="146"/>
                    </a:cubicBezTo>
                    <a:lnTo>
                      <a:pt x="66" y="237"/>
                    </a:lnTo>
                    <a:lnTo>
                      <a:pt x="250" y="272"/>
                    </a:lnTo>
                    <a:lnTo>
                      <a:pt x="184" y="239"/>
                    </a:lnTo>
                    <a:lnTo>
                      <a:pt x="450" y="95"/>
                    </a:lnTo>
                    <a:lnTo>
                      <a:pt x="517" y="129"/>
                    </a:lnTo>
                    <a:lnTo>
                      <a:pt x="442" y="36"/>
                    </a:lnTo>
                    <a:lnTo>
                      <a:pt x="258" y="0"/>
                    </a:lnTo>
                    <a:lnTo>
                      <a:pt x="330" y="35"/>
                    </a:lnTo>
                    <a:lnTo>
                      <a:pt x="63" y="170"/>
                    </a:lnTo>
                    <a:lnTo>
                      <a:pt x="0" y="1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50000">
                    <a:srgbClr val="ffcc00"/>
                  </a:gs>
                  <a:gs pos="100000">
                    <a:srgbClr val="fff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206960" y="3231360"/>
              <a:ext cx="986040" cy="576720"/>
              <a:chOff x="4206960" y="3231360"/>
              <a:chExt cx="986040" cy="576720"/>
            </a:xfrm>
          </p:grpSpPr>
          <p:sp>
            <p:nvSpPr>
              <p:cNvPr id="237" name=""/>
              <p:cNvSpPr/>
              <p:nvPr/>
            </p:nvSpPr>
            <p:spPr>
              <a:xfrm>
                <a:off x="4291920" y="3410280"/>
                <a:ext cx="500400" cy="3405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80120" y="3370680"/>
                <a:ext cx="494280" cy="3258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463640" y="3333960"/>
                <a:ext cx="506160" cy="311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42840" y="3297240"/>
                <a:ext cx="504720" cy="29952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19160" y="3263400"/>
                <a:ext cx="496080" cy="28332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4293360" y="3281040"/>
                <a:ext cx="485640" cy="228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4385880" y="3333960"/>
                <a:ext cx="487080" cy="2433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481280" y="3385080"/>
                <a:ext cx="491400" cy="262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4585320" y="3445560"/>
                <a:ext cx="494280" cy="2786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206960" y="3231360"/>
                <a:ext cx="986040" cy="576720"/>
              </a:xfrm>
              <a:custGeom>
                <a:avLst/>
                <a:gdLst/>
                <a:ahLst/>
                <a:rect l="l" t="t" r="r" b="b"/>
                <a:pathLst>
                  <a:path w="2016" h="1179">
                    <a:moveTo>
                      <a:pt x="0" y="444"/>
                    </a:moveTo>
                    <a:lnTo>
                      <a:pt x="1002" y="1179"/>
                    </a:lnTo>
                    <a:lnTo>
                      <a:pt x="2016" y="564"/>
                    </a:lnTo>
                    <a:lnTo>
                      <a:pt x="993" y="0"/>
                    </a:lnTo>
                    <a:lnTo>
                      <a:pt x="0" y="444"/>
                    </a:lnTo>
                    <a:close/>
                  </a:path>
                </a:pathLst>
              </a:custGeom>
              <a:noFill/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211280" y="3164040"/>
              <a:ext cx="986040" cy="576360"/>
              <a:chOff x="4211280" y="3164040"/>
              <a:chExt cx="986040" cy="576360"/>
            </a:xfrm>
          </p:grpSpPr>
          <p:sp>
            <p:nvSpPr>
              <p:cNvPr id="248" name=""/>
              <p:cNvSpPr/>
              <p:nvPr/>
            </p:nvSpPr>
            <p:spPr>
              <a:xfrm>
                <a:off x="4296240" y="3342960"/>
                <a:ext cx="500400" cy="340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384440" y="3303000"/>
                <a:ext cx="494280" cy="32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67960" y="3266640"/>
                <a:ext cx="506160" cy="310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47160" y="3229920"/>
                <a:ext cx="504720" cy="299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23480" y="3196080"/>
                <a:ext cx="496080" cy="28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4297680" y="3213360"/>
                <a:ext cx="48564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4390200" y="3266640"/>
                <a:ext cx="487080" cy="24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485600" y="3317400"/>
                <a:ext cx="491400" cy="262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4589640" y="3377880"/>
                <a:ext cx="494280" cy="27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211280" y="3164040"/>
                <a:ext cx="986040" cy="576360"/>
              </a:xfrm>
              <a:custGeom>
                <a:avLst/>
                <a:gdLst/>
                <a:ahLst/>
                <a:rect l="l" t="t" r="r" b="b"/>
                <a:pathLst>
                  <a:path w="2016" h="1179">
                    <a:moveTo>
                      <a:pt x="0" y="444"/>
                    </a:moveTo>
                    <a:lnTo>
                      <a:pt x="1002" y="1179"/>
                    </a:lnTo>
                    <a:lnTo>
                      <a:pt x="2016" y="564"/>
                    </a:lnTo>
                    <a:lnTo>
                      <a:pt x="993" y="0"/>
                    </a:lnTo>
                    <a:lnTo>
                      <a:pt x="0" y="444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331880" y="3350520"/>
              <a:ext cx="866160" cy="417240"/>
              <a:chOff x="4331880" y="3350520"/>
              <a:chExt cx="866160" cy="417240"/>
            </a:xfrm>
          </p:grpSpPr>
          <p:sp>
            <p:nvSpPr>
              <p:cNvPr id="259" name=""/>
              <p:cNvSpPr/>
              <p:nvPr/>
            </p:nvSpPr>
            <p:spPr>
              <a:xfrm>
                <a:off x="4659840" y="3669480"/>
                <a:ext cx="194040" cy="84600"/>
              </a:xfrm>
              <a:custGeom>
                <a:avLst/>
                <a:gdLst/>
                <a:ahLst/>
                <a:rect l="l" t="t" r="r" b="b"/>
                <a:pathLst>
                  <a:path w="397" h="173">
                    <a:moveTo>
                      <a:pt x="262" y="168"/>
                    </a:moveTo>
                    <a:cubicBezTo>
                      <a:pt x="249" y="173"/>
                      <a:pt x="243" y="173"/>
                      <a:pt x="229" y="171"/>
                    </a:cubicBezTo>
                    <a:cubicBezTo>
                      <a:pt x="221" y="159"/>
                      <a:pt x="211" y="163"/>
                      <a:pt x="200" y="171"/>
                    </a:cubicBezTo>
                    <a:cubicBezTo>
                      <a:pt x="184" y="169"/>
                      <a:pt x="170" y="166"/>
                      <a:pt x="154" y="164"/>
                    </a:cubicBezTo>
                    <a:cubicBezTo>
                      <a:pt x="148" y="155"/>
                      <a:pt x="148" y="142"/>
                      <a:pt x="140" y="135"/>
                    </a:cubicBezTo>
                    <a:cubicBezTo>
                      <a:pt x="135" y="130"/>
                      <a:pt x="123" y="123"/>
                      <a:pt x="123" y="123"/>
                    </a:cubicBezTo>
                    <a:cubicBezTo>
                      <a:pt x="108" y="125"/>
                      <a:pt x="105" y="128"/>
                      <a:pt x="92" y="132"/>
                    </a:cubicBezTo>
                    <a:cubicBezTo>
                      <a:pt x="85" y="131"/>
                      <a:pt x="77" y="132"/>
                      <a:pt x="70" y="130"/>
                    </a:cubicBezTo>
                    <a:cubicBezTo>
                      <a:pt x="56" y="127"/>
                      <a:pt x="68" y="121"/>
                      <a:pt x="61" y="111"/>
                    </a:cubicBezTo>
                    <a:cubicBezTo>
                      <a:pt x="53" y="101"/>
                      <a:pt x="39" y="96"/>
                      <a:pt x="27" y="94"/>
                    </a:cubicBezTo>
                    <a:cubicBezTo>
                      <a:pt x="8" y="96"/>
                      <a:pt x="0" y="95"/>
                      <a:pt x="10" y="113"/>
                    </a:cubicBezTo>
                    <a:cubicBezTo>
                      <a:pt x="27" y="110"/>
                      <a:pt x="27" y="98"/>
                      <a:pt x="39" y="87"/>
                    </a:cubicBezTo>
                    <a:cubicBezTo>
                      <a:pt x="45" y="89"/>
                      <a:pt x="62" y="91"/>
                      <a:pt x="51" y="77"/>
                    </a:cubicBezTo>
                    <a:cubicBezTo>
                      <a:pt x="47" y="72"/>
                      <a:pt x="38" y="74"/>
                      <a:pt x="32" y="72"/>
                    </a:cubicBezTo>
                    <a:cubicBezTo>
                      <a:pt x="25" y="56"/>
                      <a:pt x="30" y="74"/>
                      <a:pt x="44" y="63"/>
                    </a:cubicBezTo>
                    <a:cubicBezTo>
                      <a:pt x="49" y="59"/>
                      <a:pt x="29" y="45"/>
                      <a:pt x="27" y="44"/>
                    </a:cubicBezTo>
                    <a:cubicBezTo>
                      <a:pt x="31" y="30"/>
                      <a:pt x="45" y="29"/>
                      <a:pt x="58" y="27"/>
                    </a:cubicBezTo>
                    <a:cubicBezTo>
                      <a:pt x="59" y="21"/>
                      <a:pt x="58" y="14"/>
                      <a:pt x="61" y="8"/>
                    </a:cubicBezTo>
                    <a:cubicBezTo>
                      <a:pt x="64" y="0"/>
                      <a:pt x="85" y="0"/>
                      <a:pt x="85" y="0"/>
                    </a:cubicBezTo>
                    <a:cubicBezTo>
                      <a:pt x="104" y="5"/>
                      <a:pt x="113" y="21"/>
                      <a:pt x="133" y="24"/>
                    </a:cubicBezTo>
                    <a:cubicBezTo>
                      <a:pt x="149" y="36"/>
                      <a:pt x="142" y="37"/>
                      <a:pt x="154" y="29"/>
                    </a:cubicBezTo>
                    <a:cubicBezTo>
                      <a:pt x="159" y="18"/>
                      <a:pt x="157" y="16"/>
                      <a:pt x="169" y="10"/>
                    </a:cubicBezTo>
                    <a:cubicBezTo>
                      <a:pt x="185" y="22"/>
                      <a:pt x="203" y="29"/>
                      <a:pt x="219" y="41"/>
                    </a:cubicBezTo>
                    <a:cubicBezTo>
                      <a:pt x="229" y="39"/>
                      <a:pt x="238" y="38"/>
                      <a:pt x="248" y="36"/>
                    </a:cubicBezTo>
                    <a:cubicBezTo>
                      <a:pt x="255" y="35"/>
                      <a:pt x="263" y="23"/>
                      <a:pt x="277" y="20"/>
                    </a:cubicBezTo>
                    <a:cubicBezTo>
                      <a:pt x="295" y="23"/>
                      <a:pt x="309" y="32"/>
                      <a:pt x="327" y="36"/>
                    </a:cubicBezTo>
                    <a:cubicBezTo>
                      <a:pt x="334" y="48"/>
                      <a:pt x="339" y="61"/>
                      <a:pt x="353" y="65"/>
                    </a:cubicBezTo>
                    <a:cubicBezTo>
                      <a:pt x="356" y="73"/>
                      <a:pt x="388" y="92"/>
                      <a:pt x="397" y="92"/>
                    </a:cubicBezTo>
                    <a:lnTo>
                      <a:pt x="262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8880" bIns="3888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17800" y="3747960"/>
                <a:ext cx="37440" cy="19800"/>
              </a:xfrm>
              <a:custGeom>
                <a:avLst/>
                <a:gdLst/>
                <a:ahLst/>
                <a:rect l="l" t="t" r="r" b="b"/>
                <a:pathLst>
                  <a:path w="77" h="41">
                    <a:moveTo>
                      <a:pt x="77" y="24"/>
                    </a:moveTo>
                    <a:cubicBezTo>
                      <a:pt x="65" y="33"/>
                      <a:pt x="50" y="26"/>
                      <a:pt x="36" y="24"/>
                    </a:cubicBezTo>
                    <a:cubicBezTo>
                      <a:pt x="31" y="12"/>
                      <a:pt x="27" y="7"/>
                      <a:pt x="17" y="0"/>
                    </a:cubicBezTo>
                    <a:cubicBezTo>
                      <a:pt x="5" y="5"/>
                      <a:pt x="5" y="13"/>
                      <a:pt x="0" y="24"/>
                    </a:cubicBezTo>
                    <a:cubicBezTo>
                      <a:pt x="4" y="37"/>
                      <a:pt x="11" y="37"/>
                      <a:pt x="24" y="41"/>
                    </a:cubicBezTo>
                    <a:cubicBezTo>
                      <a:pt x="48" y="39"/>
                      <a:pt x="55" y="32"/>
                      <a:pt x="77" y="2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94320" y="3696840"/>
                <a:ext cx="45000" cy="25200"/>
              </a:xfrm>
              <a:custGeom>
                <a:avLst/>
                <a:gdLst/>
                <a:ahLst/>
                <a:rect l="l" t="t" r="r" b="b"/>
                <a:pathLst>
                  <a:path w="92" h="52">
                    <a:moveTo>
                      <a:pt x="87" y="33"/>
                    </a:moveTo>
                    <a:cubicBezTo>
                      <a:pt x="74" y="30"/>
                      <a:pt x="66" y="23"/>
                      <a:pt x="55" y="16"/>
                    </a:cubicBezTo>
                    <a:cubicBezTo>
                      <a:pt x="48" y="4"/>
                      <a:pt x="40" y="3"/>
                      <a:pt x="27" y="0"/>
                    </a:cubicBezTo>
                    <a:cubicBezTo>
                      <a:pt x="2" y="3"/>
                      <a:pt x="0" y="10"/>
                      <a:pt x="22" y="16"/>
                    </a:cubicBezTo>
                    <a:cubicBezTo>
                      <a:pt x="30" y="28"/>
                      <a:pt x="24" y="35"/>
                      <a:pt x="39" y="38"/>
                    </a:cubicBezTo>
                    <a:cubicBezTo>
                      <a:pt x="51" y="35"/>
                      <a:pt x="56" y="42"/>
                      <a:pt x="67" y="45"/>
                    </a:cubicBezTo>
                    <a:cubicBezTo>
                      <a:pt x="79" y="52"/>
                      <a:pt x="92" y="49"/>
                      <a:pt x="87" y="3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31880" y="3386160"/>
                <a:ext cx="866160" cy="298800"/>
              </a:xfrm>
              <a:custGeom>
                <a:avLst/>
                <a:gdLst/>
                <a:ahLst/>
                <a:rect l="l" t="t" r="r" b="b"/>
                <a:pathLst>
                  <a:path w="1771" h="611">
                    <a:moveTo>
                      <a:pt x="592" y="587"/>
                    </a:moveTo>
                    <a:cubicBezTo>
                      <a:pt x="589" y="598"/>
                      <a:pt x="582" y="596"/>
                      <a:pt x="571" y="599"/>
                    </a:cubicBezTo>
                    <a:cubicBezTo>
                      <a:pt x="566" y="611"/>
                      <a:pt x="560" y="608"/>
                      <a:pt x="547" y="606"/>
                    </a:cubicBezTo>
                    <a:cubicBezTo>
                      <a:pt x="545" y="600"/>
                      <a:pt x="538" y="597"/>
                      <a:pt x="537" y="591"/>
                    </a:cubicBezTo>
                    <a:cubicBezTo>
                      <a:pt x="534" y="579"/>
                      <a:pt x="550" y="566"/>
                      <a:pt x="559" y="560"/>
                    </a:cubicBezTo>
                    <a:cubicBezTo>
                      <a:pt x="579" y="564"/>
                      <a:pt x="576" y="572"/>
                      <a:pt x="590" y="582"/>
                    </a:cubicBezTo>
                    <a:cubicBezTo>
                      <a:pt x="607" y="570"/>
                      <a:pt x="605" y="592"/>
                      <a:pt x="621" y="596"/>
                    </a:cubicBezTo>
                    <a:cubicBezTo>
                      <a:pt x="631" y="593"/>
                      <a:pt x="631" y="589"/>
                      <a:pt x="633" y="579"/>
                    </a:cubicBezTo>
                    <a:cubicBezTo>
                      <a:pt x="632" y="574"/>
                      <a:pt x="625" y="572"/>
                      <a:pt x="624" y="567"/>
                    </a:cubicBezTo>
                    <a:cubicBezTo>
                      <a:pt x="622" y="558"/>
                      <a:pt x="641" y="556"/>
                      <a:pt x="645" y="555"/>
                    </a:cubicBezTo>
                    <a:cubicBezTo>
                      <a:pt x="642" y="545"/>
                      <a:pt x="644" y="540"/>
                      <a:pt x="650" y="531"/>
                    </a:cubicBezTo>
                    <a:cubicBezTo>
                      <a:pt x="654" y="516"/>
                      <a:pt x="660" y="543"/>
                      <a:pt x="676" y="548"/>
                    </a:cubicBezTo>
                    <a:cubicBezTo>
                      <a:pt x="683" y="532"/>
                      <a:pt x="692" y="541"/>
                      <a:pt x="708" y="546"/>
                    </a:cubicBezTo>
                    <a:cubicBezTo>
                      <a:pt x="710" y="547"/>
                      <a:pt x="715" y="548"/>
                      <a:pt x="715" y="548"/>
                    </a:cubicBezTo>
                    <a:cubicBezTo>
                      <a:pt x="730" y="559"/>
                      <a:pt x="735" y="564"/>
                      <a:pt x="753" y="567"/>
                    </a:cubicBezTo>
                    <a:cubicBezTo>
                      <a:pt x="757" y="578"/>
                      <a:pt x="761" y="578"/>
                      <a:pt x="772" y="575"/>
                    </a:cubicBezTo>
                    <a:cubicBezTo>
                      <a:pt x="795" y="577"/>
                      <a:pt x="803" y="585"/>
                      <a:pt x="823" y="591"/>
                    </a:cubicBezTo>
                    <a:cubicBezTo>
                      <a:pt x="836" y="587"/>
                      <a:pt x="826" y="575"/>
                      <a:pt x="823" y="565"/>
                    </a:cubicBezTo>
                    <a:cubicBezTo>
                      <a:pt x="826" y="555"/>
                      <a:pt x="830" y="552"/>
                      <a:pt x="840" y="548"/>
                    </a:cubicBezTo>
                    <a:cubicBezTo>
                      <a:pt x="852" y="527"/>
                      <a:pt x="835" y="553"/>
                      <a:pt x="852" y="539"/>
                    </a:cubicBezTo>
                    <a:cubicBezTo>
                      <a:pt x="854" y="537"/>
                      <a:pt x="854" y="533"/>
                      <a:pt x="856" y="531"/>
                    </a:cubicBezTo>
                    <a:cubicBezTo>
                      <a:pt x="861" y="528"/>
                      <a:pt x="867" y="529"/>
                      <a:pt x="873" y="527"/>
                    </a:cubicBezTo>
                    <a:cubicBezTo>
                      <a:pt x="881" y="521"/>
                      <a:pt x="885" y="516"/>
                      <a:pt x="895" y="519"/>
                    </a:cubicBezTo>
                    <a:cubicBezTo>
                      <a:pt x="890" y="507"/>
                      <a:pt x="900" y="511"/>
                      <a:pt x="909" y="505"/>
                    </a:cubicBezTo>
                    <a:cubicBezTo>
                      <a:pt x="916" y="506"/>
                      <a:pt x="923" y="510"/>
                      <a:pt x="931" y="510"/>
                    </a:cubicBezTo>
                    <a:cubicBezTo>
                      <a:pt x="941" y="510"/>
                      <a:pt x="959" y="503"/>
                      <a:pt x="969" y="500"/>
                    </a:cubicBezTo>
                    <a:cubicBezTo>
                      <a:pt x="974" y="495"/>
                      <a:pt x="976" y="490"/>
                      <a:pt x="984" y="491"/>
                    </a:cubicBezTo>
                    <a:cubicBezTo>
                      <a:pt x="989" y="491"/>
                      <a:pt x="998" y="495"/>
                      <a:pt x="998" y="495"/>
                    </a:cubicBezTo>
                    <a:cubicBezTo>
                      <a:pt x="1007" y="510"/>
                      <a:pt x="1009" y="510"/>
                      <a:pt x="1027" y="512"/>
                    </a:cubicBezTo>
                    <a:cubicBezTo>
                      <a:pt x="1039" y="519"/>
                      <a:pt x="1045" y="525"/>
                      <a:pt x="1029" y="529"/>
                    </a:cubicBezTo>
                    <a:cubicBezTo>
                      <a:pt x="1033" y="544"/>
                      <a:pt x="1027" y="541"/>
                      <a:pt x="1020" y="553"/>
                    </a:cubicBezTo>
                    <a:cubicBezTo>
                      <a:pt x="1030" y="566"/>
                      <a:pt x="1032" y="564"/>
                      <a:pt x="1044" y="572"/>
                    </a:cubicBezTo>
                    <a:cubicBezTo>
                      <a:pt x="1050" y="551"/>
                      <a:pt x="1082" y="565"/>
                      <a:pt x="1099" y="567"/>
                    </a:cubicBezTo>
                    <a:cubicBezTo>
                      <a:pt x="1112" y="564"/>
                      <a:pt x="1120" y="550"/>
                      <a:pt x="1104" y="543"/>
                    </a:cubicBezTo>
                    <a:cubicBezTo>
                      <a:pt x="1099" y="541"/>
                      <a:pt x="1093" y="541"/>
                      <a:pt x="1087" y="539"/>
                    </a:cubicBezTo>
                    <a:cubicBezTo>
                      <a:pt x="1082" y="526"/>
                      <a:pt x="1090" y="530"/>
                      <a:pt x="1096" y="519"/>
                    </a:cubicBezTo>
                    <a:cubicBezTo>
                      <a:pt x="1103" y="520"/>
                      <a:pt x="1111" y="523"/>
                      <a:pt x="1118" y="524"/>
                    </a:cubicBezTo>
                    <a:cubicBezTo>
                      <a:pt x="1131" y="526"/>
                      <a:pt x="1156" y="529"/>
                      <a:pt x="1156" y="529"/>
                    </a:cubicBezTo>
                    <a:cubicBezTo>
                      <a:pt x="1173" y="539"/>
                      <a:pt x="1226" y="531"/>
                      <a:pt x="1190" y="541"/>
                    </a:cubicBezTo>
                    <a:cubicBezTo>
                      <a:pt x="1187" y="553"/>
                      <a:pt x="1179" y="551"/>
                      <a:pt x="1168" y="553"/>
                    </a:cubicBezTo>
                    <a:cubicBezTo>
                      <a:pt x="1158" y="563"/>
                      <a:pt x="1149" y="565"/>
                      <a:pt x="1135" y="567"/>
                    </a:cubicBezTo>
                    <a:cubicBezTo>
                      <a:pt x="1131" y="579"/>
                      <a:pt x="1145" y="585"/>
                      <a:pt x="1156" y="591"/>
                    </a:cubicBezTo>
                    <a:cubicBezTo>
                      <a:pt x="1162" y="599"/>
                      <a:pt x="1178" y="611"/>
                      <a:pt x="1178" y="611"/>
                    </a:cubicBezTo>
                    <a:lnTo>
                      <a:pt x="1771" y="243"/>
                    </a:lnTo>
                    <a:cubicBezTo>
                      <a:pt x="1692" y="201"/>
                      <a:pt x="1614" y="155"/>
                      <a:pt x="1533" y="116"/>
                    </a:cubicBezTo>
                    <a:cubicBezTo>
                      <a:pt x="1529" y="114"/>
                      <a:pt x="1532" y="124"/>
                      <a:pt x="1531" y="128"/>
                    </a:cubicBezTo>
                    <a:cubicBezTo>
                      <a:pt x="1530" y="131"/>
                      <a:pt x="1528" y="133"/>
                      <a:pt x="1526" y="135"/>
                    </a:cubicBezTo>
                    <a:cubicBezTo>
                      <a:pt x="1529" y="148"/>
                      <a:pt x="1538" y="142"/>
                      <a:pt x="1533" y="155"/>
                    </a:cubicBezTo>
                    <a:cubicBezTo>
                      <a:pt x="1526" y="153"/>
                      <a:pt x="1521" y="148"/>
                      <a:pt x="1514" y="147"/>
                    </a:cubicBezTo>
                    <a:cubicBezTo>
                      <a:pt x="1508" y="146"/>
                      <a:pt x="1480" y="156"/>
                      <a:pt x="1473" y="157"/>
                    </a:cubicBezTo>
                    <a:cubicBezTo>
                      <a:pt x="1467" y="179"/>
                      <a:pt x="1469" y="171"/>
                      <a:pt x="1435" y="169"/>
                    </a:cubicBezTo>
                    <a:cubicBezTo>
                      <a:pt x="1425" y="162"/>
                      <a:pt x="1423" y="158"/>
                      <a:pt x="1411" y="162"/>
                    </a:cubicBezTo>
                    <a:cubicBezTo>
                      <a:pt x="1408" y="178"/>
                      <a:pt x="1407" y="187"/>
                      <a:pt x="1394" y="174"/>
                    </a:cubicBezTo>
                    <a:cubicBezTo>
                      <a:pt x="1391" y="164"/>
                      <a:pt x="1389" y="158"/>
                      <a:pt x="1380" y="152"/>
                    </a:cubicBezTo>
                    <a:cubicBezTo>
                      <a:pt x="1383" y="140"/>
                      <a:pt x="1387" y="144"/>
                      <a:pt x="1392" y="133"/>
                    </a:cubicBezTo>
                    <a:cubicBezTo>
                      <a:pt x="1386" y="107"/>
                      <a:pt x="1385" y="127"/>
                      <a:pt x="1372" y="109"/>
                    </a:cubicBezTo>
                    <a:cubicBezTo>
                      <a:pt x="1376" y="94"/>
                      <a:pt x="1380" y="99"/>
                      <a:pt x="1387" y="109"/>
                    </a:cubicBezTo>
                    <a:cubicBezTo>
                      <a:pt x="1393" y="129"/>
                      <a:pt x="1413" y="128"/>
                      <a:pt x="1430" y="133"/>
                    </a:cubicBezTo>
                    <a:cubicBezTo>
                      <a:pt x="1452" y="149"/>
                      <a:pt x="1438" y="145"/>
                      <a:pt x="1478" y="143"/>
                    </a:cubicBezTo>
                    <a:cubicBezTo>
                      <a:pt x="1495" y="131"/>
                      <a:pt x="1488" y="137"/>
                      <a:pt x="1500" y="126"/>
                    </a:cubicBezTo>
                    <a:cubicBezTo>
                      <a:pt x="1502" y="120"/>
                      <a:pt x="1505" y="114"/>
                      <a:pt x="1500" y="107"/>
                    </a:cubicBezTo>
                    <a:cubicBezTo>
                      <a:pt x="1495" y="99"/>
                      <a:pt x="1484" y="97"/>
                      <a:pt x="1476" y="92"/>
                    </a:cubicBezTo>
                    <a:cubicBezTo>
                      <a:pt x="1465" y="84"/>
                      <a:pt x="1456" y="74"/>
                      <a:pt x="1442" y="68"/>
                    </a:cubicBezTo>
                    <a:cubicBezTo>
                      <a:pt x="1413" y="80"/>
                      <a:pt x="1423" y="69"/>
                      <a:pt x="1416" y="54"/>
                    </a:cubicBezTo>
                    <a:cubicBezTo>
                      <a:pt x="1412" y="46"/>
                      <a:pt x="1401" y="44"/>
                      <a:pt x="1394" y="42"/>
                    </a:cubicBezTo>
                    <a:cubicBezTo>
                      <a:pt x="1391" y="31"/>
                      <a:pt x="1392" y="28"/>
                      <a:pt x="1380" y="25"/>
                    </a:cubicBezTo>
                    <a:cubicBezTo>
                      <a:pt x="1365" y="12"/>
                      <a:pt x="1365" y="13"/>
                      <a:pt x="1341" y="11"/>
                    </a:cubicBezTo>
                    <a:cubicBezTo>
                      <a:pt x="1332" y="7"/>
                      <a:pt x="1323" y="7"/>
                      <a:pt x="1315" y="1"/>
                    </a:cubicBezTo>
                    <a:cubicBezTo>
                      <a:pt x="1270" y="3"/>
                      <a:pt x="1272" y="2"/>
                      <a:pt x="1243" y="8"/>
                    </a:cubicBezTo>
                    <a:cubicBezTo>
                      <a:pt x="1220" y="7"/>
                      <a:pt x="1201" y="0"/>
                      <a:pt x="1183" y="13"/>
                    </a:cubicBezTo>
                    <a:cubicBezTo>
                      <a:pt x="1144" y="10"/>
                      <a:pt x="1129" y="24"/>
                      <a:pt x="1092" y="30"/>
                    </a:cubicBezTo>
                    <a:cubicBezTo>
                      <a:pt x="1081" y="39"/>
                      <a:pt x="1087" y="45"/>
                      <a:pt x="1072" y="42"/>
                    </a:cubicBezTo>
                    <a:cubicBezTo>
                      <a:pt x="1057" y="35"/>
                      <a:pt x="1045" y="35"/>
                      <a:pt x="1027" y="32"/>
                    </a:cubicBezTo>
                    <a:cubicBezTo>
                      <a:pt x="1012" y="21"/>
                      <a:pt x="995" y="24"/>
                      <a:pt x="976" y="23"/>
                    </a:cubicBezTo>
                    <a:cubicBezTo>
                      <a:pt x="963" y="18"/>
                      <a:pt x="951" y="21"/>
                      <a:pt x="938" y="25"/>
                    </a:cubicBezTo>
                    <a:cubicBezTo>
                      <a:pt x="923" y="36"/>
                      <a:pt x="910" y="40"/>
                      <a:pt x="892" y="44"/>
                    </a:cubicBezTo>
                    <a:cubicBezTo>
                      <a:pt x="884" y="50"/>
                      <a:pt x="871" y="51"/>
                      <a:pt x="864" y="59"/>
                    </a:cubicBezTo>
                    <a:cubicBezTo>
                      <a:pt x="860" y="63"/>
                      <a:pt x="854" y="73"/>
                      <a:pt x="854" y="73"/>
                    </a:cubicBezTo>
                    <a:cubicBezTo>
                      <a:pt x="850" y="88"/>
                      <a:pt x="848" y="88"/>
                      <a:pt x="864" y="92"/>
                    </a:cubicBezTo>
                    <a:cubicBezTo>
                      <a:pt x="884" y="108"/>
                      <a:pt x="861" y="93"/>
                      <a:pt x="885" y="97"/>
                    </a:cubicBezTo>
                    <a:cubicBezTo>
                      <a:pt x="890" y="98"/>
                      <a:pt x="895" y="103"/>
                      <a:pt x="900" y="104"/>
                    </a:cubicBezTo>
                    <a:cubicBezTo>
                      <a:pt x="920" y="90"/>
                      <a:pt x="909" y="93"/>
                      <a:pt x="936" y="97"/>
                    </a:cubicBezTo>
                    <a:cubicBezTo>
                      <a:pt x="930" y="106"/>
                      <a:pt x="931" y="113"/>
                      <a:pt x="921" y="116"/>
                    </a:cubicBezTo>
                    <a:cubicBezTo>
                      <a:pt x="910" y="127"/>
                      <a:pt x="898" y="136"/>
                      <a:pt x="885" y="145"/>
                    </a:cubicBezTo>
                    <a:cubicBezTo>
                      <a:pt x="882" y="156"/>
                      <a:pt x="880" y="159"/>
                      <a:pt x="868" y="162"/>
                    </a:cubicBezTo>
                    <a:cubicBezTo>
                      <a:pt x="865" y="173"/>
                      <a:pt x="871" y="172"/>
                      <a:pt x="880" y="169"/>
                    </a:cubicBezTo>
                    <a:cubicBezTo>
                      <a:pt x="892" y="171"/>
                      <a:pt x="901" y="174"/>
                      <a:pt x="912" y="176"/>
                    </a:cubicBezTo>
                    <a:cubicBezTo>
                      <a:pt x="916" y="190"/>
                      <a:pt x="926" y="187"/>
                      <a:pt x="940" y="188"/>
                    </a:cubicBezTo>
                    <a:cubicBezTo>
                      <a:pt x="959" y="195"/>
                      <a:pt x="953" y="183"/>
                      <a:pt x="964" y="174"/>
                    </a:cubicBezTo>
                    <a:cubicBezTo>
                      <a:pt x="966" y="173"/>
                      <a:pt x="977" y="170"/>
                      <a:pt x="979" y="169"/>
                    </a:cubicBezTo>
                    <a:cubicBezTo>
                      <a:pt x="986" y="162"/>
                      <a:pt x="988" y="156"/>
                      <a:pt x="993" y="147"/>
                    </a:cubicBezTo>
                    <a:cubicBezTo>
                      <a:pt x="1001" y="150"/>
                      <a:pt x="1008" y="152"/>
                      <a:pt x="1015" y="157"/>
                    </a:cubicBezTo>
                    <a:cubicBezTo>
                      <a:pt x="1062" y="155"/>
                      <a:pt x="1067" y="160"/>
                      <a:pt x="1053" y="123"/>
                    </a:cubicBezTo>
                    <a:cubicBezTo>
                      <a:pt x="1055" y="118"/>
                      <a:pt x="1054" y="112"/>
                      <a:pt x="1058" y="109"/>
                    </a:cubicBezTo>
                    <a:cubicBezTo>
                      <a:pt x="1062" y="106"/>
                      <a:pt x="1067" y="108"/>
                      <a:pt x="1072" y="107"/>
                    </a:cubicBezTo>
                    <a:cubicBezTo>
                      <a:pt x="1083" y="104"/>
                      <a:pt x="1094" y="98"/>
                      <a:pt x="1106" y="95"/>
                    </a:cubicBezTo>
                    <a:cubicBezTo>
                      <a:pt x="1122" y="101"/>
                      <a:pt x="1135" y="105"/>
                      <a:pt x="1152" y="109"/>
                    </a:cubicBezTo>
                    <a:cubicBezTo>
                      <a:pt x="1175" y="105"/>
                      <a:pt x="1160" y="94"/>
                      <a:pt x="1190" y="90"/>
                    </a:cubicBezTo>
                    <a:cubicBezTo>
                      <a:pt x="1203" y="81"/>
                      <a:pt x="1211" y="88"/>
                      <a:pt x="1219" y="73"/>
                    </a:cubicBezTo>
                    <a:cubicBezTo>
                      <a:pt x="1226" y="78"/>
                      <a:pt x="1243" y="83"/>
                      <a:pt x="1243" y="83"/>
                    </a:cubicBezTo>
                    <a:cubicBezTo>
                      <a:pt x="1246" y="94"/>
                      <a:pt x="1253" y="97"/>
                      <a:pt x="1240" y="102"/>
                    </a:cubicBezTo>
                    <a:cubicBezTo>
                      <a:pt x="1231" y="95"/>
                      <a:pt x="1231" y="93"/>
                      <a:pt x="1216" y="99"/>
                    </a:cubicBezTo>
                    <a:cubicBezTo>
                      <a:pt x="1208" y="102"/>
                      <a:pt x="1195" y="114"/>
                      <a:pt x="1195" y="114"/>
                    </a:cubicBezTo>
                    <a:cubicBezTo>
                      <a:pt x="1166" y="102"/>
                      <a:pt x="1161" y="120"/>
                      <a:pt x="1142" y="123"/>
                    </a:cubicBezTo>
                    <a:cubicBezTo>
                      <a:pt x="1136" y="132"/>
                      <a:pt x="1137" y="143"/>
                      <a:pt x="1132" y="152"/>
                    </a:cubicBezTo>
                    <a:cubicBezTo>
                      <a:pt x="1130" y="155"/>
                      <a:pt x="1115" y="160"/>
                      <a:pt x="1111" y="162"/>
                    </a:cubicBezTo>
                    <a:cubicBezTo>
                      <a:pt x="1113" y="177"/>
                      <a:pt x="1116" y="178"/>
                      <a:pt x="1130" y="174"/>
                    </a:cubicBezTo>
                    <a:cubicBezTo>
                      <a:pt x="1133" y="172"/>
                      <a:pt x="1136" y="168"/>
                      <a:pt x="1140" y="167"/>
                    </a:cubicBezTo>
                    <a:cubicBezTo>
                      <a:pt x="1156" y="163"/>
                      <a:pt x="1148" y="171"/>
                      <a:pt x="1159" y="174"/>
                    </a:cubicBezTo>
                    <a:cubicBezTo>
                      <a:pt x="1176" y="179"/>
                      <a:pt x="1195" y="179"/>
                      <a:pt x="1212" y="183"/>
                    </a:cubicBezTo>
                    <a:cubicBezTo>
                      <a:pt x="1216" y="202"/>
                      <a:pt x="1221" y="196"/>
                      <a:pt x="1212" y="215"/>
                    </a:cubicBezTo>
                    <a:cubicBezTo>
                      <a:pt x="1200" y="210"/>
                      <a:pt x="1197" y="210"/>
                      <a:pt x="1183" y="212"/>
                    </a:cubicBezTo>
                    <a:cubicBezTo>
                      <a:pt x="1181" y="214"/>
                      <a:pt x="1179" y="218"/>
                      <a:pt x="1176" y="219"/>
                    </a:cubicBezTo>
                    <a:cubicBezTo>
                      <a:pt x="1166" y="221"/>
                      <a:pt x="1168" y="209"/>
                      <a:pt x="1164" y="205"/>
                    </a:cubicBezTo>
                    <a:cubicBezTo>
                      <a:pt x="1158" y="199"/>
                      <a:pt x="1124" y="198"/>
                      <a:pt x="1123" y="198"/>
                    </a:cubicBezTo>
                    <a:cubicBezTo>
                      <a:pt x="1117" y="199"/>
                      <a:pt x="1110" y="196"/>
                      <a:pt x="1106" y="200"/>
                    </a:cubicBezTo>
                    <a:cubicBezTo>
                      <a:pt x="1090" y="216"/>
                      <a:pt x="1116" y="220"/>
                      <a:pt x="1096" y="215"/>
                    </a:cubicBezTo>
                    <a:cubicBezTo>
                      <a:pt x="1081" y="216"/>
                      <a:pt x="1071" y="224"/>
                      <a:pt x="1060" y="217"/>
                    </a:cubicBezTo>
                    <a:cubicBezTo>
                      <a:pt x="1056" y="204"/>
                      <a:pt x="1070" y="204"/>
                      <a:pt x="1080" y="200"/>
                    </a:cubicBezTo>
                    <a:cubicBezTo>
                      <a:pt x="1090" y="183"/>
                      <a:pt x="1092" y="186"/>
                      <a:pt x="1065" y="188"/>
                    </a:cubicBezTo>
                    <a:cubicBezTo>
                      <a:pt x="1059" y="197"/>
                      <a:pt x="1059" y="202"/>
                      <a:pt x="1070" y="205"/>
                    </a:cubicBezTo>
                    <a:cubicBezTo>
                      <a:pt x="1043" y="207"/>
                      <a:pt x="1022" y="217"/>
                      <a:pt x="996" y="224"/>
                    </a:cubicBezTo>
                    <a:cubicBezTo>
                      <a:pt x="980" y="238"/>
                      <a:pt x="989" y="244"/>
                      <a:pt x="996" y="260"/>
                    </a:cubicBezTo>
                    <a:cubicBezTo>
                      <a:pt x="971" y="268"/>
                      <a:pt x="978" y="253"/>
                      <a:pt x="964" y="248"/>
                    </a:cubicBezTo>
                    <a:cubicBezTo>
                      <a:pt x="956" y="245"/>
                      <a:pt x="948" y="247"/>
                      <a:pt x="940" y="246"/>
                    </a:cubicBezTo>
                    <a:cubicBezTo>
                      <a:pt x="924" y="239"/>
                      <a:pt x="929" y="222"/>
                      <a:pt x="924" y="219"/>
                    </a:cubicBezTo>
                    <a:cubicBezTo>
                      <a:pt x="907" y="210"/>
                      <a:pt x="885" y="216"/>
                      <a:pt x="866" y="215"/>
                    </a:cubicBezTo>
                    <a:cubicBezTo>
                      <a:pt x="858" y="206"/>
                      <a:pt x="855" y="206"/>
                      <a:pt x="844" y="203"/>
                    </a:cubicBezTo>
                    <a:cubicBezTo>
                      <a:pt x="841" y="191"/>
                      <a:pt x="835" y="182"/>
                      <a:pt x="823" y="179"/>
                    </a:cubicBezTo>
                    <a:cubicBezTo>
                      <a:pt x="815" y="182"/>
                      <a:pt x="803" y="189"/>
                      <a:pt x="794" y="181"/>
                    </a:cubicBezTo>
                    <a:cubicBezTo>
                      <a:pt x="787" y="175"/>
                      <a:pt x="804" y="154"/>
                      <a:pt x="808" y="152"/>
                    </a:cubicBezTo>
                    <a:cubicBezTo>
                      <a:pt x="822" y="156"/>
                      <a:pt x="821" y="165"/>
                      <a:pt x="832" y="174"/>
                    </a:cubicBezTo>
                    <a:cubicBezTo>
                      <a:pt x="838" y="165"/>
                      <a:pt x="845" y="163"/>
                      <a:pt x="854" y="159"/>
                    </a:cubicBezTo>
                    <a:cubicBezTo>
                      <a:pt x="851" y="149"/>
                      <a:pt x="846" y="148"/>
                      <a:pt x="837" y="145"/>
                    </a:cubicBezTo>
                    <a:cubicBezTo>
                      <a:pt x="832" y="126"/>
                      <a:pt x="856" y="146"/>
                      <a:pt x="861" y="128"/>
                    </a:cubicBezTo>
                    <a:cubicBezTo>
                      <a:pt x="871" y="132"/>
                      <a:pt x="877" y="128"/>
                      <a:pt x="888" y="126"/>
                    </a:cubicBezTo>
                    <a:cubicBezTo>
                      <a:pt x="892" y="112"/>
                      <a:pt x="891" y="110"/>
                      <a:pt x="876" y="114"/>
                    </a:cubicBezTo>
                    <a:cubicBezTo>
                      <a:pt x="866" y="120"/>
                      <a:pt x="864" y="123"/>
                      <a:pt x="854" y="116"/>
                    </a:cubicBezTo>
                    <a:cubicBezTo>
                      <a:pt x="815" y="121"/>
                      <a:pt x="842" y="131"/>
                      <a:pt x="818" y="114"/>
                    </a:cubicBezTo>
                    <a:cubicBezTo>
                      <a:pt x="804" y="117"/>
                      <a:pt x="805" y="120"/>
                      <a:pt x="801" y="133"/>
                    </a:cubicBezTo>
                    <a:cubicBezTo>
                      <a:pt x="788" y="130"/>
                      <a:pt x="787" y="135"/>
                      <a:pt x="794" y="145"/>
                    </a:cubicBezTo>
                    <a:cubicBezTo>
                      <a:pt x="778" y="150"/>
                      <a:pt x="763" y="156"/>
                      <a:pt x="746" y="159"/>
                    </a:cubicBezTo>
                    <a:cubicBezTo>
                      <a:pt x="737" y="156"/>
                      <a:pt x="735" y="150"/>
                      <a:pt x="727" y="145"/>
                    </a:cubicBezTo>
                    <a:cubicBezTo>
                      <a:pt x="715" y="148"/>
                      <a:pt x="715" y="156"/>
                      <a:pt x="712" y="167"/>
                    </a:cubicBezTo>
                    <a:cubicBezTo>
                      <a:pt x="674" y="165"/>
                      <a:pt x="659" y="161"/>
                      <a:pt x="628" y="169"/>
                    </a:cubicBezTo>
                    <a:cubicBezTo>
                      <a:pt x="622" y="179"/>
                      <a:pt x="619" y="181"/>
                      <a:pt x="609" y="174"/>
                    </a:cubicBezTo>
                    <a:cubicBezTo>
                      <a:pt x="616" y="169"/>
                      <a:pt x="623" y="167"/>
                      <a:pt x="631" y="164"/>
                    </a:cubicBezTo>
                    <a:cubicBezTo>
                      <a:pt x="636" y="144"/>
                      <a:pt x="620" y="144"/>
                      <a:pt x="604" y="140"/>
                    </a:cubicBezTo>
                    <a:cubicBezTo>
                      <a:pt x="599" y="131"/>
                      <a:pt x="593" y="132"/>
                      <a:pt x="585" y="126"/>
                    </a:cubicBezTo>
                    <a:cubicBezTo>
                      <a:pt x="579" y="127"/>
                      <a:pt x="573" y="126"/>
                      <a:pt x="568" y="128"/>
                    </a:cubicBezTo>
                    <a:cubicBezTo>
                      <a:pt x="563" y="130"/>
                      <a:pt x="554" y="138"/>
                      <a:pt x="554" y="138"/>
                    </a:cubicBezTo>
                    <a:cubicBezTo>
                      <a:pt x="536" y="132"/>
                      <a:pt x="542" y="119"/>
                      <a:pt x="520" y="114"/>
                    </a:cubicBezTo>
                    <a:cubicBezTo>
                      <a:pt x="511" y="117"/>
                      <a:pt x="508" y="120"/>
                      <a:pt x="499" y="116"/>
                    </a:cubicBezTo>
                    <a:cubicBezTo>
                      <a:pt x="503" y="98"/>
                      <a:pt x="490" y="105"/>
                      <a:pt x="475" y="107"/>
                    </a:cubicBezTo>
                    <a:cubicBezTo>
                      <a:pt x="466" y="116"/>
                      <a:pt x="464" y="122"/>
                      <a:pt x="453" y="114"/>
                    </a:cubicBezTo>
                    <a:cubicBezTo>
                      <a:pt x="448" y="98"/>
                      <a:pt x="441" y="88"/>
                      <a:pt x="427" y="80"/>
                    </a:cubicBezTo>
                    <a:cubicBezTo>
                      <a:pt x="409" y="85"/>
                      <a:pt x="411" y="93"/>
                      <a:pt x="420" y="107"/>
                    </a:cubicBezTo>
                    <a:cubicBezTo>
                      <a:pt x="423" y="118"/>
                      <a:pt x="418" y="120"/>
                      <a:pt x="408" y="123"/>
                    </a:cubicBezTo>
                    <a:cubicBezTo>
                      <a:pt x="400" y="136"/>
                      <a:pt x="395" y="127"/>
                      <a:pt x="381" y="131"/>
                    </a:cubicBezTo>
                    <a:cubicBezTo>
                      <a:pt x="380" y="137"/>
                      <a:pt x="381" y="144"/>
                      <a:pt x="379" y="150"/>
                    </a:cubicBezTo>
                    <a:cubicBezTo>
                      <a:pt x="375" y="161"/>
                      <a:pt x="338" y="170"/>
                      <a:pt x="328" y="171"/>
                    </a:cubicBezTo>
                    <a:cubicBezTo>
                      <a:pt x="318" y="175"/>
                      <a:pt x="313" y="169"/>
                      <a:pt x="302" y="167"/>
                    </a:cubicBezTo>
                    <a:cubicBezTo>
                      <a:pt x="292" y="160"/>
                      <a:pt x="284" y="153"/>
                      <a:pt x="273" y="150"/>
                    </a:cubicBezTo>
                    <a:cubicBezTo>
                      <a:pt x="271" y="141"/>
                      <a:pt x="266" y="135"/>
                      <a:pt x="261" y="128"/>
                    </a:cubicBezTo>
                    <a:cubicBezTo>
                      <a:pt x="258" y="117"/>
                      <a:pt x="252" y="107"/>
                      <a:pt x="244" y="99"/>
                    </a:cubicBezTo>
                    <a:cubicBezTo>
                      <a:pt x="241" y="90"/>
                      <a:pt x="235" y="88"/>
                      <a:pt x="230" y="80"/>
                    </a:cubicBezTo>
                    <a:cubicBezTo>
                      <a:pt x="230" y="80"/>
                      <a:pt x="221" y="82"/>
                      <a:pt x="216" y="83"/>
                    </a:cubicBezTo>
                    <a:cubicBezTo>
                      <a:pt x="203" y="78"/>
                      <a:pt x="191" y="78"/>
                      <a:pt x="182" y="90"/>
                    </a:cubicBezTo>
                    <a:cubicBezTo>
                      <a:pt x="178" y="102"/>
                      <a:pt x="156" y="107"/>
                      <a:pt x="144" y="111"/>
                    </a:cubicBezTo>
                    <a:cubicBezTo>
                      <a:pt x="138" y="113"/>
                      <a:pt x="127" y="116"/>
                      <a:pt x="127" y="116"/>
                    </a:cubicBezTo>
                    <a:cubicBezTo>
                      <a:pt x="118" y="117"/>
                      <a:pt x="101" y="117"/>
                      <a:pt x="92" y="115"/>
                    </a:cubicBezTo>
                    <a:cubicBezTo>
                      <a:pt x="83" y="113"/>
                      <a:pt x="78" y="105"/>
                      <a:pt x="74" y="107"/>
                    </a:cubicBezTo>
                    <a:cubicBezTo>
                      <a:pt x="65" y="110"/>
                      <a:pt x="76" y="122"/>
                      <a:pt x="68" y="127"/>
                    </a:cubicBezTo>
                    <a:cubicBezTo>
                      <a:pt x="58" y="151"/>
                      <a:pt x="43" y="138"/>
                      <a:pt x="9" y="140"/>
                    </a:cubicBezTo>
                    <a:cubicBezTo>
                      <a:pt x="7" y="142"/>
                      <a:pt x="3" y="144"/>
                      <a:pt x="4" y="147"/>
                    </a:cubicBezTo>
                    <a:cubicBezTo>
                      <a:pt x="5" y="151"/>
                      <a:pt x="10" y="152"/>
                      <a:pt x="12" y="155"/>
                    </a:cubicBezTo>
                    <a:cubicBezTo>
                      <a:pt x="21" y="166"/>
                      <a:pt x="21" y="177"/>
                      <a:pt x="33" y="186"/>
                    </a:cubicBezTo>
                    <a:cubicBezTo>
                      <a:pt x="24" y="189"/>
                      <a:pt x="17" y="191"/>
                      <a:pt x="7" y="193"/>
                    </a:cubicBezTo>
                    <a:cubicBezTo>
                      <a:pt x="0" y="210"/>
                      <a:pt x="7" y="213"/>
                      <a:pt x="21" y="207"/>
                    </a:cubicBezTo>
                    <a:cubicBezTo>
                      <a:pt x="33" y="212"/>
                      <a:pt x="27" y="221"/>
                      <a:pt x="36" y="229"/>
                    </a:cubicBezTo>
                    <a:cubicBezTo>
                      <a:pt x="46" y="237"/>
                      <a:pt x="53" y="238"/>
                      <a:pt x="60" y="248"/>
                    </a:cubicBezTo>
                    <a:cubicBezTo>
                      <a:pt x="70" y="241"/>
                      <a:pt x="84" y="247"/>
                      <a:pt x="98" y="248"/>
                    </a:cubicBezTo>
                    <a:cubicBezTo>
                      <a:pt x="105" y="258"/>
                      <a:pt x="111" y="258"/>
                      <a:pt x="122" y="260"/>
                    </a:cubicBezTo>
                    <a:cubicBezTo>
                      <a:pt x="132" y="253"/>
                      <a:pt x="134" y="253"/>
                      <a:pt x="146" y="255"/>
                    </a:cubicBezTo>
                    <a:cubicBezTo>
                      <a:pt x="156" y="270"/>
                      <a:pt x="164" y="256"/>
                      <a:pt x="175" y="248"/>
                    </a:cubicBezTo>
                    <a:cubicBezTo>
                      <a:pt x="201" y="250"/>
                      <a:pt x="219" y="250"/>
                      <a:pt x="244" y="246"/>
                    </a:cubicBezTo>
                    <a:cubicBezTo>
                      <a:pt x="246" y="244"/>
                      <a:pt x="246" y="239"/>
                      <a:pt x="249" y="239"/>
                    </a:cubicBezTo>
                    <a:cubicBezTo>
                      <a:pt x="255" y="239"/>
                      <a:pt x="256" y="248"/>
                      <a:pt x="261" y="251"/>
                    </a:cubicBezTo>
                    <a:cubicBezTo>
                      <a:pt x="267" y="254"/>
                      <a:pt x="285" y="255"/>
                      <a:pt x="288" y="255"/>
                    </a:cubicBezTo>
                    <a:cubicBezTo>
                      <a:pt x="309" y="253"/>
                      <a:pt x="327" y="248"/>
                      <a:pt x="348" y="246"/>
                    </a:cubicBezTo>
                    <a:cubicBezTo>
                      <a:pt x="359" y="241"/>
                      <a:pt x="360" y="239"/>
                      <a:pt x="372" y="241"/>
                    </a:cubicBezTo>
                    <a:cubicBezTo>
                      <a:pt x="381" y="272"/>
                      <a:pt x="413" y="279"/>
                      <a:pt x="441" y="284"/>
                    </a:cubicBezTo>
                    <a:cubicBezTo>
                      <a:pt x="451" y="291"/>
                      <a:pt x="463" y="294"/>
                      <a:pt x="475" y="296"/>
                    </a:cubicBezTo>
                    <a:cubicBezTo>
                      <a:pt x="483" y="302"/>
                      <a:pt x="486" y="306"/>
                      <a:pt x="489" y="315"/>
                    </a:cubicBezTo>
                    <a:cubicBezTo>
                      <a:pt x="482" y="316"/>
                      <a:pt x="474" y="314"/>
                      <a:pt x="468" y="318"/>
                    </a:cubicBezTo>
                    <a:cubicBezTo>
                      <a:pt x="451" y="329"/>
                      <a:pt x="469" y="331"/>
                      <a:pt x="472" y="332"/>
                    </a:cubicBezTo>
                    <a:cubicBezTo>
                      <a:pt x="479" y="341"/>
                      <a:pt x="480" y="339"/>
                      <a:pt x="468" y="339"/>
                    </a:cubicBezTo>
                    <a:cubicBezTo>
                      <a:pt x="450" y="344"/>
                      <a:pt x="466" y="342"/>
                      <a:pt x="460" y="356"/>
                    </a:cubicBezTo>
                    <a:cubicBezTo>
                      <a:pt x="463" y="365"/>
                      <a:pt x="467" y="371"/>
                      <a:pt x="470" y="380"/>
                    </a:cubicBezTo>
                    <a:cubicBezTo>
                      <a:pt x="468" y="389"/>
                      <a:pt x="465" y="395"/>
                      <a:pt x="460" y="402"/>
                    </a:cubicBezTo>
                    <a:cubicBezTo>
                      <a:pt x="471" y="409"/>
                      <a:pt x="472" y="419"/>
                      <a:pt x="482" y="426"/>
                    </a:cubicBezTo>
                    <a:cubicBezTo>
                      <a:pt x="488" y="448"/>
                      <a:pt x="479" y="452"/>
                      <a:pt x="465" y="462"/>
                    </a:cubicBezTo>
                    <a:cubicBezTo>
                      <a:pt x="459" y="484"/>
                      <a:pt x="452" y="486"/>
                      <a:pt x="429" y="488"/>
                    </a:cubicBezTo>
                    <a:cubicBezTo>
                      <a:pt x="421" y="494"/>
                      <a:pt x="415" y="498"/>
                      <a:pt x="427" y="503"/>
                    </a:cubicBezTo>
                    <a:cubicBezTo>
                      <a:pt x="435" y="500"/>
                      <a:pt x="440" y="495"/>
                      <a:pt x="448" y="493"/>
                    </a:cubicBezTo>
                    <a:cubicBezTo>
                      <a:pt x="473" y="499"/>
                      <a:pt x="461" y="497"/>
                      <a:pt x="482" y="500"/>
                    </a:cubicBezTo>
                    <a:cubicBezTo>
                      <a:pt x="497" y="496"/>
                      <a:pt x="493" y="482"/>
                      <a:pt x="494" y="467"/>
                    </a:cubicBezTo>
                    <a:cubicBezTo>
                      <a:pt x="542" y="473"/>
                      <a:pt x="518" y="463"/>
                      <a:pt x="525" y="486"/>
                    </a:cubicBezTo>
                    <a:cubicBezTo>
                      <a:pt x="540" y="480"/>
                      <a:pt x="530" y="441"/>
                      <a:pt x="535" y="423"/>
                    </a:cubicBezTo>
                    <a:cubicBezTo>
                      <a:pt x="526" y="402"/>
                      <a:pt x="540" y="431"/>
                      <a:pt x="525" y="411"/>
                    </a:cubicBezTo>
                    <a:cubicBezTo>
                      <a:pt x="520" y="405"/>
                      <a:pt x="518" y="394"/>
                      <a:pt x="513" y="387"/>
                    </a:cubicBezTo>
                    <a:cubicBezTo>
                      <a:pt x="530" y="382"/>
                      <a:pt x="529" y="367"/>
                      <a:pt x="542" y="359"/>
                    </a:cubicBezTo>
                    <a:cubicBezTo>
                      <a:pt x="544" y="335"/>
                      <a:pt x="549" y="334"/>
                      <a:pt x="571" y="330"/>
                    </a:cubicBezTo>
                    <a:cubicBezTo>
                      <a:pt x="582" y="307"/>
                      <a:pt x="573" y="304"/>
                      <a:pt x="583" y="327"/>
                    </a:cubicBezTo>
                    <a:cubicBezTo>
                      <a:pt x="586" y="357"/>
                      <a:pt x="586" y="351"/>
                      <a:pt x="607" y="363"/>
                    </a:cubicBezTo>
                    <a:cubicBezTo>
                      <a:pt x="598" y="367"/>
                      <a:pt x="593" y="366"/>
                      <a:pt x="588" y="375"/>
                    </a:cubicBezTo>
                    <a:cubicBezTo>
                      <a:pt x="589" y="382"/>
                      <a:pt x="592" y="407"/>
                      <a:pt x="595" y="411"/>
                    </a:cubicBezTo>
                    <a:cubicBezTo>
                      <a:pt x="599" y="418"/>
                      <a:pt x="612" y="426"/>
                      <a:pt x="612" y="426"/>
                    </a:cubicBezTo>
                    <a:cubicBezTo>
                      <a:pt x="615" y="437"/>
                      <a:pt x="617" y="439"/>
                      <a:pt x="628" y="443"/>
                    </a:cubicBezTo>
                    <a:cubicBezTo>
                      <a:pt x="608" y="449"/>
                      <a:pt x="619" y="446"/>
                      <a:pt x="597" y="450"/>
                    </a:cubicBezTo>
                    <a:cubicBezTo>
                      <a:pt x="596" y="452"/>
                      <a:pt x="595" y="455"/>
                      <a:pt x="595" y="457"/>
                    </a:cubicBezTo>
                    <a:cubicBezTo>
                      <a:pt x="595" y="462"/>
                      <a:pt x="598" y="466"/>
                      <a:pt x="597" y="471"/>
                    </a:cubicBezTo>
                    <a:cubicBezTo>
                      <a:pt x="596" y="476"/>
                      <a:pt x="588" y="478"/>
                      <a:pt x="585" y="483"/>
                    </a:cubicBezTo>
                    <a:cubicBezTo>
                      <a:pt x="582" y="496"/>
                      <a:pt x="588" y="500"/>
                      <a:pt x="578" y="510"/>
                    </a:cubicBezTo>
                    <a:cubicBezTo>
                      <a:pt x="575" y="521"/>
                      <a:pt x="573" y="530"/>
                      <a:pt x="564" y="536"/>
                    </a:cubicBezTo>
                    <a:cubicBezTo>
                      <a:pt x="557" y="553"/>
                      <a:pt x="566" y="556"/>
                      <a:pt x="580" y="560"/>
                    </a:cubicBezTo>
                    <a:cubicBezTo>
                      <a:pt x="591" y="558"/>
                      <a:pt x="595" y="556"/>
                      <a:pt x="600" y="567"/>
                    </a:cubicBezTo>
                    <a:cubicBezTo>
                      <a:pt x="596" y="578"/>
                      <a:pt x="589" y="575"/>
                      <a:pt x="592" y="5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02880" y="3604680"/>
                <a:ext cx="30240" cy="24840"/>
              </a:xfrm>
              <a:custGeom>
                <a:avLst/>
                <a:gdLst/>
                <a:ahLst/>
                <a:rect l="l" t="t" r="r" b="b"/>
                <a:pathLst>
                  <a:path w="62" h="51">
                    <a:moveTo>
                      <a:pt x="62" y="24"/>
                    </a:moveTo>
                    <a:cubicBezTo>
                      <a:pt x="43" y="21"/>
                      <a:pt x="34" y="11"/>
                      <a:pt x="19" y="0"/>
                    </a:cubicBezTo>
                    <a:cubicBezTo>
                      <a:pt x="2" y="6"/>
                      <a:pt x="0" y="4"/>
                      <a:pt x="10" y="20"/>
                    </a:cubicBezTo>
                    <a:cubicBezTo>
                      <a:pt x="14" y="33"/>
                      <a:pt x="11" y="41"/>
                      <a:pt x="22" y="51"/>
                    </a:cubicBezTo>
                    <a:cubicBezTo>
                      <a:pt x="42" y="46"/>
                      <a:pt x="33" y="45"/>
                      <a:pt x="46" y="36"/>
                    </a:cubicBezTo>
                    <a:cubicBezTo>
                      <a:pt x="56" y="29"/>
                      <a:pt x="62" y="40"/>
                      <a:pt x="62" y="2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487760" y="3554280"/>
                <a:ext cx="35640" cy="20880"/>
              </a:xfrm>
              <a:custGeom>
                <a:avLst/>
                <a:gdLst/>
                <a:ahLst/>
                <a:rect l="l" t="t" r="r" b="b"/>
                <a:pathLst>
                  <a:path w="73" h="43">
                    <a:moveTo>
                      <a:pt x="69" y="5"/>
                    </a:moveTo>
                    <a:cubicBezTo>
                      <a:pt x="64" y="4"/>
                      <a:pt x="59" y="0"/>
                      <a:pt x="53" y="0"/>
                    </a:cubicBezTo>
                    <a:cubicBezTo>
                      <a:pt x="47" y="0"/>
                      <a:pt x="42" y="3"/>
                      <a:pt x="36" y="5"/>
                    </a:cubicBezTo>
                    <a:cubicBezTo>
                      <a:pt x="34" y="6"/>
                      <a:pt x="29" y="7"/>
                      <a:pt x="29" y="7"/>
                    </a:cubicBezTo>
                    <a:cubicBezTo>
                      <a:pt x="22" y="18"/>
                      <a:pt x="17" y="18"/>
                      <a:pt x="5" y="15"/>
                    </a:cubicBezTo>
                    <a:cubicBezTo>
                      <a:pt x="0" y="26"/>
                      <a:pt x="7" y="26"/>
                      <a:pt x="17" y="29"/>
                    </a:cubicBezTo>
                    <a:cubicBezTo>
                      <a:pt x="21" y="43"/>
                      <a:pt x="24" y="43"/>
                      <a:pt x="38" y="41"/>
                    </a:cubicBezTo>
                    <a:cubicBezTo>
                      <a:pt x="44" y="27"/>
                      <a:pt x="50" y="29"/>
                      <a:pt x="65" y="27"/>
                    </a:cubicBezTo>
                    <a:cubicBezTo>
                      <a:pt x="70" y="18"/>
                      <a:pt x="73" y="15"/>
                      <a:pt x="69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23400" y="3540240"/>
                <a:ext cx="26640" cy="1548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49" y="0"/>
                    </a:moveTo>
                    <a:cubicBezTo>
                      <a:pt x="11" y="5"/>
                      <a:pt x="36" y="5"/>
                      <a:pt x="13" y="12"/>
                    </a:cubicBezTo>
                    <a:cubicBezTo>
                      <a:pt x="4" y="19"/>
                      <a:pt x="0" y="21"/>
                      <a:pt x="4" y="32"/>
                    </a:cubicBezTo>
                    <a:cubicBezTo>
                      <a:pt x="12" y="15"/>
                      <a:pt x="15" y="17"/>
                      <a:pt x="35" y="20"/>
                    </a:cubicBezTo>
                    <a:cubicBezTo>
                      <a:pt x="55" y="32"/>
                      <a:pt x="44" y="12"/>
                      <a:pt x="4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442760" y="3521160"/>
                <a:ext cx="14400" cy="1188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3"/>
                    </a:moveTo>
                    <a:cubicBezTo>
                      <a:pt x="19" y="0"/>
                      <a:pt x="12" y="6"/>
                      <a:pt x="1" y="8"/>
                    </a:cubicBezTo>
                    <a:cubicBezTo>
                      <a:pt x="5" y="22"/>
                      <a:pt x="0" y="11"/>
                      <a:pt x="20" y="20"/>
                    </a:cubicBezTo>
                    <a:cubicBezTo>
                      <a:pt x="22" y="21"/>
                      <a:pt x="26" y="25"/>
                      <a:pt x="27" y="23"/>
                    </a:cubicBezTo>
                    <a:cubicBezTo>
                      <a:pt x="30" y="17"/>
                      <a:pt x="28" y="10"/>
                      <a:pt x="29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61200" y="3371400"/>
                <a:ext cx="73080" cy="30240"/>
              </a:xfrm>
              <a:custGeom>
                <a:avLst/>
                <a:gdLst/>
                <a:ahLst/>
                <a:rect l="l" t="t" r="r" b="b"/>
                <a:pathLst>
                  <a:path w="150" h="62">
                    <a:moveTo>
                      <a:pt x="133" y="43"/>
                    </a:moveTo>
                    <a:cubicBezTo>
                      <a:pt x="139" y="35"/>
                      <a:pt x="144" y="34"/>
                      <a:pt x="150" y="26"/>
                    </a:cubicBezTo>
                    <a:cubicBezTo>
                      <a:pt x="144" y="18"/>
                      <a:pt x="140" y="13"/>
                      <a:pt x="131" y="9"/>
                    </a:cubicBezTo>
                    <a:cubicBezTo>
                      <a:pt x="124" y="12"/>
                      <a:pt x="116" y="14"/>
                      <a:pt x="109" y="17"/>
                    </a:cubicBezTo>
                    <a:cubicBezTo>
                      <a:pt x="104" y="8"/>
                      <a:pt x="100" y="3"/>
                      <a:pt x="90" y="0"/>
                    </a:cubicBezTo>
                    <a:cubicBezTo>
                      <a:pt x="67" y="23"/>
                      <a:pt x="47" y="17"/>
                      <a:pt x="15" y="19"/>
                    </a:cubicBezTo>
                    <a:cubicBezTo>
                      <a:pt x="0" y="45"/>
                      <a:pt x="18" y="44"/>
                      <a:pt x="39" y="50"/>
                    </a:cubicBezTo>
                    <a:cubicBezTo>
                      <a:pt x="41" y="54"/>
                      <a:pt x="43" y="62"/>
                      <a:pt x="49" y="62"/>
                    </a:cubicBezTo>
                    <a:cubicBezTo>
                      <a:pt x="54" y="62"/>
                      <a:pt x="58" y="56"/>
                      <a:pt x="63" y="55"/>
                    </a:cubicBezTo>
                    <a:cubicBezTo>
                      <a:pt x="72" y="54"/>
                      <a:pt x="81" y="54"/>
                      <a:pt x="90" y="53"/>
                    </a:cubicBezTo>
                    <a:cubicBezTo>
                      <a:pt x="93" y="41"/>
                      <a:pt x="97" y="41"/>
                      <a:pt x="109" y="43"/>
                    </a:cubicBezTo>
                    <a:cubicBezTo>
                      <a:pt x="127" y="41"/>
                      <a:pt x="134" y="44"/>
                      <a:pt x="133" y="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34360" y="33757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5" y="0"/>
                    </a:moveTo>
                    <a:cubicBezTo>
                      <a:pt x="1" y="10"/>
                      <a:pt x="0" y="13"/>
                      <a:pt x="2" y="24"/>
                    </a:cubicBezTo>
                    <a:cubicBezTo>
                      <a:pt x="7" y="23"/>
                      <a:pt x="13" y="26"/>
                      <a:pt x="17" y="22"/>
                    </a:cubicBezTo>
                    <a:cubicBezTo>
                      <a:pt x="21" y="18"/>
                      <a:pt x="7" y="4"/>
                      <a:pt x="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731120" y="3350520"/>
                <a:ext cx="15120" cy="576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31" y="0"/>
                    </a:moveTo>
                    <a:cubicBezTo>
                      <a:pt x="23" y="1"/>
                      <a:pt x="0" y="4"/>
                      <a:pt x="19" y="12"/>
                    </a:cubicBezTo>
                    <a:cubicBezTo>
                      <a:pt x="25" y="2"/>
                      <a:pt x="21" y="6"/>
                      <a:pt x="3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96560" y="3375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26" y="0"/>
                    </a:moveTo>
                    <a:cubicBezTo>
                      <a:pt x="19" y="15"/>
                      <a:pt x="0" y="12"/>
                      <a:pt x="29" y="27"/>
                    </a:cubicBezTo>
                    <a:cubicBezTo>
                      <a:pt x="42" y="22"/>
                      <a:pt x="31" y="10"/>
                      <a:pt x="2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61200" y="3377160"/>
                <a:ext cx="137160" cy="66240"/>
              </a:xfrm>
              <a:custGeom>
                <a:avLst/>
                <a:gdLst/>
                <a:ahLst/>
                <a:rect l="l" t="t" r="r" b="b"/>
                <a:pathLst>
                  <a:path w="281" h="136">
                    <a:moveTo>
                      <a:pt x="69" y="81"/>
                    </a:moveTo>
                    <a:cubicBezTo>
                      <a:pt x="64" y="78"/>
                      <a:pt x="61" y="76"/>
                      <a:pt x="55" y="75"/>
                    </a:cubicBezTo>
                    <a:cubicBezTo>
                      <a:pt x="50" y="66"/>
                      <a:pt x="48" y="68"/>
                      <a:pt x="49" y="57"/>
                    </a:cubicBezTo>
                    <a:cubicBezTo>
                      <a:pt x="62" y="58"/>
                      <a:pt x="63" y="62"/>
                      <a:pt x="73" y="70"/>
                    </a:cubicBezTo>
                    <a:cubicBezTo>
                      <a:pt x="79" y="57"/>
                      <a:pt x="75" y="61"/>
                      <a:pt x="91" y="64"/>
                    </a:cubicBezTo>
                    <a:cubicBezTo>
                      <a:pt x="100" y="68"/>
                      <a:pt x="93" y="62"/>
                      <a:pt x="102" y="60"/>
                    </a:cubicBezTo>
                    <a:cubicBezTo>
                      <a:pt x="109" y="63"/>
                      <a:pt x="114" y="66"/>
                      <a:pt x="120" y="70"/>
                    </a:cubicBezTo>
                    <a:cubicBezTo>
                      <a:pt x="127" y="65"/>
                      <a:pt x="144" y="63"/>
                      <a:pt x="144" y="63"/>
                    </a:cubicBezTo>
                    <a:cubicBezTo>
                      <a:pt x="150" y="55"/>
                      <a:pt x="152" y="54"/>
                      <a:pt x="160" y="48"/>
                    </a:cubicBezTo>
                    <a:cubicBezTo>
                      <a:pt x="158" y="31"/>
                      <a:pt x="163" y="24"/>
                      <a:pt x="180" y="22"/>
                    </a:cubicBezTo>
                    <a:cubicBezTo>
                      <a:pt x="187" y="17"/>
                      <a:pt x="198" y="16"/>
                      <a:pt x="207" y="15"/>
                    </a:cubicBezTo>
                    <a:cubicBezTo>
                      <a:pt x="214" y="12"/>
                      <a:pt x="213" y="6"/>
                      <a:pt x="216" y="0"/>
                    </a:cubicBezTo>
                    <a:cubicBezTo>
                      <a:pt x="224" y="1"/>
                      <a:pt x="232" y="3"/>
                      <a:pt x="240" y="4"/>
                    </a:cubicBezTo>
                    <a:cubicBezTo>
                      <a:pt x="241" y="3"/>
                      <a:pt x="242" y="0"/>
                      <a:pt x="244" y="0"/>
                    </a:cubicBezTo>
                    <a:cubicBezTo>
                      <a:pt x="248" y="1"/>
                      <a:pt x="256" y="6"/>
                      <a:pt x="256" y="6"/>
                    </a:cubicBezTo>
                    <a:cubicBezTo>
                      <a:pt x="266" y="2"/>
                      <a:pt x="266" y="1"/>
                      <a:pt x="279" y="3"/>
                    </a:cubicBezTo>
                    <a:cubicBezTo>
                      <a:pt x="281" y="20"/>
                      <a:pt x="271" y="9"/>
                      <a:pt x="259" y="16"/>
                    </a:cubicBezTo>
                    <a:cubicBezTo>
                      <a:pt x="261" y="26"/>
                      <a:pt x="262" y="26"/>
                      <a:pt x="270" y="31"/>
                    </a:cubicBezTo>
                    <a:cubicBezTo>
                      <a:pt x="266" y="46"/>
                      <a:pt x="250" y="37"/>
                      <a:pt x="237" y="36"/>
                    </a:cubicBezTo>
                    <a:cubicBezTo>
                      <a:pt x="224" y="36"/>
                      <a:pt x="211" y="31"/>
                      <a:pt x="205" y="43"/>
                    </a:cubicBezTo>
                    <a:cubicBezTo>
                      <a:pt x="215" y="53"/>
                      <a:pt x="215" y="54"/>
                      <a:pt x="202" y="57"/>
                    </a:cubicBezTo>
                    <a:cubicBezTo>
                      <a:pt x="197" y="61"/>
                      <a:pt x="195" y="64"/>
                      <a:pt x="189" y="67"/>
                    </a:cubicBezTo>
                    <a:cubicBezTo>
                      <a:pt x="179" y="65"/>
                      <a:pt x="180" y="69"/>
                      <a:pt x="183" y="78"/>
                    </a:cubicBezTo>
                    <a:cubicBezTo>
                      <a:pt x="179" y="87"/>
                      <a:pt x="169" y="81"/>
                      <a:pt x="162" y="88"/>
                    </a:cubicBezTo>
                    <a:cubicBezTo>
                      <a:pt x="160" y="93"/>
                      <a:pt x="159" y="98"/>
                      <a:pt x="157" y="103"/>
                    </a:cubicBezTo>
                    <a:cubicBezTo>
                      <a:pt x="155" y="122"/>
                      <a:pt x="152" y="117"/>
                      <a:pt x="132" y="118"/>
                    </a:cubicBezTo>
                    <a:cubicBezTo>
                      <a:pt x="126" y="122"/>
                      <a:pt x="125" y="126"/>
                      <a:pt x="120" y="130"/>
                    </a:cubicBezTo>
                    <a:cubicBezTo>
                      <a:pt x="108" y="128"/>
                      <a:pt x="106" y="128"/>
                      <a:pt x="96" y="136"/>
                    </a:cubicBezTo>
                    <a:cubicBezTo>
                      <a:pt x="81" y="135"/>
                      <a:pt x="83" y="130"/>
                      <a:pt x="72" y="124"/>
                    </a:cubicBezTo>
                    <a:cubicBezTo>
                      <a:pt x="68" y="122"/>
                      <a:pt x="60" y="117"/>
                      <a:pt x="60" y="117"/>
                    </a:cubicBezTo>
                    <a:cubicBezTo>
                      <a:pt x="53" y="99"/>
                      <a:pt x="37" y="94"/>
                      <a:pt x="19" y="93"/>
                    </a:cubicBezTo>
                    <a:cubicBezTo>
                      <a:pt x="13" y="90"/>
                      <a:pt x="13" y="86"/>
                      <a:pt x="9" y="82"/>
                    </a:cubicBezTo>
                    <a:cubicBezTo>
                      <a:pt x="6" y="79"/>
                      <a:pt x="0" y="75"/>
                      <a:pt x="0" y="75"/>
                    </a:cubicBezTo>
                    <a:cubicBezTo>
                      <a:pt x="25" y="71"/>
                      <a:pt x="40" y="77"/>
                      <a:pt x="61" y="87"/>
                    </a:cubicBezTo>
                    <a:cubicBezTo>
                      <a:pt x="64" y="86"/>
                      <a:pt x="68" y="87"/>
                      <a:pt x="70" y="85"/>
                    </a:cubicBezTo>
                    <a:cubicBezTo>
                      <a:pt x="71" y="84"/>
                      <a:pt x="69" y="80"/>
                      <a:pt x="69" y="8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0520" bIns="2052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77480" y="33660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6"/>
                    </a:moveTo>
                    <a:cubicBezTo>
                      <a:pt x="7" y="5"/>
                      <a:pt x="5" y="0"/>
                      <a:pt x="0" y="6"/>
                    </a:cubicBezTo>
                    <a:cubicBezTo>
                      <a:pt x="3" y="15"/>
                      <a:pt x="14" y="12"/>
                      <a:pt x="14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09600" y="3470760"/>
                <a:ext cx="13320" cy="111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6" y="2"/>
                    </a:moveTo>
                    <a:cubicBezTo>
                      <a:pt x="8" y="5"/>
                      <a:pt x="14" y="14"/>
                      <a:pt x="0" y="17"/>
                    </a:cubicBezTo>
                    <a:cubicBezTo>
                      <a:pt x="7" y="23"/>
                      <a:pt x="9" y="23"/>
                      <a:pt x="18" y="22"/>
                    </a:cubicBezTo>
                    <a:cubicBezTo>
                      <a:pt x="20" y="18"/>
                      <a:pt x="19" y="13"/>
                      <a:pt x="21" y="10"/>
                    </a:cubicBezTo>
                    <a:cubicBezTo>
                      <a:pt x="28" y="0"/>
                      <a:pt x="26" y="18"/>
                      <a:pt x="26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4331880" y="3283200"/>
              <a:ext cx="866160" cy="417600"/>
              <a:chOff x="4331880" y="3283200"/>
              <a:chExt cx="866160" cy="4176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4331880" y="3283200"/>
                <a:ext cx="866160" cy="417600"/>
                <a:chOff x="4331880" y="3283200"/>
                <a:chExt cx="866160" cy="4176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659840" y="3602160"/>
                  <a:ext cx="194040" cy="84600"/>
                </a:xfrm>
                <a:custGeom>
                  <a:avLst/>
                  <a:gdLst/>
                  <a:ahLst/>
                  <a:rect l="l" t="t" r="r" b="b"/>
                  <a:pathLst>
                    <a:path w="397" h="173">
                      <a:moveTo>
                        <a:pt x="262" y="168"/>
                      </a:moveTo>
                      <a:cubicBezTo>
                        <a:pt x="249" y="173"/>
                        <a:pt x="243" y="173"/>
                        <a:pt x="229" y="171"/>
                      </a:cubicBezTo>
                      <a:cubicBezTo>
                        <a:pt x="221" y="159"/>
                        <a:pt x="211" y="163"/>
                        <a:pt x="200" y="171"/>
                      </a:cubicBezTo>
                      <a:cubicBezTo>
                        <a:pt x="184" y="169"/>
                        <a:pt x="170" y="166"/>
                        <a:pt x="154" y="164"/>
                      </a:cubicBezTo>
                      <a:cubicBezTo>
                        <a:pt x="148" y="155"/>
                        <a:pt x="148" y="142"/>
                        <a:pt x="140" y="135"/>
                      </a:cubicBezTo>
                      <a:cubicBezTo>
                        <a:pt x="135" y="130"/>
                        <a:pt x="123" y="123"/>
                        <a:pt x="123" y="123"/>
                      </a:cubicBezTo>
                      <a:cubicBezTo>
                        <a:pt x="108" y="125"/>
                        <a:pt x="105" y="128"/>
                        <a:pt x="92" y="132"/>
                      </a:cubicBezTo>
                      <a:cubicBezTo>
                        <a:pt x="85" y="131"/>
                        <a:pt x="77" y="132"/>
                        <a:pt x="70" y="130"/>
                      </a:cubicBezTo>
                      <a:cubicBezTo>
                        <a:pt x="56" y="127"/>
                        <a:pt x="68" y="121"/>
                        <a:pt x="61" y="111"/>
                      </a:cubicBezTo>
                      <a:cubicBezTo>
                        <a:pt x="53" y="101"/>
                        <a:pt x="39" y="96"/>
                        <a:pt x="27" y="94"/>
                      </a:cubicBezTo>
                      <a:cubicBezTo>
                        <a:pt x="8" y="96"/>
                        <a:pt x="0" y="95"/>
                        <a:pt x="10" y="113"/>
                      </a:cubicBezTo>
                      <a:cubicBezTo>
                        <a:pt x="27" y="110"/>
                        <a:pt x="27" y="98"/>
                        <a:pt x="39" y="87"/>
                      </a:cubicBezTo>
                      <a:cubicBezTo>
                        <a:pt x="45" y="89"/>
                        <a:pt x="62" y="91"/>
                        <a:pt x="51" y="77"/>
                      </a:cubicBezTo>
                      <a:cubicBezTo>
                        <a:pt x="47" y="72"/>
                        <a:pt x="38" y="74"/>
                        <a:pt x="32" y="72"/>
                      </a:cubicBezTo>
                      <a:cubicBezTo>
                        <a:pt x="25" y="56"/>
                        <a:pt x="30" y="74"/>
                        <a:pt x="44" y="63"/>
                      </a:cubicBezTo>
                      <a:cubicBezTo>
                        <a:pt x="49" y="59"/>
                        <a:pt x="29" y="45"/>
                        <a:pt x="27" y="44"/>
                      </a:cubicBezTo>
                      <a:cubicBezTo>
                        <a:pt x="31" y="30"/>
                        <a:pt x="45" y="29"/>
                        <a:pt x="58" y="27"/>
                      </a:cubicBezTo>
                      <a:cubicBezTo>
                        <a:pt x="59" y="21"/>
                        <a:pt x="58" y="14"/>
                        <a:pt x="61" y="8"/>
                      </a:cubicBezTo>
                      <a:cubicBezTo>
                        <a:pt x="64" y="0"/>
                        <a:pt x="85" y="0"/>
                        <a:pt x="85" y="0"/>
                      </a:cubicBezTo>
                      <a:cubicBezTo>
                        <a:pt x="104" y="5"/>
                        <a:pt x="113" y="21"/>
                        <a:pt x="133" y="24"/>
                      </a:cubicBezTo>
                      <a:cubicBezTo>
                        <a:pt x="149" y="36"/>
                        <a:pt x="142" y="37"/>
                        <a:pt x="154" y="29"/>
                      </a:cubicBezTo>
                      <a:cubicBezTo>
                        <a:pt x="159" y="18"/>
                        <a:pt x="157" y="16"/>
                        <a:pt x="169" y="10"/>
                      </a:cubicBezTo>
                      <a:cubicBezTo>
                        <a:pt x="185" y="22"/>
                        <a:pt x="203" y="29"/>
                        <a:pt x="219" y="41"/>
                      </a:cubicBezTo>
                      <a:cubicBezTo>
                        <a:pt x="229" y="39"/>
                        <a:pt x="238" y="38"/>
                        <a:pt x="248" y="36"/>
                      </a:cubicBezTo>
                      <a:cubicBezTo>
                        <a:pt x="255" y="35"/>
                        <a:pt x="263" y="23"/>
                        <a:pt x="277" y="20"/>
                      </a:cubicBezTo>
                      <a:cubicBezTo>
                        <a:pt x="295" y="23"/>
                        <a:pt x="309" y="32"/>
                        <a:pt x="327" y="36"/>
                      </a:cubicBezTo>
                      <a:cubicBezTo>
                        <a:pt x="334" y="48"/>
                        <a:pt x="339" y="61"/>
                        <a:pt x="353" y="65"/>
                      </a:cubicBezTo>
                      <a:cubicBezTo>
                        <a:pt x="356" y="73"/>
                        <a:pt x="388" y="92"/>
                        <a:pt x="397" y="92"/>
                      </a:cubicBezTo>
                      <a:lnTo>
                        <a:pt x="262" y="1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717800" y="3681000"/>
                  <a:ext cx="37440" cy="19800"/>
                </a:xfrm>
                <a:custGeom>
                  <a:avLst/>
                  <a:gdLst/>
                  <a:ahLst/>
                  <a:rect l="l" t="t" r="r" b="b"/>
                  <a:pathLst>
                    <a:path w="77" h="41">
                      <a:moveTo>
                        <a:pt x="77" y="24"/>
                      </a:moveTo>
                      <a:cubicBezTo>
                        <a:pt x="65" y="33"/>
                        <a:pt x="50" y="26"/>
                        <a:pt x="36" y="24"/>
                      </a:cubicBezTo>
                      <a:cubicBezTo>
                        <a:pt x="31" y="12"/>
                        <a:pt x="27" y="7"/>
                        <a:pt x="17" y="0"/>
                      </a:cubicBezTo>
                      <a:cubicBezTo>
                        <a:pt x="5" y="5"/>
                        <a:pt x="5" y="13"/>
                        <a:pt x="0" y="24"/>
                      </a:cubicBezTo>
                      <a:cubicBezTo>
                        <a:pt x="4" y="37"/>
                        <a:pt x="11" y="37"/>
                        <a:pt x="24" y="41"/>
                      </a:cubicBezTo>
                      <a:cubicBezTo>
                        <a:pt x="48" y="39"/>
                        <a:pt x="55" y="32"/>
                        <a:pt x="77" y="2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594320" y="3629880"/>
                  <a:ext cx="45000" cy="25200"/>
                </a:xfrm>
                <a:custGeom>
                  <a:avLst/>
                  <a:gdLst/>
                  <a:ahLst/>
                  <a:rect l="l" t="t" r="r" b="b"/>
                  <a:pathLst>
                    <a:path w="92" h="52">
                      <a:moveTo>
                        <a:pt x="87" y="33"/>
                      </a:moveTo>
                      <a:cubicBezTo>
                        <a:pt x="74" y="30"/>
                        <a:pt x="66" y="23"/>
                        <a:pt x="55" y="16"/>
                      </a:cubicBezTo>
                      <a:cubicBezTo>
                        <a:pt x="48" y="4"/>
                        <a:pt x="40" y="3"/>
                        <a:pt x="27" y="0"/>
                      </a:cubicBezTo>
                      <a:cubicBezTo>
                        <a:pt x="2" y="3"/>
                        <a:pt x="0" y="10"/>
                        <a:pt x="22" y="16"/>
                      </a:cubicBezTo>
                      <a:cubicBezTo>
                        <a:pt x="30" y="28"/>
                        <a:pt x="24" y="35"/>
                        <a:pt x="39" y="38"/>
                      </a:cubicBezTo>
                      <a:cubicBezTo>
                        <a:pt x="51" y="35"/>
                        <a:pt x="56" y="42"/>
                        <a:pt x="67" y="45"/>
                      </a:cubicBezTo>
                      <a:cubicBezTo>
                        <a:pt x="79" y="52"/>
                        <a:pt x="92" y="49"/>
                        <a:pt x="87" y="3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331880" y="3318840"/>
                  <a:ext cx="866160" cy="299160"/>
                </a:xfrm>
                <a:custGeom>
                  <a:avLst/>
                  <a:gdLst/>
                  <a:ahLst/>
                  <a:rect l="l" t="t" r="r" b="b"/>
                  <a:pathLst>
                    <a:path w="1771" h="611">
                      <a:moveTo>
                        <a:pt x="592" y="587"/>
                      </a:moveTo>
                      <a:cubicBezTo>
                        <a:pt x="589" y="598"/>
                        <a:pt x="582" y="596"/>
                        <a:pt x="571" y="599"/>
                      </a:cubicBezTo>
                      <a:cubicBezTo>
                        <a:pt x="566" y="611"/>
                        <a:pt x="560" y="608"/>
                        <a:pt x="547" y="606"/>
                      </a:cubicBezTo>
                      <a:cubicBezTo>
                        <a:pt x="545" y="600"/>
                        <a:pt x="538" y="597"/>
                        <a:pt x="537" y="591"/>
                      </a:cubicBezTo>
                      <a:cubicBezTo>
                        <a:pt x="534" y="579"/>
                        <a:pt x="550" y="566"/>
                        <a:pt x="559" y="560"/>
                      </a:cubicBezTo>
                      <a:cubicBezTo>
                        <a:pt x="579" y="564"/>
                        <a:pt x="576" y="572"/>
                        <a:pt x="590" y="582"/>
                      </a:cubicBezTo>
                      <a:cubicBezTo>
                        <a:pt x="607" y="570"/>
                        <a:pt x="605" y="592"/>
                        <a:pt x="621" y="596"/>
                      </a:cubicBezTo>
                      <a:cubicBezTo>
                        <a:pt x="631" y="593"/>
                        <a:pt x="631" y="589"/>
                        <a:pt x="633" y="579"/>
                      </a:cubicBezTo>
                      <a:cubicBezTo>
                        <a:pt x="632" y="574"/>
                        <a:pt x="625" y="572"/>
                        <a:pt x="624" y="567"/>
                      </a:cubicBezTo>
                      <a:cubicBezTo>
                        <a:pt x="622" y="558"/>
                        <a:pt x="641" y="556"/>
                        <a:pt x="645" y="555"/>
                      </a:cubicBezTo>
                      <a:cubicBezTo>
                        <a:pt x="642" y="545"/>
                        <a:pt x="644" y="540"/>
                        <a:pt x="650" y="531"/>
                      </a:cubicBezTo>
                      <a:cubicBezTo>
                        <a:pt x="654" y="516"/>
                        <a:pt x="660" y="543"/>
                        <a:pt x="676" y="548"/>
                      </a:cubicBezTo>
                      <a:cubicBezTo>
                        <a:pt x="683" y="532"/>
                        <a:pt x="692" y="541"/>
                        <a:pt x="708" y="546"/>
                      </a:cubicBezTo>
                      <a:cubicBezTo>
                        <a:pt x="710" y="547"/>
                        <a:pt x="715" y="548"/>
                        <a:pt x="715" y="548"/>
                      </a:cubicBezTo>
                      <a:cubicBezTo>
                        <a:pt x="730" y="559"/>
                        <a:pt x="735" y="564"/>
                        <a:pt x="753" y="567"/>
                      </a:cubicBezTo>
                      <a:cubicBezTo>
                        <a:pt x="757" y="578"/>
                        <a:pt x="761" y="578"/>
                        <a:pt x="772" y="575"/>
                      </a:cubicBezTo>
                      <a:cubicBezTo>
                        <a:pt x="795" y="577"/>
                        <a:pt x="803" y="585"/>
                        <a:pt x="823" y="591"/>
                      </a:cubicBezTo>
                      <a:cubicBezTo>
                        <a:pt x="836" y="587"/>
                        <a:pt x="826" y="575"/>
                        <a:pt x="823" y="565"/>
                      </a:cubicBezTo>
                      <a:cubicBezTo>
                        <a:pt x="826" y="555"/>
                        <a:pt x="830" y="552"/>
                        <a:pt x="840" y="548"/>
                      </a:cubicBezTo>
                      <a:cubicBezTo>
                        <a:pt x="852" y="527"/>
                        <a:pt x="835" y="553"/>
                        <a:pt x="852" y="539"/>
                      </a:cubicBezTo>
                      <a:cubicBezTo>
                        <a:pt x="854" y="537"/>
                        <a:pt x="854" y="533"/>
                        <a:pt x="856" y="531"/>
                      </a:cubicBezTo>
                      <a:cubicBezTo>
                        <a:pt x="861" y="528"/>
                        <a:pt x="867" y="529"/>
                        <a:pt x="873" y="527"/>
                      </a:cubicBezTo>
                      <a:cubicBezTo>
                        <a:pt x="881" y="521"/>
                        <a:pt x="885" y="516"/>
                        <a:pt x="895" y="519"/>
                      </a:cubicBezTo>
                      <a:cubicBezTo>
                        <a:pt x="890" y="507"/>
                        <a:pt x="900" y="511"/>
                        <a:pt x="909" y="505"/>
                      </a:cubicBezTo>
                      <a:cubicBezTo>
                        <a:pt x="916" y="506"/>
                        <a:pt x="923" y="510"/>
                        <a:pt x="931" y="510"/>
                      </a:cubicBezTo>
                      <a:cubicBezTo>
                        <a:pt x="941" y="510"/>
                        <a:pt x="959" y="503"/>
                        <a:pt x="969" y="500"/>
                      </a:cubicBezTo>
                      <a:cubicBezTo>
                        <a:pt x="974" y="495"/>
                        <a:pt x="976" y="490"/>
                        <a:pt x="984" y="491"/>
                      </a:cubicBezTo>
                      <a:cubicBezTo>
                        <a:pt x="989" y="491"/>
                        <a:pt x="998" y="495"/>
                        <a:pt x="998" y="495"/>
                      </a:cubicBezTo>
                      <a:cubicBezTo>
                        <a:pt x="1007" y="510"/>
                        <a:pt x="1009" y="510"/>
                        <a:pt x="1027" y="512"/>
                      </a:cubicBezTo>
                      <a:cubicBezTo>
                        <a:pt x="1039" y="519"/>
                        <a:pt x="1045" y="525"/>
                        <a:pt x="1029" y="529"/>
                      </a:cubicBezTo>
                      <a:cubicBezTo>
                        <a:pt x="1033" y="544"/>
                        <a:pt x="1027" y="541"/>
                        <a:pt x="1020" y="553"/>
                      </a:cubicBezTo>
                      <a:cubicBezTo>
                        <a:pt x="1030" y="566"/>
                        <a:pt x="1032" y="564"/>
                        <a:pt x="1044" y="572"/>
                      </a:cubicBezTo>
                      <a:cubicBezTo>
                        <a:pt x="1050" y="551"/>
                        <a:pt x="1082" y="565"/>
                        <a:pt x="1099" y="567"/>
                      </a:cubicBezTo>
                      <a:cubicBezTo>
                        <a:pt x="1112" y="564"/>
                        <a:pt x="1120" y="550"/>
                        <a:pt x="1104" y="543"/>
                      </a:cubicBezTo>
                      <a:cubicBezTo>
                        <a:pt x="1099" y="541"/>
                        <a:pt x="1093" y="541"/>
                        <a:pt x="1087" y="539"/>
                      </a:cubicBezTo>
                      <a:cubicBezTo>
                        <a:pt x="1082" y="526"/>
                        <a:pt x="1090" y="530"/>
                        <a:pt x="1096" y="519"/>
                      </a:cubicBezTo>
                      <a:cubicBezTo>
                        <a:pt x="1103" y="520"/>
                        <a:pt x="1111" y="523"/>
                        <a:pt x="1118" y="524"/>
                      </a:cubicBezTo>
                      <a:cubicBezTo>
                        <a:pt x="1131" y="526"/>
                        <a:pt x="1156" y="529"/>
                        <a:pt x="1156" y="529"/>
                      </a:cubicBezTo>
                      <a:cubicBezTo>
                        <a:pt x="1173" y="539"/>
                        <a:pt x="1226" y="531"/>
                        <a:pt x="1190" y="541"/>
                      </a:cubicBezTo>
                      <a:cubicBezTo>
                        <a:pt x="1187" y="553"/>
                        <a:pt x="1179" y="551"/>
                        <a:pt x="1168" y="553"/>
                      </a:cubicBezTo>
                      <a:cubicBezTo>
                        <a:pt x="1158" y="563"/>
                        <a:pt x="1149" y="565"/>
                        <a:pt x="1135" y="567"/>
                      </a:cubicBezTo>
                      <a:cubicBezTo>
                        <a:pt x="1131" y="579"/>
                        <a:pt x="1145" y="585"/>
                        <a:pt x="1156" y="591"/>
                      </a:cubicBezTo>
                      <a:cubicBezTo>
                        <a:pt x="1162" y="599"/>
                        <a:pt x="1178" y="611"/>
                        <a:pt x="1178" y="611"/>
                      </a:cubicBezTo>
                      <a:lnTo>
                        <a:pt x="1771" y="243"/>
                      </a:lnTo>
                      <a:cubicBezTo>
                        <a:pt x="1692" y="201"/>
                        <a:pt x="1614" y="155"/>
                        <a:pt x="1533" y="116"/>
                      </a:cubicBezTo>
                      <a:cubicBezTo>
                        <a:pt x="1529" y="114"/>
                        <a:pt x="1532" y="124"/>
                        <a:pt x="1531" y="128"/>
                      </a:cubicBezTo>
                      <a:cubicBezTo>
                        <a:pt x="1530" y="131"/>
                        <a:pt x="1528" y="133"/>
                        <a:pt x="1526" y="135"/>
                      </a:cubicBezTo>
                      <a:cubicBezTo>
                        <a:pt x="1529" y="148"/>
                        <a:pt x="1538" y="142"/>
                        <a:pt x="1533" y="155"/>
                      </a:cubicBezTo>
                      <a:cubicBezTo>
                        <a:pt x="1526" y="153"/>
                        <a:pt x="1521" y="148"/>
                        <a:pt x="1514" y="147"/>
                      </a:cubicBezTo>
                      <a:cubicBezTo>
                        <a:pt x="1508" y="146"/>
                        <a:pt x="1480" y="156"/>
                        <a:pt x="1473" y="157"/>
                      </a:cubicBezTo>
                      <a:cubicBezTo>
                        <a:pt x="1467" y="179"/>
                        <a:pt x="1469" y="171"/>
                        <a:pt x="1435" y="169"/>
                      </a:cubicBezTo>
                      <a:cubicBezTo>
                        <a:pt x="1425" y="162"/>
                        <a:pt x="1423" y="158"/>
                        <a:pt x="1411" y="162"/>
                      </a:cubicBezTo>
                      <a:cubicBezTo>
                        <a:pt x="1408" y="178"/>
                        <a:pt x="1407" y="187"/>
                        <a:pt x="1394" y="174"/>
                      </a:cubicBezTo>
                      <a:cubicBezTo>
                        <a:pt x="1391" y="164"/>
                        <a:pt x="1389" y="158"/>
                        <a:pt x="1380" y="152"/>
                      </a:cubicBezTo>
                      <a:cubicBezTo>
                        <a:pt x="1383" y="140"/>
                        <a:pt x="1387" y="144"/>
                        <a:pt x="1392" y="133"/>
                      </a:cubicBezTo>
                      <a:cubicBezTo>
                        <a:pt x="1386" y="107"/>
                        <a:pt x="1385" y="127"/>
                        <a:pt x="1372" y="109"/>
                      </a:cubicBezTo>
                      <a:cubicBezTo>
                        <a:pt x="1376" y="94"/>
                        <a:pt x="1380" y="99"/>
                        <a:pt x="1387" y="109"/>
                      </a:cubicBezTo>
                      <a:cubicBezTo>
                        <a:pt x="1393" y="129"/>
                        <a:pt x="1413" y="128"/>
                        <a:pt x="1430" y="133"/>
                      </a:cubicBezTo>
                      <a:cubicBezTo>
                        <a:pt x="1452" y="149"/>
                        <a:pt x="1438" y="145"/>
                        <a:pt x="1478" y="143"/>
                      </a:cubicBezTo>
                      <a:cubicBezTo>
                        <a:pt x="1495" y="131"/>
                        <a:pt x="1488" y="137"/>
                        <a:pt x="1500" y="126"/>
                      </a:cubicBezTo>
                      <a:cubicBezTo>
                        <a:pt x="1502" y="120"/>
                        <a:pt x="1505" y="114"/>
                        <a:pt x="1500" y="107"/>
                      </a:cubicBezTo>
                      <a:cubicBezTo>
                        <a:pt x="1495" y="99"/>
                        <a:pt x="1484" y="97"/>
                        <a:pt x="1476" y="92"/>
                      </a:cubicBezTo>
                      <a:cubicBezTo>
                        <a:pt x="1465" y="84"/>
                        <a:pt x="1456" y="74"/>
                        <a:pt x="1442" y="68"/>
                      </a:cubicBezTo>
                      <a:cubicBezTo>
                        <a:pt x="1413" y="80"/>
                        <a:pt x="1423" y="69"/>
                        <a:pt x="1416" y="54"/>
                      </a:cubicBezTo>
                      <a:cubicBezTo>
                        <a:pt x="1412" y="46"/>
                        <a:pt x="1401" y="44"/>
                        <a:pt x="1394" y="42"/>
                      </a:cubicBezTo>
                      <a:cubicBezTo>
                        <a:pt x="1391" y="31"/>
                        <a:pt x="1392" y="28"/>
                        <a:pt x="1380" y="25"/>
                      </a:cubicBezTo>
                      <a:cubicBezTo>
                        <a:pt x="1365" y="12"/>
                        <a:pt x="1365" y="13"/>
                        <a:pt x="1341" y="11"/>
                      </a:cubicBezTo>
                      <a:cubicBezTo>
                        <a:pt x="1332" y="7"/>
                        <a:pt x="1323" y="7"/>
                        <a:pt x="1315" y="1"/>
                      </a:cubicBezTo>
                      <a:cubicBezTo>
                        <a:pt x="1270" y="3"/>
                        <a:pt x="1272" y="2"/>
                        <a:pt x="1243" y="8"/>
                      </a:cubicBezTo>
                      <a:cubicBezTo>
                        <a:pt x="1220" y="7"/>
                        <a:pt x="1201" y="0"/>
                        <a:pt x="1183" y="13"/>
                      </a:cubicBezTo>
                      <a:cubicBezTo>
                        <a:pt x="1144" y="10"/>
                        <a:pt x="1129" y="24"/>
                        <a:pt x="1092" y="30"/>
                      </a:cubicBezTo>
                      <a:cubicBezTo>
                        <a:pt x="1081" y="39"/>
                        <a:pt x="1087" y="45"/>
                        <a:pt x="1072" y="42"/>
                      </a:cubicBezTo>
                      <a:cubicBezTo>
                        <a:pt x="1057" y="35"/>
                        <a:pt x="1045" y="35"/>
                        <a:pt x="1027" y="32"/>
                      </a:cubicBezTo>
                      <a:cubicBezTo>
                        <a:pt x="1012" y="21"/>
                        <a:pt x="995" y="24"/>
                        <a:pt x="976" y="23"/>
                      </a:cubicBezTo>
                      <a:cubicBezTo>
                        <a:pt x="963" y="18"/>
                        <a:pt x="951" y="21"/>
                        <a:pt x="938" y="25"/>
                      </a:cubicBezTo>
                      <a:cubicBezTo>
                        <a:pt x="923" y="36"/>
                        <a:pt x="910" y="40"/>
                        <a:pt x="892" y="44"/>
                      </a:cubicBezTo>
                      <a:cubicBezTo>
                        <a:pt x="884" y="50"/>
                        <a:pt x="871" y="51"/>
                        <a:pt x="864" y="59"/>
                      </a:cubicBezTo>
                      <a:cubicBezTo>
                        <a:pt x="860" y="63"/>
                        <a:pt x="854" y="73"/>
                        <a:pt x="854" y="73"/>
                      </a:cubicBezTo>
                      <a:cubicBezTo>
                        <a:pt x="850" y="88"/>
                        <a:pt x="848" y="88"/>
                        <a:pt x="864" y="92"/>
                      </a:cubicBezTo>
                      <a:cubicBezTo>
                        <a:pt x="884" y="108"/>
                        <a:pt x="861" y="93"/>
                        <a:pt x="885" y="97"/>
                      </a:cubicBezTo>
                      <a:cubicBezTo>
                        <a:pt x="890" y="98"/>
                        <a:pt x="895" y="103"/>
                        <a:pt x="900" y="104"/>
                      </a:cubicBezTo>
                      <a:cubicBezTo>
                        <a:pt x="920" y="90"/>
                        <a:pt x="909" y="93"/>
                        <a:pt x="936" y="97"/>
                      </a:cubicBezTo>
                      <a:cubicBezTo>
                        <a:pt x="930" y="106"/>
                        <a:pt x="931" y="113"/>
                        <a:pt x="921" y="116"/>
                      </a:cubicBezTo>
                      <a:cubicBezTo>
                        <a:pt x="910" y="127"/>
                        <a:pt x="898" y="136"/>
                        <a:pt x="885" y="145"/>
                      </a:cubicBezTo>
                      <a:cubicBezTo>
                        <a:pt x="882" y="156"/>
                        <a:pt x="880" y="159"/>
                        <a:pt x="868" y="162"/>
                      </a:cubicBezTo>
                      <a:cubicBezTo>
                        <a:pt x="865" y="173"/>
                        <a:pt x="871" y="172"/>
                        <a:pt x="880" y="169"/>
                      </a:cubicBezTo>
                      <a:cubicBezTo>
                        <a:pt x="892" y="171"/>
                        <a:pt x="901" y="174"/>
                        <a:pt x="912" y="176"/>
                      </a:cubicBezTo>
                      <a:cubicBezTo>
                        <a:pt x="916" y="190"/>
                        <a:pt x="926" y="187"/>
                        <a:pt x="940" y="188"/>
                      </a:cubicBezTo>
                      <a:cubicBezTo>
                        <a:pt x="959" y="195"/>
                        <a:pt x="953" y="183"/>
                        <a:pt x="964" y="174"/>
                      </a:cubicBezTo>
                      <a:cubicBezTo>
                        <a:pt x="966" y="173"/>
                        <a:pt x="977" y="170"/>
                        <a:pt x="979" y="169"/>
                      </a:cubicBezTo>
                      <a:cubicBezTo>
                        <a:pt x="986" y="162"/>
                        <a:pt x="988" y="156"/>
                        <a:pt x="993" y="147"/>
                      </a:cubicBezTo>
                      <a:cubicBezTo>
                        <a:pt x="1001" y="150"/>
                        <a:pt x="1008" y="152"/>
                        <a:pt x="1015" y="157"/>
                      </a:cubicBezTo>
                      <a:cubicBezTo>
                        <a:pt x="1062" y="155"/>
                        <a:pt x="1067" y="160"/>
                        <a:pt x="1053" y="123"/>
                      </a:cubicBezTo>
                      <a:cubicBezTo>
                        <a:pt x="1055" y="118"/>
                        <a:pt x="1054" y="112"/>
                        <a:pt x="1058" y="109"/>
                      </a:cubicBezTo>
                      <a:cubicBezTo>
                        <a:pt x="1062" y="106"/>
                        <a:pt x="1067" y="108"/>
                        <a:pt x="1072" y="107"/>
                      </a:cubicBezTo>
                      <a:cubicBezTo>
                        <a:pt x="1083" y="104"/>
                        <a:pt x="1094" y="98"/>
                        <a:pt x="1106" y="95"/>
                      </a:cubicBezTo>
                      <a:cubicBezTo>
                        <a:pt x="1122" y="101"/>
                        <a:pt x="1135" y="105"/>
                        <a:pt x="1152" y="109"/>
                      </a:cubicBezTo>
                      <a:cubicBezTo>
                        <a:pt x="1175" y="105"/>
                        <a:pt x="1160" y="94"/>
                        <a:pt x="1190" y="90"/>
                      </a:cubicBezTo>
                      <a:cubicBezTo>
                        <a:pt x="1203" y="81"/>
                        <a:pt x="1211" y="88"/>
                        <a:pt x="1219" y="73"/>
                      </a:cubicBezTo>
                      <a:cubicBezTo>
                        <a:pt x="1226" y="78"/>
                        <a:pt x="1243" y="83"/>
                        <a:pt x="1243" y="83"/>
                      </a:cubicBezTo>
                      <a:cubicBezTo>
                        <a:pt x="1246" y="94"/>
                        <a:pt x="1253" y="97"/>
                        <a:pt x="1240" y="102"/>
                      </a:cubicBezTo>
                      <a:cubicBezTo>
                        <a:pt x="1231" y="95"/>
                        <a:pt x="1231" y="93"/>
                        <a:pt x="1216" y="99"/>
                      </a:cubicBezTo>
                      <a:cubicBezTo>
                        <a:pt x="1208" y="102"/>
                        <a:pt x="1195" y="114"/>
                        <a:pt x="1195" y="114"/>
                      </a:cubicBezTo>
                      <a:cubicBezTo>
                        <a:pt x="1166" y="102"/>
                        <a:pt x="1161" y="120"/>
                        <a:pt x="1142" y="123"/>
                      </a:cubicBezTo>
                      <a:cubicBezTo>
                        <a:pt x="1136" y="132"/>
                        <a:pt x="1137" y="143"/>
                        <a:pt x="1132" y="152"/>
                      </a:cubicBezTo>
                      <a:cubicBezTo>
                        <a:pt x="1130" y="155"/>
                        <a:pt x="1115" y="160"/>
                        <a:pt x="1111" y="162"/>
                      </a:cubicBezTo>
                      <a:cubicBezTo>
                        <a:pt x="1113" y="177"/>
                        <a:pt x="1116" y="178"/>
                        <a:pt x="1130" y="174"/>
                      </a:cubicBezTo>
                      <a:cubicBezTo>
                        <a:pt x="1133" y="172"/>
                        <a:pt x="1136" y="168"/>
                        <a:pt x="1140" y="167"/>
                      </a:cubicBezTo>
                      <a:cubicBezTo>
                        <a:pt x="1156" y="163"/>
                        <a:pt x="1148" y="171"/>
                        <a:pt x="1159" y="174"/>
                      </a:cubicBezTo>
                      <a:cubicBezTo>
                        <a:pt x="1176" y="179"/>
                        <a:pt x="1195" y="179"/>
                        <a:pt x="1212" y="183"/>
                      </a:cubicBezTo>
                      <a:cubicBezTo>
                        <a:pt x="1216" y="202"/>
                        <a:pt x="1221" y="196"/>
                        <a:pt x="1212" y="215"/>
                      </a:cubicBezTo>
                      <a:cubicBezTo>
                        <a:pt x="1200" y="210"/>
                        <a:pt x="1197" y="210"/>
                        <a:pt x="1183" y="212"/>
                      </a:cubicBezTo>
                      <a:cubicBezTo>
                        <a:pt x="1181" y="214"/>
                        <a:pt x="1179" y="218"/>
                        <a:pt x="1176" y="219"/>
                      </a:cubicBezTo>
                      <a:cubicBezTo>
                        <a:pt x="1166" y="221"/>
                        <a:pt x="1168" y="209"/>
                        <a:pt x="1164" y="205"/>
                      </a:cubicBezTo>
                      <a:cubicBezTo>
                        <a:pt x="1158" y="199"/>
                        <a:pt x="1124" y="198"/>
                        <a:pt x="1123" y="198"/>
                      </a:cubicBezTo>
                      <a:cubicBezTo>
                        <a:pt x="1117" y="199"/>
                        <a:pt x="1110" y="196"/>
                        <a:pt x="1106" y="200"/>
                      </a:cubicBezTo>
                      <a:cubicBezTo>
                        <a:pt x="1090" y="216"/>
                        <a:pt x="1116" y="220"/>
                        <a:pt x="1096" y="215"/>
                      </a:cubicBezTo>
                      <a:cubicBezTo>
                        <a:pt x="1081" y="216"/>
                        <a:pt x="1071" y="224"/>
                        <a:pt x="1060" y="217"/>
                      </a:cubicBezTo>
                      <a:cubicBezTo>
                        <a:pt x="1056" y="204"/>
                        <a:pt x="1070" y="204"/>
                        <a:pt x="1080" y="200"/>
                      </a:cubicBezTo>
                      <a:cubicBezTo>
                        <a:pt x="1090" y="183"/>
                        <a:pt x="1092" y="186"/>
                        <a:pt x="1065" y="188"/>
                      </a:cubicBezTo>
                      <a:cubicBezTo>
                        <a:pt x="1059" y="197"/>
                        <a:pt x="1059" y="202"/>
                        <a:pt x="1070" y="205"/>
                      </a:cubicBezTo>
                      <a:cubicBezTo>
                        <a:pt x="1043" y="207"/>
                        <a:pt x="1022" y="217"/>
                        <a:pt x="996" y="224"/>
                      </a:cubicBezTo>
                      <a:cubicBezTo>
                        <a:pt x="980" y="238"/>
                        <a:pt x="989" y="244"/>
                        <a:pt x="996" y="260"/>
                      </a:cubicBezTo>
                      <a:cubicBezTo>
                        <a:pt x="971" y="268"/>
                        <a:pt x="978" y="253"/>
                        <a:pt x="964" y="248"/>
                      </a:cubicBezTo>
                      <a:cubicBezTo>
                        <a:pt x="956" y="245"/>
                        <a:pt x="948" y="247"/>
                        <a:pt x="940" y="246"/>
                      </a:cubicBezTo>
                      <a:cubicBezTo>
                        <a:pt x="924" y="239"/>
                        <a:pt x="929" y="222"/>
                        <a:pt x="924" y="219"/>
                      </a:cubicBezTo>
                      <a:cubicBezTo>
                        <a:pt x="907" y="210"/>
                        <a:pt x="885" y="216"/>
                        <a:pt x="866" y="215"/>
                      </a:cubicBezTo>
                      <a:cubicBezTo>
                        <a:pt x="858" y="206"/>
                        <a:pt x="855" y="206"/>
                        <a:pt x="844" y="203"/>
                      </a:cubicBezTo>
                      <a:cubicBezTo>
                        <a:pt x="841" y="191"/>
                        <a:pt x="835" y="182"/>
                        <a:pt x="823" y="179"/>
                      </a:cubicBezTo>
                      <a:cubicBezTo>
                        <a:pt x="815" y="182"/>
                        <a:pt x="803" y="189"/>
                        <a:pt x="794" y="181"/>
                      </a:cubicBezTo>
                      <a:cubicBezTo>
                        <a:pt x="787" y="175"/>
                        <a:pt x="804" y="154"/>
                        <a:pt x="808" y="152"/>
                      </a:cubicBezTo>
                      <a:cubicBezTo>
                        <a:pt x="822" y="156"/>
                        <a:pt x="821" y="165"/>
                        <a:pt x="832" y="174"/>
                      </a:cubicBezTo>
                      <a:cubicBezTo>
                        <a:pt x="838" y="165"/>
                        <a:pt x="845" y="163"/>
                        <a:pt x="854" y="159"/>
                      </a:cubicBezTo>
                      <a:cubicBezTo>
                        <a:pt x="851" y="149"/>
                        <a:pt x="846" y="148"/>
                        <a:pt x="837" y="145"/>
                      </a:cubicBezTo>
                      <a:cubicBezTo>
                        <a:pt x="832" y="126"/>
                        <a:pt x="856" y="146"/>
                        <a:pt x="861" y="128"/>
                      </a:cubicBezTo>
                      <a:cubicBezTo>
                        <a:pt x="871" y="132"/>
                        <a:pt x="877" y="128"/>
                        <a:pt x="888" y="126"/>
                      </a:cubicBezTo>
                      <a:cubicBezTo>
                        <a:pt x="892" y="112"/>
                        <a:pt x="891" y="110"/>
                        <a:pt x="876" y="114"/>
                      </a:cubicBezTo>
                      <a:cubicBezTo>
                        <a:pt x="866" y="120"/>
                        <a:pt x="864" y="123"/>
                        <a:pt x="854" y="116"/>
                      </a:cubicBezTo>
                      <a:cubicBezTo>
                        <a:pt x="815" y="121"/>
                        <a:pt x="842" y="131"/>
                        <a:pt x="818" y="114"/>
                      </a:cubicBezTo>
                      <a:cubicBezTo>
                        <a:pt x="804" y="117"/>
                        <a:pt x="805" y="120"/>
                        <a:pt x="801" y="133"/>
                      </a:cubicBezTo>
                      <a:cubicBezTo>
                        <a:pt x="788" y="130"/>
                        <a:pt x="787" y="135"/>
                        <a:pt x="794" y="145"/>
                      </a:cubicBezTo>
                      <a:cubicBezTo>
                        <a:pt x="778" y="150"/>
                        <a:pt x="763" y="156"/>
                        <a:pt x="746" y="159"/>
                      </a:cubicBezTo>
                      <a:cubicBezTo>
                        <a:pt x="737" y="156"/>
                        <a:pt x="735" y="150"/>
                        <a:pt x="727" y="145"/>
                      </a:cubicBezTo>
                      <a:cubicBezTo>
                        <a:pt x="715" y="148"/>
                        <a:pt x="715" y="156"/>
                        <a:pt x="712" y="167"/>
                      </a:cubicBezTo>
                      <a:cubicBezTo>
                        <a:pt x="674" y="165"/>
                        <a:pt x="659" y="161"/>
                        <a:pt x="628" y="169"/>
                      </a:cubicBezTo>
                      <a:cubicBezTo>
                        <a:pt x="622" y="179"/>
                        <a:pt x="619" y="181"/>
                        <a:pt x="609" y="174"/>
                      </a:cubicBezTo>
                      <a:cubicBezTo>
                        <a:pt x="616" y="169"/>
                        <a:pt x="623" y="167"/>
                        <a:pt x="631" y="164"/>
                      </a:cubicBezTo>
                      <a:cubicBezTo>
                        <a:pt x="636" y="144"/>
                        <a:pt x="620" y="144"/>
                        <a:pt x="604" y="140"/>
                      </a:cubicBezTo>
                      <a:cubicBezTo>
                        <a:pt x="599" y="131"/>
                        <a:pt x="593" y="132"/>
                        <a:pt x="585" y="126"/>
                      </a:cubicBezTo>
                      <a:cubicBezTo>
                        <a:pt x="579" y="127"/>
                        <a:pt x="573" y="126"/>
                        <a:pt x="568" y="128"/>
                      </a:cubicBezTo>
                      <a:cubicBezTo>
                        <a:pt x="563" y="130"/>
                        <a:pt x="554" y="138"/>
                        <a:pt x="554" y="138"/>
                      </a:cubicBezTo>
                      <a:cubicBezTo>
                        <a:pt x="536" y="132"/>
                        <a:pt x="542" y="119"/>
                        <a:pt x="520" y="114"/>
                      </a:cubicBezTo>
                      <a:cubicBezTo>
                        <a:pt x="511" y="117"/>
                        <a:pt x="508" y="120"/>
                        <a:pt x="499" y="116"/>
                      </a:cubicBezTo>
                      <a:cubicBezTo>
                        <a:pt x="503" y="98"/>
                        <a:pt x="490" y="105"/>
                        <a:pt x="475" y="107"/>
                      </a:cubicBezTo>
                      <a:cubicBezTo>
                        <a:pt x="466" y="116"/>
                        <a:pt x="464" y="122"/>
                        <a:pt x="453" y="114"/>
                      </a:cubicBezTo>
                      <a:cubicBezTo>
                        <a:pt x="448" y="98"/>
                        <a:pt x="441" y="88"/>
                        <a:pt x="427" y="80"/>
                      </a:cubicBezTo>
                      <a:cubicBezTo>
                        <a:pt x="409" y="85"/>
                        <a:pt x="411" y="93"/>
                        <a:pt x="420" y="107"/>
                      </a:cubicBezTo>
                      <a:cubicBezTo>
                        <a:pt x="423" y="118"/>
                        <a:pt x="418" y="120"/>
                        <a:pt x="408" y="123"/>
                      </a:cubicBezTo>
                      <a:cubicBezTo>
                        <a:pt x="400" y="136"/>
                        <a:pt x="395" y="127"/>
                        <a:pt x="381" y="131"/>
                      </a:cubicBezTo>
                      <a:cubicBezTo>
                        <a:pt x="380" y="137"/>
                        <a:pt x="381" y="144"/>
                        <a:pt x="379" y="150"/>
                      </a:cubicBezTo>
                      <a:cubicBezTo>
                        <a:pt x="375" y="161"/>
                        <a:pt x="338" y="170"/>
                        <a:pt x="328" y="171"/>
                      </a:cubicBezTo>
                      <a:cubicBezTo>
                        <a:pt x="318" y="175"/>
                        <a:pt x="313" y="169"/>
                        <a:pt x="302" y="167"/>
                      </a:cubicBezTo>
                      <a:cubicBezTo>
                        <a:pt x="292" y="160"/>
                        <a:pt x="284" y="153"/>
                        <a:pt x="273" y="150"/>
                      </a:cubicBezTo>
                      <a:cubicBezTo>
                        <a:pt x="271" y="141"/>
                        <a:pt x="266" y="135"/>
                        <a:pt x="261" y="128"/>
                      </a:cubicBezTo>
                      <a:cubicBezTo>
                        <a:pt x="258" y="117"/>
                        <a:pt x="252" y="107"/>
                        <a:pt x="244" y="99"/>
                      </a:cubicBezTo>
                      <a:cubicBezTo>
                        <a:pt x="241" y="90"/>
                        <a:pt x="235" y="88"/>
                        <a:pt x="230" y="80"/>
                      </a:cubicBezTo>
                      <a:cubicBezTo>
                        <a:pt x="230" y="80"/>
                        <a:pt x="221" y="82"/>
                        <a:pt x="216" y="83"/>
                      </a:cubicBezTo>
                      <a:cubicBezTo>
                        <a:pt x="203" y="78"/>
                        <a:pt x="191" y="78"/>
                        <a:pt x="182" y="90"/>
                      </a:cubicBezTo>
                      <a:cubicBezTo>
                        <a:pt x="178" y="102"/>
                        <a:pt x="156" y="107"/>
                        <a:pt x="144" y="111"/>
                      </a:cubicBezTo>
                      <a:cubicBezTo>
                        <a:pt x="138" y="113"/>
                        <a:pt x="127" y="116"/>
                        <a:pt x="127" y="116"/>
                      </a:cubicBezTo>
                      <a:cubicBezTo>
                        <a:pt x="118" y="117"/>
                        <a:pt x="101" y="117"/>
                        <a:pt x="92" y="115"/>
                      </a:cubicBezTo>
                      <a:cubicBezTo>
                        <a:pt x="83" y="113"/>
                        <a:pt x="78" y="105"/>
                        <a:pt x="74" y="107"/>
                      </a:cubicBezTo>
                      <a:cubicBezTo>
                        <a:pt x="65" y="110"/>
                        <a:pt x="76" y="122"/>
                        <a:pt x="68" y="127"/>
                      </a:cubicBezTo>
                      <a:cubicBezTo>
                        <a:pt x="58" y="151"/>
                        <a:pt x="43" y="138"/>
                        <a:pt x="9" y="140"/>
                      </a:cubicBezTo>
                      <a:cubicBezTo>
                        <a:pt x="7" y="142"/>
                        <a:pt x="3" y="144"/>
                        <a:pt x="4" y="147"/>
                      </a:cubicBezTo>
                      <a:cubicBezTo>
                        <a:pt x="5" y="151"/>
                        <a:pt x="10" y="152"/>
                        <a:pt x="12" y="155"/>
                      </a:cubicBezTo>
                      <a:cubicBezTo>
                        <a:pt x="21" y="166"/>
                        <a:pt x="21" y="177"/>
                        <a:pt x="33" y="186"/>
                      </a:cubicBezTo>
                      <a:cubicBezTo>
                        <a:pt x="24" y="189"/>
                        <a:pt x="17" y="191"/>
                        <a:pt x="7" y="193"/>
                      </a:cubicBezTo>
                      <a:cubicBezTo>
                        <a:pt x="0" y="210"/>
                        <a:pt x="7" y="213"/>
                        <a:pt x="21" y="207"/>
                      </a:cubicBezTo>
                      <a:cubicBezTo>
                        <a:pt x="33" y="212"/>
                        <a:pt x="27" y="221"/>
                        <a:pt x="36" y="229"/>
                      </a:cubicBezTo>
                      <a:cubicBezTo>
                        <a:pt x="46" y="237"/>
                        <a:pt x="53" y="238"/>
                        <a:pt x="60" y="248"/>
                      </a:cubicBezTo>
                      <a:cubicBezTo>
                        <a:pt x="70" y="241"/>
                        <a:pt x="84" y="247"/>
                        <a:pt x="98" y="248"/>
                      </a:cubicBezTo>
                      <a:cubicBezTo>
                        <a:pt x="105" y="258"/>
                        <a:pt x="111" y="258"/>
                        <a:pt x="122" y="260"/>
                      </a:cubicBezTo>
                      <a:cubicBezTo>
                        <a:pt x="132" y="253"/>
                        <a:pt x="134" y="253"/>
                        <a:pt x="146" y="255"/>
                      </a:cubicBezTo>
                      <a:cubicBezTo>
                        <a:pt x="156" y="270"/>
                        <a:pt x="164" y="256"/>
                        <a:pt x="175" y="248"/>
                      </a:cubicBezTo>
                      <a:cubicBezTo>
                        <a:pt x="201" y="250"/>
                        <a:pt x="219" y="250"/>
                        <a:pt x="244" y="246"/>
                      </a:cubicBezTo>
                      <a:cubicBezTo>
                        <a:pt x="246" y="244"/>
                        <a:pt x="246" y="239"/>
                        <a:pt x="249" y="239"/>
                      </a:cubicBezTo>
                      <a:cubicBezTo>
                        <a:pt x="255" y="239"/>
                        <a:pt x="256" y="248"/>
                        <a:pt x="261" y="251"/>
                      </a:cubicBezTo>
                      <a:cubicBezTo>
                        <a:pt x="267" y="254"/>
                        <a:pt x="285" y="255"/>
                        <a:pt x="288" y="255"/>
                      </a:cubicBezTo>
                      <a:cubicBezTo>
                        <a:pt x="309" y="253"/>
                        <a:pt x="327" y="248"/>
                        <a:pt x="348" y="246"/>
                      </a:cubicBezTo>
                      <a:cubicBezTo>
                        <a:pt x="359" y="241"/>
                        <a:pt x="360" y="239"/>
                        <a:pt x="372" y="241"/>
                      </a:cubicBezTo>
                      <a:cubicBezTo>
                        <a:pt x="381" y="272"/>
                        <a:pt x="413" y="279"/>
                        <a:pt x="441" y="284"/>
                      </a:cubicBezTo>
                      <a:cubicBezTo>
                        <a:pt x="451" y="291"/>
                        <a:pt x="463" y="294"/>
                        <a:pt x="475" y="296"/>
                      </a:cubicBezTo>
                      <a:cubicBezTo>
                        <a:pt x="483" y="302"/>
                        <a:pt x="486" y="306"/>
                        <a:pt x="489" y="315"/>
                      </a:cubicBezTo>
                      <a:cubicBezTo>
                        <a:pt x="482" y="316"/>
                        <a:pt x="474" y="314"/>
                        <a:pt x="468" y="318"/>
                      </a:cubicBezTo>
                      <a:cubicBezTo>
                        <a:pt x="451" y="329"/>
                        <a:pt x="469" y="331"/>
                        <a:pt x="472" y="332"/>
                      </a:cubicBezTo>
                      <a:cubicBezTo>
                        <a:pt x="479" y="341"/>
                        <a:pt x="480" y="339"/>
                        <a:pt x="468" y="339"/>
                      </a:cubicBezTo>
                      <a:cubicBezTo>
                        <a:pt x="450" y="344"/>
                        <a:pt x="466" y="342"/>
                        <a:pt x="460" y="356"/>
                      </a:cubicBezTo>
                      <a:cubicBezTo>
                        <a:pt x="463" y="365"/>
                        <a:pt x="467" y="371"/>
                        <a:pt x="470" y="380"/>
                      </a:cubicBezTo>
                      <a:cubicBezTo>
                        <a:pt x="468" y="389"/>
                        <a:pt x="465" y="395"/>
                        <a:pt x="460" y="402"/>
                      </a:cubicBezTo>
                      <a:cubicBezTo>
                        <a:pt x="471" y="409"/>
                        <a:pt x="472" y="419"/>
                        <a:pt x="482" y="426"/>
                      </a:cubicBezTo>
                      <a:cubicBezTo>
                        <a:pt x="488" y="448"/>
                        <a:pt x="479" y="452"/>
                        <a:pt x="465" y="462"/>
                      </a:cubicBezTo>
                      <a:cubicBezTo>
                        <a:pt x="459" y="484"/>
                        <a:pt x="452" y="486"/>
                        <a:pt x="429" y="488"/>
                      </a:cubicBezTo>
                      <a:cubicBezTo>
                        <a:pt x="421" y="494"/>
                        <a:pt x="415" y="498"/>
                        <a:pt x="427" y="503"/>
                      </a:cubicBezTo>
                      <a:cubicBezTo>
                        <a:pt x="435" y="500"/>
                        <a:pt x="440" y="495"/>
                        <a:pt x="448" y="493"/>
                      </a:cubicBezTo>
                      <a:cubicBezTo>
                        <a:pt x="473" y="499"/>
                        <a:pt x="461" y="497"/>
                        <a:pt x="482" y="500"/>
                      </a:cubicBezTo>
                      <a:cubicBezTo>
                        <a:pt x="497" y="496"/>
                        <a:pt x="493" y="482"/>
                        <a:pt x="494" y="467"/>
                      </a:cubicBezTo>
                      <a:cubicBezTo>
                        <a:pt x="542" y="473"/>
                        <a:pt x="518" y="463"/>
                        <a:pt x="525" y="486"/>
                      </a:cubicBezTo>
                      <a:cubicBezTo>
                        <a:pt x="540" y="480"/>
                        <a:pt x="530" y="441"/>
                        <a:pt x="535" y="423"/>
                      </a:cubicBezTo>
                      <a:cubicBezTo>
                        <a:pt x="526" y="402"/>
                        <a:pt x="540" y="431"/>
                        <a:pt x="525" y="411"/>
                      </a:cubicBezTo>
                      <a:cubicBezTo>
                        <a:pt x="520" y="405"/>
                        <a:pt x="518" y="394"/>
                        <a:pt x="513" y="387"/>
                      </a:cubicBezTo>
                      <a:cubicBezTo>
                        <a:pt x="530" y="382"/>
                        <a:pt x="529" y="367"/>
                        <a:pt x="542" y="359"/>
                      </a:cubicBezTo>
                      <a:cubicBezTo>
                        <a:pt x="544" y="335"/>
                        <a:pt x="549" y="334"/>
                        <a:pt x="571" y="330"/>
                      </a:cubicBezTo>
                      <a:cubicBezTo>
                        <a:pt x="582" y="307"/>
                        <a:pt x="573" y="304"/>
                        <a:pt x="583" y="327"/>
                      </a:cubicBezTo>
                      <a:cubicBezTo>
                        <a:pt x="586" y="357"/>
                        <a:pt x="586" y="351"/>
                        <a:pt x="607" y="363"/>
                      </a:cubicBezTo>
                      <a:cubicBezTo>
                        <a:pt x="598" y="367"/>
                        <a:pt x="593" y="366"/>
                        <a:pt x="588" y="375"/>
                      </a:cubicBezTo>
                      <a:cubicBezTo>
                        <a:pt x="589" y="382"/>
                        <a:pt x="592" y="407"/>
                        <a:pt x="595" y="411"/>
                      </a:cubicBezTo>
                      <a:cubicBezTo>
                        <a:pt x="599" y="418"/>
                        <a:pt x="612" y="426"/>
                        <a:pt x="612" y="426"/>
                      </a:cubicBezTo>
                      <a:cubicBezTo>
                        <a:pt x="615" y="437"/>
                        <a:pt x="617" y="439"/>
                        <a:pt x="628" y="443"/>
                      </a:cubicBezTo>
                      <a:cubicBezTo>
                        <a:pt x="608" y="449"/>
                        <a:pt x="619" y="446"/>
                        <a:pt x="597" y="450"/>
                      </a:cubicBezTo>
                      <a:cubicBezTo>
                        <a:pt x="596" y="452"/>
                        <a:pt x="595" y="455"/>
                        <a:pt x="595" y="457"/>
                      </a:cubicBezTo>
                      <a:cubicBezTo>
                        <a:pt x="595" y="462"/>
                        <a:pt x="598" y="466"/>
                        <a:pt x="597" y="471"/>
                      </a:cubicBezTo>
                      <a:cubicBezTo>
                        <a:pt x="596" y="476"/>
                        <a:pt x="588" y="478"/>
                        <a:pt x="585" y="483"/>
                      </a:cubicBezTo>
                      <a:cubicBezTo>
                        <a:pt x="582" y="496"/>
                        <a:pt x="588" y="500"/>
                        <a:pt x="578" y="510"/>
                      </a:cubicBezTo>
                      <a:cubicBezTo>
                        <a:pt x="575" y="521"/>
                        <a:pt x="573" y="530"/>
                        <a:pt x="564" y="536"/>
                      </a:cubicBezTo>
                      <a:cubicBezTo>
                        <a:pt x="557" y="553"/>
                        <a:pt x="566" y="556"/>
                        <a:pt x="580" y="560"/>
                      </a:cubicBezTo>
                      <a:cubicBezTo>
                        <a:pt x="591" y="558"/>
                        <a:pt x="595" y="556"/>
                        <a:pt x="600" y="567"/>
                      </a:cubicBezTo>
                      <a:cubicBezTo>
                        <a:pt x="596" y="578"/>
                        <a:pt x="589" y="575"/>
                        <a:pt x="592" y="58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502880" y="3537720"/>
                  <a:ext cx="30240" cy="24840"/>
                </a:xfrm>
                <a:custGeom>
                  <a:avLst/>
                  <a:gdLst/>
                  <a:ahLst/>
                  <a:rect l="l" t="t" r="r" b="b"/>
                  <a:pathLst>
                    <a:path w="62" h="51">
                      <a:moveTo>
                        <a:pt x="62" y="24"/>
                      </a:moveTo>
                      <a:cubicBezTo>
                        <a:pt x="43" y="21"/>
                        <a:pt x="34" y="11"/>
                        <a:pt x="19" y="0"/>
                      </a:cubicBezTo>
                      <a:cubicBezTo>
                        <a:pt x="2" y="6"/>
                        <a:pt x="0" y="4"/>
                        <a:pt x="10" y="20"/>
                      </a:cubicBezTo>
                      <a:cubicBezTo>
                        <a:pt x="14" y="33"/>
                        <a:pt x="11" y="41"/>
                        <a:pt x="22" y="51"/>
                      </a:cubicBezTo>
                      <a:cubicBezTo>
                        <a:pt x="42" y="46"/>
                        <a:pt x="33" y="45"/>
                        <a:pt x="46" y="36"/>
                      </a:cubicBezTo>
                      <a:cubicBezTo>
                        <a:pt x="56" y="29"/>
                        <a:pt x="62" y="40"/>
                        <a:pt x="62" y="2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487760" y="3486960"/>
                  <a:ext cx="35640" cy="20880"/>
                </a:xfrm>
                <a:custGeom>
                  <a:avLst/>
                  <a:gdLst/>
                  <a:ahLst/>
                  <a:rect l="l" t="t" r="r" b="b"/>
                  <a:pathLst>
                    <a:path w="73" h="43">
                      <a:moveTo>
                        <a:pt x="69" y="5"/>
                      </a:moveTo>
                      <a:cubicBezTo>
                        <a:pt x="64" y="4"/>
                        <a:pt x="59" y="0"/>
                        <a:pt x="53" y="0"/>
                      </a:cubicBezTo>
                      <a:cubicBezTo>
                        <a:pt x="47" y="0"/>
                        <a:pt x="42" y="3"/>
                        <a:pt x="36" y="5"/>
                      </a:cubicBezTo>
                      <a:cubicBezTo>
                        <a:pt x="34" y="6"/>
                        <a:pt x="29" y="7"/>
                        <a:pt x="29" y="7"/>
                      </a:cubicBezTo>
                      <a:cubicBezTo>
                        <a:pt x="22" y="18"/>
                        <a:pt x="17" y="18"/>
                        <a:pt x="5" y="15"/>
                      </a:cubicBezTo>
                      <a:cubicBezTo>
                        <a:pt x="0" y="26"/>
                        <a:pt x="7" y="26"/>
                        <a:pt x="17" y="29"/>
                      </a:cubicBezTo>
                      <a:cubicBezTo>
                        <a:pt x="21" y="43"/>
                        <a:pt x="24" y="43"/>
                        <a:pt x="38" y="41"/>
                      </a:cubicBezTo>
                      <a:cubicBezTo>
                        <a:pt x="44" y="27"/>
                        <a:pt x="50" y="29"/>
                        <a:pt x="65" y="27"/>
                      </a:cubicBezTo>
                      <a:cubicBezTo>
                        <a:pt x="70" y="18"/>
                        <a:pt x="73" y="15"/>
                        <a:pt x="69" y="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523400" y="3472920"/>
                  <a:ext cx="26640" cy="15480"/>
                </a:xfrm>
                <a:custGeom>
                  <a:avLst/>
                  <a:gdLst/>
                  <a:ahLst/>
                  <a:rect l="l" t="t" r="r" b="b"/>
                  <a:pathLst>
                    <a:path w="55" h="32">
                      <a:moveTo>
                        <a:pt x="49" y="0"/>
                      </a:moveTo>
                      <a:cubicBezTo>
                        <a:pt x="11" y="5"/>
                        <a:pt x="36" y="5"/>
                        <a:pt x="13" y="12"/>
                      </a:cubicBezTo>
                      <a:cubicBezTo>
                        <a:pt x="4" y="19"/>
                        <a:pt x="0" y="21"/>
                        <a:pt x="4" y="32"/>
                      </a:cubicBezTo>
                      <a:cubicBezTo>
                        <a:pt x="12" y="15"/>
                        <a:pt x="15" y="17"/>
                        <a:pt x="35" y="20"/>
                      </a:cubicBezTo>
                      <a:cubicBezTo>
                        <a:pt x="55" y="32"/>
                        <a:pt x="44" y="12"/>
                        <a:pt x="49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442760" y="3453840"/>
                  <a:ext cx="14400" cy="11880"/>
                </a:xfrm>
                <a:custGeom>
                  <a:avLst/>
                  <a:gdLst/>
                  <a:ahLst/>
                  <a:rect l="l" t="t" r="r" b="b"/>
                  <a:pathLst>
                    <a:path w="30" h="25">
                      <a:moveTo>
                        <a:pt x="29" y="3"/>
                      </a:moveTo>
                      <a:cubicBezTo>
                        <a:pt x="19" y="0"/>
                        <a:pt x="12" y="6"/>
                        <a:pt x="1" y="8"/>
                      </a:cubicBezTo>
                      <a:cubicBezTo>
                        <a:pt x="5" y="22"/>
                        <a:pt x="0" y="11"/>
                        <a:pt x="20" y="20"/>
                      </a:cubicBezTo>
                      <a:cubicBezTo>
                        <a:pt x="22" y="21"/>
                        <a:pt x="26" y="25"/>
                        <a:pt x="27" y="23"/>
                      </a:cubicBezTo>
                      <a:cubicBezTo>
                        <a:pt x="30" y="17"/>
                        <a:pt x="28" y="10"/>
                        <a:pt x="29" y="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561200" y="330408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150" h="62">
                      <a:moveTo>
                        <a:pt x="133" y="43"/>
                      </a:moveTo>
                      <a:cubicBezTo>
                        <a:pt x="139" y="35"/>
                        <a:pt x="144" y="34"/>
                        <a:pt x="150" y="26"/>
                      </a:cubicBezTo>
                      <a:cubicBezTo>
                        <a:pt x="144" y="18"/>
                        <a:pt x="140" y="13"/>
                        <a:pt x="131" y="9"/>
                      </a:cubicBezTo>
                      <a:cubicBezTo>
                        <a:pt x="124" y="12"/>
                        <a:pt x="116" y="14"/>
                        <a:pt x="109" y="17"/>
                      </a:cubicBezTo>
                      <a:cubicBezTo>
                        <a:pt x="104" y="8"/>
                        <a:pt x="100" y="3"/>
                        <a:pt x="90" y="0"/>
                      </a:cubicBezTo>
                      <a:cubicBezTo>
                        <a:pt x="67" y="23"/>
                        <a:pt x="47" y="17"/>
                        <a:pt x="15" y="19"/>
                      </a:cubicBezTo>
                      <a:cubicBezTo>
                        <a:pt x="0" y="45"/>
                        <a:pt x="18" y="44"/>
                        <a:pt x="39" y="50"/>
                      </a:cubicBezTo>
                      <a:cubicBezTo>
                        <a:pt x="41" y="54"/>
                        <a:pt x="43" y="62"/>
                        <a:pt x="49" y="62"/>
                      </a:cubicBezTo>
                      <a:cubicBezTo>
                        <a:pt x="54" y="62"/>
                        <a:pt x="58" y="56"/>
                        <a:pt x="63" y="55"/>
                      </a:cubicBezTo>
                      <a:cubicBezTo>
                        <a:pt x="72" y="54"/>
                        <a:pt x="81" y="54"/>
                        <a:pt x="90" y="53"/>
                      </a:cubicBezTo>
                      <a:cubicBezTo>
                        <a:pt x="93" y="41"/>
                        <a:pt x="97" y="41"/>
                        <a:pt x="109" y="43"/>
                      </a:cubicBezTo>
                      <a:cubicBezTo>
                        <a:pt x="127" y="41"/>
                        <a:pt x="134" y="44"/>
                        <a:pt x="133" y="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734360" y="3308400"/>
                  <a:ext cx="10080" cy="126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5" y="0"/>
                      </a:moveTo>
                      <a:cubicBezTo>
                        <a:pt x="1" y="10"/>
                        <a:pt x="0" y="13"/>
                        <a:pt x="2" y="24"/>
                      </a:cubicBezTo>
                      <a:cubicBezTo>
                        <a:pt x="7" y="23"/>
                        <a:pt x="13" y="26"/>
                        <a:pt x="17" y="22"/>
                      </a:cubicBezTo>
                      <a:cubicBezTo>
                        <a:pt x="21" y="18"/>
                        <a:pt x="7" y="4"/>
                        <a:pt x="5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731120" y="3283200"/>
                  <a:ext cx="14760" cy="57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1" y="0"/>
                      </a:moveTo>
                      <a:cubicBezTo>
                        <a:pt x="23" y="1"/>
                        <a:pt x="0" y="4"/>
                        <a:pt x="19" y="12"/>
                      </a:cubicBezTo>
                      <a:cubicBezTo>
                        <a:pt x="25" y="2"/>
                        <a:pt x="21" y="6"/>
                        <a:pt x="31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696560" y="3308400"/>
                  <a:ext cx="20520" cy="12960"/>
                </a:xfrm>
                <a:custGeom>
                  <a:avLst/>
                  <a:gdLst/>
                  <a:ahLst/>
                  <a:rect l="l" t="t" r="r" b="b"/>
                  <a:pathLst>
                    <a:path w="42" h="27">
                      <a:moveTo>
                        <a:pt x="26" y="0"/>
                      </a:moveTo>
                      <a:cubicBezTo>
                        <a:pt x="19" y="15"/>
                        <a:pt x="0" y="12"/>
                        <a:pt x="29" y="27"/>
                      </a:cubicBezTo>
                      <a:cubicBezTo>
                        <a:pt x="42" y="22"/>
                        <a:pt x="31" y="10"/>
                        <a:pt x="26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561200" y="3309840"/>
                  <a:ext cx="137520" cy="66600"/>
                </a:xfrm>
                <a:custGeom>
                  <a:avLst/>
                  <a:gdLst/>
                  <a:ahLst/>
                  <a:rect l="l" t="t" r="r" b="b"/>
                  <a:pathLst>
                    <a:path w="281" h="136">
                      <a:moveTo>
                        <a:pt x="69" y="81"/>
                      </a:moveTo>
                      <a:cubicBezTo>
                        <a:pt x="64" y="78"/>
                        <a:pt x="61" y="76"/>
                        <a:pt x="55" y="75"/>
                      </a:cubicBezTo>
                      <a:cubicBezTo>
                        <a:pt x="50" y="66"/>
                        <a:pt x="48" y="68"/>
                        <a:pt x="49" y="57"/>
                      </a:cubicBezTo>
                      <a:cubicBezTo>
                        <a:pt x="62" y="58"/>
                        <a:pt x="63" y="62"/>
                        <a:pt x="73" y="70"/>
                      </a:cubicBezTo>
                      <a:cubicBezTo>
                        <a:pt x="79" y="57"/>
                        <a:pt x="75" y="61"/>
                        <a:pt x="91" y="64"/>
                      </a:cubicBezTo>
                      <a:cubicBezTo>
                        <a:pt x="100" y="68"/>
                        <a:pt x="93" y="62"/>
                        <a:pt x="102" y="60"/>
                      </a:cubicBezTo>
                      <a:cubicBezTo>
                        <a:pt x="109" y="63"/>
                        <a:pt x="114" y="66"/>
                        <a:pt x="120" y="70"/>
                      </a:cubicBezTo>
                      <a:cubicBezTo>
                        <a:pt x="127" y="65"/>
                        <a:pt x="144" y="63"/>
                        <a:pt x="144" y="63"/>
                      </a:cubicBezTo>
                      <a:cubicBezTo>
                        <a:pt x="150" y="55"/>
                        <a:pt x="152" y="54"/>
                        <a:pt x="160" y="48"/>
                      </a:cubicBezTo>
                      <a:cubicBezTo>
                        <a:pt x="158" y="31"/>
                        <a:pt x="163" y="24"/>
                        <a:pt x="180" y="22"/>
                      </a:cubicBezTo>
                      <a:cubicBezTo>
                        <a:pt x="187" y="17"/>
                        <a:pt x="198" y="16"/>
                        <a:pt x="207" y="15"/>
                      </a:cubicBezTo>
                      <a:cubicBezTo>
                        <a:pt x="214" y="12"/>
                        <a:pt x="213" y="6"/>
                        <a:pt x="216" y="0"/>
                      </a:cubicBezTo>
                      <a:cubicBezTo>
                        <a:pt x="224" y="1"/>
                        <a:pt x="232" y="3"/>
                        <a:pt x="240" y="4"/>
                      </a:cubicBezTo>
                      <a:cubicBezTo>
                        <a:pt x="241" y="3"/>
                        <a:pt x="242" y="0"/>
                        <a:pt x="244" y="0"/>
                      </a:cubicBezTo>
                      <a:cubicBezTo>
                        <a:pt x="248" y="1"/>
                        <a:pt x="256" y="6"/>
                        <a:pt x="256" y="6"/>
                      </a:cubicBezTo>
                      <a:cubicBezTo>
                        <a:pt x="266" y="2"/>
                        <a:pt x="266" y="1"/>
                        <a:pt x="279" y="3"/>
                      </a:cubicBezTo>
                      <a:cubicBezTo>
                        <a:pt x="281" y="20"/>
                        <a:pt x="271" y="9"/>
                        <a:pt x="259" y="16"/>
                      </a:cubicBezTo>
                      <a:cubicBezTo>
                        <a:pt x="261" y="26"/>
                        <a:pt x="262" y="26"/>
                        <a:pt x="270" y="31"/>
                      </a:cubicBezTo>
                      <a:cubicBezTo>
                        <a:pt x="266" y="46"/>
                        <a:pt x="250" y="37"/>
                        <a:pt x="237" y="36"/>
                      </a:cubicBezTo>
                      <a:cubicBezTo>
                        <a:pt x="224" y="36"/>
                        <a:pt x="211" y="31"/>
                        <a:pt x="205" y="43"/>
                      </a:cubicBezTo>
                      <a:cubicBezTo>
                        <a:pt x="215" y="53"/>
                        <a:pt x="215" y="54"/>
                        <a:pt x="202" y="57"/>
                      </a:cubicBezTo>
                      <a:cubicBezTo>
                        <a:pt x="197" y="61"/>
                        <a:pt x="195" y="64"/>
                        <a:pt x="189" y="67"/>
                      </a:cubicBezTo>
                      <a:cubicBezTo>
                        <a:pt x="179" y="65"/>
                        <a:pt x="180" y="69"/>
                        <a:pt x="183" y="78"/>
                      </a:cubicBezTo>
                      <a:cubicBezTo>
                        <a:pt x="179" y="87"/>
                        <a:pt x="169" y="81"/>
                        <a:pt x="162" y="88"/>
                      </a:cubicBezTo>
                      <a:cubicBezTo>
                        <a:pt x="160" y="93"/>
                        <a:pt x="159" y="98"/>
                        <a:pt x="157" y="103"/>
                      </a:cubicBezTo>
                      <a:cubicBezTo>
                        <a:pt x="155" y="122"/>
                        <a:pt x="152" y="117"/>
                        <a:pt x="132" y="118"/>
                      </a:cubicBezTo>
                      <a:cubicBezTo>
                        <a:pt x="126" y="122"/>
                        <a:pt x="125" y="126"/>
                        <a:pt x="120" y="130"/>
                      </a:cubicBezTo>
                      <a:cubicBezTo>
                        <a:pt x="108" y="128"/>
                        <a:pt x="106" y="128"/>
                        <a:pt x="96" y="136"/>
                      </a:cubicBezTo>
                      <a:cubicBezTo>
                        <a:pt x="81" y="135"/>
                        <a:pt x="83" y="130"/>
                        <a:pt x="72" y="124"/>
                      </a:cubicBezTo>
                      <a:cubicBezTo>
                        <a:pt x="68" y="122"/>
                        <a:pt x="60" y="117"/>
                        <a:pt x="60" y="117"/>
                      </a:cubicBezTo>
                      <a:cubicBezTo>
                        <a:pt x="53" y="99"/>
                        <a:pt x="37" y="94"/>
                        <a:pt x="19" y="93"/>
                      </a:cubicBezTo>
                      <a:cubicBezTo>
                        <a:pt x="13" y="90"/>
                        <a:pt x="13" y="86"/>
                        <a:pt x="9" y="82"/>
                      </a:cubicBezTo>
                      <a:cubicBezTo>
                        <a:pt x="6" y="79"/>
                        <a:pt x="0" y="75"/>
                        <a:pt x="0" y="75"/>
                      </a:cubicBezTo>
                      <a:cubicBezTo>
                        <a:pt x="25" y="71"/>
                        <a:pt x="40" y="77"/>
                        <a:pt x="61" y="87"/>
                      </a:cubicBezTo>
                      <a:cubicBezTo>
                        <a:pt x="64" y="86"/>
                        <a:pt x="68" y="87"/>
                        <a:pt x="70" y="85"/>
                      </a:cubicBezTo>
                      <a:cubicBezTo>
                        <a:pt x="71" y="84"/>
                        <a:pt x="69" y="80"/>
                        <a:pt x="69" y="8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677480" y="3298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14" y="6"/>
                      </a:moveTo>
                      <a:cubicBezTo>
                        <a:pt x="7" y="5"/>
                        <a:pt x="5" y="0"/>
                        <a:pt x="0" y="6"/>
                      </a:cubicBezTo>
                      <a:cubicBezTo>
                        <a:pt x="3" y="15"/>
                        <a:pt x="14" y="12"/>
                        <a:pt x="14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809600" y="3403440"/>
                  <a:ext cx="13320" cy="11160"/>
                </a:xfrm>
                <a:custGeom>
                  <a:avLst/>
                  <a:gdLst/>
                  <a:ahLst/>
                  <a:rect l="l" t="t" r="r" b="b"/>
                  <a:pathLst>
                    <a:path w="28" h="23">
                      <a:moveTo>
                        <a:pt x="26" y="2"/>
                      </a:moveTo>
                      <a:cubicBezTo>
                        <a:pt x="8" y="5"/>
                        <a:pt x="14" y="14"/>
                        <a:pt x="0" y="17"/>
                      </a:cubicBezTo>
                      <a:cubicBezTo>
                        <a:pt x="7" y="23"/>
                        <a:pt x="9" y="23"/>
                        <a:pt x="18" y="22"/>
                      </a:cubicBezTo>
                      <a:cubicBezTo>
                        <a:pt x="20" y="18"/>
                        <a:pt x="19" y="13"/>
                        <a:pt x="21" y="10"/>
                      </a:cubicBezTo>
                      <a:cubicBezTo>
                        <a:pt x="28" y="0"/>
                        <a:pt x="26" y="18"/>
                        <a:pt x="26" y="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ffff"/>
                    </a:gs>
                    <a:gs pos="50000">
                      <a:srgbClr val="007575"/>
                    </a:gs>
                    <a:gs pos="100000">
                      <a:srgbClr val="00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366080" y="3317400"/>
                <a:ext cx="672480" cy="282600"/>
                <a:chOff x="4366080" y="3317400"/>
                <a:chExt cx="672480" cy="2826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366080" y="3317400"/>
                  <a:ext cx="247320" cy="142920"/>
                </a:xfrm>
                <a:custGeom>
                  <a:avLst/>
                  <a:gdLst/>
                  <a:ahLst/>
                  <a:rect l="l" t="t" r="r" b="b"/>
                  <a:pathLst>
                    <a:path w="506" h="292">
                      <a:moveTo>
                        <a:pt x="0" y="130"/>
                      </a:moveTo>
                      <a:lnTo>
                        <a:pt x="96" y="194"/>
                      </a:lnTo>
                      <a:lnTo>
                        <a:pt x="448" y="164"/>
                      </a:lnTo>
                      <a:lnTo>
                        <a:pt x="506" y="196"/>
                      </a:lnTo>
                      <a:lnTo>
                        <a:pt x="476" y="234"/>
                      </a:lnTo>
                      <a:lnTo>
                        <a:pt x="458" y="292"/>
                      </a:lnTo>
                      <a:lnTo>
                        <a:pt x="430" y="228"/>
                      </a:lnTo>
                      <a:lnTo>
                        <a:pt x="450" y="168"/>
                      </a:lnTo>
                      <a:lnTo>
                        <a:pt x="504" y="92"/>
                      </a:lnTo>
                      <a:lnTo>
                        <a:pt x="506" y="0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614480" y="3413160"/>
                  <a:ext cx="269640" cy="82080"/>
                </a:xfrm>
                <a:custGeom>
                  <a:avLst/>
                  <a:gdLst/>
                  <a:ahLst/>
                  <a:rect l="l" t="t" r="r" b="b"/>
                  <a:pathLst>
                    <a:path w="552" h="168">
                      <a:moveTo>
                        <a:pt x="0" y="0"/>
                      </a:moveTo>
                      <a:lnTo>
                        <a:pt x="16" y="18"/>
                      </a:lnTo>
                      <a:lnTo>
                        <a:pt x="88" y="30"/>
                      </a:lnTo>
                      <a:lnTo>
                        <a:pt x="320" y="46"/>
                      </a:lnTo>
                      <a:lnTo>
                        <a:pt x="232" y="102"/>
                      </a:lnTo>
                      <a:lnTo>
                        <a:pt x="412" y="168"/>
                      </a:lnTo>
                      <a:lnTo>
                        <a:pt x="446" y="62"/>
                      </a:lnTo>
                      <a:lnTo>
                        <a:pt x="476" y="38"/>
                      </a:lnTo>
                      <a:lnTo>
                        <a:pt x="552" y="18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791240" y="3346560"/>
                  <a:ext cx="247320" cy="100800"/>
                </a:xfrm>
                <a:custGeom>
                  <a:avLst/>
                  <a:gdLst/>
                  <a:ahLst/>
                  <a:rect l="l" t="t" r="r" b="b"/>
                  <a:pathLst>
                    <a:path w="506" h="206">
                      <a:moveTo>
                        <a:pt x="0" y="0"/>
                      </a:moveTo>
                      <a:lnTo>
                        <a:pt x="26" y="66"/>
                      </a:lnTo>
                      <a:lnTo>
                        <a:pt x="228" y="84"/>
                      </a:lnTo>
                      <a:lnTo>
                        <a:pt x="296" y="196"/>
                      </a:lnTo>
                      <a:lnTo>
                        <a:pt x="506" y="206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579200" y="3444480"/>
                  <a:ext cx="138600" cy="155520"/>
                </a:xfrm>
                <a:custGeom>
                  <a:avLst/>
                  <a:gdLst/>
                  <a:ahLst/>
                  <a:rect l="l" t="t" r="r" b="b"/>
                  <a:pathLst>
                    <a:path w="284" h="318">
                      <a:moveTo>
                        <a:pt x="60" y="318"/>
                      </a:moveTo>
                      <a:lnTo>
                        <a:pt x="106" y="248"/>
                      </a:lnTo>
                      <a:lnTo>
                        <a:pt x="120" y="132"/>
                      </a:lnTo>
                      <a:lnTo>
                        <a:pt x="284" y="68"/>
                      </a:lnTo>
                      <a:lnTo>
                        <a:pt x="134" y="30"/>
                      </a:lnTo>
                      <a:lnTo>
                        <a:pt x="138" y="0"/>
                      </a:lnTo>
                      <a:lnTo>
                        <a:pt x="28" y="32"/>
                      </a:lnTo>
                      <a:lnTo>
                        <a:pt x="12" y="78"/>
                      </a:lnTo>
                      <a:lnTo>
                        <a:pt x="0" y="178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631040" y="3535920"/>
                  <a:ext cx="81000" cy="30240"/>
                </a:xfrm>
                <a:custGeom>
                  <a:avLst/>
                  <a:gdLst/>
                  <a:ahLst/>
                  <a:rect l="l" t="t" r="r" b="b"/>
                  <a:pathLst>
                    <a:path w="166" h="62">
                      <a:moveTo>
                        <a:pt x="0" y="62"/>
                      </a:moveTo>
                      <a:lnTo>
                        <a:pt x="166" y="0"/>
                      </a:lnTo>
                      <a:lnTo>
                        <a:pt x="164" y="54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717080" y="3476880"/>
                  <a:ext cx="97560" cy="46800"/>
                </a:xfrm>
                <a:custGeom>
                  <a:avLst/>
                  <a:gdLst/>
                  <a:ahLst/>
                  <a:rect l="l" t="t" r="r" b="b"/>
                  <a:pathLst>
                    <a:path w="200" h="96">
                      <a:moveTo>
                        <a:pt x="200" y="38"/>
                      </a:moveTo>
                      <a:lnTo>
                        <a:pt x="102" y="9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613400" y="3381840"/>
                  <a:ext cx="190440" cy="62640"/>
                </a:xfrm>
                <a:custGeom>
                  <a:avLst/>
                  <a:gdLst/>
                  <a:ahLst/>
                  <a:rect l="l" t="t" r="r" b="b"/>
                  <a:pathLst>
                    <a:path w="390" h="128">
                      <a:moveTo>
                        <a:pt x="68" y="128"/>
                      </a:moveTo>
                      <a:lnTo>
                        <a:pt x="0" y="98"/>
                      </a:lnTo>
                      <a:lnTo>
                        <a:pt x="22" y="84"/>
                      </a:lnTo>
                      <a:lnTo>
                        <a:pt x="6" y="26"/>
                      </a:lnTo>
                      <a:lnTo>
                        <a:pt x="36" y="22"/>
                      </a:lnTo>
                      <a:lnTo>
                        <a:pt x="246" y="6"/>
                      </a:lnTo>
                      <a:lnTo>
                        <a:pt x="390" y="0"/>
                      </a:lnTo>
                      <a:lnTo>
                        <a:pt x="210" y="102"/>
                      </a:lnTo>
                      <a:lnTo>
                        <a:pt x="16" y="30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>
                  <a:off x="4612680" y="3362040"/>
                  <a:ext cx="3240" cy="3204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886280" y="3422160"/>
                  <a:ext cx="95760" cy="92880"/>
                </a:xfrm>
                <a:custGeom>
                  <a:avLst/>
                  <a:gdLst/>
                  <a:ahLst/>
                  <a:rect l="l" t="t" r="r" b="b"/>
                  <a:pathLst>
                    <a:path w="196" h="190">
                      <a:moveTo>
                        <a:pt x="196" y="190"/>
                      </a:moveTo>
                      <a:lnTo>
                        <a:pt x="100" y="42"/>
                      </a:lnTo>
                      <a:lnTo>
                        <a:pt x="18" y="5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792320" y="3345840"/>
                  <a:ext cx="187560" cy="41760"/>
                </a:xfrm>
                <a:custGeom>
                  <a:avLst/>
                  <a:gdLst/>
                  <a:ahLst/>
                  <a:rect l="l" t="t" r="r" b="b"/>
                  <a:pathLst>
                    <a:path w="384" h="86">
                      <a:moveTo>
                        <a:pt x="0" y="0"/>
                      </a:moveTo>
                      <a:lnTo>
                        <a:pt x="188" y="4"/>
                      </a:lnTo>
                      <a:lnTo>
                        <a:pt x="234" y="86"/>
                      </a:lnTo>
                      <a:lnTo>
                        <a:pt x="384" y="4"/>
                      </a:lnTo>
                    </a:path>
                  </a:pathLst>
                </a:custGeom>
                <a:noFill/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2" name=""/>
            <p:cNvGrpSpPr/>
            <p:nvPr/>
          </p:nvGrpSpPr>
          <p:grpSpPr>
            <a:xfrm>
              <a:off x="3405240" y="3450960"/>
              <a:ext cx="1042200" cy="734760"/>
              <a:chOff x="3405240" y="3450960"/>
              <a:chExt cx="1042200" cy="734760"/>
            </a:xfrm>
          </p:grpSpPr>
          <p:graphicFrame>
            <p:nvGraphicFramePr>
              <p:cNvPr id="303" name=""/>
              <p:cNvGraphicFramePr/>
              <p:nvPr/>
            </p:nvGraphicFramePr>
            <p:xfrm>
              <a:off x="3405240" y="3647880"/>
              <a:ext cx="414720" cy="4158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304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405240" y="3647880"/>
                        <a:ext cx="414720" cy="41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5" name=""/>
              <p:cNvSpPr/>
              <p:nvPr/>
            </p:nvSpPr>
            <p:spPr>
              <a:xfrm>
                <a:off x="4128120" y="3616920"/>
                <a:ext cx="315360" cy="196560"/>
              </a:xfrm>
              <a:custGeom>
                <a:avLst/>
                <a:gdLst/>
                <a:ahLst/>
                <a:rect l="l" t="t" r="r" b="b"/>
                <a:pathLst>
                  <a:path w="645" h="402">
                    <a:moveTo>
                      <a:pt x="0" y="190"/>
                    </a:moveTo>
                    <a:lnTo>
                      <a:pt x="33" y="349"/>
                    </a:lnTo>
                    <a:lnTo>
                      <a:pt x="236" y="402"/>
                    </a:lnTo>
                    <a:lnTo>
                      <a:pt x="176" y="351"/>
                    </a:lnTo>
                    <a:lnTo>
                      <a:pt x="584" y="136"/>
                    </a:lnTo>
                    <a:lnTo>
                      <a:pt x="645" y="187"/>
                    </a:lnTo>
                    <a:lnTo>
                      <a:pt x="602" y="49"/>
                    </a:lnTo>
                    <a:lnTo>
                      <a:pt x="404" y="0"/>
                    </a:lnTo>
                    <a:cubicBezTo>
                      <a:pt x="432" y="20"/>
                      <a:pt x="447" y="32"/>
                      <a:pt x="470" y="48"/>
                    </a:cubicBezTo>
                    <a:lnTo>
                      <a:pt x="65" y="249"/>
                    </a:lnTo>
                    <a:lnTo>
                      <a:pt x="0" y="1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aphicFrame>
            <p:nvGraphicFramePr>
              <p:cNvPr id="306" name=""/>
              <p:cNvGraphicFramePr/>
              <p:nvPr/>
            </p:nvGraphicFramePr>
            <p:xfrm>
              <a:off x="3540240" y="3450960"/>
              <a:ext cx="565200" cy="4417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07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540240" y="3450960"/>
                        <a:ext cx="565200" cy="441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8" name=""/>
              <p:cNvSpPr/>
              <p:nvPr/>
            </p:nvSpPr>
            <p:spPr>
              <a:xfrm>
                <a:off x="4132080" y="3544920"/>
                <a:ext cx="315360" cy="196560"/>
              </a:xfrm>
              <a:custGeom>
                <a:avLst/>
                <a:gdLst/>
                <a:ahLst/>
                <a:rect l="l" t="t" r="r" b="b"/>
                <a:pathLst>
                  <a:path w="645" h="402">
                    <a:moveTo>
                      <a:pt x="0" y="190"/>
                    </a:moveTo>
                    <a:lnTo>
                      <a:pt x="33" y="349"/>
                    </a:lnTo>
                    <a:lnTo>
                      <a:pt x="236" y="402"/>
                    </a:lnTo>
                    <a:lnTo>
                      <a:pt x="176" y="351"/>
                    </a:lnTo>
                    <a:lnTo>
                      <a:pt x="584" y="136"/>
                    </a:lnTo>
                    <a:lnTo>
                      <a:pt x="645" y="187"/>
                    </a:lnTo>
                    <a:lnTo>
                      <a:pt x="602" y="49"/>
                    </a:lnTo>
                    <a:lnTo>
                      <a:pt x="404" y="0"/>
                    </a:lnTo>
                    <a:cubicBezTo>
                      <a:pt x="432" y="20"/>
                      <a:pt x="447" y="32"/>
                      <a:pt x="470" y="48"/>
                    </a:cubicBezTo>
                    <a:lnTo>
                      <a:pt x="65" y="249"/>
                    </a:lnTo>
                    <a:lnTo>
                      <a:pt x="0" y="1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50000">
                    <a:srgbClr val="ffcc00"/>
                  </a:gs>
                  <a:gs pos="100000">
                    <a:srgbClr val="ffff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30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25200" y="3853800"/>
                <a:ext cx="24876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866760" y="3846240"/>
                <a:ext cx="496440" cy="287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11" name=""/>
          <p:cNvGrpSpPr/>
          <p:nvPr/>
        </p:nvGrpSpPr>
        <p:grpSpPr>
          <a:xfrm>
            <a:off x="6451560" y="2724120"/>
            <a:ext cx="2325600" cy="1917720"/>
            <a:chOff x="6451560" y="2724120"/>
            <a:chExt cx="2325600" cy="1917720"/>
          </a:xfrm>
        </p:grpSpPr>
        <p:grpSp>
          <p:nvGrpSpPr>
            <p:cNvPr id="312" name=""/>
            <p:cNvGrpSpPr/>
            <p:nvPr/>
          </p:nvGrpSpPr>
          <p:grpSpPr>
            <a:xfrm>
              <a:off x="6451560" y="2724120"/>
              <a:ext cx="2325600" cy="1514520"/>
              <a:chOff x="6451560" y="2724120"/>
              <a:chExt cx="2325600" cy="151452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1560" y="3262320"/>
                <a:ext cx="700200" cy="512640"/>
              </a:xfrm>
              <a:prstGeom prst="leftRightArrow">
                <a:avLst>
                  <a:gd name="adj1" fmla="val 50000"/>
                  <a:gd name="adj2" fmla="val 27191"/>
                </a:avLst>
              </a:prstGeom>
              <a:solidFill>
                <a:srgbClr val="cc0066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400000">
                <a:off x="6711840" y="3290400"/>
                <a:ext cx="145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20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Brochures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3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710480" y="2736720"/>
                <a:ext cx="1066680" cy="150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7715160" y="2724120"/>
                <a:ext cx="1020960" cy="149544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pic>
          <p:nvPicPr>
            <p:cNvPr id="317" name="" descr=""/>
            <p:cNvPicPr/>
            <p:nvPr/>
          </p:nvPicPr>
          <p:blipFill>
            <a:blip r:embed="rId13"/>
            <a:stretch/>
          </p:blipFill>
          <p:spPr>
            <a:xfrm>
              <a:off x="7637400" y="3446280"/>
              <a:ext cx="549360" cy="119556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CEC5-07AE-42A3-BAA1-38F07E07AE9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633240" y="1195200"/>
            <a:ext cx="8352000" cy="46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P6 experience of Integrated projects: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Target audience: Industry (incl. SMEs), research institutions. Universities – and in some cases potential end-user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Typical duration: 36-60 month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ptimum consortium: 10-20 participant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Total EU contribution: €4-25m (average around €10m)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Flexible implementation: Yearly update of workplan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Possibility for competitive calls for enlargement of consortium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Integrated projects - Main characteristic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67C6-5623-486D-908F-98E1C71E70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03480" y="81000"/>
            <a:ext cx="73152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Projects: some fac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7080" y="1280880"/>
            <a:ext cx="8634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51240" indent="-336240">
              <a:spcBef>
                <a:spcPts val="16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ollaborative research projects: involving industry, research centers and universities from several member stat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1240" indent="-336240">
              <a:spcBef>
                <a:spcPts val="16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artial European Commission fund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1240" indent="-336240">
              <a:spcBef>
                <a:spcPts val="16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Arial"/>
              </a:rPr>
              <a:t>Four types of instruments: Integrated Projects, Networks of Excellence, STREP, Support Act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1240" indent="-336240">
              <a:spcBef>
                <a:spcPts val="16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Arial"/>
              </a:rPr>
              <a:t>Submission of proposals: On the initiative of the participants. We just define the content of the call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1240" indent="-336240">
              <a:spcBef>
                <a:spcPts val="16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Arial"/>
              </a:rPr>
              <a:t>Evaluation by external experts (1 out of 7 is funded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155160" indent="0"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E2DB-C817-4478-874D-01144CB5ED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743040" y="297000"/>
            <a:ext cx="815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Impact"/>
                <a:ea typeface="Arial"/>
              </a:rPr>
              <a:t>Instrument: Integrated Infrastructure Initiatives (I3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66720" y="1122480"/>
            <a:ext cx="7796160" cy="475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4826-D3B9-409D-843B-8BD250250D4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32880" y="1219320"/>
            <a:ext cx="8379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44440" indent="0"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P6 experience of STREP projects: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244440" indent="0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cc6600"/>
              </a:solidFill>
              <a:latin typeface="Arial"/>
            </a:endParaRPr>
          </a:p>
          <a:p>
            <a:pPr marL="244440" indent="-24444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Purpose: Objective driven research more limited in scope than an IP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244440" indent="-24444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arget audience: Industry incl. SMEs, research institutes, universities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244440" indent="-24444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ypical duration: 18-36 months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244440" indent="-24444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Optimum consortium: 6-15 participants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244440" indent="-24444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otal EU contribution: €0.8-3m (average €1.9m)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244440" indent="-24444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ixed workplan and fixed partnership for duration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Specific targeted research projec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FBEF-689F-4E20-8BC6-C198005F80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04560" y="1047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Each SSA shall have a work plan, which may consist of one or more (as appropriate on a case by case basis) of the following activities: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Conferences, seminars, working groups and expert groups;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tudies, analysis;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Fact findings and monitoring;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Trans-national technology transfer and take-up related services;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Development of research or innovation strategies;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High level scientific awards and competitions;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Operational support and dissemination, information and communication activities.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SA proposal may be presented by a consortium or a single organisation, from any country or countrie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Specific support 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7FC0-D07F-4ECE-BCFD-B04CFCE961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61680" y="1247760"/>
            <a:ext cx="8296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P6 experience of SSA projects: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upport programme implementation, preparation of future actions, dissemination of results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arget audience: Research organisations, universities, industry incl. SME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ypical duration: 9-30 months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Optimum consortium: 1-15 participants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otal EU contribution: €0.03-1m (average €0.5m)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ixed workplan and partnership for the duration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431280" y="171000"/>
            <a:ext cx="821700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Specific support 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C051-D5C0-46C6-8817-2F56905748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390840" y="2546280"/>
            <a:ext cx="2219400" cy="2320920"/>
          </a:xfrm>
          <a:prstGeom prst="irregularSeal2">
            <a:avLst/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ext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eneration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id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20920" y="2327400"/>
            <a:ext cx="4484520" cy="2319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8643800">
            <a:off x="740160" y="2701080"/>
            <a:ext cx="42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nd-user empowerment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Life-support to business processe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5119560"/>
            <a:ext cx="58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Societal behaviour (millions of self-organising nodes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Computational semantics, ontologies, meta-description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Pervasive virtual organisation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3206400">
            <a:off x="4368600" y="3367080"/>
            <a:ext cx="484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ontinuously changing requirement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Grid services development environment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9200" y="5621400"/>
            <a:ext cx="2096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irtualiz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2200" y="4624560"/>
            <a:ext cx="3786120" cy="43812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8607200">
            <a:off x="1676880" y="3046680"/>
            <a:ext cx="3357720" cy="48240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8643800">
            <a:off x="2073600" y="3122280"/>
            <a:ext cx="2433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nd-User Vision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rot="3256800">
            <a:off x="4237560" y="3065400"/>
            <a:ext cx="3139920" cy="441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3283800">
            <a:off x="4653360" y="30369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Vis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31560" y="468144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Vis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0720" y="2298600"/>
            <a:ext cx="2181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mplific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80520" y="2301840"/>
            <a:ext cx="187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bstrac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8760" y="934560"/>
            <a:ext cx="90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ext Generation Grid(s) - European Grid Research 2005 - 2010”, June 2003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“Next Generation Grids 2 – Requirements and Options for European Grids Research 2005–2010 and beyond”, August 200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65240"/>
            <a:ext cx="805356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Next Generation Grid(s) – Expert Group Report </a:t>
            </a:r>
            <a:br>
              <a:rPr sz="2600"/>
            </a:b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3-fold vision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7AD7-33A5-4A49-9EFB-110551C9C1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73840" y="2079720"/>
            <a:ext cx="1511280" cy="6984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nteliGRID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mantic Grid based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virtual organisation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65960" y="4765680"/>
            <a:ext cx="1536840" cy="6858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rovenance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ust and provenance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Grid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89640" y="3822840"/>
            <a:ext cx="1511640" cy="6984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aminingGri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Datamining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ools &amp; service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440" y="3098880"/>
            <a:ext cx="1587600" cy="85068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UniGridS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Extended OGSA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mplementation based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on UNICOR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7320" y="2031840"/>
            <a:ext cx="1549440" cy="86364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-WF Grid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Knowledge base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orkflow &amp;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7640" y="1341360"/>
            <a:ext cx="3200400" cy="5907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IDCOORD</a:t>
            </a:r>
            <a:br>
              <a:rPr sz="14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Building the ERA in Grid research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49520" y="231840"/>
            <a:ext cx="64418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Arial"/>
              </a:rPr>
              <a:t>Grid Research Projects in FP6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907920"/>
            <a:ext cx="27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art: SUMMER 2004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07920"/>
            <a:ext cx="38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U Funding: 53 MILL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48240" y="3559320"/>
            <a:ext cx="2728800" cy="4680"/>
          </a:xfrm>
          <a:prstGeom prst="rect">
            <a:avLst/>
          </a:prstGeom>
          <a:solidFill>
            <a:srgbClr val="ff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39880" y="3559320"/>
            <a:ext cx="2727360" cy="4680"/>
          </a:xfrm>
          <a:prstGeom prst="rect">
            <a:avLst/>
          </a:prstGeom>
          <a:solidFill>
            <a:srgbClr val="ff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39880" y="4670280"/>
            <a:ext cx="5535720" cy="5040"/>
          </a:xfrm>
          <a:prstGeom prst="rect">
            <a:avLst/>
          </a:prstGeom>
          <a:solidFill>
            <a:srgbClr val="c9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9880" y="4657680"/>
            <a:ext cx="5535720" cy="4680"/>
          </a:xfrm>
          <a:prstGeom prst="rect">
            <a:avLst/>
          </a:prstGeom>
          <a:solidFill>
            <a:srgbClr val="b0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4921200"/>
            <a:ext cx="5535720" cy="4680"/>
          </a:xfrm>
          <a:prstGeom prst="rect">
            <a:avLst/>
          </a:prstGeom>
          <a:solidFill>
            <a:srgbClr val="a6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50120" y="2978280"/>
            <a:ext cx="1523880" cy="7236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OntoGri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Knowledge Services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the semantic Grid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6280" y="4124160"/>
            <a:ext cx="1511280" cy="85104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HPC4U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ault tolerance,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dependability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Grid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4175280"/>
            <a:ext cx="5079960" cy="1295280"/>
          </a:xfrm>
          <a:prstGeom prst="cube">
            <a:avLst>
              <a:gd name="adj" fmla="val 25000"/>
            </a:avLst>
          </a:pr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58920" y="3209760"/>
            <a:ext cx="2629080" cy="121932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3298680"/>
            <a:ext cx="2438640" cy="119412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30320" y="2117880"/>
            <a:ext cx="4991040" cy="1371600"/>
          </a:xfrm>
          <a:prstGeom prst="triangle">
            <a:avLst>
              <a:gd name="adj" fmla="val 50000"/>
            </a:avLst>
          </a:prstGeom>
          <a:solidFill>
            <a:srgbClr val="4a69b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63800" y="2610000"/>
            <a:ext cx="331488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Grid-based generic enabling application technologies to facilitate solution of industrial problems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SIMDAT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24200" y="3511440"/>
            <a:ext cx="257796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EU-driven Grid services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rchitecture for businesS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nd industry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NextGRID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02160" y="3613320"/>
            <a:ext cx="257796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Mobile Grid architecture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nd services for dynamic virtual organisations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Akogrimo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98640" y="4730760"/>
            <a:ext cx="48387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European-wide virtual laboratory for longer term Grid research-creating the foundation for next generation Grids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CoreGRID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08440" y="5559480"/>
            <a:ext cx="304560" cy="24120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03320" y="5559480"/>
            <a:ext cx="304920" cy="24120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44920" y="5572080"/>
            <a:ext cx="304920" cy="241200"/>
          </a:xfrm>
          <a:prstGeom prst="cube">
            <a:avLst>
              <a:gd name="adj" fmla="val 25000"/>
            </a:avLst>
          </a:pr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5559480"/>
            <a:ext cx="304560" cy="2412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55680" y="5541840"/>
            <a:ext cx="15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Specific support action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60800" y="5541840"/>
            <a:ext cx="12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Integrated projec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96560" y="5541840"/>
            <a:ext cx="15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Network of excellenc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87560" y="5541840"/>
            <a:ext cx="22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Specific targeted research projec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341360"/>
            <a:ext cx="2714760" cy="5907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id@Asia (Spring 2005) </a:t>
            </a:r>
            <a:br>
              <a:rPr sz="14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owards EU-Asian Co-operation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186A-6852-4458-889E-4E3672E274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49160" y="231840"/>
            <a:ext cx="7226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Work Programme 2005-2006</a:t>
            </a:r>
            <a:br>
              <a:rPr sz="2100"/>
            </a:b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Advanced Grid Technologies, Systems and Service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7815240" y="2467080"/>
            <a:ext cx="712800" cy="3232080"/>
          </a:xfrm>
          <a:custGeom>
            <a:avLst/>
            <a:gdLst/>
            <a:ahLst/>
            <a:rect l="l" t="t" r="r" b="b"/>
            <a:pathLst>
              <a:path w="1101" h="4251">
                <a:moveTo>
                  <a:pt x="550" y="0"/>
                </a:moveTo>
                <a:lnTo>
                  <a:pt x="1101" y="849"/>
                </a:lnTo>
                <a:lnTo>
                  <a:pt x="827" y="849"/>
                </a:lnTo>
                <a:lnTo>
                  <a:pt x="827" y="3401"/>
                </a:lnTo>
                <a:lnTo>
                  <a:pt x="1101" y="3401"/>
                </a:lnTo>
                <a:lnTo>
                  <a:pt x="550" y="4251"/>
                </a:lnTo>
                <a:lnTo>
                  <a:pt x="0" y="3401"/>
                </a:lnTo>
                <a:lnTo>
                  <a:pt x="275" y="3401"/>
                </a:lnTo>
                <a:lnTo>
                  <a:pt x="275" y="849"/>
                </a:lnTo>
                <a:lnTo>
                  <a:pt x="0" y="849"/>
                </a:lnTo>
                <a:lnTo>
                  <a:pt x="550" y="0"/>
                </a:lnTo>
                <a:close/>
              </a:path>
            </a:pathLst>
          </a:cu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7636320" y="3596040"/>
            <a:ext cx="42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53400" y="1281240"/>
            <a:ext cx="636480" cy="1160280"/>
          </a:xfrm>
          <a:custGeom>
            <a:avLst/>
            <a:gdLst/>
            <a:ahLst/>
            <a:rect l="l" t="t" r="r" b="b"/>
            <a:pathLst>
              <a:path w="1076" h="1463">
                <a:moveTo>
                  <a:pt x="538" y="0"/>
                </a:moveTo>
                <a:lnTo>
                  <a:pt x="1076" y="293"/>
                </a:lnTo>
                <a:lnTo>
                  <a:pt x="807" y="293"/>
                </a:lnTo>
                <a:lnTo>
                  <a:pt x="807" y="1171"/>
                </a:lnTo>
                <a:lnTo>
                  <a:pt x="1076" y="1171"/>
                </a:lnTo>
                <a:lnTo>
                  <a:pt x="538" y="1463"/>
                </a:lnTo>
                <a:lnTo>
                  <a:pt x="0" y="1171"/>
                </a:lnTo>
                <a:lnTo>
                  <a:pt x="269" y="1171"/>
                </a:lnTo>
                <a:lnTo>
                  <a:pt x="269" y="293"/>
                </a:lnTo>
                <a:lnTo>
                  <a:pt x="0" y="293"/>
                </a:lnTo>
                <a:lnTo>
                  <a:pt x="538" y="0"/>
                </a:lnTo>
                <a:close/>
              </a:path>
            </a:pathLst>
          </a:cu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91520" y="3044880"/>
            <a:ext cx="1549800" cy="2481840"/>
            <a:chOff x="191520" y="3044880"/>
            <a:chExt cx="1549800" cy="2481840"/>
          </a:xfrm>
        </p:grpSpPr>
        <p:sp>
          <p:nvSpPr>
            <p:cNvPr id="117" name=""/>
            <p:cNvSpPr/>
            <p:nvPr/>
          </p:nvSpPr>
          <p:spPr>
            <a:xfrm>
              <a:off x="222480" y="3044880"/>
              <a:ext cx="151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Application </a:t>
              </a:r>
              <a:br>
                <a:rPr sz="2000"/>
              </a:b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Pul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1520" y="4822920"/>
              <a:ext cx="144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Technology</a:t>
              </a:r>
              <a:br>
                <a:rPr sz="2000"/>
              </a:b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Push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094000">
              <a:off x="660240" y="4022640"/>
              <a:ext cx="762120" cy="457200"/>
            </a:xfrm>
            <a:custGeom>
              <a:avLst/>
              <a:gdLst/>
              <a:ahLst/>
              <a:rect l="l" t="t" r="r" b="b"/>
              <a:pathLst>
                <a:path w="4684" h="2799">
                  <a:moveTo>
                    <a:pt x="4684" y="1247"/>
                  </a:moveTo>
                  <a:lnTo>
                    <a:pt x="4684" y="2799"/>
                  </a:lnTo>
                  <a:lnTo>
                    <a:pt x="3707" y="2799"/>
                  </a:lnTo>
                  <a:lnTo>
                    <a:pt x="3584" y="2789"/>
                  </a:lnTo>
                  <a:lnTo>
                    <a:pt x="3460" y="2769"/>
                  </a:lnTo>
                  <a:lnTo>
                    <a:pt x="3269" y="2728"/>
                  </a:lnTo>
                  <a:lnTo>
                    <a:pt x="3116" y="2675"/>
                  </a:lnTo>
                  <a:lnTo>
                    <a:pt x="2976" y="2622"/>
                  </a:lnTo>
                  <a:lnTo>
                    <a:pt x="2817" y="2539"/>
                  </a:lnTo>
                  <a:lnTo>
                    <a:pt x="2696" y="2461"/>
                  </a:lnTo>
                  <a:lnTo>
                    <a:pt x="2595" y="2379"/>
                  </a:lnTo>
                  <a:lnTo>
                    <a:pt x="2489" y="2273"/>
                  </a:lnTo>
                  <a:lnTo>
                    <a:pt x="2386" y="2149"/>
                  </a:lnTo>
                  <a:lnTo>
                    <a:pt x="2318" y="2008"/>
                  </a:lnTo>
                  <a:lnTo>
                    <a:pt x="2287" y="1922"/>
                  </a:lnTo>
                  <a:lnTo>
                    <a:pt x="2235" y="1800"/>
                  </a:lnTo>
                  <a:lnTo>
                    <a:pt x="2170" y="1718"/>
                  </a:lnTo>
                  <a:lnTo>
                    <a:pt x="2106" y="1656"/>
                  </a:lnTo>
                  <a:lnTo>
                    <a:pt x="2031" y="1603"/>
                  </a:lnTo>
                  <a:lnTo>
                    <a:pt x="1919" y="1555"/>
                  </a:lnTo>
                  <a:lnTo>
                    <a:pt x="1807" y="1542"/>
                  </a:lnTo>
                  <a:lnTo>
                    <a:pt x="1717" y="1542"/>
                  </a:lnTo>
                  <a:lnTo>
                    <a:pt x="1636" y="1555"/>
                  </a:lnTo>
                  <a:lnTo>
                    <a:pt x="1556" y="1583"/>
                  </a:lnTo>
                  <a:lnTo>
                    <a:pt x="1405" y="1656"/>
                  </a:lnTo>
                  <a:lnTo>
                    <a:pt x="1506" y="1891"/>
                  </a:lnTo>
                  <a:lnTo>
                    <a:pt x="0" y="1440"/>
                  </a:lnTo>
                  <a:lnTo>
                    <a:pt x="726" y="0"/>
                  </a:lnTo>
                  <a:lnTo>
                    <a:pt x="819" y="241"/>
                  </a:lnTo>
                  <a:lnTo>
                    <a:pt x="970" y="176"/>
                  </a:lnTo>
                  <a:lnTo>
                    <a:pt x="1060" y="137"/>
                  </a:lnTo>
                  <a:lnTo>
                    <a:pt x="1140" y="106"/>
                  </a:lnTo>
                  <a:lnTo>
                    <a:pt x="1246" y="82"/>
                  </a:lnTo>
                  <a:lnTo>
                    <a:pt x="1365" y="52"/>
                  </a:lnTo>
                  <a:lnTo>
                    <a:pt x="1457" y="35"/>
                  </a:lnTo>
                  <a:lnTo>
                    <a:pt x="1585" y="20"/>
                  </a:lnTo>
                  <a:lnTo>
                    <a:pt x="1728" y="20"/>
                  </a:lnTo>
                  <a:lnTo>
                    <a:pt x="1869" y="24"/>
                  </a:lnTo>
                  <a:lnTo>
                    <a:pt x="2031" y="52"/>
                  </a:lnTo>
                  <a:lnTo>
                    <a:pt x="2166" y="76"/>
                  </a:lnTo>
                  <a:lnTo>
                    <a:pt x="2276" y="106"/>
                  </a:lnTo>
                  <a:lnTo>
                    <a:pt x="2410" y="155"/>
                  </a:lnTo>
                  <a:lnTo>
                    <a:pt x="2514" y="200"/>
                  </a:lnTo>
                  <a:lnTo>
                    <a:pt x="2615" y="248"/>
                  </a:lnTo>
                  <a:lnTo>
                    <a:pt x="2737" y="319"/>
                  </a:lnTo>
                  <a:lnTo>
                    <a:pt x="2838" y="380"/>
                  </a:lnTo>
                  <a:lnTo>
                    <a:pt x="2939" y="455"/>
                  </a:lnTo>
                  <a:lnTo>
                    <a:pt x="3016" y="525"/>
                  </a:lnTo>
                  <a:lnTo>
                    <a:pt x="3099" y="597"/>
                  </a:lnTo>
                  <a:lnTo>
                    <a:pt x="3185" y="688"/>
                  </a:lnTo>
                  <a:lnTo>
                    <a:pt x="3249" y="754"/>
                  </a:lnTo>
                  <a:lnTo>
                    <a:pt x="3319" y="853"/>
                  </a:lnTo>
                  <a:lnTo>
                    <a:pt x="3368" y="909"/>
                  </a:lnTo>
                  <a:lnTo>
                    <a:pt x="3428" y="971"/>
                  </a:lnTo>
                  <a:lnTo>
                    <a:pt x="3469" y="1007"/>
                  </a:lnTo>
                  <a:lnTo>
                    <a:pt x="3515" y="1041"/>
                  </a:lnTo>
                  <a:lnTo>
                    <a:pt x="3579" y="1082"/>
                  </a:lnTo>
                  <a:lnTo>
                    <a:pt x="3639" y="1121"/>
                  </a:lnTo>
                  <a:lnTo>
                    <a:pt x="3696" y="1144"/>
                  </a:lnTo>
                  <a:lnTo>
                    <a:pt x="3747" y="1172"/>
                  </a:lnTo>
                  <a:lnTo>
                    <a:pt x="3828" y="1202"/>
                  </a:lnTo>
                  <a:lnTo>
                    <a:pt x="3914" y="1227"/>
                  </a:lnTo>
                  <a:lnTo>
                    <a:pt x="3995" y="1243"/>
                  </a:lnTo>
                  <a:lnTo>
                    <a:pt x="4065" y="1254"/>
                  </a:lnTo>
                  <a:lnTo>
                    <a:pt x="4684" y="124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552200">
              <a:off x="244080" y="4044600"/>
              <a:ext cx="800280" cy="476280"/>
            </a:xfrm>
            <a:custGeom>
              <a:avLst/>
              <a:gdLst/>
              <a:ahLst/>
              <a:rect l="l" t="t" r="r" b="b"/>
              <a:pathLst>
                <a:path w="4685" h="2798">
                  <a:moveTo>
                    <a:pt x="0" y="1553"/>
                  </a:moveTo>
                  <a:lnTo>
                    <a:pt x="0" y="0"/>
                  </a:lnTo>
                  <a:lnTo>
                    <a:pt x="977" y="0"/>
                  </a:lnTo>
                  <a:lnTo>
                    <a:pt x="1101" y="11"/>
                  </a:lnTo>
                  <a:lnTo>
                    <a:pt x="1228" y="32"/>
                  </a:lnTo>
                  <a:lnTo>
                    <a:pt x="1416" y="73"/>
                  </a:lnTo>
                  <a:lnTo>
                    <a:pt x="1568" y="123"/>
                  </a:lnTo>
                  <a:lnTo>
                    <a:pt x="1709" y="179"/>
                  </a:lnTo>
                  <a:lnTo>
                    <a:pt x="1869" y="261"/>
                  </a:lnTo>
                  <a:lnTo>
                    <a:pt x="1990" y="340"/>
                  </a:lnTo>
                  <a:lnTo>
                    <a:pt x="2089" y="422"/>
                  </a:lnTo>
                  <a:lnTo>
                    <a:pt x="2195" y="528"/>
                  </a:lnTo>
                  <a:lnTo>
                    <a:pt x="2299" y="652"/>
                  </a:lnTo>
                  <a:lnTo>
                    <a:pt x="2365" y="791"/>
                  </a:lnTo>
                  <a:lnTo>
                    <a:pt x="2398" y="877"/>
                  </a:lnTo>
                  <a:lnTo>
                    <a:pt x="2449" y="1001"/>
                  </a:lnTo>
                  <a:lnTo>
                    <a:pt x="2515" y="1083"/>
                  </a:lnTo>
                  <a:lnTo>
                    <a:pt x="2578" y="1144"/>
                  </a:lnTo>
                  <a:lnTo>
                    <a:pt x="2654" y="1196"/>
                  </a:lnTo>
                  <a:lnTo>
                    <a:pt x="2765" y="1244"/>
                  </a:lnTo>
                  <a:lnTo>
                    <a:pt x="2878" y="1259"/>
                  </a:lnTo>
                  <a:lnTo>
                    <a:pt x="2968" y="1259"/>
                  </a:lnTo>
                  <a:lnTo>
                    <a:pt x="3048" y="1244"/>
                  </a:lnTo>
                  <a:lnTo>
                    <a:pt x="3129" y="1216"/>
                  </a:lnTo>
                  <a:lnTo>
                    <a:pt x="3277" y="1144"/>
                  </a:lnTo>
                  <a:lnTo>
                    <a:pt x="3178" y="908"/>
                  </a:lnTo>
                  <a:lnTo>
                    <a:pt x="4685" y="1361"/>
                  </a:lnTo>
                  <a:lnTo>
                    <a:pt x="3958" y="2798"/>
                  </a:lnTo>
                  <a:lnTo>
                    <a:pt x="3863" y="2559"/>
                  </a:lnTo>
                  <a:lnTo>
                    <a:pt x="3714" y="2625"/>
                  </a:lnTo>
                  <a:lnTo>
                    <a:pt x="3624" y="2662"/>
                  </a:lnTo>
                  <a:lnTo>
                    <a:pt x="3543" y="2694"/>
                  </a:lnTo>
                  <a:lnTo>
                    <a:pt x="3437" y="2716"/>
                  </a:lnTo>
                  <a:lnTo>
                    <a:pt x="3317" y="2748"/>
                  </a:lnTo>
                  <a:lnTo>
                    <a:pt x="3228" y="2765"/>
                  </a:lnTo>
                  <a:lnTo>
                    <a:pt x="3097" y="2778"/>
                  </a:lnTo>
                  <a:lnTo>
                    <a:pt x="2956" y="2778"/>
                  </a:lnTo>
                  <a:lnTo>
                    <a:pt x="2814" y="2776"/>
                  </a:lnTo>
                  <a:lnTo>
                    <a:pt x="2654" y="2748"/>
                  </a:lnTo>
                  <a:lnTo>
                    <a:pt x="2517" y="2723"/>
                  </a:lnTo>
                  <a:lnTo>
                    <a:pt x="2409" y="2694"/>
                  </a:lnTo>
                  <a:lnTo>
                    <a:pt x="2275" y="2645"/>
                  </a:lnTo>
                  <a:lnTo>
                    <a:pt x="2169" y="2600"/>
                  </a:lnTo>
                  <a:lnTo>
                    <a:pt x="2069" y="2553"/>
                  </a:lnTo>
                  <a:lnTo>
                    <a:pt x="1950" y="2480"/>
                  </a:lnTo>
                  <a:lnTo>
                    <a:pt x="1847" y="2419"/>
                  </a:lnTo>
                  <a:lnTo>
                    <a:pt x="1746" y="2343"/>
                  </a:lnTo>
                  <a:lnTo>
                    <a:pt x="1668" y="2276"/>
                  </a:lnTo>
                  <a:lnTo>
                    <a:pt x="1587" y="2202"/>
                  </a:lnTo>
                  <a:lnTo>
                    <a:pt x="1499" y="2111"/>
                  </a:lnTo>
                  <a:lnTo>
                    <a:pt x="1436" y="2045"/>
                  </a:lnTo>
                  <a:lnTo>
                    <a:pt x="1367" y="1947"/>
                  </a:lnTo>
                  <a:lnTo>
                    <a:pt x="1317" y="1891"/>
                  </a:lnTo>
                  <a:lnTo>
                    <a:pt x="1257" y="1830"/>
                  </a:lnTo>
                  <a:lnTo>
                    <a:pt x="1216" y="1792"/>
                  </a:lnTo>
                  <a:lnTo>
                    <a:pt x="1169" y="1759"/>
                  </a:lnTo>
                  <a:lnTo>
                    <a:pt x="1106" y="1717"/>
                  </a:lnTo>
                  <a:lnTo>
                    <a:pt x="1046" y="1679"/>
                  </a:lnTo>
                  <a:lnTo>
                    <a:pt x="989" y="1656"/>
                  </a:lnTo>
                  <a:lnTo>
                    <a:pt x="936" y="1628"/>
                  </a:lnTo>
                  <a:lnTo>
                    <a:pt x="857" y="1596"/>
                  </a:lnTo>
                  <a:lnTo>
                    <a:pt x="769" y="1574"/>
                  </a:lnTo>
                  <a:lnTo>
                    <a:pt x="690" y="1555"/>
                  </a:lnTo>
                  <a:lnTo>
                    <a:pt x="621" y="1545"/>
                  </a:lnTo>
                  <a:lnTo>
                    <a:pt x="0" y="155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857240" y="4503600"/>
            <a:ext cx="5092920" cy="125748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86760" y="4903920"/>
            <a:ext cx="470844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entric Grid Operating Systems</a:t>
            </a: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Potential new fabric layer for future 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distributed systems and services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93800">
            <a:off x="2158920" y="3580920"/>
            <a:ext cx="5105520" cy="118116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95440" y="3882960"/>
            <a:ext cx="439452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Grid Foundations</a:t>
            </a: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rchitecture, design and development of technologies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nd systems for building the invisible Grid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22680" y="3651120"/>
            <a:ext cx="1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387520" y="2541600"/>
            <a:ext cx="5118120" cy="1263600"/>
            <a:chOff x="2387520" y="2541600"/>
            <a:chExt cx="5118120" cy="1263600"/>
          </a:xfrm>
        </p:grpSpPr>
        <p:sp>
          <p:nvSpPr>
            <p:cNvPr id="127" name=""/>
            <p:cNvSpPr/>
            <p:nvPr/>
          </p:nvSpPr>
          <p:spPr>
            <a:xfrm>
              <a:off x="2387520" y="2541600"/>
              <a:ext cx="5118120" cy="1257120"/>
            </a:xfrm>
            <a:prstGeom prst="cube">
              <a:avLst>
                <a:gd name="adj" fmla="val 25000"/>
              </a:avLst>
            </a:prstGeom>
            <a:solidFill>
              <a:srgbClr val="c03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71120" y="2846160"/>
              <a:ext cx="432576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Grid-enabled Applications &amp; Services</a:t>
              </a:r>
              <a:endParaRPr b="0" lang="en-US" sz="21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for business and society</a:t>
              </a:r>
              <a:endParaRPr b="0" lang="en-US" sz="19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Research, development, validation and take-up of </a:t>
              </a:r>
              <a:br>
                <a:rPr sz="1500"/>
              </a:b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generic environments and tools</a:t>
              </a:r>
              <a:endParaRPr b="0" lang="en-US" sz="15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829640" y="1625760"/>
            <a:ext cx="66024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91320" y="1631880"/>
            <a:ext cx="11336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imes New Roman"/>
              </a:rPr>
              <a:t>e-bus, e-health, e-goy, e-learning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imes New Roman"/>
              </a:rPr>
              <a:t>Environment, …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5640" y="3435480"/>
            <a:ext cx="654120" cy="11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9480" y="3457440"/>
            <a:ext cx="10400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dvanced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Grid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Technologies,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ystems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d Service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27720" y="13352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338720" y="200088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264560" y="20185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38440" y="1319040"/>
            <a:ext cx="639720" cy="142272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3335400" y="199800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261240" y="204696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2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43720" y="133668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6354720" y="204552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74440" y="2069280"/>
            <a:ext cx="80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84440" y="13064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2395800" y="197244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2321640" y="19897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1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5000" y="1069920"/>
            <a:ext cx="20001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ST Call 5</a:t>
            </a:r>
            <a:br>
              <a:rPr sz="2000"/>
            </a:b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n May 2005</a:t>
            </a:r>
            <a:br>
              <a:rPr sz="1600"/>
            </a:b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se </a:t>
            </a:r>
            <a:r>
              <a:rPr b="1" lang="en-GB" sz="1600" spc="-1" strike="noStrike">
                <a:solidFill>
                  <a:srgbClr val="c0371c"/>
                </a:solidFill>
                <a:latin typeface="Arial"/>
              </a:rPr>
              <a:t>Sept 2005</a:t>
            </a:r>
            <a:br>
              <a:rPr sz="16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Budget: </a:t>
            </a:r>
            <a:r>
              <a:rPr b="1" lang="en-GB" sz="2000" spc="-1" strike="noStrike">
                <a:solidFill>
                  <a:srgbClr val="c0371c"/>
                </a:solidFill>
                <a:latin typeface="Arial"/>
              </a:rPr>
              <a:t>~70M€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1440" y="2425680"/>
            <a:ext cx="8632800" cy="15840"/>
          </a:xfrm>
          <a:prstGeom prst="line">
            <a:avLst/>
          </a:prstGeom>
          <a:ln w="158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A505-1CDC-488B-AD09-CB04598123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39760" y="1425240"/>
            <a:ext cx="89755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search and development on new or enhanced fabrics layer for future distributed systems and service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Two alternative approaches: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337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Development, testing and validation of an enhanced fabrics based on existing OSs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(Grid built-in functions or modules leading to a meta OS)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337"/>
              </a:spcBef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esearch and conceptualization on new fabrics replacing existing OSs</a:t>
            </a:r>
            <a:br>
              <a:rPr sz="1800"/>
            </a:b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(Network-centric Grid Operating Systems)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37"/>
              </a:spcBef>
              <a:spcAft>
                <a:spcPts val="337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  <a:ea typeface="Arial"/>
              </a:rPr>
              <a:t>Simplify the use, management and programmability of Grid systems and services, supporting </a:t>
            </a:r>
            <a:r>
              <a:rPr b="1" lang="en-US" sz="1800" spc="-1" strike="noStrike" u="sng">
                <a:solidFill>
                  <a:srgbClr val="cc6600"/>
                </a:solidFill>
                <a:uFillTx/>
                <a:latin typeface="Arial"/>
                <a:ea typeface="Arial"/>
              </a:rPr>
              <a:t>mobility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  <a:ea typeface="Arial"/>
              </a:rPr>
              <a:t> and </a:t>
            </a:r>
            <a:r>
              <a:rPr b="1" lang="en-US" sz="1800" spc="-1" strike="noStrike" u="sng">
                <a:solidFill>
                  <a:srgbClr val="cc6600"/>
                </a:solidFill>
                <a:uFillTx/>
                <a:latin typeface="Arial"/>
                <a:ea typeface="Arial"/>
              </a:rPr>
              <a:t>pervasiveness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  <a:ea typeface="Arial"/>
              </a:rPr>
              <a:t>, enhancing </a:t>
            </a:r>
            <a:r>
              <a:rPr b="1" lang="en-US" sz="1800" spc="-1" strike="noStrike" u="sng">
                <a:solidFill>
                  <a:srgbClr val="cc6600"/>
                </a:solidFill>
                <a:uFillTx/>
                <a:latin typeface="Arial"/>
                <a:ea typeface="Arial"/>
              </a:rPr>
              <a:t>performance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  <a:ea typeface="Arial"/>
              </a:rPr>
              <a:t>and </a:t>
            </a:r>
            <a:r>
              <a:rPr b="1" lang="en-US" sz="1800" spc="-1" strike="noStrike" u="sng">
                <a:solidFill>
                  <a:srgbClr val="cc6600"/>
                </a:solidFill>
                <a:uFillTx/>
                <a:latin typeface="Arial"/>
                <a:ea typeface="Arial"/>
              </a:rPr>
              <a:t>security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450440" y="280800"/>
            <a:ext cx="6510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Focus 3 – Network-Centric Grid Operating Systems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11AB-0CDD-48FE-82AE-D60CEE516B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6800" y="1406160"/>
            <a:ext cx="8807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rchitecture, design and development of technologies and systems for building the invisible Grid 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cale-independent, adaptive and dependable Grid architectures enabling the management of large networked distributed resource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characterised by evolutionary, non-functional behaviour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Agent-based approaches and peer-to-peer technologie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elf-organising, fault-tolerant autonomous systems </a:t>
            </a:r>
            <a:r>
              <a:rPr b="1" lang="en-GB" sz="1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 virtualisation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w models and environments for programming the Grid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emantic &amp; agent technologies for resource brokering / managemen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337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50800" y="281160"/>
            <a:ext cx="651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Focus 1 – Grid Foundation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36CF-FD78-4509-96D9-36F7E26103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2680" y="1541520"/>
            <a:ext cx="843264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esearch, development, validation,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take-up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of generic environments / tool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Grid-based environments for dynamic service creation and provision supporting distributed collaborations spanning multiple administrative domain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rid business models and Grid economic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telligent tools and interfaces supporting ubiquitous Grid acces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Grid-enabled decision support service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50800" y="281160"/>
            <a:ext cx="651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Focus 2 – Grid-enabled Applications and Services for Business and Society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834A-CF1F-4DE9-833C-5B05391A80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76360" y="24624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Instrument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360" y="1004760"/>
            <a:ext cx="85010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6600"/>
                </a:solidFill>
                <a:latin typeface="Arial"/>
              </a:rPr>
              <a:t>IPs – Focus 1, 2, 3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To achieve ambitious scientific and technological objectives, integrating critical mass of activities and resources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Include industrial stakeholders from all relevant levels of the value chai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6600"/>
                </a:solidFill>
                <a:latin typeface="Arial"/>
              </a:rPr>
              <a:t>IPs – Focus 2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User-drive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Generic technologies addressing common requirements across different disciplines and applications in business,  </a:t>
            </a:r>
            <a:br>
              <a:rPr sz="2000"/>
            </a:b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e-science, and societ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Include a technology take-up phas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Emphasise SME participation as technology providers, service providers, and end-users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6600"/>
                </a:solidFill>
                <a:latin typeface="Arial"/>
              </a:rPr>
              <a:t>STREPS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Longer term research issu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Conceptionalis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Advanced Grid technologies in innovative application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864000" indent="-3625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DC35-6836-4B93-9434-D2615B13B0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59:24Z</dcterms:created>
  <dc:creator>J-FTardif</dc:creator>
  <dc:description/>
  <dc:language>en-US</dc:language>
  <cp:lastModifiedBy>gasosjo</cp:lastModifiedBy>
  <cp:lastPrinted>2004-01-20T15:10:22Z</cp:lastPrinted>
  <dcterms:modified xsi:type="dcterms:W3CDTF">2005-06-20T14:37:27Z</dcterms:modified>
  <cp:revision>549</cp:revision>
  <dc:subject/>
  <dc:title>No Slide Title</dc:title>
</cp:coreProperties>
</file>