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653213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32000" y="658332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rid@Asia , Beijing, China,  21-24 July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5223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flipH="1">
            <a:off x="-1300320" y="6784920"/>
            <a:ext cx="38880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77760" y="5705640"/>
            <a:ext cx="0" cy="23047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287240" y="600840"/>
            <a:ext cx="2803680" cy="757440"/>
            <a:chOff x="4287240" y="600840"/>
            <a:chExt cx="2803680" cy="757440"/>
          </a:xfrm>
        </p:grpSpPr>
        <p:sp>
          <p:nvSpPr>
            <p:cNvPr id="5" name=""/>
            <p:cNvSpPr/>
            <p:nvPr/>
          </p:nvSpPr>
          <p:spPr>
            <a:xfrm flipV="1" rot="225600">
              <a:off x="4293720" y="685440"/>
              <a:ext cx="2592720" cy="28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11026200">
              <a:off x="4490640" y="986400"/>
              <a:ext cx="259344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137280"/>
            <a:ext cx="665280" cy="72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56720" y="115920"/>
            <a:ext cx="1116000" cy="76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956720" y="981000"/>
            <a:ext cx="1152360" cy="59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3080" y="115920"/>
            <a:ext cx="2843280" cy="77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332000" y="2924280"/>
            <a:ext cx="7272360" cy="198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6000" y="3141720"/>
            <a:ext cx="669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396720" y="1628640"/>
            <a:ext cx="95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oomBox"/>
              </a:rPr>
              <a:t>How to set up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1" lang="fr-FR" sz="6000" spc="-1" strike="noStrike">
                <a:solidFill>
                  <a:srgbClr val="fc0128"/>
                </a:solidFill>
                <a:latin typeface="Palatino Linotype"/>
              </a:rPr>
              <a:t>@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                                          </a:t>
            </a:r>
            <a:r>
              <a:rPr b="1" lang="fr-FR" sz="6000" spc="-1" strike="noStrike">
                <a:solidFill>
                  <a:srgbClr val="000000"/>
                </a:solidFill>
                <a:latin typeface="Tempus Sans ITC"/>
              </a:rPr>
              <a:t>EUROPEAN PROPOS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5084640"/>
            <a:ext cx="38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émi RONCHA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CIM EE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658332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rid@Asia , Beijing, China,  21-24 July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732720" y="115920"/>
            <a:ext cx="1118880" cy="7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125360"/>
            <a:ext cx="797400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First FP6 call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Pushing the limits of CMOS, preparing for post-C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Micro and nano-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Broadband for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Mobile and wireless systems beyond 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Towards a global dependability and security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Multimodal interfa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Semantic-based knowledg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Networked audiovisual systems and home plat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Networked businesses and governm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Verdana"/>
              </a:rPr>
              <a:t>eSafety of road and air trans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e Health 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Technology-enhanced learning and access to cultural heritage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Verdana"/>
              </a:rPr>
              <a:t>Second Call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Advanced disp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Optical, opto-electronic, &amp; photonic function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Open development platforms for software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Cognitiv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Embedde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Applications and services for the mobile user and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400" spc="-1" strike="noStrike">
                <a:solidFill>
                  <a:srgbClr val="000000"/>
                </a:solidFill>
                <a:latin typeface="Verdana"/>
              </a:rPr>
              <a:t>Cross-media content for leisure and entertai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GRID-based Systems for solving complex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Improving Risk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eI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60320" y="18900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motiv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as,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rtium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Building the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ing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ntifying the appropriat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Selecting the appropriate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5853240" y="3515400"/>
            <a:ext cx="4996080" cy="647640"/>
          </a:xfrm>
          <a:custGeom>
            <a:avLst/>
            <a:gdLst>
              <a:gd name="textAreaLeft" fmla="*/ 780480 w 4996080"/>
              <a:gd name="textAreaRight" fmla="*/ 4371840 w 4996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05160" y="3794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10 Steps of Proposal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97040" y="189000"/>
            <a:ext cx="63788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ing the appropriate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75840" y="120816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different kinds of project frames to follow in every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rated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ive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tworks of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oratory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ed research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ddress specific issu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-ordination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ific Support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44960" y="4508640"/>
            <a:ext cx="41054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Calls for</a:t>
            </a:r>
            <a:r>
              <a:rPr b="0" lang="en-GB" sz="2400" spc="-1" strike="noStrike">
                <a:solidFill>
                  <a:srgbClr val="160ba1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proposa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ll 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ch instruments are to be us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ch have priority …. and for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68720" y="4508640"/>
            <a:ext cx="4024440" cy="20160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832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grated Projects (I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31640"/>
            <a:ext cx="86104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support research that is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objective and result driven</a:t>
            </a:r>
            <a:r>
              <a:rPr b="0" i="1" lang="en-US" sz="2400" spc="-1" strike="noStrike">
                <a:solidFill>
                  <a:srgbClr val="160ba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early defined objectives and result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 (Open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imum 3 participa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ree different countri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2 from 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ut in practice likely to be substantially m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tion wise (Ope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o fiv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ore if necessary to deliver the objecti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5013360"/>
            <a:ext cx="6192720" cy="131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typical integrated project, more than 25 partners receive almost 10 M€ for a period of 3-4 years to which they add an equivalent amount as the  Community funds only 50% of the co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899640" y="5157720"/>
            <a:ext cx="762120" cy="762120"/>
          </a:xfrm>
          <a:custGeom>
            <a:avLst/>
            <a:gdLst>
              <a:gd name="textAreaLeft" fmla="*/ 254160 w 762120"/>
              <a:gd name="textAreaRight" fmla="*/ 653040 w 762120"/>
              <a:gd name="textAreaTop" fmla="*/ 438840 h 762120"/>
              <a:gd name="textAreaBottom" fmla="*/ 6530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4720" y="269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s of Excellence (No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260360"/>
            <a:ext cx="84582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inforce scientific and technological excellence by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grating research capacit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ross Europe and world-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reate o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inforce scientific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int Programme of Activity” 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TD, education&amp; training, technology transfer, mobility programme..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veral M€ per year (average1-2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rticipants (Open to 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nimum of 3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(2 MS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: Universities, Research Labs, Industrial La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inging together a “critical mass” of key 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versities, research centres, enterprises (SME’s &amp; large compan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earch orien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Targeted REsearch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inciple: focused on one specific activity &amp; specific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supporting research activities of more limited scope &amp; ambition than Integrated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milar to current RTD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bined research &amp; 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rticipation: at least two independent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t least two Member States or Associa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limited than for Integrated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ly for smaller research actors, including SME’s and for participants from candidate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and several financial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c0128"/>
                </a:solidFill>
                <a:latin typeface="Times New Roman MT Extra Bold"/>
              </a:rPr>
              <a:t>STREPs are a recommended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SAs &amp; 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00" y="1004400"/>
            <a:ext cx="8686800" cy="35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53280" indent="-43560">
              <a:lnSpc>
                <a:spcPct val="80000"/>
              </a:lnSpc>
              <a:spcBef>
                <a:spcPts val="224"/>
              </a:spcBef>
              <a:buClr>
                <a:srgbClr val="fc0128"/>
              </a:buClr>
              <a:buSzPct val="11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pecific Support Actions (SSA)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-4356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 support the implementation of FP6 &amp;  help the preparation of future Framework Program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-4356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 stimulate, encourage and facilitate the participation of: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S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Small research te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Newly developed and remote research cent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 Organizations from the Candidate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-4356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SzPct val="11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ordination Actions (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finition, organisation, management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joint or common initiativ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-4356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rganisation of conferences, meeting, workshop, semin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-4356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change of personn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-4356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change and dissemination of good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-4356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tting up common information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-4356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aming up research communities and expert grou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2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motiv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as,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rtium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Building the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ing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ntifying the appropriat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Selecting the appropriate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Writing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Writing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5853240" y="3515400"/>
            <a:ext cx="4996080" cy="647640"/>
          </a:xfrm>
          <a:custGeom>
            <a:avLst/>
            <a:gdLst>
              <a:gd name="textAreaLeft" fmla="*/ 780480 w 4996080"/>
              <a:gd name="textAreaRight" fmla="*/ 4371840 w 4996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05160" y="3794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10 Steps of Proposal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al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431640" y="1052640"/>
            <a:ext cx="9612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eparation of the proposal according to strict guidelines and procedur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2006640"/>
            <a:ext cx="792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buClr>
                <a:srgbClr val="fc01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ption of work, budget, coordination, management, deliverables, repo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c01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&amp;T objectives, socio-economic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c01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line “implementation plan” for whole 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c01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ailed implementation plan for first 18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c01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obal budget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c01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ification of resources and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c01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ical and safety issu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4284360" y="1484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75640" y="5049720"/>
            <a:ext cx="648000" cy="431640"/>
          </a:xfrm>
          <a:custGeom>
            <a:avLst/>
            <a:gdLst>
              <a:gd name="textAreaLeft" fmla="*/ 216000 w 648000"/>
              <a:gd name="textAreaRight" fmla="*/ 555120 w 648000"/>
              <a:gd name="textAreaTop" fmla="*/ 248760 h 431640"/>
              <a:gd name="textAreaBottom" fmla="*/ 3697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5157720"/>
            <a:ext cx="684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e complete quidelines for proposers are available on-line 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9800" y="5651640"/>
            <a:ext cx="62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160ba1"/>
                </a:solidFill>
                <a:uFillTx/>
                <a:latin typeface="Times New Roman"/>
              </a:rPr>
              <a:t>http://www.cordis.lu/fp6/find-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5157720"/>
            <a:ext cx="6840720" cy="10796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motiv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as,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rtium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Building the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ing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ntifying the appropriat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Selecting the appropriate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Writing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Writing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853240" y="3515400"/>
            <a:ext cx="4996080" cy="647640"/>
          </a:xfrm>
          <a:custGeom>
            <a:avLst/>
            <a:gdLst>
              <a:gd name="textAreaLeft" fmla="*/ 780480 w 4996080"/>
              <a:gd name="textAreaRight" fmla="*/ 4371840 w 4996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05160" y="3794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10 Steps of Proposal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962600"/>
            <a:ext cx="6408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mission before strict deadli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Verdana"/>
              </a:rPr>
              <a:t>paper version,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Verdana"/>
              </a:rPr>
              <a:t>electronic sub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95640" y="18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Brief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268280"/>
            <a:ext cx="8424720" cy="56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e European Commission implement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Framework Programm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FP) to support research activities. FP6 (2004 – 2007) budget devoted to GRID initiatives is of 325Meu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e European Commission issues periodically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alls for proposal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on different specific domai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ifferent kinds of project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funded by the European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nly the very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best project proposals are retaine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and only these will receive financial support from the European Commi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e rules for participation to proposals are specific to the kind of project being submitted.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inese partners can participate and be funded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e good preparation of a proposal is a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Key Success Facto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4869000"/>
            <a:ext cx="936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16160" y="5013360"/>
            <a:ext cx="5329440" cy="14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motiv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as,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rtium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Building the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ing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ntifying the appropriat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Selecting the appropriate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Writing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Writing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853240" y="3515400"/>
            <a:ext cx="4996080" cy="647640"/>
          </a:xfrm>
          <a:custGeom>
            <a:avLst/>
            <a:gdLst>
              <a:gd name="textAreaLeft" fmla="*/ 780480 w 4996080"/>
              <a:gd name="textAreaRight" fmla="*/ 4371840 w 4996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05160" y="3794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10 Steps of Proposal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683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269720"/>
            <a:ext cx="8534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ion by a strengthened peer-revie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ges, involving individual reviews, panel sessions, and possibly hearings of applic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ion criteria (with thresholds)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vance to objectives of Specific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fic &amp; Technical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ness of knowled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 of ambition and potential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mass in terms of activities an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of projec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33920" y="11034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motiv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as,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rtium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Building the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ing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ntifying the appropriat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Selecting the appropriate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Writing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Writing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6142320" y="3515400"/>
            <a:ext cx="4996080" cy="647640"/>
          </a:xfrm>
          <a:custGeom>
            <a:avLst/>
            <a:gdLst>
              <a:gd name="textAreaLeft" fmla="*/ 780480 w 4996080"/>
              <a:gd name="textAreaRight" fmla="*/ 4371840 w 4996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05160" y="3794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10 Steps of Proposal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5494320"/>
            <a:ext cx="82090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 of the scope of the project, budget,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 negotiation rounds a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motiv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as,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rtium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Building the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ing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ntifying the appropriat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Selecting the appropriate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Writing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Writing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project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5853240" y="3515400"/>
            <a:ext cx="4996080" cy="647640"/>
          </a:xfrm>
          <a:custGeom>
            <a:avLst/>
            <a:gdLst>
              <a:gd name="textAreaLeft" fmla="*/ 780480 w 4996080"/>
              <a:gd name="textAreaRight" fmla="*/ 4371840 w 4996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40720" y="637524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Verdana"/>
              </a:rPr>
              <a:t>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05160" y="3794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10 Steps of Proposal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267080" y="266688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4329000"/>
            <a:ext cx="8382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ffff99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6832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 Selection: Call 1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40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23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jects were selected out of 1398 submit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3886200"/>
            <a:ext cx="6767640" cy="695160"/>
          </a:xfrm>
          <a:prstGeom prst="rect">
            <a:avLst/>
          </a:prstGeom>
          <a:noFill/>
          <a:ln w="22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193760"/>
            <a:ext cx="8458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posals received: 1 3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tal grant requested : 7 576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posals with all criteria above thresholds : 3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tal grant requested : 2 347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tal budget for first call : 1 07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084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election is hard, but the best and well prepared proposals should be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505320" y="1052640"/>
            <a:ext cx="5638680" cy="5562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81880" y="3657600"/>
            <a:ext cx="76212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09920" y="25704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000000"/>
                </a:solidFill>
                <a:latin typeface="Times New Roman"/>
              </a:rPr>
              <a:t>ERCIM 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14560" y="1197000"/>
            <a:ext cx="865080" cy="936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24000" y="5046840"/>
            <a:ext cx="2160360" cy="162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2133720"/>
            <a:ext cx="2447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imes New Roman"/>
              </a:rPr>
              <a:t>Have unanimously and                         jointly  expressed their desire to collaborate with China in GRID technologi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6381720"/>
            <a:ext cx="1584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-252360" y="1773360"/>
          <a:ext cx="10081800" cy="1510920"/>
        </p:xfrm>
        <a:graphic>
          <a:graphicData uri="http://schemas.openxmlformats.org/drawingml/2006/table">
            <a:tbl>
              <a:tblPr/>
              <a:tblGrid>
                <a:gridCol w="9712440"/>
                <a:gridCol w="369360"/>
              </a:tblGrid>
              <a:tr h="15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539640" y="20606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 MT Extra Bold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4838760"/>
            <a:ext cx="3816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Rémi RONCHA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RCIM EEIG,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60ba1"/>
                </a:solidFill>
                <a:uFillTx/>
                <a:latin typeface="Times New Roman"/>
              </a:rPr>
              <a:t>remi.ronchaud@ercim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20640"/>
            <a:ext cx="37447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epare a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ubmission to the European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valuation of the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842920" y="3573360"/>
            <a:ext cx="64908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3573360"/>
            <a:ext cx="64764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4292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MT Extra Bold"/>
              </a:rPr>
              <a:t>ACCEPTED                           </a:t>
            </a:r>
            <a:r>
              <a:rPr b="1" lang="en-US" sz="1800" spc="-1" strike="noStrike">
                <a:solidFill>
                  <a:srgbClr val="fc0128"/>
                </a:solidFill>
                <a:latin typeface="Times New Roman MT Extra Bold"/>
              </a:rPr>
              <a:t>RE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4581360"/>
            <a:ext cx="822960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inal Appro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ignature of th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18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Selec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059280" y="4581000"/>
            <a:ext cx="1657080" cy="28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28800" y="2174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howcard Gothic"/>
              </a:rPr>
              <a:t>H o w   t o   p r o c e e d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189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Showcard Gothic"/>
              </a:rPr>
              <a:t>H o w   t o   p r o c e e d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264400">
            <a:off x="3825360" y="1399680"/>
            <a:ext cx="381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322800" y="4156200"/>
            <a:ext cx="2433600" cy="1031400"/>
            <a:chOff x="3322800" y="4156200"/>
            <a:chExt cx="2433600" cy="1031400"/>
          </a:xfrm>
        </p:grpSpPr>
        <p:sp>
          <p:nvSpPr>
            <p:cNvPr id="71" name=""/>
            <p:cNvSpPr/>
            <p:nvPr/>
          </p:nvSpPr>
          <p:spPr>
            <a:xfrm>
              <a:off x="3376800" y="4184640"/>
              <a:ext cx="2379600" cy="1002960"/>
            </a:xfrm>
            <a:custGeom>
              <a:avLst/>
              <a:gdLst/>
              <a:ahLst/>
              <a:rect l="l" t="t" r="r" b="b"/>
              <a:pathLst>
                <a:path w="1499" h="632">
                  <a:moveTo>
                    <a:pt x="1499" y="278"/>
                  </a:moveTo>
                  <a:lnTo>
                    <a:pt x="218" y="632"/>
                  </a:lnTo>
                  <a:lnTo>
                    <a:pt x="0" y="531"/>
                  </a:lnTo>
                  <a:lnTo>
                    <a:pt x="124" y="355"/>
                  </a:lnTo>
                  <a:lnTo>
                    <a:pt x="1407" y="0"/>
                  </a:lnTo>
                  <a:lnTo>
                    <a:pt x="1499" y="278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22800" y="4156200"/>
              <a:ext cx="2379600" cy="1002960"/>
            </a:xfrm>
            <a:custGeom>
              <a:avLst/>
              <a:gdLst/>
              <a:ahLst/>
              <a:rect l="l" t="t" r="r" b="b"/>
              <a:pathLst>
                <a:path w="1499" h="632">
                  <a:moveTo>
                    <a:pt x="1499" y="278"/>
                  </a:moveTo>
                  <a:lnTo>
                    <a:pt x="218" y="632"/>
                  </a:lnTo>
                  <a:lnTo>
                    <a:pt x="0" y="530"/>
                  </a:lnTo>
                  <a:lnTo>
                    <a:pt x="124" y="355"/>
                  </a:lnTo>
                  <a:lnTo>
                    <a:pt x="1407" y="0"/>
                  </a:lnTo>
                  <a:lnTo>
                    <a:pt x="1499" y="278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022560" y="2813040"/>
            <a:ext cx="2413080" cy="981000"/>
            <a:chOff x="3022560" y="2813040"/>
            <a:chExt cx="2413080" cy="981000"/>
          </a:xfrm>
        </p:grpSpPr>
        <p:sp>
          <p:nvSpPr>
            <p:cNvPr id="74" name=""/>
            <p:cNvSpPr/>
            <p:nvPr/>
          </p:nvSpPr>
          <p:spPr>
            <a:xfrm>
              <a:off x="3041640" y="2854080"/>
              <a:ext cx="2394000" cy="939960"/>
            </a:xfrm>
            <a:custGeom>
              <a:avLst/>
              <a:gdLst/>
              <a:ahLst/>
              <a:rect l="l" t="t" r="r" b="b"/>
              <a:pathLst>
                <a:path w="1508" h="592">
                  <a:moveTo>
                    <a:pt x="1508" y="310"/>
                  </a:moveTo>
                  <a:lnTo>
                    <a:pt x="214" y="0"/>
                  </a:lnTo>
                  <a:lnTo>
                    <a:pt x="0" y="111"/>
                  </a:lnTo>
                  <a:lnTo>
                    <a:pt x="130" y="281"/>
                  </a:lnTo>
                  <a:lnTo>
                    <a:pt x="1425" y="592"/>
                  </a:lnTo>
                  <a:lnTo>
                    <a:pt x="1508" y="31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22560" y="2813040"/>
              <a:ext cx="2392560" cy="938160"/>
            </a:xfrm>
            <a:custGeom>
              <a:avLst/>
              <a:gdLst/>
              <a:ahLst/>
              <a:rect l="l" t="t" r="r" b="b"/>
              <a:pathLst>
                <a:path w="1507" h="591">
                  <a:moveTo>
                    <a:pt x="1507" y="309"/>
                  </a:moveTo>
                  <a:lnTo>
                    <a:pt x="214" y="0"/>
                  </a:lnTo>
                  <a:lnTo>
                    <a:pt x="0" y="110"/>
                  </a:lnTo>
                  <a:lnTo>
                    <a:pt x="130" y="281"/>
                  </a:lnTo>
                  <a:lnTo>
                    <a:pt x="1424" y="591"/>
                  </a:lnTo>
                  <a:lnTo>
                    <a:pt x="1507" y="309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705000">
            <a:off x="3250800" y="30603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t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11640" y="1628640"/>
            <a:ext cx="687240" cy="4876920"/>
          </a:xfrm>
          <a:custGeom>
            <a:avLst/>
            <a:gdLst/>
            <a:ahLst/>
            <a:rect l="l" t="t" r="r" b="b"/>
            <a:pathLst>
              <a:path w="433" h="3703">
                <a:moveTo>
                  <a:pt x="0" y="96"/>
                </a:moveTo>
                <a:lnTo>
                  <a:pt x="192" y="0"/>
                </a:lnTo>
                <a:lnTo>
                  <a:pt x="433" y="96"/>
                </a:lnTo>
                <a:lnTo>
                  <a:pt x="433" y="3655"/>
                </a:lnTo>
                <a:lnTo>
                  <a:pt x="192" y="3703"/>
                </a:lnTo>
                <a:lnTo>
                  <a:pt x="0" y="3607"/>
                </a:lnTo>
                <a:lnTo>
                  <a:pt x="0" y="96"/>
                </a:lnTo>
                <a:close/>
              </a:path>
            </a:pathLst>
          </a:custGeom>
          <a:solidFill>
            <a:srgbClr val="9966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1628640"/>
            <a:ext cx="304920" cy="4191120"/>
          </a:xfrm>
          <a:custGeom>
            <a:avLst/>
            <a:gdLst/>
            <a:ahLst/>
            <a:rect l="l" t="t" r="r" b="b"/>
            <a:pathLst>
              <a:path w="192" h="3703">
                <a:moveTo>
                  <a:pt x="0" y="96"/>
                </a:moveTo>
                <a:lnTo>
                  <a:pt x="192" y="0"/>
                </a:lnTo>
                <a:lnTo>
                  <a:pt x="192" y="3703"/>
                </a:lnTo>
                <a:lnTo>
                  <a:pt x="0" y="3607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1628640"/>
            <a:ext cx="306360" cy="41148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628640"/>
            <a:ext cx="304920" cy="4114800"/>
          </a:xfrm>
          <a:custGeom>
            <a:avLst/>
            <a:gdLst/>
            <a:ahLst/>
            <a:rect l="l" t="t" r="r" b="b"/>
            <a:pathLst>
              <a:path w="192" h="3703">
                <a:moveTo>
                  <a:pt x="0" y="96"/>
                </a:moveTo>
                <a:lnTo>
                  <a:pt x="192" y="0"/>
                </a:lnTo>
                <a:lnTo>
                  <a:pt x="192" y="3703"/>
                </a:lnTo>
                <a:lnTo>
                  <a:pt x="0" y="3607"/>
                </a:lnTo>
                <a:lnTo>
                  <a:pt x="0" y="9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0698200">
            <a:off x="2870280" y="45842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1628640"/>
            <a:ext cx="306360" cy="48769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1628640"/>
            <a:ext cx="304920" cy="4876920"/>
          </a:xfrm>
          <a:custGeom>
            <a:avLst/>
            <a:gdLst/>
            <a:ahLst/>
            <a:rect l="l" t="t" r="r" b="b"/>
            <a:pathLst>
              <a:path w="192" h="3703">
                <a:moveTo>
                  <a:pt x="0" y="96"/>
                </a:moveTo>
                <a:lnTo>
                  <a:pt x="192" y="0"/>
                </a:lnTo>
                <a:lnTo>
                  <a:pt x="192" y="3703"/>
                </a:lnTo>
                <a:lnTo>
                  <a:pt x="0" y="3607"/>
                </a:lnTo>
                <a:lnTo>
                  <a:pt x="0" y="9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56040" y="1827360"/>
            <a:ext cx="2414520" cy="845640"/>
            <a:chOff x="3056040" y="1827360"/>
            <a:chExt cx="2414520" cy="845640"/>
          </a:xfrm>
        </p:grpSpPr>
        <p:sp>
          <p:nvSpPr>
            <p:cNvPr id="85" name=""/>
            <p:cNvSpPr/>
            <p:nvPr/>
          </p:nvSpPr>
          <p:spPr>
            <a:xfrm>
              <a:off x="3056040" y="1861920"/>
              <a:ext cx="2381400" cy="811080"/>
            </a:xfrm>
            <a:custGeom>
              <a:avLst/>
              <a:gdLst/>
              <a:ahLst/>
              <a:rect l="l" t="t" r="r" b="b"/>
              <a:pathLst>
                <a:path w="1500" h="511">
                  <a:moveTo>
                    <a:pt x="1467" y="511"/>
                  </a:moveTo>
                  <a:lnTo>
                    <a:pt x="154" y="291"/>
                  </a:lnTo>
                  <a:lnTo>
                    <a:pt x="0" y="106"/>
                  </a:lnTo>
                  <a:lnTo>
                    <a:pt x="188" y="0"/>
                  </a:lnTo>
                  <a:lnTo>
                    <a:pt x="1500" y="221"/>
                  </a:lnTo>
                  <a:lnTo>
                    <a:pt x="1467" y="51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89520" y="1827360"/>
              <a:ext cx="2381040" cy="811080"/>
            </a:xfrm>
            <a:custGeom>
              <a:avLst/>
              <a:gdLst/>
              <a:ahLst/>
              <a:rect l="l" t="t" r="r" b="b"/>
              <a:pathLst>
                <a:path w="1500" h="511">
                  <a:moveTo>
                    <a:pt x="1467" y="511"/>
                  </a:moveTo>
                  <a:lnTo>
                    <a:pt x="154" y="291"/>
                  </a:lnTo>
                  <a:lnTo>
                    <a:pt x="0" y="106"/>
                  </a:lnTo>
                  <a:lnTo>
                    <a:pt x="188" y="0"/>
                  </a:lnTo>
                  <a:lnTo>
                    <a:pt x="1500" y="221"/>
                  </a:lnTo>
                  <a:lnTo>
                    <a:pt x="1467" y="5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843360" y="2384280"/>
            <a:ext cx="2426760" cy="639720"/>
            <a:chOff x="3843360" y="2384280"/>
            <a:chExt cx="2426760" cy="639720"/>
          </a:xfrm>
        </p:grpSpPr>
        <p:sp>
          <p:nvSpPr>
            <p:cNvPr id="88" name=""/>
            <p:cNvSpPr/>
            <p:nvPr/>
          </p:nvSpPr>
          <p:spPr>
            <a:xfrm>
              <a:off x="3843360" y="2428920"/>
              <a:ext cx="2387160" cy="595080"/>
            </a:xfrm>
            <a:custGeom>
              <a:avLst/>
              <a:gdLst/>
              <a:ahLst/>
              <a:rect l="l" t="t" r="r" b="b"/>
              <a:pathLst>
                <a:path w="1504" h="375">
                  <a:moveTo>
                    <a:pt x="3" y="375"/>
                  </a:moveTo>
                  <a:lnTo>
                    <a:pt x="1331" y="293"/>
                  </a:lnTo>
                  <a:lnTo>
                    <a:pt x="1504" y="126"/>
                  </a:lnTo>
                  <a:lnTo>
                    <a:pt x="1330" y="0"/>
                  </a:lnTo>
                  <a:lnTo>
                    <a:pt x="0" y="82"/>
                  </a:lnTo>
                  <a:lnTo>
                    <a:pt x="3" y="37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4400" y="2384280"/>
              <a:ext cx="2385720" cy="595440"/>
            </a:xfrm>
            <a:custGeom>
              <a:avLst/>
              <a:gdLst/>
              <a:ahLst/>
              <a:rect l="l" t="t" r="r" b="b"/>
              <a:pathLst>
                <a:path w="1503" h="375">
                  <a:moveTo>
                    <a:pt x="3" y="375"/>
                  </a:moveTo>
                  <a:lnTo>
                    <a:pt x="1331" y="292"/>
                  </a:lnTo>
                  <a:lnTo>
                    <a:pt x="1503" y="125"/>
                  </a:lnTo>
                  <a:lnTo>
                    <a:pt x="1329" y="0"/>
                  </a:lnTo>
                  <a:lnTo>
                    <a:pt x="0" y="82"/>
                  </a:lnTo>
                  <a:lnTo>
                    <a:pt x="3" y="375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691080" y="3679920"/>
            <a:ext cx="2431440" cy="736560"/>
            <a:chOff x="3691080" y="3679920"/>
            <a:chExt cx="2431440" cy="736560"/>
          </a:xfrm>
        </p:grpSpPr>
        <p:sp>
          <p:nvSpPr>
            <p:cNvPr id="91" name=""/>
            <p:cNvSpPr/>
            <p:nvPr/>
          </p:nvSpPr>
          <p:spPr>
            <a:xfrm>
              <a:off x="3691080" y="3713400"/>
              <a:ext cx="2385720" cy="703080"/>
            </a:xfrm>
            <a:custGeom>
              <a:avLst/>
              <a:gdLst/>
              <a:ahLst/>
              <a:rect l="l" t="t" r="r" b="b"/>
              <a:pathLst>
                <a:path w="1503" h="443">
                  <a:moveTo>
                    <a:pt x="16" y="0"/>
                  </a:moveTo>
                  <a:lnTo>
                    <a:pt x="1339" y="151"/>
                  </a:lnTo>
                  <a:lnTo>
                    <a:pt x="1503" y="328"/>
                  </a:lnTo>
                  <a:lnTo>
                    <a:pt x="1321" y="443"/>
                  </a:lnTo>
                  <a:lnTo>
                    <a:pt x="0" y="29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35000" y="3679920"/>
              <a:ext cx="2387520" cy="704880"/>
            </a:xfrm>
            <a:custGeom>
              <a:avLst/>
              <a:gdLst/>
              <a:ahLst/>
              <a:rect l="l" t="t" r="r" b="b"/>
              <a:pathLst>
                <a:path w="1504" h="444">
                  <a:moveTo>
                    <a:pt x="18" y="0"/>
                  </a:moveTo>
                  <a:lnTo>
                    <a:pt x="1339" y="152"/>
                  </a:lnTo>
                  <a:lnTo>
                    <a:pt x="1504" y="328"/>
                  </a:lnTo>
                  <a:lnTo>
                    <a:pt x="1321" y="444"/>
                  </a:lnTo>
                  <a:lnTo>
                    <a:pt x="0" y="29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f8f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 rot="21382800">
            <a:off x="3860640" y="2466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394200">
            <a:off x="3708360" y="3838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3600">
            <a:off x="3022200" y="1993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0264400">
            <a:off x="4136760" y="155232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252200">
            <a:off x="3924000" y="6394320"/>
            <a:ext cx="50328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658332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rid@Asia , Beijing, China,  21-24 July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motiv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as,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853240" y="3515400"/>
            <a:ext cx="4996080" cy="647640"/>
          </a:xfrm>
          <a:custGeom>
            <a:avLst/>
            <a:gdLst>
              <a:gd name="textAreaLeft" fmla="*/ 780480 w 4996080"/>
              <a:gd name="textAreaRight" fmla="*/ 4371840 w 4996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05160" y="3794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10 Steps of Proposal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your 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n innovative appro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intermediat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 the differen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a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motiv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as,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rtium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Building the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853240" y="3515400"/>
            <a:ext cx="4996080" cy="647640"/>
          </a:xfrm>
          <a:custGeom>
            <a:avLst/>
            <a:gdLst>
              <a:gd name="textAreaLeft" fmla="*/ 780480 w 4996080"/>
              <a:gd name="textAreaRight" fmla="*/ 4371840 w 4996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7560" y="260280"/>
            <a:ext cx="59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10 Steps of Proposal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fy the required expertise to achieve the work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d and attract the corresponding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ther a critical mass of scientific excel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sure good representation of all the stakeholde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industry, academia, end us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d a scientific coordin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d administrative &amp; financial coordin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fy task leaders responsible for carrying out the different sub tasks composing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void overlap of compet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timulate syner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112680"/>
            <a:ext cx="72007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ortium: Building the projec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1295280" y="4905000"/>
            <a:ext cx="647640" cy="43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248760 h 432000"/>
              <a:gd name="textAreaBottom" fmla="*/ 3700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484020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618600">
            <a:off x="6640560" y="4716000"/>
            <a:ext cx="208908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motivation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as,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rtium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Building the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ing: </a:t>
            </a:r>
            <a:r>
              <a:rPr b="1" lang="en-US" sz="2400" spc="-1" strike="noStrike">
                <a:solidFill>
                  <a:srgbClr val="160ba1"/>
                </a:solidFill>
                <a:latin typeface="Times New Roman"/>
              </a:rPr>
              <a:t>Identifying the appropriat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5853240" y="3515400"/>
            <a:ext cx="4996080" cy="647640"/>
          </a:xfrm>
          <a:custGeom>
            <a:avLst/>
            <a:gdLst>
              <a:gd name="textAreaLeft" fmla="*/ 780480 w 4996080"/>
              <a:gd name="textAreaRight" fmla="*/ 4371840 w 4996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05160" y="3794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10 Steps of Proposal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484280"/>
            <a:ext cx="8135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posal selection follows a ver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c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Framework Programme is subdivided in distinc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s for Propos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all is covering a given number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earch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 start of FP6, there have been 5 calls for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only Call 2 and Call 5 addressed GRID related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eful selection of the Call is ess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4221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Call must be answered within a strict dead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3500280"/>
            <a:ext cx="1224000" cy="1155960"/>
          </a:xfrm>
          <a:custGeom>
            <a:avLst/>
            <a:gdLst/>
            <a:ahLst/>
            <a:rect l="l" t="t" r="r" b="b"/>
            <a:pathLst>
              <a:path w="454" h="408">
                <a:moveTo>
                  <a:pt x="0" y="226"/>
                </a:moveTo>
                <a:lnTo>
                  <a:pt x="136" y="408"/>
                </a:lnTo>
                <a:lnTo>
                  <a:pt x="454" y="0"/>
                </a:lnTo>
                <a:lnTo>
                  <a:pt x="136" y="317"/>
                </a:lnTo>
                <a:lnTo>
                  <a:pt x="0" y="226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7920" y="18900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ing the appropriat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5157720"/>
            <a:ext cx="62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 find information on the upcoming Cal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160ba1"/>
                </a:solidFill>
                <a:uFillTx/>
                <a:latin typeface="Times New Roman"/>
              </a:rPr>
              <a:t>http://www.fp6.cordis.lu/fp6/calls.cf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5084640"/>
            <a:ext cx="6191280" cy="1368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7:10:24Z</dcterms:created>
  <dc:creator>ERCIM</dc:creator>
  <dc:description/>
  <cp:keywords/>
  <dc:language>en-US</dc:language>
  <cp:lastModifiedBy>SEMIR</cp:lastModifiedBy>
  <cp:lastPrinted>2004-05-17T13:06:06Z</cp:lastPrinted>
  <dcterms:modified xsi:type="dcterms:W3CDTF">2005-06-22T11:19:41Z</dcterms:modified>
  <cp:revision>410</cp:revision>
  <dc:subject/>
  <dc:title>ERCIM slides</dc:title>
</cp:coreProperties>
</file>