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7.gif" ContentType="image/gi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B23-7127-4E7D-ABC7-5AE51EF0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A73-718C-4542-ACE1-8CBBB4CD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E9B-A86F-4873-A3C0-553CEED7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39C-A058-4F08-9DD4-25DB238B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D3D-F282-4E5A-A3FD-1459BA7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F09-8B3A-4B07-B508-CC2EE144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9D5-C7A5-4C66-AECE-CC6A4218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42D-2CB5-4B12-853D-1090D353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A83-2316-403F-A64C-BA7141A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F77-7A54-4D2C-9984-80F1AE9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24D-5DE6-40E7-AB0B-02A208E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965-E8CE-40A3-B30C-B7EF6E4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FB2-FB64-4744-9C95-DC173AE6500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632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CPSCG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nstructive Platform for Specialized Computing Grid</a:t>
            </a:r>
            <a:r>
              <a:rPr b="1" lang="en-US" sz="2400" spc="-1" strike="noStrike">
                <a:solidFill>
                  <a:srgbClr val="80808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Institute of High Performance Compu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Department of Computer Sci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Tsinghua Univers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Ming CHEN, Guangwen YA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eorgia"/>
                <a:ea typeface="宋体"/>
              </a:rPr>
              <a:t>cm01@mails.tsinghua.edu.cn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eorgia"/>
                <a:ea typeface="宋体"/>
              </a:rPr>
              <a:t>ygw@tsinghua.edu.c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intain information of all registered services for service qu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upport UDDI to be compatible with Web Ser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Fully duplicated to be resilient to single fail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ynchronize with each other using Bloom Filter to reduce network traffics and timestamp to keep 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ynchr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8160" y="2168640"/>
            <a:ext cx="1582920" cy="12240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en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4920" y="3753000"/>
            <a:ext cx="2306520" cy="718920"/>
            <a:chOff x="1474920" y="3753000"/>
            <a:chExt cx="2306520" cy="718920"/>
          </a:xfrm>
        </p:grpSpPr>
        <p:sp>
          <p:nvSpPr>
            <p:cNvPr id="201" name=""/>
            <p:cNvSpPr/>
            <p:nvPr/>
          </p:nvSpPr>
          <p:spPr>
            <a:xfrm>
              <a:off x="1474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9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09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08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128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24000" y="3753000"/>
              <a:ext cx="73080" cy="718920"/>
            </a:xfrm>
            <a:prstGeom prst="flowChartProcess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5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6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0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13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84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7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00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72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16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94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60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32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7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48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2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580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7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8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050920" y="5194440"/>
            <a:ext cx="1154160" cy="718920"/>
            <a:chOff x="2050920" y="5194440"/>
            <a:chExt cx="1154160" cy="718920"/>
          </a:xfrm>
        </p:grpSpPr>
        <p:sp>
          <p:nvSpPr>
            <p:cNvPr id="234" name=""/>
            <p:cNvSpPr/>
            <p:nvPr/>
          </p:nvSpPr>
          <p:spPr>
            <a:xfrm>
              <a:off x="205092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23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528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6656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39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272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8400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5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692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0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1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292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6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908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036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2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95280" y="38257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ce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17" idx="2"/>
            <a:endCxn id="242" idx="0"/>
          </p:cNvCxnSpPr>
          <p:nvPr/>
        </p:nvCxnSpPr>
        <p:spPr>
          <a:xfrm>
            <a:off x="2663640" y="4471560"/>
            <a:ext cx="1080" cy="72324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arrow" w="sm"/>
          </a:ln>
        </p:spPr>
      </p:cxnSp>
      <p:sp>
        <p:nvSpPr>
          <p:cNvPr id="252" name=""/>
          <p:cNvSpPr/>
          <p:nvPr/>
        </p:nvSpPr>
        <p:spPr>
          <a:xfrm>
            <a:off x="1332000" y="440208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loom Fil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50497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ceList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57800" y="2168640"/>
            <a:ext cx="1582920" cy="12240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ent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38920" y="3753000"/>
            <a:ext cx="2306520" cy="718920"/>
            <a:chOff x="5938920" y="3753000"/>
            <a:chExt cx="2306520" cy="718920"/>
          </a:xfrm>
        </p:grpSpPr>
        <p:sp>
          <p:nvSpPr>
            <p:cNvPr id="256" name=""/>
            <p:cNvSpPr/>
            <p:nvPr/>
          </p:nvSpPr>
          <p:spPr>
            <a:xfrm>
              <a:off x="5938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2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83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54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800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00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2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15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836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128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04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77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487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0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9164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4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36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7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534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4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96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7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0720" y="3753000"/>
              <a:ext cx="73080" cy="718920"/>
            </a:xfrm>
            <a:prstGeom prst="flowChartProcess">
              <a:avLst/>
            </a:prstGeom>
            <a:solidFill>
              <a:srgbClr val="cc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236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8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298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01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727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15280" y="5194440"/>
            <a:ext cx="1153440" cy="718920"/>
            <a:chOff x="6515280" y="5194440"/>
            <a:chExt cx="1153440" cy="718920"/>
          </a:xfrm>
        </p:grpSpPr>
        <p:sp>
          <p:nvSpPr>
            <p:cNvPr id="289" name=""/>
            <p:cNvSpPr/>
            <p:nvPr/>
          </p:nvSpPr>
          <p:spPr>
            <a:xfrm>
              <a:off x="651528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800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928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3092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03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7672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9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9128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00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5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0692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8000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308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2436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9600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72" idx="2"/>
            <a:endCxn id="297" idx="0"/>
          </p:cNvCxnSpPr>
          <p:nvPr/>
        </p:nvCxnSpPr>
        <p:spPr>
          <a:xfrm>
            <a:off x="7127640" y="4471560"/>
            <a:ext cx="1080" cy="72324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arrow" w="sm"/>
          </a:ln>
        </p:spPr>
      </p:cxnSp>
      <p:cxnSp>
        <p:nvCxnSpPr>
          <p:cNvPr id="306" name=""/>
          <p:cNvCxnSpPr>
            <a:stCxn id="249" idx="3"/>
            <a:endCxn id="289" idx="1"/>
          </p:cNvCxnSpPr>
          <p:nvPr/>
        </p:nvCxnSpPr>
        <p:spPr>
          <a:xfrm>
            <a:off x="3204720" y="5554440"/>
            <a:ext cx="3310920" cy="1080"/>
          </a:xfrm>
          <a:prstGeom prst="straightConnector1">
            <a:avLst/>
          </a:prstGeom>
          <a:ln cap="sq"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232" idx="3"/>
            <a:endCxn id="256" idx="1"/>
          </p:cNvCxnSpPr>
          <p:nvPr/>
        </p:nvCxnSpPr>
        <p:spPr>
          <a:xfrm>
            <a:off x="3781080" y="4113000"/>
            <a:ext cx="2158200" cy="1080"/>
          </a:xfrm>
          <a:prstGeom prst="straightConnector1">
            <a:avLst/>
          </a:prstGeom>
          <a:ln cap="sq"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3635280" y="5626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xchange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5640" y="42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ynchron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3753000"/>
            <a:ext cx="73080" cy="718920"/>
          </a:xfrm>
          <a:prstGeom prst="flowChartProcess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8920" y="3753000"/>
            <a:ext cx="73080" cy="718920"/>
          </a:xfrm>
          <a:prstGeom prst="flowChartProcess">
            <a:avLst/>
          </a:prstGeom>
          <a:solidFill>
            <a:srgbClr val="cc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66921E-007 L 0.5 0.00023 E">
                                      <p:cBhvr>
                                        <p:cTn id="305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9.66921E-007 L -0.49236 0.00023 E">
                                      <p:cBhvr>
                                        <p:cTn id="307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3429000"/>
            <a:ext cx="79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rvice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Job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tatus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2057400"/>
            <a:ext cx="79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ccount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Nod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rvi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ccess Policy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omain Front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65280" cy="533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1523880" y="2276640"/>
            <a:ext cx="619200" cy="5936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083280" y="2720880"/>
            <a:ext cx="2160360" cy="2232000"/>
            <a:chOff x="6083280" y="2720880"/>
            <a:chExt cx="2160360" cy="2232000"/>
          </a:xfrm>
        </p:grpSpPr>
        <p:grpSp>
          <p:nvGrpSpPr>
            <p:cNvPr id="318" name=""/>
            <p:cNvGrpSpPr/>
            <p:nvPr/>
          </p:nvGrpSpPr>
          <p:grpSpPr>
            <a:xfrm>
              <a:off x="6083280" y="3655800"/>
              <a:ext cx="792000" cy="792000"/>
              <a:chOff x="6083280" y="3655800"/>
              <a:chExt cx="792000" cy="792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4560" y="365580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083280" y="423180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  <a:ea typeface="宋体"/>
                  </a:rPr>
                  <a:t>Doma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Front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451640" y="2792160"/>
              <a:ext cx="792000" cy="792000"/>
              <a:chOff x="7451640" y="2792160"/>
              <a:chExt cx="792000" cy="792000"/>
            </a:xfrm>
          </p:grpSpPr>
          <p:pic>
            <p:nvPicPr>
              <p:cNvPr id="3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22920" y="279216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451640" y="336816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Back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P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451640" y="4160880"/>
              <a:ext cx="792000" cy="792000"/>
              <a:chOff x="7451640" y="4160880"/>
              <a:chExt cx="792000" cy="792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2920" y="416088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7451640" y="473688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Back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clus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091280" y="2720880"/>
              <a:ext cx="0" cy="216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75280" y="38732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1280" y="308124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1280" y="444816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16" idx="3"/>
            <a:endCxn id="319" idx="1"/>
          </p:cNvCxnSpPr>
          <p:nvPr/>
        </p:nvCxnSpPr>
        <p:spPr>
          <a:xfrm>
            <a:off x="2142720" y="2572920"/>
            <a:ext cx="4012200" cy="1305720"/>
          </a:xfrm>
          <a:prstGeom prst="straightConnector1">
            <a:avLst/>
          </a:prstGeom>
          <a:ln w="63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2" name=""/>
          <p:cNvCxnSpPr>
            <a:stCxn id="315" idx="3"/>
            <a:endCxn id="319" idx="1"/>
          </p:cNvCxnSpPr>
          <p:nvPr/>
        </p:nvCxnSpPr>
        <p:spPr>
          <a:xfrm>
            <a:off x="2188800" y="3848040"/>
            <a:ext cx="3966120" cy="30600"/>
          </a:xfrm>
          <a:prstGeom prst="straightConnector1">
            <a:avLst/>
          </a:prstGeom>
          <a:ln w="63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1447920" y="29718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Domain Administ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41911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End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447920" y="4670280"/>
            <a:ext cx="688680" cy="490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447920" y="52578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"/>
          <p:cNvCxnSpPr/>
          <p:nvPr/>
        </p:nvCxnSpPr>
        <p:spPr>
          <a:xfrm flipV="1">
            <a:off x="2133360" y="3886200"/>
            <a:ext cx="4018680" cy="1038600"/>
          </a:xfrm>
          <a:prstGeom prst="straightConnector1">
            <a:avLst/>
          </a:prstGeom>
          <a:ln w="6336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356000" y="5445000"/>
            <a:ext cx="3124440" cy="378000"/>
          </a:xfrm>
          <a:prstGeom prst="wedgeRoundRectCallout">
            <a:avLst>
              <a:gd name="adj1" fmla="val -67583"/>
              <a:gd name="adj2" fmla="val -304620"/>
              <a:gd name="adj3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宋体"/>
              </a:rPr>
              <a:t>Web service/WS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2057400"/>
            <a:ext cx="3124080" cy="380880"/>
          </a:xfrm>
          <a:prstGeom prst="wedgeRoundRectCallout">
            <a:avLst>
              <a:gd name="adj1" fmla="val -33893"/>
              <a:gd name="adj2" fmla="val 407916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宋体"/>
              </a:rPr>
              <a:t>Web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4720" y="5950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宋体"/>
              </a:rPr>
              <a:t>Every front end represents a single-sign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-hop Routing: Improve Rel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3932280"/>
            <a:ext cx="1976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Service Prox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27640" y="3933720"/>
            <a:ext cx="19051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ervic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35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main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3068640"/>
            <a:ext cx="19047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Service Prox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637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ermediate Doma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main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3"/>
            <a:endCxn id="343" idx="1"/>
          </p:cNvCxnSpPr>
          <p:nvPr/>
        </p:nvCxnSpPr>
        <p:spPr>
          <a:xfrm>
            <a:off x="2876040" y="4160880"/>
            <a:ext cx="3351960" cy="216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cxnSp>
        <p:nvCxnSpPr>
          <p:cNvPr id="349" name=""/>
          <p:cNvCxnSpPr>
            <a:stCxn id="342" idx="3"/>
            <a:endCxn id="345" idx="1"/>
          </p:cNvCxnSpPr>
          <p:nvPr/>
        </p:nvCxnSpPr>
        <p:spPr>
          <a:xfrm flipV="1">
            <a:off x="2876400" y="3296520"/>
            <a:ext cx="687960" cy="86436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cxnSp>
        <p:nvCxnSpPr>
          <p:cNvPr id="350" name=""/>
          <p:cNvCxnSpPr>
            <a:stCxn id="345" idx="3"/>
            <a:endCxn id="343" idx="1"/>
          </p:cNvCxnSpPr>
          <p:nvPr/>
        </p:nvCxnSpPr>
        <p:spPr>
          <a:xfrm>
            <a:off x="5468760" y="3296880"/>
            <a:ext cx="759600" cy="86580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sp>
        <p:nvSpPr>
          <p:cNvPr id="351" name=""/>
          <p:cNvSpPr/>
          <p:nvPr/>
        </p:nvSpPr>
        <p:spPr>
          <a:xfrm>
            <a:off x="4356000" y="3983040"/>
            <a:ext cx="360360" cy="358920"/>
          </a:xfrm>
          <a:prstGeom prst="flowChartSummingJunction">
            <a:avLst/>
          </a:prstGeom>
          <a:noFill/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nitor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1812960"/>
          <a:ext cx="77058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812960"/>
                    <a:ext cx="77058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napsh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Deployed in computing PCs/Clusters, hidden from other dom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mmunicate with its CPSCG front end and execute job from 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MPI/P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an be another CPSCG 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 Plat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Two Support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Tool: Legacy Applications 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ke legacy applications, especially large volume of command-line based  applications, grid service rea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ast, straightforward, but flexible 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cess of Encaps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4221000"/>
            <a:ext cx="1582560" cy="648000"/>
          </a:xfrm>
          <a:prstGeom prst="flowChartProcess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mmand-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3640" y="3500280"/>
            <a:ext cx="1224000" cy="2087640"/>
          </a:xfrm>
          <a:prstGeom prst="flowChartProcess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Interpr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Gen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61080" y="2349360"/>
            <a:ext cx="2158920" cy="12956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T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2720" y="4292640"/>
            <a:ext cx="2087280" cy="129708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omcat/JB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5" idx="3"/>
            <a:endCxn id="366" idx="2"/>
          </p:cNvCxnSpPr>
          <p:nvPr/>
        </p:nvCxnSpPr>
        <p:spPr>
          <a:xfrm flipV="1">
            <a:off x="4427640" y="3158640"/>
            <a:ext cx="2234160" cy="1386720"/>
          </a:xfrm>
          <a:prstGeom prst="straightConnector1">
            <a:avLst/>
          </a:prstGeom>
          <a:ln cap="sq" w="4140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69" name=""/>
          <p:cNvCxnSpPr>
            <a:stCxn id="365" idx="3"/>
            <a:endCxn id="367" idx="2"/>
          </p:cNvCxnSpPr>
          <p:nvPr/>
        </p:nvCxnSpPr>
        <p:spPr>
          <a:xfrm>
            <a:off x="4427280" y="4545000"/>
            <a:ext cx="2305440" cy="559080"/>
          </a:xfrm>
          <a:prstGeom prst="straightConnector1">
            <a:avLst/>
          </a:prstGeom>
          <a:ln cap="sq" w="4140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70" name=""/>
          <p:cNvCxnSpPr>
            <a:stCxn id="364" idx="3"/>
            <a:endCxn id="365" idx="1"/>
          </p:cNvCxnSpPr>
          <p:nvPr/>
        </p:nvCxnSpPr>
        <p:spPr>
          <a:xfrm>
            <a:off x="2266920" y="4544640"/>
            <a:ext cx="9374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71" name=""/>
          <p:cNvGrpSpPr/>
          <p:nvPr/>
        </p:nvGrpSpPr>
        <p:grpSpPr>
          <a:xfrm>
            <a:off x="4714920" y="3933720"/>
            <a:ext cx="793800" cy="865080"/>
            <a:chOff x="4714920" y="3933720"/>
            <a:chExt cx="793800" cy="865080"/>
          </a:xfrm>
        </p:grpSpPr>
        <p:sp>
          <p:nvSpPr>
            <p:cNvPr id="372" name=""/>
            <p:cNvSpPr/>
            <p:nvPr/>
          </p:nvSpPr>
          <p:spPr>
            <a:xfrm>
              <a:off x="4714920" y="4483800"/>
              <a:ext cx="792000" cy="315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Web Servi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Pack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16360" y="3933720"/>
              <a:ext cx="792360" cy="314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WSR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Pack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732720" y="32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96360" y="32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SR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6000" y="530064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581360"/>
            <a:ext cx="9352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284640"/>
            <a:ext cx="1440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Inter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User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16927 -0.18359 E">
                                      <p:cBhvr>
                                        <p:cTn id="46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evt="end">
                                        <p:tn val="459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13873E-006 L 0.19687 0.06289 E">
                                      <p:cBhvr>
                                        <p:cTn id="485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terogeneous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uto de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mmunication between intran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put/Outpu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cess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“Hello World”-Like Dem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nstall a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ublish a back e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ploy a service (Encapsulation): PClustal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nvoke the service and get the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st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981080"/>
            <a:ext cx="78483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ublish A Back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84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: Select An Installed Legacy Appl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8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: Edit Service Interf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84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: Edit Service Interface (Cont.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1973160" cy="2338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3924360" y="2124000"/>
            <a:ext cx="1996920" cy="238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1967040" cy="2338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1692360" y="4724280"/>
            <a:ext cx="65642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: Publish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nvoke Servi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tep 1: Select An Intended Servi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848360" cy="4103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7162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can also be accessed via Web Service or WSR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nvoke Servi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tep 2: Input Paramet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73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abling fast, straightforward construction of grid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is not only another grid middleware, but also a lightweight and ready-to-use platform for directly deploying grid servi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provides flexible system-level services to make legacy applications grid-service rea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Get the Resu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616360" cy="2239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56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nalyze Result with Other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: BioInformatic Gr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hr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ap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la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Clustalw (MPI)/Clustal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provides a platform helping end users fast and efficiently deploy grid system and grid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Supports domain autonomy via loose-coupled architecture, while offering global single 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Key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treamline de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both plain web service and WSR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utomate application service visual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ully distributed while maintaining single 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sign Consid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nable fast deployment of, and easy access to application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ndorse domain autonom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apt to dynamic, unreliable, unpredictable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ose-coupled domains, fully distributed system, best effort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 Plat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wo Support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867280" y="1557360"/>
            <a:ext cx="2514600" cy="2158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886200"/>
            <a:ext cx="2514600" cy="2422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133720"/>
            <a:ext cx="2602080" cy="3200400"/>
          </a:xfrm>
          <a:custGeom>
            <a:avLst/>
            <a:gdLst>
              <a:gd name="textAreaLeft" fmla="*/ 126720 w 2602080"/>
              <a:gd name="textAreaRight" fmla="*/ 2475360 w 2602080"/>
              <a:gd name="textAreaTop" fmla="*/ 126720 h 3200400"/>
              <a:gd name="textAreaBottom" fmla="*/ 3073680 h 3200400"/>
            </a:gdLst>
            <a:ahLst/>
            <a:rect l="textAreaLeft" t="textAreaTop" r="textAreaRight" b="textAreaBottom"/>
            <a:pathLst>
              <a:path w="21600" h="26566">
                <a:moveTo>
                  <a:pt x="3600" y="0"/>
                </a:moveTo>
                <a:arcTo wR="3600" hR="3600" stAng="16200000" swAng="-5400000"/>
                <a:lnTo>
                  <a:pt x="0" y="22966"/>
                </a:lnTo>
                <a:arcTo wR="3600" hR="3600" stAng="10800000" swAng="-5400000"/>
                <a:lnTo>
                  <a:pt x="18000" y="26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latform: Deploy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55640" y="2492280"/>
            <a:ext cx="2232000" cy="2160360"/>
            <a:chOff x="755640" y="2492280"/>
            <a:chExt cx="2232000" cy="216036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266920" y="31399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900360" y="2565000"/>
              <a:ext cx="72072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27280" y="3860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5640" y="37159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7280" y="3139920"/>
              <a:ext cx="79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Window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5640" y="4436640"/>
              <a:ext cx="792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Linu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360" y="2492280"/>
              <a:ext cx="0" cy="21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8360" y="335736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9280" y="2852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8000" y="4076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16360" y="5084640"/>
            <a:ext cx="792000" cy="792000"/>
            <a:chOff x="2916360" y="5084640"/>
            <a:chExt cx="792000" cy="79200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2987640" y="5084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16360" y="566064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Information Cen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474920" y="49402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Linux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40360" y="4653000"/>
            <a:ext cx="792000" cy="792000"/>
            <a:chOff x="5940360" y="4653000"/>
            <a:chExt cx="792000" cy="7920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6011640" y="465300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940360" y="522900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236000" y="3933720"/>
            <a:ext cx="792000" cy="792000"/>
            <a:chOff x="7236000" y="3933720"/>
            <a:chExt cx="792000" cy="792000"/>
          </a:xfrm>
        </p:grpSpPr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7307280" y="3933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236000" y="4509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IA3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236000" y="5157720"/>
            <a:ext cx="792000" cy="792000"/>
            <a:chOff x="7236000" y="5157720"/>
            <a:chExt cx="792000" cy="792000"/>
          </a:xfrm>
        </p:grpSpPr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307280" y="5157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236000" y="5733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IA6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75640" y="3933720"/>
            <a:ext cx="144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51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75640" y="414972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75640" y="537372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950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Cloud"/>
          <p:cNvSpPr/>
          <p:nvPr/>
        </p:nvSpPr>
        <p:spPr>
          <a:xfrm>
            <a:off x="3851280" y="3573360"/>
            <a:ext cx="158436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ahoma"/>
                <a:ea typeface="宋体"/>
              </a:rPr>
              <a:t>WAN/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60200">
            <a:off x="3131640" y="357336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60200">
            <a:off x="5219280" y="4508640"/>
            <a:ext cx="576360" cy="215640"/>
          </a:xfrm>
          <a:prstGeom prst="leftRightArrow">
            <a:avLst>
              <a:gd name="adj1" fmla="val 50000"/>
              <a:gd name="adj2" fmla="val 53208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8178600">
            <a:off x="5219280" y="3068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8178600">
            <a:off x="3634920" y="465300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83280" y="2347920"/>
            <a:ext cx="792000" cy="792000"/>
            <a:chOff x="6083280" y="2347920"/>
            <a:chExt cx="792000" cy="792000"/>
          </a:xfrm>
        </p:grpSpPr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6154560" y="23479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083280" y="29239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308720" y="1628640"/>
            <a:ext cx="792000" cy="792000"/>
            <a:chOff x="7308720" y="1628640"/>
            <a:chExt cx="792000" cy="792000"/>
          </a:xfrm>
        </p:grpSpPr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>
              <a:off x="7380000" y="1628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308720" y="220464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P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308720" y="2781360"/>
            <a:ext cx="792000" cy="792000"/>
            <a:chOff x="7308720" y="2781360"/>
            <a:chExt cx="792000" cy="79200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7380000" y="278136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308720" y="335736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Clu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7090920" y="162864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5640" y="2565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1773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91280" y="3139920"/>
            <a:ext cx="289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352680" y="2133720"/>
            <a:ext cx="792000" cy="792000"/>
            <a:chOff x="3352680" y="2133720"/>
            <a:chExt cx="792000" cy="792000"/>
          </a:xfrm>
        </p:grpSpPr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3423960" y="2133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352680" y="2709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Information Cen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960200">
            <a:off x="4053960" y="3111120"/>
            <a:ext cx="1060560" cy="255600"/>
          </a:xfrm>
          <a:prstGeom prst="leftRightArrow">
            <a:avLst>
              <a:gd name="adj1" fmla="val 50000"/>
              <a:gd name="adj2" fmla="val 82601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371600"/>
            <a:ext cx="1371600" cy="380880"/>
          </a:xfrm>
          <a:prstGeom prst="wedgeRoundRectCallout">
            <a:avLst>
              <a:gd name="adj1" fmla="val 67708"/>
              <a:gd name="adj2" fmla="val 152500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6760" y="5877000"/>
            <a:ext cx="1371600" cy="380880"/>
          </a:xfrm>
          <a:prstGeom prst="wedgeRoundRectCallout">
            <a:avLst>
              <a:gd name="adj1" fmla="val 102083"/>
              <a:gd name="adj2" fmla="val -43333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1676520"/>
            <a:ext cx="1371600" cy="380880"/>
          </a:xfrm>
          <a:prstGeom prst="wedgeRoundRectCallout">
            <a:avLst>
              <a:gd name="adj1" fmla="val 71412"/>
              <a:gd name="adj2" fmla="val 188750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4419720" y="4648320"/>
            <a:ext cx="838080" cy="82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419720" y="55627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Support T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6560" y="1846440"/>
            <a:ext cx="7345440" cy="5029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dddddd"/>
              </a:gs>
              <a:gs pos="100000">
                <a:srgbClr val="6b6b6b"/>
              </a:gs>
            </a:gsLst>
            <a:lin ang="54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6560" y="2422440"/>
            <a:ext cx="7345440" cy="295128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6840" y="2494080"/>
            <a:ext cx="6624720" cy="647640"/>
          </a:xfrm>
          <a:prstGeom prst="rect">
            <a:avLst/>
          </a:prstGeom>
          <a:gradFill rotWithShape="0">
            <a:gsLst>
              <a:gs pos="0">
                <a:srgbClr val="007546"/>
              </a:gs>
              <a:gs pos="5000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5400" y="3669480"/>
            <a:ext cx="28080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1560" y="4078440"/>
            <a:ext cx="2925720" cy="1225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4078440"/>
            <a:ext cx="3265560" cy="1222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3213000"/>
            <a:ext cx="982440" cy="6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209760"/>
            <a:ext cx="98280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chedu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4222800"/>
            <a:ext cx="50328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User`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20840" y="4222800"/>
            <a:ext cx="50328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6280" y="4222800"/>
            <a:ext cx="50292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J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4940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Local Service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2494080"/>
            <a:ext cx="216216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Remote Service Pro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4922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Dynamic Service Ren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213000"/>
            <a:ext cx="324036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284640"/>
            <a:ext cx="1184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8520" y="3284640"/>
            <a:ext cx="1401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4149720"/>
            <a:ext cx="1295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Back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14972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Back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249228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Service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335772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Function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3600" y="1916280"/>
            <a:ext cx="1904760" cy="3618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ynchron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916280"/>
            <a:ext cx="1905120" cy="3618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rvice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209760"/>
            <a:ext cx="117792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Domains Lis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ai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5541840"/>
            <a:ext cx="2736720" cy="6732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67640" y="148428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Information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latform Compon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56720" y="56610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Back 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5684760"/>
            <a:ext cx="1224000" cy="35892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ched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684760"/>
            <a:ext cx="1224000" cy="35892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5516640"/>
            <a:ext cx="2737080" cy="6732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5659560"/>
            <a:ext cx="1224000" cy="35856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ched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5659560"/>
            <a:ext cx="1224000" cy="35856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4" idx="2"/>
            <a:endCxn id="181" idx="0"/>
          </p:cNvCxnSpPr>
          <p:nvPr/>
        </p:nvCxnSpPr>
        <p:spPr>
          <a:xfrm flipH="1">
            <a:off x="2626920" y="4606560"/>
            <a:ext cx="2664720" cy="93564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1" name=""/>
          <p:cNvCxnSpPr>
            <a:stCxn id="175" idx="2"/>
            <a:endCxn id="187" idx="0"/>
          </p:cNvCxnSpPr>
          <p:nvPr/>
        </p:nvCxnSpPr>
        <p:spPr>
          <a:xfrm flipH="1">
            <a:off x="6011280" y="4606560"/>
            <a:ext cx="829080" cy="91044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2" name=""/>
          <p:cNvCxnSpPr>
            <a:stCxn id="163" idx="2"/>
            <a:endCxn id="186" idx="0"/>
          </p:cNvCxnSpPr>
          <p:nvPr/>
        </p:nvCxnSpPr>
        <p:spPr>
          <a:xfrm>
            <a:off x="1463760" y="3857400"/>
            <a:ext cx="481680" cy="18277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3" name=""/>
          <p:cNvCxnSpPr>
            <a:stCxn id="164" idx="2"/>
            <a:endCxn id="185" idx="0"/>
          </p:cNvCxnSpPr>
          <p:nvPr/>
        </p:nvCxnSpPr>
        <p:spPr>
          <a:xfrm>
            <a:off x="2471760" y="3857400"/>
            <a:ext cx="768960" cy="18277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4" name=""/>
          <p:cNvCxnSpPr>
            <a:stCxn id="163" idx="2"/>
            <a:endCxn id="189" idx="0"/>
          </p:cNvCxnSpPr>
          <p:nvPr/>
        </p:nvCxnSpPr>
        <p:spPr>
          <a:xfrm>
            <a:off x="1463400" y="3857400"/>
            <a:ext cx="3866040" cy="18025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5" name=""/>
          <p:cNvCxnSpPr>
            <a:stCxn id="188" idx="0"/>
            <a:endCxn id="164" idx="2"/>
          </p:cNvCxnSpPr>
          <p:nvPr/>
        </p:nvCxnSpPr>
        <p:spPr>
          <a:xfrm flipH="1" flipV="1">
            <a:off x="2471400" y="3857040"/>
            <a:ext cx="4153680" cy="18025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5:05:52Z</dcterms:created>
  <dc:creator/>
  <dc:description/>
  <dc:language>en-US</dc:language>
  <cp:lastModifiedBy>Sibrave</cp:lastModifiedBy>
  <dcterms:modified xsi:type="dcterms:W3CDTF">2005-06-22T14:24:45Z</dcterms:modified>
  <cp:revision>332</cp:revision>
  <dc:subject/>
  <dc:title>CPSCG: Constructive Platform for Specific Computing Grid </dc:title>
</cp:coreProperties>
</file>