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842-7691-418A-9DB0-6D7F7E6C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B22-F03C-4CBE-A130-66AEE49B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B98-2639-4A09-B56F-ADA22B96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07A-96F0-4CD4-B642-22A64ADB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404-3CA4-4855-A8B0-69DE91D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419-980F-4BF8-869D-5A427FDA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F1A-488B-4785-9B95-25C53C4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3D3-D19B-47D1-B841-9D3BA3B9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CC0-72A6-4009-86CC-B022E5DC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060-F35C-4621-A344-A6B6165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A64-420E-47FC-89A5-CFB1D6DB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AD5-9FAF-454D-AB40-BCA76FB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013-B699-4CCA-87F0-71DF88CA4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idforum.org/Meetings/ggf10/presentations/Boch_GGF10.pdf" TargetMode="External"/><Relationship Id="rId3" Type="http://schemas.openxmlformats.org/officeDocument/2006/relationships/hyperlink" Target="http://www.gridforum.org/Meetings/ggf10/presentations/Boch_GGF10.pdf" TargetMode="External"/><Relationship Id="rId4" Type="http://schemas.openxmlformats.org/officeDocument/2006/relationships/hyperlink" Target="http://www.gridforum.org/Meetings/ggf10/presentations/Boch_GGF10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Intellectual Property Rights in EC projec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uno Le Dante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-mail: bruno.le_dantec@ercim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www.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hlinkClick r:id="rId3"/>
              </a:rPr>
              <a:t>ipr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hlinkClick r:id="rId4"/>
              </a:rPr>
              <a:t>-helpdesk.org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6120" y="107964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re in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75B-1289-4AFF-8ECE-36390A455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222560" indent="0" algn="ctr">
              <a:spcBef>
                <a:spcPts val="499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ectual Property Rights (IPR) govern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22560" indent="0" algn="ctr">
              <a:spcBef>
                <a:spcPts val="499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wnershi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ransf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ssemin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e of research resul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enerated during FP6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349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51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this at any time of the project/proposal lif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51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par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ent searches to identify prior ownership, possible IPR-protected areas, 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goti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c IPR provisions to be agreed if needed (consortium agreement), practical IPR management, 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ction of the results, management of resulting IPR, granting of access rights, …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t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semination of the results, use of the results by partners or third part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0047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hat is it abou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D2E-299A-4A02-BA15-CEC84A395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8280" indent="0" algn="ctr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arify ownership of results to ensure a smooth implementation of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0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crease certainty of participants’ intellectual propert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tect European Commission inves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ke available access rights in order 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mote the use of the knowledge (results of the projec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mote the dissemination of the knowled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0">
              <a:spcBef>
                <a:spcPts val="451"/>
              </a:spcBef>
              <a:buNone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ame rules for each instrument (IP, NoE, Strep, SSA, C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ame rules for each particip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0">
              <a:spcBef>
                <a:spcPts val="451"/>
              </a:spcBef>
              <a:buNone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wo notions: Know-how &amp; knowled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0047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hy is it needed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F39-4F45-4241-9809-5FD5BEE55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3600" indent="0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-existing Know-h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-how needed to carry out the project or to use its resul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ld by a contractor before the project starts or acquired in parallel with the project (sidegroun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 be protected or secret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lways remain the property of the partner in ques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cess rights shall be granted on written requ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0">
              <a:spcBef>
                <a:spcPts val="499"/>
              </a:spcBef>
              <a:buNone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600" indent="0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ints to be consider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y the information available and needed for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st what information will be put into or excluded from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ide how the pre-existing know-how will be accessed both during and after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0047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now-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E7A-3C15-4ADB-9C59-B84D504F9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53972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ledge is what contractors "get out of" the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vers both information and righ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 owned b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contractor who carried out the work generating the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 several contractors, they must agree on the allocation and the terms of exercising the ownersh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 be transferred with the EC agre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ints to be consid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 capable of commercial/industrial application, shall be protected by the participant (s) or 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rtners can use other partners knowledge if they  need it, but limi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 carrying out their own work under the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 using their own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9288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B7D-AC1A-4B58-872F-F08C3239CE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8524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ccess rights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782040" cy="49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DDD-0F71-4B04-9C90-1E54D745B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09680" y="928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overning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82880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838160"/>
            <a:ext cx="7620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contract  &amp; Annex II to EC con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ndatory regulations, may be sufficient for most of the pro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ttp://www.cordis.lu/fp6/find-docspecific.htm#modelcontra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sortium agreement (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ecify or supplement the provisions of the EC con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ver all major management issues, intellectual property, ownership, access right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ist granted and excluded pre-existing know-h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he Consortium Agreement is obligatory - exce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st be signed before the start of  the con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an be updated at any t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489-9C2D-4C79-81C5-4D0D856BB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cess to know-h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uld be difficult to identify pre-existing KH needed or to be exclud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hould ensure that the partner is free to grant access to the K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ivate companies may be reluctant to share their know-ho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ledge generated must be exploi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ng term research // applied research - open source // proprietary solution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fficulties to identify who produced the knowledge in large project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ivate companies having affiliates may want the knowledge produced to be used by all their affiliates - IBM, HP, FT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arefully check the content of any publications to avoid dissemination of “protected” knowled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heck the ownership of knowledge produced by employe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C can decide to directly exploit the results if parties are reluctant in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fficulties to sign the EC contract governed by the Belgium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60120" y="85248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E18-4C37-4421-A3BD-918408196C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10810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781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lear management of IPR will a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air rel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tabLst>
                <a:tab algn="l" pos="0"/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oo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tabLst>
                <a:tab algn="l" pos="0"/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ong Disse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tabLst>
                <a:tab algn="l" pos="0"/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of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BE4-150F-42CE-80EE-77C01D47E5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bledante</cp:lastModifiedBy>
  <cp:lastPrinted>2002-03-06T16:04:30Z</cp:lastPrinted>
  <dcterms:modified xsi:type="dcterms:W3CDTF">2005-06-22T03:31:22Z</dcterms:modified>
  <cp:revision>171</cp:revision>
  <dc:subject/>
  <dc:title>CoreGRID: A network of excellence in Grid and P2P Technologies</dc:title>
</cp:coreProperties>
</file>