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16B-20C5-456D-9605-169A6C29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573-2ED2-472E-A80C-431DEE6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A06-908C-42E7-B082-69193228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226-1F88-4D54-AD7A-A1ABBB3B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FFD-8E25-4128-A878-A437AD2C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9099-1287-4899-9060-890968A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6500-C3B6-46AC-8DBA-E83C4FD8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D515-AE04-4C5F-BB7A-4C468EE8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1DB4-BD85-44A1-A529-E60969AC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0EDE-1638-46F0-B2A4-6F4805D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48EB-3C8E-4E08-9088-EBEC5DE9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2C9-5EF3-4CF5-84CD-78E622EC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9247-A54B-4F3F-A0CF-E4CB40A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5AC8-03E9-46A8-A90A-F336D316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8364-00BD-48FC-B31B-ECB2D135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F726-D93C-4217-BB55-C2A20B6C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51E0-67B8-4EDA-B84E-A39A3CCF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DBE-3C61-4E10-8FCA-8215E120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43D-2705-449F-96BD-9EA56F98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B2A-E1F9-4014-87E7-D6C1BC01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50C-C681-4F8D-9173-4FACBD30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8BC-088A-4CD0-A3BB-832EC1DF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420-CDA3-459C-8E52-8DAC353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53F-62F4-4E0D-A3F5-0770F9FC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EFAC-B59E-42E6-9025-E11E6E7BCE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8F91-CE1C-4942-A3C0-B188A028238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Grid Applications: Trends, Requirement, and evalution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Prof. Qian Dep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Director, Sino-German Joint Software Institute (JS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Beihang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depeiq@buaa.edu.c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Beijing, June 22, 2005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ower the c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wer the cost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ient usage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tion in man-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ing the developmen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ing the operation and maintenance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duce complex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iented to end users who are not expert in information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ectively reduce the development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viding higher level tools and abst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ding the heterogene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ilitate implementation of large scale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usabl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systematic approach for developmen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id applications session agenda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SIMDAT - Data grids for process and product development using numerical simulation and knowledge discovery - (i) Overview - Marije Geldof - FhG, Germany -  (ii)  Aerospace activity - Jamil Appa - BAE Systems, UK - (iii) Audi use case for distributed simulation data and process management - Jason Li &amp; Yimin Jin, MSC, Chi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viation Grid - Degang Cui - Beihang University, Chi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ILIGENT - A digital libray insfrastructure on grid enable technology - Peter Fankhauser - FhG,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id applications session agenda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Science in China - Baoping Yan, Computer Network and Information Center, CAS, Ch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he eScience applications in DEISA - Hermann Lederer - RZG-Garching, German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New Drug Discovery Grid - Jianhua Shen, Shanghai Institute of Materia Medica, CAS Ch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Invited Talk: Asian Grid Activities overview - Satoshi Sekiguchi, National Institute of Advanced Industrial Science and Technology, Jap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ends in Application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itical applications rely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lated to daily life of ordinary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vasive and Ubiquit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netrate to every corner of the 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atured by massive users, massive equipment, massiv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e of modern soc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both working and living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pplication characte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ends in Applica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ceptive  to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ext-a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nsor networks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pid and dynam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er-growing of new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grading and evolution of curr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pplications cover broad range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ientific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vernment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Cust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X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ustrial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, Manufacturing,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DAT, AVI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pplications cover broad range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cial and economic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isis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vironmental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ily life of ordinary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tertainment--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ture—digital l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LLIG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D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quirement from applic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 scale data exchange and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ing of computing power and other computing resources in large geographical are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aboration between distributed and large scal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on and collaboration between people who are geographically sepa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of dynamically changing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pid generation and dynamic deployment of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33256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How to judge the success of Gri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plication is the most important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roves the qua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rease the effici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er the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e the complex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mprove the 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abling applications which are impossible bef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ion-wide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oss-domai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llaboration betwee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tter utilization of resources and easier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crease 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crease efficienc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velopment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rational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4:51:06Z</dcterms:created>
  <dc:creator>dpq</dc:creator>
  <dc:description/>
  <dc:language>en-US</dc:language>
  <cp:lastModifiedBy>dpq</cp:lastModifiedBy>
  <dcterms:modified xsi:type="dcterms:W3CDTF">2005-06-22T02:30:16Z</dcterms:modified>
  <cp:revision>9</cp:revision>
  <dc:subject/>
  <dc:title>幻灯片 1</dc:title>
</cp:coreProperties>
</file>