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D73-DE43-4B8B-9F95-9504DFB1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F96-834B-4BD5-A359-FE4ACFA2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4CF-9F43-41F8-BCDB-CF9326B5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22F-D01D-4A41-9D33-D029CBE4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76F4-1E7E-4C11-963D-7228F40B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97CF-EAFE-4767-8950-9EB7B09B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5899-4F8B-453B-A735-9500E89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0C07-BD20-4ABD-9F38-A96654C1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364D-28AE-4005-B9E3-680CDF50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999D-C623-4D15-964A-16B9BF2E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3114-35A2-4F7D-8963-533DADB0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8BD-33FB-4F38-864A-D90DFDBB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2C3E-0B27-4F27-83C0-EDBB20C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B9F9-E7FE-4358-BDCF-C91A9FE7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3AE3-0162-4699-825D-0C2EE1C9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E04-D91E-4395-A67F-55B69309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F3CB-E485-4635-B83A-F5E4DC14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E7D-A793-457D-AD15-B8D67B6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A0F-D2C9-4247-96D1-C77B70CC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28F-F5C4-4738-829A-FF0CC695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660-C186-4AA4-9948-C8DD5025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909-4148-407C-8E30-F2D22B76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971-2110-43E5-89DA-72FB56EF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72E-B8EF-4A92-8316-0D27218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9DF8-4891-45F8-BD30-7DB6920D72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0F89-743A-4379-BD15-C651EAF5B4A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Grid Applications: Trends, Requirement, and evalution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Prof. Qian Dep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Director, Sino-German Joint Software Institute (JS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Beihang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depeiq@buaa.edu.c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eijing, June 22, 2005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ower the c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wer the cost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ient usage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tion in man-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ing the developmen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ing the operation and maintenance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duce complex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iented to end users who are not expert in information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ectively reduce the development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viding higher level tools and abst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ding the heterogene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ilitate implementation of large scale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usabl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systematic approach for developmen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id applications session agenda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IMDAT - Data grids for process and product development using numerical simulation and knowledge discovery - (i) Overview - Marije Geldof - FhG, Germany -  (ii)  Aerospace activity - Jamil Appa - BAE Systems, UK - (iii) Audi use case for distributed simulation data and process management - Jason Li &amp; Yimin Jin, MSC, Chi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viation Grid - Degang Cui - Beihang University, Chi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ILIGENT - A digital libray insfrastructure on grid enable technology - Peter Fankhauser - FhG,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id applications session agenda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Science in China - Baoping Yan, Computer Network and Information Center, CAS, Ch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he eScience applications in DEISA - Hermann Lederer - RZG-Garching, German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New Drug Discovery Grid - Jianhua Shen, Shanghai Institute of Materia Medica, CAS Ch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nvited Talk: Asian Grid Activities overview - Satoshi Sekiguchi, National Institute of Advanced Industrial Science and Technology, Jap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ends in Applica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itical applications rely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lated to daily life of ordinary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vasive and Ubiquit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netrate to every corner of the 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atured by massive users, massive equipment, massiv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e of modern 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both working and living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pplication characte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ends in Applica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ceptive  to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ext-a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sor networks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pid and dynam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er-growing of new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grading and evolution of curr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pplications cover broad range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ientific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vernment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Cust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X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ustrial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, Manufacturing,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DAT, AVI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pplications cover broad range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cial and economic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isis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vironmental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ily life of ordinary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tertainment--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e—digital l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LLIG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D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quirement from applic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 scale data exchange and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ing of computing power and other computing resources in large geographical are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aboration between distributed and large scal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on and collaboration between people who are geographically sepa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of dynamically changing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pid generation and dynamic deployment of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33256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How to judge the success of Gri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plication is the most important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roves the qua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rease the effici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er the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e the complex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mprove the 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abling applications which are impossible bef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ion-wide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oss-domai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llaboration betwee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tter utilization of resources and easier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crease 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crease efficie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velopment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rational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4:51:06Z</dcterms:created>
  <dc:creator>dpq</dc:creator>
  <dc:description/>
  <dc:language>en-US</dc:language>
  <cp:lastModifiedBy>dpq</cp:lastModifiedBy>
  <dcterms:modified xsi:type="dcterms:W3CDTF">2005-06-22T02:30:16Z</dcterms:modified>
  <cp:revision>9</cp:revision>
  <dc:subject/>
  <dc:title>幻灯片 1</dc:title>
</cp:coreProperties>
</file>