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7.jpeg" ContentType="image/jpeg"/>
  <Override PartName="/ppt/media/image38.jpeg" ContentType="image/jpeg"/>
  <Override PartName="/ppt/media/image25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22.jpeg" ContentType="image/jpeg"/>
  <Override PartName="/ppt/media/image39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47.png" ContentType="image/png"/>
  <Override PartName="/ppt/media/image23.jpeg" ContentType="image/jpeg"/>
  <Override PartName="/ppt/media/image12.png" ContentType="image/png"/>
  <Override PartName="/ppt/media/image2.wmf" ContentType="image/x-wmf"/>
  <Override PartName="/ppt/media/image29.png" ContentType="image/png"/>
  <Override PartName="/ppt/media/image31.png" ContentType="image/png"/>
  <Override PartName="/ppt/media/image6.png" ContentType="image/png"/>
  <Override PartName="/ppt/media/image34.jpeg" ContentType="image/jpeg"/>
  <Override PartName="/ppt/media/image18.png" ContentType="image/png"/>
  <Override PartName="/ppt/media/image40.png" ContentType="image/png"/>
  <Override PartName="/ppt/media/image9.jpeg" ContentType="image/jpeg"/>
  <Override PartName="/ppt/media/image11.jpeg" ContentType="image/jpeg"/>
  <Override PartName="/ppt/media/image20.png" ContentType="image/png"/>
  <Override PartName="/ppt/media/image36.jpeg" ContentType="image/jpeg"/>
  <Override PartName="/ppt/media/image42.png" ContentType="image/png"/>
  <Override PartName="/ppt/media/image43.jpeg" ContentType="image/jpeg"/>
  <Override PartName="/ppt/media/image32.png" ContentType="image/png"/>
  <Override PartName="/ppt/media/image44.png" ContentType="image/png"/>
  <Override PartName="/ppt/media/image45.jpeg" ContentType="image/jpeg"/>
  <Override PartName="/ppt/media/image46.jpeg" ContentType="image/jpeg"/>
  <Override PartName="/ppt/media/image41.png" ContentType="image/png"/>
  <Override PartName="/ppt/media/image48.jpeg" ContentType="image/jpeg"/>
  <Override PartName="/ppt/media/image50.jpeg" ContentType="image/jpeg"/>
  <Override PartName="/ppt/media/image13.png" ContentType="image/png"/>
  <Override PartName="/ppt/media/image51.png" ContentType="image/png"/>
  <Override PartName="/ppt/media/image37.jpeg" ContentType="image/jpeg"/>
  <Override PartName="/ppt/media/image30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76200" y="1150560"/>
            <a:ext cx="8413920" cy="3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76200" y="1773000"/>
            <a:ext cx="84168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6200" y="4130640"/>
            <a:ext cx="84168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76200" y="1150560"/>
            <a:ext cx="8413920" cy="3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76200" y="1773000"/>
            <a:ext cx="41072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89360" y="1773000"/>
            <a:ext cx="41072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76200" y="4130640"/>
            <a:ext cx="41072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89360" y="4130640"/>
            <a:ext cx="41072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76200" y="1150560"/>
            <a:ext cx="8413920" cy="3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76200" y="1773000"/>
            <a:ext cx="27100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22000" y="1773000"/>
            <a:ext cx="27100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68160" y="1773000"/>
            <a:ext cx="27100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376200" y="4130640"/>
            <a:ext cx="27100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22000" y="4130640"/>
            <a:ext cx="27100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68160" y="4130640"/>
            <a:ext cx="27100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76200" y="1150560"/>
            <a:ext cx="8413920" cy="3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76200" y="1773000"/>
            <a:ext cx="84168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76200" y="1150560"/>
            <a:ext cx="8413920" cy="3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76200" y="1773000"/>
            <a:ext cx="84168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76200" y="1150560"/>
            <a:ext cx="8413920" cy="3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76200" y="1773000"/>
            <a:ext cx="410724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9360" y="1773000"/>
            <a:ext cx="410724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76200" y="1150560"/>
            <a:ext cx="8413920" cy="3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376200" y="1150560"/>
            <a:ext cx="8413920" cy="17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76200" y="1150560"/>
            <a:ext cx="8413920" cy="3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76200" y="1773000"/>
            <a:ext cx="41072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9360" y="1773000"/>
            <a:ext cx="410724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76200" y="4130640"/>
            <a:ext cx="41072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76200" y="1150560"/>
            <a:ext cx="8413920" cy="3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376200" y="1773000"/>
            <a:ext cx="84168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76200" y="1150560"/>
            <a:ext cx="8413920" cy="3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76200" y="1773000"/>
            <a:ext cx="410724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9360" y="1773000"/>
            <a:ext cx="41072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89360" y="4130640"/>
            <a:ext cx="41072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76200" y="1150560"/>
            <a:ext cx="8413920" cy="3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76200" y="1773000"/>
            <a:ext cx="41072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9360" y="1773000"/>
            <a:ext cx="41072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76200" y="4130640"/>
            <a:ext cx="84168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76200" y="1150560"/>
            <a:ext cx="8413920" cy="3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76200" y="1773000"/>
            <a:ext cx="84168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76200" y="4130640"/>
            <a:ext cx="84168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76200" y="1150560"/>
            <a:ext cx="8413920" cy="3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76200" y="1773000"/>
            <a:ext cx="41072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9360" y="1773000"/>
            <a:ext cx="41072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76200" y="4130640"/>
            <a:ext cx="41072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89360" y="4130640"/>
            <a:ext cx="41072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76200" y="1150560"/>
            <a:ext cx="8413920" cy="3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76200" y="1773000"/>
            <a:ext cx="27100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22000" y="1773000"/>
            <a:ext cx="27100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68160" y="1773000"/>
            <a:ext cx="27100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76200" y="4130640"/>
            <a:ext cx="27100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22000" y="4130640"/>
            <a:ext cx="27100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68160" y="4130640"/>
            <a:ext cx="27100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76200" y="1150560"/>
            <a:ext cx="8413920" cy="3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76200" y="1773000"/>
            <a:ext cx="84168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76200" y="1150560"/>
            <a:ext cx="8413920" cy="3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76200" y="1773000"/>
            <a:ext cx="84168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76200" y="1150560"/>
            <a:ext cx="8413920" cy="3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76200" y="1773000"/>
            <a:ext cx="410724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9360" y="1773000"/>
            <a:ext cx="410724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76200" y="1150560"/>
            <a:ext cx="8413920" cy="3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6200" y="1150560"/>
            <a:ext cx="8413920" cy="3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6200" y="1773000"/>
            <a:ext cx="84168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376200" y="1150560"/>
            <a:ext cx="8413920" cy="17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76200" y="1150560"/>
            <a:ext cx="8413920" cy="3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76200" y="1773000"/>
            <a:ext cx="41072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9360" y="1773000"/>
            <a:ext cx="410724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76200" y="4130640"/>
            <a:ext cx="41072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76200" y="1150560"/>
            <a:ext cx="8413920" cy="3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76200" y="1773000"/>
            <a:ext cx="410724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89360" y="1773000"/>
            <a:ext cx="41072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89360" y="4130640"/>
            <a:ext cx="41072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76200" y="1150560"/>
            <a:ext cx="8413920" cy="3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76200" y="1773000"/>
            <a:ext cx="41072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89360" y="1773000"/>
            <a:ext cx="41072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376200" y="4130640"/>
            <a:ext cx="84168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76200" y="1150560"/>
            <a:ext cx="8413920" cy="3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76200" y="1773000"/>
            <a:ext cx="84168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76200" y="4130640"/>
            <a:ext cx="84168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76200" y="1150560"/>
            <a:ext cx="8413920" cy="3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76200" y="1773000"/>
            <a:ext cx="41072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89360" y="1773000"/>
            <a:ext cx="41072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76200" y="4130640"/>
            <a:ext cx="41072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89360" y="4130640"/>
            <a:ext cx="41072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76200" y="1150560"/>
            <a:ext cx="8413920" cy="3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76200" y="1773000"/>
            <a:ext cx="27100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22000" y="1773000"/>
            <a:ext cx="27100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68160" y="1773000"/>
            <a:ext cx="27100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76200" y="4130640"/>
            <a:ext cx="27100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22000" y="4130640"/>
            <a:ext cx="27100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68160" y="4130640"/>
            <a:ext cx="27100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76200" y="1150560"/>
            <a:ext cx="8413920" cy="3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76200" y="1773000"/>
            <a:ext cx="410724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9360" y="1773000"/>
            <a:ext cx="410724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76200" y="1150560"/>
            <a:ext cx="8413920" cy="3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376200" y="1150560"/>
            <a:ext cx="8413920" cy="17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76200" y="1150560"/>
            <a:ext cx="8413920" cy="3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76200" y="1773000"/>
            <a:ext cx="41072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9360" y="1773000"/>
            <a:ext cx="410724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76200" y="4130640"/>
            <a:ext cx="41072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6200" y="1150560"/>
            <a:ext cx="8413920" cy="3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6200" y="1773000"/>
            <a:ext cx="410724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9360" y="1773000"/>
            <a:ext cx="41072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9360" y="4130640"/>
            <a:ext cx="41072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76200" y="1150560"/>
            <a:ext cx="8413920" cy="3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76200" y="1773000"/>
            <a:ext cx="41072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9360" y="1773000"/>
            <a:ext cx="41072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76200" y="4130640"/>
            <a:ext cx="84168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2.wmf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44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450200">
            <a:off x="2485800" y="276120"/>
            <a:ext cx="564840" cy="4680000"/>
          </a:xfrm>
          <a:prstGeom prst="rect">
            <a:avLst/>
          </a:prstGeom>
          <a:gradFill rotWithShape="0">
            <a:gsLst>
              <a:gs pos="0">
                <a:srgbClr val="004dc1"/>
              </a:gs>
              <a:gs pos="100000">
                <a:srgbClr val="0066ff"/>
              </a:gs>
            </a:gsLst>
            <a:lin ang="394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rot="1450200">
            <a:off x="3638160" y="793440"/>
            <a:ext cx="565200" cy="4680000"/>
          </a:xfrm>
          <a:prstGeom prst="rect">
            <a:avLst/>
          </a:prstGeom>
          <a:gradFill rotWithShape="0">
            <a:gsLst>
              <a:gs pos="0">
                <a:srgbClr val="004dc1"/>
              </a:gs>
              <a:gs pos="100000">
                <a:srgbClr val="0066ff"/>
              </a:gs>
            </a:gsLst>
            <a:lin ang="394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rot="1450200">
            <a:off x="4793760" y="1310760"/>
            <a:ext cx="565200" cy="4680000"/>
          </a:xfrm>
          <a:prstGeom prst="rect">
            <a:avLst/>
          </a:prstGeom>
          <a:gradFill rotWithShape="0">
            <a:gsLst>
              <a:gs pos="0">
                <a:srgbClr val="004dc1"/>
              </a:gs>
              <a:gs pos="100000">
                <a:srgbClr val="0066ff"/>
              </a:gs>
            </a:gsLst>
            <a:lin ang="394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450200">
            <a:off x="5947920" y="1829880"/>
            <a:ext cx="565200" cy="4680000"/>
          </a:xfrm>
          <a:prstGeom prst="rect">
            <a:avLst/>
          </a:prstGeom>
          <a:gradFill rotWithShape="0">
            <a:gsLst>
              <a:gs pos="0">
                <a:srgbClr val="004dc1"/>
              </a:gs>
              <a:gs pos="100000">
                <a:srgbClr val="0066ff"/>
              </a:gs>
            </a:gsLst>
            <a:lin ang="394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rot="1450200">
            <a:off x="2557080" y="1537920"/>
            <a:ext cx="5327640" cy="492120"/>
          </a:xfrm>
          <a:prstGeom prst="rect">
            <a:avLst/>
          </a:prstGeom>
          <a:gradFill rotWithShape="0">
            <a:gsLst>
              <a:gs pos="0">
                <a:srgbClr val="004dc1"/>
              </a:gs>
              <a:gs pos="100000">
                <a:srgbClr val="0066ff"/>
              </a:gs>
            </a:gsLst>
            <a:lin ang="394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rot="1450200">
            <a:off x="2087280" y="2585520"/>
            <a:ext cx="5327640" cy="492120"/>
          </a:xfrm>
          <a:prstGeom prst="rect">
            <a:avLst/>
          </a:prstGeom>
          <a:gradFill rotWithShape="0">
            <a:gsLst>
              <a:gs pos="0">
                <a:srgbClr val="004dc1"/>
              </a:gs>
              <a:gs pos="100000">
                <a:srgbClr val="0066ff"/>
              </a:gs>
            </a:gsLst>
            <a:lin ang="394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450200">
            <a:off x="1617480" y="3634920"/>
            <a:ext cx="5327640" cy="492120"/>
          </a:xfrm>
          <a:prstGeom prst="rect">
            <a:avLst/>
          </a:prstGeom>
          <a:gradFill rotWithShape="0">
            <a:gsLst>
              <a:gs pos="0">
                <a:srgbClr val="004dc1"/>
              </a:gs>
              <a:gs pos="100000">
                <a:srgbClr val="0066ff"/>
              </a:gs>
            </a:gsLst>
            <a:lin ang="394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450200">
            <a:off x="1145880" y="4682880"/>
            <a:ext cx="5327640" cy="492120"/>
          </a:xfrm>
          <a:prstGeom prst="rect">
            <a:avLst/>
          </a:prstGeom>
          <a:gradFill rotWithShape="0">
            <a:gsLst>
              <a:gs pos="0">
                <a:srgbClr val="004dc1"/>
              </a:gs>
              <a:gs pos="100000">
                <a:srgbClr val="0066ff"/>
              </a:gs>
            </a:gsLst>
            <a:lin ang="394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" name="" descr=""/>
          <p:cNvPicPr/>
          <p:nvPr/>
        </p:nvPicPr>
        <p:blipFill>
          <a:blip r:embed="rId2"/>
          <a:srcRect l="9442" t="0" r="-4645" b="0"/>
          <a:stretch/>
        </p:blipFill>
        <p:spPr>
          <a:xfrm>
            <a:off x="4160880" y="5991120"/>
            <a:ext cx="1298520" cy="628920"/>
          </a:xfrm>
          <a:prstGeom prst="rect">
            <a:avLst/>
          </a:prstGeom>
          <a:ln w="0">
            <a:noFill/>
          </a:ln>
        </p:spPr>
      </p:pic>
      <p:sp>
        <p:nvSpPr>
          <p:cNvPr id="11" name=""/>
          <p:cNvSpPr/>
          <p:nvPr/>
        </p:nvSpPr>
        <p:spPr>
          <a:xfrm>
            <a:off x="468360" y="1197000"/>
            <a:ext cx="820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468360" y="5950080"/>
            <a:ext cx="820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" name="" descr=""/>
          <p:cNvPicPr/>
          <p:nvPr/>
        </p:nvPicPr>
        <p:blipFill>
          <a:blip r:embed="rId3"/>
          <a:stretch/>
        </p:blipFill>
        <p:spPr>
          <a:xfrm>
            <a:off x="495360" y="5954760"/>
            <a:ext cx="2522520" cy="693720"/>
          </a:xfrm>
          <a:prstGeom prst="rect">
            <a:avLst/>
          </a:prstGeom>
          <a:ln w="0">
            <a:noFill/>
          </a:ln>
        </p:spPr>
      </p:pic>
      <p:pic>
        <p:nvPicPr>
          <p:cNvPr id="14" name="" descr=""/>
          <p:cNvPicPr/>
          <p:nvPr/>
        </p:nvPicPr>
        <p:blipFill>
          <a:blip r:embed="rId4"/>
          <a:stretch/>
        </p:blipFill>
        <p:spPr>
          <a:xfrm>
            <a:off x="7707240" y="6012000"/>
            <a:ext cx="933480" cy="618840"/>
          </a:xfrm>
          <a:prstGeom prst="rect">
            <a:avLst/>
          </a:prstGeom>
          <a:ln w="0">
            <a:noFill/>
          </a:ln>
        </p:spPr>
      </p:pic>
      <p:sp>
        <p:nvSpPr>
          <p:cNvPr id="15" name=""/>
          <p:cNvSpPr/>
          <p:nvPr/>
        </p:nvSpPr>
        <p:spPr>
          <a:xfrm>
            <a:off x="473400" y="6613560"/>
            <a:ext cx="438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00"/>
                </a:solidFill>
                <a:latin typeface="Arial"/>
              </a:rPr>
              <a:t>© Fraunhofer Institute SCAI and other members of the SIMDAT consorti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76200" y="1150560"/>
            <a:ext cx="8413920" cy="3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376200" y="1773000"/>
            <a:ext cx="84168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04840" indent="-204840">
              <a:spcBef>
                <a:spcPts val="476"/>
              </a:spcBef>
              <a:buClr>
                <a:srgbClr val="000000"/>
              </a:buClr>
              <a:buFont typeface="Arial"/>
              <a:buChar char="-"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06600" indent="-200160">
              <a:spcBef>
                <a:spcPts val="476"/>
              </a:spcBef>
              <a:buClr>
                <a:srgbClr val="000000"/>
              </a:buClr>
              <a:buFont typeface="Arial"/>
              <a:buChar char="-"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008000" indent="-199800">
              <a:spcBef>
                <a:spcPts val="476"/>
              </a:spcBef>
              <a:buClr>
                <a:srgbClr val="000000"/>
              </a:buClr>
              <a:buFont typeface="Arial"/>
              <a:buChar char="-"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409760" indent="-196920">
              <a:spcBef>
                <a:spcPts val="476"/>
              </a:spcBef>
              <a:buClr>
                <a:srgbClr val="000000"/>
              </a:buClr>
              <a:buFont typeface="Arial"/>
              <a:buChar char="-"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1811160" indent="-199800">
              <a:spcBef>
                <a:spcPts val="476"/>
              </a:spcBef>
              <a:buClr>
                <a:srgbClr val="000000"/>
              </a:buClr>
              <a:buFont typeface="Arial"/>
              <a:buChar char="-"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5" marL="1811160" indent="-199800">
              <a:spcBef>
                <a:spcPts val="476"/>
              </a:spcBef>
              <a:buClr>
                <a:srgbClr val="ffffff"/>
              </a:buClr>
              <a:buFont typeface="Arial"/>
              <a:buChar char="-"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6" marL="1811160" indent="-199800">
              <a:spcBef>
                <a:spcPts val="476"/>
              </a:spcBef>
              <a:buClr>
                <a:srgbClr val="ffffff"/>
              </a:buClr>
              <a:buFont typeface="Arial"/>
              <a:buChar char="-"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1"/>
          </p:nvPr>
        </p:nvSpPr>
        <p:spPr>
          <a:xfrm>
            <a:off x="322200" y="6594480"/>
            <a:ext cx="8467920" cy="2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6969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96969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063800"/>
            <a:ext cx="9140760" cy="0"/>
          </a:xfrm>
          <a:prstGeom prst="line">
            <a:avLst/>
          </a:prstGeom>
          <a:ln w="4320">
            <a:solidFill>
              <a:srgbClr val="fc01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078680" y="376200"/>
            <a:ext cx="1663560" cy="262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6529320"/>
            <a:ext cx="9144000" cy="0"/>
          </a:xfrm>
          <a:prstGeom prst="line">
            <a:avLst/>
          </a:prstGeom>
          <a:ln w="432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95360" y="225360"/>
            <a:ext cx="2522520" cy="693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rcRect l="0" t="5795" r="1071" b="56463"/>
          <a:stretch/>
        </p:blipFill>
        <p:spPr>
          <a:xfrm>
            <a:off x="312840" y="6546960"/>
            <a:ext cx="3591000" cy="32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76200" y="1209240"/>
            <a:ext cx="827712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063800"/>
            <a:ext cx="9140760" cy="0"/>
          </a:xfrm>
          <a:prstGeom prst="line">
            <a:avLst/>
          </a:prstGeom>
          <a:ln w="4320">
            <a:solidFill>
              <a:srgbClr val="fc01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078680" y="376200"/>
            <a:ext cx="1663560" cy="2620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 type="ftr" idx="2"/>
          </p:nvPr>
        </p:nvSpPr>
        <p:spPr>
          <a:xfrm>
            <a:off x="4835160" y="6549840"/>
            <a:ext cx="395460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6969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96969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rcRect l="0" t="5795" r="1071" b="56463"/>
          <a:stretch/>
        </p:blipFill>
        <p:spPr>
          <a:xfrm>
            <a:off x="312840" y="6546960"/>
            <a:ext cx="3591000" cy="3222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0600" indent="0" algn="ctr">
              <a:spcBef>
                <a:spcPts val="476"/>
              </a:spcBef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08200" algn="ctr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604800" indent="608040" algn="ctr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725400" indent="885960" algn="ctr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725400" indent="885960">
              <a:spcBef>
                <a:spcPts val="4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725400" indent="885960">
              <a:spcBef>
                <a:spcPts val="4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../../../../../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hyperlink" Target="http://www.lionbioscience.com/index_eng.html" TargetMode="External"/><Relationship Id="rId6" Type="http://schemas.openxmlformats.org/officeDocument/2006/relationships/image" Target="../media/image10.png"/><Relationship Id="rId7" Type="http://schemas.openxmlformats.org/officeDocument/2006/relationships/image" Target="../media/image11.jpeg"/><Relationship Id="rId8" Type="http://schemas.openxmlformats.org/officeDocument/2006/relationships/hyperlink" Target="http://www.lmsintl.com/" TargetMode="External"/><Relationship Id="rId9" Type="http://schemas.openxmlformats.org/officeDocument/2006/relationships/image" Target="../media/image12.png"/><Relationship Id="rId10" Type="http://schemas.openxmlformats.org/officeDocument/2006/relationships/hyperlink" Target="http://www.ontoprise.de/home_en" TargetMode="External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hyperlink" Target="http://www.intel.com/index.htm?iid=HPAGE+header_intellogo&amp;" TargetMode="External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hyperlink" Target="file:///../../../../../" TargetMode="External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hyperlink" Target="http://www.met-office.gov.uk/index.html" TargetMode="External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hyperlink" Target="file:///../../../../../" TargetMode="External"/><Relationship Id="rId32" Type="http://schemas.openxmlformats.org/officeDocument/2006/relationships/image" Target="../media/image30.png"/><Relationship Id="rId3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44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4240" y="2400120"/>
            <a:ext cx="87584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Data Grids for Process and Product Development using Numerical Simulation and Knowledge Discove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231840" y="4172040"/>
            <a:ext cx="4573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Marije Geldof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Fraunhofer SCAI, German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44600" y="0"/>
            <a:ext cx="4968720" cy="11732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220920" y="1636560"/>
            <a:ext cx="274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Arial"/>
              </a:rPr>
              <a:t>SIMD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97880" y="351000"/>
            <a:ext cx="270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ff00"/>
                </a:solidFill>
                <a:latin typeface="Arial"/>
              </a:rPr>
              <a:t>21 – 23 June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0" y="425304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Jamil Ap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AE Systems, U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44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680076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2484360" y="1916280"/>
            <a:ext cx="5327640" cy="720720"/>
          </a:xfrm>
          <a:prstGeom prst="rect">
            <a:avLst/>
          </a:prstGeom>
          <a:solidFill>
            <a:srgbClr val="ffff23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3495600" y="0"/>
            <a:ext cx="5648400" cy="535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3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44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495600" y="0"/>
            <a:ext cx="5648400" cy="53532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179280" y="1523880"/>
            <a:ext cx="3981600" cy="53341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-1981080" y="-1827360"/>
            <a:ext cx="7810560" cy="1034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10800000">
                                      <p:cBhvr>
                                        <p:cTn id="36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6000"/>
                            </p:stCondLst>
                            <p:childTnLst>
                              <p:par>
                                <p:cTn id="3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" dur="2000" fill="hold"/>
                                        <p:tgtEl>
                                          <p:spTgt spid="209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8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46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0"/>
                            </p:stCondLst>
                            <p:childTnLst>
                              <p:par>
                                <p:cTn id="4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" dur="2000" fill="hold"/>
                                        <p:tgtEl>
                                          <p:spTgt spid="210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7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44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-1981080" y="-1827360"/>
            <a:ext cx="7810560" cy="10344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2843280" y="2997360"/>
            <a:ext cx="2305080" cy="720720"/>
          </a:xfrm>
          <a:prstGeom prst="rect">
            <a:avLst/>
          </a:prstGeom>
          <a:solidFill>
            <a:srgbClr val="ffff23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70714E-007 L 0.40156 0.29426 E">
                                      <p:cBhvr>
                                        <p:cTn id="59" dur="5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44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4572000" y="2708280"/>
            <a:ext cx="71280" cy="71280"/>
          </a:xfrm>
          <a:prstGeom prst="ellipse">
            <a:avLst/>
          </a:prstGeom>
          <a:solidFill>
            <a:srgbClr val="12ee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-3481560" y="-2025720"/>
            <a:ext cx="17199000" cy="14600160"/>
          </a:xfrm>
          <a:prstGeom prst="rect">
            <a:avLst/>
          </a:prstGeom>
          <a:ln w="0">
            <a:noFill/>
          </a:ln>
        </p:spPr>
      </p:pic>
      <p:grpSp>
        <p:nvGrpSpPr>
          <p:cNvPr id="216" name=""/>
          <p:cNvGrpSpPr/>
          <p:nvPr/>
        </p:nvGrpSpPr>
        <p:grpSpPr>
          <a:xfrm>
            <a:off x="971640" y="2635200"/>
            <a:ext cx="8748720" cy="3888000"/>
            <a:chOff x="971640" y="2635200"/>
            <a:chExt cx="8748720" cy="3888000"/>
          </a:xfrm>
        </p:grpSpPr>
        <p:sp>
          <p:nvSpPr>
            <p:cNvPr id="217" name=""/>
            <p:cNvSpPr/>
            <p:nvPr/>
          </p:nvSpPr>
          <p:spPr>
            <a:xfrm>
              <a:off x="5364000" y="6164280"/>
              <a:ext cx="144720" cy="142920"/>
            </a:xfrm>
            <a:prstGeom prst="ellipse">
              <a:avLst/>
            </a:prstGeom>
            <a:solidFill>
              <a:srgbClr val="12ee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971640" y="3643200"/>
              <a:ext cx="144360" cy="142920"/>
            </a:xfrm>
            <a:prstGeom prst="ellipse">
              <a:avLst/>
            </a:prstGeom>
            <a:solidFill>
              <a:srgbClr val="12ee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24720" y="3932280"/>
              <a:ext cx="144360" cy="142920"/>
            </a:xfrm>
            <a:prstGeom prst="ellipse">
              <a:avLst/>
            </a:prstGeom>
            <a:solidFill>
              <a:srgbClr val="12ee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979640" y="2635200"/>
              <a:ext cx="144360" cy="142920"/>
            </a:xfrm>
            <a:prstGeom prst="ellipse">
              <a:avLst/>
            </a:prstGeom>
            <a:solidFill>
              <a:srgbClr val="12ee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867280" y="3139920"/>
              <a:ext cx="144720" cy="146160"/>
            </a:xfrm>
            <a:prstGeom prst="ellipse">
              <a:avLst/>
            </a:prstGeom>
            <a:solidFill>
              <a:srgbClr val="12ee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891640" y="3284640"/>
              <a:ext cx="144360" cy="142920"/>
            </a:xfrm>
            <a:prstGeom prst="ellipse">
              <a:avLst/>
            </a:prstGeom>
            <a:solidFill>
              <a:srgbClr val="12ee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266920" y="4292640"/>
              <a:ext cx="144360" cy="142920"/>
            </a:xfrm>
            <a:prstGeom prst="ellipse">
              <a:avLst/>
            </a:prstGeom>
            <a:solidFill>
              <a:srgbClr val="12ee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692360" y="3643200"/>
              <a:ext cx="144360" cy="142920"/>
            </a:xfrm>
            <a:prstGeom prst="ellipse">
              <a:avLst/>
            </a:prstGeom>
            <a:solidFill>
              <a:srgbClr val="12ee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124000" y="6164280"/>
              <a:ext cx="144360" cy="142920"/>
            </a:xfrm>
            <a:prstGeom prst="ellipse">
              <a:avLst/>
            </a:prstGeom>
            <a:solidFill>
              <a:srgbClr val="12ee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9575640" y="6308640"/>
              <a:ext cx="144720" cy="142920"/>
            </a:xfrm>
            <a:prstGeom prst="ellipse">
              <a:avLst/>
            </a:prstGeom>
            <a:solidFill>
              <a:srgbClr val="12ee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411280" y="6380280"/>
              <a:ext cx="144720" cy="142920"/>
            </a:xfrm>
            <a:prstGeom prst="ellipse">
              <a:avLst/>
            </a:prstGeom>
            <a:solidFill>
              <a:srgbClr val="12ee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132000" y="5227560"/>
              <a:ext cx="144720" cy="142920"/>
            </a:xfrm>
            <a:prstGeom prst="ellipse">
              <a:avLst/>
            </a:prstGeom>
            <a:solidFill>
              <a:srgbClr val="12ee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1763640" y="260280"/>
            <a:ext cx="3672000" cy="2735280"/>
            <a:chOff x="1763640" y="260280"/>
            <a:chExt cx="3672000" cy="2735280"/>
          </a:xfrm>
        </p:grpSpPr>
        <p:grpSp>
          <p:nvGrpSpPr>
            <p:cNvPr id="230" name=""/>
            <p:cNvGrpSpPr/>
            <p:nvPr/>
          </p:nvGrpSpPr>
          <p:grpSpPr>
            <a:xfrm>
              <a:off x="3348000" y="260280"/>
              <a:ext cx="2087640" cy="1081080"/>
              <a:chOff x="3348000" y="260280"/>
              <a:chExt cx="2087640" cy="1081080"/>
            </a:xfrm>
          </p:grpSpPr>
          <p:sp>
            <p:nvSpPr>
              <p:cNvPr id="231" name=""/>
              <p:cNvSpPr/>
              <p:nvPr/>
            </p:nvSpPr>
            <p:spPr>
              <a:xfrm>
                <a:off x="3348000" y="260280"/>
                <a:ext cx="2087640" cy="108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635280" y="404640"/>
                <a:ext cx="1467000" cy="46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3" name=""/>
              <p:cNvSpPr/>
              <p:nvPr/>
            </p:nvSpPr>
            <p:spPr>
              <a:xfrm>
                <a:off x="4356000" y="1052640"/>
                <a:ext cx="216000" cy="215640"/>
              </a:xfrm>
              <a:prstGeom prst="ellipse">
                <a:avLst/>
              </a:prstGeom>
              <a:solidFill>
                <a:srgbClr val="aba2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1763640" y="2421000"/>
              <a:ext cx="2809800" cy="574560"/>
              <a:chOff x="1763640" y="2421000"/>
              <a:chExt cx="2809800" cy="574560"/>
            </a:xfrm>
          </p:grpSpPr>
          <p:sp>
            <p:nvSpPr>
              <p:cNvPr id="235" name=""/>
              <p:cNvSpPr/>
              <p:nvPr/>
            </p:nvSpPr>
            <p:spPr>
              <a:xfrm>
                <a:off x="4211640" y="2421000"/>
                <a:ext cx="144360" cy="144360"/>
              </a:xfrm>
              <a:prstGeom prst="ellipse">
                <a:avLst/>
              </a:prstGeom>
              <a:solidFill>
                <a:srgbClr val="aba2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763640" y="2852640"/>
                <a:ext cx="144360" cy="142920"/>
              </a:xfrm>
              <a:prstGeom prst="ellipse">
                <a:avLst/>
              </a:prstGeom>
              <a:solidFill>
                <a:srgbClr val="aba2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429080" y="2565360"/>
                <a:ext cx="144360" cy="144360"/>
              </a:xfrm>
              <a:prstGeom prst="ellipse">
                <a:avLst/>
              </a:prstGeom>
              <a:solidFill>
                <a:srgbClr val="aba2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8" name=""/>
          <p:cNvGrpSpPr/>
          <p:nvPr/>
        </p:nvGrpSpPr>
        <p:grpSpPr>
          <a:xfrm>
            <a:off x="826920" y="260280"/>
            <a:ext cx="3746520" cy="3024360"/>
            <a:chOff x="826920" y="260280"/>
            <a:chExt cx="3746520" cy="3024360"/>
          </a:xfrm>
        </p:grpSpPr>
        <p:grpSp>
          <p:nvGrpSpPr>
            <p:cNvPr id="239" name=""/>
            <p:cNvGrpSpPr/>
            <p:nvPr/>
          </p:nvGrpSpPr>
          <p:grpSpPr>
            <a:xfrm>
              <a:off x="826920" y="260280"/>
              <a:ext cx="2087640" cy="1081080"/>
              <a:chOff x="826920" y="260280"/>
              <a:chExt cx="2087640" cy="1081080"/>
            </a:xfrm>
          </p:grpSpPr>
          <p:sp>
            <p:nvSpPr>
              <p:cNvPr id="240" name=""/>
              <p:cNvSpPr/>
              <p:nvPr/>
            </p:nvSpPr>
            <p:spPr>
              <a:xfrm>
                <a:off x="826920" y="260280"/>
                <a:ext cx="2087640" cy="108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98560" y="333360"/>
                <a:ext cx="1905120" cy="75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2" name=""/>
              <p:cNvSpPr/>
              <p:nvPr/>
            </p:nvSpPr>
            <p:spPr>
              <a:xfrm>
                <a:off x="1763640" y="1052640"/>
                <a:ext cx="216000" cy="215640"/>
              </a:xfrm>
              <a:prstGeom prst="ellipse">
                <a:avLst/>
              </a:prstGeom>
              <a:solidFill>
                <a:srgbClr val="ff88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1476360" y="2492280"/>
              <a:ext cx="3097080" cy="792360"/>
              <a:chOff x="1476360" y="2492280"/>
              <a:chExt cx="3097080" cy="792360"/>
            </a:xfrm>
          </p:grpSpPr>
          <p:sp>
            <p:nvSpPr>
              <p:cNvPr id="244" name=""/>
              <p:cNvSpPr/>
              <p:nvPr/>
            </p:nvSpPr>
            <p:spPr>
              <a:xfrm>
                <a:off x="4140360" y="2492280"/>
                <a:ext cx="144360" cy="142920"/>
              </a:xfrm>
              <a:prstGeom prst="ellipse">
                <a:avLst/>
              </a:prstGeom>
              <a:solidFill>
                <a:srgbClr val="ff88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476360" y="3141720"/>
                <a:ext cx="144360" cy="142920"/>
              </a:xfrm>
              <a:prstGeom prst="ellipse">
                <a:avLst/>
              </a:prstGeom>
              <a:solidFill>
                <a:srgbClr val="ff88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429080" y="2708280"/>
                <a:ext cx="144360" cy="144360"/>
              </a:xfrm>
              <a:prstGeom prst="ellipse">
                <a:avLst/>
              </a:prstGeom>
              <a:solidFill>
                <a:srgbClr val="ff88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7" name=""/>
          <p:cNvGrpSpPr/>
          <p:nvPr/>
        </p:nvGrpSpPr>
        <p:grpSpPr>
          <a:xfrm>
            <a:off x="3851280" y="260280"/>
            <a:ext cx="4103640" cy="2951280"/>
            <a:chOff x="3851280" y="260280"/>
            <a:chExt cx="4103640" cy="2951280"/>
          </a:xfrm>
        </p:grpSpPr>
        <p:grpSp>
          <p:nvGrpSpPr>
            <p:cNvPr id="248" name=""/>
            <p:cNvGrpSpPr/>
            <p:nvPr/>
          </p:nvGrpSpPr>
          <p:grpSpPr>
            <a:xfrm>
              <a:off x="5867280" y="260280"/>
              <a:ext cx="2087640" cy="1081080"/>
              <a:chOff x="5867280" y="260280"/>
              <a:chExt cx="2087640" cy="1081080"/>
            </a:xfrm>
          </p:grpSpPr>
          <p:sp>
            <p:nvSpPr>
              <p:cNvPr id="249" name=""/>
              <p:cNvSpPr/>
              <p:nvPr/>
            </p:nvSpPr>
            <p:spPr>
              <a:xfrm>
                <a:off x="5867280" y="260280"/>
                <a:ext cx="2087640" cy="108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156360" y="406440"/>
                <a:ext cx="1428840" cy="54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"/>
              <p:cNvSpPr/>
              <p:nvPr/>
            </p:nvSpPr>
            <p:spPr>
              <a:xfrm>
                <a:off x="6804000" y="1052640"/>
                <a:ext cx="216000" cy="215640"/>
              </a:xfrm>
              <a:prstGeom prst="ellipse">
                <a:avLst/>
              </a:prstGeom>
              <a:solidFill>
                <a:srgbClr val="12ee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3851280" y="2060640"/>
              <a:ext cx="1225440" cy="1150920"/>
              <a:chOff x="3851280" y="2060640"/>
              <a:chExt cx="1225440" cy="1150920"/>
            </a:xfrm>
          </p:grpSpPr>
          <p:sp>
            <p:nvSpPr>
              <p:cNvPr id="253" name=""/>
              <p:cNvSpPr/>
              <p:nvPr/>
            </p:nvSpPr>
            <p:spPr>
              <a:xfrm>
                <a:off x="3995640" y="2997360"/>
                <a:ext cx="144720" cy="142560"/>
              </a:xfrm>
              <a:prstGeom prst="ellipse">
                <a:avLst/>
              </a:prstGeom>
              <a:solidFill>
                <a:srgbClr val="12ee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356000" y="2492280"/>
                <a:ext cx="144720" cy="142920"/>
              </a:xfrm>
              <a:prstGeom prst="ellipse">
                <a:avLst/>
              </a:prstGeom>
              <a:solidFill>
                <a:srgbClr val="12ee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932360" y="2060640"/>
                <a:ext cx="144360" cy="142920"/>
              </a:xfrm>
              <a:prstGeom prst="ellipse">
                <a:avLst/>
              </a:prstGeom>
              <a:solidFill>
                <a:srgbClr val="12ee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500720" y="2276640"/>
                <a:ext cx="144360" cy="142560"/>
              </a:xfrm>
              <a:prstGeom prst="ellipse">
                <a:avLst/>
              </a:prstGeom>
              <a:solidFill>
                <a:srgbClr val="12ee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932360" y="3068640"/>
                <a:ext cx="144360" cy="142920"/>
              </a:xfrm>
              <a:prstGeom prst="ellipse">
                <a:avLst/>
              </a:prstGeom>
              <a:solidFill>
                <a:srgbClr val="12ee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851280" y="2997360"/>
                <a:ext cx="144360" cy="142560"/>
              </a:xfrm>
              <a:prstGeom prst="ellipse">
                <a:avLst/>
              </a:prstGeom>
              <a:solidFill>
                <a:srgbClr val="12ee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284720" y="2997360"/>
                <a:ext cx="144360" cy="142560"/>
              </a:xfrm>
              <a:prstGeom prst="ellipse">
                <a:avLst/>
              </a:prstGeom>
              <a:solidFill>
                <a:srgbClr val="12ee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572000" y="2852640"/>
                <a:ext cx="144360" cy="142920"/>
              </a:xfrm>
              <a:prstGeom prst="ellipse">
                <a:avLst/>
              </a:prstGeom>
              <a:solidFill>
                <a:srgbClr val="12ee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500720" y="2637000"/>
                <a:ext cx="144360" cy="142560"/>
              </a:xfrm>
              <a:prstGeom prst="ellipse">
                <a:avLst/>
              </a:prstGeom>
              <a:solidFill>
                <a:srgbClr val="12ee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500720" y="2133720"/>
                <a:ext cx="144360" cy="142920"/>
              </a:xfrm>
              <a:prstGeom prst="ellipse">
                <a:avLst/>
              </a:prstGeom>
              <a:solidFill>
                <a:srgbClr val="12ee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716360" y="2205000"/>
                <a:ext cx="144720" cy="142920"/>
              </a:xfrm>
              <a:prstGeom prst="ellipse">
                <a:avLst/>
              </a:prstGeom>
              <a:solidFill>
                <a:srgbClr val="12ee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572000" y="2492280"/>
                <a:ext cx="144360" cy="142920"/>
              </a:xfrm>
              <a:prstGeom prst="ellipse">
                <a:avLst/>
              </a:prstGeom>
              <a:solidFill>
                <a:srgbClr val="12ee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788000" y="2421000"/>
                <a:ext cx="144360" cy="142920"/>
              </a:xfrm>
              <a:prstGeom prst="ellipse">
                <a:avLst/>
              </a:prstGeom>
              <a:solidFill>
                <a:srgbClr val="12ee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716360" y="2708280"/>
                <a:ext cx="144720" cy="142920"/>
              </a:xfrm>
              <a:prstGeom prst="ellipse">
                <a:avLst/>
              </a:prstGeom>
              <a:solidFill>
                <a:srgbClr val="12ee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211640" y="2637000"/>
                <a:ext cx="144360" cy="142560"/>
              </a:xfrm>
              <a:prstGeom prst="ellipse">
                <a:avLst/>
              </a:prstGeom>
              <a:solidFill>
                <a:srgbClr val="12ee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924360" y="2349360"/>
                <a:ext cx="144360" cy="142920"/>
              </a:xfrm>
              <a:prstGeom prst="ellipse">
                <a:avLst/>
              </a:prstGeom>
              <a:solidFill>
                <a:srgbClr val="12ee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60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44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SIMDAT Project Result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33440" y="1377720"/>
            <a:ext cx="8229600" cy="48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00"/>
                </a:solidFill>
                <a:latin typeface="Arial"/>
              </a:rPr>
              <a:t>Federated versions of existing commercial Problem Solving Environment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(for example MSC.SímManager,  ESI Composer, ESI SDM, LMS Tec.Manager, LION SRS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00"/>
                </a:solidFill>
                <a:latin typeface="Arial"/>
              </a:rPr>
              <a:t>Grid enabled versions of (commercial) analysis servic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(for example ESI PAM-CRASH, MSC.Nastran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00"/>
                </a:solidFill>
                <a:latin typeface="Arial"/>
              </a:rPr>
              <a:t>Grid technology servic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Commercial products for Grid support of Workflow, Ontologies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Grid enabled version of the WEKA data mining tool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Commercial product for Grid enabled model development (LMS.OPTIMUS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00"/>
                </a:solidFill>
                <a:latin typeface="Arial"/>
              </a:rPr>
              <a:t>Contributions to standardisation activiti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00"/>
                </a:solidFill>
                <a:latin typeface="Arial"/>
              </a:rPr>
              <a:t>Industrial showcases solving complex problem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Demonstration of the industrial relavance of the project results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(for example: Distributed knowledge discovery for the NVH behaviour of multiple cars based on the same platform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44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For more informa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55680" y="2833200"/>
            <a:ext cx="82296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www.simdat.or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0" y="4191120"/>
            <a:ext cx="9182160" cy="23382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76200" y="1209240"/>
            <a:ext cx="827712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363600" y="1087560"/>
            <a:ext cx="2543040" cy="1377000"/>
            <a:chOff x="363600" y="1087560"/>
            <a:chExt cx="2543040" cy="1377000"/>
          </a:xfrm>
        </p:grpSpPr>
        <p:sp>
          <p:nvSpPr>
            <p:cNvPr id="276" name=""/>
            <p:cNvSpPr/>
            <p:nvPr/>
          </p:nvSpPr>
          <p:spPr>
            <a:xfrm>
              <a:off x="363600" y="1087560"/>
              <a:ext cx="2543040" cy="13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840" rIns="96840" tIns="48240" bIns="48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i="1" lang="en-US" sz="4200" spc="-1" strike="noStrike">
                  <a:solidFill>
                    <a:srgbClr val="ff5050"/>
                  </a:solidFill>
                  <a:latin typeface="Impact"/>
                </a:rPr>
                <a:t>SIMDAT          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2111040" y="1304640"/>
              <a:ext cx="559440" cy="347400"/>
              <a:chOff x="2111040" y="1304640"/>
              <a:chExt cx="559440" cy="347400"/>
            </a:xfrm>
          </p:grpSpPr>
          <p:sp>
            <p:nvSpPr>
              <p:cNvPr id="278" name=""/>
              <p:cNvSpPr/>
              <p:nvPr/>
            </p:nvSpPr>
            <p:spPr>
              <a:xfrm>
                <a:off x="2251080" y="1304640"/>
                <a:ext cx="0" cy="3474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390040" y="1304640"/>
                <a:ext cx="0" cy="3474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530080" y="1304640"/>
                <a:ext cx="0" cy="3474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111040" y="1361880"/>
                <a:ext cx="5594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111040" y="1478160"/>
                <a:ext cx="5594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111040" y="1593000"/>
                <a:ext cx="5594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4" name=""/>
          <p:cNvSpPr/>
          <p:nvPr/>
        </p:nvSpPr>
        <p:spPr>
          <a:xfrm>
            <a:off x="403200" y="1935000"/>
            <a:ext cx="4273560" cy="6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26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Data Grids for Process and Product Development using Numerical Simulation and Knowledge Discove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Arial"/>
              </a:rPr>
              <a:t>Jamil.appa@baesystems.co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BAE Systems and other members of SIMDAT consortiu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76200" y="1150560"/>
            <a:ext cx="8413920" cy="3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Aerospace Industry – Product Developmen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76200" y="1773000"/>
            <a:ext cx="84168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04840" indent="-204840">
              <a:spcBef>
                <a:spcPts val="476"/>
              </a:spcBef>
              <a:buClr>
                <a:srgbClr val="000000"/>
              </a:buClr>
              <a:buFont typeface="Arial"/>
              <a:buChar char="-"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Aerospace Industry: designs, manufactures and supports a wide range of products from electronic sub systems to complete systems like Airbus A34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04840" indent="-204840">
              <a:spcBef>
                <a:spcPts val="476"/>
              </a:spcBef>
              <a:buClr>
                <a:srgbClr val="000000"/>
              </a:buClr>
              <a:buFont typeface="Arial"/>
              <a:buChar char="-"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Key skills include systems integration, complete software and hardware development and advanced manufactur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04840" indent="-204840">
              <a:spcBef>
                <a:spcPts val="476"/>
              </a:spcBef>
              <a:buClr>
                <a:srgbClr val="000000"/>
              </a:buClr>
              <a:buFont typeface="Arial"/>
              <a:buChar char="-"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Carried out in a </a:t>
            </a: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collaborative environment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with complex relationship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04840" indent="0">
              <a:spcBef>
                <a:spcPts val="476"/>
              </a:spcBef>
              <a:buNone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04840" indent="0">
              <a:spcBef>
                <a:spcPts val="476"/>
              </a:spcBef>
              <a:buNone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52560" y="4653000"/>
            <a:ext cx="2901600" cy="187488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2954160" y="4654440"/>
            <a:ext cx="3791160" cy="187488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3"/>
          <a:stretch/>
        </p:blipFill>
        <p:spPr>
          <a:xfrm>
            <a:off x="6726240" y="4654440"/>
            <a:ext cx="2419200" cy="18702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2257560" y="3546360"/>
            <a:ext cx="4113000" cy="8233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GB" sz="1800" spc="-1" strike="noStrike">
                <a:solidFill>
                  <a:srgbClr val="e5e0d2"/>
                </a:solidFill>
                <a:latin typeface="ITCFranklinGothic LT Demi"/>
              </a:rPr>
              <a:t>Dealing with complex product development in a collaborative and complex business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BAE Systems and other members of SIMDAT consortiu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76200" y="1150560"/>
            <a:ext cx="8413920" cy="3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Aerospace Activity Use Cas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76200" y="1773000"/>
            <a:ext cx="84168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04840" indent="-204840">
              <a:spcBef>
                <a:spcPts val="476"/>
              </a:spcBef>
              <a:buClr>
                <a:srgbClr val="000000"/>
              </a:buClr>
              <a:buFont typeface="Arial"/>
              <a:buChar char="-"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Collaborative design of a complex sub-syste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06600" indent="-200160">
              <a:spcBef>
                <a:spcPts val="476"/>
              </a:spcBef>
              <a:buClr>
                <a:srgbClr val="000000"/>
              </a:buClr>
              <a:buFont typeface="Arial"/>
              <a:buChar char="-"/>
              <a:tabLst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A scenario involving aggregation of distributed capabilities operating </a:t>
            </a:r>
            <a:r>
              <a:rPr b="1" i="1" lang="en-GB" sz="1900" spc="-1" strike="noStrike">
                <a:solidFill>
                  <a:srgbClr val="000000"/>
                </a:solidFill>
                <a:latin typeface="Arial"/>
              </a:rPr>
              <a:t>across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organisational boundar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04840" indent="-204840">
              <a:spcBef>
                <a:spcPts val="476"/>
              </a:spcBef>
              <a:buClr>
                <a:srgbClr val="000000"/>
              </a:buClr>
              <a:buFont typeface="Arial"/>
              <a:buChar char="-"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06600" indent="-200160">
              <a:spcBef>
                <a:spcPts val="476"/>
              </a:spcBef>
              <a:buClr>
                <a:srgbClr val="000000"/>
              </a:buClr>
              <a:buFont typeface="Arial"/>
              <a:buChar char="-"/>
              <a:tabLst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To show how Grid technology and concepts can be used to improve product desig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008000" indent="-19980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Improved access to and use of physical modell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08000" indent="-19980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High-fidelity, integrated engineering data available soon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08000" indent="-19980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Controlled sharing of IP across organisa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08000" indent="-19980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Improved management of analysis workflows and associated dat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BAE Systems and other members of SIMDAT consortiu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76200" y="1150560"/>
            <a:ext cx="8413920" cy="3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Aerospace Activity Scenario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76200" y="1773000"/>
            <a:ext cx="84168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04840" indent="-204840">
              <a:spcBef>
                <a:spcPts val="476"/>
              </a:spcBef>
              <a:buClr>
                <a:srgbClr val="000000"/>
              </a:buClr>
              <a:buFont typeface="Arial"/>
              <a:buChar char="-"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Multi-disciplinary collaborative configuration design of a low-noise, high-lift landing syste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531800" y="3143160"/>
            <a:ext cx="2473560" cy="2975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4595760" y="2901960"/>
            <a:ext cx="3179880" cy="130500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3"/>
          <a:stretch/>
        </p:blipFill>
        <p:spPr>
          <a:xfrm>
            <a:off x="4516560" y="4494240"/>
            <a:ext cx="3074760" cy="195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BAE Systems and other members of SIMDAT consortiu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44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The Grid Hous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46040" y="1393920"/>
            <a:ext cx="818676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76200" y="1150560"/>
            <a:ext cx="8413920" cy="3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Aerospace Activity Scenario – CAE Design Lab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886360" y="289080"/>
            <a:ext cx="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rcRect l="11922" t="18948" r="17864" b="21385"/>
          <a:stretch/>
        </p:blipFill>
        <p:spPr>
          <a:xfrm>
            <a:off x="0" y="1449360"/>
            <a:ext cx="2909880" cy="183348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1674720" y="2200320"/>
            <a:ext cx="7088400" cy="3970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BAE Systems and other members of SIMDAT consortiu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76200" y="1150560"/>
            <a:ext cx="8413920" cy="3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CAE Design Lab - Exploration Demonstrator PM 12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76200" y="1773000"/>
            <a:ext cx="84168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04840" indent="-204840">
              <a:spcBef>
                <a:spcPts val="476"/>
              </a:spcBef>
              <a:buClr>
                <a:srgbClr val="000000"/>
              </a:buClr>
              <a:buFont typeface="Arial"/>
              <a:buChar char="-"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06600" indent="-200160">
              <a:spcBef>
                <a:spcPts val="476"/>
              </a:spcBef>
              <a:buClr>
                <a:srgbClr val="000000"/>
              </a:buClr>
              <a:buFont typeface="Arial"/>
              <a:buChar char="-"/>
              <a:tabLst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Ability to populate a design space within the constraints so that optimum can be chose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06600" indent="-200160">
              <a:spcBef>
                <a:spcPts val="476"/>
              </a:spcBef>
              <a:buClr>
                <a:srgbClr val="000000"/>
              </a:buClr>
              <a:buFont typeface="Arial"/>
              <a:buChar char="-"/>
              <a:tabLst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Inter-Enterprise secure and controlled access to simulation tools applied to evaluate design point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04840" indent="-204840">
              <a:spcBef>
                <a:spcPts val="476"/>
              </a:spcBef>
              <a:buClr>
                <a:srgbClr val="000000"/>
              </a:buClr>
              <a:buFont typeface="Arial"/>
              <a:buChar char="-"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Success Measu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06600" indent="-200160">
              <a:spcBef>
                <a:spcPts val="476"/>
              </a:spcBef>
              <a:buClr>
                <a:srgbClr val="000000"/>
              </a:buClr>
              <a:buFont typeface="Arial"/>
              <a:buChar char="-"/>
              <a:tabLst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nnectivity and interoperability of federated and distributed tools rather than the quality of the optimisation.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04840" indent="0">
              <a:spcBef>
                <a:spcPts val="476"/>
              </a:spcBef>
              <a:buNone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06600" indent="0">
              <a:spcBef>
                <a:spcPts val="476"/>
              </a:spcBef>
              <a:buNone/>
              <a:tabLst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BAE Systems and other members of SIMDAT consortiu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76200" y="1150560"/>
            <a:ext cx="8413920" cy="3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Potential Topics for Collaboration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76200" y="1773000"/>
            <a:ext cx="84168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04840" indent="-204840">
              <a:spcBef>
                <a:spcPts val="476"/>
              </a:spcBef>
              <a:buClr>
                <a:srgbClr val="000000"/>
              </a:buClr>
              <a:buFont typeface="Arial"/>
              <a:buChar char="-"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Provisioning of experimental Test Dat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06600" indent="-200160">
              <a:spcBef>
                <a:spcPts val="476"/>
              </a:spcBef>
              <a:buClr>
                <a:srgbClr val="000000"/>
              </a:buClr>
              <a:buFont typeface="Arial"/>
              <a:buChar char="-"/>
              <a:tabLst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Experimental tes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06600" indent="-200160">
              <a:spcBef>
                <a:spcPts val="476"/>
              </a:spcBef>
              <a:buClr>
                <a:srgbClr val="000000"/>
              </a:buClr>
              <a:buFont typeface="Arial"/>
              <a:buChar char="-"/>
              <a:tabLst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Data collected and provided as a servi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06600" indent="-200160">
              <a:spcBef>
                <a:spcPts val="476"/>
              </a:spcBef>
              <a:buClr>
                <a:srgbClr val="000000"/>
              </a:buClr>
              <a:buFont typeface="Arial"/>
              <a:buChar char="-"/>
              <a:tabLst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Increases knowledge in the syste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06600" indent="-200160">
              <a:spcBef>
                <a:spcPts val="476"/>
              </a:spcBef>
              <a:buClr>
                <a:srgbClr val="000000"/>
              </a:buClr>
              <a:buFont typeface="Arial"/>
              <a:buChar char="-"/>
              <a:tabLst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Challenging when driven by design optimisation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04840" indent="-204840">
              <a:spcBef>
                <a:spcPts val="476"/>
              </a:spcBef>
              <a:buClr>
                <a:srgbClr val="000000"/>
              </a:buClr>
              <a:buFont typeface="Arial"/>
              <a:buChar char="-"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Provisioning of analysis services for new disciplin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06600" indent="-200160">
              <a:spcBef>
                <a:spcPts val="476"/>
              </a:spcBef>
              <a:buClr>
                <a:srgbClr val="000000"/>
              </a:buClr>
              <a:buFont typeface="Arial"/>
              <a:buChar char="-"/>
              <a:tabLst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To enable study of dynamic effects – acoustics of deploying flap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06600" indent="-200160">
              <a:spcBef>
                <a:spcPts val="476"/>
              </a:spcBef>
              <a:buClr>
                <a:srgbClr val="000000"/>
              </a:buClr>
              <a:buFont typeface="Arial"/>
              <a:buChar char="-"/>
              <a:tabLst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Computational Aero Acoustic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06600" indent="-200160">
              <a:spcBef>
                <a:spcPts val="476"/>
              </a:spcBef>
              <a:buClr>
                <a:srgbClr val="000000"/>
              </a:buClr>
              <a:buFont typeface="Arial"/>
              <a:buChar char="-"/>
              <a:tabLst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Computationally challeng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04840" indent="0">
              <a:spcBef>
                <a:spcPts val="476"/>
              </a:spcBef>
              <a:buNone/>
              <a:tabLst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06600" indent="0">
              <a:spcBef>
                <a:spcPts val="476"/>
              </a:spcBef>
              <a:buNone/>
              <a:tabLst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06600" indent="0">
              <a:spcBef>
                <a:spcPts val="476"/>
              </a:spcBef>
              <a:buNone/>
              <a:tabLst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BAE Systems and other members of SIMDAT consortiu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44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SIMDAT Fact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IST Grid IP projec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4 year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Start date: September 1st, 2004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26 partner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www.simdat.org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6692760" y="1446120"/>
            <a:ext cx="1981080" cy="4267080"/>
            <a:chOff x="6692760" y="1446120"/>
            <a:chExt cx="19810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6692760" y="2894040"/>
              <a:ext cx="1981080" cy="1371600"/>
              <a:chOff x="6692760" y="2894040"/>
              <a:chExt cx="1981080" cy="1371600"/>
            </a:xfrm>
          </p:grpSpPr>
          <p:sp>
            <p:nvSpPr>
              <p:cNvPr id="150" name=""/>
              <p:cNvSpPr/>
              <p:nvPr/>
            </p:nvSpPr>
            <p:spPr>
              <a:xfrm>
                <a:off x="6692760" y="2894040"/>
                <a:ext cx="1981080" cy="1371600"/>
              </a:xfrm>
              <a:prstGeom prst="rect">
                <a:avLst/>
              </a:prstGeom>
              <a:solidFill>
                <a:srgbClr val="99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Narrow"/>
                  </a:rPr>
                  <a:t>Capability Provid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1" name="" descr="Home page">
                <a:hlinkClick r:id="rId1"/>
              </p:cNvPr>
              <p:cNvPicPr/>
              <p:nvPr/>
            </p:nvPicPr>
            <p:blipFill>
              <a:blip r:embed="rId2"/>
              <a:srcRect l="0" t="0" r="71456" b="0"/>
              <a:stretch/>
            </p:blipFill>
            <p:spPr>
              <a:xfrm>
                <a:off x="6768720" y="3655800"/>
                <a:ext cx="304920" cy="204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" descr=""/>
              <p:cNvPicPr/>
              <p:nvPr/>
            </p:nvPicPr>
            <p:blipFill>
              <a:blip r:embed="rId3"/>
              <a:srcRect l="0" t="0" r="71673" b="15017"/>
              <a:stretch/>
            </p:blipFill>
            <p:spPr>
              <a:xfrm>
                <a:off x="6845040" y="3274920"/>
                <a:ext cx="838080" cy="239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" name="" descr=""/>
              <p:cNvPicPr/>
              <p:nvPr/>
            </p:nvPicPr>
            <p:blipFill>
              <a:blip r:embed="rId4"/>
              <a:srcRect l="0" t="30772" r="0" b="0"/>
              <a:stretch/>
            </p:blipFill>
            <p:spPr>
              <a:xfrm>
                <a:off x="7835760" y="3503520"/>
                <a:ext cx="761760" cy="2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4" name="" descr="back to LION bioscience home">
                <a:hlinkClick r:id="rId5"/>
              </p:cNvPr>
              <p:cNvPicPr/>
              <p:nvPr/>
            </p:nvPicPr>
            <p:blipFill>
              <a:blip r:embed="rId6"/>
              <a:stretch/>
            </p:blipFill>
            <p:spPr>
              <a:xfrm>
                <a:off x="7835760" y="3884400"/>
                <a:ext cx="68580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5" name="" descr=""/>
              <p:cNvPicPr/>
              <p:nvPr/>
            </p:nvPicPr>
            <p:blipFill>
              <a:blip r:embed="rId7"/>
              <a:srcRect l="0" t="0" r="0" b="22248"/>
              <a:stretch/>
            </p:blipFill>
            <p:spPr>
              <a:xfrm>
                <a:off x="7759440" y="3274920"/>
                <a:ext cx="762120" cy="1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" descr="">
                <a:hlinkClick r:id="rId8"/>
              </p:cNvPr>
              <p:cNvPicPr/>
              <p:nvPr/>
            </p:nvPicPr>
            <p:blipFill>
              <a:blip r:embed="rId9"/>
              <a:srcRect l="0" t="0" r="79026" b="33917"/>
              <a:stretch/>
            </p:blipFill>
            <p:spPr>
              <a:xfrm>
                <a:off x="7225920" y="3655800"/>
                <a:ext cx="441360" cy="30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" descr="">
                <a:hlinkClick r:id="rId10"/>
              </p:cNvPr>
              <p:cNvPicPr/>
              <p:nvPr/>
            </p:nvPicPr>
            <p:blipFill>
              <a:blip r:embed="rId11"/>
              <a:srcRect l="12975" t="0" r="16670" b="37209"/>
              <a:stretch/>
            </p:blipFill>
            <p:spPr>
              <a:xfrm>
                <a:off x="6768720" y="3978360"/>
                <a:ext cx="990720" cy="255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8" name=""/>
            <p:cNvGrpSpPr/>
            <p:nvPr/>
          </p:nvGrpSpPr>
          <p:grpSpPr>
            <a:xfrm>
              <a:off x="6692760" y="4341600"/>
              <a:ext cx="1981080" cy="1371600"/>
              <a:chOff x="6692760" y="4341600"/>
              <a:chExt cx="1981080" cy="1371600"/>
            </a:xfrm>
          </p:grpSpPr>
          <p:sp>
            <p:nvSpPr>
              <p:cNvPr id="159" name=""/>
              <p:cNvSpPr/>
              <p:nvPr/>
            </p:nvSpPr>
            <p:spPr>
              <a:xfrm>
                <a:off x="6692760" y="4341600"/>
                <a:ext cx="1981080" cy="1371600"/>
              </a:xfrm>
              <a:prstGeom prst="rect">
                <a:avLst/>
              </a:prstGeom>
              <a:solidFill>
                <a:srgbClr val="99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Grid Technologist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6768720" y="4722840"/>
                <a:ext cx="371520" cy="357120"/>
                <a:chOff x="6768720" y="4722840"/>
                <a:chExt cx="371520" cy="35712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6768720" y="4722840"/>
                  <a:ext cx="371520" cy="357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2" name="" descr="Gesellschaft"/>
                <p:cNvPicPr/>
                <p:nvPr/>
              </p:nvPicPr>
              <p:blipFill>
                <a:blip r:embed="rId12"/>
                <a:srcRect l="0" t="0" r="57768" b="47146"/>
                <a:stretch/>
              </p:blipFill>
              <p:spPr>
                <a:xfrm>
                  <a:off x="6816600" y="4751280"/>
                  <a:ext cx="304560" cy="307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63" name="" descr=""/>
              <p:cNvPicPr/>
              <p:nvPr/>
            </p:nvPicPr>
            <p:blipFill>
              <a:blip r:embed="rId13"/>
              <a:srcRect l="4905" t="31773" r="60789" b="0"/>
              <a:stretch/>
            </p:blipFill>
            <p:spPr>
              <a:xfrm>
                <a:off x="7302240" y="4722840"/>
                <a:ext cx="685800" cy="20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4" name="" descr="Intel(R)">
                <a:hlinkClick r:id="rId14"/>
              </p:cNvPr>
              <p:cNvPicPr/>
              <p:nvPr/>
            </p:nvPicPr>
            <p:blipFill>
              <a:blip r:embed="rId15"/>
              <a:srcRect l="22614" t="0" r="32180" b="20522"/>
              <a:stretch/>
            </p:blipFill>
            <p:spPr>
              <a:xfrm>
                <a:off x="7454520" y="4951440"/>
                <a:ext cx="533520" cy="222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" name="" descr=""/>
              <p:cNvPicPr/>
              <p:nvPr/>
            </p:nvPicPr>
            <p:blipFill>
              <a:blip r:embed="rId16"/>
              <a:srcRect l="1798" t="17956" r="87213" b="75415"/>
              <a:stretch/>
            </p:blipFill>
            <p:spPr>
              <a:xfrm>
                <a:off x="6768720" y="5092560"/>
                <a:ext cx="685800" cy="31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6" name="" descr="Oracle Corporation Home Page"/>
              <p:cNvPicPr/>
              <p:nvPr/>
            </p:nvPicPr>
            <p:blipFill>
              <a:blip r:embed="rId17"/>
              <a:stretch/>
            </p:blipFill>
            <p:spPr>
              <a:xfrm>
                <a:off x="7530840" y="5292720"/>
                <a:ext cx="1085760" cy="14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" name="" descr="Universität Karlsruhe"/>
              <p:cNvPicPr/>
              <p:nvPr/>
            </p:nvPicPr>
            <p:blipFill>
              <a:blip r:embed="rId18"/>
              <a:stretch/>
            </p:blipFill>
            <p:spPr>
              <a:xfrm>
                <a:off x="6997320" y="5484600"/>
                <a:ext cx="1524240" cy="166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8" name="" descr="The IT Innovation Centre">
                <a:hlinkClick r:id="rId19"/>
              </p:cNvPr>
              <p:cNvPicPr/>
              <p:nvPr/>
            </p:nvPicPr>
            <p:blipFill>
              <a:blip r:embed="rId20"/>
              <a:stretch/>
            </p:blipFill>
            <p:spPr>
              <a:xfrm>
                <a:off x="8140320" y="4725720"/>
                <a:ext cx="381240" cy="378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9" name=""/>
            <p:cNvSpPr/>
            <p:nvPr/>
          </p:nvSpPr>
          <p:spPr>
            <a:xfrm>
              <a:off x="6692760" y="1446120"/>
              <a:ext cx="1981080" cy="137160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nd Us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0" name="" descr=""/>
            <p:cNvPicPr/>
            <p:nvPr/>
          </p:nvPicPr>
          <p:blipFill>
            <a:blip r:embed="rId21"/>
            <a:srcRect l="1963" t="3484" r="86277" b="79112"/>
            <a:stretch/>
          </p:blipFill>
          <p:spPr>
            <a:xfrm>
              <a:off x="7791120" y="2055600"/>
              <a:ext cx="381240" cy="3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22"/>
            <a:stretch/>
          </p:blipFill>
          <p:spPr>
            <a:xfrm>
              <a:off x="6724440" y="2617560"/>
              <a:ext cx="1035000" cy="162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2" name=""/>
            <p:cNvGrpSpPr/>
            <p:nvPr/>
          </p:nvGrpSpPr>
          <p:grpSpPr>
            <a:xfrm>
              <a:off x="6717960" y="2222280"/>
              <a:ext cx="457200" cy="304920"/>
              <a:chOff x="6717960" y="2222280"/>
              <a:chExt cx="457200" cy="304920"/>
            </a:xfrm>
          </p:grpSpPr>
          <p:pic>
            <p:nvPicPr>
              <p:cNvPr id="173" name="" descr=""/>
              <p:cNvPicPr/>
              <p:nvPr/>
            </p:nvPicPr>
            <p:blipFill>
              <a:blip r:embed="rId23"/>
              <a:srcRect l="0" t="0" r="59708" b="0"/>
              <a:stretch/>
            </p:blipFill>
            <p:spPr>
              <a:xfrm>
                <a:off x="6717960" y="2222280"/>
                <a:ext cx="457200" cy="124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24"/>
              <a:srcRect l="0" t="0" r="59775" b="55595"/>
              <a:stretch/>
            </p:blipFill>
            <p:spPr>
              <a:xfrm>
                <a:off x="6718320" y="2347200"/>
                <a:ext cx="456480" cy="180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5" name="" descr=""/>
            <p:cNvPicPr/>
            <p:nvPr/>
          </p:nvPicPr>
          <p:blipFill>
            <a:blip r:embed="rId25"/>
            <a:srcRect l="8694" t="0" r="64519" b="0"/>
            <a:stretch/>
          </p:blipFill>
          <p:spPr>
            <a:xfrm>
              <a:off x="6733800" y="1824120"/>
              <a:ext cx="384120" cy="33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Audi logo"/>
            <p:cNvPicPr/>
            <p:nvPr/>
          </p:nvPicPr>
          <p:blipFill>
            <a:blip r:embed="rId26"/>
            <a:srcRect l="0" t="33307" r="44472" b="9685"/>
            <a:stretch/>
          </p:blipFill>
          <p:spPr>
            <a:xfrm>
              <a:off x="7213320" y="1807920"/>
              <a:ext cx="469800" cy="38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27"/>
            <a:srcRect l="49983" t="24949" r="34014" b="14181"/>
            <a:stretch/>
          </p:blipFill>
          <p:spPr>
            <a:xfrm>
              <a:off x="8175240" y="2436840"/>
              <a:ext cx="322560" cy="34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" descr="Met Office logo">
              <a:hlinkClick r:id="rId28"/>
            </p:cNvPr>
            <p:cNvPicPr/>
            <p:nvPr/>
          </p:nvPicPr>
          <p:blipFill>
            <a:blip r:embed="rId29"/>
            <a:srcRect l="71172" t="0" r="0" b="0"/>
            <a:stretch/>
          </p:blipFill>
          <p:spPr>
            <a:xfrm>
              <a:off x="8251560" y="2036520"/>
              <a:ext cx="3618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" descr="Logo Météo France"/>
            <p:cNvPicPr/>
            <p:nvPr/>
          </p:nvPicPr>
          <p:blipFill>
            <a:blip r:embed="rId30"/>
            <a:stretch/>
          </p:blipFill>
          <p:spPr>
            <a:xfrm>
              <a:off x="7200720" y="2394000"/>
              <a:ext cx="685800" cy="19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Eumetsat">
              <a:hlinkClick r:id="rId31"/>
            </p:cNvPr>
            <p:cNvPicPr/>
            <p:nvPr/>
          </p:nvPicPr>
          <p:blipFill>
            <a:blip r:embed="rId32"/>
            <a:stretch/>
          </p:blipFill>
          <p:spPr>
            <a:xfrm>
              <a:off x="7202160" y="2246400"/>
              <a:ext cx="555840" cy="104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44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SIMDAT Objectiv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Develop federated versions of problem solving environment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00"/>
                </a:solidFill>
                <a:latin typeface="Arial"/>
              </a:rPr>
              <a:t>Support of distributed product and process development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00"/>
                </a:solidFill>
                <a:latin typeface="Arial"/>
              </a:rPr>
              <a:t>Test and enhance grid technology for access to distributed data bas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00"/>
                </a:solidFill>
                <a:latin typeface="Arial"/>
              </a:rPr>
              <a:t>Tools for semantic transformation between these data bas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00"/>
                </a:solidFill>
                <a:latin typeface="Arial"/>
              </a:rPr>
              <a:t>Grid support for knowledge discovery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Promote defacto standards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Raise awareness in important industrial sector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44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SIMDAT - Strateg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120" y="1341000"/>
            <a:ext cx="80773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SIMDAT takes an ambitious and credible route to drive Grid technology to the heart of industrial process:</a:t>
            </a:r>
            <a:br>
              <a:rPr sz="2000"/>
            </a:b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2514600"/>
            <a:ext cx="2666880" cy="1219320"/>
          </a:xfrm>
          <a:custGeom>
            <a:avLst/>
            <a:gdLst>
              <a:gd name="textAreaLeft" fmla="*/ 333360 w 2666880"/>
              <a:gd name="textAreaRight" fmla="*/ 2333520 w 2666880"/>
              <a:gd name="textAreaTop" fmla="*/ 304920 h 1219320"/>
              <a:gd name="textAreaBottom" fmla="*/ 9147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Phase 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Conne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00400" y="2514600"/>
            <a:ext cx="2971800" cy="1219320"/>
          </a:xfrm>
          <a:custGeom>
            <a:avLst/>
            <a:gdLst>
              <a:gd name="textAreaLeft" fmla="*/ 371520 w 2971800"/>
              <a:gd name="textAreaRight" fmla="*/ 2600640 w 2971800"/>
              <a:gd name="textAreaTop" fmla="*/ 304920 h 1219320"/>
              <a:gd name="textAreaBottom" fmla="*/ 9147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Phase 2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Interoper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19920" y="2514600"/>
            <a:ext cx="2590560" cy="1219320"/>
          </a:xfrm>
          <a:custGeom>
            <a:avLst/>
            <a:gdLst>
              <a:gd name="textAreaLeft" fmla="*/ 323640 w 2590560"/>
              <a:gd name="textAreaRight" fmla="*/ 2266920 w 2590560"/>
              <a:gd name="textAreaTop" fmla="*/ 304920 h 1219320"/>
              <a:gd name="textAreaBottom" fmla="*/ 9147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Phase 3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3848040"/>
            <a:ext cx="2819520" cy="1465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Deployment of Grid concepts, existing and emerging architectures with particular attention to data management</a:t>
            </a: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29000" y="3835440"/>
            <a:ext cx="2438280" cy="9169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Data aggregation through the use of ontological concep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006960" y="3848040"/>
            <a:ext cx="2514600" cy="1191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Workflows for next-generation aggregated knowledge capture, discovery and mi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44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SIMDAT - Overview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04920" y="1828800"/>
            <a:ext cx="2666880" cy="2666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ur sectors of international economic importanc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utomo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harmaceut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ero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eteor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791320" y="1752480"/>
            <a:ext cx="2895480" cy="26395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ven Grid-technology development are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rid infra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stributed Data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O Admin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ntolog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alysis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Knowledg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52280" y="4876920"/>
            <a:ext cx="83822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The solution of industrially relevant complex problems 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using data-centric Grid technolog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133720" y="1523880"/>
            <a:ext cx="4419360" cy="29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44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V-GISC Conceptual view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49720" y="1234800"/>
            <a:ext cx="373392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ject will develop an infrastructure based on a Virtual Database Service that provides a single view of distributed meteorological databases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mprove visibility and access to data through a comprehensive discovery service based on metadata development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dd value to existing data sets by enabling diverse databases to be used as a unique virtual resource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Offer a subscription services and a variety of reliable delivery services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ovide a global access control policy managed by the partners and integrated into their existing security infrastructure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892080"/>
            <a:ext cx="5530680" cy="49752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7145280" y="388800"/>
            <a:ext cx="1486080" cy="5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44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-1549440" y="0"/>
            <a:ext cx="12192120" cy="97534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3132000" y="981000"/>
            <a:ext cx="1440000" cy="360360"/>
          </a:xfrm>
          <a:prstGeom prst="rect">
            <a:avLst/>
          </a:prstGeom>
          <a:solidFill>
            <a:srgbClr val="ffff23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020000" cy="526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3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44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20000" cy="52642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0" y="2997360"/>
            <a:ext cx="1512720" cy="360360"/>
          </a:xfrm>
          <a:prstGeom prst="rect">
            <a:avLst/>
          </a:prstGeom>
          <a:solidFill>
            <a:srgbClr val="ffff23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1258920" y="0"/>
            <a:ext cx="68007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3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9T13:07:34Z</dcterms:created>
  <dc:creator>Geldof</dc:creator>
  <dc:description/>
  <dc:language>en-US</dc:language>
  <cp:lastModifiedBy> </cp:lastModifiedBy>
  <dcterms:modified xsi:type="dcterms:W3CDTF">2005-06-22T04:02:51Z</dcterms:modified>
  <cp:revision>24</cp:revision>
  <dc:subject/>
  <dc:title>SIMDAT Data Grids for Process and Product Development using Numerical Simulation and Knowledge Discovery</dc:title>
</cp:coreProperties>
</file>