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5392-1FAB-46CA-817C-3093343AE4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EC19-D039-4CB2-AB7B-E75D4FFFF0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E4C-9F09-44D8-9A12-BC57A7AC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901-98A3-42BB-B380-638819B4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32B-B240-44EA-8B80-0F68177A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4428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4428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6476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6476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6476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36E-EEDA-41AB-B7B6-CC57D4A9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88E-F83D-4B95-B8F0-31EDD2D7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4428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4428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6476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6476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64760"/>
            <a:ext cx="25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1256-2914-4D85-B80E-07029F6D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AF6-C834-4545-BAE4-3913F984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2D5-8BD7-4296-A192-FD58E42D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603-C584-4BB0-A570-60187B5E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B9C-1F43-413D-9948-DE85932F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AFD-FF8D-479E-BBAD-2B4E7E04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B7E-1AF3-47D4-9A96-9480CD51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5720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162920" y="4572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818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56D8-D68C-4C74-A29F-6915B6EDDF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bilegrids.org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kogrimo_ehealth_450.rm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bilegrids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34100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kogrim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ccess to Knowledge through the Grid in a mobile World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lian Gall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LRC Rutherford Appleton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hlinkClick r:id="rId2"/>
              </a:rPr>
              <a:t>http://www.mobilegrids.or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Julian.Gallop@rl.ac.uk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1635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allenges of eLearning field tr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demand formation of student grou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ing of data from several separately administered sources secure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agreed interfaces for diverse equip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7960" y="2057040"/>
            <a:ext cx="3809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bilit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ing physical location of studen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bile sensors and receipt of multimed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ocation of some higher Grid services from fixed to mobile equipment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68E-C13C-4554-A7D7-995D7A05BB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Health testbed  -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ore detail on th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134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rly recognition of heart attacks or strokes and provision of proper treatment as soon as possi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, monitor patients with a risk of heart attack or stroke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emergency when required, along with monitoring histor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more detail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 at risk has monitoring equipment communicating with mob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 is registered with heart monitoring and emergency service (HM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te and direct emergency forces or first responders nearby to the pati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ect, analyze and interpret patient data before arrival in hospit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able access and intelligent filtering of patient reco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bine in an intelligent way live data (e.g. cardiograms) with patient history and simul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 Workflows based on results or human interven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s range from information retrieval over computational analysis service to information interpretation and filtering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D78-C7A4-43AB-8EC7-B61240E1AD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Health services propo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3809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eart monitoring and emergency (HM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mote Medical Dev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-Health User Port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gmnt of users and profi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ployment to patient’s mobil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r/Resource 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r/Resource Lo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oice over 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irtual Emergency Enviro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699920"/>
            <a:ext cx="3809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irtual Energency Health Reco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ynamic navi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cal data logg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cal personnel and resource loc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ealth simulation and diagnosis sup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dical analy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ns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ffic surveill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ffic monit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CB5-1AD6-434E-A196-5C7988C9DC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Health testb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58920" y="1590840"/>
            <a:ext cx="6192720" cy="46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2AC-A968-47B1-A43C-B4806053A6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llenges from eHealth test bed  - a se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3809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ion of VO on dem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ion of patient data from multiple separately administered sources secure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autonomous conventional organis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s from several conventional organis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699920"/>
            <a:ext cx="3809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obilit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onitoring of patients at risk wherever they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tient’s electronic smart c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ccess to experts’ knowledge whereever they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ccess to equipment in the emergency vehic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C96-6BF2-4D3B-8051-C05E379227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Health video –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 u="sng">
                <a:solidFill>
                  <a:srgbClr val="333399"/>
                </a:solidFill>
                <a:uFillTx/>
                <a:latin typeface="Arial"/>
                <a:hlinkClick r:id="rId2"/>
              </a:rPr>
              <a:t>akogrimo_ehealth_450.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– eHealth video was made before prior monitoring of patients at risk was included in the test bed pl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DE0-9B50-456B-A919-E308687AD5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ected technical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perational VO on demand for running workflows: inherits providers, roles, responsibilities, rights and restrictions already set up in parent V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vice discovery and negotiation within workflow execution time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licies for VO Management, SLA,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curity at Grid level to interwork with A4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gnalling and message delivery both availab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ce det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ext determinatio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(on next sli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bile IPv6: allows roaming with minimal disru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9EB-D687-4E8F-9DED-C1AC3FB503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 of Contex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417400"/>
            <a:ext cx="4102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#Use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file: e.g. contact details, preferenc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urrent ro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es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508720" y="2417400"/>
            <a:ext cx="29448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Locally available servi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evice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stalled s/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75752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ntext may influence workflow behavi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631-8104-4E52-BCDB-31A6D9A059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ole of Akogrimo in the EU Grids program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ome collaboration task leadershi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particular, standards analysis resulting from EU Grid Projec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xtGrid and Akogrimo provide co-ch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ategy Group  - includes Jamil Appa, one of today’s SIMDAT spea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dea is to focus efforts of the Grids projects, so that Europe’s voices are hear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irst phase of information gath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E24B-769A-40DA-81D8-FD827E3779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aboration prosp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s there a role for collaboration by non-European partners within Akogrim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t originally envisaged in project plan and budg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call (within Europe) is being made for a partner to represent the interests of a 3</a:t>
            </a:r>
            <a:r>
              <a:rPr b="1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test bed – application: disaster respon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ssible roles for unanticipated institutions – note - not discussed with consortiu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rther requirements analysis for mobile gri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t visiting researchers or implement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lutions previously unknown to 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ssible confidentiality issues (e.g. European telecom operator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1A8-4C13-4139-B019-ACBBDA1A41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out CCLR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r of large scientific experimental facil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neutron source, space science, hosting new synchrotron (Diamond), …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K strategy and focus for international scientific collabo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main sit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therford Appleton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resbury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050-B84C-4E58-86F8-6706938A38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web page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  <a:hlinkClick r:id="rId2"/>
              </a:rPr>
              <a:t>http://www.mobilegrids.org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downloads, you can fin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iverab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 of the 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Bed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011-120B-4677-AFF1-79511305D7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623-7C52-4BB8-A438-2DF86FE6DA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n compu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K and Ireland W3C Off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K partner in ERCIM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eith Jeffery, director of IT, CCLRC is ERCIM president since January 2005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s of recent initiatives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Curation;   e-Pub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K e-science: partner in National Grid Service and National Grid Support,  HPCX large computing node, data 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 Grid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GEE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within the Information Science and Engineering Group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P5: GRAS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P6: [ Trustcom, ELEGI, ]   CoreGrid, Akogrim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ysel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mputer graphics, visualization,  data structure, data mining, Gri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3BA-7863-4F3F-8206-5E6FE0A0D7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6732720" y="4581360"/>
            <a:ext cx="792000" cy="935280"/>
            <a:chOff x="6732720" y="4581360"/>
            <a:chExt cx="792000" cy="935280"/>
          </a:xfrm>
        </p:grpSpPr>
        <p:sp>
          <p:nvSpPr>
            <p:cNvPr id="96" name=""/>
            <p:cNvSpPr/>
            <p:nvPr/>
          </p:nvSpPr>
          <p:spPr>
            <a:xfrm>
              <a:off x="7524720" y="4581360"/>
              <a:ext cx="0" cy="93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32720" y="4643280"/>
              <a:ext cx="72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Verdana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Akogrimo? - Grid and Networks – not a business proposition y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81312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 Middleware is network agnostic – the net is simply ther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 Middleware is unaware of Mobility and Pervasiven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 Middleware ignores  cross-layer cooperation in modern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 Middleware is not prepared for the network revol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 is not interesting for network operators – no business model for them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so …. To join Grid Middleware and “The mobile Internet of tomorrow” …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5080" y="1844280"/>
            <a:ext cx="381312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4653000"/>
            <a:ext cx="388764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terne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5661000"/>
            <a:ext cx="388764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mobile Interne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 tomorro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1916280"/>
            <a:ext cx="3887640" cy="266508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ID Middlewar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GLOBUS, EDG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COR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SI.NET, …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7956720" cy="513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DCF-F253-48C8-ACFF-30CAB9DA91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81481E-006 L -3.33333E-006 0.14444 E">
                                      <p:cBhvr>
                                        <p:cTn id="11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s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43178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 servic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be pervas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one, anywhere, any ti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xed or mob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alised knowledge and seman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allow fo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 hoc, dynamic and cross-organisational fede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solve complex scenarios in everyday lif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581440" y="1722240"/>
            <a:ext cx="32382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network and service operator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extend their scope by developing new, business services and value added chai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021-C679-4391-9865-117AFF6F9A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kogrimo partn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14120"/>
            <a:ext cx="77724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etwork operators:   Telefonica (lead),    Telenor,    IT-Aveir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/w industry:              ATOS,   Data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ool Provider:            B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rid Infrastructure providers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versity of Stuttgart,    CCLR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&amp;D:                  Universities of Hohenheim,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urich and  Madrid;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search institutes:  CRMPA  and  ICCS/NTU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C8B-5997-4373-A53A-CF8660EEC9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Summary so f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ed 1 July 2004, will run for 3 yea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all architecture nearing comple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laboration responsibilities have begu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orts delivered: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ket play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 of the A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  bed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E5C-B519-4886-ADEB-C34C88878B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at is Akogrimo providi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4360" y="1762200"/>
          <a:ext cx="784836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762200"/>
                    <a:ext cx="7848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5DA-AB74-40E2-BE69-6920DE6331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earning testb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332000" y="1465200"/>
            <a:ext cx="6361200" cy="477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7E2-313D-44AA-B0B0-2C3ABBABF5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7:11:31Z</dcterms:created>
  <dc:creator>Thierry PRIOL</dc:creator>
  <dc:description/>
  <dc:language>en-US</dc:language>
  <cp:lastModifiedBy>Authorised User</cp:lastModifiedBy>
  <cp:lastPrinted>2002-03-06T16:04:30Z</cp:lastPrinted>
  <dcterms:modified xsi:type="dcterms:W3CDTF">2005-06-21T22:52:36Z</dcterms:modified>
  <cp:revision>166</cp:revision>
  <dc:subject/>
  <dc:title>CoreGRID: A network of excellence in Grid and P2P Technologies</dc:title>
</cp:coreProperties>
</file>