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5.wmf" ContentType="image/x-wmf"/>
  <Override PartName="/ppt/media/image12.jpeg" ContentType="image/jpeg"/>
  <Override PartName="/ppt/media/image6.png" ContentType="image/png"/>
  <Override PartName="/ppt/media/image2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0BAC-0FD9-4249-BBEB-8A4FB62B6A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09960" y="866916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  <a:ea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1440" y="8669160"/>
            <a:ext cx="2968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118-1739-4A3D-B7CD-559354CF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4AD-D1F2-492E-957A-67B01C13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94A-9670-4A86-804A-5E8E4881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79D-B605-4C1A-BC77-716FE351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DFF1-777D-4167-828D-BE131477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4E84-F192-4FE6-8A04-4E379FA4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EBB0-FDEC-4394-913A-A3812CB2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25F3-81AB-43BB-9BFA-9E5E674A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43C3-FE84-4AF2-B1DC-130EC0D8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FAC7-D36B-439B-82ED-9C5317F7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27A3-CF84-46A9-A165-21B5B68B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F7C-F740-4476-A9AD-822A0DE5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9190-C54F-45B8-B931-F418CCEC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7B0F-6B22-4B8A-95A1-5666005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87CF-8BA1-41D0-8B28-D93824B6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4123-AE27-4573-8603-7082123F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E12E-14A2-4E72-86ED-034A4FD4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77D-FE11-4262-9891-5C7E17F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1C3-BBD9-4C69-9502-0F268E94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112-3351-4FC6-ADC3-5B8E3890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386-029F-4986-8B61-4C90BBBA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113-3A75-420A-9DAF-4B0B2C27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9C2-E101-4CC8-9C44-27518FE8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F2E-FAB3-4942-BED3-F2D61F3F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943E-C6C6-4F0C-8384-4B766F15A111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7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3"/>
          <a:srcRect l="6251" t="14367" r="6251" b="14367"/>
          <a:stretch/>
        </p:blipFill>
        <p:spPr>
          <a:xfrm>
            <a:off x="0" y="-4680"/>
            <a:ext cx="2133720" cy="110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A7F5-E07C-45F9-A685-9E99D25DD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52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reative.gettyimages.com/source/search/ImageEnlarge.aspx?MasterID=BU005230&amp;s=ImageDetailSearchState%7C3%7C5%7C0%7C15%7C2%7C1%7C1%7C0%7C1%7C59%7C60%7C2000.13c4.0054..000b.26a0.00c0%7C91%7C0%7C%22coop%E9ration%22%7C%7C1%7C0&amp;pk=6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28191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</a:rPr>
              <a:t>IST &amp; International Rel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Simon Bensasson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uropean Commission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Directorate General Information Society &amp; Media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ead of Unit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ternational Relations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3320" y="5676840"/>
            <a:ext cx="1420560" cy="106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8070" t="10665" r="9941" b="15539"/>
          <a:stretch/>
        </p:blipFill>
        <p:spPr>
          <a:xfrm>
            <a:off x="7086600" y="5562720"/>
            <a:ext cx="2057400" cy="1184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50960" y="5987880"/>
            <a:ext cx="59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Grid@Asia Workshop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June 21st, 2005 – Beihang University, Beij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553080" y="554040"/>
            <a:ext cx="21337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09680" y="139680"/>
            <a:ext cx="6927840" cy="79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ANT: Achievemen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rcRect l="0" t="21350" r="0" b="0"/>
          <a:stretch/>
        </p:blipFill>
        <p:spPr>
          <a:xfrm>
            <a:off x="5029200" y="4419720"/>
            <a:ext cx="4029120" cy="2355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1936800"/>
            <a:ext cx="914400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n-European coverag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connecting 32 NREN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ing more than 3000 Universities, i.e. virtually all the researchers in Europe in all discip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 international circuits operating at 10Gbps while 11 other run at 2,5Gbp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oking for intercontinental connectivit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680" y="5229360"/>
            <a:ext cx="36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 200 MEuro over 4 years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80 MEuro from EU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rcRect l="0" t="11306" r="-776" b="3133"/>
          <a:stretch/>
        </p:blipFill>
        <p:spPr>
          <a:xfrm>
            <a:off x="0" y="1217520"/>
            <a:ext cx="9215280" cy="564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3" name=""/>
          <p:cNvSpPr/>
          <p:nvPr/>
        </p:nvSpPr>
        <p:spPr>
          <a:xfrm flipV="1">
            <a:off x="2624040" y="2472840"/>
            <a:ext cx="1763640" cy="295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093840" y="2658960"/>
            <a:ext cx="1199880" cy="1090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9201800">
            <a:off x="3128040" y="3077280"/>
            <a:ext cx="5662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@LIS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27720" y="2511360"/>
            <a:ext cx="2805120" cy="38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95960" y="2606760"/>
            <a:ext cx="228600" cy="9334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18960" y="3476520"/>
            <a:ext cx="11059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entral Afric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1360" y="2273400"/>
            <a:ext cx="685800" cy="1713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35680" y="2013120"/>
            <a:ext cx="6469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ussi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54360" y="2521080"/>
            <a:ext cx="2509920" cy="37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112920" y="2730600"/>
            <a:ext cx="1177920" cy="18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00680" y="2752560"/>
            <a:ext cx="1336320" cy="676440"/>
          </a:xfrm>
          <a:prstGeom prst="ellipse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3480" y="2908440"/>
            <a:ext cx="8755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UMEDIS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309760" y="2766600"/>
            <a:ext cx="3175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1600" y="5638680"/>
            <a:ext cx="1014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outh Afric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668840" y="1343160"/>
            <a:ext cx="422280" cy="88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098680" y="1338120"/>
            <a:ext cx="725400" cy="119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095800" y="1337760"/>
            <a:ext cx="952560" cy="141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98680" y="1352520"/>
            <a:ext cx="770040" cy="1409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03360" y="1347840"/>
            <a:ext cx="698760" cy="13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103360" y="1342800"/>
            <a:ext cx="1024200" cy="139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091120" y="1333080"/>
            <a:ext cx="372960" cy="146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095800" y="1343160"/>
            <a:ext cx="231840" cy="13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091120" y="1333440"/>
            <a:ext cx="31608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2960" y="1295280"/>
            <a:ext cx="1529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rtual Silk Highway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838760" y="1090440"/>
            <a:ext cx="49356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rot="19921200">
            <a:off x="1752480" y="3352320"/>
            <a:ext cx="1555920" cy="3094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2666880"/>
            <a:ext cx="2225880" cy="2784600"/>
          </a:xfrm>
          <a:prstGeom prst="ellipse">
            <a:avLst/>
          </a:prstGeom>
          <a:noFill/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53080" y="2487600"/>
            <a:ext cx="898560" cy="15843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54840" y="4067280"/>
            <a:ext cx="1025640" cy="114624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5800" y="4044960"/>
            <a:ext cx="1317600" cy="17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638680" y="3186000"/>
            <a:ext cx="547920" cy="8622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53400" y="2890800"/>
            <a:ext cx="374400" cy="117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7323120" y="2892600"/>
            <a:ext cx="357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651040" y="2549520"/>
            <a:ext cx="1560600" cy="262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1047400">
            <a:off x="2707920" y="2637000"/>
            <a:ext cx="1377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jects &amp; GRIDs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3600">
            <a:off x="6100200" y="3428640"/>
            <a:ext cx="513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3600">
            <a:off x="7058520" y="3917880"/>
            <a:ext cx="8787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ngapore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33920" y="2178000"/>
            <a:ext cx="41292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3600">
            <a:off x="6328440" y="2819160"/>
            <a:ext cx="5799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in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3600">
            <a:off x="7547400" y="2590560"/>
            <a:ext cx="5983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apa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3600">
            <a:off x="7016400" y="2437920"/>
            <a:ext cx="5281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I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6238800"/>
            <a:ext cx="3992400" cy="619200"/>
            <a:chOff x="0" y="6238800"/>
            <a:chExt cx="3992400" cy="619200"/>
          </a:xfrm>
        </p:grpSpPr>
        <p:sp>
          <p:nvSpPr>
            <p:cNvPr id="235" name=""/>
            <p:cNvSpPr/>
            <p:nvPr/>
          </p:nvSpPr>
          <p:spPr>
            <a:xfrm>
              <a:off x="0" y="6238800"/>
              <a:ext cx="3992400" cy="619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040" y="6645240"/>
              <a:ext cx="825120" cy="111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38960" y="6448320"/>
              <a:ext cx="820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3840" y="6257880"/>
              <a:ext cx="234180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tional or funding available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5280" y="6476760"/>
              <a:ext cx="241812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quest to interconnect received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3600">
            <a:off x="3434400" y="4495320"/>
            <a:ext cx="5616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razil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2895480"/>
            <a:ext cx="1284120" cy="590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2133720"/>
            <a:ext cx="1657080" cy="6332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637000" y="2425680"/>
            <a:ext cx="1753920" cy="29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9880" y="1876320"/>
            <a:ext cx="993600" cy="1076400"/>
          </a:xfrm>
          <a:custGeom>
            <a:avLst/>
            <a:gdLst>
              <a:gd name="textAreaLeft" fmla="*/ 226800 w 993600"/>
              <a:gd name="textAreaRight" fmla="*/ 766800 w 993600"/>
              <a:gd name="textAreaTop" fmla="*/ 245520 h 1076400"/>
              <a:gd name="textAreaBottom" fmla="*/ 830880 h 107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EANT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619000" y="2529000"/>
            <a:ext cx="12600" cy="231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314080" y="3100320"/>
            <a:ext cx="800280" cy="1527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306520" y="3100320"/>
            <a:ext cx="279360" cy="1765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324160" y="3105000"/>
            <a:ext cx="604800" cy="211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3655800">
            <a:off x="2374920" y="3585960"/>
            <a:ext cx="8161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MPATH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958080" y="2898720"/>
            <a:ext cx="712800" cy="1160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719840" y="2895120"/>
            <a:ext cx="1576440" cy="3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678800" y="2892600"/>
            <a:ext cx="1147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-152640" y="274320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5800" y="2716200"/>
            <a:ext cx="189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309760" y="2714400"/>
            <a:ext cx="0" cy="37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959600" y="3276720"/>
            <a:ext cx="1184400" cy="1920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0" y="2743200"/>
            <a:ext cx="133668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958080" y="3048120"/>
            <a:ext cx="2185920" cy="101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7330680" y="2896920"/>
            <a:ext cx="23508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7551720" y="2968560"/>
            <a:ext cx="1324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089480" y="2868120"/>
            <a:ext cx="47628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051680" y="2868480"/>
            <a:ext cx="4608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563960" y="2971800"/>
            <a:ext cx="1808280" cy="30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3600">
            <a:off x="476280" y="2443320"/>
            <a:ext cx="8848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ansPAC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600">
            <a:off x="7759080" y="4684680"/>
            <a:ext cx="775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ustrali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70880" y="2890800"/>
            <a:ext cx="54000" cy="42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54560" y="2844720"/>
            <a:ext cx="598320" cy="271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3600">
            <a:off x="1455480" y="2286000"/>
            <a:ext cx="7171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ad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3600">
            <a:off x="1561320" y="3047760"/>
            <a:ext cx="494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0"/>
            <a:ext cx="6927840" cy="79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ANT: International connectivity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09680" y="0"/>
            <a:ext cx="69343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EU-CHINA Information Society dialogu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 u="sng">
                <a:solidFill>
                  <a:srgbClr val="ffffff"/>
                </a:solidFill>
                <a:uFillTx/>
                <a:latin typeface="Arial"/>
              </a:rPr>
              <a:t>An active co-operation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6840" y="2457360"/>
            <a:ext cx="917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URO-CHINA Information Society Forum in April 2002 (14000 Chinese visito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6840" y="2927520"/>
            <a:ext cx="8937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eyond 3G workshop in Beijing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5000" y="379080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6840" y="405756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minar on Telecom Regulatory aspect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6840" y="456552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EU-CHINA Information Society Dialogue held in Brussels last week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6840" y="342252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hree day series of presentations arranged in Brussels for the State Council Informatisation Office (SCITO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6840" y="507348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lection of IST projects involving Chinese organisation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6840" y="564516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unch of the EU-China Working Group on Digital Olympic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rcRect l="5560" t="9421" r="3624" b="7486"/>
          <a:stretch/>
        </p:blipFill>
        <p:spPr>
          <a:xfrm>
            <a:off x="5334120" y="3276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247760" y="0"/>
            <a:ext cx="873432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-operation with Chin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IST programm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219320"/>
            <a:ext cx="914400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ules for participation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inese</a:t>
            </a:r>
            <a:r>
              <a:rPr b="0" lang="en-US" sz="2400" spc="-1" strike="noStrike" u="sng">
                <a:solidFill>
                  <a:srgbClr val="1d528d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ganis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onformity with the mutual interests of the EU and the countr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substantial added value fo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ing Sciences Polic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gether with the minimum numbe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legal entities from the Community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Associated States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financial support from the EC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China is an INCO Targe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tr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countries participation in the IST Programme (call 1 to 4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440" y="1371600"/>
            <a:ext cx="3845160" cy="5421240"/>
            <a:chOff x="1440" y="1371600"/>
            <a:chExt cx="3845160" cy="5421240"/>
          </a:xfrm>
        </p:grpSpPr>
        <p:graphicFrame>
          <p:nvGraphicFramePr>
            <p:cNvPr id="285" name=""/>
            <p:cNvGraphicFramePr/>
            <p:nvPr/>
          </p:nvGraphicFramePr>
          <p:xfrm>
            <a:off x="1440" y="1371600"/>
            <a:ext cx="384516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1371600"/>
                      <a:ext cx="384516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"/>
            <p:cNvSpPr/>
            <p:nvPr/>
          </p:nvSpPr>
          <p:spPr>
            <a:xfrm>
              <a:off x="457200" y="1371600"/>
              <a:ext cx="950760" cy="1828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" y="3048120"/>
              <a:ext cx="685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36760" y="1411200"/>
            <a:ext cx="5433120" cy="459720"/>
            <a:chOff x="3236760" y="1411200"/>
            <a:chExt cx="5433120" cy="459720"/>
          </a:xfrm>
        </p:grpSpPr>
        <p:sp>
          <p:nvSpPr>
            <p:cNvPr id="290" name=""/>
            <p:cNvSpPr/>
            <p:nvPr/>
          </p:nvSpPr>
          <p:spPr>
            <a:xfrm flipV="1">
              <a:off x="3236760" y="1676520"/>
              <a:ext cx="1640160" cy="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19120" y="1411200"/>
              <a:ext cx="36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0000"/>
                  </a:solidFill>
                  <a:latin typeface="Arial"/>
                </a:rPr>
                <a:t>China (217 participations)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819520" y="2249640"/>
            <a:ext cx="5222880" cy="459720"/>
            <a:chOff x="2819520" y="2249640"/>
            <a:chExt cx="5222880" cy="459720"/>
          </a:xfrm>
        </p:grpSpPr>
        <p:sp>
          <p:nvSpPr>
            <p:cNvPr id="293" name=""/>
            <p:cNvSpPr/>
            <p:nvPr/>
          </p:nvSpPr>
          <p:spPr>
            <a:xfrm>
              <a:off x="2819520" y="2514600"/>
              <a:ext cx="16002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0840" y="2249640"/>
              <a:ext cx="34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0000"/>
                  </a:solidFill>
                  <a:latin typeface="Arial"/>
                </a:rPr>
                <a:t>USA (200 participations)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600200" y="3048120"/>
            <a:ext cx="6377760" cy="459720"/>
            <a:chOff x="1600200" y="3048120"/>
            <a:chExt cx="6377760" cy="459720"/>
          </a:xfrm>
        </p:grpSpPr>
        <p:sp>
          <p:nvSpPr>
            <p:cNvPr id="296" name=""/>
            <p:cNvSpPr/>
            <p:nvPr/>
          </p:nvSpPr>
          <p:spPr>
            <a:xfrm flipV="1">
              <a:off x="1600200" y="3313080"/>
              <a:ext cx="2449440" cy="39600"/>
            </a:xfrm>
            <a:prstGeom prst="line">
              <a:avLst/>
            </a:prstGeom>
            <a:ln w="9360">
              <a:solidFill>
                <a:srgbClr val="0000f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91480" y="3048120"/>
              <a:ext cx="378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0000"/>
                  </a:solidFill>
                  <a:latin typeface="Arial"/>
                </a:rPr>
                <a:t>Russia (200 participations)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273920" y="3809880"/>
            <a:ext cx="4434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ina, for the first time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rgest third country participant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95200" y="5067360"/>
            <a:ext cx="51429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participation in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 Projects (FP6) (call 1 to 3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26 participations in 15 project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33720" y="-27000"/>
            <a:ext cx="7111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can we improve further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U-China IST Co-operation :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447920"/>
            <a:ext cx="91440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-operation in FP6: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essential element of the programm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inese experts to register in the FP6 databa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s://emmfp6.cordis.lu/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2971800"/>
            <a:ext cx="33526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further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95280"/>
            <a:ext cx="5559480" cy="26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T Web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cordis.lu/is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T infodesk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-Mail :  ist@cec.eu.int         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x     :  +32 2 296 83 88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284720"/>
            <a:ext cx="838188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egation of the European Commission to Chin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s. Alison Birket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- mail: Alison.Birkett@cec.eu.in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delchn.cec.eu.int/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346040" y="1379520"/>
            <a:ext cx="6062760" cy="493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0" y="6058080"/>
            <a:ext cx="9144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gital Olym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ww.EuroChina-IT.org/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further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rcRect l="16852" t="28684" r="17352" b="29752"/>
          <a:stretch/>
        </p:blipFill>
        <p:spPr>
          <a:xfrm>
            <a:off x="2819520" y="2362320"/>
            <a:ext cx="4038480" cy="1846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973600" y="304920"/>
            <a:ext cx="3762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ank you !</a:t>
            </a:r>
            <a:endParaRPr b="0" lang="en-US" sz="5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activities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European Commi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27428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through successive four yea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amework Programmes (FP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strategic reorientations and financial scope decided at the beginning of each FP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6 covers 2002 to 200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9907" r="0" b="0"/>
          <a:stretch/>
        </p:blipFill>
        <p:spPr>
          <a:xfrm>
            <a:off x="6245280" y="1295280"/>
            <a:ext cx="28987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72080" y="25844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43040" y="30862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59240" y="30862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4040" y="308628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33840" y="50166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81680" y="50166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33840" y="5022720"/>
            <a:ext cx="7920" cy="80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33520" y="5486400"/>
            <a:ext cx="7924680" cy="380880"/>
            <a:chOff x="533520" y="5486400"/>
            <a:chExt cx="7924680" cy="380880"/>
          </a:xfrm>
        </p:grpSpPr>
        <p:sp>
          <p:nvSpPr>
            <p:cNvPr id="122" name=""/>
            <p:cNvSpPr/>
            <p:nvPr/>
          </p:nvSpPr>
          <p:spPr>
            <a:xfrm>
              <a:off x="7335720" y="58244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5486400"/>
              <a:ext cx="3962160" cy="38088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1d528d"/>
              </a:solidFill>
              <a:miter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-ordination of Research Activiti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5486400"/>
              <a:ext cx="3962520" cy="38088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1d528d"/>
              </a:solidFill>
              <a:miter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velopment of RTD/Innovation Polici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648320"/>
            <a:ext cx="7924680" cy="609480"/>
            <a:chOff x="533520" y="4648320"/>
            <a:chExt cx="7924680" cy="609480"/>
          </a:xfrm>
        </p:grpSpPr>
        <p:sp>
          <p:nvSpPr>
            <p:cNvPr id="126" name=""/>
            <p:cNvSpPr/>
            <p:nvPr/>
          </p:nvSpPr>
          <p:spPr>
            <a:xfrm>
              <a:off x="1521000" y="5016600"/>
              <a:ext cx="9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77120" y="4648320"/>
              <a:ext cx="1981080" cy="6094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ience and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4648320"/>
              <a:ext cx="1981080" cy="6094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novation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nd SM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4648320"/>
              <a:ext cx="1981080" cy="6094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d Mobility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464832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7632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rastructur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610320" y="25844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5029200" y="2971800"/>
            <a:ext cx="2590560" cy="457200"/>
          </a:xfrm>
          <a:prstGeom prst="rect">
            <a:avLst/>
          </a:prstGeom>
          <a:solidFill>
            <a:srgbClr val="ff9933"/>
          </a:solidFill>
          <a:ln w="3240">
            <a:solidFill>
              <a:srgbClr val="1d528d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 Activities Covering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ider Field of Research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3520" y="1905120"/>
            <a:ext cx="5562360" cy="2590560"/>
            <a:chOff x="533520" y="1905120"/>
            <a:chExt cx="5562360" cy="2590560"/>
          </a:xfrm>
        </p:grpSpPr>
        <p:sp>
          <p:nvSpPr>
            <p:cNvPr id="134" name=""/>
            <p:cNvSpPr/>
            <p:nvPr/>
          </p:nvSpPr>
          <p:spPr>
            <a:xfrm>
              <a:off x="1035000" y="25844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3040" y="25844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47840" y="2590920"/>
              <a:ext cx="7920" cy="4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47840" y="308628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520" y="1905120"/>
              <a:ext cx="5562360" cy="304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Life Sciences, Genomics and Biotechnology for Health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520" y="2209680"/>
              <a:ext cx="5562360" cy="30492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Information Society Technologi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520" y="2514600"/>
              <a:ext cx="5562360" cy="76212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136842" dir="67064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Nanotechnologies and Nanosciences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Knowledge-Based</a:t>
              </a: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Multifunctional</a:t>
              </a: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Materials and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New Production Processes and Devic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520" y="3276720"/>
              <a:ext cx="5562360" cy="304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eronautics and Space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520" y="3581280"/>
              <a:ext cx="5562360" cy="30492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Food Quality and Safety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886200"/>
              <a:ext cx="5562360" cy="30492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Sustainable Development, Global Change and Ecosystem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4191120"/>
              <a:ext cx="5562360" cy="304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Citizens and Governance in the Knowledge Society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5530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lin ang="10800000"/>
          </a:gradFill>
          <a:ln w="3240">
            <a:solidFill>
              <a:srgbClr val="1d528d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/Emerging S&amp;T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Policy Suppor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2819520"/>
            <a:ext cx="1905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lin ang="10800000"/>
          </a:gradFill>
          <a:ln w="3240">
            <a:solidFill>
              <a:srgbClr val="1d528d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E Activiti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3657600"/>
            <a:ext cx="1905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lin ang="10800000"/>
          </a:gradFill>
          <a:ln w="3240">
            <a:solidFill>
              <a:srgbClr val="1d528d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-operation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1905120"/>
            <a:ext cx="0" cy="25905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203040"/>
            <a:ext cx="6957720" cy="4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components of FP6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-76320"/>
            <a:ext cx="7010280" cy="99072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FP6 Budget break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254480" y="1295280"/>
          <a:ext cx="4660920" cy="54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4480" y="1295280"/>
                    <a:ext cx="4660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4"/>
          <a:srcRect l="0" t="10886" r="0" b="0"/>
          <a:stretch/>
        </p:blipFill>
        <p:spPr>
          <a:xfrm>
            <a:off x="0" y="2362320"/>
            <a:ext cx="40384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 in FP6 - objectives &amp; strate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 objectiv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rengthening Europe’s competitiveness &amp; technology bas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uilding the information and knowledge society for AL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trateg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Concentration and focus, building critical mas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Capitalise on Europe’s strength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Visionary,  forward looking (longer term / high risk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Combine flexibility with greater speed in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ope of activities: Core technologies &amp; “pull-through” application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10000" t="13755" r="10000" b="6767"/>
          <a:stretch/>
        </p:blipFill>
        <p:spPr>
          <a:xfrm>
            <a:off x="6934320" y="2514600"/>
            <a:ext cx="2022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01600" y="2467080"/>
            <a:ext cx="1876320" cy="1143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Pervasive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mobile, wireless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trustful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infrastructur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5240" y="2454120"/>
            <a:ext cx="2057400" cy="114300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Miniaturised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low cost low powe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components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&amp; µsytem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08160" y="2847960"/>
            <a:ext cx="4978440" cy="258840"/>
            <a:chOff x="2108160" y="2847960"/>
            <a:chExt cx="4978440" cy="258840"/>
          </a:xfrm>
        </p:grpSpPr>
        <p:sp>
          <p:nvSpPr>
            <p:cNvPr id="160" name=""/>
            <p:cNvSpPr/>
            <p:nvPr/>
          </p:nvSpPr>
          <p:spPr>
            <a:xfrm>
              <a:off x="2108160" y="2847960"/>
              <a:ext cx="381240" cy="228600"/>
            </a:xfrm>
            <a:prstGeom prst="leftRightArrow">
              <a:avLst>
                <a:gd name="adj1" fmla="val 50000"/>
                <a:gd name="adj2" fmla="val 33200"/>
              </a:avLst>
            </a:prstGeom>
            <a:solidFill>
              <a:srgbClr val="0066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21320" y="2868480"/>
              <a:ext cx="380880" cy="228600"/>
            </a:xfrm>
            <a:prstGeom prst="leftRightArrow">
              <a:avLst>
                <a:gd name="adj1" fmla="val 50000"/>
                <a:gd name="adj2" fmla="val 33169"/>
              </a:avLst>
            </a:prstGeom>
            <a:solidFill>
              <a:srgbClr val="0066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5720" y="2878200"/>
              <a:ext cx="380880" cy="228600"/>
            </a:xfrm>
            <a:prstGeom prst="leftRightArrow">
              <a:avLst>
                <a:gd name="adj1" fmla="val 50000"/>
                <a:gd name="adj2" fmla="val 33169"/>
              </a:avLst>
            </a:prstGeom>
            <a:solidFill>
              <a:srgbClr val="0066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049720" y="246708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007a00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Natural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interaction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with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‘ 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knowledge ’ 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07120" y="2467080"/>
            <a:ext cx="198144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ed IST fo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jor societal &amp;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onomic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78320" y="4067280"/>
            <a:ext cx="1219320" cy="761760"/>
          </a:xfrm>
          <a:prstGeom prst="roundRect">
            <a:avLst>
              <a:gd name="adj" fmla="val 16667"/>
            </a:avLst>
          </a:prstGeom>
          <a:solidFill>
            <a:srgbClr val="007a00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Knowledge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technologi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78320" y="5133960"/>
            <a:ext cx="1219320" cy="762120"/>
          </a:xfrm>
          <a:prstGeom prst="roundRect">
            <a:avLst>
              <a:gd name="adj" fmla="val 16667"/>
            </a:avLst>
          </a:prstGeom>
          <a:solidFill>
            <a:srgbClr val="007a00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interfac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5440" y="406728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Communication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&amp; networking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440" y="5133960"/>
            <a:ext cx="1371600" cy="762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Software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040" y="406728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µ, nano &amp; opt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electronic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0040" y="513396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µ and nan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system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377676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ust &amp; Security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51760" y="4183200"/>
            <a:ext cx="1839960" cy="6858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T for societal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llenges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49960" y="4938840"/>
            <a:ext cx="1841760" cy="6858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T for work &amp;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llenges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1120" y="5695920"/>
            <a:ext cx="1830600" cy="6858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manding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933560"/>
            <a:ext cx="6782040" cy="2133720"/>
          </a:xfrm>
          <a:prstGeom prst="ellipse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4600" y="1666800"/>
            <a:ext cx="6026040" cy="368280"/>
          </a:xfrm>
          <a:prstGeom prst="rect">
            <a:avLst/>
          </a:prstGeom>
          <a:solidFill>
            <a:srgbClr val="1d528d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UILDING BLOC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2238480"/>
            <a:ext cx="2057400" cy="1523880"/>
          </a:xfrm>
          <a:prstGeom prst="ellipse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75080" y="1628640"/>
            <a:ext cx="1756440" cy="368280"/>
          </a:xfrm>
          <a:prstGeom prst="rect">
            <a:avLst/>
          </a:prstGeom>
          <a:solidFill>
            <a:srgbClr val="1d528d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-90360"/>
            <a:ext cx="7010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cture of the IST Programme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228600" y="1219320"/>
          <a:ext cx="8686800" cy="5543280"/>
        </p:xfrm>
        <a:graphic>
          <a:graphicData uri="http://schemas.openxmlformats.org/drawingml/2006/table">
            <a:tbl>
              <a:tblPr/>
              <a:tblGrid>
                <a:gridCol w="7373880"/>
                <a:gridCol w="13129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rategic Objectiv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hotonic component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7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icro/nano based sub-system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8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mbedded System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8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dvanced Grid Technologies, Systems and Servic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pen Platforms for software and servic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7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esearch networking testbed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8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ultimodal Interfac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4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CT for Networked Business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ollaborative Working Environment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ccess to and preservation of cultural and scientific resourc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Inclusion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9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CT for Environmental Risk Managemen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ET Proactive Initiativ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0" y="60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53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all 5 : 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Opened 17 May 2005,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losing 21 September  2005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574 Millio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Participation r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320" y="1463760"/>
            <a:ext cx="8534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Participants are all the legal entities that will contribute to the projec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nimum number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363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from EU Member States or Associated St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with 2 from Member States or Accession Countries for all instruments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363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ossible for specific support actions (SSA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2492280"/>
            <a:ext cx="9144000" cy="3260880"/>
          </a:xfrm>
          <a:prstGeom prst="roundRect">
            <a:avLst>
              <a:gd name="adj" fmla="val 5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ÉANT - creating the pan-European network infrastructure to explore developments in telecommunications technolog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Services for National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nd Education Network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testing - GRIDs, IPv6, ..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152280"/>
            <a:ext cx="7010280" cy="7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ANT: The Flagship of Network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 in Europ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8245" r="0" b="8245"/>
          <a:stretch/>
        </p:blipFill>
        <p:spPr>
          <a:xfrm>
            <a:off x="5638680" y="3048120"/>
            <a:ext cx="29847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0T03:06:56Z</dcterms:created>
  <dc:creator/>
  <dc:description/>
  <dc:language>en-US</dc:language>
  <cp:lastModifiedBy> buaa</cp:lastModifiedBy>
  <dcterms:modified xsi:type="dcterms:W3CDTF">2005-06-21T06:21:20Z</dcterms:modified>
  <cp:revision>44</cp:revision>
  <dc:subject/>
  <dc:title>Introduction to IST/FP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