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23.jpeg" ContentType="image/jpeg"/>
  <Override PartName="/ppt/media/image22.png" ContentType="image/png"/>
  <Override PartName="/ppt/media/image28.png" ContentType="image/png"/>
  <Override PartName="/ppt/media/image30.png" ContentType="image/png"/>
  <Override PartName="/ppt/media/image8.jpeg" ContentType="image/jpeg"/>
  <Override PartName="/ppt/media/image7.wmf" ContentType="image/x-wmf"/>
  <Override PartName="/ppt/media/image9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.wmf" ContentType="image/x-wmf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14400" y="459108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3"/>
          </p:nvPr>
        </p:nvSpPr>
        <p:spPr>
          <a:xfrm>
            <a:off x="-36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4"/>
          </p:nvPr>
        </p:nvSpPr>
        <p:spPr>
          <a:xfrm>
            <a:off x="388584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3EF425C-81DB-4A49-B460-7D92743AC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584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9CF80E4-35E3-4F2B-B79B-8357584B3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589280"/>
            <a:ext cx="5029200" cy="43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lvl="1"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4EF4AFB-A2D6-4105-B84A-F1AC290A9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014480" y="7272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59108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P 2005-06 structure is an evolution of the WP 2003-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level conceptual structure consisting of 3 layers to abstract from details and build the invisible knowledge G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584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6872ACD-7009-45AE-8572-7FCC81576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627200" y="297000"/>
            <a:ext cx="3519360" cy="26398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153720" y="3041640"/>
            <a:ext cx="6484680" cy="6354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584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0FDE73E-52F1-4543-B066-241B344A9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625760" y="295200"/>
            <a:ext cx="3495600" cy="26226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53720" y="3039840"/>
            <a:ext cx="6484680" cy="635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0665-F959-4142-B089-929C89067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" y="350748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5F81-8EF1-429C-BE89-3F9EFDCA5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2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FC48-B474-4CE7-80A7-08446DFA2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084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8508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660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084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8508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A2662-108A-41E2-9189-E552E69436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88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EABA-1ED9-4AC6-9D8F-5262DD408A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62B34-5078-4666-9352-98A552D6E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9E52-62C7-4DDC-A0BE-912AED2BC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5959-D7AD-473A-8FCF-51EDFA26B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55760" y="18072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88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6EB2-AC3E-4F24-A435-0B56BCBE9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2463-F041-4FA9-BC36-B2B395CA5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2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9F73-80B8-4EED-ACBD-61033346D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3A28-3FF5-4AFF-A878-F3358E28D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1509840" y="188640"/>
            <a:ext cx="6487920" cy="3474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1" marL="900000" indent="-37764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2" marL="130824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3" marL="1803240" indent="-27936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4" marL="221148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5" marL="221148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6" marL="221148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586320" y="662004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1210-D51E-493F-9752-3FC5F924FA99}" type="slidenum">
              <a:rPr b="1" lang="en-GB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809720" y="6097680"/>
            <a:ext cx="57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Information Society and Media Directorate-General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Grid Technologies Unit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Grid@Asia - Beijing, 21 June 2005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2080" y="5979960"/>
            <a:ext cx="85550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200160" y="4340160"/>
            <a:ext cx="727200" cy="727200"/>
          </a:xfrm>
          <a:prstGeom prst="donut">
            <a:avLst>
              <a:gd name="adj" fmla="val 2118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997760" y="-287280"/>
            <a:ext cx="784440" cy="814320"/>
          </a:xfrm>
          <a:prstGeom prst="donut">
            <a:avLst>
              <a:gd name="adj" fmla="val 15425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34800" y="-258840"/>
            <a:ext cx="1175040" cy="1230480"/>
          </a:xfrm>
          <a:prstGeom prst="donut">
            <a:avLst>
              <a:gd name="adj" fmla="val 15425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217440" y="928800"/>
            <a:ext cx="450720" cy="34257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0" name="" descr="European Emblem"/>
          <p:cNvPicPr/>
          <p:nvPr/>
        </p:nvPicPr>
        <p:blipFill>
          <a:blip r:embed="rId2"/>
          <a:stretch/>
        </p:blipFill>
        <p:spPr>
          <a:xfrm>
            <a:off x="343080" y="6134040"/>
            <a:ext cx="804600" cy="53496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7677000" y="6010200"/>
          <a:ext cx="12384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6010200"/>
                    <a:ext cx="12384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jpeg"/><Relationship Id="rId13" Type="http://schemas.openxmlformats.org/officeDocument/2006/relationships/image" Target="../media/image22.png"/><Relationship Id="rId14" Type="http://schemas.openxmlformats.org/officeDocument/2006/relationships/image" Target="../media/image23.jpeg"/><Relationship Id="rId15" Type="http://schemas.openxmlformats.org/officeDocument/2006/relationships/image" Target="../media/image24.png"/><Relationship Id="rId16" Type="http://schemas.openxmlformats.org/officeDocument/2006/relationships/image" Target="../media/image25.jpe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image" Target="../media/image30.png"/><Relationship Id="rId22" Type="http://schemas.openxmlformats.org/officeDocument/2006/relationships/image" Target="../media/image31.png"/><Relationship Id="rId23" Type="http://schemas.openxmlformats.org/officeDocument/2006/relationships/image" Target="../media/image32.png"/><Relationship Id="rId24" Type="http://schemas.openxmlformats.org/officeDocument/2006/relationships/image" Target="../media/image33.png"/><Relationship Id="rId25" Type="http://schemas.openxmlformats.org/officeDocument/2006/relationships/image" Target="../media/image34.png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ordis.lu/ist" TargetMode="External"/><Relationship Id="rId2" Type="http://schemas.openxmlformats.org/officeDocument/2006/relationships/hyperlink" Target="http://www.cordis.lu/ist" TargetMode="External"/><Relationship Id="rId3" Type="http://schemas.openxmlformats.org/officeDocument/2006/relationships/hyperlink" Target="http://www.cordis.lu/ist/grids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8760" y="1014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The EU Grid Technologies Programme</a:t>
            </a:r>
            <a:br>
              <a:rPr sz="3000"/>
            </a:b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12560" y="3152880"/>
            <a:ext cx="42195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12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Jorge Gasós</a:t>
            </a:r>
            <a:endParaRPr b="1" lang="en-US" sz="17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cc"/>
                </a:solidFill>
                <a:latin typeface="Arial"/>
              </a:rPr>
              <a:t>Grid Technologies Unit</a:t>
            </a:r>
            <a:endParaRPr b="1" lang="en-US" sz="17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cc"/>
                </a:solidFill>
                <a:latin typeface="Arial"/>
              </a:rPr>
              <a:t>European Commission</a:t>
            </a:r>
            <a:endParaRPr b="1" lang="en-US" sz="17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cc"/>
                </a:solidFill>
                <a:latin typeface="Arial"/>
              </a:rPr>
              <a:t>jorge.gasos@cec.eu.int</a:t>
            </a:r>
            <a:endParaRPr b="1" lang="en-US" sz="15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cc"/>
                </a:solidFill>
                <a:latin typeface="Arial"/>
              </a:rPr>
              <a:t>http://www.cordis.lu/ist/grids</a:t>
            </a:r>
            <a:endParaRPr b="1" lang="en-US" sz="15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14800" y="2179800"/>
            <a:ext cx="3876840" cy="32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CF25-B275-43E9-922C-2239A1B10FE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895480" y="0"/>
            <a:ext cx="2934000" cy="1457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369" name=""/>
          <p:cNvSpPr/>
          <p:nvPr/>
        </p:nvSpPr>
        <p:spPr>
          <a:xfrm>
            <a:off x="216000" y="1244520"/>
            <a:ext cx="2666880" cy="2667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wo testbed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- E-Learning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- Hospita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- Generalisation to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other application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4600" y="4862520"/>
            <a:ext cx="2230560" cy="1098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lcom operator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- Telefonica I&amp;D (SP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- Telnor (N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- Tel Inst (P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29160" y="2460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73200" y="4873680"/>
            <a:ext cx="2411640" cy="1037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Grid Providers &amp; Industry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- HLRS (D)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- CCLRC (UK)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- Uni Hohenheim (D)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- Datamat (I)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30800" y="2695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03640" y="4892760"/>
            <a:ext cx="1724040" cy="1037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Universities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- Uni BW München (D)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- CRMPA (I)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- NTUA (Gr)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- UPC(SP)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29560" y="4875120"/>
            <a:ext cx="1984320" cy="10674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T Industry (tools &amp; services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- BOC (UK)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SchlumbergerSEMA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158840" y="1744560"/>
          <a:ext cx="5300640" cy="2783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8840" y="1744560"/>
                    <a:ext cx="5300640" cy="27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6299280" y="1536840"/>
            <a:ext cx="2603520" cy="30351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echnology Vision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GG based on next generation IPv6 networks and supporting security, QoS, accounting /billing, user &amp; context awareness</a:t>
            </a: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se of mobile comm’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yond 3G.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ynamic Virtual  Organisations based on trust management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8680" y="4537080"/>
            <a:ext cx="80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Mobile Grid architectures and services for dynamic virtual organisation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26320" y="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99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4A75-A0F3-4F9D-B393-BA46C037A1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04920" y="1130400"/>
            <a:ext cx="2666880" cy="266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Four sectors of international economic importance: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utomotive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rmaceutica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erospace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teorology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91320" y="1054080"/>
            <a:ext cx="2895480" cy="2639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ven Grid-technology development areas: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rid infrastructure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istributed Data Acces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 Administration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orkflow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Ontologie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nalysis Service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Knowledge Service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7520" y="377208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he solution of industrially relevant complex problems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using data-centric Grid technology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133720" y="825480"/>
            <a:ext cx="4419360" cy="2933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3061080" y="189000"/>
            <a:ext cx="323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>
                <a:solidFill>
                  <a:srgbClr val="ff5050"/>
                </a:solidFill>
                <a:latin typeface="Impact"/>
              </a:rPr>
              <a:t>SIMDAT          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834320" y="420840"/>
            <a:ext cx="576000" cy="456840"/>
            <a:chOff x="7834320" y="420840"/>
            <a:chExt cx="576000" cy="456840"/>
          </a:xfrm>
        </p:grpSpPr>
        <p:sp>
          <p:nvSpPr>
            <p:cNvPr id="387" name=""/>
            <p:cNvSpPr/>
            <p:nvPr/>
          </p:nvSpPr>
          <p:spPr>
            <a:xfrm>
              <a:off x="7978680" y="420840"/>
              <a:ext cx="0" cy="4568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21600" y="420840"/>
              <a:ext cx="0" cy="4568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265960" y="420840"/>
              <a:ext cx="0" cy="4568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34320" y="496080"/>
              <a:ext cx="57600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34320" y="649080"/>
              <a:ext cx="57600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34320" y="800280"/>
              <a:ext cx="57600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6654960" y="4546440"/>
            <a:ext cx="1981080" cy="1371600"/>
            <a:chOff x="6654960" y="4546440"/>
            <a:chExt cx="1981080" cy="1371600"/>
          </a:xfrm>
        </p:grpSpPr>
        <p:sp>
          <p:nvSpPr>
            <p:cNvPr id="394" name=""/>
            <p:cNvSpPr/>
            <p:nvPr/>
          </p:nvSpPr>
          <p:spPr>
            <a:xfrm>
              <a:off x="6654960" y="4546440"/>
              <a:ext cx="1981080" cy="13716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End Users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395" name="" descr=""/>
            <p:cNvPicPr/>
            <p:nvPr/>
          </p:nvPicPr>
          <p:blipFill>
            <a:blip r:embed="rId2"/>
            <a:srcRect l="1963" t="3484" r="86277" b="79112"/>
            <a:stretch/>
          </p:blipFill>
          <p:spPr>
            <a:xfrm>
              <a:off x="7753320" y="5156280"/>
              <a:ext cx="38088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3"/>
            <a:stretch/>
          </p:blipFill>
          <p:spPr>
            <a:xfrm>
              <a:off x="6686640" y="5718240"/>
              <a:ext cx="1035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7" name=""/>
            <p:cNvGrpSpPr/>
            <p:nvPr/>
          </p:nvGrpSpPr>
          <p:grpSpPr>
            <a:xfrm>
              <a:off x="6680160" y="5322960"/>
              <a:ext cx="457200" cy="304560"/>
              <a:chOff x="6680160" y="5322960"/>
              <a:chExt cx="457200" cy="304560"/>
            </a:xfrm>
          </p:grpSpPr>
          <p:pic>
            <p:nvPicPr>
              <p:cNvPr id="398" name="" descr=""/>
              <p:cNvPicPr/>
              <p:nvPr/>
            </p:nvPicPr>
            <p:blipFill>
              <a:blip r:embed="rId4"/>
              <a:srcRect l="0" t="0" r="59708" b="0"/>
              <a:stretch/>
            </p:blipFill>
            <p:spPr>
              <a:xfrm>
                <a:off x="6680160" y="5322960"/>
                <a:ext cx="457200" cy="12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" descr=""/>
              <p:cNvPicPr/>
              <p:nvPr/>
            </p:nvPicPr>
            <p:blipFill>
              <a:blip r:embed="rId5"/>
              <a:srcRect l="0" t="0" r="59775" b="55595"/>
              <a:stretch/>
            </p:blipFill>
            <p:spPr>
              <a:xfrm>
                <a:off x="6680160" y="5448240"/>
                <a:ext cx="457200" cy="179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00" name="" descr=""/>
            <p:cNvPicPr/>
            <p:nvPr/>
          </p:nvPicPr>
          <p:blipFill>
            <a:blip r:embed="rId6"/>
            <a:srcRect l="8694" t="0" r="64519" b="0"/>
            <a:stretch/>
          </p:blipFill>
          <p:spPr>
            <a:xfrm>
              <a:off x="6696000" y="4924440"/>
              <a:ext cx="3841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Audi logo"/>
            <p:cNvPicPr/>
            <p:nvPr/>
          </p:nvPicPr>
          <p:blipFill>
            <a:blip r:embed="rId7"/>
            <a:srcRect l="0" t="33307" r="44472" b="9685"/>
            <a:stretch/>
          </p:blipFill>
          <p:spPr>
            <a:xfrm>
              <a:off x="7175520" y="4908600"/>
              <a:ext cx="469800" cy="3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8"/>
            <a:srcRect l="49983" t="24949" r="34014" b="14181"/>
            <a:stretch/>
          </p:blipFill>
          <p:spPr>
            <a:xfrm>
              <a:off x="8137440" y="5537160"/>
              <a:ext cx="3222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Met Office logo"/>
            <p:cNvPicPr/>
            <p:nvPr/>
          </p:nvPicPr>
          <p:blipFill>
            <a:blip r:embed="rId9"/>
            <a:srcRect l="71172" t="0" r="0" b="0"/>
            <a:stretch/>
          </p:blipFill>
          <p:spPr>
            <a:xfrm>
              <a:off x="8213760" y="5137200"/>
              <a:ext cx="3618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Logo Météo France"/>
            <p:cNvPicPr/>
            <p:nvPr/>
          </p:nvPicPr>
          <p:blipFill>
            <a:blip r:embed="rId10"/>
            <a:stretch/>
          </p:blipFill>
          <p:spPr>
            <a:xfrm>
              <a:off x="7162920" y="5494320"/>
              <a:ext cx="685800" cy="1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Eumetsat"/>
            <p:cNvPicPr/>
            <p:nvPr/>
          </p:nvPicPr>
          <p:blipFill>
            <a:blip r:embed="rId11"/>
            <a:stretch/>
          </p:blipFill>
          <p:spPr>
            <a:xfrm>
              <a:off x="7164360" y="5346720"/>
              <a:ext cx="555480" cy="1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6" name=""/>
          <p:cNvGrpSpPr/>
          <p:nvPr/>
        </p:nvGrpSpPr>
        <p:grpSpPr>
          <a:xfrm>
            <a:off x="3505320" y="4546440"/>
            <a:ext cx="1981080" cy="1371600"/>
            <a:chOff x="3505320" y="4546440"/>
            <a:chExt cx="1981080" cy="1371600"/>
          </a:xfrm>
        </p:grpSpPr>
        <p:sp>
          <p:nvSpPr>
            <p:cNvPr id="407" name=""/>
            <p:cNvSpPr/>
            <p:nvPr/>
          </p:nvSpPr>
          <p:spPr>
            <a:xfrm>
              <a:off x="3505320" y="4546440"/>
              <a:ext cx="1981080" cy="13716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 Narrow"/>
                </a:rPr>
                <a:t>Capability Providers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408" name="" descr="Home page"/>
            <p:cNvPicPr/>
            <p:nvPr/>
          </p:nvPicPr>
          <p:blipFill>
            <a:blip r:embed="rId12"/>
            <a:srcRect l="0" t="0" r="71456" b="0"/>
            <a:stretch/>
          </p:blipFill>
          <p:spPr>
            <a:xfrm>
              <a:off x="3581280" y="5308200"/>
              <a:ext cx="304920" cy="2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13"/>
            <a:srcRect l="0" t="0" r="71673" b="15017"/>
            <a:stretch/>
          </p:blipFill>
          <p:spPr>
            <a:xfrm>
              <a:off x="3657600" y="4927320"/>
              <a:ext cx="838080" cy="2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14"/>
            <a:srcRect l="0" t="30772" r="0" b="0"/>
            <a:stretch/>
          </p:blipFill>
          <p:spPr>
            <a:xfrm>
              <a:off x="4648320" y="5155920"/>
              <a:ext cx="76176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back to LION bioscience home"/>
            <p:cNvPicPr/>
            <p:nvPr/>
          </p:nvPicPr>
          <p:blipFill>
            <a:blip r:embed="rId15"/>
            <a:stretch/>
          </p:blipFill>
          <p:spPr>
            <a:xfrm>
              <a:off x="4648320" y="5536800"/>
              <a:ext cx="68580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16"/>
            <a:srcRect l="0" t="0" r="0" b="22248"/>
            <a:stretch/>
          </p:blipFill>
          <p:spPr>
            <a:xfrm>
              <a:off x="4572000" y="4927320"/>
              <a:ext cx="76212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17"/>
            <a:srcRect l="0" t="0" r="79026" b="33917"/>
            <a:stretch/>
          </p:blipFill>
          <p:spPr>
            <a:xfrm>
              <a:off x="4038480" y="5308200"/>
              <a:ext cx="44136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18"/>
            <a:srcRect l="12975" t="0" r="16670" b="37209"/>
            <a:stretch/>
          </p:blipFill>
          <p:spPr>
            <a:xfrm>
              <a:off x="3581280" y="5630760"/>
              <a:ext cx="990720" cy="25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5" name=""/>
          <p:cNvGrpSpPr/>
          <p:nvPr/>
        </p:nvGrpSpPr>
        <p:grpSpPr>
          <a:xfrm>
            <a:off x="660240" y="4546440"/>
            <a:ext cx="1981080" cy="1371600"/>
            <a:chOff x="660240" y="4546440"/>
            <a:chExt cx="1981080" cy="1371600"/>
          </a:xfrm>
        </p:grpSpPr>
        <p:sp>
          <p:nvSpPr>
            <p:cNvPr id="416" name=""/>
            <p:cNvSpPr/>
            <p:nvPr/>
          </p:nvSpPr>
          <p:spPr>
            <a:xfrm>
              <a:off x="660240" y="4546440"/>
              <a:ext cx="1981080" cy="13716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Grid Technologists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736200" y="4927680"/>
              <a:ext cx="371520" cy="357120"/>
              <a:chOff x="736200" y="4927680"/>
              <a:chExt cx="371520" cy="357120"/>
            </a:xfrm>
          </p:grpSpPr>
          <p:sp>
            <p:nvSpPr>
              <p:cNvPr id="418" name=""/>
              <p:cNvSpPr/>
              <p:nvPr/>
            </p:nvSpPr>
            <p:spPr>
              <a:xfrm>
                <a:off x="736200" y="4927680"/>
                <a:ext cx="371520" cy="35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pic>
            <p:nvPicPr>
              <p:cNvPr id="419" name="" descr="Gesellschaft"/>
              <p:cNvPicPr/>
              <p:nvPr/>
            </p:nvPicPr>
            <p:blipFill>
              <a:blip r:embed="rId19"/>
              <a:srcRect l="0" t="0" r="57768" b="47146"/>
              <a:stretch/>
            </p:blipFill>
            <p:spPr>
              <a:xfrm>
                <a:off x="784080" y="4956120"/>
                <a:ext cx="304560" cy="307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0" name="" descr=""/>
            <p:cNvPicPr/>
            <p:nvPr/>
          </p:nvPicPr>
          <p:blipFill>
            <a:blip r:embed="rId20"/>
            <a:srcRect l="4905" t="31773" r="60789" b="0"/>
            <a:stretch/>
          </p:blipFill>
          <p:spPr>
            <a:xfrm>
              <a:off x="1269720" y="4927680"/>
              <a:ext cx="6858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Intel(R)"/>
            <p:cNvPicPr/>
            <p:nvPr/>
          </p:nvPicPr>
          <p:blipFill>
            <a:blip r:embed="rId21"/>
            <a:srcRect l="22614" t="0" r="32180" b="20522"/>
            <a:stretch/>
          </p:blipFill>
          <p:spPr>
            <a:xfrm>
              <a:off x="1422000" y="5156280"/>
              <a:ext cx="53352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22"/>
            <a:srcRect l="1798" t="17956" r="87213" b="75415"/>
            <a:stretch/>
          </p:blipFill>
          <p:spPr>
            <a:xfrm>
              <a:off x="736200" y="5297400"/>
              <a:ext cx="6858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Oracle Corporation Home Page"/>
            <p:cNvPicPr/>
            <p:nvPr/>
          </p:nvPicPr>
          <p:blipFill>
            <a:blip r:embed="rId23"/>
            <a:stretch/>
          </p:blipFill>
          <p:spPr>
            <a:xfrm>
              <a:off x="1498320" y="5497560"/>
              <a:ext cx="108576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Universität Karlsruhe"/>
            <p:cNvPicPr/>
            <p:nvPr/>
          </p:nvPicPr>
          <p:blipFill>
            <a:blip r:embed="rId24"/>
            <a:stretch/>
          </p:blipFill>
          <p:spPr>
            <a:xfrm>
              <a:off x="964800" y="5689440"/>
              <a:ext cx="1524240" cy="1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The IT Innovation Centre"/>
            <p:cNvPicPr/>
            <p:nvPr/>
          </p:nvPicPr>
          <p:blipFill>
            <a:blip r:embed="rId25"/>
            <a:stretch/>
          </p:blipFill>
          <p:spPr>
            <a:xfrm>
              <a:off x="2107800" y="4930560"/>
              <a:ext cx="381240" cy="37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"/>
          <p:cNvSpPr/>
          <p:nvPr/>
        </p:nvSpPr>
        <p:spPr>
          <a:xfrm>
            <a:off x="8626320" y="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99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CA84-2388-488A-B9D1-F937E2BDB6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49160" y="231840"/>
            <a:ext cx="72262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Work Programme 2005-2006</a:t>
            </a:r>
            <a:br>
              <a:rPr sz="2100"/>
            </a:b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Advanced Grid Technologies, Systems and Service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7815240" y="2467080"/>
            <a:ext cx="712800" cy="3232080"/>
          </a:xfrm>
          <a:custGeom>
            <a:avLst/>
            <a:gdLst/>
            <a:ahLst/>
            <a:rect l="l" t="t" r="r" b="b"/>
            <a:pathLst>
              <a:path w="1101" h="4251">
                <a:moveTo>
                  <a:pt x="550" y="0"/>
                </a:moveTo>
                <a:lnTo>
                  <a:pt x="1101" y="849"/>
                </a:lnTo>
                <a:lnTo>
                  <a:pt x="827" y="849"/>
                </a:lnTo>
                <a:lnTo>
                  <a:pt x="827" y="3401"/>
                </a:lnTo>
                <a:lnTo>
                  <a:pt x="1101" y="3401"/>
                </a:lnTo>
                <a:lnTo>
                  <a:pt x="550" y="4251"/>
                </a:lnTo>
                <a:lnTo>
                  <a:pt x="0" y="3401"/>
                </a:lnTo>
                <a:lnTo>
                  <a:pt x="275" y="3401"/>
                </a:lnTo>
                <a:lnTo>
                  <a:pt x="275" y="849"/>
                </a:lnTo>
                <a:lnTo>
                  <a:pt x="0" y="849"/>
                </a:lnTo>
                <a:lnTo>
                  <a:pt x="550" y="0"/>
                </a:lnTo>
                <a:close/>
              </a:path>
            </a:pathLst>
          </a:cu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5400000">
            <a:off x="7636320" y="3596040"/>
            <a:ext cx="42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853400" y="1281240"/>
            <a:ext cx="636480" cy="1160280"/>
          </a:xfrm>
          <a:custGeom>
            <a:avLst/>
            <a:gdLst/>
            <a:ahLst/>
            <a:rect l="l" t="t" r="r" b="b"/>
            <a:pathLst>
              <a:path w="1076" h="1463">
                <a:moveTo>
                  <a:pt x="538" y="0"/>
                </a:moveTo>
                <a:lnTo>
                  <a:pt x="1076" y="293"/>
                </a:lnTo>
                <a:lnTo>
                  <a:pt x="807" y="293"/>
                </a:lnTo>
                <a:lnTo>
                  <a:pt x="807" y="1171"/>
                </a:lnTo>
                <a:lnTo>
                  <a:pt x="1076" y="1171"/>
                </a:lnTo>
                <a:lnTo>
                  <a:pt x="538" y="1463"/>
                </a:lnTo>
                <a:lnTo>
                  <a:pt x="0" y="1171"/>
                </a:lnTo>
                <a:lnTo>
                  <a:pt x="269" y="1171"/>
                </a:lnTo>
                <a:lnTo>
                  <a:pt x="269" y="293"/>
                </a:lnTo>
                <a:lnTo>
                  <a:pt x="0" y="293"/>
                </a:lnTo>
                <a:lnTo>
                  <a:pt x="538" y="0"/>
                </a:lnTo>
                <a:close/>
              </a:path>
            </a:pathLst>
          </a:cu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1520" y="3044880"/>
            <a:ext cx="1549800" cy="2481840"/>
            <a:chOff x="191520" y="3044880"/>
            <a:chExt cx="1549800" cy="2481840"/>
          </a:xfrm>
        </p:grpSpPr>
        <p:sp>
          <p:nvSpPr>
            <p:cNvPr id="432" name=""/>
            <p:cNvSpPr/>
            <p:nvPr/>
          </p:nvSpPr>
          <p:spPr>
            <a:xfrm>
              <a:off x="222480" y="3044880"/>
              <a:ext cx="151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Application </a:t>
              </a:r>
              <a:br>
                <a:rPr sz="2000"/>
              </a:b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Pul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1520" y="4822920"/>
              <a:ext cx="144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Technology</a:t>
              </a:r>
              <a:br>
                <a:rPr sz="2000"/>
              </a:b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Push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5094000">
              <a:off x="660240" y="4022640"/>
              <a:ext cx="762120" cy="457200"/>
            </a:xfrm>
            <a:custGeom>
              <a:avLst/>
              <a:gdLst/>
              <a:ahLst/>
              <a:rect l="l" t="t" r="r" b="b"/>
              <a:pathLst>
                <a:path w="4684" h="2799">
                  <a:moveTo>
                    <a:pt x="4684" y="1247"/>
                  </a:moveTo>
                  <a:lnTo>
                    <a:pt x="4684" y="2799"/>
                  </a:lnTo>
                  <a:lnTo>
                    <a:pt x="3707" y="2799"/>
                  </a:lnTo>
                  <a:lnTo>
                    <a:pt x="3584" y="2789"/>
                  </a:lnTo>
                  <a:lnTo>
                    <a:pt x="3460" y="2769"/>
                  </a:lnTo>
                  <a:lnTo>
                    <a:pt x="3269" y="2728"/>
                  </a:lnTo>
                  <a:lnTo>
                    <a:pt x="3116" y="2675"/>
                  </a:lnTo>
                  <a:lnTo>
                    <a:pt x="2976" y="2622"/>
                  </a:lnTo>
                  <a:lnTo>
                    <a:pt x="2817" y="2539"/>
                  </a:lnTo>
                  <a:lnTo>
                    <a:pt x="2696" y="2461"/>
                  </a:lnTo>
                  <a:lnTo>
                    <a:pt x="2595" y="2379"/>
                  </a:lnTo>
                  <a:lnTo>
                    <a:pt x="2489" y="2273"/>
                  </a:lnTo>
                  <a:lnTo>
                    <a:pt x="2386" y="2149"/>
                  </a:lnTo>
                  <a:lnTo>
                    <a:pt x="2318" y="2008"/>
                  </a:lnTo>
                  <a:lnTo>
                    <a:pt x="2287" y="1922"/>
                  </a:lnTo>
                  <a:lnTo>
                    <a:pt x="2235" y="1800"/>
                  </a:lnTo>
                  <a:lnTo>
                    <a:pt x="2170" y="1718"/>
                  </a:lnTo>
                  <a:lnTo>
                    <a:pt x="2106" y="1656"/>
                  </a:lnTo>
                  <a:lnTo>
                    <a:pt x="2031" y="1603"/>
                  </a:lnTo>
                  <a:lnTo>
                    <a:pt x="1919" y="1555"/>
                  </a:lnTo>
                  <a:lnTo>
                    <a:pt x="1807" y="1542"/>
                  </a:lnTo>
                  <a:lnTo>
                    <a:pt x="1717" y="1542"/>
                  </a:lnTo>
                  <a:lnTo>
                    <a:pt x="1636" y="1555"/>
                  </a:lnTo>
                  <a:lnTo>
                    <a:pt x="1556" y="1583"/>
                  </a:lnTo>
                  <a:lnTo>
                    <a:pt x="1405" y="1656"/>
                  </a:lnTo>
                  <a:lnTo>
                    <a:pt x="1506" y="1891"/>
                  </a:lnTo>
                  <a:lnTo>
                    <a:pt x="0" y="1440"/>
                  </a:lnTo>
                  <a:lnTo>
                    <a:pt x="726" y="0"/>
                  </a:lnTo>
                  <a:lnTo>
                    <a:pt x="819" y="241"/>
                  </a:lnTo>
                  <a:lnTo>
                    <a:pt x="970" y="176"/>
                  </a:lnTo>
                  <a:lnTo>
                    <a:pt x="1060" y="137"/>
                  </a:lnTo>
                  <a:lnTo>
                    <a:pt x="1140" y="106"/>
                  </a:lnTo>
                  <a:lnTo>
                    <a:pt x="1246" y="82"/>
                  </a:lnTo>
                  <a:lnTo>
                    <a:pt x="1365" y="52"/>
                  </a:lnTo>
                  <a:lnTo>
                    <a:pt x="1457" y="35"/>
                  </a:lnTo>
                  <a:lnTo>
                    <a:pt x="1585" y="20"/>
                  </a:lnTo>
                  <a:lnTo>
                    <a:pt x="1728" y="20"/>
                  </a:lnTo>
                  <a:lnTo>
                    <a:pt x="1869" y="24"/>
                  </a:lnTo>
                  <a:lnTo>
                    <a:pt x="2031" y="52"/>
                  </a:lnTo>
                  <a:lnTo>
                    <a:pt x="2166" y="76"/>
                  </a:lnTo>
                  <a:lnTo>
                    <a:pt x="2276" y="106"/>
                  </a:lnTo>
                  <a:lnTo>
                    <a:pt x="2410" y="155"/>
                  </a:lnTo>
                  <a:lnTo>
                    <a:pt x="2514" y="200"/>
                  </a:lnTo>
                  <a:lnTo>
                    <a:pt x="2615" y="248"/>
                  </a:lnTo>
                  <a:lnTo>
                    <a:pt x="2737" y="319"/>
                  </a:lnTo>
                  <a:lnTo>
                    <a:pt x="2838" y="380"/>
                  </a:lnTo>
                  <a:lnTo>
                    <a:pt x="2939" y="455"/>
                  </a:lnTo>
                  <a:lnTo>
                    <a:pt x="3016" y="525"/>
                  </a:lnTo>
                  <a:lnTo>
                    <a:pt x="3099" y="597"/>
                  </a:lnTo>
                  <a:lnTo>
                    <a:pt x="3185" y="688"/>
                  </a:lnTo>
                  <a:lnTo>
                    <a:pt x="3249" y="754"/>
                  </a:lnTo>
                  <a:lnTo>
                    <a:pt x="3319" y="853"/>
                  </a:lnTo>
                  <a:lnTo>
                    <a:pt x="3368" y="909"/>
                  </a:lnTo>
                  <a:lnTo>
                    <a:pt x="3428" y="971"/>
                  </a:lnTo>
                  <a:lnTo>
                    <a:pt x="3469" y="1007"/>
                  </a:lnTo>
                  <a:lnTo>
                    <a:pt x="3515" y="1041"/>
                  </a:lnTo>
                  <a:lnTo>
                    <a:pt x="3579" y="1082"/>
                  </a:lnTo>
                  <a:lnTo>
                    <a:pt x="3639" y="1121"/>
                  </a:lnTo>
                  <a:lnTo>
                    <a:pt x="3696" y="1144"/>
                  </a:lnTo>
                  <a:lnTo>
                    <a:pt x="3747" y="1172"/>
                  </a:lnTo>
                  <a:lnTo>
                    <a:pt x="3828" y="1202"/>
                  </a:lnTo>
                  <a:lnTo>
                    <a:pt x="3914" y="1227"/>
                  </a:lnTo>
                  <a:lnTo>
                    <a:pt x="3995" y="1243"/>
                  </a:lnTo>
                  <a:lnTo>
                    <a:pt x="4065" y="1254"/>
                  </a:lnTo>
                  <a:lnTo>
                    <a:pt x="4684" y="124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4552200">
              <a:off x="244080" y="4044600"/>
              <a:ext cx="800280" cy="476280"/>
            </a:xfrm>
            <a:custGeom>
              <a:avLst/>
              <a:gdLst/>
              <a:ahLst/>
              <a:rect l="l" t="t" r="r" b="b"/>
              <a:pathLst>
                <a:path w="4685" h="2798">
                  <a:moveTo>
                    <a:pt x="0" y="1553"/>
                  </a:moveTo>
                  <a:lnTo>
                    <a:pt x="0" y="0"/>
                  </a:lnTo>
                  <a:lnTo>
                    <a:pt x="977" y="0"/>
                  </a:lnTo>
                  <a:lnTo>
                    <a:pt x="1101" y="11"/>
                  </a:lnTo>
                  <a:lnTo>
                    <a:pt x="1228" y="32"/>
                  </a:lnTo>
                  <a:lnTo>
                    <a:pt x="1416" y="73"/>
                  </a:lnTo>
                  <a:lnTo>
                    <a:pt x="1568" y="123"/>
                  </a:lnTo>
                  <a:lnTo>
                    <a:pt x="1709" y="179"/>
                  </a:lnTo>
                  <a:lnTo>
                    <a:pt x="1869" y="261"/>
                  </a:lnTo>
                  <a:lnTo>
                    <a:pt x="1990" y="340"/>
                  </a:lnTo>
                  <a:lnTo>
                    <a:pt x="2089" y="422"/>
                  </a:lnTo>
                  <a:lnTo>
                    <a:pt x="2195" y="528"/>
                  </a:lnTo>
                  <a:lnTo>
                    <a:pt x="2299" y="652"/>
                  </a:lnTo>
                  <a:lnTo>
                    <a:pt x="2365" y="791"/>
                  </a:lnTo>
                  <a:lnTo>
                    <a:pt x="2398" y="877"/>
                  </a:lnTo>
                  <a:lnTo>
                    <a:pt x="2449" y="1001"/>
                  </a:lnTo>
                  <a:lnTo>
                    <a:pt x="2515" y="1083"/>
                  </a:lnTo>
                  <a:lnTo>
                    <a:pt x="2578" y="1144"/>
                  </a:lnTo>
                  <a:lnTo>
                    <a:pt x="2654" y="1196"/>
                  </a:lnTo>
                  <a:lnTo>
                    <a:pt x="2765" y="1244"/>
                  </a:lnTo>
                  <a:lnTo>
                    <a:pt x="2878" y="1259"/>
                  </a:lnTo>
                  <a:lnTo>
                    <a:pt x="2968" y="1259"/>
                  </a:lnTo>
                  <a:lnTo>
                    <a:pt x="3048" y="1244"/>
                  </a:lnTo>
                  <a:lnTo>
                    <a:pt x="3129" y="1216"/>
                  </a:lnTo>
                  <a:lnTo>
                    <a:pt x="3277" y="1144"/>
                  </a:lnTo>
                  <a:lnTo>
                    <a:pt x="3178" y="908"/>
                  </a:lnTo>
                  <a:lnTo>
                    <a:pt x="4685" y="1361"/>
                  </a:lnTo>
                  <a:lnTo>
                    <a:pt x="3958" y="2798"/>
                  </a:lnTo>
                  <a:lnTo>
                    <a:pt x="3863" y="2559"/>
                  </a:lnTo>
                  <a:lnTo>
                    <a:pt x="3714" y="2625"/>
                  </a:lnTo>
                  <a:lnTo>
                    <a:pt x="3624" y="2662"/>
                  </a:lnTo>
                  <a:lnTo>
                    <a:pt x="3543" y="2694"/>
                  </a:lnTo>
                  <a:lnTo>
                    <a:pt x="3437" y="2716"/>
                  </a:lnTo>
                  <a:lnTo>
                    <a:pt x="3317" y="2748"/>
                  </a:lnTo>
                  <a:lnTo>
                    <a:pt x="3228" y="2765"/>
                  </a:lnTo>
                  <a:lnTo>
                    <a:pt x="3097" y="2778"/>
                  </a:lnTo>
                  <a:lnTo>
                    <a:pt x="2956" y="2778"/>
                  </a:lnTo>
                  <a:lnTo>
                    <a:pt x="2814" y="2776"/>
                  </a:lnTo>
                  <a:lnTo>
                    <a:pt x="2654" y="2748"/>
                  </a:lnTo>
                  <a:lnTo>
                    <a:pt x="2517" y="2723"/>
                  </a:lnTo>
                  <a:lnTo>
                    <a:pt x="2409" y="2694"/>
                  </a:lnTo>
                  <a:lnTo>
                    <a:pt x="2275" y="2645"/>
                  </a:lnTo>
                  <a:lnTo>
                    <a:pt x="2169" y="2600"/>
                  </a:lnTo>
                  <a:lnTo>
                    <a:pt x="2069" y="2553"/>
                  </a:lnTo>
                  <a:lnTo>
                    <a:pt x="1950" y="2480"/>
                  </a:lnTo>
                  <a:lnTo>
                    <a:pt x="1847" y="2419"/>
                  </a:lnTo>
                  <a:lnTo>
                    <a:pt x="1746" y="2343"/>
                  </a:lnTo>
                  <a:lnTo>
                    <a:pt x="1668" y="2276"/>
                  </a:lnTo>
                  <a:lnTo>
                    <a:pt x="1587" y="2202"/>
                  </a:lnTo>
                  <a:lnTo>
                    <a:pt x="1499" y="2111"/>
                  </a:lnTo>
                  <a:lnTo>
                    <a:pt x="1436" y="2045"/>
                  </a:lnTo>
                  <a:lnTo>
                    <a:pt x="1367" y="1947"/>
                  </a:lnTo>
                  <a:lnTo>
                    <a:pt x="1317" y="1891"/>
                  </a:lnTo>
                  <a:lnTo>
                    <a:pt x="1257" y="1830"/>
                  </a:lnTo>
                  <a:lnTo>
                    <a:pt x="1216" y="1792"/>
                  </a:lnTo>
                  <a:lnTo>
                    <a:pt x="1169" y="1759"/>
                  </a:lnTo>
                  <a:lnTo>
                    <a:pt x="1106" y="1717"/>
                  </a:lnTo>
                  <a:lnTo>
                    <a:pt x="1046" y="1679"/>
                  </a:lnTo>
                  <a:lnTo>
                    <a:pt x="989" y="1656"/>
                  </a:lnTo>
                  <a:lnTo>
                    <a:pt x="936" y="1628"/>
                  </a:lnTo>
                  <a:lnTo>
                    <a:pt x="857" y="1596"/>
                  </a:lnTo>
                  <a:lnTo>
                    <a:pt x="769" y="1574"/>
                  </a:lnTo>
                  <a:lnTo>
                    <a:pt x="690" y="1555"/>
                  </a:lnTo>
                  <a:lnTo>
                    <a:pt x="621" y="1545"/>
                  </a:lnTo>
                  <a:lnTo>
                    <a:pt x="0" y="155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857240" y="4503600"/>
            <a:ext cx="5092920" cy="125748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86760" y="4903920"/>
            <a:ext cx="470844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entric Grid Operating Systems</a:t>
            </a:r>
            <a:endParaRPr b="0" lang="en-US" sz="21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Potential new fabric layer for future 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distributed systems and services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rot="193800">
            <a:off x="2158920" y="3580920"/>
            <a:ext cx="5105520" cy="118116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95440" y="3882960"/>
            <a:ext cx="439452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Grid Foundations</a:t>
            </a:r>
            <a:endParaRPr b="0" lang="en-US" sz="21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Architecture, design and development of technologies 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and systems for building the invisible Grid 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722680" y="3651120"/>
            <a:ext cx="1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2387520" y="2541600"/>
            <a:ext cx="5118120" cy="1263600"/>
            <a:chOff x="2387520" y="2541600"/>
            <a:chExt cx="5118120" cy="1263600"/>
          </a:xfrm>
        </p:grpSpPr>
        <p:sp>
          <p:nvSpPr>
            <p:cNvPr id="442" name=""/>
            <p:cNvSpPr/>
            <p:nvPr/>
          </p:nvSpPr>
          <p:spPr>
            <a:xfrm>
              <a:off x="2387520" y="2541600"/>
              <a:ext cx="5118120" cy="1257120"/>
            </a:xfrm>
            <a:prstGeom prst="cube">
              <a:avLst>
                <a:gd name="adj" fmla="val 25000"/>
              </a:avLst>
            </a:prstGeom>
            <a:solidFill>
              <a:srgbClr val="c03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71120" y="2846160"/>
              <a:ext cx="432576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Grid-enabled Applications &amp; Services</a:t>
              </a:r>
              <a:endParaRPr b="0" lang="en-US" sz="21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imes New Roman"/>
                </a:rPr>
                <a:t>for business and society</a:t>
              </a:r>
              <a:endParaRPr b="0" lang="en-US" sz="19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Research, development, validation and take-up of </a:t>
              </a:r>
              <a:br>
                <a:rPr sz="1500"/>
              </a:b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generic environments and tools</a:t>
              </a:r>
              <a:endParaRPr b="0" lang="en-US" sz="15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7829640" y="1625760"/>
            <a:ext cx="66024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591320" y="1631880"/>
            <a:ext cx="11336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Times New Roman"/>
              </a:rPr>
              <a:t>e-bus, e-health, e-goy, e-learning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Times New Roman"/>
              </a:rPr>
              <a:t>Environment, …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775640" y="3435480"/>
            <a:ext cx="654120" cy="11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9480" y="3457440"/>
            <a:ext cx="10400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dvanced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Grid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Technologies,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Systems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nd Services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27720" y="133524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5400000">
            <a:off x="4338720" y="200088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5400000">
            <a:off x="4264560" y="201852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38440" y="1319040"/>
            <a:ext cx="639720" cy="142272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5400000">
            <a:off x="3335400" y="199800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5400000">
            <a:off x="3261240" y="204696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2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43720" y="133668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5400000">
            <a:off x="6354720" y="204552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5400000">
            <a:off x="6274440" y="2069280"/>
            <a:ext cx="80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84440" y="130644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5400000">
            <a:off x="2395800" y="197244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5400000">
            <a:off x="2321640" y="198972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1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5000" y="1069920"/>
            <a:ext cx="20001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ST Call 5</a:t>
            </a:r>
            <a:br>
              <a:rPr sz="2000"/>
            </a:b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n May 2005</a:t>
            </a:r>
            <a:br>
              <a:rPr sz="1600"/>
            </a:b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se </a:t>
            </a:r>
            <a:r>
              <a:rPr b="1" lang="en-GB" sz="1600" spc="-1" strike="noStrike">
                <a:solidFill>
                  <a:srgbClr val="c0371c"/>
                </a:solidFill>
                <a:latin typeface="Arial"/>
              </a:rPr>
              <a:t>Sept 2005</a:t>
            </a:r>
            <a:br>
              <a:rPr sz="1600"/>
            </a:b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Budget: </a:t>
            </a:r>
            <a:r>
              <a:rPr b="1" lang="en-GB" sz="2000" spc="-1" strike="noStrike">
                <a:solidFill>
                  <a:srgbClr val="c0371c"/>
                </a:solidFill>
                <a:latin typeface="Arial"/>
              </a:rPr>
              <a:t>~70M€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71440" y="2425680"/>
            <a:ext cx="8632800" cy="15840"/>
          </a:xfrm>
          <a:prstGeom prst="line">
            <a:avLst/>
          </a:prstGeom>
          <a:ln w="158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3002-E4E1-4CA0-9776-00237FC2925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03480" y="81000"/>
            <a:ext cx="73152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International co-operation (I)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308240" y="1427040"/>
            <a:ext cx="75088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Collaboration between individual projects :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1020600" indent="-524520">
              <a:lnSpc>
                <a:spcPct val="100000"/>
              </a:lnSpc>
              <a:spcBef>
                <a:spcPts val="81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Co-operation with running projects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1020600" indent="-524520">
              <a:lnSpc>
                <a:spcPct val="100000"/>
              </a:lnSpc>
              <a:spcBef>
                <a:spcPts val="81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volvement in new proposals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Grid@Asia: support action for EU - China collabor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Towards an institutional co-operation framework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1020600" indent="-524520">
              <a:lnSpc>
                <a:spcPct val="100000"/>
              </a:lnSpc>
              <a:spcBef>
                <a:spcPts val="81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To set-up a long-term and sustainable  collaborations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1020600" indent="-524520">
              <a:lnSpc>
                <a:spcPct val="100000"/>
              </a:lnSpc>
              <a:spcBef>
                <a:spcPts val="81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1528-19A2-4C89-AB3A-CCAA06D7CE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03480" y="194760"/>
            <a:ext cx="7315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Establishing a co-operation framework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27000" y="1360440"/>
            <a:ext cx="78184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Focused research co-operation: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1074600" indent="-552240">
              <a:spcBef>
                <a:spcPts val="1137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Collaboration at the level of initiativ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1074600" indent="-552240">
              <a:spcBef>
                <a:spcPts val="1137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Develop a shared R&amp;D agenda for a given Grid research priorit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1074600" indent="-552240">
              <a:spcBef>
                <a:spcPts val="1137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Grid foundations and Grid business application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1074600" indent="-552240">
              <a:spcBef>
                <a:spcPts val="1137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Collaboration on non-technical issues (e.g., standards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1074600" indent="-552240">
              <a:spcBef>
                <a:spcPts val="1137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stitutional framework for co-opera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1074600" indent="0">
              <a:spcBef>
                <a:spcPts val="11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AABC-D3B4-4383-AA0A-52ACB77517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96920" y="71280"/>
            <a:ext cx="862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882360" y="1208160"/>
            <a:ext cx="787068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2100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The EU IST Programme addresses both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95240" indent="-342720">
              <a:lnSpc>
                <a:spcPct val="80000"/>
              </a:lnSpc>
              <a:spcBef>
                <a:spcPts val="22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Deployment of Grid-enabled eInfrastructure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95240" indent="-342720">
              <a:lnSpc>
                <a:spcPct val="80000"/>
              </a:lnSpc>
              <a:spcBef>
                <a:spcPts val="22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Grid Technologies research relevant for industry &amp; take-up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95240" indent="-342720">
              <a:lnSpc>
                <a:spcPct val="80000"/>
              </a:lnSpc>
              <a:spcBef>
                <a:spcPts val="22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it  strives towards co-ordination and integration of national European Grid initiatives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100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Grids, web and knowledge technologies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95240" indent="-342720">
              <a:lnSpc>
                <a:spcPct val="80000"/>
              </a:lnSpc>
              <a:spcBef>
                <a:spcPts val="22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driver for the evolution of the Internet and future service-oriented business IT infrastructure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100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EU needs to capitalize on its strength in Grid research and applications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95240" indent="-342720">
              <a:lnSpc>
                <a:spcPct val="80000"/>
              </a:lnSpc>
              <a:spcBef>
                <a:spcPts val="22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To identify new research challenges – explore new idea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95240" indent="-342720">
              <a:lnSpc>
                <a:spcPct val="80000"/>
              </a:lnSpc>
              <a:spcBef>
                <a:spcPts val="22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Improve market take-up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100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Increased contribution to global developments and standardisation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15D2-CC8C-4311-A611-F44F457E1D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27040" y="174240"/>
            <a:ext cx="68551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Further Info on Grid Researc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14200" y="946080"/>
            <a:ext cx="885672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25092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Brochure: Building Grids for Europe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110592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P6 Grid Project Fact Sheets, FP5 Grid Project Result Sheet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603360" indent="-250920">
              <a:lnSpc>
                <a:spcPct val="95000"/>
              </a:lnSpc>
              <a:spcBef>
                <a:spcPts val="1199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Expert Group Reports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1105920" indent="-312480">
              <a:lnSpc>
                <a:spcPct val="9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ext Generation Grid(s) – European Grid Research 2005-2010”, 2003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05920" indent="-312480">
              <a:lnSpc>
                <a:spcPct val="95000"/>
              </a:lnSpc>
              <a:spcBef>
                <a:spcPts val="337"/>
              </a:spcBef>
              <a:spcAft>
                <a:spcPts val="1125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ext Generation Grids 2 – Requirements and Options for European Grids Research 2005–2010 and beyond”, August 2004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603360" indent="-250920">
              <a:lnSpc>
                <a:spcPct val="95000"/>
              </a:lnSpc>
              <a:spcBef>
                <a:spcPts val="1199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FP5 Gridstart “IST Grid Projects Inventory and Roadmap”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603360" indent="-250920">
              <a:lnSpc>
                <a:spcPct val="95000"/>
              </a:lnSpc>
              <a:spcBef>
                <a:spcPts val="1199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Brochure: “Achievements of EU Grid Projects”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603360" indent="0">
              <a:lnSpc>
                <a:spcPct val="95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603360" indent="-250920">
              <a:lnSpc>
                <a:spcPct val="95000"/>
              </a:lnSpc>
              <a:spcBef>
                <a:spcPts val="1100"/>
              </a:spcBef>
              <a:spcAft>
                <a:spcPts val="41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IST Work Programme 2005/2006          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cordis.lu/ist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 </a:t>
            </a: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marL="603360" indent="0">
              <a:lnSpc>
                <a:spcPct val="95000"/>
              </a:lnSpc>
              <a:spcBef>
                <a:spcPts val="414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848120" y="4844880"/>
            <a:ext cx="42703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5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nd more: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cordis.lu/ist/grid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958B-BAEA-40C6-88DC-142DA074E690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00" y="1190520"/>
            <a:ext cx="4782960" cy="441972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ccec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19560" y="1371600"/>
            <a:ext cx="4924440" cy="4267080"/>
          </a:xfrm>
          <a:prstGeom prst="ellipse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3080" y="0"/>
            <a:ext cx="81262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Grid Research and Deployment in FP6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0600" y="1376280"/>
            <a:ext cx="4102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0">
              <a:lnSpc>
                <a:spcPct val="80000"/>
              </a:lnSpc>
              <a:spcBef>
                <a:spcPts val="539"/>
              </a:spcBef>
              <a:spcAft>
                <a:spcPts val="5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cc66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88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914b34"/>
                </a:solidFill>
                <a:latin typeface="Arial"/>
              </a:rPr>
              <a:t>Grid Technologies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1" marL="831240" indent="-276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99"/>
                </a:solidFill>
                <a:latin typeface="Arial"/>
              </a:rPr>
              <a:t>Architecture, design and development of the next generation Grid</a:t>
            </a:r>
            <a:endParaRPr b="1" lang="en-US" sz="1900" spc="-1" strike="noStrike">
              <a:solidFill>
                <a:srgbClr val="003399"/>
              </a:solidFill>
              <a:latin typeface="Arial"/>
            </a:endParaRPr>
          </a:p>
          <a:p>
            <a:pPr lvl="1" marL="831240" indent="-27684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99"/>
                </a:solidFill>
                <a:latin typeface="Arial"/>
              </a:rPr>
              <a:t>Enabling application technologies</a:t>
            </a:r>
            <a:endParaRPr b="1" lang="en-US" sz="1900" spc="-1" strike="noStrike">
              <a:solidFill>
                <a:srgbClr val="003399"/>
              </a:solidFill>
              <a:latin typeface="Arial"/>
            </a:endParaRPr>
          </a:p>
          <a:p>
            <a:pPr lvl="1" marL="831240" indent="-27684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dustrial and business application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7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1" lang="en-US" sz="2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3760" y="1517400"/>
            <a:ext cx="4103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lnSpc>
                <a:spcPct val="85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lang="en-GB" sz="2500" spc="-1" strike="noStrike">
                <a:solidFill>
                  <a:srgbClr val="ff9900"/>
                </a:solidFill>
                <a:latin typeface="Arial"/>
              </a:rPr>
              <a:t>Research  Infrastructures</a:t>
            </a:r>
            <a:endParaRPr b="1" lang="en-US" sz="2500" spc="-1" strike="noStrike">
              <a:solidFill>
                <a:srgbClr val="cc6600"/>
              </a:solidFill>
              <a:latin typeface="Arial"/>
            </a:endParaRPr>
          </a:p>
          <a:p>
            <a:pPr lvl="1" marL="819000" indent="0">
              <a:lnSpc>
                <a:spcPct val="80000"/>
              </a:lnSpc>
              <a:spcBef>
                <a:spcPts val="238"/>
              </a:spcBef>
              <a:spcAft>
                <a:spcPts val="2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3399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238"/>
              </a:spcBef>
              <a:spcAft>
                <a:spcPts val="238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99"/>
                </a:solidFill>
                <a:latin typeface="Arial"/>
              </a:rPr>
              <a:t>Deployment of specific</a:t>
            </a:r>
            <a:br>
              <a:rPr sz="1900"/>
            </a:br>
            <a:r>
              <a:rPr b="0" lang="en-GB" sz="1900" spc="-1" strike="noStrike">
                <a:solidFill>
                  <a:srgbClr val="000099"/>
                </a:solidFill>
                <a:latin typeface="Arial"/>
              </a:rPr>
              <a:t>high performance Grids </a:t>
            </a:r>
            <a:endParaRPr b="1" lang="en-US" sz="1900" spc="-1" strike="noStrike">
              <a:solidFill>
                <a:srgbClr val="003399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312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99"/>
                </a:solidFill>
                <a:latin typeface="Arial"/>
              </a:rPr>
              <a:t>Deployment of high-capacity</a:t>
            </a:r>
            <a:br>
              <a:rPr sz="1900"/>
            </a:br>
            <a:r>
              <a:rPr b="0" lang="en-GB" sz="1900" spc="-1" strike="noStrike">
                <a:solidFill>
                  <a:srgbClr val="000099"/>
                </a:solidFill>
                <a:latin typeface="Arial"/>
              </a:rPr>
              <a:t>and high-speed communi-</a:t>
            </a:r>
            <a:br>
              <a:rPr sz="1900"/>
            </a:br>
            <a:r>
              <a:rPr b="0" lang="en-GB" sz="1900" spc="-1" strike="noStrike">
                <a:solidFill>
                  <a:srgbClr val="000099"/>
                </a:solidFill>
                <a:latin typeface="Arial"/>
              </a:rPr>
              <a:t>cations network - GEANT</a:t>
            </a:r>
            <a:br>
              <a:rPr sz="1500"/>
            </a:br>
            <a:br>
              <a:rPr sz="1500"/>
            </a:b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1" lang="en-US" sz="1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8640" y="4543560"/>
            <a:ext cx="304632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 (Hebrew)"/>
              </a:rPr>
              <a:t>Research &amp; Developm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07040" y="4832280"/>
            <a:ext cx="154800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 (Hebrew)"/>
              </a:rPr>
              <a:t>Deploym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8720" y="885960"/>
            <a:ext cx="2954520" cy="1295280"/>
          </a:xfrm>
          <a:prstGeom prst="ellipse">
            <a:avLst/>
          </a:prstGeom>
          <a:solidFill>
            <a:srgbClr val="ccffff">
              <a:alpha val="50000"/>
            </a:srgbClr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995040"/>
            <a:ext cx="330516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Plantin OUP Bilingual"/>
                <a:ea typeface="Times New Roman (Hebrew)"/>
              </a:rPr>
              <a:t>Application-oriented</a:t>
            </a:r>
            <a:br>
              <a:rPr sz="1400"/>
            </a:br>
            <a:r>
              <a:rPr b="1" lang="en-GB" sz="1400" spc="-1" strike="noStrike">
                <a:solidFill>
                  <a:srgbClr val="000099"/>
                </a:solidFill>
                <a:latin typeface="Plantin OUP Bilingual"/>
                <a:ea typeface="Times New Roman (Hebrew)"/>
              </a:rPr>
              <a:t>Strategic Objectives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Plantin OUP Bilingual"/>
                <a:ea typeface="Times New Roman (Hebrew)"/>
              </a:rPr>
              <a:t>e.g. eBusiness, eGov, eWork, </a:t>
            </a:r>
            <a:br>
              <a:rPr sz="1400"/>
            </a:br>
            <a:r>
              <a:rPr b="1" lang="en-GB" sz="1400" spc="-1" strike="noStrike">
                <a:solidFill>
                  <a:srgbClr val="000099"/>
                </a:solidFill>
                <a:latin typeface="Plantin OUP Bilingual"/>
                <a:ea typeface="Times New Roman (Hebrew)"/>
              </a:rPr>
              <a:t>eHealth, risks management</a:t>
            </a:r>
            <a:r>
              <a:rPr b="1" lang="en-US" sz="1600" spc="-1" strike="noStrike">
                <a:solidFill>
                  <a:srgbClr val="ffffff"/>
                </a:solidFill>
                <a:latin typeface="Plantin OUP Bilingual"/>
                <a:ea typeface="Times New Roman (Hebrew)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4560" y="5064120"/>
            <a:ext cx="2320920" cy="1066680"/>
          </a:xfrm>
          <a:prstGeom prst="ellipse">
            <a:avLst/>
          </a:prstGeom>
          <a:solidFill>
            <a:srgbClr val="00ffff">
              <a:alpha val="50000"/>
            </a:srgbClr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00" y="5097240"/>
            <a:ext cx="401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Plantin OUP Bilingual"/>
                <a:ea typeface="Times New Roman (Hebrew)"/>
              </a:rPr>
              <a:t>Technology-oriented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Plantin OUP Bilingual"/>
                <a:ea typeface="Times New Roman (Hebrew)"/>
              </a:rPr>
              <a:t>strategic objectives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Plantin OUP Bilingual"/>
                <a:ea typeface="Times New Roman (Hebrew)"/>
              </a:rPr>
              <a:t>e.g. semantic web,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Plantin OUP Bilingual"/>
                <a:ea typeface="Times New Roman (Hebrew)"/>
              </a:rPr>
              <a:t>software and services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38400" y="5533920"/>
            <a:ext cx="70164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 (Hebrew)"/>
              </a:rPr>
              <a:t>R&amp;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64120" y="2104920"/>
            <a:ext cx="79668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 (Hebrew)"/>
              </a:rPr>
              <a:t>R&amp;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3640" y="526572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 (Hebrew)"/>
              </a:rPr>
              <a:t>200 M€ RI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4160" y="49528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 (Hebrew)"/>
              </a:rPr>
              <a:t>125 M€ (IST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5EE3-C625-41A0-AF00-C57FED8E58C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7120" y="2250000"/>
            <a:ext cx="6934320" cy="197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 (Hebrew)"/>
              </a:rPr>
              <a:t>Benefit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Increased productivity by reducing Total Cost of Ownershi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Any-type, anywhere, anytime services by/for al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Infrastructure for dynamic virtual organization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Backbone for future service-oriented utilit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3440" y="4223520"/>
            <a:ext cx="6934320" cy="160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 (Hebrew)"/>
              </a:rPr>
              <a:t>Exampl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Ad-hoc Grid services for emergency respons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Cost-effective simulation for automotive and finan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More efficient drug design and healthcar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394320" y="3276720"/>
            <a:ext cx="2635200" cy="2406600"/>
            <a:chOff x="6394320" y="3276720"/>
            <a:chExt cx="2635200" cy="2406600"/>
          </a:xfrm>
        </p:grpSpPr>
        <p:sp>
          <p:nvSpPr>
            <p:cNvPr id="78" name=""/>
            <p:cNvSpPr/>
            <p:nvPr/>
          </p:nvSpPr>
          <p:spPr>
            <a:xfrm>
              <a:off x="6394320" y="3276720"/>
              <a:ext cx="2635200" cy="2406600"/>
            </a:xfrm>
            <a:prstGeom prst="ellipse">
              <a:avLst/>
            </a:prstGeom>
            <a:solidFill>
              <a:srgbClr val="e67e19"/>
            </a:solidFill>
            <a:ln w="0">
              <a:noFill/>
            </a:ln>
            <a:effectLst>
              <a:outerShdw dist="17819" dir="2700000" blurRad="0" rotWithShape="0">
                <a:srgbClr val="894b0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40360" y="3445200"/>
              <a:ext cx="1073160" cy="1253880"/>
            </a:xfrm>
            <a:custGeom>
              <a:avLst/>
              <a:gdLst/>
              <a:ahLst/>
              <a:rect l="l" t="t" r="r" b="b"/>
              <a:pathLst>
                <a:path w="1489" h="1574">
                  <a:moveTo>
                    <a:pt x="368" y="1574"/>
                  </a:moveTo>
                  <a:lnTo>
                    <a:pt x="544" y="1570"/>
                  </a:lnTo>
                  <a:lnTo>
                    <a:pt x="604" y="1564"/>
                  </a:lnTo>
                  <a:lnTo>
                    <a:pt x="678" y="1553"/>
                  </a:lnTo>
                  <a:lnTo>
                    <a:pt x="734" y="1543"/>
                  </a:lnTo>
                  <a:lnTo>
                    <a:pt x="790" y="1529"/>
                  </a:lnTo>
                  <a:lnTo>
                    <a:pt x="846" y="1513"/>
                  </a:lnTo>
                  <a:lnTo>
                    <a:pt x="896" y="1495"/>
                  </a:lnTo>
                  <a:lnTo>
                    <a:pt x="956" y="1473"/>
                  </a:lnTo>
                  <a:lnTo>
                    <a:pt x="1029" y="1441"/>
                  </a:lnTo>
                  <a:lnTo>
                    <a:pt x="1085" y="1412"/>
                  </a:lnTo>
                  <a:lnTo>
                    <a:pt x="1140" y="1379"/>
                  </a:lnTo>
                  <a:lnTo>
                    <a:pt x="1177" y="1352"/>
                  </a:lnTo>
                  <a:lnTo>
                    <a:pt x="1221" y="1320"/>
                  </a:lnTo>
                  <a:lnTo>
                    <a:pt x="1252" y="1296"/>
                  </a:lnTo>
                  <a:lnTo>
                    <a:pt x="1286" y="1261"/>
                  </a:lnTo>
                  <a:lnTo>
                    <a:pt x="1316" y="1229"/>
                  </a:lnTo>
                  <a:lnTo>
                    <a:pt x="1346" y="1194"/>
                  </a:lnTo>
                  <a:lnTo>
                    <a:pt x="1369" y="1165"/>
                  </a:lnTo>
                  <a:lnTo>
                    <a:pt x="1397" y="1126"/>
                  </a:lnTo>
                  <a:lnTo>
                    <a:pt x="1425" y="1081"/>
                  </a:lnTo>
                  <a:lnTo>
                    <a:pt x="1444" y="1038"/>
                  </a:lnTo>
                  <a:lnTo>
                    <a:pt x="1459" y="1000"/>
                  </a:lnTo>
                  <a:lnTo>
                    <a:pt x="1472" y="957"/>
                  </a:lnTo>
                  <a:lnTo>
                    <a:pt x="1484" y="911"/>
                  </a:lnTo>
                  <a:lnTo>
                    <a:pt x="1489" y="851"/>
                  </a:lnTo>
                  <a:lnTo>
                    <a:pt x="1485" y="801"/>
                  </a:lnTo>
                  <a:lnTo>
                    <a:pt x="1477" y="758"/>
                  </a:lnTo>
                  <a:lnTo>
                    <a:pt x="1469" y="715"/>
                  </a:lnTo>
                  <a:lnTo>
                    <a:pt x="1452" y="668"/>
                  </a:lnTo>
                  <a:lnTo>
                    <a:pt x="1437" y="628"/>
                  </a:lnTo>
                  <a:lnTo>
                    <a:pt x="1417" y="592"/>
                  </a:lnTo>
                  <a:lnTo>
                    <a:pt x="1387" y="545"/>
                  </a:lnTo>
                  <a:lnTo>
                    <a:pt x="1350" y="493"/>
                  </a:lnTo>
                  <a:lnTo>
                    <a:pt x="1311" y="451"/>
                  </a:lnTo>
                  <a:lnTo>
                    <a:pt x="1279" y="416"/>
                  </a:lnTo>
                  <a:lnTo>
                    <a:pt x="1236" y="381"/>
                  </a:lnTo>
                  <a:lnTo>
                    <a:pt x="1196" y="352"/>
                  </a:lnTo>
                  <a:lnTo>
                    <a:pt x="1150" y="321"/>
                  </a:lnTo>
                  <a:lnTo>
                    <a:pt x="1091" y="282"/>
                  </a:lnTo>
                  <a:lnTo>
                    <a:pt x="1035" y="254"/>
                  </a:lnTo>
                  <a:lnTo>
                    <a:pt x="971" y="222"/>
                  </a:lnTo>
                  <a:lnTo>
                    <a:pt x="840" y="176"/>
                  </a:lnTo>
                  <a:lnTo>
                    <a:pt x="731" y="148"/>
                  </a:lnTo>
                  <a:lnTo>
                    <a:pt x="615" y="127"/>
                  </a:lnTo>
                  <a:lnTo>
                    <a:pt x="521" y="117"/>
                  </a:lnTo>
                  <a:lnTo>
                    <a:pt x="402" y="110"/>
                  </a:lnTo>
                  <a:lnTo>
                    <a:pt x="402" y="0"/>
                  </a:lnTo>
                  <a:lnTo>
                    <a:pt x="0" y="250"/>
                  </a:lnTo>
                  <a:lnTo>
                    <a:pt x="407" y="504"/>
                  </a:lnTo>
                  <a:lnTo>
                    <a:pt x="405" y="391"/>
                  </a:lnTo>
                  <a:lnTo>
                    <a:pt x="525" y="398"/>
                  </a:lnTo>
                  <a:lnTo>
                    <a:pt x="615" y="412"/>
                  </a:lnTo>
                  <a:lnTo>
                    <a:pt x="709" y="433"/>
                  </a:lnTo>
                  <a:lnTo>
                    <a:pt x="840" y="479"/>
                  </a:lnTo>
                  <a:lnTo>
                    <a:pt x="901" y="510"/>
                  </a:lnTo>
                  <a:lnTo>
                    <a:pt x="960" y="542"/>
                  </a:lnTo>
                  <a:lnTo>
                    <a:pt x="1009" y="580"/>
                  </a:lnTo>
                  <a:lnTo>
                    <a:pt x="1057" y="616"/>
                  </a:lnTo>
                  <a:lnTo>
                    <a:pt x="1096" y="652"/>
                  </a:lnTo>
                  <a:lnTo>
                    <a:pt x="1129" y="690"/>
                  </a:lnTo>
                  <a:lnTo>
                    <a:pt x="1165" y="736"/>
                  </a:lnTo>
                  <a:lnTo>
                    <a:pt x="1196" y="789"/>
                  </a:lnTo>
                  <a:lnTo>
                    <a:pt x="1219" y="838"/>
                  </a:lnTo>
                  <a:lnTo>
                    <a:pt x="1230" y="884"/>
                  </a:lnTo>
                  <a:lnTo>
                    <a:pt x="1241" y="940"/>
                  </a:lnTo>
                  <a:lnTo>
                    <a:pt x="1242" y="994"/>
                  </a:lnTo>
                  <a:lnTo>
                    <a:pt x="1240" y="1032"/>
                  </a:lnTo>
                  <a:lnTo>
                    <a:pt x="1234" y="1072"/>
                  </a:lnTo>
                  <a:lnTo>
                    <a:pt x="1219" y="1120"/>
                  </a:lnTo>
                  <a:lnTo>
                    <a:pt x="1200" y="1165"/>
                  </a:lnTo>
                  <a:lnTo>
                    <a:pt x="1177" y="1209"/>
                  </a:lnTo>
                  <a:lnTo>
                    <a:pt x="1147" y="1251"/>
                  </a:lnTo>
                  <a:lnTo>
                    <a:pt x="1094" y="1313"/>
                  </a:lnTo>
                  <a:lnTo>
                    <a:pt x="1049" y="1354"/>
                  </a:lnTo>
                  <a:lnTo>
                    <a:pt x="990" y="1398"/>
                  </a:lnTo>
                  <a:lnTo>
                    <a:pt x="930" y="1435"/>
                  </a:lnTo>
                  <a:lnTo>
                    <a:pt x="885" y="1460"/>
                  </a:lnTo>
                  <a:lnTo>
                    <a:pt x="831" y="1485"/>
                  </a:lnTo>
                  <a:lnTo>
                    <a:pt x="780" y="1503"/>
                  </a:lnTo>
                  <a:lnTo>
                    <a:pt x="739" y="1517"/>
                  </a:lnTo>
                  <a:lnTo>
                    <a:pt x="698" y="1530"/>
                  </a:lnTo>
                  <a:lnTo>
                    <a:pt x="645" y="1541"/>
                  </a:lnTo>
                  <a:lnTo>
                    <a:pt x="598" y="1548"/>
                  </a:lnTo>
                  <a:lnTo>
                    <a:pt x="533" y="1559"/>
                  </a:lnTo>
                  <a:lnTo>
                    <a:pt x="368" y="1574"/>
                  </a:lnTo>
                  <a:close/>
                </a:path>
              </a:pathLst>
            </a:custGeom>
            <a:solidFill>
              <a:srgbClr val="333399"/>
            </a:solidFill>
            <a:ln w="7920">
              <a:solidFill>
                <a:srgbClr val="333399"/>
              </a:solidFill>
              <a:round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40360" y="4278600"/>
              <a:ext cx="1073160" cy="1255680"/>
            </a:xfrm>
            <a:custGeom>
              <a:avLst/>
              <a:gdLst/>
              <a:ahLst/>
              <a:rect l="l" t="t" r="r" b="b"/>
              <a:pathLst>
                <a:path w="1489" h="1573">
                  <a:moveTo>
                    <a:pt x="368" y="0"/>
                  </a:moveTo>
                  <a:lnTo>
                    <a:pt x="544" y="3"/>
                  </a:lnTo>
                  <a:lnTo>
                    <a:pt x="604" y="9"/>
                  </a:lnTo>
                  <a:lnTo>
                    <a:pt x="678" y="21"/>
                  </a:lnTo>
                  <a:lnTo>
                    <a:pt x="734" y="30"/>
                  </a:lnTo>
                  <a:lnTo>
                    <a:pt x="790" y="44"/>
                  </a:lnTo>
                  <a:lnTo>
                    <a:pt x="846" y="61"/>
                  </a:lnTo>
                  <a:lnTo>
                    <a:pt x="896" y="78"/>
                  </a:lnTo>
                  <a:lnTo>
                    <a:pt x="956" y="101"/>
                  </a:lnTo>
                  <a:lnTo>
                    <a:pt x="1029" y="132"/>
                  </a:lnTo>
                  <a:lnTo>
                    <a:pt x="1085" y="162"/>
                  </a:lnTo>
                  <a:lnTo>
                    <a:pt x="1140" y="195"/>
                  </a:lnTo>
                  <a:lnTo>
                    <a:pt x="1177" y="222"/>
                  </a:lnTo>
                  <a:lnTo>
                    <a:pt x="1221" y="253"/>
                  </a:lnTo>
                  <a:lnTo>
                    <a:pt x="1252" y="278"/>
                  </a:lnTo>
                  <a:lnTo>
                    <a:pt x="1286" y="313"/>
                  </a:lnTo>
                  <a:lnTo>
                    <a:pt x="1316" y="345"/>
                  </a:lnTo>
                  <a:lnTo>
                    <a:pt x="1346" y="380"/>
                  </a:lnTo>
                  <a:lnTo>
                    <a:pt x="1369" y="408"/>
                  </a:lnTo>
                  <a:lnTo>
                    <a:pt x="1397" y="448"/>
                  </a:lnTo>
                  <a:lnTo>
                    <a:pt x="1425" y="493"/>
                  </a:lnTo>
                  <a:lnTo>
                    <a:pt x="1444" y="536"/>
                  </a:lnTo>
                  <a:lnTo>
                    <a:pt x="1459" y="574"/>
                  </a:lnTo>
                  <a:lnTo>
                    <a:pt x="1472" y="617"/>
                  </a:lnTo>
                  <a:lnTo>
                    <a:pt x="1484" y="663"/>
                  </a:lnTo>
                  <a:lnTo>
                    <a:pt x="1489" y="723"/>
                  </a:lnTo>
                  <a:lnTo>
                    <a:pt x="1485" y="773"/>
                  </a:lnTo>
                  <a:lnTo>
                    <a:pt x="1477" y="815"/>
                  </a:lnTo>
                  <a:lnTo>
                    <a:pt x="1469" y="859"/>
                  </a:lnTo>
                  <a:lnTo>
                    <a:pt x="1452" y="906"/>
                  </a:lnTo>
                  <a:lnTo>
                    <a:pt x="1437" y="945"/>
                  </a:lnTo>
                  <a:lnTo>
                    <a:pt x="1417" y="982"/>
                  </a:lnTo>
                  <a:lnTo>
                    <a:pt x="1387" y="1029"/>
                  </a:lnTo>
                  <a:lnTo>
                    <a:pt x="1350" y="1080"/>
                  </a:lnTo>
                  <a:lnTo>
                    <a:pt x="1311" y="1123"/>
                  </a:lnTo>
                  <a:lnTo>
                    <a:pt x="1279" y="1158"/>
                  </a:lnTo>
                  <a:lnTo>
                    <a:pt x="1236" y="1193"/>
                  </a:lnTo>
                  <a:lnTo>
                    <a:pt x="1196" y="1221"/>
                  </a:lnTo>
                  <a:lnTo>
                    <a:pt x="1150" y="1253"/>
                  </a:lnTo>
                  <a:lnTo>
                    <a:pt x="1091" y="1292"/>
                  </a:lnTo>
                  <a:lnTo>
                    <a:pt x="1035" y="1320"/>
                  </a:lnTo>
                  <a:lnTo>
                    <a:pt x="971" y="1351"/>
                  </a:lnTo>
                  <a:lnTo>
                    <a:pt x="840" y="1397"/>
                  </a:lnTo>
                  <a:lnTo>
                    <a:pt x="731" y="1425"/>
                  </a:lnTo>
                  <a:lnTo>
                    <a:pt x="615" y="1446"/>
                  </a:lnTo>
                  <a:lnTo>
                    <a:pt x="521" y="1457"/>
                  </a:lnTo>
                  <a:lnTo>
                    <a:pt x="402" y="1464"/>
                  </a:lnTo>
                  <a:lnTo>
                    <a:pt x="402" y="1573"/>
                  </a:lnTo>
                  <a:lnTo>
                    <a:pt x="0" y="1323"/>
                  </a:lnTo>
                  <a:lnTo>
                    <a:pt x="407" y="1070"/>
                  </a:lnTo>
                  <a:lnTo>
                    <a:pt x="405" y="1182"/>
                  </a:lnTo>
                  <a:lnTo>
                    <a:pt x="525" y="1175"/>
                  </a:lnTo>
                  <a:lnTo>
                    <a:pt x="615" y="1161"/>
                  </a:lnTo>
                  <a:lnTo>
                    <a:pt x="709" y="1140"/>
                  </a:lnTo>
                  <a:lnTo>
                    <a:pt x="840" y="1094"/>
                  </a:lnTo>
                  <a:lnTo>
                    <a:pt x="901" y="1064"/>
                  </a:lnTo>
                  <a:lnTo>
                    <a:pt x="960" y="1031"/>
                  </a:lnTo>
                  <a:lnTo>
                    <a:pt x="1009" y="994"/>
                  </a:lnTo>
                  <a:lnTo>
                    <a:pt x="1057" y="957"/>
                  </a:lnTo>
                  <a:lnTo>
                    <a:pt x="1096" y="922"/>
                  </a:lnTo>
                  <a:lnTo>
                    <a:pt x="1129" y="883"/>
                  </a:lnTo>
                  <a:lnTo>
                    <a:pt x="1165" y="838"/>
                  </a:lnTo>
                  <a:lnTo>
                    <a:pt x="1196" y="785"/>
                  </a:lnTo>
                  <a:lnTo>
                    <a:pt x="1219" y="735"/>
                  </a:lnTo>
                  <a:lnTo>
                    <a:pt x="1230" y="690"/>
                  </a:lnTo>
                  <a:lnTo>
                    <a:pt x="1241" y="633"/>
                  </a:lnTo>
                  <a:lnTo>
                    <a:pt x="1242" y="579"/>
                  </a:lnTo>
                  <a:lnTo>
                    <a:pt x="1240" y="542"/>
                  </a:lnTo>
                  <a:lnTo>
                    <a:pt x="1234" y="502"/>
                  </a:lnTo>
                  <a:lnTo>
                    <a:pt x="1219" y="454"/>
                  </a:lnTo>
                  <a:lnTo>
                    <a:pt x="1200" y="408"/>
                  </a:lnTo>
                  <a:lnTo>
                    <a:pt x="1177" y="365"/>
                  </a:lnTo>
                  <a:lnTo>
                    <a:pt x="1147" y="322"/>
                  </a:lnTo>
                  <a:lnTo>
                    <a:pt x="1094" y="260"/>
                  </a:lnTo>
                  <a:lnTo>
                    <a:pt x="1049" y="219"/>
                  </a:lnTo>
                  <a:lnTo>
                    <a:pt x="990" y="176"/>
                  </a:lnTo>
                  <a:lnTo>
                    <a:pt x="930" y="138"/>
                  </a:lnTo>
                  <a:lnTo>
                    <a:pt x="885" y="114"/>
                  </a:lnTo>
                  <a:lnTo>
                    <a:pt x="831" y="89"/>
                  </a:lnTo>
                  <a:lnTo>
                    <a:pt x="780" y="70"/>
                  </a:lnTo>
                  <a:lnTo>
                    <a:pt x="739" y="56"/>
                  </a:lnTo>
                  <a:lnTo>
                    <a:pt x="698" y="43"/>
                  </a:lnTo>
                  <a:lnTo>
                    <a:pt x="645" y="33"/>
                  </a:lnTo>
                  <a:lnTo>
                    <a:pt x="598" y="26"/>
                  </a:lnTo>
                  <a:lnTo>
                    <a:pt x="533" y="15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333399"/>
            </a:solidFill>
            <a:ln w="7920">
              <a:solidFill>
                <a:srgbClr val="333399"/>
              </a:solidFill>
              <a:round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2920" y="4294440"/>
              <a:ext cx="1076400" cy="1254240"/>
            </a:xfrm>
            <a:custGeom>
              <a:avLst/>
              <a:gdLst/>
              <a:ahLst/>
              <a:rect l="l" t="t" r="r" b="b"/>
              <a:pathLst>
                <a:path w="1488" h="1573">
                  <a:moveTo>
                    <a:pt x="1121" y="0"/>
                  </a:moveTo>
                  <a:lnTo>
                    <a:pt x="945" y="3"/>
                  </a:lnTo>
                  <a:lnTo>
                    <a:pt x="885" y="9"/>
                  </a:lnTo>
                  <a:lnTo>
                    <a:pt x="811" y="21"/>
                  </a:lnTo>
                  <a:lnTo>
                    <a:pt x="755" y="30"/>
                  </a:lnTo>
                  <a:lnTo>
                    <a:pt x="698" y="44"/>
                  </a:lnTo>
                  <a:lnTo>
                    <a:pt x="642" y="61"/>
                  </a:lnTo>
                  <a:lnTo>
                    <a:pt x="592" y="78"/>
                  </a:lnTo>
                  <a:lnTo>
                    <a:pt x="532" y="100"/>
                  </a:lnTo>
                  <a:lnTo>
                    <a:pt x="460" y="132"/>
                  </a:lnTo>
                  <a:lnTo>
                    <a:pt x="404" y="161"/>
                  </a:lnTo>
                  <a:lnTo>
                    <a:pt x="349" y="194"/>
                  </a:lnTo>
                  <a:lnTo>
                    <a:pt x="311" y="221"/>
                  </a:lnTo>
                  <a:lnTo>
                    <a:pt x="267" y="253"/>
                  </a:lnTo>
                  <a:lnTo>
                    <a:pt x="236" y="278"/>
                  </a:lnTo>
                  <a:lnTo>
                    <a:pt x="202" y="313"/>
                  </a:lnTo>
                  <a:lnTo>
                    <a:pt x="172" y="345"/>
                  </a:lnTo>
                  <a:lnTo>
                    <a:pt x="142" y="380"/>
                  </a:lnTo>
                  <a:lnTo>
                    <a:pt x="120" y="408"/>
                  </a:lnTo>
                  <a:lnTo>
                    <a:pt x="91" y="448"/>
                  </a:lnTo>
                  <a:lnTo>
                    <a:pt x="64" y="492"/>
                  </a:lnTo>
                  <a:lnTo>
                    <a:pt x="45" y="536"/>
                  </a:lnTo>
                  <a:lnTo>
                    <a:pt x="30" y="573"/>
                  </a:lnTo>
                  <a:lnTo>
                    <a:pt x="16" y="617"/>
                  </a:lnTo>
                  <a:lnTo>
                    <a:pt x="5" y="662"/>
                  </a:lnTo>
                  <a:lnTo>
                    <a:pt x="0" y="722"/>
                  </a:lnTo>
                  <a:lnTo>
                    <a:pt x="4" y="773"/>
                  </a:lnTo>
                  <a:lnTo>
                    <a:pt x="11" y="815"/>
                  </a:lnTo>
                  <a:lnTo>
                    <a:pt x="20" y="858"/>
                  </a:lnTo>
                  <a:lnTo>
                    <a:pt x="36" y="905"/>
                  </a:lnTo>
                  <a:lnTo>
                    <a:pt x="51" y="945"/>
                  </a:lnTo>
                  <a:lnTo>
                    <a:pt x="71" y="982"/>
                  </a:lnTo>
                  <a:lnTo>
                    <a:pt x="101" y="1029"/>
                  </a:lnTo>
                  <a:lnTo>
                    <a:pt x="139" y="1080"/>
                  </a:lnTo>
                  <a:lnTo>
                    <a:pt x="177" y="1122"/>
                  </a:lnTo>
                  <a:lnTo>
                    <a:pt x="210" y="1158"/>
                  </a:lnTo>
                  <a:lnTo>
                    <a:pt x="252" y="1193"/>
                  </a:lnTo>
                  <a:lnTo>
                    <a:pt x="292" y="1221"/>
                  </a:lnTo>
                  <a:lnTo>
                    <a:pt x="339" y="1253"/>
                  </a:lnTo>
                  <a:lnTo>
                    <a:pt x="397" y="1291"/>
                  </a:lnTo>
                  <a:lnTo>
                    <a:pt x="454" y="1320"/>
                  </a:lnTo>
                  <a:lnTo>
                    <a:pt x="517" y="1351"/>
                  </a:lnTo>
                  <a:lnTo>
                    <a:pt x="648" y="1397"/>
                  </a:lnTo>
                  <a:lnTo>
                    <a:pt x="757" y="1425"/>
                  </a:lnTo>
                  <a:lnTo>
                    <a:pt x="873" y="1446"/>
                  </a:lnTo>
                  <a:lnTo>
                    <a:pt x="967" y="1457"/>
                  </a:lnTo>
                  <a:lnTo>
                    <a:pt x="1087" y="1464"/>
                  </a:lnTo>
                  <a:lnTo>
                    <a:pt x="1087" y="1573"/>
                  </a:lnTo>
                  <a:lnTo>
                    <a:pt x="1488" y="1323"/>
                  </a:lnTo>
                  <a:lnTo>
                    <a:pt x="1082" y="1070"/>
                  </a:lnTo>
                  <a:lnTo>
                    <a:pt x="1083" y="1182"/>
                  </a:lnTo>
                  <a:lnTo>
                    <a:pt x="963" y="1175"/>
                  </a:lnTo>
                  <a:lnTo>
                    <a:pt x="873" y="1161"/>
                  </a:lnTo>
                  <a:lnTo>
                    <a:pt x="780" y="1140"/>
                  </a:lnTo>
                  <a:lnTo>
                    <a:pt x="648" y="1094"/>
                  </a:lnTo>
                  <a:lnTo>
                    <a:pt x="587" y="1064"/>
                  </a:lnTo>
                  <a:lnTo>
                    <a:pt x="528" y="1031"/>
                  </a:lnTo>
                  <a:lnTo>
                    <a:pt x="480" y="993"/>
                  </a:lnTo>
                  <a:lnTo>
                    <a:pt x="431" y="957"/>
                  </a:lnTo>
                  <a:lnTo>
                    <a:pt x="392" y="922"/>
                  </a:lnTo>
                  <a:lnTo>
                    <a:pt x="360" y="883"/>
                  </a:lnTo>
                  <a:lnTo>
                    <a:pt x="324" y="837"/>
                  </a:lnTo>
                  <a:lnTo>
                    <a:pt x="292" y="785"/>
                  </a:lnTo>
                  <a:lnTo>
                    <a:pt x="270" y="735"/>
                  </a:lnTo>
                  <a:lnTo>
                    <a:pt x="259" y="689"/>
                  </a:lnTo>
                  <a:lnTo>
                    <a:pt x="247" y="633"/>
                  </a:lnTo>
                  <a:lnTo>
                    <a:pt x="246" y="579"/>
                  </a:lnTo>
                  <a:lnTo>
                    <a:pt x="249" y="542"/>
                  </a:lnTo>
                  <a:lnTo>
                    <a:pt x="255" y="502"/>
                  </a:lnTo>
                  <a:lnTo>
                    <a:pt x="270" y="454"/>
                  </a:lnTo>
                  <a:lnTo>
                    <a:pt x="289" y="408"/>
                  </a:lnTo>
                  <a:lnTo>
                    <a:pt x="311" y="364"/>
                  </a:lnTo>
                  <a:lnTo>
                    <a:pt x="341" y="322"/>
                  </a:lnTo>
                  <a:lnTo>
                    <a:pt x="395" y="260"/>
                  </a:lnTo>
                  <a:lnTo>
                    <a:pt x="440" y="219"/>
                  </a:lnTo>
                  <a:lnTo>
                    <a:pt x="498" y="176"/>
                  </a:lnTo>
                  <a:lnTo>
                    <a:pt x="558" y="138"/>
                  </a:lnTo>
                  <a:lnTo>
                    <a:pt x="603" y="113"/>
                  </a:lnTo>
                  <a:lnTo>
                    <a:pt x="657" y="89"/>
                  </a:lnTo>
                  <a:lnTo>
                    <a:pt x="708" y="70"/>
                  </a:lnTo>
                  <a:lnTo>
                    <a:pt x="750" y="56"/>
                  </a:lnTo>
                  <a:lnTo>
                    <a:pt x="791" y="43"/>
                  </a:lnTo>
                  <a:lnTo>
                    <a:pt x="843" y="32"/>
                  </a:lnTo>
                  <a:lnTo>
                    <a:pt x="891" y="25"/>
                  </a:lnTo>
                  <a:lnTo>
                    <a:pt x="956" y="15"/>
                  </a:lnTo>
                  <a:lnTo>
                    <a:pt x="1121" y="0"/>
                  </a:lnTo>
                  <a:close/>
                </a:path>
              </a:pathLst>
            </a:custGeom>
            <a:solidFill>
              <a:srgbClr val="333399"/>
            </a:solidFill>
            <a:ln w="7920">
              <a:solidFill>
                <a:srgbClr val="333399"/>
              </a:solidFill>
              <a:round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18240" y="3443400"/>
              <a:ext cx="1076400" cy="1254240"/>
            </a:xfrm>
            <a:custGeom>
              <a:avLst/>
              <a:gdLst/>
              <a:ahLst/>
              <a:rect l="l" t="t" r="r" b="b"/>
              <a:pathLst>
                <a:path w="1488" h="1573">
                  <a:moveTo>
                    <a:pt x="1120" y="1573"/>
                  </a:moveTo>
                  <a:lnTo>
                    <a:pt x="944" y="1570"/>
                  </a:lnTo>
                  <a:lnTo>
                    <a:pt x="884" y="1564"/>
                  </a:lnTo>
                  <a:lnTo>
                    <a:pt x="811" y="1552"/>
                  </a:lnTo>
                  <a:lnTo>
                    <a:pt x="754" y="1543"/>
                  </a:lnTo>
                  <a:lnTo>
                    <a:pt x="698" y="1529"/>
                  </a:lnTo>
                  <a:lnTo>
                    <a:pt x="642" y="1512"/>
                  </a:lnTo>
                  <a:lnTo>
                    <a:pt x="592" y="1495"/>
                  </a:lnTo>
                  <a:lnTo>
                    <a:pt x="532" y="1473"/>
                  </a:lnTo>
                  <a:lnTo>
                    <a:pt x="460" y="1441"/>
                  </a:lnTo>
                  <a:lnTo>
                    <a:pt x="403" y="1412"/>
                  </a:lnTo>
                  <a:lnTo>
                    <a:pt x="348" y="1379"/>
                  </a:lnTo>
                  <a:lnTo>
                    <a:pt x="311" y="1352"/>
                  </a:lnTo>
                  <a:lnTo>
                    <a:pt x="267" y="1320"/>
                  </a:lnTo>
                  <a:lnTo>
                    <a:pt x="236" y="1295"/>
                  </a:lnTo>
                  <a:lnTo>
                    <a:pt x="202" y="1260"/>
                  </a:lnTo>
                  <a:lnTo>
                    <a:pt x="172" y="1228"/>
                  </a:lnTo>
                  <a:lnTo>
                    <a:pt x="142" y="1193"/>
                  </a:lnTo>
                  <a:lnTo>
                    <a:pt x="120" y="1165"/>
                  </a:lnTo>
                  <a:lnTo>
                    <a:pt x="91" y="1125"/>
                  </a:lnTo>
                  <a:lnTo>
                    <a:pt x="63" y="1081"/>
                  </a:lnTo>
                  <a:lnTo>
                    <a:pt x="45" y="1037"/>
                  </a:lnTo>
                  <a:lnTo>
                    <a:pt x="30" y="1000"/>
                  </a:lnTo>
                  <a:lnTo>
                    <a:pt x="16" y="956"/>
                  </a:lnTo>
                  <a:lnTo>
                    <a:pt x="5" y="911"/>
                  </a:lnTo>
                  <a:lnTo>
                    <a:pt x="0" y="851"/>
                  </a:lnTo>
                  <a:lnTo>
                    <a:pt x="3" y="800"/>
                  </a:lnTo>
                  <a:lnTo>
                    <a:pt x="11" y="758"/>
                  </a:lnTo>
                  <a:lnTo>
                    <a:pt x="20" y="715"/>
                  </a:lnTo>
                  <a:lnTo>
                    <a:pt x="36" y="668"/>
                  </a:lnTo>
                  <a:lnTo>
                    <a:pt x="51" y="628"/>
                  </a:lnTo>
                  <a:lnTo>
                    <a:pt x="71" y="591"/>
                  </a:lnTo>
                  <a:lnTo>
                    <a:pt x="101" y="544"/>
                  </a:lnTo>
                  <a:lnTo>
                    <a:pt x="138" y="493"/>
                  </a:lnTo>
                  <a:lnTo>
                    <a:pt x="177" y="451"/>
                  </a:lnTo>
                  <a:lnTo>
                    <a:pt x="210" y="415"/>
                  </a:lnTo>
                  <a:lnTo>
                    <a:pt x="252" y="380"/>
                  </a:lnTo>
                  <a:lnTo>
                    <a:pt x="292" y="352"/>
                  </a:lnTo>
                  <a:lnTo>
                    <a:pt x="338" y="320"/>
                  </a:lnTo>
                  <a:lnTo>
                    <a:pt x="397" y="282"/>
                  </a:lnTo>
                  <a:lnTo>
                    <a:pt x="453" y="253"/>
                  </a:lnTo>
                  <a:lnTo>
                    <a:pt x="517" y="222"/>
                  </a:lnTo>
                  <a:lnTo>
                    <a:pt x="648" y="176"/>
                  </a:lnTo>
                  <a:lnTo>
                    <a:pt x="757" y="148"/>
                  </a:lnTo>
                  <a:lnTo>
                    <a:pt x="873" y="127"/>
                  </a:lnTo>
                  <a:lnTo>
                    <a:pt x="967" y="116"/>
                  </a:lnTo>
                  <a:lnTo>
                    <a:pt x="1087" y="109"/>
                  </a:lnTo>
                  <a:lnTo>
                    <a:pt x="1087" y="0"/>
                  </a:lnTo>
                  <a:lnTo>
                    <a:pt x="1488" y="250"/>
                  </a:lnTo>
                  <a:lnTo>
                    <a:pt x="1082" y="503"/>
                  </a:lnTo>
                  <a:lnTo>
                    <a:pt x="1083" y="391"/>
                  </a:lnTo>
                  <a:lnTo>
                    <a:pt x="963" y="398"/>
                  </a:lnTo>
                  <a:lnTo>
                    <a:pt x="873" y="412"/>
                  </a:lnTo>
                  <a:lnTo>
                    <a:pt x="779" y="433"/>
                  </a:lnTo>
                  <a:lnTo>
                    <a:pt x="648" y="479"/>
                  </a:lnTo>
                  <a:lnTo>
                    <a:pt x="587" y="509"/>
                  </a:lnTo>
                  <a:lnTo>
                    <a:pt x="528" y="542"/>
                  </a:lnTo>
                  <a:lnTo>
                    <a:pt x="480" y="580"/>
                  </a:lnTo>
                  <a:lnTo>
                    <a:pt x="431" y="616"/>
                  </a:lnTo>
                  <a:lnTo>
                    <a:pt x="392" y="651"/>
                  </a:lnTo>
                  <a:lnTo>
                    <a:pt x="360" y="690"/>
                  </a:lnTo>
                  <a:lnTo>
                    <a:pt x="323" y="736"/>
                  </a:lnTo>
                  <a:lnTo>
                    <a:pt x="292" y="788"/>
                  </a:lnTo>
                  <a:lnTo>
                    <a:pt x="270" y="838"/>
                  </a:lnTo>
                  <a:lnTo>
                    <a:pt x="258" y="884"/>
                  </a:lnTo>
                  <a:lnTo>
                    <a:pt x="247" y="940"/>
                  </a:lnTo>
                  <a:lnTo>
                    <a:pt x="246" y="994"/>
                  </a:lnTo>
                  <a:lnTo>
                    <a:pt x="248" y="1031"/>
                  </a:lnTo>
                  <a:lnTo>
                    <a:pt x="255" y="1071"/>
                  </a:lnTo>
                  <a:lnTo>
                    <a:pt x="270" y="1119"/>
                  </a:lnTo>
                  <a:lnTo>
                    <a:pt x="288" y="1165"/>
                  </a:lnTo>
                  <a:lnTo>
                    <a:pt x="311" y="1209"/>
                  </a:lnTo>
                  <a:lnTo>
                    <a:pt x="341" y="1251"/>
                  </a:lnTo>
                  <a:lnTo>
                    <a:pt x="395" y="1313"/>
                  </a:lnTo>
                  <a:lnTo>
                    <a:pt x="440" y="1354"/>
                  </a:lnTo>
                  <a:lnTo>
                    <a:pt x="498" y="1397"/>
                  </a:lnTo>
                  <a:lnTo>
                    <a:pt x="558" y="1435"/>
                  </a:lnTo>
                  <a:lnTo>
                    <a:pt x="603" y="1460"/>
                  </a:lnTo>
                  <a:lnTo>
                    <a:pt x="657" y="1484"/>
                  </a:lnTo>
                  <a:lnTo>
                    <a:pt x="708" y="1503"/>
                  </a:lnTo>
                  <a:lnTo>
                    <a:pt x="749" y="1517"/>
                  </a:lnTo>
                  <a:lnTo>
                    <a:pt x="791" y="1530"/>
                  </a:lnTo>
                  <a:lnTo>
                    <a:pt x="843" y="1541"/>
                  </a:lnTo>
                  <a:lnTo>
                    <a:pt x="891" y="1548"/>
                  </a:lnTo>
                  <a:lnTo>
                    <a:pt x="956" y="1558"/>
                  </a:lnTo>
                  <a:lnTo>
                    <a:pt x="1120" y="1573"/>
                  </a:lnTo>
                  <a:close/>
                </a:path>
              </a:pathLst>
            </a:custGeom>
            <a:solidFill>
              <a:srgbClr val="333399"/>
            </a:solidFill>
            <a:ln w="7920">
              <a:solidFill>
                <a:srgbClr val="333399"/>
              </a:solidFill>
              <a:round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32440" y="4770720"/>
              <a:ext cx="175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Times New Roman (Hebrew)"/>
                </a:rPr>
                <a:t>e-Science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83400" y="3926160"/>
              <a:ext cx="213804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Times New Roman (Hebrew)"/>
                </a:rPr>
                <a:t>Industry</a:t>
              </a: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Times New Roman (Hebrew)"/>
                </a:rPr>
                <a:t> 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Times New Roman (Hebrew)"/>
                </a:rPr>
                <a:t>&amp; Business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64200" y="4256280"/>
              <a:ext cx="1523880" cy="460440"/>
            </a:xfrm>
            <a:prstGeom prst="ellipse">
              <a:avLst/>
            </a:prstGeom>
            <a:solidFill>
              <a:srgbClr val="4a69bc">
                <a:alpha val="55000"/>
              </a:srgbClr>
            </a:solidFill>
            <a:ln w="0">
              <a:noFill/>
            </a:ln>
            <a:effectLst>
              <a:outerShdw dist="17819" dir="2700000" blurRad="0" rotWithShape="0">
                <a:srgbClr val="2c3e7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  <a:ea typeface="Times New Roman (Hebrew)"/>
                </a:rPr>
                <a:t>Grid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Arial"/>
              </a:rPr>
              <a:t>What is the Grid ?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7120" y="1068480"/>
            <a:ext cx="854568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A Grid provides an abstraction for resource sharing an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collaboration across multiple administrative domains…”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(Source: NGG Expert Group, 16 June 2003 “European Grid Research 2005-2010)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3C81-5DC3-45CE-AA3C-D84D90A9CC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92160"/>
            <a:ext cx="1266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168880"/>
            <a:ext cx="1336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645000"/>
            <a:ext cx="12668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Middleware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03200" y="36648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99"/>
                </a:solidFill>
                <a:latin typeface="Arial"/>
              </a:rPr>
              <a:t>EU FP5 Grid Projects (58M€) – 2000-2004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93040" y="1428840"/>
            <a:ext cx="314460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70000"/>
              </a:lnSpc>
              <a:spcBef>
                <a:spcPts val="938"/>
              </a:spcBef>
              <a:buClr>
                <a:srgbClr val="0000ff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 u="sng">
                <a:solidFill>
                  <a:srgbClr val="0000ff"/>
                </a:solidFill>
                <a:uFillTx/>
                <a:latin typeface="Times New Roman"/>
              </a:rPr>
              <a:t>Infrastructure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 lvl="1" marL="396720"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DataTag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38"/>
              </a:spcBef>
              <a:buClr>
                <a:srgbClr val="ff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 u="sng">
                <a:solidFill>
                  <a:srgbClr val="ff0000"/>
                </a:solidFill>
                <a:uFillTx/>
                <a:latin typeface="Times New Roman"/>
              </a:rPr>
              <a:t>Computing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 lvl="1" marL="396720"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EuroGrid, DataGrid, </a:t>
            </a:r>
            <a:br>
              <a:rPr sz="1500"/>
            </a:b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Damien 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38"/>
              </a:spcBef>
              <a:buClr>
                <a:srgbClr val="0066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 u="sng">
                <a:solidFill>
                  <a:srgbClr val="006600"/>
                </a:solidFill>
                <a:uFillTx/>
                <a:latin typeface="Times New Roman"/>
              </a:rPr>
              <a:t>Tools and Middleware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 lvl="1" marL="396720"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GridLab, GRIP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38"/>
              </a:spcBef>
              <a:buClr>
                <a:srgbClr val="668a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 u="sng">
                <a:solidFill>
                  <a:srgbClr val="668a00"/>
                </a:solidFill>
                <a:uFillTx/>
                <a:latin typeface="Times New Roman"/>
              </a:rPr>
              <a:t>Applications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 lvl="1" marL="396720"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EGSO, CrossGrid, </a:t>
            </a:r>
            <a:br>
              <a:rPr sz="1500"/>
            </a:b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BioGrid, FlowGrid, </a:t>
            </a:r>
            <a:br>
              <a:rPr sz="1500"/>
            </a:b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Moses, COG, GEMSS, </a:t>
            </a:r>
            <a:br>
              <a:rPr sz="1500"/>
            </a:b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Grace, Mammogrid, OpenMolGrid, Selene, 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 u="sng">
                <a:solidFill>
                  <a:srgbClr val="000099"/>
                </a:solidFill>
                <a:uFillTx/>
                <a:latin typeface="Times New Roman"/>
              </a:rPr>
              <a:t>P2P / ASP / Webservices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 lvl="1" marL="396720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P2People, ASP-BP,</a:t>
            </a:r>
            <a:br>
              <a:rPr sz="1500"/>
            </a:b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GRIA, MMAPS, </a:t>
            </a:r>
            <a:br>
              <a:rPr sz="1500"/>
            </a:b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GRASP, GRIP, WEBSI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38"/>
              </a:spcBef>
              <a:buClr>
                <a:srgbClr val="cc00cc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 u="sng">
                <a:solidFill>
                  <a:srgbClr val="cc00cc"/>
                </a:solidFill>
                <a:uFillTx/>
                <a:latin typeface="Times New Roman"/>
              </a:rPr>
              <a:t>Clustering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 lvl="1" marL="396720"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GridStart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39720" y="1104840"/>
            <a:ext cx="6388200" cy="4792680"/>
            <a:chOff x="639720" y="1104840"/>
            <a:chExt cx="6388200" cy="4792680"/>
          </a:xfrm>
        </p:grpSpPr>
        <p:grpSp>
          <p:nvGrpSpPr>
            <p:cNvPr id="94" name=""/>
            <p:cNvGrpSpPr/>
            <p:nvPr/>
          </p:nvGrpSpPr>
          <p:grpSpPr>
            <a:xfrm>
              <a:off x="639720" y="1104840"/>
              <a:ext cx="6388200" cy="4792680"/>
              <a:chOff x="639720" y="1104840"/>
              <a:chExt cx="6388200" cy="4792680"/>
            </a:xfrm>
          </p:grpSpPr>
          <p:sp>
            <p:nvSpPr>
              <p:cNvPr id="95" name=""/>
              <p:cNvSpPr/>
              <p:nvPr/>
            </p:nvSpPr>
            <p:spPr>
              <a:xfrm>
                <a:off x="639720" y="1104840"/>
                <a:ext cx="6388200" cy="47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995400" y="1547640"/>
                <a:ext cx="5705280" cy="394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95400" y="4840200"/>
                <a:ext cx="570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95400" y="4174920"/>
                <a:ext cx="570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95400" y="3520800"/>
                <a:ext cx="570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995400" y="2866680"/>
                <a:ext cx="570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5400" y="2201760"/>
                <a:ext cx="570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95400" y="1547640"/>
                <a:ext cx="570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95400" y="1547640"/>
                <a:ext cx="5705280" cy="39466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5400" y="1547640"/>
                <a:ext cx="1440" cy="3946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46080" y="549432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46080" y="484020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46080" y="417492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46080" y="3520800"/>
                <a:ext cx="49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946080" y="2866680"/>
                <a:ext cx="49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946080" y="220176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46080" y="154764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95400" y="5494320"/>
                <a:ext cx="570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995400" y="5493960"/>
                <a:ext cx="144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3309840" y="5493960"/>
                <a:ext cx="180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5622840" y="5493960"/>
                <a:ext cx="180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30640" y="2624040"/>
                <a:ext cx="474480" cy="484200"/>
              </a:xfrm>
              <a:prstGeom prst="ellipse">
                <a:avLst/>
              </a:prstGeom>
              <a:solidFill>
                <a:srgbClr val="66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251160" y="2644560"/>
                <a:ext cx="414360" cy="422280"/>
              </a:xfrm>
              <a:prstGeom prst="ellipse">
                <a:avLst/>
              </a:prstGeom>
              <a:solidFill>
                <a:srgbClr val="732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270240" y="2665080"/>
                <a:ext cx="355680" cy="362160"/>
              </a:xfrm>
              <a:prstGeom prst="ellipse">
                <a:avLst/>
              </a:prstGeom>
              <a:solidFill>
                <a:srgbClr val="7f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289320" y="2684160"/>
                <a:ext cx="297000" cy="303480"/>
              </a:xfrm>
              <a:prstGeom prst="ellipse">
                <a:avLst/>
              </a:prstGeom>
              <a:solidFill>
                <a:srgbClr val="8c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09840" y="2705040"/>
                <a:ext cx="236520" cy="241200"/>
              </a:xfrm>
              <a:prstGeom prst="ellipse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28920" y="2725560"/>
                <a:ext cx="177840" cy="181080"/>
              </a:xfrm>
              <a:prstGeom prst="ellipse">
                <a:avLst/>
              </a:prstGeom>
              <a:solidFill>
                <a:srgbClr val="a14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349800" y="2746080"/>
                <a:ext cx="118800" cy="120600"/>
              </a:xfrm>
              <a:prstGeom prst="ellipse">
                <a:avLst/>
              </a:prstGeom>
              <a:solidFill>
                <a:srgbClr val="aa5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368520" y="2765160"/>
                <a:ext cx="60480" cy="60480"/>
              </a:xfrm>
              <a:prstGeom prst="ellipse">
                <a:avLst/>
              </a:prstGeom>
              <a:solidFill>
                <a:srgbClr val="b36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30640" y="2624040"/>
                <a:ext cx="474480" cy="484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903840" y="3189240"/>
                <a:ext cx="652320" cy="663480"/>
              </a:xfrm>
              <a:prstGeom prst="ellipse">
                <a:avLst/>
              </a:prstGeom>
              <a:solidFill>
                <a:srgbClr val="66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22560" y="3208320"/>
                <a:ext cx="594000" cy="604800"/>
              </a:xfrm>
              <a:prstGeom prst="ellipse">
                <a:avLst/>
              </a:prstGeom>
              <a:solidFill>
                <a:srgbClr val="6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43440" y="3228840"/>
                <a:ext cx="533160" cy="542880"/>
              </a:xfrm>
              <a:prstGeom prst="ellipse">
                <a:avLst/>
              </a:prstGeom>
              <a:solidFill>
                <a:srgbClr val="79a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62520" y="3249360"/>
                <a:ext cx="474480" cy="482760"/>
              </a:xfrm>
              <a:prstGeom prst="ellipse">
                <a:avLst/>
              </a:prstGeom>
              <a:solidFill>
                <a:srgbClr val="82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81600" y="3268440"/>
                <a:ext cx="415800" cy="424080"/>
              </a:xfrm>
              <a:prstGeom prst="ellipse">
                <a:avLst/>
              </a:prstGeom>
              <a:solidFill>
                <a:srgbClr val="8b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002120" y="3288960"/>
                <a:ext cx="355680" cy="362160"/>
              </a:xfrm>
              <a:prstGeom prst="ellipse">
                <a:avLst/>
              </a:prstGeom>
              <a:solidFill>
                <a:srgbClr val="94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021200" y="3309840"/>
                <a:ext cx="296640" cy="301680"/>
              </a:xfrm>
              <a:prstGeom prst="ellipse">
                <a:avLst/>
              </a:prstGeom>
              <a:solidFill>
                <a:srgbClr val="9cce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041720" y="3328920"/>
                <a:ext cx="236520" cy="242640"/>
              </a:xfrm>
              <a:prstGeom prst="ellipse">
                <a:avLst/>
              </a:prstGeom>
              <a:solidFill>
                <a:srgbClr val="a2d1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060800" y="3349440"/>
                <a:ext cx="177840" cy="181080"/>
              </a:xfrm>
              <a:prstGeom prst="ellipse">
                <a:avLst/>
              </a:prstGeom>
              <a:solidFill>
                <a:srgbClr val="a8d4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81320" y="3369960"/>
                <a:ext cx="117720" cy="120600"/>
              </a:xfrm>
              <a:prstGeom prst="ellipse">
                <a:avLst/>
              </a:prstGeom>
              <a:solidFill>
                <a:srgbClr val="afd7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00400" y="3389040"/>
                <a:ext cx="60480" cy="60480"/>
              </a:xfrm>
              <a:prstGeom prst="ellipse">
                <a:avLst/>
              </a:prstGeom>
              <a:solidFill>
                <a:srgbClr val="b5da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903840" y="3189240"/>
                <a:ext cx="652320" cy="663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01840" y="3611520"/>
                <a:ext cx="336600" cy="342720"/>
              </a:xfrm>
              <a:prstGeom prst="ellipse">
                <a:avLst/>
              </a:prstGeom>
              <a:solidFill>
                <a:srgbClr val="6c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20920" y="3632040"/>
                <a:ext cx="277560" cy="280800"/>
              </a:xfrm>
              <a:prstGeom prst="ellipse">
                <a:avLst/>
              </a:prstGeom>
              <a:solidFill>
                <a:srgbClr val="7e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441440" y="3651120"/>
                <a:ext cx="217440" cy="222120"/>
              </a:xfrm>
              <a:prstGeom prst="ellipse">
                <a:avLst/>
              </a:prstGeom>
              <a:solidFill>
                <a:srgbClr val="9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60520" y="3671640"/>
                <a:ext cx="158760" cy="160560"/>
              </a:xfrm>
              <a:prstGeom prst="ellipse">
                <a:avLst/>
              </a:prstGeom>
              <a:solidFill>
                <a:srgbClr val="9fc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81040" y="3692520"/>
                <a:ext cx="98640" cy="99720"/>
              </a:xfrm>
              <a:prstGeom prst="ellipse">
                <a:avLst/>
              </a:prstGeom>
              <a:solidFill>
                <a:srgbClr val="abd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01840" y="3611520"/>
                <a:ext cx="336600" cy="342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095480" y="3822480"/>
                <a:ext cx="949320" cy="966960"/>
              </a:xfrm>
              <a:prstGeom prst="ellipse">
                <a:avLst/>
              </a:prstGeom>
              <a:solidFill>
                <a:srgbClr val="66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4560" y="3843000"/>
                <a:ext cx="890280" cy="906480"/>
              </a:xfrm>
              <a:prstGeom prst="ellipse">
                <a:avLst/>
              </a:prstGeom>
              <a:solidFill>
                <a:srgbClr val="6c2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35080" y="3863880"/>
                <a:ext cx="830160" cy="844560"/>
              </a:xfrm>
              <a:prstGeom prst="ellipse">
                <a:avLst/>
              </a:prstGeom>
              <a:solidFill>
                <a:srgbClr val="732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54160" y="3882960"/>
                <a:ext cx="771480" cy="785520"/>
              </a:xfrm>
              <a:prstGeom prst="ellipse">
                <a:avLst/>
              </a:prstGeom>
              <a:solidFill>
                <a:srgbClr val="792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173240" y="3903480"/>
                <a:ext cx="712800" cy="725400"/>
              </a:xfrm>
              <a:prstGeom prst="ellipse">
                <a:avLst/>
              </a:prstGeom>
              <a:solidFill>
                <a:srgbClr val="7f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193760" y="3924000"/>
                <a:ext cx="652680" cy="663840"/>
              </a:xfrm>
              <a:prstGeom prst="ellipse">
                <a:avLst/>
              </a:prstGeom>
              <a:solidFill>
                <a:srgbClr val="862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12840" y="3943080"/>
                <a:ext cx="593640" cy="604800"/>
              </a:xfrm>
              <a:prstGeom prst="ellipse">
                <a:avLst/>
              </a:prstGeom>
              <a:solidFill>
                <a:srgbClr val="8c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233360" y="3963960"/>
                <a:ext cx="533520" cy="542880"/>
              </a:xfrm>
              <a:prstGeom prst="ellipse">
                <a:avLst/>
              </a:prstGeom>
              <a:solidFill>
                <a:srgbClr val="93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52440" y="3984480"/>
                <a:ext cx="474840" cy="482400"/>
              </a:xfrm>
              <a:prstGeom prst="ellipse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273320" y="4003560"/>
                <a:ext cx="414360" cy="423720"/>
              </a:xfrm>
              <a:prstGeom prst="ellipse">
                <a:avLst/>
              </a:prstGeom>
              <a:solidFill>
                <a:srgbClr val="9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292400" y="4024080"/>
                <a:ext cx="355320" cy="362160"/>
              </a:xfrm>
              <a:prstGeom prst="ellipse">
                <a:avLst/>
              </a:prstGeom>
              <a:solidFill>
                <a:srgbClr val="a14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312920" y="4044600"/>
                <a:ext cx="296640" cy="301680"/>
              </a:xfrm>
              <a:prstGeom prst="ellipse">
                <a:avLst/>
              </a:prstGeom>
              <a:solidFill>
                <a:srgbClr val="a64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32000" y="4063680"/>
                <a:ext cx="237960" cy="243000"/>
              </a:xfrm>
              <a:prstGeom prst="ellipse">
                <a:avLst/>
              </a:prstGeom>
              <a:solidFill>
                <a:srgbClr val="aa5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52520" y="4084560"/>
                <a:ext cx="177840" cy="180720"/>
              </a:xfrm>
              <a:prstGeom prst="ellipse">
                <a:avLst/>
              </a:prstGeom>
              <a:solidFill>
                <a:srgbClr val="ae5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371600" y="4105080"/>
                <a:ext cx="119160" cy="120600"/>
              </a:xfrm>
              <a:prstGeom prst="ellipse">
                <a:avLst/>
              </a:prstGeom>
              <a:solidFill>
                <a:srgbClr val="b36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392120" y="4124160"/>
                <a:ext cx="58680" cy="60480"/>
              </a:xfrm>
              <a:prstGeom prst="ellipse">
                <a:avLst/>
              </a:prstGeom>
              <a:solidFill>
                <a:srgbClr val="b76e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95480" y="3822480"/>
                <a:ext cx="949320" cy="966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557520" y="4536720"/>
                <a:ext cx="592200" cy="605160"/>
              </a:xfrm>
              <a:prstGeom prst="ellipse">
                <a:avLst/>
              </a:prstGeom>
              <a:solidFill>
                <a:srgbClr val="66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576600" y="4557600"/>
                <a:ext cx="533520" cy="544320"/>
              </a:xfrm>
              <a:prstGeom prst="ellipse">
                <a:avLst/>
              </a:prstGeom>
              <a:solidFill>
                <a:srgbClr val="7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97120" y="4578120"/>
                <a:ext cx="473400" cy="482760"/>
              </a:xfrm>
              <a:prstGeom prst="ellipse">
                <a:avLst/>
              </a:prstGeom>
              <a:solidFill>
                <a:srgbClr val="7a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16200" y="4598640"/>
                <a:ext cx="416160" cy="422280"/>
              </a:xfrm>
              <a:prstGeom prst="ellipse">
                <a:avLst/>
              </a:prstGeom>
              <a:solidFill>
                <a:srgbClr val="85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635280" y="4617720"/>
                <a:ext cx="357120" cy="363600"/>
              </a:xfrm>
              <a:prstGeom prst="ellipse">
                <a:avLst/>
              </a:prstGeom>
              <a:solidFill>
                <a:srgbClr val="8f3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656160" y="4638600"/>
                <a:ext cx="296640" cy="301680"/>
              </a:xfrm>
              <a:prstGeom prst="ellipse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675240" y="4659120"/>
                <a:ext cx="237960" cy="241200"/>
              </a:xfrm>
              <a:prstGeom prst="ellipse">
                <a:avLst/>
              </a:prstGeom>
              <a:solidFill>
                <a:srgbClr val="a04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95760" y="4678200"/>
                <a:ext cx="177840" cy="181080"/>
              </a:xfrm>
              <a:prstGeom prst="ellipse">
                <a:avLst/>
              </a:prstGeom>
              <a:solidFill>
                <a:srgbClr val="a74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714840" y="4698720"/>
                <a:ext cx="118800" cy="120600"/>
              </a:xfrm>
              <a:prstGeom prst="ellipse">
                <a:avLst/>
              </a:prstGeom>
              <a:solidFill>
                <a:srgbClr val="ad5c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35360" y="4719600"/>
                <a:ext cx="58680" cy="60120"/>
              </a:xfrm>
              <a:prstGeom prst="ellipse">
                <a:avLst/>
              </a:prstGeom>
              <a:solidFill>
                <a:srgbClr val="b469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57520" y="4536720"/>
                <a:ext cx="592200" cy="605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002120" y="2765160"/>
                <a:ext cx="453960" cy="463680"/>
              </a:xfrm>
              <a:prstGeom prst="ellipse">
                <a:avLst/>
              </a:prstGeom>
              <a:solidFill>
                <a:srgbClr val="6a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021200" y="2786040"/>
                <a:ext cx="395280" cy="403200"/>
              </a:xfrm>
              <a:prstGeom prst="ellipse">
                <a:avLst/>
              </a:prstGeom>
              <a:solidFill>
                <a:srgbClr val="78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041720" y="2806560"/>
                <a:ext cx="336600" cy="341280"/>
              </a:xfrm>
              <a:prstGeom prst="ellipse">
                <a:avLst/>
              </a:prstGeom>
              <a:solidFill>
                <a:srgbClr val="852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060800" y="2825640"/>
                <a:ext cx="277920" cy="282600"/>
              </a:xfrm>
              <a:prstGeom prst="ellipse">
                <a:avLst/>
              </a:prstGeom>
              <a:solidFill>
                <a:srgbClr val="92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081320" y="2846160"/>
                <a:ext cx="217800" cy="220680"/>
              </a:xfrm>
              <a:prstGeom prst="ellipse">
                <a:avLst/>
              </a:prstGeom>
              <a:solidFill>
                <a:srgbClr val="9d3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100400" y="2866680"/>
                <a:ext cx="158760" cy="160560"/>
              </a:xfrm>
              <a:prstGeom prst="ellipse">
                <a:avLst/>
              </a:prstGeom>
              <a:solidFill>
                <a:srgbClr val="a64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21280" y="2885760"/>
                <a:ext cx="98280" cy="101880"/>
              </a:xfrm>
              <a:prstGeom prst="ellipse">
                <a:avLst/>
              </a:prstGeom>
              <a:solidFill>
                <a:srgbClr val="af5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002120" y="2765160"/>
                <a:ext cx="453960" cy="463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966960" y="3168360"/>
                <a:ext cx="434880" cy="443160"/>
              </a:xfrm>
              <a:prstGeom prst="ellipse">
                <a:avLst/>
              </a:prstGeom>
              <a:solidFill>
                <a:srgbClr val="682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85680" y="3189240"/>
                <a:ext cx="376560" cy="382320"/>
              </a:xfrm>
              <a:prstGeom prst="ellipse">
                <a:avLst/>
              </a:prstGeom>
              <a:solidFill>
                <a:srgbClr val="762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006560" y="3208320"/>
                <a:ext cx="315720" cy="322200"/>
              </a:xfrm>
              <a:prstGeom prst="ellipse">
                <a:avLst/>
              </a:prstGeom>
              <a:solidFill>
                <a:srgbClr val="84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25640" y="3228840"/>
                <a:ext cx="257040" cy="261720"/>
              </a:xfrm>
              <a:prstGeom prst="ellipse">
                <a:avLst/>
              </a:prstGeom>
              <a:solidFill>
                <a:srgbClr val="923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6160" y="3249360"/>
                <a:ext cx="196920" cy="200160"/>
              </a:xfrm>
              <a:prstGeom prst="ellipse">
                <a:avLst/>
              </a:prstGeom>
              <a:solidFill>
                <a:srgbClr val="9e3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065240" y="3268440"/>
                <a:ext cx="138240" cy="141480"/>
              </a:xfrm>
              <a:prstGeom prst="ellipse">
                <a:avLst/>
              </a:prstGeom>
              <a:solidFill>
                <a:srgbClr val="a74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084320" y="3288960"/>
                <a:ext cx="79200" cy="81000"/>
              </a:xfrm>
              <a:prstGeom prst="ellipse">
                <a:avLst/>
              </a:prstGeom>
              <a:solidFill>
                <a:srgbClr val="b061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66960" y="3168360"/>
                <a:ext cx="434880" cy="44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48080" y="3047760"/>
                <a:ext cx="415800" cy="422280"/>
              </a:xfrm>
              <a:prstGeom prst="ellipse">
                <a:avLst/>
              </a:prstGeom>
              <a:solidFill>
                <a:srgbClr val="888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68600" y="3066840"/>
                <a:ext cx="355680" cy="363600"/>
              </a:xfrm>
              <a:prstGeom prst="ellipse">
                <a:avLst/>
              </a:prstGeom>
              <a:solidFill>
                <a:srgbClr val="9b9b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87680" y="3087360"/>
                <a:ext cx="297000" cy="301680"/>
              </a:xfrm>
              <a:prstGeom prst="ellipse">
                <a:avLst/>
              </a:prstGeom>
              <a:solidFill>
                <a:srgbClr val="afa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06760" y="3108240"/>
                <a:ext cx="238320" cy="241200"/>
              </a:xfrm>
              <a:prstGeom prst="ellipse">
                <a:avLst/>
              </a:prstGeom>
              <a:solidFill>
                <a:srgbClr val="c2c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27280" y="3128760"/>
                <a:ext cx="177840" cy="181080"/>
              </a:xfrm>
              <a:prstGeom prst="ellipse">
                <a:avLst/>
              </a:pr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46360" y="3147840"/>
                <a:ext cx="119160" cy="120600"/>
              </a:xfrm>
              <a:prstGeom prst="ellipse">
                <a:avLst/>
              </a:prstGeom>
              <a:solidFill>
                <a:srgbClr val="d3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567240" y="3168360"/>
                <a:ext cx="58680" cy="60480"/>
              </a:xfrm>
              <a:prstGeom prst="ellipse">
                <a:avLst/>
              </a:prstGeom>
              <a:solidFill>
                <a:srgbClr val="d8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48080" y="3047760"/>
                <a:ext cx="415800" cy="42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517920" y="3309840"/>
                <a:ext cx="671400" cy="684000"/>
              </a:xfrm>
              <a:prstGeom prst="ellipse">
                <a:avLst/>
              </a:prstGeom>
              <a:solidFill>
                <a:srgbClr val="672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537000" y="3328920"/>
                <a:ext cx="612720" cy="625320"/>
              </a:xfrm>
              <a:prstGeom prst="ellipse">
                <a:avLst/>
              </a:prstGeom>
              <a:solidFill>
                <a:srgbClr val="7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57520" y="3349440"/>
                <a:ext cx="552600" cy="563400"/>
              </a:xfrm>
              <a:prstGeom prst="ellipse">
                <a:avLst/>
              </a:prstGeom>
              <a:solidFill>
                <a:srgbClr val="792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576600" y="3369960"/>
                <a:ext cx="493920" cy="503280"/>
              </a:xfrm>
              <a:prstGeom prst="ellipse">
                <a:avLst/>
              </a:prstGeom>
              <a:solidFill>
                <a:srgbClr val="822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97120" y="3389040"/>
                <a:ext cx="435240" cy="443160"/>
              </a:xfrm>
              <a:prstGeom prst="ellipse">
                <a:avLst/>
              </a:prstGeom>
              <a:solidFill>
                <a:srgbClr val="8b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16200" y="3409920"/>
                <a:ext cx="376200" cy="382320"/>
              </a:xfrm>
              <a:prstGeom prst="ellipse">
                <a:avLst/>
              </a:prstGeom>
              <a:solidFill>
                <a:srgbClr val="94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635280" y="3430440"/>
                <a:ext cx="317520" cy="322200"/>
              </a:xfrm>
              <a:prstGeom prst="ellipse">
                <a:avLst/>
              </a:prstGeom>
              <a:solidFill>
                <a:srgbClr val="9c3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656160" y="3449520"/>
                <a:ext cx="257040" cy="261720"/>
              </a:xfrm>
              <a:prstGeom prst="ellipse">
                <a:avLst/>
              </a:prstGeom>
              <a:solidFill>
                <a:srgbClr val="a24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75240" y="3470040"/>
                <a:ext cx="198360" cy="201600"/>
              </a:xfrm>
              <a:prstGeom prst="ellipse">
                <a:avLst/>
              </a:prstGeom>
              <a:solidFill>
                <a:srgbClr val="a8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95760" y="3490560"/>
                <a:ext cx="137880" cy="141480"/>
              </a:xfrm>
              <a:prstGeom prst="ellipse">
                <a:avLst/>
              </a:prstGeom>
              <a:solidFill>
                <a:srgbClr val="ae5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14840" y="3511440"/>
                <a:ext cx="79200" cy="79200"/>
              </a:xfrm>
              <a:prstGeom prst="ellipse">
                <a:avLst/>
              </a:prstGeom>
              <a:solidFill>
                <a:srgbClr val="b46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517920" y="3309840"/>
                <a:ext cx="671400" cy="684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686040" y="4003560"/>
                <a:ext cx="335160" cy="342720"/>
              </a:xfrm>
              <a:prstGeom prst="ellipse">
                <a:avLst/>
              </a:prstGeom>
              <a:solidFill>
                <a:srgbClr val="6c2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05120" y="4024080"/>
                <a:ext cx="276480" cy="282600"/>
              </a:xfrm>
              <a:prstGeom prst="ellipse">
                <a:avLst/>
              </a:prstGeom>
              <a:solidFill>
                <a:srgbClr val="7e2a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24200" y="4044600"/>
                <a:ext cx="219240" cy="220680"/>
              </a:xfrm>
              <a:prstGeom prst="ellipse">
                <a:avLst/>
              </a:prstGeom>
              <a:solidFill>
                <a:srgbClr val="9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745080" y="4063680"/>
                <a:ext cx="158760" cy="162000"/>
              </a:xfrm>
              <a:prstGeom prst="ellipse">
                <a:avLst/>
              </a:prstGeom>
              <a:solidFill>
                <a:srgbClr val="9f3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63800" y="4084560"/>
                <a:ext cx="100080" cy="100080"/>
              </a:xfrm>
              <a:prstGeom prst="ellipse">
                <a:avLst/>
              </a:prstGeom>
              <a:solidFill>
                <a:srgbClr val="ab5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686040" y="4003560"/>
                <a:ext cx="335160" cy="342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27560" y="2725560"/>
                <a:ext cx="277920" cy="281160"/>
              </a:xfrm>
              <a:prstGeom prst="ellipse">
                <a:avLst/>
              </a:prstGeom>
              <a:solidFill>
                <a:srgbClr val="6d2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48440" y="2746080"/>
                <a:ext cx="217440" cy="220680"/>
              </a:xfrm>
              <a:prstGeom prst="ellipse">
                <a:avLst/>
              </a:prstGeom>
              <a:solidFill>
                <a:srgbClr val="832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67160" y="2765160"/>
                <a:ext cx="158760" cy="162000"/>
              </a:xfrm>
              <a:prstGeom prst="ellipse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88040" y="2786040"/>
                <a:ext cx="98280" cy="99720"/>
              </a:xfrm>
              <a:prstGeom prst="ellipse">
                <a:avLst/>
              </a:prstGeom>
              <a:solidFill>
                <a:srgbClr val="a8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227560" y="2725560"/>
                <a:ext cx="277920" cy="281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218200" y="3108240"/>
                <a:ext cx="296640" cy="301680"/>
              </a:xfrm>
              <a:prstGeom prst="ellipse">
                <a:avLst/>
              </a:prstGeom>
              <a:solidFill>
                <a:srgbClr val="66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37280" y="3128760"/>
                <a:ext cx="237960" cy="241200"/>
              </a:xfrm>
              <a:prstGeom prst="ellipse">
                <a:avLst/>
              </a:prstGeom>
              <a:solidFill>
                <a:srgbClr val="7a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57800" y="3147840"/>
                <a:ext cx="177840" cy="181080"/>
              </a:xfrm>
              <a:prstGeom prst="ellipse">
                <a:avLst/>
              </a:prstGeom>
              <a:solidFill>
                <a:srgbClr val="8f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276880" y="3168360"/>
                <a:ext cx="119160" cy="120600"/>
              </a:xfrm>
              <a:prstGeom prst="ellipse">
                <a:avLst/>
              </a:prstGeom>
              <a:solidFill>
                <a:srgbClr val="a0cf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297400" y="3189240"/>
                <a:ext cx="58680" cy="60120"/>
              </a:xfrm>
              <a:prstGeom prst="ellipse">
                <a:avLst/>
              </a:prstGeom>
              <a:solidFill>
                <a:srgbClr val="add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218200" y="3108240"/>
                <a:ext cx="296640" cy="301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208480" y="2836800"/>
                <a:ext cx="316080" cy="322200"/>
              </a:xfrm>
              <a:prstGeom prst="ellipse">
                <a:avLst/>
              </a:prstGeom>
              <a:solidFill>
                <a:srgbClr val="8c8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27560" y="2855880"/>
                <a:ext cx="257400" cy="261720"/>
              </a:xfrm>
              <a:prstGeom prst="ellipse">
                <a:avLst/>
              </a:prstGeom>
              <a:solidFill>
                <a:srgbClr val="a6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248440" y="2876400"/>
                <a:ext cx="196560" cy="201600"/>
              </a:xfrm>
              <a:prstGeom prst="ellipse">
                <a:avLst/>
              </a:prstGeom>
              <a:solidFill>
                <a:srgbClr val="b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267160" y="2896920"/>
                <a:ext cx="138240" cy="139680"/>
              </a:xfrm>
              <a:prstGeom prst="ellipse">
                <a:avLst/>
              </a:prstGeom>
              <a:solidFill>
                <a:srgbClr val="c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88040" y="2916000"/>
                <a:ext cx="77760" cy="81000"/>
              </a:xfrm>
              <a:prstGeom prst="ellipse">
                <a:avLst/>
              </a:prstGeom>
              <a:solidFill>
                <a:srgbClr val="d6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208480" y="2836800"/>
                <a:ext cx="316080" cy="322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29280" y="2493720"/>
                <a:ext cx="474480" cy="482760"/>
              </a:xfrm>
              <a:prstGeom prst="ellipse">
                <a:avLst/>
              </a:prstGeom>
              <a:solidFill>
                <a:srgbClr val="888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2514600"/>
                <a:ext cx="415800" cy="421920"/>
              </a:xfrm>
              <a:prstGeom prst="ellipse">
                <a:avLst/>
              </a:prstGeom>
              <a:solidFill>
                <a:srgbClr val="9999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68880" y="2533320"/>
                <a:ext cx="355680" cy="363600"/>
              </a:xfrm>
              <a:prstGeom prst="ellipse">
                <a:avLst/>
              </a:prstGeom>
              <a:solidFill>
                <a:srgbClr val="aaa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87960" y="2554200"/>
                <a:ext cx="297000" cy="301680"/>
              </a:xfrm>
              <a:prstGeom prst="ellipse">
                <a:avLst/>
              </a:prstGeom>
              <a:solidFill>
                <a:srgbClr val="bb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08480" y="2574720"/>
                <a:ext cx="236520" cy="24120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227560" y="2593800"/>
                <a:ext cx="177840" cy="182520"/>
              </a:xfrm>
              <a:prstGeom prst="ellipse">
                <a:avLst/>
              </a:pr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8440" y="2614320"/>
                <a:ext cx="117360" cy="120600"/>
              </a:xfrm>
              <a:prstGeom prst="ellipse">
                <a:avLst/>
              </a:prstGeom>
              <a:solidFill>
                <a:srgbClr val="d4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67160" y="2635200"/>
                <a:ext cx="60480" cy="60120"/>
              </a:xfrm>
              <a:prstGeom prst="ellipse">
                <a:avLst/>
              </a:prstGeom>
              <a:solidFill>
                <a:srgbClr val="d9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29280" y="2493720"/>
                <a:ext cx="474480" cy="482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59520" y="3178080"/>
                <a:ext cx="414360" cy="423720"/>
              </a:xfrm>
              <a:prstGeom prst="ellipse">
                <a:avLst/>
              </a:prstGeom>
              <a:solidFill>
                <a:srgbClr val="66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178600" y="3198600"/>
                <a:ext cx="355320" cy="362160"/>
              </a:xfrm>
              <a:prstGeom prst="ellipse">
                <a:avLst/>
              </a:prstGeom>
              <a:solidFill>
                <a:srgbClr val="75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99120" y="3219120"/>
                <a:ext cx="295200" cy="301680"/>
              </a:xfrm>
              <a:prstGeom prst="ellipse">
                <a:avLst/>
              </a:prstGeom>
              <a:solidFill>
                <a:srgbClr val="832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218200" y="3238200"/>
                <a:ext cx="237960" cy="243000"/>
              </a:xfrm>
              <a:prstGeom prst="ellipse">
                <a:avLst/>
              </a:prstGeom>
              <a:solidFill>
                <a:srgbClr val="923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237280" y="3259080"/>
                <a:ext cx="179280" cy="180720"/>
              </a:xfrm>
              <a:prstGeom prst="ellipse">
                <a:avLst/>
              </a:prstGeom>
              <a:solidFill>
                <a:srgbClr val="9e3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57800" y="3279600"/>
                <a:ext cx="119160" cy="120600"/>
              </a:xfrm>
              <a:prstGeom prst="ellipse">
                <a:avLst/>
              </a:prstGeom>
              <a:solidFill>
                <a:srgbClr val="a8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76880" y="3298680"/>
                <a:ext cx="60120" cy="60120"/>
              </a:xfrm>
              <a:prstGeom prst="ellipse">
                <a:avLst/>
              </a:prstGeom>
              <a:solidFill>
                <a:srgbClr val="b164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59520" y="3178080"/>
                <a:ext cx="414360" cy="423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59520" y="2393640"/>
                <a:ext cx="414360" cy="422280"/>
              </a:xfrm>
              <a:prstGeom prst="ellipse">
                <a:avLst/>
              </a:prstGeom>
              <a:solidFill>
                <a:srgbClr val="66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178600" y="2412720"/>
                <a:ext cx="355320" cy="363600"/>
              </a:xfrm>
              <a:prstGeom prst="ellipse">
                <a:avLst/>
              </a:prstGeom>
              <a:solidFill>
                <a:srgbClr val="75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99120" y="2433600"/>
                <a:ext cx="295200" cy="301320"/>
              </a:xfrm>
              <a:prstGeom prst="ellipse">
                <a:avLst/>
              </a:prstGeom>
              <a:solidFill>
                <a:srgbClr val="83a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18200" y="2454120"/>
                <a:ext cx="237960" cy="241200"/>
              </a:xfrm>
              <a:prstGeom prst="ellipse">
                <a:avLst/>
              </a:prstGeom>
              <a:solidFill>
                <a:srgbClr val="9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37280" y="2473200"/>
                <a:ext cx="179280" cy="181080"/>
              </a:xfrm>
              <a:prstGeom prst="ellipse">
                <a:avLst/>
              </a:prstGeom>
              <a:solidFill>
                <a:srgbClr val="9ece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57800" y="2493720"/>
                <a:ext cx="119160" cy="120600"/>
              </a:xfrm>
              <a:prstGeom prst="ellipse">
                <a:avLst/>
              </a:prstGeom>
              <a:solidFill>
                <a:srgbClr val="a8d3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76880" y="2514600"/>
                <a:ext cx="60120" cy="60120"/>
              </a:xfrm>
              <a:prstGeom prst="ellipse">
                <a:avLst/>
              </a:prstGeom>
              <a:solidFill>
                <a:srgbClr val="b1d8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59520" y="2393640"/>
                <a:ext cx="414360" cy="42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051440" y="3208320"/>
                <a:ext cx="355320" cy="363240"/>
              </a:xfrm>
              <a:prstGeom prst="ellipse">
                <a:avLst/>
              </a:prstGeom>
              <a:solidFill>
                <a:srgbClr val="888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70520" y="3228840"/>
                <a:ext cx="296640" cy="301680"/>
              </a:xfrm>
              <a:prstGeom prst="ellipse">
                <a:avLst/>
              </a:prstGeom>
              <a:solidFill>
                <a:srgbClr val="9f9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91040" y="3249360"/>
                <a:ext cx="236520" cy="241200"/>
              </a:xfrm>
              <a:prstGeom prst="ellipse">
                <a:avLst/>
              </a:pr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110120" y="3268440"/>
                <a:ext cx="179280" cy="18108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130640" y="3288960"/>
                <a:ext cx="119160" cy="120960"/>
              </a:xfrm>
              <a:prstGeom prst="ellipse">
                <a:avLst/>
              </a:prstGeom>
              <a:solidFill>
                <a:srgbClr val="d2d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49720" y="3309840"/>
                <a:ext cx="60480" cy="60120"/>
              </a:xfrm>
              <a:prstGeom prst="ellipse">
                <a:avLst/>
              </a:prstGeom>
              <a:solidFill>
                <a:srgbClr val="d7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51440" y="3208320"/>
                <a:ext cx="355320" cy="363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59520" y="2654280"/>
                <a:ext cx="414360" cy="423720"/>
              </a:xfrm>
              <a:prstGeom prst="ellipse">
                <a:avLst/>
              </a:prstGeom>
              <a:solidFill>
                <a:srgbClr val="66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78600" y="2674800"/>
                <a:ext cx="355320" cy="361800"/>
              </a:xfrm>
              <a:prstGeom prst="ellipse">
                <a:avLst/>
              </a:prstGeom>
              <a:solidFill>
                <a:srgbClr val="75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99120" y="2695320"/>
                <a:ext cx="295200" cy="301680"/>
              </a:xfrm>
              <a:prstGeom prst="ellipse">
                <a:avLst/>
              </a:prstGeom>
              <a:solidFill>
                <a:srgbClr val="832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18200" y="2714400"/>
                <a:ext cx="237960" cy="243000"/>
              </a:xfrm>
              <a:prstGeom prst="ellipse">
                <a:avLst/>
              </a:prstGeom>
              <a:solidFill>
                <a:srgbClr val="923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237280" y="2734920"/>
                <a:ext cx="179280" cy="181080"/>
              </a:xfrm>
              <a:prstGeom prst="ellipse">
                <a:avLst/>
              </a:prstGeom>
              <a:solidFill>
                <a:srgbClr val="9e3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257800" y="2755800"/>
                <a:ext cx="119160" cy="120600"/>
              </a:xfrm>
              <a:prstGeom prst="ellipse">
                <a:avLst/>
              </a:prstGeom>
              <a:solidFill>
                <a:srgbClr val="a8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76880" y="2776320"/>
                <a:ext cx="60120" cy="60480"/>
              </a:xfrm>
              <a:prstGeom prst="ellipse">
                <a:avLst/>
              </a:prstGeom>
              <a:solidFill>
                <a:srgbClr val="b164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159520" y="2654280"/>
                <a:ext cx="414360" cy="423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545080" y="2523960"/>
                <a:ext cx="414360" cy="422280"/>
              </a:xfrm>
              <a:prstGeom prst="ellipse">
                <a:avLst/>
              </a:prstGeom>
              <a:solidFill>
                <a:srgbClr val="66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64160" y="2544480"/>
                <a:ext cx="355680" cy="362160"/>
              </a:xfrm>
              <a:prstGeom prst="ellipse">
                <a:avLst/>
              </a:prstGeom>
              <a:solidFill>
                <a:srgbClr val="75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583240" y="2563560"/>
                <a:ext cx="297000" cy="303120"/>
              </a:xfrm>
              <a:prstGeom prst="ellipse">
                <a:avLst/>
              </a:prstGeom>
              <a:solidFill>
                <a:srgbClr val="832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03760" y="2584440"/>
                <a:ext cx="236520" cy="241200"/>
              </a:xfrm>
              <a:prstGeom prst="ellipse">
                <a:avLst/>
              </a:prstGeom>
              <a:solidFill>
                <a:srgbClr val="923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622840" y="2604960"/>
                <a:ext cx="179640" cy="181080"/>
              </a:xfrm>
              <a:prstGeom prst="ellipse">
                <a:avLst/>
              </a:prstGeom>
              <a:solidFill>
                <a:srgbClr val="9e3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643720" y="2624040"/>
                <a:ext cx="118800" cy="122040"/>
              </a:xfrm>
              <a:prstGeom prst="ellipse">
                <a:avLst/>
              </a:prstGeom>
              <a:solidFill>
                <a:srgbClr val="a8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662440" y="2644560"/>
                <a:ext cx="60480" cy="60480"/>
              </a:xfrm>
              <a:prstGeom prst="ellipse">
                <a:avLst/>
              </a:prstGeom>
              <a:solidFill>
                <a:srgbClr val="b164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45080" y="2523960"/>
                <a:ext cx="414360" cy="42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556160" y="2906640"/>
                <a:ext cx="476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EGSO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686040" y="2654280"/>
                <a:ext cx="348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AVO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24280" y="3087360"/>
                <a:ext cx="403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GRIA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537080" y="3511440"/>
                <a:ext cx="741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CrossGrid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132080" y="3852720"/>
                <a:ext cx="586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GridLab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130640" y="4124160"/>
                <a:ext cx="403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GRIP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239720" y="4819320"/>
                <a:ext cx="686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DataTAG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501560" y="3298680"/>
                <a:ext cx="659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EuroGrid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837080" y="3681360"/>
                <a:ext cx="640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DAMIEN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44520" y="4216320"/>
                <a:ext cx="659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DataGrid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514840" y="2331720"/>
                <a:ext cx="595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GEMSS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76040" y="2120760"/>
                <a:ext cx="906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MammoGrid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980680" y="263520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BioGrid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118920" y="2473200"/>
                <a:ext cx="595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SeLeNe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714280" y="278604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OpenMolGrid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534280" y="322884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COG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565600" y="2966760"/>
                <a:ext cx="659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FlowGrid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5594400" y="3439800"/>
              <a:ext cx="58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GRACE</a:t>
              </a:r>
              <a:endParaRPr b="0" lang="en-US" sz="13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38720" y="31478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MOSES</a:t>
              </a:r>
              <a:endParaRPr b="0" lang="en-US" sz="13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6720" y="558468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/10/2000</a:t>
              </a:r>
              <a:endParaRPr b="0" lang="en-US" sz="9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69720" y="558468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/10/2001</a:t>
              </a:r>
              <a:endParaRPr b="0" lang="en-US" sz="9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84160" y="558468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/10/2002</a:t>
              </a:r>
              <a:endParaRPr b="0" lang="en-US" sz="9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9D5B-04C0-4FC6-B1F7-6776D0A6A9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Arial"/>
              </a:rPr>
              <a:t>FP5 EU Grid Research Achieveme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0720" y="1221840"/>
            <a:ext cx="65534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cc6600"/>
                </a:solidFill>
                <a:latin typeface="Arial"/>
              </a:rPr>
              <a:t>Creation of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a strong Grid research community 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spcAft>
                <a:spcPts val="37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cc6600"/>
                </a:solidFill>
                <a:latin typeface="Arial"/>
              </a:rPr>
              <a:t>Europe’s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position strengthened related to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900000" indent="-377640"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Grid middleware development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00000" indent="-377640"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ontribution to standardisation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spcAft>
                <a:spcPts val="37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Grid concept proven in eScience application pilots -&gt; deployment in research infrastructures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spcAft>
                <a:spcPts val="37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First steps taken towards maturing Grid </a:t>
            </a:r>
            <a:br>
              <a:rPr sz="2000"/>
            </a:b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technologies for industrial and business use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spcAft>
                <a:spcPts val="37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Identified weaknesses in commercial exploitation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spcAft>
                <a:spcPts val="37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Emergent opportunities for service providers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6905520" y="1521000"/>
            <a:ext cx="1995480" cy="282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4361-9ED5-4352-8FBF-C60C6D11B1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390840" y="2546280"/>
            <a:ext cx="2219400" cy="2320920"/>
          </a:xfrm>
          <a:prstGeom prst="irregularSeal2">
            <a:avLst/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ext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eneration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id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20920" y="2327400"/>
            <a:ext cx="4484520" cy="2319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8643800">
            <a:off x="740160" y="2701080"/>
            <a:ext cx="424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End-user empowerment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Life-support to business processe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5119560"/>
            <a:ext cx="58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Societal behaviour (millions of self-organising nodes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Computational semantics, ontologies, meta-description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Pervasive virtual organisation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3206400">
            <a:off x="4368600" y="3367080"/>
            <a:ext cx="484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ontinuously changing requirement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Grid services development environment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59200" y="5621400"/>
            <a:ext cx="2096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Virtualiz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662200" y="4624560"/>
            <a:ext cx="3786120" cy="43812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8607200">
            <a:off x="1676880" y="3046680"/>
            <a:ext cx="3357720" cy="48240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8643800">
            <a:off x="2073600" y="3122280"/>
            <a:ext cx="2433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nd-User Vision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rot="3256800">
            <a:off x="4237560" y="3065400"/>
            <a:ext cx="3139920" cy="441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3283800">
            <a:off x="4653360" y="303696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Vis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31560" y="468144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al Vis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0720" y="2298600"/>
            <a:ext cx="2181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implific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80520" y="2301840"/>
            <a:ext cx="187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bstrac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8760" y="934560"/>
            <a:ext cx="90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ext Generation Grid(s) - European Grid Research 2005 - 2010”, June 2003</a:t>
            </a:r>
            <a:br>
              <a:rPr sz="1800"/>
            </a:b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“Next Generation Grids 2 – Requirements and Options for European Grids Research 2005–2010 and beyond”, August 2004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165240"/>
            <a:ext cx="805356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Next Generation Grid(s) – Expert Group Report </a:t>
            </a:r>
            <a:br>
              <a:rPr sz="2600"/>
            </a:b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3-fold vision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D2D0-5BB9-4A4D-A9C5-548CBF5FA4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73840" y="2079720"/>
            <a:ext cx="1511280" cy="6984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nteliGRID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emantic Grid based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virtual organisation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365960" y="4765680"/>
            <a:ext cx="1536840" cy="6858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rovenance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rust and provenance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or Grid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289640" y="3822840"/>
            <a:ext cx="1511640" cy="6984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aminingGrid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Datamining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ools &amp; service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0440" y="3098880"/>
            <a:ext cx="1587600" cy="85068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UniGridS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Extended OGSA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Implementation based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on UNICORE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87320" y="2031840"/>
            <a:ext cx="1549440" cy="86364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K-WF Grid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Knowledge based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workflow &amp;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27640" y="1341360"/>
            <a:ext cx="3200400" cy="5907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RIDCOORD</a:t>
            </a:r>
            <a:br>
              <a:rPr sz="14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Building the ERA in Grid research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49520" y="231840"/>
            <a:ext cx="64418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Arial"/>
              </a:rPr>
              <a:t>Grid Research Projects in FP6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56360" y="907920"/>
            <a:ext cx="27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art: SUMMER 2004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07920"/>
            <a:ext cx="38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U Funding: 53 MILL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559320"/>
            <a:ext cx="2728800" cy="4680"/>
          </a:xfrm>
          <a:prstGeom prst="rect">
            <a:avLst/>
          </a:prstGeom>
          <a:solidFill>
            <a:srgbClr val="ff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39880" y="3559320"/>
            <a:ext cx="2727360" cy="4680"/>
          </a:xfrm>
          <a:prstGeom prst="rect">
            <a:avLst/>
          </a:prstGeom>
          <a:solidFill>
            <a:srgbClr val="ff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39880" y="4670280"/>
            <a:ext cx="5535720" cy="5040"/>
          </a:xfrm>
          <a:prstGeom prst="rect">
            <a:avLst/>
          </a:prstGeom>
          <a:solidFill>
            <a:srgbClr val="c9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39880" y="4657680"/>
            <a:ext cx="5535720" cy="4680"/>
          </a:xfrm>
          <a:prstGeom prst="rect">
            <a:avLst/>
          </a:prstGeom>
          <a:solidFill>
            <a:srgbClr val="b0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52480" y="4921200"/>
            <a:ext cx="5535720" cy="4680"/>
          </a:xfrm>
          <a:prstGeom prst="rect">
            <a:avLst/>
          </a:prstGeom>
          <a:solidFill>
            <a:srgbClr val="a6b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50120" y="2978280"/>
            <a:ext cx="1523880" cy="7236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OntoGrid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Knowledge Services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or the semantic Grid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6280" y="4124160"/>
            <a:ext cx="1511280" cy="85104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HPC4U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ault tolerance,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dependability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or Grid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1080" y="4175280"/>
            <a:ext cx="5079960" cy="1295280"/>
          </a:xfrm>
          <a:prstGeom prst="cube">
            <a:avLst>
              <a:gd name="adj" fmla="val 25000"/>
            </a:avLst>
          </a:pr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58920" y="3209760"/>
            <a:ext cx="2629080" cy="121932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24280" y="3298680"/>
            <a:ext cx="2438640" cy="119412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0320" y="2117880"/>
            <a:ext cx="4991040" cy="1371600"/>
          </a:xfrm>
          <a:prstGeom prst="triangle">
            <a:avLst>
              <a:gd name="adj" fmla="val 50000"/>
            </a:avLst>
          </a:prstGeom>
          <a:solidFill>
            <a:srgbClr val="4a69b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63800" y="2610000"/>
            <a:ext cx="331488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Grid-based generic enabling application technologies to facilitate solution of industrial problems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SIMDAT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4200" y="3511440"/>
            <a:ext cx="257796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EU-driven Grid services </a:t>
            </a:r>
            <a:br>
              <a:rPr sz="1300"/>
            </a:b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architecture for businesS </a:t>
            </a:r>
            <a:br>
              <a:rPr sz="1300"/>
            </a:b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and industry 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NextGRID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02160" y="3613320"/>
            <a:ext cx="257796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Mobile Grid architecture </a:t>
            </a:r>
            <a:br>
              <a:rPr sz="1300"/>
            </a:b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and services for dynamic virtual organisations 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Akogrimo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98640" y="4730760"/>
            <a:ext cx="48387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European-wide virtual laboratory for longer term Grid research-creating the foundation for next generation Grids 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CoreGRID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08440" y="5559480"/>
            <a:ext cx="304560" cy="24120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03320" y="5559480"/>
            <a:ext cx="304920" cy="24120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44920" y="5572080"/>
            <a:ext cx="304920" cy="241200"/>
          </a:xfrm>
          <a:prstGeom prst="cube">
            <a:avLst>
              <a:gd name="adj" fmla="val 25000"/>
            </a:avLst>
          </a:pr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48520" y="5559480"/>
            <a:ext cx="304560" cy="2412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55680" y="5541840"/>
            <a:ext cx="15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Specific support action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60800" y="5541840"/>
            <a:ext cx="12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Integrated project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96560" y="5541840"/>
            <a:ext cx="15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Network of excellence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87560" y="5541840"/>
            <a:ext cx="22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Specific targeted research project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47640" y="1341360"/>
            <a:ext cx="2714760" cy="5907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rid@Asia (Spring 2005) </a:t>
            </a:r>
            <a:br>
              <a:rPr sz="14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Towards EU-Asian Co-operation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45B2-1458-48C1-A6E8-DBF42ACE55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14200" y="131760"/>
            <a:ext cx="8747280" cy="580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D711-FBB7-4817-AD18-FDB1908084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846520" y="165240"/>
            <a:ext cx="2800080" cy="7524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304920" y="1130400"/>
            <a:ext cx="2755800" cy="2476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ain Research and Development Areas: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rid architecture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undations &amp; core service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ynamic federation and VO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rid business model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ference implementation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ndards and application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41480" y="3695760"/>
            <a:ext cx="7035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Next Generation Grid services architecture for business and industry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994120" y="1058760"/>
            <a:ext cx="3321000" cy="255132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266760" y="4381560"/>
            <a:ext cx="8877240" cy="1714320"/>
            <a:chOff x="266760" y="4381560"/>
            <a:chExt cx="8877240" cy="1714320"/>
          </a:xfrm>
        </p:grpSpPr>
        <p:sp>
          <p:nvSpPr>
            <p:cNvPr id="358" name=""/>
            <p:cNvSpPr/>
            <p:nvPr/>
          </p:nvSpPr>
          <p:spPr>
            <a:xfrm>
              <a:off x="7010640" y="4406760"/>
              <a:ext cx="2006280" cy="15494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02120" y="4495680"/>
              <a:ext cx="1892520" cy="14605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89520" y="4508280"/>
              <a:ext cx="213372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37160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Service providers: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37160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Fujitsu</a:t>
              </a: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BT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37160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T-Systems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37160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Datamat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37160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74920" y="4495680"/>
              <a:ext cx="2336760" cy="14479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6760" y="4406760"/>
              <a:ext cx="1879560" cy="15494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10640" y="4381560"/>
              <a:ext cx="2133360" cy="15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Application developers / users: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     </a:t>
              </a: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SAP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     </a:t>
              </a: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First derivatives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     </a:t>
              </a: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Kino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74920" y="4508280"/>
              <a:ext cx="240048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Technology providers: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Grid Systems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HP</a:t>
              </a: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Intel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Microsoft</a:t>
              </a: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Nec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6760" y="4394160"/>
              <a:ext cx="201924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02888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Research org.: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02888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EPCC</a:t>
              </a: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IT Innov.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02888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FZJ</a:t>
              </a: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USTUTT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02888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KTH</a:t>
              </a: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NTUA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02888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QUB</a:t>
              </a: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UvA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02888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CNR-ISTI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02888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791320" y="1054080"/>
            <a:ext cx="2895480" cy="24696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ain Application Areas: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ata mining legal sector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roadcasting and entertainment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inancial modelling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igital media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pply chain management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673840" y="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034C-A45F-4411-BD9A-6894FE6EED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59:24Z</dcterms:created>
  <dc:creator>J-FTardif</dc:creator>
  <dc:description/>
  <dc:language>en-US</dc:language>
  <cp:lastModifiedBy>gasosjo</cp:lastModifiedBy>
  <cp:lastPrinted>2004-01-20T15:10:22Z</cp:lastPrinted>
  <dcterms:modified xsi:type="dcterms:W3CDTF">2005-06-20T07:04:30Z</dcterms:modified>
  <cp:revision>551</cp:revision>
  <dc:subject/>
  <dc:title>No Slide Title</dc:title>
</cp:coreProperties>
</file>