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324C-C995-4A2A-9F35-5A1BC01722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F072-A95C-4154-8742-008A48008B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1165-8DDB-42E8-8613-21742265F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064-8225-4060-9ED7-DB86090E56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EEB-4648-4DBA-A343-4F03AA790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A55-FC06-48D2-810F-3C0FD93E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507-EB46-4AE1-9DA7-031BA836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BBA-1E7A-47DA-A1F8-B60E5A21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EFC-DD1A-4D32-A446-E5094E82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4B6-FC1F-484F-9C4D-412DB36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78B-B7F8-4574-816E-3C494E0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704-1EDC-43FE-8DD7-F6C3880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94B-8B13-41F7-B05B-DAC1614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D32-4F6C-4B09-9239-527F38BC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295-CABA-44E8-B858-F290D3F7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789-652C-4CD0-A204-C86AE67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2FD-E719-4BAE-94F5-F53D594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819-E8B7-477A-AC7D-264F754C4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The GRID@As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concl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1465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295280" y="4251240"/>
            <a:ext cx="672480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A9C-F4CB-430D-89D7-593F22C6C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780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hina National 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hina CROWN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hina Gr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*Grid initi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pGrid - Asia Pacific Grid Partner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Research Infrastructure programme (Unit F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2640" y="928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C5D-7D18-4CBD-B1DD-924F5C8122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483080" cy="43038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866480" y="2590920"/>
            <a:ext cx="3731400" cy="3278880"/>
            <a:chOff x="4866480" y="2590920"/>
            <a:chExt cx="3731400" cy="3278880"/>
          </a:xfrm>
        </p:grpSpPr>
        <p:sp>
          <p:nvSpPr>
            <p:cNvPr id="95" name=""/>
            <p:cNvSpPr/>
            <p:nvPr/>
          </p:nvSpPr>
          <p:spPr>
            <a:xfrm>
              <a:off x="6311880" y="38862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49760" y="35053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6960" y="37339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16600" y="49528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31000" y="38862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88200" y="48006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8560" y="53341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2400" y="42670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00000" y="4419720"/>
              <a:ext cx="71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ACI 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94720" y="3657600"/>
              <a:ext cx="80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E-SCIEN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6480" y="3581280"/>
              <a:ext cx="4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A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44280" y="4038480"/>
              <a:ext cx="66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E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85800" y="4038480"/>
              <a:ext cx="598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7560" y="3962520"/>
              <a:ext cx="999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METACENT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92760" y="4038480"/>
              <a:ext cx="15264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9600" y="43434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37360" y="4419720"/>
              <a:ext cx="82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WISS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7400" y="5257800"/>
              <a:ext cx="97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HELLAS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33160" y="4648320"/>
              <a:ext cx="62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GRID.I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6480" y="4800600"/>
              <a:ext cx="71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RIS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07160" y="480060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38280" y="4800600"/>
              <a:ext cx="68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G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97680" y="373392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33920"/>
              <a:ext cx="67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GI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74000" y="43434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2480" y="4267080"/>
              <a:ext cx="60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H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0480" y="259092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6520" y="2743200"/>
              <a:ext cx="895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NORDU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45600" y="56386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14600" y="5638680"/>
              <a:ext cx="64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CY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9480" y="1295280"/>
            <a:ext cx="396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70080" indent="-222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lgium Be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lgarian BG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prus Cy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zech Metacen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nch ACI 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rman D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k Hellas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garian 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talian GRID.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sh SGI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ndinavian NORDU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anish IRIS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ss Swiss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therlands 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K e-Sc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555-E6EB-4315-89B9-7680DB06D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5257800" cy="5235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1828800"/>
            <a:ext cx="2514600" cy="378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CIM is a consortium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f leading research institutions from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8 European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untrie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mitted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 informat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nd applied mathemat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702-1741-4795-81E3-7E38E7F1E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56384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European Research Network on Foundations, Software Infrastructures and Applications for large scale distributed, GRID and Peer-to-Peer Techn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twork of excell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li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digital libray insfrastructure on grid enable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grated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Research Infrastructure programme (Unit F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@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ecific support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2640" y="928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IM Grid related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D03-02CE-454A-80A4-51F18E5438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eed for more international ex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results in FP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gr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core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still little impact world w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is increasing its support (125 M€ ) under FP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 will unfortunately not choose EU technologi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countries may adopt US techno even if not yet fully mature e.i. Globus has several drawbacks that Unicore does not hav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 we ne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re efforts to promote, share and built on these European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98C-63D0-48A6-A64C-F1F2C71A1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77804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step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semination and sustainability through participation in joint projec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itiate future co-operation between European research and industry grid communities and Asian grid communitie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alidate capac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AA1-C915-4600-BF9B-12FB2CCDC7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91120" y="2743200"/>
            <a:ext cx="4190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676520"/>
            <a:ext cx="792504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orkshops agenda will include at le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identification of European and Asian research prior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sentations and discussions on three main R&amp;D doma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middle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ols and environment progra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overview of potential funding opportunities (FP6 - Call 5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introduction to EC regul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ject prepa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llectual property r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Networking s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sentation of proposals under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ocussed discussions between propo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eb site to disseminate expression of inter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8320" y="99072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make this happ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293-5BA6-46E8-AB7A-BF8A093715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ject - some inpu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8 months, starting 1 April 20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nced by the EC, Unit F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dget is 300 000 eur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workshops to be organi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ijing, Seoul, Shangha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rder depending on EC call 6 and on FP7 opportun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ent will evolve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38320" y="91440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E08-E29F-4AC0-AAF1-5745B3950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2-03-06T16:04:30Z</cp:lastPrinted>
  <dcterms:modified xsi:type="dcterms:W3CDTF">2005-06-21T00:13:28Z</dcterms:modified>
  <cp:revision>171</cp:revision>
  <dc:subject/>
  <dc:title>CoreGRID: A network of excellence in Grid and P2P Technologies</dc:title>
</cp:coreProperties>
</file>