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434-DAB5-40B0-AD8E-CE31630A43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35BE-803B-4FB9-A808-90A4CBB22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87A8-FC36-4A56-A257-7C3DECDD3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69A6-6A7A-4899-BA4C-A3ED8AB8F2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6BA1-7FA6-4776-96B1-DF5DAA522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A39-2C43-434D-9E6F-BA3DA6D1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86F-F06F-471C-B951-BF8D9344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742-9AB1-4372-8A1E-9C672D52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620-E63A-4B0C-8E2F-4EF140C2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B8D-B526-4B1A-B342-794C248C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A38-ACD0-4275-A1A1-C9B2EA4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382-72C8-49CF-89FD-B198E77C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7CA-55DF-4EC4-8067-1350BA5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03A-378C-483F-88FB-72C9DCA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60D-FC24-4F76-9E3E-295339A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A0D-C467-4925-836F-F03F318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34F-D1D4-4FEC-9062-0CB8935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01C-3329-403E-A330-7BF7D950B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The GRID@As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uno Le Dante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: bruno.le_dantec@ercim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concl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1465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295280" y="4251240"/>
            <a:ext cx="672480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77C-3464-489E-87B6-7C022D1F31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780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hina National 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China CROWNE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hina Gr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*Grid initi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pGrid - Asia Pacific Grid Partnersh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Research Infrastructure programme (Unit F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2640" y="928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BF0-59AB-437F-83F6-EBC2BA547C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483080" cy="43038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866480" y="2590920"/>
            <a:ext cx="3731400" cy="3278880"/>
            <a:chOff x="4866480" y="2590920"/>
            <a:chExt cx="3731400" cy="3278880"/>
          </a:xfrm>
        </p:grpSpPr>
        <p:sp>
          <p:nvSpPr>
            <p:cNvPr id="95" name=""/>
            <p:cNvSpPr/>
            <p:nvPr/>
          </p:nvSpPr>
          <p:spPr>
            <a:xfrm>
              <a:off x="6311880" y="38862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49760" y="35053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6960" y="37339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16600" y="49528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31000" y="38862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88200" y="48006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8560" y="533412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02400" y="42670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00000" y="4419720"/>
              <a:ext cx="71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ACI 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94720" y="3657600"/>
              <a:ext cx="80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E-SCIEN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6480" y="3581280"/>
              <a:ext cx="4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A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44280" y="4038480"/>
              <a:ext cx="668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E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85800" y="4038480"/>
              <a:ext cx="598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7560" y="3962520"/>
              <a:ext cx="999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METACENT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92760" y="4038480"/>
              <a:ext cx="15264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9600" y="43434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37360" y="4419720"/>
              <a:ext cx="82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WISS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7400" y="5257800"/>
              <a:ext cx="97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HELLAS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33160" y="4648320"/>
              <a:ext cx="62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GRID.I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6480" y="4800600"/>
              <a:ext cx="71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RIS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07160" y="4800600"/>
              <a:ext cx="15264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38280" y="4800600"/>
              <a:ext cx="68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G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97680" y="373392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33920"/>
              <a:ext cx="67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SGI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74000" y="434340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2480" y="4267080"/>
              <a:ext cx="60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H-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0480" y="2590920"/>
              <a:ext cx="152280" cy="15228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6520" y="2743200"/>
              <a:ext cx="895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NORDU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45600" y="5638680"/>
              <a:ext cx="152280" cy="152640"/>
            </a:xfrm>
            <a:prstGeom prst="star5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14600" y="5638680"/>
              <a:ext cx="64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CYGRI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9480" y="1295280"/>
            <a:ext cx="396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370080" indent="-222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lgium Be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lgarian BG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prus Cy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zech Metacen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nch ACI 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rman D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k Hellas-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garian 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talian GRID.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sh SGI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ndinavian NORDU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anish IRIS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ss SwissGR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therlands 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920" indent="-21996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K e-Sc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41A-80EE-4EDB-873F-1C6550398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86200" y="1066680"/>
            <a:ext cx="5257800" cy="5235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1828800"/>
            <a:ext cx="2514600" cy="378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CIM is a consortium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f leading research institutions from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8 European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untries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mmitted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o information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nd applied mathemat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7D7-BBD9-47B0-AA44-E0275A5563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563840"/>
            <a:ext cx="8305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European Research Network on Foundations, Software Infrastructures and Applications for large scale distributed, GRID and Peer-to-Peer Techn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twork of excell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li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digital libray insfrastructure on grid enable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grated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Research Infrastructure programme (Unit F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@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ecific support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 Grid Technologies programme (Unit F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2640" y="928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CIM Grid related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BC5-34E9-4B19-BDF1-C7F75F81B8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eed for more international ex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results in FP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gr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core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t still little impact world w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is increasing its support (125 M€ ) under FP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 will unfortunately not choose EU technologi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countries may adopt US techno even if not yet fully mature e.i. Globus has several drawbacks that Unicore does not hav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 we ne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ore efforts to promote, share and built on these European technolog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8CA-8900-40A4-A5BD-86F31C618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77804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step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semination and sustainability through participation in joint projec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itiate future co-operation between European research and industry grid communities and Asian grid communitie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alidate capac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B74-C123-41B5-A2FF-B69399CA76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91120" y="2743200"/>
            <a:ext cx="4190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676520"/>
            <a:ext cx="792504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orkshops agenda will include at le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identification of European and Asian research prior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sentations and discussions on three main R&amp;D doma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middle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ols and environment progra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overview of potential funding opportunities (FP6 - Call 5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introduction to EC regul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ject prepa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ellectual property r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 algn="just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2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Networking s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sentation of proposals under 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ocussed discussions between propo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eb site to disseminate expression of inter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8320" y="99072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make this happ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DC4-A8FD-4E15-BC31-5B971322C5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ject - some inpu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8 months, starting 1 April 20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nced by the EC, Unit F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dget is 300 000 eur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 workshops to be organi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eijing, Seoul, Shangha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rder depending on EC call 6 and on FP7 opportun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ent will evolve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38320" y="91440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B7A-4F14-400C-A762-A0B320E75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bledante</cp:lastModifiedBy>
  <cp:lastPrinted>2002-03-06T16:04:30Z</cp:lastPrinted>
  <dcterms:modified xsi:type="dcterms:W3CDTF">2005-06-21T00:13:28Z</dcterms:modified>
  <cp:revision>171</cp:revision>
  <dc:subject/>
  <dc:title>CoreGRID: A network of excellence in Grid and P2P Technologies</dc:title>
</cp:coreProperties>
</file>